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1FD5-8152-44C5-A40F-165DE9FD0D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BD56-4CF7-4BB5-8B06-1DEA253937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F83-9677-478B-B030-5DEC344A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BC0-A37F-4700-9DB3-949205B6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062-CFA7-433D-9220-A20F5BD1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79E-11D0-4C9F-AAB1-A7DE7785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611B-6B9C-4D4B-938D-AD149A73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882A-B9FF-4BAE-88EC-38672380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2D0A-1F6B-49B4-AF4C-6DB83B1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3C55-E998-4E11-9058-BFCA127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6170-2434-47A9-8D29-E3A32CF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614B-D55E-44C5-8D96-394C210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6EC8-E4C0-4A56-BBE2-06AED44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280-6B2A-48B7-B502-0016315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C049-A64F-4124-AF04-6A8C781D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1861-4E8F-48EC-A27F-1236F3D7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26CA-AD0F-4DC0-AD5A-09D8FDE3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E97F-2782-4AF3-8DEF-276F0CAB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657D-F7CE-4420-AAE7-CA81E753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6335-0D77-4A72-BC4F-294D86E9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56AD-2C7D-4E0A-A96C-1FDA404F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AA0F-62A7-4F1E-9B03-9673D554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F70B-80E7-40A4-83AA-A7D3FC74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838D-459E-435F-BAB3-2CF4962A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1EA-2ADC-4AC6-A8B8-91249561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9154-D2F1-4843-8BA2-356FC5D6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0B5B-2DED-42D3-833D-2ADC510F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C1B1-6781-4E17-BE0C-DF7D36E8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BDB3-65C8-4FBC-905E-796E8F49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F7EA-4212-4142-84BA-63165FF7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137C-A767-48DE-9B4D-4AC3B48F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3E47E-397D-49AA-B80E-0A88F099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2752-38D0-4C08-A403-B4F35EE5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6603B-1F8D-4968-8776-9F13FFB5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F077E-FBB2-4FD9-B070-93EC39D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D5C-AA06-46AB-B1F6-020341E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433D-CD6E-4612-901F-B00A3A88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6E19-E7F1-4621-AD35-F2471B95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0D0A-7C1F-43A3-B065-65D9D057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24322-4F95-4903-B7BE-4229A41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42A8-7403-471D-9D5E-08FB911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9D1C-5323-4D10-A673-7F345AE8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0BB3-D88E-43BB-BD33-DE7AADA9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97AF-C486-4F9F-8500-8285E0EF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BA5A-90AC-42D2-8073-E7F8CC00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2B1-A7DD-4FB2-B72F-9A7F267C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C97-52A3-458B-8EF8-DC8E2B1D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CA1-0EA0-4D10-9D36-48D23245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A49-D787-4E84-B505-85EAFAC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683-AAA8-4280-A549-6328824A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58D-D155-4D00-A4B1-F5A9FCD9AA0F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uncefact_header_0p2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A9A4-BB62-4D61-86C0-3973A4A1BA9B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5423-D96D-4364-8586-9F072EA8BEB1}" type="slidenum"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4BCC-D980-42AB-86A5-DB4F8AA14910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le 5"/>
          <p:cNvSpPr/>
          <p:nvPr/>
        </p:nvSpPr>
        <p:spPr>
          <a:xfrm>
            <a:off x="556920" y="3324240"/>
            <a:ext cx="8119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JasmineUPC"/>
                <a:ea typeface="JasmineUPC"/>
              </a:rPr>
              <a:t>PDA Sectoral / Agriculture</a:t>
            </a:r>
            <a:br>
              <a:rPr sz="4800"/>
            </a:br>
            <a:r>
              <a:rPr b="1" lang="de-CH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VC    Bruno PRE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DC Frans VAN DIEPEN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835280" y="5732640"/>
            <a:ext cx="5832360" cy="100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19th UN/CEFACT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16-2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1988720" y="26758800"/>
            <a:ext cx="4802400" cy="321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8000" y="1893960"/>
          <a:ext cx="8928000" cy="3381480"/>
        </p:xfrm>
        <a:graphic>
          <a:graphicData uri="http://schemas.openxmlformats.org/drawingml/2006/table">
            <a:tbl>
              <a:tblPr/>
              <a:tblGrid>
                <a:gridCol w="1844640"/>
                <a:gridCol w="1503360"/>
                <a:gridCol w="1960560"/>
                <a:gridCol w="1703520"/>
                <a:gridCol w="1915920"/>
              </a:tblGrid>
              <a:tr h="143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Mor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Aftern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Session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Session 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Session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Session 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</a:tr>
              <a:tr h="6717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Monday, April 16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Opening Plenary ses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Developpment plan for PDA Agriculture </a:t>
                      </a:r>
                      <a:br>
                        <a:rPr sz="900"/>
                      </a:b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Draft document presentation</a:t>
                      </a:r>
                      <a:br>
                        <a:rPr sz="900"/>
                      </a:b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Discus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New projects presentatio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Validation of the Age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Tuesday, April 17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eCert message 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Ecert Mess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New project proposal "eLabs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"eLabs" projec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Presentation of Agronomical Observation Report (use in Fra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Wednesday, April 18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eFOOD Chain Pro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eFOOD Chain Project and new pro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Flowers In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Thursday,  April 19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Tracking and tracing Fish and European pro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Tracking and tracing Fish  and European pro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Development plan for PDA Agricultur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Review and finalise Draft document Final Re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Friday,  April 20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Closing Plenary ses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C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sentation of EU TRACES System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ference call with Mr. Pavlovic (N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CERT 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 to introduce the authentification of the parties for example by electronic signature with eCert mess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t up an official guidelines document which explicit the major recommendations with the main experienced users (NZ, Australia, NL, European Commission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st of countries which use eCert (NZ, Australia, China, Japan, US, South Korea, Singapore, Chile, Mexico, Kenya, NL, EU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L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esentation of the project proposal and the draft B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xt step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nalise the 3 countries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pose the project to th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ss B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ected submission to BPS Library Maintenance in May or Jun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46480" y="691920"/>
            <a:ext cx="4967280" cy="718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FOOD Chain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an supported project which has the objec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mprove the competitiveness and efficiency of this industry by stimulating an innovative and seamless use of ICT along its value ch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MEs are at the centre of interest of this 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s it aims to facilitate their participation in global digital food value network and reinforce business relationships between SMEs and their business partners across b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sectors are stu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r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uits and Vege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nning of work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alyse the market and the flows of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termine the standardization issues with UN/CEFACT PDA Agriculture: Re-use of UN/CEFACT Messages or propose 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88944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lower A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1844640"/>
            <a:ext cx="8640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s for flower sector and seeds which are not covered now by UN/CEFACT XML CII but are in EDIFACT In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elf billing use c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position of products (ie: a bouquet with several types of flow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quests have been sent to Supply Chain PDA on April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dedicated team for these change requests has to b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ish Trace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alidation of the projec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esentation of the glob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xt step : preparation of the B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t up a general document to present the Agricultural messages already standardised and the link betwee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ectronic animal passport UN/CEFACT Message: discussion about next steps for implementation in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7:55:10Z</dcterms:created>
  <dc:creator>Fanny DELAHALLE</dc:creator>
  <dc:description/>
  <dc:language>en-US</dc:language>
  <cp:lastModifiedBy>Harm Jan van Burg</cp:lastModifiedBy>
  <cp:lastPrinted>2012-04-12T09:44:56Z</cp:lastPrinted>
  <dcterms:modified xsi:type="dcterms:W3CDTF">2012-04-20T09:56:52Z</dcterms:modified>
  <cp:revision>68</cp:revision>
  <dc:subject/>
  <dc:title>Présentation PowerPoint</dc:title>
</cp:coreProperties>
</file>