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41AB-7153-48E2-82A6-5828E60A03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AB7-3F5E-479A-85C7-CA4ACF40CB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88F-0876-4E2D-B7D4-1996F9DA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4EA-8676-4B06-9887-A7ACE07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6AA-1704-446A-87E4-C0ED5A9B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7E0-C2D2-4643-B58B-17AACE29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F92-A0E8-4AFD-B3D8-BC34F4F4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399-F40F-4EAD-98D8-201921E5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0A2C-C447-4987-8EFA-EA1FD249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C643-92FF-4BE1-B427-CB2D9802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4A48-46BF-400D-9058-0DE3982B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77C-A3B2-4E70-9659-D652D3C2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559B-AA83-4DAB-ADB1-D28D772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6F3-9F3C-4692-9601-AE10723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967-A239-49C4-B136-3786376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9504-9BCE-4368-AB9E-20310FA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1FF-82B6-46C9-ADD8-F81116B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B923-A64E-405B-9E57-6AE1C83F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BD0F-54A8-42F7-BEE0-E90C6E09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D22E-0588-4B07-B4F8-CF9B40F6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1D1E-4EE5-4DC4-84D7-64F5BD3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68A1-76B3-479B-ADAE-57867B7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944C-6796-46A5-80D2-2AB5D94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5802-A24D-4C86-9588-AFF0D3C5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4B0-501D-45C9-AE9E-F0912A9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5E4D-8B71-497C-9ED6-4748E65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ED90-48EE-4EF9-AC49-29D22E9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2FD8-86BC-4E6A-80C0-E1F8BD3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3DF0-561A-431E-8462-1E47DC3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53CF-A36F-4F5B-ADA2-4D8A5A93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3626-27B5-450E-8FCA-C708BFC2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2AFF-C2CE-4FBE-AC7F-04F91154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DAD4E-5771-44F6-8625-89509A95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80F3-DB4E-43CB-8BA1-581146BA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0AF8-81AD-4898-904D-FCE2096B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BFB-0C1A-415E-AD65-E73EB07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2071-9B58-4574-93A3-E0FA92D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88E9-39E4-42E7-8BCD-2683B0B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300F-A98A-4F90-86F4-67D1065E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8876-BDF7-4FF8-A4AB-59D42F35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AA2D-8B4D-482A-9FA4-DC28F0A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00A7-9CF4-44F9-9E9A-3B1F629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AC02-160B-4CC2-8A07-DFBF605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376C-AF6D-470C-96E9-87CAE29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FF1F-36DD-4522-BA06-64992E7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59C-ED36-4191-A868-C69E4FA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3B5-BFD0-4850-959E-314D712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F95-C4D0-468D-AFF1-D4E6861F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A5F-0F3E-4511-81F3-B53A1EF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159-B44A-4C03-BEB9-8B97DFD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88D2-1B1F-49E3-AE05-37A2A6353765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cefact_header_0p2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707-B1F7-495B-9F88-23CC68DE93C0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78D9-7567-46A9-83EB-1A810DCB8D18}" type="slidenum">
              <a:rPr b="0" lang="fr-FR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5366-EE96-44A5-BC0D-6CEB0CB4F8B1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5"/>
          <p:cNvSpPr/>
          <p:nvPr/>
        </p:nvSpPr>
        <p:spPr>
          <a:xfrm>
            <a:off x="556920" y="3324240"/>
            <a:ext cx="8119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DA Sectoral / Agriculture</a:t>
            </a:r>
            <a:br>
              <a:rPr sz="4800"/>
            </a:br>
            <a:r>
              <a:rPr b="1" lang="de-CH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VC    Bruno PRE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DC Frans VAN DIEPEN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835280" y="5732640"/>
            <a:ext cx="583236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9th UN/CEFACT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16-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JasmineUPC"/>
                <a:ea typeface="JasmineUPC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1988720" y="26758800"/>
            <a:ext cx="4802400" cy="32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1893960"/>
          <a:ext cx="8928000" cy="3381480"/>
        </p:xfrm>
        <a:graphic>
          <a:graphicData uri="http://schemas.openxmlformats.org/drawingml/2006/table">
            <a:tbl>
              <a:tblPr/>
              <a:tblGrid>
                <a:gridCol w="1844640"/>
                <a:gridCol w="1503360"/>
                <a:gridCol w="1960560"/>
                <a:gridCol w="1703520"/>
                <a:gridCol w="1915920"/>
              </a:tblGrid>
              <a:tr h="143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Mor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Aftern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Session 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</a:tr>
              <a:tr h="6717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Monday, April 16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Opening Plenary ses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eveloppment plan for PDA Agriculture </a:t>
                      </a:r>
                      <a:br>
                        <a:rPr sz="900"/>
                      </a:b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raft document presentation</a:t>
                      </a:r>
                      <a:br>
                        <a:rPr sz="900"/>
                      </a:b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iscus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New projects presentatio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Validation of the Age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uesday, April 17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Cert message 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cert Mess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New project proposal "eLabs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"eLabs" projec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Presentation of Agronomical Observation Report (use in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Wednesday, April 18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FOOD Chain 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eFOOD Chain Project and new pro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Flowers In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hursday,  April 19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racking and tracing Fish and European 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Tracking and tracing Fish  and European 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Development plan for PDA Agricultur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Review and finalise Draft document Final Re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Friday,  April 20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3f3f7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Goudy Old Style"/>
                        </a:rPr>
                        <a:t>Closing Plenary ses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C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entation of EU TRACES System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ference call with Mr. Pavlovic (N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CERT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 to introduce the authentification of the parties for example by electronic signature with eCert mess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t up an official guidelines document which explicit the major recommendations with the main experienced users (NZ, Australia, NL, European Commission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st of countries which use eCert (NZ, Australia, China, Japan, US, South Korea, Singapore, Chile, Mexico, Kenya, NL, EU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sentation of the project proposal and the draft B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xt step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alise the 3 countries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pose the project to th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ss B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ected submission to BPS Library Maintenance in May or Jun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46480" y="691920"/>
            <a:ext cx="4967280" cy="718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FOOD Chai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supported project which has the objec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mprove the competitiveness and efficiency of this industry by stimulating an innovative and seamless use of ICT along its value ch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MEs are at the centre of interest of this 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s it aims to facilitate their participation in global digital food value network and reinforce business relationships between SMEs and their business partners across b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sectors are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r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uits and Veg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nning of work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se the market and the flows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termine the standardization issues with UN/CEFACT PDA Agriculture: Re-use of UN/CEFACT Messages or propose 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88944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lower A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844640"/>
            <a:ext cx="8640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s for flower sector and seeds which are not covered now by UN/CEFACT XML CII but are in EDIFACT In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lf billing use c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osition of products (ie: a bouquet with several types of flow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ests have been sent to Supply Chain PDA on April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dedicated team for these change requests has to b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sh Trace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idation of the projec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sentation of the glob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xt step : preparation of the B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t up a general document to present the Agricultural messages already standardised and the link 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ectronic animal passport UN/CEFACT Message: discussion about next steps for implementation in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55:10Z</dcterms:created>
  <dc:creator>Fanny DELAHALLE</dc:creator>
  <dc:description/>
  <dc:language>en-US</dc:language>
  <cp:lastModifiedBy>Harm Jan van Burg</cp:lastModifiedBy>
  <cp:lastPrinted>2012-04-12T09:44:56Z</cp:lastPrinted>
  <dcterms:modified xsi:type="dcterms:W3CDTF">2012-04-20T09:56:52Z</dcterms:modified>
  <cp:revision>68</cp:revision>
  <dc:subject/>
  <dc:title>Présentation PowerPoint</dc:title>
</cp:coreProperties>
</file>