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C1EB-B0B4-4736-8464-A2195C60D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86F1-6D03-45B8-BF37-035E055FB2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6A4B8-5A30-44EC-8CB5-9BD16B2D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8B595-A021-4FFC-9B66-083BD191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61D92-1CE6-45D5-8EF0-7E9B8C0F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F1A65-2067-4DB6-92B4-5D37064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568E6-6B09-4A8F-B839-194EA9E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421F2-06F2-45D5-86D2-2B0A7C2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658E2-DD45-4234-AA1A-254BC91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995DF-981D-4EF3-88F6-D27D9D6C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47A69-A489-4647-88D1-DD1DD727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B9387-0DC7-4D15-B0B7-2042673E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0656-E0D7-43A8-B3D6-CE6333D525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53E33-2837-4B02-8B28-0C1B570B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64112-800C-4F48-A593-11D9A9E8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B0D25-61E3-477E-A3CD-2E59BBA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1BEDC-59C4-4D2C-B540-998E3290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42766-0F14-4125-A83E-0250ADE7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11CAB-E963-4D12-926E-84CB2C5F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9A6B0-2E7A-4A4F-A0D4-F3F5FB54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A9384-802F-493B-8B32-E1C10646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0C28E-2CB7-43CD-9D32-05E8679F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2BC91-713D-4997-976D-13EFCC10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E6D7-7123-4454-BA1D-CFD78BD419D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B92B6-96BA-4AD9-8C9B-1609E428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D7C9B1-D8A1-49BD-AE87-CC14474E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818943-9F83-4D08-8324-18880B23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3514E0-E7C9-49D4-8A7E-A9B92B2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546E58-264E-454A-A038-3647F385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76D756-556E-469F-B030-B8FC8D70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24B8A7-1B27-4E01-BAAA-70DE2D90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CF1101-B6CF-47AB-A0E1-D59BCC2C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7CA409-6C1C-4FB0-92D4-9A40656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BC59F4-191B-4629-92FF-5393FF95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FDB10-4456-4412-903D-95C64D78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BA3799-F47C-4007-86AC-0A7E2A3A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62001D-1F82-41DB-ABD1-84E3FB49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8B35C4-C0FF-4043-8C45-1AE563A0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7DDC4-469A-43FA-A53D-AA42A40C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39433-866C-4906-ACB8-F87F6F1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5A7A6-1649-409E-86C0-103A3B6C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6EFE6-7304-4B58-9563-13533CD7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0630C-5F03-4520-87EC-4FB2EDA8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EB217-5A60-4D42-8312-BD42513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CA0E-3D1E-43C6-BD41-31229A5EB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01301-3575-4640-9D1D-C778A0A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F25BF-BCDC-4A99-8619-BA09EF76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42EAA-B999-4AA5-82AB-46D46D9B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0DA45-FE1D-4492-B7B8-2A677883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3890F-5D49-457E-B2E9-9E58CBCB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9413C-75E3-4749-8BA0-F9C60157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AD022-46B4-48A6-A74B-A6D0A326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F8322-F94B-4396-B283-2B299D29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192B7-AAC5-48CB-8E7F-30A59A05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3A1C31-9C8F-4312-876B-B927D84E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3B9D-8B2C-4DBF-AC56-641435751E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33B78-EC27-418A-A83B-C83E2C85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8BF41-5BBB-4EC6-AE1C-3FF353AE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EF46F-6E62-4782-AB66-BC9B8407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EDBA3B-DA9E-4F3D-AB12-98AE805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A3AC7-7E41-4BCD-960C-9B1C510C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9B3F7-D210-4D96-B3CB-4A04957D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1E90B9-B510-4666-97D0-73BDC625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65880-1AC6-4B42-9836-64492BD6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12434-F55F-4F2B-9BCE-0F0A5D89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2994B-B0EA-4C55-9FDD-A0F7EA21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296D-0673-40D3-8D18-950BE89962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7E2B8-AF7A-43A9-8A55-DCE8E372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59716-8EA9-4507-940E-3A99F62F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E3F57-C5A7-4884-9458-7654C0AD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084B4-A31F-4DEC-ABC7-4EE5CB51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92DB9-3436-4E88-9B8A-48CBD51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93E5B-3FF6-4D0D-B32A-77B4FA0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5FABE-7C8B-4DAB-ADCC-5B6D5A90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E43EE-2D68-4881-A61C-189511F3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CA90D5-AD3C-4C61-BB80-D0B4A4A0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F4EF92-F843-4779-835B-B0B39C6A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460B-D654-4E83-82C3-5F4E9D6BC3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E97EEA-6E07-4DBD-B151-E61D5FBA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DDAE57-594E-453B-B488-336EBFEA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73D453-6155-4733-A5CD-930C45D6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6DDC6B-275B-43E3-94FC-1EE6436D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C4E097-0CD4-4AF0-A551-5C1048D1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0989C3-63E7-422E-8ED0-FBDD6CB9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D08066-A720-4ADC-AE45-EBAA817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E7E6E0-3A80-401D-B594-8E88A5F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FB4353-48F9-4EFD-AF4A-0AF6A0B3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7A1FEB-479D-4E3D-96C8-ABCC6999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E007-76EC-45DA-817E-2B4BB38920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35FCA-DAB4-47DF-BF72-96AD6538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30B177-B326-48FF-BBFD-3A960694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C36F8B-00A3-47C5-B576-DD415CE8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1F1ABB-1EB2-4B3D-9E35-C538027E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9BCBC7-BF9B-4335-A084-D0B1D6AF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5C18A-9C7D-4218-95AA-916A7D5F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F56109-E5AE-4567-B694-BE51C00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930DA-1F8A-4DAB-BE98-2155C2FF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FE2D5-A53F-41A1-A6C9-23632EC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7D283-5E1A-4345-B136-0CCCE289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9B9A-0A60-4E83-A728-26E9D98D5B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922424-D6B0-4C3A-BFD9-F91FDBBF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D0FA7E-9307-422E-BB16-E91E8762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1C93C8-DECA-4866-8CCC-EC658252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C14D33-977A-43C2-B8E9-A986E68F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FAB12B-B9AE-4B4F-816B-5AD2F620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3F9580-D6D8-4FB5-AC06-AD4EDC5C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DCF7A6-DC42-421F-8379-DF58CF07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9061CA-0207-4265-BF23-BD43AD02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515E3C-AA1D-4213-9976-FFA8B09D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BFE865-98DD-4C4A-8BA5-DEDCB1A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1994-BC59-41CB-859F-FE162E51E7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18FFF9-6088-4097-86EE-6473365F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C084D7-75AC-4DB2-9293-DFFA44A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B0231D-98E0-4FA3-9D4C-C965F6B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CDC226-3C08-4FC6-9786-F5614FD6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7FA98A-D13C-4CEC-BF83-5371900F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5D2CE-5BB9-4770-9B5B-8A20FE5B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C9159C-F25E-4316-A1D8-8C84F168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265235-B603-4472-88EE-0F04627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78DD06-D838-4FF3-8B91-2DD9F766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0C3A7E-D8BE-42B8-88A5-BD3EC79D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62FC-CEF1-4C17-B0F5-74D56ADADAC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E6DF87-3B29-4DD8-B51E-1CA7EA94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6C6EB8-2223-4696-AF27-FF65537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3E2564-8959-4CA6-963F-32B371AD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5C3335-6309-4193-A46B-A87384A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4ADC04-B2B4-4B23-B871-2631CFA3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D73B79-D9AA-4E10-985B-68E14A1C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EA85D2-4AB2-4F6E-A8BD-03397F46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8E18E-C1DA-4EB4-9675-905B0B1C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8321D-6F62-4421-92F3-B1C980FF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41384-4F34-445D-887D-5B02098D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31E4-42E5-43B2-84C4-95E890CFDF48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02D2-30A3-4653-98AE-83269FC6628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9608-B63B-4929-B79A-DE1A6556D56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62EF-4C59-41D3-9834-842FFC800BFE}" type="slidenum">
              <a:rPr b="0" lang="de-CH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103-A472-46CA-81A5-0DB419A4926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13E0-FFA5-44B3-9DC7-E23D041D92E4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F6E3-F43C-422F-A7F5-305083CA903D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9E48-0184-42A0-9F49-E7EFEB037CC9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E834-6AF6-4554-9D0C-93A746FC6B71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3D6-FAF3-410C-8AD4-773AF34ECC36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EB20-848C-4A7D-B03C-1AD36E5E43FD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FORUM</a:t>
            </a:r>
            <a:br>
              <a:rPr sz="3600"/>
            </a:b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CLOSING PLEN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Supply Ch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Programme Developm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Mike Doran &amp; Tim McGr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 </a:t>
            </a: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UN/CEFACT Plenary Vice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sentation to the Supply Chain, Regulatory, and Trade &amp; Transport Facilitation PDAs, on the Supply Chain Council’s SCOR Model &amp; its possible relevance to the Buy-Ship-Pay by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Enrico Camerinelli, former Executive Director of the Supply Chain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Enrico also discussed the relationships between the physical and financial value cha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The SCOR model does not address cross border and payment acitivities – opportunities for cooperation to be followed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5334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MONDAY 16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scope discussion &amp; SCOR follow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unch &amp; Learn given by Angela Strachan, Business Environment, International Trade Centre, (ITC), Geneva, on ITCs work in Agriculture, Trade Facilitation &amp; Trade Fin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Joint meting with the Supply Chain and Trade &amp; Transport Facilitation PDAs, and ITC, on Trade Finance &amp; Cross Border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xperts from Supply Chain PDA attended the meeting on Core Component Technical Specification 2.01/3.0 issues – PEPPOL and BII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5257800" y="907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TUESDAY 17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w Technical Framework Discu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Joint meeting of the Supply Chain and Trade &amp; Transport Facilitation PDAs on sharing information on current projects and discussing possible future joint pro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Both PDAs will map existing deliverables under Buy-Ship-Pay, in EDIFACT, XML and TF Recommend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Gaps will be identified and project proposals prep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5181480" y="9144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WEDNESDAY 18 APRI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upply Chain PDA Projects Status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Continue CCTS 2.01/3.0discu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Migration to Core Component Library based on CCTS 3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Cross Industry Invoice (CI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eTend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Contract Execution Financial Management (CE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eNo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Accounting &amp; Audit – Lexical Nomencl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Update: 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Master &amp; Measured Data Alignment for the European Energy Industry (being prepa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Request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 from Agriculture: Additional Business Requirements for the C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"/>
          <p:cNvSpPr/>
          <p:nvPr/>
        </p:nvSpPr>
        <p:spPr>
          <a:xfrm>
            <a:off x="5181480" y="90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THURSDAY 19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upply Chain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sentation &amp; discussion on the Legal Notice Publication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te current project work for the w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lan activities over coming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pare for Closing Ple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losing Plena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"/>
          <p:cNvSpPr/>
          <p:nvPr/>
        </p:nvSpPr>
        <p:spPr>
          <a:xfrm>
            <a:off x="5334120" y="907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FRIDAY 20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Harm Jan van Burg</cp:lastModifiedBy>
  <dcterms:modified xsi:type="dcterms:W3CDTF">2012-04-20T11:51:33Z</dcterms:modified>
  <cp:revision>278</cp:revision>
  <dc:subject>PPT Template</dc:subject>
  <dc:title>United Nations Economic Commssion for Europe</dc:title>
</cp:coreProperties>
</file>