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1C52-4CDA-4AC3-8AD9-B4055FF4B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0A47-21F1-4345-9546-C12BA79F4E2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C6C50A-264E-4CE0-B774-596B4205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CF521-E178-4EDD-8430-755B09B7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BB68F-2558-4016-8942-9D1E027B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AB3E5-D6D7-4D0D-B1AC-E4C430F8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C9CD3-457C-498E-BD8F-316C4FBC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F692C-D8B7-4E1F-810B-7064822C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349A5-2C6A-4492-B72D-7502B402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21213-9FC9-4065-8052-35657233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54235B-3FA5-4591-B2FD-177B3B4B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4F2AF-765B-4BFF-B129-EF99F7B7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E11A-B878-4521-8BC9-64B3E8B5E2B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8E584-348A-4469-BCD3-37DB7C67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AEADA-E601-41F2-A07E-95285A56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11EFE-99D5-45C2-8534-C525B57C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908DC-D9F5-4B5A-93E6-BD371660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E0A53-0B5A-4C41-A828-4473AEF0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DCC0A-E312-4832-AB04-830A357A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004D8-DD1A-4AA4-B839-96213EBF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93D03-0164-4364-AC63-57A54DD4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1E24F-E1CD-4EEA-893B-06AAC844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018F7-A69F-4F49-A209-EF5D8872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66B5-FB19-4B09-973F-31B508D086D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9B8D6-6B1E-4E13-9581-A8FA143C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3D45B3-0466-40D7-BAAC-7CA210D6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88CC5F-D273-4F36-B40D-CF475D54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02B212-0A2A-4020-B5D8-7D145CCD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F2343E-FD3A-438C-9868-8E5208ED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0E23D3-5DE9-4C04-B15A-075643BE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A0E3AA-7D97-469D-B69D-80B1181B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E00AFC-9CE7-465D-BFE0-FAF73906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63416D-E9AE-4BBA-98AD-65EA2D80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C12502-8B20-4740-9723-33FA0428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E41E2-53AA-47FA-A1BD-565DDB83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EF7FD2-2BC8-40BF-8285-2319C07D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0938CC-3CA8-44B1-94C5-09E74EBB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5150E4-7E9F-40D3-B797-DFD73902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272BB-05FD-4F68-9751-03A7C6CC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CD297-CD43-418F-8863-795EDBE4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8A7BF-F1CC-4799-9D45-9BAEC893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AEF65-897F-41D5-B06F-F8A2780E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337C8-00EC-43F1-AE81-589D7707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BBA25-5C03-453C-8EF9-F46220F6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267C-62C7-4795-A9D1-737CBABE6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CDB9B-0921-45A9-B198-2777E088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54C8D-5708-4BA9-890F-B950BB62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D3194-EF84-472A-A290-EF364188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595F1-C1F3-4A76-B0E5-65E0BE77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0B492-A631-4E98-9550-236D2FE7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E1C70D-67A3-4ED7-B445-34412FBF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3EFB62-8A45-49BA-910E-56A1D52B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4A91E9-6F2B-4C21-899E-F756120E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CF579-987B-4F17-A4F8-1D3B314E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8A0A0-258A-41A5-B6BE-3D616A7B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ABE4-EC2B-4127-8728-C98E40E136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05CA40-0AE7-4442-9B37-E01A753E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537280-1272-4DB7-8790-2C0D09A7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7A8F78-A6B5-43B5-8A7A-390321CD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5D2614-377F-47AA-9B35-CDCBA14A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5C4E0F-F2DC-4AF0-9912-282338AE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03F83-655B-4DC4-9390-5590423B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9D108-CB3B-4321-8BF7-26B6A2A0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612FCD-74AB-4826-890B-DBDD3539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DCC25E-F047-4BEB-9D71-899CCAEF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4B086E-2D47-4A92-A1CA-F735801E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90B1-62E4-4BD9-97AD-A94C86E247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979BED-A0C6-4934-9B6C-970AF56B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0482B0-D130-4989-A2B9-090787B5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8A2CD3-1629-4BBD-9AC6-3C339482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413FA-593C-42AB-ACA7-3E612381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A43B3-8330-4654-B704-26BC04C4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941786-67FD-4A79-B078-5CEDD39F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B4ADA-AD23-4103-83BA-83A71D9A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523DED-05DB-4566-99AA-173BF2FA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47369-4384-412A-A477-0E6FC735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90A0EE-DDBC-4F1D-968E-79F1DFFF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D2B5-0F36-4247-BC19-0163FC8B037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77A56F-D2C2-4AF4-85DB-219318C0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FAA923-0F83-4539-9F31-9DA5DCAB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F001A7-F847-40D9-94E6-2513809A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8BD639-8AD2-4A9D-84A6-72FB78F8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B56E29-B7B6-4504-A093-D4634B50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C88684-764A-4E2C-AA68-347C8F8D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7CAF47-9780-4DC8-AB16-F369614F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FFBC9A-1728-4429-AADE-E5B96DB8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D1E7C5-6710-464F-B58A-D5BDB139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63D9D0-049A-4F5A-A932-6A693296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A47F-CBAA-460B-9B38-09BEA93CAB9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66B31D-53B9-4D8B-A00A-2CD34D08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FDB523-4577-4849-BA63-4FA00519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BD2E1-A025-45BC-9764-52901589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778DF2-8518-46BC-A339-643A8B64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DDB0F8-70AC-4722-A1C2-696768F2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1EF1FA-1C0C-490C-8D34-C320B7D7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CE7B2E-E7EC-41BC-A845-DB4D5D3C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38907D-3690-41E6-BBB7-C22550C6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78D3EE-D6D2-4B86-856B-DDE87021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C90D41-FC5A-4CFD-A2F4-99B68703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0A23-9048-4FA2-B1B4-8EE6402F085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D2D8B6-4833-4E60-97B7-D2F66E6D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201E3F-D9C6-4FB3-832C-084C84CC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0E41D1-5430-4952-A855-414A8D80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7E852A-A4D1-4268-8354-84FFE6AC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1E0ED1-6B54-4367-850B-C8DEE1A6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02FC97-17EF-479B-9E5A-EE3478EA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5AA2BC-3628-4C8A-93FF-7D15C70A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DE267D-6161-4AF3-92A3-28293FA1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E8EE2E-0116-48E1-8361-2581AF27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57F1A6-B5D7-4A13-B9C2-B3C94E2C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D77C-D66F-4B88-8EEF-A5942BF9C3F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CCBF51-7ABC-4407-8BD4-0F10D44A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94BDB2-E79B-4B12-BC4F-67E996C2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42D68C-A56E-424A-A6DA-EE523C64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5DD8A3-B8F0-4F58-B91C-5E4CDCD0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D3E963-24BA-47A9-8525-956C9CDF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5E51CD-678D-46C5-8B1F-CB165A40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1B656A-4821-44F7-ACAB-EEFE7177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BEE8F9-B8B7-4511-A504-AEE8FFE2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95978A-04E7-457A-9F70-C1B7256E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ABDE7F-B782-4EEE-8051-D313D996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F277-5EC2-446B-8E95-FD7E57D3920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C7899A-571C-4CC0-9031-7B0D78CC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9ABD26-590F-4B39-A8E9-56B001C9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A074C4-7F58-4C8E-A8C8-B438443D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E6F426-929A-472F-A2AC-D21250B8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A28C74-F6CB-43BD-961D-FE66C17E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19A761-8687-4506-8963-AAF361EF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1C16F3-526A-4A1E-9859-6D95BEEB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6CE1E-F782-4CE1-8219-2DAEF866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12796-562D-4F79-8643-CEA1626F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C196D-EF6E-4DD4-B162-678D02C6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2FAC-BAF7-4ABD-8508-8BE78A6C7415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A48E-ED4C-4EA5-8407-DACAD6F4FD13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A567-BF9F-4BDC-A6B8-203D213FD952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1D3C-5009-4B99-9354-AA58DE2F9AEB}" type="slidenum">
              <a:rPr b="0" lang="de-CH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C77B-F65D-453E-BF36-27C96ABEDEAC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1FF2-C640-45A2-A696-48DDEDB2CACE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6AB9-9058-4C21-8130-7273EB94390C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12BF-DC48-4B75-B4DB-440A4C4429EA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C972-5EE7-40B6-96E3-98DB8B81D93A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9533-76F9-497D-9CD1-007825DD9AC3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7FC4-B0FE-4DC7-B284-45D18DF4EB08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523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Palatino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 UN/CEFACT FORUM</a:t>
            </a:r>
            <a:br>
              <a:rPr sz="3600"/>
            </a:b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CLOSING PLENA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971640" y="3047760"/>
            <a:ext cx="720072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Supply Cha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Programme Development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Mike Doran &amp; Tim McGr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 </a:t>
            </a: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UN/CEFACT Plenary Vice Chai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esentation to the Supply Chain, Regulatory, and Trade &amp; Transport Facilitation PDAs, on the Supply Chain Council’s SCOR Model &amp; its possible relevance to the Buy-Ship-Pay by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Enrico Camerinelli, former Executive Director of the Supply Chain Counci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Enrico also discussed the relationships between the physical and financial value cha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The SCOR model does not address cross border and payment acitivities – opportunities for cooperation to be followed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5334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MONDAY 16 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ly Chain PDA scope discussion &amp; SCOR follow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unch &amp; Learn given by Angela Strachan, Business Environment, International Trade Centre, (ITC), Geneva, on ITCs work in Agriculture, Trade Facilitation &amp; Trade Fin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Joint meting with the Supply Chain and Trade &amp; Transport Facilitation PDAs, and ITC, on Trade Finance &amp; Cross Border Pay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xperts from Supply Chain PDA attended the meeting on Core Component Technical Specification 2.01/3.0 issues – PEPPOL and BII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"/>
          <p:cNvSpPr/>
          <p:nvPr/>
        </p:nvSpPr>
        <p:spPr>
          <a:xfrm>
            <a:off x="5257800" y="907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TUESDAY 17 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w Technical Framework Discu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Joint meeting of the Supply Chain and Trade &amp; Transport Facilitation PDAs on sharing information on current projects and discussing possible future joint pro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Both PDAs will map existing deliverables under Buy-Ship-Pay, in EDIFACT, XML and TF Recommend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Gaps will be identified and project proposals prepa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"/>
          <p:cNvSpPr/>
          <p:nvPr/>
        </p:nvSpPr>
        <p:spPr>
          <a:xfrm>
            <a:off x="5181480" y="9144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WEDNESDAY 18 APRI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Supply Chain PDA Projects Status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Continue CCTS 2.01/3.0discu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Migration to Core Component Library based on CCTS 3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Cross Industry Invoice (CII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eTend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Contract Execution Financial Management (CEF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eNo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Accounting &amp; Audit – Lexical Nomencl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Update: 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Master &amp; Measured Data Alignment for the European Energy Industry (being prepar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Request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 from Agriculture: Additional Business Requirements for the C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"/>
          <p:cNvSpPr/>
          <p:nvPr/>
        </p:nvSpPr>
        <p:spPr>
          <a:xfrm>
            <a:off x="5181480" y="907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THURSDAY 19 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Supply Chain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esentation &amp; discussion on the Legal Notice Publication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te current project work for the we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lan activities over coming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epare for Closing Ple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Closing Plena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"/>
          <p:cNvSpPr/>
          <p:nvPr/>
        </p:nvSpPr>
        <p:spPr>
          <a:xfrm>
            <a:off x="5334120" y="907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FRIDAY 20 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Harm Jan van Burg</cp:lastModifiedBy>
  <dcterms:modified xsi:type="dcterms:W3CDTF">2012-04-20T11:51:33Z</dcterms:modified>
  <cp:revision>278</cp:revision>
  <dc:subject>PPT Template</dc:subject>
  <dc:title>United Nations Economic Commssion for Europe</dc:title>
</cp:coreProperties>
</file>