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C3CD-6CCC-40E6-AB9B-29B82D0CF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5A0D-40AF-4279-9CC6-5B89263A6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D68E-5C2A-42C3-B7BB-CDCD7A05C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8C59-5B87-4C2A-9AAE-22414C0BB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1993-B48F-487A-BD8A-F08BD08A19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5674-E4B3-4E74-8B65-808D327E94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0046-C778-4120-8E60-BCFDC8F263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FF45-0722-41D8-A46D-F0B5D5D318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5E40-5EBB-4601-9C1C-31C4A9728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2766-D15F-4582-AF46-D1F5FDCCB6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2417-0C02-436D-8069-00423D8A7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130B-D80D-49D6-B32D-1166BBE6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D8CE-B7BB-4850-B7DD-8E69E582D1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F960-C6E6-4B17-A6B7-D716BEA5E5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6B79-BA16-45E4-B73A-B045093A14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7A1F-F626-40C6-A90A-6624DF2D73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5FDF-82FD-4193-AD0B-3BEA76E350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4552-AA33-4B47-A45A-FAEF76D10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D27A0-7628-4A69-9F02-6C5F7D8A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88C8-D0B6-496D-9332-77A9C700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B0B3B-6D8B-42A7-9E52-392269C1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9937-507C-49CD-AFDF-17AA8002CA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0A462-77B9-4DC7-AE21-39297BB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88F5E-BF4A-417E-820C-53C94EE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207AA-31FF-455C-B049-7516FB1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10EB5-9F5C-4116-B2EB-4247266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E5AE6-9DFB-48D9-A1C6-667451D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13AA-0ECC-4932-9EB3-842BB55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87CE-31E0-43A3-BC94-BB2762A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2FD95-B208-4AF6-8148-3533C380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9A754-EFCA-49A4-BBDF-B729898E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310E-1FA5-41CA-9995-E0AA22D08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9A29-C3AE-4C0C-A023-A74ED6AB3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D4F7-67FB-47F7-9B18-15799A22F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AADB-8F2C-40A9-8B63-54DE87429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D047-0CDB-4464-9644-37DEC19D8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F63-96D9-4222-A939-D18A86249E7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E4FA-E961-425B-B182-4601A7F630C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0E8-7C12-45BC-88D0-B9E886800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Trade and Transport Facil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Regulat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20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CEB3-349A-4C0C-9ABC-757269476AD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3"/>
          <p:cNvSpPr/>
          <p:nvPr/>
        </p:nvSpPr>
        <p:spPr>
          <a:xfrm>
            <a:off x="5181480" y="838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TF and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5"/>
          <p:cNvSpPr/>
          <p:nvPr/>
        </p:nvSpPr>
        <p:spPr>
          <a:xfrm>
            <a:off x="228600" y="167652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ies during Forum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proposal for revision of Recommendation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taking of ongoing initi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Window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rivate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PDA-meeting with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n Trade Facilitation 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n SCOR-model with 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berations with International Trade Centre on futur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Harm Jan van Burg</cp:lastModifiedBy>
  <dcterms:modified xsi:type="dcterms:W3CDTF">2012-04-20T10:06:46Z</dcterms:modified>
  <cp:revision>449</cp:revision>
  <dc:subject>PPT Template</dc:subject>
  <dc:title>United Nations Economic Commssion for Europe</dc:title>
</cp:coreProperties>
</file>