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ECFC-052D-4C65-AC80-ED1F20061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E551-30BC-4821-9325-57C0DC3C3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ECEE-4C5C-41BA-A311-E3030283E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FD74-F988-4641-B966-22A70798B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5801-7235-486A-8A43-CCC13B36F7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E036-4341-4B8B-B7A5-3041001271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8C6D-75F4-48A8-9540-1D3073F047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0D1F6-C453-48B9-BA7B-76BAEEDAFE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BAB1-42B0-4F5E-AE0A-38A2425B4B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BEEC-024B-4FDD-9291-7BA2B5147F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DB1B-4AA0-408F-B7BC-172B664AC4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633B-DFDA-4FCB-930E-1B5FD860E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668F-99BD-422F-9796-AE2DBAE4D6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D286-8806-4B4E-8DC6-3DA89F9F1C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5172-7895-48DB-B2EE-DBF22303FE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4CF8-72DD-452D-949A-87F7C34DC2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AB0E-93E2-4CED-8F63-BC116D26A4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1415-FF48-40BA-82C8-04A345CDD7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ECA3B-3BE7-405E-AB54-2F51955D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0EF44-93DA-4F54-ABA5-D2730FD0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965A2-E4BB-4CEF-9609-AB27B269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783F-DCA2-436A-89EF-676FFC5B80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3C709-85B6-4330-8780-2210BEA7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C69F9-D8A0-4F70-A2B4-DB065A70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B07DF-4CC0-4EEC-A099-6EB9CA96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5EECB-391F-48E8-9038-CF168157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EE315-BD06-4DCE-9650-5BF8C979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814DA-7146-4D1C-A2B5-A89BDD54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056B9-D075-429F-9DB6-3D50E265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4C7B1-65BD-462B-A5E7-B9AA31AB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ECC17-419D-4CBC-A044-E0CCD178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0171-188E-41E0-8527-955111A38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BDB5-8E38-4ADE-9B66-0C758CA3F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8AD0-7A0D-4A76-AD28-3275CE25A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F9F0-1879-4673-8FF1-06E665170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FCF3-C6D9-43BB-A96D-43DC4126B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C09B-01F9-41E6-83C8-64782FC0D13B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8370-B2D9-4457-95E3-C1D212FB5C95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0 August – 3 Sept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4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th UN/CEFACT FORUM – Geneva, Switzer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BE74-3AAD-49CE-BB64-1C075E26B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200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54a8"/>
                </a:solidFill>
                <a:uFillTx/>
                <a:latin typeface="Times New Roman"/>
              </a:rPr>
              <a:t>Trade and Transport Facili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54a8"/>
                </a:solidFill>
                <a:uFillTx/>
                <a:latin typeface="Times New Roman"/>
              </a:rPr>
              <a:t>Regulat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Mats Wick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Bureau Vice C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Geneva, Switzerland – 20 April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D111-E041-4D0D-A15C-2912627AD14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sellaDiTesto 3"/>
          <p:cNvSpPr/>
          <p:nvPr/>
        </p:nvSpPr>
        <p:spPr>
          <a:xfrm>
            <a:off x="5181480" y="838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TTF and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sellaDiTesto 4"/>
          <p:cNvSpPr/>
          <p:nvPr/>
        </p:nvSpPr>
        <p:spPr>
          <a:xfrm>
            <a:off x="990720" y="1905120"/>
            <a:ext cx="472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sellaDiTesto 5"/>
          <p:cNvSpPr/>
          <p:nvPr/>
        </p:nvSpPr>
        <p:spPr>
          <a:xfrm>
            <a:off x="228600" y="1676520"/>
            <a:ext cx="83818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ies during Forum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proposal for revision of Recommendation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taking of ongoing initi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Window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Private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PDA-meeting with Suppl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n Trade Facilitation 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n SCOR-model with 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berations with International Trade Centre on future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sellaDiTesto 6"/>
          <p:cNvSpPr/>
          <p:nvPr/>
        </p:nvSpPr>
        <p:spPr>
          <a:xfrm>
            <a:off x="3733920" y="4800600"/>
            <a:ext cx="3124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Harm Jan van Burg</cp:lastModifiedBy>
  <dcterms:modified xsi:type="dcterms:W3CDTF">2012-04-20T10:06:46Z</dcterms:modified>
  <cp:revision>449</cp:revision>
  <dc:subject>PPT Template</dc:subject>
  <dc:title>United Nations Economic Commssion for Europe</dc:title>
</cp:coreProperties>
</file>