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507-7B83-44BF-9ECA-33F3FAE5A3D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23D9-2F6F-41E7-A32D-84F3D2462EC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4CE0-644D-4C75-9D9C-F45F655D7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22C4-665E-4CCD-B229-98CECD561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02E2-F41C-4DFE-A599-2A8818320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A7DE-E311-40A3-A7C6-1B4088499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FA06-986D-4BEE-9AD7-C3709DBA64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15C3-ABA5-4734-9D27-1B82014F8B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DC9F-5FD5-4FC6-9EDE-177F4E8D40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790E-75D9-45FD-887F-426D2B36B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5795-86FD-4459-BB2A-F5E8A0D4B6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AD49-7E07-4AC6-BCC3-3C0DC74112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504E-F2EE-4FE5-9A67-0DA29CE0E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3FC6-7663-4457-9296-5353BC55C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9709-ABFF-4D32-A385-E8002CA71A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C42B-0046-4BD9-989D-2B564EB839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97E5-8E8E-4D25-ACC0-3A159DFD31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3275-7A18-4209-9A68-C9356C4589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350F-D655-4214-ACB3-D111A149E3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5C69-CFD6-4759-8783-7D0146EED7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0883F-4564-4871-B47F-7D49CCFF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5047-7A26-4A4E-BEB2-7CFDD1CD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C91FB-ED8A-46C4-9339-EE7B14A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E901-292D-4D3F-98FD-1FAED9AF45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0042C-8252-480D-A7EF-FF38476B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4ED67-504D-4C30-938B-4BC1113D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3DD49-3727-4FAE-A5E8-DC0849B0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EE255-0FF6-4D73-A084-C3F2C3EE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A68F6-A1A8-40A0-B0B9-092252A1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41639-6AEC-4DC9-AA94-04CB0E8B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3ED95-8C9C-4E48-AE4A-22CD2051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F7CCA-F4A2-4CF3-A8F5-75F6C4EE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860A3-3F56-478D-B77E-7C61FECD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E1C7-2B6F-4745-B4C1-5A8282A00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8C86-9E73-4EB7-ACA1-C5B02E858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9040-2825-4839-9F3C-B082C79D5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4B97-93BE-4D5B-9BAB-B53AA9F84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3ABC-8B18-4B06-BAB6-5296C1976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AB26-223D-43AA-A763-D114454AF93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F653-95B2-46C5-8D8F-E4E9AA78AAEA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0 August – 3 Sept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th UN/CEFACT FORUM – Geneva, Switzer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A88A-0305-4957-8CE0-83C8E752D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cefact.org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200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54a8"/>
                </a:solidFill>
                <a:uFillTx/>
                <a:latin typeface="Times New Roman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Pier Alberto Cuc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Bureau Vice Chair for Commun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, Switzerland – 20 April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F90D-1627-4702-9F90-E4A94809616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sellaDiTesto 3"/>
          <p:cNvSpPr/>
          <p:nvPr/>
        </p:nvSpPr>
        <p:spPr>
          <a:xfrm>
            <a:off x="5105520" y="9907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4"/>
          <p:cNvSpPr/>
          <p:nvPr/>
        </p:nvSpPr>
        <p:spPr>
          <a:xfrm>
            <a:off x="990720" y="1905120"/>
            <a:ext cx="472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5"/>
          <p:cNvSpPr/>
          <p:nvPr/>
        </p:nvSpPr>
        <p:spPr>
          <a:xfrm>
            <a:off x="152280" y="1981080"/>
            <a:ext cx="8382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54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Week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al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in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tern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new Videos produc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f the 20° UNCEFACT Vienna Forum (Christian Huemer-Aust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f the Recommendation 40 project (Johan Ponten-Swed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and selection of material (short videos, photos) for a new Video – Visual Story of 19° UN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6"/>
          <p:cNvSpPr/>
          <p:nvPr/>
        </p:nvSpPr>
        <p:spPr>
          <a:xfrm>
            <a:off x="3733920" y="4800600"/>
            <a:ext cx="3124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magine 1" descr="DSCN0732.jpg"/>
          <p:cNvPicPr/>
          <p:nvPr/>
        </p:nvPicPr>
        <p:blipFill>
          <a:blip r:embed="rId1"/>
          <a:stretch/>
        </p:blipFill>
        <p:spPr>
          <a:xfrm>
            <a:off x="5029200" y="5181480"/>
            <a:ext cx="2590920" cy="1549440"/>
          </a:xfrm>
          <a:prstGeom prst="rect">
            <a:avLst/>
          </a:prstGeom>
          <a:ln w="0">
            <a:noFill/>
          </a:ln>
        </p:spPr>
      </p:pic>
      <p:pic>
        <p:nvPicPr>
          <p:cNvPr id="180" name="Immagine 3" descr="DSCN0721.jpg"/>
          <p:cNvPicPr/>
          <p:nvPr/>
        </p:nvPicPr>
        <p:blipFill>
          <a:blip r:embed="rId2"/>
          <a:stretch/>
        </p:blipFill>
        <p:spPr>
          <a:xfrm>
            <a:off x="1143000" y="5257800"/>
            <a:ext cx="2743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45A-52FC-45EE-87A8-8CD263D707D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sellaDiTesto 1"/>
          <p:cNvSpPr/>
          <p:nvPr/>
        </p:nvSpPr>
        <p:spPr>
          <a:xfrm>
            <a:off x="152280" y="1905120"/>
            <a:ext cx="472464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Short/medium term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update of the website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uncefa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and editing  of  new videos to be uploaded to the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d communication with HODs and UNCEFACT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other communication tools for UNCEFACT 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mmagine 2" descr="DSCN0727.jpg"/>
          <p:cNvPicPr/>
          <p:nvPr/>
        </p:nvPicPr>
        <p:blipFill>
          <a:blip r:embed="rId2"/>
          <a:stretch/>
        </p:blipFill>
        <p:spPr>
          <a:xfrm>
            <a:off x="4800600" y="262908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Pier Alberto Cucino</cp:lastModifiedBy>
  <dcterms:modified xsi:type="dcterms:W3CDTF">2012-04-20T06:54:32Z</dcterms:modified>
  <cp:revision>446</cp:revision>
  <dc:subject>PPT Template</dc:subject>
  <dc:title>United Nations Economic Commssion for Europe</dc:title>
</cp:coreProperties>
</file>