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42F8-7F34-4FBB-96D2-429078DED715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A87F-86F8-4438-A6AD-2449AF81F633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D1F6-FBA6-4173-8848-EEC807AFF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FC84-0F50-40C4-BD9F-241ED32D1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F883-FEB4-4101-B826-4C4B53FB2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C51D-1D3E-4B65-9800-F4AA06D77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BAFB-89D5-43E5-9786-B3BCD58799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5E52-AA74-40F1-831E-C60381F331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316B-2211-4DC3-8D26-800B217E07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ECAC-909E-45CF-883C-F2C9EBE1C0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CF7B-95ED-49FE-874B-C679E36558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F2E7-808E-412C-9FD3-3F50D53E37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66F6-6E3A-4EE1-AE09-08C5F42419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9065-92E2-48CE-A078-9ABFD4B54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AA55-960A-463A-86CC-92A6CC7ED4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D30F-7D5A-422E-A2B0-12BB687414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04C0-39DF-4289-B6B9-9BA4BFD4CE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BB88-14BD-4ED4-B7BE-D90BEB0947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45CB-4538-472F-82C1-22BEB4E415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B5F3-3EF7-4590-8400-2275C4880D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CA3B3-6DBC-43F4-8FEE-C2BE72B7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786D9-5A86-42C0-9DEF-8A3E2CF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B5F71-E5E9-466C-B711-F9F322E7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A4E3-E380-4931-A988-813FD1B0D0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5D37-D885-41B0-9F55-3B9914A5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F1B72-5F12-4389-81C8-50B8F157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99B9B-930C-44B5-9D06-B3BE9A03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33A04-C0D6-4E1B-93E5-E19F7CC7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3ED9F-F277-460E-B76C-8CBF2672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17A3D-CA51-480A-A097-5DF7C43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803EB-50B3-4870-A996-92E3CF60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566B1-9159-467A-9F26-82717C53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FFEAF-EFF9-4E8B-8B1E-C68D56A7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D863-F057-4FA0-8F69-34E40C1D5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D3A5-8B26-4BC9-87BF-965D94CC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1D53-965D-4922-96E6-11E3BD601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1C70-7A94-46D2-9EC3-9F831F9EE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BC42-DA67-490F-84C2-B25E2A8D6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5737-92B6-404F-B09F-10525820115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89C2-F30F-4497-8560-5470EF9F72D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0 August – 3 Sept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th UN/CEFACT FORUM – Geneva, Switzer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2FEA-2554-43E8-A4B1-768A4EC68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cefact.org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200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54a8"/>
                </a:solidFill>
                <a:uFillTx/>
                <a:latin typeface="Times New Roman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Pier Alberto Cuc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Bureau Vice Chair for Commun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, Switzerland – 20 April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3C40-DE85-492D-B5CB-A950F5F0B55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sellaDiTesto 3"/>
          <p:cNvSpPr/>
          <p:nvPr/>
        </p:nvSpPr>
        <p:spPr>
          <a:xfrm>
            <a:off x="5105520" y="9907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4"/>
          <p:cNvSpPr/>
          <p:nvPr/>
        </p:nvSpPr>
        <p:spPr>
          <a:xfrm>
            <a:off x="990720" y="1905120"/>
            <a:ext cx="472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5"/>
          <p:cNvSpPr/>
          <p:nvPr/>
        </p:nvSpPr>
        <p:spPr>
          <a:xfrm>
            <a:off x="152280" y="1981080"/>
            <a:ext cx="8382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54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Week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al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in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tern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new Videos produc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f the 20° UNCEFACT Vienna Forum (Christian Huemer-Aust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f the Recommendation 40 project (Johan Ponten-Swed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and selection of material (short videos, photos) for a new Video – Visual Story of 19° UN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6"/>
          <p:cNvSpPr/>
          <p:nvPr/>
        </p:nvSpPr>
        <p:spPr>
          <a:xfrm>
            <a:off x="3733920" y="4800600"/>
            <a:ext cx="3124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magine 1" descr="DSCN0732.jpg"/>
          <p:cNvPicPr/>
          <p:nvPr/>
        </p:nvPicPr>
        <p:blipFill>
          <a:blip r:embed="rId1"/>
          <a:stretch/>
        </p:blipFill>
        <p:spPr>
          <a:xfrm>
            <a:off x="5029200" y="5181480"/>
            <a:ext cx="2590920" cy="1549440"/>
          </a:xfrm>
          <a:prstGeom prst="rect">
            <a:avLst/>
          </a:prstGeom>
          <a:ln w="0">
            <a:noFill/>
          </a:ln>
        </p:spPr>
      </p:pic>
      <p:pic>
        <p:nvPicPr>
          <p:cNvPr id="180" name="Immagine 3" descr="DSCN0721.jpg"/>
          <p:cNvPicPr/>
          <p:nvPr/>
        </p:nvPicPr>
        <p:blipFill>
          <a:blip r:embed="rId2"/>
          <a:stretch/>
        </p:blipFill>
        <p:spPr>
          <a:xfrm>
            <a:off x="1143000" y="5257800"/>
            <a:ext cx="2743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423D-8D26-43B4-A2A1-4DC4B920D18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sellaDiTesto 1"/>
          <p:cNvSpPr/>
          <p:nvPr/>
        </p:nvSpPr>
        <p:spPr>
          <a:xfrm>
            <a:off x="152280" y="1905120"/>
            <a:ext cx="472464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Short/medium term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update of the website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uncefa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and editing  of  new videos to be uploaded to the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d communication with HODs and UNCEFACT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other communication tools for UNCEFACT 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mmagine 2" descr="DSCN0727.jpg"/>
          <p:cNvPicPr/>
          <p:nvPr/>
        </p:nvPicPr>
        <p:blipFill>
          <a:blip r:embed="rId2"/>
          <a:stretch/>
        </p:blipFill>
        <p:spPr>
          <a:xfrm>
            <a:off x="4800600" y="262908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Pier Alberto Cucino</cp:lastModifiedBy>
  <dcterms:modified xsi:type="dcterms:W3CDTF">2012-04-20T06:54:32Z</dcterms:modified>
  <cp:revision>446</cp:revision>
  <dc:subject>PPT Template</dc:subject>
  <dc:title>United Nations Economic Commssion for Europe</dc:title>
</cp:coreProperties>
</file>