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636-9702-4905-B89D-91FE0EA334C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522-DA23-40A6-A32F-1C6A4B8571F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70E0-F807-4497-8849-C7360A7E6BBF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947-78DE-45D1-AD40-5EF62621133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0C66-B818-47A1-B17B-26A34803AB9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E31-F0B7-4295-BFC1-2E9A5583999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9AA-ECE4-447D-A64A-A28C97C231A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ACB-B1AE-4508-8D3C-BFBE044B16C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B76-CD11-4362-96A5-F064E88600D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EBA3-4922-47E2-8C03-23DF8D3AD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E7B3-D815-4266-AC3E-276BB043C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2648-BD53-4C5E-A6FE-EC892A162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ACF3-4D35-48FF-AB98-3490F8229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B1DE-7EEF-4C16-95C4-024B6850F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F476-A222-457A-BE3E-5990B3AF98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828F-FA25-4CBB-8657-EF31AE83A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BCE2-75C9-42BE-A486-754615C2F1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9342-DB71-421D-8F52-925874FBC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D1CA-3CFB-4440-A1B7-A56D1C1CE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AA1E-122F-4E58-AF8C-79C631ADB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EB60-D06B-46B7-86A1-751040C45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8DB3-0789-4AED-BD23-7770E7A96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2CA1-C106-4135-A0CA-0B3354F685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4374-441D-45FD-B4DB-C2C6962066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B68D-E8E9-45DD-A044-C69ADE222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73BD-5449-426C-A51A-D9A7F50F67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1697-DC9B-4CC3-BE7A-9987B91E5A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EA65-2300-4ACE-92A3-D119ABB2F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6370-3FBD-4FF8-9863-BE0DFA405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EA11-2B52-4A6D-BC12-D4A9E3A14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0FF6-84D7-46C2-87FF-2696860D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88BF-C2B7-425E-ABCF-E831CB9AF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0CBA-8AA4-42E7-8BD1-B975856EC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C72-A1EA-44E4-9B7D-C9D31911361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5EF9-EBBE-4018-8E92-E0AF55D02CD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9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Closing 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4:30 – 15:3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F1F3-2A61-48F1-9D49-B5CC64B18E6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990720" y="20574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. Opening Remark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. Reports on Activities of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. 20th UN/CEFACT Forum,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4. 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83B-04CC-48AF-A7E5-DAFD6F64DA97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066680" y="175248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view of PDA and BP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v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sion 12 of Rules For Presentation Of Standardized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Message And Directories Documentation (R.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ta Maintenance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main Coordinator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echn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and Lia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s  (Lunch &amp; Le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, Standards an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Questions from Open Bureau Forum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D input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0F9-6266-4D26-97E8-76E6F542CC2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914400" y="2666880"/>
            <a:ext cx="7696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0th UN/CEFACT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        </a:t>
            </a:r>
            <a:r>
              <a:rPr b="0" i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video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27D-0A1C-4573-82D7-E0F6F548395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600200" y="281952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AA5-6196-4444-976C-0B6409A7907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533520" y="1905120"/>
            <a:ext cx="87627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anks to the Forum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melia Delle F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amola Khusnutdi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ian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181480" y="7398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ECE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9D16-EB40-4FEA-9E84-783425C2A16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28600" y="291456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anks to the UN/CEFACT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692-42C8-4F55-8971-6BDB3D15DC8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00200" y="281952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 you in Vienn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2-04-20T10:56:37Z</dcterms:modified>
  <cp:revision>448</cp:revision>
  <dc:subject>PPT Template</dc:subject>
  <dc:title>United Nations Economic Commssion for Europe</dc:title>
</cp:coreProperties>
</file>