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7CC7-D424-4626-8D65-B3DCF042A37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26EC-AAE2-4D55-AC15-213FAAF6DB4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6F4C-DE22-41E8-ADE0-90A5B5CDC7CF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A285-DC3F-448A-8C69-D67A89298C4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6988-85C0-4DF7-B812-8EFAF6636AE9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15B3-6FD1-4108-8972-9A0AB5C80179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67A-A24F-4D9B-8DF7-64C14C801EE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E9D7-F6A5-4954-8EC6-5AE94A7D736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C7B-DF04-479F-BEA2-D4529545303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053D-C7B2-401D-98DF-0793BA0BA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87DA-B1C2-4B15-9C35-CAD8B3B78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6E9A-53DC-4D80-A510-C25CDBAF0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FF9A-B6DB-4EDF-AF6C-F9EA7C76E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7D24-34FC-4B20-B19C-9BA7EB8258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B7A4-0475-4CA6-A584-9DA5C8AC6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4ED2-8B07-46FE-8F3B-56F51D42F3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88D4-98C7-452F-B27C-27E0785A3F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EE7B-7428-4A73-9594-2299331B13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DEBC-DF45-40D8-9E9E-0969A7DFFC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FBF9-3FA0-46F4-9DA7-805FC45FA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11E0-7CAC-407D-83FE-BDBCAE05B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43E9-EB0A-44D0-B50E-486079F999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59882-60B6-472B-AC9B-5B4BDB7794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3F0C-418C-4D74-A607-D80AFAE592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5B56-CB5C-44F6-8F95-62042FF2D1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91E4-1DB7-4D0A-91C1-51D94FB8EA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98DB-F3CE-40AA-9D48-C252F362A5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03BF-42AF-4C08-A38F-38C6DEFDA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093C-4D7C-4EA7-90E5-0CDEE0054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09E3-CDD2-4C5C-846E-7A8E1F958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A477-05DE-4852-A3C5-F0626BC1B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4BF8-807C-439E-8FBA-A0DF863F7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25D3-FAE7-42A5-9AB2-11C5E874B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DD22-B2D9-404D-87D9-CD8C5A77B9E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312E-C010-4C77-AEA9-93C94ED2688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9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Closing </a:t>
            </a: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P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4:30 – 15:3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82880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B8F9-2112-46D6-9831-C8C662240B3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990720" y="20574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. Opening Remark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. Reports on Activities of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Programm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3. 20th UN/CEFACT Forum, Vi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4. Closing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84E-A475-4E02-BA4D-0F396393537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066680" y="175248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view of PDA and BP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v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sion 12 of Rules For Presentation Of Standardized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Message And Directories Documentation (R.1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ata Maintenance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main Coordinator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echn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utreach and Lia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s  (Lunch &amp; Le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, Standards an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Questions from Open Bureau Forum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D input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52056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B782-BD57-4845-BAE0-44CEE7CAEB6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914400" y="2666880"/>
            <a:ext cx="7696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0th UN/CEFACT Fo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        </a:t>
            </a:r>
            <a:r>
              <a:rPr b="0" i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video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48DF-16E0-411C-AF75-7446B4D0687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600200" y="2819520"/>
            <a:ext cx="876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osing Rema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952880" y="847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CE85-8EA0-4BD1-9579-1E79C9AF4B1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533520" y="1905120"/>
            <a:ext cx="87627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anks to the Forum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melia Delle F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Kamola Khusnutdin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uno Kang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ian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181480" y="7398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ECE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3394-6717-422C-AEAE-8FB22622090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28600" y="2914560"/>
            <a:ext cx="876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anks to the UN/CEFACT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952880" y="847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A83C-A90C-4960-8EC5-6D7855ACE35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600200" y="2819520"/>
            <a:ext cx="876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e you in Vienn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952880" y="847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Admin</cp:lastModifiedBy>
  <dcterms:modified xsi:type="dcterms:W3CDTF">2012-04-20T10:56:37Z</dcterms:modified>
  <cp:revision>448</cp:revision>
  <dc:subject>PPT Template</dc:subject>
  <dc:title>United Nations Economic Commssion for Europe</dc:title>
</cp:coreProperties>
</file>