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22.png" ContentType="image/png"/>
  <Override PartName="/ppt/media/image23.jpeg" ContentType="image/jpeg"/>
  <Override PartName="/ppt/media/image18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21.png" ContentType="image/png"/>
  <Override PartName="/ppt/media/image16.jpeg" ContentType="image/jpeg"/>
  <Override PartName="/ppt/media/image14.png" ContentType="image/png"/>
  <Override PartName="/ppt/media/image2.png" ContentType="image/png"/>
  <Override PartName="/ppt/media/image25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dt" idx="21"/>
          </p:nvPr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Img"/>
          </p:nvPr>
        </p:nvSpPr>
        <p:spPr>
          <a:xfrm>
            <a:off x="85248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body"/>
          </p:nvPr>
        </p:nvSpPr>
        <p:spPr>
          <a:xfrm>
            <a:off x="666720" y="4716360"/>
            <a:ext cx="533736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ftr" idx="22"/>
          </p:nvPr>
        </p:nvSpPr>
        <p:spPr>
          <a:xfrm>
            <a:off x="0" y="943128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 type="sldNum" idx="23"/>
          </p:nvPr>
        </p:nvSpPr>
        <p:spPr>
          <a:xfrm>
            <a:off x="3778200" y="943128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6EFEE-F972-418D-BD06-45A3E23FCFD2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66720" y="4716360"/>
            <a:ext cx="53373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Foliennummernplatzhalter 3"/>
          <p:cNvSpPr/>
          <p:nvPr/>
        </p:nvSpPr>
        <p:spPr>
          <a:xfrm>
            <a:off x="3778200" y="943128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93598-F8C2-4210-887A-E9CDD920FBAA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5603DD-FC93-4DEE-A8DD-3B2338856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374250-9E8A-49AB-9DA0-1BB3C9B3C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826E5D-D5AF-43E7-9230-776863938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D3E369-404C-48E4-8159-5C4CE861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2C2302-6F50-45ED-BF04-DE226EBD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AD87A0-89B4-46B3-B3CF-6C98DB36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E122B2-C23A-4E29-A272-E016757F2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B41CCC-3E4D-4701-ADF9-BD9F2001E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70ACB2-A97B-4E0D-BB11-B3866F417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636504-1FA6-49F4-A1F7-1EE6C6DA4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1FE856-3CFC-40C8-B59C-003829517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E72B30-FEAD-470F-84F0-DAE659449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4EBE28-881D-4250-942D-2ED0B823B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67E8BE-F1F2-4AE5-8DB9-F6CDBA487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FCF632-110A-46A3-87E5-4183A05A1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876F30-4D5B-473A-BE63-51F44187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32AE5B-D41E-4CF9-840E-ACDF59BE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DEB700-68B0-43AB-A63C-329FF31A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BE4CD5-EA04-4076-AB7F-C615D771C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A7161E-8475-486A-9D54-E155DC04F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483F53-0F47-4DAB-B3B5-8D9137866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8120-846D-44FF-AFC1-847DB7676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B926-F033-47E8-9396-943FE2E1F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FF11-EF21-4183-8B85-CE4E22F4B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AA30-DE24-4EF3-BFCE-8A4280231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F920-F3DD-434A-8568-6376120A8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1B61-C2A7-4848-8987-DC17D8FD0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354B-B6C6-4521-B496-EF68E1A1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1FDB-E391-4839-85BE-70E7FF47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046D-5E7B-41BD-946C-3BA2E3E4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6CE3-5A88-4904-89B8-4873BABAD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F37F-B77D-4CF3-9371-4514F3555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B6B1-E38F-4C6F-B586-9CD47343C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35E31-A68F-4B53-AB10-5E263AB36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75FFF-66B2-4AFC-B757-8F79BF105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10A04-C161-4E9C-B8A9-FDDDC1D1F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1A908-CC18-4DBD-B027-F7470066A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13035-9F9C-4C26-A8D8-4A37DB599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7C409-6F71-4769-AED5-1AE57604F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CAEC8-AE0C-4010-91E3-392C5EDB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E8D17-3238-49F4-BC95-8C529845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4CB1E-9C08-4A08-AED3-D826DADA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A3B9C-6B1A-429C-A4CF-6FFD8561A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DBDE1-0FD4-4297-A8D8-27FFC010C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BEC7F-9657-4C0A-9B0F-A7CC275E4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55206C-6FAA-4C14-9C44-D2B7D54D4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DBE839-C90B-4311-81D3-52C001DAA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27CD50-C48B-4543-80D7-E687987A1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2D2C1E-C6A4-4256-9A52-4BCFA16BE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009410-BC4A-43A9-89D8-CC626B4E5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F476A5-6ED2-4B62-9F8B-C934AA2AF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F692E2-D793-4746-A530-C2E0AA00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0E134C-D2B7-4C3B-B8F9-FD4679E4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E81B75-5D0F-4B17-A21C-476BDBF4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E7EE9A-6286-4B97-8C63-1D84CD967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C319FB-79EB-4608-BA5F-9D8496DAB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3BF01B-A791-4469-9611-283193965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F8D280-1D7C-4E32-B577-1FEF4FEEA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5BD43E-F82F-4061-92CE-EFC7D1E97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1D0780-12D1-4065-B08C-3EC835E3A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DB5CC5-80BC-4F4D-A8A0-04DA15729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ED4495-BF6B-43E0-B238-7F287E255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5FC6B0-02DA-41C0-84BF-3E898B25C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DC7AD9-70BE-4AB6-B2FA-E3F7A837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98BB9C-B5AE-49C8-A7A9-97D802C1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43AB2F-47BA-45A4-9279-B70AE933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2DD691-A8F6-49FD-AD11-372751C80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AA6A72-4256-4294-A7E5-CE2E4286A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31E995-75D2-45FD-99D0-269F4DDC5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8C596F-B231-4C93-8B3C-BD5AEE6DC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3BACEE-3DB5-4645-BB3C-7B134087E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D51D1D-3242-4DE5-BB05-AD57D9A09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afik 6" descr="TU_rendering.mini.tif"/>
          <p:cNvPicPr/>
          <p:nvPr/>
        </p:nvPicPr>
        <p:blipFill>
          <a:blip r:embed="rId2"/>
          <a:stretch/>
        </p:blipFill>
        <p:spPr>
          <a:xfrm>
            <a:off x="1440" y="0"/>
            <a:ext cx="91425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uppieren 14"/>
          <p:cNvGrpSpPr/>
          <p:nvPr/>
        </p:nvGrpSpPr>
        <p:grpSpPr>
          <a:xfrm>
            <a:off x="0" y="2076480"/>
            <a:ext cx="8642520" cy="4781520"/>
            <a:chOff x="0" y="2076480"/>
            <a:chExt cx="8642520" cy="4781520"/>
          </a:xfrm>
        </p:grpSpPr>
        <p:sp>
          <p:nvSpPr>
            <p:cNvPr id="2" name="Rectangle 12"/>
            <p:cNvSpPr/>
            <p:nvPr/>
          </p:nvSpPr>
          <p:spPr>
            <a:xfrm>
              <a:off x="0" y="2076480"/>
              <a:ext cx="8144280" cy="4781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14"/>
            <p:cNvSpPr/>
            <p:nvPr/>
          </p:nvSpPr>
          <p:spPr>
            <a:xfrm>
              <a:off x="7628400" y="2076480"/>
              <a:ext cx="1012680" cy="10126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15"/>
            <p:cNvSpPr/>
            <p:nvPr/>
          </p:nvSpPr>
          <p:spPr>
            <a:xfrm>
              <a:off x="4896000" y="2571480"/>
              <a:ext cx="3746520" cy="4286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Grafik 15" descr="TU_Signet.gif"/>
          <p:cNvPicPr/>
          <p:nvPr/>
        </p:nvPicPr>
        <p:blipFill>
          <a:blip r:embed="rId3"/>
          <a:stretch/>
        </p:blipFill>
        <p:spPr>
          <a:xfrm>
            <a:off x="216000" y="216000"/>
            <a:ext cx="4653000" cy="1368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Gruppieren 11" descr=""/>
          <p:cNvPicPr/>
          <p:nvPr/>
        </p:nvPicPr>
        <p:blipFill>
          <a:blip r:embed="rId2"/>
          <a:stretch/>
        </p:blipFill>
        <p:spPr>
          <a:xfrm>
            <a:off x="0" y="858960"/>
            <a:ext cx="8643960" cy="5999040"/>
          </a:xfrm>
          <a:prstGeom prst="rect">
            <a:avLst/>
          </a:prstGeom>
          <a:ln w="0">
            <a:noFill/>
          </a:ln>
        </p:spPr>
      </p:pic>
      <p:pic>
        <p:nvPicPr>
          <p:cNvPr id="380" name="Grafik 12" descr="TU_Logo.gif"/>
          <p:cNvPicPr/>
          <p:nvPr/>
        </p:nvPicPr>
        <p:blipFill>
          <a:blip r:embed="rId3"/>
          <a:stretch/>
        </p:blipFill>
        <p:spPr>
          <a:xfrm>
            <a:off x="216000" y="216000"/>
            <a:ext cx="395280" cy="39672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SzPct val="12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dt" idx="18"/>
          </p:nvPr>
        </p:nvSpPr>
        <p:spPr>
          <a:xfrm>
            <a:off x="857160" y="6356520"/>
            <a:ext cx="1643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669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7250A-2D97-4B63-86E5-6213AC4C7523}" type="datetime">
              <a:rPr b="0" lang="de-DE" sz="1200" spc="-1" strike="noStrike">
                <a:solidFill>
                  <a:srgbClr val="00669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sldNum" idx="20"/>
          </p:nvPr>
        </p:nvSpPr>
        <p:spPr>
          <a:xfrm>
            <a:off x="7302240" y="6356520"/>
            <a:ext cx="1733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669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160F6-BEF8-4F06-9725-962C4FDDCB55}" type="slidenum">
              <a:rPr b="0" lang="de-DE" sz="1200" spc="-1" strike="noStrike">
                <a:solidFill>
                  <a:srgbClr val="0066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uppieren 7"/>
          <p:cNvGrpSpPr/>
          <p:nvPr/>
        </p:nvGrpSpPr>
        <p:grpSpPr>
          <a:xfrm>
            <a:off x="0" y="2076480"/>
            <a:ext cx="8642520" cy="4781520"/>
            <a:chOff x="0" y="2076480"/>
            <a:chExt cx="8642520" cy="4781520"/>
          </a:xfrm>
        </p:grpSpPr>
        <p:sp>
          <p:nvSpPr>
            <p:cNvPr id="43" name="Rectangle 12"/>
            <p:cNvSpPr/>
            <p:nvPr/>
          </p:nvSpPr>
          <p:spPr>
            <a:xfrm>
              <a:off x="0" y="2076480"/>
              <a:ext cx="8144280" cy="4781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Oval 14"/>
            <p:cNvSpPr/>
            <p:nvPr/>
          </p:nvSpPr>
          <p:spPr>
            <a:xfrm>
              <a:off x="7628400" y="2076480"/>
              <a:ext cx="1012680" cy="10126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15"/>
            <p:cNvSpPr/>
            <p:nvPr/>
          </p:nvSpPr>
          <p:spPr>
            <a:xfrm>
              <a:off x="4896000" y="2571480"/>
              <a:ext cx="3746520" cy="4286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Grafik 15" descr="TU_Signet.gif"/>
          <p:cNvPicPr/>
          <p:nvPr/>
        </p:nvPicPr>
        <p:blipFill>
          <a:blip r:embed="rId2"/>
          <a:stretch/>
        </p:blipFill>
        <p:spPr>
          <a:xfrm>
            <a:off x="216000" y="216000"/>
            <a:ext cx="4653000" cy="1368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e7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SzPct val="12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F637-35A7-4CB6-9A57-8E2708E3505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A8FF1-4488-4D43-98CA-B83CB9CC9AD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Gruppieren 11" descr=""/>
          <p:cNvPicPr/>
          <p:nvPr/>
        </p:nvPicPr>
        <p:blipFill>
          <a:blip r:embed="rId2"/>
          <a:stretch/>
        </p:blipFill>
        <p:spPr>
          <a:xfrm>
            <a:off x="0" y="858960"/>
            <a:ext cx="8637480" cy="5999040"/>
          </a:xfrm>
          <a:prstGeom prst="rect">
            <a:avLst/>
          </a:prstGeom>
          <a:ln w="0">
            <a:noFill/>
          </a:ln>
        </p:spPr>
      </p:pic>
      <p:pic>
        <p:nvPicPr>
          <p:cNvPr id="88" name="Grafik 12" descr="TU_Logo.gif"/>
          <p:cNvPicPr/>
          <p:nvPr/>
        </p:nvPicPr>
        <p:blipFill>
          <a:blip r:embed="rId3"/>
          <a:stretch/>
        </p:blipFill>
        <p:spPr>
          <a:xfrm>
            <a:off x="216000" y="216000"/>
            <a:ext cx="395280" cy="39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SzPct val="12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4B31C-8491-4CB5-93B6-355287C919F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7059A-680B-4109-B7D4-65B9B273AF4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Gruppieren 11" descr=""/>
          <p:cNvPicPr/>
          <p:nvPr/>
        </p:nvPicPr>
        <p:blipFill>
          <a:blip r:embed="rId2"/>
          <a:stretch/>
        </p:blipFill>
        <p:spPr>
          <a:xfrm>
            <a:off x="0" y="858960"/>
            <a:ext cx="8643960" cy="5999040"/>
          </a:xfrm>
          <a:prstGeom prst="rect">
            <a:avLst/>
          </a:prstGeom>
          <a:ln w="0">
            <a:noFill/>
          </a:ln>
        </p:spPr>
      </p:pic>
      <p:pic>
        <p:nvPicPr>
          <p:cNvPr id="130" name="Grafik 12" descr="TU_Logo.gif"/>
          <p:cNvPicPr/>
          <p:nvPr/>
        </p:nvPicPr>
        <p:blipFill>
          <a:blip r:embed="rId3"/>
          <a:stretch/>
        </p:blipFill>
        <p:spPr>
          <a:xfrm>
            <a:off x="216000" y="216000"/>
            <a:ext cx="395280" cy="39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Grafik 6" descr="TU_rendering.mini.tif"/>
          <p:cNvPicPr/>
          <p:nvPr/>
        </p:nvPicPr>
        <p:blipFill>
          <a:blip r:embed="rId2"/>
          <a:stretch/>
        </p:blipFill>
        <p:spPr>
          <a:xfrm>
            <a:off x="1440" y="0"/>
            <a:ext cx="91425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8" name="Gruppieren 14"/>
          <p:cNvGrpSpPr/>
          <p:nvPr/>
        </p:nvGrpSpPr>
        <p:grpSpPr>
          <a:xfrm>
            <a:off x="0" y="2076480"/>
            <a:ext cx="8642520" cy="4781520"/>
            <a:chOff x="0" y="2076480"/>
            <a:chExt cx="8642520" cy="4781520"/>
          </a:xfrm>
        </p:grpSpPr>
        <p:sp>
          <p:nvSpPr>
            <p:cNvPr id="169" name="Rectangle 12"/>
            <p:cNvSpPr/>
            <p:nvPr/>
          </p:nvSpPr>
          <p:spPr>
            <a:xfrm>
              <a:off x="0" y="2076480"/>
              <a:ext cx="8144280" cy="4781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14"/>
            <p:cNvSpPr/>
            <p:nvPr/>
          </p:nvSpPr>
          <p:spPr>
            <a:xfrm>
              <a:off x="7628400" y="2076480"/>
              <a:ext cx="1012680" cy="10126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15"/>
            <p:cNvSpPr/>
            <p:nvPr/>
          </p:nvSpPr>
          <p:spPr>
            <a:xfrm>
              <a:off x="4896000" y="2571480"/>
              <a:ext cx="3746520" cy="4286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2" name="Grafik 15" descr="TU_Signet.gif"/>
          <p:cNvPicPr/>
          <p:nvPr/>
        </p:nvPicPr>
        <p:blipFill>
          <a:blip r:embed="rId3"/>
          <a:stretch/>
        </p:blipFill>
        <p:spPr>
          <a:xfrm>
            <a:off x="216000" y="216000"/>
            <a:ext cx="4653000" cy="13683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ftr" idx="7"/>
          </p:nvPr>
        </p:nvSpPr>
        <p:spPr>
          <a:xfrm>
            <a:off x="1643040" y="6000840"/>
            <a:ext cx="43768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uppieren 7"/>
          <p:cNvGrpSpPr/>
          <p:nvPr/>
        </p:nvGrpSpPr>
        <p:grpSpPr>
          <a:xfrm>
            <a:off x="0" y="2076480"/>
            <a:ext cx="8642520" cy="4781520"/>
            <a:chOff x="0" y="2076480"/>
            <a:chExt cx="8642520" cy="4781520"/>
          </a:xfrm>
        </p:grpSpPr>
        <p:sp>
          <p:nvSpPr>
            <p:cNvPr id="211" name="Rectangle 12"/>
            <p:cNvSpPr/>
            <p:nvPr/>
          </p:nvSpPr>
          <p:spPr>
            <a:xfrm>
              <a:off x="0" y="2076480"/>
              <a:ext cx="8144280" cy="4781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4"/>
            <p:cNvSpPr/>
            <p:nvPr/>
          </p:nvSpPr>
          <p:spPr>
            <a:xfrm>
              <a:off x="7628400" y="2076480"/>
              <a:ext cx="1012680" cy="10126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5"/>
            <p:cNvSpPr/>
            <p:nvPr/>
          </p:nvSpPr>
          <p:spPr>
            <a:xfrm>
              <a:off x="4896000" y="2571480"/>
              <a:ext cx="3746520" cy="4286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4" name="Grafik 15" descr="TU_Signet.gif"/>
          <p:cNvPicPr/>
          <p:nvPr/>
        </p:nvPicPr>
        <p:blipFill>
          <a:blip r:embed="rId2"/>
          <a:stretch/>
        </p:blipFill>
        <p:spPr>
          <a:xfrm>
            <a:off x="216000" y="216000"/>
            <a:ext cx="4653000" cy="13683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ftr" idx="8"/>
          </p:nvPr>
        </p:nvSpPr>
        <p:spPr>
          <a:xfrm>
            <a:off x="1643040" y="6000840"/>
            <a:ext cx="43768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e7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Gruppieren 11" descr=""/>
          <p:cNvPicPr/>
          <p:nvPr/>
        </p:nvPicPr>
        <p:blipFill>
          <a:blip r:embed="rId2"/>
          <a:stretch/>
        </p:blipFill>
        <p:spPr>
          <a:xfrm>
            <a:off x="0" y="858960"/>
            <a:ext cx="8637480" cy="5999040"/>
          </a:xfrm>
          <a:prstGeom prst="rect">
            <a:avLst/>
          </a:prstGeom>
          <a:ln w="0">
            <a:noFill/>
          </a:ln>
        </p:spPr>
      </p:pic>
      <p:pic>
        <p:nvPicPr>
          <p:cNvPr id="253" name="Grafik 12" descr="TU_Logo.gif"/>
          <p:cNvPicPr/>
          <p:nvPr/>
        </p:nvPicPr>
        <p:blipFill>
          <a:blip r:embed="rId3"/>
          <a:stretch/>
        </p:blipFill>
        <p:spPr>
          <a:xfrm>
            <a:off x="216000" y="216000"/>
            <a:ext cx="395280" cy="39672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SzPct val="12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dt" idx="9"/>
          </p:nvPr>
        </p:nvSpPr>
        <p:spPr>
          <a:xfrm>
            <a:off x="856800" y="6356520"/>
            <a:ext cx="163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669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213FF-42DD-4D3F-8179-69F061310057}" type="datetime">
              <a:rPr b="0" lang="de-DE" sz="1200" spc="-1" strike="noStrike">
                <a:solidFill>
                  <a:srgbClr val="00669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sldNum" idx="11"/>
          </p:nvPr>
        </p:nvSpPr>
        <p:spPr>
          <a:xfrm>
            <a:off x="730872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669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0E4A4-C11A-4653-8BB3-32E59CB88AE4}" type="slidenum">
              <a:rPr b="0" lang="de-DE" sz="1200" spc="-1" strike="noStrike">
                <a:solidFill>
                  <a:srgbClr val="0066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e7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Gruppieren 11" descr=""/>
          <p:cNvPicPr/>
          <p:nvPr/>
        </p:nvPicPr>
        <p:blipFill>
          <a:blip r:embed="rId2"/>
          <a:stretch/>
        </p:blipFill>
        <p:spPr>
          <a:xfrm>
            <a:off x="0" y="858960"/>
            <a:ext cx="8637480" cy="5999040"/>
          </a:xfrm>
          <a:prstGeom prst="rect">
            <a:avLst/>
          </a:prstGeom>
          <a:ln w="0">
            <a:noFill/>
          </a:ln>
        </p:spPr>
      </p:pic>
      <p:pic>
        <p:nvPicPr>
          <p:cNvPr id="296" name="Grafik 12" descr="TU_Logo.gif"/>
          <p:cNvPicPr/>
          <p:nvPr/>
        </p:nvPicPr>
        <p:blipFill>
          <a:blip r:embed="rId3"/>
          <a:stretch/>
        </p:blipFill>
        <p:spPr>
          <a:xfrm>
            <a:off x="216000" y="216000"/>
            <a:ext cx="395280" cy="39672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SzPct val="12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dt" idx="12"/>
          </p:nvPr>
        </p:nvSpPr>
        <p:spPr>
          <a:xfrm>
            <a:off x="857160" y="6356520"/>
            <a:ext cx="1643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669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07EC4-835C-4574-B2D1-58E2B5975415}" type="datetime">
              <a:rPr b="0" lang="de-DE" sz="1200" spc="-1" strike="noStrike">
                <a:solidFill>
                  <a:srgbClr val="00669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sldNum" idx="14"/>
          </p:nvPr>
        </p:nvSpPr>
        <p:spPr>
          <a:xfrm>
            <a:off x="730872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669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5C5A3-94B4-4FFC-B40F-6CABCEB2992E}" type="slidenum">
              <a:rPr b="0" lang="de-DE" sz="1200" spc="-1" strike="noStrike">
                <a:solidFill>
                  <a:srgbClr val="0066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Gruppieren 11" descr=""/>
          <p:cNvPicPr/>
          <p:nvPr/>
        </p:nvPicPr>
        <p:blipFill>
          <a:blip r:embed="rId2"/>
          <a:stretch/>
        </p:blipFill>
        <p:spPr>
          <a:xfrm>
            <a:off x="0" y="858960"/>
            <a:ext cx="8643960" cy="5999040"/>
          </a:xfrm>
          <a:prstGeom prst="rect">
            <a:avLst/>
          </a:prstGeom>
          <a:ln w="0">
            <a:noFill/>
          </a:ln>
        </p:spPr>
      </p:pic>
      <p:pic>
        <p:nvPicPr>
          <p:cNvPr id="338" name="Grafik 12" descr="TU_Logo.gif"/>
          <p:cNvPicPr/>
          <p:nvPr/>
        </p:nvPicPr>
        <p:blipFill>
          <a:blip r:embed="rId3"/>
          <a:stretch/>
        </p:blipFill>
        <p:spPr>
          <a:xfrm>
            <a:off x="216000" y="216000"/>
            <a:ext cx="395280" cy="39672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SzPct val="12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dt" idx="15"/>
          </p:nvPr>
        </p:nvSpPr>
        <p:spPr>
          <a:xfrm>
            <a:off x="856800" y="6356520"/>
            <a:ext cx="163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669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FF67F-9DFE-4764-98BA-23ECF84D7344}" type="datetime">
              <a:rPr b="0" lang="de-DE" sz="1200" spc="-1" strike="noStrike">
                <a:solidFill>
                  <a:srgbClr val="00669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sldNum" idx="17"/>
          </p:nvPr>
        </p:nvSpPr>
        <p:spPr>
          <a:xfrm>
            <a:off x="7302240" y="6356520"/>
            <a:ext cx="1733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669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7058C-B2CF-46FC-9952-467C06D91AB1}" type="slidenum">
              <a:rPr b="0" lang="de-DE" sz="1200" spc="-1" strike="noStrike">
                <a:solidFill>
                  <a:srgbClr val="0066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tadt-wien.at/uploads/pics/Staatsoper-fass.jpg" TargetMode="External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642680" y="4260960"/>
            <a:ext cx="645804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  <a:ea typeface="Arial"/>
              </a:rPr>
              <a:t>20th UN/CEFACT Forum</a:t>
            </a:r>
            <a:br>
              <a:rPr sz="4400"/>
            </a:br>
            <a:r>
              <a:rPr b="0" lang="de-DE" sz="3200" spc="-1" strike="noStrike">
                <a:solidFill>
                  <a:srgbClr val="ffffff"/>
                </a:solidFill>
                <a:latin typeface="Arial"/>
                <a:ea typeface="Arial"/>
              </a:rPr>
              <a:t>17</a:t>
            </a:r>
            <a:r>
              <a:rPr b="0" lang="de-DE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th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  <a:ea typeface="Arial"/>
              </a:rPr>
              <a:t> – 21</a:t>
            </a:r>
            <a:r>
              <a:rPr b="0" lang="de-DE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st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  <a:ea typeface="Arial"/>
              </a:rPr>
              <a:t> September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1670040" y="3436920"/>
            <a:ext cx="62150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  <a:ea typeface="Arial"/>
              </a:rPr>
              <a:t>welcomes you to t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55640" y="53640"/>
            <a:ext cx="7429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600" spc="-1" strike="noStrike">
                <a:solidFill>
                  <a:srgbClr val="000000"/>
                </a:solidFill>
                <a:latin typeface="Arial"/>
              </a:rPr>
              <a:t>See you in Vien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oliennummernplatzhalter 3"/>
          <p:cNvSpPr/>
          <p:nvPr/>
        </p:nvSpPr>
        <p:spPr>
          <a:xfrm>
            <a:off x="730872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36A59-4A82-4D58-A4FD-B9E9CADD24C5}" type="slidenum">
              <a:rPr b="0" lang="de-AT" sz="1200" spc="-1" strike="noStrike">
                <a:solidFill>
                  <a:srgbClr val="0066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2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6583680" cy="49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57160" y="142560"/>
            <a:ext cx="7429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500" spc="-1" strike="noStrike">
                <a:solidFill>
                  <a:srgbClr val="000000"/>
                </a:solidFill>
                <a:latin typeface="Arial"/>
              </a:rPr>
              <a:t>Home of Scientists and Artist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857160" y="2071800"/>
            <a:ext cx="77868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3"/>
          <p:cNvSpPr/>
          <p:nvPr/>
        </p:nvSpPr>
        <p:spPr>
          <a:xfrm>
            <a:off x="2214720" y="2281320"/>
            <a:ext cx="2286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Richard Zsigmon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Nobel Laureate - 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6"/>
          <p:cNvSpPr/>
          <p:nvPr/>
        </p:nvSpPr>
        <p:spPr>
          <a:xfrm>
            <a:off x="5867280" y="5943600"/>
            <a:ext cx="2214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Luis Tren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(Mountain Climber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17"/>
          <p:cNvSpPr/>
          <p:nvPr/>
        </p:nvSpPr>
        <p:spPr>
          <a:xfrm>
            <a:off x="5940360" y="1844640"/>
            <a:ext cx="25002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Strauss Broth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(Compos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Josef – Civil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Johann - Econo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2268360" y="5810400"/>
            <a:ext cx="22860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Christian Dopp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(Doppler-Effek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Physics, Mathema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oliennummernplatzhalter 16"/>
          <p:cNvSpPr/>
          <p:nvPr/>
        </p:nvSpPr>
        <p:spPr>
          <a:xfrm>
            <a:off x="730872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8BA54-78EA-4028-B405-ED3D98CC854A}" type="slidenum">
              <a:rPr b="0" lang="de-AT" sz="1200" spc="-1" strike="noStrike">
                <a:solidFill>
                  <a:srgbClr val="0066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Grafik 17" descr="135x180_zsigmondy_richard.jpg"/>
          <p:cNvPicPr/>
          <p:nvPr/>
        </p:nvPicPr>
        <p:blipFill>
          <a:blip r:embed="rId1"/>
          <a:stretch/>
        </p:blipFill>
        <p:spPr>
          <a:xfrm>
            <a:off x="900000" y="1052640"/>
            <a:ext cx="1285920" cy="1714320"/>
          </a:xfrm>
          <a:prstGeom prst="rect">
            <a:avLst/>
          </a:prstGeom>
          <a:ln w="0">
            <a:noFill/>
          </a:ln>
        </p:spPr>
      </p:pic>
      <p:pic>
        <p:nvPicPr>
          <p:cNvPr id="438" name="Grafik 19" descr="135x180_trenker_luis.jpg"/>
          <p:cNvPicPr/>
          <p:nvPr/>
        </p:nvPicPr>
        <p:blipFill>
          <a:blip r:embed="rId2"/>
          <a:stretch/>
        </p:blipFill>
        <p:spPr>
          <a:xfrm>
            <a:off x="4554360" y="4948200"/>
            <a:ext cx="1285920" cy="1714680"/>
          </a:xfrm>
          <a:prstGeom prst="rect">
            <a:avLst/>
          </a:prstGeom>
          <a:ln w="0">
            <a:noFill/>
          </a:ln>
        </p:spPr>
      </p:pic>
      <p:pic>
        <p:nvPicPr>
          <p:cNvPr id="439" name="Grafik 20" descr="135x180_straussbrueder.jpg"/>
          <p:cNvPicPr/>
          <p:nvPr/>
        </p:nvPicPr>
        <p:blipFill>
          <a:blip r:embed="rId3"/>
          <a:stretch/>
        </p:blipFill>
        <p:spPr>
          <a:xfrm>
            <a:off x="4572000" y="1052640"/>
            <a:ext cx="1285920" cy="1714320"/>
          </a:xfrm>
          <a:prstGeom prst="rect">
            <a:avLst/>
          </a:prstGeom>
          <a:ln w="0">
            <a:noFill/>
          </a:ln>
        </p:spPr>
      </p:pic>
      <p:pic>
        <p:nvPicPr>
          <p:cNvPr id="440" name="Grafik 22" descr="135x180_doppler_christian.jpg"/>
          <p:cNvPicPr/>
          <p:nvPr/>
        </p:nvPicPr>
        <p:blipFill>
          <a:blip r:embed="rId4"/>
          <a:stretch/>
        </p:blipFill>
        <p:spPr>
          <a:xfrm>
            <a:off x="900000" y="4797360"/>
            <a:ext cx="1285920" cy="1714680"/>
          </a:xfrm>
          <a:prstGeom prst="rect">
            <a:avLst/>
          </a:prstGeom>
          <a:ln w="0">
            <a:noFill/>
          </a:ln>
        </p:spPr>
      </p:pic>
      <p:sp>
        <p:nvSpPr>
          <p:cNvPr id="441" name="Rectangle 18"/>
          <p:cNvSpPr/>
          <p:nvPr/>
        </p:nvSpPr>
        <p:spPr>
          <a:xfrm>
            <a:off x="5959440" y="3921120"/>
            <a:ext cx="2428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Fritz La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(Director – e.g. Metropol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Civil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Grafik 26" descr="135x180_lang_fritz.jpg"/>
          <p:cNvPicPr/>
          <p:nvPr/>
        </p:nvPicPr>
        <p:blipFill>
          <a:blip r:embed="rId5"/>
          <a:stretch/>
        </p:blipFill>
        <p:spPr>
          <a:xfrm>
            <a:off x="4572000" y="2924280"/>
            <a:ext cx="1285920" cy="1714320"/>
          </a:xfrm>
          <a:prstGeom prst="rect">
            <a:avLst/>
          </a:prstGeom>
          <a:ln w="0">
            <a:noFill/>
          </a:ln>
        </p:spPr>
      </p:pic>
      <p:sp>
        <p:nvSpPr>
          <p:cNvPr id="443" name="Rectangle 16"/>
          <p:cNvSpPr/>
          <p:nvPr/>
        </p:nvSpPr>
        <p:spPr>
          <a:xfrm>
            <a:off x="2268360" y="3943440"/>
            <a:ext cx="221472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Viktor Ka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(Kaplan-Turbi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Mechanical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Grafik 24" descr="135x180_kaplan_viktor.jpg"/>
          <p:cNvPicPr/>
          <p:nvPr/>
        </p:nvPicPr>
        <p:blipFill>
          <a:blip r:embed="rId6"/>
          <a:stretch/>
        </p:blipFill>
        <p:spPr>
          <a:xfrm>
            <a:off x="900000" y="2924280"/>
            <a:ext cx="12859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26920" y="124920"/>
            <a:ext cx="7429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600" spc="-1" strike="noStrike">
                <a:solidFill>
                  <a:srgbClr val="000000"/>
                </a:solidFill>
                <a:latin typeface="Arial"/>
              </a:rPr>
              <a:t>Welcome to the TU Vien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oliennummernplatzhalter 3"/>
          <p:cNvSpPr/>
          <p:nvPr/>
        </p:nvSpPr>
        <p:spPr>
          <a:xfrm>
            <a:off x="730872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5D90E-1D20-404F-A8CB-D9C88EBF4CCB}" type="slidenum">
              <a:rPr b="0" lang="de-AT" sz="1200" spc="-1" strike="noStrike">
                <a:solidFill>
                  <a:srgbClr val="0066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4" descr="http://www.tuwien.ac.at/typo3temp/pics/a9daf24d49.jpg"/>
          <p:cNvPicPr/>
          <p:nvPr/>
        </p:nvPicPr>
        <p:blipFill>
          <a:blip r:embed="rId1"/>
          <a:stretch/>
        </p:blipFill>
        <p:spPr>
          <a:xfrm>
            <a:off x="676440" y="1392120"/>
            <a:ext cx="3527280" cy="229716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6" descr="http://www.tuwien.ac.at/typo3temp/pics/8d6ba06eea.jpg"/>
          <p:cNvPicPr/>
          <p:nvPr/>
        </p:nvPicPr>
        <p:blipFill>
          <a:blip r:embed="rId2"/>
          <a:stretch/>
        </p:blipFill>
        <p:spPr>
          <a:xfrm>
            <a:off x="4211640" y="1392120"/>
            <a:ext cx="3529080" cy="264636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7" descr=""/>
          <p:cNvPicPr/>
          <p:nvPr/>
        </p:nvPicPr>
        <p:blipFill>
          <a:blip r:embed="rId3"/>
          <a:stretch/>
        </p:blipFill>
        <p:spPr>
          <a:xfrm>
            <a:off x="676440" y="3689280"/>
            <a:ext cx="3530520" cy="24415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" descr="l_tu_festsaal"/>
          <p:cNvPicPr/>
          <p:nvPr/>
        </p:nvPicPr>
        <p:blipFill>
          <a:blip r:embed="rId4"/>
          <a:stretch/>
        </p:blipFill>
        <p:spPr>
          <a:xfrm>
            <a:off x="4203720" y="3689280"/>
            <a:ext cx="3537000" cy="24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179280" y="981000"/>
            <a:ext cx="742968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N/CEFACT Forum will be held in the main building of the Vienna University of Technology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oliennummernplatzhalter 3"/>
          <p:cNvSpPr/>
          <p:nvPr/>
        </p:nvSpPr>
        <p:spPr>
          <a:xfrm>
            <a:off x="730872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514EB-C105-4AA3-9337-BEBE5325F7DF}" type="slidenum">
              <a:rPr b="0" lang="de-AT" sz="1200" spc="-1" strike="noStrike">
                <a:solidFill>
                  <a:srgbClr val="0066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4" descr="http://www.tuwien.ac.at/typo3temp/pics/30dea13835.jpg"/>
          <p:cNvPicPr/>
          <p:nvPr/>
        </p:nvPicPr>
        <p:blipFill>
          <a:blip r:embed="rId1"/>
          <a:stretch/>
        </p:blipFill>
        <p:spPr>
          <a:xfrm>
            <a:off x="971640" y="1916280"/>
            <a:ext cx="610704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826920" y="1052280"/>
            <a:ext cx="742968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ted close to the historic centre of Vienna and a few meters away from the Vienna opera house, the Karl Church and the subway station Karlsplat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oliennummernplatzhalter 3"/>
          <p:cNvSpPr/>
          <p:nvPr/>
        </p:nvSpPr>
        <p:spPr>
          <a:xfrm>
            <a:off x="730872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A7FCC-CFBD-4FC3-937C-78AD2EC3DA57}" type="slidenum">
              <a:rPr b="0" lang="de-AT" sz="1200" spc="-1" strike="noStrike">
                <a:solidFill>
                  <a:srgbClr val="0066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4" descr="Staatsop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08360" y="2997360"/>
            <a:ext cx="4824360" cy="264924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2" descr="Fotos Karlskirche | Wien"/>
          <p:cNvPicPr/>
          <p:nvPr/>
        </p:nvPicPr>
        <p:blipFill>
          <a:blip r:embed="rId3"/>
          <a:stretch/>
        </p:blipFill>
        <p:spPr>
          <a:xfrm>
            <a:off x="179280" y="2997360"/>
            <a:ext cx="3529080" cy="26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395280" y="907920"/>
            <a:ext cx="7632720" cy="35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Vienna University of Technology can be reached 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way number U1 (red line), U2 (purple line), U4 (green line) ‐ stat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rlspla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tram number 62, 1 (station </a:t>
            </a:r>
            <a:r>
              <a:rPr b="1" lang="de-AT" sz="2000" spc="-1" strike="noStrike">
                <a:solidFill>
                  <a:srgbClr val="000000"/>
                </a:solidFill>
                <a:latin typeface="Arial"/>
              </a:rPr>
              <a:t>Resselgasse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tram number 2, D (station </a:t>
            </a:r>
            <a:r>
              <a:rPr b="1" lang="de-AT" sz="2000" spc="-1" strike="noStrike">
                <a:solidFill>
                  <a:srgbClr val="000000"/>
                </a:solidFill>
                <a:latin typeface="Arial"/>
              </a:rPr>
              <a:t>Karlsplatz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nna’s public transport is named ‘Wiener Linien’. A one‐way ride costs 1,80 EUR, a 24‐hour ticket costs 5,70 EUR, and a weekly ticket (Monday 9 a.m. to Monday 9 a.m.) costs 14 E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oliennummernplatzhalter 3"/>
          <p:cNvSpPr/>
          <p:nvPr/>
        </p:nvSpPr>
        <p:spPr>
          <a:xfrm>
            <a:off x="730872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2BB2A-F49D-433D-9E1A-A2609D392801}" type="slidenum">
              <a:rPr b="0" lang="de-AT" sz="1200" spc="-1" strike="noStrike">
                <a:solidFill>
                  <a:srgbClr val="0066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2" descr=""/>
          <p:cNvPicPr/>
          <p:nvPr/>
        </p:nvPicPr>
        <p:blipFill>
          <a:blip r:embed="rId1"/>
          <a:stretch/>
        </p:blipFill>
        <p:spPr>
          <a:xfrm>
            <a:off x="971640" y="3789360"/>
            <a:ext cx="671508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57160" y="142560"/>
            <a:ext cx="7429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500" spc="-1" strike="noStrike">
                <a:solidFill>
                  <a:srgbClr val="000000"/>
                </a:solidFill>
                <a:latin typeface="Arial"/>
              </a:rPr>
              <a:t>TU Vienna - Loc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Grafik 14" descr="lageplan.jpg"/>
          <p:cNvPicPr/>
          <p:nvPr/>
        </p:nvPicPr>
        <p:blipFill>
          <a:blip r:embed="rId1"/>
          <a:stretch/>
        </p:blipFill>
        <p:spPr>
          <a:xfrm>
            <a:off x="1000080" y="1004760"/>
            <a:ext cx="7215120" cy="5351760"/>
          </a:xfrm>
          <a:prstGeom prst="rect">
            <a:avLst/>
          </a:prstGeom>
          <a:ln w="0">
            <a:noFill/>
          </a:ln>
        </p:spPr>
      </p:pic>
      <p:sp>
        <p:nvSpPr>
          <p:cNvPr id="463" name="Foliennummernplatzhalter 3"/>
          <p:cNvSpPr/>
          <p:nvPr/>
        </p:nvSpPr>
        <p:spPr>
          <a:xfrm>
            <a:off x="730872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B42C2-5429-4A2D-8772-9414FDF1ABD5}" type="slidenum">
              <a:rPr b="0" lang="de-AT" sz="1200" spc="-1" strike="noStrike">
                <a:solidFill>
                  <a:srgbClr val="0066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26920" y="19080"/>
            <a:ext cx="74296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600" spc="-1" strike="noStrike">
                <a:solidFill>
                  <a:srgbClr val="000000"/>
                </a:solidFill>
                <a:latin typeface="Arial"/>
              </a:rPr>
              <a:t>Opening Plenary – „Festsaal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oliennummernplatzhalter 3"/>
          <p:cNvSpPr/>
          <p:nvPr/>
        </p:nvSpPr>
        <p:spPr>
          <a:xfrm>
            <a:off x="730872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7691F-0031-406E-AC99-59B03AE54FE6}" type="slidenum">
              <a:rPr b="0" lang="de-AT" sz="1200" spc="-1" strike="noStrike">
                <a:solidFill>
                  <a:srgbClr val="0066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2" descr=""/>
          <p:cNvPicPr/>
          <p:nvPr/>
        </p:nvPicPr>
        <p:blipFill>
          <a:blip r:embed="rId1"/>
          <a:stretch/>
        </p:blipFill>
        <p:spPr>
          <a:xfrm>
            <a:off x="11160" y="1441440"/>
            <a:ext cx="4868640" cy="211464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3" descr=""/>
          <p:cNvPicPr/>
          <p:nvPr/>
        </p:nvPicPr>
        <p:blipFill>
          <a:blip r:embed="rId2"/>
          <a:stretch/>
        </p:blipFill>
        <p:spPr>
          <a:xfrm>
            <a:off x="1547640" y="3527280"/>
            <a:ext cx="3332160" cy="2740320"/>
          </a:xfrm>
          <a:prstGeom prst="rect">
            <a:avLst/>
          </a:prstGeom>
          <a:ln w="0">
            <a:noFill/>
          </a:ln>
        </p:spPr>
      </p:pic>
      <p:sp>
        <p:nvSpPr>
          <p:cNvPr id="468" name="Textfeld 4"/>
          <p:cNvSpPr/>
          <p:nvPr/>
        </p:nvSpPr>
        <p:spPr>
          <a:xfrm>
            <a:off x="189000" y="556560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Ground Fl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feld 7"/>
          <p:cNvSpPr/>
          <p:nvPr/>
        </p:nvSpPr>
        <p:spPr>
          <a:xfrm>
            <a:off x="318240" y="39574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First Fl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5" descr="http://www.gut.tuwien.ac.at/typo3temp/pics/21e27fe3ba.jpg"/>
          <p:cNvPicPr/>
          <p:nvPr/>
        </p:nvPicPr>
        <p:blipFill>
          <a:blip r:embed="rId3"/>
          <a:stretch/>
        </p:blipFill>
        <p:spPr>
          <a:xfrm>
            <a:off x="4853160" y="1413000"/>
            <a:ext cx="3394080" cy="22525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7" descr="http://www.gut.tuwien.ac.at/typo3temp/pics/f6b988d55b.jpg"/>
          <p:cNvPicPr/>
          <p:nvPr/>
        </p:nvPicPr>
        <p:blipFill>
          <a:blip r:embed="rId4"/>
          <a:stretch/>
        </p:blipFill>
        <p:spPr>
          <a:xfrm>
            <a:off x="4853160" y="3814920"/>
            <a:ext cx="3394080" cy="22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"/>
          <p:cNvPicPr/>
          <p:nvPr/>
        </p:nvPicPr>
        <p:blipFill>
          <a:blip r:embed="rId1"/>
          <a:stretch/>
        </p:blipFill>
        <p:spPr>
          <a:xfrm>
            <a:off x="0" y="1424160"/>
            <a:ext cx="4869000" cy="211428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26920" y="115560"/>
            <a:ext cx="7429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600" spc="-1" strike="noStrike">
                <a:solidFill>
                  <a:srgbClr val="000000"/>
                </a:solidFill>
                <a:latin typeface="Arial"/>
              </a:rPr>
              <a:t>Meeting Room – „Prechtlsaal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oliennummernplatzhalter 3"/>
          <p:cNvSpPr/>
          <p:nvPr/>
        </p:nvSpPr>
        <p:spPr>
          <a:xfrm>
            <a:off x="730872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7B50C-1566-4D25-98DC-4B229F695E30}" type="slidenum">
              <a:rPr b="0" lang="de-AT" sz="1200" spc="-1" strike="noStrike">
                <a:solidFill>
                  <a:srgbClr val="0066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2" descr="http://www.gut.tuwien.ac.at/typo3temp/pics/90a92ceeed.jpg"/>
          <p:cNvPicPr/>
          <p:nvPr/>
        </p:nvPicPr>
        <p:blipFill>
          <a:blip r:embed="rId2"/>
          <a:stretch/>
        </p:blipFill>
        <p:spPr>
          <a:xfrm>
            <a:off x="4140360" y="1424160"/>
            <a:ext cx="4147920" cy="27540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4" descr="http://www.gut.tuwien.ac.at/typo3temp/pics/293dcb076a.jpg"/>
          <p:cNvPicPr/>
          <p:nvPr/>
        </p:nvPicPr>
        <p:blipFill>
          <a:blip r:embed="rId3"/>
          <a:stretch/>
        </p:blipFill>
        <p:spPr>
          <a:xfrm>
            <a:off x="4140360" y="4376880"/>
            <a:ext cx="4147920" cy="167940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5" descr=""/>
          <p:cNvPicPr/>
          <p:nvPr/>
        </p:nvPicPr>
        <p:blipFill>
          <a:blip r:embed="rId4"/>
          <a:stretch/>
        </p:blipFill>
        <p:spPr>
          <a:xfrm>
            <a:off x="0" y="4268880"/>
            <a:ext cx="4164120" cy="17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11:33:52Z</dcterms:created>
  <dc:creator>MIchael Kölbl</dc:creator>
  <dc:description/>
  <dc:language>en-US</dc:language>
  <cp:lastModifiedBy>Huemer</cp:lastModifiedBy>
  <cp:lastPrinted>2011-01-12T14:16:16Z</cp:lastPrinted>
  <dcterms:modified xsi:type="dcterms:W3CDTF">2012-04-18T12:48:14Z</dcterms:modified>
  <cp:revision>428</cp:revision>
  <dc:subject/>
  <dc:title>Zukunft mit Technik</dc:title>
</cp:coreProperties>
</file>