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26.png" ContentType="image/png"/>
  <Override PartName="/ppt/media/image17.jpeg" ContentType="image/jpeg"/>
  <Override PartName="/ppt/media/image45.wmf" ContentType="image/x-wmf"/>
  <Override PartName="/ppt/media/image16.jpeg" ContentType="image/jpeg"/>
  <Override PartName="/ppt/media/image15.jpeg" ContentType="image/jpeg"/>
  <Override PartName="/ppt/media/image14.png" ContentType="image/png"/>
  <Override PartName="/ppt/media/image54.wmf" ContentType="image/x-wmf"/>
  <Override PartName="/ppt/media/image24.png" ContentType="image/png"/>
  <Override PartName="/ppt/media/image1.png" ContentType="image/png"/>
  <Override PartName="/ppt/media/image31.png" ContentType="image/png"/>
  <Override PartName="/ppt/media/image3.jpeg" ContentType="image/jpeg"/>
  <Override PartName="/ppt/media/image30.png" ContentType="image/png"/>
  <Override PartName="/ppt/media/image25.png" ContentType="image/png"/>
  <Override PartName="/ppt/media/image4.jpeg" ContentType="image/jpeg"/>
  <Override PartName="/ppt/media/image38.wmf" ContentType="image/x-wmf"/>
  <Override PartName="/ppt/media/image28.png" ContentType="image/png"/>
  <Override PartName="/ppt/media/image5.png" ContentType="image/png"/>
  <Override PartName="/ppt/media/image35.png" ContentType="image/png"/>
  <Override PartName="/ppt/media/image34.png" ContentType="image/png"/>
  <Override PartName="/ppt/media/image42.wmf" ContentType="image/x-wmf"/>
  <Override PartName="/ppt/media/image9.png" ContentType="image/png"/>
  <Override PartName="/ppt/media/image39.wmf" ContentType="image/x-wmf"/>
  <Override PartName="/ppt/media/image33.png" ContentType="image/png"/>
  <Override PartName="/ppt/media/image41.wmf" ContentType="image/x-wmf"/>
  <Override PartName="/ppt/media/image8.png" ContentType="image/png"/>
  <Override PartName="/ppt/media/image44.wmf" ContentType="image/x-wmf"/>
  <Override PartName="/ppt/media/image46.wmf" ContentType="image/x-wmf"/>
  <Override PartName="/ppt/media/image47.wmf" ContentType="image/x-wmf"/>
  <Override PartName="/ppt/media/image48.wmf" ContentType="image/x-wmf"/>
  <Override PartName="/ppt/media/image37.wmf" ContentType="image/x-wmf"/>
  <Override PartName="/ppt/media/image49.wmf" ContentType="image/x-wmf"/>
  <Override PartName="/ppt/media/image29.png" ContentType="image/png"/>
  <Override PartName="/ppt/media/image32.png" ContentType="image/png"/>
  <Override PartName="/ppt/media/image43.wmf" ContentType="image/x-wmf"/>
  <Override PartName="/ppt/media/image55.wmf" ContentType="image/x-wmf"/>
  <Override PartName="/ppt/media/image53.wmf" ContentType="image/x-wmf"/>
  <Override PartName="/ppt/media/image13.png" ContentType="image/png"/>
  <Override PartName="/ppt/media/image52.wmf" ContentType="image/x-wmf"/>
  <Override PartName="/ppt/media/image12.png" ContentType="image/png"/>
  <Override PartName="/ppt/media/image7.png" ContentType="image/png"/>
  <Override PartName="/ppt/media/image40.wmf" ContentType="image/x-wmf"/>
  <Override PartName="/ppt/media/image51.wmf" ContentType="image/x-wmf"/>
  <Override PartName="/ppt/media/image11.png" ContentType="image/png"/>
  <Override PartName="/ppt/media/image6.png" ContentType="image/png"/>
  <Override PartName="/ppt/media/image36.png" ContentType="image/png"/>
  <Override PartName="/ppt/media/image50.wmf" ContentType="image/x-wmf"/>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1"/>
          </p:nvPr>
        </p:nvSpPr>
        <p:spPr>
          <a:xfrm>
            <a:off x="4145040" y="0"/>
            <a:ext cx="3170160" cy="47952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move the slide</a:t>
            </a:r>
            <a:endParaRPr b="1" lang="en-US" sz="3200" spc="-1" strike="noStrike">
              <a:solidFill>
                <a:srgbClr val="000000"/>
              </a:solidFill>
              <a:latin typeface="Calibri"/>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9121680"/>
            <a:ext cx="3170160" cy="479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3"/>
          </p:nvPr>
        </p:nvSpPr>
        <p:spPr>
          <a:xfrm>
            <a:off x="4145040" y="9121680"/>
            <a:ext cx="3170160" cy="47952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36A75-E389-489F-9708-B6B055761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99BE4-AFCD-4DEA-AFC3-5DEECC3B6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257480" y="719280"/>
            <a:ext cx="4800600" cy="3600360"/>
          </a:xfrm>
          <a:prstGeom prst="rect">
            <a:avLst/>
          </a:prstGeom>
          <a:ln w="0">
            <a:noFill/>
          </a:ln>
        </p:spPr>
      </p:sp>
      <p:sp>
        <p:nvSpPr>
          <p:cNvPr id="61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D6F8-9889-4494-99D2-1CE2D7F9B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257480" y="719280"/>
            <a:ext cx="4800600" cy="3600360"/>
          </a:xfrm>
          <a:prstGeom prst="rect">
            <a:avLst/>
          </a:prstGeom>
          <a:ln w="0">
            <a:noFill/>
          </a:ln>
        </p:spPr>
      </p:sp>
      <p:sp>
        <p:nvSpPr>
          <p:cNvPr id="64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BED5-0305-425F-B6F8-96162A0E2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257480" y="719280"/>
            <a:ext cx="4800600" cy="3600360"/>
          </a:xfrm>
          <a:prstGeom prst="rect">
            <a:avLst/>
          </a:prstGeom>
          <a:ln w="0">
            <a:noFill/>
          </a:ln>
        </p:spPr>
      </p:sp>
      <p:sp>
        <p:nvSpPr>
          <p:cNvPr id="64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04076-FF53-4C12-A0BA-399B2E728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257480" y="719280"/>
            <a:ext cx="4800600" cy="3600360"/>
          </a:xfrm>
          <a:prstGeom prst="rect">
            <a:avLst/>
          </a:prstGeom>
          <a:ln w="0">
            <a:noFill/>
          </a:ln>
        </p:spPr>
      </p:sp>
      <p:sp>
        <p:nvSpPr>
          <p:cNvPr id="64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5BF4-7D92-45E6-AEAD-A1BAD7293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257480" y="719280"/>
            <a:ext cx="4800600" cy="3600360"/>
          </a:xfrm>
          <a:prstGeom prst="rect">
            <a:avLst/>
          </a:prstGeom>
          <a:ln w="0">
            <a:noFill/>
          </a:ln>
        </p:spPr>
      </p:sp>
      <p:sp>
        <p:nvSpPr>
          <p:cNvPr id="65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568F-4398-48F9-BF20-4A56B8353A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220760" y="720720"/>
            <a:ext cx="4878360" cy="3602160"/>
          </a:xfrm>
          <a:prstGeom prst="rect">
            <a:avLst/>
          </a:prstGeom>
          <a:ln w="0">
            <a:noFill/>
          </a:ln>
        </p:spPr>
      </p:sp>
      <p:sp>
        <p:nvSpPr>
          <p:cNvPr id="622" name="PlaceHolder 2"/>
          <p:cNvSpPr>
            <a:spLocks noGrp="1"/>
          </p:cNvSpPr>
          <p:nvPr>
            <p:ph type="body"/>
          </p:nvPr>
        </p:nvSpPr>
        <p:spPr>
          <a:xfrm>
            <a:off x="731880" y="4562640"/>
            <a:ext cx="5851440" cy="4317840"/>
          </a:xfrm>
          <a:prstGeom prst="rect">
            <a:avLst/>
          </a:prstGeom>
          <a:noFill/>
          <a:ln w="0">
            <a:noFill/>
          </a:ln>
        </p:spPr>
        <p:txBody>
          <a:bodyPr lIns="97200" rIns="97200" tIns="48600" bIns="486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nrico’s note: I will go very fast on this on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1637-29CB-4286-BB66-FA60A1540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257480" y="719280"/>
            <a:ext cx="4800600" cy="3600360"/>
          </a:xfrm>
          <a:prstGeom prst="rect">
            <a:avLst/>
          </a:prstGeom>
          <a:ln w="0">
            <a:noFill/>
          </a:ln>
        </p:spPr>
      </p:sp>
      <p:sp>
        <p:nvSpPr>
          <p:cNvPr id="65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1E990-2EF7-4C44-9773-27BB120C5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257480" y="719280"/>
            <a:ext cx="4800600" cy="3600360"/>
          </a:xfrm>
          <a:prstGeom prst="rect">
            <a:avLst/>
          </a:prstGeom>
          <a:ln w="0">
            <a:noFill/>
          </a:ln>
        </p:spPr>
      </p:sp>
      <p:sp>
        <p:nvSpPr>
          <p:cNvPr id="62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EF3E5-5113-4D9F-B263-32A11786D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257480" y="719280"/>
            <a:ext cx="4800600" cy="3600360"/>
          </a:xfrm>
          <a:prstGeom prst="rect">
            <a:avLst/>
          </a:prstGeom>
          <a:ln w="0">
            <a:noFill/>
          </a:ln>
        </p:spPr>
      </p:sp>
      <p:sp>
        <p:nvSpPr>
          <p:cNvPr id="62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1A78-7B20-4DD7-82B5-A0206C454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257480" y="719280"/>
            <a:ext cx="4800600" cy="3600360"/>
          </a:xfrm>
          <a:prstGeom prst="rect">
            <a:avLst/>
          </a:prstGeom>
          <a:ln w="0">
            <a:noFill/>
          </a:ln>
        </p:spPr>
      </p:sp>
      <p:sp>
        <p:nvSpPr>
          <p:cNvPr id="63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0944-6C16-4A8A-BEDC-087874EBA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257480" y="719280"/>
            <a:ext cx="4800600" cy="3600360"/>
          </a:xfrm>
          <a:prstGeom prst="rect">
            <a:avLst/>
          </a:prstGeom>
          <a:ln w="0">
            <a:noFill/>
          </a:ln>
        </p:spPr>
      </p:sp>
      <p:sp>
        <p:nvSpPr>
          <p:cNvPr id="63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3DB72-F85E-45DB-A727-55184E168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3132000" y="236520"/>
            <a:ext cx="3827520" cy="2870280"/>
          </a:xfrm>
          <a:prstGeom prst="rect">
            <a:avLst/>
          </a:prstGeom>
          <a:ln w="0">
            <a:noFill/>
          </a:ln>
        </p:spPr>
      </p:sp>
      <p:sp>
        <p:nvSpPr>
          <p:cNvPr id="637" name="PlaceHolder 2"/>
          <p:cNvSpPr>
            <a:spLocks noGrp="1"/>
          </p:cNvSpPr>
          <p:nvPr>
            <p:ph type="body"/>
          </p:nvPr>
        </p:nvSpPr>
        <p:spPr>
          <a:xfrm>
            <a:off x="267840" y="3360600"/>
            <a:ext cx="6712200" cy="59040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ramework has three levels: Level 1 are the ‘gross level’ descriptions of major processes, corresponding roughly, by example, to the porter model ‘value chain’ steps. These are used primarily for measurement (categories of balanced scorecard drilldown), scoping of programs, and segmentation of businesses into geographies, segments,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 2 are the ‘configuration’ level elements, used primarily for identify sub-segments of Level-1 – mostly used for scoping (types of supply-chains) and for introducing standard configurations which are commonly managed and measured e.g. Build-to-Order vs Build-to-St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 3 are the activities within a supply-chain used for designing and managing specific sequences within a Level2 configur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0B659-2192-4F31-B289-1F280F03A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257480" y="719280"/>
            <a:ext cx="4800600" cy="3600360"/>
          </a:xfrm>
          <a:prstGeom prst="rect">
            <a:avLst/>
          </a:prstGeom>
          <a:ln w="0">
            <a:noFill/>
          </a:ln>
        </p:spPr>
      </p:sp>
      <p:sp>
        <p:nvSpPr>
          <p:cNvPr id="64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7"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0"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5"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3"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 name="PlaceHolder 2"/>
          <p:cNvSpPr>
            <a:spLocks noGrp="1"/>
          </p:cNvSpPr>
          <p:nvPr>
            <p:ph type="body"/>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Text Box 8"/>
          <p:cNvSpPr/>
          <p:nvPr/>
        </p:nvSpPr>
        <p:spPr>
          <a:xfrm>
            <a:off x="6948360" y="6629400"/>
            <a:ext cx="17528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2 Aite Group LLC.</a:t>
            </a:r>
            <a:endParaRPr b="0" lang="en-US" sz="800" spc="-1" strike="noStrike">
              <a:solidFill>
                <a:srgbClr val="000000"/>
              </a:solidFill>
              <a:latin typeface="Times New Roman"/>
            </a:endParaRPr>
          </a:p>
        </p:txBody>
      </p:sp>
      <p:pic>
        <p:nvPicPr>
          <p:cNvPr id="3" name="Picture 14" descr="logo_for_report"/>
          <p:cNvPicPr/>
          <p:nvPr/>
        </p:nvPicPr>
        <p:blipFill>
          <a:blip r:embed="rId2"/>
          <a:srcRect l="0" t="13859" r="72889" b="0"/>
          <a:stretch/>
        </p:blipFill>
        <p:spPr>
          <a:xfrm>
            <a:off x="506520" y="6505560"/>
            <a:ext cx="761760" cy="320760"/>
          </a:xfrm>
          <a:prstGeom prst="rect">
            <a:avLst/>
          </a:prstGeom>
          <a:ln w="0">
            <a:noFill/>
          </a:ln>
        </p:spPr>
      </p:pic>
      <p:sp>
        <p:nvSpPr>
          <p:cNvPr id="4" name="Text Box 8"/>
          <p:cNvSpPr/>
          <p:nvPr/>
        </p:nvSpPr>
        <p:spPr>
          <a:xfrm>
            <a:off x="3962520" y="6553080"/>
            <a:ext cx="1295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ge </a:t>
            </a:r>
            <a:fld id="{C81C82F3-A8D7-4397-8128-118606FA6E82}" type="slidenum">
              <a:rPr b="0" lang="en-US" sz="1000" spc="-1" strike="noStrike">
                <a:solidFill>
                  <a:srgbClr val="00000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13.png"/><Relationship Id="rId6" Type="http://schemas.openxmlformats.org/officeDocument/2006/relationships/image" Target="../media/image2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1.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amazon.com/gp/product/images/0566087944/ref=dp_image_0?ie=UTF8&amp;n=283155&amp;s=books"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13.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25.png"/><Relationship Id="rId4" Type="http://schemas.openxmlformats.org/officeDocument/2006/relationships/image" Target="../media/image13.png"/><Relationship Id="rId5" Type="http://schemas.openxmlformats.org/officeDocument/2006/relationships/image" Target="../media/image32.png"/><Relationship Id="rId6" Type="http://schemas.openxmlformats.org/officeDocument/2006/relationships/image" Target="../media/image31.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29.png"/><Relationship Id="rId3" Type="http://schemas.openxmlformats.org/officeDocument/2006/relationships/image" Target="../media/image12.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image" Target="../media/image45.wmf"/><Relationship Id="rId7" Type="http://schemas.openxmlformats.org/officeDocument/2006/relationships/image" Target="../media/image46.wmf"/><Relationship Id="rId8" Type="http://schemas.openxmlformats.org/officeDocument/2006/relationships/image" Target="../media/image47.wmf"/><Relationship Id="rId9" Type="http://schemas.openxmlformats.org/officeDocument/2006/relationships/image" Target="../media/image48.wmf"/><Relationship Id="rId10" Type="http://schemas.openxmlformats.org/officeDocument/2006/relationships/image" Target="../media/image49.wmf"/><Relationship Id="rId11" Type="http://schemas.openxmlformats.org/officeDocument/2006/relationships/image" Target="../media/image50.wmf"/><Relationship Id="rId12" Type="http://schemas.openxmlformats.org/officeDocument/2006/relationships/image" Target="../media/image51.wmf"/><Relationship Id="rId13" Type="http://schemas.openxmlformats.org/officeDocument/2006/relationships/image" Target="../media/image52.wmf"/><Relationship Id="rId14" Type="http://schemas.openxmlformats.org/officeDocument/2006/relationships/image" Target="../media/image53.wmf"/><Relationship Id="rId15" Type="http://schemas.openxmlformats.org/officeDocument/2006/relationships/image" Target="../media/image54.wmf"/><Relationship Id="rId16" Type="http://schemas.openxmlformats.org/officeDocument/2006/relationships/image" Target="../media/image55.wmf"/><Relationship Id="rId1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1.png"/><Relationship Id="rId17" Type="http://schemas.openxmlformats.org/officeDocument/2006/relationships/image" Target="../media/image12.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slideLayout" Target="../slideLayouts/slideLayout1.xml"/><Relationship Id="rId2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9"/>
          <p:cNvSpPr/>
          <p:nvPr/>
        </p:nvSpPr>
        <p:spPr>
          <a:xfrm>
            <a:off x="0" y="0"/>
            <a:ext cx="9144000" cy="4952880"/>
          </a:xfrm>
          <a:prstGeom prst="rect">
            <a:avLst/>
          </a:prstGeom>
          <a:solidFill>
            <a:srgbClr val="f6f2e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Slide Number Placeholder 3"/>
          <p:cNvSpPr/>
          <p:nvPr/>
        </p:nvSpPr>
        <p:spPr>
          <a:xfrm>
            <a:off x="6553080" y="631512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a:t>
            </a:r>
            <a:fld id="{EBD58C7B-7904-4315-81A6-C96D7481CA0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0" name="Rectangle 17"/>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1" name=""/>
          <p:cNvGraphicFramePr/>
          <p:nvPr/>
        </p:nvGraphicFramePr>
        <p:xfrm>
          <a:off x="838080" y="1905120"/>
          <a:ext cx="7467840" cy="4051080"/>
        </p:xfrm>
        <a:graphic>
          <a:graphicData uri="http://schemas.openxmlformats.org/drawingml/2006/table">
            <a:tbl>
              <a:tblPr/>
              <a:tblGrid>
                <a:gridCol w="7467840"/>
              </a:tblGrid>
              <a:tr h="1556280">
                <a:tc>
                  <a:txBody>
                    <a:bodyPr lIns="182880" rIns="90000" tIns="46800" bIns="46800" anchor="ctr">
                      <a:no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to SCOR</a:t>
                      </a:r>
                      <a:br>
                        <a:rPr sz="3200"/>
                      </a:br>
                      <a:r>
                        <a:rPr b="1" lang="en-US" sz="3200" spc="-1" strike="noStrike">
                          <a:solidFill>
                            <a:srgbClr val="000000"/>
                          </a:solidFill>
                          <a:latin typeface="Arial"/>
                        </a:rPr>
                        <a:t>(Supply Chain Operations Reference)</a:t>
                      </a:r>
                      <a:endParaRPr b="0" lang="en-US" sz="3200" spc="-1" strike="noStrike">
                        <a:solidFill>
                          <a:srgbClr val="000000"/>
                        </a:solidFill>
                        <a:latin typeface="Times New Roman"/>
                      </a:endParaRPr>
                    </a:p>
                  </a:txBody>
                  <a:tcPr anchor="ctr" marL="182880" marR="90000">
                    <a:lnL>
                      <a:noFill/>
                    </a:lnL>
                    <a:lnR>
                      <a:noFill/>
                    </a:lnR>
                    <a:lnT>
                      <a:noFill/>
                    </a:lnT>
                    <a:lnB>
                      <a:noFill/>
                    </a:lnB>
                    <a:noFill/>
                  </a:tcPr>
                </a:tc>
              </a:tr>
              <a:tr h="3010680">
                <a:tc>
                  <a:txBody>
                    <a:bodyPr lIns="18288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2</a:t>
                      </a:r>
                      <a:endParaRPr b="0" lang="en-US" sz="2000" spc="-1" strike="noStrike">
                        <a:solidFill>
                          <a:srgbClr val="000000"/>
                        </a:solidFill>
                        <a:latin typeface="Times New Roman"/>
                      </a:endParaRPr>
                    </a:p>
                    <a:p>
                      <a:pPr>
                        <a:lnSpc>
                          <a:spcPts val="18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Enrico Camerinelli</a:t>
                      </a:r>
                      <a:endParaRPr b="0" lang="en-US" sz="16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 Analyst</a:t>
                      </a:r>
                      <a:endParaRPr b="0" lang="en-US" sz="1600" spc="-1" strike="noStrike">
                        <a:solidFill>
                          <a:srgbClr val="000000"/>
                        </a:solidFill>
                        <a:latin typeface="Times New Roman"/>
                      </a:endParaRPr>
                    </a:p>
                  </a:txBody>
                  <a:tcPr anchor="t" marL="182880" marR="90000">
                    <a:lnL>
                      <a:noFill/>
                    </a:lnL>
                    <a:lnR>
                      <a:noFill/>
                    </a:lnR>
                    <a:lnT>
                      <a:noFill/>
                    </a:lnT>
                    <a:lnB>
                      <a:noFill/>
                    </a:lnB>
                    <a:noFill/>
                  </a:tcPr>
                </a:tc>
              </a:tr>
            </a:tbl>
          </a:graphicData>
        </a:graphic>
      </p:graphicFrame>
      <p:sp>
        <p:nvSpPr>
          <p:cNvPr id="52" name="Rectangle 37"/>
          <p:cNvSpPr/>
          <p:nvPr/>
        </p:nvSpPr>
        <p:spPr>
          <a:xfrm>
            <a:off x="0" y="914400"/>
            <a:ext cx="9144000" cy="152280"/>
          </a:xfrm>
          <a:prstGeom prst="rect">
            <a:avLst/>
          </a:prstGeom>
          <a:solidFill>
            <a:srgbClr val="d6731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39" descr="Logo_Tag_ppt2"/>
          <p:cNvPicPr/>
          <p:nvPr/>
        </p:nvPicPr>
        <p:blipFill>
          <a:blip r:embed="rId1"/>
          <a:srcRect l="0" t="9131" r="0" b="26648"/>
          <a:stretch/>
        </p:blipFill>
        <p:spPr>
          <a:xfrm>
            <a:off x="0" y="0"/>
            <a:ext cx="9145440" cy="838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228600" y="1295280"/>
            <a:ext cx="7658280" cy="5200920"/>
          </a:xfrm>
          <a:prstGeom prst="rect">
            <a:avLst/>
          </a:prstGeom>
          <a:ln w="0">
            <a:noFill/>
          </a:ln>
        </p:spPr>
      </p:pic>
      <p:sp>
        <p:nvSpPr>
          <p:cNvPr id="211"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OR Process Modeling – Mapping AS-IS</a:t>
            </a:r>
            <a:br>
              <a:rPr sz="3200"/>
            </a:br>
            <a:r>
              <a:rPr b="1" lang="en-US" sz="3200" spc="-1" strike="noStrike">
                <a:solidFill>
                  <a:srgbClr val="000000"/>
                </a:solidFill>
                <a:latin typeface="Calibri"/>
              </a:rPr>
              <a:t>material flows</a:t>
            </a:r>
            <a:endParaRPr b="1" lang="en-US" sz="3200" spc="-1" strike="noStrike">
              <a:solidFill>
                <a:srgbClr val="000000"/>
              </a:solidFill>
              <a:latin typeface="Calibri"/>
            </a:endParaRPr>
          </a:p>
        </p:txBody>
      </p:sp>
      <p:grpSp>
        <p:nvGrpSpPr>
          <p:cNvPr id="212" name="Group 4"/>
          <p:cNvGrpSpPr/>
          <p:nvPr/>
        </p:nvGrpSpPr>
        <p:grpSpPr>
          <a:xfrm>
            <a:off x="8001000" y="3505320"/>
            <a:ext cx="957240" cy="576720"/>
            <a:chOff x="8001000" y="3505320"/>
            <a:chExt cx="957240" cy="576720"/>
          </a:xfrm>
        </p:grpSpPr>
        <p:sp>
          <p:nvSpPr>
            <p:cNvPr id="213" name="Freeform 5"/>
            <p:cNvSpPr/>
            <p:nvPr/>
          </p:nvSpPr>
          <p:spPr>
            <a:xfrm>
              <a:off x="8413920" y="375480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121" h="119">
                  <a:moveTo>
                    <a:pt x="0" y="59"/>
                  </a:moveTo>
                  <a:lnTo>
                    <a:pt x="4" y="38"/>
                  </a:lnTo>
                  <a:lnTo>
                    <a:pt x="16" y="21"/>
                  </a:lnTo>
                  <a:lnTo>
                    <a:pt x="31" y="7"/>
                  </a:lnTo>
                  <a:lnTo>
                    <a:pt x="50" y="0"/>
                  </a:lnTo>
                  <a:lnTo>
                    <a:pt x="71" y="0"/>
                  </a:lnTo>
                  <a:lnTo>
                    <a:pt x="91" y="7"/>
                  </a:lnTo>
                  <a:lnTo>
                    <a:pt x="108" y="21"/>
                  </a:lnTo>
                  <a:lnTo>
                    <a:pt x="118" y="38"/>
                  </a:lnTo>
                  <a:lnTo>
                    <a:pt x="121" y="59"/>
                  </a:lnTo>
                  <a:lnTo>
                    <a:pt x="118" y="79"/>
                  </a:lnTo>
                  <a:lnTo>
                    <a:pt x="108" y="98"/>
                  </a:lnTo>
                  <a:lnTo>
                    <a:pt x="91" y="111"/>
                  </a:lnTo>
                  <a:lnTo>
                    <a:pt x="71" y="119"/>
                  </a:lnTo>
                  <a:lnTo>
                    <a:pt x="50" y="119"/>
                  </a:lnTo>
                  <a:lnTo>
                    <a:pt x="31" y="111"/>
                  </a:lnTo>
                  <a:lnTo>
                    <a:pt x="16"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Group 6"/>
            <p:cNvGrpSpPr/>
            <p:nvPr/>
          </p:nvGrpSpPr>
          <p:grpSpPr>
            <a:xfrm>
              <a:off x="8001000" y="3505320"/>
              <a:ext cx="957240" cy="576720"/>
              <a:chOff x="8001000" y="3505320"/>
              <a:chExt cx="957240" cy="576720"/>
            </a:xfrm>
          </p:grpSpPr>
          <p:sp>
            <p:nvSpPr>
              <p:cNvPr id="215" name="Freeform 7"/>
              <p:cNvSpPr/>
              <p:nvPr/>
            </p:nvSpPr>
            <p:spPr>
              <a:xfrm>
                <a:off x="8309160" y="375480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120" h="119">
                    <a:moveTo>
                      <a:pt x="0" y="59"/>
                    </a:moveTo>
                    <a:lnTo>
                      <a:pt x="2" y="38"/>
                    </a:lnTo>
                    <a:lnTo>
                      <a:pt x="14" y="21"/>
                    </a:lnTo>
                    <a:lnTo>
                      <a:pt x="29" y="7"/>
                    </a:lnTo>
                    <a:lnTo>
                      <a:pt x="48" y="0"/>
                    </a:lnTo>
                    <a:lnTo>
                      <a:pt x="70" y="0"/>
                    </a:lnTo>
                    <a:lnTo>
                      <a:pt x="89" y="7"/>
                    </a:lnTo>
                    <a:lnTo>
                      <a:pt x="106" y="21"/>
                    </a:lnTo>
                    <a:lnTo>
                      <a:pt x="116" y="38"/>
                    </a:lnTo>
                    <a:lnTo>
                      <a:pt x="120" y="59"/>
                    </a:lnTo>
                    <a:lnTo>
                      <a:pt x="116" y="79"/>
                    </a:lnTo>
                    <a:lnTo>
                      <a:pt x="106" y="98"/>
                    </a:lnTo>
                    <a:lnTo>
                      <a:pt x="89" y="111"/>
                    </a:lnTo>
                    <a:lnTo>
                      <a:pt x="70" y="119"/>
                    </a:lnTo>
                    <a:lnTo>
                      <a:pt x="48" y="119"/>
                    </a:lnTo>
                    <a:lnTo>
                      <a:pt x="29" y="111"/>
                    </a:lnTo>
                    <a:lnTo>
                      <a:pt x="14" y="98"/>
                    </a:lnTo>
                    <a:lnTo>
                      <a:pt x="2"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 name="Group 8"/>
              <p:cNvGrpSpPr/>
              <p:nvPr/>
            </p:nvGrpSpPr>
            <p:grpSpPr>
              <a:xfrm>
                <a:off x="8001000" y="3505320"/>
                <a:ext cx="957240" cy="576720"/>
                <a:chOff x="8001000" y="3505320"/>
                <a:chExt cx="957240" cy="576720"/>
              </a:xfrm>
            </p:grpSpPr>
            <p:sp>
              <p:nvSpPr>
                <p:cNvPr id="217" name="Freeform 9"/>
                <p:cNvSpPr/>
                <p:nvPr/>
              </p:nvSpPr>
              <p:spPr>
                <a:xfrm>
                  <a:off x="8688600" y="375480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121" h="119">
                      <a:moveTo>
                        <a:pt x="0" y="59"/>
                      </a:moveTo>
                      <a:lnTo>
                        <a:pt x="3" y="38"/>
                      </a:lnTo>
                      <a:lnTo>
                        <a:pt x="13" y="21"/>
                      </a:lnTo>
                      <a:lnTo>
                        <a:pt x="30" y="7"/>
                      </a:lnTo>
                      <a:lnTo>
                        <a:pt x="50" y="0"/>
                      </a:lnTo>
                      <a:lnTo>
                        <a:pt x="71" y="0"/>
                      </a:lnTo>
                      <a:lnTo>
                        <a:pt x="90" y="7"/>
                      </a:lnTo>
                      <a:lnTo>
                        <a:pt x="105" y="21"/>
                      </a:lnTo>
                      <a:lnTo>
                        <a:pt x="117" y="38"/>
                      </a:lnTo>
                      <a:lnTo>
                        <a:pt x="121" y="59"/>
                      </a:lnTo>
                      <a:lnTo>
                        <a:pt x="117" y="79"/>
                      </a:lnTo>
                      <a:lnTo>
                        <a:pt x="105" y="98"/>
                      </a:lnTo>
                      <a:lnTo>
                        <a:pt x="90" y="111"/>
                      </a:lnTo>
                      <a:lnTo>
                        <a:pt x="71" y="119"/>
                      </a:lnTo>
                      <a:lnTo>
                        <a:pt x="50" y="119"/>
                      </a:lnTo>
                      <a:lnTo>
                        <a:pt x="30" y="111"/>
                      </a:lnTo>
                      <a:lnTo>
                        <a:pt x="13" y="98"/>
                      </a:lnTo>
                      <a:lnTo>
                        <a:pt x="3"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 name="Group 10"/>
                <p:cNvGrpSpPr/>
                <p:nvPr/>
              </p:nvGrpSpPr>
              <p:grpSpPr>
                <a:xfrm>
                  <a:off x="8001000" y="3505320"/>
                  <a:ext cx="957240" cy="576720"/>
                  <a:chOff x="8001000" y="3505320"/>
                  <a:chExt cx="957240" cy="576720"/>
                </a:xfrm>
              </p:grpSpPr>
              <p:sp>
                <p:nvSpPr>
                  <p:cNvPr id="219" name="Freeform 11"/>
                  <p:cNvSpPr/>
                  <p:nvPr/>
                </p:nvSpPr>
                <p:spPr>
                  <a:xfrm>
                    <a:off x="8793360" y="375480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120" h="119">
                        <a:moveTo>
                          <a:pt x="0" y="59"/>
                        </a:moveTo>
                        <a:lnTo>
                          <a:pt x="4" y="38"/>
                        </a:lnTo>
                        <a:lnTo>
                          <a:pt x="14" y="21"/>
                        </a:lnTo>
                        <a:lnTo>
                          <a:pt x="29" y="7"/>
                        </a:lnTo>
                        <a:lnTo>
                          <a:pt x="50" y="0"/>
                        </a:lnTo>
                        <a:lnTo>
                          <a:pt x="70" y="0"/>
                        </a:lnTo>
                        <a:lnTo>
                          <a:pt x="91" y="7"/>
                        </a:lnTo>
                        <a:lnTo>
                          <a:pt x="106" y="21"/>
                        </a:lnTo>
                        <a:lnTo>
                          <a:pt x="116" y="38"/>
                        </a:lnTo>
                        <a:lnTo>
                          <a:pt x="120" y="59"/>
                        </a:lnTo>
                        <a:lnTo>
                          <a:pt x="116" y="79"/>
                        </a:lnTo>
                        <a:lnTo>
                          <a:pt x="106" y="98"/>
                        </a:lnTo>
                        <a:lnTo>
                          <a:pt x="91" y="111"/>
                        </a:lnTo>
                        <a:lnTo>
                          <a:pt x="70" y="119"/>
                        </a:lnTo>
                        <a:lnTo>
                          <a:pt x="50" y="119"/>
                        </a:lnTo>
                        <a:lnTo>
                          <a:pt x="29" y="111"/>
                        </a:lnTo>
                        <a:lnTo>
                          <a:pt x="14"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 name="Group 12"/>
                  <p:cNvGrpSpPr/>
                  <p:nvPr/>
                </p:nvGrpSpPr>
                <p:grpSpPr>
                  <a:xfrm>
                    <a:off x="8001000" y="3505320"/>
                    <a:ext cx="957240" cy="576720"/>
                    <a:chOff x="8001000" y="3505320"/>
                    <a:chExt cx="957240" cy="576720"/>
                  </a:xfrm>
                </p:grpSpPr>
                <p:sp>
                  <p:nvSpPr>
                    <p:cNvPr id="221" name="Freeform 13"/>
                    <p:cNvSpPr/>
                    <p:nvPr/>
                  </p:nvSpPr>
                  <p:spPr>
                    <a:xfrm>
                      <a:off x="8051760" y="3754800"/>
                      <a:ext cx="93600" cy="95040"/>
                    </a:xfrm>
                    <a:custGeom>
                      <a:avLst/>
                      <a:gdLst>
                        <a:gd name="textAreaLeft" fmla="*/ 0 w 93600"/>
                        <a:gd name="textAreaRight" fmla="*/ 93960 w 93600"/>
                        <a:gd name="textAreaTop" fmla="*/ 0 h 95040"/>
                        <a:gd name="textAreaBottom" fmla="*/ 95400 h 95040"/>
                      </a:gdLst>
                      <a:ahLst/>
                      <a:rect l="textAreaLeft" t="textAreaTop" r="textAreaRight" b="textAreaBottom"/>
                      <a:pathLst>
                        <a:path w="119" h="119">
                          <a:moveTo>
                            <a:pt x="0" y="59"/>
                          </a:moveTo>
                          <a:lnTo>
                            <a:pt x="4" y="38"/>
                          </a:lnTo>
                          <a:lnTo>
                            <a:pt x="14" y="21"/>
                          </a:lnTo>
                          <a:lnTo>
                            <a:pt x="29" y="7"/>
                          </a:lnTo>
                          <a:lnTo>
                            <a:pt x="50" y="0"/>
                          </a:lnTo>
                          <a:lnTo>
                            <a:pt x="69" y="0"/>
                          </a:lnTo>
                          <a:lnTo>
                            <a:pt x="91" y="7"/>
                          </a:lnTo>
                          <a:lnTo>
                            <a:pt x="106" y="21"/>
                          </a:lnTo>
                          <a:lnTo>
                            <a:pt x="116" y="38"/>
                          </a:lnTo>
                          <a:lnTo>
                            <a:pt x="119" y="59"/>
                          </a:lnTo>
                          <a:lnTo>
                            <a:pt x="116" y="79"/>
                          </a:lnTo>
                          <a:lnTo>
                            <a:pt x="106" y="98"/>
                          </a:lnTo>
                          <a:lnTo>
                            <a:pt x="91" y="111"/>
                          </a:lnTo>
                          <a:lnTo>
                            <a:pt x="69" y="119"/>
                          </a:lnTo>
                          <a:lnTo>
                            <a:pt x="50" y="119"/>
                          </a:lnTo>
                          <a:lnTo>
                            <a:pt x="29" y="111"/>
                          </a:lnTo>
                          <a:lnTo>
                            <a:pt x="14"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 name="Group 14"/>
                    <p:cNvGrpSpPr/>
                    <p:nvPr/>
                  </p:nvGrpSpPr>
                  <p:grpSpPr>
                    <a:xfrm>
                      <a:off x="8001000" y="3505320"/>
                      <a:ext cx="957240" cy="576720"/>
                      <a:chOff x="8001000" y="3505320"/>
                      <a:chExt cx="957240" cy="576720"/>
                    </a:xfrm>
                  </p:grpSpPr>
                  <p:grpSp>
                    <p:nvGrpSpPr>
                      <p:cNvPr id="223" name="Group 15"/>
                      <p:cNvGrpSpPr/>
                      <p:nvPr/>
                    </p:nvGrpSpPr>
                    <p:grpSpPr>
                      <a:xfrm>
                        <a:off x="8001000" y="3505320"/>
                        <a:ext cx="916200" cy="304920"/>
                        <a:chOff x="8001000" y="3505320"/>
                        <a:chExt cx="916200" cy="304920"/>
                      </a:xfrm>
                    </p:grpSpPr>
                    <p:sp>
                      <p:nvSpPr>
                        <p:cNvPr id="224" name="Rectangle 16"/>
                        <p:cNvSpPr/>
                        <p:nvPr/>
                      </p:nvSpPr>
                      <p:spPr>
                        <a:xfrm>
                          <a:off x="8280360" y="3792600"/>
                          <a:ext cx="228600" cy="17640"/>
                        </a:xfrm>
                        <a:prstGeom prst="rect">
                          <a:avLst/>
                        </a:prstGeom>
                        <a:solidFill>
                          <a:srgbClr val="ff9900"/>
                        </a:solidFill>
                        <a:ln w="3240">
                          <a:solidFill>
                            <a:srgbClr val="000000"/>
                          </a:solidFill>
                          <a:miter/>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Freeform 17"/>
                        <p:cNvSpPr/>
                        <p:nvPr/>
                      </p:nvSpPr>
                      <p:spPr>
                        <a:xfrm>
                          <a:off x="8001000" y="359100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352" h="277">
                              <a:moveTo>
                                <a:pt x="352" y="277"/>
                              </a:moveTo>
                              <a:lnTo>
                                <a:pt x="0" y="277"/>
                              </a:lnTo>
                              <a:lnTo>
                                <a:pt x="0" y="111"/>
                              </a:lnTo>
                              <a:lnTo>
                                <a:pt x="136" y="111"/>
                              </a:lnTo>
                              <a:lnTo>
                                <a:pt x="194" y="0"/>
                              </a:lnTo>
                              <a:lnTo>
                                <a:pt x="352" y="0"/>
                              </a:lnTo>
                              <a:lnTo>
                                <a:pt x="352" y="277"/>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Rectangle 18"/>
                        <p:cNvSpPr/>
                        <p:nvPr/>
                      </p:nvSpPr>
                      <p:spPr>
                        <a:xfrm>
                          <a:off x="8302680" y="3505320"/>
                          <a:ext cx="614520" cy="246240"/>
                        </a:xfrm>
                        <a:prstGeom prst="rect">
                          <a:avLst/>
                        </a:prstGeom>
                        <a:solidFill>
                          <a:srgbClr val="ff99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7" name="Rectangle 19"/>
                      <p:cNvSpPr/>
                      <p:nvPr/>
                    </p:nvSpPr>
                    <p:spPr>
                      <a:xfrm>
                        <a:off x="8105760" y="3899160"/>
                        <a:ext cx="852480" cy="182880"/>
                      </a:xfrm>
                      <a:prstGeom prst="rect">
                        <a:avLst/>
                      </a:prstGeom>
                      <a:solidFill>
                        <a:srgbClr val="ff33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M Supplier</a:t>
                        </a:r>
                        <a:endParaRPr b="0" lang="en-US" sz="1200" spc="-1" strike="noStrike">
                          <a:solidFill>
                            <a:srgbClr val="000000"/>
                          </a:solidFill>
                          <a:latin typeface="Times New Roman"/>
                        </a:endParaRPr>
                      </a:p>
                    </p:txBody>
                  </p:sp>
                </p:grpSp>
              </p:grpSp>
            </p:grpSp>
          </p:grpSp>
        </p:grpSp>
      </p:grpSp>
      <p:grpSp>
        <p:nvGrpSpPr>
          <p:cNvPr id="228" name="Group 20"/>
          <p:cNvGrpSpPr/>
          <p:nvPr/>
        </p:nvGrpSpPr>
        <p:grpSpPr>
          <a:xfrm>
            <a:off x="2928960" y="3200400"/>
            <a:ext cx="1490400" cy="1026000"/>
            <a:chOff x="2928960" y="3200400"/>
            <a:chExt cx="1490400" cy="1026000"/>
          </a:xfrm>
        </p:grpSpPr>
        <p:sp>
          <p:nvSpPr>
            <p:cNvPr id="229" name="Rectangle 21"/>
            <p:cNvSpPr/>
            <p:nvPr/>
          </p:nvSpPr>
          <p:spPr>
            <a:xfrm>
              <a:off x="2961720" y="3200400"/>
              <a:ext cx="1457640" cy="487080"/>
            </a:xfrm>
            <a:prstGeom prst="rect">
              <a:avLst/>
            </a:prstGeom>
            <a:solidFill>
              <a:srgbClr val="ff9900"/>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ufactur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mpany</a:t>
              </a:r>
              <a:endParaRPr b="0" lang="en-US" sz="1600" spc="-1" strike="noStrike">
                <a:solidFill>
                  <a:srgbClr val="000000"/>
                </a:solidFill>
                <a:latin typeface="Times New Roman"/>
              </a:endParaRPr>
            </a:p>
          </p:txBody>
        </p:sp>
        <p:grpSp>
          <p:nvGrpSpPr>
            <p:cNvPr id="230" name="Group 22"/>
            <p:cNvGrpSpPr/>
            <p:nvPr/>
          </p:nvGrpSpPr>
          <p:grpSpPr>
            <a:xfrm>
              <a:off x="2928960" y="3658680"/>
              <a:ext cx="756360" cy="567720"/>
              <a:chOff x="2928960" y="3658680"/>
              <a:chExt cx="756360" cy="567720"/>
            </a:xfrm>
          </p:grpSpPr>
          <p:sp>
            <p:nvSpPr>
              <p:cNvPr id="231" name="Rectangle 23"/>
              <p:cNvSpPr/>
              <p:nvPr/>
            </p:nvSpPr>
            <p:spPr>
              <a:xfrm>
                <a:off x="3346560" y="3800160"/>
                <a:ext cx="127080" cy="142200"/>
              </a:xfrm>
              <a:prstGeom prst="rect">
                <a:avLst/>
              </a:prstGeom>
              <a:solidFill>
                <a:srgbClr val="ff99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Freeform 24"/>
              <p:cNvSpPr/>
              <p:nvPr/>
            </p:nvSpPr>
            <p:spPr>
              <a:xfrm>
                <a:off x="3380040" y="3816000"/>
                <a:ext cx="21240" cy="24840"/>
              </a:xfrm>
              <a:custGeom>
                <a:avLst/>
                <a:gdLst>
                  <a:gd name="textAreaLeft" fmla="*/ 0 w 21240"/>
                  <a:gd name="textAreaRight" fmla="*/ 21600 w 21240"/>
                  <a:gd name="textAreaTop" fmla="*/ 0 h 24840"/>
                  <a:gd name="textAreaBottom" fmla="*/ 25200 h 24840"/>
                </a:gdLst>
                <a:ahLst/>
                <a:rect l="textAreaLeft" t="textAreaTop" r="textAreaRight" b="textAreaBottom"/>
                <a:pathLst>
                  <a:path w="17" h="19">
                    <a:moveTo>
                      <a:pt x="0" y="10"/>
                    </a:moveTo>
                    <a:lnTo>
                      <a:pt x="2" y="5"/>
                    </a:lnTo>
                    <a:lnTo>
                      <a:pt x="6" y="0"/>
                    </a:lnTo>
                    <a:lnTo>
                      <a:pt x="12" y="0"/>
                    </a:lnTo>
                    <a:lnTo>
                      <a:pt x="16" y="5"/>
                    </a:lnTo>
                    <a:lnTo>
                      <a:pt x="17" y="10"/>
                    </a:lnTo>
                    <a:lnTo>
                      <a:pt x="16" y="16"/>
                    </a:lnTo>
                    <a:lnTo>
                      <a:pt x="12" y="19"/>
                    </a:lnTo>
                    <a:lnTo>
                      <a:pt x="6" y="19"/>
                    </a:lnTo>
                    <a:lnTo>
                      <a:pt x="2" y="16"/>
                    </a:lnTo>
                    <a:lnTo>
                      <a:pt x="0" y="10"/>
                    </a:lnTo>
                    <a:close/>
                  </a:path>
                </a:pathLst>
              </a:custGeom>
              <a:solidFill>
                <a:srgbClr val="ff990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3" name="Freeform 25"/>
              <p:cNvSpPr/>
              <p:nvPr/>
            </p:nvSpPr>
            <p:spPr>
              <a:xfrm>
                <a:off x="3380040" y="3854520"/>
                <a:ext cx="21240" cy="22320"/>
              </a:xfrm>
              <a:custGeom>
                <a:avLst/>
                <a:gdLst>
                  <a:gd name="textAreaLeft" fmla="*/ 0 w 21240"/>
                  <a:gd name="textAreaRight" fmla="*/ 21600 w 21240"/>
                  <a:gd name="textAreaTop" fmla="*/ 0 h 22320"/>
                  <a:gd name="textAreaBottom" fmla="*/ 22680 h 22320"/>
                </a:gdLst>
                <a:ahLst/>
                <a:rect l="textAreaLeft" t="textAreaTop" r="textAreaRight" b="textAreaBottom"/>
                <a:pathLst>
                  <a:path w="17" h="18">
                    <a:moveTo>
                      <a:pt x="0" y="10"/>
                    </a:moveTo>
                    <a:lnTo>
                      <a:pt x="2" y="4"/>
                    </a:lnTo>
                    <a:lnTo>
                      <a:pt x="6" y="0"/>
                    </a:lnTo>
                    <a:lnTo>
                      <a:pt x="12" y="0"/>
                    </a:lnTo>
                    <a:lnTo>
                      <a:pt x="16" y="4"/>
                    </a:lnTo>
                    <a:lnTo>
                      <a:pt x="17" y="10"/>
                    </a:lnTo>
                    <a:lnTo>
                      <a:pt x="16" y="14"/>
                    </a:lnTo>
                    <a:lnTo>
                      <a:pt x="12" y="18"/>
                    </a:lnTo>
                    <a:lnTo>
                      <a:pt x="6" y="18"/>
                    </a:lnTo>
                    <a:lnTo>
                      <a:pt x="2" y="14"/>
                    </a:lnTo>
                    <a:lnTo>
                      <a:pt x="0" y="10"/>
                    </a:lnTo>
                    <a:close/>
                  </a:path>
                </a:pathLst>
              </a:custGeom>
              <a:solidFill>
                <a:srgbClr val="ff9900"/>
              </a:solidFill>
              <a:ln w="14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4" name="Freeform 26"/>
              <p:cNvSpPr/>
              <p:nvPr/>
            </p:nvSpPr>
            <p:spPr>
              <a:xfrm>
                <a:off x="3234600" y="3942360"/>
                <a:ext cx="64440" cy="69840"/>
              </a:xfrm>
              <a:custGeom>
                <a:avLst/>
                <a:gdLst>
                  <a:gd name="textAreaLeft" fmla="*/ 0 w 64440"/>
                  <a:gd name="textAreaRight" fmla="*/ 64800 w 64440"/>
                  <a:gd name="textAreaTop" fmla="*/ 0 h 69840"/>
                  <a:gd name="textAreaBottom" fmla="*/ 70200 h 69840"/>
                </a:gdLst>
                <a:ahLst/>
                <a:rect l="textAreaLeft" t="textAreaTop" r="textAreaRight" b="textAreaBottom"/>
                <a:pathLst>
                  <a:path w="48" h="53">
                    <a:moveTo>
                      <a:pt x="0" y="26"/>
                    </a:moveTo>
                    <a:lnTo>
                      <a:pt x="3" y="15"/>
                    </a:lnTo>
                    <a:lnTo>
                      <a:pt x="9" y="6"/>
                    </a:lnTo>
                    <a:lnTo>
                      <a:pt x="19" y="0"/>
                    </a:lnTo>
                    <a:lnTo>
                      <a:pt x="29" y="0"/>
                    </a:lnTo>
                    <a:lnTo>
                      <a:pt x="39" y="6"/>
                    </a:lnTo>
                    <a:lnTo>
                      <a:pt x="46" y="15"/>
                    </a:lnTo>
                    <a:lnTo>
                      <a:pt x="48" y="26"/>
                    </a:lnTo>
                    <a:lnTo>
                      <a:pt x="46" y="39"/>
                    </a:lnTo>
                    <a:lnTo>
                      <a:pt x="39" y="48"/>
                    </a:lnTo>
                    <a:lnTo>
                      <a:pt x="29" y="53"/>
                    </a:lnTo>
                    <a:lnTo>
                      <a:pt x="19" y="53"/>
                    </a:lnTo>
                    <a:lnTo>
                      <a:pt x="9" y="48"/>
                    </a:lnTo>
                    <a:lnTo>
                      <a:pt x="3" y="39"/>
                    </a:lnTo>
                    <a:lnTo>
                      <a:pt x="0" y="26"/>
                    </a:lnTo>
                    <a:close/>
                  </a:path>
                </a:pathLst>
              </a:custGeom>
              <a:solidFill>
                <a:srgbClr val="ff9900"/>
              </a:solid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5" name="Freeform 27"/>
              <p:cNvSpPr/>
              <p:nvPr/>
            </p:nvSpPr>
            <p:spPr>
              <a:xfrm>
                <a:off x="3618000" y="3942360"/>
                <a:ext cx="65880" cy="69840"/>
              </a:xfrm>
              <a:custGeom>
                <a:avLst/>
                <a:gdLst>
                  <a:gd name="textAreaLeft" fmla="*/ 0 w 65880"/>
                  <a:gd name="textAreaRight" fmla="*/ 66240 w 65880"/>
                  <a:gd name="textAreaTop" fmla="*/ 0 h 69840"/>
                  <a:gd name="textAreaBottom" fmla="*/ 70200 h 69840"/>
                </a:gdLst>
                <a:ahLst/>
                <a:rect l="textAreaLeft" t="textAreaTop" r="textAreaRight" b="textAreaBottom"/>
                <a:pathLst>
                  <a:path w="49" h="53">
                    <a:moveTo>
                      <a:pt x="0" y="26"/>
                    </a:moveTo>
                    <a:lnTo>
                      <a:pt x="3" y="15"/>
                    </a:lnTo>
                    <a:lnTo>
                      <a:pt x="10" y="6"/>
                    </a:lnTo>
                    <a:lnTo>
                      <a:pt x="19" y="0"/>
                    </a:lnTo>
                    <a:lnTo>
                      <a:pt x="30" y="0"/>
                    </a:lnTo>
                    <a:lnTo>
                      <a:pt x="39" y="6"/>
                    </a:lnTo>
                    <a:lnTo>
                      <a:pt x="46" y="15"/>
                    </a:lnTo>
                    <a:lnTo>
                      <a:pt x="49" y="26"/>
                    </a:lnTo>
                    <a:lnTo>
                      <a:pt x="46" y="39"/>
                    </a:lnTo>
                    <a:lnTo>
                      <a:pt x="39" y="48"/>
                    </a:lnTo>
                    <a:lnTo>
                      <a:pt x="30" y="53"/>
                    </a:lnTo>
                    <a:lnTo>
                      <a:pt x="19" y="53"/>
                    </a:lnTo>
                    <a:lnTo>
                      <a:pt x="10" y="48"/>
                    </a:lnTo>
                    <a:lnTo>
                      <a:pt x="3" y="39"/>
                    </a:lnTo>
                    <a:lnTo>
                      <a:pt x="0" y="26"/>
                    </a:lnTo>
                    <a:close/>
                  </a:path>
                </a:pathLst>
              </a:custGeom>
              <a:solidFill>
                <a:srgbClr val="ff9900"/>
              </a:solid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6" name="Line 28"/>
              <p:cNvSpPr/>
              <p:nvPr/>
            </p:nvSpPr>
            <p:spPr>
              <a:xfrm>
                <a:off x="3267720" y="3942360"/>
                <a:ext cx="40140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29"/>
              <p:cNvSpPr/>
              <p:nvPr/>
            </p:nvSpPr>
            <p:spPr>
              <a:xfrm>
                <a:off x="3267720" y="4012560"/>
                <a:ext cx="40140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Rectangle 30"/>
              <p:cNvSpPr/>
              <p:nvPr/>
            </p:nvSpPr>
            <p:spPr>
              <a:xfrm>
                <a:off x="3251160" y="3958200"/>
                <a:ext cx="31320" cy="268200"/>
              </a:xfrm>
              <a:prstGeom prst="rect">
                <a:avLst/>
              </a:prstGeom>
              <a:solidFill>
                <a:srgbClr val="ff99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Freeform 31"/>
              <p:cNvSpPr/>
              <p:nvPr/>
            </p:nvSpPr>
            <p:spPr>
              <a:xfrm>
                <a:off x="3241080" y="3967560"/>
                <a:ext cx="14760" cy="17640"/>
              </a:xfrm>
              <a:custGeom>
                <a:avLst/>
                <a:gdLst>
                  <a:gd name="textAreaLeft" fmla="*/ 0 w 14760"/>
                  <a:gd name="textAreaRight" fmla="*/ 15120 w 14760"/>
                  <a:gd name="textAreaTop" fmla="*/ 0 h 17640"/>
                  <a:gd name="textAreaBottom" fmla="*/ 18000 h 17640"/>
                </a:gdLst>
                <a:ahLst/>
                <a:rect l="textAreaLeft" t="textAreaTop" r="textAreaRight" b="textAreaBottom"/>
                <a:pathLst>
                  <a:path w="11" h="13">
                    <a:moveTo>
                      <a:pt x="0" y="6"/>
                    </a:moveTo>
                    <a:lnTo>
                      <a:pt x="1" y="2"/>
                    </a:lnTo>
                    <a:lnTo>
                      <a:pt x="6" y="0"/>
                    </a:lnTo>
                    <a:lnTo>
                      <a:pt x="10" y="2"/>
                    </a:lnTo>
                    <a:lnTo>
                      <a:pt x="11" y="6"/>
                    </a:lnTo>
                    <a:lnTo>
                      <a:pt x="10" y="12"/>
                    </a:lnTo>
                    <a:lnTo>
                      <a:pt x="6" y="13"/>
                    </a:lnTo>
                    <a:lnTo>
                      <a:pt x="1" y="12"/>
                    </a:lnTo>
                    <a:lnTo>
                      <a:pt x="0" y="6"/>
                    </a:lnTo>
                    <a:close/>
                  </a:path>
                </a:pathLst>
              </a:custGeom>
              <a:solidFill>
                <a:srgbClr val="ff9900"/>
              </a:solid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40" name="Rectangle 32"/>
              <p:cNvSpPr/>
              <p:nvPr/>
            </p:nvSpPr>
            <p:spPr>
              <a:xfrm>
                <a:off x="3654360" y="3958200"/>
                <a:ext cx="30960" cy="268200"/>
              </a:xfrm>
              <a:prstGeom prst="rect">
                <a:avLst/>
              </a:prstGeom>
              <a:solidFill>
                <a:srgbClr val="ff99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Freeform 33"/>
              <p:cNvSpPr/>
              <p:nvPr/>
            </p:nvSpPr>
            <p:spPr>
              <a:xfrm>
                <a:off x="3662640" y="3967560"/>
                <a:ext cx="14400" cy="17640"/>
              </a:xfrm>
              <a:custGeom>
                <a:avLst/>
                <a:gdLst>
                  <a:gd name="textAreaLeft" fmla="*/ 0 w 14400"/>
                  <a:gd name="textAreaRight" fmla="*/ 14760 w 14400"/>
                  <a:gd name="textAreaTop" fmla="*/ 0 h 17640"/>
                  <a:gd name="textAreaBottom" fmla="*/ 18000 h 17640"/>
                </a:gdLst>
                <a:ahLst/>
                <a:rect l="textAreaLeft" t="textAreaTop" r="textAreaRight" b="textAreaBottom"/>
                <a:pathLst>
                  <a:path w="11" h="13">
                    <a:moveTo>
                      <a:pt x="0" y="6"/>
                    </a:moveTo>
                    <a:lnTo>
                      <a:pt x="1" y="2"/>
                    </a:lnTo>
                    <a:lnTo>
                      <a:pt x="5" y="0"/>
                    </a:lnTo>
                    <a:lnTo>
                      <a:pt x="10" y="2"/>
                    </a:lnTo>
                    <a:lnTo>
                      <a:pt x="11" y="6"/>
                    </a:lnTo>
                    <a:lnTo>
                      <a:pt x="10" y="12"/>
                    </a:lnTo>
                    <a:lnTo>
                      <a:pt x="5" y="13"/>
                    </a:lnTo>
                    <a:lnTo>
                      <a:pt x="1" y="12"/>
                    </a:lnTo>
                    <a:lnTo>
                      <a:pt x="0" y="6"/>
                    </a:lnTo>
                    <a:close/>
                  </a:path>
                </a:pathLst>
              </a:custGeom>
              <a:solidFill>
                <a:srgbClr val="ff9900"/>
              </a:solid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42" name="Freeform 34"/>
              <p:cNvSpPr/>
              <p:nvPr/>
            </p:nvSpPr>
            <p:spPr>
              <a:xfrm>
                <a:off x="3052800" y="3658680"/>
                <a:ext cx="111960" cy="119160"/>
              </a:xfrm>
              <a:custGeom>
                <a:avLst/>
                <a:gdLst>
                  <a:gd name="textAreaLeft" fmla="*/ 0 w 111960"/>
                  <a:gd name="textAreaRight" fmla="*/ 112320 w 111960"/>
                  <a:gd name="textAreaTop" fmla="*/ 0 h 119160"/>
                  <a:gd name="textAreaBottom" fmla="*/ 119520 h 119160"/>
                </a:gdLst>
                <a:ahLst/>
                <a:rect l="textAreaLeft" t="textAreaTop" r="textAreaRight" b="textAreaBottom"/>
                <a:pathLst>
                  <a:path w="83" h="92">
                    <a:moveTo>
                      <a:pt x="83" y="46"/>
                    </a:moveTo>
                    <a:lnTo>
                      <a:pt x="80" y="31"/>
                    </a:lnTo>
                    <a:lnTo>
                      <a:pt x="73" y="16"/>
                    </a:lnTo>
                    <a:lnTo>
                      <a:pt x="62" y="6"/>
                    </a:lnTo>
                    <a:lnTo>
                      <a:pt x="49" y="0"/>
                    </a:lnTo>
                    <a:lnTo>
                      <a:pt x="34" y="0"/>
                    </a:lnTo>
                    <a:lnTo>
                      <a:pt x="21" y="6"/>
                    </a:lnTo>
                    <a:lnTo>
                      <a:pt x="10" y="16"/>
                    </a:lnTo>
                    <a:lnTo>
                      <a:pt x="2" y="31"/>
                    </a:lnTo>
                    <a:lnTo>
                      <a:pt x="0" y="46"/>
                    </a:lnTo>
                    <a:lnTo>
                      <a:pt x="2" y="62"/>
                    </a:lnTo>
                    <a:lnTo>
                      <a:pt x="10" y="77"/>
                    </a:lnTo>
                    <a:lnTo>
                      <a:pt x="21" y="87"/>
                    </a:lnTo>
                    <a:lnTo>
                      <a:pt x="34" y="92"/>
                    </a:lnTo>
                    <a:lnTo>
                      <a:pt x="49" y="92"/>
                    </a:lnTo>
                    <a:lnTo>
                      <a:pt x="62" y="87"/>
                    </a:lnTo>
                    <a:lnTo>
                      <a:pt x="73" y="77"/>
                    </a:lnTo>
                    <a:lnTo>
                      <a:pt x="80" y="62"/>
                    </a:lnTo>
                    <a:lnTo>
                      <a:pt x="83" y="46"/>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Freeform 35"/>
              <p:cNvSpPr/>
              <p:nvPr/>
            </p:nvSpPr>
            <p:spPr>
              <a:xfrm>
                <a:off x="2928960" y="3958200"/>
                <a:ext cx="110520" cy="268200"/>
              </a:xfrm>
              <a:custGeom>
                <a:avLst/>
                <a:gdLst>
                  <a:gd name="textAreaLeft" fmla="*/ 0 w 110520"/>
                  <a:gd name="textAreaRight" fmla="*/ 110880 w 110520"/>
                  <a:gd name="textAreaTop" fmla="*/ 0 h 268200"/>
                  <a:gd name="textAreaBottom" fmla="*/ 268560 h 268200"/>
                </a:gdLst>
                <a:ahLst/>
                <a:rect l="textAreaLeft" t="textAreaTop" r="textAreaRight" b="textAreaBottom"/>
                <a:pathLst>
                  <a:path w="82" h="203">
                    <a:moveTo>
                      <a:pt x="82" y="98"/>
                    </a:moveTo>
                    <a:lnTo>
                      <a:pt x="41" y="203"/>
                    </a:lnTo>
                    <a:lnTo>
                      <a:pt x="0" y="203"/>
                    </a:lnTo>
                    <a:lnTo>
                      <a:pt x="41" y="75"/>
                    </a:lnTo>
                    <a:lnTo>
                      <a:pt x="41" y="0"/>
                    </a:lnTo>
                    <a:lnTo>
                      <a:pt x="82" y="98"/>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Freeform 36"/>
              <p:cNvSpPr/>
              <p:nvPr/>
            </p:nvSpPr>
            <p:spPr>
              <a:xfrm>
                <a:off x="2964960" y="3768840"/>
                <a:ext cx="287280" cy="457560"/>
              </a:xfrm>
              <a:custGeom>
                <a:avLst/>
                <a:gdLst>
                  <a:gd name="textAreaLeft" fmla="*/ 0 w 287280"/>
                  <a:gd name="textAreaRight" fmla="*/ 287640 w 287280"/>
                  <a:gd name="textAreaTop" fmla="*/ 0 h 457560"/>
                  <a:gd name="textAreaBottom" fmla="*/ 457920 h 457560"/>
                </a:gdLst>
                <a:ahLst/>
                <a:rect l="textAreaLeft" t="textAreaTop" r="textAreaRight" b="textAreaBottom"/>
                <a:pathLst>
                  <a:path w="214" h="347">
                    <a:moveTo>
                      <a:pt x="29" y="0"/>
                    </a:moveTo>
                    <a:lnTo>
                      <a:pt x="0" y="144"/>
                    </a:lnTo>
                    <a:lnTo>
                      <a:pt x="80" y="347"/>
                    </a:lnTo>
                    <a:lnTo>
                      <a:pt x="131" y="347"/>
                    </a:lnTo>
                    <a:lnTo>
                      <a:pt x="72" y="161"/>
                    </a:lnTo>
                    <a:lnTo>
                      <a:pt x="98" y="65"/>
                    </a:lnTo>
                    <a:lnTo>
                      <a:pt x="203" y="100"/>
                    </a:lnTo>
                    <a:lnTo>
                      <a:pt x="214" y="59"/>
                    </a:lnTo>
                    <a:lnTo>
                      <a:pt x="29" y="0"/>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37"/>
              <p:cNvSpPr/>
              <p:nvPr/>
            </p:nvSpPr>
            <p:spPr>
              <a:xfrm>
                <a:off x="3239640" y="3818520"/>
                <a:ext cx="140400" cy="67320"/>
              </a:xfrm>
              <a:custGeom>
                <a:avLst/>
                <a:gdLst>
                  <a:gd name="textAreaLeft" fmla="*/ 0 w 140400"/>
                  <a:gd name="textAreaRight" fmla="*/ 140760 w 140400"/>
                  <a:gd name="textAreaTop" fmla="*/ 0 h 67320"/>
                  <a:gd name="textAreaBottom" fmla="*/ 67680 h 67320"/>
                </a:gdLst>
                <a:ahLst/>
                <a:rect l="textAreaLeft" t="textAreaTop" r="textAreaRight" b="textAreaBottom"/>
                <a:pathLst>
                  <a:path w="104" h="50">
                    <a:moveTo>
                      <a:pt x="100" y="7"/>
                    </a:moveTo>
                    <a:lnTo>
                      <a:pt x="88" y="10"/>
                    </a:lnTo>
                    <a:lnTo>
                      <a:pt x="87" y="17"/>
                    </a:lnTo>
                    <a:lnTo>
                      <a:pt x="88" y="24"/>
                    </a:lnTo>
                    <a:lnTo>
                      <a:pt x="94" y="28"/>
                    </a:lnTo>
                    <a:lnTo>
                      <a:pt x="104" y="26"/>
                    </a:lnTo>
                    <a:lnTo>
                      <a:pt x="103" y="34"/>
                    </a:lnTo>
                    <a:lnTo>
                      <a:pt x="96" y="39"/>
                    </a:lnTo>
                    <a:lnTo>
                      <a:pt x="87" y="37"/>
                    </a:lnTo>
                    <a:lnTo>
                      <a:pt x="81" y="31"/>
                    </a:lnTo>
                    <a:lnTo>
                      <a:pt x="12" y="50"/>
                    </a:lnTo>
                    <a:lnTo>
                      <a:pt x="6" y="50"/>
                    </a:lnTo>
                    <a:lnTo>
                      <a:pt x="2" y="46"/>
                    </a:lnTo>
                    <a:lnTo>
                      <a:pt x="0" y="40"/>
                    </a:lnTo>
                    <a:lnTo>
                      <a:pt x="2" y="34"/>
                    </a:lnTo>
                    <a:lnTo>
                      <a:pt x="6" y="31"/>
                    </a:lnTo>
                    <a:lnTo>
                      <a:pt x="75" y="13"/>
                    </a:lnTo>
                    <a:lnTo>
                      <a:pt x="77" y="5"/>
                    </a:lnTo>
                    <a:lnTo>
                      <a:pt x="83" y="1"/>
                    </a:lnTo>
                    <a:lnTo>
                      <a:pt x="88" y="0"/>
                    </a:lnTo>
                    <a:lnTo>
                      <a:pt x="96" y="1"/>
                    </a:lnTo>
                    <a:lnTo>
                      <a:pt x="100" y="7"/>
                    </a:lnTo>
                    <a:close/>
                  </a:path>
                </a:pathLst>
              </a:custGeom>
              <a:solidFill>
                <a:srgbClr val="ff9900"/>
              </a:solidFill>
              <a:ln w="14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grpSp>
        <p:nvGrpSpPr>
          <p:cNvPr id="246" name="Group 38"/>
          <p:cNvGrpSpPr/>
          <p:nvPr/>
        </p:nvGrpSpPr>
        <p:grpSpPr>
          <a:xfrm>
            <a:off x="1275840" y="4495680"/>
            <a:ext cx="1244160" cy="669960"/>
            <a:chOff x="1275840" y="4495680"/>
            <a:chExt cx="1244160" cy="669960"/>
          </a:xfrm>
        </p:grpSpPr>
        <p:grpSp>
          <p:nvGrpSpPr>
            <p:cNvPr id="247" name="Group 39"/>
            <p:cNvGrpSpPr/>
            <p:nvPr/>
          </p:nvGrpSpPr>
          <p:grpSpPr>
            <a:xfrm>
              <a:off x="1766880" y="4495680"/>
              <a:ext cx="663480" cy="274680"/>
              <a:chOff x="1766880" y="4495680"/>
              <a:chExt cx="663480" cy="274680"/>
            </a:xfrm>
          </p:grpSpPr>
          <p:sp>
            <p:nvSpPr>
              <p:cNvPr id="248" name="Rectangle 40"/>
              <p:cNvSpPr/>
              <p:nvPr/>
            </p:nvSpPr>
            <p:spPr>
              <a:xfrm>
                <a:off x="1965240" y="4724280"/>
                <a:ext cx="163440" cy="14040"/>
              </a:xfrm>
              <a:prstGeom prst="rect">
                <a:avLst/>
              </a:prstGeom>
              <a:solidFill>
                <a:srgbClr val="ff9900"/>
              </a:solidFill>
              <a:ln w="3240">
                <a:solidFill>
                  <a:srgbClr val="000000"/>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Freeform 41"/>
              <p:cNvSpPr/>
              <p:nvPr/>
            </p:nvSpPr>
            <p:spPr>
              <a:xfrm>
                <a:off x="1766880" y="4563720"/>
                <a:ext cx="198360" cy="174600"/>
              </a:xfrm>
              <a:custGeom>
                <a:avLst/>
                <a:gdLst>
                  <a:gd name="textAreaLeft" fmla="*/ 0 w 198360"/>
                  <a:gd name="textAreaRight" fmla="*/ 198720 w 198360"/>
                  <a:gd name="textAreaTop" fmla="*/ 0 h 174600"/>
                  <a:gd name="textAreaBottom" fmla="*/ 174960 h 174600"/>
                </a:gdLst>
                <a:ahLst/>
                <a:rect l="textAreaLeft" t="textAreaTop" r="textAreaRight" b="textAreaBottom"/>
                <a:pathLst>
                  <a:path w="352" h="277">
                    <a:moveTo>
                      <a:pt x="352" y="277"/>
                    </a:moveTo>
                    <a:lnTo>
                      <a:pt x="0" y="277"/>
                    </a:lnTo>
                    <a:lnTo>
                      <a:pt x="0" y="111"/>
                    </a:lnTo>
                    <a:lnTo>
                      <a:pt x="136" y="111"/>
                    </a:lnTo>
                    <a:lnTo>
                      <a:pt x="194" y="0"/>
                    </a:lnTo>
                    <a:lnTo>
                      <a:pt x="352" y="0"/>
                    </a:lnTo>
                    <a:lnTo>
                      <a:pt x="352" y="277"/>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42"/>
              <p:cNvSpPr/>
              <p:nvPr/>
            </p:nvSpPr>
            <p:spPr>
              <a:xfrm>
                <a:off x="1803240" y="469404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119" h="119">
                    <a:moveTo>
                      <a:pt x="0" y="59"/>
                    </a:moveTo>
                    <a:lnTo>
                      <a:pt x="4" y="38"/>
                    </a:lnTo>
                    <a:lnTo>
                      <a:pt x="14" y="21"/>
                    </a:lnTo>
                    <a:lnTo>
                      <a:pt x="29" y="7"/>
                    </a:lnTo>
                    <a:lnTo>
                      <a:pt x="50" y="0"/>
                    </a:lnTo>
                    <a:lnTo>
                      <a:pt x="69" y="0"/>
                    </a:lnTo>
                    <a:lnTo>
                      <a:pt x="91" y="7"/>
                    </a:lnTo>
                    <a:lnTo>
                      <a:pt x="106" y="21"/>
                    </a:lnTo>
                    <a:lnTo>
                      <a:pt x="116" y="38"/>
                    </a:lnTo>
                    <a:lnTo>
                      <a:pt x="119" y="59"/>
                    </a:lnTo>
                    <a:lnTo>
                      <a:pt x="116" y="79"/>
                    </a:lnTo>
                    <a:lnTo>
                      <a:pt x="106" y="98"/>
                    </a:lnTo>
                    <a:lnTo>
                      <a:pt x="91" y="111"/>
                    </a:lnTo>
                    <a:lnTo>
                      <a:pt x="69" y="119"/>
                    </a:lnTo>
                    <a:lnTo>
                      <a:pt x="50" y="119"/>
                    </a:lnTo>
                    <a:lnTo>
                      <a:pt x="29" y="111"/>
                    </a:lnTo>
                    <a:lnTo>
                      <a:pt x="14"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1" name="Rectangle 43"/>
              <p:cNvSpPr/>
              <p:nvPr/>
            </p:nvSpPr>
            <p:spPr>
              <a:xfrm>
                <a:off x="1994040" y="4495680"/>
                <a:ext cx="436320" cy="196560"/>
              </a:xfrm>
              <a:prstGeom prst="rect">
                <a:avLst/>
              </a:prstGeom>
              <a:solidFill>
                <a:srgbClr val="ff99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Freeform 44"/>
              <p:cNvSpPr/>
              <p:nvPr/>
            </p:nvSpPr>
            <p:spPr>
              <a:xfrm>
                <a:off x="1986120" y="4694040"/>
                <a:ext cx="68040" cy="76320"/>
              </a:xfrm>
              <a:custGeom>
                <a:avLst/>
                <a:gdLst>
                  <a:gd name="textAreaLeft" fmla="*/ 0 w 68040"/>
                  <a:gd name="textAreaRight" fmla="*/ 68400 w 68040"/>
                  <a:gd name="textAreaTop" fmla="*/ 0 h 76320"/>
                  <a:gd name="textAreaBottom" fmla="*/ 76680 h 76320"/>
                </a:gdLst>
                <a:ahLst/>
                <a:rect l="textAreaLeft" t="textAreaTop" r="textAreaRight" b="textAreaBottom"/>
                <a:pathLst>
                  <a:path w="120" h="119">
                    <a:moveTo>
                      <a:pt x="0" y="59"/>
                    </a:moveTo>
                    <a:lnTo>
                      <a:pt x="2" y="38"/>
                    </a:lnTo>
                    <a:lnTo>
                      <a:pt x="14" y="21"/>
                    </a:lnTo>
                    <a:lnTo>
                      <a:pt x="29" y="7"/>
                    </a:lnTo>
                    <a:lnTo>
                      <a:pt x="48" y="0"/>
                    </a:lnTo>
                    <a:lnTo>
                      <a:pt x="70" y="0"/>
                    </a:lnTo>
                    <a:lnTo>
                      <a:pt x="89" y="7"/>
                    </a:lnTo>
                    <a:lnTo>
                      <a:pt x="106" y="21"/>
                    </a:lnTo>
                    <a:lnTo>
                      <a:pt x="116" y="38"/>
                    </a:lnTo>
                    <a:lnTo>
                      <a:pt x="120" y="59"/>
                    </a:lnTo>
                    <a:lnTo>
                      <a:pt x="116" y="79"/>
                    </a:lnTo>
                    <a:lnTo>
                      <a:pt x="106" y="98"/>
                    </a:lnTo>
                    <a:lnTo>
                      <a:pt x="89" y="111"/>
                    </a:lnTo>
                    <a:lnTo>
                      <a:pt x="70" y="119"/>
                    </a:lnTo>
                    <a:lnTo>
                      <a:pt x="48" y="119"/>
                    </a:lnTo>
                    <a:lnTo>
                      <a:pt x="29" y="111"/>
                    </a:lnTo>
                    <a:lnTo>
                      <a:pt x="14" y="98"/>
                    </a:lnTo>
                    <a:lnTo>
                      <a:pt x="2"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3" name="Freeform 45"/>
              <p:cNvSpPr/>
              <p:nvPr/>
            </p:nvSpPr>
            <p:spPr>
              <a:xfrm>
                <a:off x="2060640" y="4694040"/>
                <a:ext cx="68040" cy="76320"/>
              </a:xfrm>
              <a:custGeom>
                <a:avLst/>
                <a:gdLst>
                  <a:gd name="textAreaLeft" fmla="*/ 0 w 68040"/>
                  <a:gd name="textAreaRight" fmla="*/ 68400 w 68040"/>
                  <a:gd name="textAreaTop" fmla="*/ 0 h 76320"/>
                  <a:gd name="textAreaBottom" fmla="*/ 76680 h 76320"/>
                </a:gdLst>
                <a:ahLst/>
                <a:rect l="textAreaLeft" t="textAreaTop" r="textAreaRight" b="textAreaBottom"/>
                <a:pathLst>
                  <a:path w="121" h="119">
                    <a:moveTo>
                      <a:pt x="0" y="59"/>
                    </a:moveTo>
                    <a:lnTo>
                      <a:pt x="4" y="38"/>
                    </a:lnTo>
                    <a:lnTo>
                      <a:pt x="16" y="21"/>
                    </a:lnTo>
                    <a:lnTo>
                      <a:pt x="31" y="7"/>
                    </a:lnTo>
                    <a:lnTo>
                      <a:pt x="50" y="0"/>
                    </a:lnTo>
                    <a:lnTo>
                      <a:pt x="71" y="0"/>
                    </a:lnTo>
                    <a:lnTo>
                      <a:pt x="91" y="7"/>
                    </a:lnTo>
                    <a:lnTo>
                      <a:pt x="108" y="21"/>
                    </a:lnTo>
                    <a:lnTo>
                      <a:pt x="118" y="38"/>
                    </a:lnTo>
                    <a:lnTo>
                      <a:pt x="121" y="59"/>
                    </a:lnTo>
                    <a:lnTo>
                      <a:pt x="118" y="79"/>
                    </a:lnTo>
                    <a:lnTo>
                      <a:pt x="108" y="98"/>
                    </a:lnTo>
                    <a:lnTo>
                      <a:pt x="91" y="111"/>
                    </a:lnTo>
                    <a:lnTo>
                      <a:pt x="71" y="119"/>
                    </a:lnTo>
                    <a:lnTo>
                      <a:pt x="50" y="119"/>
                    </a:lnTo>
                    <a:lnTo>
                      <a:pt x="31" y="111"/>
                    </a:lnTo>
                    <a:lnTo>
                      <a:pt x="16"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4" name="Freeform 46"/>
              <p:cNvSpPr/>
              <p:nvPr/>
            </p:nvSpPr>
            <p:spPr>
              <a:xfrm>
                <a:off x="2257560" y="469404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121" h="119">
                    <a:moveTo>
                      <a:pt x="0" y="59"/>
                    </a:moveTo>
                    <a:lnTo>
                      <a:pt x="3" y="38"/>
                    </a:lnTo>
                    <a:lnTo>
                      <a:pt x="13" y="21"/>
                    </a:lnTo>
                    <a:lnTo>
                      <a:pt x="30" y="7"/>
                    </a:lnTo>
                    <a:lnTo>
                      <a:pt x="50" y="0"/>
                    </a:lnTo>
                    <a:lnTo>
                      <a:pt x="71" y="0"/>
                    </a:lnTo>
                    <a:lnTo>
                      <a:pt x="90" y="7"/>
                    </a:lnTo>
                    <a:lnTo>
                      <a:pt x="105" y="21"/>
                    </a:lnTo>
                    <a:lnTo>
                      <a:pt x="117" y="38"/>
                    </a:lnTo>
                    <a:lnTo>
                      <a:pt x="121" y="59"/>
                    </a:lnTo>
                    <a:lnTo>
                      <a:pt x="117" y="79"/>
                    </a:lnTo>
                    <a:lnTo>
                      <a:pt x="105" y="98"/>
                    </a:lnTo>
                    <a:lnTo>
                      <a:pt x="90" y="111"/>
                    </a:lnTo>
                    <a:lnTo>
                      <a:pt x="71" y="119"/>
                    </a:lnTo>
                    <a:lnTo>
                      <a:pt x="50" y="119"/>
                    </a:lnTo>
                    <a:lnTo>
                      <a:pt x="30" y="111"/>
                    </a:lnTo>
                    <a:lnTo>
                      <a:pt x="13" y="98"/>
                    </a:lnTo>
                    <a:lnTo>
                      <a:pt x="3"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5" name="Freeform 47"/>
              <p:cNvSpPr/>
              <p:nvPr/>
            </p:nvSpPr>
            <p:spPr>
              <a:xfrm>
                <a:off x="2332080" y="469404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120" h="119">
                    <a:moveTo>
                      <a:pt x="0" y="59"/>
                    </a:moveTo>
                    <a:lnTo>
                      <a:pt x="4" y="38"/>
                    </a:lnTo>
                    <a:lnTo>
                      <a:pt x="14" y="21"/>
                    </a:lnTo>
                    <a:lnTo>
                      <a:pt x="29" y="7"/>
                    </a:lnTo>
                    <a:lnTo>
                      <a:pt x="50" y="0"/>
                    </a:lnTo>
                    <a:lnTo>
                      <a:pt x="70" y="0"/>
                    </a:lnTo>
                    <a:lnTo>
                      <a:pt x="91" y="7"/>
                    </a:lnTo>
                    <a:lnTo>
                      <a:pt x="106" y="21"/>
                    </a:lnTo>
                    <a:lnTo>
                      <a:pt x="116" y="38"/>
                    </a:lnTo>
                    <a:lnTo>
                      <a:pt x="120" y="59"/>
                    </a:lnTo>
                    <a:lnTo>
                      <a:pt x="116" y="79"/>
                    </a:lnTo>
                    <a:lnTo>
                      <a:pt x="106" y="98"/>
                    </a:lnTo>
                    <a:lnTo>
                      <a:pt x="91" y="111"/>
                    </a:lnTo>
                    <a:lnTo>
                      <a:pt x="70" y="119"/>
                    </a:lnTo>
                    <a:lnTo>
                      <a:pt x="50" y="119"/>
                    </a:lnTo>
                    <a:lnTo>
                      <a:pt x="29" y="111"/>
                    </a:lnTo>
                    <a:lnTo>
                      <a:pt x="14"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256" name="Rectangle 48"/>
            <p:cNvSpPr/>
            <p:nvPr/>
          </p:nvSpPr>
          <p:spPr>
            <a:xfrm>
              <a:off x="1275840" y="4800240"/>
              <a:ext cx="1244160" cy="365400"/>
            </a:xfrm>
            <a:prstGeom prst="rect">
              <a:avLst/>
            </a:prstGeom>
            <a:solidFill>
              <a:srgbClr val="009900"/>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Suppli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f components</a:t>
              </a:r>
              <a:endParaRPr b="0" lang="en-US" sz="1200" spc="-1" strike="noStrike">
                <a:solidFill>
                  <a:srgbClr val="000000"/>
                </a:solidFill>
                <a:latin typeface="Times New Roman"/>
              </a:endParaRPr>
            </a:p>
          </p:txBody>
        </p:sp>
      </p:grpSp>
      <p:sp>
        <p:nvSpPr>
          <p:cNvPr id="257" name="Freeform 49"/>
          <p:cNvSpPr/>
          <p:nvPr/>
        </p:nvSpPr>
        <p:spPr>
          <a:xfrm flipH="1" flipV="1">
            <a:off x="3885480" y="3886200"/>
            <a:ext cx="3886200" cy="76320"/>
          </a:xfrm>
          <a:custGeom>
            <a:avLst/>
            <a:gdLst>
              <a:gd name="textAreaLeft" fmla="*/ -360 w 3886200"/>
              <a:gd name="textAreaRight" fmla="*/ 3886200 w 3886200"/>
              <a:gd name="textAreaTop" fmla="*/ 360 h 76320"/>
              <a:gd name="textAreaBottom" fmla="*/ 77040 h 76320"/>
            </a:gdLst>
            <a:ahLst/>
            <a:rect l="textAreaLeft" t="textAreaTop" r="textAreaRight" b="textAreaBottom"/>
            <a:pathLst>
              <a:path w="2016" h="912">
                <a:moveTo>
                  <a:pt x="0" y="912"/>
                </a:moveTo>
                <a:lnTo>
                  <a:pt x="1392" y="912"/>
                </a:lnTo>
                <a:lnTo>
                  <a:pt x="1392" y="0"/>
                </a:lnTo>
                <a:lnTo>
                  <a:pt x="2016" y="0"/>
                </a:lnTo>
              </a:path>
            </a:pathLst>
          </a:custGeom>
          <a:noFill/>
          <a:ln w="28440">
            <a:solidFill>
              <a:srgbClr val="ff33cc"/>
            </a:solidFill>
            <a:round/>
            <a:tailEnd len="med" type="triangle" w="me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8" name="Line 50"/>
          <p:cNvSpPr/>
          <p:nvPr/>
        </p:nvSpPr>
        <p:spPr>
          <a:xfrm>
            <a:off x="3733920" y="4113360"/>
            <a:ext cx="914400" cy="610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Group 51"/>
          <p:cNvGrpSpPr/>
          <p:nvPr/>
        </p:nvGrpSpPr>
        <p:grpSpPr>
          <a:xfrm>
            <a:off x="4495680" y="4495680"/>
            <a:ext cx="880200" cy="814680"/>
            <a:chOff x="4495680" y="4495680"/>
            <a:chExt cx="880200" cy="814680"/>
          </a:xfrm>
        </p:grpSpPr>
        <p:sp>
          <p:nvSpPr>
            <p:cNvPr id="260" name="Freeform 52"/>
            <p:cNvSpPr/>
            <p:nvPr/>
          </p:nvSpPr>
          <p:spPr>
            <a:xfrm>
              <a:off x="4495680" y="4616280"/>
              <a:ext cx="269640" cy="322200"/>
            </a:xfrm>
            <a:custGeom>
              <a:avLst/>
              <a:gdLst>
                <a:gd name="textAreaLeft" fmla="*/ 0 w 269640"/>
                <a:gd name="textAreaRight" fmla="*/ 270000 w 269640"/>
                <a:gd name="textAreaTop" fmla="*/ 0 h 322200"/>
                <a:gd name="textAreaBottom" fmla="*/ 322560 h 322200"/>
              </a:gdLst>
              <a:ahLst/>
              <a:rect l="textAreaLeft" t="textAreaTop" r="textAreaRight" b="textAreaBottom"/>
              <a:pathLst>
                <a:path w="170" h="203">
                  <a:moveTo>
                    <a:pt x="156" y="203"/>
                  </a:moveTo>
                  <a:lnTo>
                    <a:pt x="170" y="203"/>
                  </a:lnTo>
                  <a:lnTo>
                    <a:pt x="170" y="0"/>
                  </a:lnTo>
                  <a:lnTo>
                    <a:pt x="156" y="0"/>
                  </a:lnTo>
                  <a:lnTo>
                    <a:pt x="156" y="203"/>
                  </a:lnTo>
                  <a:close/>
                  <a:moveTo>
                    <a:pt x="0" y="189"/>
                  </a:moveTo>
                  <a:lnTo>
                    <a:pt x="156" y="203"/>
                  </a:lnTo>
                  <a:lnTo>
                    <a:pt x="156" y="194"/>
                  </a:lnTo>
                  <a:lnTo>
                    <a:pt x="0" y="185"/>
                  </a:lnTo>
                  <a:lnTo>
                    <a:pt x="0" y="189"/>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 name="Group 53"/>
            <p:cNvGrpSpPr/>
            <p:nvPr/>
          </p:nvGrpSpPr>
          <p:grpSpPr>
            <a:xfrm>
              <a:off x="4638960" y="4495680"/>
              <a:ext cx="736920" cy="814680"/>
              <a:chOff x="4638960" y="4495680"/>
              <a:chExt cx="736920" cy="814680"/>
            </a:xfrm>
          </p:grpSpPr>
          <p:sp>
            <p:nvSpPr>
              <p:cNvPr id="262" name="Freeform 54"/>
              <p:cNvSpPr/>
              <p:nvPr/>
            </p:nvSpPr>
            <p:spPr>
              <a:xfrm>
                <a:off x="4758840" y="4790880"/>
                <a:ext cx="500040" cy="220680"/>
              </a:xfrm>
              <a:custGeom>
                <a:avLst/>
                <a:gdLst>
                  <a:gd name="textAreaLeft" fmla="*/ 0 w 500040"/>
                  <a:gd name="textAreaRight" fmla="*/ 500400 w 500040"/>
                  <a:gd name="textAreaTop" fmla="*/ 0 h 220680"/>
                  <a:gd name="textAreaBottom" fmla="*/ 221040 h 220680"/>
                </a:gdLst>
                <a:ahLst/>
                <a:rect l="textAreaLeft" t="textAreaTop" r="textAreaRight" b="textAreaBottom"/>
                <a:pathLst>
                  <a:path w="315" h="139">
                    <a:moveTo>
                      <a:pt x="0" y="139"/>
                    </a:moveTo>
                    <a:lnTo>
                      <a:pt x="275" y="139"/>
                    </a:lnTo>
                    <a:lnTo>
                      <a:pt x="315" y="93"/>
                    </a:lnTo>
                    <a:lnTo>
                      <a:pt x="315" y="0"/>
                    </a:lnTo>
                    <a:lnTo>
                      <a:pt x="0" y="0"/>
                    </a:lnTo>
                    <a:lnTo>
                      <a:pt x="0" y="139"/>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Rectangle 55"/>
              <p:cNvSpPr/>
              <p:nvPr/>
            </p:nvSpPr>
            <p:spPr>
              <a:xfrm>
                <a:off x="4749480" y="4593960"/>
                <a:ext cx="9360" cy="417600"/>
              </a:xfrm>
              <a:prstGeom prst="rect">
                <a:avLst/>
              </a:prstGeom>
              <a:solidFill>
                <a:srgbClr val="ff99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Freeform 56"/>
              <p:cNvSpPr/>
              <p:nvPr/>
            </p:nvSpPr>
            <p:spPr>
              <a:xfrm>
                <a:off x="4758840" y="4495680"/>
                <a:ext cx="343080" cy="295200"/>
              </a:xfrm>
              <a:custGeom>
                <a:avLst/>
                <a:gdLst>
                  <a:gd name="textAreaLeft" fmla="*/ 0 w 343080"/>
                  <a:gd name="textAreaRight" fmla="*/ 343440 w 343080"/>
                  <a:gd name="textAreaTop" fmla="*/ 0 h 295200"/>
                  <a:gd name="textAreaBottom" fmla="*/ 295560 h 295200"/>
                </a:gdLst>
                <a:ahLst/>
                <a:rect l="textAreaLeft" t="textAreaTop" r="textAreaRight" b="textAreaBottom"/>
                <a:pathLst>
                  <a:path w="216" h="186">
                    <a:moveTo>
                      <a:pt x="0" y="186"/>
                    </a:moveTo>
                    <a:lnTo>
                      <a:pt x="14" y="170"/>
                    </a:lnTo>
                    <a:lnTo>
                      <a:pt x="52" y="15"/>
                    </a:lnTo>
                    <a:lnTo>
                      <a:pt x="66" y="0"/>
                    </a:lnTo>
                    <a:lnTo>
                      <a:pt x="216" y="0"/>
                    </a:lnTo>
                    <a:lnTo>
                      <a:pt x="216" y="186"/>
                    </a:lnTo>
                    <a:lnTo>
                      <a:pt x="209" y="186"/>
                    </a:lnTo>
                    <a:lnTo>
                      <a:pt x="209" y="7"/>
                    </a:lnTo>
                    <a:lnTo>
                      <a:pt x="66" y="7"/>
                    </a:lnTo>
                    <a:lnTo>
                      <a:pt x="59" y="15"/>
                    </a:lnTo>
                    <a:lnTo>
                      <a:pt x="20" y="170"/>
                    </a:lnTo>
                    <a:lnTo>
                      <a:pt x="7" y="186"/>
                    </a:lnTo>
                    <a:lnTo>
                      <a:pt x="0" y="186"/>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57"/>
              <p:cNvSpPr/>
              <p:nvPr/>
            </p:nvSpPr>
            <p:spPr>
              <a:xfrm>
                <a:off x="5112720" y="4654440"/>
                <a:ext cx="133560" cy="154080"/>
              </a:xfrm>
              <a:custGeom>
                <a:avLst/>
                <a:gdLst>
                  <a:gd name="textAreaLeft" fmla="*/ 0 w 133560"/>
                  <a:gd name="textAreaRight" fmla="*/ 133920 w 133560"/>
                  <a:gd name="textAreaTop" fmla="*/ 0 h 154080"/>
                  <a:gd name="textAreaBottom" fmla="*/ 154440 h 154080"/>
                </a:gdLst>
                <a:ahLst/>
                <a:rect l="textAreaLeft" t="textAreaTop" r="textAreaRight" b="textAreaBottom"/>
                <a:pathLst>
                  <a:path w="65" h="77">
                    <a:moveTo>
                      <a:pt x="0" y="39"/>
                    </a:moveTo>
                    <a:lnTo>
                      <a:pt x="2" y="25"/>
                    </a:lnTo>
                    <a:lnTo>
                      <a:pt x="7" y="14"/>
                    </a:lnTo>
                    <a:lnTo>
                      <a:pt x="16" y="5"/>
                    </a:lnTo>
                    <a:lnTo>
                      <a:pt x="27" y="0"/>
                    </a:lnTo>
                    <a:lnTo>
                      <a:pt x="38" y="0"/>
                    </a:lnTo>
                    <a:lnTo>
                      <a:pt x="48" y="5"/>
                    </a:lnTo>
                    <a:lnTo>
                      <a:pt x="57" y="14"/>
                    </a:lnTo>
                    <a:lnTo>
                      <a:pt x="63" y="25"/>
                    </a:lnTo>
                    <a:lnTo>
                      <a:pt x="65" y="39"/>
                    </a:lnTo>
                    <a:lnTo>
                      <a:pt x="63" y="52"/>
                    </a:lnTo>
                    <a:lnTo>
                      <a:pt x="57" y="63"/>
                    </a:lnTo>
                    <a:lnTo>
                      <a:pt x="48" y="72"/>
                    </a:lnTo>
                    <a:lnTo>
                      <a:pt x="38" y="77"/>
                    </a:lnTo>
                    <a:lnTo>
                      <a:pt x="27" y="77"/>
                    </a:lnTo>
                    <a:lnTo>
                      <a:pt x="16" y="72"/>
                    </a:lnTo>
                    <a:lnTo>
                      <a:pt x="7" y="63"/>
                    </a:lnTo>
                    <a:lnTo>
                      <a:pt x="2" y="52"/>
                    </a:lnTo>
                    <a:lnTo>
                      <a:pt x="0" y="39"/>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58"/>
              <p:cNvSpPr/>
              <p:nvPr/>
            </p:nvSpPr>
            <p:spPr>
              <a:xfrm>
                <a:off x="5174640" y="4790880"/>
                <a:ext cx="1800" cy="2793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59"/>
              <p:cNvSpPr/>
              <p:nvPr/>
            </p:nvSpPr>
            <p:spPr>
              <a:xfrm>
                <a:off x="4770000" y="4643280"/>
                <a:ext cx="111240" cy="147600"/>
              </a:xfrm>
              <a:custGeom>
                <a:avLst/>
                <a:gdLst>
                  <a:gd name="textAreaLeft" fmla="*/ 0 w 111240"/>
                  <a:gd name="textAreaRight" fmla="*/ 111600 w 111240"/>
                  <a:gd name="textAreaTop" fmla="*/ 0 h 147600"/>
                  <a:gd name="textAreaBottom" fmla="*/ 147600 h 147600"/>
                </a:gdLst>
                <a:ahLst/>
                <a:rect l="textAreaLeft" t="textAreaTop" r="textAreaRight" b="textAreaBottom"/>
                <a:pathLst>
                  <a:path w="70" h="93">
                    <a:moveTo>
                      <a:pt x="19" y="46"/>
                    </a:moveTo>
                    <a:lnTo>
                      <a:pt x="33" y="46"/>
                    </a:lnTo>
                    <a:lnTo>
                      <a:pt x="45" y="62"/>
                    </a:lnTo>
                    <a:lnTo>
                      <a:pt x="33" y="93"/>
                    </a:lnTo>
                    <a:lnTo>
                      <a:pt x="0" y="93"/>
                    </a:lnTo>
                    <a:lnTo>
                      <a:pt x="13" y="77"/>
                    </a:lnTo>
                    <a:lnTo>
                      <a:pt x="19" y="46"/>
                    </a:lnTo>
                    <a:close/>
                    <a:moveTo>
                      <a:pt x="36" y="49"/>
                    </a:moveTo>
                    <a:lnTo>
                      <a:pt x="52" y="11"/>
                    </a:lnTo>
                    <a:lnTo>
                      <a:pt x="59" y="18"/>
                    </a:lnTo>
                    <a:lnTo>
                      <a:pt x="43" y="58"/>
                    </a:lnTo>
                    <a:lnTo>
                      <a:pt x="36" y="49"/>
                    </a:lnTo>
                    <a:close/>
                    <a:moveTo>
                      <a:pt x="70" y="31"/>
                    </a:moveTo>
                    <a:lnTo>
                      <a:pt x="70" y="27"/>
                    </a:lnTo>
                    <a:lnTo>
                      <a:pt x="47" y="0"/>
                    </a:lnTo>
                    <a:lnTo>
                      <a:pt x="43" y="0"/>
                    </a:lnTo>
                    <a:lnTo>
                      <a:pt x="70" y="31"/>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60"/>
              <p:cNvSpPr/>
              <p:nvPr/>
            </p:nvSpPr>
            <p:spPr>
              <a:xfrm>
                <a:off x="4884120" y="4617720"/>
                <a:ext cx="103320" cy="173160"/>
              </a:xfrm>
              <a:custGeom>
                <a:avLst/>
                <a:gdLst>
                  <a:gd name="textAreaLeft" fmla="*/ 0 w 103320"/>
                  <a:gd name="textAreaRight" fmla="*/ 103680 w 103320"/>
                  <a:gd name="textAreaTop" fmla="*/ 0 h 173160"/>
                  <a:gd name="textAreaBottom" fmla="*/ 173160 h 173160"/>
                </a:gdLst>
                <a:ahLst/>
                <a:rect l="textAreaLeft" t="textAreaTop" r="textAreaRight" b="textAreaBottom"/>
                <a:pathLst>
                  <a:path w="65" h="109">
                    <a:moveTo>
                      <a:pt x="0" y="78"/>
                    </a:moveTo>
                    <a:lnTo>
                      <a:pt x="65" y="78"/>
                    </a:lnTo>
                    <a:lnTo>
                      <a:pt x="65" y="62"/>
                    </a:lnTo>
                    <a:lnTo>
                      <a:pt x="0" y="62"/>
                    </a:lnTo>
                    <a:lnTo>
                      <a:pt x="0" y="78"/>
                    </a:lnTo>
                    <a:close/>
                    <a:moveTo>
                      <a:pt x="52" y="62"/>
                    </a:moveTo>
                    <a:lnTo>
                      <a:pt x="65" y="62"/>
                    </a:lnTo>
                    <a:lnTo>
                      <a:pt x="65" y="0"/>
                    </a:lnTo>
                    <a:lnTo>
                      <a:pt x="52" y="0"/>
                    </a:lnTo>
                    <a:lnTo>
                      <a:pt x="52" y="62"/>
                    </a:lnTo>
                    <a:close/>
                    <a:moveTo>
                      <a:pt x="19" y="78"/>
                    </a:moveTo>
                    <a:lnTo>
                      <a:pt x="6" y="109"/>
                    </a:lnTo>
                    <a:lnTo>
                      <a:pt x="39" y="109"/>
                    </a:lnTo>
                    <a:lnTo>
                      <a:pt x="52" y="78"/>
                    </a:lnTo>
                    <a:lnTo>
                      <a:pt x="19" y="78"/>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61"/>
              <p:cNvSpPr/>
              <p:nvPr/>
            </p:nvSpPr>
            <p:spPr>
              <a:xfrm>
                <a:off x="4781160" y="4938480"/>
                <a:ext cx="393480" cy="147600"/>
              </a:xfrm>
              <a:custGeom>
                <a:avLst/>
                <a:gdLst>
                  <a:gd name="textAreaLeft" fmla="*/ 0 w 393480"/>
                  <a:gd name="textAreaRight" fmla="*/ 393840 w 393480"/>
                  <a:gd name="textAreaTop" fmla="*/ 0 h 147600"/>
                  <a:gd name="textAreaBottom" fmla="*/ 147600 h 147600"/>
                </a:gdLst>
                <a:ahLst/>
                <a:rect l="textAreaLeft" t="textAreaTop" r="textAreaRight" b="textAreaBottom"/>
                <a:pathLst>
                  <a:path w="248" h="93">
                    <a:moveTo>
                      <a:pt x="0" y="46"/>
                    </a:moveTo>
                    <a:lnTo>
                      <a:pt x="1" y="32"/>
                    </a:lnTo>
                    <a:lnTo>
                      <a:pt x="7" y="18"/>
                    </a:lnTo>
                    <a:lnTo>
                      <a:pt x="16" y="9"/>
                    </a:lnTo>
                    <a:lnTo>
                      <a:pt x="26" y="2"/>
                    </a:lnTo>
                    <a:lnTo>
                      <a:pt x="38" y="0"/>
                    </a:lnTo>
                    <a:lnTo>
                      <a:pt x="51" y="2"/>
                    </a:lnTo>
                    <a:lnTo>
                      <a:pt x="62" y="9"/>
                    </a:lnTo>
                    <a:lnTo>
                      <a:pt x="71" y="18"/>
                    </a:lnTo>
                    <a:lnTo>
                      <a:pt x="76" y="32"/>
                    </a:lnTo>
                    <a:lnTo>
                      <a:pt x="78" y="46"/>
                    </a:lnTo>
                    <a:lnTo>
                      <a:pt x="76" y="61"/>
                    </a:lnTo>
                    <a:lnTo>
                      <a:pt x="71" y="73"/>
                    </a:lnTo>
                    <a:lnTo>
                      <a:pt x="62" y="84"/>
                    </a:lnTo>
                    <a:lnTo>
                      <a:pt x="51" y="90"/>
                    </a:lnTo>
                    <a:lnTo>
                      <a:pt x="38" y="93"/>
                    </a:lnTo>
                    <a:lnTo>
                      <a:pt x="26" y="90"/>
                    </a:lnTo>
                    <a:lnTo>
                      <a:pt x="16" y="84"/>
                    </a:lnTo>
                    <a:lnTo>
                      <a:pt x="7" y="73"/>
                    </a:lnTo>
                    <a:lnTo>
                      <a:pt x="1" y="61"/>
                    </a:lnTo>
                    <a:lnTo>
                      <a:pt x="0" y="46"/>
                    </a:lnTo>
                    <a:close/>
                    <a:moveTo>
                      <a:pt x="169" y="46"/>
                    </a:moveTo>
                    <a:lnTo>
                      <a:pt x="171" y="32"/>
                    </a:lnTo>
                    <a:lnTo>
                      <a:pt x="176" y="18"/>
                    </a:lnTo>
                    <a:lnTo>
                      <a:pt x="185" y="9"/>
                    </a:lnTo>
                    <a:lnTo>
                      <a:pt x="196" y="2"/>
                    </a:lnTo>
                    <a:lnTo>
                      <a:pt x="209" y="0"/>
                    </a:lnTo>
                    <a:lnTo>
                      <a:pt x="221" y="2"/>
                    </a:lnTo>
                    <a:lnTo>
                      <a:pt x="232" y="9"/>
                    </a:lnTo>
                    <a:lnTo>
                      <a:pt x="241" y="18"/>
                    </a:lnTo>
                    <a:lnTo>
                      <a:pt x="246" y="32"/>
                    </a:lnTo>
                    <a:lnTo>
                      <a:pt x="248" y="46"/>
                    </a:lnTo>
                    <a:lnTo>
                      <a:pt x="246" y="61"/>
                    </a:lnTo>
                    <a:lnTo>
                      <a:pt x="241" y="73"/>
                    </a:lnTo>
                    <a:lnTo>
                      <a:pt x="232" y="84"/>
                    </a:lnTo>
                    <a:lnTo>
                      <a:pt x="221" y="90"/>
                    </a:lnTo>
                    <a:lnTo>
                      <a:pt x="209" y="93"/>
                    </a:lnTo>
                    <a:lnTo>
                      <a:pt x="196" y="90"/>
                    </a:lnTo>
                    <a:lnTo>
                      <a:pt x="185" y="84"/>
                    </a:lnTo>
                    <a:lnTo>
                      <a:pt x="176" y="73"/>
                    </a:lnTo>
                    <a:lnTo>
                      <a:pt x="171" y="61"/>
                    </a:lnTo>
                    <a:lnTo>
                      <a:pt x="169" y="46"/>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62"/>
              <p:cNvSpPr/>
              <p:nvPr/>
            </p:nvSpPr>
            <p:spPr>
              <a:xfrm>
                <a:off x="4638960" y="5127480"/>
                <a:ext cx="736920" cy="182880"/>
              </a:xfrm>
              <a:prstGeom prst="rect">
                <a:avLst/>
              </a:prstGeom>
              <a:solidFill>
                <a:srgbClr val="ff99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rehouse</a:t>
                </a:r>
                <a:endParaRPr b="0" lang="en-US" sz="1200" spc="-1" strike="noStrike">
                  <a:solidFill>
                    <a:srgbClr val="000000"/>
                  </a:solidFill>
                  <a:latin typeface="Times New Roman"/>
                </a:endParaRPr>
              </a:p>
            </p:txBody>
          </p:sp>
        </p:grpSp>
      </p:grpSp>
      <p:sp>
        <p:nvSpPr>
          <p:cNvPr id="271" name="Text Box 63"/>
          <p:cNvSpPr/>
          <p:nvPr/>
        </p:nvSpPr>
        <p:spPr>
          <a:xfrm>
            <a:off x="923760" y="2286000"/>
            <a:ext cx="2810160" cy="762120"/>
          </a:xfrm>
          <a:prstGeom prst="rect">
            <a:avLst/>
          </a:prstGeom>
          <a:solidFill>
            <a:srgbClr val="33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ea typeface="Arial"/>
              </a:rPr>
              <a:t>Manufacturing company th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ea typeface="Arial"/>
              </a:rPr>
              <a:t>Produces against a 15-days forecast</a:t>
            </a:r>
            <a:endParaRPr b="0" lang="en-US" sz="1400" spc="-1" strike="noStrike">
              <a:solidFill>
                <a:srgbClr val="000000"/>
              </a:solidFill>
              <a:latin typeface="Times New Roman"/>
            </a:endParaRPr>
          </a:p>
        </p:txBody>
      </p:sp>
      <p:sp>
        <p:nvSpPr>
          <p:cNvPr id="272" name="Line 64"/>
          <p:cNvSpPr/>
          <p:nvPr/>
        </p:nvSpPr>
        <p:spPr>
          <a:xfrm flipV="1">
            <a:off x="2438280" y="4190760"/>
            <a:ext cx="38124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Text Box 65"/>
          <p:cNvSpPr/>
          <p:nvPr/>
        </p:nvSpPr>
        <p:spPr>
          <a:xfrm>
            <a:off x="6029280" y="2514600"/>
            <a:ext cx="2809800" cy="762120"/>
          </a:xfrm>
          <a:prstGeom prst="rect">
            <a:avLst/>
          </a:prstGeom>
          <a:solidFill>
            <a:srgbClr val="33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ea typeface="Arial"/>
              </a:rPr>
              <a:t>Supplies raw materials in bulks from the Far East against a monthly forecast</a:t>
            </a:r>
            <a:endParaRPr b="0" lang="en-US" sz="1400" spc="-1" strike="noStrike">
              <a:solidFill>
                <a:srgbClr val="000000"/>
              </a:solidFill>
              <a:latin typeface="Times New Roman"/>
            </a:endParaRPr>
          </a:p>
        </p:txBody>
      </p:sp>
      <p:sp>
        <p:nvSpPr>
          <p:cNvPr id="274" name="Text Box 66"/>
          <p:cNvSpPr/>
          <p:nvPr/>
        </p:nvSpPr>
        <p:spPr>
          <a:xfrm>
            <a:off x="762120" y="5257800"/>
            <a:ext cx="2809800" cy="838080"/>
          </a:xfrm>
          <a:prstGeom prst="rect">
            <a:avLst/>
          </a:prstGeom>
          <a:solidFill>
            <a:srgbClr val="33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ea typeface="Arial"/>
              </a:rPr>
              <a:t>Pulls components from France based on production volumes</a:t>
            </a:r>
            <a:endParaRPr b="0" lang="en-US" sz="1400" spc="-1" strike="noStrike">
              <a:solidFill>
                <a:srgbClr val="000000"/>
              </a:solidFill>
              <a:latin typeface="Times New Roman"/>
            </a:endParaRPr>
          </a:p>
        </p:txBody>
      </p:sp>
      <p:sp>
        <p:nvSpPr>
          <p:cNvPr id="275" name="Text Box 67"/>
          <p:cNvSpPr/>
          <p:nvPr/>
        </p:nvSpPr>
        <p:spPr>
          <a:xfrm>
            <a:off x="5800680" y="4876920"/>
            <a:ext cx="2809800" cy="990360"/>
          </a:xfrm>
          <a:prstGeom prst="rect">
            <a:avLst/>
          </a:prstGeom>
          <a:solidFill>
            <a:srgbClr val="33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ea typeface="Arial"/>
              </a:rPr>
              <a:t>Ships weekly finished goods to a Distribution Warehouse based in Central Europe.</a:t>
            </a:r>
            <a:endParaRPr b="0" lang="en-US" sz="14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71"/>
                                        </p:tgtEl>
                                        <p:attrNameLst>
                                          <p:attrName>style.visibility</p:attrName>
                                        </p:attrNameLst>
                                      </p:cBhvr>
                                      <p:to>
                                        <p:strVal val="visible"/>
                                      </p:to>
                                    </p:set>
                                    <p:animEffect filter="wipe(left)" transition="in">
                                      <p:cBhvr additive="repl">
                                        <p:cTn id="19" dur="500"/>
                                        <p:tgtEl>
                                          <p:spTgt spid="27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73"/>
                                        </p:tgtEl>
                                        <p:attrNameLst>
                                          <p:attrName>style.visibility</p:attrName>
                                        </p:attrNameLst>
                                      </p:cBhvr>
                                      <p:to>
                                        <p:strVal val="visible"/>
                                      </p:to>
                                    </p:set>
                                    <p:animEffect filter="wipe(left)" transition="in">
                                      <p:cBhvr additive="repl">
                                        <p:cTn id="24" dur="500"/>
                                        <p:tgtEl>
                                          <p:spTgt spid="27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74"/>
                                        </p:tgtEl>
                                        <p:attrNameLst>
                                          <p:attrName>style.visibility</p:attrName>
                                        </p:attrNameLst>
                                      </p:cBhvr>
                                      <p:to>
                                        <p:strVal val="visible"/>
                                      </p:to>
                                    </p:set>
                                    <p:animEffect filter="wipe(left)" transition="in">
                                      <p:cBhvr additive="repl">
                                        <p:cTn id="29" dur="500"/>
                                        <p:tgtEl>
                                          <p:spTgt spid="27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75"/>
                                        </p:tgtEl>
                                        <p:attrNameLst>
                                          <p:attrName>style.visibility</p:attrName>
                                        </p:attrNameLst>
                                      </p:cBhvr>
                                      <p:to>
                                        <p:strVal val="visible"/>
                                      </p:to>
                                    </p:set>
                                    <p:animEffect filter="wipe(left)" transition="in">
                                      <p:cBhvr additive="repl">
                                        <p:cTn id="34"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228600" y="1295280"/>
            <a:ext cx="7658280" cy="5200920"/>
          </a:xfrm>
          <a:prstGeom prst="rect">
            <a:avLst/>
          </a:prstGeom>
          <a:ln w="0">
            <a:noFill/>
          </a:ln>
        </p:spPr>
      </p:pic>
      <p:sp>
        <p:nvSpPr>
          <p:cNvPr id="277"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OR Process Modeling – Mapping AS-IS</a:t>
            </a:r>
            <a:br>
              <a:rPr sz="3200"/>
            </a:br>
            <a:r>
              <a:rPr b="1" lang="en-US" sz="3200" spc="-1" strike="noStrike">
                <a:solidFill>
                  <a:srgbClr val="000000"/>
                </a:solidFill>
                <a:latin typeface="Calibri"/>
              </a:rPr>
              <a:t>material flows</a:t>
            </a:r>
            <a:endParaRPr b="1" lang="en-US" sz="3200" spc="-1" strike="noStrike">
              <a:solidFill>
                <a:srgbClr val="000000"/>
              </a:solidFill>
              <a:latin typeface="Calibri"/>
            </a:endParaRPr>
          </a:p>
        </p:txBody>
      </p:sp>
      <p:grpSp>
        <p:nvGrpSpPr>
          <p:cNvPr id="278" name="Group 4"/>
          <p:cNvGrpSpPr/>
          <p:nvPr/>
        </p:nvGrpSpPr>
        <p:grpSpPr>
          <a:xfrm>
            <a:off x="8001000" y="3505320"/>
            <a:ext cx="957240" cy="576720"/>
            <a:chOff x="8001000" y="3505320"/>
            <a:chExt cx="957240" cy="576720"/>
          </a:xfrm>
        </p:grpSpPr>
        <p:sp>
          <p:nvSpPr>
            <p:cNvPr id="279" name="Freeform 5"/>
            <p:cNvSpPr/>
            <p:nvPr/>
          </p:nvSpPr>
          <p:spPr>
            <a:xfrm>
              <a:off x="8413920" y="375480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121" h="119">
                  <a:moveTo>
                    <a:pt x="0" y="59"/>
                  </a:moveTo>
                  <a:lnTo>
                    <a:pt x="4" y="38"/>
                  </a:lnTo>
                  <a:lnTo>
                    <a:pt x="16" y="21"/>
                  </a:lnTo>
                  <a:lnTo>
                    <a:pt x="31" y="7"/>
                  </a:lnTo>
                  <a:lnTo>
                    <a:pt x="50" y="0"/>
                  </a:lnTo>
                  <a:lnTo>
                    <a:pt x="71" y="0"/>
                  </a:lnTo>
                  <a:lnTo>
                    <a:pt x="91" y="7"/>
                  </a:lnTo>
                  <a:lnTo>
                    <a:pt x="108" y="21"/>
                  </a:lnTo>
                  <a:lnTo>
                    <a:pt x="118" y="38"/>
                  </a:lnTo>
                  <a:lnTo>
                    <a:pt x="121" y="59"/>
                  </a:lnTo>
                  <a:lnTo>
                    <a:pt x="118" y="79"/>
                  </a:lnTo>
                  <a:lnTo>
                    <a:pt x="108" y="98"/>
                  </a:lnTo>
                  <a:lnTo>
                    <a:pt x="91" y="111"/>
                  </a:lnTo>
                  <a:lnTo>
                    <a:pt x="71" y="119"/>
                  </a:lnTo>
                  <a:lnTo>
                    <a:pt x="50" y="119"/>
                  </a:lnTo>
                  <a:lnTo>
                    <a:pt x="31" y="111"/>
                  </a:lnTo>
                  <a:lnTo>
                    <a:pt x="16"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Group 6"/>
            <p:cNvGrpSpPr/>
            <p:nvPr/>
          </p:nvGrpSpPr>
          <p:grpSpPr>
            <a:xfrm>
              <a:off x="8001000" y="3505320"/>
              <a:ext cx="957240" cy="576720"/>
              <a:chOff x="8001000" y="3505320"/>
              <a:chExt cx="957240" cy="576720"/>
            </a:xfrm>
          </p:grpSpPr>
          <p:sp>
            <p:nvSpPr>
              <p:cNvPr id="281" name="Freeform 7"/>
              <p:cNvSpPr/>
              <p:nvPr/>
            </p:nvSpPr>
            <p:spPr>
              <a:xfrm>
                <a:off x="8309160" y="375480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120" h="119">
                    <a:moveTo>
                      <a:pt x="0" y="59"/>
                    </a:moveTo>
                    <a:lnTo>
                      <a:pt x="2" y="38"/>
                    </a:lnTo>
                    <a:lnTo>
                      <a:pt x="14" y="21"/>
                    </a:lnTo>
                    <a:lnTo>
                      <a:pt x="29" y="7"/>
                    </a:lnTo>
                    <a:lnTo>
                      <a:pt x="48" y="0"/>
                    </a:lnTo>
                    <a:lnTo>
                      <a:pt x="70" y="0"/>
                    </a:lnTo>
                    <a:lnTo>
                      <a:pt x="89" y="7"/>
                    </a:lnTo>
                    <a:lnTo>
                      <a:pt x="106" y="21"/>
                    </a:lnTo>
                    <a:lnTo>
                      <a:pt x="116" y="38"/>
                    </a:lnTo>
                    <a:lnTo>
                      <a:pt x="120" y="59"/>
                    </a:lnTo>
                    <a:lnTo>
                      <a:pt x="116" y="79"/>
                    </a:lnTo>
                    <a:lnTo>
                      <a:pt x="106" y="98"/>
                    </a:lnTo>
                    <a:lnTo>
                      <a:pt x="89" y="111"/>
                    </a:lnTo>
                    <a:lnTo>
                      <a:pt x="70" y="119"/>
                    </a:lnTo>
                    <a:lnTo>
                      <a:pt x="48" y="119"/>
                    </a:lnTo>
                    <a:lnTo>
                      <a:pt x="29" y="111"/>
                    </a:lnTo>
                    <a:lnTo>
                      <a:pt x="14" y="98"/>
                    </a:lnTo>
                    <a:lnTo>
                      <a:pt x="2"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Group 8"/>
              <p:cNvGrpSpPr/>
              <p:nvPr/>
            </p:nvGrpSpPr>
            <p:grpSpPr>
              <a:xfrm>
                <a:off x="8001000" y="3505320"/>
                <a:ext cx="957240" cy="576720"/>
                <a:chOff x="8001000" y="3505320"/>
                <a:chExt cx="957240" cy="576720"/>
              </a:xfrm>
            </p:grpSpPr>
            <p:sp>
              <p:nvSpPr>
                <p:cNvPr id="283" name="Freeform 9"/>
                <p:cNvSpPr/>
                <p:nvPr/>
              </p:nvSpPr>
              <p:spPr>
                <a:xfrm>
                  <a:off x="8688600" y="375480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121" h="119">
                      <a:moveTo>
                        <a:pt x="0" y="59"/>
                      </a:moveTo>
                      <a:lnTo>
                        <a:pt x="3" y="38"/>
                      </a:lnTo>
                      <a:lnTo>
                        <a:pt x="13" y="21"/>
                      </a:lnTo>
                      <a:lnTo>
                        <a:pt x="30" y="7"/>
                      </a:lnTo>
                      <a:lnTo>
                        <a:pt x="50" y="0"/>
                      </a:lnTo>
                      <a:lnTo>
                        <a:pt x="71" y="0"/>
                      </a:lnTo>
                      <a:lnTo>
                        <a:pt x="90" y="7"/>
                      </a:lnTo>
                      <a:lnTo>
                        <a:pt x="105" y="21"/>
                      </a:lnTo>
                      <a:lnTo>
                        <a:pt x="117" y="38"/>
                      </a:lnTo>
                      <a:lnTo>
                        <a:pt x="121" y="59"/>
                      </a:lnTo>
                      <a:lnTo>
                        <a:pt x="117" y="79"/>
                      </a:lnTo>
                      <a:lnTo>
                        <a:pt x="105" y="98"/>
                      </a:lnTo>
                      <a:lnTo>
                        <a:pt x="90" y="111"/>
                      </a:lnTo>
                      <a:lnTo>
                        <a:pt x="71" y="119"/>
                      </a:lnTo>
                      <a:lnTo>
                        <a:pt x="50" y="119"/>
                      </a:lnTo>
                      <a:lnTo>
                        <a:pt x="30" y="111"/>
                      </a:lnTo>
                      <a:lnTo>
                        <a:pt x="13" y="98"/>
                      </a:lnTo>
                      <a:lnTo>
                        <a:pt x="3"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 name="Group 10"/>
                <p:cNvGrpSpPr/>
                <p:nvPr/>
              </p:nvGrpSpPr>
              <p:grpSpPr>
                <a:xfrm>
                  <a:off x="8001000" y="3505320"/>
                  <a:ext cx="957240" cy="576720"/>
                  <a:chOff x="8001000" y="3505320"/>
                  <a:chExt cx="957240" cy="576720"/>
                </a:xfrm>
              </p:grpSpPr>
              <p:sp>
                <p:nvSpPr>
                  <p:cNvPr id="285" name="Freeform 11"/>
                  <p:cNvSpPr/>
                  <p:nvPr/>
                </p:nvSpPr>
                <p:spPr>
                  <a:xfrm>
                    <a:off x="8793360" y="375480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120" h="119">
                        <a:moveTo>
                          <a:pt x="0" y="59"/>
                        </a:moveTo>
                        <a:lnTo>
                          <a:pt x="4" y="38"/>
                        </a:lnTo>
                        <a:lnTo>
                          <a:pt x="14" y="21"/>
                        </a:lnTo>
                        <a:lnTo>
                          <a:pt x="29" y="7"/>
                        </a:lnTo>
                        <a:lnTo>
                          <a:pt x="50" y="0"/>
                        </a:lnTo>
                        <a:lnTo>
                          <a:pt x="70" y="0"/>
                        </a:lnTo>
                        <a:lnTo>
                          <a:pt x="91" y="7"/>
                        </a:lnTo>
                        <a:lnTo>
                          <a:pt x="106" y="21"/>
                        </a:lnTo>
                        <a:lnTo>
                          <a:pt x="116" y="38"/>
                        </a:lnTo>
                        <a:lnTo>
                          <a:pt x="120" y="59"/>
                        </a:lnTo>
                        <a:lnTo>
                          <a:pt x="116" y="79"/>
                        </a:lnTo>
                        <a:lnTo>
                          <a:pt x="106" y="98"/>
                        </a:lnTo>
                        <a:lnTo>
                          <a:pt x="91" y="111"/>
                        </a:lnTo>
                        <a:lnTo>
                          <a:pt x="70" y="119"/>
                        </a:lnTo>
                        <a:lnTo>
                          <a:pt x="50" y="119"/>
                        </a:lnTo>
                        <a:lnTo>
                          <a:pt x="29" y="111"/>
                        </a:lnTo>
                        <a:lnTo>
                          <a:pt x="14"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 name="Group 12"/>
                  <p:cNvGrpSpPr/>
                  <p:nvPr/>
                </p:nvGrpSpPr>
                <p:grpSpPr>
                  <a:xfrm>
                    <a:off x="8001000" y="3505320"/>
                    <a:ext cx="957240" cy="576720"/>
                    <a:chOff x="8001000" y="3505320"/>
                    <a:chExt cx="957240" cy="576720"/>
                  </a:xfrm>
                </p:grpSpPr>
                <p:sp>
                  <p:nvSpPr>
                    <p:cNvPr id="287" name="Freeform 13"/>
                    <p:cNvSpPr/>
                    <p:nvPr/>
                  </p:nvSpPr>
                  <p:spPr>
                    <a:xfrm>
                      <a:off x="8051760" y="3754800"/>
                      <a:ext cx="93600" cy="95040"/>
                    </a:xfrm>
                    <a:custGeom>
                      <a:avLst/>
                      <a:gdLst>
                        <a:gd name="textAreaLeft" fmla="*/ 0 w 93600"/>
                        <a:gd name="textAreaRight" fmla="*/ 93960 w 93600"/>
                        <a:gd name="textAreaTop" fmla="*/ 0 h 95040"/>
                        <a:gd name="textAreaBottom" fmla="*/ 95400 h 95040"/>
                      </a:gdLst>
                      <a:ahLst/>
                      <a:rect l="textAreaLeft" t="textAreaTop" r="textAreaRight" b="textAreaBottom"/>
                      <a:pathLst>
                        <a:path w="119" h="119">
                          <a:moveTo>
                            <a:pt x="0" y="59"/>
                          </a:moveTo>
                          <a:lnTo>
                            <a:pt x="4" y="38"/>
                          </a:lnTo>
                          <a:lnTo>
                            <a:pt x="14" y="21"/>
                          </a:lnTo>
                          <a:lnTo>
                            <a:pt x="29" y="7"/>
                          </a:lnTo>
                          <a:lnTo>
                            <a:pt x="50" y="0"/>
                          </a:lnTo>
                          <a:lnTo>
                            <a:pt x="69" y="0"/>
                          </a:lnTo>
                          <a:lnTo>
                            <a:pt x="91" y="7"/>
                          </a:lnTo>
                          <a:lnTo>
                            <a:pt x="106" y="21"/>
                          </a:lnTo>
                          <a:lnTo>
                            <a:pt x="116" y="38"/>
                          </a:lnTo>
                          <a:lnTo>
                            <a:pt x="119" y="59"/>
                          </a:lnTo>
                          <a:lnTo>
                            <a:pt x="116" y="79"/>
                          </a:lnTo>
                          <a:lnTo>
                            <a:pt x="106" y="98"/>
                          </a:lnTo>
                          <a:lnTo>
                            <a:pt x="91" y="111"/>
                          </a:lnTo>
                          <a:lnTo>
                            <a:pt x="69" y="119"/>
                          </a:lnTo>
                          <a:lnTo>
                            <a:pt x="50" y="119"/>
                          </a:lnTo>
                          <a:lnTo>
                            <a:pt x="29" y="111"/>
                          </a:lnTo>
                          <a:lnTo>
                            <a:pt x="14"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 name="Group 14"/>
                    <p:cNvGrpSpPr/>
                    <p:nvPr/>
                  </p:nvGrpSpPr>
                  <p:grpSpPr>
                    <a:xfrm>
                      <a:off x="8001000" y="3505320"/>
                      <a:ext cx="957240" cy="576720"/>
                      <a:chOff x="8001000" y="3505320"/>
                      <a:chExt cx="957240" cy="576720"/>
                    </a:xfrm>
                  </p:grpSpPr>
                  <p:grpSp>
                    <p:nvGrpSpPr>
                      <p:cNvPr id="289" name="Group 15"/>
                      <p:cNvGrpSpPr/>
                      <p:nvPr/>
                    </p:nvGrpSpPr>
                    <p:grpSpPr>
                      <a:xfrm>
                        <a:off x="8001000" y="3505320"/>
                        <a:ext cx="916200" cy="304920"/>
                        <a:chOff x="8001000" y="3505320"/>
                        <a:chExt cx="916200" cy="304920"/>
                      </a:xfrm>
                    </p:grpSpPr>
                    <p:sp>
                      <p:nvSpPr>
                        <p:cNvPr id="290" name="Rectangle 16"/>
                        <p:cNvSpPr/>
                        <p:nvPr/>
                      </p:nvSpPr>
                      <p:spPr>
                        <a:xfrm>
                          <a:off x="8280360" y="3792600"/>
                          <a:ext cx="228600" cy="17640"/>
                        </a:xfrm>
                        <a:prstGeom prst="rect">
                          <a:avLst/>
                        </a:prstGeom>
                        <a:solidFill>
                          <a:srgbClr val="ff9900"/>
                        </a:solidFill>
                        <a:ln w="3240">
                          <a:solidFill>
                            <a:srgbClr val="000000"/>
                          </a:solidFill>
                          <a:miter/>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Freeform 17"/>
                        <p:cNvSpPr/>
                        <p:nvPr/>
                      </p:nvSpPr>
                      <p:spPr>
                        <a:xfrm>
                          <a:off x="8001000" y="359100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352" h="277">
                              <a:moveTo>
                                <a:pt x="352" y="277"/>
                              </a:moveTo>
                              <a:lnTo>
                                <a:pt x="0" y="277"/>
                              </a:lnTo>
                              <a:lnTo>
                                <a:pt x="0" y="111"/>
                              </a:lnTo>
                              <a:lnTo>
                                <a:pt x="136" y="111"/>
                              </a:lnTo>
                              <a:lnTo>
                                <a:pt x="194" y="0"/>
                              </a:lnTo>
                              <a:lnTo>
                                <a:pt x="352" y="0"/>
                              </a:lnTo>
                              <a:lnTo>
                                <a:pt x="352" y="277"/>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Rectangle 18"/>
                        <p:cNvSpPr/>
                        <p:nvPr/>
                      </p:nvSpPr>
                      <p:spPr>
                        <a:xfrm>
                          <a:off x="8302680" y="3505320"/>
                          <a:ext cx="614520" cy="246240"/>
                        </a:xfrm>
                        <a:prstGeom prst="rect">
                          <a:avLst/>
                        </a:prstGeom>
                        <a:solidFill>
                          <a:srgbClr val="ff99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3" name="Rectangle 19"/>
                      <p:cNvSpPr/>
                      <p:nvPr/>
                    </p:nvSpPr>
                    <p:spPr>
                      <a:xfrm>
                        <a:off x="8105760" y="3899160"/>
                        <a:ext cx="852480" cy="182880"/>
                      </a:xfrm>
                      <a:prstGeom prst="rect">
                        <a:avLst/>
                      </a:prstGeom>
                      <a:solidFill>
                        <a:srgbClr val="ff33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M Supplier</a:t>
                        </a:r>
                        <a:endParaRPr b="0" lang="en-US" sz="1200" spc="-1" strike="noStrike">
                          <a:solidFill>
                            <a:srgbClr val="000000"/>
                          </a:solidFill>
                          <a:latin typeface="Times New Roman"/>
                        </a:endParaRPr>
                      </a:p>
                    </p:txBody>
                  </p:sp>
                </p:grpSp>
              </p:grpSp>
            </p:grpSp>
          </p:grpSp>
        </p:grpSp>
      </p:grpSp>
      <p:grpSp>
        <p:nvGrpSpPr>
          <p:cNvPr id="294" name="Group 20"/>
          <p:cNvGrpSpPr/>
          <p:nvPr/>
        </p:nvGrpSpPr>
        <p:grpSpPr>
          <a:xfrm>
            <a:off x="2895480" y="3200400"/>
            <a:ext cx="1490400" cy="1026000"/>
            <a:chOff x="2895480" y="3200400"/>
            <a:chExt cx="1490400" cy="1026000"/>
          </a:xfrm>
        </p:grpSpPr>
        <p:sp>
          <p:nvSpPr>
            <p:cNvPr id="295" name="Rectangle 21"/>
            <p:cNvSpPr/>
            <p:nvPr/>
          </p:nvSpPr>
          <p:spPr>
            <a:xfrm>
              <a:off x="2928240" y="3200400"/>
              <a:ext cx="1457640" cy="487080"/>
            </a:xfrm>
            <a:prstGeom prst="rect">
              <a:avLst/>
            </a:prstGeom>
            <a:solidFill>
              <a:srgbClr val="ff9900"/>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ufactur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mpany</a:t>
              </a:r>
              <a:endParaRPr b="0" lang="en-US" sz="1600" spc="-1" strike="noStrike">
                <a:solidFill>
                  <a:srgbClr val="000000"/>
                </a:solidFill>
                <a:latin typeface="Times New Roman"/>
              </a:endParaRPr>
            </a:p>
          </p:txBody>
        </p:sp>
        <p:grpSp>
          <p:nvGrpSpPr>
            <p:cNvPr id="296" name="Group 22"/>
            <p:cNvGrpSpPr/>
            <p:nvPr/>
          </p:nvGrpSpPr>
          <p:grpSpPr>
            <a:xfrm>
              <a:off x="2895480" y="3658680"/>
              <a:ext cx="756360" cy="567720"/>
              <a:chOff x="2895480" y="3658680"/>
              <a:chExt cx="756360" cy="567720"/>
            </a:xfrm>
          </p:grpSpPr>
          <p:sp>
            <p:nvSpPr>
              <p:cNvPr id="297" name="Rectangle 23"/>
              <p:cNvSpPr/>
              <p:nvPr/>
            </p:nvSpPr>
            <p:spPr>
              <a:xfrm>
                <a:off x="3313080" y="3800160"/>
                <a:ext cx="127080" cy="142200"/>
              </a:xfrm>
              <a:prstGeom prst="rect">
                <a:avLst/>
              </a:prstGeom>
              <a:solidFill>
                <a:srgbClr val="ff99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Freeform 24"/>
              <p:cNvSpPr/>
              <p:nvPr/>
            </p:nvSpPr>
            <p:spPr>
              <a:xfrm>
                <a:off x="3346560" y="3816000"/>
                <a:ext cx="21240" cy="24840"/>
              </a:xfrm>
              <a:custGeom>
                <a:avLst/>
                <a:gdLst>
                  <a:gd name="textAreaLeft" fmla="*/ 0 w 21240"/>
                  <a:gd name="textAreaRight" fmla="*/ 21600 w 21240"/>
                  <a:gd name="textAreaTop" fmla="*/ 0 h 24840"/>
                  <a:gd name="textAreaBottom" fmla="*/ 25200 h 24840"/>
                </a:gdLst>
                <a:ahLst/>
                <a:rect l="textAreaLeft" t="textAreaTop" r="textAreaRight" b="textAreaBottom"/>
                <a:pathLst>
                  <a:path w="17" h="19">
                    <a:moveTo>
                      <a:pt x="0" y="10"/>
                    </a:moveTo>
                    <a:lnTo>
                      <a:pt x="2" y="5"/>
                    </a:lnTo>
                    <a:lnTo>
                      <a:pt x="6" y="0"/>
                    </a:lnTo>
                    <a:lnTo>
                      <a:pt x="12" y="0"/>
                    </a:lnTo>
                    <a:lnTo>
                      <a:pt x="16" y="5"/>
                    </a:lnTo>
                    <a:lnTo>
                      <a:pt x="17" y="10"/>
                    </a:lnTo>
                    <a:lnTo>
                      <a:pt x="16" y="16"/>
                    </a:lnTo>
                    <a:lnTo>
                      <a:pt x="12" y="19"/>
                    </a:lnTo>
                    <a:lnTo>
                      <a:pt x="6" y="19"/>
                    </a:lnTo>
                    <a:lnTo>
                      <a:pt x="2" y="16"/>
                    </a:lnTo>
                    <a:lnTo>
                      <a:pt x="0" y="10"/>
                    </a:lnTo>
                    <a:close/>
                  </a:path>
                </a:pathLst>
              </a:custGeom>
              <a:solidFill>
                <a:srgbClr val="ff990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9" name="Freeform 25"/>
              <p:cNvSpPr/>
              <p:nvPr/>
            </p:nvSpPr>
            <p:spPr>
              <a:xfrm>
                <a:off x="3346560" y="3854520"/>
                <a:ext cx="21240" cy="22320"/>
              </a:xfrm>
              <a:custGeom>
                <a:avLst/>
                <a:gdLst>
                  <a:gd name="textAreaLeft" fmla="*/ 0 w 21240"/>
                  <a:gd name="textAreaRight" fmla="*/ 21600 w 21240"/>
                  <a:gd name="textAreaTop" fmla="*/ 0 h 22320"/>
                  <a:gd name="textAreaBottom" fmla="*/ 22680 h 22320"/>
                </a:gdLst>
                <a:ahLst/>
                <a:rect l="textAreaLeft" t="textAreaTop" r="textAreaRight" b="textAreaBottom"/>
                <a:pathLst>
                  <a:path w="17" h="18">
                    <a:moveTo>
                      <a:pt x="0" y="10"/>
                    </a:moveTo>
                    <a:lnTo>
                      <a:pt x="2" y="4"/>
                    </a:lnTo>
                    <a:lnTo>
                      <a:pt x="6" y="0"/>
                    </a:lnTo>
                    <a:lnTo>
                      <a:pt x="12" y="0"/>
                    </a:lnTo>
                    <a:lnTo>
                      <a:pt x="16" y="4"/>
                    </a:lnTo>
                    <a:lnTo>
                      <a:pt x="17" y="10"/>
                    </a:lnTo>
                    <a:lnTo>
                      <a:pt x="16" y="14"/>
                    </a:lnTo>
                    <a:lnTo>
                      <a:pt x="12" y="18"/>
                    </a:lnTo>
                    <a:lnTo>
                      <a:pt x="6" y="18"/>
                    </a:lnTo>
                    <a:lnTo>
                      <a:pt x="2" y="14"/>
                    </a:lnTo>
                    <a:lnTo>
                      <a:pt x="0" y="10"/>
                    </a:lnTo>
                    <a:close/>
                  </a:path>
                </a:pathLst>
              </a:custGeom>
              <a:solidFill>
                <a:srgbClr val="ff9900"/>
              </a:solidFill>
              <a:ln w="14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0" name="Freeform 26"/>
              <p:cNvSpPr/>
              <p:nvPr/>
            </p:nvSpPr>
            <p:spPr>
              <a:xfrm>
                <a:off x="3201120" y="3942360"/>
                <a:ext cx="64440" cy="69840"/>
              </a:xfrm>
              <a:custGeom>
                <a:avLst/>
                <a:gdLst>
                  <a:gd name="textAreaLeft" fmla="*/ 0 w 64440"/>
                  <a:gd name="textAreaRight" fmla="*/ 64800 w 64440"/>
                  <a:gd name="textAreaTop" fmla="*/ 0 h 69840"/>
                  <a:gd name="textAreaBottom" fmla="*/ 70200 h 69840"/>
                </a:gdLst>
                <a:ahLst/>
                <a:rect l="textAreaLeft" t="textAreaTop" r="textAreaRight" b="textAreaBottom"/>
                <a:pathLst>
                  <a:path w="48" h="53">
                    <a:moveTo>
                      <a:pt x="0" y="26"/>
                    </a:moveTo>
                    <a:lnTo>
                      <a:pt x="3" y="15"/>
                    </a:lnTo>
                    <a:lnTo>
                      <a:pt x="9" y="6"/>
                    </a:lnTo>
                    <a:lnTo>
                      <a:pt x="19" y="0"/>
                    </a:lnTo>
                    <a:lnTo>
                      <a:pt x="29" y="0"/>
                    </a:lnTo>
                    <a:lnTo>
                      <a:pt x="39" y="6"/>
                    </a:lnTo>
                    <a:lnTo>
                      <a:pt x="46" y="15"/>
                    </a:lnTo>
                    <a:lnTo>
                      <a:pt x="48" y="26"/>
                    </a:lnTo>
                    <a:lnTo>
                      <a:pt x="46" y="39"/>
                    </a:lnTo>
                    <a:lnTo>
                      <a:pt x="39" y="48"/>
                    </a:lnTo>
                    <a:lnTo>
                      <a:pt x="29" y="53"/>
                    </a:lnTo>
                    <a:lnTo>
                      <a:pt x="19" y="53"/>
                    </a:lnTo>
                    <a:lnTo>
                      <a:pt x="9" y="48"/>
                    </a:lnTo>
                    <a:lnTo>
                      <a:pt x="3" y="39"/>
                    </a:lnTo>
                    <a:lnTo>
                      <a:pt x="0" y="26"/>
                    </a:lnTo>
                    <a:close/>
                  </a:path>
                </a:pathLst>
              </a:custGeom>
              <a:solidFill>
                <a:srgbClr val="ff9900"/>
              </a:solid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1" name="Freeform 27"/>
              <p:cNvSpPr/>
              <p:nvPr/>
            </p:nvSpPr>
            <p:spPr>
              <a:xfrm>
                <a:off x="3584520" y="3942360"/>
                <a:ext cx="65880" cy="69840"/>
              </a:xfrm>
              <a:custGeom>
                <a:avLst/>
                <a:gdLst>
                  <a:gd name="textAreaLeft" fmla="*/ 0 w 65880"/>
                  <a:gd name="textAreaRight" fmla="*/ 66240 w 65880"/>
                  <a:gd name="textAreaTop" fmla="*/ 0 h 69840"/>
                  <a:gd name="textAreaBottom" fmla="*/ 70200 h 69840"/>
                </a:gdLst>
                <a:ahLst/>
                <a:rect l="textAreaLeft" t="textAreaTop" r="textAreaRight" b="textAreaBottom"/>
                <a:pathLst>
                  <a:path w="49" h="53">
                    <a:moveTo>
                      <a:pt x="0" y="26"/>
                    </a:moveTo>
                    <a:lnTo>
                      <a:pt x="3" y="15"/>
                    </a:lnTo>
                    <a:lnTo>
                      <a:pt x="10" y="6"/>
                    </a:lnTo>
                    <a:lnTo>
                      <a:pt x="19" y="0"/>
                    </a:lnTo>
                    <a:lnTo>
                      <a:pt x="30" y="0"/>
                    </a:lnTo>
                    <a:lnTo>
                      <a:pt x="39" y="6"/>
                    </a:lnTo>
                    <a:lnTo>
                      <a:pt x="46" y="15"/>
                    </a:lnTo>
                    <a:lnTo>
                      <a:pt x="49" y="26"/>
                    </a:lnTo>
                    <a:lnTo>
                      <a:pt x="46" y="39"/>
                    </a:lnTo>
                    <a:lnTo>
                      <a:pt x="39" y="48"/>
                    </a:lnTo>
                    <a:lnTo>
                      <a:pt x="30" y="53"/>
                    </a:lnTo>
                    <a:lnTo>
                      <a:pt x="19" y="53"/>
                    </a:lnTo>
                    <a:lnTo>
                      <a:pt x="10" y="48"/>
                    </a:lnTo>
                    <a:lnTo>
                      <a:pt x="3" y="39"/>
                    </a:lnTo>
                    <a:lnTo>
                      <a:pt x="0" y="26"/>
                    </a:lnTo>
                    <a:close/>
                  </a:path>
                </a:pathLst>
              </a:custGeom>
              <a:solidFill>
                <a:srgbClr val="ff9900"/>
              </a:solid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2" name="Line 28"/>
              <p:cNvSpPr/>
              <p:nvPr/>
            </p:nvSpPr>
            <p:spPr>
              <a:xfrm>
                <a:off x="3234240" y="3942360"/>
                <a:ext cx="40140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29"/>
              <p:cNvSpPr/>
              <p:nvPr/>
            </p:nvSpPr>
            <p:spPr>
              <a:xfrm>
                <a:off x="3234240" y="4012560"/>
                <a:ext cx="40140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Rectangle 30"/>
              <p:cNvSpPr/>
              <p:nvPr/>
            </p:nvSpPr>
            <p:spPr>
              <a:xfrm>
                <a:off x="3217680" y="3958200"/>
                <a:ext cx="31320" cy="268200"/>
              </a:xfrm>
              <a:prstGeom prst="rect">
                <a:avLst/>
              </a:prstGeom>
              <a:solidFill>
                <a:srgbClr val="ff99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Freeform 31"/>
              <p:cNvSpPr/>
              <p:nvPr/>
            </p:nvSpPr>
            <p:spPr>
              <a:xfrm>
                <a:off x="3207600" y="3967560"/>
                <a:ext cx="14760" cy="17640"/>
              </a:xfrm>
              <a:custGeom>
                <a:avLst/>
                <a:gdLst>
                  <a:gd name="textAreaLeft" fmla="*/ 0 w 14760"/>
                  <a:gd name="textAreaRight" fmla="*/ 15120 w 14760"/>
                  <a:gd name="textAreaTop" fmla="*/ 0 h 17640"/>
                  <a:gd name="textAreaBottom" fmla="*/ 18000 h 17640"/>
                </a:gdLst>
                <a:ahLst/>
                <a:rect l="textAreaLeft" t="textAreaTop" r="textAreaRight" b="textAreaBottom"/>
                <a:pathLst>
                  <a:path w="11" h="13">
                    <a:moveTo>
                      <a:pt x="0" y="6"/>
                    </a:moveTo>
                    <a:lnTo>
                      <a:pt x="1" y="2"/>
                    </a:lnTo>
                    <a:lnTo>
                      <a:pt x="6" y="0"/>
                    </a:lnTo>
                    <a:lnTo>
                      <a:pt x="10" y="2"/>
                    </a:lnTo>
                    <a:lnTo>
                      <a:pt x="11" y="6"/>
                    </a:lnTo>
                    <a:lnTo>
                      <a:pt x="10" y="12"/>
                    </a:lnTo>
                    <a:lnTo>
                      <a:pt x="6" y="13"/>
                    </a:lnTo>
                    <a:lnTo>
                      <a:pt x="1" y="12"/>
                    </a:lnTo>
                    <a:lnTo>
                      <a:pt x="0" y="6"/>
                    </a:lnTo>
                    <a:close/>
                  </a:path>
                </a:pathLst>
              </a:custGeom>
              <a:solidFill>
                <a:srgbClr val="ff9900"/>
              </a:solid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6" name="Rectangle 32"/>
              <p:cNvSpPr/>
              <p:nvPr/>
            </p:nvSpPr>
            <p:spPr>
              <a:xfrm>
                <a:off x="3620880" y="3958200"/>
                <a:ext cx="30960" cy="268200"/>
              </a:xfrm>
              <a:prstGeom prst="rect">
                <a:avLst/>
              </a:prstGeom>
              <a:solidFill>
                <a:srgbClr val="ff99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Freeform 33"/>
              <p:cNvSpPr/>
              <p:nvPr/>
            </p:nvSpPr>
            <p:spPr>
              <a:xfrm>
                <a:off x="3629160" y="3967560"/>
                <a:ext cx="14400" cy="17640"/>
              </a:xfrm>
              <a:custGeom>
                <a:avLst/>
                <a:gdLst>
                  <a:gd name="textAreaLeft" fmla="*/ 0 w 14400"/>
                  <a:gd name="textAreaRight" fmla="*/ 14760 w 14400"/>
                  <a:gd name="textAreaTop" fmla="*/ 0 h 17640"/>
                  <a:gd name="textAreaBottom" fmla="*/ 18000 h 17640"/>
                </a:gdLst>
                <a:ahLst/>
                <a:rect l="textAreaLeft" t="textAreaTop" r="textAreaRight" b="textAreaBottom"/>
                <a:pathLst>
                  <a:path w="11" h="13">
                    <a:moveTo>
                      <a:pt x="0" y="6"/>
                    </a:moveTo>
                    <a:lnTo>
                      <a:pt x="1" y="2"/>
                    </a:lnTo>
                    <a:lnTo>
                      <a:pt x="5" y="0"/>
                    </a:lnTo>
                    <a:lnTo>
                      <a:pt x="10" y="2"/>
                    </a:lnTo>
                    <a:lnTo>
                      <a:pt x="11" y="6"/>
                    </a:lnTo>
                    <a:lnTo>
                      <a:pt x="10" y="12"/>
                    </a:lnTo>
                    <a:lnTo>
                      <a:pt x="5" y="13"/>
                    </a:lnTo>
                    <a:lnTo>
                      <a:pt x="1" y="12"/>
                    </a:lnTo>
                    <a:lnTo>
                      <a:pt x="0" y="6"/>
                    </a:lnTo>
                    <a:close/>
                  </a:path>
                </a:pathLst>
              </a:custGeom>
              <a:solidFill>
                <a:srgbClr val="ff9900"/>
              </a:solid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8" name="Freeform 34"/>
              <p:cNvSpPr/>
              <p:nvPr/>
            </p:nvSpPr>
            <p:spPr>
              <a:xfrm>
                <a:off x="3019320" y="3658680"/>
                <a:ext cx="111960" cy="119160"/>
              </a:xfrm>
              <a:custGeom>
                <a:avLst/>
                <a:gdLst>
                  <a:gd name="textAreaLeft" fmla="*/ 0 w 111960"/>
                  <a:gd name="textAreaRight" fmla="*/ 112320 w 111960"/>
                  <a:gd name="textAreaTop" fmla="*/ 0 h 119160"/>
                  <a:gd name="textAreaBottom" fmla="*/ 119520 h 119160"/>
                </a:gdLst>
                <a:ahLst/>
                <a:rect l="textAreaLeft" t="textAreaTop" r="textAreaRight" b="textAreaBottom"/>
                <a:pathLst>
                  <a:path w="83" h="92">
                    <a:moveTo>
                      <a:pt x="83" y="46"/>
                    </a:moveTo>
                    <a:lnTo>
                      <a:pt x="80" y="31"/>
                    </a:lnTo>
                    <a:lnTo>
                      <a:pt x="73" y="16"/>
                    </a:lnTo>
                    <a:lnTo>
                      <a:pt x="62" y="6"/>
                    </a:lnTo>
                    <a:lnTo>
                      <a:pt x="49" y="0"/>
                    </a:lnTo>
                    <a:lnTo>
                      <a:pt x="34" y="0"/>
                    </a:lnTo>
                    <a:lnTo>
                      <a:pt x="21" y="6"/>
                    </a:lnTo>
                    <a:lnTo>
                      <a:pt x="10" y="16"/>
                    </a:lnTo>
                    <a:lnTo>
                      <a:pt x="2" y="31"/>
                    </a:lnTo>
                    <a:lnTo>
                      <a:pt x="0" y="46"/>
                    </a:lnTo>
                    <a:lnTo>
                      <a:pt x="2" y="62"/>
                    </a:lnTo>
                    <a:lnTo>
                      <a:pt x="10" y="77"/>
                    </a:lnTo>
                    <a:lnTo>
                      <a:pt x="21" y="87"/>
                    </a:lnTo>
                    <a:lnTo>
                      <a:pt x="34" y="92"/>
                    </a:lnTo>
                    <a:lnTo>
                      <a:pt x="49" y="92"/>
                    </a:lnTo>
                    <a:lnTo>
                      <a:pt x="62" y="87"/>
                    </a:lnTo>
                    <a:lnTo>
                      <a:pt x="73" y="77"/>
                    </a:lnTo>
                    <a:lnTo>
                      <a:pt x="80" y="62"/>
                    </a:lnTo>
                    <a:lnTo>
                      <a:pt x="83" y="46"/>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Freeform 35"/>
              <p:cNvSpPr/>
              <p:nvPr/>
            </p:nvSpPr>
            <p:spPr>
              <a:xfrm>
                <a:off x="2895480" y="3958200"/>
                <a:ext cx="110520" cy="268200"/>
              </a:xfrm>
              <a:custGeom>
                <a:avLst/>
                <a:gdLst>
                  <a:gd name="textAreaLeft" fmla="*/ 0 w 110520"/>
                  <a:gd name="textAreaRight" fmla="*/ 110880 w 110520"/>
                  <a:gd name="textAreaTop" fmla="*/ 0 h 268200"/>
                  <a:gd name="textAreaBottom" fmla="*/ 268560 h 268200"/>
                </a:gdLst>
                <a:ahLst/>
                <a:rect l="textAreaLeft" t="textAreaTop" r="textAreaRight" b="textAreaBottom"/>
                <a:pathLst>
                  <a:path w="82" h="203">
                    <a:moveTo>
                      <a:pt x="82" y="98"/>
                    </a:moveTo>
                    <a:lnTo>
                      <a:pt x="41" y="203"/>
                    </a:lnTo>
                    <a:lnTo>
                      <a:pt x="0" y="203"/>
                    </a:lnTo>
                    <a:lnTo>
                      <a:pt x="41" y="75"/>
                    </a:lnTo>
                    <a:lnTo>
                      <a:pt x="41" y="0"/>
                    </a:lnTo>
                    <a:lnTo>
                      <a:pt x="82" y="98"/>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Freeform 36"/>
              <p:cNvSpPr/>
              <p:nvPr/>
            </p:nvSpPr>
            <p:spPr>
              <a:xfrm>
                <a:off x="2931480" y="3768840"/>
                <a:ext cx="287280" cy="457560"/>
              </a:xfrm>
              <a:custGeom>
                <a:avLst/>
                <a:gdLst>
                  <a:gd name="textAreaLeft" fmla="*/ 0 w 287280"/>
                  <a:gd name="textAreaRight" fmla="*/ 287640 w 287280"/>
                  <a:gd name="textAreaTop" fmla="*/ 0 h 457560"/>
                  <a:gd name="textAreaBottom" fmla="*/ 457920 h 457560"/>
                </a:gdLst>
                <a:ahLst/>
                <a:rect l="textAreaLeft" t="textAreaTop" r="textAreaRight" b="textAreaBottom"/>
                <a:pathLst>
                  <a:path w="214" h="347">
                    <a:moveTo>
                      <a:pt x="29" y="0"/>
                    </a:moveTo>
                    <a:lnTo>
                      <a:pt x="0" y="144"/>
                    </a:lnTo>
                    <a:lnTo>
                      <a:pt x="80" y="347"/>
                    </a:lnTo>
                    <a:lnTo>
                      <a:pt x="131" y="347"/>
                    </a:lnTo>
                    <a:lnTo>
                      <a:pt x="72" y="161"/>
                    </a:lnTo>
                    <a:lnTo>
                      <a:pt x="98" y="65"/>
                    </a:lnTo>
                    <a:lnTo>
                      <a:pt x="203" y="100"/>
                    </a:lnTo>
                    <a:lnTo>
                      <a:pt x="214" y="59"/>
                    </a:lnTo>
                    <a:lnTo>
                      <a:pt x="29" y="0"/>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Freeform 37"/>
              <p:cNvSpPr/>
              <p:nvPr/>
            </p:nvSpPr>
            <p:spPr>
              <a:xfrm>
                <a:off x="3206160" y="3818520"/>
                <a:ext cx="140400" cy="67320"/>
              </a:xfrm>
              <a:custGeom>
                <a:avLst/>
                <a:gdLst>
                  <a:gd name="textAreaLeft" fmla="*/ 0 w 140400"/>
                  <a:gd name="textAreaRight" fmla="*/ 140760 w 140400"/>
                  <a:gd name="textAreaTop" fmla="*/ 0 h 67320"/>
                  <a:gd name="textAreaBottom" fmla="*/ 67680 h 67320"/>
                </a:gdLst>
                <a:ahLst/>
                <a:rect l="textAreaLeft" t="textAreaTop" r="textAreaRight" b="textAreaBottom"/>
                <a:pathLst>
                  <a:path w="104" h="50">
                    <a:moveTo>
                      <a:pt x="100" y="7"/>
                    </a:moveTo>
                    <a:lnTo>
                      <a:pt x="88" y="10"/>
                    </a:lnTo>
                    <a:lnTo>
                      <a:pt x="87" y="17"/>
                    </a:lnTo>
                    <a:lnTo>
                      <a:pt x="88" y="24"/>
                    </a:lnTo>
                    <a:lnTo>
                      <a:pt x="94" y="28"/>
                    </a:lnTo>
                    <a:lnTo>
                      <a:pt x="104" y="26"/>
                    </a:lnTo>
                    <a:lnTo>
                      <a:pt x="103" y="34"/>
                    </a:lnTo>
                    <a:lnTo>
                      <a:pt x="96" y="39"/>
                    </a:lnTo>
                    <a:lnTo>
                      <a:pt x="87" y="37"/>
                    </a:lnTo>
                    <a:lnTo>
                      <a:pt x="81" y="31"/>
                    </a:lnTo>
                    <a:lnTo>
                      <a:pt x="12" y="50"/>
                    </a:lnTo>
                    <a:lnTo>
                      <a:pt x="6" y="50"/>
                    </a:lnTo>
                    <a:lnTo>
                      <a:pt x="2" y="46"/>
                    </a:lnTo>
                    <a:lnTo>
                      <a:pt x="0" y="40"/>
                    </a:lnTo>
                    <a:lnTo>
                      <a:pt x="2" y="34"/>
                    </a:lnTo>
                    <a:lnTo>
                      <a:pt x="6" y="31"/>
                    </a:lnTo>
                    <a:lnTo>
                      <a:pt x="75" y="13"/>
                    </a:lnTo>
                    <a:lnTo>
                      <a:pt x="77" y="5"/>
                    </a:lnTo>
                    <a:lnTo>
                      <a:pt x="83" y="1"/>
                    </a:lnTo>
                    <a:lnTo>
                      <a:pt x="88" y="0"/>
                    </a:lnTo>
                    <a:lnTo>
                      <a:pt x="96" y="1"/>
                    </a:lnTo>
                    <a:lnTo>
                      <a:pt x="100" y="7"/>
                    </a:lnTo>
                    <a:close/>
                  </a:path>
                </a:pathLst>
              </a:custGeom>
              <a:solidFill>
                <a:srgbClr val="ff9900"/>
              </a:solidFill>
              <a:ln w="14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grpSp>
        <p:nvGrpSpPr>
          <p:cNvPr id="312" name="Group 38"/>
          <p:cNvGrpSpPr/>
          <p:nvPr/>
        </p:nvGrpSpPr>
        <p:grpSpPr>
          <a:xfrm>
            <a:off x="1275840" y="4495680"/>
            <a:ext cx="1244160" cy="669960"/>
            <a:chOff x="1275840" y="4495680"/>
            <a:chExt cx="1244160" cy="669960"/>
          </a:xfrm>
        </p:grpSpPr>
        <p:grpSp>
          <p:nvGrpSpPr>
            <p:cNvPr id="313" name="Group 39"/>
            <p:cNvGrpSpPr/>
            <p:nvPr/>
          </p:nvGrpSpPr>
          <p:grpSpPr>
            <a:xfrm>
              <a:off x="1766880" y="4495680"/>
              <a:ext cx="663480" cy="274680"/>
              <a:chOff x="1766880" y="4495680"/>
              <a:chExt cx="663480" cy="274680"/>
            </a:xfrm>
          </p:grpSpPr>
          <p:sp>
            <p:nvSpPr>
              <p:cNvPr id="314" name="Rectangle 40"/>
              <p:cNvSpPr/>
              <p:nvPr/>
            </p:nvSpPr>
            <p:spPr>
              <a:xfrm>
                <a:off x="1965240" y="4724280"/>
                <a:ext cx="163440" cy="14040"/>
              </a:xfrm>
              <a:prstGeom prst="rect">
                <a:avLst/>
              </a:prstGeom>
              <a:solidFill>
                <a:srgbClr val="ff9900"/>
              </a:solidFill>
              <a:ln w="3240">
                <a:solidFill>
                  <a:srgbClr val="000000"/>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Freeform 41"/>
              <p:cNvSpPr/>
              <p:nvPr/>
            </p:nvSpPr>
            <p:spPr>
              <a:xfrm>
                <a:off x="1766880" y="4563720"/>
                <a:ext cx="198360" cy="174600"/>
              </a:xfrm>
              <a:custGeom>
                <a:avLst/>
                <a:gdLst>
                  <a:gd name="textAreaLeft" fmla="*/ 0 w 198360"/>
                  <a:gd name="textAreaRight" fmla="*/ 198720 w 198360"/>
                  <a:gd name="textAreaTop" fmla="*/ 0 h 174600"/>
                  <a:gd name="textAreaBottom" fmla="*/ 174960 h 174600"/>
                </a:gdLst>
                <a:ahLst/>
                <a:rect l="textAreaLeft" t="textAreaTop" r="textAreaRight" b="textAreaBottom"/>
                <a:pathLst>
                  <a:path w="352" h="277">
                    <a:moveTo>
                      <a:pt x="352" y="277"/>
                    </a:moveTo>
                    <a:lnTo>
                      <a:pt x="0" y="277"/>
                    </a:lnTo>
                    <a:lnTo>
                      <a:pt x="0" y="111"/>
                    </a:lnTo>
                    <a:lnTo>
                      <a:pt x="136" y="111"/>
                    </a:lnTo>
                    <a:lnTo>
                      <a:pt x="194" y="0"/>
                    </a:lnTo>
                    <a:lnTo>
                      <a:pt x="352" y="0"/>
                    </a:lnTo>
                    <a:lnTo>
                      <a:pt x="352" y="277"/>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Freeform 42"/>
              <p:cNvSpPr/>
              <p:nvPr/>
            </p:nvSpPr>
            <p:spPr>
              <a:xfrm>
                <a:off x="1803240" y="469404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119" h="119">
                    <a:moveTo>
                      <a:pt x="0" y="59"/>
                    </a:moveTo>
                    <a:lnTo>
                      <a:pt x="4" y="38"/>
                    </a:lnTo>
                    <a:lnTo>
                      <a:pt x="14" y="21"/>
                    </a:lnTo>
                    <a:lnTo>
                      <a:pt x="29" y="7"/>
                    </a:lnTo>
                    <a:lnTo>
                      <a:pt x="50" y="0"/>
                    </a:lnTo>
                    <a:lnTo>
                      <a:pt x="69" y="0"/>
                    </a:lnTo>
                    <a:lnTo>
                      <a:pt x="91" y="7"/>
                    </a:lnTo>
                    <a:lnTo>
                      <a:pt x="106" y="21"/>
                    </a:lnTo>
                    <a:lnTo>
                      <a:pt x="116" y="38"/>
                    </a:lnTo>
                    <a:lnTo>
                      <a:pt x="119" y="59"/>
                    </a:lnTo>
                    <a:lnTo>
                      <a:pt x="116" y="79"/>
                    </a:lnTo>
                    <a:lnTo>
                      <a:pt x="106" y="98"/>
                    </a:lnTo>
                    <a:lnTo>
                      <a:pt x="91" y="111"/>
                    </a:lnTo>
                    <a:lnTo>
                      <a:pt x="69" y="119"/>
                    </a:lnTo>
                    <a:lnTo>
                      <a:pt x="50" y="119"/>
                    </a:lnTo>
                    <a:lnTo>
                      <a:pt x="29" y="111"/>
                    </a:lnTo>
                    <a:lnTo>
                      <a:pt x="14"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17" name="Rectangle 43"/>
              <p:cNvSpPr/>
              <p:nvPr/>
            </p:nvSpPr>
            <p:spPr>
              <a:xfrm>
                <a:off x="1994040" y="4495680"/>
                <a:ext cx="436320" cy="196560"/>
              </a:xfrm>
              <a:prstGeom prst="rect">
                <a:avLst/>
              </a:prstGeom>
              <a:solidFill>
                <a:srgbClr val="ff99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44"/>
              <p:cNvSpPr/>
              <p:nvPr/>
            </p:nvSpPr>
            <p:spPr>
              <a:xfrm>
                <a:off x="1986120" y="4694040"/>
                <a:ext cx="68040" cy="76320"/>
              </a:xfrm>
              <a:custGeom>
                <a:avLst/>
                <a:gdLst>
                  <a:gd name="textAreaLeft" fmla="*/ 0 w 68040"/>
                  <a:gd name="textAreaRight" fmla="*/ 68400 w 68040"/>
                  <a:gd name="textAreaTop" fmla="*/ 0 h 76320"/>
                  <a:gd name="textAreaBottom" fmla="*/ 76680 h 76320"/>
                </a:gdLst>
                <a:ahLst/>
                <a:rect l="textAreaLeft" t="textAreaTop" r="textAreaRight" b="textAreaBottom"/>
                <a:pathLst>
                  <a:path w="120" h="119">
                    <a:moveTo>
                      <a:pt x="0" y="59"/>
                    </a:moveTo>
                    <a:lnTo>
                      <a:pt x="2" y="38"/>
                    </a:lnTo>
                    <a:lnTo>
                      <a:pt x="14" y="21"/>
                    </a:lnTo>
                    <a:lnTo>
                      <a:pt x="29" y="7"/>
                    </a:lnTo>
                    <a:lnTo>
                      <a:pt x="48" y="0"/>
                    </a:lnTo>
                    <a:lnTo>
                      <a:pt x="70" y="0"/>
                    </a:lnTo>
                    <a:lnTo>
                      <a:pt x="89" y="7"/>
                    </a:lnTo>
                    <a:lnTo>
                      <a:pt x="106" y="21"/>
                    </a:lnTo>
                    <a:lnTo>
                      <a:pt x="116" y="38"/>
                    </a:lnTo>
                    <a:lnTo>
                      <a:pt x="120" y="59"/>
                    </a:lnTo>
                    <a:lnTo>
                      <a:pt x="116" y="79"/>
                    </a:lnTo>
                    <a:lnTo>
                      <a:pt x="106" y="98"/>
                    </a:lnTo>
                    <a:lnTo>
                      <a:pt x="89" y="111"/>
                    </a:lnTo>
                    <a:lnTo>
                      <a:pt x="70" y="119"/>
                    </a:lnTo>
                    <a:lnTo>
                      <a:pt x="48" y="119"/>
                    </a:lnTo>
                    <a:lnTo>
                      <a:pt x="29" y="111"/>
                    </a:lnTo>
                    <a:lnTo>
                      <a:pt x="14" y="98"/>
                    </a:lnTo>
                    <a:lnTo>
                      <a:pt x="2"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19" name="Freeform 45"/>
              <p:cNvSpPr/>
              <p:nvPr/>
            </p:nvSpPr>
            <p:spPr>
              <a:xfrm>
                <a:off x="2060640" y="4694040"/>
                <a:ext cx="68040" cy="76320"/>
              </a:xfrm>
              <a:custGeom>
                <a:avLst/>
                <a:gdLst>
                  <a:gd name="textAreaLeft" fmla="*/ 0 w 68040"/>
                  <a:gd name="textAreaRight" fmla="*/ 68400 w 68040"/>
                  <a:gd name="textAreaTop" fmla="*/ 0 h 76320"/>
                  <a:gd name="textAreaBottom" fmla="*/ 76680 h 76320"/>
                </a:gdLst>
                <a:ahLst/>
                <a:rect l="textAreaLeft" t="textAreaTop" r="textAreaRight" b="textAreaBottom"/>
                <a:pathLst>
                  <a:path w="121" h="119">
                    <a:moveTo>
                      <a:pt x="0" y="59"/>
                    </a:moveTo>
                    <a:lnTo>
                      <a:pt x="4" y="38"/>
                    </a:lnTo>
                    <a:lnTo>
                      <a:pt x="16" y="21"/>
                    </a:lnTo>
                    <a:lnTo>
                      <a:pt x="31" y="7"/>
                    </a:lnTo>
                    <a:lnTo>
                      <a:pt x="50" y="0"/>
                    </a:lnTo>
                    <a:lnTo>
                      <a:pt x="71" y="0"/>
                    </a:lnTo>
                    <a:lnTo>
                      <a:pt x="91" y="7"/>
                    </a:lnTo>
                    <a:lnTo>
                      <a:pt x="108" y="21"/>
                    </a:lnTo>
                    <a:lnTo>
                      <a:pt x="118" y="38"/>
                    </a:lnTo>
                    <a:lnTo>
                      <a:pt x="121" y="59"/>
                    </a:lnTo>
                    <a:lnTo>
                      <a:pt x="118" y="79"/>
                    </a:lnTo>
                    <a:lnTo>
                      <a:pt x="108" y="98"/>
                    </a:lnTo>
                    <a:lnTo>
                      <a:pt x="91" y="111"/>
                    </a:lnTo>
                    <a:lnTo>
                      <a:pt x="71" y="119"/>
                    </a:lnTo>
                    <a:lnTo>
                      <a:pt x="50" y="119"/>
                    </a:lnTo>
                    <a:lnTo>
                      <a:pt x="31" y="111"/>
                    </a:lnTo>
                    <a:lnTo>
                      <a:pt x="16"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20" name="Freeform 46"/>
              <p:cNvSpPr/>
              <p:nvPr/>
            </p:nvSpPr>
            <p:spPr>
              <a:xfrm>
                <a:off x="2257560" y="469404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121" h="119">
                    <a:moveTo>
                      <a:pt x="0" y="59"/>
                    </a:moveTo>
                    <a:lnTo>
                      <a:pt x="3" y="38"/>
                    </a:lnTo>
                    <a:lnTo>
                      <a:pt x="13" y="21"/>
                    </a:lnTo>
                    <a:lnTo>
                      <a:pt x="30" y="7"/>
                    </a:lnTo>
                    <a:lnTo>
                      <a:pt x="50" y="0"/>
                    </a:lnTo>
                    <a:lnTo>
                      <a:pt x="71" y="0"/>
                    </a:lnTo>
                    <a:lnTo>
                      <a:pt x="90" y="7"/>
                    </a:lnTo>
                    <a:lnTo>
                      <a:pt x="105" y="21"/>
                    </a:lnTo>
                    <a:lnTo>
                      <a:pt x="117" y="38"/>
                    </a:lnTo>
                    <a:lnTo>
                      <a:pt x="121" y="59"/>
                    </a:lnTo>
                    <a:lnTo>
                      <a:pt x="117" y="79"/>
                    </a:lnTo>
                    <a:lnTo>
                      <a:pt x="105" y="98"/>
                    </a:lnTo>
                    <a:lnTo>
                      <a:pt x="90" y="111"/>
                    </a:lnTo>
                    <a:lnTo>
                      <a:pt x="71" y="119"/>
                    </a:lnTo>
                    <a:lnTo>
                      <a:pt x="50" y="119"/>
                    </a:lnTo>
                    <a:lnTo>
                      <a:pt x="30" y="111"/>
                    </a:lnTo>
                    <a:lnTo>
                      <a:pt x="13" y="98"/>
                    </a:lnTo>
                    <a:lnTo>
                      <a:pt x="3"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21" name="Freeform 47"/>
              <p:cNvSpPr/>
              <p:nvPr/>
            </p:nvSpPr>
            <p:spPr>
              <a:xfrm>
                <a:off x="2332080" y="469404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120" h="119">
                    <a:moveTo>
                      <a:pt x="0" y="59"/>
                    </a:moveTo>
                    <a:lnTo>
                      <a:pt x="4" y="38"/>
                    </a:lnTo>
                    <a:lnTo>
                      <a:pt x="14" y="21"/>
                    </a:lnTo>
                    <a:lnTo>
                      <a:pt x="29" y="7"/>
                    </a:lnTo>
                    <a:lnTo>
                      <a:pt x="50" y="0"/>
                    </a:lnTo>
                    <a:lnTo>
                      <a:pt x="70" y="0"/>
                    </a:lnTo>
                    <a:lnTo>
                      <a:pt x="91" y="7"/>
                    </a:lnTo>
                    <a:lnTo>
                      <a:pt x="106" y="21"/>
                    </a:lnTo>
                    <a:lnTo>
                      <a:pt x="116" y="38"/>
                    </a:lnTo>
                    <a:lnTo>
                      <a:pt x="120" y="59"/>
                    </a:lnTo>
                    <a:lnTo>
                      <a:pt x="116" y="79"/>
                    </a:lnTo>
                    <a:lnTo>
                      <a:pt x="106" y="98"/>
                    </a:lnTo>
                    <a:lnTo>
                      <a:pt x="91" y="111"/>
                    </a:lnTo>
                    <a:lnTo>
                      <a:pt x="70" y="119"/>
                    </a:lnTo>
                    <a:lnTo>
                      <a:pt x="50" y="119"/>
                    </a:lnTo>
                    <a:lnTo>
                      <a:pt x="29" y="111"/>
                    </a:lnTo>
                    <a:lnTo>
                      <a:pt x="14"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322" name="Rectangle 48"/>
            <p:cNvSpPr/>
            <p:nvPr/>
          </p:nvSpPr>
          <p:spPr>
            <a:xfrm>
              <a:off x="1275840" y="4800240"/>
              <a:ext cx="1244160" cy="365400"/>
            </a:xfrm>
            <a:prstGeom prst="rect">
              <a:avLst/>
            </a:prstGeom>
            <a:solidFill>
              <a:srgbClr val="009900"/>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Suppli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f components</a:t>
              </a:r>
              <a:endParaRPr b="0" lang="en-US" sz="1200" spc="-1" strike="noStrike">
                <a:solidFill>
                  <a:srgbClr val="000000"/>
                </a:solidFill>
                <a:latin typeface="Times New Roman"/>
              </a:endParaRPr>
            </a:p>
          </p:txBody>
        </p:sp>
      </p:grpSp>
      <p:sp>
        <p:nvSpPr>
          <p:cNvPr id="323" name="Freeform 49"/>
          <p:cNvSpPr/>
          <p:nvPr/>
        </p:nvSpPr>
        <p:spPr>
          <a:xfrm flipH="1" flipV="1">
            <a:off x="3885480" y="3886200"/>
            <a:ext cx="3886200" cy="76320"/>
          </a:xfrm>
          <a:custGeom>
            <a:avLst/>
            <a:gdLst>
              <a:gd name="textAreaLeft" fmla="*/ -360 w 3886200"/>
              <a:gd name="textAreaRight" fmla="*/ 3886200 w 3886200"/>
              <a:gd name="textAreaTop" fmla="*/ 360 h 76320"/>
              <a:gd name="textAreaBottom" fmla="*/ 77040 h 76320"/>
            </a:gdLst>
            <a:ahLst/>
            <a:rect l="textAreaLeft" t="textAreaTop" r="textAreaRight" b="textAreaBottom"/>
            <a:pathLst>
              <a:path w="2016" h="912">
                <a:moveTo>
                  <a:pt x="0" y="912"/>
                </a:moveTo>
                <a:lnTo>
                  <a:pt x="1392" y="912"/>
                </a:lnTo>
                <a:lnTo>
                  <a:pt x="1392" y="0"/>
                </a:lnTo>
                <a:lnTo>
                  <a:pt x="2016" y="0"/>
                </a:lnTo>
              </a:path>
            </a:pathLst>
          </a:custGeom>
          <a:noFill/>
          <a:ln w="28440">
            <a:solidFill>
              <a:srgbClr val="ff33cc"/>
            </a:solidFill>
            <a:round/>
            <a:tailEnd len="med" type="triangle" w="me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24" name="Line 50"/>
          <p:cNvSpPr/>
          <p:nvPr/>
        </p:nvSpPr>
        <p:spPr>
          <a:xfrm>
            <a:off x="3733920" y="4113360"/>
            <a:ext cx="914400" cy="610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Group 51"/>
          <p:cNvGrpSpPr/>
          <p:nvPr/>
        </p:nvGrpSpPr>
        <p:grpSpPr>
          <a:xfrm>
            <a:off x="4495680" y="4495680"/>
            <a:ext cx="880200" cy="814680"/>
            <a:chOff x="4495680" y="4495680"/>
            <a:chExt cx="880200" cy="814680"/>
          </a:xfrm>
        </p:grpSpPr>
        <p:sp>
          <p:nvSpPr>
            <p:cNvPr id="326" name="Freeform 52"/>
            <p:cNvSpPr/>
            <p:nvPr/>
          </p:nvSpPr>
          <p:spPr>
            <a:xfrm>
              <a:off x="4495680" y="4616280"/>
              <a:ext cx="269640" cy="322200"/>
            </a:xfrm>
            <a:custGeom>
              <a:avLst/>
              <a:gdLst>
                <a:gd name="textAreaLeft" fmla="*/ 0 w 269640"/>
                <a:gd name="textAreaRight" fmla="*/ 270000 w 269640"/>
                <a:gd name="textAreaTop" fmla="*/ 0 h 322200"/>
                <a:gd name="textAreaBottom" fmla="*/ 322560 h 322200"/>
              </a:gdLst>
              <a:ahLst/>
              <a:rect l="textAreaLeft" t="textAreaTop" r="textAreaRight" b="textAreaBottom"/>
              <a:pathLst>
                <a:path w="170" h="203">
                  <a:moveTo>
                    <a:pt x="156" y="203"/>
                  </a:moveTo>
                  <a:lnTo>
                    <a:pt x="170" y="203"/>
                  </a:lnTo>
                  <a:lnTo>
                    <a:pt x="170" y="0"/>
                  </a:lnTo>
                  <a:lnTo>
                    <a:pt x="156" y="0"/>
                  </a:lnTo>
                  <a:lnTo>
                    <a:pt x="156" y="203"/>
                  </a:lnTo>
                  <a:close/>
                  <a:moveTo>
                    <a:pt x="0" y="189"/>
                  </a:moveTo>
                  <a:lnTo>
                    <a:pt x="156" y="203"/>
                  </a:lnTo>
                  <a:lnTo>
                    <a:pt x="156" y="194"/>
                  </a:lnTo>
                  <a:lnTo>
                    <a:pt x="0" y="185"/>
                  </a:lnTo>
                  <a:lnTo>
                    <a:pt x="0" y="189"/>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Group 53"/>
            <p:cNvGrpSpPr/>
            <p:nvPr/>
          </p:nvGrpSpPr>
          <p:grpSpPr>
            <a:xfrm>
              <a:off x="4638960" y="4495680"/>
              <a:ext cx="736920" cy="814680"/>
              <a:chOff x="4638960" y="4495680"/>
              <a:chExt cx="736920" cy="814680"/>
            </a:xfrm>
          </p:grpSpPr>
          <p:sp>
            <p:nvSpPr>
              <p:cNvPr id="328" name="Freeform 54"/>
              <p:cNvSpPr/>
              <p:nvPr/>
            </p:nvSpPr>
            <p:spPr>
              <a:xfrm>
                <a:off x="4758840" y="4790880"/>
                <a:ext cx="500040" cy="220680"/>
              </a:xfrm>
              <a:custGeom>
                <a:avLst/>
                <a:gdLst>
                  <a:gd name="textAreaLeft" fmla="*/ 0 w 500040"/>
                  <a:gd name="textAreaRight" fmla="*/ 500400 w 500040"/>
                  <a:gd name="textAreaTop" fmla="*/ 0 h 220680"/>
                  <a:gd name="textAreaBottom" fmla="*/ 221040 h 220680"/>
                </a:gdLst>
                <a:ahLst/>
                <a:rect l="textAreaLeft" t="textAreaTop" r="textAreaRight" b="textAreaBottom"/>
                <a:pathLst>
                  <a:path w="315" h="139">
                    <a:moveTo>
                      <a:pt x="0" y="139"/>
                    </a:moveTo>
                    <a:lnTo>
                      <a:pt x="275" y="139"/>
                    </a:lnTo>
                    <a:lnTo>
                      <a:pt x="315" y="93"/>
                    </a:lnTo>
                    <a:lnTo>
                      <a:pt x="315" y="0"/>
                    </a:lnTo>
                    <a:lnTo>
                      <a:pt x="0" y="0"/>
                    </a:lnTo>
                    <a:lnTo>
                      <a:pt x="0" y="139"/>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Rectangle 55"/>
              <p:cNvSpPr/>
              <p:nvPr/>
            </p:nvSpPr>
            <p:spPr>
              <a:xfrm>
                <a:off x="4749480" y="4593960"/>
                <a:ext cx="9360" cy="417600"/>
              </a:xfrm>
              <a:prstGeom prst="rect">
                <a:avLst/>
              </a:prstGeom>
              <a:solidFill>
                <a:srgbClr val="ff99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Freeform 56"/>
              <p:cNvSpPr/>
              <p:nvPr/>
            </p:nvSpPr>
            <p:spPr>
              <a:xfrm>
                <a:off x="4758840" y="4495680"/>
                <a:ext cx="343080" cy="295200"/>
              </a:xfrm>
              <a:custGeom>
                <a:avLst/>
                <a:gdLst>
                  <a:gd name="textAreaLeft" fmla="*/ 0 w 343080"/>
                  <a:gd name="textAreaRight" fmla="*/ 343440 w 343080"/>
                  <a:gd name="textAreaTop" fmla="*/ 0 h 295200"/>
                  <a:gd name="textAreaBottom" fmla="*/ 295560 h 295200"/>
                </a:gdLst>
                <a:ahLst/>
                <a:rect l="textAreaLeft" t="textAreaTop" r="textAreaRight" b="textAreaBottom"/>
                <a:pathLst>
                  <a:path w="216" h="186">
                    <a:moveTo>
                      <a:pt x="0" y="186"/>
                    </a:moveTo>
                    <a:lnTo>
                      <a:pt x="14" y="170"/>
                    </a:lnTo>
                    <a:lnTo>
                      <a:pt x="52" y="15"/>
                    </a:lnTo>
                    <a:lnTo>
                      <a:pt x="66" y="0"/>
                    </a:lnTo>
                    <a:lnTo>
                      <a:pt x="216" y="0"/>
                    </a:lnTo>
                    <a:lnTo>
                      <a:pt x="216" y="186"/>
                    </a:lnTo>
                    <a:lnTo>
                      <a:pt x="209" y="186"/>
                    </a:lnTo>
                    <a:lnTo>
                      <a:pt x="209" y="7"/>
                    </a:lnTo>
                    <a:lnTo>
                      <a:pt x="66" y="7"/>
                    </a:lnTo>
                    <a:lnTo>
                      <a:pt x="59" y="15"/>
                    </a:lnTo>
                    <a:lnTo>
                      <a:pt x="20" y="170"/>
                    </a:lnTo>
                    <a:lnTo>
                      <a:pt x="7" y="186"/>
                    </a:lnTo>
                    <a:lnTo>
                      <a:pt x="0" y="186"/>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Freeform 57"/>
              <p:cNvSpPr/>
              <p:nvPr/>
            </p:nvSpPr>
            <p:spPr>
              <a:xfrm>
                <a:off x="5112720" y="4654440"/>
                <a:ext cx="133560" cy="154080"/>
              </a:xfrm>
              <a:custGeom>
                <a:avLst/>
                <a:gdLst>
                  <a:gd name="textAreaLeft" fmla="*/ 0 w 133560"/>
                  <a:gd name="textAreaRight" fmla="*/ 133920 w 133560"/>
                  <a:gd name="textAreaTop" fmla="*/ 0 h 154080"/>
                  <a:gd name="textAreaBottom" fmla="*/ 154440 h 154080"/>
                </a:gdLst>
                <a:ahLst/>
                <a:rect l="textAreaLeft" t="textAreaTop" r="textAreaRight" b="textAreaBottom"/>
                <a:pathLst>
                  <a:path w="65" h="77">
                    <a:moveTo>
                      <a:pt x="0" y="39"/>
                    </a:moveTo>
                    <a:lnTo>
                      <a:pt x="2" y="25"/>
                    </a:lnTo>
                    <a:lnTo>
                      <a:pt x="7" y="14"/>
                    </a:lnTo>
                    <a:lnTo>
                      <a:pt x="16" y="5"/>
                    </a:lnTo>
                    <a:lnTo>
                      <a:pt x="27" y="0"/>
                    </a:lnTo>
                    <a:lnTo>
                      <a:pt x="38" y="0"/>
                    </a:lnTo>
                    <a:lnTo>
                      <a:pt x="48" y="5"/>
                    </a:lnTo>
                    <a:lnTo>
                      <a:pt x="57" y="14"/>
                    </a:lnTo>
                    <a:lnTo>
                      <a:pt x="63" y="25"/>
                    </a:lnTo>
                    <a:lnTo>
                      <a:pt x="65" y="39"/>
                    </a:lnTo>
                    <a:lnTo>
                      <a:pt x="63" y="52"/>
                    </a:lnTo>
                    <a:lnTo>
                      <a:pt x="57" y="63"/>
                    </a:lnTo>
                    <a:lnTo>
                      <a:pt x="48" y="72"/>
                    </a:lnTo>
                    <a:lnTo>
                      <a:pt x="38" y="77"/>
                    </a:lnTo>
                    <a:lnTo>
                      <a:pt x="27" y="77"/>
                    </a:lnTo>
                    <a:lnTo>
                      <a:pt x="16" y="72"/>
                    </a:lnTo>
                    <a:lnTo>
                      <a:pt x="7" y="63"/>
                    </a:lnTo>
                    <a:lnTo>
                      <a:pt x="2" y="52"/>
                    </a:lnTo>
                    <a:lnTo>
                      <a:pt x="0" y="39"/>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58"/>
              <p:cNvSpPr/>
              <p:nvPr/>
            </p:nvSpPr>
            <p:spPr>
              <a:xfrm>
                <a:off x="5174640" y="4790880"/>
                <a:ext cx="1800" cy="2793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Freeform 59"/>
              <p:cNvSpPr/>
              <p:nvPr/>
            </p:nvSpPr>
            <p:spPr>
              <a:xfrm>
                <a:off x="4770000" y="4643280"/>
                <a:ext cx="111240" cy="147600"/>
              </a:xfrm>
              <a:custGeom>
                <a:avLst/>
                <a:gdLst>
                  <a:gd name="textAreaLeft" fmla="*/ 0 w 111240"/>
                  <a:gd name="textAreaRight" fmla="*/ 111600 w 111240"/>
                  <a:gd name="textAreaTop" fmla="*/ 0 h 147600"/>
                  <a:gd name="textAreaBottom" fmla="*/ 147600 h 147600"/>
                </a:gdLst>
                <a:ahLst/>
                <a:rect l="textAreaLeft" t="textAreaTop" r="textAreaRight" b="textAreaBottom"/>
                <a:pathLst>
                  <a:path w="70" h="93">
                    <a:moveTo>
                      <a:pt x="19" y="46"/>
                    </a:moveTo>
                    <a:lnTo>
                      <a:pt x="33" y="46"/>
                    </a:lnTo>
                    <a:lnTo>
                      <a:pt x="45" y="62"/>
                    </a:lnTo>
                    <a:lnTo>
                      <a:pt x="33" y="93"/>
                    </a:lnTo>
                    <a:lnTo>
                      <a:pt x="0" y="93"/>
                    </a:lnTo>
                    <a:lnTo>
                      <a:pt x="13" y="77"/>
                    </a:lnTo>
                    <a:lnTo>
                      <a:pt x="19" y="46"/>
                    </a:lnTo>
                    <a:close/>
                    <a:moveTo>
                      <a:pt x="36" y="49"/>
                    </a:moveTo>
                    <a:lnTo>
                      <a:pt x="52" y="11"/>
                    </a:lnTo>
                    <a:lnTo>
                      <a:pt x="59" y="18"/>
                    </a:lnTo>
                    <a:lnTo>
                      <a:pt x="43" y="58"/>
                    </a:lnTo>
                    <a:lnTo>
                      <a:pt x="36" y="49"/>
                    </a:lnTo>
                    <a:close/>
                    <a:moveTo>
                      <a:pt x="70" y="31"/>
                    </a:moveTo>
                    <a:lnTo>
                      <a:pt x="70" y="27"/>
                    </a:lnTo>
                    <a:lnTo>
                      <a:pt x="47" y="0"/>
                    </a:lnTo>
                    <a:lnTo>
                      <a:pt x="43" y="0"/>
                    </a:lnTo>
                    <a:lnTo>
                      <a:pt x="70" y="31"/>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Freeform 60"/>
              <p:cNvSpPr/>
              <p:nvPr/>
            </p:nvSpPr>
            <p:spPr>
              <a:xfrm>
                <a:off x="4884120" y="4617720"/>
                <a:ext cx="103320" cy="173160"/>
              </a:xfrm>
              <a:custGeom>
                <a:avLst/>
                <a:gdLst>
                  <a:gd name="textAreaLeft" fmla="*/ 0 w 103320"/>
                  <a:gd name="textAreaRight" fmla="*/ 103680 w 103320"/>
                  <a:gd name="textAreaTop" fmla="*/ 0 h 173160"/>
                  <a:gd name="textAreaBottom" fmla="*/ 173160 h 173160"/>
                </a:gdLst>
                <a:ahLst/>
                <a:rect l="textAreaLeft" t="textAreaTop" r="textAreaRight" b="textAreaBottom"/>
                <a:pathLst>
                  <a:path w="65" h="109">
                    <a:moveTo>
                      <a:pt x="0" y="78"/>
                    </a:moveTo>
                    <a:lnTo>
                      <a:pt x="65" y="78"/>
                    </a:lnTo>
                    <a:lnTo>
                      <a:pt x="65" y="62"/>
                    </a:lnTo>
                    <a:lnTo>
                      <a:pt x="0" y="62"/>
                    </a:lnTo>
                    <a:lnTo>
                      <a:pt x="0" y="78"/>
                    </a:lnTo>
                    <a:close/>
                    <a:moveTo>
                      <a:pt x="52" y="62"/>
                    </a:moveTo>
                    <a:lnTo>
                      <a:pt x="65" y="62"/>
                    </a:lnTo>
                    <a:lnTo>
                      <a:pt x="65" y="0"/>
                    </a:lnTo>
                    <a:lnTo>
                      <a:pt x="52" y="0"/>
                    </a:lnTo>
                    <a:lnTo>
                      <a:pt x="52" y="62"/>
                    </a:lnTo>
                    <a:close/>
                    <a:moveTo>
                      <a:pt x="19" y="78"/>
                    </a:moveTo>
                    <a:lnTo>
                      <a:pt x="6" y="109"/>
                    </a:lnTo>
                    <a:lnTo>
                      <a:pt x="39" y="109"/>
                    </a:lnTo>
                    <a:lnTo>
                      <a:pt x="52" y="78"/>
                    </a:lnTo>
                    <a:lnTo>
                      <a:pt x="19" y="78"/>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Freeform 61"/>
              <p:cNvSpPr/>
              <p:nvPr/>
            </p:nvSpPr>
            <p:spPr>
              <a:xfrm>
                <a:off x="4781160" y="4938480"/>
                <a:ext cx="393480" cy="147600"/>
              </a:xfrm>
              <a:custGeom>
                <a:avLst/>
                <a:gdLst>
                  <a:gd name="textAreaLeft" fmla="*/ 0 w 393480"/>
                  <a:gd name="textAreaRight" fmla="*/ 393840 w 393480"/>
                  <a:gd name="textAreaTop" fmla="*/ 0 h 147600"/>
                  <a:gd name="textAreaBottom" fmla="*/ 147600 h 147600"/>
                </a:gdLst>
                <a:ahLst/>
                <a:rect l="textAreaLeft" t="textAreaTop" r="textAreaRight" b="textAreaBottom"/>
                <a:pathLst>
                  <a:path w="248" h="93">
                    <a:moveTo>
                      <a:pt x="0" y="46"/>
                    </a:moveTo>
                    <a:lnTo>
                      <a:pt x="1" y="32"/>
                    </a:lnTo>
                    <a:lnTo>
                      <a:pt x="7" y="18"/>
                    </a:lnTo>
                    <a:lnTo>
                      <a:pt x="16" y="9"/>
                    </a:lnTo>
                    <a:lnTo>
                      <a:pt x="26" y="2"/>
                    </a:lnTo>
                    <a:lnTo>
                      <a:pt x="38" y="0"/>
                    </a:lnTo>
                    <a:lnTo>
                      <a:pt x="51" y="2"/>
                    </a:lnTo>
                    <a:lnTo>
                      <a:pt x="62" y="9"/>
                    </a:lnTo>
                    <a:lnTo>
                      <a:pt x="71" y="18"/>
                    </a:lnTo>
                    <a:lnTo>
                      <a:pt x="76" y="32"/>
                    </a:lnTo>
                    <a:lnTo>
                      <a:pt x="78" y="46"/>
                    </a:lnTo>
                    <a:lnTo>
                      <a:pt x="76" y="61"/>
                    </a:lnTo>
                    <a:lnTo>
                      <a:pt x="71" y="73"/>
                    </a:lnTo>
                    <a:lnTo>
                      <a:pt x="62" y="84"/>
                    </a:lnTo>
                    <a:lnTo>
                      <a:pt x="51" y="90"/>
                    </a:lnTo>
                    <a:lnTo>
                      <a:pt x="38" y="93"/>
                    </a:lnTo>
                    <a:lnTo>
                      <a:pt x="26" y="90"/>
                    </a:lnTo>
                    <a:lnTo>
                      <a:pt x="16" y="84"/>
                    </a:lnTo>
                    <a:lnTo>
                      <a:pt x="7" y="73"/>
                    </a:lnTo>
                    <a:lnTo>
                      <a:pt x="1" y="61"/>
                    </a:lnTo>
                    <a:lnTo>
                      <a:pt x="0" y="46"/>
                    </a:lnTo>
                    <a:close/>
                    <a:moveTo>
                      <a:pt x="169" y="46"/>
                    </a:moveTo>
                    <a:lnTo>
                      <a:pt x="171" y="32"/>
                    </a:lnTo>
                    <a:lnTo>
                      <a:pt x="176" y="18"/>
                    </a:lnTo>
                    <a:lnTo>
                      <a:pt x="185" y="9"/>
                    </a:lnTo>
                    <a:lnTo>
                      <a:pt x="196" y="2"/>
                    </a:lnTo>
                    <a:lnTo>
                      <a:pt x="209" y="0"/>
                    </a:lnTo>
                    <a:lnTo>
                      <a:pt x="221" y="2"/>
                    </a:lnTo>
                    <a:lnTo>
                      <a:pt x="232" y="9"/>
                    </a:lnTo>
                    <a:lnTo>
                      <a:pt x="241" y="18"/>
                    </a:lnTo>
                    <a:lnTo>
                      <a:pt x="246" y="32"/>
                    </a:lnTo>
                    <a:lnTo>
                      <a:pt x="248" y="46"/>
                    </a:lnTo>
                    <a:lnTo>
                      <a:pt x="246" y="61"/>
                    </a:lnTo>
                    <a:lnTo>
                      <a:pt x="241" y="73"/>
                    </a:lnTo>
                    <a:lnTo>
                      <a:pt x="232" y="84"/>
                    </a:lnTo>
                    <a:lnTo>
                      <a:pt x="221" y="90"/>
                    </a:lnTo>
                    <a:lnTo>
                      <a:pt x="209" y="93"/>
                    </a:lnTo>
                    <a:lnTo>
                      <a:pt x="196" y="90"/>
                    </a:lnTo>
                    <a:lnTo>
                      <a:pt x="185" y="84"/>
                    </a:lnTo>
                    <a:lnTo>
                      <a:pt x="176" y="73"/>
                    </a:lnTo>
                    <a:lnTo>
                      <a:pt x="171" y="61"/>
                    </a:lnTo>
                    <a:lnTo>
                      <a:pt x="169" y="46"/>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Rectangle 62"/>
              <p:cNvSpPr/>
              <p:nvPr/>
            </p:nvSpPr>
            <p:spPr>
              <a:xfrm>
                <a:off x="4638960" y="5127480"/>
                <a:ext cx="736920" cy="182880"/>
              </a:xfrm>
              <a:prstGeom prst="rect">
                <a:avLst/>
              </a:prstGeom>
              <a:solidFill>
                <a:srgbClr val="ff99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rehouse</a:t>
                </a:r>
                <a:endParaRPr b="0" lang="en-US" sz="1200" spc="-1" strike="noStrike">
                  <a:solidFill>
                    <a:srgbClr val="000000"/>
                  </a:solidFill>
                  <a:latin typeface="Times New Roman"/>
                </a:endParaRPr>
              </a:p>
            </p:txBody>
          </p:sp>
        </p:grpSp>
      </p:grpSp>
      <p:sp>
        <p:nvSpPr>
          <p:cNvPr id="337" name="Text Box 63"/>
          <p:cNvSpPr/>
          <p:nvPr/>
        </p:nvSpPr>
        <p:spPr>
          <a:xfrm>
            <a:off x="923760" y="2286000"/>
            <a:ext cx="2810160" cy="762120"/>
          </a:xfrm>
          <a:prstGeom prst="rect">
            <a:avLst/>
          </a:prstGeom>
          <a:solidFill>
            <a:srgbClr val="33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ea typeface="Arial"/>
              </a:rPr>
              <a:t>Manufacturing company th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ea typeface="Arial"/>
              </a:rPr>
              <a:t>Produces against a 15-days forecast</a:t>
            </a:r>
            <a:endParaRPr b="0" lang="en-US" sz="1400" spc="-1" strike="noStrike">
              <a:solidFill>
                <a:srgbClr val="000000"/>
              </a:solidFill>
              <a:latin typeface="Times New Roman"/>
            </a:endParaRPr>
          </a:p>
        </p:txBody>
      </p:sp>
      <p:sp>
        <p:nvSpPr>
          <p:cNvPr id="338" name="Line 64"/>
          <p:cNvSpPr/>
          <p:nvPr/>
        </p:nvSpPr>
        <p:spPr>
          <a:xfrm flipV="1">
            <a:off x="2438280" y="4190760"/>
            <a:ext cx="38124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Text Box 65"/>
          <p:cNvSpPr/>
          <p:nvPr/>
        </p:nvSpPr>
        <p:spPr>
          <a:xfrm>
            <a:off x="6029280" y="2514600"/>
            <a:ext cx="2809800" cy="762120"/>
          </a:xfrm>
          <a:prstGeom prst="rect">
            <a:avLst/>
          </a:prstGeom>
          <a:solidFill>
            <a:srgbClr val="33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ea typeface="Arial"/>
              </a:rPr>
              <a:t>Supplies raw materials in bulks from the Far East against a monthly forecast</a:t>
            </a:r>
            <a:endParaRPr b="0" lang="en-US" sz="1400" spc="-1" strike="noStrike">
              <a:solidFill>
                <a:srgbClr val="000000"/>
              </a:solidFill>
              <a:latin typeface="Times New Roman"/>
            </a:endParaRPr>
          </a:p>
        </p:txBody>
      </p:sp>
      <p:sp>
        <p:nvSpPr>
          <p:cNvPr id="340" name="Text Box 66"/>
          <p:cNvSpPr/>
          <p:nvPr/>
        </p:nvSpPr>
        <p:spPr>
          <a:xfrm>
            <a:off x="762120" y="5257800"/>
            <a:ext cx="2809800" cy="838080"/>
          </a:xfrm>
          <a:prstGeom prst="rect">
            <a:avLst/>
          </a:prstGeom>
          <a:solidFill>
            <a:srgbClr val="33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ea typeface="Arial"/>
              </a:rPr>
              <a:t>Pulls components from France based on production volumes</a:t>
            </a:r>
            <a:endParaRPr b="0" lang="en-US" sz="1400" spc="-1" strike="noStrike">
              <a:solidFill>
                <a:srgbClr val="000000"/>
              </a:solidFill>
              <a:latin typeface="Times New Roman"/>
            </a:endParaRPr>
          </a:p>
        </p:txBody>
      </p:sp>
      <p:sp>
        <p:nvSpPr>
          <p:cNvPr id="341" name="Text Box 67"/>
          <p:cNvSpPr/>
          <p:nvPr/>
        </p:nvSpPr>
        <p:spPr>
          <a:xfrm>
            <a:off x="5800680" y="4876920"/>
            <a:ext cx="2809800" cy="990360"/>
          </a:xfrm>
          <a:prstGeom prst="rect">
            <a:avLst/>
          </a:prstGeom>
          <a:solidFill>
            <a:srgbClr val="33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ea typeface="Arial"/>
              </a:rPr>
              <a:t>Ships weekly finished goods to a Distribution Warehouse based in Central Europe.</a:t>
            </a:r>
            <a:endParaRPr b="0" lang="en-US" sz="1400" spc="-1" strike="noStrike">
              <a:solidFill>
                <a:srgbClr val="000000"/>
              </a:solidFill>
              <a:latin typeface="Times New Roman"/>
            </a:endParaRPr>
          </a:p>
        </p:txBody>
      </p:sp>
      <p:sp>
        <p:nvSpPr>
          <p:cNvPr id="342" name="Text Box 68"/>
          <p:cNvSpPr/>
          <p:nvPr/>
        </p:nvSpPr>
        <p:spPr>
          <a:xfrm>
            <a:off x="2005920" y="2833560"/>
            <a:ext cx="604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1</a:t>
            </a:r>
            <a:endParaRPr b="0" lang="en-US" sz="2400" spc="-1" strike="noStrike">
              <a:solidFill>
                <a:srgbClr val="000000"/>
              </a:solidFill>
              <a:latin typeface="Times New Roman"/>
            </a:endParaRPr>
          </a:p>
        </p:txBody>
      </p:sp>
      <p:sp>
        <p:nvSpPr>
          <p:cNvPr id="343" name="Text Box 69"/>
          <p:cNvSpPr/>
          <p:nvPr/>
        </p:nvSpPr>
        <p:spPr>
          <a:xfrm>
            <a:off x="4324320" y="3824280"/>
            <a:ext cx="502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344" name="Text Box 70"/>
          <p:cNvSpPr/>
          <p:nvPr/>
        </p:nvSpPr>
        <p:spPr>
          <a:xfrm>
            <a:off x="2419200" y="3962520"/>
            <a:ext cx="502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345" name="Text Box 71"/>
          <p:cNvSpPr/>
          <p:nvPr/>
        </p:nvSpPr>
        <p:spPr>
          <a:xfrm>
            <a:off x="3676680" y="4281480"/>
            <a:ext cx="552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1</a:t>
            </a:r>
            <a:endParaRPr b="0" lang="en-US" sz="2400" spc="-1" strike="noStrike">
              <a:solidFill>
                <a:srgbClr val="000000"/>
              </a:solidFill>
              <a:latin typeface="Times New Roman"/>
            </a:endParaRPr>
          </a:p>
        </p:txBody>
      </p:sp>
      <p:grpSp>
        <p:nvGrpSpPr>
          <p:cNvPr id="346" name="Group 75"/>
          <p:cNvGrpSpPr/>
          <p:nvPr/>
        </p:nvGrpSpPr>
        <p:grpSpPr>
          <a:xfrm>
            <a:off x="2247840" y="3429000"/>
            <a:ext cx="5581800" cy="1998000"/>
            <a:chOff x="2247840" y="3429000"/>
            <a:chExt cx="5581800" cy="1998000"/>
          </a:xfrm>
        </p:grpSpPr>
        <p:sp>
          <p:nvSpPr>
            <p:cNvPr id="347" name="Text Box 72"/>
            <p:cNvSpPr/>
            <p:nvPr/>
          </p:nvSpPr>
          <p:spPr>
            <a:xfrm>
              <a:off x="5308560" y="4724280"/>
              <a:ext cx="502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348" name="Text Box 73"/>
            <p:cNvSpPr/>
            <p:nvPr/>
          </p:nvSpPr>
          <p:spPr>
            <a:xfrm>
              <a:off x="2247840" y="4967280"/>
              <a:ext cx="552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2</a:t>
              </a:r>
              <a:endParaRPr b="0" lang="en-US" sz="2400" spc="-1" strike="noStrike">
                <a:solidFill>
                  <a:srgbClr val="000000"/>
                </a:solidFill>
                <a:latin typeface="Times New Roman"/>
              </a:endParaRPr>
            </a:p>
          </p:txBody>
        </p:sp>
        <p:sp>
          <p:nvSpPr>
            <p:cNvPr id="349" name="Text Box 74"/>
            <p:cNvSpPr/>
            <p:nvPr/>
          </p:nvSpPr>
          <p:spPr>
            <a:xfrm>
              <a:off x="7277040" y="3429000"/>
              <a:ext cx="552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1</a:t>
              </a:r>
              <a:endParaRPr b="0" lang="en-US" sz="2400" spc="-1" strike="noStrike">
                <a:solidFill>
                  <a:srgbClr val="000000"/>
                </a:solidFill>
                <a:latin typeface="Times New Roman"/>
              </a:endParaRPr>
            </a:p>
          </p:txBody>
        </p:sp>
      </p:gr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342"/>
                                        </p:tgtEl>
                                        <p:attrNameLst>
                                          <p:attrName>style.visibility</p:attrName>
                                        </p:attrNameLst>
                                      </p:cBhvr>
                                      <p:to>
                                        <p:strVal val="visible"/>
                                      </p:to>
                                    </p:set>
                                    <p:animEffect filter="wipe(down)" transition="in">
                                      <p:cBhvr additive="repl">
                                        <p:cTn id="41" dur="500"/>
                                        <p:tgtEl>
                                          <p:spTgt spid="34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343"/>
                                        </p:tgtEl>
                                        <p:attrNameLst>
                                          <p:attrName>style.visibility</p:attrName>
                                        </p:attrNameLst>
                                      </p:cBhvr>
                                      <p:to>
                                        <p:strVal val="visible"/>
                                      </p:to>
                                    </p:set>
                                    <p:animEffect filter="wipe(down)" transition="in">
                                      <p:cBhvr additive="repl">
                                        <p:cTn id="46" dur="500"/>
                                        <p:tgtEl>
                                          <p:spTgt spid="34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344"/>
                                        </p:tgtEl>
                                        <p:attrNameLst>
                                          <p:attrName>style.visibility</p:attrName>
                                        </p:attrNameLst>
                                      </p:cBhvr>
                                      <p:to>
                                        <p:strVal val="visible"/>
                                      </p:to>
                                    </p:set>
                                    <p:animEffect filter="wipe(down)" transition="in">
                                      <p:cBhvr additive="repl">
                                        <p:cTn id="51" dur="500"/>
                                        <p:tgtEl>
                                          <p:spTgt spid="34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345"/>
                                        </p:tgtEl>
                                        <p:attrNameLst>
                                          <p:attrName>style.visibility</p:attrName>
                                        </p:attrNameLst>
                                      </p:cBhvr>
                                      <p:to>
                                        <p:strVal val="visible"/>
                                      </p:to>
                                    </p:set>
                                    <p:animEffect filter="wipe(down)" transition="in">
                                      <p:cBhvr additive="repl">
                                        <p:cTn id="56" dur="500"/>
                                        <p:tgtEl>
                                          <p:spTgt spid="34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346"/>
                                        </p:tgtEl>
                                        <p:attrNameLst>
                                          <p:attrName>style.visibility</p:attrName>
                                        </p:attrNameLst>
                                      </p:cBhvr>
                                      <p:to>
                                        <p:strVal val="visible"/>
                                      </p:to>
                                    </p:set>
                                    <p:animEffect filter="wipe(down)" transition="in">
                                      <p:cBhvr additive="repl">
                                        <p:cTn id="61"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320" y="152280"/>
            <a:ext cx="6737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COR Metrics</a:t>
            </a:r>
            <a:endParaRPr b="1" lang="en-US" sz="3200" spc="-1" strike="noStrike">
              <a:solidFill>
                <a:srgbClr val="000000"/>
              </a:solidFill>
              <a:latin typeface="Calibri"/>
            </a:endParaRPr>
          </a:p>
        </p:txBody>
      </p:sp>
      <p:pic>
        <p:nvPicPr>
          <p:cNvPr id="351" name="Picture 3" descr=""/>
          <p:cNvPicPr/>
          <p:nvPr/>
        </p:nvPicPr>
        <p:blipFill>
          <a:blip r:embed="rId1"/>
          <a:stretch/>
        </p:blipFill>
        <p:spPr>
          <a:xfrm>
            <a:off x="304920" y="914400"/>
            <a:ext cx="8458200" cy="4724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OR Best Practices</a:t>
            </a:r>
            <a:endParaRPr b="1" lang="en-US" sz="3200" spc="-1" strike="noStrike">
              <a:solidFill>
                <a:srgbClr val="000000"/>
              </a:solidFill>
              <a:latin typeface="Calibri"/>
            </a:endParaRPr>
          </a:p>
        </p:txBody>
      </p:sp>
      <p:pic>
        <p:nvPicPr>
          <p:cNvPr id="353" name="Picture 6" descr=""/>
          <p:cNvPicPr/>
          <p:nvPr/>
        </p:nvPicPr>
        <p:blipFill>
          <a:blip r:embed="rId1"/>
          <a:stretch/>
        </p:blipFill>
        <p:spPr>
          <a:xfrm>
            <a:off x="380880" y="838080"/>
            <a:ext cx="7315200" cy="3403800"/>
          </a:xfrm>
          <a:prstGeom prst="rect">
            <a:avLst/>
          </a:prstGeom>
          <a:ln w="0">
            <a:noFill/>
          </a:ln>
        </p:spPr>
      </p:pic>
      <p:pic>
        <p:nvPicPr>
          <p:cNvPr id="354" name="Picture 8" descr=""/>
          <p:cNvPicPr/>
          <p:nvPr/>
        </p:nvPicPr>
        <p:blipFill>
          <a:blip r:embed="rId2"/>
          <a:stretch/>
        </p:blipFill>
        <p:spPr>
          <a:xfrm>
            <a:off x="2286000" y="1752480"/>
            <a:ext cx="6657840" cy="4905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320" y="2514600"/>
            <a:ext cx="6737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SCOR and BSP face-to-face</a:t>
            </a:r>
            <a:endParaRPr b="1" lang="en-US" sz="3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914040" y="228600"/>
            <a:ext cx="6737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SCOR and BSP</a:t>
            </a:r>
            <a:endParaRPr b="1" lang="en-US" sz="3200" spc="-1" strike="noStrike">
              <a:solidFill>
                <a:srgbClr val="000000"/>
              </a:solidFill>
              <a:latin typeface="Calibri"/>
            </a:endParaRPr>
          </a:p>
        </p:txBody>
      </p:sp>
      <p:pic>
        <p:nvPicPr>
          <p:cNvPr id="357" name="Picture 50" descr="arrow-red-large"/>
          <p:cNvPicPr/>
          <p:nvPr/>
        </p:nvPicPr>
        <p:blipFill>
          <a:blip r:embed="rId1"/>
          <a:stretch/>
        </p:blipFill>
        <p:spPr>
          <a:xfrm>
            <a:off x="762120" y="990720"/>
            <a:ext cx="3957480" cy="1382760"/>
          </a:xfrm>
          <a:prstGeom prst="rect">
            <a:avLst/>
          </a:prstGeom>
          <a:ln w="0">
            <a:noFill/>
          </a:ln>
        </p:spPr>
      </p:pic>
      <p:sp>
        <p:nvSpPr>
          <p:cNvPr id="358" name="Text Box 51"/>
          <p:cNvSpPr/>
          <p:nvPr/>
        </p:nvSpPr>
        <p:spPr>
          <a:xfrm>
            <a:off x="1859040" y="1523880"/>
            <a:ext cx="1084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an</a:t>
            </a:r>
            <a:endParaRPr b="0" lang="en-US" sz="1600" spc="-1" strike="noStrike">
              <a:solidFill>
                <a:srgbClr val="000000"/>
              </a:solidFill>
              <a:latin typeface="Times New Roman"/>
            </a:endParaRPr>
          </a:p>
        </p:txBody>
      </p:sp>
      <p:grpSp>
        <p:nvGrpSpPr>
          <p:cNvPr id="359" name="Group 52"/>
          <p:cNvGrpSpPr/>
          <p:nvPr/>
        </p:nvGrpSpPr>
        <p:grpSpPr>
          <a:xfrm>
            <a:off x="2979720" y="2570040"/>
            <a:ext cx="1596600" cy="1087200"/>
            <a:chOff x="2979720" y="2570040"/>
            <a:chExt cx="1596600" cy="1087200"/>
          </a:xfrm>
        </p:grpSpPr>
        <p:pic>
          <p:nvPicPr>
            <p:cNvPr id="360" name="Picture 53" descr="arrow-red-left"/>
            <p:cNvPicPr/>
            <p:nvPr/>
          </p:nvPicPr>
          <p:blipFill>
            <a:blip r:embed="rId2"/>
            <a:stretch/>
          </p:blipFill>
          <p:spPr>
            <a:xfrm>
              <a:off x="2979720" y="2570040"/>
              <a:ext cx="1596600" cy="1087200"/>
            </a:xfrm>
            <a:prstGeom prst="rect">
              <a:avLst/>
            </a:prstGeom>
            <a:ln w="0">
              <a:noFill/>
            </a:ln>
          </p:spPr>
        </p:pic>
        <p:sp>
          <p:nvSpPr>
            <p:cNvPr id="361" name="Text Box 54"/>
            <p:cNvSpPr/>
            <p:nvPr/>
          </p:nvSpPr>
          <p:spPr>
            <a:xfrm>
              <a:off x="3268440" y="2895840"/>
              <a:ext cx="108324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turn</a:t>
              </a:r>
              <a:endParaRPr b="0" lang="en-US" sz="1600" spc="-1" strike="noStrike">
                <a:solidFill>
                  <a:srgbClr val="000000"/>
                </a:solidFill>
                <a:latin typeface="Times New Roman"/>
              </a:endParaRPr>
            </a:p>
          </p:txBody>
        </p:sp>
      </p:grpSp>
      <p:grpSp>
        <p:nvGrpSpPr>
          <p:cNvPr id="362" name="Group 55"/>
          <p:cNvGrpSpPr/>
          <p:nvPr/>
        </p:nvGrpSpPr>
        <p:grpSpPr>
          <a:xfrm>
            <a:off x="3378240" y="1735200"/>
            <a:ext cx="1596600" cy="1088640"/>
            <a:chOff x="3378240" y="1735200"/>
            <a:chExt cx="1596600" cy="1088640"/>
          </a:xfrm>
        </p:grpSpPr>
        <p:pic>
          <p:nvPicPr>
            <p:cNvPr id="363" name="Picture 56" descr="arrow-red"/>
            <p:cNvPicPr/>
            <p:nvPr/>
          </p:nvPicPr>
          <p:blipFill>
            <a:blip r:embed="rId3"/>
            <a:stretch/>
          </p:blipFill>
          <p:spPr>
            <a:xfrm>
              <a:off x="3378240" y="1735200"/>
              <a:ext cx="1596600" cy="1088640"/>
            </a:xfrm>
            <a:prstGeom prst="rect">
              <a:avLst/>
            </a:prstGeom>
            <a:ln w="0">
              <a:noFill/>
            </a:ln>
          </p:spPr>
        </p:pic>
        <p:sp>
          <p:nvSpPr>
            <p:cNvPr id="364" name="Text Box 57"/>
            <p:cNvSpPr/>
            <p:nvPr/>
          </p:nvSpPr>
          <p:spPr>
            <a:xfrm>
              <a:off x="3871440" y="2061360"/>
              <a:ext cx="582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liver</a:t>
              </a:r>
              <a:endParaRPr b="0" lang="en-US" sz="1600" spc="-1" strike="noStrike">
                <a:solidFill>
                  <a:srgbClr val="000000"/>
                </a:solidFill>
                <a:latin typeface="Times New Roman"/>
              </a:endParaRPr>
            </a:p>
          </p:txBody>
        </p:sp>
      </p:grpSp>
      <p:grpSp>
        <p:nvGrpSpPr>
          <p:cNvPr id="365" name="Group 58"/>
          <p:cNvGrpSpPr/>
          <p:nvPr/>
        </p:nvGrpSpPr>
        <p:grpSpPr>
          <a:xfrm>
            <a:off x="1981080" y="1752480"/>
            <a:ext cx="1596960" cy="1087200"/>
            <a:chOff x="1981080" y="1752480"/>
            <a:chExt cx="1596960" cy="1087200"/>
          </a:xfrm>
        </p:grpSpPr>
        <p:pic>
          <p:nvPicPr>
            <p:cNvPr id="366" name="Picture 59" descr="arrow-red"/>
            <p:cNvPicPr/>
            <p:nvPr/>
          </p:nvPicPr>
          <p:blipFill>
            <a:blip r:embed="rId4"/>
            <a:stretch/>
          </p:blipFill>
          <p:spPr>
            <a:xfrm>
              <a:off x="1981080" y="1752480"/>
              <a:ext cx="1596960" cy="1087200"/>
            </a:xfrm>
            <a:prstGeom prst="rect">
              <a:avLst/>
            </a:prstGeom>
            <a:ln w="0">
              <a:noFill/>
            </a:ln>
          </p:spPr>
        </p:pic>
        <p:sp>
          <p:nvSpPr>
            <p:cNvPr id="367" name="Text Box 60"/>
            <p:cNvSpPr/>
            <p:nvPr/>
          </p:nvSpPr>
          <p:spPr>
            <a:xfrm>
              <a:off x="2221560" y="2078280"/>
              <a:ext cx="1083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ke</a:t>
              </a:r>
              <a:endParaRPr b="0" lang="en-US" sz="1600" spc="-1" strike="noStrike">
                <a:solidFill>
                  <a:srgbClr val="000000"/>
                </a:solidFill>
                <a:latin typeface="Times New Roman"/>
              </a:endParaRPr>
            </a:p>
          </p:txBody>
        </p:sp>
      </p:grpSp>
      <p:grpSp>
        <p:nvGrpSpPr>
          <p:cNvPr id="368" name="Group 61"/>
          <p:cNvGrpSpPr/>
          <p:nvPr/>
        </p:nvGrpSpPr>
        <p:grpSpPr>
          <a:xfrm>
            <a:off x="609480" y="1735200"/>
            <a:ext cx="1596960" cy="1088640"/>
            <a:chOff x="609480" y="1735200"/>
            <a:chExt cx="1596960" cy="1088640"/>
          </a:xfrm>
        </p:grpSpPr>
        <p:pic>
          <p:nvPicPr>
            <p:cNvPr id="369" name="Picture 62" descr="arrow-red"/>
            <p:cNvPicPr/>
            <p:nvPr/>
          </p:nvPicPr>
          <p:blipFill>
            <a:blip r:embed="rId5"/>
            <a:stretch/>
          </p:blipFill>
          <p:spPr>
            <a:xfrm>
              <a:off x="609480" y="1735200"/>
              <a:ext cx="1596960" cy="1088640"/>
            </a:xfrm>
            <a:prstGeom prst="rect">
              <a:avLst/>
            </a:prstGeom>
            <a:ln w="0">
              <a:noFill/>
            </a:ln>
          </p:spPr>
        </p:pic>
        <p:sp>
          <p:nvSpPr>
            <p:cNvPr id="370" name="Text Box 63"/>
            <p:cNvSpPr/>
            <p:nvPr/>
          </p:nvSpPr>
          <p:spPr>
            <a:xfrm>
              <a:off x="812880" y="2097000"/>
              <a:ext cx="1083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a:t>
              </a:r>
              <a:endParaRPr b="0" lang="en-US" sz="1600" spc="-1" strike="noStrike">
                <a:solidFill>
                  <a:srgbClr val="000000"/>
                </a:solidFill>
                <a:latin typeface="Times New Roman"/>
              </a:endParaRPr>
            </a:p>
          </p:txBody>
        </p:sp>
      </p:grpSp>
      <p:sp>
        <p:nvSpPr>
          <p:cNvPr id="371" name="Chevron 20"/>
          <p:cNvSpPr/>
          <p:nvPr/>
        </p:nvSpPr>
        <p:spPr>
          <a:xfrm>
            <a:off x="838080" y="4191120"/>
            <a:ext cx="2667240" cy="1371600"/>
          </a:xfrm>
          <a:custGeom>
            <a:avLst/>
            <a:gdLst>
              <a:gd name="textAreaLeft" fmla="*/ 0 w 2667240"/>
              <a:gd name="textAreaRight" fmla="*/ 2667600 w 2667240"/>
              <a:gd name="textAreaTop" fmla="*/ 0 h 1371600"/>
              <a:gd name="textAreaBottom" fmla="*/ 1371960 h 1371600"/>
            </a:gdLst>
            <a:ahLst/>
            <a:rect l="textAreaLeft" t="textAreaTop" r="textAreaRight" b="textAreaBottom"/>
            <a:pathLst>
              <a:path w="21600" h="21600">
                <a:moveTo>
                  <a:pt x="0" y="0"/>
                </a:moveTo>
                <a:lnTo>
                  <a:pt x="16046" y="0"/>
                </a:lnTo>
                <a:lnTo>
                  <a:pt x="21600" y="10800"/>
                </a:lnTo>
                <a:lnTo>
                  <a:pt x="16046" y="21600"/>
                </a:lnTo>
                <a:lnTo>
                  <a:pt x="0" y="21600"/>
                </a:lnTo>
                <a:lnTo>
                  <a:pt x="5554" y="10800"/>
                </a:lnTo>
                <a:close/>
              </a:path>
            </a:pathLst>
          </a:custGeom>
          <a:solidFill>
            <a:srgbClr val="336699"/>
          </a:solidFill>
          <a:ln w="255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BUY</a:t>
            </a:r>
            <a:endParaRPr b="0" lang="en-US" sz="2400" spc="-1" strike="noStrike">
              <a:solidFill>
                <a:srgbClr val="000000"/>
              </a:solidFill>
              <a:latin typeface="Times New Roman"/>
            </a:endParaRPr>
          </a:p>
        </p:txBody>
      </p:sp>
      <p:sp>
        <p:nvSpPr>
          <p:cNvPr id="372" name="Chevron 21"/>
          <p:cNvSpPr/>
          <p:nvPr/>
        </p:nvSpPr>
        <p:spPr>
          <a:xfrm>
            <a:off x="2933640" y="4191120"/>
            <a:ext cx="2667240" cy="1371600"/>
          </a:xfrm>
          <a:custGeom>
            <a:avLst/>
            <a:gdLst>
              <a:gd name="textAreaLeft" fmla="*/ 0 w 2667240"/>
              <a:gd name="textAreaRight" fmla="*/ 2667600 w 2667240"/>
              <a:gd name="textAreaTop" fmla="*/ 0 h 1371600"/>
              <a:gd name="textAreaBottom" fmla="*/ 1371960 h 1371600"/>
            </a:gdLst>
            <a:ahLst/>
            <a:rect l="textAreaLeft" t="textAreaTop" r="textAreaRight" b="textAreaBottom"/>
            <a:pathLst>
              <a:path w="21600" h="21600">
                <a:moveTo>
                  <a:pt x="0" y="0"/>
                </a:moveTo>
                <a:lnTo>
                  <a:pt x="16046" y="0"/>
                </a:lnTo>
                <a:lnTo>
                  <a:pt x="21600" y="10800"/>
                </a:lnTo>
                <a:lnTo>
                  <a:pt x="16046" y="21600"/>
                </a:lnTo>
                <a:lnTo>
                  <a:pt x="0" y="21600"/>
                </a:lnTo>
                <a:lnTo>
                  <a:pt x="5554" y="10800"/>
                </a:lnTo>
                <a:close/>
              </a:path>
            </a:pathLst>
          </a:custGeom>
          <a:solidFill>
            <a:srgbClr val="336699"/>
          </a:solidFill>
          <a:ln w="255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SHIP</a:t>
            </a:r>
            <a:endParaRPr b="0" lang="en-US" sz="2400" spc="-1" strike="noStrike">
              <a:solidFill>
                <a:srgbClr val="000000"/>
              </a:solidFill>
              <a:latin typeface="Times New Roman"/>
            </a:endParaRPr>
          </a:p>
        </p:txBody>
      </p:sp>
      <p:sp>
        <p:nvSpPr>
          <p:cNvPr id="373" name="Chevron 22"/>
          <p:cNvSpPr/>
          <p:nvPr/>
        </p:nvSpPr>
        <p:spPr>
          <a:xfrm>
            <a:off x="5029200" y="4191120"/>
            <a:ext cx="2666880" cy="1371600"/>
          </a:xfrm>
          <a:custGeom>
            <a:avLst/>
            <a:gdLst>
              <a:gd name="textAreaLeft" fmla="*/ 0 w 2666880"/>
              <a:gd name="textAreaRight" fmla="*/ 2666880 w 2666880"/>
              <a:gd name="textAreaTop" fmla="*/ 0 h 1371600"/>
              <a:gd name="textAreaBottom" fmla="*/ 1371960 h 1371600"/>
            </a:gdLst>
            <a:ahLst/>
            <a:rect l="textAreaLeft" t="textAreaTop" r="textAreaRight" b="textAreaBottom"/>
            <a:pathLst>
              <a:path w="21600" h="21600">
                <a:moveTo>
                  <a:pt x="0" y="0"/>
                </a:moveTo>
                <a:lnTo>
                  <a:pt x="16046" y="0"/>
                </a:lnTo>
                <a:lnTo>
                  <a:pt x="21600" y="10800"/>
                </a:lnTo>
                <a:lnTo>
                  <a:pt x="16046" y="21600"/>
                </a:lnTo>
                <a:lnTo>
                  <a:pt x="0" y="21600"/>
                </a:lnTo>
                <a:lnTo>
                  <a:pt x="5554" y="10800"/>
                </a:lnTo>
                <a:close/>
              </a:path>
            </a:pathLst>
          </a:custGeom>
          <a:solidFill>
            <a:srgbClr val="336699"/>
          </a:solidFill>
          <a:ln w="255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PAY</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Freeform 35"/>
          <p:cNvGrpSpPr/>
          <p:nvPr/>
        </p:nvGrpSpPr>
        <p:grpSpPr>
          <a:xfrm>
            <a:off x="2889360" y="1974960"/>
            <a:ext cx="1993680" cy="2176200"/>
            <a:chOff x="2889360" y="1974960"/>
            <a:chExt cx="1993680" cy="2176200"/>
          </a:xfrm>
        </p:grpSpPr>
        <p:pic>
          <p:nvPicPr>
            <p:cNvPr id="375" name="Freeform 35" descr=""/>
            <p:cNvPicPr/>
            <p:nvPr/>
          </p:nvPicPr>
          <p:blipFill>
            <a:blip r:embed="rId1"/>
            <a:stretch/>
          </p:blipFill>
          <p:spPr>
            <a:xfrm>
              <a:off x="2889360" y="1974960"/>
              <a:ext cx="1993680" cy="2176200"/>
            </a:xfrm>
            <a:prstGeom prst="rect">
              <a:avLst/>
            </a:prstGeom>
            <a:ln w="0">
              <a:noFill/>
            </a:ln>
          </p:spPr>
        </p:pic>
        <p:sp>
          <p:nvSpPr>
            <p:cNvPr id="376" name=""/>
            <p:cNvSpPr/>
            <p:nvPr/>
          </p:nvSpPr>
          <p:spPr>
            <a:xfrm>
              <a:off x="2895480" y="1981080"/>
              <a:ext cx="1981440" cy="216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Freeform 34"/>
          <p:cNvGrpSpPr/>
          <p:nvPr/>
        </p:nvGrpSpPr>
        <p:grpSpPr>
          <a:xfrm>
            <a:off x="719280" y="2316240"/>
            <a:ext cx="2030400" cy="1841400"/>
            <a:chOff x="719280" y="2316240"/>
            <a:chExt cx="2030400" cy="1841400"/>
          </a:xfrm>
        </p:grpSpPr>
        <p:pic>
          <p:nvPicPr>
            <p:cNvPr id="378" name="Freeform 34" descr=""/>
            <p:cNvPicPr/>
            <p:nvPr/>
          </p:nvPicPr>
          <p:blipFill>
            <a:blip r:embed="rId2"/>
            <a:stretch/>
          </p:blipFill>
          <p:spPr>
            <a:xfrm>
              <a:off x="719280" y="2316240"/>
              <a:ext cx="2030400" cy="1841400"/>
            </a:xfrm>
            <a:prstGeom prst="rect">
              <a:avLst/>
            </a:prstGeom>
            <a:ln w="0">
              <a:noFill/>
            </a:ln>
          </p:spPr>
        </p:pic>
        <p:sp>
          <p:nvSpPr>
            <p:cNvPr id="379" name=""/>
            <p:cNvSpPr/>
            <p:nvPr/>
          </p:nvSpPr>
          <p:spPr>
            <a:xfrm>
              <a:off x="722160" y="2322360"/>
              <a:ext cx="20196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0" name="PlaceHolder 1"/>
          <p:cNvSpPr>
            <a:spLocks noGrp="1"/>
          </p:cNvSpPr>
          <p:nvPr>
            <p:ph type="title"/>
          </p:nvPr>
        </p:nvSpPr>
        <p:spPr>
          <a:xfrm>
            <a:off x="914040" y="228600"/>
            <a:ext cx="6737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SCOR and BSP</a:t>
            </a:r>
            <a:endParaRPr b="1" lang="en-US" sz="3200" spc="-1" strike="noStrike">
              <a:solidFill>
                <a:srgbClr val="000000"/>
              </a:solidFill>
              <a:latin typeface="Calibri"/>
            </a:endParaRPr>
          </a:p>
        </p:txBody>
      </p:sp>
      <p:pic>
        <p:nvPicPr>
          <p:cNvPr id="381" name="Picture 50" descr="arrow-red-large"/>
          <p:cNvPicPr/>
          <p:nvPr/>
        </p:nvPicPr>
        <p:blipFill>
          <a:blip r:embed="rId3"/>
          <a:stretch/>
        </p:blipFill>
        <p:spPr>
          <a:xfrm>
            <a:off x="755640" y="987480"/>
            <a:ext cx="3968640" cy="1390680"/>
          </a:xfrm>
          <a:prstGeom prst="rect">
            <a:avLst/>
          </a:prstGeom>
          <a:ln w="0">
            <a:noFill/>
          </a:ln>
        </p:spPr>
      </p:pic>
      <p:sp>
        <p:nvSpPr>
          <p:cNvPr id="382" name="Text Box 51"/>
          <p:cNvSpPr/>
          <p:nvPr/>
        </p:nvSpPr>
        <p:spPr>
          <a:xfrm>
            <a:off x="1859040" y="1523880"/>
            <a:ext cx="1084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alibri"/>
              </a:rPr>
              <a:t>Plan</a:t>
            </a:r>
            <a:endParaRPr b="0" lang="en-US" sz="1600" spc="-1" strike="noStrike">
              <a:solidFill>
                <a:srgbClr val="000000"/>
              </a:solidFill>
              <a:latin typeface="Times New Roman"/>
            </a:endParaRPr>
          </a:p>
        </p:txBody>
      </p:sp>
      <p:grpSp>
        <p:nvGrpSpPr>
          <p:cNvPr id="383" name="Group 52"/>
          <p:cNvGrpSpPr/>
          <p:nvPr/>
        </p:nvGrpSpPr>
        <p:grpSpPr>
          <a:xfrm>
            <a:off x="2979720" y="2570040"/>
            <a:ext cx="1596600" cy="1087200"/>
            <a:chOff x="2979720" y="2570040"/>
            <a:chExt cx="1596600" cy="1087200"/>
          </a:xfrm>
        </p:grpSpPr>
        <p:pic>
          <p:nvPicPr>
            <p:cNvPr id="384" name="Picture 53" descr="arrow-red-left"/>
            <p:cNvPicPr/>
            <p:nvPr/>
          </p:nvPicPr>
          <p:blipFill>
            <a:blip r:embed="rId4"/>
            <a:stretch/>
          </p:blipFill>
          <p:spPr>
            <a:xfrm>
              <a:off x="2979720" y="2570040"/>
              <a:ext cx="1596600" cy="1087200"/>
            </a:xfrm>
            <a:prstGeom prst="rect">
              <a:avLst/>
            </a:prstGeom>
            <a:ln w="0">
              <a:noFill/>
            </a:ln>
          </p:spPr>
        </p:pic>
        <p:sp>
          <p:nvSpPr>
            <p:cNvPr id="385" name="Text Box 54"/>
            <p:cNvSpPr/>
            <p:nvPr/>
          </p:nvSpPr>
          <p:spPr>
            <a:xfrm>
              <a:off x="3270960" y="2897640"/>
              <a:ext cx="107568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alibri"/>
                </a:rPr>
                <a:t>Return</a:t>
              </a:r>
              <a:endParaRPr b="0" lang="en-US" sz="1600" spc="-1" strike="noStrike">
                <a:solidFill>
                  <a:srgbClr val="000000"/>
                </a:solidFill>
                <a:latin typeface="Times New Roman"/>
              </a:endParaRPr>
            </a:p>
          </p:txBody>
        </p:sp>
      </p:grpSp>
      <p:grpSp>
        <p:nvGrpSpPr>
          <p:cNvPr id="386" name="Group 55"/>
          <p:cNvGrpSpPr/>
          <p:nvPr/>
        </p:nvGrpSpPr>
        <p:grpSpPr>
          <a:xfrm>
            <a:off x="3378240" y="1735200"/>
            <a:ext cx="1596600" cy="1088640"/>
            <a:chOff x="3378240" y="1735200"/>
            <a:chExt cx="1596600" cy="1088640"/>
          </a:xfrm>
        </p:grpSpPr>
        <p:pic>
          <p:nvPicPr>
            <p:cNvPr id="387" name="Picture 56" descr="arrow-red"/>
            <p:cNvPicPr/>
            <p:nvPr/>
          </p:nvPicPr>
          <p:blipFill>
            <a:blip r:embed="rId5"/>
            <a:stretch/>
          </p:blipFill>
          <p:spPr>
            <a:xfrm>
              <a:off x="3378240" y="1735200"/>
              <a:ext cx="1596600" cy="1088640"/>
            </a:xfrm>
            <a:prstGeom prst="rect">
              <a:avLst/>
            </a:prstGeom>
            <a:ln w="0">
              <a:noFill/>
            </a:ln>
          </p:spPr>
        </p:pic>
        <p:sp>
          <p:nvSpPr>
            <p:cNvPr id="388" name="Text Box 57"/>
            <p:cNvSpPr/>
            <p:nvPr/>
          </p:nvSpPr>
          <p:spPr>
            <a:xfrm>
              <a:off x="3871440" y="2061360"/>
              <a:ext cx="582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liver</a:t>
              </a:r>
              <a:endParaRPr b="0" lang="en-US" sz="1600" spc="-1" strike="noStrike">
                <a:solidFill>
                  <a:srgbClr val="000000"/>
                </a:solidFill>
                <a:latin typeface="Times New Roman"/>
              </a:endParaRPr>
            </a:p>
          </p:txBody>
        </p:sp>
      </p:grpSp>
      <p:grpSp>
        <p:nvGrpSpPr>
          <p:cNvPr id="389" name="Group 58"/>
          <p:cNvGrpSpPr/>
          <p:nvPr/>
        </p:nvGrpSpPr>
        <p:grpSpPr>
          <a:xfrm>
            <a:off x="1981080" y="1752480"/>
            <a:ext cx="1596960" cy="1087200"/>
            <a:chOff x="1981080" y="1752480"/>
            <a:chExt cx="1596960" cy="1087200"/>
          </a:xfrm>
        </p:grpSpPr>
        <p:pic>
          <p:nvPicPr>
            <p:cNvPr id="390" name="Picture 59" descr="arrow-red"/>
            <p:cNvPicPr/>
            <p:nvPr/>
          </p:nvPicPr>
          <p:blipFill>
            <a:blip r:embed="rId6"/>
            <a:stretch/>
          </p:blipFill>
          <p:spPr>
            <a:xfrm>
              <a:off x="1981080" y="1752480"/>
              <a:ext cx="1596960" cy="1087200"/>
            </a:xfrm>
            <a:prstGeom prst="rect">
              <a:avLst/>
            </a:prstGeom>
            <a:ln w="0">
              <a:noFill/>
            </a:ln>
          </p:spPr>
        </p:pic>
        <p:sp>
          <p:nvSpPr>
            <p:cNvPr id="391" name="Text Box 60"/>
            <p:cNvSpPr/>
            <p:nvPr/>
          </p:nvSpPr>
          <p:spPr>
            <a:xfrm>
              <a:off x="2226600" y="2077560"/>
              <a:ext cx="107604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alibri"/>
                </a:rPr>
                <a:t>Make</a:t>
              </a:r>
              <a:endParaRPr b="0" lang="en-US" sz="1600" spc="-1" strike="noStrike">
                <a:solidFill>
                  <a:srgbClr val="000000"/>
                </a:solidFill>
                <a:latin typeface="Times New Roman"/>
              </a:endParaRPr>
            </a:p>
          </p:txBody>
        </p:sp>
      </p:grpSp>
      <p:grpSp>
        <p:nvGrpSpPr>
          <p:cNvPr id="392" name="Group 61"/>
          <p:cNvGrpSpPr/>
          <p:nvPr/>
        </p:nvGrpSpPr>
        <p:grpSpPr>
          <a:xfrm>
            <a:off x="609480" y="1735200"/>
            <a:ext cx="1596960" cy="1088640"/>
            <a:chOff x="609480" y="1735200"/>
            <a:chExt cx="1596960" cy="1088640"/>
          </a:xfrm>
        </p:grpSpPr>
        <p:pic>
          <p:nvPicPr>
            <p:cNvPr id="393" name="Picture 62" descr="arrow-red"/>
            <p:cNvPicPr/>
            <p:nvPr/>
          </p:nvPicPr>
          <p:blipFill>
            <a:blip r:embed="rId7"/>
            <a:stretch/>
          </p:blipFill>
          <p:spPr>
            <a:xfrm>
              <a:off x="609480" y="1735200"/>
              <a:ext cx="1596960" cy="1088640"/>
            </a:xfrm>
            <a:prstGeom prst="rect">
              <a:avLst/>
            </a:prstGeom>
            <a:ln w="0">
              <a:noFill/>
            </a:ln>
          </p:spPr>
        </p:pic>
        <p:sp>
          <p:nvSpPr>
            <p:cNvPr id="394" name="Text Box 63"/>
            <p:cNvSpPr/>
            <p:nvPr/>
          </p:nvSpPr>
          <p:spPr>
            <a:xfrm>
              <a:off x="849960" y="2061360"/>
              <a:ext cx="1083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a:t>
              </a:r>
              <a:endParaRPr b="0" lang="en-US" sz="1600" spc="-1" strike="noStrike">
                <a:solidFill>
                  <a:srgbClr val="000000"/>
                </a:solidFill>
                <a:latin typeface="Times New Roman"/>
              </a:endParaRPr>
            </a:p>
          </p:txBody>
        </p:sp>
      </p:grpSp>
      <p:sp>
        <p:nvSpPr>
          <p:cNvPr id="395" name="Chevron 20"/>
          <p:cNvSpPr/>
          <p:nvPr/>
        </p:nvSpPr>
        <p:spPr>
          <a:xfrm>
            <a:off x="838080" y="4191120"/>
            <a:ext cx="2667240" cy="1371600"/>
          </a:xfrm>
          <a:custGeom>
            <a:avLst/>
            <a:gdLst>
              <a:gd name="textAreaLeft" fmla="*/ 0 w 2667240"/>
              <a:gd name="textAreaRight" fmla="*/ 2667600 w 2667240"/>
              <a:gd name="textAreaTop" fmla="*/ 0 h 1371600"/>
              <a:gd name="textAreaBottom" fmla="*/ 1371960 h 1371600"/>
            </a:gdLst>
            <a:ahLst/>
            <a:rect l="textAreaLeft" t="textAreaTop" r="textAreaRight" b="textAreaBottom"/>
            <a:pathLst>
              <a:path w="21600" h="21600">
                <a:moveTo>
                  <a:pt x="0" y="0"/>
                </a:moveTo>
                <a:lnTo>
                  <a:pt x="16046" y="0"/>
                </a:lnTo>
                <a:lnTo>
                  <a:pt x="21600" y="10800"/>
                </a:lnTo>
                <a:lnTo>
                  <a:pt x="16046" y="21600"/>
                </a:lnTo>
                <a:lnTo>
                  <a:pt x="0" y="21600"/>
                </a:lnTo>
                <a:lnTo>
                  <a:pt x="5554" y="10800"/>
                </a:lnTo>
                <a:close/>
              </a:path>
            </a:pathLst>
          </a:custGeom>
          <a:solidFill>
            <a:srgbClr val="336699"/>
          </a:solidFill>
          <a:ln w="255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BUY</a:t>
            </a:r>
            <a:endParaRPr b="0" lang="en-US" sz="2400" spc="-1" strike="noStrike">
              <a:solidFill>
                <a:srgbClr val="000000"/>
              </a:solidFill>
              <a:latin typeface="Times New Roman"/>
            </a:endParaRPr>
          </a:p>
        </p:txBody>
      </p:sp>
      <p:sp>
        <p:nvSpPr>
          <p:cNvPr id="396" name="Chevron 21"/>
          <p:cNvSpPr/>
          <p:nvPr/>
        </p:nvSpPr>
        <p:spPr>
          <a:xfrm>
            <a:off x="2933640" y="4191120"/>
            <a:ext cx="2667240" cy="1371600"/>
          </a:xfrm>
          <a:custGeom>
            <a:avLst/>
            <a:gdLst>
              <a:gd name="textAreaLeft" fmla="*/ 0 w 2667240"/>
              <a:gd name="textAreaRight" fmla="*/ 2667600 w 2667240"/>
              <a:gd name="textAreaTop" fmla="*/ 0 h 1371600"/>
              <a:gd name="textAreaBottom" fmla="*/ 1371960 h 1371600"/>
            </a:gdLst>
            <a:ahLst/>
            <a:rect l="textAreaLeft" t="textAreaTop" r="textAreaRight" b="textAreaBottom"/>
            <a:pathLst>
              <a:path w="21600" h="21600">
                <a:moveTo>
                  <a:pt x="0" y="0"/>
                </a:moveTo>
                <a:lnTo>
                  <a:pt x="16046" y="0"/>
                </a:lnTo>
                <a:lnTo>
                  <a:pt x="21600" y="10800"/>
                </a:lnTo>
                <a:lnTo>
                  <a:pt x="16046" y="21600"/>
                </a:lnTo>
                <a:lnTo>
                  <a:pt x="0" y="21600"/>
                </a:lnTo>
                <a:lnTo>
                  <a:pt x="5554" y="10800"/>
                </a:lnTo>
                <a:close/>
              </a:path>
            </a:pathLst>
          </a:custGeom>
          <a:solidFill>
            <a:srgbClr val="336699"/>
          </a:solidFill>
          <a:ln w="255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SHIP</a:t>
            </a:r>
            <a:endParaRPr b="0" lang="en-US" sz="2400" spc="-1" strike="noStrike">
              <a:solidFill>
                <a:srgbClr val="000000"/>
              </a:solidFill>
              <a:latin typeface="Times New Roman"/>
            </a:endParaRPr>
          </a:p>
        </p:txBody>
      </p:sp>
      <p:sp>
        <p:nvSpPr>
          <p:cNvPr id="397" name="Chevron 22"/>
          <p:cNvSpPr/>
          <p:nvPr/>
        </p:nvSpPr>
        <p:spPr>
          <a:xfrm>
            <a:off x="5029200" y="4191120"/>
            <a:ext cx="2666880" cy="1371600"/>
          </a:xfrm>
          <a:custGeom>
            <a:avLst/>
            <a:gdLst>
              <a:gd name="textAreaLeft" fmla="*/ 0 w 2666880"/>
              <a:gd name="textAreaRight" fmla="*/ 2666880 w 2666880"/>
              <a:gd name="textAreaTop" fmla="*/ 0 h 1371600"/>
              <a:gd name="textAreaBottom" fmla="*/ 1371960 h 1371600"/>
            </a:gdLst>
            <a:ahLst/>
            <a:rect l="textAreaLeft" t="textAreaTop" r="textAreaRight" b="textAreaBottom"/>
            <a:pathLst>
              <a:path w="21600" h="21600">
                <a:moveTo>
                  <a:pt x="0" y="0"/>
                </a:moveTo>
                <a:lnTo>
                  <a:pt x="16046" y="0"/>
                </a:lnTo>
                <a:lnTo>
                  <a:pt x="21600" y="10800"/>
                </a:lnTo>
                <a:lnTo>
                  <a:pt x="16046" y="21600"/>
                </a:lnTo>
                <a:lnTo>
                  <a:pt x="0" y="21600"/>
                </a:lnTo>
                <a:lnTo>
                  <a:pt x="5554" y="10800"/>
                </a:lnTo>
                <a:close/>
              </a:path>
            </a:pathLst>
          </a:custGeom>
          <a:solidFill>
            <a:srgbClr val="336699"/>
          </a:solidFill>
          <a:ln w="255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PAY</a:t>
            </a:r>
            <a:endParaRPr b="0" lang="en-US" sz="2400" spc="-1" strike="noStrike">
              <a:solidFill>
                <a:srgbClr val="000000"/>
              </a:solidFill>
              <a:latin typeface="Times New Roman"/>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2" presetSubtype="1">
                                  <p:stCondLst>
                                    <p:cond delay="0"/>
                                  </p:stCondLst>
                                  <p:childTnLst>
                                    <p:set>
                                      <p:cBhvr>
                                        <p:cTn id="67" dur="1" fill="hold">
                                          <p:stCondLst>
                                            <p:cond delay="0"/>
                                          </p:stCondLst>
                                        </p:cTn>
                                        <p:tgtEl>
                                          <p:spTgt spid="377"/>
                                        </p:tgtEl>
                                        <p:attrNameLst>
                                          <p:attrName>style.visibility</p:attrName>
                                        </p:attrNameLst>
                                      </p:cBhvr>
                                      <p:to>
                                        <p:strVal val="visible"/>
                                      </p:to>
                                    </p:set>
                                    <p:animEffect filter="wipe(up)" transition="in">
                                      <p:cBhvr additive="repl">
                                        <p:cTn id="68" dur="500"/>
                                        <p:tgtEl>
                                          <p:spTgt spid="377"/>
                                        </p:tgtEl>
                                      </p:cBhvr>
                                    </p:animEffect>
                                  </p:childTnLst>
                                </p:cTn>
                              </p:par>
                            </p:childTnLst>
                          </p:cTn>
                        </p:par>
                        <p:par>
                          <p:cTn id="69" fill="hold">
                            <p:stCondLst>
                              <p:cond delay="500"/>
                            </p:stCondLst>
                            <p:childTnLst>
                              <p:par>
                                <p:cTn id="70" nodeType="afterEffect" fill="hold" presetClass="entr" presetID="22" presetSubtype="1">
                                  <p:stCondLst>
                                    <p:cond delay="500"/>
                                  </p:stCondLst>
                                  <p:childTnLst>
                                    <p:set>
                                      <p:cBhvr>
                                        <p:cTn id="71" dur="1" fill="hold">
                                          <p:stCondLst>
                                            <p:cond delay="0"/>
                                          </p:stCondLst>
                                        </p:cTn>
                                        <p:tgtEl>
                                          <p:spTgt spid="374"/>
                                        </p:tgtEl>
                                        <p:attrNameLst>
                                          <p:attrName>style.visibility</p:attrName>
                                        </p:attrNameLst>
                                      </p:cBhvr>
                                      <p:to>
                                        <p:strVal val="visible"/>
                                      </p:to>
                                    </p:set>
                                    <p:animEffect filter="wipe(up)" transition="in">
                                      <p:cBhvr additive="repl">
                                        <p:cTn id="72"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185480" y="72720"/>
            <a:ext cx="6737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SCOR and BSP</a:t>
            </a:r>
            <a:endParaRPr b="1" lang="en-US" sz="3200" spc="-1" strike="noStrike">
              <a:solidFill>
                <a:srgbClr val="000000"/>
              </a:solidFill>
              <a:latin typeface="Calibri"/>
            </a:endParaRPr>
          </a:p>
        </p:txBody>
      </p:sp>
      <p:pic>
        <p:nvPicPr>
          <p:cNvPr id="399" name="Picture 3" descr=""/>
          <p:cNvPicPr/>
          <p:nvPr/>
        </p:nvPicPr>
        <p:blipFill>
          <a:blip r:embed="rId1"/>
          <a:stretch/>
        </p:blipFill>
        <p:spPr>
          <a:xfrm>
            <a:off x="46080" y="838080"/>
            <a:ext cx="8869320" cy="54864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98400" y="9684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SCOR-Plan</a:t>
            </a:r>
            <a:endParaRPr b="1" lang="en-US" sz="3200" spc="-1" strike="noStrike">
              <a:solidFill>
                <a:srgbClr val="000000"/>
              </a:solidFill>
              <a:latin typeface="Calibri"/>
            </a:endParaRPr>
          </a:p>
        </p:txBody>
      </p:sp>
      <p:pic>
        <p:nvPicPr>
          <p:cNvPr id="401" name="Picture 3" descr=""/>
          <p:cNvPicPr/>
          <p:nvPr/>
        </p:nvPicPr>
        <p:blipFill>
          <a:blip r:embed="rId1"/>
          <a:stretch/>
        </p:blipFill>
        <p:spPr>
          <a:xfrm>
            <a:off x="3416400" y="1139760"/>
            <a:ext cx="5521320" cy="5211720"/>
          </a:xfrm>
          <a:prstGeom prst="rect">
            <a:avLst/>
          </a:prstGeom>
          <a:ln w="0">
            <a:noFill/>
          </a:ln>
        </p:spPr>
      </p:pic>
      <p:pic>
        <p:nvPicPr>
          <p:cNvPr id="402" name="Picture 50" descr="arrow-red-large"/>
          <p:cNvPicPr/>
          <p:nvPr/>
        </p:nvPicPr>
        <p:blipFill>
          <a:blip r:embed="rId2"/>
          <a:stretch/>
        </p:blipFill>
        <p:spPr>
          <a:xfrm>
            <a:off x="387360" y="838080"/>
            <a:ext cx="2741760" cy="922320"/>
          </a:xfrm>
          <a:prstGeom prst="rect">
            <a:avLst/>
          </a:prstGeom>
          <a:ln w="0">
            <a:noFill/>
          </a:ln>
        </p:spPr>
      </p:pic>
      <p:sp>
        <p:nvSpPr>
          <p:cNvPr id="403" name="Text Box 51"/>
          <p:cNvSpPr/>
          <p:nvPr/>
        </p:nvSpPr>
        <p:spPr>
          <a:xfrm>
            <a:off x="1170000" y="11430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an</a:t>
            </a:r>
            <a:endParaRPr b="0" lang="en-US" sz="1600" spc="-1" strike="noStrike">
              <a:solidFill>
                <a:srgbClr val="000000"/>
              </a:solidFill>
              <a:latin typeface="Times New Roman"/>
            </a:endParaRPr>
          </a:p>
        </p:txBody>
      </p:sp>
      <p:pic>
        <p:nvPicPr>
          <p:cNvPr id="404" name="Picture 53" descr="arrow-red-left"/>
          <p:cNvPicPr/>
          <p:nvPr/>
        </p:nvPicPr>
        <p:blipFill>
          <a:blip r:embed="rId3"/>
          <a:stretch/>
        </p:blipFill>
        <p:spPr>
          <a:xfrm>
            <a:off x="1938240" y="1835280"/>
            <a:ext cx="1122480" cy="736560"/>
          </a:xfrm>
          <a:prstGeom prst="rect">
            <a:avLst/>
          </a:prstGeom>
          <a:ln w="0">
            <a:noFill/>
          </a:ln>
        </p:spPr>
      </p:pic>
      <p:sp>
        <p:nvSpPr>
          <p:cNvPr id="405" name="Text Box 54"/>
          <p:cNvSpPr/>
          <p:nvPr/>
        </p:nvSpPr>
        <p:spPr>
          <a:xfrm>
            <a:off x="2146320" y="20574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Return</a:t>
            </a:r>
            <a:endParaRPr b="0" lang="en-US" sz="1600" spc="-1" strike="noStrike">
              <a:solidFill>
                <a:srgbClr val="000000"/>
              </a:solidFill>
              <a:latin typeface="Times New Roman"/>
            </a:endParaRPr>
          </a:p>
        </p:txBody>
      </p:sp>
      <p:pic>
        <p:nvPicPr>
          <p:cNvPr id="406" name="Picture 56" descr="arrow-red"/>
          <p:cNvPicPr/>
          <p:nvPr/>
        </p:nvPicPr>
        <p:blipFill>
          <a:blip r:embed="rId4"/>
          <a:stretch/>
        </p:blipFill>
        <p:spPr>
          <a:xfrm>
            <a:off x="2146320" y="1279440"/>
            <a:ext cx="1120680" cy="738360"/>
          </a:xfrm>
          <a:prstGeom prst="rect">
            <a:avLst/>
          </a:prstGeom>
          <a:ln w="0">
            <a:noFill/>
          </a:ln>
        </p:spPr>
      </p:pic>
      <p:sp>
        <p:nvSpPr>
          <p:cNvPr id="407" name="Text Box 57"/>
          <p:cNvSpPr/>
          <p:nvPr/>
        </p:nvSpPr>
        <p:spPr>
          <a:xfrm>
            <a:off x="2406240" y="1501920"/>
            <a:ext cx="582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Deliver</a:t>
            </a:r>
            <a:endParaRPr b="0" lang="en-US" sz="1600" spc="-1" strike="noStrike">
              <a:solidFill>
                <a:srgbClr val="000000"/>
              </a:solidFill>
              <a:latin typeface="Times New Roman"/>
            </a:endParaRPr>
          </a:p>
        </p:txBody>
      </p:sp>
      <p:pic>
        <p:nvPicPr>
          <p:cNvPr id="408" name="Picture 59" descr="arrow-red"/>
          <p:cNvPicPr/>
          <p:nvPr/>
        </p:nvPicPr>
        <p:blipFill>
          <a:blip r:embed="rId5"/>
          <a:stretch/>
        </p:blipFill>
        <p:spPr>
          <a:xfrm>
            <a:off x="1200240" y="1279440"/>
            <a:ext cx="1116000" cy="738360"/>
          </a:xfrm>
          <a:prstGeom prst="rect">
            <a:avLst/>
          </a:prstGeom>
          <a:ln w="0">
            <a:noFill/>
          </a:ln>
        </p:spPr>
      </p:pic>
      <p:sp>
        <p:nvSpPr>
          <p:cNvPr id="409" name="Text Box 60"/>
          <p:cNvSpPr/>
          <p:nvPr/>
        </p:nvSpPr>
        <p:spPr>
          <a:xfrm>
            <a:off x="1373040" y="150192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Make</a:t>
            </a:r>
            <a:endParaRPr b="0" lang="en-US" sz="1600" spc="-1" strike="noStrike">
              <a:solidFill>
                <a:srgbClr val="000000"/>
              </a:solidFill>
              <a:latin typeface="Times New Roman"/>
            </a:endParaRPr>
          </a:p>
        </p:txBody>
      </p:sp>
      <p:pic>
        <p:nvPicPr>
          <p:cNvPr id="410" name="Picture 62" descr="arrow-red"/>
          <p:cNvPicPr/>
          <p:nvPr/>
        </p:nvPicPr>
        <p:blipFill>
          <a:blip r:embed="rId6"/>
          <a:stretch/>
        </p:blipFill>
        <p:spPr>
          <a:xfrm>
            <a:off x="298440" y="1279440"/>
            <a:ext cx="1122480" cy="738360"/>
          </a:xfrm>
          <a:prstGeom prst="rect">
            <a:avLst/>
          </a:prstGeom>
          <a:ln w="0">
            <a:noFill/>
          </a:ln>
        </p:spPr>
      </p:pic>
      <p:sp>
        <p:nvSpPr>
          <p:cNvPr id="411" name="Text Box 63"/>
          <p:cNvSpPr/>
          <p:nvPr/>
        </p:nvSpPr>
        <p:spPr>
          <a:xfrm>
            <a:off x="471600" y="1501920"/>
            <a:ext cx="750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Source</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96480"/>
            <a:ext cx="7772400" cy="67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SCOR-Source</a:t>
            </a:r>
            <a:endParaRPr b="1" lang="en-US" sz="3200" spc="-1" strike="noStrike">
              <a:solidFill>
                <a:srgbClr val="000000"/>
              </a:solidFill>
              <a:latin typeface="Calibri"/>
            </a:endParaRPr>
          </a:p>
        </p:txBody>
      </p:sp>
      <p:pic>
        <p:nvPicPr>
          <p:cNvPr id="413" name="Picture 2" descr=""/>
          <p:cNvPicPr/>
          <p:nvPr/>
        </p:nvPicPr>
        <p:blipFill>
          <a:blip r:embed="rId1"/>
          <a:stretch/>
        </p:blipFill>
        <p:spPr>
          <a:xfrm>
            <a:off x="4416480" y="927000"/>
            <a:ext cx="3429000" cy="5281560"/>
          </a:xfrm>
          <a:prstGeom prst="rect">
            <a:avLst/>
          </a:prstGeom>
          <a:ln w="0">
            <a:noFill/>
          </a:ln>
        </p:spPr>
      </p:pic>
      <p:pic>
        <p:nvPicPr>
          <p:cNvPr id="414" name="Picture 50" descr="arrow-red-large"/>
          <p:cNvPicPr/>
          <p:nvPr/>
        </p:nvPicPr>
        <p:blipFill>
          <a:blip r:embed="rId2"/>
          <a:stretch/>
        </p:blipFill>
        <p:spPr>
          <a:xfrm>
            <a:off x="384120" y="835200"/>
            <a:ext cx="2749680" cy="933120"/>
          </a:xfrm>
          <a:prstGeom prst="rect">
            <a:avLst/>
          </a:prstGeom>
          <a:ln w="0">
            <a:noFill/>
          </a:ln>
        </p:spPr>
      </p:pic>
      <p:sp>
        <p:nvSpPr>
          <p:cNvPr id="415" name="Text Box 51"/>
          <p:cNvSpPr/>
          <p:nvPr/>
        </p:nvSpPr>
        <p:spPr>
          <a:xfrm>
            <a:off x="1170000" y="11430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Plan</a:t>
            </a:r>
            <a:endParaRPr b="0" lang="en-US" sz="1600" spc="-1" strike="noStrike">
              <a:solidFill>
                <a:srgbClr val="000000"/>
              </a:solidFill>
              <a:latin typeface="Times New Roman"/>
            </a:endParaRPr>
          </a:p>
        </p:txBody>
      </p:sp>
      <p:pic>
        <p:nvPicPr>
          <p:cNvPr id="416" name="Picture 53" descr="arrow-red-left"/>
          <p:cNvPicPr/>
          <p:nvPr/>
        </p:nvPicPr>
        <p:blipFill>
          <a:blip r:embed="rId3"/>
          <a:stretch/>
        </p:blipFill>
        <p:spPr>
          <a:xfrm>
            <a:off x="1938240" y="1835280"/>
            <a:ext cx="1122480" cy="736560"/>
          </a:xfrm>
          <a:prstGeom prst="rect">
            <a:avLst/>
          </a:prstGeom>
          <a:ln w="0">
            <a:noFill/>
          </a:ln>
        </p:spPr>
      </p:pic>
      <p:sp>
        <p:nvSpPr>
          <p:cNvPr id="417" name="Text Box 54"/>
          <p:cNvSpPr/>
          <p:nvPr/>
        </p:nvSpPr>
        <p:spPr>
          <a:xfrm>
            <a:off x="2146320" y="20574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Return</a:t>
            </a:r>
            <a:endParaRPr b="0" lang="en-US" sz="1600" spc="-1" strike="noStrike">
              <a:solidFill>
                <a:srgbClr val="000000"/>
              </a:solidFill>
              <a:latin typeface="Times New Roman"/>
            </a:endParaRPr>
          </a:p>
        </p:txBody>
      </p:sp>
      <p:pic>
        <p:nvPicPr>
          <p:cNvPr id="418" name="Picture 56" descr="arrow-red"/>
          <p:cNvPicPr/>
          <p:nvPr/>
        </p:nvPicPr>
        <p:blipFill>
          <a:blip r:embed="rId4"/>
          <a:stretch/>
        </p:blipFill>
        <p:spPr>
          <a:xfrm>
            <a:off x="2146320" y="1279440"/>
            <a:ext cx="1120680" cy="738360"/>
          </a:xfrm>
          <a:prstGeom prst="rect">
            <a:avLst/>
          </a:prstGeom>
          <a:ln w="0">
            <a:noFill/>
          </a:ln>
        </p:spPr>
      </p:pic>
      <p:sp>
        <p:nvSpPr>
          <p:cNvPr id="419" name="Text Box 57"/>
          <p:cNvSpPr/>
          <p:nvPr/>
        </p:nvSpPr>
        <p:spPr>
          <a:xfrm>
            <a:off x="2406240" y="1501920"/>
            <a:ext cx="582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Deliver</a:t>
            </a:r>
            <a:endParaRPr b="0" lang="en-US" sz="1600" spc="-1" strike="noStrike">
              <a:solidFill>
                <a:srgbClr val="000000"/>
              </a:solidFill>
              <a:latin typeface="Times New Roman"/>
            </a:endParaRPr>
          </a:p>
        </p:txBody>
      </p:sp>
      <p:pic>
        <p:nvPicPr>
          <p:cNvPr id="420" name="Picture 59" descr="arrow-red"/>
          <p:cNvPicPr/>
          <p:nvPr/>
        </p:nvPicPr>
        <p:blipFill>
          <a:blip r:embed="rId5"/>
          <a:stretch/>
        </p:blipFill>
        <p:spPr>
          <a:xfrm>
            <a:off x="1200240" y="1279440"/>
            <a:ext cx="1116000" cy="738360"/>
          </a:xfrm>
          <a:prstGeom prst="rect">
            <a:avLst/>
          </a:prstGeom>
          <a:ln w="0">
            <a:noFill/>
          </a:ln>
        </p:spPr>
      </p:pic>
      <p:sp>
        <p:nvSpPr>
          <p:cNvPr id="421" name="Text Box 60"/>
          <p:cNvSpPr/>
          <p:nvPr/>
        </p:nvSpPr>
        <p:spPr>
          <a:xfrm>
            <a:off x="1373040" y="150192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Make</a:t>
            </a:r>
            <a:endParaRPr b="0" lang="en-US" sz="1600" spc="-1" strike="noStrike">
              <a:solidFill>
                <a:srgbClr val="000000"/>
              </a:solidFill>
              <a:latin typeface="Times New Roman"/>
            </a:endParaRPr>
          </a:p>
        </p:txBody>
      </p:sp>
      <p:pic>
        <p:nvPicPr>
          <p:cNvPr id="422" name="Picture 62" descr="arrow-red"/>
          <p:cNvPicPr/>
          <p:nvPr/>
        </p:nvPicPr>
        <p:blipFill>
          <a:blip r:embed="rId6"/>
          <a:stretch/>
        </p:blipFill>
        <p:spPr>
          <a:xfrm>
            <a:off x="304920" y="1284120"/>
            <a:ext cx="1106280" cy="725760"/>
          </a:xfrm>
          <a:prstGeom prst="rect">
            <a:avLst/>
          </a:prstGeom>
          <a:ln w="0">
            <a:noFill/>
          </a:ln>
        </p:spPr>
      </p:pic>
      <p:sp>
        <p:nvSpPr>
          <p:cNvPr id="423" name="Text Box 63"/>
          <p:cNvSpPr/>
          <p:nvPr/>
        </p:nvSpPr>
        <p:spPr>
          <a:xfrm>
            <a:off x="471600" y="1501920"/>
            <a:ext cx="750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silf_dag2_port_4991_small"/>
          <p:cNvPicPr/>
          <p:nvPr/>
        </p:nvPicPr>
        <p:blipFill>
          <a:blip r:embed="rId1"/>
          <a:stretch/>
        </p:blipFill>
        <p:spPr>
          <a:xfrm>
            <a:off x="457200" y="1371600"/>
            <a:ext cx="1311120" cy="1962000"/>
          </a:xfrm>
          <a:prstGeom prst="rect">
            <a:avLst/>
          </a:prstGeom>
          <a:ln w="0">
            <a:noFill/>
          </a:ln>
        </p:spPr>
      </p:pic>
      <p:sp>
        <p:nvSpPr>
          <p:cNvPr id="55" name="PlaceHolder 1"/>
          <p:cNvSpPr>
            <a:spLocks noGrp="1"/>
          </p:cNvSpPr>
          <p:nvPr>
            <p:ph type="title"/>
          </p:nvPr>
        </p:nvSpPr>
        <p:spPr>
          <a:xfrm>
            <a:off x="457200" y="307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99"/>
                </a:solidFill>
                <a:latin typeface="Calibri"/>
              </a:rPr>
              <a:t>Enrico Camerinelli</a:t>
            </a:r>
            <a:endParaRPr b="1" lang="en-US" sz="3600" spc="-1" strike="noStrike">
              <a:solidFill>
                <a:srgbClr val="000000"/>
              </a:solidFill>
              <a:latin typeface="Calibri"/>
            </a:endParaRPr>
          </a:p>
        </p:txBody>
      </p:sp>
      <p:sp>
        <p:nvSpPr>
          <p:cNvPr id="56" name=""/>
          <p:cNvSpPr txBox="1"/>
          <p:nvPr/>
        </p:nvSpPr>
        <p:spPr>
          <a:xfrm>
            <a:off x="2090880" y="1371240"/>
            <a:ext cx="6519600" cy="4933800"/>
          </a:xfrm>
          <a:prstGeom prst="rect">
            <a:avLst/>
          </a:prstGeom>
          <a:noFill/>
          <a:ln w="0">
            <a:noFill/>
          </a:ln>
        </p:spPr>
        <p:txBody>
          <a:bodyPr anchor="t">
            <a:normAutofit/>
          </a:bodyPr>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r. Analyst at Aite Group</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rrent research focuses on Global Transaction Banking, Cash &amp; Trade Management, and Supply Chain Finance</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ormerly Executive Director of the </a:t>
            </a:r>
            <a:r>
              <a:rPr b="0" lang="en-US" sz="2000" spc="-1" strike="noStrike">
                <a:solidFill>
                  <a:srgbClr val="000000"/>
                </a:solidFill>
                <a:latin typeface="Calibri"/>
              </a:rPr>
              <a:t>Supply Chain Council</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P for Enterprise Applications at META Group</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ales marketing manager at J.D. Edward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ly Chain and Plant Manager at Lear Corporation and Arvin Exhaust</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Founder of the Supply Chain Finance Council and member of the Italian delegation of UN/CEFACT</a:t>
            </a:r>
            <a:endParaRPr b="0" lang="en-US" sz="2000" spc="-1" strike="noStrike">
              <a:solidFill>
                <a:srgbClr val="000000"/>
              </a:solidFill>
              <a:latin typeface="Calibri"/>
            </a:endParaRPr>
          </a:p>
        </p:txBody>
      </p:sp>
      <p:pic>
        <p:nvPicPr>
          <p:cNvPr id="57" name="Picture 4" descr="Measuring the Value of the Supply Chain">
            <a:hlinkClick r:id="rId2"/>
          </p:cNvPr>
          <p:cNvPicPr/>
          <p:nvPr/>
        </p:nvPicPr>
        <p:blipFill>
          <a:blip r:embed="rId3"/>
          <a:stretch/>
        </p:blipFill>
        <p:spPr>
          <a:xfrm>
            <a:off x="160200" y="3719520"/>
            <a:ext cx="1905120" cy="1905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62040" y="122400"/>
            <a:ext cx="7772400" cy="58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SCOR-Make</a:t>
            </a:r>
            <a:endParaRPr b="1" lang="en-US" sz="3200" spc="-1" strike="noStrike">
              <a:solidFill>
                <a:srgbClr val="000000"/>
              </a:solidFill>
              <a:latin typeface="Calibri"/>
            </a:endParaRPr>
          </a:p>
        </p:txBody>
      </p:sp>
      <p:pic>
        <p:nvPicPr>
          <p:cNvPr id="425" name="Picture 2" descr=""/>
          <p:cNvPicPr/>
          <p:nvPr/>
        </p:nvPicPr>
        <p:blipFill>
          <a:blip r:embed="rId1"/>
          <a:stretch/>
        </p:blipFill>
        <p:spPr>
          <a:xfrm>
            <a:off x="4413240" y="895320"/>
            <a:ext cx="3352680" cy="5483160"/>
          </a:xfrm>
          <a:prstGeom prst="rect">
            <a:avLst/>
          </a:prstGeom>
          <a:ln w="0">
            <a:noFill/>
          </a:ln>
        </p:spPr>
      </p:pic>
      <p:pic>
        <p:nvPicPr>
          <p:cNvPr id="426" name="Picture 50" descr="arrow-red-large"/>
          <p:cNvPicPr/>
          <p:nvPr/>
        </p:nvPicPr>
        <p:blipFill>
          <a:blip r:embed="rId2"/>
          <a:stretch/>
        </p:blipFill>
        <p:spPr>
          <a:xfrm>
            <a:off x="384120" y="835200"/>
            <a:ext cx="2749680" cy="933120"/>
          </a:xfrm>
          <a:prstGeom prst="rect">
            <a:avLst/>
          </a:prstGeom>
          <a:ln w="0">
            <a:noFill/>
          </a:ln>
        </p:spPr>
      </p:pic>
      <p:sp>
        <p:nvSpPr>
          <p:cNvPr id="427" name="Text Box 51"/>
          <p:cNvSpPr/>
          <p:nvPr/>
        </p:nvSpPr>
        <p:spPr>
          <a:xfrm>
            <a:off x="1170000" y="11430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Plan</a:t>
            </a:r>
            <a:endParaRPr b="0" lang="en-US" sz="1600" spc="-1" strike="noStrike">
              <a:solidFill>
                <a:srgbClr val="000000"/>
              </a:solidFill>
              <a:latin typeface="Times New Roman"/>
            </a:endParaRPr>
          </a:p>
        </p:txBody>
      </p:sp>
      <p:pic>
        <p:nvPicPr>
          <p:cNvPr id="428" name="Picture 53" descr="arrow-red-left"/>
          <p:cNvPicPr/>
          <p:nvPr/>
        </p:nvPicPr>
        <p:blipFill>
          <a:blip r:embed="rId3"/>
          <a:stretch/>
        </p:blipFill>
        <p:spPr>
          <a:xfrm>
            <a:off x="1938240" y="1835280"/>
            <a:ext cx="1122480" cy="736560"/>
          </a:xfrm>
          <a:prstGeom prst="rect">
            <a:avLst/>
          </a:prstGeom>
          <a:ln w="0">
            <a:noFill/>
          </a:ln>
        </p:spPr>
      </p:pic>
      <p:sp>
        <p:nvSpPr>
          <p:cNvPr id="429" name="Text Box 54"/>
          <p:cNvSpPr/>
          <p:nvPr/>
        </p:nvSpPr>
        <p:spPr>
          <a:xfrm>
            <a:off x="2146320" y="20574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Return</a:t>
            </a:r>
            <a:endParaRPr b="0" lang="en-US" sz="1600" spc="-1" strike="noStrike">
              <a:solidFill>
                <a:srgbClr val="000000"/>
              </a:solidFill>
              <a:latin typeface="Times New Roman"/>
            </a:endParaRPr>
          </a:p>
        </p:txBody>
      </p:sp>
      <p:pic>
        <p:nvPicPr>
          <p:cNvPr id="430" name="Picture 56" descr="arrow-red"/>
          <p:cNvPicPr/>
          <p:nvPr/>
        </p:nvPicPr>
        <p:blipFill>
          <a:blip r:embed="rId4"/>
          <a:stretch/>
        </p:blipFill>
        <p:spPr>
          <a:xfrm>
            <a:off x="2146320" y="1279440"/>
            <a:ext cx="1120680" cy="738360"/>
          </a:xfrm>
          <a:prstGeom prst="rect">
            <a:avLst/>
          </a:prstGeom>
          <a:ln w="0">
            <a:noFill/>
          </a:ln>
        </p:spPr>
      </p:pic>
      <p:sp>
        <p:nvSpPr>
          <p:cNvPr id="431" name="Text Box 57"/>
          <p:cNvSpPr/>
          <p:nvPr/>
        </p:nvSpPr>
        <p:spPr>
          <a:xfrm>
            <a:off x="2406240" y="1501920"/>
            <a:ext cx="582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Deliver</a:t>
            </a:r>
            <a:endParaRPr b="0" lang="en-US" sz="1600" spc="-1" strike="noStrike">
              <a:solidFill>
                <a:srgbClr val="000000"/>
              </a:solidFill>
              <a:latin typeface="Times New Roman"/>
            </a:endParaRPr>
          </a:p>
        </p:txBody>
      </p:sp>
      <p:pic>
        <p:nvPicPr>
          <p:cNvPr id="432" name="Picture 59" descr="arrow-red"/>
          <p:cNvPicPr/>
          <p:nvPr/>
        </p:nvPicPr>
        <p:blipFill>
          <a:blip r:embed="rId5"/>
          <a:stretch/>
        </p:blipFill>
        <p:spPr>
          <a:xfrm>
            <a:off x="1206360" y="1284120"/>
            <a:ext cx="1106640" cy="725760"/>
          </a:xfrm>
          <a:prstGeom prst="rect">
            <a:avLst/>
          </a:prstGeom>
          <a:ln w="0">
            <a:noFill/>
          </a:ln>
        </p:spPr>
      </p:pic>
      <p:sp>
        <p:nvSpPr>
          <p:cNvPr id="433" name="Text Box 60"/>
          <p:cNvSpPr/>
          <p:nvPr/>
        </p:nvSpPr>
        <p:spPr>
          <a:xfrm>
            <a:off x="1373040" y="150192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ke</a:t>
            </a:r>
            <a:endParaRPr b="0" lang="en-US" sz="1600" spc="-1" strike="noStrike">
              <a:solidFill>
                <a:srgbClr val="000000"/>
              </a:solidFill>
              <a:latin typeface="Times New Roman"/>
            </a:endParaRPr>
          </a:p>
        </p:txBody>
      </p:sp>
      <p:pic>
        <p:nvPicPr>
          <p:cNvPr id="434" name="Picture 62" descr="arrow-red"/>
          <p:cNvPicPr/>
          <p:nvPr/>
        </p:nvPicPr>
        <p:blipFill>
          <a:blip r:embed="rId6"/>
          <a:stretch/>
        </p:blipFill>
        <p:spPr>
          <a:xfrm>
            <a:off x="298440" y="1279440"/>
            <a:ext cx="1122480" cy="738360"/>
          </a:xfrm>
          <a:prstGeom prst="rect">
            <a:avLst/>
          </a:prstGeom>
          <a:ln w="0">
            <a:noFill/>
          </a:ln>
        </p:spPr>
      </p:pic>
      <p:sp>
        <p:nvSpPr>
          <p:cNvPr id="435" name="Text Box 63"/>
          <p:cNvSpPr/>
          <p:nvPr/>
        </p:nvSpPr>
        <p:spPr>
          <a:xfrm>
            <a:off x="471600" y="1501920"/>
            <a:ext cx="750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Source</a:t>
            </a:r>
            <a:endParaRPr b="0" lang="en-US" sz="1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85680"/>
            <a:ext cx="464184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SCOR-Deliver</a:t>
            </a:r>
            <a:endParaRPr b="1" lang="en-US" sz="3200" spc="-1" strike="noStrike">
              <a:solidFill>
                <a:srgbClr val="000000"/>
              </a:solidFill>
              <a:latin typeface="Calibri"/>
            </a:endParaRPr>
          </a:p>
        </p:txBody>
      </p:sp>
      <p:pic>
        <p:nvPicPr>
          <p:cNvPr id="437" name="Picture 2" descr=""/>
          <p:cNvPicPr/>
          <p:nvPr/>
        </p:nvPicPr>
        <p:blipFill>
          <a:blip r:embed="rId1"/>
          <a:stretch/>
        </p:blipFill>
        <p:spPr>
          <a:xfrm>
            <a:off x="4648320" y="0"/>
            <a:ext cx="4267080" cy="6620040"/>
          </a:xfrm>
          <a:prstGeom prst="rect">
            <a:avLst/>
          </a:prstGeom>
          <a:ln w="0">
            <a:noFill/>
          </a:ln>
        </p:spPr>
      </p:pic>
      <p:pic>
        <p:nvPicPr>
          <p:cNvPr id="438" name="Picture 50" descr="arrow-red-large"/>
          <p:cNvPicPr/>
          <p:nvPr/>
        </p:nvPicPr>
        <p:blipFill>
          <a:blip r:embed="rId2"/>
          <a:stretch/>
        </p:blipFill>
        <p:spPr>
          <a:xfrm>
            <a:off x="384120" y="835200"/>
            <a:ext cx="2749680" cy="933120"/>
          </a:xfrm>
          <a:prstGeom prst="rect">
            <a:avLst/>
          </a:prstGeom>
          <a:ln w="0">
            <a:noFill/>
          </a:ln>
        </p:spPr>
      </p:pic>
      <p:sp>
        <p:nvSpPr>
          <p:cNvPr id="439" name="Text Box 51"/>
          <p:cNvSpPr/>
          <p:nvPr/>
        </p:nvSpPr>
        <p:spPr>
          <a:xfrm>
            <a:off x="1170000" y="11430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Plan</a:t>
            </a:r>
            <a:endParaRPr b="0" lang="en-US" sz="1600" spc="-1" strike="noStrike">
              <a:solidFill>
                <a:srgbClr val="000000"/>
              </a:solidFill>
              <a:latin typeface="Times New Roman"/>
            </a:endParaRPr>
          </a:p>
        </p:txBody>
      </p:sp>
      <p:pic>
        <p:nvPicPr>
          <p:cNvPr id="440" name="Picture 53" descr="arrow-red-left"/>
          <p:cNvPicPr/>
          <p:nvPr/>
        </p:nvPicPr>
        <p:blipFill>
          <a:blip r:embed="rId3"/>
          <a:stretch/>
        </p:blipFill>
        <p:spPr>
          <a:xfrm>
            <a:off x="1938240" y="1835280"/>
            <a:ext cx="1122480" cy="736560"/>
          </a:xfrm>
          <a:prstGeom prst="rect">
            <a:avLst/>
          </a:prstGeom>
          <a:ln w="0">
            <a:noFill/>
          </a:ln>
        </p:spPr>
      </p:pic>
      <p:sp>
        <p:nvSpPr>
          <p:cNvPr id="441" name="Text Box 54"/>
          <p:cNvSpPr/>
          <p:nvPr/>
        </p:nvSpPr>
        <p:spPr>
          <a:xfrm>
            <a:off x="2146320" y="20574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Return</a:t>
            </a:r>
            <a:endParaRPr b="0" lang="en-US" sz="1600" spc="-1" strike="noStrike">
              <a:solidFill>
                <a:srgbClr val="000000"/>
              </a:solidFill>
              <a:latin typeface="Times New Roman"/>
            </a:endParaRPr>
          </a:p>
        </p:txBody>
      </p:sp>
      <p:pic>
        <p:nvPicPr>
          <p:cNvPr id="442" name="Picture 56" descr="arrow-red"/>
          <p:cNvPicPr/>
          <p:nvPr/>
        </p:nvPicPr>
        <p:blipFill>
          <a:blip r:embed="rId4"/>
          <a:stretch/>
        </p:blipFill>
        <p:spPr>
          <a:xfrm>
            <a:off x="2154240" y="1284120"/>
            <a:ext cx="1106640" cy="725760"/>
          </a:xfrm>
          <a:prstGeom prst="rect">
            <a:avLst/>
          </a:prstGeom>
          <a:ln w="0">
            <a:noFill/>
          </a:ln>
        </p:spPr>
      </p:pic>
      <p:sp>
        <p:nvSpPr>
          <p:cNvPr id="443" name="Text Box 57"/>
          <p:cNvSpPr/>
          <p:nvPr/>
        </p:nvSpPr>
        <p:spPr>
          <a:xfrm>
            <a:off x="2406240" y="1501920"/>
            <a:ext cx="582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liver</a:t>
            </a:r>
            <a:endParaRPr b="0" lang="en-US" sz="1600" spc="-1" strike="noStrike">
              <a:solidFill>
                <a:srgbClr val="000000"/>
              </a:solidFill>
              <a:latin typeface="Times New Roman"/>
            </a:endParaRPr>
          </a:p>
        </p:txBody>
      </p:sp>
      <p:pic>
        <p:nvPicPr>
          <p:cNvPr id="444" name="Picture 59" descr="arrow-red"/>
          <p:cNvPicPr/>
          <p:nvPr/>
        </p:nvPicPr>
        <p:blipFill>
          <a:blip r:embed="rId5"/>
          <a:stretch/>
        </p:blipFill>
        <p:spPr>
          <a:xfrm>
            <a:off x="1200240" y="1279440"/>
            <a:ext cx="1116000" cy="738360"/>
          </a:xfrm>
          <a:prstGeom prst="rect">
            <a:avLst/>
          </a:prstGeom>
          <a:ln w="0">
            <a:noFill/>
          </a:ln>
        </p:spPr>
      </p:pic>
      <p:sp>
        <p:nvSpPr>
          <p:cNvPr id="445" name="Text Box 60"/>
          <p:cNvSpPr/>
          <p:nvPr/>
        </p:nvSpPr>
        <p:spPr>
          <a:xfrm>
            <a:off x="1373040" y="150192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Make</a:t>
            </a:r>
            <a:endParaRPr b="0" lang="en-US" sz="1600" spc="-1" strike="noStrike">
              <a:solidFill>
                <a:srgbClr val="000000"/>
              </a:solidFill>
              <a:latin typeface="Times New Roman"/>
            </a:endParaRPr>
          </a:p>
        </p:txBody>
      </p:sp>
      <p:pic>
        <p:nvPicPr>
          <p:cNvPr id="446" name="Picture 62" descr="arrow-red"/>
          <p:cNvPicPr/>
          <p:nvPr/>
        </p:nvPicPr>
        <p:blipFill>
          <a:blip r:embed="rId6"/>
          <a:stretch/>
        </p:blipFill>
        <p:spPr>
          <a:xfrm>
            <a:off x="298440" y="1279440"/>
            <a:ext cx="1122480" cy="738360"/>
          </a:xfrm>
          <a:prstGeom prst="rect">
            <a:avLst/>
          </a:prstGeom>
          <a:ln w="0">
            <a:noFill/>
          </a:ln>
        </p:spPr>
      </p:pic>
      <p:sp>
        <p:nvSpPr>
          <p:cNvPr id="447" name="Text Box 63"/>
          <p:cNvSpPr/>
          <p:nvPr/>
        </p:nvSpPr>
        <p:spPr>
          <a:xfrm>
            <a:off x="471600" y="1501920"/>
            <a:ext cx="750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Source</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48960"/>
            <a:ext cx="4300560" cy="74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SCOR-Return</a:t>
            </a:r>
            <a:endParaRPr b="1" lang="en-US" sz="3200" spc="-1" strike="noStrike">
              <a:solidFill>
                <a:srgbClr val="000000"/>
              </a:solidFill>
              <a:latin typeface="Calibri"/>
            </a:endParaRPr>
          </a:p>
        </p:txBody>
      </p:sp>
      <p:pic>
        <p:nvPicPr>
          <p:cNvPr id="449" name="Picture 2" descr=""/>
          <p:cNvPicPr/>
          <p:nvPr/>
        </p:nvPicPr>
        <p:blipFill>
          <a:blip r:embed="rId1"/>
          <a:stretch/>
        </p:blipFill>
        <p:spPr>
          <a:xfrm>
            <a:off x="5181480" y="0"/>
            <a:ext cx="3657600" cy="6648480"/>
          </a:xfrm>
          <a:prstGeom prst="rect">
            <a:avLst/>
          </a:prstGeom>
          <a:ln w="0">
            <a:noFill/>
          </a:ln>
        </p:spPr>
      </p:pic>
      <p:pic>
        <p:nvPicPr>
          <p:cNvPr id="450" name="Picture 50" descr="arrow-red-large"/>
          <p:cNvPicPr/>
          <p:nvPr/>
        </p:nvPicPr>
        <p:blipFill>
          <a:blip r:embed="rId2"/>
          <a:stretch/>
        </p:blipFill>
        <p:spPr>
          <a:xfrm>
            <a:off x="384120" y="835200"/>
            <a:ext cx="2749680" cy="933120"/>
          </a:xfrm>
          <a:prstGeom prst="rect">
            <a:avLst/>
          </a:prstGeom>
          <a:ln w="0">
            <a:noFill/>
          </a:ln>
        </p:spPr>
      </p:pic>
      <p:sp>
        <p:nvSpPr>
          <p:cNvPr id="451" name="Text Box 51"/>
          <p:cNvSpPr/>
          <p:nvPr/>
        </p:nvSpPr>
        <p:spPr>
          <a:xfrm>
            <a:off x="1170000" y="11430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Plan</a:t>
            </a:r>
            <a:endParaRPr b="0" lang="en-US" sz="1600" spc="-1" strike="noStrike">
              <a:solidFill>
                <a:srgbClr val="000000"/>
              </a:solidFill>
              <a:latin typeface="Times New Roman"/>
            </a:endParaRPr>
          </a:p>
        </p:txBody>
      </p:sp>
      <p:pic>
        <p:nvPicPr>
          <p:cNvPr id="452" name="Picture 53" descr="arrow-red-left"/>
          <p:cNvPicPr/>
          <p:nvPr/>
        </p:nvPicPr>
        <p:blipFill>
          <a:blip r:embed="rId3"/>
          <a:stretch/>
        </p:blipFill>
        <p:spPr>
          <a:xfrm>
            <a:off x="1946160" y="1839960"/>
            <a:ext cx="1106640" cy="725400"/>
          </a:xfrm>
          <a:prstGeom prst="rect">
            <a:avLst/>
          </a:prstGeom>
          <a:ln w="0">
            <a:noFill/>
          </a:ln>
        </p:spPr>
      </p:pic>
      <p:sp>
        <p:nvSpPr>
          <p:cNvPr id="453" name="Text Box 54"/>
          <p:cNvSpPr/>
          <p:nvPr/>
        </p:nvSpPr>
        <p:spPr>
          <a:xfrm>
            <a:off x="2146320" y="20574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turn</a:t>
            </a:r>
            <a:endParaRPr b="0" lang="en-US" sz="1600" spc="-1" strike="noStrike">
              <a:solidFill>
                <a:srgbClr val="000000"/>
              </a:solidFill>
              <a:latin typeface="Times New Roman"/>
            </a:endParaRPr>
          </a:p>
        </p:txBody>
      </p:sp>
      <p:pic>
        <p:nvPicPr>
          <p:cNvPr id="454" name="Picture 56" descr="arrow-red"/>
          <p:cNvPicPr/>
          <p:nvPr/>
        </p:nvPicPr>
        <p:blipFill>
          <a:blip r:embed="rId4"/>
          <a:stretch/>
        </p:blipFill>
        <p:spPr>
          <a:xfrm>
            <a:off x="2146320" y="1279440"/>
            <a:ext cx="1120680" cy="738360"/>
          </a:xfrm>
          <a:prstGeom prst="rect">
            <a:avLst/>
          </a:prstGeom>
          <a:ln w="0">
            <a:noFill/>
          </a:ln>
        </p:spPr>
      </p:pic>
      <p:sp>
        <p:nvSpPr>
          <p:cNvPr id="455" name="Text Box 57"/>
          <p:cNvSpPr/>
          <p:nvPr/>
        </p:nvSpPr>
        <p:spPr>
          <a:xfrm>
            <a:off x="2406240" y="1501920"/>
            <a:ext cx="582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Deliver</a:t>
            </a:r>
            <a:endParaRPr b="0" lang="en-US" sz="1600" spc="-1" strike="noStrike">
              <a:solidFill>
                <a:srgbClr val="000000"/>
              </a:solidFill>
              <a:latin typeface="Times New Roman"/>
            </a:endParaRPr>
          </a:p>
        </p:txBody>
      </p:sp>
      <p:pic>
        <p:nvPicPr>
          <p:cNvPr id="456" name="Picture 59" descr="arrow-red"/>
          <p:cNvPicPr/>
          <p:nvPr/>
        </p:nvPicPr>
        <p:blipFill>
          <a:blip r:embed="rId5"/>
          <a:stretch/>
        </p:blipFill>
        <p:spPr>
          <a:xfrm>
            <a:off x="1200240" y="1279440"/>
            <a:ext cx="1116000" cy="738360"/>
          </a:xfrm>
          <a:prstGeom prst="rect">
            <a:avLst/>
          </a:prstGeom>
          <a:ln w="0">
            <a:noFill/>
          </a:ln>
        </p:spPr>
      </p:pic>
      <p:sp>
        <p:nvSpPr>
          <p:cNvPr id="457" name="Text Box 60"/>
          <p:cNvSpPr/>
          <p:nvPr/>
        </p:nvSpPr>
        <p:spPr>
          <a:xfrm>
            <a:off x="1373040" y="150192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Make</a:t>
            </a:r>
            <a:endParaRPr b="0" lang="en-US" sz="1600" spc="-1" strike="noStrike">
              <a:solidFill>
                <a:srgbClr val="000000"/>
              </a:solidFill>
              <a:latin typeface="Times New Roman"/>
            </a:endParaRPr>
          </a:p>
        </p:txBody>
      </p:sp>
      <p:pic>
        <p:nvPicPr>
          <p:cNvPr id="458" name="Picture 62" descr="arrow-red"/>
          <p:cNvPicPr/>
          <p:nvPr/>
        </p:nvPicPr>
        <p:blipFill>
          <a:blip r:embed="rId6"/>
          <a:stretch/>
        </p:blipFill>
        <p:spPr>
          <a:xfrm>
            <a:off x="298440" y="1279440"/>
            <a:ext cx="1122480" cy="738360"/>
          </a:xfrm>
          <a:prstGeom prst="rect">
            <a:avLst/>
          </a:prstGeom>
          <a:ln w="0">
            <a:noFill/>
          </a:ln>
        </p:spPr>
      </p:pic>
      <p:sp>
        <p:nvSpPr>
          <p:cNvPr id="459" name="Text Box 63"/>
          <p:cNvSpPr/>
          <p:nvPr/>
        </p:nvSpPr>
        <p:spPr>
          <a:xfrm>
            <a:off x="471600" y="1501920"/>
            <a:ext cx="750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Source</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5600" y="2130120"/>
            <a:ext cx="8523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Linking the physical and the financial value chains</a:t>
            </a:r>
            <a:endParaRPr b="1" lang="en-US" sz="3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23960" y="175680"/>
            <a:ext cx="777240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Physical and financial value chain metrics</a:t>
            </a:r>
            <a:endParaRPr b="1" lang="en-US" sz="3200" spc="-1" strike="noStrike">
              <a:solidFill>
                <a:srgbClr val="000000"/>
              </a:solidFill>
              <a:latin typeface="Calibri"/>
            </a:endParaRPr>
          </a:p>
        </p:txBody>
      </p:sp>
      <p:pic>
        <p:nvPicPr>
          <p:cNvPr id="462" name="Picture 6" descr=""/>
          <p:cNvPicPr/>
          <p:nvPr/>
        </p:nvPicPr>
        <p:blipFill>
          <a:blip r:embed="rId1"/>
          <a:stretch/>
        </p:blipFill>
        <p:spPr>
          <a:xfrm>
            <a:off x="47520" y="1868400"/>
            <a:ext cx="9068040" cy="4464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11360" y="163080"/>
            <a:ext cx="77724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Physical and financial value chain metrics</a:t>
            </a:r>
            <a:endParaRPr b="1" lang="en-US" sz="3200" spc="-1" strike="noStrike">
              <a:solidFill>
                <a:srgbClr val="000000"/>
              </a:solidFill>
              <a:latin typeface="Calibri"/>
            </a:endParaRPr>
          </a:p>
        </p:txBody>
      </p:sp>
      <p:pic>
        <p:nvPicPr>
          <p:cNvPr id="464" name="Picture 6" descr=""/>
          <p:cNvPicPr/>
          <p:nvPr/>
        </p:nvPicPr>
        <p:blipFill>
          <a:blip r:embed="rId1"/>
          <a:stretch/>
        </p:blipFill>
        <p:spPr>
          <a:xfrm>
            <a:off x="0" y="1143000"/>
            <a:ext cx="9144000" cy="50007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762120" y="759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End-to-end physical value chain processes</a:t>
            </a:r>
            <a:endParaRPr b="1" lang="en-US" sz="3200" spc="-1" strike="noStrike">
              <a:solidFill>
                <a:srgbClr val="000000"/>
              </a:solidFill>
              <a:latin typeface="Calibri"/>
            </a:endParaRPr>
          </a:p>
        </p:txBody>
      </p:sp>
      <p:pic>
        <p:nvPicPr>
          <p:cNvPr id="466" name="Picture 2" descr=""/>
          <p:cNvPicPr/>
          <p:nvPr/>
        </p:nvPicPr>
        <p:blipFill>
          <a:blip r:embed="rId1"/>
          <a:stretch/>
        </p:blipFill>
        <p:spPr>
          <a:xfrm>
            <a:off x="228600" y="609480"/>
            <a:ext cx="8305920" cy="5943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03200" y="63360"/>
            <a:ext cx="84708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Extracting Liquidity From Value Chain Processes</a:t>
            </a:r>
            <a:endParaRPr b="1" lang="en-US" sz="3200" spc="-1" strike="noStrike">
              <a:solidFill>
                <a:srgbClr val="000000"/>
              </a:solidFill>
              <a:latin typeface="Calibri"/>
            </a:endParaRPr>
          </a:p>
        </p:txBody>
      </p:sp>
      <p:grpSp>
        <p:nvGrpSpPr>
          <p:cNvPr id="468" name="Group 4"/>
          <p:cNvGrpSpPr/>
          <p:nvPr/>
        </p:nvGrpSpPr>
        <p:grpSpPr>
          <a:xfrm>
            <a:off x="228600" y="609480"/>
            <a:ext cx="8771040" cy="6067440"/>
            <a:chOff x="228600" y="609480"/>
            <a:chExt cx="8771040" cy="6067440"/>
          </a:xfrm>
        </p:grpSpPr>
        <p:sp>
          <p:nvSpPr>
            <p:cNvPr id="469" name="AutoShape 3"/>
            <p:cNvSpPr/>
            <p:nvPr/>
          </p:nvSpPr>
          <p:spPr>
            <a:xfrm>
              <a:off x="228600" y="609480"/>
              <a:ext cx="8763120" cy="605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0" name="Picture 5" descr=""/>
            <p:cNvPicPr/>
            <p:nvPr/>
          </p:nvPicPr>
          <p:blipFill>
            <a:blip r:embed="rId1"/>
            <a:stretch/>
          </p:blipFill>
          <p:spPr>
            <a:xfrm>
              <a:off x="228600" y="609480"/>
              <a:ext cx="8771040" cy="6067440"/>
            </a:xfrm>
            <a:prstGeom prst="rect">
              <a:avLst/>
            </a:prstGeom>
            <a:ln w="0">
              <a:noFill/>
            </a:ln>
          </p:spPr>
        </p:pic>
        <p:pic>
          <p:nvPicPr>
            <p:cNvPr id="471" name="Picture 6" descr=""/>
            <p:cNvPicPr/>
            <p:nvPr/>
          </p:nvPicPr>
          <p:blipFill>
            <a:blip r:embed="rId2"/>
            <a:stretch/>
          </p:blipFill>
          <p:spPr>
            <a:xfrm>
              <a:off x="228600" y="609480"/>
              <a:ext cx="8771040" cy="6067440"/>
            </a:xfrm>
            <a:prstGeom prst="rect">
              <a:avLst/>
            </a:prstGeom>
            <a:ln w="0">
              <a:noFill/>
            </a:ln>
          </p:spPr>
        </p:pic>
        <p:sp>
          <p:nvSpPr>
            <p:cNvPr id="472" name="Freeform 7"/>
            <p:cNvSpPr/>
            <p:nvPr/>
          </p:nvSpPr>
          <p:spPr>
            <a:xfrm>
              <a:off x="281160" y="641520"/>
              <a:ext cx="8658000" cy="5962320"/>
            </a:xfrm>
            <a:custGeom>
              <a:avLst/>
              <a:gdLst>
                <a:gd name="textAreaLeft" fmla="*/ 0 w 8658000"/>
                <a:gd name="textAreaRight" fmla="*/ 8658360 w 8658000"/>
                <a:gd name="textAreaTop" fmla="*/ 0 h 5962320"/>
                <a:gd name="textAreaBottom" fmla="*/ 5962680 h 5962320"/>
              </a:gdLst>
              <a:ahLst/>
              <a:rect l="textAreaLeft" t="textAreaTop" r="textAreaRight" b="textAreaBottom"/>
              <a:pathLst>
                <a:path w="16032" h="11824">
                  <a:moveTo>
                    <a:pt x="0" y="1971"/>
                  </a:moveTo>
                  <a:cubicBezTo>
                    <a:pt x="0" y="883"/>
                    <a:pt x="883" y="0"/>
                    <a:pt x="1971" y="0"/>
                  </a:cubicBezTo>
                  <a:cubicBezTo>
                    <a:pt x="1971" y="0"/>
                    <a:pt x="1971" y="0"/>
                    <a:pt x="1971" y="0"/>
                  </a:cubicBezTo>
                  <a:lnTo>
                    <a:pt x="1971" y="0"/>
                  </a:lnTo>
                  <a:lnTo>
                    <a:pt x="14062" y="0"/>
                  </a:lnTo>
                  <a:lnTo>
                    <a:pt x="14062" y="0"/>
                  </a:lnTo>
                  <a:cubicBezTo>
                    <a:pt x="15150" y="0"/>
                    <a:pt x="16032" y="883"/>
                    <a:pt x="16032" y="1971"/>
                  </a:cubicBezTo>
                  <a:cubicBezTo>
                    <a:pt x="16032" y="1971"/>
                    <a:pt x="16032" y="1971"/>
                    <a:pt x="16032" y="1971"/>
                  </a:cubicBezTo>
                  <a:lnTo>
                    <a:pt x="16032" y="1971"/>
                  </a:lnTo>
                  <a:lnTo>
                    <a:pt x="16032" y="9854"/>
                  </a:lnTo>
                  <a:lnTo>
                    <a:pt x="16032" y="9854"/>
                  </a:lnTo>
                  <a:cubicBezTo>
                    <a:pt x="16032" y="10942"/>
                    <a:pt x="15150" y="11824"/>
                    <a:pt x="14062" y="11824"/>
                  </a:cubicBezTo>
                  <a:cubicBezTo>
                    <a:pt x="14062" y="11824"/>
                    <a:pt x="14062" y="11824"/>
                    <a:pt x="14062" y="11824"/>
                  </a:cubicBezTo>
                  <a:lnTo>
                    <a:pt x="14062" y="11824"/>
                  </a:lnTo>
                  <a:lnTo>
                    <a:pt x="1971" y="11824"/>
                  </a:lnTo>
                  <a:lnTo>
                    <a:pt x="1971" y="11824"/>
                  </a:lnTo>
                  <a:cubicBezTo>
                    <a:pt x="883" y="11824"/>
                    <a:pt x="0" y="10942"/>
                    <a:pt x="0" y="9854"/>
                  </a:cubicBezTo>
                  <a:cubicBezTo>
                    <a:pt x="0" y="9854"/>
                    <a:pt x="0" y="9854"/>
                    <a:pt x="0" y="9854"/>
                  </a:cubicBezTo>
                  <a:lnTo>
                    <a:pt x="0" y="1971"/>
                  </a:lnTo>
                  <a:close/>
                </a:path>
              </a:pathLst>
            </a:custGeom>
            <a:solidFill>
              <a:srgbClr val="a6a6a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3" name="Freeform 8"/>
            <p:cNvSpPr/>
            <p:nvPr/>
          </p:nvSpPr>
          <p:spPr>
            <a:xfrm>
              <a:off x="276120" y="638280"/>
              <a:ext cx="8667720" cy="5970600"/>
            </a:xfrm>
            <a:custGeom>
              <a:avLst/>
              <a:gdLst>
                <a:gd name="textAreaLeft" fmla="*/ 0 w 8667720"/>
                <a:gd name="textAreaRight" fmla="*/ 8668080 w 8667720"/>
                <a:gd name="textAreaTop" fmla="*/ 0 h 5970600"/>
                <a:gd name="textAreaBottom" fmla="*/ 5970960 h 5970600"/>
              </a:gdLst>
              <a:ahLst/>
              <a:rect l="textAreaLeft" t="textAreaTop" r="textAreaRight" b="textAreaBottom"/>
              <a:pathLst>
                <a:path w="5460" h="3761">
                  <a:moveTo>
                    <a:pt x="0" y="3133"/>
                  </a:moveTo>
                  <a:lnTo>
                    <a:pt x="0" y="3112"/>
                  </a:lnTo>
                  <a:lnTo>
                    <a:pt x="5" y="3112"/>
                  </a:lnTo>
                  <a:lnTo>
                    <a:pt x="5" y="3133"/>
                  </a:lnTo>
                  <a:lnTo>
                    <a:pt x="0" y="3133"/>
                  </a:lnTo>
                  <a:close/>
                  <a:moveTo>
                    <a:pt x="0" y="3097"/>
                  </a:moveTo>
                  <a:lnTo>
                    <a:pt x="0" y="3077"/>
                  </a:lnTo>
                  <a:lnTo>
                    <a:pt x="5" y="3077"/>
                  </a:lnTo>
                  <a:lnTo>
                    <a:pt x="5" y="3097"/>
                  </a:lnTo>
                  <a:lnTo>
                    <a:pt x="0" y="3097"/>
                  </a:lnTo>
                  <a:close/>
                  <a:moveTo>
                    <a:pt x="0" y="3061"/>
                  </a:moveTo>
                  <a:lnTo>
                    <a:pt x="0" y="3041"/>
                  </a:lnTo>
                  <a:lnTo>
                    <a:pt x="5" y="3041"/>
                  </a:lnTo>
                  <a:lnTo>
                    <a:pt x="5" y="3061"/>
                  </a:lnTo>
                  <a:lnTo>
                    <a:pt x="0" y="3061"/>
                  </a:lnTo>
                  <a:close/>
                  <a:moveTo>
                    <a:pt x="0" y="3026"/>
                  </a:moveTo>
                  <a:lnTo>
                    <a:pt x="0" y="3005"/>
                  </a:lnTo>
                  <a:lnTo>
                    <a:pt x="5" y="3005"/>
                  </a:lnTo>
                  <a:lnTo>
                    <a:pt x="5" y="3026"/>
                  </a:lnTo>
                  <a:lnTo>
                    <a:pt x="0" y="3026"/>
                  </a:lnTo>
                  <a:close/>
                  <a:moveTo>
                    <a:pt x="0" y="2990"/>
                  </a:moveTo>
                  <a:lnTo>
                    <a:pt x="0" y="2970"/>
                  </a:lnTo>
                  <a:lnTo>
                    <a:pt x="5" y="2970"/>
                  </a:lnTo>
                  <a:lnTo>
                    <a:pt x="5" y="2990"/>
                  </a:lnTo>
                  <a:lnTo>
                    <a:pt x="0" y="2990"/>
                  </a:lnTo>
                  <a:close/>
                  <a:moveTo>
                    <a:pt x="0" y="2955"/>
                  </a:moveTo>
                  <a:lnTo>
                    <a:pt x="0" y="2934"/>
                  </a:lnTo>
                  <a:lnTo>
                    <a:pt x="5" y="2934"/>
                  </a:lnTo>
                  <a:lnTo>
                    <a:pt x="5" y="2955"/>
                  </a:lnTo>
                  <a:lnTo>
                    <a:pt x="0" y="2955"/>
                  </a:lnTo>
                  <a:close/>
                  <a:moveTo>
                    <a:pt x="0" y="2919"/>
                  </a:moveTo>
                  <a:lnTo>
                    <a:pt x="0" y="2899"/>
                  </a:lnTo>
                  <a:lnTo>
                    <a:pt x="5" y="2899"/>
                  </a:lnTo>
                  <a:lnTo>
                    <a:pt x="5" y="2919"/>
                  </a:lnTo>
                  <a:lnTo>
                    <a:pt x="0" y="2919"/>
                  </a:lnTo>
                  <a:close/>
                  <a:moveTo>
                    <a:pt x="0" y="2883"/>
                  </a:moveTo>
                  <a:lnTo>
                    <a:pt x="0" y="2863"/>
                  </a:lnTo>
                  <a:lnTo>
                    <a:pt x="5" y="2863"/>
                  </a:lnTo>
                  <a:lnTo>
                    <a:pt x="5" y="2883"/>
                  </a:lnTo>
                  <a:lnTo>
                    <a:pt x="0" y="2883"/>
                  </a:lnTo>
                  <a:close/>
                  <a:moveTo>
                    <a:pt x="0" y="2848"/>
                  </a:moveTo>
                  <a:lnTo>
                    <a:pt x="0" y="2827"/>
                  </a:lnTo>
                  <a:lnTo>
                    <a:pt x="5" y="2827"/>
                  </a:lnTo>
                  <a:lnTo>
                    <a:pt x="5" y="2848"/>
                  </a:lnTo>
                  <a:lnTo>
                    <a:pt x="0" y="2848"/>
                  </a:lnTo>
                  <a:close/>
                  <a:moveTo>
                    <a:pt x="0" y="2812"/>
                  </a:moveTo>
                  <a:lnTo>
                    <a:pt x="0" y="2792"/>
                  </a:lnTo>
                  <a:lnTo>
                    <a:pt x="5" y="2792"/>
                  </a:lnTo>
                  <a:lnTo>
                    <a:pt x="5" y="2812"/>
                  </a:lnTo>
                  <a:lnTo>
                    <a:pt x="0" y="2812"/>
                  </a:lnTo>
                  <a:close/>
                  <a:moveTo>
                    <a:pt x="0" y="2776"/>
                  </a:moveTo>
                  <a:lnTo>
                    <a:pt x="0" y="2756"/>
                  </a:lnTo>
                  <a:lnTo>
                    <a:pt x="5" y="2756"/>
                  </a:lnTo>
                  <a:lnTo>
                    <a:pt x="5" y="2776"/>
                  </a:lnTo>
                  <a:lnTo>
                    <a:pt x="0" y="2776"/>
                  </a:lnTo>
                  <a:close/>
                  <a:moveTo>
                    <a:pt x="0" y="2741"/>
                  </a:moveTo>
                  <a:lnTo>
                    <a:pt x="0" y="2721"/>
                  </a:lnTo>
                  <a:lnTo>
                    <a:pt x="5" y="2721"/>
                  </a:lnTo>
                  <a:lnTo>
                    <a:pt x="5" y="2741"/>
                  </a:lnTo>
                  <a:lnTo>
                    <a:pt x="0" y="2741"/>
                  </a:lnTo>
                  <a:close/>
                  <a:moveTo>
                    <a:pt x="0" y="2705"/>
                  </a:moveTo>
                  <a:lnTo>
                    <a:pt x="0" y="2685"/>
                  </a:lnTo>
                  <a:lnTo>
                    <a:pt x="5" y="2685"/>
                  </a:lnTo>
                  <a:lnTo>
                    <a:pt x="5" y="2705"/>
                  </a:lnTo>
                  <a:lnTo>
                    <a:pt x="0" y="2705"/>
                  </a:lnTo>
                  <a:close/>
                  <a:moveTo>
                    <a:pt x="0" y="2670"/>
                  </a:moveTo>
                  <a:lnTo>
                    <a:pt x="0" y="2649"/>
                  </a:lnTo>
                  <a:lnTo>
                    <a:pt x="5" y="2649"/>
                  </a:lnTo>
                  <a:lnTo>
                    <a:pt x="5" y="2670"/>
                  </a:lnTo>
                  <a:lnTo>
                    <a:pt x="0" y="2670"/>
                  </a:lnTo>
                  <a:close/>
                  <a:moveTo>
                    <a:pt x="0" y="2634"/>
                  </a:moveTo>
                  <a:lnTo>
                    <a:pt x="0" y="2614"/>
                  </a:lnTo>
                  <a:lnTo>
                    <a:pt x="5" y="2614"/>
                  </a:lnTo>
                  <a:lnTo>
                    <a:pt x="5" y="2634"/>
                  </a:lnTo>
                  <a:lnTo>
                    <a:pt x="0" y="2634"/>
                  </a:lnTo>
                  <a:close/>
                  <a:moveTo>
                    <a:pt x="0" y="2599"/>
                  </a:moveTo>
                  <a:lnTo>
                    <a:pt x="0" y="2578"/>
                  </a:lnTo>
                  <a:lnTo>
                    <a:pt x="5" y="2578"/>
                  </a:lnTo>
                  <a:lnTo>
                    <a:pt x="5" y="2599"/>
                  </a:lnTo>
                  <a:lnTo>
                    <a:pt x="0" y="2599"/>
                  </a:lnTo>
                  <a:close/>
                  <a:moveTo>
                    <a:pt x="0" y="2563"/>
                  </a:moveTo>
                  <a:lnTo>
                    <a:pt x="0" y="2543"/>
                  </a:lnTo>
                  <a:lnTo>
                    <a:pt x="5" y="2543"/>
                  </a:lnTo>
                  <a:lnTo>
                    <a:pt x="5" y="2563"/>
                  </a:lnTo>
                  <a:lnTo>
                    <a:pt x="0" y="2563"/>
                  </a:lnTo>
                  <a:close/>
                  <a:moveTo>
                    <a:pt x="0" y="2527"/>
                  </a:moveTo>
                  <a:lnTo>
                    <a:pt x="0" y="2507"/>
                  </a:lnTo>
                  <a:lnTo>
                    <a:pt x="5" y="2507"/>
                  </a:lnTo>
                  <a:lnTo>
                    <a:pt x="5" y="2527"/>
                  </a:lnTo>
                  <a:lnTo>
                    <a:pt x="0" y="2527"/>
                  </a:lnTo>
                  <a:close/>
                  <a:moveTo>
                    <a:pt x="0" y="2491"/>
                  </a:moveTo>
                  <a:lnTo>
                    <a:pt x="0" y="2471"/>
                  </a:lnTo>
                  <a:lnTo>
                    <a:pt x="5" y="2471"/>
                  </a:lnTo>
                  <a:lnTo>
                    <a:pt x="5" y="2491"/>
                  </a:lnTo>
                  <a:lnTo>
                    <a:pt x="0" y="2491"/>
                  </a:lnTo>
                  <a:close/>
                  <a:moveTo>
                    <a:pt x="0" y="2456"/>
                  </a:moveTo>
                  <a:lnTo>
                    <a:pt x="0" y="2436"/>
                  </a:lnTo>
                  <a:lnTo>
                    <a:pt x="5" y="2436"/>
                  </a:lnTo>
                  <a:lnTo>
                    <a:pt x="5" y="2456"/>
                  </a:lnTo>
                  <a:lnTo>
                    <a:pt x="0" y="2456"/>
                  </a:lnTo>
                  <a:close/>
                  <a:moveTo>
                    <a:pt x="0" y="2420"/>
                  </a:moveTo>
                  <a:lnTo>
                    <a:pt x="0" y="2400"/>
                  </a:lnTo>
                  <a:lnTo>
                    <a:pt x="5" y="2400"/>
                  </a:lnTo>
                  <a:lnTo>
                    <a:pt x="5" y="2420"/>
                  </a:lnTo>
                  <a:lnTo>
                    <a:pt x="0" y="2420"/>
                  </a:lnTo>
                  <a:close/>
                  <a:moveTo>
                    <a:pt x="0" y="2385"/>
                  </a:moveTo>
                  <a:lnTo>
                    <a:pt x="0" y="2364"/>
                  </a:lnTo>
                  <a:lnTo>
                    <a:pt x="5" y="2364"/>
                  </a:lnTo>
                  <a:lnTo>
                    <a:pt x="5" y="2385"/>
                  </a:lnTo>
                  <a:lnTo>
                    <a:pt x="0" y="2385"/>
                  </a:lnTo>
                  <a:close/>
                  <a:moveTo>
                    <a:pt x="0" y="2349"/>
                  </a:moveTo>
                  <a:lnTo>
                    <a:pt x="0" y="2329"/>
                  </a:lnTo>
                  <a:lnTo>
                    <a:pt x="5" y="2329"/>
                  </a:lnTo>
                  <a:lnTo>
                    <a:pt x="5" y="2349"/>
                  </a:lnTo>
                  <a:lnTo>
                    <a:pt x="0" y="2349"/>
                  </a:lnTo>
                  <a:close/>
                  <a:moveTo>
                    <a:pt x="0" y="2314"/>
                  </a:moveTo>
                  <a:lnTo>
                    <a:pt x="0" y="2293"/>
                  </a:lnTo>
                  <a:lnTo>
                    <a:pt x="5" y="2293"/>
                  </a:lnTo>
                  <a:lnTo>
                    <a:pt x="5" y="2314"/>
                  </a:lnTo>
                  <a:lnTo>
                    <a:pt x="0" y="2314"/>
                  </a:lnTo>
                  <a:close/>
                  <a:moveTo>
                    <a:pt x="0" y="2278"/>
                  </a:moveTo>
                  <a:lnTo>
                    <a:pt x="0" y="2258"/>
                  </a:lnTo>
                  <a:lnTo>
                    <a:pt x="5" y="2258"/>
                  </a:lnTo>
                  <a:lnTo>
                    <a:pt x="5" y="2278"/>
                  </a:lnTo>
                  <a:lnTo>
                    <a:pt x="0" y="2278"/>
                  </a:lnTo>
                  <a:close/>
                  <a:moveTo>
                    <a:pt x="0" y="2242"/>
                  </a:moveTo>
                  <a:lnTo>
                    <a:pt x="0" y="2222"/>
                  </a:lnTo>
                  <a:lnTo>
                    <a:pt x="5" y="2222"/>
                  </a:lnTo>
                  <a:lnTo>
                    <a:pt x="5" y="2242"/>
                  </a:lnTo>
                  <a:lnTo>
                    <a:pt x="0" y="2242"/>
                  </a:lnTo>
                  <a:close/>
                  <a:moveTo>
                    <a:pt x="0" y="2207"/>
                  </a:moveTo>
                  <a:lnTo>
                    <a:pt x="0" y="2186"/>
                  </a:lnTo>
                  <a:lnTo>
                    <a:pt x="5" y="2186"/>
                  </a:lnTo>
                  <a:lnTo>
                    <a:pt x="5" y="2207"/>
                  </a:lnTo>
                  <a:lnTo>
                    <a:pt x="0" y="2207"/>
                  </a:lnTo>
                  <a:close/>
                  <a:moveTo>
                    <a:pt x="0" y="2171"/>
                  </a:moveTo>
                  <a:lnTo>
                    <a:pt x="0" y="2151"/>
                  </a:lnTo>
                  <a:lnTo>
                    <a:pt x="5" y="2151"/>
                  </a:lnTo>
                  <a:lnTo>
                    <a:pt x="5" y="2171"/>
                  </a:lnTo>
                  <a:lnTo>
                    <a:pt x="0" y="2171"/>
                  </a:lnTo>
                  <a:close/>
                  <a:moveTo>
                    <a:pt x="0" y="2135"/>
                  </a:moveTo>
                  <a:lnTo>
                    <a:pt x="0" y="2115"/>
                  </a:lnTo>
                  <a:lnTo>
                    <a:pt x="5" y="2115"/>
                  </a:lnTo>
                  <a:lnTo>
                    <a:pt x="5" y="2135"/>
                  </a:lnTo>
                  <a:lnTo>
                    <a:pt x="0" y="2135"/>
                  </a:lnTo>
                  <a:close/>
                  <a:moveTo>
                    <a:pt x="0" y="2100"/>
                  </a:moveTo>
                  <a:lnTo>
                    <a:pt x="0" y="2079"/>
                  </a:lnTo>
                  <a:lnTo>
                    <a:pt x="5" y="2079"/>
                  </a:lnTo>
                  <a:lnTo>
                    <a:pt x="5" y="2100"/>
                  </a:lnTo>
                  <a:lnTo>
                    <a:pt x="0" y="2100"/>
                  </a:lnTo>
                  <a:close/>
                  <a:moveTo>
                    <a:pt x="0" y="2064"/>
                  </a:moveTo>
                  <a:lnTo>
                    <a:pt x="0" y="2044"/>
                  </a:lnTo>
                  <a:lnTo>
                    <a:pt x="5" y="2044"/>
                  </a:lnTo>
                  <a:lnTo>
                    <a:pt x="5" y="2064"/>
                  </a:lnTo>
                  <a:lnTo>
                    <a:pt x="0" y="2064"/>
                  </a:lnTo>
                  <a:close/>
                  <a:moveTo>
                    <a:pt x="0" y="2029"/>
                  </a:moveTo>
                  <a:lnTo>
                    <a:pt x="0" y="2008"/>
                  </a:lnTo>
                  <a:lnTo>
                    <a:pt x="5" y="2008"/>
                  </a:lnTo>
                  <a:lnTo>
                    <a:pt x="5" y="2029"/>
                  </a:lnTo>
                  <a:lnTo>
                    <a:pt x="0" y="2029"/>
                  </a:lnTo>
                  <a:close/>
                  <a:moveTo>
                    <a:pt x="0" y="1993"/>
                  </a:moveTo>
                  <a:lnTo>
                    <a:pt x="0" y="1973"/>
                  </a:lnTo>
                  <a:lnTo>
                    <a:pt x="5" y="1973"/>
                  </a:lnTo>
                  <a:lnTo>
                    <a:pt x="5" y="1993"/>
                  </a:lnTo>
                  <a:lnTo>
                    <a:pt x="0" y="1993"/>
                  </a:lnTo>
                  <a:close/>
                  <a:moveTo>
                    <a:pt x="0" y="1958"/>
                  </a:moveTo>
                  <a:lnTo>
                    <a:pt x="0" y="1937"/>
                  </a:lnTo>
                  <a:lnTo>
                    <a:pt x="5" y="1937"/>
                  </a:lnTo>
                  <a:lnTo>
                    <a:pt x="5" y="1958"/>
                  </a:lnTo>
                  <a:lnTo>
                    <a:pt x="0" y="1958"/>
                  </a:lnTo>
                  <a:close/>
                  <a:moveTo>
                    <a:pt x="0" y="1922"/>
                  </a:moveTo>
                  <a:lnTo>
                    <a:pt x="0" y="1902"/>
                  </a:lnTo>
                  <a:lnTo>
                    <a:pt x="5" y="1902"/>
                  </a:lnTo>
                  <a:lnTo>
                    <a:pt x="5" y="1922"/>
                  </a:lnTo>
                  <a:lnTo>
                    <a:pt x="0" y="1922"/>
                  </a:lnTo>
                  <a:close/>
                  <a:moveTo>
                    <a:pt x="0" y="1886"/>
                  </a:moveTo>
                  <a:lnTo>
                    <a:pt x="0" y="1866"/>
                  </a:lnTo>
                  <a:lnTo>
                    <a:pt x="5" y="1866"/>
                  </a:lnTo>
                  <a:lnTo>
                    <a:pt x="5" y="1886"/>
                  </a:lnTo>
                  <a:lnTo>
                    <a:pt x="0" y="1886"/>
                  </a:lnTo>
                  <a:close/>
                  <a:moveTo>
                    <a:pt x="0" y="1850"/>
                  </a:moveTo>
                  <a:lnTo>
                    <a:pt x="0" y="1830"/>
                  </a:lnTo>
                  <a:lnTo>
                    <a:pt x="5" y="1830"/>
                  </a:lnTo>
                  <a:lnTo>
                    <a:pt x="5" y="1850"/>
                  </a:lnTo>
                  <a:lnTo>
                    <a:pt x="0" y="1850"/>
                  </a:lnTo>
                  <a:close/>
                  <a:moveTo>
                    <a:pt x="0" y="1815"/>
                  </a:moveTo>
                  <a:lnTo>
                    <a:pt x="0" y="1795"/>
                  </a:lnTo>
                  <a:lnTo>
                    <a:pt x="5" y="1795"/>
                  </a:lnTo>
                  <a:lnTo>
                    <a:pt x="5" y="1815"/>
                  </a:lnTo>
                  <a:lnTo>
                    <a:pt x="0" y="1815"/>
                  </a:lnTo>
                  <a:close/>
                  <a:moveTo>
                    <a:pt x="0" y="1779"/>
                  </a:moveTo>
                  <a:lnTo>
                    <a:pt x="0" y="1759"/>
                  </a:lnTo>
                  <a:lnTo>
                    <a:pt x="5" y="1759"/>
                  </a:lnTo>
                  <a:lnTo>
                    <a:pt x="5" y="1779"/>
                  </a:lnTo>
                  <a:lnTo>
                    <a:pt x="0" y="1779"/>
                  </a:lnTo>
                  <a:close/>
                  <a:moveTo>
                    <a:pt x="0" y="1744"/>
                  </a:moveTo>
                  <a:lnTo>
                    <a:pt x="0" y="1723"/>
                  </a:lnTo>
                  <a:lnTo>
                    <a:pt x="5" y="1723"/>
                  </a:lnTo>
                  <a:lnTo>
                    <a:pt x="5" y="1744"/>
                  </a:lnTo>
                  <a:lnTo>
                    <a:pt x="0" y="1744"/>
                  </a:lnTo>
                  <a:close/>
                  <a:moveTo>
                    <a:pt x="0" y="1708"/>
                  </a:moveTo>
                  <a:lnTo>
                    <a:pt x="0" y="1688"/>
                  </a:lnTo>
                  <a:lnTo>
                    <a:pt x="5" y="1688"/>
                  </a:lnTo>
                  <a:lnTo>
                    <a:pt x="5" y="1708"/>
                  </a:lnTo>
                  <a:lnTo>
                    <a:pt x="0" y="1708"/>
                  </a:lnTo>
                  <a:close/>
                  <a:moveTo>
                    <a:pt x="0" y="1673"/>
                  </a:moveTo>
                  <a:lnTo>
                    <a:pt x="0" y="1652"/>
                  </a:lnTo>
                  <a:lnTo>
                    <a:pt x="5" y="1652"/>
                  </a:lnTo>
                  <a:lnTo>
                    <a:pt x="5" y="1673"/>
                  </a:lnTo>
                  <a:lnTo>
                    <a:pt x="0" y="1673"/>
                  </a:lnTo>
                  <a:close/>
                  <a:moveTo>
                    <a:pt x="0" y="1637"/>
                  </a:moveTo>
                  <a:lnTo>
                    <a:pt x="0" y="1617"/>
                  </a:lnTo>
                  <a:lnTo>
                    <a:pt x="5" y="1617"/>
                  </a:lnTo>
                  <a:lnTo>
                    <a:pt x="5" y="1637"/>
                  </a:lnTo>
                  <a:lnTo>
                    <a:pt x="0" y="1637"/>
                  </a:lnTo>
                  <a:close/>
                  <a:moveTo>
                    <a:pt x="0" y="1601"/>
                  </a:moveTo>
                  <a:lnTo>
                    <a:pt x="0" y="1581"/>
                  </a:lnTo>
                  <a:lnTo>
                    <a:pt x="5" y="1581"/>
                  </a:lnTo>
                  <a:lnTo>
                    <a:pt x="5" y="1601"/>
                  </a:lnTo>
                  <a:lnTo>
                    <a:pt x="0" y="1601"/>
                  </a:lnTo>
                  <a:close/>
                  <a:moveTo>
                    <a:pt x="0" y="1566"/>
                  </a:moveTo>
                  <a:lnTo>
                    <a:pt x="0" y="1545"/>
                  </a:lnTo>
                  <a:lnTo>
                    <a:pt x="5" y="1545"/>
                  </a:lnTo>
                  <a:lnTo>
                    <a:pt x="5" y="1566"/>
                  </a:lnTo>
                  <a:lnTo>
                    <a:pt x="0" y="1566"/>
                  </a:lnTo>
                  <a:close/>
                  <a:moveTo>
                    <a:pt x="0" y="1530"/>
                  </a:moveTo>
                  <a:lnTo>
                    <a:pt x="0" y="1510"/>
                  </a:lnTo>
                  <a:lnTo>
                    <a:pt x="5" y="1510"/>
                  </a:lnTo>
                  <a:lnTo>
                    <a:pt x="5" y="1530"/>
                  </a:lnTo>
                  <a:lnTo>
                    <a:pt x="0" y="1530"/>
                  </a:lnTo>
                  <a:close/>
                  <a:moveTo>
                    <a:pt x="0" y="1494"/>
                  </a:moveTo>
                  <a:lnTo>
                    <a:pt x="0" y="1474"/>
                  </a:lnTo>
                  <a:lnTo>
                    <a:pt x="5" y="1474"/>
                  </a:lnTo>
                  <a:lnTo>
                    <a:pt x="5" y="1494"/>
                  </a:lnTo>
                  <a:lnTo>
                    <a:pt x="0" y="1494"/>
                  </a:lnTo>
                  <a:close/>
                  <a:moveTo>
                    <a:pt x="0" y="1459"/>
                  </a:moveTo>
                  <a:lnTo>
                    <a:pt x="0" y="1438"/>
                  </a:lnTo>
                  <a:lnTo>
                    <a:pt x="5" y="1438"/>
                  </a:lnTo>
                  <a:lnTo>
                    <a:pt x="5" y="1459"/>
                  </a:lnTo>
                  <a:lnTo>
                    <a:pt x="0" y="1459"/>
                  </a:lnTo>
                  <a:close/>
                  <a:moveTo>
                    <a:pt x="0" y="1423"/>
                  </a:moveTo>
                  <a:lnTo>
                    <a:pt x="0" y="1403"/>
                  </a:lnTo>
                  <a:lnTo>
                    <a:pt x="5" y="1403"/>
                  </a:lnTo>
                  <a:lnTo>
                    <a:pt x="5" y="1423"/>
                  </a:lnTo>
                  <a:lnTo>
                    <a:pt x="0" y="1423"/>
                  </a:lnTo>
                  <a:close/>
                  <a:moveTo>
                    <a:pt x="0" y="1388"/>
                  </a:moveTo>
                  <a:lnTo>
                    <a:pt x="0" y="1367"/>
                  </a:lnTo>
                  <a:lnTo>
                    <a:pt x="5" y="1367"/>
                  </a:lnTo>
                  <a:lnTo>
                    <a:pt x="5" y="1388"/>
                  </a:lnTo>
                  <a:lnTo>
                    <a:pt x="0" y="1388"/>
                  </a:lnTo>
                  <a:close/>
                  <a:moveTo>
                    <a:pt x="0" y="1352"/>
                  </a:moveTo>
                  <a:lnTo>
                    <a:pt x="0" y="1332"/>
                  </a:lnTo>
                  <a:lnTo>
                    <a:pt x="5" y="1332"/>
                  </a:lnTo>
                  <a:lnTo>
                    <a:pt x="5" y="1352"/>
                  </a:lnTo>
                  <a:lnTo>
                    <a:pt x="0" y="1352"/>
                  </a:lnTo>
                  <a:close/>
                  <a:moveTo>
                    <a:pt x="0" y="1316"/>
                  </a:moveTo>
                  <a:lnTo>
                    <a:pt x="0" y="1296"/>
                  </a:lnTo>
                  <a:lnTo>
                    <a:pt x="5" y="1296"/>
                  </a:lnTo>
                  <a:lnTo>
                    <a:pt x="5" y="1316"/>
                  </a:lnTo>
                  <a:lnTo>
                    <a:pt x="0" y="1316"/>
                  </a:lnTo>
                  <a:close/>
                  <a:moveTo>
                    <a:pt x="0" y="1281"/>
                  </a:moveTo>
                  <a:lnTo>
                    <a:pt x="0" y="1261"/>
                  </a:lnTo>
                  <a:lnTo>
                    <a:pt x="5" y="1261"/>
                  </a:lnTo>
                  <a:lnTo>
                    <a:pt x="5" y="1281"/>
                  </a:lnTo>
                  <a:lnTo>
                    <a:pt x="0" y="1281"/>
                  </a:lnTo>
                  <a:close/>
                  <a:moveTo>
                    <a:pt x="0" y="1245"/>
                  </a:moveTo>
                  <a:lnTo>
                    <a:pt x="0" y="1225"/>
                  </a:lnTo>
                  <a:lnTo>
                    <a:pt x="5" y="1225"/>
                  </a:lnTo>
                  <a:lnTo>
                    <a:pt x="5" y="1245"/>
                  </a:lnTo>
                  <a:lnTo>
                    <a:pt x="0" y="1245"/>
                  </a:lnTo>
                  <a:close/>
                  <a:moveTo>
                    <a:pt x="0" y="1209"/>
                  </a:moveTo>
                  <a:lnTo>
                    <a:pt x="0" y="1189"/>
                  </a:lnTo>
                  <a:lnTo>
                    <a:pt x="5" y="1189"/>
                  </a:lnTo>
                  <a:lnTo>
                    <a:pt x="5" y="1209"/>
                  </a:lnTo>
                  <a:lnTo>
                    <a:pt x="0" y="1209"/>
                  </a:lnTo>
                  <a:close/>
                  <a:moveTo>
                    <a:pt x="0" y="1174"/>
                  </a:moveTo>
                  <a:lnTo>
                    <a:pt x="0" y="1154"/>
                  </a:lnTo>
                  <a:lnTo>
                    <a:pt x="5" y="1154"/>
                  </a:lnTo>
                  <a:lnTo>
                    <a:pt x="5" y="1174"/>
                  </a:lnTo>
                  <a:lnTo>
                    <a:pt x="0" y="1174"/>
                  </a:lnTo>
                  <a:close/>
                  <a:moveTo>
                    <a:pt x="0" y="1138"/>
                  </a:moveTo>
                  <a:lnTo>
                    <a:pt x="0" y="1118"/>
                  </a:lnTo>
                  <a:lnTo>
                    <a:pt x="5" y="1118"/>
                  </a:lnTo>
                  <a:lnTo>
                    <a:pt x="5" y="1138"/>
                  </a:lnTo>
                  <a:lnTo>
                    <a:pt x="0" y="1138"/>
                  </a:lnTo>
                  <a:close/>
                  <a:moveTo>
                    <a:pt x="0" y="1103"/>
                  </a:moveTo>
                  <a:lnTo>
                    <a:pt x="0" y="1082"/>
                  </a:lnTo>
                  <a:lnTo>
                    <a:pt x="5" y="1082"/>
                  </a:lnTo>
                  <a:lnTo>
                    <a:pt x="5" y="1103"/>
                  </a:lnTo>
                  <a:lnTo>
                    <a:pt x="0" y="1103"/>
                  </a:lnTo>
                  <a:close/>
                  <a:moveTo>
                    <a:pt x="0" y="1067"/>
                  </a:moveTo>
                  <a:lnTo>
                    <a:pt x="0" y="1047"/>
                  </a:lnTo>
                  <a:lnTo>
                    <a:pt x="5" y="1047"/>
                  </a:lnTo>
                  <a:lnTo>
                    <a:pt x="5" y="1067"/>
                  </a:lnTo>
                  <a:lnTo>
                    <a:pt x="0" y="1067"/>
                  </a:lnTo>
                  <a:close/>
                  <a:moveTo>
                    <a:pt x="0" y="1032"/>
                  </a:moveTo>
                  <a:lnTo>
                    <a:pt x="0" y="1011"/>
                  </a:lnTo>
                  <a:lnTo>
                    <a:pt x="5" y="1011"/>
                  </a:lnTo>
                  <a:lnTo>
                    <a:pt x="5" y="1032"/>
                  </a:lnTo>
                  <a:lnTo>
                    <a:pt x="0" y="1032"/>
                  </a:lnTo>
                  <a:close/>
                  <a:moveTo>
                    <a:pt x="0" y="996"/>
                  </a:moveTo>
                  <a:lnTo>
                    <a:pt x="0" y="976"/>
                  </a:lnTo>
                  <a:lnTo>
                    <a:pt x="5" y="976"/>
                  </a:lnTo>
                  <a:lnTo>
                    <a:pt x="5" y="996"/>
                  </a:lnTo>
                  <a:lnTo>
                    <a:pt x="0" y="996"/>
                  </a:lnTo>
                  <a:close/>
                  <a:moveTo>
                    <a:pt x="0" y="960"/>
                  </a:moveTo>
                  <a:lnTo>
                    <a:pt x="0" y="940"/>
                  </a:lnTo>
                  <a:lnTo>
                    <a:pt x="5" y="940"/>
                  </a:lnTo>
                  <a:lnTo>
                    <a:pt x="5" y="960"/>
                  </a:lnTo>
                  <a:lnTo>
                    <a:pt x="0" y="960"/>
                  </a:lnTo>
                  <a:close/>
                  <a:moveTo>
                    <a:pt x="0" y="924"/>
                  </a:moveTo>
                  <a:lnTo>
                    <a:pt x="0" y="904"/>
                  </a:lnTo>
                  <a:lnTo>
                    <a:pt x="5" y="904"/>
                  </a:lnTo>
                  <a:lnTo>
                    <a:pt x="5" y="924"/>
                  </a:lnTo>
                  <a:lnTo>
                    <a:pt x="0" y="924"/>
                  </a:lnTo>
                  <a:close/>
                  <a:moveTo>
                    <a:pt x="0" y="889"/>
                  </a:moveTo>
                  <a:lnTo>
                    <a:pt x="0" y="869"/>
                  </a:lnTo>
                  <a:lnTo>
                    <a:pt x="5" y="869"/>
                  </a:lnTo>
                  <a:lnTo>
                    <a:pt x="5" y="889"/>
                  </a:lnTo>
                  <a:lnTo>
                    <a:pt x="0" y="889"/>
                  </a:lnTo>
                  <a:close/>
                  <a:moveTo>
                    <a:pt x="0" y="853"/>
                  </a:moveTo>
                  <a:lnTo>
                    <a:pt x="0" y="833"/>
                  </a:lnTo>
                  <a:lnTo>
                    <a:pt x="5" y="833"/>
                  </a:lnTo>
                  <a:lnTo>
                    <a:pt x="5" y="853"/>
                  </a:lnTo>
                  <a:lnTo>
                    <a:pt x="0" y="853"/>
                  </a:lnTo>
                  <a:close/>
                  <a:moveTo>
                    <a:pt x="0" y="818"/>
                  </a:moveTo>
                  <a:lnTo>
                    <a:pt x="0" y="797"/>
                  </a:lnTo>
                  <a:lnTo>
                    <a:pt x="5" y="797"/>
                  </a:lnTo>
                  <a:lnTo>
                    <a:pt x="5" y="818"/>
                  </a:lnTo>
                  <a:lnTo>
                    <a:pt x="0" y="818"/>
                  </a:lnTo>
                  <a:close/>
                  <a:moveTo>
                    <a:pt x="0" y="782"/>
                  </a:moveTo>
                  <a:lnTo>
                    <a:pt x="0" y="762"/>
                  </a:lnTo>
                  <a:lnTo>
                    <a:pt x="5" y="762"/>
                  </a:lnTo>
                  <a:lnTo>
                    <a:pt x="5" y="782"/>
                  </a:lnTo>
                  <a:lnTo>
                    <a:pt x="0" y="782"/>
                  </a:lnTo>
                  <a:close/>
                  <a:moveTo>
                    <a:pt x="0" y="747"/>
                  </a:moveTo>
                  <a:lnTo>
                    <a:pt x="0" y="726"/>
                  </a:lnTo>
                  <a:lnTo>
                    <a:pt x="5" y="726"/>
                  </a:lnTo>
                  <a:lnTo>
                    <a:pt x="5" y="747"/>
                  </a:lnTo>
                  <a:lnTo>
                    <a:pt x="0" y="747"/>
                  </a:lnTo>
                  <a:close/>
                  <a:moveTo>
                    <a:pt x="0" y="711"/>
                  </a:moveTo>
                  <a:lnTo>
                    <a:pt x="0" y="691"/>
                  </a:lnTo>
                  <a:lnTo>
                    <a:pt x="5" y="691"/>
                  </a:lnTo>
                  <a:lnTo>
                    <a:pt x="5" y="711"/>
                  </a:lnTo>
                  <a:lnTo>
                    <a:pt x="0" y="711"/>
                  </a:lnTo>
                  <a:close/>
                  <a:moveTo>
                    <a:pt x="0" y="675"/>
                  </a:moveTo>
                  <a:lnTo>
                    <a:pt x="0" y="655"/>
                  </a:lnTo>
                  <a:lnTo>
                    <a:pt x="5" y="655"/>
                  </a:lnTo>
                  <a:lnTo>
                    <a:pt x="5" y="675"/>
                  </a:lnTo>
                  <a:lnTo>
                    <a:pt x="0" y="675"/>
                  </a:lnTo>
                  <a:close/>
                  <a:moveTo>
                    <a:pt x="0" y="640"/>
                  </a:moveTo>
                  <a:lnTo>
                    <a:pt x="0" y="628"/>
                  </a:lnTo>
                  <a:lnTo>
                    <a:pt x="1" y="619"/>
                  </a:lnTo>
                  <a:lnTo>
                    <a:pt x="6" y="620"/>
                  </a:lnTo>
                  <a:lnTo>
                    <a:pt x="5" y="628"/>
                  </a:lnTo>
                  <a:lnTo>
                    <a:pt x="5" y="640"/>
                  </a:lnTo>
                  <a:lnTo>
                    <a:pt x="0" y="640"/>
                  </a:lnTo>
                  <a:close/>
                  <a:moveTo>
                    <a:pt x="1" y="604"/>
                  </a:moveTo>
                  <a:lnTo>
                    <a:pt x="2" y="584"/>
                  </a:lnTo>
                  <a:lnTo>
                    <a:pt x="8" y="584"/>
                  </a:lnTo>
                  <a:lnTo>
                    <a:pt x="7" y="604"/>
                  </a:lnTo>
                  <a:lnTo>
                    <a:pt x="1" y="604"/>
                  </a:lnTo>
                  <a:close/>
                  <a:moveTo>
                    <a:pt x="3" y="568"/>
                  </a:moveTo>
                  <a:lnTo>
                    <a:pt x="3" y="565"/>
                  </a:lnTo>
                  <a:lnTo>
                    <a:pt x="6" y="548"/>
                  </a:lnTo>
                  <a:lnTo>
                    <a:pt x="12" y="549"/>
                  </a:lnTo>
                  <a:lnTo>
                    <a:pt x="9" y="565"/>
                  </a:lnTo>
                  <a:lnTo>
                    <a:pt x="9" y="569"/>
                  </a:lnTo>
                  <a:lnTo>
                    <a:pt x="3" y="568"/>
                  </a:lnTo>
                  <a:close/>
                  <a:moveTo>
                    <a:pt x="9" y="533"/>
                  </a:moveTo>
                  <a:lnTo>
                    <a:pt x="12" y="513"/>
                  </a:lnTo>
                  <a:lnTo>
                    <a:pt x="17" y="514"/>
                  </a:lnTo>
                  <a:lnTo>
                    <a:pt x="14" y="534"/>
                  </a:lnTo>
                  <a:lnTo>
                    <a:pt x="9" y="533"/>
                  </a:lnTo>
                  <a:close/>
                  <a:moveTo>
                    <a:pt x="15" y="498"/>
                  </a:moveTo>
                  <a:lnTo>
                    <a:pt x="20" y="478"/>
                  </a:lnTo>
                  <a:lnTo>
                    <a:pt x="26" y="479"/>
                  </a:lnTo>
                  <a:lnTo>
                    <a:pt x="20" y="499"/>
                  </a:lnTo>
                  <a:lnTo>
                    <a:pt x="15" y="498"/>
                  </a:lnTo>
                  <a:close/>
                  <a:moveTo>
                    <a:pt x="24" y="463"/>
                  </a:moveTo>
                  <a:lnTo>
                    <a:pt x="30" y="444"/>
                  </a:lnTo>
                  <a:lnTo>
                    <a:pt x="35" y="445"/>
                  </a:lnTo>
                  <a:lnTo>
                    <a:pt x="30" y="465"/>
                  </a:lnTo>
                  <a:lnTo>
                    <a:pt x="24" y="463"/>
                  </a:lnTo>
                  <a:close/>
                  <a:moveTo>
                    <a:pt x="36" y="429"/>
                  </a:moveTo>
                  <a:lnTo>
                    <a:pt x="43" y="410"/>
                  </a:lnTo>
                  <a:lnTo>
                    <a:pt x="48" y="411"/>
                  </a:lnTo>
                  <a:lnTo>
                    <a:pt x="41" y="431"/>
                  </a:lnTo>
                  <a:lnTo>
                    <a:pt x="36" y="429"/>
                  </a:lnTo>
                  <a:close/>
                  <a:moveTo>
                    <a:pt x="49" y="395"/>
                  </a:moveTo>
                  <a:lnTo>
                    <a:pt x="53" y="384"/>
                  </a:lnTo>
                  <a:lnTo>
                    <a:pt x="57" y="376"/>
                  </a:lnTo>
                  <a:lnTo>
                    <a:pt x="62" y="378"/>
                  </a:lnTo>
                  <a:lnTo>
                    <a:pt x="58" y="386"/>
                  </a:lnTo>
                  <a:lnTo>
                    <a:pt x="54" y="397"/>
                  </a:lnTo>
                  <a:lnTo>
                    <a:pt x="49" y="395"/>
                  </a:lnTo>
                  <a:close/>
                  <a:moveTo>
                    <a:pt x="64" y="363"/>
                  </a:moveTo>
                  <a:lnTo>
                    <a:pt x="73" y="344"/>
                  </a:lnTo>
                  <a:lnTo>
                    <a:pt x="79" y="346"/>
                  </a:lnTo>
                  <a:lnTo>
                    <a:pt x="69" y="365"/>
                  </a:lnTo>
                  <a:lnTo>
                    <a:pt x="64" y="363"/>
                  </a:lnTo>
                  <a:close/>
                  <a:moveTo>
                    <a:pt x="81" y="330"/>
                  </a:moveTo>
                  <a:lnTo>
                    <a:pt x="81" y="329"/>
                  </a:lnTo>
                  <a:lnTo>
                    <a:pt x="92" y="313"/>
                  </a:lnTo>
                  <a:lnTo>
                    <a:pt x="97" y="316"/>
                  </a:lnTo>
                  <a:lnTo>
                    <a:pt x="86" y="331"/>
                  </a:lnTo>
                  <a:lnTo>
                    <a:pt x="86" y="333"/>
                  </a:lnTo>
                  <a:lnTo>
                    <a:pt x="81" y="330"/>
                  </a:lnTo>
                  <a:close/>
                  <a:moveTo>
                    <a:pt x="100" y="300"/>
                  </a:moveTo>
                  <a:lnTo>
                    <a:pt x="112" y="283"/>
                  </a:lnTo>
                  <a:lnTo>
                    <a:pt x="116" y="285"/>
                  </a:lnTo>
                  <a:lnTo>
                    <a:pt x="105" y="303"/>
                  </a:lnTo>
                  <a:lnTo>
                    <a:pt x="100" y="300"/>
                  </a:lnTo>
                  <a:close/>
                  <a:moveTo>
                    <a:pt x="121" y="269"/>
                  </a:moveTo>
                  <a:lnTo>
                    <a:pt x="134" y="253"/>
                  </a:lnTo>
                  <a:lnTo>
                    <a:pt x="138" y="256"/>
                  </a:lnTo>
                  <a:lnTo>
                    <a:pt x="125" y="273"/>
                  </a:lnTo>
                  <a:lnTo>
                    <a:pt x="121" y="269"/>
                  </a:lnTo>
                  <a:close/>
                  <a:moveTo>
                    <a:pt x="144" y="241"/>
                  </a:moveTo>
                  <a:lnTo>
                    <a:pt x="154" y="229"/>
                  </a:lnTo>
                  <a:lnTo>
                    <a:pt x="157" y="225"/>
                  </a:lnTo>
                  <a:lnTo>
                    <a:pt x="162" y="228"/>
                  </a:lnTo>
                  <a:lnTo>
                    <a:pt x="158" y="232"/>
                  </a:lnTo>
                  <a:lnTo>
                    <a:pt x="148" y="244"/>
                  </a:lnTo>
                  <a:lnTo>
                    <a:pt x="144" y="241"/>
                  </a:lnTo>
                  <a:close/>
                  <a:moveTo>
                    <a:pt x="168" y="214"/>
                  </a:moveTo>
                  <a:lnTo>
                    <a:pt x="183" y="198"/>
                  </a:lnTo>
                  <a:lnTo>
                    <a:pt x="187" y="202"/>
                  </a:lnTo>
                  <a:lnTo>
                    <a:pt x="172" y="217"/>
                  </a:lnTo>
                  <a:lnTo>
                    <a:pt x="168" y="214"/>
                  </a:lnTo>
                  <a:close/>
                  <a:moveTo>
                    <a:pt x="194" y="187"/>
                  </a:moveTo>
                  <a:lnTo>
                    <a:pt x="197" y="184"/>
                  </a:lnTo>
                  <a:lnTo>
                    <a:pt x="210" y="173"/>
                  </a:lnTo>
                  <a:lnTo>
                    <a:pt x="214" y="177"/>
                  </a:lnTo>
                  <a:lnTo>
                    <a:pt x="201" y="188"/>
                  </a:lnTo>
                  <a:lnTo>
                    <a:pt x="198" y="191"/>
                  </a:lnTo>
                  <a:lnTo>
                    <a:pt x="194" y="187"/>
                  </a:lnTo>
                  <a:close/>
                  <a:moveTo>
                    <a:pt x="222" y="163"/>
                  </a:moveTo>
                  <a:lnTo>
                    <a:pt x="238" y="149"/>
                  </a:lnTo>
                  <a:lnTo>
                    <a:pt x="242" y="153"/>
                  </a:lnTo>
                  <a:lnTo>
                    <a:pt x="226" y="167"/>
                  </a:lnTo>
                  <a:lnTo>
                    <a:pt x="222" y="163"/>
                  </a:lnTo>
                  <a:close/>
                  <a:moveTo>
                    <a:pt x="251" y="139"/>
                  </a:moveTo>
                  <a:lnTo>
                    <a:pt x="269" y="127"/>
                  </a:lnTo>
                  <a:lnTo>
                    <a:pt x="272" y="131"/>
                  </a:lnTo>
                  <a:lnTo>
                    <a:pt x="254" y="143"/>
                  </a:lnTo>
                  <a:lnTo>
                    <a:pt x="251" y="139"/>
                  </a:lnTo>
                  <a:close/>
                  <a:moveTo>
                    <a:pt x="282" y="118"/>
                  </a:moveTo>
                  <a:lnTo>
                    <a:pt x="297" y="107"/>
                  </a:lnTo>
                  <a:lnTo>
                    <a:pt x="300" y="106"/>
                  </a:lnTo>
                  <a:lnTo>
                    <a:pt x="302" y="110"/>
                  </a:lnTo>
                  <a:lnTo>
                    <a:pt x="300" y="112"/>
                  </a:lnTo>
                  <a:lnTo>
                    <a:pt x="285" y="122"/>
                  </a:lnTo>
                  <a:lnTo>
                    <a:pt x="282" y="118"/>
                  </a:lnTo>
                  <a:close/>
                  <a:moveTo>
                    <a:pt x="314" y="98"/>
                  </a:moveTo>
                  <a:lnTo>
                    <a:pt x="332" y="87"/>
                  </a:lnTo>
                  <a:lnTo>
                    <a:pt x="335" y="92"/>
                  </a:lnTo>
                  <a:lnTo>
                    <a:pt x="316" y="102"/>
                  </a:lnTo>
                  <a:lnTo>
                    <a:pt x="314" y="98"/>
                  </a:lnTo>
                  <a:close/>
                  <a:moveTo>
                    <a:pt x="346" y="80"/>
                  </a:moveTo>
                  <a:lnTo>
                    <a:pt x="352" y="76"/>
                  </a:lnTo>
                  <a:lnTo>
                    <a:pt x="366" y="70"/>
                  </a:lnTo>
                  <a:lnTo>
                    <a:pt x="368" y="74"/>
                  </a:lnTo>
                  <a:lnTo>
                    <a:pt x="355" y="80"/>
                  </a:lnTo>
                  <a:lnTo>
                    <a:pt x="349" y="84"/>
                  </a:lnTo>
                  <a:lnTo>
                    <a:pt x="346" y="80"/>
                  </a:lnTo>
                  <a:close/>
                  <a:moveTo>
                    <a:pt x="380" y="63"/>
                  </a:moveTo>
                  <a:lnTo>
                    <a:pt x="400" y="54"/>
                  </a:lnTo>
                  <a:lnTo>
                    <a:pt x="402" y="59"/>
                  </a:lnTo>
                  <a:lnTo>
                    <a:pt x="383" y="68"/>
                  </a:lnTo>
                  <a:lnTo>
                    <a:pt x="380" y="63"/>
                  </a:lnTo>
                  <a:close/>
                  <a:moveTo>
                    <a:pt x="415" y="48"/>
                  </a:moveTo>
                  <a:lnTo>
                    <a:pt x="436" y="41"/>
                  </a:lnTo>
                  <a:lnTo>
                    <a:pt x="437" y="46"/>
                  </a:lnTo>
                  <a:lnTo>
                    <a:pt x="417" y="53"/>
                  </a:lnTo>
                  <a:lnTo>
                    <a:pt x="415" y="48"/>
                  </a:lnTo>
                  <a:close/>
                  <a:moveTo>
                    <a:pt x="451" y="36"/>
                  </a:moveTo>
                  <a:lnTo>
                    <a:pt x="472" y="29"/>
                  </a:lnTo>
                  <a:lnTo>
                    <a:pt x="474" y="34"/>
                  </a:lnTo>
                  <a:lnTo>
                    <a:pt x="453" y="41"/>
                  </a:lnTo>
                  <a:lnTo>
                    <a:pt x="451" y="36"/>
                  </a:lnTo>
                  <a:close/>
                  <a:moveTo>
                    <a:pt x="488" y="25"/>
                  </a:moveTo>
                  <a:lnTo>
                    <a:pt x="509" y="20"/>
                  </a:lnTo>
                  <a:lnTo>
                    <a:pt x="510" y="25"/>
                  </a:lnTo>
                  <a:lnTo>
                    <a:pt x="489" y="30"/>
                  </a:lnTo>
                  <a:lnTo>
                    <a:pt x="488" y="25"/>
                  </a:lnTo>
                  <a:close/>
                  <a:moveTo>
                    <a:pt x="525" y="16"/>
                  </a:moveTo>
                  <a:lnTo>
                    <a:pt x="538" y="13"/>
                  </a:lnTo>
                  <a:lnTo>
                    <a:pt x="546" y="12"/>
                  </a:lnTo>
                  <a:lnTo>
                    <a:pt x="547" y="17"/>
                  </a:lnTo>
                  <a:lnTo>
                    <a:pt x="539" y="18"/>
                  </a:lnTo>
                  <a:lnTo>
                    <a:pt x="526" y="21"/>
                  </a:lnTo>
                  <a:lnTo>
                    <a:pt x="525" y="16"/>
                  </a:lnTo>
                  <a:close/>
                  <a:moveTo>
                    <a:pt x="562" y="9"/>
                  </a:moveTo>
                  <a:lnTo>
                    <a:pt x="584" y="6"/>
                  </a:lnTo>
                  <a:lnTo>
                    <a:pt x="584" y="11"/>
                  </a:lnTo>
                  <a:lnTo>
                    <a:pt x="563" y="14"/>
                  </a:lnTo>
                  <a:lnTo>
                    <a:pt x="562" y="9"/>
                  </a:lnTo>
                  <a:close/>
                  <a:moveTo>
                    <a:pt x="600" y="4"/>
                  </a:moveTo>
                  <a:lnTo>
                    <a:pt x="605" y="3"/>
                  </a:lnTo>
                  <a:lnTo>
                    <a:pt x="622" y="2"/>
                  </a:lnTo>
                  <a:lnTo>
                    <a:pt x="622" y="7"/>
                  </a:lnTo>
                  <a:lnTo>
                    <a:pt x="606" y="8"/>
                  </a:lnTo>
                  <a:lnTo>
                    <a:pt x="601" y="9"/>
                  </a:lnTo>
                  <a:lnTo>
                    <a:pt x="600" y="4"/>
                  </a:lnTo>
                  <a:close/>
                  <a:moveTo>
                    <a:pt x="638" y="2"/>
                  </a:moveTo>
                  <a:lnTo>
                    <a:pt x="660" y="0"/>
                  </a:lnTo>
                  <a:lnTo>
                    <a:pt x="660" y="6"/>
                  </a:lnTo>
                  <a:lnTo>
                    <a:pt x="639" y="7"/>
                  </a:lnTo>
                  <a:lnTo>
                    <a:pt x="638" y="2"/>
                  </a:lnTo>
                  <a:close/>
                  <a:moveTo>
                    <a:pt x="676" y="0"/>
                  </a:moveTo>
                  <a:lnTo>
                    <a:pt x="698" y="0"/>
                  </a:lnTo>
                  <a:lnTo>
                    <a:pt x="698" y="5"/>
                  </a:lnTo>
                  <a:lnTo>
                    <a:pt x="676" y="5"/>
                  </a:lnTo>
                  <a:lnTo>
                    <a:pt x="676" y="0"/>
                  </a:lnTo>
                  <a:close/>
                  <a:moveTo>
                    <a:pt x="714" y="0"/>
                  </a:moveTo>
                  <a:lnTo>
                    <a:pt x="737" y="0"/>
                  </a:lnTo>
                  <a:lnTo>
                    <a:pt x="737" y="5"/>
                  </a:lnTo>
                  <a:lnTo>
                    <a:pt x="714" y="5"/>
                  </a:lnTo>
                  <a:lnTo>
                    <a:pt x="714" y="0"/>
                  </a:lnTo>
                  <a:close/>
                  <a:moveTo>
                    <a:pt x="753" y="0"/>
                  </a:moveTo>
                  <a:lnTo>
                    <a:pt x="775" y="0"/>
                  </a:lnTo>
                  <a:lnTo>
                    <a:pt x="775" y="5"/>
                  </a:lnTo>
                  <a:lnTo>
                    <a:pt x="753" y="5"/>
                  </a:lnTo>
                  <a:lnTo>
                    <a:pt x="753" y="0"/>
                  </a:lnTo>
                  <a:close/>
                  <a:moveTo>
                    <a:pt x="791" y="0"/>
                  </a:moveTo>
                  <a:lnTo>
                    <a:pt x="813" y="0"/>
                  </a:lnTo>
                  <a:lnTo>
                    <a:pt x="813" y="5"/>
                  </a:lnTo>
                  <a:lnTo>
                    <a:pt x="791" y="5"/>
                  </a:lnTo>
                  <a:lnTo>
                    <a:pt x="791" y="0"/>
                  </a:lnTo>
                  <a:close/>
                  <a:moveTo>
                    <a:pt x="829" y="0"/>
                  </a:moveTo>
                  <a:lnTo>
                    <a:pt x="851" y="0"/>
                  </a:lnTo>
                  <a:lnTo>
                    <a:pt x="851" y="5"/>
                  </a:lnTo>
                  <a:lnTo>
                    <a:pt x="829" y="5"/>
                  </a:lnTo>
                  <a:lnTo>
                    <a:pt x="829" y="0"/>
                  </a:lnTo>
                  <a:close/>
                  <a:moveTo>
                    <a:pt x="867" y="0"/>
                  </a:moveTo>
                  <a:lnTo>
                    <a:pt x="889" y="0"/>
                  </a:lnTo>
                  <a:lnTo>
                    <a:pt x="889" y="5"/>
                  </a:lnTo>
                  <a:lnTo>
                    <a:pt x="867" y="5"/>
                  </a:lnTo>
                  <a:lnTo>
                    <a:pt x="867" y="0"/>
                  </a:lnTo>
                  <a:close/>
                  <a:moveTo>
                    <a:pt x="905" y="0"/>
                  </a:moveTo>
                  <a:lnTo>
                    <a:pt x="927" y="0"/>
                  </a:lnTo>
                  <a:lnTo>
                    <a:pt x="927" y="5"/>
                  </a:lnTo>
                  <a:lnTo>
                    <a:pt x="905" y="5"/>
                  </a:lnTo>
                  <a:lnTo>
                    <a:pt x="905" y="0"/>
                  </a:lnTo>
                  <a:close/>
                  <a:moveTo>
                    <a:pt x="943" y="0"/>
                  </a:moveTo>
                  <a:lnTo>
                    <a:pt x="965" y="0"/>
                  </a:lnTo>
                  <a:lnTo>
                    <a:pt x="965" y="5"/>
                  </a:lnTo>
                  <a:lnTo>
                    <a:pt x="943" y="5"/>
                  </a:lnTo>
                  <a:lnTo>
                    <a:pt x="943" y="0"/>
                  </a:lnTo>
                  <a:close/>
                  <a:moveTo>
                    <a:pt x="982" y="0"/>
                  </a:moveTo>
                  <a:lnTo>
                    <a:pt x="1003" y="0"/>
                  </a:lnTo>
                  <a:lnTo>
                    <a:pt x="1003" y="5"/>
                  </a:lnTo>
                  <a:lnTo>
                    <a:pt x="982" y="5"/>
                  </a:lnTo>
                  <a:lnTo>
                    <a:pt x="982" y="0"/>
                  </a:lnTo>
                  <a:close/>
                  <a:moveTo>
                    <a:pt x="1020" y="0"/>
                  </a:moveTo>
                  <a:lnTo>
                    <a:pt x="1041" y="0"/>
                  </a:lnTo>
                  <a:lnTo>
                    <a:pt x="1041" y="5"/>
                  </a:lnTo>
                  <a:lnTo>
                    <a:pt x="1020" y="5"/>
                  </a:lnTo>
                  <a:lnTo>
                    <a:pt x="1020" y="0"/>
                  </a:lnTo>
                  <a:close/>
                  <a:moveTo>
                    <a:pt x="1058" y="0"/>
                  </a:moveTo>
                  <a:lnTo>
                    <a:pt x="1080" y="0"/>
                  </a:lnTo>
                  <a:lnTo>
                    <a:pt x="1080" y="5"/>
                  </a:lnTo>
                  <a:lnTo>
                    <a:pt x="1058" y="5"/>
                  </a:lnTo>
                  <a:lnTo>
                    <a:pt x="1058" y="0"/>
                  </a:lnTo>
                  <a:close/>
                  <a:moveTo>
                    <a:pt x="1096" y="0"/>
                  </a:moveTo>
                  <a:lnTo>
                    <a:pt x="1118" y="0"/>
                  </a:lnTo>
                  <a:lnTo>
                    <a:pt x="1118" y="5"/>
                  </a:lnTo>
                  <a:lnTo>
                    <a:pt x="1096" y="5"/>
                  </a:lnTo>
                  <a:lnTo>
                    <a:pt x="1096" y="0"/>
                  </a:lnTo>
                  <a:close/>
                  <a:moveTo>
                    <a:pt x="1134" y="0"/>
                  </a:moveTo>
                  <a:lnTo>
                    <a:pt x="1156" y="0"/>
                  </a:lnTo>
                  <a:lnTo>
                    <a:pt x="1156" y="5"/>
                  </a:lnTo>
                  <a:lnTo>
                    <a:pt x="1134" y="5"/>
                  </a:lnTo>
                  <a:lnTo>
                    <a:pt x="1134" y="0"/>
                  </a:lnTo>
                  <a:close/>
                  <a:moveTo>
                    <a:pt x="1172" y="0"/>
                  </a:moveTo>
                  <a:lnTo>
                    <a:pt x="1194" y="0"/>
                  </a:lnTo>
                  <a:lnTo>
                    <a:pt x="1194" y="5"/>
                  </a:lnTo>
                  <a:lnTo>
                    <a:pt x="1172" y="5"/>
                  </a:lnTo>
                  <a:lnTo>
                    <a:pt x="1172" y="0"/>
                  </a:lnTo>
                  <a:close/>
                  <a:moveTo>
                    <a:pt x="1211" y="0"/>
                  </a:moveTo>
                  <a:lnTo>
                    <a:pt x="1232" y="0"/>
                  </a:lnTo>
                  <a:lnTo>
                    <a:pt x="1232" y="5"/>
                  </a:lnTo>
                  <a:lnTo>
                    <a:pt x="1211" y="5"/>
                  </a:lnTo>
                  <a:lnTo>
                    <a:pt x="1211" y="0"/>
                  </a:lnTo>
                  <a:close/>
                  <a:moveTo>
                    <a:pt x="1249" y="0"/>
                  </a:moveTo>
                  <a:lnTo>
                    <a:pt x="1270" y="0"/>
                  </a:lnTo>
                  <a:lnTo>
                    <a:pt x="1270" y="5"/>
                  </a:lnTo>
                  <a:lnTo>
                    <a:pt x="1249" y="5"/>
                  </a:lnTo>
                  <a:lnTo>
                    <a:pt x="1249" y="0"/>
                  </a:lnTo>
                  <a:close/>
                  <a:moveTo>
                    <a:pt x="1287" y="0"/>
                  </a:moveTo>
                  <a:lnTo>
                    <a:pt x="1308" y="0"/>
                  </a:lnTo>
                  <a:lnTo>
                    <a:pt x="1308" y="5"/>
                  </a:lnTo>
                  <a:lnTo>
                    <a:pt x="1287" y="5"/>
                  </a:lnTo>
                  <a:lnTo>
                    <a:pt x="1287" y="0"/>
                  </a:lnTo>
                  <a:close/>
                  <a:moveTo>
                    <a:pt x="1325" y="0"/>
                  </a:moveTo>
                  <a:lnTo>
                    <a:pt x="1347" y="0"/>
                  </a:lnTo>
                  <a:lnTo>
                    <a:pt x="1347" y="5"/>
                  </a:lnTo>
                  <a:lnTo>
                    <a:pt x="1325" y="5"/>
                  </a:lnTo>
                  <a:lnTo>
                    <a:pt x="1325" y="0"/>
                  </a:lnTo>
                  <a:close/>
                  <a:moveTo>
                    <a:pt x="1363" y="0"/>
                  </a:moveTo>
                  <a:lnTo>
                    <a:pt x="1385" y="0"/>
                  </a:lnTo>
                  <a:lnTo>
                    <a:pt x="1385" y="5"/>
                  </a:lnTo>
                  <a:lnTo>
                    <a:pt x="1363" y="5"/>
                  </a:lnTo>
                  <a:lnTo>
                    <a:pt x="1363" y="0"/>
                  </a:lnTo>
                  <a:close/>
                  <a:moveTo>
                    <a:pt x="1401" y="0"/>
                  </a:moveTo>
                  <a:lnTo>
                    <a:pt x="1423" y="0"/>
                  </a:lnTo>
                  <a:lnTo>
                    <a:pt x="1423" y="5"/>
                  </a:lnTo>
                  <a:lnTo>
                    <a:pt x="1401" y="5"/>
                  </a:lnTo>
                  <a:lnTo>
                    <a:pt x="1401" y="0"/>
                  </a:lnTo>
                  <a:close/>
                  <a:moveTo>
                    <a:pt x="1439" y="0"/>
                  </a:moveTo>
                  <a:lnTo>
                    <a:pt x="1461" y="0"/>
                  </a:lnTo>
                  <a:lnTo>
                    <a:pt x="1461" y="5"/>
                  </a:lnTo>
                  <a:lnTo>
                    <a:pt x="1439" y="5"/>
                  </a:lnTo>
                  <a:lnTo>
                    <a:pt x="1439" y="0"/>
                  </a:lnTo>
                  <a:close/>
                  <a:moveTo>
                    <a:pt x="1478" y="0"/>
                  </a:moveTo>
                  <a:lnTo>
                    <a:pt x="1499" y="0"/>
                  </a:lnTo>
                  <a:lnTo>
                    <a:pt x="1499" y="5"/>
                  </a:lnTo>
                  <a:lnTo>
                    <a:pt x="1478" y="5"/>
                  </a:lnTo>
                  <a:lnTo>
                    <a:pt x="1478" y="0"/>
                  </a:lnTo>
                  <a:close/>
                  <a:moveTo>
                    <a:pt x="1516" y="0"/>
                  </a:moveTo>
                  <a:lnTo>
                    <a:pt x="1537" y="0"/>
                  </a:lnTo>
                  <a:lnTo>
                    <a:pt x="1537" y="5"/>
                  </a:lnTo>
                  <a:lnTo>
                    <a:pt x="1516" y="5"/>
                  </a:lnTo>
                  <a:lnTo>
                    <a:pt x="1516" y="0"/>
                  </a:lnTo>
                  <a:close/>
                  <a:moveTo>
                    <a:pt x="1554" y="0"/>
                  </a:moveTo>
                  <a:lnTo>
                    <a:pt x="1576" y="0"/>
                  </a:lnTo>
                  <a:lnTo>
                    <a:pt x="1576" y="5"/>
                  </a:lnTo>
                  <a:lnTo>
                    <a:pt x="1554" y="5"/>
                  </a:lnTo>
                  <a:lnTo>
                    <a:pt x="1554" y="0"/>
                  </a:lnTo>
                  <a:close/>
                  <a:moveTo>
                    <a:pt x="1592" y="0"/>
                  </a:moveTo>
                  <a:lnTo>
                    <a:pt x="1614" y="0"/>
                  </a:lnTo>
                  <a:lnTo>
                    <a:pt x="1614" y="5"/>
                  </a:lnTo>
                  <a:lnTo>
                    <a:pt x="1592" y="5"/>
                  </a:lnTo>
                  <a:lnTo>
                    <a:pt x="1592" y="0"/>
                  </a:lnTo>
                  <a:close/>
                  <a:moveTo>
                    <a:pt x="1630" y="0"/>
                  </a:moveTo>
                  <a:lnTo>
                    <a:pt x="1652" y="0"/>
                  </a:lnTo>
                  <a:lnTo>
                    <a:pt x="1652" y="5"/>
                  </a:lnTo>
                  <a:lnTo>
                    <a:pt x="1630" y="5"/>
                  </a:lnTo>
                  <a:lnTo>
                    <a:pt x="1630" y="0"/>
                  </a:lnTo>
                  <a:close/>
                  <a:moveTo>
                    <a:pt x="1668" y="0"/>
                  </a:moveTo>
                  <a:lnTo>
                    <a:pt x="1690" y="0"/>
                  </a:lnTo>
                  <a:lnTo>
                    <a:pt x="1690" y="5"/>
                  </a:lnTo>
                  <a:lnTo>
                    <a:pt x="1668" y="5"/>
                  </a:lnTo>
                  <a:lnTo>
                    <a:pt x="1668" y="0"/>
                  </a:lnTo>
                  <a:close/>
                  <a:moveTo>
                    <a:pt x="1706" y="0"/>
                  </a:moveTo>
                  <a:lnTo>
                    <a:pt x="1728" y="0"/>
                  </a:lnTo>
                  <a:lnTo>
                    <a:pt x="1728" y="5"/>
                  </a:lnTo>
                  <a:lnTo>
                    <a:pt x="1706" y="5"/>
                  </a:lnTo>
                  <a:lnTo>
                    <a:pt x="1706" y="0"/>
                  </a:lnTo>
                  <a:close/>
                  <a:moveTo>
                    <a:pt x="1745" y="0"/>
                  </a:moveTo>
                  <a:lnTo>
                    <a:pt x="1766" y="0"/>
                  </a:lnTo>
                  <a:lnTo>
                    <a:pt x="1766" y="5"/>
                  </a:lnTo>
                  <a:lnTo>
                    <a:pt x="1745" y="5"/>
                  </a:lnTo>
                  <a:lnTo>
                    <a:pt x="1745" y="0"/>
                  </a:lnTo>
                  <a:close/>
                  <a:moveTo>
                    <a:pt x="1783" y="0"/>
                  </a:moveTo>
                  <a:lnTo>
                    <a:pt x="1805" y="0"/>
                  </a:lnTo>
                  <a:lnTo>
                    <a:pt x="1805" y="5"/>
                  </a:lnTo>
                  <a:lnTo>
                    <a:pt x="1783" y="5"/>
                  </a:lnTo>
                  <a:lnTo>
                    <a:pt x="1783" y="0"/>
                  </a:lnTo>
                  <a:close/>
                  <a:moveTo>
                    <a:pt x="1821" y="0"/>
                  </a:moveTo>
                  <a:lnTo>
                    <a:pt x="1843" y="0"/>
                  </a:lnTo>
                  <a:lnTo>
                    <a:pt x="1843" y="5"/>
                  </a:lnTo>
                  <a:lnTo>
                    <a:pt x="1821" y="5"/>
                  </a:lnTo>
                  <a:lnTo>
                    <a:pt x="1821" y="0"/>
                  </a:lnTo>
                  <a:close/>
                  <a:moveTo>
                    <a:pt x="1859" y="0"/>
                  </a:moveTo>
                  <a:lnTo>
                    <a:pt x="1881" y="0"/>
                  </a:lnTo>
                  <a:lnTo>
                    <a:pt x="1881" y="5"/>
                  </a:lnTo>
                  <a:lnTo>
                    <a:pt x="1859" y="5"/>
                  </a:lnTo>
                  <a:lnTo>
                    <a:pt x="1859" y="0"/>
                  </a:lnTo>
                  <a:close/>
                  <a:moveTo>
                    <a:pt x="1897" y="0"/>
                  </a:moveTo>
                  <a:lnTo>
                    <a:pt x="1919" y="0"/>
                  </a:lnTo>
                  <a:lnTo>
                    <a:pt x="1919" y="5"/>
                  </a:lnTo>
                  <a:lnTo>
                    <a:pt x="1897" y="5"/>
                  </a:lnTo>
                  <a:lnTo>
                    <a:pt x="1897" y="0"/>
                  </a:lnTo>
                  <a:close/>
                  <a:moveTo>
                    <a:pt x="1935" y="0"/>
                  </a:moveTo>
                  <a:lnTo>
                    <a:pt x="1957" y="0"/>
                  </a:lnTo>
                  <a:lnTo>
                    <a:pt x="1957" y="5"/>
                  </a:lnTo>
                  <a:lnTo>
                    <a:pt x="1935" y="5"/>
                  </a:lnTo>
                  <a:lnTo>
                    <a:pt x="1935" y="0"/>
                  </a:lnTo>
                  <a:close/>
                  <a:moveTo>
                    <a:pt x="1973" y="0"/>
                  </a:moveTo>
                  <a:lnTo>
                    <a:pt x="1995" y="0"/>
                  </a:lnTo>
                  <a:lnTo>
                    <a:pt x="1995" y="5"/>
                  </a:lnTo>
                  <a:lnTo>
                    <a:pt x="1973" y="5"/>
                  </a:lnTo>
                  <a:lnTo>
                    <a:pt x="1973" y="0"/>
                  </a:lnTo>
                  <a:close/>
                  <a:moveTo>
                    <a:pt x="2011" y="0"/>
                  </a:moveTo>
                  <a:lnTo>
                    <a:pt x="2033" y="0"/>
                  </a:lnTo>
                  <a:lnTo>
                    <a:pt x="2033" y="5"/>
                  </a:lnTo>
                  <a:lnTo>
                    <a:pt x="2011" y="5"/>
                  </a:lnTo>
                  <a:lnTo>
                    <a:pt x="2011" y="0"/>
                  </a:lnTo>
                  <a:close/>
                  <a:moveTo>
                    <a:pt x="2050" y="0"/>
                  </a:moveTo>
                  <a:lnTo>
                    <a:pt x="2071" y="0"/>
                  </a:lnTo>
                  <a:lnTo>
                    <a:pt x="2071" y="5"/>
                  </a:lnTo>
                  <a:lnTo>
                    <a:pt x="2050" y="5"/>
                  </a:lnTo>
                  <a:lnTo>
                    <a:pt x="2050" y="0"/>
                  </a:lnTo>
                  <a:close/>
                  <a:moveTo>
                    <a:pt x="2088" y="0"/>
                  </a:moveTo>
                  <a:lnTo>
                    <a:pt x="2110" y="0"/>
                  </a:lnTo>
                  <a:lnTo>
                    <a:pt x="2110" y="5"/>
                  </a:lnTo>
                  <a:lnTo>
                    <a:pt x="2088" y="5"/>
                  </a:lnTo>
                  <a:lnTo>
                    <a:pt x="2088" y="0"/>
                  </a:lnTo>
                  <a:close/>
                  <a:moveTo>
                    <a:pt x="2126" y="0"/>
                  </a:moveTo>
                  <a:lnTo>
                    <a:pt x="2148" y="0"/>
                  </a:lnTo>
                  <a:lnTo>
                    <a:pt x="2148" y="5"/>
                  </a:lnTo>
                  <a:lnTo>
                    <a:pt x="2126" y="5"/>
                  </a:lnTo>
                  <a:lnTo>
                    <a:pt x="2126" y="0"/>
                  </a:lnTo>
                  <a:close/>
                  <a:moveTo>
                    <a:pt x="2164" y="0"/>
                  </a:moveTo>
                  <a:lnTo>
                    <a:pt x="2186" y="0"/>
                  </a:lnTo>
                  <a:lnTo>
                    <a:pt x="2186" y="5"/>
                  </a:lnTo>
                  <a:lnTo>
                    <a:pt x="2164" y="5"/>
                  </a:lnTo>
                  <a:lnTo>
                    <a:pt x="2164" y="0"/>
                  </a:lnTo>
                  <a:close/>
                  <a:moveTo>
                    <a:pt x="2202" y="0"/>
                  </a:moveTo>
                  <a:lnTo>
                    <a:pt x="2224" y="0"/>
                  </a:lnTo>
                  <a:lnTo>
                    <a:pt x="2224" y="5"/>
                  </a:lnTo>
                  <a:lnTo>
                    <a:pt x="2202" y="5"/>
                  </a:lnTo>
                  <a:lnTo>
                    <a:pt x="2202" y="0"/>
                  </a:lnTo>
                  <a:close/>
                  <a:moveTo>
                    <a:pt x="2240" y="0"/>
                  </a:moveTo>
                  <a:lnTo>
                    <a:pt x="2262" y="0"/>
                  </a:lnTo>
                  <a:lnTo>
                    <a:pt x="2262" y="5"/>
                  </a:lnTo>
                  <a:lnTo>
                    <a:pt x="2240" y="5"/>
                  </a:lnTo>
                  <a:lnTo>
                    <a:pt x="2240" y="0"/>
                  </a:lnTo>
                  <a:close/>
                  <a:moveTo>
                    <a:pt x="2279" y="0"/>
                  </a:moveTo>
                  <a:lnTo>
                    <a:pt x="2300" y="0"/>
                  </a:lnTo>
                  <a:lnTo>
                    <a:pt x="2300" y="5"/>
                  </a:lnTo>
                  <a:lnTo>
                    <a:pt x="2279" y="5"/>
                  </a:lnTo>
                  <a:lnTo>
                    <a:pt x="2279" y="0"/>
                  </a:lnTo>
                  <a:close/>
                  <a:moveTo>
                    <a:pt x="2317" y="0"/>
                  </a:moveTo>
                  <a:lnTo>
                    <a:pt x="2338" y="0"/>
                  </a:lnTo>
                  <a:lnTo>
                    <a:pt x="2338" y="5"/>
                  </a:lnTo>
                  <a:lnTo>
                    <a:pt x="2317" y="5"/>
                  </a:lnTo>
                  <a:lnTo>
                    <a:pt x="2317" y="0"/>
                  </a:lnTo>
                  <a:close/>
                  <a:moveTo>
                    <a:pt x="2355" y="0"/>
                  </a:moveTo>
                  <a:lnTo>
                    <a:pt x="2376" y="0"/>
                  </a:lnTo>
                  <a:lnTo>
                    <a:pt x="2376" y="5"/>
                  </a:lnTo>
                  <a:lnTo>
                    <a:pt x="2355" y="5"/>
                  </a:lnTo>
                  <a:lnTo>
                    <a:pt x="2355" y="0"/>
                  </a:lnTo>
                  <a:close/>
                  <a:moveTo>
                    <a:pt x="2393" y="0"/>
                  </a:moveTo>
                  <a:lnTo>
                    <a:pt x="2415" y="0"/>
                  </a:lnTo>
                  <a:lnTo>
                    <a:pt x="2415" y="5"/>
                  </a:lnTo>
                  <a:lnTo>
                    <a:pt x="2393" y="5"/>
                  </a:lnTo>
                  <a:lnTo>
                    <a:pt x="2393" y="0"/>
                  </a:lnTo>
                  <a:close/>
                  <a:moveTo>
                    <a:pt x="2431" y="0"/>
                  </a:moveTo>
                  <a:lnTo>
                    <a:pt x="2453" y="0"/>
                  </a:lnTo>
                  <a:lnTo>
                    <a:pt x="2453" y="5"/>
                  </a:lnTo>
                  <a:lnTo>
                    <a:pt x="2431" y="5"/>
                  </a:lnTo>
                  <a:lnTo>
                    <a:pt x="2431" y="0"/>
                  </a:lnTo>
                  <a:close/>
                  <a:moveTo>
                    <a:pt x="2469" y="0"/>
                  </a:moveTo>
                  <a:lnTo>
                    <a:pt x="2491" y="0"/>
                  </a:lnTo>
                  <a:lnTo>
                    <a:pt x="2491" y="5"/>
                  </a:lnTo>
                  <a:lnTo>
                    <a:pt x="2469" y="5"/>
                  </a:lnTo>
                  <a:lnTo>
                    <a:pt x="2469" y="0"/>
                  </a:lnTo>
                  <a:close/>
                  <a:moveTo>
                    <a:pt x="2507" y="0"/>
                  </a:moveTo>
                  <a:lnTo>
                    <a:pt x="2529" y="0"/>
                  </a:lnTo>
                  <a:lnTo>
                    <a:pt x="2529" y="5"/>
                  </a:lnTo>
                  <a:lnTo>
                    <a:pt x="2507" y="5"/>
                  </a:lnTo>
                  <a:lnTo>
                    <a:pt x="2507" y="0"/>
                  </a:lnTo>
                  <a:close/>
                  <a:moveTo>
                    <a:pt x="2546" y="0"/>
                  </a:moveTo>
                  <a:lnTo>
                    <a:pt x="2567" y="0"/>
                  </a:lnTo>
                  <a:lnTo>
                    <a:pt x="2567" y="5"/>
                  </a:lnTo>
                  <a:lnTo>
                    <a:pt x="2546" y="5"/>
                  </a:lnTo>
                  <a:lnTo>
                    <a:pt x="2546" y="0"/>
                  </a:lnTo>
                  <a:close/>
                  <a:moveTo>
                    <a:pt x="2584" y="0"/>
                  </a:moveTo>
                  <a:lnTo>
                    <a:pt x="2605" y="0"/>
                  </a:lnTo>
                  <a:lnTo>
                    <a:pt x="2605" y="5"/>
                  </a:lnTo>
                  <a:lnTo>
                    <a:pt x="2584" y="5"/>
                  </a:lnTo>
                  <a:lnTo>
                    <a:pt x="2584" y="0"/>
                  </a:lnTo>
                  <a:close/>
                  <a:moveTo>
                    <a:pt x="2622" y="0"/>
                  </a:moveTo>
                  <a:lnTo>
                    <a:pt x="2644" y="0"/>
                  </a:lnTo>
                  <a:lnTo>
                    <a:pt x="2644" y="5"/>
                  </a:lnTo>
                  <a:lnTo>
                    <a:pt x="2622" y="5"/>
                  </a:lnTo>
                  <a:lnTo>
                    <a:pt x="2622" y="0"/>
                  </a:lnTo>
                  <a:close/>
                  <a:moveTo>
                    <a:pt x="2660" y="0"/>
                  </a:moveTo>
                  <a:lnTo>
                    <a:pt x="2682" y="0"/>
                  </a:lnTo>
                  <a:lnTo>
                    <a:pt x="2682" y="5"/>
                  </a:lnTo>
                  <a:lnTo>
                    <a:pt x="2660" y="5"/>
                  </a:lnTo>
                  <a:lnTo>
                    <a:pt x="2660" y="0"/>
                  </a:lnTo>
                  <a:close/>
                  <a:moveTo>
                    <a:pt x="2698" y="0"/>
                  </a:moveTo>
                  <a:lnTo>
                    <a:pt x="2720" y="0"/>
                  </a:lnTo>
                  <a:lnTo>
                    <a:pt x="2720" y="5"/>
                  </a:lnTo>
                  <a:lnTo>
                    <a:pt x="2698" y="5"/>
                  </a:lnTo>
                  <a:lnTo>
                    <a:pt x="2698" y="0"/>
                  </a:lnTo>
                  <a:close/>
                  <a:moveTo>
                    <a:pt x="2736" y="0"/>
                  </a:moveTo>
                  <a:lnTo>
                    <a:pt x="2758" y="0"/>
                  </a:lnTo>
                  <a:lnTo>
                    <a:pt x="2758" y="5"/>
                  </a:lnTo>
                  <a:lnTo>
                    <a:pt x="2736" y="5"/>
                  </a:lnTo>
                  <a:lnTo>
                    <a:pt x="2736" y="0"/>
                  </a:lnTo>
                  <a:close/>
                  <a:moveTo>
                    <a:pt x="2775" y="0"/>
                  </a:moveTo>
                  <a:lnTo>
                    <a:pt x="2796" y="0"/>
                  </a:lnTo>
                  <a:lnTo>
                    <a:pt x="2796" y="5"/>
                  </a:lnTo>
                  <a:lnTo>
                    <a:pt x="2775" y="5"/>
                  </a:lnTo>
                  <a:lnTo>
                    <a:pt x="2775" y="0"/>
                  </a:lnTo>
                  <a:close/>
                  <a:moveTo>
                    <a:pt x="2813" y="0"/>
                  </a:moveTo>
                  <a:lnTo>
                    <a:pt x="2834" y="0"/>
                  </a:lnTo>
                  <a:lnTo>
                    <a:pt x="2834" y="5"/>
                  </a:lnTo>
                  <a:lnTo>
                    <a:pt x="2813" y="5"/>
                  </a:lnTo>
                  <a:lnTo>
                    <a:pt x="2813" y="0"/>
                  </a:lnTo>
                  <a:close/>
                  <a:moveTo>
                    <a:pt x="2851" y="0"/>
                  </a:moveTo>
                  <a:lnTo>
                    <a:pt x="2873" y="0"/>
                  </a:lnTo>
                  <a:lnTo>
                    <a:pt x="2873" y="5"/>
                  </a:lnTo>
                  <a:lnTo>
                    <a:pt x="2851" y="5"/>
                  </a:lnTo>
                  <a:lnTo>
                    <a:pt x="2851" y="0"/>
                  </a:lnTo>
                  <a:close/>
                  <a:moveTo>
                    <a:pt x="2889" y="0"/>
                  </a:moveTo>
                  <a:lnTo>
                    <a:pt x="2911" y="0"/>
                  </a:lnTo>
                  <a:lnTo>
                    <a:pt x="2911" y="5"/>
                  </a:lnTo>
                  <a:lnTo>
                    <a:pt x="2889" y="5"/>
                  </a:lnTo>
                  <a:lnTo>
                    <a:pt x="2889" y="0"/>
                  </a:lnTo>
                  <a:close/>
                  <a:moveTo>
                    <a:pt x="2927" y="0"/>
                  </a:moveTo>
                  <a:lnTo>
                    <a:pt x="2949" y="0"/>
                  </a:lnTo>
                  <a:lnTo>
                    <a:pt x="2949" y="5"/>
                  </a:lnTo>
                  <a:lnTo>
                    <a:pt x="2927" y="5"/>
                  </a:lnTo>
                  <a:lnTo>
                    <a:pt x="2927" y="0"/>
                  </a:lnTo>
                  <a:close/>
                  <a:moveTo>
                    <a:pt x="2965" y="0"/>
                  </a:moveTo>
                  <a:lnTo>
                    <a:pt x="2987" y="0"/>
                  </a:lnTo>
                  <a:lnTo>
                    <a:pt x="2987" y="5"/>
                  </a:lnTo>
                  <a:lnTo>
                    <a:pt x="2965" y="5"/>
                  </a:lnTo>
                  <a:lnTo>
                    <a:pt x="2965" y="0"/>
                  </a:lnTo>
                  <a:close/>
                  <a:moveTo>
                    <a:pt x="3003" y="0"/>
                  </a:moveTo>
                  <a:lnTo>
                    <a:pt x="3025" y="0"/>
                  </a:lnTo>
                  <a:lnTo>
                    <a:pt x="3025" y="5"/>
                  </a:lnTo>
                  <a:lnTo>
                    <a:pt x="3003" y="5"/>
                  </a:lnTo>
                  <a:lnTo>
                    <a:pt x="3003" y="0"/>
                  </a:lnTo>
                  <a:close/>
                  <a:moveTo>
                    <a:pt x="3041" y="0"/>
                  </a:moveTo>
                  <a:lnTo>
                    <a:pt x="3063" y="0"/>
                  </a:lnTo>
                  <a:lnTo>
                    <a:pt x="3063" y="5"/>
                  </a:lnTo>
                  <a:lnTo>
                    <a:pt x="3041" y="5"/>
                  </a:lnTo>
                  <a:lnTo>
                    <a:pt x="3041" y="0"/>
                  </a:lnTo>
                  <a:close/>
                  <a:moveTo>
                    <a:pt x="3079" y="0"/>
                  </a:moveTo>
                  <a:lnTo>
                    <a:pt x="3101" y="0"/>
                  </a:lnTo>
                  <a:lnTo>
                    <a:pt x="3101" y="5"/>
                  </a:lnTo>
                  <a:lnTo>
                    <a:pt x="3079" y="5"/>
                  </a:lnTo>
                  <a:lnTo>
                    <a:pt x="3079" y="0"/>
                  </a:lnTo>
                  <a:close/>
                  <a:moveTo>
                    <a:pt x="3118" y="0"/>
                  </a:moveTo>
                  <a:lnTo>
                    <a:pt x="3140" y="0"/>
                  </a:lnTo>
                  <a:lnTo>
                    <a:pt x="3140" y="5"/>
                  </a:lnTo>
                  <a:lnTo>
                    <a:pt x="3118" y="5"/>
                  </a:lnTo>
                  <a:lnTo>
                    <a:pt x="3118" y="0"/>
                  </a:lnTo>
                  <a:close/>
                  <a:moveTo>
                    <a:pt x="3156" y="0"/>
                  </a:moveTo>
                  <a:lnTo>
                    <a:pt x="3178" y="0"/>
                  </a:lnTo>
                  <a:lnTo>
                    <a:pt x="3178" y="5"/>
                  </a:lnTo>
                  <a:lnTo>
                    <a:pt x="3156" y="5"/>
                  </a:lnTo>
                  <a:lnTo>
                    <a:pt x="3156" y="0"/>
                  </a:lnTo>
                  <a:close/>
                  <a:moveTo>
                    <a:pt x="3194" y="0"/>
                  </a:moveTo>
                  <a:lnTo>
                    <a:pt x="3216" y="0"/>
                  </a:lnTo>
                  <a:lnTo>
                    <a:pt x="3216" y="5"/>
                  </a:lnTo>
                  <a:lnTo>
                    <a:pt x="3194" y="5"/>
                  </a:lnTo>
                  <a:lnTo>
                    <a:pt x="3194" y="0"/>
                  </a:lnTo>
                  <a:close/>
                  <a:moveTo>
                    <a:pt x="3232" y="0"/>
                  </a:moveTo>
                  <a:lnTo>
                    <a:pt x="3254" y="0"/>
                  </a:lnTo>
                  <a:lnTo>
                    <a:pt x="3254" y="5"/>
                  </a:lnTo>
                  <a:lnTo>
                    <a:pt x="3232" y="5"/>
                  </a:lnTo>
                  <a:lnTo>
                    <a:pt x="3232" y="0"/>
                  </a:lnTo>
                  <a:close/>
                  <a:moveTo>
                    <a:pt x="3270" y="0"/>
                  </a:moveTo>
                  <a:lnTo>
                    <a:pt x="3292" y="0"/>
                  </a:lnTo>
                  <a:lnTo>
                    <a:pt x="3292" y="5"/>
                  </a:lnTo>
                  <a:lnTo>
                    <a:pt x="3270" y="5"/>
                  </a:lnTo>
                  <a:lnTo>
                    <a:pt x="3270" y="0"/>
                  </a:lnTo>
                  <a:close/>
                  <a:moveTo>
                    <a:pt x="3308" y="0"/>
                  </a:moveTo>
                  <a:lnTo>
                    <a:pt x="3330" y="0"/>
                  </a:lnTo>
                  <a:lnTo>
                    <a:pt x="3330" y="5"/>
                  </a:lnTo>
                  <a:lnTo>
                    <a:pt x="3308" y="5"/>
                  </a:lnTo>
                  <a:lnTo>
                    <a:pt x="3308" y="0"/>
                  </a:lnTo>
                  <a:close/>
                  <a:moveTo>
                    <a:pt x="3347" y="0"/>
                  </a:moveTo>
                  <a:lnTo>
                    <a:pt x="3368" y="0"/>
                  </a:lnTo>
                  <a:lnTo>
                    <a:pt x="3368" y="5"/>
                  </a:lnTo>
                  <a:lnTo>
                    <a:pt x="3347" y="5"/>
                  </a:lnTo>
                  <a:lnTo>
                    <a:pt x="3347" y="0"/>
                  </a:lnTo>
                  <a:close/>
                  <a:moveTo>
                    <a:pt x="3385" y="0"/>
                  </a:moveTo>
                  <a:lnTo>
                    <a:pt x="3406" y="0"/>
                  </a:lnTo>
                  <a:lnTo>
                    <a:pt x="3406" y="5"/>
                  </a:lnTo>
                  <a:lnTo>
                    <a:pt x="3385" y="5"/>
                  </a:lnTo>
                  <a:lnTo>
                    <a:pt x="3385" y="0"/>
                  </a:lnTo>
                  <a:close/>
                  <a:moveTo>
                    <a:pt x="3423" y="0"/>
                  </a:moveTo>
                  <a:lnTo>
                    <a:pt x="3445" y="0"/>
                  </a:lnTo>
                  <a:lnTo>
                    <a:pt x="3445" y="5"/>
                  </a:lnTo>
                  <a:lnTo>
                    <a:pt x="3423" y="5"/>
                  </a:lnTo>
                  <a:lnTo>
                    <a:pt x="3423" y="0"/>
                  </a:lnTo>
                  <a:close/>
                  <a:moveTo>
                    <a:pt x="3461" y="0"/>
                  </a:moveTo>
                  <a:lnTo>
                    <a:pt x="3483" y="0"/>
                  </a:lnTo>
                  <a:lnTo>
                    <a:pt x="3483" y="5"/>
                  </a:lnTo>
                  <a:lnTo>
                    <a:pt x="3461" y="5"/>
                  </a:lnTo>
                  <a:lnTo>
                    <a:pt x="3461" y="0"/>
                  </a:lnTo>
                  <a:close/>
                  <a:moveTo>
                    <a:pt x="3499" y="0"/>
                  </a:moveTo>
                  <a:lnTo>
                    <a:pt x="3521" y="0"/>
                  </a:lnTo>
                  <a:lnTo>
                    <a:pt x="3521" y="5"/>
                  </a:lnTo>
                  <a:lnTo>
                    <a:pt x="3499" y="5"/>
                  </a:lnTo>
                  <a:lnTo>
                    <a:pt x="3499" y="0"/>
                  </a:lnTo>
                  <a:close/>
                  <a:moveTo>
                    <a:pt x="3537" y="0"/>
                  </a:moveTo>
                  <a:lnTo>
                    <a:pt x="3559" y="0"/>
                  </a:lnTo>
                  <a:lnTo>
                    <a:pt x="3559" y="5"/>
                  </a:lnTo>
                  <a:lnTo>
                    <a:pt x="3537" y="5"/>
                  </a:lnTo>
                  <a:lnTo>
                    <a:pt x="3537" y="0"/>
                  </a:lnTo>
                  <a:close/>
                  <a:moveTo>
                    <a:pt x="3575" y="0"/>
                  </a:moveTo>
                  <a:lnTo>
                    <a:pt x="3597" y="0"/>
                  </a:lnTo>
                  <a:lnTo>
                    <a:pt x="3597" y="5"/>
                  </a:lnTo>
                  <a:lnTo>
                    <a:pt x="3575" y="5"/>
                  </a:lnTo>
                  <a:lnTo>
                    <a:pt x="3575" y="0"/>
                  </a:lnTo>
                  <a:close/>
                  <a:moveTo>
                    <a:pt x="3614" y="0"/>
                  </a:moveTo>
                  <a:lnTo>
                    <a:pt x="3635" y="0"/>
                  </a:lnTo>
                  <a:lnTo>
                    <a:pt x="3635" y="5"/>
                  </a:lnTo>
                  <a:lnTo>
                    <a:pt x="3614" y="5"/>
                  </a:lnTo>
                  <a:lnTo>
                    <a:pt x="3614" y="0"/>
                  </a:lnTo>
                  <a:close/>
                  <a:moveTo>
                    <a:pt x="3652" y="0"/>
                  </a:moveTo>
                  <a:lnTo>
                    <a:pt x="3673" y="0"/>
                  </a:lnTo>
                  <a:lnTo>
                    <a:pt x="3673" y="5"/>
                  </a:lnTo>
                  <a:lnTo>
                    <a:pt x="3652" y="5"/>
                  </a:lnTo>
                  <a:lnTo>
                    <a:pt x="3652" y="0"/>
                  </a:lnTo>
                  <a:close/>
                  <a:moveTo>
                    <a:pt x="3690" y="0"/>
                  </a:moveTo>
                  <a:lnTo>
                    <a:pt x="3712" y="0"/>
                  </a:lnTo>
                  <a:lnTo>
                    <a:pt x="3712" y="5"/>
                  </a:lnTo>
                  <a:lnTo>
                    <a:pt x="3690" y="5"/>
                  </a:lnTo>
                  <a:lnTo>
                    <a:pt x="3690" y="0"/>
                  </a:lnTo>
                  <a:close/>
                  <a:moveTo>
                    <a:pt x="3728" y="0"/>
                  </a:moveTo>
                  <a:lnTo>
                    <a:pt x="3750" y="0"/>
                  </a:lnTo>
                  <a:lnTo>
                    <a:pt x="3750" y="5"/>
                  </a:lnTo>
                  <a:lnTo>
                    <a:pt x="3728" y="5"/>
                  </a:lnTo>
                  <a:lnTo>
                    <a:pt x="3728" y="0"/>
                  </a:lnTo>
                  <a:close/>
                  <a:moveTo>
                    <a:pt x="3766" y="0"/>
                  </a:moveTo>
                  <a:lnTo>
                    <a:pt x="3788" y="0"/>
                  </a:lnTo>
                  <a:lnTo>
                    <a:pt x="3788" y="5"/>
                  </a:lnTo>
                  <a:lnTo>
                    <a:pt x="3766" y="5"/>
                  </a:lnTo>
                  <a:lnTo>
                    <a:pt x="3766" y="0"/>
                  </a:lnTo>
                  <a:close/>
                  <a:moveTo>
                    <a:pt x="3804" y="0"/>
                  </a:moveTo>
                  <a:lnTo>
                    <a:pt x="3826" y="0"/>
                  </a:lnTo>
                  <a:lnTo>
                    <a:pt x="3826" y="5"/>
                  </a:lnTo>
                  <a:lnTo>
                    <a:pt x="3804" y="5"/>
                  </a:lnTo>
                  <a:lnTo>
                    <a:pt x="3804" y="0"/>
                  </a:lnTo>
                  <a:close/>
                  <a:moveTo>
                    <a:pt x="3843" y="0"/>
                  </a:moveTo>
                  <a:lnTo>
                    <a:pt x="3864" y="0"/>
                  </a:lnTo>
                  <a:lnTo>
                    <a:pt x="3864" y="5"/>
                  </a:lnTo>
                  <a:lnTo>
                    <a:pt x="3843" y="5"/>
                  </a:lnTo>
                  <a:lnTo>
                    <a:pt x="3843" y="0"/>
                  </a:lnTo>
                  <a:close/>
                  <a:moveTo>
                    <a:pt x="3881" y="0"/>
                  </a:moveTo>
                  <a:lnTo>
                    <a:pt x="3902" y="0"/>
                  </a:lnTo>
                  <a:lnTo>
                    <a:pt x="3902" y="5"/>
                  </a:lnTo>
                  <a:lnTo>
                    <a:pt x="3881" y="5"/>
                  </a:lnTo>
                  <a:lnTo>
                    <a:pt x="3881" y="0"/>
                  </a:lnTo>
                  <a:close/>
                  <a:moveTo>
                    <a:pt x="3919" y="0"/>
                  </a:moveTo>
                  <a:lnTo>
                    <a:pt x="3941" y="0"/>
                  </a:lnTo>
                  <a:lnTo>
                    <a:pt x="3941" y="5"/>
                  </a:lnTo>
                  <a:lnTo>
                    <a:pt x="3919" y="5"/>
                  </a:lnTo>
                  <a:lnTo>
                    <a:pt x="3919" y="0"/>
                  </a:lnTo>
                  <a:close/>
                  <a:moveTo>
                    <a:pt x="3957" y="0"/>
                  </a:moveTo>
                  <a:lnTo>
                    <a:pt x="3979" y="0"/>
                  </a:lnTo>
                  <a:lnTo>
                    <a:pt x="3979" y="5"/>
                  </a:lnTo>
                  <a:lnTo>
                    <a:pt x="3957" y="5"/>
                  </a:lnTo>
                  <a:lnTo>
                    <a:pt x="3957" y="0"/>
                  </a:lnTo>
                  <a:close/>
                  <a:moveTo>
                    <a:pt x="3995" y="0"/>
                  </a:moveTo>
                  <a:lnTo>
                    <a:pt x="4017" y="0"/>
                  </a:lnTo>
                  <a:lnTo>
                    <a:pt x="4017" y="5"/>
                  </a:lnTo>
                  <a:lnTo>
                    <a:pt x="3995" y="5"/>
                  </a:lnTo>
                  <a:lnTo>
                    <a:pt x="3995" y="0"/>
                  </a:lnTo>
                  <a:close/>
                  <a:moveTo>
                    <a:pt x="4033" y="0"/>
                  </a:moveTo>
                  <a:lnTo>
                    <a:pt x="4055" y="0"/>
                  </a:lnTo>
                  <a:lnTo>
                    <a:pt x="4055" y="5"/>
                  </a:lnTo>
                  <a:lnTo>
                    <a:pt x="4033" y="5"/>
                  </a:lnTo>
                  <a:lnTo>
                    <a:pt x="4033" y="0"/>
                  </a:lnTo>
                  <a:close/>
                  <a:moveTo>
                    <a:pt x="4071" y="0"/>
                  </a:moveTo>
                  <a:lnTo>
                    <a:pt x="4093" y="0"/>
                  </a:lnTo>
                  <a:lnTo>
                    <a:pt x="4093" y="5"/>
                  </a:lnTo>
                  <a:lnTo>
                    <a:pt x="4071" y="5"/>
                  </a:lnTo>
                  <a:lnTo>
                    <a:pt x="4071" y="0"/>
                  </a:lnTo>
                  <a:close/>
                  <a:moveTo>
                    <a:pt x="4109" y="0"/>
                  </a:moveTo>
                  <a:lnTo>
                    <a:pt x="4131" y="0"/>
                  </a:lnTo>
                  <a:lnTo>
                    <a:pt x="4131" y="5"/>
                  </a:lnTo>
                  <a:lnTo>
                    <a:pt x="4109" y="5"/>
                  </a:lnTo>
                  <a:lnTo>
                    <a:pt x="4109" y="0"/>
                  </a:lnTo>
                  <a:close/>
                  <a:moveTo>
                    <a:pt x="4148" y="0"/>
                  </a:moveTo>
                  <a:lnTo>
                    <a:pt x="4170" y="0"/>
                  </a:lnTo>
                  <a:lnTo>
                    <a:pt x="4170" y="5"/>
                  </a:lnTo>
                  <a:lnTo>
                    <a:pt x="4148" y="5"/>
                  </a:lnTo>
                  <a:lnTo>
                    <a:pt x="4148" y="0"/>
                  </a:lnTo>
                  <a:close/>
                  <a:moveTo>
                    <a:pt x="4186" y="0"/>
                  </a:moveTo>
                  <a:lnTo>
                    <a:pt x="4208" y="0"/>
                  </a:lnTo>
                  <a:lnTo>
                    <a:pt x="4208" y="5"/>
                  </a:lnTo>
                  <a:lnTo>
                    <a:pt x="4186" y="5"/>
                  </a:lnTo>
                  <a:lnTo>
                    <a:pt x="4186" y="0"/>
                  </a:lnTo>
                  <a:close/>
                  <a:moveTo>
                    <a:pt x="4224" y="0"/>
                  </a:moveTo>
                  <a:lnTo>
                    <a:pt x="4246" y="0"/>
                  </a:lnTo>
                  <a:lnTo>
                    <a:pt x="4246" y="5"/>
                  </a:lnTo>
                  <a:lnTo>
                    <a:pt x="4224" y="5"/>
                  </a:lnTo>
                  <a:lnTo>
                    <a:pt x="4224" y="0"/>
                  </a:lnTo>
                  <a:close/>
                  <a:moveTo>
                    <a:pt x="4262" y="0"/>
                  </a:moveTo>
                  <a:lnTo>
                    <a:pt x="4284" y="0"/>
                  </a:lnTo>
                  <a:lnTo>
                    <a:pt x="4284" y="5"/>
                  </a:lnTo>
                  <a:lnTo>
                    <a:pt x="4262" y="5"/>
                  </a:lnTo>
                  <a:lnTo>
                    <a:pt x="4262" y="0"/>
                  </a:lnTo>
                  <a:close/>
                  <a:moveTo>
                    <a:pt x="4300" y="0"/>
                  </a:moveTo>
                  <a:lnTo>
                    <a:pt x="4322" y="0"/>
                  </a:lnTo>
                  <a:lnTo>
                    <a:pt x="4322" y="5"/>
                  </a:lnTo>
                  <a:lnTo>
                    <a:pt x="4300" y="5"/>
                  </a:lnTo>
                  <a:lnTo>
                    <a:pt x="4300" y="0"/>
                  </a:lnTo>
                  <a:close/>
                  <a:moveTo>
                    <a:pt x="4338" y="0"/>
                  </a:moveTo>
                  <a:lnTo>
                    <a:pt x="4360" y="0"/>
                  </a:lnTo>
                  <a:lnTo>
                    <a:pt x="4360" y="5"/>
                  </a:lnTo>
                  <a:lnTo>
                    <a:pt x="4338" y="5"/>
                  </a:lnTo>
                  <a:lnTo>
                    <a:pt x="4338" y="0"/>
                  </a:lnTo>
                  <a:close/>
                  <a:moveTo>
                    <a:pt x="4376" y="0"/>
                  </a:moveTo>
                  <a:lnTo>
                    <a:pt x="4398" y="0"/>
                  </a:lnTo>
                  <a:lnTo>
                    <a:pt x="4398" y="5"/>
                  </a:lnTo>
                  <a:lnTo>
                    <a:pt x="4376" y="5"/>
                  </a:lnTo>
                  <a:lnTo>
                    <a:pt x="4376" y="0"/>
                  </a:lnTo>
                  <a:close/>
                  <a:moveTo>
                    <a:pt x="4415" y="0"/>
                  </a:moveTo>
                  <a:lnTo>
                    <a:pt x="4436" y="0"/>
                  </a:lnTo>
                  <a:lnTo>
                    <a:pt x="4436" y="5"/>
                  </a:lnTo>
                  <a:lnTo>
                    <a:pt x="4415" y="5"/>
                  </a:lnTo>
                  <a:lnTo>
                    <a:pt x="4415" y="0"/>
                  </a:lnTo>
                  <a:close/>
                  <a:moveTo>
                    <a:pt x="4453" y="0"/>
                  </a:moveTo>
                  <a:lnTo>
                    <a:pt x="4475" y="0"/>
                  </a:lnTo>
                  <a:lnTo>
                    <a:pt x="4475" y="5"/>
                  </a:lnTo>
                  <a:lnTo>
                    <a:pt x="4453" y="5"/>
                  </a:lnTo>
                  <a:lnTo>
                    <a:pt x="4453" y="0"/>
                  </a:lnTo>
                  <a:close/>
                  <a:moveTo>
                    <a:pt x="4491" y="0"/>
                  </a:moveTo>
                  <a:lnTo>
                    <a:pt x="4513" y="0"/>
                  </a:lnTo>
                  <a:lnTo>
                    <a:pt x="4513" y="5"/>
                  </a:lnTo>
                  <a:lnTo>
                    <a:pt x="4491" y="5"/>
                  </a:lnTo>
                  <a:lnTo>
                    <a:pt x="4491" y="0"/>
                  </a:lnTo>
                  <a:close/>
                  <a:moveTo>
                    <a:pt x="4529" y="0"/>
                  </a:moveTo>
                  <a:lnTo>
                    <a:pt x="4551" y="0"/>
                  </a:lnTo>
                  <a:lnTo>
                    <a:pt x="4551" y="5"/>
                  </a:lnTo>
                  <a:lnTo>
                    <a:pt x="4529" y="5"/>
                  </a:lnTo>
                  <a:lnTo>
                    <a:pt x="4529" y="0"/>
                  </a:lnTo>
                  <a:close/>
                  <a:moveTo>
                    <a:pt x="4567" y="0"/>
                  </a:moveTo>
                  <a:lnTo>
                    <a:pt x="4589" y="0"/>
                  </a:lnTo>
                  <a:lnTo>
                    <a:pt x="4589" y="5"/>
                  </a:lnTo>
                  <a:lnTo>
                    <a:pt x="4567" y="5"/>
                  </a:lnTo>
                  <a:lnTo>
                    <a:pt x="4567" y="0"/>
                  </a:lnTo>
                  <a:close/>
                  <a:moveTo>
                    <a:pt x="4605" y="0"/>
                  </a:moveTo>
                  <a:lnTo>
                    <a:pt x="4627" y="0"/>
                  </a:lnTo>
                  <a:lnTo>
                    <a:pt x="4627" y="5"/>
                  </a:lnTo>
                  <a:lnTo>
                    <a:pt x="4605" y="5"/>
                  </a:lnTo>
                  <a:lnTo>
                    <a:pt x="4605" y="0"/>
                  </a:lnTo>
                  <a:close/>
                  <a:moveTo>
                    <a:pt x="4643" y="0"/>
                  </a:moveTo>
                  <a:lnTo>
                    <a:pt x="4665" y="0"/>
                  </a:lnTo>
                  <a:lnTo>
                    <a:pt x="4665" y="5"/>
                  </a:lnTo>
                  <a:lnTo>
                    <a:pt x="4643" y="5"/>
                  </a:lnTo>
                  <a:lnTo>
                    <a:pt x="4643" y="0"/>
                  </a:lnTo>
                  <a:close/>
                  <a:moveTo>
                    <a:pt x="4682" y="0"/>
                  </a:moveTo>
                  <a:lnTo>
                    <a:pt x="4703" y="0"/>
                  </a:lnTo>
                  <a:lnTo>
                    <a:pt x="4703" y="5"/>
                  </a:lnTo>
                  <a:lnTo>
                    <a:pt x="4682" y="5"/>
                  </a:lnTo>
                  <a:lnTo>
                    <a:pt x="4682" y="0"/>
                  </a:lnTo>
                  <a:close/>
                  <a:moveTo>
                    <a:pt x="4720" y="0"/>
                  </a:moveTo>
                  <a:lnTo>
                    <a:pt x="4741" y="0"/>
                  </a:lnTo>
                  <a:lnTo>
                    <a:pt x="4741" y="5"/>
                  </a:lnTo>
                  <a:lnTo>
                    <a:pt x="4720" y="5"/>
                  </a:lnTo>
                  <a:lnTo>
                    <a:pt x="4720" y="0"/>
                  </a:lnTo>
                  <a:close/>
                  <a:moveTo>
                    <a:pt x="4758" y="0"/>
                  </a:moveTo>
                  <a:lnTo>
                    <a:pt x="4780" y="0"/>
                  </a:lnTo>
                  <a:lnTo>
                    <a:pt x="4780" y="5"/>
                  </a:lnTo>
                  <a:lnTo>
                    <a:pt x="4758" y="5"/>
                  </a:lnTo>
                  <a:lnTo>
                    <a:pt x="4758" y="0"/>
                  </a:lnTo>
                  <a:close/>
                  <a:moveTo>
                    <a:pt x="4796" y="0"/>
                  </a:moveTo>
                  <a:lnTo>
                    <a:pt x="4818" y="1"/>
                  </a:lnTo>
                  <a:lnTo>
                    <a:pt x="4818" y="6"/>
                  </a:lnTo>
                  <a:lnTo>
                    <a:pt x="4796" y="6"/>
                  </a:lnTo>
                  <a:lnTo>
                    <a:pt x="4796" y="0"/>
                  </a:lnTo>
                  <a:close/>
                  <a:moveTo>
                    <a:pt x="4834" y="2"/>
                  </a:moveTo>
                  <a:lnTo>
                    <a:pt x="4856" y="3"/>
                  </a:lnTo>
                  <a:lnTo>
                    <a:pt x="4856" y="3"/>
                  </a:lnTo>
                  <a:lnTo>
                    <a:pt x="4855" y="8"/>
                  </a:lnTo>
                  <a:lnTo>
                    <a:pt x="4855" y="8"/>
                  </a:lnTo>
                  <a:lnTo>
                    <a:pt x="4834" y="7"/>
                  </a:lnTo>
                  <a:lnTo>
                    <a:pt x="4834" y="2"/>
                  </a:lnTo>
                  <a:close/>
                  <a:moveTo>
                    <a:pt x="4872" y="6"/>
                  </a:moveTo>
                  <a:lnTo>
                    <a:pt x="4894" y="9"/>
                  </a:lnTo>
                  <a:lnTo>
                    <a:pt x="4893" y="13"/>
                  </a:lnTo>
                  <a:lnTo>
                    <a:pt x="4872" y="11"/>
                  </a:lnTo>
                  <a:lnTo>
                    <a:pt x="4872" y="6"/>
                  </a:lnTo>
                  <a:close/>
                  <a:moveTo>
                    <a:pt x="4910" y="11"/>
                  </a:moveTo>
                  <a:lnTo>
                    <a:pt x="4923" y="13"/>
                  </a:lnTo>
                  <a:lnTo>
                    <a:pt x="4932" y="15"/>
                  </a:lnTo>
                  <a:lnTo>
                    <a:pt x="4931" y="20"/>
                  </a:lnTo>
                  <a:lnTo>
                    <a:pt x="4922" y="18"/>
                  </a:lnTo>
                  <a:lnTo>
                    <a:pt x="4910" y="16"/>
                  </a:lnTo>
                  <a:lnTo>
                    <a:pt x="4910" y="11"/>
                  </a:lnTo>
                  <a:close/>
                  <a:moveTo>
                    <a:pt x="4948" y="19"/>
                  </a:moveTo>
                  <a:lnTo>
                    <a:pt x="4969" y="24"/>
                  </a:lnTo>
                  <a:lnTo>
                    <a:pt x="4967" y="29"/>
                  </a:lnTo>
                  <a:lnTo>
                    <a:pt x="4946" y="24"/>
                  </a:lnTo>
                  <a:lnTo>
                    <a:pt x="4948" y="19"/>
                  </a:lnTo>
                  <a:close/>
                  <a:moveTo>
                    <a:pt x="4985" y="28"/>
                  </a:moveTo>
                  <a:lnTo>
                    <a:pt x="4987" y="28"/>
                  </a:lnTo>
                  <a:lnTo>
                    <a:pt x="5006" y="34"/>
                  </a:lnTo>
                  <a:lnTo>
                    <a:pt x="5003" y="39"/>
                  </a:lnTo>
                  <a:lnTo>
                    <a:pt x="4986" y="33"/>
                  </a:lnTo>
                  <a:lnTo>
                    <a:pt x="4983" y="33"/>
                  </a:lnTo>
                  <a:lnTo>
                    <a:pt x="4985" y="28"/>
                  </a:lnTo>
                  <a:close/>
                  <a:moveTo>
                    <a:pt x="5021" y="40"/>
                  </a:moveTo>
                  <a:lnTo>
                    <a:pt x="5041" y="46"/>
                  </a:lnTo>
                  <a:lnTo>
                    <a:pt x="5040" y="52"/>
                  </a:lnTo>
                  <a:lnTo>
                    <a:pt x="5019" y="45"/>
                  </a:lnTo>
                  <a:lnTo>
                    <a:pt x="5021" y="40"/>
                  </a:lnTo>
                  <a:close/>
                  <a:moveTo>
                    <a:pt x="5057" y="53"/>
                  </a:moveTo>
                  <a:lnTo>
                    <a:pt x="5076" y="61"/>
                  </a:lnTo>
                  <a:lnTo>
                    <a:pt x="5074" y="66"/>
                  </a:lnTo>
                  <a:lnTo>
                    <a:pt x="5054" y="57"/>
                  </a:lnTo>
                  <a:lnTo>
                    <a:pt x="5057" y="53"/>
                  </a:lnTo>
                  <a:close/>
                  <a:moveTo>
                    <a:pt x="5091" y="68"/>
                  </a:moveTo>
                  <a:lnTo>
                    <a:pt x="5108" y="76"/>
                  </a:lnTo>
                  <a:lnTo>
                    <a:pt x="5111" y="77"/>
                  </a:lnTo>
                  <a:lnTo>
                    <a:pt x="5108" y="82"/>
                  </a:lnTo>
                  <a:lnTo>
                    <a:pt x="5106" y="80"/>
                  </a:lnTo>
                  <a:lnTo>
                    <a:pt x="5089" y="73"/>
                  </a:lnTo>
                  <a:lnTo>
                    <a:pt x="5091" y="68"/>
                  </a:lnTo>
                  <a:close/>
                  <a:moveTo>
                    <a:pt x="5125" y="85"/>
                  </a:moveTo>
                  <a:lnTo>
                    <a:pt x="5143" y="96"/>
                  </a:lnTo>
                  <a:lnTo>
                    <a:pt x="5140" y="100"/>
                  </a:lnTo>
                  <a:lnTo>
                    <a:pt x="5122" y="90"/>
                  </a:lnTo>
                  <a:lnTo>
                    <a:pt x="5125" y="85"/>
                  </a:lnTo>
                  <a:close/>
                  <a:moveTo>
                    <a:pt x="5157" y="104"/>
                  </a:moveTo>
                  <a:lnTo>
                    <a:pt x="5163" y="107"/>
                  </a:lnTo>
                  <a:lnTo>
                    <a:pt x="5175" y="116"/>
                  </a:lnTo>
                  <a:lnTo>
                    <a:pt x="5172" y="120"/>
                  </a:lnTo>
                  <a:lnTo>
                    <a:pt x="5160" y="112"/>
                  </a:lnTo>
                  <a:lnTo>
                    <a:pt x="5154" y="108"/>
                  </a:lnTo>
                  <a:lnTo>
                    <a:pt x="5157" y="104"/>
                  </a:lnTo>
                  <a:close/>
                  <a:moveTo>
                    <a:pt x="5188" y="125"/>
                  </a:moveTo>
                  <a:lnTo>
                    <a:pt x="5206" y="137"/>
                  </a:lnTo>
                  <a:lnTo>
                    <a:pt x="5203" y="141"/>
                  </a:lnTo>
                  <a:lnTo>
                    <a:pt x="5185" y="129"/>
                  </a:lnTo>
                  <a:lnTo>
                    <a:pt x="5188" y="125"/>
                  </a:lnTo>
                  <a:close/>
                  <a:moveTo>
                    <a:pt x="5219" y="147"/>
                  </a:moveTo>
                  <a:lnTo>
                    <a:pt x="5235" y="160"/>
                  </a:lnTo>
                  <a:lnTo>
                    <a:pt x="5231" y="164"/>
                  </a:lnTo>
                  <a:lnTo>
                    <a:pt x="5215" y="150"/>
                  </a:lnTo>
                  <a:lnTo>
                    <a:pt x="5219" y="147"/>
                  </a:lnTo>
                  <a:close/>
                  <a:moveTo>
                    <a:pt x="5247" y="170"/>
                  </a:moveTo>
                  <a:lnTo>
                    <a:pt x="5263" y="184"/>
                  </a:lnTo>
                  <a:lnTo>
                    <a:pt x="5263" y="184"/>
                  </a:lnTo>
                  <a:lnTo>
                    <a:pt x="5259" y="188"/>
                  </a:lnTo>
                  <a:lnTo>
                    <a:pt x="5259" y="188"/>
                  </a:lnTo>
                  <a:lnTo>
                    <a:pt x="5243" y="174"/>
                  </a:lnTo>
                  <a:lnTo>
                    <a:pt x="5247" y="170"/>
                  </a:lnTo>
                  <a:close/>
                  <a:moveTo>
                    <a:pt x="5274" y="195"/>
                  </a:moveTo>
                  <a:lnTo>
                    <a:pt x="5289" y="211"/>
                  </a:lnTo>
                  <a:lnTo>
                    <a:pt x="5285" y="214"/>
                  </a:lnTo>
                  <a:lnTo>
                    <a:pt x="5270" y="199"/>
                  </a:lnTo>
                  <a:lnTo>
                    <a:pt x="5274" y="195"/>
                  </a:lnTo>
                  <a:close/>
                  <a:moveTo>
                    <a:pt x="5300" y="222"/>
                  </a:moveTo>
                  <a:lnTo>
                    <a:pt x="5306" y="229"/>
                  </a:lnTo>
                  <a:lnTo>
                    <a:pt x="5314" y="238"/>
                  </a:lnTo>
                  <a:lnTo>
                    <a:pt x="5310" y="241"/>
                  </a:lnTo>
                  <a:lnTo>
                    <a:pt x="5303" y="232"/>
                  </a:lnTo>
                  <a:lnTo>
                    <a:pt x="5296" y="225"/>
                  </a:lnTo>
                  <a:lnTo>
                    <a:pt x="5300" y="222"/>
                  </a:lnTo>
                  <a:close/>
                  <a:moveTo>
                    <a:pt x="5324" y="250"/>
                  </a:moveTo>
                  <a:lnTo>
                    <a:pt x="5337" y="266"/>
                  </a:lnTo>
                  <a:lnTo>
                    <a:pt x="5332" y="269"/>
                  </a:lnTo>
                  <a:lnTo>
                    <a:pt x="5320" y="253"/>
                  </a:lnTo>
                  <a:lnTo>
                    <a:pt x="5324" y="250"/>
                  </a:lnTo>
                  <a:close/>
                  <a:moveTo>
                    <a:pt x="5347" y="279"/>
                  </a:moveTo>
                  <a:lnTo>
                    <a:pt x="5358" y="296"/>
                  </a:lnTo>
                  <a:lnTo>
                    <a:pt x="5353" y="299"/>
                  </a:lnTo>
                  <a:lnTo>
                    <a:pt x="5342" y="282"/>
                  </a:lnTo>
                  <a:lnTo>
                    <a:pt x="5347" y="279"/>
                  </a:lnTo>
                  <a:close/>
                  <a:moveTo>
                    <a:pt x="5366" y="310"/>
                  </a:moveTo>
                  <a:lnTo>
                    <a:pt x="5377" y="327"/>
                  </a:lnTo>
                  <a:lnTo>
                    <a:pt x="5373" y="330"/>
                  </a:lnTo>
                  <a:lnTo>
                    <a:pt x="5362" y="312"/>
                  </a:lnTo>
                  <a:lnTo>
                    <a:pt x="5366" y="310"/>
                  </a:lnTo>
                  <a:close/>
                  <a:moveTo>
                    <a:pt x="5385" y="341"/>
                  </a:moveTo>
                  <a:lnTo>
                    <a:pt x="5394" y="359"/>
                  </a:lnTo>
                  <a:lnTo>
                    <a:pt x="5390" y="361"/>
                  </a:lnTo>
                  <a:lnTo>
                    <a:pt x="5380" y="343"/>
                  </a:lnTo>
                  <a:lnTo>
                    <a:pt x="5385" y="341"/>
                  </a:lnTo>
                  <a:close/>
                  <a:moveTo>
                    <a:pt x="5402" y="373"/>
                  </a:moveTo>
                  <a:lnTo>
                    <a:pt x="5407" y="384"/>
                  </a:lnTo>
                  <a:lnTo>
                    <a:pt x="5410" y="392"/>
                  </a:lnTo>
                  <a:lnTo>
                    <a:pt x="5405" y="393"/>
                  </a:lnTo>
                  <a:lnTo>
                    <a:pt x="5402" y="386"/>
                  </a:lnTo>
                  <a:lnTo>
                    <a:pt x="5396" y="375"/>
                  </a:lnTo>
                  <a:lnTo>
                    <a:pt x="5402" y="373"/>
                  </a:lnTo>
                  <a:close/>
                  <a:moveTo>
                    <a:pt x="5416" y="406"/>
                  </a:moveTo>
                  <a:lnTo>
                    <a:pt x="5423" y="425"/>
                  </a:lnTo>
                  <a:lnTo>
                    <a:pt x="5418" y="427"/>
                  </a:lnTo>
                  <a:lnTo>
                    <a:pt x="5411" y="408"/>
                  </a:lnTo>
                  <a:lnTo>
                    <a:pt x="5416" y="406"/>
                  </a:lnTo>
                  <a:close/>
                  <a:moveTo>
                    <a:pt x="5429" y="439"/>
                  </a:moveTo>
                  <a:lnTo>
                    <a:pt x="5430" y="442"/>
                  </a:lnTo>
                  <a:lnTo>
                    <a:pt x="5435" y="459"/>
                  </a:lnTo>
                  <a:lnTo>
                    <a:pt x="5429" y="461"/>
                  </a:lnTo>
                  <a:lnTo>
                    <a:pt x="5425" y="443"/>
                  </a:lnTo>
                  <a:lnTo>
                    <a:pt x="5424" y="441"/>
                  </a:lnTo>
                  <a:lnTo>
                    <a:pt x="5429" y="439"/>
                  </a:lnTo>
                  <a:close/>
                  <a:moveTo>
                    <a:pt x="5439" y="474"/>
                  </a:moveTo>
                  <a:lnTo>
                    <a:pt x="5444" y="494"/>
                  </a:lnTo>
                  <a:lnTo>
                    <a:pt x="5439" y="495"/>
                  </a:lnTo>
                  <a:lnTo>
                    <a:pt x="5434" y="475"/>
                  </a:lnTo>
                  <a:lnTo>
                    <a:pt x="5439" y="474"/>
                  </a:lnTo>
                  <a:close/>
                  <a:moveTo>
                    <a:pt x="5448" y="509"/>
                  </a:moveTo>
                  <a:lnTo>
                    <a:pt x="5451" y="529"/>
                  </a:lnTo>
                  <a:lnTo>
                    <a:pt x="5446" y="530"/>
                  </a:lnTo>
                  <a:lnTo>
                    <a:pt x="5442" y="510"/>
                  </a:lnTo>
                  <a:lnTo>
                    <a:pt x="5448" y="509"/>
                  </a:lnTo>
                  <a:close/>
                  <a:moveTo>
                    <a:pt x="5454" y="544"/>
                  </a:moveTo>
                  <a:lnTo>
                    <a:pt x="5457" y="564"/>
                  </a:lnTo>
                  <a:lnTo>
                    <a:pt x="5452" y="565"/>
                  </a:lnTo>
                  <a:lnTo>
                    <a:pt x="5448" y="545"/>
                  </a:lnTo>
                  <a:lnTo>
                    <a:pt x="5454" y="544"/>
                  </a:lnTo>
                  <a:close/>
                  <a:moveTo>
                    <a:pt x="5458" y="580"/>
                  </a:moveTo>
                  <a:lnTo>
                    <a:pt x="5459" y="600"/>
                  </a:lnTo>
                  <a:lnTo>
                    <a:pt x="5453" y="600"/>
                  </a:lnTo>
                  <a:lnTo>
                    <a:pt x="5452" y="580"/>
                  </a:lnTo>
                  <a:lnTo>
                    <a:pt x="5458" y="580"/>
                  </a:lnTo>
                  <a:close/>
                  <a:moveTo>
                    <a:pt x="5459" y="615"/>
                  </a:moveTo>
                  <a:lnTo>
                    <a:pt x="5460" y="628"/>
                  </a:lnTo>
                  <a:lnTo>
                    <a:pt x="5455" y="629"/>
                  </a:lnTo>
                  <a:lnTo>
                    <a:pt x="5454" y="616"/>
                  </a:lnTo>
                  <a:lnTo>
                    <a:pt x="5459" y="615"/>
                  </a:lnTo>
                  <a:close/>
                  <a:moveTo>
                    <a:pt x="5460" y="628"/>
                  </a:moveTo>
                  <a:lnTo>
                    <a:pt x="5460" y="636"/>
                  </a:lnTo>
                  <a:lnTo>
                    <a:pt x="5455" y="636"/>
                  </a:lnTo>
                  <a:lnTo>
                    <a:pt x="5455" y="628"/>
                  </a:lnTo>
                  <a:lnTo>
                    <a:pt x="5460" y="628"/>
                  </a:lnTo>
                  <a:close/>
                  <a:moveTo>
                    <a:pt x="5460" y="651"/>
                  </a:moveTo>
                  <a:lnTo>
                    <a:pt x="5460" y="671"/>
                  </a:lnTo>
                  <a:lnTo>
                    <a:pt x="5455" y="671"/>
                  </a:lnTo>
                  <a:lnTo>
                    <a:pt x="5455" y="651"/>
                  </a:lnTo>
                  <a:lnTo>
                    <a:pt x="5460" y="651"/>
                  </a:lnTo>
                  <a:close/>
                  <a:moveTo>
                    <a:pt x="5460" y="687"/>
                  </a:moveTo>
                  <a:lnTo>
                    <a:pt x="5460" y="707"/>
                  </a:lnTo>
                  <a:lnTo>
                    <a:pt x="5455" y="707"/>
                  </a:lnTo>
                  <a:lnTo>
                    <a:pt x="5455" y="687"/>
                  </a:lnTo>
                  <a:lnTo>
                    <a:pt x="5460" y="687"/>
                  </a:lnTo>
                  <a:close/>
                  <a:moveTo>
                    <a:pt x="5460" y="722"/>
                  </a:moveTo>
                  <a:lnTo>
                    <a:pt x="5460" y="743"/>
                  </a:lnTo>
                  <a:lnTo>
                    <a:pt x="5455" y="743"/>
                  </a:lnTo>
                  <a:lnTo>
                    <a:pt x="5455" y="722"/>
                  </a:lnTo>
                  <a:lnTo>
                    <a:pt x="5460" y="722"/>
                  </a:lnTo>
                  <a:close/>
                  <a:moveTo>
                    <a:pt x="5460" y="758"/>
                  </a:moveTo>
                  <a:lnTo>
                    <a:pt x="5460" y="778"/>
                  </a:lnTo>
                  <a:lnTo>
                    <a:pt x="5455" y="778"/>
                  </a:lnTo>
                  <a:lnTo>
                    <a:pt x="5455" y="758"/>
                  </a:lnTo>
                  <a:lnTo>
                    <a:pt x="5460" y="758"/>
                  </a:lnTo>
                  <a:close/>
                  <a:moveTo>
                    <a:pt x="5460" y="794"/>
                  </a:moveTo>
                  <a:lnTo>
                    <a:pt x="5460" y="814"/>
                  </a:lnTo>
                  <a:lnTo>
                    <a:pt x="5455" y="814"/>
                  </a:lnTo>
                  <a:lnTo>
                    <a:pt x="5455" y="794"/>
                  </a:lnTo>
                  <a:lnTo>
                    <a:pt x="5460" y="794"/>
                  </a:lnTo>
                  <a:close/>
                  <a:moveTo>
                    <a:pt x="5460" y="829"/>
                  </a:moveTo>
                  <a:lnTo>
                    <a:pt x="5460" y="850"/>
                  </a:lnTo>
                  <a:lnTo>
                    <a:pt x="5455" y="850"/>
                  </a:lnTo>
                  <a:lnTo>
                    <a:pt x="5455" y="829"/>
                  </a:lnTo>
                  <a:lnTo>
                    <a:pt x="5460" y="829"/>
                  </a:lnTo>
                  <a:close/>
                  <a:moveTo>
                    <a:pt x="5460" y="865"/>
                  </a:moveTo>
                  <a:lnTo>
                    <a:pt x="5460" y="885"/>
                  </a:lnTo>
                  <a:lnTo>
                    <a:pt x="5455" y="885"/>
                  </a:lnTo>
                  <a:lnTo>
                    <a:pt x="5455" y="865"/>
                  </a:lnTo>
                  <a:lnTo>
                    <a:pt x="5460" y="865"/>
                  </a:lnTo>
                  <a:close/>
                  <a:moveTo>
                    <a:pt x="5460" y="900"/>
                  </a:moveTo>
                  <a:lnTo>
                    <a:pt x="5460" y="921"/>
                  </a:lnTo>
                  <a:lnTo>
                    <a:pt x="5455" y="921"/>
                  </a:lnTo>
                  <a:lnTo>
                    <a:pt x="5455" y="900"/>
                  </a:lnTo>
                  <a:lnTo>
                    <a:pt x="5460" y="900"/>
                  </a:lnTo>
                  <a:close/>
                  <a:moveTo>
                    <a:pt x="5460" y="936"/>
                  </a:moveTo>
                  <a:lnTo>
                    <a:pt x="5460" y="956"/>
                  </a:lnTo>
                  <a:lnTo>
                    <a:pt x="5455" y="956"/>
                  </a:lnTo>
                  <a:lnTo>
                    <a:pt x="5455" y="936"/>
                  </a:lnTo>
                  <a:lnTo>
                    <a:pt x="5460" y="936"/>
                  </a:lnTo>
                  <a:close/>
                  <a:moveTo>
                    <a:pt x="5460" y="971"/>
                  </a:moveTo>
                  <a:lnTo>
                    <a:pt x="5460" y="992"/>
                  </a:lnTo>
                  <a:lnTo>
                    <a:pt x="5455" y="992"/>
                  </a:lnTo>
                  <a:lnTo>
                    <a:pt x="5455" y="971"/>
                  </a:lnTo>
                  <a:lnTo>
                    <a:pt x="5460" y="971"/>
                  </a:lnTo>
                  <a:close/>
                  <a:moveTo>
                    <a:pt x="5460" y="1007"/>
                  </a:moveTo>
                  <a:lnTo>
                    <a:pt x="5460" y="1028"/>
                  </a:lnTo>
                  <a:lnTo>
                    <a:pt x="5455" y="1028"/>
                  </a:lnTo>
                  <a:lnTo>
                    <a:pt x="5455" y="1007"/>
                  </a:lnTo>
                  <a:lnTo>
                    <a:pt x="5460" y="1007"/>
                  </a:lnTo>
                  <a:close/>
                  <a:moveTo>
                    <a:pt x="5460" y="1043"/>
                  </a:moveTo>
                  <a:lnTo>
                    <a:pt x="5460" y="1063"/>
                  </a:lnTo>
                  <a:lnTo>
                    <a:pt x="5455" y="1063"/>
                  </a:lnTo>
                  <a:lnTo>
                    <a:pt x="5455" y="1043"/>
                  </a:lnTo>
                  <a:lnTo>
                    <a:pt x="5460" y="1043"/>
                  </a:lnTo>
                  <a:close/>
                  <a:moveTo>
                    <a:pt x="5460" y="1079"/>
                  </a:moveTo>
                  <a:lnTo>
                    <a:pt x="5460" y="1099"/>
                  </a:lnTo>
                  <a:lnTo>
                    <a:pt x="5455" y="1099"/>
                  </a:lnTo>
                  <a:lnTo>
                    <a:pt x="5455" y="1079"/>
                  </a:lnTo>
                  <a:lnTo>
                    <a:pt x="5460" y="1079"/>
                  </a:lnTo>
                  <a:close/>
                  <a:moveTo>
                    <a:pt x="5460" y="1114"/>
                  </a:moveTo>
                  <a:lnTo>
                    <a:pt x="5460" y="1134"/>
                  </a:lnTo>
                  <a:lnTo>
                    <a:pt x="5455" y="1134"/>
                  </a:lnTo>
                  <a:lnTo>
                    <a:pt x="5455" y="1114"/>
                  </a:lnTo>
                  <a:lnTo>
                    <a:pt x="5460" y="1114"/>
                  </a:lnTo>
                  <a:close/>
                  <a:moveTo>
                    <a:pt x="5460" y="1150"/>
                  </a:moveTo>
                  <a:lnTo>
                    <a:pt x="5460" y="1170"/>
                  </a:lnTo>
                  <a:lnTo>
                    <a:pt x="5455" y="1170"/>
                  </a:lnTo>
                  <a:lnTo>
                    <a:pt x="5455" y="1150"/>
                  </a:lnTo>
                  <a:lnTo>
                    <a:pt x="5460" y="1150"/>
                  </a:lnTo>
                  <a:close/>
                  <a:moveTo>
                    <a:pt x="5460" y="1185"/>
                  </a:moveTo>
                  <a:lnTo>
                    <a:pt x="5460" y="1206"/>
                  </a:lnTo>
                  <a:lnTo>
                    <a:pt x="5455" y="1206"/>
                  </a:lnTo>
                  <a:lnTo>
                    <a:pt x="5455" y="1185"/>
                  </a:lnTo>
                  <a:lnTo>
                    <a:pt x="5460" y="1185"/>
                  </a:lnTo>
                  <a:close/>
                  <a:moveTo>
                    <a:pt x="5460" y="1221"/>
                  </a:moveTo>
                  <a:lnTo>
                    <a:pt x="5460" y="1241"/>
                  </a:lnTo>
                  <a:lnTo>
                    <a:pt x="5455" y="1241"/>
                  </a:lnTo>
                  <a:lnTo>
                    <a:pt x="5455" y="1221"/>
                  </a:lnTo>
                  <a:lnTo>
                    <a:pt x="5460" y="1221"/>
                  </a:lnTo>
                  <a:close/>
                  <a:moveTo>
                    <a:pt x="5460" y="1256"/>
                  </a:moveTo>
                  <a:lnTo>
                    <a:pt x="5460" y="1277"/>
                  </a:lnTo>
                  <a:lnTo>
                    <a:pt x="5455" y="1277"/>
                  </a:lnTo>
                  <a:lnTo>
                    <a:pt x="5455" y="1256"/>
                  </a:lnTo>
                  <a:lnTo>
                    <a:pt x="5460" y="1256"/>
                  </a:lnTo>
                  <a:close/>
                  <a:moveTo>
                    <a:pt x="5460" y="1292"/>
                  </a:moveTo>
                  <a:lnTo>
                    <a:pt x="5460" y="1312"/>
                  </a:lnTo>
                  <a:lnTo>
                    <a:pt x="5455" y="1312"/>
                  </a:lnTo>
                  <a:lnTo>
                    <a:pt x="5455" y="1292"/>
                  </a:lnTo>
                  <a:lnTo>
                    <a:pt x="5460" y="1292"/>
                  </a:lnTo>
                  <a:close/>
                  <a:moveTo>
                    <a:pt x="5460" y="1328"/>
                  </a:moveTo>
                  <a:lnTo>
                    <a:pt x="5460" y="1348"/>
                  </a:lnTo>
                  <a:lnTo>
                    <a:pt x="5455" y="1348"/>
                  </a:lnTo>
                  <a:lnTo>
                    <a:pt x="5455" y="1328"/>
                  </a:lnTo>
                  <a:lnTo>
                    <a:pt x="5460" y="1328"/>
                  </a:lnTo>
                  <a:close/>
                  <a:moveTo>
                    <a:pt x="5460" y="1363"/>
                  </a:moveTo>
                  <a:lnTo>
                    <a:pt x="5460" y="1384"/>
                  </a:lnTo>
                  <a:lnTo>
                    <a:pt x="5455" y="1384"/>
                  </a:lnTo>
                  <a:lnTo>
                    <a:pt x="5455" y="1363"/>
                  </a:lnTo>
                  <a:lnTo>
                    <a:pt x="5460" y="1363"/>
                  </a:lnTo>
                  <a:close/>
                  <a:moveTo>
                    <a:pt x="5460" y="1399"/>
                  </a:moveTo>
                  <a:lnTo>
                    <a:pt x="5460" y="1419"/>
                  </a:lnTo>
                  <a:lnTo>
                    <a:pt x="5455" y="1419"/>
                  </a:lnTo>
                  <a:lnTo>
                    <a:pt x="5455" y="1399"/>
                  </a:lnTo>
                  <a:lnTo>
                    <a:pt x="5460" y="1399"/>
                  </a:lnTo>
                  <a:close/>
                  <a:moveTo>
                    <a:pt x="5460" y="1435"/>
                  </a:moveTo>
                  <a:lnTo>
                    <a:pt x="5460" y="1455"/>
                  </a:lnTo>
                  <a:lnTo>
                    <a:pt x="5455" y="1455"/>
                  </a:lnTo>
                  <a:lnTo>
                    <a:pt x="5455" y="1435"/>
                  </a:lnTo>
                  <a:lnTo>
                    <a:pt x="5460" y="1435"/>
                  </a:lnTo>
                  <a:close/>
                  <a:moveTo>
                    <a:pt x="5460" y="1470"/>
                  </a:moveTo>
                  <a:lnTo>
                    <a:pt x="5460" y="1491"/>
                  </a:lnTo>
                  <a:lnTo>
                    <a:pt x="5455" y="1491"/>
                  </a:lnTo>
                  <a:lnTo>
                    <a:pt x="5455" y="1470"/>
                  </a:lnTo>
                  <a:lnTo>
                    <a:pt x="5460" y="1470"/>
                  </a:lnTo>
                  <a:close/>
                  <a:moveTo>
                    <a:pt x="5460" y="1506"/>
                  </a:moveTo>
                  <a:lnTo>
                    <a:pt x="5460" y="1526"/>
                  </a:lnTo>
                  <a:lnTo>
                    <a:pt x="5455" y="1526"/>
                  </a:lnTo>
                  <a:lnTo>
                    <a:pt x="5455" y="1506"/>
                  </a:lnTo>
                  <a:lnTo>
                    <a:pt x="5460" y="1506"/>
                  </a:lnTo>
                  <a:close/>
                  <a:moveTo>
                    <a:pt x="5460" y="1541"/>
                  </a:moveTo>
                  <a:lnTo>
                    <a:pt x="5460" y="1562"/>
                  </a:lnTo>
                  <a:lnTo>
                    <a:pt x="5455" y="1562"/>
                  </a:lnTo>
                  <a:lnTo>
                    <a:pt x="5455" y="1541"/>
                  </a:lnTo>
                  <a:lnTo>
                    <a:pt x="5460" y="1541"/>
                  </a:lnTo>
                  <a:close/>
                  <a:moveTo>
                    <a:pt x="5460" y="1577"/>
                  </a:moveTo>
                  <a:lnTo>
                    <a:pt x="5460" y="1597"/>
                  </a:lnTo>
                  <a:lnTo>
                    <a:pt x="5455" y="1597"/>
                  </a:lnTo>
                  <a:lnTo>
                    <a:pt x="5455" y="1577"/>
                  </a:lnTo>
                  <a:lnTo>
                    <a:pt x="5460" y="1577"/>
                  </a:lnTo>
                  <a:close/>
                  <a:moveTo>
                    <a:pt x="5460" y="1613"/>
                  </a:moveTo>
                  <a:lnTo>
                    <a:pt x="5460" y="1633"/>
                  </a:lnTo>
                  <a:lnTo>
                    <a:pt x="5455" y="1633"/>
                  </a:lnTo>
                  <a:lnTo>
                    <a:pt x="5455" y="1613"/>
                  </a:lnTo>
                  <a:lnTo>
                    <a:pt x="5460" y="1613"/>
                  </a:lnTo>
                  <a:close/>
                  <a:moveTo>
                    <a:pt x="5460" y="1648"/>
                  </a:moveTo>
                  <a:lnTo>
                    <a:pt x="5460" y="1669"/>
                  </a:lnTo>
                  <a:lnTo>
                    <a:pt x="5455" y="1669"/>
                  </a:lnTo>
                  <a:lnTo>
                    <a:pt x="5455" y="1648"/>
                  </a:lnTo>
                  <a:lnTo>
                    <a:pt x="5460" y="1648"/>
                  </a:lnTo>
                  <a:close/>
                  <a:moveTo>
                    <a:pt x="5460" y="1684"/>
                  </a:moveTo>
                  <a:lnTo>
                    <a:pt x="5460" y="1704"/>
                  </a:lnTo>
                  <a:lnTo>
                    <a:pt x="5455" y="1704"/>
                  </a:lnTo>
                  <a:lnTo>
                    <a:pt x="5455" y="1684"/>
                  </a:lnTo>
                  <a:lnTo>
                    <a:pt x="5460" y="1684"/>
                  </a:lnTo>
                  <a:close/>
                  <a:moveTo>
                    <a:pt x="5460" y="1720"/>
                  </a:moveTo>
                  <a:lnTo>
                    <a:pt x="5460" y="1740"/>
                  </a:lnTo>
                  <a:lnTo>
                    <a:pt x="5455" y="1740"/>
                  </a:lnTo>
                  <a:lnTo>
                    <a:pt x="5455" y="1720"/>
                  </a:lnTo>
                  <a:lnTo>
                    <a:pt x="5460" y="1720"/>
                  </a:lnTo>
                  <a:close/>
                  <a:moveTo>
                    <a:pt x="5460" y="1755"/>
                  </a:moveTo>
                  <a:lnTo>
                    <a:pt x="5460" y="1775"/>
                  </a:lnTo>
                  <a:lnTo>
                    <a:pt x="5455" y="1775"/>
                  </a:lnTo>
                  <a:lnTo>
                    <a:pt x="5455" y="1755"/>
                  </a:lnTo>
                  <a:lnTo>
                    <a:pt x="5460" y="1755"/>
                  </a:lnTo>
                  <a:close/>
                  <a:moveTo>
                    <a:pt x="5460" y="1791"/>
                  </a:moveTo>
                  <a:lnTo>
                    <a:pt x="5460" y="1811"/>
                  </a:lnTo>
                  <a:lnTo>
                    <a:pt x="5455" y="1811"/>
                  </a:lnTo>
                  <a:lnTo>
                    <a:pt x="5455" y="1791"/>
                  </a:lnTo>
                  <a:lnTo>
                    <a:pt x="5460" y="1791"/>
                  </a:lnTo>
                  <a:close/>
                  <a:moveTo>
                    <a:pt x="5460" y="1826"/>
                  </a:moveTo>
                  <a:lnTo>
                    <a:pt x="5460" y="1847"/>
                  </a:lnTo>
                  <a:lnTo>
                    <a:pt x="5455" y="1847"/>
                  </a:lnTo>
                  <a:lnTo>
                    <a:pt x="5455" y="1826"/>
                  </a:lnTo>
                  <a:lnTo>
                    <a:pt x="5460" y="1826"/>
                  </a:lnTo>
                  <a:close/>
                  <a:moveTo>
                    <a:pt x="5460" y="1862"/>
                  </a:moveTo>
                  <a:lnTo>
                    <a:pt x="5460" y="1882"/>
                  </a:lnTo>
                  <a:lnTo>
                    <a:pt x="5455" y="1882"/>
                  </a:lnTo>
                  <a:lnTo>
                    <a:pt x="5455" y="1862"/>
                  </a:lnTo>
                  <a:lnTo>
                    <a:pt x="5460" y="1862"/>
                  </a:lnTo>
                  <a:close/>
                  <a:moveTo>
                    <a:pt x="5460" y="1897"/>
                  </a:moveTo>
                  <a:lnTo>
                    <a:pt x="5460" y="1918"/>
                  </a:lnTo>
                  <a:lnTo>
                    <a:pt x="5455" y="1918"/>
                  </a:lnTo>
                  <a:lnTo>
                    <a:pt x="5455" y="1897"/>
                  </a:lnTo>
                  <a:lnTo>
                    <a:pt x="5460" y="1897"/>
                  </a:lnTo>
                  <a:close/>
                  <a:moveTo>
                    <a:pt x="5460" y="1933"/>
                  </a:moveTo>
                  <a:lnTo>
                    <a:pt x="5460" y="1953"/>
                  </a:lnTo>
                  <a:lnTo>
                    <a:pt x="5455" y="1953"/>
                  </a:lnTo>
                  <a:lnTo>
                    <a:pt x="5455" y="1933"/>
                  </a:lnTo>
                  <a:lnTo>
                    <a:pt x="5460" y="1933"/>
                  </a:lnTo>
                  <a:close/>
                  <a:moveTo>
                    <a:pt x="5460" y="1969"/>
                  </a:moveTo>
                  <a:lnTo>
                    <a:pt x="5460" y="1989"/>
                  </a:lnTo>
                  <a:lnTo>
                    <a:pt x="5455" y="1989"/>
                  </a:lnTo>
                  <a:lnTo>
                    <a:pt x="5455" y="1969"/>
                  </a:lnTo>
                  <a:lnTo>
                    <a:pt x="5460" y="1969"/>
                  </a:lnTo>
                  <a:close/>
                  <a:moveTo>
                    <a:pt x="5460" y="2005"/>
                  </a:moveTo>
                  <a:lnTo>
                    <a:pt x="5460" y="2025"/>
                  </a:lnTo>
                  <a:lnTo>
                    <a:pt x="5455" y="2025"/>
                  </a:lnTo>
                  <a:lnTo>
                    <a:pt x="5455" y="2005"/>
                  </a:lnTo>
                  <a:lnTo>
                    <a:pt x="5460" y="2005"/>
                  </a:lnTo>
                  <a:close/>
                  <a:moveTo>
                    <a:pt x="5460" y="2040"/>
                  </a:moveTo>
                  <a:lnTo>
                    <a:pt x="5460" y="2060"/>
                  </a:lnTo>
                  <a:lnTo>
                    <a:pt x="5455" y="2060"/>
                  </a:lnTo>
                  <a:lnTo>
                    <a:pt x="5455" y="2040"/>
                  </a:lnTo>
                  <a:lnTo>
                    <a:pt x="5460" y="2040"/>
                  </a:lnTo>
                  <a:close/>
                  <a:moveTo>
                    <a:pt x="5460" y="2076"/>
                  </a:moveTo>
                  <a:lnTo>
                    <a:pt x="5460" y="2096"/>
                  </a:lnTo>
                  <a:lnTo>
                    <a:pt x="5455" y="2096"/>
                  </a:lnTo>
                  <a:lnTo>
                    <a:pt x="5455" y="2076"/>
                  </a:lnTo>
                  <a:lnTo>
                    <a:pt x="5460" y="2076"/>
                  </a:lnTo>
                  <a:close/>
                  <a:moveTo>
                    <a:pt x="5460" y="2111"/>
                  </a:moveTo>
                  <a:lnTo>
                    <a:pt x="5460" y="2132"/>
                  </a:lnTo>
                  <a:lnTo>
                    <a:pt x="5455" y="2132"/>
                  </a:lnTo>
                  <a:lnTo>
                    <a:pt x="5455" y="2111"/>
                  </a:lnTo>
                  <a:lnTo>
                    <a:pt x="5460" y="2111"/>
                  </a:lnTo>
                  <a:close/>
                  <a:moveTo>
                    <a:pt x="5460" y="2147"/>
                  </a:moveTo>
                  <a:lnTo>
                    <a:pt x="5460" y="2167"/>
                  </a:lnTo>
                  <a:lnTo>
                    <a:pt x="5455" y="2167"/>
                  </a:lnTo>
                  <a:lnTo>
                    <a:pt x="5455" y="2147"/>
                  </a:lnTo>
                  <a:lnTo>
                    <a:pt x="5460" y="2147"/>
                  </a:lnTo>
                  <a:close/>
                  <a:moveTo>
                    <a:pt x="5460" y="2182"/>
                  </a:moveTo>
                  <a:lnTo>
                    <a:pt x="5460" y="2203"/>
                  </a:lnTo>
                  <a:lnTo>
                    <a:pt x="5455" y="2203"/>
                  </a:lnTo>
                  <a:lnTo>
                    <a:pt x="5455" y="2182"/>
                  </a:lnTo>
                  <a:lnTo>
                    <a:pt x="5460" y="2182"/>
                  </a:lnTo>
                  <a:close/>
                  <a:moveTo>
                    <a:pt x="5460" y="2218"/>
                  </a:moveTo>
                  <a:lnTo>
                    <a:pt x="5460" y="2238"/>
                  </a:lnTo>
                  <a:lnTo>
                    <a:pt x="5455" y="2238"/>
                  </a:lnTo>
                  <a:lnTo>
                    <a:pt x="5455" y="2218"/>
                  </a:lnTo>
                  <a:lnTo>
                    <a:pt x="5460" y="2218"/>
                  </a:lnTo>
                  <a:close/>
                  <a:moveTo>
                    <a:pt x="5460" y="2254"/>
                  </a:moveTo>
                  <a:lnTo>
                    <a:pt x="5460" y="2274"/>
                  </a:lnTo>
                  <a:lnTo>
                    <a:pt x="5455" y="2274"/>
                  </a:lnTo>
                  <a:lnTo>
                    <a:pt x="5455" y="2254"/>
                  </a:lnTo>
                  <a:lnTo>
                    <a:pt x="5460" y="2254"/>
                  </a:lnTo>
                  <a:close/>
                  <a:moveTo>
                    <a:pt x="5460" y="2289"/>
                  </a:moveTo>
                  <a:lnTo>
                    <a:pt x="5460" y="2310"/>
                  </a:lnTo>
                  <a:lnTo>
                    <a:pt x="5455" y="2310"/>
                  </a:lnTo>
                  <a:lnTo>
                    <a:pt x="5455" y="2289"/>
                  </a:lnTo>
                  <a:lnTo>
                    <a:pt x="5460" y="2289"/>
                  </a:lnTo>
                  <a:close/>
                  <a:moveTo>
                    <a:pt x="5460" y="2325"/>
                  </a:moveTo>
                  <a:lnTo>
                    <a:pt x="5460" y="2345"/>
                  </a:lnTo>
                  <a:lnTo>
                    <a:pt x="5455" y="2345"/>
                  </a:lnTo>
                  <a:lnTo>
                    <a:pt x="5455" y="2325"/>
                  </a:lnTo>
                  <a:lnTo>
                    <a:pt x="5460" y="2325"/>
                  </a:lnTo>
                  <a:close/>
                  <a:moveTo>
                    <a:pt x="5460" y="2361"/>
                  </a:moveTo>
                  <a:lnTo>
                    <a:pt x="5460" y="2381"/>
                  </a:lnTo>
                  <a:lnTo>
                    <a:pt x="5455" y="2381"/>
                  </a:lnTo>
                  <a:lnTo>
                    <a:pt x="5455" y="2361"/>
                  </a:lnTo>
                  <a:lnTo>
                    <a:pt x="5460" y="2361"/>
                  </a:lnTo>
                  <a:close/>
                  <a:moveTo>
                    <a:pt x="5460" y="2396"/>
                  </a:moveTo>
                  <a:lnTo>
                    <a:pt x="5460" y="2417"/>
                  </a:lnTo>
                  <a:lnTo>
                    <a:pt x="5455" y="2417"/>
                  </a:lnTo>
                  <a:lnTo>
                    <a:pt x="5455" y="2396"/>
                  </a:lnTo>
                  <a:lnTo>
                    <a:pt x="5460" y="2396"/>
                  </a:lnTo>
                  <a:close/>
                  <a:moveTo>
                    <a:pt x="5460" y="2432"/>
                  </a:moveTo>
                  <a:lnTo>
                    <a:pt x="5460" y="2452"/>
                  </a:lnTo>
                  <a:lnTo>
                    <a:pt x="5455" y="2452"/>
                  </a:lnTo>
                  <a:lnTo>
                    <a:pt x="5455" y="2432"/>
                  </a:lnTo>
                  <a:lnTo>
                    <a:pt x="5460" y="2432"/>
                  </a:lnTo>
                  <a:close/>
                  <a:moveTo>
                    <a:pt x="5460" y="2467"/>
                  </a:moveTo>
                  <a:lnTo>
                    <a:pt x="5460" y="2488"/>
                  </a:lnTo>
                  <a:lnTo>
                    <a:pt x="5455" y="2488"/>
                  </a:lnTo>
                  <a:lnTo>
                    <a:pt x="5455" y="2467"/>
                  </a:lnTo>
                  <a:lnTo>
                    <a:pt x="5460" y="2467"/>
                  </a:lnTo>
                  <a:close/>
                  <a:moveTo>
                    <a:pt x="5460" y="2503"/>
                  </a:moveTo>
                  <a:lnTo>
                    <a:pt x="5460" y="2523"/>
                  </a:lnTo>
                  <a:lnTo>
                    <a:pt x="5455" y="2523"/>
                  </a:lnTo>
                  <a:lnTo>
                    <a:pt x="5455" y="2503"/>
                  </a:lnTo>
                  <a:lnTo>
                    <a:pt x="5460" y="2503"/>
                  </a:lnTo>
                  <a:close/>
                  <a:moveTo>
                    <a:pt x="5460" y="2538"/>
                  </a:moveTo>
                  <a:lnTo>
                    <a:pt x="5460" y="2559"/>
                  </a:lnTo>
                  <a:lnTo>
                    <a:pt x="5455" y="2559"/>
                  </a:lnTo>
                  <a:lnTo>
                    <a:pt x="5455" y="2538"/>
                  </a:lnTo>
                  <a:lnTo>
                    <a:pt x="5460" y="2538"/>
                  </a:lnTo>
                  <a:close/>
                  <a:moveTo>
                    <a:pt x="5460" y="2574"/>
                  </a:moveTo>
                  <a:lnTo>
                    <a:pt x="5460" y="2594"/>
                  </a:lnTo>
                  <a:lnTo>
                    <a:pt x="5455" y="2594"/>
                  </a:lnTo>
                  <a:lnTo>
                    <a:pt x="5455" y="2574"/>
                  </a:lnTo>
                  <a:lnTo>
                    <a:pt x="5460" y="2574"/>
                  </a:lnTo>
                  <a:close/>
                  <a:moveTo>
                    <a:pt x="5460" y="2610"/>
                  </a:moveTo>
                  <a:lnTo>
                    <a:pt x="5460" y="2630"/>
                  </a:lnTo>
                  <a:lnTo>
                    <a:pt x="5455" y="2630"/>
                  </a:lnTo>
                  <a:lnTo>
                    <a:pt x="5455" y="2610"/>
                  </a:lnTo>
                  <a:lnTo>
                    <a:pt x="5460" y="2610"/>
                  </a:lnTo>
                  <a:close/>
                  <a:moveTo>
                    <a:pt x="5460" y="2646"/>
                  </a:moveTo>
                  <a:lnTo>
                    <a:pt x="5460" y="2666"/>
                  </a:lnTo>
                  <a:lnTo>
                    <a:pt x="5455" y="2666"/>
                  </a:lnTo>
                  <a:lnTo>
                    <a:pt x="5455" y="2646"/>
                  </a:lnTo>
                  <a:lnTo>
                    <a:pt x="5460" y="2646"/>
                  </a:lnTo>
                  <a:close/>
                  <a:moveTo>
                    <a:pt x="5460" y="2681"/>
                  </a:moveTo>
                  <a:lnTo>
                    <a:pt x="5460" y="2701"/>
                  </a:lnTo>
                  <a:lnTo>
                    <a:pt x="5455" y="2701"/>
                  </a:lnTo>
                  <a:lnTo>
                    <a:pt x="5455" y="2681"/>
                  </a:lnTo>
                  <a:lnTo>
                    <a:pt x="5460" y="2681"/>
                  </a:lnTo>
                  <a:close/>
                  <a:moveTo>
                    <a:pt x="5460" y="2717"/>
                  </a:moveTo>
                  <a:lnTo>
                    <a:pt x="5460" y="2737"/>
                  </a:lnTo>
                  <a:lnTo>
                    <a:pt x="5455" y="2737"/>
                  </a:lnTo>
                  <a:lnTo>
                    <a:pt x="5455" y="2717"/>
                  </a:lnTo>
                  <a:lnTo>
                    <a:pt x="5460" y="2717"/>
                  </a:lnTo>
                  <a:close/>
                  <a:moveTo>
                    <a:pt x="5460" y="2752"/>
                  </a:moveTo>
                  <a:lnTo>
                    <a:pt x="5460" y="2773"/>
                  </a:lnTo>
                  <a:lnTo>
                    <a:pt x="5455" y="2773"/>
                  </a:lnTo>
                  <a:lnTo>
                    <a:pt x="5455" y="2752"/>
                  </a:lnTo>
                  <a:lnTo>
                    <a:pt x="5460" y="2752"/>
                  </a:lnTo>
                  <a:close/>
                  <a:moveTo>
                    <a:pt x="5460" y="2788"/>
                  </a:moveTo>
                  <a:lnTo>
                    <a:pt x="5460" y="2808"/>
                  </a:lnTo>
                  <a:lnTo>
                    <a:pt x="5455" y="2808"/>
                  </a:lnTo>
                  <a:lnTo>
                    <a:pt x="5455" y="2788"/>
                  </a:lnTo>
                  <a:lnTo>
                    <a:pt x="5460" y="2788"/>
                  </a:lnTo>
                  <a:close/>
                  <a:moveTo>
                    <a:pt x="5460" y="2823"/>
                  </a:moveTo>
                  <a:lnTo>
                    <a:pt x="5460" y="2844"/>
                  </a:lnTo>
                  <a:lnTo>
                    <a:pt x="5455" y="2844"/>
                  </a:lnTo>
                  <a:lnTo>
                    <a:pt x="5455" y="2823"/>
                  </a:lnTo>
                  <a:lnTo>
                    <a:pt x="5460" y="2823"/>
                  </a:lnTo>
                  <a:close/>
                  <a:moveTo>
                    <a:pt x="5460" y="2859"/>
                  </a:moveTo>
                  <a:lnTo>
                    <a:pt x="5460" y="2879"/>
                  </a:lnTo>
                  <a:lnTo>
                    <a:pt x="5455" y="2879"/>
                  </a:lnTo>
                  <a:lnTo>
                    <a:pt x="5455" y="2859"/>
                  </a:lnTo>
                  <a:lnTo>
                    <a:pt x="5460" y="2859"/>
                  </a:lnTo>
                  <a:close/>
                  <a:moveTo>
                    <a:pt x="5460" y="2895"/>
                  </a:moveTo>
                  <a:lnTo>
                    <a:pt x="5460" y="2915"/>
                  </a:lnTo>
                  <a:lnTo>
                    <a:pt x="5455" y="2915"/>
                  </a:lnTo>
                  <a:lnTo>
                    <a:pt x="5455" y="2895"/>
                  </a:lnTo>
                  <a:lnTo>
                    <a:pt x="5460" y="2895"/>
                  </a:lnTo>
                  <a:close/>
                  <a:moveTo>
                    <a:pt x="5460" y="2930"/>
                  </a:moveTo>
                  <a:lnTo>
                    <a:pt x="5460" y="2951"/>
                  </a:lnTo>
                  <a:lnTo>
                    <a:pt x="5455" y="2951"/>
                  </a:lnTo>
                  <a:lnTo>
                    <a:pt x="5455" y="2930"/>
                  </a:lnTo>
                  <a:lnTo>
                    <a:pt x="5460" y="2930"/>
                  </a:lnTo>
                  <a:close/>
                  <a:moveTo>
                    <a:pt x="5460" y="2966"/>
                  </a:moveTo>
                  <a:lnTo>
                    <a:pt x="5460" y="2986"/>
                  </a:lnTo>
                  <a:lnTo>
                    <a:pt x="5455" y="2986"/>
                  </a:lnTo>
                  <a:lnTo>
                    <a:pt x="5455" y="2966"/>
                  </a:lnTo>
                  <a:lnTo>
                    <a:pt x="5460" y="2966"/>
                  </a:lnTo>
                  <a:close/>
                  <a:moveTo>
                    <a:pt x="5460" y="3002"/>
                  </a:moveTo>
                  <a:lnTo>
                    <a:pt x="5460" y="3022"/>
                  </a:lnTo>
                  <a:lnTo>
                    <a:pt x="5455" y="3022"/>
                  </a:lnTo>
                  <a:lnTo>
                    <a:pt x="5455" y="3002"/>
                  </a:lnTo>
                  <a:lnTo>
                    <a:pt x="5460" y="3002"/>
                  </a:lnTo>
                  <a:close/>
                  <a:moveTo>
                    <a:pt x="5460" y="3037"/>
                  </a:moveTo>
                  <a:lnTo>
                    <a:pt x="5460" y="3058"/>
                  </a:lnTo>
                  <a:lnTo>
                    <a:pt x="5455" y="3058"/>
                  </a:lnTo>
                  <a:lnTo>
                    <a:pt x="5455" y="3037"/>
                  </a:lnTo>
                  <a:lnTo>
                    <a:pt x="5460" y="3037"/>
                  </a:lnTo>
                  <a:close/>
                  <a:moveTo>
                    <a:pt x="5460" y="3073"/>
                  </a:moveTo>
                  <a:lnTo>
                    <a:pt x="5460" y="3093"/>
                  </a:lnTo>
                  <a:lnTo>
                    <a:pt x="5455" y="3093"/>
                  </a:lnTo>
                  <a:lnTo>
                    <a:pt x="5455" y="3073"/>
                  </a:lnTo>
                  <a:lnTo>
                    <a:pt x="5460" y="3073"/>
                  </a:lnTo>
                  <a:close/>
                  <a:moveTo>
                    <a:pt x="5460" y="3108"/>
                  </a:moveTo>
                  <a:lnTo>
                    <a:pt x="5460" y="3129"/>
                  </a:lnTo>
                  <a:lnTo>
                    <a:pt x="5455" y="3129"/>
                  </a:lnTo>
                  <a:lnTo>
                    <a:pt x="5455" y="3108"/>
                  </a:lnTo>
                  <a:lnTo>
                    <a:pt x="5460" y="3108"/>
                  </a:lnTo>
                  <a:close/>
                  <a:moveTo>
                    <a:pt x="5460" y="3144"/>
                  </a:moveTo>
                  <a:lnTo>
                    <a:pt x="5458" y="3165"/>
                  </a:lnTo>
                  <a:lnTo>
                    <a:pt x="5453" y="3164"/>
                  </a:lnTo>
                  <a:lnTo>
                    <a:pt x="5454" y="3144"/>
                  </a:lnTo>
                  <a:lnTo>
                    <a:pt x="5460" y="3144"/>
                  </a:lnTo>
                  <a:close/>
                  <a:moveTo>
                    <a:pt x="5458" y="3180"/>
                  </a:moveTo>
                  <a:lnTo>
                    <a:pt x="5457" y="3197"/>
                  </a:lnTo>
                  <a:lnTo>
                    <a:pt x="5456" y="3200"/>
                  </a:lnTo>
                  <a:lnTo>
                    <a:pt x="5451" y="3200"/>
                  </a:lnTo>
                  <a:lnTo>
                    <a:pt x="5451" y="3196"/>
                  </a:lnTo>
                  <a:lnTo>
                    <a:pt x="5452" y="3180"/>
                  </a:lnTo>
                  <a:lnTo>
                    <a:pt x="5458" y="3180"/>
                  </a:lnTo>
                  <a:close/>
                  <a:moveTo>
                    <a:pt x="5454" y="3215"/>
                  </a:moveTo>
                  <a:lnTo>
                    <a:pt x="5451" y="3235"/>
                  </a:lnTo>
                  <a:lnTo>
                    <a:pt x="5445" y="3235"/>
                  </a:lnTo>
                  <a:lnTo>
                    <a:pt x="5448" y="3214"/>
                  </a:lnTo>
                  <a:lnTo>
                    <a:pt x="5454" y="3215"/>
                  </a:lnTo>
                  <a:close/>
                  <a:moveTo>
                    <a:pt x="5448" y="3251"/>
                  </a:moveTo>
                  <a:lnTo>
                    <a:pt x="5446" y="3259"/>
                  </a:lnTo>
                  <a:lnTo>
                    <a:pt x="5443" y="3271"/>
                  </a:lnTo>
                  <a:lnTo>
                    <a:pt x="5438" y="3269"/>
                  </a:lnTo>
                  <a:lnTo>
                    <a:pt x="5441" y="3258"/>
                  </a:lnTo>
                  <a:lnTo>
                    <a:pt x="5443" y="3250"/>
                  </a:lnTo>
                  <a:lnTo>
                    <a:pt x="5448" y="3251"/>
                  </a:lnTo>
                  <a:close/>
                  <a:moveTo>
                    <a:pt x="5439" y="3285"/>
                  </a:moveTo>
                  <a:lnTo>
                    <a:pt x="5434" y="3305"/>
                  </a:lnTo>
                  <a:lnTo>
                    <a:pt x="5428" y="3304"/>
                  </a:lnTo>
                  <a:lnTo>
                    <a:pt x="5434" y="3284"/>
                  </a:lnTo>
                  <a:lnTo>
                    <a:pt x="5439" y="3285"/>
                  </a:lnTo>
                  <a:close/>
                  <a:moveTo>
                    <a:pt x="5429" y="3320"/>
                  </a:moveTo>
                  <a:lnTo>
                    <a:pt x="5422" y="3339"/>
                  </a:lnTo>
                  <a:lnTo>
                    <a:pt x="5417" y="3337"/>
                  </a:lnTo>
                  <a:lnTo>
                    <a:pt x="5424" y="3318"/>
                  </a:lnTo>
                  <a:lnTo>
                    <a:pt x="5429" y="3320"/>
                  </a:lnTo>
                  <a:close/>
                  <a:moveTo>
                    <a:pt x="5417" y="3354"/>
                  </a:moveTo>
                  <a:lnTo>
                    <a:pt x="5409" y="3373"/>
                  </a:lnTo>
                  <a:lnTo>
                    <a:pt x="5404" y="3371"/>
                  </a:lnTo>
                  <a:lnTo>
                    <a:pt x="5411" y="3352"/>
                  </a:lnTo>
                  <a:lnTo>
                    <a:pt x="5417" y="3354"/>
                  </a:lnTo>
                  <a:close/>
                  <a:moveTo>
                    <a:pt x="5402" y="3387"/>
                  </a:moveTo>
                  <a:lnTo>
                    <a:pt x="5393" y="3405"/>
                  </a:lnTo>
                  <a:lnTo>
                    <a:pt x="5388" y="3403"/>
                  </a:lnTo>
                  <a:lnTo>
                    <a:pt x="5397" y="3385"/>
                  </a:lnTo>
                  <a:lnTo>
                    <a:pt x="5402" y="3387"/>
                  </a:lnTo>
                  <a:close/>
                  <a:moveTo>
                    <a:pt x="5386" y="3419"/>
                  </a:moveTo>
                  <a:lnTo>
                    <a:pt x="5379" y="3432"/>
                  </a:lnTo>
                  <a:lnTo>
                    <a:pt x="5376" y="3437"/>
                  </a:lnTo>
                  <a:lnTo>
                    <a:pt x="5371" y="3435"/>
                  </a:lnTo>
                  <a:lnTo>
                    <a:pt x="5374" y="3430"/>
                  </a:lnTo>
                  <a:lnTo>
                    <a:pt x="5381" y="3417"/>
                  </a:lnTo>
                  <a:lnTo>
                    <a:pt x="5386" y="3419"/>
                  </a:lnTo>
                  <a:close/>
                  <a:moveTo>
                    <a:pt x="5367" y="3450"/>
                  </a:moveTo>
                  <a:lnTo>
                    <a:pt x="5356" y="3468"/>
                  </a:lnTo>
                  <a:lnTo>
                    <a:pt x="5351" y="3465"/>
                  </a:lnTo>
                  <a:lnTo>
                    <a:pt x="5362" y="3448"/>
                  </a:lnTo>
                  <a:lnTo>
                    <a:pt x="5367" y="3450"/>
                  </a:lnTo>
                  <a:close/>
                  <a:moveTo>
                    <a:pt x="5347" y="3481"/>
                  </a:moveTo>
                  <a:lnTo>
                    <a:pt x="5345" y="3484"/>
                  </a:lnTo>
                  <a:lnTo>
                    <a:pt x="5335" y="3497"/>
                  </a:lnTo>
                  <a:lnTo>
                    <a:pt x="5330" y="3494"/>
                  </a:lnTo>
                  <a:lnTo>
                    <a:pt x="5341" y="3481"/>
                  </a:lnTo>
                  <a:lnTo>
                    <a:pt x="5343" y="3478"/>
                  </a:lnTo>
                  <a:lnTo>
                    <a:pt x="5347" y="3481"/>
                  </a:lnTo>
                  <a:close/>
                  <a:moveTo>
                    <a:pt x="5325" y="3510"/>
                  </a:moveTo>
                  <a:lnTo>
                    <a:pt x="5312" y="3526"/>
                  </a:lnTo>
                  <a:lnTo>
                    <a:pt x="5307" y="3523"/>
                  </a:lnTo>
                  <a:lnTo>
                    <a:pt x="5320" y="3507"/>
                  </a:lnTo>
                  <a:lnTo>
                    <a:pt x="5325" y="3510"/>
                  </a:lnTo>
                  <a:close/>
                  <a:moveTo>
                    <a:pt x="5301" y="3538"/>
                  </a:moveTo>
                  <a:lnTo>
                    <a:pt x="5287" y="3553"/>
                  </a:lnTo>
                  <a:lnTo>
                    <a:pt x="5282" y="3550"/>
                  </a:lnTo>
                  <a:lnTo>
                    <a:pt x="5297" y="3534"/>
                  </a:lnTo>
                  <a:lnTo>
                    <a:pt x="5301" y="3538"/>
                  </a:lnTo>
                  <a:close/>
                  <a:moveTo>
                    <a:pt x="5275" y="3564"/>
                  </a:moveTo>
                  <a:lnTo>
                    <a:pt x="5263" y="3577"/>
                  </a:lnTo>
                  <a:lnTo>
                    <a:pt x="5260" y="3579"/>
                  </a:lnTo>
                  <a:lnTo>
                    <a:pt x="5257" y="3576"/>
                  </a:lnTo>
                  <a:lnTo>
                    <a:pt x="5259" y="3573"/>
                  </a:lnTo>
                  <a:lnTo>
                    <a:pt x="5271" y="3561"/>
                  </a:lnTo>
                  <a:lnTo>
                    <a:pt x="5275" y="3564"/>
                  </a:lnTo>
                  <a:close/>
                  <a:moveTo>
                    <a:pt x="5248" y="3590"/>
                  </a:moveTo>
                  <a:lnTo>
                    <a:pt x="5232" y="3603"/>
                  </a:lnTo>
                  <a:lnTo>
                    <a:pt x="5228" y="3599"/>
                  </a:lnTo>
                  <a:lnTo>
                    <a:pt x="5245" y="3586"/>
                  </a:lnTo>
                  <a:lnTo>
                    <a:pt x="5248" y="3590"/>
                  </a:lnTo>
                  <a:close/>
                  <a:moveTo>
                    <a:pt x="5220" y="3613"/>
                  </a:moveTo>
                  <a:lnTo>
                    <a:pt x="5215" y="3617"/>
                  </a:lnTo>
                  <a:lnTo>
                    <a:pt x="5203" y="3626"/>
                  </a:lnTo>
                  <a:lnTo>
                    <a:pt x="5199" y="3622"/>
                  </a:lnTo>
                  <a:lnTo>
                    <a:pt x="5212" y="3614"/>
                  </a:lnTo>
                  <a:lnTo>
                    <a:pt x="5216" y="3610"/>
                  </a:lnTo>
                  <a:lnTo>
                    <a:pt x="5220" y="3613"/>
                  </a:lnTo>
                  <a:close/>
                  <a:moveTo>
                    <a:pt x="5190" y="3635"/>
                  </a:moveTo>
                  <a:lnTo>
                    <a:pt x="5172" y="3648"/>
                  </a:lnTo>
                  <a:lnTo>
                    <a:pt x="5169" y="3644"/>
                  </a:lnTo>
                  <a:lnTo>
                    <a:pt x="5187" y="3631"/>
                  </a:lnTo>
                  <a:lnTo>
                    <a:pt x="5190" y="3635"/>
                  </a:lnTo>
                  <a:close/>
                  <a:moveTo>
                    <a:pt x="5159" y="3657"/>
                  </a:moveTo>
                  <a:lnTo>
                    <a:pt x="5140" y="3667"/>
                  </a:lnTo>
                  <a:lnTo>
                    <a:pt x="5137" y="3663"/>
                  </a:lnTo>
                  <a:lnTo>
                    <a:pt x="5156" y="3652"/>
                  </a:lnTo>
                  <a:lnTo>
                    <a:pt x="5159" y="3657"/>
                  </a:lnTo>
                  <a:close/>
                  <a:moveTo>
                    <a:pt x="5126" y="3675"/>
                  </a:moveTo>
                  <a:lnTo>
                    <a:pt x="5108" y="3685"/>
                  </a:lnTo>
                  <a:lnTo>
                    <a:pt x="5107" y="3686"/>
                  </a:lnTo>
                  <a:lnTo>
                    <a:pt x="5105" y="3681"/>
                  </a:lnTo>
                  <a:lnTo>
                    <a:pt x="5105" y="3681"/>
                  </a:lnTo>
                  <a:lnTo>
                    <a:pt x="5123" y="3671"/>
                  </a:lnTo>
                  <a:lnTo>
                    <a:pt x="5126" y="3675"/>
                  </a:lnTo>
                  <a:close/>
                  <a:moveTo>
                    <a:pt x="5092" y="3692"/>
                  </a:moveTo>
                  <a:lnTo>
                    <a:pt x="5073" y="3701"/>
                  </a:lnTo>
                  <a:lnTo>
                    <a:pt x="5070" y="3696"/>
                  </a:lnTo>
                  <a:lnTo>
                    <a:pt x="5090" y="3687"/>
                  </a:lnTo>
                  <a:lnTo>
                    <a:pt x="5092" y="3692"/>
                  </a:lnTo>
                  <a:close/>
                  <a:moveTo>
                    <a:pt x="5058" y="3707"/>
                  </a:moveTo>
                  <a:lnTo>
                    <a:pt x="5049" y="3712"/>
                  </a:lnTo>
                  <a:lnTo>
                    <a:pt x="5037" y="3715"/>
                  </a:lnTo>
                  <a:lnTo>
                    <a:pt x="5036" y="3711"/>
                  </a:lnTo>
                  <a:lnTo>
                    <a:pt x="5047" y="3707"/>
                  </a:lnTo>
                  <a:lnTo>
                    <a:pt x="5056" y="3703"/>
                  </a:lnTo>
                  <a:lnTo>
                    <a:pt x="5058" y="3707"/>
                  </a:lnTo>
                  <a:close/>
                  <a:moveTo>
                    <a:pt x="5022" y="3721"/>
                  </a:moveTo>
                  <a:lnTo>
                    <a:pt x="5002" y="3728"/>
                  </a:lnTo>
                  <a:lnTo>
                    <a:pt x="5000" y="3723"/>
                  </a:lnTo>
                  <a:lnTo>
                    <a:pt x="5020" y="3716"/>
                  </a:lnTo>
                  <a:lnTo>
                    <a:pt x="5022" y="3721"/>
                  </a:lnTo>
                  <a:close/>
                  <a:moveTo>
                    <a:pt x="4986" y="3733"/>
                  </a:moveTo>
                  <a:lnTo>
                    <a:pt x="4965" y="3738"/>
                  </a:lnTo>
                  <a:lnTo>
                    <a:pt x="4964" y="3733"/>
                  </a:lnTo>
                  <a:lnTo>
                    <a:pt x="4985" y="3728"/>
                  </a:lnTo>
                  <a:lnTo>
                    <a:pt x="4986" y="3733"/>
                  </a:lnTo>
                  <a:close/>
                  <a:moveTo>
                    <a:pt x="4949" y="3742"/>
                  </a:moveTo>
                  <a:lnTo>
                    <a:pt x="4928" y="3747"/>
                  </a:lnTo>
                  <a:lnTo>
                    <a:pt x="4927" y="3742"/>
                  </a:lnTo>
                  <a:lnTo>
                    <a:pt x="4948" y="3737"/>
                  </a:lnTo>
                  <a:lnTo>
                    <a:pt x="4949" y="3742"/>
                  </a:lnTo>
                  <a:close/>
                  <a:moveTo>
                    <a:pt x="4912" y="3750"/>
                  </a:moveTo>
                  <a:lnTo>
                    <a:pt x="4890" y="3753"/>
                  </a:lnTo>
                  <a:lnTo>
                    <a:pt x="4889" y="3748"/>
                  </a:lnTo>
                  <a:lnTo>
                    <a:pt x="4911" y="3745"/>
                  </a:lnTo>
                  <a:lnTo>
                    <a:pt x="4912" y="3750"/>
                  </a:lnTo>
                  <a:close/>
                  <a:moveTo>
                    <a:pt x="4874" y="3755"/>
                  </a:moveTo>
                  <a:lnTo>
                    <a:pt x="4856" y="3758"/>
                  </a:lnTo>
                  <a:lnTo>
                    <a:pt x="4852" y="3758"/>
                  </a:lnTo>
                  <a:lnTo>
                    <a:pt x="4852" y="3753"/>
                  </a:lnTo>
                  <a:lnTo>
                    <a:pt x="4855" y="3753"/>
                  </a:lnTo>
                  <a:lnTo>
                    <a:pt x="4873" y="3750"/>
                  </a:lnTo>
                  <a:lnTo>
                    <a:pt x="4874" y="3755"/>
                  </a:lnTo>
                  <a:close/>
                  <a:moveTo>
                    <a:pt x="4836" y="3759"/>
                  </a:moveTo>
                  <a:lnTo>
                    <a:pt x="4814" y="3760"/>
                  </a:lnTo>
                  <a:lnTo>
                    <a:pt x="4814" y="3755"/>
                  </a:lnTo>
                  <a:lnTo>
                    <a:pt x="4836" y="3754"/>
                  </a:lnTo>
                  <a:lnTo>
                    <a:pt x="4836" y="3759"/>
                  </a:lnTo>
                  <a:close/>
                  <a:moveTo>
                    <a:pt x="4798" y="3761"/>
                  </a:moveTo>
                  <a:lnTo>
                    <a:pt x="4787" y="3761"/>
                  </a:lnTo>
                  <a:lnTo>
                    <a:pt x="4787" y="3756"/>
                  </a:lnTo>
                  <a:lnTo>
                    <a:pt x="4798" y="3755"/>
                  </a:lnTo>
                  <a:lnTo>
                    <a:pt x="4798" y="3761"/>
                  </a:lnTo>
                  <a:close/>
                  <a:moveTo>
                    <a:pt x="4787" y="3761"/>
                  </a:moveTo>
                  <a:lnTo>
                    <a:pt x="4776" y="3761"/>
                  </a:lnTo>
                  <a:lnTo>
                    <a:pt x="4776" y="3756"/>
                  </a:lnTo>
                  <a:lnTo>
                    <a:pt x="4787" y="3756"/>
                  </a:lnTo>
                  <a:lnTo>
                    <a:pt x="4787" y="3761"/>
                  </a:lnTo>
                  <a:close/>
                  <a:moveTo>
                    <a:pt x="4760" y="3761"/>
                  </a:moveTo>
                  <a:lnTo>
                    <a:pt x="4738" y="3761"/>
                  </a:lnTo>
                  <a:lnTo>
                    <a:pt x="4738" y="3756"/>
                  </a:lnTo>
                  <a:lnTo>
                    <a:pt x="4760" y="3756"/>
                  </a:lnTo>
                  <a:lnTo>
                    <a:pt x="4760" y="3761"/>
                  </a:lnTo>
                  <a:close/>
                  <a:moveTo>
                    <a:pt x="4721" y="3761"/>
                  </a:moveTo>
                  <a:lnTo>
                    <a:pt x="4700" y="3761"/>
                  </a:lnTo>
                  <a:lnTo>
                    <a:pt x="4700" y="3756"/>
                  </a:lnTo>
                  <a:lnTo>
                    <a:pt x="4721" y="3756"/>
                  </a:lnTo>
                  <a:lnTo>
                    <a:pt x="4721" y="3761"/>
                  </a:lnTo>
                  <a:close/>
                  <a:moveTo>
                    <a:pt x="4683" y="3761"/>
                  </a:moveTo>
                  <a:lnTo>
                    <a:pt x="4662" y="3761"/>
                  </a:lnTo>
                  <a:lnTo>
                    <a:pt x="4662" y="3756"/>
                  </a:lnTo>
                  <a:lnTo>
                    <a:pt x="4683" y="3756"/>
                  </a:lnTo>
                  <a:lnTo>
                    <a:pt x="4683" y="3761"/>
                  </a:lnTo>
                  <a:close/>
                  <a:moveTo>
                    <a:pt x="4645" y="3761"/>
                  </a:moveTo>
                  <a:lnTo>
                    <a:pt x="4623" y="3761"/>
                  </a:lnTo>
                  <a:lnTo>
                    <a:pt x="4623" y="3756"/>
                  </a:lnTo>
                  <a:lnTo>
                    <a:pt x="4645" y="3756"/>
                  </a:lnTo>
                  <a:lnTo>
                    <a:pt x="4645" y="3761"/>
                  </a:lnTo>
                  <a:close/>
                  <a:moveTo>
                    <a:pt x="4607" y="3761"/>
                  </a:moveTo>
                  <a:lnTo>
                    <a:pt x="4585" y="3761"/>
                  </a:lnTo>
                  <a:lnTo>
                    <a:pt x="4585" y="3756"/>
                  </a:lnTo>
                  <a:lnTo>
                    <a:pt x="4607" y="3756"/>
                  </a:lnTo>
                  <a:lnTo>
                    <a:pt x="4607" y="3761"/>
                  </a:lnTo>
                  <a:close/>
                  <a:moveTo>
                    <a:pt x="4569" y="3761"/>
                  </a:moveTo>
                  <a:lnTo>
                    <a:pt x="4547" y="3761"/>
                  </a:lnTo>
                  <a:lnTo>
                    <a:pt x="4547" y="3756"/>
                  </a:lnTo>
                  <a:lnTo>
                    <a:pt x="4569" y="3756"/>
                  </a:lnTo>
                  <a:lnTo>
                    <a:pt x="4569" y="3761"/>
                  </a:lnTo>
                  <a:close/>
                  <a:moveTo>
                    <a:pt x="4531" y="3761"/>
                  </a:moveTo>
                  <a:lnTo>
                    <a:pt x="4509" y="3761"/>
                  </a:lnTo>
                  <a:lnTo>
                    <a:pt x="4509" y="3756"/>
                  </a:lnTo>
                  <a:lnTo>
                    <a:pt x="4531" y="3756"/>
                  </a:lnTo>
                  <a:lnTo>
                    <a:pt x="4531" y="3761"/>
                  </a:lnTo>
                  <a:close/>
                  <a:moveTo>
                    <a:pt x="4492" y="3761"/>
                  </a:moveTo>
                  <a:lnTo>
                    <a:pt x="4471" y="3761"/>
                  </a:lnTo>
                  <a:lnTo>
                    <a:pt x="4471" y="3756"/>
                  </a:lnTo>
                  <a:lnTo>
                    <a:pt x="4492" y="3756"/>
                  </a:lnTo>
                  <a:lnTo>
                    <a:pt x="4492" y="3761"/>
                  </a:lnTo>
                  <a:close/>
                  <a:moveTo>
                    <a:pt x="4454" y="3761"/>
                  </a:moveTo>
                  <a:lnTo>
                    <a:pt x="4433" y="3761"/>
                  </a:lnTo>
                  <a:lnTo>
                    <a:pt x="4433" y="3756"/>
                  </a:lnTo>
                  <a:lnTo>
                    <a:pt x="4454" y="3756"/>
                  </a:lnTo>
                  <a:lnTo>
                    <a:pt x="4454" y="3761"/>
                  </a:lnTo>
                  <a:close/>
                  <a:moveTo>
                    <a:pt x="4416" y="3761"/>
                  </a:moveTo>
                  <a:lnTo>
                    <a:pt x="4394" y="3761"/>
                  </a:lnTo>
                  <a:lnTo>
                    <a:pt x="4394" y="3756"/>
                  </a:lnTo>
                  <a:lnTo>
                    <a:pt x="4416" y="3756"/>
                  </a:lnTo>
                  <a:lnTo>
                    <a:pt x="4416" y="3761"/>
                  </a:lnTo>
                  <a:close/>
                  <a:moveTo>
                    <a:pt x="4378" y="3761"/>
                  </a:moveTo>
                  <a:lnTo>
                    <a:pt x="4356" y="3761"/>
                  </a:lnTo>
                  <a:lnTo>
                    <a:pt x="4356" y="3756"/>
                  </a:lnTo>
                  <a:lnTo>
                    <a:pt x="4378" y="3756"/>
                  </a:lnTo>
                  <a:lnTo>
                    <a:pt x="4378" y="3761"/>
                  </a:lnTo>
                  <a:close/>
                  <a:moveTo>
                    <a:pt x="4340" y="3761"/>
                  </a:moveTo>
                  <a:lnTo>
                    <a:pt x="4318" y="3761"/>
                  </a:lnTo>
                  <a:lnTo>
                    <a:pt x="4318" y="3756"/>
                  </a:lnTo>
                  <a:lnTo>
                    <a:pt x="4340" y="3756"/>
                  </a:lnTo>
                  <a:lnTo>
                    <a:pt x="4340" y="3761"/>
                  </a:lnTo>
                  <a:close/>
                  <a:moveTo>
                    <a:pt x="4302" y="3761"/>
                  </a:moveTo>
                  <a:lnTo>
                    <a:pt x="4280" y="3761"/>
                  </a:lnTo>
                  <a:lnTo>
                    <a:pt x="4280" y="3756"/>
                  </a:lnTo>
                  <a:lnTo>
                    <a:pt x="4302" y="3756"/>
                  </a:lnTo>
                  <a:lnTo>
                    <a:pt x="4302" y="3761"/>
                  </a:lnTo>
                  <a:close/>
                  <a:moveTo>
                    <a:pt x="4264" y="3761"/>
                  </a:moveTo>
                  <a:lnTo>
                    <a:pt x="4242" y="3761"/>
                  </a:lnTo>
                  <a:lnTo>
                    <a:pt x="4242" y="3756"/>
                  </a:lnTo>
                  <a:lnTo>
                    <a:pt x="4264" y="3756"/>
                  </a:lnTo>
                  <a:lnTo>
                    <a:pt x="4264" y="3761"/>
                  </a:lnTo>
                  <a:close/>
                  <a:moveTo>
                    <a:pt x="4225" y="3761"/>
                  </a:moveTo>
                  <a:lnTo>
                    <a:pt x="4204" y="3761"/>
                  </a:lnTo>
                  <a:lnTo>
                    <a:pt x="4204" y="3756"/>
                  </a:lnTo>
                  <a:lnTo>
                    <a:pt x="4225" y="3756"/>
                  </a:lnTo>
                  <a:lnTo>
                    <a:pt x="4225" y="3761"/>
                  </a:lnTo>
                  <a:close/>
                  <a:moveTo>
                    <a:pt x="4187" y="3761"/>
                  </a:moveTo>
                  <a:lnTo>
                    <a:pt x="4165" y="3761"/>
                  </a:lnTo>
                  <a:lnTo>
                    <a:pt x="4165" y="3756"/>
                  </a:lnTo>
                  <a:lnTo>
                    <a:pt x="4187" y="3756"/>
                  </a:lnTo>
                  <a:lnTo>
                    <a:pt x="4187" y="3761"/>
                  </a:lnTo>
                  <a:close/>
                  <a:moveTo>
                    <a:pt x="4149" y="3761"/>
                  </a:moveTo>
                  <a:lnTo>
                    <a:pt x="4127" y="3761"/>
                  </a:lnTo>
                  <a:lnTo>
                    <a:pt x="4127" y="3756"/>
                  </a:lnTo>
                  <a:lnTo>
                    <a:pt x="4149" y="3756"/>
                  </a:lnTo>
                  <a:lnTo>
                    <a:pt x="4149" y="3761"/>
                  </a:lnTo>
                  <a:close/>
                  <a:moveTo>
                    <a:pt x="4111" y="3761"/>
                  </a:moveTo>
                  <a:lnTo>
                    <a:pt x="4089" y="3761"/>
                  </a:lnTo>
                  <a:lnTo>
                    <a:pt x="4089" y="3756"/>
                  </a:lnTo>
                  <a:lnTo>
                    <a:pt x="4111" y="3756"/>
                  </a:lnTo>
                  <a:lnTo>
                    <a:pt x="4111" y="3761"/>
                  </a:lnTo>
                  <a:close/>
                  <a:moveTo>
                    <a:pt x="4073" y="3761"/>
                  </a:moveTo>
                  <a:lnTo>
                    <a:pt x="4051" y="3761"/>
                  </a:lnTo>
                  <a:lnTo>
                    <a:pt x="4051" y="3756"/>
                  </a:lnTo>
                  <a:lnTo>
                    <a:pt x="4073" y="3756"/>
                  </a:lnTo>
                  <a:lnTo>
                    <a:pt x="4073" y="3761"/>
                  </a:lnTo>
                  <a:close/>
                  <a:moveTo>
                    <a:pt x="4035" y="3761"/>
                  </a:moveTo>
                  <a:lnTo>
                    <a:pt x="4013" y="3761"/>
                  </a:lnTo>
                  <a:lnTo>
                    <a:pt x="4013" y="3756"/>
                  </a:lnTo>
                  <a:lnTo>
                    <a:pt x="4035" y="3756"/>
                  </a:lnTo>
                  <a:lnTo>
                    <a:pt x="4035" y="3761"/>
                  </a:lnTo>
                  <a:close/>
                  <a:moveTo>
                    <a:pt x="3997" y="3761"/>
                  </a:moveTo>
                  <a:lnTo>
                    <a:pt x="3975" y="3761"/>
                  </a:lnTo>
                  <a:lnTo>
                    <a:pt x="3975" y="3756"/>
                  </a:lnTo>
                  <a:lnTo>
                    <a:pt x="3997" y="3756"/>
                  </a:lnTo>
                  <a:lnTo>
                    <a:pt x="3997" y="3761"/>
                  </a:lnTo>
                  <a:close/>
                  <a:moveTo>
                    <a:pt x="3959" y="3761"/>
                  </a:moveTo>
                  <a:lnTo>
                    <a:pt x="3937" y="3761"/>
                  </a:lnTo>
                  <a:lnTo>
                    <a:pt x="3937" y="3756"/>
                  </a:lnTo>
                  <a:lnTo>
                    <a:pt x="3959" y="3756"/>
                  </a:lnTo>
                  <a:lnTo>
                    <a:pt x="3959" y="3761"/>
                  </a:lnTo>
                  <a:close/>
                  <a:moveTo>
                    <a:pt x="3920" y="3761"/>
                  </a:moveTo>
                  <a:lnTo>
                    <a:pt x="3899" y="3761"/>
                  </a:lnTo>
                  <a:lnTo>
                    <a:pt x="3899" y="3756"/>
                  </a:lnTo>
                  <a:lnTo>
                    <a:pt x="3920" y="3756"/>
                  </a:lnTo>
                  <a:lnTo>
                    <a:pt x="3920" y="3761"/>
                  </a:lnTo>
                  <a:close/>
                  <a:moveTo>
                    <a:pt x="3882" y="3761"/>
                  </a:moveTo>
                  <a:lnTo>
                    <a:pt x="3860" y="3761"/>
                  </a:lnTo>
                  <a:lnTo>
                    <a:pt x="3860" y="3756"/>
                  </a:lnTo>
                  <a:lnTo>
                    <a:pt x="3882" y="3756"/>
                  </a:lnTo>
                  <a:lnTo>
                    <a:pt x="3882" y="3761"/>
                  </a:lnTo>
                  <a:close/>
                  <a:moveTo>
                    <a:pt x="3844" y="3761"/>
                  </a:moveTo>
                  <a:lnTo>
                    <a:pt x="3822" y="3761"/>
                  </a:lnTo>
                  <a:lnTo>
                    <a:pt x="3822" y="3756"/>
                  </a:lnTo>
                  <a:lnTo>
                    <a:pt x="3844" y="3756"/>
                  </a:lnTo>
                  <a:lnTo>
                    <a:pt x="3844" y="3761"/>
                  </a:lnTo>
                  <a:close/>
                  <a:moveTo>
                    <a:pt x="3806" y="3761"/>
                  </a:moveTo>
                  <a:lnTo>
                    <a:pt x="3784" y="3761"/>
                  </a:lnTo>
                  <a:lnTo>
                    <a:pt x="3784" y="3756"/>
                  </a:lnTo>
                  <a:lnTo>
                    <a:pt x="3806" y="3756"/>
                  </a:lnTo>
                  <a:lnTo>
                    <a:pt x="3806" y="3761"/>
                  </a:lnTo>
                  <a:close/>
                  <a:moveTo>
                    <a:pt x="3768" y="3761"/>
                  </a:moveTo>
                  <a:lnTo>
                    <a:pt x="3746" y="3761"/>
                  </a:lnTo>
                  <a:lnTo>
                    <a:pt x="3746" y="3756"/>
                  </a:lnTo>
                  <a:lnTo>
                    <a:pt x="3768" y="3756"/>
                  </a:lnTo>
                  <a:lnTo>
                    <a:pt x="3768" y="3761"/>
                  </a:lnTo>
                  <a:close/>
                  <a:moveTo>
                    <a:pt x="3730" y="3761"/>
                  </a:moveTo>
                  <a:lnTo>
                    <a:pt x="3708" y="3761"/>
                  </a:lnTo>
                  <a:lnTo>
                    <a:pt x="3708" y="3756"/>
                  </a:lnTo>
                  <a:lnTo>
                    <a:pt x="3730" y="3756"/>
                  </a:lnTo>
                  <a:lnTo>
                    <a:pt x="3730" y="3761"/>
                  </a:lnTo>
                  <a:close/>
                  <a:moveTo>
                    <a:pt x="3692" y="3761"/>
                  </a:moveTo>
                  <a:lnTo>
                    <a:pt x="3670" y="3761"/>
                  </a:lnTo>
                  <a:lnTo>
                    <a:pt x="3670" y="3756"/>
                  </a:lnTo>
                  <a:lnTo>
                    <a:pt x="3692" y="3756"/>
                  </a:lnTo>
                  <a:lnTo>
                    <a:pt x="3692" y="3761"/>
                  </a:lnTo>
                  <a:close/>
                  <a:moveTo>
                    <a:pt x="3653" y="3761"/>
                  </a:moveTo>
                  <a:lnTo>
                    <a:pt x="3632" y="3761"/>
                  </a:lnTo>
                  <a:lnTo>
                    <a:pt x="3632" y="3756"/>
                  </a:lnTo>
                  <a:lnTo>
                    <a:pt x="3653" y="3756"/>
                  </a:lnTo>
                  <a:lnTo>
                    <a:pt x="3653" y="3761"/>
                  </a:lnTo>
                  <a:close/>
                  <a:moveTo>
                    <a:pt x="3615" y="3761"/>
                  </a:moveTo>
                  <a:lnTo>
                    <a:pt x="3594" y="3761"/>
                  </a:lnTo>
                  <a:lnTo>
                    <a:pt x="3594" y="3756"/>
                  </a:lnTo>
                  <a:lnTo>
                    <a:pt x="3615" y="3756"/>
                  </a:lnTo>
                  <a:lnTo>
                    <a:pt x="3615" y="3761"/>
                  </a:lnTo>
                  <a:close/>
                  <a:moveTo>
                    <a:pt x="3577" y="3761"/>
                  </a:moveTo>
                  <a:lnTo>
                    <a:pt x="3555" y="3761"/>
                  </a:lnTo>
                  <a:lnTo>
                    <a:pt x="3555" y="3756"/>
                  </a:lnTo>
                  <a:lnTo>
                    <a:pt x="3577" y="3756"/>
                  </a:lnTo>
                  <a:lnTo>
                    <a:pt x="3577" y="3761"/>
                  </a:lnTo>
                  <a:close/>
                  <a:moveTo>
                    <a:pt x="3539" y="3761"/>
                  </a:moveTo>
                  <a:lnTo>
                    <a:pt x="3517" y="3761"/>
                  </a:lnTo>
                  <a:lnTo>
                    <a:pt x="3517" y="3756"/>
                  </a:lnTo>
                  <a:lnTo>
                    <a:pt x="3539" y="3756"/>
                  </a:lnTo>
                  <a:lnTo>
                    <a:pt x="3539" y="3761"/>
                  </a:lnTo>
                  <a:close/>
                  <a:moveTo>
                    <a:pt x="3501" y="3761"/>
                  </a:moveTo>
                  <a:lnTo>
                    <a:pt x="3479" y="3761"/>
                  </a:lnTo>
                  <a:lnTo>
                    <a:pt x="3479" y="3756"/>
                  </a:lnTo>
                  <a:lnTo>
                    <a:pt x="3501" y="3756"/>
                  </a:lnTo>
                  <a:lnTo>
                    <a:pt x="3501" y="3761"/>
                  </a:lnTo>
                  <a:close/>
                  <a:moveTo>
                    <a:pt x="3463" y="3761"/>
                  </a:moveTo>
                  <a:lnTo>
                    <a:pt x="3441" y="3761"/>
                  </a:lnTo>
                  <a:lnTo>
                    <a:pt x="3441" y="3756"/>
                  </a:lnTo>
                  <a:lnTo>
                    <a:pt x="3463" y="3756"/>
                  </a:lnTo>
                  <a:lnTo>
                    <a:pt x="3463" y="3761"/>
                  </a:lnTo>
                  <a:close/>
                  <a:moveTo>
                    <a:pt x="3424" y="3761"/>
                  </a:moveTo>
                  <a:lnTo>
                    <a:pt x="3403" y="3761"/>
                  </a:lnTo>
                  <a:lnTo>
                    <a:pt x="3403" y="3756"/>
                  </a:lnTo>
                  <a:lnTo>
                    <a:pt x="3424" y="3756"/>
                  </a:lnTo>
                  <a:lnTo>
                    <a:pt x="3424" y="3761"/>
                  </a:lnTo>
                  <a:close/>
                  <a:moveTo>
                    <a:pt x="3386" y="3761"/>
                  </a:moveTo>
                  <a:lnTo>
                    <a:pt x="3365" y="3761"/>
                  </a:lnTo>
                  <a:lnTo>
                    <a:pt x="3365" y="3756"/>
                  </a:lnTo>
                  <a:lnTo>
                    <a:pt x="3386" y="3756"/>
                  </a:lnTo>
                  <a:lnTo>
                    <a:pt x="3386" y="3761"/>
                  </a:lnTo>
                  <a:close/>
                  <a:moveTo>
                    <a:pt x="3348" y="3761"/>
                  </a:moveTo>
                  <a:lnTo>
                    <a:pt x="3326" y="3761"/>
                  </a:lnTo>
                  <a:lnTo>
                    <a:pt x="3326" y="3756"/>
                  </a:lnTo>
                  <a:lnTo>
                    <a:pt x="3348" y="3756"/>
                  </a:lnTo>
                  <a:lnTo>
                    <a:pt x="3348" y="3761"/>
                  </a:lnTo>
                  <a:close/>
                  <a:moveTo>
                    <a:pt x="3310" y="3761"/>
                  </a:moveTo>
                  <a:lnTo>
                    <a:pt x="3288" y="3761"/>
                  </a:lnTo>
                  <a:lnTo>
                    <a:pt x="3288" y="3756"/>
                  </a:lnTo>
                  <a:lnTo>
                    <a:pt x="3310" y="3756"/>
                  </a:lnTo>
                  <a:lnTo>
                    <a:pt x="3310" y="3761"/>
                  </a:lnTo>
                  <a:close/>
                  <a:moveTo>
                    <a:pt x="3272" y="3761"/>
                  </a:moveTo>
                  <a:lnTo>
                    <a:pt x="3250" y="3761"/>
                  </a:lnTo>
                  <a:lnTo>
                    <a:pt x="3250" y="3756"/>
                  </a:lnTo>
                  <a:lnTo>
                    <a:pt x="3272" y="3756"/>
                  </a:lnTo>
                  <a:lnTo>
                    <a:pt x="3272" y="3761"/>
                  </a:lnTo>
                  <a:close/>
                  <a:moveTo>
                    <a:pt x="3234" y="3761"/>
                  </a:moveTo>
                  <a:lnTo>
                    <a:pt x="3212" y="3761"/>
                  </a:lnTo>
                  <a:lnTo>
                    <a:pt x="3212" y="3756"/>
                  </a:lnTo>
                  <a:lnTo>
                    <a:pt x="3234" y="3756"/>
                  </a:lnTo>
                  <a:lnTo>
                    <a:pt x="3234" y="3761"/>
                  </a:lnTo>
                  <a:close/>
                  <a:moveTo>
                    <a:pt x="3195" y="3761"/>
                  </a:moveTo>
                  <a:lnTo>
                    <a:pt x="3174" y="3761"/>
                  </a:lnTo>
                  <a:lnTo>
                    <a:pt x="3174" y="3756"/>
                  </a:lnTo>
                  <a:lnTo>
                    <a:pt x="3195" y="3756"/>
                  </a:lnTo>
                  <a:lnTo>
                    <a:pt x="3195" y="3761"/>
                  </a:lnTo>
                  <a:close/>
                  <a:moveTo>
                    <a:pt x="3157" y="3761"/>
                  </a:moveTo>
                  <a:lnTo>
                    <a:pt x="3136" y="3761"/>
                  </a:lnTo>
                  <a:lnTo>
                    <a:pt x="3136" y="3756"/>
                  </a:lnTo>
                  <a:lnTo>
                    <a:pt x="3157" y="3756"/>
                  </a:lnTo>
                  <a:lnTo>
                    <a:pt x="3157" y="3761"/>
                  </a:lnTo>
                  <a:close/>
                  <a:moveTo>
                    <a:pt x="3119" y="3761"/>
                  </a:moveTo>
                  <a:lnTo>
                    <a:pt x="3097" y="3761"/>
                  </a:lnTo>
                  <a:lnTo>
                    <a:pt x="3097" y="3756"/>
                  </a:lnTo>
                  <a:lnTo>
                    <a:pt x="3119" y="3756"/>
                  </a:lnTo>
                  <a:lnTo>
                    <a:pt x="3119" y="3761"/>
                  </a:lnTo>
                  <a:close/>
                  <a:moveTo>
                    <a:pt x="3081" y="3761"/>
                  </a:moveTo>
                  <a:lnTo>
                    <a:pt x="3059" y="3761"/>
                  </a:lnTo>
                  <a:lnTo>
                    <a:pt x="3059" y="3756"/>
                  </a:lnTo>
                  <a:lnTo>
                    <a:pt x="3081" y="3756"/>
                  </a:lnTo>
                  <a:lnTo>
                    <a:pt x="3081" y="3761"/>
                  </a:lnTo>
                  <a:close/>
                  <a:moveTo>
                    <a:pt x="3043" y="3761"/>
                  </a:moveTo>
                  <a:lnTo>
                    <a:pt x="3021" y="3761"/>
                  </a:lnTo>
                  <a:lnTo>
                    <a:pt x="3021" y="3756"/>
                  </a:lnTo>
                  <a:lnTo>
                    <a:pt x="3043" y="3756"/>
                  </a:lnTo>
                  <a:lnTo>
                    <a:pt x="3043" y="3761"/>
                  </a:lnTo>
                  <a:close/>
                  <a:moveTo>
                    <a:pt x="3005" y="3761"/>
                  </a:moveTo>
                  <a:lnTo>
                    <a:pt x="2983" y="3761"/>
                  </a:lnTo>
                  <a:lnTo>
                    <a:pt x="2983" y="3756"/>
                  </a:lnTo>
                  <a:lnTo>
                    <a:pt x="3005" y="3756"/>
                  </a:lnTo>
                  <a:lnTo>
                    <a:pt x="3005" y="3761"/>
                  </a:lnTo>
                  <a:close/>
                  <a:moveTo>
                    <a:pt x="2967" y="3761"/>
                  </a:moveTo>
                  <a:lnTo>
                    <a:pt x="2945" y="3761"/>
                  </a:lnTo>
                  <a:lnTo>
                    <a:pt x="2945" y="3756"/>
                  </a:lnTo>
                  <a:lnTo>
                    <a:pt x="2967" y="3756"/>
                  </a:lnTo>
                  <a:lnTo>
                    <a:pt x="2967" y="3761"/>
                  </a:lnTo>
                  <a:close/>
                  <a:moveTo>
                    <a:pt x="2929" y="3761"/>
                  </a:moveTo>
                  <a:lnTo>
                    <a:pt x="2907" y="3761"/>
                  </a:lnTo>
                  <a:lnTo>
                    <a:pt x="2907" y="3756"/>
                  </a:lnTo>
                  <a:lnTo>
                    <a:pt x="2929" y="3756"/>
                  </a:lnTo>
                  <a:lnTo>
                    <a:pt x="2929" y="3761"/>
                  </a:lnTo>
                  <a:close/>
                  <a:moveTo>
                    <a:pt x="2891" y="3761"/>
                  </a:moveTo>
                  <a:lnTo>
                    <a:pt x="2868" y="3761"/>
                  </a:lnTo>
                  <a:lnTo>
                    <a:pt x="2868" y="3756"/>
                  </a:lnTo>
                  <a:lnTo>
                    <a:pt x="2891" y="3756"/>
                  </a:lnTo>
                  <a:lnTo>
                    <a:pt x="2891" y="3761"/>
                  </a:lnTo>
                  <a:close/>
                  <a:moveTo>
                    <a:pt x="2852" y="3761"/>
                  </a:moveTo>
                  <a:lnTo>
                    <a:pt x="2830" y="3761"/>
                  </a:lnTo>
                  <a:lnTo>
                    <a:pt x="2830" y="3756"/>
                  </a:lnTo>
                  <a:lnTo>
                    <a:pt x="2852" y="3756"/>
                  </a:lnTo>
                  <a:lnTo>
                    <a:pt x="2852" y="3761"/>
                  </a:lnTo>
                  <a:close/>
                  <a:moveTo>
                    <a:pt x="2814" y="3761"/>
                  </a:moveTo>
                  <a:lnTo>
                    <a:pt x="2792" y="3761"/>
                  </a:lnTo>
                  <a:lnTo>
                    <a:pt x="2792" y="3756"/>
                  </a:lnTo>
                  <a:lnTo>
                    <a:pt x="2814" y="3756"/>
                  </a:lnTo>
                  <a:lnTo>
                    <a:pt x="2814" y="3761"/>
                  </a:lnTo>
                  <a:close/>
                  <a:moveTo>
                    <a:pt x="2776" y="3761"/>
                  </a:moveTo>
                  <a:lnTo>
                    <a:pt x="2754" y="3761"/>
                  </a:lnTo>
                  <a:lnTo>
                    <a:pt x="2754" y="3756"/>
                  </a:lnTo>
                  <a:lnTo>
                    <a:pt x="2776" y="3756"/>
                  </a:lnTo>
                  <a:lnTo>
                    <a:pt x="2776" y="3761"/>
                  </a:lnTo>
                  <a:close/>
                  <a:moveTo>
                    <a:pt x="2738" y="3761"/>
                  </a:moveTo>
                  <a:lnTo>
                    <a:pt x="2716" y="3761"/>
                  </a:lnTo>
                  <a:lnTo>
                    <a:pt x="2716" y="3756"/>
                  </a:lnTo>
                  <a:lnTo>
                    <a:pt x="2738" y="3756"/>
                  </a:lnTo>
                  <a:lnTo>
                    <a:pt x="2738" y="3761"/>
                  </a:lnTo>
                  <a:close/>
                  <a:moveTo>
                    <a:pt x="2700" y="3761"/>
                  </a:moveTo>
                  <a:lnTo>
                    <a:pt x="2678" y="3761"/>
                  </a:lnTo>
                  <a:lnTo>
                    <a:pt x="2678" y="3756"/>
                  </a:lnTo>
                  <a:lnTo>
                    <a:pt x="2700" y="3756"/>
                  </a:lnTo>
                  <a:lnTo>
                    <a:pt x="2700" y="3761"/>
                  </a:lnTo>
                  <a:close/>
                  <a:moveTo>
                    <a:pt x="2662" y="3761"/>
                  </a:moveTo>
                  <a:lnTo>
                    <a:pt x="2640" y="3761"/>
                  </a:lnTo>
                  <a:lnTo>
                    <a:pt x="2640" y="3756"/>
                  </a:lnTo>
                  <a:lnTo>
                    <a:pt x="2662" y="3756"/>
                  </a:lnTo>
                  <a:lnTo>
                    <a:pt x="2662" y="3761"/>
                  </a:lnTo>
                  <a:close/>
                  <a:moveTo>
                    <a:pt x="2624" y="3761"/>
                  </a:moveTo>
                  <a:lnTo>
                    <a:pt x="2602" y="3761"/>
                  </a:lnTo>
                  <a:lnTo>
                    <a:pt x="2602" y="3756"/>
                  </a:lnTo>
                  <a:lnTo>
                    <a:pt x="2624" y="3756"/>
                  </a:lnTo>
                  <a:lnTo>
                    <a:pt x="2624" y="3761"/>
                  </a:lnTo>
                  <a:close/>
                  <a:moveTo>
                    <a:pt x="2585" y="3761"/>
                  </a:moveTo>
                  <a:lnTo>
                    <a:pt x="2564" y="3761"/>
                  </a:lnTo>
                  <a:lnTo>
                    <a:pt x="2564" y="3756"/>
                  </a:lnTo>
                  <a:lnTo>
                    <a:pt x="2585" y="3756"/>
                  </a:lnTo>
                  <a:lnTo>
                    <a:pt x="2585" y="3761"/>
                  </a:lnTo>
                  <a:close/>
                  <a:moveTo>
                    <a:pt x="2547" y="3761"/>
                  </a:moveTo>
                  <a:lnTo>
                    <a:pt x="2525" y="3761"/>
                  </a:lnTo>
                  <a:lnTo>
                    <a:pt x="2525" y="3756"/>
                  </a:lnTo>
                  <a:lnTo>
                    <a:pt x="2547" y="3756"/>
                  </a:lnTo>
                  <a:lnTo>
                    <a:pt x="2547" y="3761"/>
                  </a:lnTo>
                  <a:close/>
                  <a:moveTo>
                    <a:pt x="2509" y="3761"/>
                  </a:moveTo>
                  <a:lnTo>
                    <a:pt x="2487" y="3761"/>
                  </a:lnTo>
                  <a:lnTo>
                    <a:pt x="2487" y="3756"/>
                  </a:lnTo>
                  <a:lnTo>
                    <a:pt x="2509" y="3756"/>
                  </a:lnTo>
                  <a:lnTo>
                    <a:pt x="2509" y="3761"/>
                  </a:lnTo>
                  <a:close/>
                  <a:moveTo>
                    <a:pt x="2471" y="3761"/>
                  </a:moveTo>
                  <a:lnTo>
                    <a:pt x="2449" y="3761"/>
                  </a:lnTo>
                  <a:lnTo>
                    <a:pt x="2449" y="3756"/>
                  </a:lnTo>
                  <a:lnTo>
                    <a:pt x="2471" y="3756"/>
                  </a:lnTo>
                  <a:lnTo>
                    <a:pt x="2471" y="3761"/>
                  </a:lnTo>
                  <a:close/>
                  <a:moveTo>
                    <a:pt x="2433" y="3761"/>
                  </a:moveTo>
                  <a:lnTo>
                    <a:pt x="2411" y="3761"/>
                  </a:lnTo>
                  <a:lnTo>
                    <a:pt x="2411" y="3756"/>
                  </a:lnTo>
                  <a:lnTo>
                    <a:pt x="2433" y="3756"/>
                  </a:lnTo>
                  <a:lnTo>
                    <a:pt x="2433" y="3761"/>
                  </a:lnTo>
                  <a:close/>
                  <a:moveTo>
                    <a:pt x="2395" y="3761"/>
                  </a:moveTo>
                  <a:lnTo>
                    <a:pt x="2373" y="3761"/>
                  </a:lnTo>
                  <a:lnTo>
                    <a:pt x="2373" y="3756"/>
                  </a:lnTo>
                  <a:lnTo>
                    <a:pt x="2395" y="3756"/>
                  </a:lnTo>
                  <a:lnTo>
                    <a:pt x="2395" y="3761"/>
                  </a:lnTo>
                  <a:close/>
                  <a:moveTo>
                    <a:pt x="2356" y="3761"/>
                  </a:moveTo>
                  <a:lnTo>
                    <a:pt x="2335" y="3761"/>
                  </a:lnTo>
                  <a:lnTo>
                    <a:pt x="2335" y="3756"/>
                  </a:lnTo>
                  <a:lnTo>
                    <a:pt x="2356" y="3756"/>
                  </a:lnTo>
                  <a:lnTo>
                    <a:pt x="2356" y="3761"/>
                  </a:lnTo>
                  <a:close/>
                  <a:moveTo>
                    <a:pt x="2318" y="3761"/>
                  </a:moveTo>
                  <a:lnTo>
                    <a:pt x="2297" y="3761"/>
                  </a:lnTo>
                  <a:lnTo>
                    <a:pt x="2297" y="3756"/>
                  </a:lnTo>
                  <a:lnTo>
                    <a:pt x="2318" y="3756"/>
                  </a:lnTo>
                  <a:lnTo>
                    <a:pt x="2318" y="3761"/>
                  </a:lnTo>
                  <a:close/>
                  <a:moveTo>
                    <a:pt x="2280" y="3761"/>
                  </a:moveTo>
                  <a:lnTo>
                    <a:pt x="2258" y="3761"/>
                  </a:lnTo>
                  <a:lnTo>
                    <a:pt x="2258" y="3756"/>
                  </a:lnTo>
                  <a:lnTo>
                    <a:pt x="2280" y="3756"/>
                  </a:lnTo>
                  <a:lnTo>
                    <a:pt x="2280" y="3761"/>
                  </a:lnTo>
                  <a:close/>
                  <a:moveTo>
                    <a:pt x="2242" y="3761"/>
                  </a:moveTo>
                  <a:lnTo>
                    <a:pt x="2220" y="3761"/>
                  </a:lnTo>
                  <a:lnTo>
                    <a:pt x="2220" y="3756"/>
                  </a:lnTo>
                  <a:lnTo>
                    <a:pt x="2242" y="3756"/>
                  </a:lnTo>
                  <a:lnTo>
                    <a:pt x="2242" y="3761"/>
                  </a:lnTo>
                  <a:close/>
                  <a:moveTo>
                    <a:pt x="2204" y="3761"/>
                  </a:moveTo>
                  <a:lnTo>
                    <a:pt x="2182" y="3761"/>
                  </a:lnTo>
                  <a:lnTo>
                    <a:pt x="2182" y="3756"/>
                  </a:lnTo>
                  <a:lnTo>
                    <a:pt x="2204" y="3756"/>
                  </a:lnTo>
                  <a:lnTo>
                    <a:pt x="2204" y="3761"/>
                  </a:lnTo>
                  <a:close/>
                  <a:moveTo>
                    <a:pt x="2166" y="3761"/>
                  </a:moveTo>
                  <a:lnTo>
                    <a:pt x="2144" y="3761"/>
                  </a:lnTo>
                  <a:lnTo>
                    <a:pt x="2144" y="3756"/>
                  </a:lnTo>
                  <a:lnTo>
                    <a:pt x="2166" y="3756"/>
                  </a:lnTo>
                  <a:lnTo>
                    <a:pt x="2166" y="3761"/>
                  </a:lnTo>
                  <a:close/>
                  <a:moveTo>
                    <a:pt x="2127" y="3761"/>
                  </a:moveTo>
                  <a:lnTo>
                    <a:pt x="2106" y="3761"/>
                  </a:lnTo>
                  <a:lnTo>
                    <a:pt x="2106" y="3756"/>
                  </a:lnTo>
                  <a:lnTo>
                    <a:pt x="2127" y="3756"/>
                  </a:lnTo>
                  <a:lnTo>
                    <a:pt x="2127" y="3761"/>
                  </a:lnTo>
                  <a:close/>
                  <a:moveTo>
                    <a:pt x="2089" y="3761"/>
                  </a:moveTo>
                  <a:lnTo>
                    <a:pt x="2068" y="3761"/>
                  </a:lnTo>
                  <a:lnTo>
                    <a:pt x="2068" y="3756"/>
                  </a:lnTo>
                  <a:lnTo>
                    <a:pt x="2089" y="3756"/>
                  </a:lnTo>
                  <a:lnTo>
                    <a:pt x="2089" y="3761"/>
                  </a:lnTo>
                  <a:close/>
                  <a:moveTo>
                    <a:pt x="2051" y="3761"/>
                  </a:moveTo>
                  <a:lnTo>
                    <a:pt x="2029" y="3761"/>
                  </a:lnTo>
                  <a:lnTo>
                    <a:pt x="2029" y="3756"/>
                  </a:lnTo>
                  <a:lnTo>
                    <a:pt x="2051" y="3756"/>
                  </a:lnTo>
                  <a:lnTo>
                    <a:pt x="2051" y="3761"/>
                  </a:lnTo>
                  <a:close/>
                  <a:moveTo>
                    <a:pt x="2013" y="3761"/>
                  </a:moveTo>
                  <a:lnTo>
                    <a:pt x="1991" y="3761"/>
                  </a:lnTo>
                  <a:lnTo>
                    <a:pt x="1991" y="3756"/>
                  </a:lnTo>
                  <a:lnTo>
                    <a:pt x="2013" y="3756"/>
                  </a:lnTo>
                  <a:lnTo>
                    <a:pt x="2013" y="3761"/>
                  </a:lnTo>
                  <a:close/>
                  <a:moveTo>
                    <a:pt x="1975" y="3761"/>
                  </a:moveTo>
                  <a:lnTo>
                    <a:pt x="1953" y="3761"/>
                  </a:lnTo>
                  <a:lnTo>
                    <a:pt x="1953" y="3756"/>
                  </a:lnTo>
                  <a:lnTo>
                    <a:pt x="1975" y="3756"/>
                  </a:lnTo>
                  <a:lnTo>
                    <a:pt x="1975" y="3761"/>
                  </a:lnTo>
                  <a:close/>
                  <a:moveTo>
                    <a:pt x="1937" y="3761"/>
                  </a:moveTo>
                  <a:lnTo>
                    <a:pt x="1915" y="3761"/>
                  </a:lnTo>
                  <a:lnTo>
                    <a:pt x="1915" y="3756"/>
                  </a:lnTo>
                  <a:lnTo>
                    <a:pt x="1937" y="3756"/>
                  </a:lnTo>
                  <a:lnTo>
                    <a:pt x="1937" y="3761"/>
                  </a:lnTo>
                  <a:close/>
                  <a:moveTo>
                    <a:pt x="1899" y="3761"/>
                  </a:moveTo>
                  <a:lnTo>
                    <a:pt x="1877" y="3761"/>
                  </a:lnTo>
                  <a:lnTo>
                    <a:pt x="1877" y="3756"/>
                  </a:lnTo>
                  <a:lnTo>
                    <a:pt x="1899" y="3756"/>
                  </a:lnTo>
                  <a:lnTo>
                    <a:pt x="1899" y="3761"/>
                  </a:lnTo>
                  <a:close/>
                  <a:moveTo>
                    <a:pt x="1860" y="3761"/>
                  </a:moveTo>
                  <a:lnTo>
                    <a:pt x="1839" y="3761"/>
                  </a:lnTo>
                  <a:lnTo>
                    <a:pt x="1839" y="3756"/>
                  </a:lnTo>
                  <a:lnTo>
                    <a:pt x="1860" y="3756"/>
                  </a:lnTo>
                  <a:lnTo>
                    <a:pt x="1860" y="3761"/>
                  </a:lnTo>
                  <a:close/>
                  <a:moveTo>
                    <a:pt x="1822" y="3761"/>
                  </a:moveTo>
                  <a:lnTo>
                    <a:pt x="1800" y="3761"/>
                  </a:lnTo>
                  <a:lnTo>
                    <a:pt x="1800" y="3756"/>
                  </a:lnTo>
                  <a:lnTo>
                    <a:pt x="1822" y="3756"/>
                  </a:lnTo>
                  <a:lnTo>
                    <a:pt x="1822" y="3761"/>
                  </a:lnTo>
                  <a:close/>
                  <a:moveTo>
                    <a:pt x="1784" y="3761"/>
                  </a:moveTo>
                  <a:lnTo>
                    <a:pt x="1762" y="3761"/>
                  </a:lnTo>
                  <a:lnTo>
                    <a:pt x="1762" y="3756"/>
                  </a:lnTo>
                  <a:lnTo>
                    <a:pt x="1784" y="3756"/>
                  </a:lnTo>
                  <a:lnTo>
                    <a:pt x="1784" y="3761"/>
                  </a:lnTo>
                  <a:close/>
                  <a:moveTo>
                    <a:pt x="1746" y="3761"/>
                  </a:moveTo>
                  <a:lnTo>
                    <a:pt x="1724" y="3761"/>
                  </a:lnTo>
                  <a:lnTo>
                    <a:pt x="1724" y="3756"/>
                  </a:lnTo>
                  <a:lnTo>
                    <a:pt x="1746" y="3756"/>
                  </a:lnTo>
                  <a:lnTo>
                    <a:pt x="1746" y="3761"/>
                  </a:lnTo>
                  <a:close/>
                  <a:moveTo>
                    <a:pt x="1708" y="3761"/>
                  </a:moveTo>
                  <a:lnTo>
                    <a:pt x="1686" y="3761"/>
                  </a:lnTo>
                  <a:lnTo>
                    <a:pt x="1686" y="3756"/>
                  </a:lnTo>
                  <a:lnTo>
                    <a:pt x="1708" y="3756"/>
                  </a:lnTo>
                  <a:lnTo>
                    <a:pt x="1708" y="3761"/>
                  </a:lnTo>
                  <a:close/>
                  <a:moveTo>
                    <a:pt x="1670" y="3761"/>
                  </a:moveTo>
                  <a:lnTo>
                    <a:pt x="1648" y="3761"/>
                  </a:lnTo>
                  <a:lnTo>
                    <a:pt x="1648" y="3756"/>
                  </a:lnTo>
                  <a:lnTo>
                    <a:pt x="1670" y="3756"/>
                  </a:lnTo>
                  <a:lnTo>
                    <a:pt x="1670" y="3761"/>
                  </a:lnTo>
                  <a:close/>
                  <a:moveTo>
                    <a:pt x="1632" y="3761"/>
                  </a:moveTo>
                  <a:lnTo>
                    <a:pt x="1610" y="3761"/>
                  </a:lnTo>
                  <a:lnTo>
                    <a:pt x="1610" y="3756"/>
                  </a:lnTo>
                  <a:lnTo>
                    <a:pt x="1632" y="3756"/>
                  </a:lnTo>
                  <a:lnTo>
                    <a:pt x="1632" y="3761"/>
                  </a:lnTo>
                  <a:close/>
                  <a:moveTo>
                    <a:pt x="1594" y="3761"/>
                  </a:moveTo>
                  <a:lnTo>
                    <a:pt x="1572" y="3761"/>
                  </a:lnTo>
                  <a:lnTo>
                    <a:pt x="1572" y="3756"/>
                  </a:lnTo>
                  <a:lnTo>
                    <a:pt x="1594" y="3756"/>
                  </a:lnTo>
                  <a:lnTo>
                    <a:pt x="1594" y="3761"/>
                  </a:lnTo>
                  <a:close/>
                  <a:moveTo>
                    <a:pt x="1556" y="3761"/>
                  </a:moveTo>
                  <a:lnTo>
                    <a:pt x="1534" y="3761"/>
                  </a:lnTo>
                  <a:lnTo>
                    <a:pt x="1534" y="3756"/>
                  </a:lnTo>
                  <a:lnTo>
                    <a:pt x="1556" y="3756"/>
                  </a:lnTo>
                  <a:lnTo>
                    <a:pt x="1556" y="3761"/>
                  </a:lnTo>
                  <a:close/>
                  <a:moveTo>
                    <a:pt x="1517" y="3761"/>
                  </a:moveTo>
                  <a:lnTo>
                    <a:pt x="1495" y="3761"/>
                  </a:lnTo>
                  <a:lnTo>
                    <a:pt x="1495" y="3756"/>
                  </a:lnTo>
                  <a:lnTo>
                    <a:pt x="1517" y="3756"/>
                  </a:lnTo>
                  <a:lnTo>
                    <a:pt x="1517" y="3761"/>
                  </a:lnTo>
                  <a:close/>
                  <a:moveTo>
                    <a:pt x="1479" y="3761"/>
                  </a:moveTo>
                  <a:lnTo>
                    <a:pt x="1457" y="3761"/>
                  </a:lnTo>
                  <a:lnTo>
                    <a:pt x="1457" y="3756"/>
                  </a:lnTo>
                  <a:lnTo>
                    <a:pt x="1479" y="3756"/>
                  </a:lnTo>
                  <a:lnTo>
                    <a:pt x="1479" y="3761"/>
                  </a:lnTo>
                  <a:close/>
                  <a:moveTo>
                    <a:pt x="1441" y="3761"/>
                  </a:moveTo>
                  <a:lnTo>
                    <a:pt x="1419" y="3761"/>
                  </a:lnTo>
                  <a:lnTo>
                    <a:pt x="1419" y="3756"/>
                  </a:lnTo>
                  <a:lnTo>
                    <a:pt x="1441" y="3756"/>
                  </a:lnTo>
                  <a:lnTo>
                    <a:pt x="1441" y="3761"/>
                  </a:lnTo>
                  <a:close/>
                  <a:moveTo>
                    <a:pt x="1403" y="3761"/>
                  </a:moveTo>
                  <a:lnTo>
                    <a:pt x="1381" y="3761"/>
                  </a:lnTo>
                  <a:lnTo>
                    <a:pt x="1381" y="3756"/>
                  </a:lnTo>
                  <a:lnTo>
                    <a:pt x="1403" y="3756"/>
                  </a:lnTo>
                  <a:lnTo>
                    <a:pt x="1403" y="3761"/>
                  </a:lnTo>
                  <a:close/>
                  <a:moveTo>
                    <a:pt x="1365" y="3761"/>
                  </a:moveTo>
                  <a:lnTo>
                    <a:pt x="1343" y="3761"/>
                  </a:lnTo>
                  <a:lnTo>
                    <a:pt x="1343" y="3756"/>
                  </a:lnTo>
                  <a:lnTo>
                    <a:pt x="1365" y="3756"/>
                  </a:lnTo>
                  <a:lnTo>
                    <a:pt x="1365" y="3761"/>
                  </a:lnTo>
                  <a:close/>
                  <a:moveTo>
                    <a:pt x="1327" y="3761"/>
                  </a:moveTo>
                  <a:lnTo>
                    <a:pt x="1305" y="3761"/>
                  </a:lnTo>
                  <a:lnTo>
                    <a:pt x="1305" y="3756"/>
                  </a:lnTo>
                  <a:lnTo>
                    <a:pt x="1327" y="3756"/>
                  </a:lnTo>
                  <a:lnTo>
                    <a:pt x="1327" y="3761"/>
                  </a:lnTo>
                  <a:close/>
                  <a:moveTo>
                    <a:pt x="1288" y="3761"/>
                  </a:moveTo>
                  <a:lnTo>
                    <a:pt x="1267" y="3761"/>
                  </a:lnTo>
                  <a:lnTo>
                    <a:pt x="1267" y="3756"/>
                  </a:lnTo>
                  <a:lnTo>
                    <a:pt x="1288" y="3756"/>
                  </a:lnTo>
                  <a:lnTo>
                    <a:pt x="1288" y="3761"/>
                  </a:lnTo>
                  <a:close/>
                  <a:moveTo>
                    <a:pt x="1250" y="3761"/>
                  </a:moveTo>
                  <a:lnTo>
                    <a:pt x="1229" y="3761"/>
                  </a:lnTo>
                  <a:lnTo>
                    <a:pt x="1229" y="3756"/>
                  </a:lnTo>
                  <a:lnTo>
                    <a:pt x="1250" y="3756"/>
                  </a:lnTo>
                  <a:lnTo>
                    <a:pt x="1250" y="3761"/>
                  </a:lnTo>
                  <a:close/>
                  <a:moveTo>
                    <a:pt x="1212" y="3761"/>
                  </a:moveTo>
                  <a:lnTo>
                    <a:pt x="1190" y="3761"/>
                  </a:lnTo>
                  <a:lnTo>
                    <a:pt x="1190" y="3756"/>
                  </a:lnTo>
                  <a:lnTo>
                    <a:pt x="1212" y="3756"/>
                  </a:lnTo>
                  <a:lnTo>
                    <a:pt x="1212" y="3761"/>
                  </a:lnTo>
                  <a:close/>
                  <a:moveTo>
                    <a:pt x="1174" y="3761"/>
                  </a:moveTo>
                  <a:lnTo>
                    <a:pt x="1152" y="3761"/>
                  </a:lnTo>
                  <a:lnTo>
                    <a:pt x="1152" y="3756"/>
                  </a:lnTo>
                  <a:lnTo>
                    <a:pt x="1174" y="3756"/>
                  </a:lnTo>
                  <a:lnTo>
                    <a:pt x="1174" y="3761"/>
                  </a:lnTo>
                  <a:close/>
                  <a:moveTo>
                    <a:pt x="1136" y="3761"/>
                  </a:moveTo>
                  <a:lnTo>
                    <a:pt x="1114" y="3761"/>
                  </a:lnTo>
                  <a:lnTo>
                    <a:pt x="1114" y="3756"/>
                  </a:lnTo>
                  <a:lnTo>
                    <a:pt x="1136" y="3756"/>
                  </a:lnTo>
                  <a:lnTo>
                    <a:pt x="1136" y="3761"/>
                  </a:lnTo>
                  <a:close/>
                  <a:moveTo>
                    <a:pt x="1098" y="3761"/>
                  </a:moveTo>
                  <a:lnTo>
                    <a:pt x="1076" y="3761"/>
                  </a:lnTo>
                  <a:lnTo>
                    <a:pt x="1076" y="3756"/>
                  </a:lnTo>
                  <a:lnTo>
                    <a:pt x="1098" y="3756"/>
                  </a:lnTo>
                  <a:lnTo>
                    <a:pt x="1098" y="3761"/>
                  </a:lnTo>
                  <a:close/>
                  <a:moveTo>
                    <a:pt x="1059" y="3761"/>
                  </a:moveTo>
                  <a:lnTo>
                    <a:pt x="1038" y="3761"/>
                  </a:lnTo>
                  <a:lnTo>
                    <a:pt x="1038" y="3756"/>
                  </a:lnTo>
                  <a:lnTo>
                    <a:pt x="1059" y="3756"/>
                  </a:lnTo>
                  <a:lnTo>
                    <a:pt x="1059" y="3761"/>
                  </a:lnTo>
                  <a:close/>
                  <a:moveTo>
                    <a:pt x="1021" y="3761"/>
                  </a:moveTo>
                  <a:lnTo>
                    <a:pt x="1000" y="3761"/>
                  </a:lnTo>
                  <a:lnTo>
                    <a:pt x="1000" y="3756"/>
                  </a:lnTo>
                  <a:lnTo>
                    <a:pt x="1021" y="3756"/>
                  </a:lnTo>
                  <a:lnTo>
                    <a:pt x="1021" y="3761"/>
                  </a:lnTo>
                  <a:close/>
                  <a:moveTo>
                    <a:pt x="983" y="3761"/>
                  </a:moveTo>
                  <a:lnTo>
                    <a:pt x="961" y="3761"/>
                  </a:lnTo>
                  <a:lnTo>
                    <a:pt x="961" y="3756"/>
                  </a:lnTo>
                  <a:lnTo>
                    <a:pt x="983" y="3756"/>
                  </a:lnTo>
                  <a:lnTo>
                    <a:pt x="983" y="3761"/>
                  </a:lnTo>
                  <a:close/>
                  <a:moveTo>
                    <a:pt x="945" y="3761"/>
                  </a:moveTo>
                  <a:lnTo>
                    <a:pt x="923" y="3761"/>
                  </a:lnTo>
                  <a:lnTo>
                    <a:pt x="923" y="3756"/>
                  </a:lnTo>
                  <a:lnTo>
                    <a:pt x="945" y="3756"/>
                  </a:lnTo>
                  <a:lnTo>
                    <a:pt x="945" y="3761"/>
                  </a:lnTo>
                  <a:close/>
                  <a:moveTo>
                    <a:pt x="907" y="3761"/>
                  </a:moveTo>
                  <a:lnTo>
                    <a:pt x="885" y="3761"/>
                  </a:lnTo>
                  <a:lnTo>
                    <a:pt x="885" y="3756"/>
                  </a:lnTo>
                  <a:lnTo>
                    <a:pt x="907" y="3756"/>
                  </a:lnTo>
                  <a:lnTo>
                    <a:pt x="907" y="3761"/>
                  </a:lnTo>
                  <a:close/>
                  <a:moveTo>
                    <a:pt x="869" y="3761"/>
                  </a:moveTo>
                  <a:lnTo>
                    <a:pt x="847" y="3761"/>
                  </a:lnTo>
                  <a:lnTo>
                    <a:pt x="847" y="3756"/>
                  </a:lnTo>
                  <a:lnTo>
                    <a:pt x="869" y="3756"/>
                  </a:lnTo>
                  <a:lnTo>
                    <a:pt x="869" y="3761"/>
                  </a:lnTo>
                  <a:close/>
                  <a:moveTo>
                    <a:pt x="830" y="3761"/>
                  </a:moveTo>
                  <a:lnTo>
                    <a:pt x="809" y="3761"/>
                  </a:lnTo>
                  <a:lnTo>
                    <a:pt x="809" y="3756"/>
                  </a:lnTo>
                  <a:lnTo>
                    <a:pt x="830" y="3756"/>
                  </a:lnTo>
                  <a:lnTo>
                    <a:pt x="830" y="3761"/>
                  </a:lnTo>
                  <a:close/>
                  <a:moveTo>
                    <a:pt x="792" y="3761"/>
                  </a:moveTo>
                  <a:lnTo>
                    <a:pt x="771" y="3761"/>
                  </a:lnTo>
                  <a:lnTo>
                    <a:pt x="771" y="3756"/>
                  </a:lnTo>
                  <a:lnTo>
                    <a:pt x="792" y="3756"/>
                  </a:lnTo>
                  <a:lnTo>
                    <a:pt x="792" y="3761"/>
                  </a:lnTo>
                  <a:close/>
                  <a:moveTo>
                    <a:pt x="754" y="3761"/>
                  </a:moveTo>
                  <a:lnTo>
                    <a:pt x="732" y="3761"/>
                  </a:lnTo>
                  <a:lnTo>
                    <a:pt x="732" y="3756"/>
                  </a:lnTo>
                  <a:lnTo>
                    <a:pt x="754" y="3756"/>
                  </a:lnTo>
                  <a:lnTo>
                    <a:pt x="754" y="3761"/>
                  </a:lnTo>
                  <a:close/>
                  <a:moveTo>
                    <a:pt x="716" y="3761"/>
                  </a:moveTo>
                  <a:lnTo>
                    <a:pt x="694" y="3761"/>
                  </a:lnTo>
                  <a:lnTo>
                    <a:pt x="694" y="3756"/>
                  </a:lnTo>
                  <a:lnTo>
                    <a:pt x="716" y="3756"/>
                  </a:lnTo>
                  <a:lnTo>
                    <a:pt x="716" y="3761"/>
                  </a:lnTo>
                  <a:close/>
                  <a:moveTo>
                    <a:pt x="678" y="3761"/>
                  </a:moveTo>
                  <a:lnTo>
                    <a:pt x="673" y="3761"/>
                  </a:lnTo>
                  <a:lnTo>
                    <a:pt x="673" y="3756"/>
                  </a:lnTo>
                  <a:lnTo>
                    <a:pt x="678" y="3756"/>
                  </a:lnTo>
                  <a:lnTo>
                    <a:pt x="678" y="3761"/>
                  </a:lnTo>
                  <a:close/>
                  <a:moveTo>
                    <a:pt x="673" y="3761"/>
                  </a:moveTo>
                  <a:lnTo>
                    <a:pt x="656" y="3760"/>
                  </a:lnTo>
                  <a:lnTo>
                    <a:pt x="656" y="3755"/>
                  </a:lnTo>
                  <a:lnTo>
                    <a:pt x="674" y="3756"/>
                  </a:lnTo>
                  <a:lnTo>
                    <a:pt x="673" y="3761"/>
                  </a:lnTo>
                  <a:close/>
                  <a:moveTo>
                    <a:pt x="640" y="3760"/>
                  </a:moveTo>
                  <a:lnTo>
                    <a:pt x="618" y="3758"/>
                  </a:lnTo>
                  <a:lnTo>
                    <a:pt x="618" y="3753"/>
                  </a:lnTo>
                  <a:lnTo>
                    <a:pt x="640" y="3754"/>
                  </a:lnTo>
                  <a:lnTo>
                    <a:pt x="640" y="3760"/>
                  </a:lnTo>
                  <a:close/>
                  <a:moveTo>
                    <a:pt x="601" y="3757"/>
                  </a:moveTo>
                  <a:lnTo>
                    <a:pt x="580" y="3754"/>
                  </a:lnTo>
                  <a:lnTo>
                    <a:pt x="581" y="3749"/>
                  </a:lnTo>
                  <a:lnTo>
                    <a:pt x="602" y="3752"/>
                  </a:lnTo>
                  <a:lnTo>
                    <a:pt x="601" y="3757"/>
                  </a:lnTo>
                  <a:close/>
                  <a:moveTo>
                    <a:pt x="564" y="3752"/>
                  </a:moveTo>
                  <a:lnTo>
                    <a:pt x="542" y="3749"/>
                  </a:lnTo>
                  <a:lnTo>
                    <a:pt x="543" y="3744"/>
                  </a:lnTo>
                  <a:lnTo>
                    <a:pt x="565" y="3747"/>
                  </a:lnTo>
                  <a:lnTo>
                    <a:pt x="564" y="3752"/>
                  </a:lnTo>
                  <a:close/>
                  <a:moveTo>
                    <a:pt x="526" y="3745"/>
                  </a:moveTo>
                  <a:lnTo>
                    <a:pt x="505" y="3740"/>
                  </a:lnTo>
                  <a:lnTo>
                    <a:pt x="506" y="3735"/>
                  </a:lnTo>
                  <a:lnTo>
                    <a:pt x="527" y="3741"/>
                  </a:lnTo>
                  <a:lnTo>
                    <a:pt x="526" y="3745"/>
                  </a:lnTo>
                  <a:close/>
                  <a:moveTo>
                    <a:pt x="489" y="3736"/>
                  </a:moveTo>
                  <a:lnTo>
                    <a:pt x="473" y="3733"/>
                  </a:lnTo>
                  <a:lnTo>
                    <a:pt x="468" y="3731"/>
                  </a:lnTo>
                  <a:lnTo>
                    <a:pt x="470" y="3726"/>
                  </a:lnTo>
                  <a:lnTo>
                    <a:pt x="475" y="3728"/>
                  </a:lnTo>
                  <a:lnTo>
                    <a:pt x="491" y="3732"/>
                  </a:lnTo>
                  <a:lnTo>
                    <a:pt x="489" y="3736"/>
                  </a:lnTo>
                  <a:close/>
                  <a:moveTo>
                    <a:pt x="452" y="3726"/>
                  </a:moveTo>
                  <a:lnTo>
                    <a:pt x="432" y="3719"/>
                  </a:lnTo>
                  <a:lnTo>
                    <a:pt x="434" y="3714"/>
                  </a:lnTo>
                  <a:lnTo>
                    <a:pt x="454" y="3721"/>
                  </a:lnTo>
                  <a:lnTo>
                    <a:pt x="452" y="3726"/>
                  </a:lnTo>
                  <a:close/>
                  <a:moveTo>
                    <a:pt x="417" y="3714"/>
                  </a:moveTo>
                  <a:lnTo>
                    <a:pt x="412" y="3712"/>
                  </a:lnTo>
                  <a:lnTo>
                    <a:pt x="397" y="3705"/>
                  </a:lnTo>
                  <a:lnTo>
                    <a:pt x="399" y="3700"/>
                  </a:lnTo>
                  <a:lnTo>
                    <a:pt x="413" y="3707"/>
                  </a:lnTo>
                  <a:lnTo>
                    <a:pt x="418" y="3708"/>
                  </a:lnTo>
                  <a:lnTo>
                    <a:pt x="417" y="3714"/>
                  </a:lnTo>
                  <a:close/>
                  <a:moveTo>
                    <a:pt x="382" y="3698"/>
                  </a:moveTo>
                  <a:lnTo>
                    <a:pt x="362" y="3689"/>
                  </a:lnTo>
                  <a:lnTo>
                    <a:pt x="365" y="3685"/>
                  </a:lnTo>
                  <a:lnTo>
                    <a:pt x="384" y="3694"/>
                  </a:lnTo>
                  <a:lnTo>
                    <a:pt x="382" y="3698"/>
                  </a:lnTo>
                  <a:close/>
                  <a:moveTo>
                    <a:pt x="348" y="3682"/>
                  </a:moveTo>
                  <a:lnTo>
                    <a:pt x="329" y="3672"/>
                  </a:lnTo>
                  <a:lnTo>
                    <a:pt x="332" y="3667"/>
                  </a:lnTo>
                  <a:lnTo>
                    <a:pt x="350" y="3678"/>
                  </a:lnTo>
                  <a:lnTo>
                    <a:pt x="348" y="3682"/>
                  </a:lnTo>
                  <a:close/>
                  <a:moveTo>
                    <a:pt x="315" y="3664"/>
                  </a:moveTo>
                  <a:lnTo>
                    <a:pt x="297" y="3654"/>
                  </a:lnTo>
                  <a:lnTo>
                    <a:pt x="296" y="3653"/>
                  </a:lnTo>
                  <a:lnTo>
                    <a:pt x="299" y="3649"/>
                  </a:lnTo>
                  <a:lnTo>
                    <a:pt x="300" y="3650"/>
                  </a:lnTo>
                  <a:lnTo>
                    <a:pt x="318" y="3660"/>
                  </a:lnTo>
                  <a:lnTo>
                    <a:pt x="315" y="3664"/>
                  </a:lnTo>
                  <a:close/>
                  <a:moveTo>
                    <a:pt x="283" y="3644"/>
                  </a:moveTo>
                  <a:lnTo>
                    <a:pt x="266" y="3632"/>
                  </a:lnTo>
                  <a:lnTo>
                    <a:pt x="269" y="3628"/>
                  </a:lnTo>
                  <a:lnTo>
                    <a:pt x="286" y="3640"/>
                  </a:lnTo>
                  <a:lnTo>
                    <a:pt x="283" y="3644"/>
                  </a:lnTo>
                  <a:close/>
                  <a:moveTo>
                    <a:pt x="252" y="3623"/>
                  </a:moveTo>
                  <a:lnTo>
                    <a:pt x="245" y="3618"/>
                  </a:lnTo>
                  <a:lnTo>
                    <a:pt x="236" y="3609"/>
                  </a:lnTo>
                  <a:lnTo>
                    <a:pt x="239" y="3605"/>
                  </a:lnTo>
                  <a:lnTo>
                    <a:pt x="248" y="3613"/>
                  </a:lnTo>
                  <a:lnTo>
                    <a:pt x="256" y="3619"/>
                  </a:lnTo>
                  <a:lnTo>
                    <a:pt x="252" y="3623"/>
                  </a:lnTo>
                  <a:close/>
                  <a:moveTo>
                    <a:pt x="223" y="3599"/>
                  </a:moveTo>
                  <a:lnTo>
                    <a:pt x="207" y="3585"/>
                  </a:lnTo>
                  <a:lnTo>
                    <a:pt x="211" y="3582"/>
                  </a:lnTo>
                  <a:lnTo>
                    <a:pt x="227" y="3595"/>
                  </a:lnTo>
                  <a:lnTo>
                    <a:pt x="223" y="3599"/>
                  </a:lnTo>
                  <a:close/>
                  <a:moveTo>
                    <a:pt x="195" y="3575"/>
                  </a:moveTo>
                  <a:lnTo>
                    <a:pt x="181" y="3560"/>
                  </a:lnTo>
                  <a:lnTo>
                    <a:pt x="185" y="3556"/>
                  </a:lnTo>
                  <a:lnTo>
                    <a:pt x="199" y="3572"/>
                  </a:lnTo>
                  <a:lnTo>
                    <a:pt x="195" y="3575"/>
                  </a:lnTo>
                  <a:close/>
                  <a:moveTo>
                    <a:pt x="170" y="3549"/>
                  </a:moveTo>
                  <a:lnTo>
                    <a:pt x="155" y="3533"/>
                  </a:lnTo>
                  <a:lnTo>
                    <a:pt x="159" y="3530"/>
                  </a:lnTo>
                  <a:lnTo>
                    <a:pt x="173" y="3545"/>
                  </a:lnTo>
                  <a:lnTo>
                    <a:pt x="170" y="3549"/>
                  </a:lnTo>
                  <a:close/>
                  <a:moveTo>
                    <a:pt x="145" y="3521"/>
                  </a:moveTo>
                  <a:lnTo>
                    <a:pt x="132" y="3505"/>
                  </a:lnTo>
                  <a:lnTo>
                    <a:pt x="136" y="3502"/>
                  </a:lnTo>
                  <a:lnTo>
                    <a:pt x="149" y="3518"/>
                  </a:lnTo>
                  <a:lnTo>
                    <a:pt x="145" y="3521"/>
                  </a:lnTo>
                  <a:close/>
                  <a:moveTo>
                    <a:pt x="122" y="3492"/>
                  </a:moveTo>
                  <a:lnTo>
                    <a:pt x="115" y="3484"/>
                  </a:lnTo>
                  <a:lnTo>
                    <a:pt x="110" y="3476"/>
                  </a:lnTo>
                  <a:lnTo>
                    <a:pt x="114" y="3473"/>
                  </a:lnTo>
                  <a:lnTo>
                    <a:pt x="120" y="3481"/>
                  </a:lnTo>
                  <a:lnTo>
                    <a:pt x="127" y="3490"/>
                  </a:lnTo>
                  <a:lnTo>
                    <a:pt x="122" y="3492"/>
                  </a:lnTo>
                  <a:close/>
                  <a:moveTo>
                    <a:pt x="101" y="3463"/>
                  </a:moveTo>
                  <a:lnTo>
                    <a:pt x="90" y="3445"/>
                  </a:lnTo>
                  <a:lnTo>
                    <a:pt x="95" y="3443"/>
                  </a:lnTo>
                  <a:lnTo>
                    <a:pt x="106" y="3460"/>
                  </a:lnTo>
                  <a:lnTo>
                    <a:pt x="101" y="3463"/>
                  </a:lnTo>
                  <a:close/>
                  <a:moveTo>
                    <a:pt x="81" y="3432"/>
                  </a:moveTo>
                  <a:lnTo>
                    <a:pt x="72" y="3414"/>
                  </a:lnTo>
                  <a:lnTo>
                    <a:pt x="77" y="3411"/>
                  </a:lnTo>
                  <a:lnTo>
                    <a:pt x="86" y="3430"/>
                  </a:lnTo>
                  <a:lnTo>
                    <a:pt x="81" y="3432"/>
                  </a:lnTo>
                  <a:close/>
                  <a:moveTo>
                    <a:pt x="65" y="3400"/>
                  </a:moveTo>
                  <a:lnTo>
                    <a:pt x="55" y="3382"/>
                  </a:lnTo>
                  <a:lnTo>
                    <a:pt x="60" y="3379"/>
                  </a:lnTo>
                  <a:lnTo>
                    <a:pt x="70" y="3397"/>
                  </a:lnTo>
                  <a:lnTo>
                    <a:pt x="65" y="3400"/>
                  </a:lnTo>
                  <a:close/>
                  <a:moveTo>
                    <a:pt x="49" y="3367"/>
                  </a:moveTo>
                  <a:lnTo>
                    <a:pt x="41" y="3348"/>
                  </a:lnTo>
                  <a:lnTo>
                    <a:pt x="47" y="3346"/>
                  </a:lnTo>
                  <a:lnTo>
                    <a:pt x="54" y="3365"/>
                  </a:lnTo>
                  <a:lnTo>
                    <a:pt x="49" y="3367"/>
                  </a:lnTo>
                  <a:close/>
                  <a:moveTo>
                    <a:pt x="36" y="3334"/>
                  </a:moveTo>
                  <a:lnTo>
                    <a:pt x="31" y="3320"/>
                  </a:lnTo>
                  <a:lnTo>
                    <a:pt x="29" y="3314"/>
                  </a:lnTo>
                  <a:lnTo>
                    <a:pt x="34" y="3313"/>
                  </a:lnTo>
                  <a:lnTo>
                    <a:pt x="36" y="3318"/>
                  </a:lnTo>
                  <a:lnTo>
                    <a:pt x="41" y="3332"/>
                  </a:lnTo>
                  <a:lnTo>
                    <a:pt x="36" y="3334"/>
                  </a:lnTo>
                  <a:close/>
                  <a:moveTo>
                    <a:pt x="25" y="3299"/>
                  </a:moveTo>
                  <a:lnTo>
                    <a:pt x="19" y="3280"/>
                  </a:lnTo>
                  <a:lnTo>
                    <a:pt x="25" y="3278"/>
                  </a:lnTo>
                  <a:lnTo>
                    <a:pt x="30" y="3298"/>
                  </a:lnTo>
                  <a:lnTo>
                    <a:pt x="25" y="3299"/>
                  </a:lnTo>
                  <a:close/>
                  <a:moveTo>
                    <a:pt x="15" y="3265"/>
                  </a:moveTo>
                  <a:lnTo>
                    <a:pt x="14" y="3259"/>
                  </a:lnTo>
                  <a:lnTo>
                    <a:pt x="12" y="3245"/>
                  </a:lnTo>
                  <a:lnTo>
                    <a:pt x="17" y="3244"/>
                  </a:lnTo>
                  <a:lnTo>
                    <a:pt x="19" y="3258"/>
                  </a:lnTo>
                  <a:lnTo>
                    <a:pt x="21" y="3264"/>
                  </a:lnTo>
                  <a:lnTo>
                    <a:pt x="15" y="3265"/>
                  </a:lnTo>
                  <a:close/>
                  <a:moveTo>
                    <a:pt x="9" y="3229"/>
                  </a:moveTo>
                  <a:lnTo>
                    <a:pt x="6" y="3209"/>
                  </a:lnTo>
                  <a:lnTo>
                    <a:pt x="11" y="3209"/>
                  </a:lnTo>
                  <a:lnTo>
                    <a:pt x="14" y="3229"/>
                  </a:lnTo>
                  <a:lnTo>
                    <a:pt x="9" y="3229"/>
                  </a:lnTo>
                  <a:close/>
                  <a:moveTo>
                    <a:pt x="3" y="3194"/>
                  </a:moveTo>
                  <a:lnTo>
                    <a:pt x="2" y="3174"/>
                  </a:lnTo>
                  <a:lnTo>
                    <a:pt x="8" y="3173"/>
                  </a:lnTo>
                  <a:lnTo>
                    <a:pt x="9" y="3194"/>
                  </a:lnTo>
                  <a:lnTo>
                    <a:pt x="3" y="3194"/>
                  </a:lnTo>
                  <a:close/>
                  <a:moveTo>
                    <a:pt x="1" y="3159"/>
                  </a:moveTo>
                  <a:lnTo>
                    <a:pt x="0" y="3138"/>
                  </a:lnTo>
                  <a:lnTo>
                    <a:pt x="6" y="3138"/>
                  </a:lnTo>
                  <a:lnTo>
                    <a:pt x="7" y="3158"/>
                  </a:lnTo>
                  <a:lnTo>
                    <a:pt x="1" y="3159"/>
                  </a:lnTo>
                  <a:close/>
                </a:path>
              </a:pathLst>
            </a:custGeom>
            <a:solidFill>
              <a:srgbClr val="98b954"/>
            </a:solidFill>
            <a:ln w="0">
              <a:solidFill>
                <a:srgbClr val="98b954"/>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4" name="Rectangle 9"/>
            <p:cNvSpPr/>
            <p:nvPr/>
          </p:nvSpPr>
          <p:spPr>
            <a:xfrm>
              <a:off x="2787120" y="971640"/>
              <a:ext cx="379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plying SCF Components and Extracting Liquidity </a:t>
              </a:r>
              <a:endParaRPr b="0" lang="en-US" sz="1200" spc="-1" strike="noStrike">
                <a:solidFill>
                  <a:srgbClr val="000000"/>
                </a:solidFill>
                <a:latin typeface="Times New Roman"/>
              </a:endParaRPr>
            </a:p>
          </p:txBody>
        </p:sp>
        <p:pic>
          <p:nvPicPr>
            <p:cNvPr id="475" name="Picture 10" descr=""/>
            <p:cNvPicPr/>
            <p:nvPr/>
          </p:nvPicPr>
          <p:blipFill>
            <a:blip r:embed="rId3"/>
            <a:stretch/>
          </p:blipFill>
          <p:spPr>
            <a:xfrm>
              <a:off x="3807000" y="3127320"/>
              <a:ext cx="3689280" cy="887400"/>
            </a:xfrm>
            <a:prstGeom prst="rect">
              <a:avLst/>
            </a:prstGeom>
            <a:ln w="0">
              <a:noFill/>
            </a:ln>
          </p:spPr>
        </p:pic>
        <p:pic>
          <p:nvPicPr>
            <p:cNvPr id="476" name="Picture 11" descr=""/>
            <p:cNvPicPr/>
            <p:nvPr/>
          </p:nvPicPr>
          <p:blipFill>
            <a:blip r:embed="rId4"/>
            <a:stretch/>
          </p:blipFill>
          <p:spPr>
            <a:xfrm>
              <a:off x="3807000" y="3127320"/>
              <a:ext cx="3689280" cy="887400"/>
            </a:xfrm>
            <a:prstGeom prst="rect">
              <a:avLst/>
            </a:prstGeom>
            <a:ln w="0">
              <a:noFill/>
            </a:ln>
          </p:spPr>
        </p:pic>
        <p:sp>
          <p:nvSpPr>
            <p:cNvPr id="477" name="Freeform 12"/>
            <p:cNvSpPr/>
            <p:nvPr/>
          </p:nvSpPr>
          <p:spPr>
            <a:xfrm>
              <a:off x="3857760" y="3159000"/>
              <a:ext cx="3578040" cy="782640"/>
            </a:xfrm>
            <a:custGeom>
              <a:avLst/>
              <a:gdLst>
                <a:gd name="textAreaLeft" fmla="*/ 0 w 3578040"/>
                <a:gd name="textAreaRight" fmla="*/ 3578400 w 3578040"/>
                <a:gd name="textAreaTop" fmla="*/ 0 h 782640"/>
                <a:gd name="textAreaBottom" fmla="*/ 783000 h 782640"/>
              </a:gdLst>
              <a:ahLst/>
              <a:rect l="textAreaLeft" t="textAreaTop" r="textAreaRight" b="textAreaBottom"/>
              <a:pathLst>
                <a:path w="6624" h="1552">
                  <a:moveTo>
                    <a:pt x="0" y="259"/>
                  </a:moveTo>
                  <a:cubicBezTo>
                    <a:pt x="0" y="116"/>
                    <a:pt x="116" y="0"/>
                    <a:pt x="259" y="0"/>
                  </a:cubicBezTo>
                  <a:cubicBezTo>
                    <a:pt x="259" y="0"/>
                    <a:pt x="259" y="0"/>
                    <a:pt x="259" y="0"/>
                  </a:cubicBezTo>
                  <a:lnTo>
                    <a:pt x="259" y="0"/>
                  </a:lnTo>
                  <a:lnTo>
                    <a:pt x="6366" y="0"/>
                  </a:lnTo>
                  <a:lnTo>
                    <a:pt x="6366" y="0"/>
                  </a:lnTo>
                  <a:cubicBezTo>
                    <a:pt x="6509" y="0"/>
                    <a:pt x="6624" y="116"/>
                    <a:pt x="6624" y="259"/>
                  </a:cubicBezTo>
                  <a:cubicBezTo>
                    <a:pt x="6624" y="259"/>
                    <a:pt x="6624" y="259"/>
                    <a:pt x="6624" y="259"/>
                  </a:cubicBezTo>
                  <a:lnTo>
                    <a:pt x="6624" y="259"/>
                  </a:lnTo>
                  <a:lnTo>
                    <a:pt x="6624" y="1294"/>
                  </a:lnTo>
                  <a:lnTo>
                    <a:pt x="6624" y="1294"/>
                  </a:lnTo>
                  <a:cubicBezTo>
                    <a:pt x="6624" y="1437"/>
                    <a:pt x="6509" y="1552"/>
                    <a:pt x="6366" y="1552"/>
                  </a:cubicBezTo>
                  <a:cubicBezTo>
                    <a:pt x="6366" y="1552"/>
                    <a:pt x="6366" y="1552"/>
                    <a:pt x="6366" y="1552"/>
                  </a:cubicBezTo>
                  <a:lnTo>
                    <a:pt x="6366" y="1552"/>
                  </a:lnTo>
                  <a:lnTo>
                    <a:pt x="259" y="1552"/>
                  </a:lnTo>
                  <a:lnTo>
                    <a:pt x="259" y="1552"/>
                  </a:lnTo>
                  <a:cubicBezTo>
                    <a:pt x="116" y="1552"/>
                    <a:pt x="0" y="1437"/>
                    <a:pt x="0" y="1294"/>
                  </a:cubicBezTo>
                  <a:cubicBezTo>
                    <a:pt x="0" y="1294"/>
                    <a:pt x="0" y="1294"/>
                    <a:pt x="0" y="1294"/>
                  </a:cubicBezTo>
                  <a:lnTo>
                    <a:pt x="0" y="259"/>
                  </a:lnTo>
                  <a:close/>
                </a:path>
              </a:pathLst>
            </a:custGeom>
            <a:solidFill>
              <a:srgbClr val="f2f2f2"/>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8" name="Freeform 13"/>
            <p:cNvSpPr/>
            <p:nvPr/>
          </p:nvSpPr>
          <p:spPr>
            <a:xfrm>
              <a:off x="3854520" y="3156120"/>
              <a:ext cx="3585960" cy="790560"/>
            </a:xfrm>
            <a:custGeom>
              <a:avLst/>
              <a:gdLst>
                <a:gd name="textAreaLeft" fmla="*/ 0 w 3585960"/>
                <a:gd name="textAreaRight" fmla="*/ 3586320 w 3585960"/>
                <a:gd name="textAreaTop" fmla="*/ 0 h 790560"/>
                <a:gd name="textAreaBottom" fmla="*/ 790920 h 790560"/>
              </a:gdLst>
              <a:ahLst/>
              <a:rect l="textAreaLeft" t="textAreaTop" r="textAreaRight" b="textAreaBottom"/>
              <a:pathLst>
                <a:path w="6640" h="1568">
                  <a:moveTo>
                    <a:pt x="0" y="1302"/>
                  </a:moveTo>
                  <a:lnTo>
                    <a:pt x="0" y="1254"/>
                  </a:lnTo>
                  <a:lnTo>
                    <a:pt x="16" y="1254"/>
                  </a:lnTo>
                  <a:lnTo>
                    <a:pt x="16" y="1302"/>
                  </a:lnTo>
                  <a:lnTo>
                    <a:pt x="0" y="1302"/>
                  </a:lnTo>
                  <a:close/>
                  <a:moveTo>
                    <a:pt x="0" y="1238"/>
                  </a:moveTo>
                  <a:lnTo>
                    <a:pt x="0" y="1190"/>
                  </a:lnTo>
                  <a:lnTo>
                    <a:pt x="16" y="1190"/>
                  </a:lnTo>
                  <a:lnTo>
                    <a:pt x="16" y="1238"/>
                  </a:lnTo>
                  <a:lnTo>
                    <a:pt x="0" y="1238"/>
                  </a:lnTo>
                  <a:close/>
                  <a:moveTo>
                    <a:pt x="0" y="1174"/>
                  </a:moveTo>
                  <a:lnTo>
                    <a:pt x="0" y="1126"/>
                  </a:lnTo>
                  <a:lnTo>
                    <a:pt x="16" y="1126"/>
                  </a:lnTo>
                  <a:lnTo>
                    <a:pt x="16" y="1174"/>
                  </a:lnTo>
                  <a:lnTo>
                    <a:pt x="0" y="1174"/>
                  </a:lnTo>
                  <a:close/>
                  <a:moveTo>
                    <a:pt x="0" y="1110"/>
                  </a:moveTo>
                  <a:lnTo>
                    <a:pt x="0" y="1062"/>
                  </a:lnTo>
                  <a:lnTo>
                    <a:pt x="16" y="1062"/>
                  </a:lnTo>
                  <a:lnTo>
                    <a:pt x="16" y="1110"/>
                  </a:lnTo>
                  <a:lnTo>
                    <a:pt x="0" y="1110"/>
                  </a:lnTo>
                  <a:close/>
                  <a:moveTo>
                    <a:pt x="0" y="1046"/>
                  </a:moveTo>
                  <a:lnTo>
                    <a:pt x="0" y="998"/>
                  </a:lnTo>
                  <a:lnTo>
                    <a:pt x="16" y="998"/>
                  </a:lnTo>
                  <a:lnTo>
                    <a:pt x="16" y="1046"/>
                  </a:lnTo>
                  <a:lnTo>
                    <a:pt x="0" y="1046"/>
                  </a:lnTo>
                  <a:close/>
                  <a:moveTo>
                    <a:pt x="0" y="982"/>
                  </a:moveTo>
                  <a:lnTo>
                    <a:pt x="0" y="934"/>
                  </a:lnTo>
                  <a:lnTo>
                    <a:pt x="16" y="934"/>
                  </a:lnTo>
                  <a:lnTo>
                    <a:pt x="16" y="982"/>
                  </a:lnTo>
                  <a:lnTo>
                    <a:pt x="0" y="982"/>
                  </a:lnTo>
                  <a:close/>
                  <a:moveTo>
                    <a:pt x="0" y="918"/>
                  </a:moveTo>
                  <a:lnTo>
                    <a:pt x="0" y="870"/>
                  </a:lnTo>
                  <a:lnTo>
                    <a:pt x="16" y="870"/>
                  </a:lnTo>
                  <a:lnTo>
                    <a:pt x="16" y="918"/>
                  </a:lnTo>
                  <a:lnTo>
                    <a:pt x="0" y="918"/>
                  </a:lnTo>
                  <a:close/>
                  <a:moveTo>
                    <a:pt x="0" y="854"/>
                  </a:moveTo>
                  <a:lnTo>
                    <a:pt x="0" y="806"/>
                  </a:lnTo>
                  <a:lnTo>
                    <a:pt x="16" y="806"/>
                  </a:lnTo>
                  <a:lnTo>
                    <a:pt x="16" y="854"/>
                  </a:lnTo>
                  <a:lnTo>
                    <a:pt x="0" y="854"/>
                  </a:lnTo>
                  <a:close/>
                  <a:moveTo>
                    <a:pt x="0" y="790"/>
                  </a:moveTo>
                  <a:lnTo>
                    <a:pt x="0" y="742"/>
                  </a:lnTo>
                  <a:lnTo>
                    <a:pt x="16" y="742"/>
                  </a:lnTo>
                  <a:lnTo>
                    <a:pt x="16" y="790"/>
                  </a:lnTo>
                  <a:lnTo>
                    <a:pt x="0" y="790"/>
                  </a:lnTo>
                  <a:close/>
                  <a:moveTo>
                    <a:pt x="0" y="726"/>
                  </a:moveTo>
                  <a:lnTo>
                    <a:pt x="0" y="678"/>
                  </a:lnTo>
                  <a:lnTo>
                    <a:pt x="16" y="678"/>
                  </a:lnTo>
                  <a:lnTo>
                    <a:pt x="16" y="726"/>
                  </a:lnTo>
                  <a:lnTo>
                    <a:pt x="0" y="726"/>
                  </a:lnTo>
                  <a:close/>
                  <a:moveTo>
                    <a:pt x="0" y="662"/>
                  </a:moveTo>
                  <a:lnTo>
                    <a:pt x="0" y="614"/>
                  </a:lnTo>
                  <a:lnTo>
                    <a:pt x="16" y="614"/>
                  </a:lnTo>
                  <a:lnTo>
                    <a:pt x="16" y="662"/>
                  </a:lnTo>
                  <a:lnTo>
                    <a:pt x="0" y="662"/>
                  </a:lnTo>
                  <a:close/>
                  <a:moveTo>
                    <a:pt x="0" y="598"/>
                  </a:moveTo>
                  <a:lnTo>
                    <a:pt x="0" y="550"/>
                  </a:lnTo>
                  <a:lnTo>
                    <a:pt x="16" y="550"/>
                  </a:lnTo>
                  <a:lnTo>
                    <a:pt x="16" y="598"/>
                  </a:lnTo>
                  <a:lnTo>
                    <a:pt x="0" y="598"/>
                  </a:lnTo>
                  <a:close/>
                  <a:moveTo>
                    <a:pt x="0" y="534"/>
                  </a:moveTo>
                  <a:lnTo>
                    <a:pt x="0" y="486"/>
                  </a:lnTo>
                  <a:lnTo>
                    <a:pt x="16" y="486"/>
                  </a:lnTo>
                  <a:lnTo>
                    <a:pt x="16" y="534"/>
                  </a:lnTo>
                  <a:lnTo>
                    <a:pt x="0" y="534"/>
                  </a:lnTo>
                  <a:close/>
                  <a:moveTo>
                    <a:pt x="0" y="470"/>
                  </a:moveTo>
                  <a:lnTo>
                    <a:pt x="0" y="422"/>
                  </a:lnTo>
                  <a:lnTo>
                    <a:pt x="16" y="422"/>
                  </a:lnTo>
                  <a:lnTo>
                    <a:pt x="16" y="470"/>
                  </a:lnTo>
                  <a:lnTo>
                    <a:pt x="0" y="470"/>
                  </a:lnTo>
                  <a:close/>
                  <a:moveTo>
                    <a:pt x="0" y="406"/>
                  </a:moveTo>
                  <a:lnTo>
                    <a:pt x="0" y="357"/>
                  </a:lnTo>
                  <a:lnTo>
                    <a:pt x="16" y="357"/>
                  </a:lnTo>
                  <a:lnTo>
                    <a:pt x="16" y="406"/>
                  </a:lnTo>
                  <a:lnTo>
                    <a:pt x="0" y="406"/>
                  </a:lnTo>
                  <a:close/>
                  <a:moveTo>
                    <a:pt x="0" y="341"/>
                  </a:moveTo>
                  <a:lnTo>
                    <a:pt x="0" y="293"/>
                  </a:lnTo>
                  <a:lnTo>
                    <a:pt x="16" y="293"/>
                  </a:lnTo>
                  <a:lnTo>
                    <a:pt x="16" y="341"/>
                  </a:lnTo>
                  <a:lnTo>
                    <a:pt x="0" y="341"/>
                  </a:lnTo>
                  <a:close/>
                  <a:moveTo>
                    <a:pt x="0" y="277"/>
                  </a:moveTo>
                  <a:lnTo>
                    <a:pt x="0" y="267"/>
                  </a:lnTo>
                  <a:lnTo>
                    <a:pt x="4" y="229"/>
                  </a:lnTo>
                  <a:lnTo>
                    <a:pt x="20" y="230"/>
                  </a:lnTo>
                  <a:lnTo>
                    <a:pt x="16" y="267"/>
                  </a:lnTo>
                  <a:lnTo>
                    <a:pt x="16" y="277"/>
                  </a:lnTo>
                  <a:lnTo>
                    <a:pt x="0" y="277"/>
                  </a:lnTo>
                  <a:close/>
                  <a:moveTo>
                    <a:pt x="6" y="211"/>
                  </a:moveTo>
                  <a:lnTo>
                    <a:pt x="20" y="165"/>
                  </a:lnTo>
                  <a:lnTo>
                    <a:pt x="36" y="170"/>
                  </a:lnTo>
                  <a:lnTo>
                    <a:pt x="22" y="216"/>
                  </a:lnTo>
                  <a:lnTo>
                    <a:pt x="6" y="211"/>
                  </a:lnTo>
                  <a:close/>
                  <a:moveTo>
                    <a:pt x="28" y="150"/>
                  </a:moveTo>
                  <a:lnTo>
                    <a:pt x="45" y="119"/>
                  </a:lnTo>
                  <a:cubicBezTo>
                    <a:pt x="46" y="118"/>
                    <a:pt x="46" y="118"/>
                    <a:pt x="46" y="117"/>
                  </a:cubicBezTo>
                  <a:lnTo>
                    <a:pt x="54" y="108"/>
                  </a:lnTo>
                  <a:lnTo>
                    <a:pt x="67" y="118"/>
                  </a:lnTo>
                  <a:lnTo>
                    <a:pt x="59" y="128"/>
                  </a:lnTo>
                  <a:lnTo>
                    <a:pt x="59" y="126"/>
                  </a:lnTo>
                  <a:lnTo>
                    <a:pt x="43" y="157"/>
                  </a:lnTo>
                  <a:lnTo>
                    <a:pt x="28" y="150"/>
                  </a:lnTo>
                  <a:close/>
                  <a:moveTo>
                    <a:pt x="65" y="95"/>
                  </a:moveTo>
                  <a:lnTo>
                    <a:pt x="78" y="79"/>
                  </a:lnTo>
                  <a:cubicBezTo>
                    <a:pt x="79" y="79"/>
                    <a:pt x="79" y="79"/>
                    <a:pt x="79" y="78"/>
                  </a:cubicBezTo>
                  <a:lnTo>
                    <a:pt x="100" y="61"/>
                  </a:lnTo>
                  <a:lnTo>
                    <a:pt x="110" y="73"/>
                  </a:lnTo>
                  <a:lnTo>
                    <a:pt x="90" y="91"/>
                  </a:lnTo>
                  <a:lnTo>
                    <a:pt x="91" y="90"/>
                  </a:lnTo>
                  <a:lnTo>
                    <a:pt x="77" y="106"/>
                  </a:lnTo>
                  <a:lnTo>
                    <a:pt x="65" y="95"/>
                  </a:lnTo>
                  <a:close/>
                  <a:moveTo>
                    <a:pt x="112" y="51"/>
                  </a:moveTo>
                  <a:lnTo>
                    <a:pt x="117" y="46"/>
                  </a:lnTo>
                  <a:cubicBezTo>
                    <a:pt x="118" y="46"/>
                    <a:pt x="118" y="46"/>
                    <a:pt x="119" y="45"/>
                  </a:cubicBezTo>
                  <a:lnTo>
                    <a:pt x="155" y="26"/>
                  </a:lnTo>
                  <a:lnTo>
                    <a:pt x="163" y="40"/>
                  </a:lnTo>
                  <a:lnTo>
                    <a:pt x="126" y="59"/>
                  </a:lnTo>
                  <a:lnTo>
                    <a:pt x="128" y="59"/>
                  </a:lnTo>
                  <a:lnTo>
                    <a:pt x="123" y="63"/>
                  </a:lnTo>
                  <a:lnTo>
                    <a:pt x="112" y="51"/>
                  </a:lnTo>
                  <a:close/>
                  <a:moveTo>
                    <a:pt x="171" y="19"/>
                  </a:moveTo>
                  <a:lnTo>
                    <a:pt x="213" y="6"/>
                  </a:lnTo>
                  <a:cubicBezTo>
                    <a:pt x="214" y="6"/>
                    <a:pt x="214" y="6"/>
                    <a:pt x="215" y="5"/>
                  </a:cubicBezTo>
                  <a:lnTo>
                    <a:pt x="219" y="5"/>
                  </a:lnTo>
                  <a:lnTo>
                    <a:pt x="220" y="21"/>
                  </a:lnTo>
                  <a:lnTo>
                    <a:pt x="216" y="21"/>
                  </a:lnTo>
                  <a:lnTo>
                    <a:pt x="218" y="21"/>
                  </a:lnTo>
                  <a:lnTo>
                    <a:pt x="176" y="34"/>
                  </a:lnTo>
                  <a:lnTo>
                    <a:pt x="171" y="19"/>
                  </a:lnTo>
                  <a:close/>
                  <a:moveTo>
                    <a:pt x="235" y="4"/>
                  </a:moveTo>
                  <a:lnTo>
                    <a:pt x="267" y="0"/>
                  </a:lnTo>
                  <a:lnTo>
                    <a:pt x="268" y="16"/>
                  </a:lnTo>
                  <a:lnTo>
                    <a:pt x="236" y="19"/>
                  </a:lnTo>
                  <a:lnTo>
                    <a:pt x="235" y="4"/>
                  </a:lnTo>
                  <a:close/>
                  <a:moveTo>
                    <a:pt x="267" y="0"/>
                  </a:moveTo>
                  <a:lnTo>
                    <a:pt x="283" y="0"/>
                  </a:lnTo>
                  <a:lnTo>
                    <a:pt x="283" y="16"/>
                  </a:lnTo>
                  <a:lnTo>
                    <a:pt x="267" y="16"/>
                  </a:lnTo>
                  <a:lnTo>
                    <a:pt x="267" y="0"/>
                  </a:lnTo>
                  <a:close/>
                  <a:moveTo>
                    <a:pt x="299" y="0"/>
                  </a:moveTo>
                  <a:lnTo>
                    <a:pt x="347" y="0"/>
                  </a:lnTo>
                  <a:lnTo>
                    <a:pt x="347" y="16"/>
                  </a:lnTo>
                  <a:lnTo>
                    <a:pt x="299" y="16"/>
                  </a:lnTo>
                  <a:lnTo>
                    <a:pt x="299" y="0"/>
                  </a:lnTo>
                  <a:close/>
                  <a:moveTo>
                    <a:pt x="363" y="0"/>
                  </a:moveTo>
                  <a:lnTo>
                    <a:pt x="411" y="0"/>
                  </a:lnTo>
                  <a:lnTo>
                    <a:pt x="411" y="16"/>
                  </a:lnTo>
                  <a:lnTo>
                    <a:pt x="363" y="16"/>
                  </a:lnTo>
                  <a:lnTo>
                    <a:pt x="363" y="0"/>
                  </a:lnTo>
                  <a:close/>
                  <a:moveTo>
                    <a:pt x="427" y="0"/>
                  </a:moveTo>
                  <a:lnTo>
                    <a:pt x="476" y="0"/>
                  </a:lnTo>
                  <a:lnTo>
                    <a:pt x="476" y="16"/>
                  </a:lnTo>
                  <a:lnTo>
                    <a:pt x="427" y="16"/>
                  </a:lnTo>
                  <a:lnTo>
                    <a:pt x="427" y="0"/>
                  </a:lnTo>
                  <a:close/>
                  <a:moveTo>
                    <a:pt x="492" y="0"/>
                  </a:moveTo>
                  <a:lnTo>
                    <a:pt x="540" y="0"/>
                  </a:lnTo>
                  <a:lnTo>
                    <a:pt x="540" y="16"/>
                  </a:lnTo>
                  <a:lnTo>
                    <a:pt x="492" y="16"/>
                  </a:lnTo>
                  <a:lnTo>
                    <a:pt x="492" y="0"/>
                  </a:lnTo>
                  <a:close/>
                  <a:moveTo>
                    <a:pt x="556" y="0"/>
                  </a:moveTo>
                  <a:lnTo>
                    <a:pt x="604" y="0"/>
                  </a:lnTo>
                  <a:lnTo>
                    <a:pt x="604" y="16"/>
                  </a:lnTo>
                  <a:lnTo>
                    <a:pt x="556" y="16"/>
                  </a:lnTo>
                  <a:lnTo>
                    <a:pt x="556" y="0"/>
                  </a:lnTo>
                  <a:close/>
                  <a:moveTo>
                    <a:pt x="620" y="0"/>
                  </a:moveTo>
                  <a:lnTo>
                    <a:pt x="668" y="0"/>
                  </a:lnTo>
                  <a:lnTo>
                    <a:pt x="668" y="16"/>
                  </a:lnTo>
                  <a:lnTo>
                    <a:pt x="620" y="16"/>
                  </a:lnTo>
                  <a:lnTo>
                    <a:pt x="620" y="0"/>
                  </a:lnTo>
                  <a:close/>
                  <a:moveTo>
                    <a:pt x="684" y="0"/>
                  </a:moveTo>
                  <a:lnTo>
                    <a:pt x="732" y="0"/>
                  </a:lnTo>
                  <a:lnTo>
                    <a:pt x="732" y="16"/>
                  </a:lnTo>
                  <a:lnTo>
                    <a:pt x="684" y="16"/>
                  </a:lnTo>
                  <a:lnTo>
                    <a:pt x="684" y="0"/>
                  </a:lnTo>
                  <a:close/>
                  <a:moveTo>
                    <a:pt x="748" y="0"/>
                  </a:moveTo>
                  <a:lnTo>
                    <a:pt x="796" y="0"/>
                  </a:lnTo>
                  <a:lnTo>
                    <a:pt x="796" y="16"/>
                  </a:lnTo>
                  <a:lnTo>
                    <a:pt x="748" y="16"/>
                  </a:lnTo>
                  <a:lnTo>
                    <a:pt x="748" y="0"/>
                  </a:lnTo>
                  <a:close/>
                  <a:moveTo>
                    <a:pt x="812" y="0"/>
                  </a:moveTo>
                  <a:lnTo>
                    <a:pt x="860" y="0"/>
                  </a:lnTo>
                  <a:lnTo>
                    <a:pt x="860" y="16"/>
                  </a:lnTo>
                  <a:lnTo>
                    <a:pt x="812" y="16"/>
                  </a:lnTo>
                  <a:lnTo>
                    <a:pt x="812" y="0"/>
                  </a:lnTo>
                  <a:close/>
                  <a:moveTo>
                    <a:pt x="876" y="0"/>
                  </a:moveTo>
                  <a:lnTo>
                    <a:pt x="924" y="0"/>
                  </a:lnTo>
                  <a:lnTo>
                    <a:pt x="924" y="16"/>
                  </a:lnTo>
                  <a:lnTo>
                    <a:pt x="876" y="16"/>
                  </a:lnTo>
                  <a:lnTo>
                    <a:pt x="876" y="0"/>
                  </a:lnTo>
                  <a:close/>
                  <a:moveTo>
                    <a:pt x="940" y="0"/>
                  </a:moveTo>
                  <a:lnTo>
                    <a:pt x="988" y="0"/>
                  </a:lnTo>
                  <a:lnTo>
                    <a:pt x="988" y="16"/>
                  </a:lnTo>
                  <a:lnTo>
                    <a:pt x="940" y="16"/>
                  </a:lnTo>
                  <a:lnTo>
                    <a:pt x="940" y="0"/>
                  </a:lnTo>
                  <a:close/>
                  <a:moveTo>
                    <a:pt x="1004" y="0"/>
                  </a:moveTo>
                  <a:lnTo>
                    <a:pt x="1052" y="0"/>
                  </a:lnTo>
                  <a:lnTo>
                    <a:pt x="1052" y="16"/>
                  </a:lnTo>
                  <a:lnTo>
                    <a:pt x="1004" y="16"/>
                  </a:lnTo>
                  <a:lnTo>
                    <a:pt x="1004" y="0"/>
                  </a:lnTo>
                  <a:close/>
                  <a:moveTo>
                    <a:pt x="1068" y="0"/>
                  </a:moveTo>
                  <a:lnTo>
                    <a:pt x="1116" y="0"/>
                  </a:lnTo>
                  <a:lnTo>
                    <a:pt x="1116" y="16"/>
                  </a:lnTo>
                  <a:lnTo>
                    <a:pt x="1068" y="16"/>
                  </a:lnTo>
                  <a:lnTo>
                    <a:pt x="1068" y="0"/>
                  </a:lnTo>
                  <a:close/>
                  <a:moveTo>
                    <a:pt x="1132" y="0"/>
                  </a:moveTo>
                  <a:lnTo>
                    <a:pt x="1180" y="0"/>
                  </a:lnTo>
                  <a:lnTo>
                    <a:pt x="1180" y="16"/>
                  </a:lnTo>
                  <a:lnTo>
                    <a:pt x="1132" y="16"/>
                  </a:lnTo>
                  <a:lnTo>
                    <a:pt x="1132" y="0"/>
                  </a:lnTo>
                  <a:close/>
                  <a:moveTo>
                    <a:pt x="1196" y="0"/>
                  </a:moveTo>
                  <a:lnTo>
                    <a:pt x="1244" y="0"/>
                  </a:lnTo>
                  <a:lnTo>
                    <a:pt x="1244" y="16"/>
                  </a:lnTo>
                  <a:lnTo>
                    <a:pt x="1196" y="16"/>
                  </a:lnTo>
                  <a:lnTo>
                    <a:pt x="1196" y="0"/>
                  </a:lnTo>
                  <a:close/>
                  <a:moveTo>
                    <a:pt x="1260" y="0"/>
                  </a:moveTo>
                  <a:lnTo>
                    <a:pt x="1308" y="0"/>
                  </a:lnTo>
                  <a:lnTo>
                    <a:pt x="1308" y="16"/>
                  </a:lnTo>
                  <a:lnTo>
                    <a:pt x="1260" y="16"/>
                  </a:lnTo>
                  <a:lnTo>
                    <a:pt x="1260" y="0"/>
                  </a:lnTo>
                  <a:close/>
                  <a:moveTo>
                    <a:pt x="1324" y="0"/>
                  </a:moveTo>
                  <a:lnTo>
                    <a:pt x="1372" y="0"/>
                  </a:lnTo>
                  <a:lnTo>
                    <a:pt x="1372" y="16"/>
                  </a:lnTo>
                  <a:lnTo>
                    <a:pt x="1324" y="16"/>
                  </a:lnTo>
                  <a:lnTo>
                    <a:pt x="1324" y="0"/>
                  </a:lnTo>
                  <a:close/>
                  <a:moveTo>
                    <a:pt x="1388" y="0"/>
                  </a:moveTo>
                  <a:lnTo>
                    <a:pt x="1437" y="0"/>
                  </a:lnTo>
                  <a:lnTo>
                    <a:pt x="1437" y="16"/>
                  </a:lnTo>
                  <a:lnTo>
                    <a:pt x="1388" y="16"/>
                  </a:lnTo>
                  <a:lnTo>
                    <a:pt x="1388" y="0"/>
                  </a:lnTo>
                  <a:close/>
                  <a:moveTo>
                    <a:pt x="1453" y="0"/>
                  </a:moveTo>
                  <a:lnTo>
                    <a:pt x="1501" y="0"/>
                  </a:lnTo>
                  <a:lnTo>
                    <a:pt x="1501" y="16"/>
                  </a:lnTo>
                  <a:lnTo>
                    <a:pt x="1453" y="16"/>
                  </a:lnTo>
                  <a:lnTo>
                    <a:pt x="1453" y="0"/>
                  </a:lnTo>
                  <a:close/>
                  <a:moveTo>
                    <a:pt x="1517" y="0"/>
                  </a:moveTo>
                  <a:lnTo>
                    <a:pt x="1565" y="0"/>
                  </a:lnTo>
                  <a:lnTo>
                    <a:pt x="1565" y="16"/>
                  </a:lnTo>
                  <a:lnTo>
                    <a:pt x="1517" y="16"/>
                  </a:lnTo>
                  <a:lnTo>
                    <a:pt x="1517" y="0"/>
                  </a:lnTo>
                  <a:close/>
                  <a:moveTo>
                    <a:pt x="1581" y="0"/>
                  </a:moveTo>
                  <a:lnTo>
                    <a:pt x="1629" y="0"/>
                  </a:lnTo>
                  <a:lnTo>
                    <a:pt x="1629" y="16"/>
                  </a:lnTo>
                  <a:lnTo>
                    <a:pt x="1581" y="16"/>
                  </a:lnTo>
                  <a:lnTo>
                    <a:pt x="1581" y="0"/>
                  </a:lnTo>
                  <a:close/>
                  <a:moveTo>
                    <a:pt x="1645" y="0"/>
                  </a:moveTo>
                  <a:lnTo>
                    <a:pt x="1693" y="0"/>
                  </a:lnTo>
                  <a:lnTo>
                    <a:pt x="1693" y="16"/>
                  </a:lnTo>
                  <a:lnTo>
                    <a:pt x="1645" y="16"/>
                  </a:lnTo>
                  <a:lnTo>
                    <a:pt x="1645" y="0"/>
                  </a:lnTo>
                  <a:close/>
                  <a:moveTo>
                    <a:pt x="1709" y="0"/>
                  </a:moveTo>
                  <a:lnTo>
                    <a:pt x="1757" y="0"/>
                  </a:lnTo>
                  <a:lnTo>
                    <a:pt x="1757" y="16"/>
                  </a:lnTo>
                  <a:lnTo>
                    <a:pt x="1709" y="16"/>
                  </a:lnTo>
                  <a:lnTo>
                    <a:pt x="1709" y="0"/>
                  </a:lnTo>
                  <a:close/>
                  <a:moveTo>
                    <a:pt x="1773" y="0"/>
                  </a:moveTo>
                  <a:lnTo>
                    <a:pt x="1821" y="0"/>
                  </a:lnTo>
                  <a:lnTo>
                    <a:pt x="1821" y="16"/>
                  </a:lnTo>
                  <a:lnTo>
                    <a:pt x="1773" y="16"/>
                  </a:lnTo>
                  <a:lnTo>
                    <a:pt x="1773" y="0"/>
                  </a:lnTo>
                  <a:close/>
                  <a:moveTo>
                    <a:pt x="1837" y="0"/>
                  </a:moveTo>
                  <a:lnTo>
                    <a:pt x="1885" y="0"/>
                  </a:lnTo>
                  <a:lnTo>
                    <a:pt x="1885" y="16"/>
                  </a:lnTo>
                  <a:lnTo>
                    <a:pt x="1837" y="16"/>
                  </a:lnTo>
                  <a:lnTo>
                    <a:pt x="1837" y="0"/>
                  </a:lnTo>
                  <a:close/>
                  <a:moveTo>
                    <a:pt x="1901" y="0"/>
                  </a:moveTo>
                  <a:lnTo>
                    <a:pt x="1949" y="0"/>
                  </a:lnTo>
                  <a:lnTo>
                    <a:pt x="1949" y="16"/>
                  </a:lnTo>
                  <a:lnTo>
                    <a:pt x="1901" y="16"/>
                  </a:lnTo>
                  <a:lnTo>
                    <a:pt x="1901" y="0"/>
                  </a:lnTo>
                  <a:close/>
                  <a:moveTo>
                    <a:pt x="1965" y="0"/>
                  </a:moveTo>
                  <a:lnTo>
                    <a:pt x="2013" y="0"/>
                  </a:lnTo>
                  <a:lnTo>
                    <a:pt x="2013" y="16"/>
                  </a:lnTo>
                  <a:lnTo>
                    <a:pt x="1965" y="16"/>
                  </a:lnTo>
                  <a:lnTo>
                    <a:pt x="1965" y="0"/>
                  </a:lnTo>
                  <a:close/>
                  <a:moveTo>
                    <a:pt x="2029" y="0"/>
                  </a:moveTo>
                  <a:lnTo>
                    <a:pt x="2077" y="0"/>
                  </a:lnTo>
                  <a:lnTo>
                    <a:pt x="2077" y="16"/>
                  </a:lnTo>
                  <a:lnTo>
                    <a:pt x="2029" y="16"/>
                  </a:lnTo>
                  <a:lnTo>
                    <a:pt x="2029" y="0"/>
                  </a:lnTo>
                  <a:close/>
                  <a:moveTo>
                    <a:pt x="2093" y="0"/>
                  </a:moveTo>
                  <a:lnTo>
                    <a:pt x="2141" y="0"/>
                  </a:lnTo>
                  <a:lnTo>
                    <a:pt x="2141" y="16"/>
                  </a:lnTo>
                  <a:lnTo>
                    <a:pt x="2093" y="16"/>
                  </a:lnTo>
                  <a:lnTo>
                    <a:pt x="2093" y="0"/>
                  </a:lnTo>
                  <a:close/>
                  <a:moveTo>
                    <a:pt x="2157" y="0"/>
                  </a:moveTo>
                  <a:lnTo>
                    <a:pt x="2205" y="0"/>
                  </a:lnTo>
                  <a:lnTo>
                    <a:pt x="2205" y="16"/>
                  </a:lnTo>
                  <a:lnTo>
                    <a:pt x="2157" y="16"/>
                  </a:lnTo>
                  <a:lnTo>
                    <a:pt x="2157" y="0"/>
                  </a:lnTo>
                  <a:close/>
                  <a:moveTo>
                    <a:pt x="2221" y="0"/>
                  </a:moveTo>
                  <a:lnTo>
                    <a:pt x="2269" y="0"/>
                  </a:lnTo>
                  <a:lnTo>
                    <a:pt x="2269" y="16"/>
                  </a:lnTo>
                  <a:lnTo>
                    <a:pt x="2221" y="16"/>
                  </a:lnTo>
                  <a:lnTo>
                    <a:pt x="2221" y="0"/>
                  </a:lnTo>
                  <a:close/>
                  <a:moveTo>
                    <a:pt x="2285" y="0"/>
                  </a:moveTo>
                  <a:lnTo>
                    <a:pt x="2333" y="0"/>
                  </a:lnTo>
                  <a:lnTo>
                    <a:pt x="2333" y="16"/>
                  </a:lnTo>
                  <a:lnTo>
                    <a:pt x="2285" y="16"/>
                  </a:lnTo>
                  <a:lnTo>
                    <a:pt x="2285" y="0"/>
                  </a:lnTo>
                  <a:close/>
                  <a:moveTo>
                    <a:pt x="2349" y="0"/>
                  </a:moveTo>
                  <a:lnTo>
                    <a:pt x="2397" y="0"/>
                  </a:lnTo>
                  <a:lnTo>
                    <a:pt x="2397" y="16"/>
                  </a:lnTo>
                  <a:lnTo>
                    <a:pt x="2349" y="16"/>
                  </a:lnTo>
                  <a:lnTo>
                    <a:pt x="2349" y="0"/>
                  </a:lnTo>
                  <a:close/>
                  <a:moveTo>
                    <a:pt x="2413" y="0"/>
                  </a:moveTo>
                  <a:lnTo>
                    <a:pt x="2462" y="0"/>
                  </a:lnTo>
                  <a:lnTo>
                    <a:pt x="2462" y="16"/>
                  </a:lnTo>
                  <a:lnTo>
                    <a:pt x="2413" y="16"/>
                  </a:lnTo>
                  <a:lnTo>
                    <a:pt x="2413" y="0"/>
                  </a:lnTo>
                  <a:close/>
                  <a:moveTo>
                    <a:pt x="2478" y="0"/>
                  </a:moveTo>
                  <a:lnTo>
                    <a:pt x="2526" y="0"/>
                  </a:lnTo>
                  <a:lnTo>
                    <a:pt x="2526" y="16"/>
                  </a:lnTo>
                  <a:lnTo>
                    <a:pt x="2478" y="16"/>
                  </a:lnTo>
                  <a:lnTo>
                    <a:pt x="2478" y="0"/>
                  </a:lnTo>
                  <a:close/>
                  <a:moveTo>
                    <a:pt x="2542" y="0"/>
                  </a:moveTo>
                  <a:lnTo>
                    <a:pt x="2590" y="0"/>
                  </a:lnTo>
                  <a:lnTo>
                    <a:pt x="2590" y="16"/>
                  </a:lnTo>
                  <a:lnTo>
                    <a:pt x="2542" y="16"/>
                  </a:lnTo>
                  <a:lnTo>
                    <a:pt x="2542" y="0"/>
                  </a:lnTo>
                  <a:close/>
                  <a:moveTo>
                    <a:pt x="2606" y="0"/>
                  </a:moveTo>
                  <a:lnTo>
                    <a:pt x="2654" y="0"/>
                  </a:lnTo>
                  <a:lnTo>
                    <a:pt x="2654" y="16"/>
                  </a:lnTo>
                  <a:lnTo>
                    <a:pt x="2606" y="16"/>
                  </a:lnTo>
                  <a:lnTo>
                    <a:pt x="2606" y="0"/>
                  </a:lnTo>
                  <a:close/>
                  <a:moveTo>
                    <a:pt x="2670" y="0"/>
                  </a:moveTo>
                  <a:lnTo>
                    <a:pt x="2718" y="0"/>
                  </a:lnTo>
                  <a:lnTo>
                    <a:pt x="2718" y="16"/>
                  </a:lnTo>
                  <a:lnTo>
                    <a:pt x="2670" y="16"/>
                  </a:lnTo>
                  <a:lnTo>
                    <a:pt x="2670" y="0"/>
                  </a:lnTo>
                  <a:close/>
                  <a:moveTo>
                    <a:pt x="2734" y="0"/>
                  </a:moveTo>
                  <a:lnTo>
                    <a:pt x="2782" y="0"/>
                  </a:lnTo>
                  <a:lnTo>
                    <a:pt x="2782" y="16"/>
                  </a:lnTo>
                  <a:lnTo>
                    <a:pt x="2734" y="16"/>
                  </a:lnTo>
                  <a:lnTo>
                    <a:pt x="2734" y="0"/>
                  </a:lnTo>
                  <a:close/>
                  <a:moveTo>
                    <a:pt x="2798" y="0"/>
                  </a:moveTo>
                  <a:lnTo>
                    <a:pt x="2846" y="0"/>
                  </a:lnTo>
                  <a:lnTo>
                    <a:pt x="2846" y="16"/>
                  </a:lnTo>
                  <a:lnTo>
                    <a:pt x="2798" y="16"/>
                  </a:lnTo>
                  <a:lnTo>
                    <a:pt x="2798" y="0"/>
                  </a:lnTo>
                  <a:close/>
                  <a:moveTo>
                    <a:pt x="2862" y="0"/>
                  </a:moveTo>
                  <a:lnTo>
                    <a:pt x="2910" y="0"/>
                  </a:lnTo>
                  <a:lnTo>
                    <a:pt x="2910" y="16"/>
                  </a:lnTo>
                  <a:lnTo>
                    <a:pt x="2862" y="16"/>
                  </a:lnTo>
                  <a:lnTo>
                    <a:pt x="2862" y="0"/>
                  </a:lnTo>
                  <a:close/>
                  <a:moveTo>
                    <a:pt x="2926" y="0"/>
                  </a:moveTo>
                  <a:lnTo>
                    <a:pt x="2974" y="0"/>
                  </a:lnTo>
                  <a:lnTo>
                    <a:pt x="2974" y="16"/>
                  </a:lnTo>
                  <a:lnTo>
                    <a:pt x="2926" y="16"/>
                  </a:lnTo>
                  <a:lnTo>
                    <a:pt x="2926" y="0"/>
                  </a:lnTo>
                  <a:close/>
                  <a:moveTo>
                    <a:pt x="2990" y="0"/>
                  </a:moveTo>
                  <a:lnTo>
                    <a:pt x="3038" y="0"/>
                  </a:lnTo>
                  <a:lnTo>
                    <a:pt x="3038" y="16"/>
                  </a:lnTo>
                  <a:lnTo>
                    <a:pt x="2990" y="16"/>
                  </a:lnTo>
                  <a:lnTo>
                    <a:pt x="2990" y="0"/>
                  </a:lnTo>
                  <a:close/>
                  <a:moveTo>
                    <a:pt x="3054" y="0"/>
                  </a:moveTo>
                  <a:lnTo>
                    <a:pt x="3102" y="0"/>
                  </a:lnTo>
                  <a:lnTo>
                    <a:pt x="3102" y="16"/>
                  </a:lnTo>
                  <a:lnTo>
                    <a:pt x="3054" y="16"/>
                  </a:lnTo>
                  <a:lnTo>
                    <a:pt x="3054" y="0"/>
                  </a:lnTo>
                  <a:close/>
                  <a:moveTo>
                    <a:pt x="3118" y="0"/>
                  </a:moveTo>
                  <a:lnTo>
                    <a:pt x="3166" y="0"/>
                  </a:lnTo>
                  <a:lnTo>
                    <a:pt x="3166" y="16"/>
                  </a:lnTo>
                  <a:lnTo>
                    <a:pt x="3118" y="16"/>
                  </a:lnTo>
                  <a:lnTo>
                    <a:pt x="3118" y="0"/>
                  </a:lnTo>
                  <a:close/>
                  <a:moveTo>
                    <a:pt x="3182" y="0"/>
                  </a:moveTo>
                  <a:lnTo>
                    <a:pt x="3230" y="0"/>
                  </a:lnTo>
                  <a:lnTo>
                    <a:pt x="3230" y="16"/>
                  </a:lnTo>
                  <a:lnTo>
                    <a:pt x="3182" y="16"/>
                  </a:lnTo>
                  <a:lnTo>
                    <a:pt x="3182" y="0"/>
                  </a:lnTo>
                  <a:close/>
                  <a:moveTo>
                    <a:pt x="3246" y="0"/>
                  </a:moveTo>
                  <a:lnTo>
                    <a:pt x="3294" y="0"/>
                  </a:lnTo>
                  <a:lnTo>
                    <a:pt x="3294" y="16"/>
                  </a:lnTo>
                  <a:lnTo>
                    <a:pt x="3246" y="16"/>
                  </a:lnTo>
                  <a:lnTo>
                    <a:pt x="3246" y="0"/>
                  </a:lnTo>
                  <a:close/>
                  <a:moveTo>
                    <a:pt x="3310" y="0"/>
                  </a:moveTo>
                  <a:lnTo>
                    <a:pt x="3358" y="0"/>
                  </a:lnTo>
                  <a:lnTo>
                    <a:pt x="3358" y="16"/>
                  </a:lnTo>
                  <a:lnTo>
                    <a:pt x="3310" y="16"/>
                  </a:lnTo>
                  <a:lnTo>
                    <a:pt x="3310" y="0"/>
                  </a:lnTo>
                  <a:close/>
                  <a:moveTo>
                    <a:pt x="3374" y="0"/>
                  </a:moveTo>
                  <a:lnTo>
                    <a:pt x="3422" y="0"/>
                  </a:lnTo>
                  <a:lnTo>
                    <a:pt x="3422" y="16"/>
                  </a:lnTo>
                  <a:lnTo>
                    <a:pt x="3374" y="16"/>
                  </a:lnTo>
                  <a:lnTo>
                    <a:pt x="3374" y="0"/>
                  </a:lnTo>
                  <a:close/>
                  <a:moveTo>
                    <a:pt x="3438" y="0"/>
                  </a:moveTo>
                  <a:lnTo>
                    <a:pt x="3487" y="0"/>
                  </a:lnTo>
                  <a:lnTo>
                    <a:pt x="3487" y="16"/>
                  </a:lnTo>
                  <a:lnTo>
                    <a:pt x="3438" y="16"/>
                  </a:lnTo>
                  <a:lnTo>
                    <a:pt x="3438" y="0"/>
                  </a:lnTo>
                  <a:close/>
                  <a:moveTo>
                    <a:pt x="3503" y="0"/>
                  </a:moveTo>
                  <a:lnTo>
                    <a:pt x="3551" y="0"/>
                  </a:lnTo>
                  <a:lnTo>
                    <a:pt x="3551" y="16"/>
                  </a:lnTo>
                  <a:lnTo>
                    <a:pt x="3503" y="16"/>
                  </a:lnTo>
                  <a:lnTo>
                    <a:pt x="3503" y="0"/>
                  </a:lnTo>
                  <a:close/>
                  <a:moveTo>
                    <a:pt x="3567" y="0"/>
                  </a:moveTo>
                  <a:lnTo>
                    <a:pt x="3615" y="0"/>
                  </a:lnTo>
                  <a:lnTo>
                    <a:pt x="3615" y="16"/>
                  </a:lnTo>
                  <a:lnTo>
                    <a:pt x="3567" y="16"/>
                  </a:lnTo>
                  <a:lnTo>
                    <a:pt x="3567" y="0"/>
                  </a:lnTo>
                  <a:close/>
                  <a:moveTo>
                    <a:pt x="3631" y="0"/>
                  </a:moveTo>
                  <a:lnTo>
                    <a:pt x="3679" y="0"/>
                  </a:lnTo>
                  <a:lnTo>
                    <a:pt x="3679" y="16"/>
                  </a:lnTo>
                  <a:lnTo>
                    <a:pt x="3631" y="16"/>
                  </a:lnTo>
                  <a:lnTo>
                    <a:pt x="3631" y="0"/>
                  </a:lnTo>
                  <a:close/>
                  <a:moveTo>
                    <a:pt x="3695" y="0"/>
                  </a:moveTo>
                  <a:lnTo>
                    <a:pt x="3743" y="0"/>
                  </a:lnTo>
                  <a:lnTo>
                    <a:pt x="3743" y="16"/>
                  </a:lnTo>
                  <a:lnTo>
                    <a:pt x="3695" y="16"/>
                  </a:lnTo>
                  <a:lnTo>
                    <a:pt x="3695" y="0"/>
                  </a:lnTo>
                  <a:close/>
                  <a:moveTo>
                    <a:pt x="3759" y="0"/>
                  </a:moveTo>
                  <a:lnTo>
                    <a:pt x="3807" y="0"/>
                  </a:lnTo>
                  <a:lnTo>
                    <a:pt x="3807" y="16"/>
                  </a:lnTo>
                  <a:lnTo>
                    <a:pt x="3759" y="16"/>
                  </a:lnTo>
                  <a:lnTo>
                    <a:pt x="3759" y="0"/>
                  </a:lnTo>
                  <a:close/>
                  <a:moveTo>
                    <a:pt x="3823" y="0"/>
                  </a:moveTo>
                  <a:lnTo>
                    <a:pt x="3871" y="0"/>
                  </a:lnTo>
                  <a:lnTo>
                    <a:pt x="3871" y="16"/>
                  </a:lnTo>
                  <a:lnTo>
                    <a:pt x="3823" y="16"/>
                  </a:lnTo>
                  <a:lnTo>
                    <a:pt x="3823" y="0"/>
                  </a:lnTo>
                  <a:close/>
                  <a:moveTo>
                    <a:pt x="3887" y="0"/>
                  </a:moveTo>
                  <a:lnTo>
                    <a:pt x="3935" y="0"/>
                  </a:lnTo>
                  <a:lnTo>
                    <a:pt x="3935" y="16"/>
                  </a:lnTo>
                  <a:lnTo>
                    <a:pt x="3887" y="16"/>
                  </a:lnTo>
                  <a:lnTo>
                    <a:pt x="3887" y="0"/>
                  </a:lnTo>
                  <a:close/>
                  <a:moveTo>
                    <a:pt x="3951" y="0"/>
                  </a:moveTo>
                  <a:lnTo>
                    <a:pt x="3999" y="0"/>
                  </a:lnTo>
                  <a:lnTo>
                    <a:pt x="3999" y="16"/>
                  </a:lnTo>
                  <a:lnTo>
                    <a:pt x="3951" y="16"/>
                  </a:lnTo>
                  <a:lnTo>
                    <a:pt x="3951" y="0"/>
                  </a:lnTo>
                  <a:close/>
                  <a:moveTo>
                    <a:pt x="4015" y="0"/>
                  </a:moveTo>
                  <a:lnTo>
                    <a:pt x="4063" y="0"/>
                  </a:lnTo>
                  <a:lnTo>
                    <a:pt x="4063" y="16"/>
                  </a:lnTo>
                  <a:lnTo>
                    <a:pt x="4015" y="16"/>
                  </a:lnTo>
                  <a:lnTo>
                    <a:pt x="4015" y="0"/>
                  </a:lnTo>
                  <a:close/>
                  <a:moveTo>
                    <a:pt x="4079" y="0"/>
                  </a:moveTo>
                  <a:lnTo>
                    <a:pt x="4127" y="0"/>
                  </a:lnTo>
                  <a:lnTo>
                    <a:pt x="4127" y="16"/>
                  </a:lnTo>
                  <a:lnTo>
                    <a:pt x="4079" y="16"/>
                  </a:lnTo>
                  <a:lnTo>
                    <a:pt x="4079" y="0"/>
                  </a:lnTo>
                  <a:close/>
                  <a:moveTo>
                    <a:pt x="4143" y="0"/>
                  </a:moveTo>
                  <a:lnTo>
                    <a:pt x="4191" y="0"/>
                  </a:lnTo>
                  <a:lnTo>
                    <a:pt x="4191" y="16"/>
                  </a:lnTo>
                  <a:lnTo>
                    <a:pt x="4143" y="16"/>
                  </a:lnTo>
                  <a:lnTo>
                    <a:pt x="4143" y="0"/>
                  </a:lnTo>
                  <a:close/>
                  <a:moveTo>
                    <a:pt x="4207" y="0"/>
                  </a:moveTo>
                  <a:lnTo>
                    <a:pt x="4255" y="0"/>
                  </a:lnTo>
                  <a:lnTo>
                    <a:pt x="4255" y="16"/>
                  </a:lnTo>
                  <a:lnTo>
                    <a:pt x="4207" y="16"/>
                  </a:lnTo>
                  <a:lnTo>
                    <a:pt x="4207" y="0"/>
                  </a:lnTo>
                  <a:close/>
                  <a:moveTo>
                    <a:pt x="4271" y="0"/>
                  </a:moveTo>
                  <a:lnTo>
                    <a:pt x="4319" y="0"/>
                  </a:lnTo>
                  <a:lnTo>
                    <a:pt x="4319" y="16"/>
                  </a:lnTo>
                  <a:lnTo>
                    <a:pt x="4271" y="16"/>
                  </a:lnTo>
                  <a:lnTo>
                    <a:pt x="4271" y="0"/>
                  </a:lnTo>
                  <a:close/>
                  <a:moveTo>
                    <a:pt x="4335" y="0"/>
                  </a:moveTo>
                  <a:lnTo>
                    <a:pt x="4383" y="0"/>
                  </a:lnTo>
                  <a:lnTo>
                    <a:pt x="4383" y="16"/>
                  </a:lnTo>
                  <a:lnTo>
                    <a:pt x="4335" y="16"/>
                  </a:lnTo>
                  <a:lnTo>
                    <a:pt x="4335" y="0"/>
                  </a:lnTo>
                  <a:close/>
                  <a:moveTo>
                    <a:pt x="4399" y="0"/>
                  </a:moveTo>
                  <a:lnTo>
                    <a:pt x="4448" y="0"/>
                  </a:lnTo>
                  <a:lnTo>
                    <a:pt x="4448" y="16"/>
                  </a:lnTo>
                  <a:lnTo>
                    <a:pt x="4399" y="16"/>
                  </a:lnTo>
                  <a:lnTo>
                    <a:pt x="4399" y="0"/>
                  </a:lnTo>
                  <a:close/>
                  <a:moveTo>
                    <a:pt x="4464" y="0"/>
                  </a:moveTo>
                  <a:lnTo>
                    <a:pt x="4512" y="0"/>
                  </a:lnTo>
                  <a:lnTo>
                    <a:pt x="4512" y="16"/>
                  </a:lnTo>
                  <a:lnTo>
                    <a:pt x="4464" y="16"/>
                  </a:lnTo>
                  <a:lnTo>
                    <a:pt x="4464" y="0"/>
                  </a:lnTo>
                  <a:close/>
                  <a:moveTo>
                    <a:pt x="4528" y="0"/>
                  </a:moveTo>
                  <a:lnTo>
                    <a:pt x="4576" y="0"/>
                  </a:lnTo>
                  <a:lnTo>
                    <a:pt x="4576" y="16"/>
                  </a:lnTo>
                  <a:lnTo>
                    <a:pt x="4528" y="16"/>
                  </a:lnTo>
                  <a:lnTo>
                    <a:pt x="4528" y="0"/>
                  </a:lnTo>
                  <a:close/>
                  <a:moveTo>
                    <a:pt x="4592" y="0"/>
                  </a:moveTo>
                  <a:lnTo>
                    <a:pt x="4640" y="0"/>
                  </a:lnTo>
                  <a:lnTo>
                    <a:pt x="4640" y="16"/>
                  </a:lnTo>
                  <a:lnTo>
                    <a:pt x="4592" y="16"/>
                  </a:lnTo>
                  <a:lnTo>
                    <a:pt x="4592" y="0"/>
                  </a:lnTo>
                  <a:close/>
                  <a:moveTo>
                    <a:pt x="4656" y="0"/>
                  </a:moveTo>
                  <a:lnTo>
                    <a:pt x="4704" y="0"/>
                  </a:lnTo>
                  <a:lnTo>
                    <a:pt x="4704" y="16"/>
                  </a:lnTo>
                  <a:lnTo>
                    <a:pt x="4656" y="16"/>
                  </a:lnTo>
                  <a:lnTo>
                    <a:pt x="4656" y="0"/>
                  </a:lnTo>
                  <a:close/>
                  <a:moveTo>
                    <a:pt x="4720" y="0"/>
                  </a:moveTo>
                  <a:lnTo>
                    <a:pt x="4768" y="0"/>
                  </a:lnTo>
                  <a:lnTo>
                    <a:pt x="4768" y="16"/>
                  </a:lnTo>
                  <a:lnTo>
                    <a:pt x="4720" y="16"/>
                  </a:lnTo>
                  <a:lnTo>
                    <a:pt x="4720" y="0"/>
                  </a:lnTo>
                  <a:close/>
                  <a:moveTo>
                    <a:pt x="4784" y="0"/>
                  </a:moveTo>
                  <a:lnTo>
                    <a:pt x="4832" y="0"/>
                  </a:lnTo>
                  <a:lnTo>
                    <a:pt x="4832" y="16"/>
                  </a:lnTo>
                  <a:lnTo>
                    <a:pt x="4784" y="16"/>
                  </a:lnTo>
                  <a:lnTo>
                    <a:pt x="4784" y="0"/>
                  </a:lnTo>
                  <a:close/>
                  <a:moveTo>
                    <a:pt x="4848" y="0"/>
                  </a:moveTo>
                  <a:lnTo>
                    <a:pt x="4896" y="0"/>
                  </a:lnTo>
                  <a:lnTo>
                    <a:pt x="4896" y="16"/>
                  </a:lnTo>
                  <a:lnTo>
                    <a:pt x="4848" y="16"/>
                  </a:lnTo>
                  <a:lnTo>
                    <a:pt x="4848" y="0"/>
                  </a:lnTo>
                  <a:close/>
                  <a:moveTo>
                    <a:pt x="4912" y="0"/>
                  </a:moveTo>
                  <a:lnTo>
                    <a:pt x="4960" y="0"/>
                  </a:lnTo>
                  <a:lnTo>
                    <a:pt x="4960" y="16"/>
                  </a:lnTo>
                  <a:lnTo>
                    <a:pt x="4912" y="16"/>
                  </a:lnTo>
                  <a:lnTo>
                    <a:pt x="4912" y="0"/>
                  </a:lnTo>
                  <a:close/>
                  <a:moveTo>
                    <a:pt x="4976" y="0"/>
                  </a:moveTo>
                  <a:lnTo>
                    <a:pt x="5024" y="0"/>
                  </a:lnTo>
                  <a:lnTo>
                    <a:pt x="5024" y="16"/>
                  </a:lnTo>
                  <a:lnTo>
                    <a:pt x="4976" y="16"/>
                  </a:lnTo>
                  <a:lnTo>
                    <a:pt x="4976" y="0"/>
                  </a:lnTo>
                  <a:close/>
                  <a:moveTo>
                    <a:pt x="5040" y="0"/>
                  </a:moveTo>
                  <a:lnTo>
                    <a:pt x="5088" y="0"/>
                  </a:lnTo>
                  <a:lnTo>
                    <a:pt x="5088" y="16"/>
                  </a:lnTo>
                  <a:lnTo>
                    <a:pt x="5040" y="16"/>
                  </a:lnTo>
                  <a:lnTo>
                    <a:pt x="5040" y="0"/>
                  </a:lnTo>
                  <a:close/>
                  <a:moveTo>
                    <a:pt x="5104" y="0"/>
                  </a:moveTo>
                  <a:lnTo>
                    <a:pt x="5152" y="0"/>
                  </a:lnTo>
                  <a:lnTo>
                    <a:pt x="5152" y="16"/>
                  </a:lnTo>
                  <a:lnTo>
                    <a:pt x="5104" y="16"/>
                  </a:lnTo>
                  <a:lnTo>
                    <a:pt x="5104" y="0"/>
                  </a:lnTo>
                  <a:close/>
                  <a:moveTo>
                    <a:pt x="5168" y="0"/>
                  </a:moveTo>
                  <a:lnTo>
                    <a:pt x="5216" y="0"/>
                  </a:lnTo>
                  <a:lnTo>
                    <a:pt x="5216" y="16"/>
                  </a:lnTo>
                  <a:lnTo>
                    <a:pt x="5168" y="16"/>
                  </a:lnTo>
                  <a:lnTo>
                    <a:pt x="5168" y="0"/>
                  </a:lnTo>
                  <a:close/>
                  <a:moveTo>
                    <a:pt x="5232" y="0"/>
                  </a:moveTo>
                  <a:lnTo>
                    <a:pt x="5280" y="0"/>
                  </a:lnTo>
                  <a:lnTo>
                    <a:pt x="5280" y="16"/>
                  </a:lnTo>
                  <a:lnTo>
                    <a:pt x="5232" y="16"/>
                  </a:lnTo>
                  <a:lnTo>
                    <a:pt x="5232" y="0"/>
                  </a:lnTo>
                  <a:close/>
                  <a:moveTo>
                    <a:pt x="5296" y="0"/>
                  </a:moveTo>
                  <a:lnTo>
                    <a:pt x="5344" y="0"/>
                  </a:lnTo>
                  <a:lnTo>
                    <a:pt x="5344" y="16"/>
                  </a:lnTo>
                  <a:lnTo>
                    <a:pt x="5296" y="16"/>
                  </a:lnTo>
                  <a:lnTo>
                    <a:pt x="5296" y="0"/>
                  </a:lnTo>
                  <a:close/>
                  <a:moveTo>
                    <a:pt x="5360" y="0"/>
                  </a:moveTo>
                  <a:lnTo>
                    <a:pt x="5408" y="0"/>
                  </a:lnTo>
                  <a:lnTo>
                    <a:pt x="5408" y="16"/>
                  </a:lnTo>
                  <a:lnTo>
                    <a:pt x="5360" y="16"/>
                  </a:lnTo>
                  <a:lnTo>
                    <a:pt x="5360" y="0"/>
                  </a:lnTo>
                  <a:close/>
                  <a:moveTo>
                    <a:pt x="5424" y="0"/>
                  </a:moveTo>
                  <a:lnTo>
                    <a:pt x="5473" y="0"/>
                  </a:lnTo>
                  <a:lnTo>
                    <a:pt x="5473" y="16"/>
                  </a:lnTo>
                  <a:lnTo>
                    <a:pt x="5424" y="16"/>
                  </a:lnTo>
                  <a:lnTo>
                    <a:pt x="5424" y="0"/>
                  </a:lnTo>
                  <a:close/>
                  <a:moveTo>
                    <a:pt x="5489" y="0"/>
                  </a:moveTo>
                  <a:lnTo>
                    <a:pt x="5537" y="0"/>
                  </a:lnTo>
                  <a:lnTo>
                    <a:pt x="5537" y="16"/>
                  </a:lnTo>
                  <a:lnTo>
                    <a:pt x="5489" y="16"/>
                  </a:lnTo>
                  <a:lnTo>
                    <a:pt x="5489" y="0"/>
                  </a:lnTo>
                  <a:close/>
                  <a:moveTo>
                    <a:pt x="5553" y="0"/>
                  </a:moveTo>
                  <a:lnTo>
                    <a:pt x="5601" y="0"/>
                  </a:lnTo>
                  <a:lnTo>
                    <a:pt x="5601" y="16"/>
                  </a:lnTo>
                  <a:lnTo>
                    <a:pt x="5553" y="16"/>
                  </a:lnTo>
                  <a:lnTo>
                    <a:pt x="5553" y="0"/>
                  </a:lnTo>
                  <a:close/>
                  <a:moveTo>
                    <a:pt x="5617" y="0"/>
                  </a:moveTo>
                  <a:lnTo>
                    <a:pt x="5665" y="0"/>
                  </a:lnTo>
                  <a:lnTo>
                    <a:pt x="5665" y="16"/>
                  </a:lnTo>
                  <a:lnTo>
                    <a:pt x="5617" y="16"/>
                  </a:lnTo>
                  <a:lnTo>
                    <a:pt x="5617" y="0"/>
                  </a:lnTo>
                  <a:close/>
                  <a:moveTo>
                    <a:pt x="5681" y="0"/>
                  </a:moveTo>
                  <a:lnTo>
                    <a:pt x="5729" y="0"/>
                  </a:lnTo>
                  <a:lnTo>
                    <a:pt x="5729" y="16"/>
                  </a:lnTo>
                  <a:lnTo>
                    <a:pt x="5681" y="16"/>
                  </a:lnTo>
                  <a:lnTo>
                    <a:pt x="5681" y="0"/>
                  </a:lnTo>
                  <a:close/>
                  <a:moveTo>
                    <a:pt x="5745" y="0"/>
                  </a:moveTo>
                  <a:lnTo>
                    <a:pt x="5793" y="0"/>
                  </a:lnTo>
                  <a:lnTo>
                    <a:pt x="5793" y="16"/>
                  </a:lnTo>
                  <a:lnTo>
                    <a:pt x="5745" y="16"/>
                  </a:lnTo>
                  <a:lnTo>
                    <a:pt x="5745" y="0"/>
                  </a:lnTo>
                  <a:close/>
                  <a:moveTo>
                    <a:pt x="5809" y="0"/>
                  </a:moveTo>
                  <a:lnTo>
                    <a:pt x="5857" y="0"/>
                  </a:lnTo>
                  <a:lnTo>
                    <a:pt x="5857" y="16"/>
                  </a:lnTo>
                  <a:lnTo>
                    <a:pt x="5809" y="16"/>
                  </a:lnTo>
                  <a:lnTo>
                    <a:pt x="5809" y="0"/>
                  </a:lnTo>
                  <a:close/>
                  <a:moveTo>
                    <a:pt x="5873" y="0"/>
                  </a:moveTo>
                  <a:lnTo>
                    <a:pt x="5921" y="0"/>
                  </a:lnTo>
                  <a:lnTo>
                    <a:pt x="5921" y="16"/>
                  </a:lnTo>
                  <a:lnTo>
                    <a:pt x="5873" y="16"/>
                  </a:lnTo>
                  <a:lnTo>
                    <a:pt x="5873" y="0"/>
                  </a:lnTo>
                  <a:close/>
                  <a:moveTo>
                    <a:pt x="5937" y="0"/>
                  </a:moveTo>
                  <a:lnTo>
                    <a:pt x="5985" y="0"/>
                  </a:lnTo>
                  <a:lnTo>
                    <a:pt x="5985" y="16"/>
                  </a:lnTo>
                  <a:lnTo>
                    <a:pt x="5937" y="16"/>
                  </a:lnTo>
                  <a:lnTo>
                    <a:pt x="5937" y="0"/>
                  </a:lnTo>
                  <a:close/>
                  <a:moveTo>
                    <a:pt x="6001" y="0"/>
                  </a:moveTo>
                  <a:lnTo>
                    <a:pt x="6049" y="0"/>
                  </a:lnTo>
                  <a:lnTo>
                    <a:pt x="6049" y="16"/>
                  </a:lnTo>
                  <a:lnTo>
                    <a:pt x="6001" y="16"/>
                  </a:lnTo>
                  <a:lnTo>
                    <a:pt x="6001" y="0"/>
                  </a:lnTo>
                  <a:close/>
                  <a:moveTo>
                    <a:pt x="6065" y="0"/>
                  </a:moveTo>
                  <a:lnTo>
                    <a:pt x="6113" y="0"/>
                  </a:lnTo>
                  <a:lnTo>
                    <a:pt x="6113" y="16"/>
                  </a:lnTo>
                  <a:lnTo>
                    <a:pt x="6065" y="16"/>
                  </a:lnTo>
                  <a:lnTo>
                    <a:pt x="6065" y="0"/>
                  </a:lnTo>
                  <a:close/>
                  <a:moveTo>
                    <a:pt x="6129" y="0"/>
                  </a:moveTo>
                  <a:lnTo>
                    <a:pt x="6177" y="0"/>
                  </a:lnTo>
                  <a:lnTo>
                    <a:pt x="6177" y="16"/>
                  </a:lnTo>
                  <a:lnTo>
                    <a:pt x="6129" y="16"/>
                  </a:lnTo>
                  <a:lnTo>
                    <a:pt x="6129" y="0"/>
                  </a:lnTo>
                  <a:close/>
                  <a:moveTo>
                    <a:pt x="6193" y="0"/>
                  </a:moveTo>
                  <a:lnTo>
                    <a:pt x="6241" y="0"/>
                  </a:lnTo>
                  <a:lnTo>
                    <a:pt x="6241" y="16"/>
                  </a:lnTo>
                  <a:lnTo>
                    <a:pt x="6193" y="16"/>
                  </a:lnTo>
                  <a:lnTo>
                    <a:pt x="6193" y="0"/>
                  </a:lnTo>
                  <a:close/>
                  <a:moveTo>
                    <a:pt x="6257" y="0"/>
                  </a:moveTo>
                  <a:lnTo>
                    <a:pt x="6305" y="0"/>
                  </a:lnTo>
                  <a:lnTo>
                    <a:pt x="6305" y="16"/>
                  </a:lnTo>
                  <a:lnTo>
                    <a:pt x="6257" y="16"/>
                  </a:lnTo>
                  <a:lnTo>
                    <a:pt x="6257" y="0"/>
                  </a:lnTo>
                  <a:close/>
                  <a:moveTo>
                    <a:pt x="6321" y="0"/>
                  </a:moveTo>
                  <a:lnTo>
                    <a:pt x="6369" y="0"/>
                  </a:lnTo>
                  <a:lnTo>
                    <a:pt x="6369" y="16"/>
                  </a:lnTo>
                  <a:lnTo>
                    <a:pt x="6321" y="16"/>
                  </a:lnTo>
                  <a:lnTo>
                    <a:pt x="6321" y="0"/>
                  </a:lnTo>
                  <a:close/>
                  <a:moveTo>
                    <a:pt x="6386" y="2"/>
                  </a:moveTo>
                  <a:lnTo>
                    <a:pt x="6427" y="5"/>
                  </a:lnTo>
                  <a:cubicBezTo>
                    <a:pt x="6428" y="6"/>
                    <a:pt x="6428" y="6"/>
                    <a:pt x="6429" y="6"/>
                  </a:cubicBezTo>
                  <a:lnTo>
                    <a:pt x="6435" y="8"/>
                  </a:lnTo>
                  <a:lnTo>
                    <a:pt x="6431" y="23"/>
                  </a:lnTo>
                  <a:lnTo>
                    <a:pt x="6424" y="21"/>
                  </a:lnTo>
                  <a:lnTo>
                    <a:pt x="6426" y="21"/>
                  </a:lnTo>
                  <a:lnTo>
                    <a:pt x="6385" y="17"/>
                  </a:lnTo>
                  <a:lnTo>
                    <a:pt x="6386" y="2"/>
                  </a:lnTo>
                  <a:close/>
                  <a:moveTo>
                    <a:pt x="6451" y="12"/>
                  </a:moveTo>
                  <a:lnTo>
                    <a:pt x="6478" y="21"/>
                  </a:lnTo>
                  <a:cubicBezTo>
                    <a:pt x="6478" y="21"/>
                    <a:pt x="6479" y="21"/>
                    <a:pt x="6479" y="21"/>
                  </a:cubicBezTo>
                  <a:lnTo>
                    <a:pt x="6497" y="31"/>
                  </a:lnTo>
                  <a:lnTo>
                    <a:pt x="6489" y="45"/>
                  </a:lnTo>
                  <a:lnTo>
                    <a:pt x="6472" y="35"/>
                  </a:lnTo>
                  <a:lnTo>
                    <a:pt x="6473" y="36"/>
                  </a:lnTo>
                  <a:lnTo>
                    <a:pt x="6446" y="28"/>
                  </a:lnTo>
                  <a:lnTo>
                    <a:pt x="6451" y="12"/>
                  </a:lnTo>
                  <a:close/>
                  <a:moveTo>
                    <a:pt x="6511" y="39"/>
                  </a:moveTo>
                  <a:lnTo>
                    <a:pt x="6522" y="45"/>
                  </a:lnTo>
                  <a:cubicBezTo>
                    <a:pt x="6523" y="46"/>
                    <a:pt x="6523" y="46"/>
                    <a:pt x="6524" y="46"/>
                  </a:cubicBezTo>
                  <a:lnTo>
                    <a:pt x="6550" y="68"/>
                  </a:lnTo>
                  <a:lnTo>
                    <a:pt x="6540" y="81"/>
                  </a:lnTo>
                  <a:lnTo>
                    <a:pt x="6513" y="59"/>
                  </a:lnTo>
                  <a:lnTo>
                    <a:pt x="6515" y="59"/>
                  </a:lnTo>
                  <a:lnTo>
                    <a:pt x="6503" y="53"/>
                  </a:lnTo>
                  <a:lnTo>
                    <a:pt x="6511" y="39"/>
                  </a:lnTo>
                  <a:close/>
                  <a:moveTo>
                    <a:pt x="6564" y="79"/>
                  </a:moveTo>
                  <a:lnTo>
                    <a:pt x="6594" y="117"/>
                  </a:lnTo>
                  <a:lnTo>
                    <a:pt x="6582" y="127"/>
                  </a:lnTo>
                  <a:lnTo>
                    <a:pt x="6551" y="90"/>
                  </a:lnTo>
                  <a:lnTo>
                    <a:pt x="6564" y="79"/>
                  </a:lnTo>
                  <a:close/>
                  <a:moveTo>
                    <a:pt x="6603" y="132"/>
                  </a:moveTo>
                  <a:lnTo>
                    <a:pt x="6619" y="163"/>
                  </a:lnTo>
                  <a:cubicBezTo>
                    <a:pt x="6620" y="163"/>
                    <a:pt x="6620" y="164"/>
                    <a:pt x="6620" y="164"/>
                  </a:cubicBezTo>
                  <a:lnTo>
                    <a:pt x="6624" y="177"/>
                  </a:lnTo>
                  <a:lnTo>
                    <a:pt x="6609" y="181"/>
                  </a:lnTo>
                  <a:lnTo>
                    <a:pt x="6605" y="169"/>
                  </a:lnTo>
                  <a:lnTo>
                    <a:pt x="6605" y="170"/>
                  </a:lnTo>
                  <a:lnTo>
                    <a:pt x="6589" y="140"/>
                  </a:lnTo>
                  <a:lnTo>
                    <a:pt x="6603" y="132"/>
                  </a:lnTo>
                  <a:close/>
                  <a:moveTo>
                    <a:pt x="6629" y="192"/>
                  </a:moveTo>
                  <a:lnTo>
                    <a:pt x="6635" y="213"/>
                  </a:lnTo>
                  <a:cubicBezTo>
                    <a:pt x="6635" y="214"/>
                    <a:pt x="6635" y="214"/>
                    <a:pt x="6635" y="215"/>
                  </a:cubicBezTo>
                  <a:lnTo>
                    <a:pt x="6638" y="240"/>
                  </a:lnTo>
                  <a:lnTo>
                    <a:pt x="6622" y="242"/>
                  </a:lnTo>
                  <a:lnTo>
                    <a:pt x="6619" y="216"/>
                  </a:lnTo>
                  <a:lnTo>
                    <a:pt x="6620" y="218"/>
                  </a:lnTo>
                  <a:lnTo>
                    <a:pt x="6613" y="197"/>
                  </a:lnTo>
                  <a:lnTo>
                    <a:pt x="6629" y="192"/>
                  </a:lnTo>
                  <a:close/>
                  <a:moveTo>
                    <a:pt x="6639" y="256"/>
                  </a:moveTo>
                  <a:lnTo>
                    <a:pt x="6640" y="267"/>
                  </a:lnTo>
                  <a:lnTo>
                    <a:pt x="6624" y="268"/>
                  </a:lnTo>
                  <a:lnTo>
                    <a:pt x="6623" y="258"/>
                  </a:lnTo>
                  <a:lnTo>
                    <a:pt x="6639" y="256"/>
                  </a:lnTo>
                  <a:close/>
                  <a:moveTo>
                    <a:pt x="6640" y="267"/>
                  </a:moveTo>
                  <a:lnTo>
                    <a:pt x="6640" y="305"/>
                  </a:lnTo>
                  <a:lnTo>
                    <a:pt x="6624" y="305"/>
                  </a:lnTo>
                  <a:lnTo>
                    <a:pt x="6624" y="267"/>
                  </a:lnTo>
                  <a:lnTo>
                    <a:pt x="6640" y="267"/>
                  </a:lnTo>
                  <a:close/>
                  <a:moveTo>
                    <a:pt x="6640" y="321"/>
                  </a:moveTo>
                  <a:lnTo>
                    <a:pt x="6640" y="369"/>
                  </a:lnTo>
                  <a:lnTo>
                    <a:pt x="6624" y="369"/>
                  </a:lnTo>
                  <a:lnTo>
                    <a:pt x="6624" y="321"/>
                  </a:lnTo>
                  <a:lnTo>
                    <a:pt x="6640" y="321"/>
                  </a:lnTo>
                  <a:close/>
                  <a:moveTo>
                    <a:pt x="6640" y="385"/>
                  </a:moveTo>
                  <a:lnTo>
                    <a:pt x="6640" y="433"/>
                  </a:lnTo>
                  <a:lnTo>
                    <a:pt x="6624" y="433"/>
                  </a:lnTo>
                  <a:lnTo>
                    <a:pt x="6624" y="385"/>
                  </a:lnTo>
                  <a:lnTo>
                    <a:pt x="6640" y="385"/>
                  </a:lnTo>
                  <a:close/>
                  <a:moveTo>
                    <a:pt x="6640" y="449"/>
                  </a:moveTo>
                  <a:lnTo>
                    <a:pt x="6640" y="497"/>
                  </a:lnTo>
                  <a:lnTo>
                    <a:pt x="6624" y="497"/>
                  </a:lnTo>
                  <a:lnTo>
                    <a:pt x="6624" y="449"/>
                  </a:lnTo>
                  <a:lnTo>
                    <a:pt x="6640" y="449"/>
                  </a:lnTo>
                  <a:close/>
                  <a:moveTo>
                    <a:pt x="6640" y="513"/>
                  </a:moveTo>
                  <a:lnTo>
                    <a:pt x="6640" y="561"/>
                  </a:lnTo>
                  <a:lnTo>
                    <a:pt x="6624" y="561"/>
                  </a:lnTo>
                  <a:lnTo>
                    <a:pt x="6624" y="513"/>
                  </a:lnTo>
                  <a:lnTo>
                    <a:pt x="6640" y="513"/>
                  </a:lnTo>
                  <a:close/>
                  <a:moveTo>
                    <a:pt x="6640" y="577"/>
                  </a:moveTo>
                  <a:lnTo>
                    <a:pt x="6640" y="625"/>
                  </a:lnTo>
                  <a:lnTo>
                    <a:pt x="6624" y="625"/>
                  </a:lnTo>
                  <a:lnTo>
                    <a:pt x="6624" y="577"/>
                  </a:lnTo>
                  <a:lnTo>
                    <a:pt x="6640" y="577"/>
                  </a:lnTo>
                  <a:close/>
                  <a:moveTo>
                    <a:pt x="6640" y="641"/>
                  </a:moveTo>
                  <a:lnTo>
                    <a:pt x="6640" y="689"/>
                  </a:lnTo>
                  <a:lnTo>
                    <a:pt x="6624" y="689"/>
                  </a:lnTo>
                  <a:lnTo>
                    <a:pt x="6624" y="641"/>
                  </a:lnTo>
                  <a:lnTo>
                    <a:pt x="6640" y="641"/>
                  </a:lnTo>
                  <a:close/>
                  <a:moveTo>
                    <a:pt x="6640" y="705"/>
                  </a:moveTo>
                  <a:lnTo>
                    <a:pt x="6640" y="754"/>
                  </a:lnTo>
                  <a:lnTo>
                    <a:pt x="6624" y="754"/>
                  </a:lnTo>
                  <a:lnTo>
                    <a:pt x="6624" y="705"/>
                  </a:lnTo>
                  <a:lnTo>
                    <a:pt x="6640" y="705"/>
                  </a:lnTo>
                  <a:close/>
                  <a:moveTo>
                    <a:pt x="6640" y="770"/>
                  </a:moveTo>
                  <a:lnTo>
                    <a:pt x="6640" y="818"/>
                  </a:lnTo>
                  <a:lnTo>
                    <a:pt x="6624" y="818"/>
                  </a:lnTo>
                  <a:lnTo>
                    <a:pt x="6624" y="770"/>
                  </a:lnTo>
                  <a:lnTo>
                    <a:pt x="6640" y="770"/>
                  </a:lnTo>
                  <a:close/>
                  <a:moveTo>
                    <a:pt x="6640" y="834"/>
                  </a:moveTo>
                  <a:lnTo>
                    <a:pt x="6640" y="882"/>
                  </a:lnTo>
                  <a:lnTo>
                    <a:pt x="6624" y="882"/>
                  </a:lnTo>
                  <a:lnTo>
                    <a:pt x="6624" y="834"/>
                  </a:lnTo>
                  <a:lnTo>
                    <a:pt x="6640" y="834"/>
                  </a:lnTo>
                  <a:close/>
                  <a:moveTo>
                    <a:pt x="6640" y="898"/>
                  </a:moveTo>
                  <a:lnTo>
                    <a:pt x="6640" y="946"/>
                  </a:lnTo>
                  <a:lnTo>
                    <a:pt x="6624" y="946"/>
                  </a:lnTo>
                  <a:lnTo>
                    <a:pt x="6624" y="898"/>
                  </a:lnTo>
                  <a:lnTo>
                    <a:pt x="6640" y="898"/>
                  </a:lnTo>
                  <a:close/>
                  <a:moveTo>
                    <a:pt x="6640" y="962"/>
                  </a:moveTo>
                  <a:lnTo>
                    <a:pt x="6640" y="1010"/>
                  </a:lnTo>
                  <a:lnTo>
                    <a:pt x="6624" y="1010"/>
                  </a:lnTo>
                  <a:lnTo>
                    <a:pt x="6624" y="962"/>
                  </a:lnTo>
                  <a:lnTo>
                    <a:pt x="6640" y="962"/>
                  </a:lnTo>
                  <a:close/>
                  <a:moveTo>
                    <a:pt x="6640" y="1026"/>
                  </a:moveTo>
                  <a:lnTo>
                    <a:pt x="6640" y="1074"/>
                  </a:lnTo>
                  <a:lnTo>
                    <a:pt x="6624" y="1074"/>
                  </a:lnTo>
                  <a:lnTo>
                    <a:pt x="6624" y="1026"/>
                  </a:lnTo>
                  <a:lnTo>
                    <a:pt x="6640" y="1026"/>
                  </a:lnTo>
                  <a:close/>
                  <a:moveTo>
                    <a:pt x="6640" y="1090"/>
                  </a:moveTo>
                  <a:lnTo>
                    <a:pt x="6640" y="1138"/>
                  </a:lnTo>
                  <a:lnTo>
                    <a:pt x="6624" y="1138"/>
                  </a:lnTo>
                  <a:lnTo>
                    <a:pt x="6624" y="1090"/>
                  </a:lnTo>
                  <a:lnTo>
                    <a:pt x="6640" y="1090"/>
                  </a:lnTo>
                  <a:close/>
                  <a:moveTo>
                    <a:pt x="6640" y="1154"/>
                  </a:moveTo>
                  <a:lnTo>
                    <a:pt x="6640" y="1202"/>
                  </a:lnTo>
                  <a:lnTo>
                    <a:pt x="6624" y="1202"/>
                  </a:lnTo>
                  <a:lnTo>
                    <a:pt x="6624" y="1154"/>
                  </a:lnTo>
                  <a:lnTo>
                    <a:pt x="6640" y="1154"/>
                  </a:lnTo>
                  <a:close/>
                  <a:moveTo>
                    <a:pt x="6640" y="1218"/>
                  </a:moveTo>
                  <a:lnTo>
                    <a:pt x="6640" y="1266"/>
                  </a:lnTo>
                  <a:lnTo>
                    <a:pt x="6624" y="1266"/>
                  </a:lnTo>
                  <a:lnTo>
                    <a:pt x="6624" y="1218"/>
                  </a:lnTo>
                  <a:lnTo>
                    <a:pt x="6640" y="1218"/>
                  </a:lnTo>
                  <a:close/>
                  <a:moveTo>
                    <a:pt x="6640" y="1282"/>
                  </a:moveTo>
                  <a:lnTo>
                    <a:pt x="6640" y="1302"/>
                  </a:lnTo>
                  <a:lnTo>
                    <a:pt x="6624" y="1302"/>
                  </a:lnTo>
                  <a:lnTo>
                    <a:pt x="6624" y="1282"/>
                  </a:lnTo>
                  <a:lnTo>
                    <a:pt x="6640" y="1282"/>
                  </a:lnTo>
                  <a:close/>
                  <a:moveTo>
                    <a:pt x="6640" y="1303"/>
                  </a:moveTo>
                  <a:lnTo>
                    <a:pt x="6638" y="1331"/>
                  </a:lnTo>
                  <a:lnTo>
                    <a:pt x="6622" y="1329"/>
                  </a:lnTo>
                  <a:lnTo>
                    <a:pt x="6624" y="1302"/>
                  </a:lnTo>
                  <a:lnTo>
                    <a:pt x="6640" y="1303"/>
                  </a:lnTo>
                  <a:close/>
                  <a:moveTo>
                    <a:pt x="6636" y="1347"/>
                  </a:moveTo>
                  <a:lnTo>
                    <a:pt x="6635" y="1355"/>
                  </a:lnTo>
                  <a:cubicBezTo>
                    <a:pt x="6635" y="1356"/>
                    <a:pt x="6635" y="1356"/>
                    <a:pt x="6635" y="1357"/>
                  </a:cubicBezTo>
                  <a:lnTo>
                    <a:pt x="6624" y="1395"/>
                  </a:lnTo>
                  <a:lnTo>
                    <a:pt x="6608" y="1390"/>
                  </a:lnTo>
                  <a:lnTo>
                    <a:pt x="6620" y="1352"/>
                  </a:lnTo>
                  <a:lnTo>
                    <a:pt x="6619" y="1354"/>
                  </a:lnTo>
                  <a:lnTo>
                    <a:pt x="6620" y="1345"/>
                  </a:lnTo>
                  <a:lnTo>
                    <a:pt x="6636" y="1347"/>
                  </a:lnTo>
                  <a:close/>
                  <a:moveTo>
                    <a:pt x="6617" y="1411"/>
                  </a:moveTo>
                  <a:lnTo>
                    <a:pt x="6595" y="1450"/>
                  </a:lnTo>
                  <a:cubicBezTo>
                    <a:pt x="6595" y="1451"/>
                    <a:pt x="6595" y="1451"/>
                    <a:pt x="6595" y="1451"/>
                  </a:cubicBezTo>
                  <a:lnTo>
                    <a:pt x="6593" y="1454"/>
                  </a:lnTo>
                  <a:lnTo>
                    <a:pt x="6580" y="1444"/>
                  </a:lnTo>
                  <a:lnTo>
                    <a:pt x="6582" y="1441"/>
                  </a:lnTo>
                  <a:lnTo>
                    <a:pt x="6581" y="1443"/>
                  </a:lnTo>
                  <a:lnTo>
                    <a:pt x="6603" y="1403"/>
                  </a:lnTo>
                  <a:lnTo>
                    <a:pt x="6617" y="1411"/>
                  </a:lnTo>
                  <a:close/>
                  <a:moveTo>
                    <a:pt x="6583" y="1466"/>
                  </a:moveTo>
                  <a:lnTo>
                    <a:pt x="6564" y="1490"/>
                  </a:lnTo>
                  <a:cubicBezTo>
                    <a:pt x="6563" y="1491"/>
                    <a:pt x="6563" y="1491"/>
                    <a:pt x="6562" y="1492"/>
                  </a:cubicBezTo>
                  <a:lnTo>
                    <a:pt x="6549" y="1502"/>
                  </a:lnTo>
                  <a:lnTo>
                    <a:pt x="6539" y="1490"/>
                  </a:lnTo>
                  <a:lnTo>
                    <a:pt x="6552" y="1479"/>
                  </a:lnTo>
                  <a:lnTo>
                    <a:pt x="6551" y="1480"/>
                  </a:lnTo>
                  <a:lnTo>
                    <a:pt x="6570" y="1456"/>
                  </a:lnTo>
                  <a:lnTo>
                    <a:pt x="6583" y="1466"/>
                  </a:lnTo>
                  <a:close/>
                  <a:moveTo>
                    <a:pt x="6536" y="1512"/>
                  </a:moveTo>
                  <a:lnTo>
                    <a:pt x="6523" y="1523"/>
                  </a:lnTo>
                  <a:cubicBezTo>
                    <a:pt x="6523" y="1523"/>
                    <a:pt x="6523" y="1523"/>
                    <a:pt x="6522" y="1523"/>
                  </a:cubicBezTo>
                  <a:lnTo>
                    <a:pt x="6495" y="1539"/>
                  </a:lnTo>
                  <a:lnTo>
                    <a:pt x="6487" y="1525"/>
                  </a:lnTo>
                  <a:lnTo>
                    <a:pt x="6515" y="1509"/>
                  </a:lnTo>
                  <a:lnTo>
                    <a:pt x="6513" y="1510"/>
                  </a:lnTo>
                  <a:lnTo>
                    <a:pt x="6526" y="1500"/>
                  </a:lnTo>
                  <a:lnTo>
                    <a:pt x="6536" y="1512"/>
                  </a:lnTo>
                  <a:close/>
                  <a:moveTo>
                    <a:pt x="6481" y="1547"/>
                  </a:moveTo>
                  <a:lnTo>
                    <a:pt x="6479" y="1547"/>
                  </a:lnTo>
                  <a:cubicBezTo>
                    <a:pt x="6479" y="1548"/>
                    <a:pt x="6478" y="1548"/>
                    <a:pt x="6478" y="1548"/>
                  </a:cubicBezTo>
                  <a:lnTo>
                    <a:pt x="6433" y="1562"/>
                  </a:lnTo>
                  <a:lnTo>
                    <a:pt x="6429" y="1546"/>
                  </a:lnTo>
                  <a:lnTo>
                    <a:pt x="6473" y="1533"/>
                  </a:lnTo>
                  <a:lnTo>
                    <a:pt x="6472" y="1533"/>
                  </a:lnTo>
                  <a:lnTo>
                    <a:pt x="6473" y="1533"/>
                  </a:lnTo>
                  <a:lnTo>
                    <a:pt x="6481" y="1547"/>
                  </a:lnTo>
                  <a:close/>
                  <a:moveTo>
                    <a:pt x="6416" y="1564"/>
                  </a:moveTo>
                  <a:lnTo>
                    <a:pt x="6375" y="1568"/>
                  </a:lnTo>
                  <a:lnTo>
                    <a:pt x="6374" y="1552"/>
                  </a:lnTo>
                  <a:lnTo>
                    <a:pt x="6415" y="1549"/>
                  </a:lnTo>
                  <a:lnTo>
                    <a:pt x="6416" y="1564"/>
                  </a:lnTo>
                  <a:close/>
                  <a:moveTo>
                    <a:pt x="6374" y="1568"/>
                  </a:moveTo>
                  <a:lnTo>
                    <a:pt x="6368" y="1568"/>
                  </a:lnTo>
                  <a:lnTo>
                    <a:pt x="6368" y="1552"/>
                  </a:lnTo>
                  <a:lnTo>
                    <a:pt x="6374" y="1552"/>
                  </a:lnTo>
                  <a:lnTo>
                    <a:pt x="6374" y="1568"/>
                  </a:lnTo>
                  <a:close/>
                  <a:moveTo>
                    <a:pt x="6351" y="1568"/>
                  </a:moveTo>
                  <a:lnTo>
                    <a:pt x="6303" y="1568"/>
                  </a:lnTo>
                  <a:lnTo>
                    <a:pt x="6303" y="1552"/>
                  </a:lnTo>
                  <a:lnTo>
                    <a:pt x="6351" y="1552"/>
                  </a:lnTo>
                  <a:lnTo>
                    <a:pt x="6351" y="1568"/>
                  </a:lnTo>
                  <a:close/>
                  <a:moveTo>
                    <a:pt x="6287" y="1568"/>
                  </a:moveTo>
                  <a:lnTo>
                    <a:pt x="6239" y="1568"/>
                  </a:lnTo>
                  <a:lnTo>
                    <a:pt x="6239" y="1552"/>
                  </a:lnTo>
                  <a:lnTo>
                    <a:pt x="6287" y="1552"/>
                  </a:lnTo>
                  <a:lnTo>
                    <a:pt x="6287" y="1568"/>
                  </a:lnTo>
                  <a:close/>
                  <a:moveTo>
                    <a:pt x="6223" y="1568"/>
                  </a:moveTo>
                  <a:lnTo>
                    <a:pt x="6175" y="1568"/>
                  </a:lnTo>
                  <a:lnTo>
                    <a:pt x="6175" y="1552"/>
                  </a:lnTo>
                  <a:lnTo>
                    <a:pt x="6223" y="1552"/>
                  </a:lnTo>
                  <a:lnTo>
                    <a:pt x="6223" y="1568"/>
                  </a:lnTo>
                  <a:close/>
                  <a:moveTo>
                    <a:pt x="6159" y="1568"/>
                  </a:moveTo>
                  <a:lnTo>
                    <a:pt x="6111" y="1568"/>
                  </a:lnTo>
                  <a:lnTo>
                    <a:pt x="6111" y="1552"/>
                  </a:lnTo>
                  <a:lnTo>
                    <a:pt x="6159" y="1552"/>
                  </a:lnTo>
                  <a:lnTo>
                    <a:pt x="6159" y="1568"/>
                  </a:lnTo>
                  <a:close/>
                  <a:moveTo>
                    <a:pt x="6095" y="1568"/>
                  </a:moveTo>
                  <a:lnTo>
                    <a:pt x="6047" y="1568"/>
                  </a:lnTo>
                  <a:lnTo>
                    <a:pt x="6047" y="1552"/>
                  </a:lnTo>
                  <a:lnTo>
                    <a:pt x="6095" y="1552"/>
                  </a:lnTo>
                  <a:lnTo>
                    <a:pt x="6095" y="1568"/>
                  </a:lnTo>
                  <a:close/>
                  <a:moveTo>
                    <a:pt x="6031" y="1568"/>
                  </a:moveTo>
                  <a:lnTo>
                    <a:pt x="5983" y="1568"/>
                  </a:lnTo>
                  <a:lnTo>
                    <a:pt x="5983" y="1552"/>
                  </a:lnTo>
                  <a:lnTo>
                    <a:pt x="6031" y="1552"/>
                  </a:lnTo>
                  <a:lnTo>
                    <a:pt x="6031" y="1568"/>
                  </a:lnTo>
                  <a:close/>
                  <a:moveTo>
                    <a:pt x="5967" y="1568"/>
                  </a:moveTo>
                  <a:lnTo>
                    <a:pt x="5919" y="1568"/>
                  </a:lnTo>
                  <a:lnTo>
                    <a:pt x="5919" y="1552"/>
                  </a:lnTo>
                  <a:lnTo>
                    <a:pt x="5967" y="1552"/>
                  </a:lnTo>
                  <a:lnTo>
                    <a:pt x="5967" y="1568"/>
                  </a:lnTo>
                  <a:close/>
                  <a:moveTo>
                    <a:pt x="5903" y="1568"/>
                  </a:moveTo>
                  <a:lnTo>
                    <a:pt x="5855" y="1568"/>
                  </a:lnTo>
                  <a:lnTo>
                    <a:pt x="5855" y="1552"/>
                  </a:lnTo>
                  <a:lnTo>
                    <a:pt x="5903" y="1552"/>
                  </a:lnTo>
                  <a:lnTo>
                    <a:pt x="5903" y="1568"/>
                  </a:lnTo>
                  <a:close/>
                  <a:moveTo>
                    <a:pt x="5839" y="1568"/>
                  </a:moveTo>
                  <a:lnTo>
                    <a:pt x="5791" y="1568"/>
                  </a:lnTo>
                  <a:lnTo>
                    <a:pt x="5791" y="1552"/>
                  </a:lnTo>
                  <a:lnTo>
                    <a:pt x="5839" y="1552"/>
                  </a:lnTo>
                  <a:lnTo>
                    <a:pt x="5839" y="1568"/>
                  </a:lnTo>
                  <a:close/>
                  <a:moveTo>
                    <a:pt x="5775" y="1568"/>
                  </a:moveTo>
                  <a:lnTo>
                    <a:pt x="5727" y="1568"/>
                  </a:lnTo>
                  <a:lnTo>
                    <a:pt x="5727" y="1552"/>
                  </a:lnTo>
                  <a:lnTo>
                    <a:pt x="5775" y="1552"/>
                  </a:lnTo>
                  <a:lnTo>
                    <a:pt x="5775" y="1568"/>
                  </a:lnTo>
                  <a:close/>
                  <a:moveTo>
                    <a:pt x="5711" y="1568"/>
                  </a:moveTo>
                  <a:lnTo>
                    <a:pt x="5663" y="1568"/>
                  </a:lnTo>
                  <a:lnTo>
                    <a:pt x="5663" y="1552"/>
                  </a:lnTo>
                  <a:lnTo>
                    <a:pt x="5711" y="1552"/>
                  </a:lnTo>
                  <a:lnTo>
                    <a:pt x="5711" y="1568"/>
                  </a:lnTo>
                  <a:close/>
                  <a:moveTo>
                    <a:pt x="5647" y="1568"/>
                  </a:moveTo>
                  <a:lnTo>
                    <a:pt x="5599" y="1568"/>
                  </a:lnTo>
                  <a:lnTo>
                    <a:pt x="5599" y="1552"/>
                  </a:lnTo>
                  <a:lnTo>
                    <a:pt x="5647" y="1552"/>
                  </a:lnTo>
                  <a:lnTo>
                    <a:pt x="5647" y="1568"/>
                  </a:lnTo>
                  <a:close/>
                  <a:moveTo>
                    <a:pt x="5583" y="1568"/>
                  </a:moveTo>
                  <a:lnTo>
                    <a:pt x="5535" y="1568"/>
                  </a:lnTo>
                  <a:lnTo>
                    <a:pt x="5535" y="1552"/>
                  </a:lnTo>
                  <a:lnTo>
                    <a:pt x="5583" y="1552"/>
                  </a:lnTo>
                  <a:lnTo>
                    <a:pt x="5583" y="1568"/>
                  </a:lnTo>
                  <a:close/>
                  <a:moveTo>
                    <a:pt x="5519" y="1568"/>
                  </a:moveTo>
                  <a:lnTo>
                    <a:pt x="5471" y="1568"/>
                  </a:lnTo>
                  <a:lnTo>
                    <a:pt x="5471" y="1552"/>
                  </a:lnTo>
                  <a:lnTo>
                    <a:pt x="5519" y="1552"/>
                  </a:lnTo>
                  <a:lnTo>
                    <a:pt x="5519" y="1568"/>
                  </a:lnTo>
                  <a:close/>
                  <a:moveTo>
                    <a:pt x="5455" y="1568"/>
                  </a:moveTo>
                  <a:lnTo>
                    <a:pt x="5407" y="1568"/>
                  </a:lnTo>
                  <a:lnTo>
                    <a:pt x="5407" y="1552"/>
                  </a:lnTo>
                  <a:lnTo>
                    <a:pt x="5455" y="1552"/>
                  </a:lnTo>
                  <a:lnTo>
                    <a:pt x="5455" y="1568"/>
                  </a:lnTo>
                  <a:close/>
                  <a:moveTo>
                    <a:pt x="5391" y="1568"/>
                  </a:moveTo>
                  <a:lnTo>
                    <a:pt x="5342" y="1568"/>
                  </a:lnTo>
                  <a:lnTo>
                    <a:pt x="5342" y="1552"/>
                  </a:lnTo>
                  <a:lnTo>
                    <a:pt x="5391" y="1552"/>
                  </a:lnTo>
                  <a:lnTo>
                    <a:pt x="5391" y="1568"/>
                  </a:lnTo>
                  <a:close/>
                  <a:moveTo>
                    <a:pt x="5326" y="1568"/>
                  </a:moveTo>
                  <a:lnTo>
                    <a:pt x="5278" y="1568"/>
                  </a:lnTo>
                  <a:lnTo>
                    <a:pt x="5278" y="1552"/>
                  </a:lnTo>
                  <a:lnTo>
                    <a:pt x="5326" y="1552"/>
                  </a:lnTo>
                  <a:lnTo>
                    <a:pt x="5326" y="1568"/>
                  </a:lnTo>
                  <a:close/>
                  <a:moveTo>
                    <a:pt x="5262" y="1568"/>
                  </a:moveTo>
                  <a:lnTo>
                    <a:pt x="5214" y="1568"/>
                  </a:lnTo>
                  <a:lnTo>
                    <a:pt x="5214" y="1552"/>
                  </a:lnTo>
                  <a:lnTo>
                    <a:pt x="5262" y="1552"/>
                  </a:lnTo>
                  <a:lnTo>
                    <a:pt x="5262" y="1568"/>
                  </a:lnTo>
                  <a:close/>
                  <a:moveTo>
                    <a:pt x="5198" y="1568"/>
                  </a:moveTo>
                  <a:lnTo>
                    <a:pt x="5150" y="1568"/>
                  </a:lnTo>
                  <a:lnTo>
                    <a:pt x="5150" y="1552"/>
                  </a:lnTo>
                  <a:lnTo>
                    <a:pt x="5198" y="1552"/>
                  </a:lnTo>
                  <a:lnTo>
                    <a:pt x="5198" y="1568"/>
                  </a:lnTo>
                  <a:close/>
                  <a:moveTo>
                    <a:pt x="5134" y="1568"/>
                  </a:moveTo>
                  <a:lnTo>
                    <a:pt x="5086" y="1568"/>
                  </a:lnTo>
                  <a:lnTo>
                    <a:pt x="5086" y="1552"/>
                  </a:lnTo>
                  <a:lnTo>
                    <a:pt x="5134" y="1552"/>
                  </a:lnTo>
                  <a:lnTo>
                    <a:pt x="5134" y="1568"/>
                  </a:lnTo>
                  <a:close/>
                  <a:moveTo>
                    <a:pt x="5070" y="1568"/>
                  </a:moveTo>
                  <a:lnTo>
                    <a:pt x="5022" y="1568"/>
                  </a:lnTo>
                  <a:lnTo>
                    <a:pt x="5022" y="1552"/>
                  </a:lnTo>
                  <a:lnTo>
                    <a:pt x="5070" y="1552"/>
                  </a:lnTo>
                  <a:lnTo>
                    <a:pt x="5070" y="1568"/>
                  </a:lnTo>
                  <a:close/>
                  <a:moveTo>
                    <a:pt x="5006" y="1568"/>
                  </a:moveTo>
                  <a:lnTo>
                    <a:pt x="4958" y="1568"/>
                  </a:lnTo>
                  <a:lnTo>
                    <a:pt x="4958" y="1552"/>
                  </a:lnTo>
                  <a:lnTo>
                    <a:pt x="5006" y="1552"/>
                  </a:lnTo>
                  <a:lnTo>
                    <a:pt x="5006" y="1568"/>
                  </a:lnTo>
                  <a:close/>
                  <a:moveTo>
                    <a:pt x="4942" y="1568"/>
                  </a:moveTo>
                  <a:lnTo>
                    <a:pt x="4894" y="1568"/>
                  </a:lnTo>
                  <a:lnTo>
                    <a:pt x="4894" y="1552"/>
                  </a:lnTo>
                  <a:lnTo>
                    <a:pt x="4942" y="1552"/>
                  </a:lnTo>
                  <a:lnTo>
                    <a:pt x="4942" y="1568"/>
                  </a:lnTo>
                  <a:close/>
                  <a:moveTo>
                    <a:pt x="4878" y="1568"/>
                  </a:moveTo>
                  <a:lnTo>
                    <a:pt x="4830" y="1568"/>
                  </a:lnTo>
                  <a:lnTo>
                    <a:pt x="4830" y="1552"/>
                  </a:lnTo>
                  <a:lnTo>
                    <a:pt x="4878" y="1552"/>
                  </a:lnTo>
                  <a:lnTo>
                    <a:pt x="4878" y="1568"/>
                  </a:lnTo>
                  <a:close/>
                  <a:moveTo>
                    <a:pt x="4814" y="1568"/>
                  </a:moveTo>
                  <a:lnTo>
                    <a:pt x="4766" y="1568"/>
                  </a:lnTo>
                  <a:lnTo>
                    <a:pt x="4766" y="1552"/>
                  </a:lnTo>
                  <a:lnTo>
                    <a:pt x="4814" y="1552"/>
                  </a:lnTo>
                  <a:lnTo>
                    <a:pt x="4814" y="1568"/>
                  </a:lnTo>
                  <a:close/>
                  <a:moveTo>
                    <a:pt x="4750" y="1568"/>
                  </a:moveTo>
                  <a:lnTo>
                    <a:pt x="4702" y="1568"/>
                  </a:lnTo>
                  <a:lnTo>
                    <a:pt x="4702" y="1552"/>
                  </a:lnTo>
                  <a:lnTo>
                    <a:pt x="4750" y="1552"/>
                  </a:lnTo>
                  <a:lnTo>
                    <a:pt x="4750" y="1568"/>
                  </a:lnTo>
                  <a:close/>
                  <a:moveTo>
                    <a:pt x="4686" y="1568"/>
                  </a:moveTo>
                  <a:lnTo>
                    <a:pt x="4638" y="1568"/>
                  </a:lnTo>
                  <a:lnTo>
                    <a:pt x="4638" y="1552"/>
                  </a:lnTo>
                  <a:lnTo>
                    <a:pt x="4686" y="1552"/>
                  </a:lnTo>
                  <a:lnTo>
                    <a:pt x="4686" y="1568"/>
                  </a:lnTo>
                  <a:close/>
                  <a:moveTo>
                    <a:pt x="4622" y="1568"/>
                  </a:moveTo>
                  <a:lnTo>
                    <a:pt x="4574" y="1568"/>
                  </a:lnTo>
                  <a:lnTo>
                    <a:pt x="4574" y="1552"/>
                  </a:lnTo>
                  <a:lnTo>
                    <a:pt x="4622" y="1552"/>
                  </a:lnTo>
                  <a:lnTo>
                    <a:pt x="4622" y="1568"/>
                  </a:lnTo>
                  <a:close/>
                  <a:moveTo>
                    <a:pt x="4558" y="1568"/>
                  </a:moveTo>
                  <a:lnTo>
                    <a:pt x="4510" y="1568"/>
                  </a:lnTo>
                  <a:lnTo>
                    <a:pt x="4510" y="1552"/>
                  </a:lnTo>
                  <a:lnTo>
                    <a:pt x="4558" y="1552"/>
                  </a:lnTo>
                  <a:lnTo>
                    <a:pt x="4558" y="1568"/>
                  </a:lnTo>
                  <a:close/>
                  <a:moveTo>
                    <a:pt x="4494" y="1568"/>
                  </a:moveTo>
                  <a:lnTo>
                    <a:pt x="4446" y="1568"/>
                  </a:lnTo>
                  <a:lnTo>
                    <a:pt x="4446" y="1552"/>
                  </a:lnTo>
                  <a:lnTo>
                    <a:pt x="4494" y="1552"/>
                  </a:lnTo>
                  <a:lnTo>
                    <a:pt x="4494" y="1568"/>
                  </a:lnTo>
                  <a:close/>
                  <a:moveTo>
                    <a:pt x="4430" y="1568"/>
                  </a:moveTo>
                  <a:lnTo>
                    <a:pt x="4381" y="1568"/>
                  </a:lnTo>
                  <a:lnTo>
                    <a:pt x="4381" y="1552"/>
                  </a:lnTo>
                  <a:lnTo>
                    <a:pt x="4430" y="1552"/>
                  </a:lnTo>
                  <a:lnTo>
                    <a:pt x="4430" y="1568"/>
                  </a:lnTo>
                  <a:close/>
                  <a:moveTo>
                    <a:pt x="4365" y="1568"/>
                  </a:moveTo>
                  <a:lnTo>
                    <a:pt x="4317" y="1568"/>
                  </a:lnTo>
                  <a:lnTo>
                    <a:pt x="4317" y="1552"/>
                  </a:lnTo>
                  <a:lnTo>
                    <a:pt x="4365" y="1552"/>
                  </a:lnTo>
                  <a:lnTo>
                    <a:pt x="4365" y="1568"/>
                  </a:lnTo>
                  <a:close/>
                  <a:moveTo>
                    <a:pt x="4301" y="1568"/>
                  </a:moveTo>
                  <a:lnTo>
                    <a:pt x="4253" y="1568"/>
                  </a:lnTo>
                  <a:lnTo>
                    <a:pt x="4253" y="1552"/>
                  </a:lnTo>
                  <a:lnTo>
                    <a:pt x="4301" y="1552"/>
                  </a:lnTo>
                  <a:lnTo>
                    <a:pt x="4301" y="1568"/>
                  </a:lnTo>
                  <a:close/>
                  <a:moveTo>
                    <a:pt x="4237" y="1568"/>
                  </a:moveTo>
                  <a:lnTo>
                    <a:pt x="4189" y="1568"/>
                  </a:lnTo>
                  <a:lnTo>
                    <a:pt x="4189" y="1552"/>
                  </a:lnTo>
                  <a:lnTo>
                    <a:pt x="4237" y="1552"/>
                  </a:lnTo>
                  <a:lnTo>
                    <a:pt x="4237" y="1568"/>
                  </a:lnTo>
                  <a:close/>
                  <a:moveTo>
                    <a:pt x="4173" y="1568"/>
                  </a:moveTo>
                  <a:lnTo>
                    <a:pt x="4125" y="1568"/>
                  </a:lnTo>
                  <a:lnTo>
                    <a:pt x="4125" y="1552"/>
                  </a:lnTo>
                  <a:lnTo>
                    <a:pt x="4173" y="1552"/>
                  </a:lnTo>
                  <a:lnTo>
                    <a:pt x="4173" y="1568"/>
                  </a:lnTo>
                  <a:close/>
                  <a:moveTo>
                    <a:pt x="4109" y="1568"/>
                  </a:moveTo>
                  <a:lnTo>
                    <a:pt x="4061" y="1568"/>
                  </a:lnTo>
                  <a:lnTo>
                    <a:pt x="4061" y="1552"/>
                  </a:lnTo>
                  <a:lnTo>
                    <a:pt x="4109" y="1552"/>
                  </a:lnTo>
                  <a:lnTo>
                    <a:pt x="4109" y="1568"/>
                  </a:lnTo>
                  <a:close/>
                  <a:moveTo>
                    <a:pt x="4045" y="1568"/>
                  </a:moveTo>
                  <a:lnTo>
                    <a:pt x="3997" y="1568"/>
                  </a:lnTo>
                  <a:lnTo>
                    <a:pt x="3997" y="1552"/>
                  </a:lnTo>
                  <a:lnTo>
                    <a:pt x="4045" y="1552"/>
                  </a:lnTo>
                  <a:lnTo>
                    <a:pt x="4045" y="1568"/>
                  </a:lnTo>
                  <a:close/>
                  <a:moveTo>
                    <a:pt x="3981" y="1568"/>
                  </a:moveTo>
                  <a:lnTo>
                    <a:pt x="3933" y="1568"/>
                  </a:lnTo>
                  <a:lnTo>
                    <a:pt x="3933" y="1552"/>
                  </a:lnTo>
                  <a:lnTo>
                    <a:pt x="3981" y="1552"/>
                  </a:lnTo>
                  <a:lnTo>
                    <a:pt x="3981" y="1568"/>
                  </a:lnTo>
                  <a:close/>
                  <a:moveTo>
                    <a:pt x="3917" y="1568"/>
                  </a:moveTo>
                  <a:lnTo>
                    <a:pt x="3869" y="1568"/>
                  </a:lnTo>
                  <a:lnTo>
                    <a:pt x="3869" y="1552"/>
                  </a:lnTo>
                  <a:lnTo>
                    <a:pt x="3917" y="1552"/>
                  </a:lnTo>
                  <a:lnTo>
                    <a:pt x="3917" y="1568"/>
                  </a:lnTo>
                  <a:close/>
                  <a:moveTo>
                    <a:pt x="3853" y="1568"/>
                  </a:moveTo>
                  <a:lnTo>
                    <a:pt x="3805" y="1568"/>
                  </a:lnTo>
                  <a:lnTo>
                    <a:pt x="3805" y="1552"/>
                  </a:lnTo>
                  <a:lnTo>
                    <a:pt x="3853" y="1552"/>
                  </a:lnTo>
                  <a:lnTo>
                    <a:pt x="3853" y="1568"/>
                  </a:lnTo>
                  <a:close/>
                  <a:moveTo>
                    <a:pt x="3789" y="1568"/>
                  </a:moveTo>
                  <a:lnTo>
                    <a:pt x="3741" y="1568"/>
                  </a:lnTo>
                  <a:lnTo>
                    <a:pt x="3741" y="1552"/>
                  </a:lnTo>
                  <a:lnTo>
                    <a:pt x="3789" y="1552"/>
                  </a:lnTo>
                  <a:lnTo>
                    <a:pt x="3789" y="1568"/>
                  </a:lnTo>
                  <a:close/>
                  <a:moveTo>
                    <a:pt x="3725" y="1568"/>
                  </a:moveTo>
                  <a:lnTo>
                    <a:pt x="3677" y="1568"/>
                  </a:lnTo>
                  <a:lnTo>
                    <a:pt x="3677" y="1552"/>
                  </a:lnTo>
                  <a:lnTo>
                    <a:pt x="3725" y="1552"/>
                  </a:lnTo>
                  <a:lnTo>
                    <a:pt x="3725" y="1568"/>
                  </a:lnTo>
                  <a:close/>
                  <a:moveTo>
                    <a:pt x="3661" y="1568"/>
                  </a:moveTo>
                  <a:lnTo>
                    <a:pt x="3613" y="1568"/>
                  </a:lnTo>
                  <a:lnTo>
                    <a:pt x="3613" y="1552"/>
                  </a:lnTo>
                  <a:lnTo>
                    <a:pt x="3661" y="1552"/>
                  </a:lnTo>
                  <a:lnTo>
                    <a:pt x="3661" y="1568"/>
                  </a:lnTo>
                  <a:close/>
                  <a:moveTo>
                    <a:pt x="3597" y="1568"/>
                  </a:moveTo>
                  <a:lnTo>
                    <a:pt x="3549" y="1568"/>
                  </a:lnTo>
                  <a:lnTo>
                    <a:pt x="3549" y="1552"/>
                  </a:lnTo>
                  <a:lnTo>
                    <a:pt x="3597" y="1552"/>
                  </a:lnTo>
                  <a:lnTo>
                    <a:pt x="3597" y="1568"/>
                  </a:lnTo>
                  <a:close/>
                  <a:moveTo>
                    <a:pt x="3533" y="1568"/>
                  </a:moveTo>
                  <a:lnTo>
                    <a:pt x="3485" y="1568"/>
                  </a:lnTo>
                  <a:lnTo>
                    <a:pt x="3485" y="1552"/>
                  </a:lnTo>
                  <a:lnTo>
                    <a:pt x="3533" y="1552"/>
                  </a:lnTo>
                  <a:lnTo>
                    <a:pt x="3533" y="1568"/>
                  </a:lnTo>
                  <a:close/>
                  <a:moveTo>
                    <a:pt x="3469" y="1568"/>
                  </a:moveTo>
                  <a:lnTo>
                    <a:pt x="3421" y="1568"/>
                  </a:lnTo>
                  <a:lnTo>
                    <a:pt x="3421" y="1552"/>
                  </a:lnTo>
                  <a:lnTo>
                    <a:pt x="3469" y="1552"/>
                  </a:lnTo>
                  <a:lnTo>
                    <a:pt x="3469" y="1568"/>
                  </a:lnTo>
                  <a:close/>
                  <a:moveTo>
                    <a:pt x="3405" y="1568"/>
                  </a:moveTo>
                  <a:lnTo>
                    <a:pt x="3356" y="1568"/>
                  </a:lnTo>
                  <a:lnTo>
                    <a:pt x="3356" y="1552"/>
                  </a:lnTo>
                  <a:lnTo>
                    <a:pt x="3405" y="1552"/>
                  </a:lnTo>
                  <a:lnTo>
                    <a:pt x="3405" y="1568"/>
                  </a:lnTo>
                  <a:close/>
                  <a:moveTo>
                    <a:pt x="3340" y="1568"/>
                  </a:moveTo>
                  <a:lnTo>
                    <a:pt x="3292" y="1568"/>
                  </a:lnTo>
                  <a:lnTo>
                    <a:pt x="3292" y="1552"/>
                  </a:lnTo>
                  <a:lnTo>
                    <a:pt x="3340" y="1552"/>
                  </a:lnTo>
                  <a:lnTo>
                    <a:pt x="3340" y="1568"/>
                  </a:lnTo>
                  <a:close/>
                  <a:moveTo>
                    <a:pt x="3276" y="1568"/>
                  </a:moveTo>
                  <a:lnTo>
                    <a:pt x="3228" y="1568"/>
                  </a:lnTo>
                  <a:lnTo>
                    <a:pt x="3228" y="1552"/>
                  </a:lnTo>
                  <a:lnTo>
                    <a:pt x="3276" y="1552"/>
                  </a:lnTo>
                  <a:lnTo>
                    <a:pt x="3276" y="1568"/>
                  </a:lnTo>
                  <a:close/>
                  <a:moveTo>
                    <a:pt x="3212" y="1568"/>
                  </a:moveTo>
                  <a:lnTo>
                    <a:pt x="3164" y="1568"/>
                  </a:lnTo>
                  <a:lnTo>
                    <a:pt x="3164" y="1552"/>
                  </a:lnTo>
                  <a:lnTo>
                    <a:pt x="3212" y="1552"/>
                  </a:lnTo>
                  <a:lnTo>
                    <a:pt x="3212" y="1568"/>
                  </a:lnTo>
                  <a:close/>
                  <a:moveTo>
                    <a:pt x="3148" y="1568"/>
                  </a:moveTo>
                  <a:lnTo>
                    <a:pt x="3100" y="1568"/>
                  </a:lnTo>
                  <a:lnTo>
                    <a:pt x="3100" y="1552"/>
                  </a:lnTo>
                  <a:lnTo>
                    <a:pt x="3148" y="1552"/>
                  </a:lnTo>
                  <a:lnTo>
                    <a:pt x="3148" y="1568"/>
                  </a:lnTo>
                  <a:close/>
                  <a:moveTo>
                    <a:pt x="3084" y="1568"/>
                  </a:moveTo>
                  <a:lnTo>
                    <a:pt x="3036" y="1568"/>
                  </a:lnTo>
                  <a:lnTo>
                    <a:pt x="3036" y="1552"/>
                  </a:lnTo>
                  <a:lnTo>
                    <a:pt x="3084" y="1552"/>
                  </a:lnTo>
                  <a:lnTo>
                    <a:pt x="3084" y="1568"/>
                  </a:lnTo>
                  <a:close/>
                  <a:moveTo>
                    <a:pt x="3020" y="1568"/>
                  </a:moveTo>
                  <a:lnTo>
                    <a:pt x="2972" y="1568"/>
                  </a:lnTo>
                  <a:lnTo>
                    <a:pt x="2972" y="1552"/>
                  </a:lnTo>
                  <a:lnTo>
                    <a:pt x="3020" y="1552"/>
                  </a:lnTo>
                  <a:lnTo>
                    <a:pt x="3020" y="1568"/>
                  </a:lnTo>
                  <a:close/>
                  <a:moveTo>
                    <a:pt x="2956" y="1568"/>
                  </a:moveTo>
                  <a:lnTo>
                    <a:pt x="2908" y="1568"/>
                  </a:lnTo>
                  <a:lnTo>
                    <a:pt x="2908" y="1552"/>
                  </a:lnTo>
                  <a:lnTo>
                    <a:pt x="2956" y="1552"/>
                  </a:lnTo>
                  <a:lnTo>
                    <a:pt x="2956" y="1568"/>
                  </a:lnTo>
                  <a:close/>
                  <a:moveTo>
                    <a:pt x="2892" y="1568"/>
                  </a:moveTo>
                  <a:lnTo>
                    <a:pt x="2844" y="1568"/>
                  </a:lnTo>
                  <a:lnTo>
                    <a:pt x="2844" y="1552"/>
                  </a:lnTo>
                  <a:lnTo>
                    <a:pt x="2892" y="1552"/>
                  </a:lnTo>
                  <a:lnTo>
                    <a:pt x="2892" y="1568"/>
                  </a:lnTo>
                  <a:close/>
                  <a:moveTo>
                    <a:pt x="2828" y="1568"/>
                  </a:moveTo>
                  <a:lnTo>
                    <a:pt x="2780" y="1568"/>
                  </a:lnTo>
                  <a:lnTo>
                    <a:pt x="2780" y="1552"/>
                  </a:lnTo>
                  <a:lnTo>
                    <a:pt x="2828" y="1552"/>
                  </a:lnTo>
                  <a:lnTo>
                    <a:pt x="2828" y="1568"/>
                  </a:lnTo>
                  <a:close/>
                  <a:moveTo>
                    <a:pt x="2764" y="1568"/>
                  </a:moveTo>
                  <a:lnTo>
                    <a:pt x="2716" y="1568"/>
                  </a:lnTo>
                  <a:lnTo>
                    <a:pt x="2716" y="1552"/>
                  </a:lnTo>
                  <a:lnTo>
                    <a:pt x="2764" y="1552"/>
                  </a:lnTo>
                  <a:lnTo>
                    <a:pt x="2764" y="1568"/>
                  </a:lnTo>
                  <a:close/>
                  <a:moveTo>
                    <a:pt x="2700" y="1568"/>
                  </a:moveTo>
                  <a:lnTo>
                    <a:pt x="2652" y="1568"/>
                  </a:lnTo>
                  <a:lnTo>
                    <a:pt x="2652" y="1552"/>
                  </a:lnTo>
                  <a:lnTo>
                    <a:pt x="2700" y="1552"/>
                  </a:lnTo>
                  <a:lnTo>
                    <a:pt x="2700" y="1568"/>
                  </a:lnTo>
                  <a:close/>
                  <a:moveTo>
                    <a:pt x="2636" y="1568"/>
                  </a:moveTo>
                  <a:lnTo>
                    <a:pt x="2588" y="1568"/>
                  </a:lnTo>
                  <a:lnTo>
                    <a:pt x="2588" y="1552"/>
                  </a:lnTo>
                  <a:lnTo>
                    <a:pt x="2636" y="1552"/>
                  </a:lnTo>
                  <a:lnTo>
                    <a:pt x="2636" y="1568"/>
                  </a:lnTo>
                  <a:close/>
                  <a:moveTo>
                    <a:pt x="2572" y="1568"/>
                  </a:moveTo>
                  <a:lnTo>
                    <a:pt x="2524" y="1568"/>
                  </a:lnTo>
                  <a:lnTo>
                    <a:pt x="2524" y="1552"/>
                  </a:lnTo>
                  <a:lnTo>
                    <a:pt x="2572" y="1552"/>
                  </a:lnTo>
                  <a:lnTo>
                    <a:pt x="2572" y="1568"/>
                  </a:lnTo>
                  <a:close/>
                  <a:moveTo>
                    <a:pt x="2508" y="1568"/>
                  </a:moveTo>
                  <a:lnTo>
                    <a:pt x="2460" y="1568"/>
                  </a:lnTo>
                  <a:lnTo>
                    <a:pt x="2460" y="1552"/>
                  </a:lnTo>
                  <a:lnTo>
                    <a:pt x="2508" y="1552"/>
                  </a:lnTo>
                  <a:lnTo>
                    <a:pt x="2508" y="1568"/>
                  </a:lnTo>
                  <a:close/>
                  <a:moveTo>
                    <a:pt x="2444" y="1568"/>
                  </a:moveTo>
                  <a:lnTo>
                    <a:pt x="2396" y="1568"/>
                  </a:lnTo>
                  <a:lnTo>
                    <a:pt x="2396" y="1552"/>
                  </a:lnTo>
                  <a:lnTo>
                    <a:pt x="2444" y="1552"/>
                  </a:lnTo>
                  <a:lnTo>
                    <a:pt x="2444" y="1568"/>
                  </a:lnTo>
                  <a:close/>
                  <a:moveTo>
                    <a:pt x="2379" y="1568"/>
                  </a:moveTo>
                  <a:lnTo>
                    <a:pt x="2331" y="1568"/>
                  </a:lnTo>
                  <a:lnTo>
                    <a:pt x="2331" y="1552"/>
                  </a:lnTo>
                  <a:lnTo>
                    <a:pt x="2379" y="1552"/>
                  </a:lnTo>
                  <a:lnTo>
                    <a:pt x="2379" y="1568"/>
                  </a:lnTo>
                  <a:close/>
                  <a:moveTo>
                    <a:pt x="2315" y="1568"/>
                  </a:moveTo>
                  <a:lnTo>
                    <a:pt x="2267" y="1568"/>
                  </a:lnTo>
                  <a:lnTo>
                    <a:pt x="2267" y="1552"/>
                  </a:lnTo>
                  <a:lnTo>
                    <a:pt x="2315" y="1552"/>
                  </a:lnTo>
                  <a:lnTo>
                    <a:pt x="2315" y="1568"/>
                  </a:lnTo>
                  <a:close/>
                  <a:moveTo>
                    <a:pt x="2251" y="1568"/>
                  </a:moveTo>
                  <a:lnTo>
                    <a:pt x="2203" y="1568"/>
                  </a:lnTo>
                  <a:lnTo>
                    <a:pt x="2203" y="1552"/>
                  </a:lnTo>
                  <a:lnTo>
                    <a:pt x="2251" y="1552"/>
                  </a:lnTo>
                  <a:lnTo>
                    <a:pt x="2251" y="1568"/>
                  </a:lnTo>
                  <a:close/>
                  <a:moveTo>
                    <a:pt x="2187" y="1568"/>
                  </a:moveTo>
                  <a:lnTo>
                    <a:pt x="2139" y="1568"/>
                  </a:lnTo>
                  <a:lnTo>
                    <a:pt x="2139" y="1552"/>
                  </a:lnTo>
                  <a:lnTo>
                    <a:pt x="2187" y="1552"/>
                  </a:lnTo>
                  <a:lnTo>
                    <a:pt x="2187" y="1568"/>
                  </a:lnTo>
                  <a:close/>
                  <a:moveTo>
                    <a:pt x="2123" y="1568"/>
                  </a:moveTo>
                  <a:lnTo>
                    <a:pt x="2075" y="1568"/>
                  </a:lnTo>
                  <a:lnTo>
                    <a:pt x="2075" y="1552"/>
                  </a:lnTo>
                  <a:lnTo>
                    <a:pt x="2123" y="1552"/>
                  </a:lnTo>
                  <a:lnTo>
                    <a:pt x="2123" y="1568"/>
                  </a:lnTo>
                  <a:close/>
                  <a:moveTo>
                    <a:pt x="2059" y="1568"/>
                  </a:moveTo>
                  <a:lnTo>
                    <a:pt x="2011" y="1568"/>
                  </a:lnTo>
                  <a:lnTo>
                    <a:pt x="2011" y="1552"/>
                  </a:lnTo>
                  <a:lnTo>
                    <a:pt x="2059" y="1552"/>
                  </a:lnTo>
                  <a:lnTo>
                    <a:pt x="2059" y="1568"/>
                  </a:lnTo>
                  <a:close/>
                  <a:moveTo>
                    <a:pt x="1995" y="1568"/>
                  </a:moveTo>
                  <a:lnTo>
                    <a:pt x="1947" y="1568"/>
                  </a:lnTo>
                  <a:lnTo>
                    <a:pt x="1947" y="1552"/>
                  </a:lnTo>
                  <a:lnTo>
                    <a:pt x="1995" y="1552"/>
                  </a:lnTo>
                  <a:lnTo>
                    <a:pt x="1995" y="1568"/>
                  </a:lnTo>
                  <a:close/>
                  <a:moveTo>
                    <a:pt x="1931" y="1568"/>
                  </a:moveTo>
                  <a:lnTo>
                    <a:pt x="1883" y="1568"/>
                  </a:lnTo>
                  <a:lnTo>
                    <a:pt x="1883" y="1552"/>
                  </a:lnTo>
                  <a:lnTo>
                    <a:pt x="1931" y="1552"/>
                  </a:lnTo>
                  <a:lnTo>
                    <a:pt x="1931" y="1568"/>
                  </a:lnTo>
                  <a:close/>
                  <a:moveTo>
                    <a:pt x="1867" y="1568"/>
                  </a:moveTo>
                  <a:lnTo>
                    <a:pt x="1819" y="1568"/>
                  </a:lnTo>
                  <a:lnTo>
                    <a:pt x="1819" y="1552"/>
                  </a:lnTo>
                  <a:lnTo>
                    <a:pt x="1867" y="1552"/>
                  </a:lnTo>
                  <a:lnTo>
                    <a:pt x="1867" y="1568"/>
                  </a:lnTo>
                  <a:close/>
                  <a:moveTo>
                    <a:pt x="1803" y="1568"/>
                  </a:moveTo>
                  <a:lnTo>
                    <a:pt x="1755" y="1568"/>
                  </a:lnTo>
                  <a:lnTo>
                    <a:pt x="1755" y="1552"/>
                  </a:lnTo>
                  <a:lnTo>
                    <a:pt x="1803" y="1552"/>
                  </a:lnTo>
                  <a:lnTo>
                    <a:pt x="1803" y="1568"/>
                  </a:lnTo>
                  <a:close/>
                  <a:moveTo>
                    <a:pt x="1739" y="1568"/>
                  </a:moveTo>
                  <a:lnTo>
                    <a:pt x="1691" y="1568"/>
                  </a:lnTo>
                  <a:lnTo>
                    <a:pt x="1691" y="1552"/>
                  </a:lnTo>
                  <a:lnTo>
                    <a:pt x="1739" y="1552"/>
                  </a:lnTo>
                  <a:lnTo>
                    <a:pt x="1739" y="1568"/>
                  </a:lnTo>
                  <a:close/>
                  <a:moveTo>
                    <a:pt x="1675" y="1568"/>
                  </a:moveTo>
                  <a:lnTo>
                    <a:pt x="1627" y="1568"/>
                  </a:lnTo>
                  <a:lnTo>
                    <a:pt x="1627" y="1552"/>
                  </a:lnTo>
                  <a:lnTo>
                    <a:pt x="1675" y="1552"/>
                  </a:lnTo>
                  <a:lnTo>
                    <a:pt x="1675" y="1568"/>
                  </a:lnTo>
                  <a:close/>
                  <a:moveTo>
                    <a:pt x="1611" y="1568"/>
                  </a:moveTo>
                  <a:lnTo>
                    <a:pt x="1563" y="1568"/>
                  </a:lnTo>
                  <a:lnTo>
                    <a:pt x="1563" y="1552"/>
                  </a:lnTo>
                  <a:lnTo>
                    <a:pt x="1611" y="1552"/>
                  </a:lnTo>
                  <a:lnTo>
                    <a:pt x="1611" y="1568"/>
                  </a:lnTo>
                  <a:close/>
                  <a:moveTo>
                    <a:pt x="1547" y="1568"/>
                  </a:moveTo>
                  <a:lnTo>
                    <a:pt x="1499" y="1568"/>
                  </a:lnTo>
                  <a:lnTo>
                    <a:pt x="1499" y="1552"/>
                  </a:lnTo>
                  <a:lnTo>
                    <a:pt x="1547" y="1552"/>
                  </a:lnTo>
                  <a:lnTo>
                    <a:pt x="1547" y="1568"/>
                  </a:lnTo>
                  <a:close/>
                  <a:moveTo>
                    <a:pt x="1483" y="1568"/>
                  </a:moveTo>
                  <a:lnTo>
                    <a:pt x="1435" y="1568"/>
                  </a:lnTo>
                  <a:lnTo>
                    <a:pt x="1435" y="1552"/>
                  </a:lnTo>
                  <a:lnTo>
                    <a:pt x="1483" y="1552"/>
                  </a:lnTo>
                  <a:lnTo>
                    <a:pt x="1483" y="1568"/>
                  </a:lnTo>
                  <a:close/>
                  <a:moveTo>
                    <a:pt x="1419" y="1568"/>
                  </a:moveTo>
                  <a:lnTo>
                    <a:pt x="1370" y="1568"/>
                  </a:lnTo>
                  <a:lnTo>
                    <a:pt x="1370" y="1552"/>
                  </a:lnTo>
                  <a:lnTo>
                    <a:pt x="1419" y="1552"/>
                  </a:lnTo>
                  <a:lnTo>
                    <a:pt x="1419" y="1568"/>
                  </a:lnTo>
                  <a:close/>
                  <a:moveTo>
                    <a:pt x="1354" y="1568"/>
                  </a:moveTo>
                  <a:lnTo>
                    <a:pt x="1306" y="1568"/>
                  </a:lnTo>
                  <a:lnTo>
                    <a:pt x="1306" y="1552"/>
                  </a:lnTo>
                  <a:lnTo>
                    <a:pt x="1354" y="1552"/>
                  </a:lnTo>
                  <a:lnTo>
                    <a:pt x="1354" y="1568"/>
                  </a:lnTo>
                  <a:close/>
                  <a:moveTo>
                    <a:pt x="1290" y="1568"/>
                  </a:moveTo>
                  <a:lnTo>
                    <a:pt x="1242" y="1568"/>
                  </a:lnTo>
                  <a:lnTo>
                    <a:pt x="1242" y="1552"/>
                  </a:lnTo>
                  <a:lnTo>
                    <a:pt x="1290" y="1552"/>
                  </a:lnTo>
                  <a:lnTo>
                    <a:pt x="1290" y="1568"/>
                  </a:lnTo>
                  <a:close/>
                  <a:moveTo>
                    <a:pt x="1226" y="1568"/>
                  </a:moveTo>
                  <a:lnTo>
                    <a:pt x="1178" y="1568"/>
                  </a:lnTo>
                  <a:lnTo>
                    <a:pt x="1178" y="1552"/>
                  </a:lnTo>
                  <a:lnTo>
                    <a:pt x="1226" y="1552"/>
                  </a:lnTo>
                  <a:lnTo>
                    <a:pt x="1226" y="1568"/>
                  </a:lnTo>
                  <a:close/>
                  <a:moveTo>
                    <a:pt x="1162" y="1568"/>
                  </a:moveTo>
                  <a:lnTo>
                    <a:pt x="1114" y="1568"/>
                  </a:lnTo>
                  <a:lnTo>
                    <a:pt x="1114" y="1552"/>
                  </a:lnTo>
                  <a:lnTo>
                    <a:pt x="1162" y="1552"/>
                  </a:lnTo>
                  <a:lnTo>
                    <a:pt x="1162" y="1568"/>
                  </a:lnTo>
                  <a:close/>
                  <a:moveTo>
                    <a:pt x="1098" y="1568"/>
                  </a:moveTo>
                  <a:lnTo>
                    <a:pt x="1050" y="1568"/>
                  </a:lnTo>
                  <a:lnTo>
                    <a:pt x="1050" y="1552"/>
                  </a:lnTo>
                  <a:lnTo>
                    <a:pt x="1098" y="1552"/>
                  </a:lnTo>
                  <a:lnTo>
                    <a:pt x="1098" y="1568"/>
                  </a:lnTo>
                  <a:close/>
                  <a:moveTo>
                    <a:pt x="1034" y="1568"/>
                  </a:moveTo>
                  <a:lnTo>
                    <a:pt x="986" y="1568"/>
                  </a:lnTo>
                  <a:lnTo>
                    <a:pt x="986" y="1552"/>
                  </a:lnTo>
                  <a:lnTo>
                    <a:pt x="1034" y="1552"/>
                  </a:lnTo>
                  <a:lnTo>
                    <a:pt x="1034" y="1568"/>
                  </a:lnTo>
                  <a:close/>
                  <a:moveTo>
                    <a:pt x="970" y="1568"/>
                  </a:moveTo>
                  <a:lnTo>
                    <a:pt x="922" y="1568"/>
                  </a:lnTo>
                  <a:lnTo>
                    <a:pt x="922" y="1552"/>
                  </a:lnTo>
                  <a:lnTo>
                    <a:pt x="970" y="1552"/>
                  </a:lnTo>
                  <a:lnTo>
                    <a:pt x="970" y="1568"/>
                  </a:lnTo>
                  <a:close/>
                  <a:moveTo>
                    <a:pt x="906" y="1568"/>
                  </a:moveTo>
                  <a:lnTo>
                    <a:pt x="858" y="1568"/>
                  </a:lnTo>
                  <a:lnTo>
                    <a:pt x="858" y="1552"/>
                  </a:lnTo>
                  <a:lnTo>
                    <a:pt x="906" y="1552"/>
                  </a:lnTo>
                  <a:lnTo>
                    <a:pt x="906" y="1568"/>
                  </a:lnTo>
                  <a:close/>
                  <a:moveTo>
                    <a:pt x="842" y="1568"/>
                  </a:moveTo>
                  <a:lnTo>
                    <a:pt x="794" y="1568"/>
                  </a:lnTo>
                  <a:lnTo>
                    <a:pt x="794" y="1552"/>
                  </a:lnTo>
                  <a:lnTo>
                    <a:pt x="842" y="1552"/>
                  </a:lnTo>
                  <a:lnTo>
                    <a:pt x="842" y="1568"/>
                  </a:lnTo>
                  <a:close/>
                  <a:moveTo>
                    <a:pt x="778" y="1568"/>
                  </a:moveTo>
                  <a:lnTo>
                    <a:pt x="730" y="1568"/>
                  </a:lnTo>
                  <a:lnTo>
                    <a:pt x="730" y="1552"/>
                  </a:lnTo>
                  <a:lnTo>
                    <a:pt x="778" y="1552"/>
                  </a:lnTo>
                  <a:lnTo>
                    <a:pt x="778" y="1568"/>
                  </a:lnTo>
                  <a:close/>
                  <a:moveTo>
                    <a:pt x="714" y="1568"/>
                  </a:moveTo>
                  <a:lnTo>
                    <a:pt x="666" y="1568"/>
                  </a:lnTo>
                  <a:lnTo>
                    <a:pt x="666" y="1552"/>
                  </a:lnTo>
                  <a:lnTo>
                    <a:pt x="714" y="1552"/>
                  </a:lnTo>
                  <a:lnTo>
                    <a:pt x="714" y="1568"/>
                  </a:lnTo>
                  <a:close/>
                  <a:moveTo>
                    <a:pt x="650" y="1568"/>
                  </a:moveTo>
                  <a:lnTo>
                    <a:pt x="602" y="1568"/>
                  </a:lnTo>
                  <a:lnTo>
                    <a:pt x="602" y="1552"/>
                  </a:lnTo>
                  <a:lnTo>
                    <a:pt x="650" y="1552"/>
                  </a:lnTo>
                  <a:lnTo>
                    <a:pt x="650" y="1568"/>
                  </a:lnTo>
                  <a:close/>
                  <a:moveTo>
                    <a:pt x="586" y="1568"/>
                  </a:moveTo>
                  <a:lnTo>
                    <a:pt x="538" y="1568"/>
                  </a:lnTo>
                  <a:lnTo>
                    <a:pt x="538" y="1552"/>
                  </a:lnTo>
                  <a:lnTo>
                    <a:pt x="586" y="1552"/>
                  </a:lnTo>
                  <a:lnTo>
                    <a:pt x="586" y="1568"/>
                  </a:lnTo>
                  <a:close/>
                  <a:moveTo>
                    <a:pt x="522" y="1568"/>
                  </a:moveTo>
                  <a:lnTo>
                    <a:pt x="474" y="1568"/>
                  </a:lnTo>
                  <a:lnTo>
                    <a:pt x="474" y="1552"/>
                  </a:lnTo>
                  <a:lnTo>
                    <a:pt x="522" y="1552"/>
                  </a:lnTo>
                  <a:lnTo>
                    <a:pt x="522" y="1568"/>
                  </a:lnTo>
                  <a:close/>
                  <a:moveTo>
                    <a:pt x="458" y="1568"/>
                  </a:moveTo>
                  <a:lnTo>
                    <a:pt x="410" y="1568"/>
                  </a:lnTo>
                  <a:lnTo>
                    <a:pt x="410" y="1552"/>
                  </a:lnTo>
                  <a:lnTo>
                    <a:pt x="458" y="1552"/>
                  </a:lnTo>
                  <a:lnTo>
                    <a:pt x="458" y="1568"/>
                  </a:lnTo>
                  <a:close/>
                  <a:moveTo>
                    <a:pt x="394" y="1568"/>
                  </a:moveTo>
                  <a:lnTo>
                    <a:pt x="345" y="1568"/>
                  </a:lnTo>
                  <a:lnTo>
                    <a:pt x="345" y="1552"/>
                  </a:lnTo>
                  <a:lnTo>
                    <a:pt x="394" y="1552"/>
                  </a:lnTo>
                  <a:lnTo>
                    <a:pt x="394" y="1568"/>
                  </a:lnTo>
                  <a:close/>
                  <a:moveTo>
                    <a:pt x="329" y="1568"/>
                  </a:moveTo>
                  <a:lnTo>
                    <a:pt x="281" y="1568"/>
                  </a:lnTo>
                  <a:lnTo>
                    <a:pt x="281" y="1552"/>
                  </a:lnTo>
                  <a:lnTo>
                    <a:pt x="329" y="1552"/>
                  </a:lnTo>
                  <a:lnTo>
                    <a:pt x="329" y="1568"/>
                  </a:lnTo>
                  <a:close/>
                  <a:moveTo>
                    <a:pt x="265" y="1568"/>
                  </a:moveTo>
                  <a:lnTo>
                    <a:pt x="217" y="1564"/>
                  </a:lnTo>
                  <a:lnTo>
                    <a:pt x="218" y="1548"/>
                  </a:lnTo>
                  <a:lnTo>
                    <a:pt x="266" y="1552"/>
                  </a:lnTo>
                  <a:lnTo>
                    <a:pt x="265" y="1568"/>
                  </a:lnTo>
                  <a:close/>
                  <a:moveTo>
                    <a:pt x="200" y="1559"/>
                  </a:moveTo>
                  <a:lnTo>
                    <a:pt x="164" y="1548"/>
                  </a:lnTo>
                  <a:cubicBezTo>
                    <a:pt x="164" y="1548"/>
                    <a:pt x="163" y="1548"/>
                    <a:pt x="163" y="1547"/>
                  </a:cubicBezTo>
                  <a:lnTo>
                    <a:pt x="153" y="1542"/>
                  </a:lnTo>
                  <a:lnTo>
                    <a:pt x="161" y="1528"/>
                  </a:lnTo>
                  <a:lnTo>
                    <a:pt x="170" y="1533"/>
                  </a:lnTo>
                  <a:lnTo>
                    <a:pt x="169" y="1533"/>
                  </a:lnTo>
                  <a:lnTo>
                    <a:pt x="205" y="1544"/>
                  </a:lnTo>
                  <a:lnTo>
                    <a:pt x="200" y="1559"/>
                  </a:lnTo>
                  <a:close/>
                  <a:moveTo>
                    <a:pt x="139" y="1535"/>
                  </a:moveTo>
                  <a:lnTo>
                    <a:pt x="119" y="1523"/>
                  </a:lnTo>
                  <a:cubicBezTo>
                    <a:pt x="118" y="1523"/>
                    <a:pt x="118" y="1523"/>
                    <a:pt x="117" y="1523"/>
                  </a:cubicBezTo>
                  <a:lnTo>
                    <a:pt x="98" y="1507"/>
                  </a:lnTo>
                  <a:lnTo>
                    <a:pt x="108" y="1495"/>
                  </a:lnTo>
                  <a:lnTo>
                    <a:pt x="128" y="1510"/>
                  </a:lnTo>
                  <a:lnTo>
                    <a:pt x="126" y="1509"/>
                  </a:lnTo>
                  <a:lnTo>
                    <a:pt x="147" y="1521"/>
                  </a:lnTo>
                  <a:lnTo>
                    <a:pt x="139" y="1535"/>
                  </a:lnTo>
                  <a:close/>
                  <a:moveTo>
                    <a:pt x="86" y="1497"/>
                  </a:moveTo>
                  <a:lnTo>
                    <a:pt x="79" y="1492"/>
                  </a:lnTo>
                  <a:cubicBezTo>
                    <a:pt x="79" y="1491"/>
                    <a:pt x="79" y="1491"/>
                    <a:pt x="78" y="1491"/>
                  </a:cubicBezTo>
                  <a:lnTo>
                    <a:pt x="53" y="1460"/>
                  </a:lnTo>
                  <a:lnTo>
                    <a:pt x="65" y="1450"/>
                  </a:lnTo>
                  <a:lnTo>
                    <a:pt x="91" y="1480"/>
                  </a:lnTo>
                  <a:lnTo>
                    <a:pt x="90" y="1479"/>
                  </a:lnTo>
                  <a:lnTo>
                    <a:pt x="96" y="1485"/>
                  </a:lnTo>
                  <a:lnTo>
                    <a:pt x="86" y="1497"/>
                  </a:lnTo>
                  <a:close/>
                  <a:moveTo>
                    <a:pt x="43" y="1446"/>
                  </a:moveTo>
                  <a:lnTo>
                    <a:pt x="21" y="1407"/>
                  </a:lnTo>
                  <a:cubicBezTo>
                    <a:pt x="21" y="1407"/>
                    <a:pt x="21" y="1406"/>
                    <a:pt x="21" y="1406"/>
                  </a:cubicBezTo>
                  <a:lnTo>
                    <a:pt x="20" y="1402"/>
                  </a:lnTo>
                  <a:lnTo>
                    <a:pt x="35" y="1397"/>
                  </a:lnTo>
                  <a:lnTo>
                    <a:pt x="36" y="1401"/>
                  </a:lnTo>
                  <a:lnTo>
                    <a:pt x="35" y="1400"/>
                  </a:lnTo>
                  <a:lnTo>
                    <a:pt x="57" y="1438"/>
                  </a:lnTo>
                  <a:lnTo>
                    <a:pt x="43" y="1446"/>
                  </a:lnTo>
                  <a:close/>
                  <a:moveTo>
                    <a:pt x="15" y="1387"/>
                  </a:moveTo>
                  <a:lnTo>
                    <a:pt x="6" y="1357"/>
                  </a:lnTo>
                  <a:cubicBezTo>
                    <a:pt x="6" y="1356"/>
                    <a:pt x="6" y="1356"/>
                    <a:pt x="5" y="1355"/>
                  </a:cubicBezTo>
                  <a:lnTo>
                    <a:pt x="4" y="1338"/>
                  </a:lnTo>
                  <a:lnTo>
                    <a:pt x="20" y="1337"/>
                  </a:lnTo>
                  <a:lnTo>
                    <a:pt x="21" y="1354"/>
                  </a:lnTo>
                  <a:lnTo>
                    <a:pt x="21" y="1352"/>
                  </a:lnTo>
                  <a:lnTo>
                    <a:pt x="30" y="1382"/>
                  </a:lnTo>
                  <a:lnTo>
                    <a:pt x="15" y="1387"/>
                  </a:lnTo>
                  <a:close/>
                  <a:moveTo>
                    <a:pt x="2" y="1322"/>
                  </a:moveTo>
                  <a:lnTo>
                    <a:pt x="0" y="1303"/>
                  </a:lnTo>
                  <a:lnTo>
                    <a:pt x="16" y="1302"/>
                  </a:lnTo>
                  <a:lnTo>
                    <a:pt x="18" y="1321"/>
                  </a:lnTo>
                  <a:lnTo>
                    <a:pt x="2" y="1322"/>
                  </a:lnTo>
                  <a:close/>
                </a:path>
              </a:pathLst>
            </a:custGeom>
            <a:solidFill>
              <a:srgbClr val="be4b48"/>
            </a:solidFill>
            <a:ln w="0">
              <a:solidFill>
                <a:srgbClr val="be4b48"/>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9" name="Rectangle 14"/>
            <p:cNvSpPr/>
            <p:nvPr/>
          </p:nvSpPr>
          <p:spPr>
            <a:xfrm>
              <a:off x="5199120" y="3236760"/>
              <a:ext cx="33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lfill</a:t>
              </a:r>
              <a:endParaRPr b="0" lang="en-US" sz="1000" spc="-1" strike="noStrike">
                <a:solidFill>
                  <a:srgbClr val="000000"/>
                </a:solidFill>
                <a:latin typeface="Times New Roman"/>
              </a:endParaRPr>
            </a:p>
          </p:txBody>
        </p:sp>
        <p:sp>
          <p:nvSpPr>
            <p:cNvPr id="480" name="Rectangle 15"/>
            <p:cNvSpPr/>
            <p:nvPr/>
          </p:nvSpPr>
          <p:spPr>
            <a:xfrm>
              <a:off x="5524200" y="323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481" name="Rectangle 16"/>
            <p:cNvSpPr/>
            <p:nvPr/>
          </p:nvSpPr>
          <p:spPr>
            <a:xfrm>
              <a:off x="5571000" y="3236760"/>
              <a:ext cx="12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a:t>
              </a:r>
              <a:endParaRPr b="0" lang="en-US" sz="1000" spc="-1" strike="noStrike">
                <a:solidFill>
                  <a:srgbClr val="000000"/>
                </a:solidFill>
                <a:latin typeface="Times New Roman"/>
              </a:endParaRPr>
            </a:p>
          </p:txBody>
        </p:sp>
        <p:sp>
          <p:nvSpPr>
            <p:cNvPr id="482" name="Rectangle 17"/>
            <p:cNvSpPr/>
            <p:nvPr/>
          </p:nvSpPr>
          <p:spPr>
            <a:xfrm>
              <a:off x="5689080" y="323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483" name="Rectangle 18"/>
            <p:cNvSpPr/>
            <p:nvPr/>
          </p:nvSpPr>
          <p:spPr>
            <a:xfrm>
              <a:off x="5753880" y="3236760"/>
              <a:ext cx="448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Times New Roman"/>
              </a:endParaRPr>
            </a:p>
          </p:txBody>
        </p:sp>
        <p:pic>
          <p:nvPicPr>
            <p:cNvPr id="484" name="Picture 19" descr=""/>
            <p:cNvPicPr/>
            <p:nvPr/>
          </p:nvPicPr>
          <p:blipFill>
            <a:blip r:embed="rId5"/>
            <a:stretch/>
          </p:blipFill>
          <p:spPr>
            <a:xfrm>
              <a:off x="1827360" y="1214280"/>
              <a:ext cx="6767280" cy="887400"/>
            </a:xfrm>
            <a:prstGeom prst="rect">
              <a:avLst/>
            </a:prstGeom>
            <a:ln w="0">
              <a:noFill/>
            </a:ln>
          </p:spPr>
        </p:pic>
        <p:pic>
          <p:nvPicPr>
            <p:cNvPr id="485" name="Picture 20" descr=""/>
            <p:cNvPicPr/>
            <p:nvPr/>
          </p:nvPicPr>
          <p:blipFill>
            <a:blip r:embed="rId6"/>
            <a:stretch/>
          </p:blipFill>
          <p:spPr>
            <a:xfrm>
              <a:off x="1827360" y="1214280"/>
              <a:ext cx="6767280" cy="887400"/>
            </a:xfrm>
            <a:prstGeom prst="rect">
              <a:avLst/>
            </a:prstGeom>
            <a:ln w="0">
              <a:noFill/>
            </a:ln>
          </p:spPr>
        </p:pic>
        <p:sp>
          <p:nvSpPr>
            <p:cNvPr id="486" name="Freeform 21"/>
            <p:cNvSpPr/>
            <p:nvPr/>
          </p:nvSpPr>
          <p:spPr>
            <a:xfrm>
              <a:off x="1879560" y="1247760"/>
              <a:ext cx="6653160" cy="782640"/>
            </a:xfrm>
            <a:custGeom>
              <a:avLst/>
              <a:gdLst>
                <a:gd name="textAreaLeft" fmla="*/ 0 w 6653160"/>
                <a:gd name="textAreaRight" fmla="*/ 6653520 w 6653160"/>
                <a:gd name="textAreaTop" fmla="*/ 0 h 782640"/>
                <a:gd name="textAreaBottom" fmla="*/ 783000 h 782640"/>
              </a:gdLst>
              <a:ahLst/>
              <a:rect l="textAreaLeft" t="textAreaTop" r="textAreaRight" b="textAreaBottom"/>
              <a:pathLst>
                <a:path w="12320" h="1552">
                  <a:moveTo>
                    <a:pt x="0" y="259"/>
                  </a:moveTo>
                  <a:cubicBezTo>
                    <a:pt x="0" y="116"/>
                    <a:pt x="116" y="0"/>
                    <a:pt x="259" y="0"/>
                  </a:cubicBezTo>
                  <a:cubicBezTo>
                    <a:pt x="259" y="0"/>
                    <a:pt x="259" y="0"/>
                    <a:pt x="259" y="0"/>
                  </a:cubicBezTo>
                  <a:lnTo>
                    <a:pt x="259" y="0"/>
                  </a:lnTo>
                  <a:lnTo>
                    <a:pt x="12062" y="0"/>
                  </a:lnTo>
                  <a:lnTo>
                    <a:pt x="12062" y="0"/>
                  </a:lnTo>
                  <a:cubicBezTo>
                    <a:pt x="12205" y="0"/>
                    <a:pt x="12320" y="116"/>
                    <a:pt x="12320" y="259"/>
                  </a:cubicBezTo>
                  <a:cubicBezTo>
                    <a:pt x="12320" y="259"/>
                    <a:pt x="12320" y="259"/>
                    <a:pt x="12320" y="259"/>
                  </a:cubicBezTo>
                  <a:lnTo>
                    <a:pt x="12320" y="259"/>
                  </a:lnTo>
                  <a:lnTo>
                    <a:pt x="12320" y="1294"/>
                  </a:lnTo>
                  <a:lnTo>
                    <a:pt x="12320" y="1294"/>
                  </a:lnTo>
                  <a:cubicBezTo>
                    <a:pt x="12320" y="1437"/>
                    <a:pt x="12205" y="1552"/>
                    <a:pt x="12062" y="1552"/>
                  </a:cubicBezTo>
                  <a:cubicBezTo>
                    <a:pt x="12062" y="1552"/>
                    <a:pt x="12062" y="1552"/>
                    <a:pt x="12062" y="1552"/>
                  </a:cubicBezTo>
                  <a:lnTo>
                    <a:pt x="12062" y="1552"/>
                  </a:lnTo>
                  <a:lnTo>
                    <a:pt x="259" y="1552"/>
                  </a:lnTo>
                  <a:lnTo>
                    <a:pt x="259" y="1552"/>
                  </a:lnTo>
                  <a:cubicBezTo>
                    <a:pt x="116" y="1552"/>
                    <a:pt x="0" y="1437"/>
                    <a:pt x="0" y="1294"/>
                  </a:cubicBezTo>
                  <a:cubicBezTo>
                    <a:pt x="0" y="1294"/>
                    <a:pt x="0" y="1294"/>
                    <a:pt x="0" y="1294"/>
                  </a:cubicBezTo>
                  <a:lnTo>
                    <a:pt x="0" y="259"/>
                  </a:lnTo>
                  <a:close/>
                </a:path>
              </a:pathLst>
            </a:custGeom>
            <a:solidFill>
              <a:srgbClr val="f2f2f2"/>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7" name="Freeform 22"/>
            <p:cNvSpPr/>
            <p:nvPr/>
          </p:nvSpPr>
          <p:spPr>
            <a:xfrm>
              <a:off x="1874880" y="1243080"/>
              <a:ext cx="6662520" cy="790560"/>
            </a:xfrm>
            <a:custGeom>
              <a:avLst/>
              <a:gdLst>
                <a:gd name="textAreaLeft" fmla="*/ 0 w 6662520"/>
                <a:gd name="textAreaRight" fmla="*/ 6662880 w 6662520"/>
                <a:gd name="textAreaTop" fmla="*/ 0 h 790560"/>
                <a:gd name="textAreaBottom" fmla="*/ 790920 h 790560"/>
              </a:gdLst>
              <a:ahLst/>
              <a:rect l="textAreaLeft" t="textAreaTop" r="textAreaRight" b="textAreaBottom"/>
              <a:pathLst>
                <a:path w="12336" h="1568">
                  <a:moveTo>
                    <a:pt x="0" y="1302"/>
                  </a:moveTo>
                  <a:lnTo>
                    <a:pt x="0" y="1254"/>
                  </a:lnTo>
                  <a:lnTo>
                    <a:pt x="16" y="1254"/>
                  </a:lnTo>
                  <a:lnTo>
                    <a:pt x="16" y="1302"/>
                  </a:lnTo>
                  <a:lnTo>
                    <a:pt x="0" y="1302"/>
                  </a:lnTo>
                  <a:close/>
                  <a:moveTo>
                    <a:pt x="0" y="1238"/>
                  </a:moveTo>
                  <a:lnTo>
                    <a:pt x="0" y="1190"/>
                  </a:lnTo>
                  <a:lnTo>
                    <a:pt x="16" y="1190"/>
                  </a:lnTo>
                  <a:lnTo>
                    <a:pt x="16" y="1238"/>
                  </a:lnTo>
                  <a:lnTo>
                    <a:pt x="0" y="1238"/>
                  </a:lnTo>
                  <a:close/>
                  <a:moveTo>
                    <a:pt x="0" y="1174"/>
                  </a:moveTo>
                  <a:lnTo>
                    <a:pt x="0" y="1126"/>
                  </a:lnTo>
                  <a:lnTo>
                    <a:pt x="16" y="1126"/>
                  </a:lnTo>
                  <a:lnTo>
                    <a:pt x="16" y="1174"/>
                  </a:lnTo>
                  <a:lnTo>
                    <a:pt x="0" y="1174"/>
                  </a:lnTo>
                  <a:close/>
                  <a:moveTo>
                    <a:pt x="0" y="1110"/>
                  </a:moveTo>
                  <a:lnTo>
                    <a:pt x="0" y="1062"/>
                  </a:lnTo>
                  <a:lnTo>
                    <a:pt x="16" y="1062"/>
                  </a:lnTo>
                  <a:lnTo>
                    <a:pt x="16" y="1110"/>
                  </a:lnTo>
                  <a:lnTo>
                    <a:pt x="0" y="1110"/>
                  </a:lnTo>
                  <a:close/>
                  <a:moveTo>
                    <a:pt x="0" y="1046"/>
                  </a:moveTo>
                  <a:lnTo>
                    <a:pt x="0" y="998"/>
                  </a:lnTo>
                  <a:lnTo>
                    <a:pt x="16" y="998"/>
                  </a:lnTo>
                  <a:lnTo>
                    <a:pt x="16" y="1046"/>
                  </a:lnTo>
                  <a:lnTo>
                    <a:pt x="0" y="1046"/>
                  </a:lnTo>
                  <a:close/>
                  <a:moveTo>
                    <a:pt x="0" y="982"/>
                  </a:moveTo>
                  <a:lnTo>
                    <a:pt x="0" y="934"/>
                  </a:lnTo>
                  <a:lnTo>
                    <a:pt x="16" y="934"/>
                  </a:lnTo>
                  <a:lnTo>
                    <a:pt x="16" y="982"/>
                  </a:lnTo>
                  <a:lnTo>
                    <a:pt x="0" y="982"/>
                  </a:lnTo>
                  <a:close/>
                  <a:moveTo>
                    <a:pt x="0" y="918"/>
                  </a:moveTo>
                  <a:lnTo>
                    <a:pt x="0" y="870"/>
                  </a:lnTo>
                  <a:lnTo>
                    <a:pt x="16" y="870"/>
                  </a:lnTo>
                  <a:lnTo>
                    <a:pt x="16" y="918"/>
                  </a:lnTo>
                  <a:lnTo>
                    <a:pt x="0" y="918"/>
                  </a:lnTo>
                  <a:close/>
                  <a:moveTo>
                    <a:pt x="0" y="854"/>
                  </a:moveTo>
                  <a:lnTo>
                    <a:pt x="0" y="806"/>
                  </a:lnTo>
                  <a:lnTo>
                    <a:pt x="16" y="806"/>
                  </a:lnTo>
                  <a:lnTo>
                    <a:pt x="16" y="854"/>
                  </a:lnTo>
                  <a:lnTo>
                    <a:pt x="0" y="854"/>
                  </a:lnTo>
                  <a:close/>
                  <a:moveTo>
                    <a:pt x="0" y="790"/>
                  </a:moveTo>
                  <a:lnTo>
                    <a:pt x="0" y="742"/>
                  </a:lnTo>
                  <a:lnTo>
                    <a:pt x="16" y="742"/>
                  </a:lnTo>
                  <a:lnTo>
                    <a:pt x="16" y="790"/>
                  </a:lnTo>
                  <a:lnTo>
                    <a:pt x="0" y="790"/>
                  </a:lnTo>
                  <a:close/>
                  <a:moveTo>
                    <a:pt x="0" y="726"/>
                  </a:moveTo>
                  <a:lnTo>
                    <a:pt x="0" y="678"/>
                  </a:lnTo>
                  <a:lnTo>
                    <a:pt x="16" y="678"/>
                  </a:lnTo>
                  <a:lnTo>
                    <a:pt x="16" y="726"/>
                  </a:lnTo>
                  <a:lnTo>
                    <a:pt x="0" y="726"/>
                  </a:lnTo>
                  <a:close/>
                  <a:moveTo>
                    <a:pt x="0" y="662"/>
                  </a:moveTo>
                  <a:lnTo>
                    <a:pt x="0" y="614"/>
                  </a:lnTo>
                  <a:lnTo>
                    <a:pt x="16" y="614"/>
                  </a:lnTo>
                  <a:lnTo>
                    <a:pt x="16" y="662"/>
                  </a:lnTo>
                  <a:lnTo>
                    <a:pt x="0" y="662"/>
                  </a:lnTo>
                  <a:close/>
                  <a:moveTo>
                    <a:pt x="0" y="598"/>
                  </a:moveTo>
                  <a:lnTo>
                    <a:pt x="0" y="550"/>
                  </a:lnTo>
                  <a:lnTo>
                    <a:pt x="16" y="550"/>
                  </a:lnTo>
                  <a:lnTo>
                    <a:pt x="16" y="598"/>
                  </a:lnTo>
                  <a:lnTo>
                    <a:pt x="0" y="598"/>
                  </a:lnTo>
                  <a:close/>
                  <a:moveTo>
                    <a:pt x="0" y="534"/>
                  </a:moveTo>
                  <a:lnTo>
                    <a:pt x="0" y="486"/>
                  </a:lnTo>
                  <a:lnTo>
                    <a:pt x="16" y="486"/>
                  </a:lnTo>
                  <a:lnTo>
                    <a:pt x="16" y="534"/>
                  </a:lnTo>
                  <a:lnTo>
                    <a:pt x="0" y="534"/>
                  </a:lnTo>
                  <a:close/>
                  <a:moveTo>
                    <a:pt x="0" y="470"/>
                  </a:moveTo>
                  <a:lnTo>
                    <a:pt x="0" y="422"/>
                  </a:lnTo>
                  <a:lnTo>
                    <a:pt x="16" y="422"/>
                  </a:lnTo>
                  <a:lnTo>
                    <a:pt x="16" y="470"/>
                  </a:lnTo>
                  <a:lnTo>
                    <a:pt x="0" y="470"/>
                  </a:lnTo>
                  <a:close/>
                  <a:moveTo>
                    <a:pt x="0" y="406"/>
                  </a:moveTo>
                  <a:lnTo>
                    <a:pt x="0" y="357"/>
                  </a:lnTo>
                  <a:lnTo>
                    <a:pt x="16" y="357"/>
                  </a:lnTo>
                  <a:lnTo>
                    <a:pt x="16" y="406"/>
                  </a:lnTo>
                  <a:lnTo>
                    <a:pt x="0" y="406"/>
                  </a:lnTo>
                  <a:close/>
                  <a:moveTo>
                    <a:pt x="0" y="341"/>
                  </a:moveTo>
                  <a:lnTo>
                    <a:pt x="0" y="293"/>
                  </a:lnTo>
                  <a:lnTo>
                    <a:pt x="16" y="293"/>
                  </a:lnTo>
                  <a:lnTo>
                    <a:pt x="16" y="341"/>
                  </a:lnTo>
                  <a:lnTo>
                    <a:pt x="0" y="341"/>
                  </a:lnTo>
                  <a:close/>
                  <a:moveTo>
                    <a:pt x="0" y="277"/>
                  </a:moveTo>
                  <a:lnTo>
                    <a:pt x="0" y="267"/>
                  </a:lnTo>
                  <a:lnTo>
                    <a:pt x="4" y="229"/>
                  </a:lnTo>
                  <a:lnTo>
                    <a:pt x="20" y="230"/>
                  </a:lnTo>
                  <a:lnTo>
                    <a:pt x="16" y="267"/>
                  </a:lnTo>
                  <a:lnTo>
                    <a:pt x="16" y="277"/>
                  </a:lnTo>
                  <a:lnTo>
                    <a:pt x="0" y="277"/>
                  </a:lnTo>
                  <a:close/>
                  <a:moveTo>
                    <a:pt x="6" y="211"/>
                  </a:moveTo>
                  <a:lnTo>
                    <a:pt x="20" y="165"/>
                  </a:lnTo>
                  <a:lnTo>
                    <a:pt x="36" y="170"/>
                  </a:lnTo>
                  <a:lnTo>
                    <a:pt x="22" y="216"/>
                  </a:lnTo>
                  <a:lnTo>
                    <a:pt x="6" y="211"/>
                  </a:lnTo>
                  <a:close/>
                  <a:moveTo>
                    <a:pt x="28" y="150"/>
                  </a:moveTo>
                  <a:lnTo>
                    <a:pt x="45" y="119"/>
                  </a:lnTo>
                  <a:cubicBezTo>
                    <a:pt x="46" y="118"/>
                    <a:pt x="46" y="118"/>
                    <a:pt x="46" y="117"/>
                  </a:cubicBezTo>
                  <a:lnTo>
                    <a:pt x="54" y="108"/>
                  </a:lnTo>
                  <a:lnTo>
                    <a:pt x="67" y="118"/>
                  </a:lnTo>
                  <a:lnTo>
                    <a:pt x="59" y="128"/>
                  </a:lnTo>
                  <a:lnTo>
                    <a:pt x="59" y="126"/>
                  </a:lnTo>
                  <a:lnTo>
                    <a:pt x="43" y="157"/>
                  </a:lnTo>
                  <a:lnTo>
                    <a:pt x="28" y="150"/>
                  </a:lnTo>
                  <a:close/>
                  <a:moveTo>
                    <a:pt x="65" y="95"/>
                  </a:moveTo>
                  <a:lnTo>
                    <a:pt x="78" y="79"/>
                  </a:lnTo>
                  <a:cubicBezTo>
                    <a:pt x="79" y="79"/>
                    <a:pt x="79" y="79"/>
                    <a:pt x="79" y="78"/>
                  </a:cubicBezTo>
                  <a:lnTo>
                    <a:pt x="100" y="61"/>
                  </a:lnTo>
                  <a:lnTo>
                    <a:pt x="110" y="73"/>
                  </a:lnTo>
                  <a:lnTo>
                    <a:pt x="90" y="91"/>
                  </a:lnTo>
                  <a:lnTo>
                    <a:pt x="91" y="90"/>
                  </a:lnTo>
                  <a:lnTo>
                    <a:pt x="77" y="106"/>
                  </a:lnTo>
                  <a:lnTo>
                    <a:pt x="65" y="95"/>
                  </a:lnTo>
                  <a:close/>
                  <a:moveTo>
                    <a:pt x="112" y="51"/>
                  </a:moveTo>
                  <a:lnTo>
                    <a:pt x="117" y="46"/>
                  </a:lnTo>
                  <a:cubicBezTo>
                    <a:pt x="118" y="46"/>
                    <a:pt x="118" y="46"/>
                    <a:pt x="119" y="45"/>
                  </a:cubicBezTo>
                  <a:lnTo>
                    <a:pt x="155" y="26"/>
                  </a:lnTo>
                  <a:lnTo>
                    <a:pt x="163" y="40"/>
                  </a:lnTo>
                  <a:lnTo>
                    <a:pt x="126" y="59"/>
                  </a:lnTo>
                  <a:lnTo>
                    <a:pt x="128" y="59"/>
                  </a:lnTo>
                  <a:lnTo>
                    <a:pt x="123" y="63"/>
                  </a:lnTo>
                  <a:lnTo>
                    <a:pt x="112" y="51"/>
                  </a:lnTo>
                  <a:close/>
                  <a:moveTo>
                    <a:pt x="171" y="19"/>
                  </a:moveTo>
                  <a:lnTo>
                    <a:pt x="213" y="6"/>
                  </a:lnTo>
                  <a:cubicBezTo>
                    <a:pt x="214" y="6"/>
                    <a:pt x="214" y="6"/>
                    <a:pt x="215" y="5"/>
                  </a:cubicBezTo>
                  <a:lnTo>
                    <a:pt x="219" y="5"/>
                  </a:lnTo>
                  <a:lnTo>
                    <a:pt x="220" y="21"/>
                  </a:lnTo>
                  <a:lnTo>
                    <a:pt x="216" y="21"/>
                  </a:lnTo>
                  <a:lnTo>
                    <a:pt x="218" y="21"/>
                  </a:lnTo>
                  <a:lnTo>
                    <a:pt x="176" y="34"/>
                  </a:lnTo>
                  <a:lnTo>
                    <a:pt x="171" y="19"/>
                  </a:lnTo>
                  <a:close/>
                  <a:moveTo>
                    <a:pt x="235" y="4"/>
                  </a:moveTo>
                  <a:lnTo>
                    <a:pt x="267" y="0"/>
                  </a:lnTo>
                  <a:lnTo>
                    <a:pt x="268" y="16"/>
                  </a:lnTo>
                  <a:lnTo>
                    <a:pt x="236" y="19"/>
                  </a:lnTo>
                  <a:lnTo>
                    <a:pt x="235" y="4"/>
                  </a:lnTo>
                  <a:close/>
                  <a:moveTo>
                    <a:pt x="267" y="0"/>
                  </a:moveTo>
                  <a:lnTo>
                    <a:pt x="283" y="0"/>
                  </a:lnTo>
                  <a:lnTo>
                    <a:pt x="283" y="16"/>
                  </a:lnTo>
                  <a:lnTo>
                    <a:pt x="267" y="16"/>
                  </a:lnTo>
                  <a:lnTo>
                    <a:pt x="267" y="0"/>
                  </a:lnTo>
                  <a:close/>
                  <a:moveTo>
                    <a:pt x="299" y="0"/>
                  </a:moveTo>
                  <a:lnTo>
                    <a:pt x="347" y="0"/>
                  </a:lnTo>
                  <a:lnTo>
                    <a:pt x="347" y="16"/>
                  </a:lnTo>
                  <a:lnTo>
                    <a:pt x="299" y="16"/>
                  </a:lnTo>
                  <a:lnTo>
                    <a:pt x="299" y="0"/>
                  </a:lnTo>
                  <a:close/>
                  <a:moveTo>
                    <a:pt x="363" y="0"/>
                  </a:moveTo>
                  <a:lnTo>
                    <a:pt x="411" y="0"/>
                  </a:lnTo>
                  <a:lnTo>
                    <a:pt x="411" y="16"/>
                  </a:lnTo>
                  <a:lnTo>
                    <a:pt x="363" y="16"/>
                  </a:lnTo>
                  <a:lnTo>
                    <a:pt x="363" y="0"/>
                  </a:lnTo>
                  <a:close/>
                  <a:moveTo>
                    <a:pt x="428" y="0"/>
                  </a:moveTo>
                  <a:lnTo>
                    <a:pt x="476" y="0"/>
                  </a:lnTo>
                  <a:lnTo>
                    <a:pt x="476" y="16"/>
                  </a:lnTo>
                  <a:lnTo>
                    <a:pt x="428" y="16"/>
                  </a:lnTo>
                  <a:lnTo>
                    <a:pt x="428" y="0"/>
                  </a:lnTo>
                  <a:close/>
                  <a:moveTo>
                    <a:pt x="492" y="0"/>
                  </a:moveTo>
                  <a:lnTo>
                    <a:pt x="540" y="0"/>
                  </a:lnTo>
                  <a:lnTo>
                    <a:pt x="540" y="16"/>
                  </a:lnTo>
                  <a:lnTo>
                    <a:pt x="492" y="16"/>
                  </a:lnTo>
                  <a:lnTo>
                    <a:pt x="492" y="0"/>
                  </a:lnTo>
                  <a:close/>
                  <a:moveTo>
                    <a:pt x="556" y="0"/>
                  </a:moveTo>
                  <a:lnTo>
                    <a:pt x="604" y="0"/>
                  </a:lnTo>
                  <a:lnTo>
                    <a:pt x="604" y="16"/>
                  </a:lnTo>
                  <a:lnTo>
                    <a:pt x="556" y="16"/>
                  </a:lnTo>
                  <a:lnTo>
                    <a:pt x="556" y="0"/>
                  </a:lnTo>
                  <a:close/>
                  <a:moveTo>
                    <a:pt x="620" y="0"/>
                  </a:moveTo>
                  <a:lnTo>
                    <a:pt x="668" y="0"/>
                  </a:lnTo>
                  <a:lnTo>
                    <a:pt x="668" y="16"/>
                  </a:lnTo>
                  <a:lnTo>
                    <a:pt x="620" y="16"/>
                  </a:lnTo>
                  <a:lnTo>
                    <a:pt x="620" y="0"/>
                  </a:lnTo>
                  <a:close/>
                  <a:moveTo>
                    <a:pt x="684" y="0"/>
                  </a:moveTo>
                  <a:lnTo>
                    <a:pt x="732" y="0"/>
                  </a:lnTo>
                  <a:lnTo>
                    <a:pt x="732" y="16"/>
                  </a:lnTo>
                  <a:lnTo>
                    <a:pt x="684" y="16"/>
                  </a:lnTo>
                  <a:lnTo>
                    <a:pt x="684" y="0"/>
                  </a:lnTo>
                  <a:close/>
                  <a:moveTo>
                    <a:pt x="748" y="0"/>
                  </a:moveTo>
                  <a:lnTo>
                    <a:pt x="796" y="0"/>
                  </a:lnTo>
                  <a:lnTo>
                    <a:pt x="796" y="16"/>
                  </a:lnTo>
                  <a:lnTo>
                    <a:pt x="748" y="16"/>
                  </a:lnTo>
                  <a:lnTo>
                    <a:pt x="748" y="0"/>
                  </a:lnTo>
                  <a:close/>
                  <a:moveTo>
                    <a:pt x="812" y="0"/>
                  </a:moveTo>
                  <a:lnTo>
                    <a:pt x="860" y="0"/>
                  </a:lnTo>
                  <a:lnTo>
                    <a:pt x="860" y="16"/>
                  </a:lnTo>
                  <a:lnTo>
                    <a:pt x="812" y="16"/>
                  </a:lnTo>
                  <a:lnTo>
                    <a:pt x="812" y="0"/>
                  </a:lnTo>
                  <a:close/>
                  <a:moveTo>
                    <a:pt x="876" y="0"/>
                  </a:moveTo>
                  <a:lnTo>
                    <a:pt x="924" y="0"/>
                  </a:lnTo>
                  <a:lnTo>
                    <a:pt x="924" y="16"/>
                  </a:lnTo>
                  <a:lnTo>
                    <a:pt x="876" y="16"/>
                  </a:lnTo>
                  <a:lnTo>
                    <a:pt x="876" y="0"/>
                  </a:lnTo>
                  <a:close/>
                  <a:moveTo>
                    <a:pt x="940" y="0"/>
                  </a:moveTo>
                  <a:lnTo>
                    <a:pt x="988" y="0"/>
                  </a:lnTo>
                  <a:lnTo>
                    <a:pt x="988" y="16"/>
                  </a:lnTo>
                  <a:lnTo>
                    <a:pt x="940" y="16"/>
                  </a:lnTo>
                  <a:lnTo>
                    <a:pt x="940" y="0"/>
                  </a:lnTo>
                  <a:close/>
                  <a:moveTo>
                    <a:pt x="1004" y="0"/>
                  </a:moveTo>
                  <a:lnTo>
                    <a:pt x="1052" y="0"/>
                  </a:lnTo>
                  <a:lnTo>
                    <a:pt x="1052" y="16"/>
                  </a:lnTo>
                  <a:lnTo>
                    <a:pt x="1004" y="16"/>
                  </a:lnTo>
                  <a:lnTo>
                    <a:pt x="1004" y="0"/>
                  </a:lnTo>
                  <a:close/>
                  <a:moveTo>
                    <a:pt x="1068" y="0"/>
                  </a:moveTo>
                  <a:lnTo>
                    <a:pt x="1116" y="0"/>
                  </a:lnTo>
                  <a:lnTo>
                    <a:pt x="1116" y="16"/>
                  </a:lnTo>
                  <a:lnTo>
                    <a:pt x="1068" y="16"/>
                  </a:lnTo>
                  <a:lnTo>
                    <a:pt x="1068" y="0"/>
                  </a:lnTo>
                  <a:close/>
                  <a:moveTo>
                    <a:pt x="1132" y="0"/>
                  </a:moveTo>
                  <a:lnTo>
                    <a:pt x="1180" y="0"/>
                  </a:lnTo>
                  <a:lnTo>
                    <a:pt x="1180" y="16"/>
                  </a:lnTo>
                  <a:lnTo>
                    <a:pt x="1132" y="16"/>
                  </a:lnTo>
                  <a:lnTo>
                    <a:pt x="1132" y="0"/>
                  </a:lnTo>
                  <a:close/>
                  <a:moveTo>
                    <a:pt x="1196" y="0"/>
                  </a:moveTo>
                  <a:lnTo>
                    <a:pt x="1244" y="0"/>
                  </a:lnTo>
                  <a:lnTo>
                    <a:pt x="1244" y="16"/>
                  </a:lnTo>
                  <a:lnTo>
                    <a:pt x="1196" y="16"/>
                  </a:lnTo>
                  <a:lnTo>
                    <a:pt x="1196" y="0"/>
                  </a:lnTo>
                  <a:close/>
                  <a:moveTo>
                    <a:pt x="1260" y="0"/>
                  </a:moveTo>
                  <a:lnTo>
                    <a:pt x="1308" y="0"/>
                  </a:lnTo>
                  <a:lnTo>
                    <a:pt x="1308" y="16"/>
                  </a:lnTo>
                  <a:lnTo>
                    <a:pt x="1260" y="16"/>
                  </a:lnTo>
                  <a:lnTo>
                    <a:pt x="1260" y="0"/>
                  </a:lnTo>
                  <a:close/>
                  <a:moveTo>
                    <a:pt x="1324" y="0"/>
                  </a:moveTo>
                  <a:lnTo>
                    <a:pt x="1372" y="0"/>
                  </a:lnTo>
                  <a:lnTo>
                    <a:pt x="1372" y="16"/>
                  </a:lnTo>
                  <a:lnTo>
                    <a:pt x="1324" y="16"/>
                  </a:lnTo>
                  <a:lnTo>
                    <a:pt x="1324" y="0"/>
                  </a:lnTo>
                  <a:close/>
                  <a:moveTo>
                    <a:pt x="1388" y="0"/>
                  </a:moveTo>
                  <a:lnTo>
                    <a:pt x="1437" y="0"/>
                  </a:lnTo>
                  <a:lnTo>
                    <a:pt x="1437" y="16"/>
                  </a:lnTo>
                  <a:lnTo>
                    <a:pt x="1388" y="16"/>
                  </a:lnTo>
                  <a:lnTo>
                    <a:pt x="1388" y="0"/>
                  </a:lnTo>
                  <a:close/>
                  <a:moveTo>
                    <a:pt x="1453" y="0"/>
                  </a:moveTo>
                  <a:lnTo>
                    <a:pt x="1501" y="0"/>
                  </a:lnTo>
                  <a:lnTo>
                    <a:pt x="1501" y="16"/>
                  </a:lnTo>
                  <a:lnTo>
                    <a:pt x="1453" y="16"/>
                  </a:lnTo>
                  <a:lnTo>
                    <a:pt x="1453" y="0"/>
                  </a:lnTo>
                  <a:close/>
                  <a:moveTo>
                    <a:pt x="1517" y="0"/>
                  </a:moveTo>
                  <a:lnTo>
                    <a:pt x="1565" y="0"/>
                  </a:lnTo>
                  <a:lnTo>
                    <a:pt x="1565" y="16"/>
                  </a:lnTo>
                  <a:lnTo>
                    <a:pt x="1517" y="16"/>
                  </a:lnTo>
                  <a:lnTo>
                    <a:pt x="1517" y="0"/>
                  </a:lnTo>
                  <a:close/>
                  <a:moveTo>
                    <a:pt x="1581" y="0"/>
                  </a:moveTo>
                  <a:lnTo>
                    <a:pt x="1629" y="0"/>
                  </a:lnTo>
                  <a:lnTo>
                    <a:pt x="1629" y="16"/>
                  </a:lnTo>
                  <a:lnTo>
                    <a:pt x="1581" y="16"/>
                  </a:lnTo>
                  <a:lnTo>
                    <a:pt x="1581" y="0"/>
                  </a:lnTo>
                  <a:close/>
                  <a:moveTo>
                    <a:pt x="1645" y="0"/>
                  </a:moveTo>
                  <a:lnTo>
                    <a:pt x="1693" y="0"/>
                  </a:lnTo>
                  <a:lnTo>
                    <a:pt x="1693" y="16"/>
                  </a:lnTo>
                  <a:lnTo>
                    <a:pt x="1645" y="16"/>
                  </a:lnTo>
                  <a:lnTo>
                    <a:pt x="1645" y="0"/>
                  </a:lnTo>
                  <a:close/>
                  <a:moveTo>
                    <a:pt x="1709" y="0"/>
                  </a:moveTo>
                  <a:lnTo>
                    <a:pt x="1757" y="0"/>
                  </a:lnTo>
                  <a:lnTo>
                    <a:pt x="1757" y="16"/>
                  </a:lnTo>
                  <a:lnTo>
                    <a:pt x="1709" y="16"/>
                  </a:lnTo>
                  <a:lnTo>
                    <a:pt x="1709" y="0"/>
                  </a:lnTo>
                  <a:close/>
                  <a:moveTo>
                    <a:pt x="1773" y="0"/>
                  </a:moveTo>
                  <a:lnTo>
                    <a:pt x="1821" y="0"/>
                  </a:lnTo>
                  <a:lnTo>
                    <a:pt x="1821" y="16"/>
                  </a:lnTo>
                  <a:lnTo>
                    <a:pt x="1773" y="16"/>
                  </a:lnTo>
                  <a:lnTo>
                    <a:pt x="1773" y="0"/>
                  </a:lnTo>
                  <a:close/>
                  <a:moveTo>
                    <a:pt x="1837" y="0"/>
                  </a:moveTo>
                  <a:lnTo>
                    <a:pt x="1885" y="0"/>
                  </a:lnTo>
                  <a:lnTo>
                    <a:pt x="1885" y="16"/>
                  </a:lnTo>
                  <a:lnTo>
                    <a:pt x="1837" y="16"/>
                  </a:lnTo>
                  <a:lnTo>
                    <a:pt x="1837" y="0"/>
                  </a:lnTo>
                  <a:close/>
                  <a:moveTo>
                    <a:pt x="1901" y="0"/>
                  </a:moveTo>
                  <a:lnTo>
                    <a:pt x="1949" y="0"/>
                  </a:lnTo>
                  <a:lnTo>
                    <a:pt x="1949" y="16"/>
                  </a:lnTo>
                  <a:lnTo>
                    <a:pt x="1901" y="16"/>
                  </a:lnTo>
                  <a:lnTo>
                    <a:pt x="1901" y="0"/>
                  </a:lnTo>
                  <a:close/>
                  <a:moveTo>
                    <a:pt x="1965" y="0"/>
                  </a:moveTo>
                  <a:lnTo>
                    <a:pt x="2013" y="0"/>
                  </a:lnTo>
                  <a:lnTo>
                    <a:pt x="2013" y="16"/>
                  </a:lnTo>
                  <a:lnTo>
                    <a:pt x="1965" y="16"/>
                  </a:lnTo>
                  <a:lnTo>
                    <a:pt x="1965" y="0"/>
                  </a:lnTo>
                  <a:close/>
                  <a:moveTo>
                    <a:pt x="2029" y="0"/>
                  </a:moveTo>
                  <a:lnTo>
                    <a:pt x="2077" y="0"/>
                  </a:lnTo>
                  <a:lnTo>
                    <a:pt x="2077" y="16"/>
                  </a:lnTo>
                  <a:lnTo>
                    <a:pt x="2029" y="16"/>
                  </a:lnTo>
                  <a:lnTo>
                    <a:pt x="2029" y="0"/>
                  </a:lnTo>
                  <a:close/>
                  <a:moveTo>
                    <a:pt x="2093" y="0"/>
                  </a:moveTo>
                  <a:lnTo>
                    <a:pt x="2141" y="0"/>
                  </a:lnTo>
                  <a:lnTo>
                    <a:pt x="2141" y="16"/>
                  </a:lnTo>
                  <a:lnTo>
                    <a:pt x="2093" y="16"/>
                  </a:lnTo>
                  <a:lnTo>
                    <a:pt x="2093" y="0"/>
                  </a:lnTo>
                  <a:close/>
                  <a:moveTo>
                    <a:pt x="2157" y="0"/>
                  </a:moveTo>
                  <a:lnTo>
                    <a:pt x="2205" y="0"/>
                  </a:lnTo>
                  <a:lnTo>
                    <a:pt x="2205" y="16"/>
                  </a:lnTo>
                  <a:lnTo>
                    <a:pt x="2157" y="16"/>
                  </a:lnTo>
                  <a:lnTo>
                    <a:pt x="2157" y="0"/>
                  </a:lnTo>
                  <a:close/>
                  <a:moveTo>
                    <a:pt x="2221" y="0"/>
                  </a:moveTo>
                  <a:lnTo>
                    <a:pt x="2269" y="0"/>
                  </a:lnTo>
                  <a:lnTo>
                    <a:pt x="2269" y="16"/>
                  </a:lnTo>
                  <a:lnTo>
                    <a:pt x="2221" y="16"/>
                  </a:lnTo>
                  <a:lnTo>
                    <a:pt x="2221" y="0"/>
                  </a:lnTo>
                  <a:close/>
                  <a:moveTo>
                    <a:pt x="2285" y="0"/>
                  </a:moveTo>
                  <a:lnTo>
                    <a:pt x="2333" y="0"/>
                  </a:lnTo>
                  <a:lnTo>
                    <a:pt x="2333" y="16"/>
                  </a:lnTo>
                  <a:lnTo>
                    <a:pt x="2285" y="16"/>
                  </a:lnTo>
                  <a:lnTo>
                    <a:pt x="2285" y="0"/>
                  </a:lnTo>
                  <a:close/>
                  <a:moveTo>
                    <a:pt x="2349" y="0"/>
                  </a:moveTo>
                  <a:lnTo>
                    <a:pt x="2397" y="0"/>
                  </a:lnTo>
                  <a:lnTo>
                    <a:pt x="2397" y="16"/>
                  </a:lnTo>
                  <a:lnTo>
                    <a:pt x="2349" y="16"/>
                  </a:lnTo>
                  <a:lnTo>
                    <a:pt x="2349" y="0"/>
                  </a:lnTo>
                  <a:close/>
                  <a:moveTo>
                    <a:pt x="2413" y="0"/>
                  </a:moveTo>
                  <a:lnTo>
                    <a:pt x="2462" y="0"/>
                  </a:lnTo>
                  <a:lnTo>
                    <a:pt x="2462" y="16"/>
                  </a:lnTo>
                  <a:lnTo>
                    <a:pt x="2413" y="16"/>
                  </a:lnTo>
                  <a:lnTo>
                    <a:pt x="2413" y="0"/>
                  </a:lnTo>
                  <a:close/>
                  <a:moveTo>
                    <a:pt x="2478" y="0"/>
                  </a:moveTo>
                  <a:lnTo>
                    <a:pt x="2526" y="0"/>
                  </a:lnTo>
                  <a:lnTo>
                    <a:pt x="2526" y="16"/>
                  </a:lnTo>
                  <a:lnTo>
                    <a:pt x="2478" y="16"/>
                  </a:lnTo>
                  <a:lnTo>
                    <a:pt x="2478" y="0"/>
                  </a:lnTo>
                  <a:close/>
                  <a:moveTo>
                    <a:pt x="2542" y="0"/>
                  </a:moveTo>
                  <a:lnTo>
                    <a:pt x="2590" y="0"/>
                  </a:lnTo>
                  <a:lnTo>
                    <a:pt x="2590" y="16"/>
                  </a:lnTo>
                  <a:lnTo>
                    <a:pt x="2542" y="16"/>
                  </a:lnTo>
                  <a:lnTo>
                    <a:pt x="2542" y="0"/>
                  </a:lnTo>
                  <a:close/>
                  <a:moveTo>
                    <a:pt x="2606" y="0"/>
                  </a:moveTo>
                  <a:lnTo>
                    <a:pt x="2654" y="0"/>
                  </a:lnTo>
                  <a:lnTo>
                    <a:pt x="2654" y="16"/>
                  </a:lnTo>
                  <a:lnTo>
                    <a:pt x="2606" y="16"/>
                  </a:lnTo>
                  <a:lnTo>
                    <a:pt x="2606" y="0"/>
                  </a:lnTo>
                  <a:close/>
                  <a:moveTo>
                    <a:pt x="2670" y="0"/>
                  </a:moveTo>
                  <a:lnTo>
                    <a:pt x="2718" y="0"/>
                  </a:lnTo>
                  <a:lnTo>
                    <a:pt x="2718" y="16"/>
                  </a:lnTo>
                  <a:lnTo>
                    <a:pt x="2670" y="16"/>
                  </a:lnTo>
                  <a:lnTo>
                    <a:pt x="2670" y="0"/>
                  </a:lnTo>
                  <a:close/>
                  <a:moveTo>
                    <a:pt x="2734" y="0"/>
                  </a:moveTo>
                  <a:lnTo>
                    <a:pt x="2782" y="0"/>
                  </a:lnTo>
                  <a:lnTo>
                    <a:pt x="2782" y="16"/>
                  </a:lnTo>
                  <a:lnTo>
                    <a:pt x="2734" y="16"/>
                  </a:lnTo>
                  <a:lnTo>
                    <a:pt x="2734" y="0"/>
                  </a:lnTo>
                  <a:close/>
                  <a:moveTo>
                    <a:pt x="2798" y="0"/>
                  </a:moveTo>
                  <a:lnTo>
                    <a:pt x="2846" y="0"/>
                  </a:lnTo>
                  <a:lnTo>
                    <a:pt x="2846" y="16"/>
                  </a:lnTo>
                  <a:lnTo>
                    <a:pt x="2798" y="16"/>
                  </a:lnTo>
                  <a:lnTo>
                    <a:pt x="2798" y="0"/>
                  </a:lnTo>
                  <a:close/>
                  <a:moveTo>
                    <a:pt x="2862" y="0"/>
                  </a:moveTo>
                  <a:lnTo>
                    <a:pt x="2910" y="0"/>
                  </a:lnTo>
                  <a:lnTo>
                    <a:pt x="2910" y="16"/>
                  </a:lnTo>
                  <a:lnTo>
                    <a:pt x="2862" y="16"/>
                  </a:lnTo>
                  <a:lnTo>
                    <a:pt x="2862" y="0"/>
                  </a:lnTo>
                  <a:close/>
                  <a:moveTo>
                    <a:pt x="2926" y="0"/>
                  </a:moveTo>
                  <a:lnTo>
                    <a:pt x="2974" y="0"/>
                  </a:lnTo>
                  <a:lnTo>
                    <a:pt x="2974" y="16"/>
                  </a:lnTo>
                  <a:lnTo>
                    <a:pt x="2926" y="16"/>
                  </a:lnTo>
                  <a:lnTo>
                    <a:pt x="2926" y="0"/>
                  </a:lnTo>
                  <a:close/>
                  <a:moveTo>
                    <a:pt x="2990" y="0"/>
                  </a:moveTo>
                  <a:lnTo>
                    <a:pt x="3038" y="0"/>
                  </a:lnTo>
                  <a:lnTo>
                    <a:pt x="3038" y="16"/>
                  </a:lnTo>
                  <a:lnTo>
                    <a:pt x="2990" y="16"/>
                  </a:lnTo>
                  <a:lnTo>
                    <a:pt x="2990" y="0"/>
                  </a:lnTo>
                  <a:close/>
                  <a:moveTo>
                    <a:pt x="3054" y="0"/>
                  </a:moveTo>
                  <a:lnTo>
                    <a:pt x="3102" y="0"/>
                  </a:lnTo>
                  <a:lnTo>
                    <a:pt x="3102" y="16"/>
                  </a:lnTo>
                  <a:lnTo>
                    <a:pt x="3054" y="16"/>
                  </a:lnTo>
                  <a:lnTo>
                    <a:pt x="3054" y="0"/>
                  </a:lnTo>
                  <a:close/>
                  <a:moveTo>
                    <a:pt x="3118" y="0"/>
                  </a:moveTo>
                  <a:lnTo>
                    <a:pt x="3166" y="0"/>
                  </a:lnTo>
                  <a:lnTo>
                    <a:pt x="3166" y="16"/>
                  </a:lnTo>
                  <a:lnTo>
                    <a:pt x="3118" y="16"/>
                  </a:lnTo>
                  <a:lnTo>
                    <a:pt x="3118" y="0"/>
                  </a:lnTo>
                  <a:close/>
                  <a:moveTo>
                    <a:pt x="3182" y="0"/>
                  </a:moveTo>
                  <a:lnTo>
                    <a:pt x="3230" y="0"/>
                  </a:lnTo>
                  <a:lnTo>
                    <a:pt x="3230" y="16"/>
                  </a:lnTo>
                  <a:lnTo>
                    <a:pt x="3182" y="16"/>
                  </a:lnTo>
                  <a:lnTo>
                    <a:pt x="3182" y="0"/>
                  </a:lnTo>
                  <a:close/>
                  <a:moveTo>
                    <a:pt x="3246" y="0"/>
                  </a:moveTo>
                  <a:lnTo>
                    <a:pt x="3294" y="0"/>
                  </a:lnTo>
                  <a:lnTo>
                    <a:pt x="3294" y="16"/>
                  </a:lnTo>
                  <a:lnTo>
                    <a:pt x="3246" y="16"/>
                  </a:lnTo>
                  <a:lnTo>
                    <a:pt x="3246" y="0"/>
                  </a:lnTo>
                  <a:close/>
                  <a:moveTo>
                    <a:pt x="3310" y="0"/>
                  </a:moveTo>
                  <a:lnTo>
                    <a:pt x="3358" y="0"/>
                  </a:lnTo>
                  <a:lnTo>
                    <a:pt x="3358" y="16"/>
                  </a:lnTo>
                  <a:lnTo>
                    <a:pt x="3310" y="16"/>
                  </a:lnTo>
                  <a:lnTo>
                    <a:pt x="3310" y="0"/>
                  </a:lnTo>
                  <a:close/>
                  <a:moveTo>
                    <a:pt x="3374" y="0"/>
                  </a:moveTo>
                  <a:lnTo>
                    <a:pt x="3422" y="0"/>
                  </a:lnTo>
                  <a:lnTo>
                    <a:pt x="3422" y="16"/>
                  </a:lnTo>
                  <a:lnTo>
                    <a:pt x="3374" y="16"/>
                  </a:lnTo>
                  <a:lnTo>
                    <a:pt x="3374" y="0"/>
                  </a:lnTo>
                  <a:close/>
                  <a:moveTo>
                    <a:pt x="3438" y="0"/>
                  </a:moveTo>
                  <a:lnTo>
                    <a:pt x="3487" y="0"/>
                  </a:lnTo>
                  <a:lnTo>
                    <a:pt x="3487" y="16"/>
                  </a:lnTo>
                  <a:lnTo>
                    <a:pt x="3438" y="16"/>
                  </a:lnTo>
                  <a:lnTo>
                    <a:pt x="3438" y="0"/>
                  </a:lnTo>
                  <a:close/>
                  <a:moveTo>
                    <a:pt x="3503" y="0"/>
                  </a:moveTo>
                  <a:lnTo>
                    <a:pt x="3551" y="0"/>
                  </a:lnTo>
                  <a:lnTo>
                    <a:pt x="3551" y="16"/>
                  </a:lnTo>
                  <a:lnTo>
                    <a:pt x="3503" y="16"/>
                  </a:lnTo>
                  <a:lnTo>
                    <a:pt x="3503" y="0"/>
                  </a:lnTo>
                  <a:close/>
                  <a:moveTo>
                    <a:pt x="3567" y="0"/>
                  </a:moveTo>
                  <a:lnTo>
                    <a:pt x="3615" y="0"/>
                  </a:lnTo>
                  <a:lnTo>
                    <a:pt x="3615" y="16"/>
                  </a:lnTo>
                  <a:lnTo>
                    <a:pt x="3567" y="16"/>
                  </a:lnTo>
                  <a:lnTo>
                    <a:pt x="3567" y="0"/>
                  </a:lnTo>
                  <a:close/>
                  <a:moveTo>
                    <a:pt x="3631" y="0"/>
                  </a:moveTo>
                  <a:lnTo>
                    <a:pt x="3679" y="0"/>
                  </a:lnTo>
                  <a:lnTo>
                    <a:pt x="3679" y="16"/>
                  </a:lnTo>
                  <a:lnTo>
                    <a:pt x="3631" y="16"/>
                  </a:lnTo>
                  <a:lnTo>
                    <a:pt x="3631" y="0"/>
                  </a:lnTo>
                  <a:close/>
                  <a:moveTo>
                    <a:pt x="3695" y="0"/>
                  </a:moveTo>
                  <a:lnTo>
                    <a:pt x="3743" y="0"/>
                  </a:lnTo>
                  <a:lnTo>
                    <a:pt x="3743" y="16"/>
                  </a:lnTo>
                  <a:lnTo>
                    <a:pt x="3695" y="16"/>
                  </a:lnTo>
                  <a:lnTo>
                    <a:pt x="3695" y="0"/>
                  </a:lnTo>
                  <a:close/>
                  <a:moveTo>
                    <a:pt x="3759" y="0"/>
                  </a:moveTo>
                  <a:lnTo>
                    <a:pt x="3807" y="0"/>
                  </a:lnTo>
                  <a:lnTo>
                    <a:pt x="3807" y="16"/>
                  </a:lnTo>
                  <a:lnTo>
                    <a:pt x="3759" y="16"/>
                  </a:lnTo>
                  <a:lnTo>
                    <a:pt x="3759" y="0"/>
                  </a:lnTo>
                  <a:close/>
                  <a:moveTo>
                    <a:pt x="3823" y="0"/>
                  </a:moveTo>
                  <a:lnTo>
                    <a:pt x="3871" y="0"/>
                  </a:lnTo>
                  <a:lnTo>
                    <a:pt x="3871" y="16"/>
                  </a:lnTo>
                  <a:lnTo>
                    <a:pt x="3823" y="16"/>
                  </a:lnTo>
                  <a:lnTo>
                    <a:pt x="3823" y="0"/>
                  </a:lnTo>
                  <a:close/>
                  <a:moveTo>
                    <a:pt x="3887" y="0"/>
                  </a:moveTo>
                  <a:lnTo>
                    <a:pt x="3935" y="0"/>
                  </a:lnTo>
                  <a:lnTo>
                    <a:pt x="3935" y="16"/>
                  </a:lnTo>
                  <a:lnTo>
                    <a:pt x="3887" y="16"/>
                  </a:lnTo>
                  <a:lnTo>
                    <a:pt x="3887" y="0"/>
                  </a:lnTo>
                  <a:close/>
                  <a:moveTo>
                    <a:pt x="3951" y="0"/>
                  </a:moveTo>
                  <a:lnTo>
                    <a:pt x="3999" y="0"/>
                  </a:lnTo>
                  <a:lnTo>
                    <a:pt x="3999" y="16"/>
                  </a:lnTo>
                  <a:lnTo>
                    <a:pt x="3951" y="16"/>
                  </a:lnTo>
                  <a:lnTo>
                    <a:pt x="3951" y="0"/>
                  </a:lnTo>
                  <a:close/>
                  <a:moveTo>
                    <a:pt x="4015" y="0"/>
                  </a:moveTo>
                  <a:lnTo>
                    <a:pt x="4063" y="0"/>
                  </a:lnTo>
                  <a:lnTo>
                    <a:pt x="4063" y="16"/>
                  </a:lnTo>
                  <a:lnTo>
                    <a:pt x="4015" y="16"/>
                  </a:lnTo>
                  <a:lnTo>
                    <a:pt x="4015" y="0"/>
                  </a:lnTo>
                  <a:close/>
                  <a:moveTo>
                    <a:pt x="4079" y="0"/>
                  </a:moveTo>
                  <a:lnTo>
                    <a:pt x="4127" y="0"/>
                  </a:lnTo>
                  <a:lnTo>
                    <a:pt x="4127" y="16"/>
                  </a:lnTo>
                  <a:lnTo>
                    <a:pt x="4079" y="16"/>
                  </a:lnTo>
                  <a:lnTo>
                    <a:pt x="4079" y="0"/>
                  </a:lnTo>
                  <a:close/>
                  <a:moveTo>
                    <a:pt x="4143" y="0"/>
                  </a:moveTo>
                  <a:lnTo>
                    <a:pt x="4191" y="0"/>
                  </a:lnTo>
                  <a:lnTo>
                    <a:pt x="4191" y="16"/>
                  </a:lnTo>
                  <a:lnTo>
                    <a:pt x="4143" y="16"/>
                  </a:lnTo>
                  <a:lnTo>
                    <a:pt x="4143" y="0"/>
                  </a:lnTo>
                  <a:close/>
                  <a:moveTo>
                    <a:pt x="4207" y="0"/>
                  </a:moveTo>
                  <a:lnTo>
                    <a:pt x="4255" y="0"/>
                  </a:lnTo>
                  <a:lnTo>
                    <a:pt x="4255" y="16"/>
                  </a:lnTo>
                  <a:lnTo>
                    <a:pt x="4207" y="16"/>
                  </a:lnTo>
                  <a:lnTo>
                    <a:pt x="4207" y="0"/>
                  </a:lnTo>
                  <a:close/>
                  <a:moveTo>
                    <a:pt x="4271" y="0"/>
                  </a:moveTo>
                  <a:lnTo>
                    <a:pt x="4319" y="0"/>
                  </a:lnTo>
                  <a:lnTo>
                    <a:pt x="4319" y="16"/>
                  </a:lnTo>
                  <a:lnTo>
                    <a:pt x="4271" y="16"/>
                  </a:lnTo>
                  <a:lnTo>
                    <a:pt x="4271" y="0"/>
                  </a:lnTo>
                  <a:close/>
                  <a:moveTo>
                    <a:pt x="4335" y="0"/>
                  </a:moveTo>
                  <a:lnTo>
                    <a:pt x="4383" y="0"/>
                  </a:lnTo>
                  <a:lnTo>
                    <a:pt x="4383" y="16"/>
                  </a:lnTo>
                  <a:lnTo>
                    <a:pt x="4335" y="16"/>
                  </a:lnTo>
                  <a:lnTo>
                    <a:pt x="4335" y="0"/>
                  </a:lnTo>
                  <a:close/>
                  <a:moveTo>
                    <a:pt x="4399" y="0"/>
                  </a:moveTo>
                  <a:lnTo>
                    <a:pt x="4448" y="0"/>
                  </a:lnTo>
                  <a:lnTo>
                    <a:pt x="4448" y="16"/>
                  </a:lnTo>
                  <a:lnTo>
                    <a:pt x="4399" y="16"/>
                  </a:lnTo>
                  <a:lnTo>
                    <a:pt x="4399" y="0"/>
                  </a:lnTo>
                  <a:close/>
                  <a:moveTo>
                    <a:pt x="4464" y="0"/>
                  </a:moveTo>
                  <a:lnTo>
                    <a:pt x="4512" y="0"/>
                  </a:lnTo>
                  <a:lnTo>
                    <a:pt x="4512" y="16"/>
                  </a:lnTo>
                  <a:lnTo>
                    <a:pt x="4464" y="16"/>
                  </a:lnTo>
                  <a:lnTo>
                    <a:pt x="4464" y="0"/>
                  </a:lnTo>
                  <a:close/>
                  <a:moveTo>
                    <a:pt x="4528" y="0"/>
                  </a:moveTo>
                  <a:lnTo>
                    <a:pt x="4576" y="0"/>
                  </a:lnTo>
                  <a:lnTo>
                    <a:pt x="4576" y="16"/>
                  </a:lnTo>
                  <a:lnTo>
                    <a:pt x="4528" y="16"/>
                  </a:lnTo>
                  <a:lnTo>
                    <a:pt x="4528" y="0"/>
                  </a:lnTo>
                  <a:close/>
                  <a:moveTo>
                    <a:pt x="4592" y="0"/>
                  </a:moveTo>
                  <a:lnTo>
                    <a:pt x="4640" y="0"/>
                  </a:lnTo>
                  <a:lnTo>
                    <a:pt x="4640" y="16"/>
                  </a:lnTo>
                  <a:lnTo>
                    <a:pt x="4592" y="16"/>
                  </a:lnTo>
                  <a:lnTo>
                    <a:pt x="4592" y="0"/>
                  </a:lnTo>
                  <a:close/>
                  <a:moveTo>
                    <a:pt x="4656" y="0"/>
                  </a:moveTo>
                  <a:lnTo>
                    <a:pt x="4704" y="0"/>
                  </a:lnTo>
                  <a:lnTo>
                    <a:pt x="4704" y="16"/>
                  </a:lnTo>
                  <a:lnTo>
                    <a:pt x="4656" y="16"/>
                  </a:lnTo>
                  <a:lnTo>
                    <a:pt x="4656" y="0"/>
                  </a:lnTo>
                  <a:close/>
                  <a:moveTo>
                    <a:pt x="4720" y="0"/>
                  </a:moveTo>
                  <a:lnTo>
                    <a:pt x="4768" y="0"/>
                  </a:lnTo>
                  <a:lnTo>
                    <a:pt x="4768" y="16"/>
                  </a:lnTo>
                  <a:lnTo>
                    <a:pt x="4720" y="16"/>
                  </a:lnTo>
                  <a:lnTo>
                    <a:pt x="4720" y="0"/>
                  </a:lnTo>
                  <a:close/>
                  <a:moveTo>
                    <a:pt x="4784" y="0"/>
                  </a:moveTo>
                  <a:lnTo>
                    <a:pt x="4832" y="0"/>
                  </a:lnTo>
                  <a:lnTo>
                    <a:pt x="4832" y="16"/>
                  </a:lnTo>
                  <a:lnTo>
                    <a:pt x="4784" y="16"/>
                  </a:lnTo>
                  <a:lnTo>
                    <a:pt x="4784" y="0"/>
                  </a:lnTo>
                  <a:close/>
                  <a:moveTo>
                    <a:pt x="4848" y="0"/>
                  </a:moveTo>
                  <a:lnTo>
                    <a:pt x="4896" y="0"/>
                  </a:lnTo>
                  <a:lnTo>
                    <a:pt x="4896" y="16"/>
                  </a:lnTo>
                  <a:lnTo>
                    <a:pt x="4848" y="16"/>
                  </a:lnTo>
                  <a:lnTo>
                    <a:pt x="4848" y="0"/>
                  </a:lnTo>
                  <a:close/>
                  <a:moveTo>
                    <a:pt x="4912" y="0"/>
                  </a:moveTo>
                  <a:lnTo>
                    <a:pt x="4960" y="0"/>
                  </a:lnTo>
                  <a:lnTo>
                    <a:pt x="4960" y="16"/>
                  </a:lnTo>
                  <a:lnTo>
                    <a:pt x="4912" y="16"/>
                  </a:lnTo>
                  <a:lnTo>
                    <a:pt x="4912" y="0"/>
                  </a:lnTo>
                  <a:close/>
                  <a:moveTo>
                    <a:pt x="4976" y="0"/>
                  </a:moveTo>
                  <a:lnTo>
                    <a:pt x="5024" y="0"/>
                  </a:lnTo>
                  <a:lnTo>
                    <a:pt x="5024" y="16"/>
                  </a:lnTo>
                  <a:lnTo>
                    <a:pt x="4976" y="16"/>
                  </a:lnTo>
                  <a:lnTo>
                    <a:pt x="4976" y="0"/>
                  </a:lnTo>
                  <a:close/>
                  <a:moveTo>
                    <a:pt x="5040" y="0"/>
                  </a:moveTo>
                  <a:lnTo>
                    <a:pt x="5088" y="0"/>
                  </a:lnTo>
                  <a:lnTo>
                    <a:pt x="5088" y="16"/>
                  </a:lnTo>
                  <a:lnTo>
                    <a:pt x="5040" y="16"/>
                  </a:lnTo>
                  <a:lnTo>
                    <a:pt x="5040" y="0"/>
                  </a:lnTo>
                  <a:close/>
                  <a:moveTo>
                    <a:pt x="5104" y="0"/>
                  </a:moveTo>
                  <a:lnTo>
                    <a:pt x="5152" y="0"/>
                  </a:lnTo>
                  <a:lnTo>
                    <a:pt x="5152" y="16"/>
                  </a:lnTo>
                  <a:lnTo>
                    <a:pt x="5104" y="16"/>
                  </a:lnTo>
                  <a:lnTo>
                    <a:pt x="5104" y="0"/>
                  </a:lnTo>
                  <a:close/>
                  <a:moveTo>
                    <a:pt x="5168" y="0"/>
                  </a:moveTo>
                  <a:lnTo>
                    <a:pt x="5216" y="0"/>
                  </a:lnTo>
                  <a:lnTo>
                    <a:pt x="5216" y="16"/>
                  </a:lnTo>
                  <a:lnTo>
                    <a:pt x="5168" y="16"/>
                  </a:lnTo>
                  <a:lnTo>
                    <a:pt x="5168" y="0"/>
                  </a:lnTo>
                  <a:close/>
                  <a:moveTo>
                    <a:pt x="5232" y="0"/>
                  </a:moveTo>
                  <a:lnTo>
                    <a:pt x="5280" y="0"/>
                  </a:lnTo>
                  <a:lnTo>
                    <a:pt x="5280" y="16"/>
                  </a:lnTo>
                  <a:lnTo>
                    <a:pt x="5232" y="16"/>
                  </a:lnTo>
                  <a:lnTo>
                    <a:pt x="5232" y="0"/>
                  </a:lnTo>
                  <a:close/>
                  <a:moveTo>
                    <a:pt x="5296" y="0"/>
                  </a:moveTo>
                  <a:lnTo>
                    <a:pt x="5344" y="0"/>
                  </a:lnTo>
                  <a:lnTo>
                    <a:pt x="5344" y="16"/>
                  </a:lnTo>
                  <a:lnTo>
                    <a:pt x="5296" y="16"/>
                  </a:lnTo>
                  <a:lnTo>
                    <a:pt x="5296" y="0"/>
                  </a:lnTo>
                  <a:close/>
                  <a:moveTo>
                    <a:pt x="5360" y="0"/>
                  </a:moveTo>
                  <a:lnTo>
                    <a:pt x="5408" y="0"/>
                  </a:lnTo>
                  <a:lnTo>
                    <a:pt x="5408" y="16"/>
                  </a:lnTo>
                  <a:lnTo>
                    <a:pt x="5360" y="16"/>
                  </a:lnTo>
                  <a:lnTo>
                    <a:pt x="5360" y="0"/>
                  </a:lnTo>
                  <a:close/>
                  <a:moveTo>
                    <a:pt x="5424" y="0"/>
                  </a:moveTo>
                  <a:lnTo>
                    <a:pt x="5473" y="0"/>
                  </a:lnTo>
                  <a:lnTo>
                    <a:pt x="5473" y="16"/>
                  </a:lnTo>
                  <a:lnTo>
                    <a:pt x="5424" y="16"/>
                  </a:lnTo>
                  <a:lnTo>
                    <a:pt x="5424" y="0"/>
                  </a:lnTo>
                  <a:close/>
                  <a:moveTo>
                    <a:pt x="5489" y="0"/>
                  </a:moveTo>
                  <a:lnTo>
                    <a:pt x="5537" y="0"/>
                  </a:lnTo>
                  <a:lnTo>
                    <a:pt x="5537" y="16"/>
                  </a:lnTo>
                  <a:lnTo>
                    <a:pt x="5489" y="16"/>
                  </a:lnTo>
                  <a:lnTo>
                    <a:pt x="5489" y="0"/>
                  </a:lnTo>
                  <a:close/>
                  <a:moveTo>
                    <a:pt x="5553" y="0"/>
                  </a:moveTo>
                  <a:lnTo>
                    <a:pt x="5601" y="0"/>
                  </a:lnTo>
                  <a:lnTo>
                    <a:pt x="5601" y="16"/>
                  </a:lnTo>
                  <a:lnTo>
                    <a:pt x="5553" y="16"/>
                  </a:lnTo>
                  <a:lnTo>
                    <a:pt x="5553" y="0"/>
                  </a:lnTo>
                  <a:close/>
                  <a:moveTo>
                    <a:pt x="5617" y="0"/>
                  </a:moveTo>
                  <a:lnTo>
                    <a:pt x="5665" y="0"/>
                  </a:lnTo>
                  <a:lnTo>
                    <a:pt x="5665" y="16"/>
                  </a:lnTo>
                  <a:lnTo>
                    <a:pt x="5617" y="16"/>
                  </a:lnTo>
                  <a:lnTo>
                    <a:pt x="5617" y="0"/>
                  </a:lnTo>
                  <a:close/>
                  <a:moveTo>
                    <a:pt x="5681" y="0"/>
                  </a:moveTo>
                  <a:lnTo>
                    <a:pt x="5729" y="0"/>
                  </a:lnTo>
                  <a:lnTo>
                    <a:pt x="5729" y="16"/>
                  </a:lnTo>
                  <a:lnTo>
                    <a:pt x="5681" y="16"/>
                  </a:lnTo>
                  <a:lnTo>
                    <a:pt x="5681" y="0"/>
                  </a:lnTo>
                  <a:close/>
                  <a:moveTo>
                    <a:pt x="5745" y="0"/>
                  </a:moveTo>
                  <a:lnTo>
                    <a:pt x="5793" y="0"/>
                  </a:lnTo>
                  <a:lnTo>
                    <a:pt x="5793" y="16"/>
                  </a:lnTo>
                  <a:lnTo>
                    <a:pt x="5745" y="16"/>
                  </a:lnTo>
                  <a:lnTo>
                    <a:pt x="5745" y="0"/>
                  </a:lnTo>
                  <a:close/>
                  <a:moveTo>
                    <a:pt x="5809" y="0"/>
                  </a:moveTo>
                  <a:lnTo>
                    <a:pt x="5857" y="0"/>
                  </a:lnTo>
                  <a:lnTo>
                    <a:pt x="5857" y="16"/>
                  </a:lnTo>
                  <a:lnTo>
                    <a:pt x="5809" y="16"/>
                  </a:lnTo>
                  <a:lnTo>
                    <a:pt x="5809" y="0"/>
                  </a:lnTo>
                  <a:close/>
                  <a:moveTo>
                    <a:pt x="5873" y="0"/>
                  </a:moveTo>
                  <a:lnTo>
                    <a:pt x="5921" y="0"/>
                  </a:lnTo>
                  <a:lnTo>
                    <a:pt x="5921" y="16"/>
                  </a:lnTo>
                  <a:lnTo>
                    <a:pt x="5873" y="16"/>
                  </a:lnTo>
                  <a:lnTo>
                    <a:pt x="5873" y="0"/>
                  </a:lnTo>
                  <a:close/>
                  <a:moveTo>
                    <a:pt x="5937" y="0"/>
                  </a:moveTo>
                  <a:lnTo>
                    <a:pt x="5985" y="0"/>
                  </a:lnTo>
                  <a:lnTo>
                    <a:pt x="5985" y="16"/>
                  </a:lnTo>
                  <a:lnTo>
                    <a:pt x="5937" y="16"/>
                  </a:lnTo>
                  <a:lnTo>
                    <a:pt x="5937" y="0"/>
                  </a:lnTo>
                  <a:close/>
                  <a:moveTo>
                    <a:pt x="6001" y="0"/>
                  </a:moveTo>
                  <a:lnTo>
                    <a:pt x="6049" y="0"/>
                  </a:lnTo>
                  <a:lnTo>
                    <a:pt x="6049" y="16"/>
                  </a:lnTo>
                  <a:lnTo>
                    <a:pt x="6001" y="16"/>
                  </a:lnTo>
                  <a:lnTo>
                    <a:pt x="6001" y="0"/>
                  </a:lnTo>
                  <a:close/>
                  <a:moveTo>
                    <a:pt x="6065" y="0"/>
                  </a:moveTo>
                  <a:lnTo>
                    <a:pt x="6113" y="0"/>
                  </a:lnTo>
                  <a:lnTo>
                    <a:pt x="6113" y="16"/>
                  </a:lnTo>
                  <a:lnTo>
                    <a:pt x="6065" y="16"/>
                  </a:lnTo>
                  <a:lnTo>
                    <a:pt x="6065" y="0"/>
                  </a:lnTo>
                  <a:close/>
                  <a:moveTo>
                    <a:pt x="6129" y="0"/>
                  </a:moveTo>
                  <a:lnTo>
                    <a:pt x="6177" y="0"/>
                  </a:lnTo>
                  <a:lnTo>
                    <a:pt x="6177" y="16"/>
                  </a:lnTo>
                  <a:lnTo>
                    <a:pt x="6129" y="16"/>
                  </a:lnTo>
                  <a:lnTo>
                    <a:pt x="6129" y="0"/>
                  </a:lnTo>
                  <a:close/>
                  <a:moveTo>
                    <a:pt x="6193" y="0"/>
                  </a:moveTo>
                  <a:lnTo>
                    <a:pt x="6241" y="0"/>
                  </a:lnTo>
                  <a:lnTo>
                    <a:pt x="6241" y="16"/>
                  </a:lnTo>
                  <a:lnTo>
                    <a:pt x="6193" y="16"/>
                  </a:lnTo>
                  <a:lnTo>
                    <a:pt x="6193" y="0"/>
                  </a:lnTo>
                  <a:close/>
                  <a:moveTo>
                    <a:pt x="6257" y="0"/>
                  </a:moveTo>
                  <a:lnTo>
                    <a:pt x="6305" y="0"/>
                  </a:lnTo>
                  <a:lnTo>
                    <a:pt x="6305" y="16"/>
                  </a:lnTo>
                  <a:lnTo>
                    <a:pt x="6257" y="16"/>
                  </a:lnTo>
                  <a:lnTo>
                    <a:pt x="6257" y="0"/>
                  </a:lnTo>
                  <a:close/>
                  <a:moveTo>
                    <a:pt x="6321" y="0"/>
                  </a:moveTo>
                  <a:lnTo>
                    <a:pt x="6369" y="0"/>
                  </a:lnTo>
                  <a:lnTo>
                    <a:pt x="6369" y="16"/>
                  </a:lnTo>
                  <a:lnTo>
                    <a:pt x="6321" y="16"/>
                  </a:lnTo>
                  <a:lnTo>
                    <a:pt x="6321" y="0"/>
                  </a:lnTo>
                  <a:close/>
                  <a:moveTo>
                    <a:pt x="6385" y="0"/>
                  </a:moveTo>
                  <a:lnTo>
                    <a:pt x="6434" y="0"/>
                  </a:lnTo>
                  <a:lnTo>
                    <a:pt x="6434" y="16"/>
                  </a:lnTo>
                  <a:lnTo>
                    <a:pt x="6385" y="16"/>
                  </a:lnTo>
                  <a:lnTo>
                    <a:pt x="6385" y="0"/>
                  </a:lnTo>
                  <a:close/>
                  <a:moveTo>
                    <a:pt x="6450" y="0"/>
                  </a:moveTo>
                  <a:lnTo>
                    <a:pt x="6498" y="0"/>
                  </a:lnTo>
                  <a:lnTo>
                    <a:pt x="6498" y="16"/>
                  </a:lnTo>
                  <a:lnTo>
                    <a:pt x="6450" y="16"/>
                  </a:lnTo>
                  <a:lnTo>
                    <a:pt x="6450" y="0"/>
                  </a:lnTo>
                  <a:close/>
                  <a:moveTo>
                    <a:pt x="6514" y="0"/>
                  </a:moveTo>
                  <a:lnTo>
                    <a:pt x="6562" y="0"/>
                  </a:lnTo>
                  <a:lnTo>
                    <a:pt x="6562" y="16"/>
                  </a:lnTo>
                  <a:lnTo>
                    <a:pt x="6514" y="16"/>
                  </a:lnTo>
                  <a:lnTo>
                    <a:pt x="6514" y="0"/>
                  </a:lnTo>
                  <a:close/>
                  <a:moveTo>
                    <a:pt x="6578" y="0"/>
                  </a:moveTo>
                  <a:lnTo>
                    <a:pt x="6626" y="0"/>
                  </a:lnTo>
                  <a:lnTo>
                    <a:pt x="6626" y="16"/>
                  </a:lnTo>
                  <a:lnTo>
                    <a:pt x="6578" y="16"/>
                  </a:lnTo>
                  <a:lnTo>
                    <a:pt x="6578" y="0"/>
                  </a:lnTo>
                  <a:close/>
                  <a:moveTo>
                    <a:pt x="6642" y="0"/>
                  </a:moveTo>
                  <a:lnTo>
                    <a:pt x="6690" y="0"/>
                  </a:lnTo>
                  <a:lnTo>
                    <a:pt x="6690" y="16"/>
                  </a:lnTo>
                  <a:lnTo>
                    <a:pt x="6642" y="16"/>
                  </a:lnTo>
                  <a:lnTo>
                    <a:pt x="6642" y="0"/>
                  </a:lnTo>
                  <a:close/>
                  <a:moveTo>
                    <a:pt x="6706" y="0"/>
                  </a:moveTo>
                  <a:lnTo>
                    <a:pt x="6754" y="0"/>
                  </a:lnTo>
                  <a:lnTo>
                    <a:pt x="6754" y="16"/>
                  </a:lnTo>
                  <a:lnTo>
                    <a:pt x="6706" y="16"/>
                  </a:lnTo>
                  <a:lnTo>
                    <a:pt x="6706" y="0"/>
                  </a:lnTo>
                  <a:close/>
                  <a:moveTo>
                    <a:pt x="6770" y="0"/>
                  </a:moveTo>
                  <a:lnTo>
                    <a:pt x="6818" y="0"/>
                  </a:lnTo>
                  <a:lnTo>
                    <a:pt x="6818" y="16"/>
                  </a:lnTo>
                  <a:lnTo>
                    <a:pt x="6770" y="16"/>
                  </a:lnTo>
                  <a:lnTo>
                    <a:pt x="6770" y="0"/>
                  </a:lnTo>
                  <a:close/>
                  <a:moveTo>
                    <a:pt x="6834" y="0"/>
                  </a:moveTo>
                  <a:lnTo>
                    <a:pt x="6882" y="0"/>
                  </a:lnTo>
                  <a:lnTo>
                    <a:pt x="6882" y="16"/>
                  </a:lnTo>
                  <a:lnTo>
                    <a:pt x="6834" y="16"/>
                  </a:lnTo>
                  <a:lnTo>
                    <a:pt x="6834" y="0"/>
                  </a:lnTo>
                  <a:close/>
                  <a:moveTo>
                    <a:pt x="6898" y="0"/>
                  </a:moveTo>
                  <a:lnTo>
                    <a:pt x="6946" y="0"/>
                  </a:lnTo>
                  <a:lnTo>
                    <a:pt x="6946" y="16"/>
                  </a:lnTo>
                  <a:lnTo>
                    <a:pt x="6898" y="16"/>
                  </a:lnTo>
                  <a:lnTo>
                    <a:pt x="6898" y="0"/>
                  </a:lnTo>
                  <a:close/>
                  <a:moveTo>
                    <a:pt x="6962" y="0"/>
                  </a:moveTo>
                  <a:lnTo>
                    <a:pt x="7010" y="0"/>
                  </a:lnTo>
                  <a:lnTo>
                    <a:pt x="7010" y="16"/>
                  </a:lnTo>
                  <a:lnTo>
                    <a:pt x="6962" y="16"/>
                  </a:lnTo>
                  <a:lnTo>
                    <a:pt x="6962" y="0"/>
                  </a:lnTo>
                  <a:close/>
                  <a:moveTo>
                    <a:pt x="7026" y="0"/>
                  </a:moveTo>
                  <a:lnTo>
                    <a:pt x="7074" y="0"/>
                  </a:lnTo>
                  <a:lnTo>
                    <a:pt x="7074" y="16"/>
                  </a:lnTo>
                  <a:lnTo>
                    <a:pt x="7026" y="16"/>
                  </a:lnTo>
                  <a:lnTo>
                    <a:pt x="7026" y="0"/>
                  </a:lnTo>
                  <a:close/>
                  <a:moveTo>
                    <a:pt x="7090" y="0"/>
                  </a:moveTo>
                  <a:lnTo>
                    <a:pt x="7138" y="0"/>
                  </a:lnTo>
                  <a:lnTo>
                    <a:pt x="7138" y="16"/>
                  </a:lnTo>
                  <a:lnTo>
                    <a:pt x="7090" y="16"/>
                  </a:lnTo>
                  <a:lnTo>
                    <a:pt x="7090" y="0"/>
                  </a:lnTo>
                  <a:close/>
                  <a:moveTo>
                    <a:pt x="7154" y="0"/>
                  </a:moveTo>
                  <a:lnTo>
                    <a:pt x="7202" y="0"/>
                  </a:lnTo>
                  <a:lnTo>
                    <a:pt x="7202" y="16"/>
                  </a:lnTo>
                  <a:lnTo>
                    <a:pt x="7154" y="16"/>
                  </a:lnTo>
                  <a:lnTo>
                    <a:pt x="7154" y="0"/>
                  </a:lnTo>
                  <a:close/>
                  <a:moveTo>
                    <a:pt x="7218" y="0"/>
                  </a:moveTo>
                  <a:lnTo>
                    <a:pt x="7266" y="0"/>
                  </a:lnTo>
                  <a:lnTo>
                    <a:pt x="7266" y="16"/>
                  </a:lnTo>
                  <a:lnTo>
                    <a:pt x="7218" y="16"/>
                  </a:lnTo>
                  <a:lnTo>
                    <a:pt x="7218" y="0"/>
                  </a:lnTo>
                  <a:close/>
                  <a:moveTo>
                    <a:pt x="7282" y="0"/>
                  </a:moveTo>
                  <a:lnTo>
                    <a:pt x="7330" y="0"/>
                  </a:lnTo>
                  <a:lnTo>
                    <a:pt x="7330" y="16"/>
                  </a:lnTo>
                  <a:lnTo>
                    <a:pt x="7282" y="16"/>
                  </a:lnTo>
                  <a:lnTo>
                    <a:pt x="7282" y="0"/>
                  </a:lnTo>
                  <a:close/>
                  <a:moveTo>
                    <a:pt x="7346" y="0"/>
                  </a:moveTo>
                  <a:lnTo>
                    <a:pt x="7394" y="0"/>
                  </a:lnTo>
                  <a:lnTo>
                    <a:pt x="7394" y="16"/>
                  </a:lnTo>
                  <a:lnTo>
                    <a:pt x="7346" y="16"/>
                  </a:lnTo>
                  <a:lnTo>
                    <a:pt x="7346" y="0"/>
                  </a:lnTo>
                  <a:close/>
                  <a:moveTo>
                    <a:pt x="7410" y="0"/>
                  </a:moveTo>
                  <a:lnTo>
                    <a:pt x="7459" y="0"/>
                  </a:lnTo>
                  <a:lnTo>
                    <a:pt x="7459" y="16"/>
                  </a:lnTo>
                  <a:lnTo>
                    <a:pt x="7410" y="16"/>
                  </a:lnTo>
                  <a:lnTo>
                    <a:pt x="7410" y="0"/>
                  </a:lnTo>
                  <a:close/>
                  <a:moveTo>
                    <a:pt x="7475" y="0"/>
                  </a:moveTo>
                  <a:lnTo>
                    <a:pt x="7523" y="0"/>
                  </a:lnTo>
                  <a:lnTo>
                    <a:pt x="7523" y="16"/>
                  </a:lnTo>
                  <a:lnTo>
                    <a:pt x="7475" y="16"/>
                  </a:lnTo>
                  <a:lnTo>
                    <a:pt x="7475" y="0"/>
                  </a:lnTo>
                  <a:close/>
                  <a:moveTo>
                    <a:pt x="7539" y="0"/>
                  </a:moveTo>
                  <a:lnTo>
                    <a:pt x="7587" y="0"/>
                  </a:lnTo>
                  <a:lnTo>
                    <a:pt x="7587" y="16"/>
                  </a:lnTo>
                  <a:lnTo>
                    <a:pt x="7539" y="16"/>
                  </a:lnTo>
                  <a:lnTo>
                    <a:pt x="7539" y="0"/>
                  </a:lnTo>
                  <a:close/>
                  <a:moveTo>
                    <a:pt x="7603" y="0"/>
                  </a:moveTo>
                  <a:lnTo>
                    <a:pt x="7651" y="0"/>
                  </a:lnTo>
                  <a:lnTo>
                    <a:pt x="7651" y="16"/>
                  </a:lnTo>
                  <a:lnTo>
                    <a:pt x="7603" y="16"/>
                  </a:lnTo>
                  <a:lnTo>
                    <a:pt x="7603" y="0"/>
                  </a:lnTo>
                  <a:close/>
                  <a:moveTo>
                    <a:pt x="7667" y="0"/>
                  </a:moveTo>
                  <a:lnTo>
                    <a:pt x="7715" y="0"/>
                  </a:lnTo>
                  <a:lnTo>
                    <a:pt x="7715" y="16"/>
                  </a:lnTo>
                  <a:lnTo>
                    <a:pt x="7667" y="16"/>
                  </a:lnTo>
                  <a:lnTo>
                    <a:pt x="7667" y="0"/>
                  </a:lnTo>
                  <a:close/>
                  <a:moveTo>
                    <a:pt x="7731" y="0"/>
                  </a:moveTo>
                  <a:lnTo>
                    <a:pt x="7779" y="0"/>
                  </a:lnTo>
                  <a:lnTo>
                    <a:pt x="7779" y="16"/>
                  </a:lnTo>
                  <a:lnTo>
                    <a:pt x="7731" y="16"/>
                  </a:lnTo>
                  <a:lnTo>
                    <a:pt x="7731" y="0"/>
                  </a:lnTo>
                  <a:close/>
                  <a:moveTo>
                    <a:pt x="7795" y="0"/>
                  </a:moveTo>
                  <a:lnTo>
                    <a:pt x="7843" y="0"/>
                  </a:lnTo>
                  <a:lnTo>
                    <a:pt x="7843" y="16"/>
                  </a:lnTo>
                  <a:lnTo>
                    <a:pt x="7795" y="16"/>
                  </a:lnTo>
                  <a:lnTo>
                    <a:pt x="7795" y="0"/>
                  </a:lnTo>
                  <a:close/>
                  <a:moveTo>
                    <a:pt x="7859" y="0"/>
                  </a:moveTo>
                  <a:lnTo>
                    <a:pt x="7907" y="0"/>
                  </a:lnTo>
                  <a:lnTo>
                    <a:pt x="7907" y="16"/>
                  </a:lnTo>
                  <a:lnTo>
                    <a:pt x="7859" y="16"/>
                  </a:lnTo>
                  <a:lnTo>
                    <a:pt x="7859" y="0"/>
                  </a:lnTo>
                  <a:close/>
                  <a:moveTo>
                    <a:pt x="7923" y="0"/>
                  </a:moveTo>
                  <a:lnTo>
                    <a:pt x="7971" y="0"/>
                  </a:lnTo>
                  <a:lnTo>
                    <a:pt x="7971" y="16"/>
                  </a:lnTo>
                  <a:lnTo>
                    <a:pt x="7923" y="16"/>
                  </a:lnTo>
                  <a:lnTo>
                    <a:pt x="7923" y="0"/>
                  </a:lnTo>
                  <a:close/>
                  <a:moveTo>
                    <a:pt x="7987" y="0"/>
                  </a:moveTo>
                  <a:lnTo>
                    <a:pt x="8035" y="0"/>
                  </a:lnTo>
                  <a:lnTo>
                    <a:pt x="8035" y="16"/>
                  </a:lnTo>
                  <a:lnTo>
                    <a:pt x="7987" y="16"/>
                  </a:lnTo>
                  <a:lnTo>
                    <a:pt x="7987" y="0"/>
                  </a:lnTo>
                  <a:close/>
                  <a:moveTo>
                    <a:pt x="8051" y="0"/>
                  </a:moveTo>
                  <a:lnTo>
                    <a:pt x="8099" y="0"/>
                  </a:lnTo>
                  <a:lnTo>
                    <a:pt x="8099" y="16"/>
                  </a:lnTo>
                  <a:lnTo>
                    <a:pt x="8051" y="16"/>
                  </a:lnTo>
                  <a:lnTo>
                    <a:pt x="8051" y="0"/>
                  </a:lnTo>
                  <a:close/>
                  <a:moveTo>
                    <a:pt x="8115" y="0"/>
                  </a:moveTo>
                  <a:lnTo>
                    <a:pt x="8163" y="0"/>
                  </a:lnTo>
                  <a:lnTo>
                    <a:pt x="8163" y="16"/>
                  </a:lnTo>
                  <a:lnTo>
                    <a:pt x="8115" y="16"/>
                  </a:lnTo>
                  <a:lnTo>
                    <a:pt x="8115" y="0"/>
                  </a:lnTo>
                  <a:close/>
                  <a:moveTo>
                    <a:pt x="8179" y="0"/>
                  </a:moveTo>
                  <a:lnTo>
                    <a:pt x="8227" y="0"/>
                  </a:lnTo>
                  <a:lnTo>
                    <a:pt x="8227" y="16"/>
                  </a:lnTo>
                  <a:lnTo>
                    <a:pt x="8179" y="16"/>
                  </a:lnTo>
                  <a:lnTo>
                    <a:pt x="8179" y="0"/>
                  </a:lnTo>
                  <a:close/>
                  <a:moveTo>
                    <a:pt x="8243" y="0"/>
                  </a:moveTo>
                  <a:lnTo>
                    <a:pt x="8291" y="0"/>
                  </a:lnTo>
                  <a:lnTo>
                    <a:pt x="8291" y="16"/>
                  </a:lnTo>
                  <a:lnTo>
                    <a:pt x="8243" y="16"/>
                  </a:lnTo>
                  <a:lnTo>
                    <a:pt x="8243" y="0"/>
                  </a:lnTo>
                  <a:close/>
                  <a:moveTo>
                    <a:pt x="8307" y="0"/>
                  </a:moveTo>
                  <a:lnTo>
                    <a:pt x="8355" y="0"/>
                  </a:lnTo>
                  <a:lnTo>
                    <a:pt x="8355" y="16"/>
                  </a:lnTo>
                  <a:lnTo>
                    <a:pt x="8307" y="16"/>
                  </a:lnTo>
                  <a:lnTo>
                    <a:pt x="8307" y="0"/>
                  </a:lnTo>
                  <a:close/>
                  <a:moveTo>
                    <a:pt x="8371" y="0"/>
                  </a:moveTo>
                  <a:lnTo>
                    <a:pt x="8420" y="0"/>
                  </a:lnTo>
                  <a:lnTo>
                    <a:pt x="8420" y="16"/>
                  </a:lnTo>
                  <a:lnTo>
                    <a:pt x="8371" y="16"/>
                  </a:lnTo>
                  <a:lnTo>
                    <a:pt x="8371" y="0"/>
                  </a:lnTo>
                  <a:close/>
                  <a:moveTo>
                    <a:pt x="8436" y="0"/>
                  </a:moveTo>
                  <a:lnTo>
                    <a:pt x="8484" y="0"/>
                  </a:lnTo>
                  <a:lnTo>
                    <a:pt x="8484" y="16"/>
                  </a:lnTo>
                  <a:lnTo>
                    <a:pt x="8436" y="16"/>
                  </a:lnTo>
                  <a:lnTo>
                    <a:pt x="8436" y="0"/>
                  </a:lnTo>
                  <a:close/>
                  <a:moveTo>
                    <a:pt x="8500" y="0"/>
                  </a:moveTo>
                  <a:lnTo>
                    <a:pt x="8548" y="0"/>
                  </a:lnTo>
                  <a:lnTo>
                    <a:pt x="8548" y="16"/>
                  </a:lnTo>
                  <a:lnTo>
                    <a:pt x="8500" y="16"/>
                  </a:lnTo>
                  <a:lnTo>
                    <a:pt x="8500" y="0"/>
                  </a:lnTo>
                  <a:close/>
                  <a:moveTo>
                    <a:pt x="8564" y="0"/>
                  </a:moveTo>
                  <a:lnTo>
                    <a:pt x="8612" y="0"/>
                  </a:lnTo>
                  <a:lnTo>
                    <a:pt x="8612" y="16"/>
                  </a:lnTo>
                  <a:lnTo>
                    <a:pt x="8564" y="16"/>
                  </a:lnTo>
                  <a:lnTo>
                    <a:pt x="8564" y="0"/>
                  </a:lnTo>
                  <a:close/>
                  <a:moveTo>
                    <a:pt x="8628" y="0"/>
                  </a:moveTo>
                  <a:lnTo>
                    <a:pt x="8676" y="0"/>
                  </a:lnTo>
                  <a:lnTo>
                    <a:pt x="8676" y="16"/>
                  </a:lnTo>
                  <a:lnTo>
                    <a:pt x="8628" y="16"/>
                  </a:lnTo>
                  <a:lnTo>
                    <a:pt x="8628" y="0"/>
                  </a:lnTo>
                  <a:close/>
                  <a:moveTo>
                    <a:pt x="8692" y="0"/>
                  </a:moveTo>
                  <a:lnTo>
                    <a:pt x="8740" y="0"/>
                  </a:lnTo>
                  <a:lnTo>
                    <a:pt x="8740" y="16"/>
                  </a:lnTo>
                  <a:lnTo>
                    <a:pt x="8692" y="16"/>
                  </a:lnTo>
                  <a:lnTo>
                    <a:pt x="8692" y="0"/>
                  </a:lnTo>
                  <a:close/>
                  <a:moveTo>
                    <a:pt x="8756" y="0"/>
                  </a:moveTo>
                  <a:lnTo>
                    <a:pt x="8804" y="0"/>
                  </a:lnTo>
                  <a:lnTo>
                    <a:pt x="8804" y="16"/>
                  </a:lnTo>
                  <a:lnTo>
                    <a:pt x="8756" y="16"/>
                  </a:lnTo>
                  <a:lnTo>
                    <a:pt x="8756" y="0"/>
                  </a:lnTo>
                  <a:close/>
                  <a:moveTo>
                    <a:pt x="8820" y="0"/>
                  </a:moveTo>
                  <a:lnTo>
                    <a:pt x="8868" y="0"/>
                  </a:lnTo>
                  <a:lnTo>
                    <a:pt x="8868" y="16"/>
                  </a:lnTo>
                  <a:lnTo>
                    <a:pt x="8820" y="16"/>
                  </a:lnTo>
                  <a:lnTo>
                    <a:pt x="8820" y="0"/>
                  </a:lnTo>
                  <a:close/>
                  <a:moveTo>
                    <a:pt x="8884" y="0"/>
                  </a:moveTo>
                  <a:lnTo>
                    <a:pt x="8932" y="0"/>
                  </a:lnTo>
                  <a:lnTo>
                    <a:pt x="8932" y="16"/>
                  </a:lnTo>
                  <a:lnTo>
                    <a:pt x="8884" y="16"/>
                  </a:lnTo>
                  <a:lnTo>
                    <a:pt x="8884" y="0"/>
                  </a:lnTo>
                  <a:close/>
                  <a:moveTo>
                    <a:pt x="8948" y="0"/>
                  </a:moveTo>
                  <a:lnTo>
                    <a:pt x="8996" y="0"/>
                  </a:lnTo>
                  <a:lnTo>
                    <a:pt x="8996" y="16"/>
                  </a:lnTo>
                  <a:lnTo>
                    <a:pt x="8948" y="16"/>
                  </a:lnTo>
                  <a:lnTo>
                    <a:pt x="8948" y="0"/>
                  </a:lnTo>
                  <a:close/>
                  <a:moveTo>
                    <a:pt x="9012" y="0"/>
                  </a:moveTo>
                  <a:lnTo>
                    <a:pt x="9060" y="0"/>
                  </a:lnTo>
                  <a:lnTo>
                    <a:pt x="9060" y="16"/>
                  </a:lnTo>
                  <a:lnTo>
                    <a:pt x="9012" y="16"/>
                  </a:lnTo>
                  <a:lnTo>
                    <a:pt x="9012" y="0"/>
                  </a:lnTo>
                  <a:close/>
                  <a:moveTo>
                    <a:pt x="9076" y="0"/>
                  </a:moveTo>
                  <a:lnTo>
                    <a:pt x="9124" y="0"/>
                  </a:lnTo>
                  <a:lnTo>
                    <a:pt x="9124" y="16"/>
                  </a:lnTo>
                  <a:lnTo>
                    <a:pt x="9076" y="16"/>
                  </a:lnTo>
                  <a:lnTo>
                    <a:pt x="9076" y="0"/>
                  </a:lnTo>
                  <a:close/>
                  <a:moveTo>
                    <a:pt x="9140" y="0"/>
                  </a:moveTo>
                  <a:lnTo>
                    <a:pt x="9188" y="0"/>
                  </a:lnTo>
                  <a:lnTo>
                    <a:pt x="9188" y="16"/>
                  </a:lnTo>
                  <a:lnTo>
                    <a:pt x="9140" y="16"/>
                  </a:lnTo>
                  <a:lnTo>
                    <a:pt x="9140" y="0"/>
                  </a:lnTo>
                  <a:close/>
                  <a:moveTo>
                    <a:pt x="9204" y="0"/>
                  </a:moveTo>
                  <a:lnTo>
                    <a:pt x="9252" y="0"/>
                  </a:lnTo>
                  <a:lnTo>
                    <a:pt x="9252" y="16"/>
                  </a:lnTo>
                  <a:lnTo>
                    <a:pt x="9204" y="16"/>
                  </a:lnTo>
                  <a:lnTo>
                    <a:pt x="9204" y="0"/>
                  </a:lnTo>
                  <a:close/>
                  <a:moveTo>
                    <a:pt x="9268" y="0"/>
                  </a:moveTo>
                  <a:lnTo>
                    <a:pt x="9316" y="0"/>
                  </a:lnTo>
                  <a:lnTo>
                    <a:pt x="9316" y="16"/>
                  </a:lnTo>
                  <a:lnTo>
                    <a:pt x="9268" y="16"/>
                  </a:lnTo>
                  <a:lnTo>
                    <a:pt x="9268" y="0"/>
                  </a:lnTo>
                  <a:close/>
                  <a:moveTo>
                    <a:pt x="9332" y="0"/>
                  </a:moveTo>
                  <a:lnTo>
                    <a:pt x="9380" y="0"/>
                  </a:lnTo>
                  <a:lnTo>
                    <a:pt x="9380" y="16"/>
                  </a:lnTo>
                  <a:lnTo>
                    <a:pt x="9332" y="16"/>
                  </a:lnTo>
                  <a:lnTo>
                    <a:pt x="9332" y="0"/>
                  </a:lnTo>
                  <a:close/>
                  <a:moveTo>
                    <a:pt x="9397" y="0"/>
                  </a:moveTo>
                  <a:lnTo>
                    <a:pt x="9445" y="0"/>
                  </a:lnTo>
                  <a:lnTo>
                    <a:pt x="9445" y="16"/>
                  </a:lnTo>
                  <a:lnTo>
                    <a:pt x="9397" y="16"/>
                  </a:lnTo>
                  <a:lnTo>
                    <a:pt x="9397" y="0"/>
                  </a:lnTo>
                  <a:close/>
                  <a:moveTo>
                    <a:pt x="9461" y="0"/>
                  </a:moveTo>
                  <a:lnTo>
                    <a:pt x="9509" y="0"/>
                  </a:lnTo>
                  <a:lnTo>
                    <a:pt x="9509" y="16"/>
                  </a:lnTo>
                  <a:lnTo>
                    <a:pt x="9461" y="16"/>
                  </a:lnTo>
                  <a:lnTo>
                    <a:pt x="9461" y="0"/>
                  </a:lnTo>
                  <a:close/>
                  <a:moveTo>
                    <a:pt x="9525" y="0"/>
                  </a:moveTo>
                  <a:lnTo>
                    <a:pt x="9573" y="0"/>
                  </a:lnTo>
                  <a:lnTo>
                    <a:pt x="9573" y="16"/>
                  </a:lnTo>
                  <a:lnTo>
                    <a:pt x="9525" y="16"/>
                  </a:lnTo>
                  <a:lnTo>
                    <a:pt x="9525" y="0"/>
                  </a:lnTo>
                  <a:close/>
                  <a:moveTo>
                    <a:pt x="9589" y="0"/>
                  </a:moveTo>
                  <a:lnTo>
                    <a:pt x="9637" y="0"/>
                  </a:lnTo>
                  <a:lnTo>
                    <a:pt x="9637" y="16"/>
                  </a:lnTo>
                  <a:lnTo>
                    <a:pt x="9589" y="16"/>
                  </a:lnTo>
                  <a:lnTo>
                    <a:pt x="9589" y="0"/>
                  </a:lnTo>
                  <a:close/>
                  <a:moveTo>
                    <a:pt x="9653" y="0"/>
                  </a:moveTo>
                  <a:lnTo>
                    <a:pt x="9701" y="0"/>
                  </a:lnTo>
                  <a:lnTo>
                    <a:pt x="9701" y="16"/>
                  </a:lnTo>
                  <a:lnTo>
                    <a:pt x="9653" y="16"/>
                  </a:lnTo>
                  <a:lnTo>
                    <a:pt x="9653" y="0"/>
                  </a:lnTo>
                  <a:close/>
                  <a:moveTo>
                    <a:pt x="9717" y="0"/>
                  </a:moveTo>
                  <a:lnTo>
                    <a:pt x="9765" y="0"/>
                  </a:lnTo>
                  <a:lnTo>
                    <a:pt x="9765" y="16"/>
                  </a:lnTo>
                  <a:lnTo>
                    <a:pt x="9717" y="16"/>
                  </a:lnTo>
                  <a:lnTo>
                    <a:pt x="9717" y="0"/>
                  </a:lnTo>
                  <a:close/>
                  <a:moveTo>
                    <a:pt x="9781" y="0"/>
                  </a:moveTo>
                  <a:lnTo>
                    <a:pt x="9829" y="0"/>
                  </a:lnTo>
                  <a:lnTo>
                    <a:pt x="9829" y="16"/>
                  </a:lnTo>
                  <a:lnTo>
                    <a:pt x="9781" y="16"/>
                  </a:lnTo>
                  <a:lnTo>
                    <a:pt x="9781" y="0"/>
                  </a:lnTo>
                  <a:close/>
                  <a:moveTo>
                    <a:pt x="9845" y="0"/>
                  </a:moveTo>
                  <a:lnTo>
                    <a:pt x="9893" y="0"/>
                  </a:lnTo>
                  <a:lnTo>
                    <a:pt x="9893" y="16"/>
                  </a:lnTo>
                  <a:lnTo>
                    <a:pt x="9845" y="16"/>
                  </a:lnTo>
                  <a:lnTo>
                    <a:pt x="9845" y="0"/>
                  </a:lnTo>
                  <a:close/>
                  <a:moveTo>
                    <a:pt x="9909" y="0"/>
                  </a:moveTo>
                  <a:lnTo>
                    <a:pt x="9957" y="0"/>
                  </a:lnTo>
                  <a:lnTo>
                    <a:pt x="9957" y="16"/>
                  </a:lnTo>
                  <a:lnTo>
                    <a:pt x="9909" y="16"/>
                  </a:lnTo>
                  <a:lnTo>
                    <a:pt x="9909" y="0"/>
                  </a:lnTo>
                  <a:close/>
                  <a:moveTo>
                    <a:pt x="9973" y="0"/>
                  </a:moveTo>
                  <a:lnTo>
                    <a:pt x="10021" y="0"/>
                  </a:lnTo>
                  <a:lnTo>
                    <a:pt x="10021" y="16"/>
                  </a:lnTo>
                  <a:lnTo>
                    <a:pt x="9973" y="16"/>
                  </a:lnTo>
                  <a:lnTo>
                    <a:pt x="9973" y="0"/>
                  </a:lnTo>
                  <a:close/>
                  <a:moveTo>
                    <a:pt x="10037" y="0"/>
                  </a:moveTo>
                  <a:lnTo>
                    <a:pt x="10085" y="0"/>
                  </a:lnTo>
                  <a:lnTo>
                    <a:pt x="10085" y="16"/>
                  </a:lnTo>
                  <a:lnTo>
                    <a:pt x="10037" y="16"/>
                  </a:lnTo>
                  <a:lnTo>
                    <a:pt x="10037" y="0"/>
                  </a:lnTo>
                  <a:close/>
                  <a:moveTo>
                    <a:pt x="10101" y="0"/>
                  </a:moveTo>
                  <a:lnTo>
                    <a:pt x="10149" y="0"/>
                  </a:lnTo>
                  <a:lnTo>
                    <a:pt x="10149" y="16"/>
                  </a:lnTo>
                  <a:lnTo>
                    <a:pt x="10101" y="16"/>
                  </a:lnTo>
                  <a:lnTo>
                    <a:pt x="10101" y="0"/>
                  </a:lnTo>
                  <a:close/>
                  <a:moveTo>
                    <a:pt x="10165" y="0"/>
                  </a:moveTo>
                  <a:lnTo>
                    <a:pt x="10213" y="0"/>
                  </a:lnTo>
                  <a:lnTo>
                    <a:pt x="10213" y="16"/>
                  </a:lnTo>
                  <a:lnTo>
                    <a:pt x="10165" y="16"/>
                  </a:lnTo>
                  <a:lnTo>
                    <a:pt x="10165" y="0"/>
                  </a:lnTo>
                  <a:close/>
                  <a:moveTo>
                    <a:pt x="10229" y="0"/>
                  </a:moveTo>
                  <a:lnTo>
                    <a:pt x="10277" y="0"/>
                  </a:lnTo>
                  <a:lnTo>
                    <a:pt x="10277" y="16"/>
                  </a:lnTo>
                  <a:lnTo>
                    <a:pt x="10229" y="16"/>
                  </a:lnTo>
                  <a:lnTo>
                    <a:pt x="10229" y="0"/>
                  </a:lnTo>
                  <a:close/>
                  <a:moveTo>
                    <a:pt x="10293" y="0"/>
                  </a:moveTo>
                  <a:lnTo>
                    <a:pt x="10341" y="0"/>
                  </a:lnTo>
                  <a:lnTo>
                    <a:pt x="10341" y="16"/>
                  </a:lnTo>
                  <a:lnTo>
                    <a:pt x="10293" y="16"/>
                  </a:lnTo>
                  <a:lnTo>
                    <a:pt x="10293" y="0"/>
                  </a:lnTo>
                  <a:close/>
                  <a:moveTo>
                    <a:pt x="10357" y="0"/>
                  </a:moveTo>
                  <a:lnTo>
                    <a:pt x="10406" y="0"/>
                  </a:lnTo>
                  <a:lnTo>
                    <a:pt x="10406" y="16"/>
                  </a:lnTo>
                  <a:lnTo>
                    <a:pt x="10357" y="16"/>
                  </a:lnTo>
                  <a:lnTo>
                    <a:pt x="10357" y="0"/>
                  </a:lnTo>
                  <a:close/>
                  <a:moveTo>
                    <a:pt x="10422" y="0"/>
                  </a:moveTo>
                  <a:lnTo>
                    <a:pt x="10470" y="0"/>
                  </a:lnTo>
                  <a:lnTo>
                    <a:pt x="10470" y="16"/>
                  </a:lnTo>
                  <a:lnTo>
                    <a:pt x="10422" y="16"/>
                  </a:lnTo>
                  <a:lnTo>
                    <a:pt x="10422" y="0"/>
                  </a:lnTo>
                  <a:close/>
                  <a:moveTo>
                    <a:pt x="10486" y="0"/>
                  </a:moveTo>
                  <a:lnTo>
                    <a:pt x="10534" y="0"/>
                  </a:lnTo>
                  <a:lnTo>
                    <a:pt x="10534" y="16"/>
                  </a:lnTo>
                  <a:lnTo>
                    <a:pt x="10486" y="16"/>
                  </a:lnTo>
                  <a:lnTo>
                    <a:pt x="10486" y="0"/>
                  </a:lnTo>
                  <a:close/>
                  <a:moveTo>
                    <a:pt x="10550" y="0"/>
                  </a:moveTo>
                  <a:lnTo>
                    <a:pt x="10598" y="0"/>
                  </a:lnTo>
                  <a:lnTo>
                    <a:pt x="10598" y="16"/>
                  </a:lnTo>
                  <a:lnTo>
                    <a:pt x="10550" y="16"/>
                  </a:lnTo>
                  <a:lnTo>
                    <a:pt x="10550" y="0"/>
                  </a:lnTo>
                  <a:close/>
                  <a:moveTo>
                    <a:pt x="10614" y="0"/>
                  </a:moveTo>
                  <a:lnTo>
                    <a:pt x="10662" y="0"/>
                  </a:lnTo>
                  <a:lnTo>
                    <a:pt x="10662" y="16"/>
                  </a:lnTo>
                  <a:lnTo>
                    <a:pt x="10614" y="16"/>
                  </a:lnTo>
                  <a:lnTo>
                    <a:pt x="10614" y="0"/>
                  </a:lnTo>
                  <a:close/>
                  <a:moveTo>
                    <a:pt x="10678" y="0"/>
                  </a:moveTo>
                  <a:lnTo>
                    <a:pt x="10726" y="0"/>
                  </a:lnTo>
                  <a:lnTo>
                    <a:pt x="10726" y="16"/>
                  </a:lnTo>
                  <a:lnTo>
                    <a:pt x="10678" y="16"/>
                  </a:lnTo>
                  <a:lnTo>
                    <a:pt x="10678" y="0"/>
                  </a:lnTo>
                  <a:close/>
                  <a:moveTo>
                    <a:pt x="10742" y="0"/>
                  </a:moveTo>
                  <a:lnTo>
                    <a:pt x="10790" y="0"/>
                  </a:lnTo>
                  <a:lnTo>
                    <a:pt x="10790" y="16"/>
                  </a:lnTo>
                  <a:lnTo>
                    <a:pt x="10742" y="16"/>
                  </a:lnTo>
                  <a:lnTo>
                    <a:pt x="10742" y="0"/>
                  </a:lnTo>
                  <a:close/>
                  <a:moveTo>
                    <a:pt x="10806" y="0"/>
                  </a:moveTo>
                  <a:lnTo>
                    <a:pt x="10854" y="0"/>
                  </a:lnTo>
                  <a:lnTo>
                    <a:pt x="10854" y="16"/>
                  </a:lnTo>
                  <a:lnTo>
                    <a:pt x="10806" y="16"/>
                  </a:lnTo>
                  <a:lnTo>
                    <a:pt x="10806" y="0"/>
                  </a:lnTo>
                  <a:close/>
                  <a:moveTo>
                    <a:pt x="10870" y="0"/>
                  </a:moveTo>
                  <a:lnTo>
                    <a:pt x="10918" y="0"/>
                  </a:lnTo>
                  <a:lnTo>
                    <a:pt x="10918" y="16"/>
                  </a:lnTo>
                  <a:lnTo>
                    <a:pt x="10870" y="16"/>
                  </a:lnTo>
                  <a:lnTo>
                    <a:pt x="10870" y="0"/>
                  </a:lnTo>
                  <a:close/>
                  <a:moveTo>
                    <a:pt x="10934" y="0"/>
                  </a:moveTo>
                  <a:lnTo>
                    <a:pt x="10982" y="0"/>
                  </a:lnTo>
                  <a:lnTo>
                    <a:pt x="10982" y="16"/>
                  </a:lnTo>
                  <a:lnTo>
                    <a:pt x="10934" y="16"/>
                  </a:lnTo>
                  <a:lnTo>
                    <a:pt x="10934" y="0"/>
                  </a:lnTo>
                  <a:close/>
                  <a:moveTo>
                    <a:pt x="10998" y="0"/>
                  </a:moveTo>
                  <a:lnTo>
                    <a:pt x="11046" y="0"/>
                  </a:lnTo>
                  <a:lnTo>
                    <a:pt x="11046" y="16"/>
                  </a:lnTo>
                  <a:lnTo>
                    <a:pt x="10998" y="16"/>
                  </a:lnTo>
                  <a:lnTo>
                    <a:pt x="10998" y="0"/>
                  </a:lnTo>
                  <a:close/>
                  <a:moveTo>
                    <a:pt x="11062" y="0"/>
                  </a:moveTo>
                  <a:lnTo>
                    <a:pt x="11110" y="0"/>
                  </a:lnTo>
                  <a:lnTo>
                    <a:pt x="11110" y="16"/>
                  </a:lnTo>
                  <a:lnTo>
                    <a:pt x="11062" y="16"/>
                  </a:lnTo>
                  <a:lnTo>
                    <a:pt x="11062" y="0"/>
                  </a:lnTo>
                  <a:close/>
                  <a:moveTo>
                    <a:pt x="11126" y="0"/>
                  </a:moveTo>
                  <a:lnTo>
                    <a:pt x="11174" y="0"/>
                  </a:lnTo>
                  <a:lnTo>
                    <a:pt x="11174" y="16"/>
                  </a:lnTo>
                  <a:lnTo>
                    <a:pt x="11126" y="16"/>
                  </a:lnTo>
                  <a:lnTo>
                    <a:pt x="11126" y="0"/>
                  </a:lnTo>
                  <a:close/>
                  <a:moveTo>
                    <a:pt x="11190" y="0"/>
                  </a:moveTo>
                  <a:lnTo>
                    <a:pt x="11238" y="0"/>
                  </a:lnTo>
                  <a:lnTo>
                    <a:pt x="11238" y="16"/>
                  </a:lnTo>
                  <a:lnTo>
                    <a:pt x="11190" y="16"/>
                  </a:lnTo>
                  <a:lnTo>
                    <a:pt x="11190" y="0"/>
                  </a:lnTo>
                  <a:close/>
                  <a:moveTo>
                    <a:pt x="11254" y="0"/>
                  </a:moveTo>
                  <a:lnTo>
                    <a:pt x="11302" y="0"/>
                  </a:lnTo>
                  <a:lnTo>
                    <a:pt x="11302" y="16"/>
                  </a:lnTo>
                  <a:lnTo>
                    <a:pt x="11254" y="16"/>
                  </a:lnTo>
                  <a:lnTo>
                    <a:pt x="11254" y="0"/>
                  </a:lnTo>
                  <a:close/>
                  <a:moveTo>
                    <a:pt x="11318" y="0"/>
                  </a:moveTo>
                  <a:lnTo>
                    <a:pt x="11367" y="0"/>
                  </a:lnTo>
                  <a:lnTo>
                    <a:pt x="11367" y="16"/>
                  </a:lnTo>
                  <a:lnTo>
                    <a:pt x="11318" y="16"/>
                  </a:lnTo>
                  <a:lnTo>
                    <a:pt x="11318" y="0"/>
                  </a:lnTo>
                  <a:close/>
                  <a:moveTo>
                    <a:pt x="11383" y="0"/>
                  </a:moveTo>
                  <a:lnTo>
                    <a:pt x="11431" y="0"/>
                  </a:lnTo>
                  <a:lnTo>
                    <a:pt x="11431" y="16"/>
                  </a:lnTo>
                  <a:lnTo>
                    <a:pt x="11383" y="16"/>
                  </a:lnTo>
                  <a:lnTo>
                    <a:pt x="11383" y="0"/>
                  </a:lnTo>
                  <a:close/>
                  <a:moveTo>
                    <a:pt x="11447" y="0"/>
                  </a:moveTo>
                  <a:lnTo>
                    <a:pt x="11495" y="0"/>
                  </a:lnTo>
                  <a:lnTo>
                    <a:pt x="11495" y="16"/>
                  </a:lnTo>
                  <a:lnTo>
                    <a:pt x="11447" y="16"/>
                  </a:lnTo>
                  <a:lnTo>
                    <a:pt x="11447" y="0"/>
                  </a:lnTo>
                  <a:close/>
                  <a:moveTo>
                    <a:pt x="11511" y="0"/>
                  </a:moveTo>
                  <a:lnTo>
                    <a:pt x="11559" y="0"/>
                  </a:lnTo>
                  <a:lnTo>
                    <a:pt x="11559" y="16"/>
                  </a:lnTo>
                  <a:lnTo>
                    <a:pt x="11511" y="16"/>
                  </a:lnTo>
                  <a:lnTo>
                    <a:pt x="11511" y="0"/>
                  </a:lnTo>
                  <a:close/>
                  <a:moveTo>
                    <a:pt x="11575" y="0"/>
                  </a:moveTo>
                  <a:lnTo>
                    <a:pt x="11623" y="0"/>
                  </a:lnTo>
                  <a:lnTo>
                    <a:pt x="11623" y="16"/>
                  </a:lnTo>
                  <a:lnTo>
                    <a:pt x="11575" y="16"/>
                  </a:lnTo>
                  <a:lnTo>
                    <a:pt x="11575" y="0"/>
                  </a:lnTo>
                  <a:close/>
                  <a:moveTo>
                    <a:pt x="11639" y="0"/>
                  </a:moveTo>
                  <a:lnTo>
                    <a:pt x="11687" y="0"/>
                  </a:lnTo>
                  <a:lnTo>
                    <a:pt x="11687" y="16"/>
                  </a:lnTo>
                  <a:lnTo>
                    <a:pt x="11639" y="16"/>
                  </a:lnTo>
                  <a:lnTo>
                    <a:pt x="11639" y="0"/>
                  </a:lnTo>
                  <a:close/>
                  <a:moveTo>
                    <a:pt x="11703" y="0"/>
                  </a:moveTo>
                  <a:lnTo>
                    <a:pt x="11751" y="0"/>
                  </a:lnTo>
                  <a:lnTo>
                    <a:pt x="11751" y="16"/>
                  </a:lnTo>
                  <a:lnTo>
                    <a:pt x="11703" y="16"/>
                  </a:lnTo>
                  <a:lnTo>
                    <a:pt x="11703" y="0"/>
                  </a:lnTo>
                  <a:close/>
                  <a:moveTo>
                    <a:pt x="11767" y="0"/>
                  </a:moveTo>
                  <a:lnTo>
                    <a:pt x="11815" y="0"/>
                  </a:lnTo>
                  <a:lnTo>
                    <a:pt x="11815" y="16"/>
                  </a:lnTo>
                  <a:lnTo>
                    <a:pt x="11767" y="16"/>
                  </a:lnTo>
                  <a:lnTo>
                    <a:pt x="11767" y="0"/>
                  </a:lnTo>
                  <a:close/>
                  <a:moveTo>
                    <a:pt x="11831" y="0"/>
                  </a:moveTo>
                  <a:lnTo>
                    <a:pt x="11879" y="0"/>
                  </a:lnTo>
                  <a:lnTo>
                    <a:pt x="11879" y="16"/>
                  </a:lnTo>
                  <a:lnTo>
                    <a:pt x="11831" y="16"/>
                  </a:lnTo>
                  <a:lnTo>
                    <a:pt x="11831" y="0"/>
                  </a:lnTo>
                  <a:close/>
                  <a:moveTo>
                    <a:pt x="11895" y="0"/>
                  </a:moveTo>
                  <a:lnTo>
                    <a:pt x="11943" y="0"/>
                  </a:lnTo>
                  <a:lnTo>
                    <a:pt x="11943" y="16"/>
                  </a:lnTo>
                  <a:lnTo>
                    <a:pt x="11895" y="16"/>
                  </a:lnTo>
                  <a:lnTo>
                    <a:pt x="11895" y="0"/>
                  </a:lnTo>
                  <a:close/>
                  <a:moveTo>
                    <a:pt x="11959" y="0"/>
                  </a:moveTo>
                  <a:lnTo>
                    <a:pt x="12007" y="0"/>
                  </a:lnTo>
                  <a:lnTo>
                    <a:pt x="12007" y="16"/>
                  </a:lnTo>
                  <a:lnTo>
                    <a:pt x="11959" y="16"/>
                  </a:lnTo>
                  <a:lnTo>
                    <a:pt x="11959" y="0"/>
                  </a:lnTo>
                  <a:close/>
                  <a:moveTo>
                    <a:pt x="12023" y="0"/>
                  </a:moveTo>
                  <a:lnTo>
                    <a:pt x="12070" y="0"/>
                  </a:lnTo>
                  <a:lnTo>
                    <a:pt x="12070" y="16"/>
                  </a:lnTo>
                  <a:lnTo>
                    <a:pt x="12023" y="16"/>
                  </a:lnTo>
                  <a:lnTo>
                    <a:pt x="12023" y="0"/>
                  </a:lnTo>
                  <a:close/>
                  <a:moveTo>
                    <a:pt x="12071" y="0"/>
                  </a:moveTo>
                  <a:lnTo>
                    <a:pt x="12072" y="1"/>
                  </a:lnTo>
                  <a:lnTo>
                    <a:pt x="12071" y="16"/>
                  </a:lnTo>
                  <a:lnTo>
                    <a:pt x="12070" y="16"/>
                  </a:lnTo>
                  <a:lnTo>
                    <a:pt x="12071" y="0"/>
                  </a:lnTo>
                  <a:close/>
                  <a:moveTo>
                    <a:pt x="12088" y="2"/>
                  </a:moveTo>
                  <a:lnTo>
                    <a:pt x="12123" y="5"/>
                  </a:lnTo>
                  <a:cubicBezTo>
                    <a:pt x="12124" y="6"/>
                    <a:pt x="12124" y="6"/>
                    <a:pt x="12125" y="6"/>
                  </a:cubicBezTo>
                  <a:lnTo>
                    <a:pt x="12137" y="9"/>
                  </a:lnTo>
                  <a:lnTo>
                    <a:pt x="12132" y="25"/>
                  </a:lnTo>
                  <a:lnTo>
                    <a:pt x="12120" y="21"/>
                  </a:lnTo>
                  <a:lnTo>
                    <a:pt x="12122" y="21"/>
                  </a:lnTo>
                  <a:lnTo>
                    <a:pt x="12086" y="18"/>
                  </a:lnTo>
                  <a:lnTo>
                    <a:pt x="12088" y="2"/>
                  </a:lnTo>
                  <a:close/>
                  <a:moveTo>
                    <a:pt x="12152" y="14"/>
                  </a:moveTo>
                  <a:lnTo>
                    <a:pt x="12174" y="21"/>
                  </a:lnTo>
                  <a:cubicBezTo>
                    <a:pt x="12174" y="21"/>
                    <a:pt x="12175" y="21"/>
                    <a:pt x="12175" y="21"/>
                  </a:cubicBezTo>
                  <a:lnTo>
                    <a:pt x="12198" y="34"/>
                  </a:lnTo>
                  <a:lnTo>
                    <a:pt x="12190" y="48"/>
                  </a:lnTo>
                  <a:lnTo>
                    <a:pt x="12168" y="35"/>
                  </a:lnTo>
                  <a:lnTo>
                    <a:pt x="12169" y="36"/>
                  </a:lnTo>
                  <a:lnTo>
                    <a:pt x="12148" y="29"/>
                  </a:lnTo>
                  <a:lnTo>
                    <a:pt x="12152" y="14"/>
                  </a:lnTo>
                  <a:close/>
                  <a:moveTo>
                    <a:pt x="12212" y="42"/>
                  </a:moveTo>
                  <a:lnTo>
                    <a:pt x="12218" y="45"/>
                  </a:lnTo>
                  <a:cubicBezTo>
                    <a:pt x="12219" y="46"/>
                    <a:pt x="12219" y="46"/>
                    <a:pt x="12220" y="46"/>
                  </a:cubicBezTo>
                  <a:lnTo>
                    <a:pt x="12251" y="72"/>
                  </a:lnTo>
                  <a:lnTo>
                    <a:pt x="12241" y="84"/>
                  </a:lnTo>
                  <a:lnTo>
                    <a:pt x="12209" y="59"/>
                  </a:lnTo>
                  <a:lnTo>
                    <a:pt x="12211" y="59"/>
                  </a:lnTo>
                  <a:lnTo>
                    <a:pt x="12204" y="56"/>
                  </a:lnTo>
                  <a:lnTo>
                    <a:pt x="12212" y="42"/>
                  </a:lnTo>
                  <a:close/>
                  <a:moveTo>
                    <a:pt x="12263" y="84"/>
                  </a:moveTo>
                  <a:lnTo>
                    <a:pt x="12291" y="117"/>
                  </a:lnTo>
                  <a:cubicBezTo>
                    <a:pt x="12291" y="118"/>
                    <a:pt x="12291" y="118"/>
                    <a:pt x="12291" y="119"/>
                  </a:cubicBezTo>
                  <a:lnTo>
                    <a:pt x="12294" y="123"/>
                  </a:lnTo>
                  <a:lnTo>
                    <a:pt x="12280" y="131"/>
                  </a:lnTo>
                  <a:lnTo>
                    <a:pt x="12277" y="126"/>
                  </a:lnTo>
                  <a:lnTo>
                    <a:pt x="12278" y="128"/>
                  </a:lnTo>
                  <a:lnTo>
                    <a:pt x="12251" y="94"/>
                  </a:lnTo>
                  <a:lnTo>
                    <a:pt x="12263" y="84"/>
                  </a:lnTo>
                  <a:close/>
                  <a:moveTo>
                    <a:pt x="12301" y="137"/>
                  </a:moveTo>
                  <a:lnTo>
                    <a:pt x="12315" y="163"/>
                  </a:lnTo>
                  <a:cubicBezTo>
                    <a:pt x="12316" y="163"/>
                    <a:pt x="12316" y="164"/>
                    <a:pt x="12316" y="164"/>
                  </a:cubicBezTo>
                  <a:lnTo>
                    <a:pt x="12322" y="182"/>
                  </a:lnTo>
                  <a:lnTo>
                    <a:pt x="12306" y="187"/>
                  </a:lnTo>
                  <a:lnTo>
                    <a:pt x="12301" y="169"/>
                  </a:lnTo>
                  <a:lnTo>
                    <a:pt x="12301" y="170"/>
                  </a:lnTo>
                  <a:lnTo>
                    <a:pt x="12287" y="145"/>
                  </a:lnTo>
                  <a:lnTo>
                    <a:pt x="12301" y="137"/>
                  </a:lnTo>
                  <a:close/>
                  <a:moveTo>
                    <a:pt x="12326" y="197"/>
                  </a:moveTo>
                  <a:lnTo>
                    <a:pt x="12331" y="213"/>
                  </a:lnTo>
                  <a:cubicBezTo>
                    <a:pt x="12331" y="214"/>
                    <a:pt x="12331" y="214"/>
                    <a:pt x="12331" y="215"/>
                  </a:cubicBezTo>
                  <a:lnTo>
                    <a:pt x="12334" y="246"/>
                  </a:lnTo>
                  <a:lnTo>
                    <a:pt x="12319" y="248"/>
                  </a:lnTo>
                  <a:lnTo>
                    <a:pt x="12315" y="216"/>
                  </a:lnTo>
                  <a:lnTo>
                    <a:pt x="12316" y="218"/>
                  </a:lnTo>
                  <a:lnTo>
                    <a:pt x="12311" y="202"/>
                  </a:lnTo>
                  <a:lnTo>
                    <a:pt x="12326" y="197"/>
                  </a:lnTo>
                  <a:close/>
                  <a:moveTo>
                    <a:pt x="12336" y="262"/>
                  </a:moveTo>
                  <a:lnTo>
                    <a:pt x="12336" y="267"/>
                  </a:lnTo>
                  <a:lnTo>
                    <a:pt x="12320" y="268"/>
                  </a:lnTo>
                  <a:lnTo>
                    <a:pt x="12320" y="264"/>
                  </a:lnTo>
                  <a:lnTo>
                    <a:pt x="12336" y="262"/>
                  </a:lnTo>
                  <a:close/>
                  <a:moveTo>
                    <a:pt x="12336" y="267"/>
                  </a:moveTo>
                  <a:lnTo>
                    <a:pt x="12336" y="311"/>
                  </a:lnTo>
                  <a:lnTo>
                    <a:pt x="12320" y="311"/>
                  </a:lnTo>
                  <a:lnTo>
                    <a:pt x="12320" y="267"/>
                  </a:lnTo>
                  <a:lnTo>
                    <a:pt x="12336" y="267"/>
                  </a:lnTo>
                  <a:close/>
                  <a:moveTo>
                    <a:pt x="12336" y="327"/>
                  </a:moveTo>
                  <a:lnTo>
                    <a:pt x="12336" y="375"/>
                  </a:lnTo>
                  <a:lnTo>
                    <a:pt x="12320" y="375"/>
                  </a:lnTo>
                  <a:lnTo>
                    <a:pt x="12320" y="327"/>
                  </a:lnTo>
                  <a:lnTo>
                    <a:pt x="12336" y="327"/>
                  </a:lnTo>
                  <a:close/>
                  <a:moveTo>
                    <a:pt x="12336" y="391"/>
                  </a:moveTo>
                  <a:lnTo>
                    <a:pt x="12336" y="439"/>
                  </a:lnTo>
                  <a:lnTo>
                    <a:pt x="12320" y="439"/>
                  </a:lnTo>
                  <a:lnTo>
                    <a:pt x="12320" y="391"/>
                  </a:lnTo>
                  <a:lnTo>
                    <a:pt x="12336" y="391"/>
                  </a:lnTo>
                  <a:close/>
                  <a:moveTo>
                    <a:pt x="12336" y="455"/>
                  </a:moveTo>
                  <a:lnTo>
                    <a:pt x="12336" y="503"/>
                  </a:lnTo>
                  <a:lnTo>
                    <a:pt x="12320" y="503"/>
                  </a:lnTo>
                  <a:lnTo>
                    <a:pt x="12320" y="455"/>
                  </a:lnTo>
                  <a:lnTo>
                    <a:pt x="12336" y="455"/>
                  </a:lnTo>
                  <a:close/>
                  <a:moveTo>
                    <a:pt x="12336" y="519"/>
                  </a:moveTo>
                  <a:lnTo>
                    <a:pt x="12336" y="567"/>
                  </a:lnTo>
                  <a:lnTo>
                    <a:pt x="12320" y="567"/>
                  </a:lnTo>
                  <a:lnTo>
                    <a:pt x="12320" y="519"/>
                  </a:lnTo>
                  <a:lnTo>
                    <a:pt x="12336" y="519"/>
                  </a:lnTo>
                  <a:close/>
                  <a:moveTo>
                    <a:pt x="12336" y="583"/>
                  </a:moveTo>
                  <a:lnTo>
                    <a:pt x="12336" y="631"/>
                  </a:lnTo>
                  <a:lnTo>
                    <a:pt x="12320" y="631"/>
                  </a:lnTo>
                  <a:lnTo>
                    <a:pt x="12320" y="583"/>
                  </a:lnTo>
                  <a:lnTo>
                    <a:pt x="12336" y="583"/>
                  </a:lnTo>
                  <a:close/>
                  <a:moveTo>
                    <a:pt x="12336" y="647"/>
                  </a:moveTo>
                  <a:lnTo>
                    <a:pt x="12336" y="695"/>
                  </a:lnTo>
                  <a:lnTo>
                    <a:pt x="12320" y="695"/>
                  </a:lnTo>
                  <a:lnTo>
                    <a:pt x="12320" y="647"/>
                  </a:lnTo>
                  <a:lnTo>
                    <a:pt x="12336" y="647"/>
                  </a:lnTo>
                  <a:close/>
                  <a:moveTo>
                    <a:pt x="12336" y="711"/>
                  </a:moveTo>
                  <a:lnTo>
                    <a:pt x="12336" y="759"/>
                  </a:lnTo>
                  <a:lnTo>
                    <a:pt x="12320" y="759"/>
                  </a:lnTo>
                  <a:lnTo>
                    <a:pt x="12320" y="711"/>
                  </a:lnTo>
                  <a:lnTo>
                    <a:pt x="12336" y="711"/>
                  </a:lnTo>
                  <a:close/>
                  <a:moveTo>
                    <a:pt x="12336" y="775"/>
                  </a:moveTo>
                  <a:lnTo>
                    <a:pt x="12336" y="823"/>
                  </a:lnTo>
                  <a:lnTo>
                    <a:pt x="12320" y="823"/>
                  </a:lnTo>
                  <a:lnTo>
                    <a:pt x="12320" y="775"/>
                  </a:lnTo>
                  <a:lnTo>
                    <a:pt x="12336" y="775"/>
                  </a:lnTo>
                  <a:close/>
                  <a:moveTo>
                    <a:pt x="12336" y="839"/>
                  </a:moveTo>
                  <a:lnTo>
                    <a:pt x="12336" y="887"/>
                  </a:lnTo>
                  <a:lnTo>
                    <a:pt x="12320" y="887"/>
                  </a:lnTo>
                  <a:lnTo>
                    <a:pt x="12320" y="839"/>
                  </a:lnTo>
                  <a:lnTo>
                    <a:pt x="12336" y="839"/>
                  </a:lnTo>
                  <a:close/>
                  <a:moveTo>
                    <a:pt x="12336" y="903"/>
                  </a:moveTo>
                  <a:lnTo>
                    <a:pt x="12336" y="952"/>
                  </a:lnTo>
                  <a:lnTo>
                    <a:pt x="12320" y="952"/>
                  </a:lnTo>
                  <a:lnTo>
                    <a:pt x="12320" y="903"/>
                  </a:lnTo>
                  <a:lnTo>
                    <a:pt x="12336" y="903"/>
                  </a:lnTo>
                  <a:close/>
                  <a:moveTo>
                    <a:pt x="12336" y="968"/>
                  </a:moveTo>
                  <a:lnTo>
                    <a:pt x="12336" y="1016"/>
                  </a:lnTo>
                  <a:lnTo>
                    <a:pt x="12320" y="1016"/>
                  </a:lnTo>
                  <a:lnTo>
                    <a:pt x="12320" y="968"/>
                  </a:lnTo>
                  <a:lnTo>
                    <a:pt x="12336" y="968"/>
                  </a:lnTo>
                  <a:close/>
                  <a:moveTo>
                    <a:pt x="12336" y="1032"/>
                  </a:moveTo>
                  <a:lnTo>
                    <a:pt x="12336" y="1080"/>
                  </a:lnTo>
                  <a:lnTo>
                    <a:pt x="12320" y="1080"/>
                  </a:lnTo>
                  <a:lnTo>
                    <a:pt x="12320" y="1032"/>
                  </a:lnTo>
                  <a:lnTo>
                    <a:pt x="12336" y="1032"/>
                  </a:lnTo>
                  <a:close/>
                  <a:moveTo>
                    <a:pt x="12336" y="1096"/>
                  </a:moveTo>
                  <a:lnTo>
                    <a:pt x="12336" y="1144"/>
                  </a:lnTo>
                  <a:lnTo>
                    <a:pt x="12320" y="1144"/>
                  </a:lnTo>
                  <a:lnTo>
                    <a:pt x="12320" y="1096"/>
                  </a:lnTo>
                  <a:lnTo>
                    <a:pt x="12336" y="1096"/>
                  </a:lnTo>
                  <a:close/>
                  <a:moveTo>
                    <a:pt x="12336" y="1160"/>
                  </a:moveTo>
                  <a:lnTo>
                    <a:pt x="12336" y="1208"/>
                  </a:lnTo>
                  <a:lnTo>
                    <a:pt x="12320" y="1208"/>
                  </a:lnTo>
                  <a:lnTo>
                    <a:pt x="12320" y="1160"/>
                  </a:lnTo>
                  <a:lnTo>
                    <a:pt x="12336" y="1160"/>
                  </a:lnTo>
                  <a:close/>
                  <a:moveTo>
                    <a:pt x="12336" y="1224"/>
                  </a:moveTo>
                  <a:lnTo>
                    <a:pt x="12336" y="1272"/>
                  </a:lnTo>
                  <a:lnTo>
                    <a:pt x="12320" y="1272"/>
                  </a:lnTo>
                  <a:lnTo>
                    <a:pt x="12320" y="1224"/>
                  </a:lnTo>
                  <a:lnTo>
                    <a:pt x="12336" y="1224"/>
                  </a:lnTo>
                  <a:close/>
                  <a:moveTo>
                    <a:pt x="12336" y="1288"/>
                  </a:moveTo>
                  <a:lnTo>
                    <a:pt x="12336" y="1302"/>
                  </a:lnTo>
                  <a:lnTo>
                    <a:pt x="12320" y="1302"/>
                  </a:lnTo>
                  <a:lnTo>
                    <a:pt x="12320" y="1288"/>
                  </a:lnTo>
                  <a:lnTo>
                    <a:pt x="12336" y="1288"/>
                  </a:lnTo>
                  <a:close/>
                  <a:moveTo>
                    <a:pt x="12336" y="1303"/>
                  </a:moveTo>
                  <a:lnTo>
                    <a:pt x="12333" y="1337"/>
                  </a:lnTo>
                  <a:lnTo>
                    <a:pt x="12317" y="1335"/>
                  </a:lnTo>
                  <a:lnTo>
                    <a:pt x="12320" y="1302"/>
                  </a:lnTo>
                  <a:lnTo>
                    <a:pt x="12336" y="1303"/>
                  </a:lnTo>
                  <a:close/>
                  <a:moveTo>
                    <a:pt x="12332" y="1352"/>
                  </a:moveTo>
                  <a:lnTo>
                    <a:pt x="12331" y="1355"/>
                  </a:lnTo>
                  <a:cubicBezTo>
                    <a:pt x="12331" y="1356"/>
                    <a:pt x="12331" y="1356"/>
                    <a:pt x="12331" y="1357"/>
                  </a:cubicBezTo>
                  <a:lnTo>
                    <a:pt x="12318" y="1400"/>
                  </a:lnTo>
                  <a:lnTo>
                    <a:pt x="12303" y="1395"/>
                  </a:lnTo>
                  <a:lnTo>
                    <a:pt x="12316" y="1352"/>
                  </a:lnTo>
                  <a:lnTo>
                    <a:pt x="12315" y="1354"/>
                  </a:lnTo>
                  <a:lnTo>
                    <a:pt x="12316" y="1351"/>
                  </a:lnTo>
                  <a:lnTo>
                    <a:pt x="12332" y="1352"/>
                  </a:lnTo>
                  <a:close/>
                  <a:moveTo>
                    <a:pt x="12311" y="1416"/>
                  </a:moveTo>
                  <a:lnTo>
                    <a:pt x="12291" y="1450"/>
                  </a:lnTo>
                  <a:cubicBezTo>
                    <a:pt x="12291" y="1451"/>
                    <a:pt x="12291" y="1451"/>
                    <a:pt x="12291" y="1451"/>
                  </a:cubicBezTo>
                  <a:lnTo>
                    <a:pt x="12285" y="1458"/>
                  </a:lnTo>
                  <a:lnTo>
                    <a:pt x="12273" y="1448"/>
                  </a:lnTo>
                  <a:lnTo>
                    <a:pt x="12278" y="1441"/>
                  </a:lnTo>
                  <a:lnTo>
                    <a:pt x="12277" y="1443"/>
                  </a:lnTo>
                  <a:lnTo>
                    <a:pt x="12297" y="1408"/>
                  </a:lnTo>
                  <a:lnTo>
                    <a:pt x="12311" y="1416"/>
                  </a:lnTo>
                  <a:close/>
                  <a:moveTo>
                    <a:pt x="12275" y="1471"/>
                  </a:moveTo>
                  <a:lnTo>
                    <a:pt x="12260" y="1490"/>
                  </a:lnTo>
                  <a:cubicBezTo>
                    <a:pt x="12259" y="1491"/>
                    <a:pt x="12259" y="1491"/>
                    <a:pt x="12258" y="1492"/>
                  </a:cubicBezTo>
                  <a:lnTo>
                    <a:pt x="12240" y="1506"/>
                  </a:lnTo>
                  <a:lnTo>
                    <a:pt x="12230" y="1494"/>
                  </a:lnTo>
                  <a:lnTo>
                    <a:pt x="12248" y="1479"/>
                  </a:lnTo>
                  <a:lnTo>
                    <a:pt x="12247" y="1480"/>
                  </a:lnTo>
                  <a:lnTo>
                    <a:pt x="12263" y="1461"/>
                  </a:lnTo>
                  <a:lnTo>
                    <a:pt x="12275" y="1471"/>
                  </a:lnTo>
                  <a:close/>
                  <a:moveTo>
                    <a:pt x="12228" y="1516"/>
                  </a:moveTo>
                  <a:lnTo>
                    <a:pt x="12219" y="1523"/>
                  </a:lnTo>
                  <a:cubicBezTo>
                    <a:pt x="12219" y="1523"/>
                    <a:pt x="12219" y="1523"/>
                    <a:pt x="12218" y="1523"/>
                  </a:cubicBezTo>
                  <a:lnTo>
                    <a:pt x="12186" y="1542"/>
                  </a:lnTo>
                  <a:lnTo>
                    <a:pt x="12178" y="1528"/>
                  </a:lnTo>
                  <a:lnTo>
                    <a:pt x="12211" y="1509"/>
                  </a:lnTo>
                  <a:lnTo>
                    <a:pt x="12209" y="1510"/>
                  </a:lnTo>
                  <a:lnTo>
                    <a:pt x="12218" y="1504"/>
                  </a:lnTo>
                  <a:lnTo>
                    <a:pt x="12228" y="1516"/>
                  </a:lnTo>
                  <a:close/>
                  <a:moveTo>
                    <a:pt x="12170" y="1549"/>
                  </a:moveTo>
                  <a:lnTo>
                    <a:pt x="12125" y="1563"/>
                  </a:lnTo>
                  <a:cubicBezTo>
                    <a:pt x="12124" y="1563"/>
                    <a:pt x="12124" y="1563"/>
                    <a:pt x="12123" y="1563"/>
                  </a:cubicBezTo>
                  <a:lnTo>
                    <a:pt x="12122" y="1564"/>
                  </a:lnTo>
                  <a:lnTo>
                    <a:pt x="12121" y="1548"/>
                  </a:lnTo>
                  <a:lnTo>
                    <a:pt x="12122" y="1547"/>
                  </a:lnTo>
                  <a:lnTo>
                    <a:pt x="12120" y="1548"/>
                  </a:lnTo>
                  <a:lnTo>
                    <a:pt x="12165" y="1534"/>
                  </a:lnTo>
                  <a:lnTo>
                    <a:pt x="12170" y="1549"/>
                  </a:lnTo>
                  <a:close/>
                  <a:moveTo>
                    <a:pt x="12106" y="1565"/>
                  </a:moveTo>
                  <a:lnTo>
                    <a:pt x="12071" y="1568"/>
                  </a:lnTo>
                  <a:lnTo>
                    <a:pt x="12070" y="1552"/>
                  </a:lnTo>
                  <a:lnTo>
                    <a:pt x="12105" y="1549"/>
                  </a:lnTo>
                  <a:lnTo>
                    <a:pt x="12106" y="1565"/>
                  </a:lnTo>
                  <a:close/>
                  <a:moveTo>
                    <a:pt x="12070" y="1568"/>
                  </a:moveTo>
                  <a:lnTo>
                    <a:pt x="12058" y="1568"/>
                  </a:lnTo>
                  <a:lnTo>
                    <a:pt x="12058" y="1552"/>
                  </a:lnTo>
                  <a:lnTo>
                    <a:pt x="12070" y="1552"/>
                  </a:lnTo>
                  <a:lnTo>
                    <a:pt x="12070" y="1568"/>
                  </a:lnTo>
                  <a:close/>
                  <a:moveTo>
                    <a:pt x="12042" y="1568"/>
                  </a:moveTo>
                  <a:lnTo>
                    <a:pt x="11994" y="1568"/>
                  </a:lnTo>
                  <a:lnTo>
                    <a:pt x="11994" y="1552"/>
                  </a:lnTo>
                  <a:lnTo>
                    <a:pt x="12042" y="1552"/>
                  </a:lnTo>
                  <a:lnTo>
                    <a:pt x="12042" y="1568"/>
                  </a:lnTo>
                  <a:close/>
                  <a:moveTo>
                    <a:pt x="11978" y="1568"/>
                  </a:moveTo>
                  <a:lnTo>
                    <a:pt x="11930" y="1568"/>
                  </a:lnTo>
                  <a:lnTo>
                    <a:pt x="11930" y="1552"/>
                  </a:lnTo>
                  <a:lnTo>
                    <a:pt x="11978" y="1552"/>
                  </a:lnTo>
                  <a:lnTo>
                    <a:pt x="11978" y="1568"/>
                  </a:lnTo>
                  <a:close/>
                  <a:moveTo>
                    <a:pt x="11914" y="1568"/>
                  </a:moveTo>
                  <a:lnTo>
                    <a:pt x="11865" y="1568"/>
                  </a:lnTo>
                  <a:lnTo>
                    <a:pt x="11865" y="1552"/>
                  </a:lnTo>
                  <a:lnTo>
                    <a:pt x="11914" y="1552"/>
                  </a:lnTo>
                  <a:lnTo>
                    <a:pt x="11914" y="1568"/>
                  </a:lnTo>
                  <a:close/>
                  <a:moveTo>
                    <a:pt x="11849" y="1568"/>
                  </a:moveTo>
                  <a:lnTo>
                    <a:pt x="11801" y="1568"/>
                  </a:lnTo>
                  <a:lnTo>
                    <a:pt x="11801" y="1552"/>
                  </a:lnTo>
                  <a:lnTo>
                    <a:pt x="11849" y="1552"/>
                  </a:lnTo>
                  <a:lnTo>
                    <a:pt x="11849" y="1568"/>
                  </a:lnTo>
                  <a:close/>
                  <a:moveTo>
                    <a:pt x="11785" y="1568"/>
                  </a:moveTo>
                  <a:lnTo>
                    <a:pt x="11737" y="1568"/>
                  </a:lnTo>
                  <a:lnTo>
                    <a:pt x="11737" y="1552"/>
                  </a:lnTo>
                  <a:lnTo>
                    <a:pt x="11785" y="1552"/>
                  </a:lnTo>
                  <a:lnTo>
                    <a:pt x="11785" y="1568"/>
                  </a:lnTo>
                  <a:close/>
                  <a:moveTo>
                    <a:pt x="11721" y="1568"/>
                  </a:moveTo>
                  <a:lnTo>
                    <a:pt x="11673" y="1568"/>
                  </a:lnTo>
                  <a:lnTo>
                    <a:pt x="11673" y="1552"/>
                  </a:lnTo>
                  <a:lnTo>
                    <a:pt x="11721" y="1552"/>
                  </a:lnTo>
                  <a:lnTo>
                    <a:pt x="11721" y="1568"/>
                  </a:lnTo>
                  <a:close/>
                  <a:moveTo>
                    <a:pt x="11657" y="1568"/>
                  </a:moveTo>
                  <a:lnTo>
                    <a:pt x="11609" y="1568"/>
                  </a:lnTo>
                  <a:lnTo>
                    <a:pt x="11609" y="1552"/>
                  </a:lnTo>
                  <a:lnTo>
                    <a:pt x="11657" y="1552"/>
                  </a:lnTo>
                  <a:lnTo>
                    <a:pt x="11657" y="1568"/>
                  </a:lnTo>
                  <a:close/>
                  <a:moveTo>
                    <a:pt x="11593" y="1568"/>
                  </a:moveTo>
                  <a:lnTo>
                    <a:pt x="11545" y="1568"/>
                  </a:lnTo>
                  <a:lnTo>
                    <a:pt x="11545" y="1552"/>
                  </a:lnTo>
                  <a:lnTo>
                    <a:pt x="11593" y="1552"/>
                  </a:lnTo>
                  <a:lnTo>
                    <a:pt x="11593" y="1568"/>
                  </a:lnTo>
                  <a:close/>
                  <a:moveTo>
                    <a:pt x="11529" y="1568"/>
                  </a:moveTo>
                  <a:lnTo>
                    <a:pt x="11481" y="1568"/>
                  </a:lnTo>
                  <a:lnTo>
                    <a:pt x="11481" y="1552"/>
                  </a:lnTo>
                  <a:lnTo>
                    <a:pt x="11529" y="1552"/>
                  </a:lnTo>
                  <a:lnTo>
                    <a:pt x="11529" y="1568"/>
                  </a:lnTo>
                  <a:close/>
                  <a:moveTo>
                    <a:pt x="11465" y="1568"/>
                  </a:moveTo>
                  <a:lnTo>
                    <a:pt x="11417" y="1568"/>
                  </a:lnTo>
                  <a:lnTo>
                    <a:pt x="11417" y="1552"/>
                  </a:lnTo>
                  <a:lnTo>
                    <a:pt x="11465" y="1552"/>
                  </a:lnTo>
                  <a:lnTo>
                    <a:pt x="11465" y="1568"/>
                  </a:lnTo>
                  <a:close/>
                  <a:moveTo>
                    <a:pt x="11401" y="1568"/>
                  </a:moveTo>
                  <a:lnTo>
                    <a:pt x="11353" y="1568"/>
                  </a:lnTo>
                  <a:lnTo>
                    <a:pt x="11353" y="1552"/>
                  </a:lnTo>
                  <a:lnTo>
                    <a:pt x="11401" y="1552"/>
                  </a:lnTo>
                  <a:lnTo>
                    <a:pt x="11401" y="1568"/>
                  </a:lnTo>
                  <a:close/>
                  <a:moveTo>
                    <a:pt x="11337" y="1568"/>
                  </a:moveTo>
                  <a:lnTo>
                    <a:pt x="11289" y="1568"/>
                  </a:lnTo>
                  <a:lnTo>
                    <a:pt x="11289" y="1552"/>
                  </a:lnTo>
                  <a:lnTo>
                    <a:pt x="11337" y="1552"/>
                  </a:lnTo>
                  <a:lnTo>
                    <a:pt x="11337" y="1568"/>
                  </a:lnTo>
                  <a:close/>
                  <a:moveTo>
                    <a:pt x="11273" y="1568"/>
                  </a:moveTo>
                  <a:lnTo>
                    <a:pt x="11225" y="1568"/>
                  </a:lnTo>
                  <a:lnTo>
                    <a:pt x="11225" y="1552"/>
                  </a:lnTo>
                  <a:lnTo>
                    <a:pt x="11273" y="1552"/>
                  </a:lnTo>
                  <a:lnTo>
                    <a:pt x="11273" y="1568"/>
                  </a:lnTo>
                  <a:close/>
                  <a:moveTo>
                    <a:pt x="11209" y="1568"/>
                  </a:moveTo>
                  <a:lnTo>
                    <a:pt x="11161" y="1568"/>
                  </a:lnTo>
                  <a:lnTo>
                    <a:pt x="11161" y="1552"/>
                  </a:lnTo>
                  <a:lnTo>
                    <a:pt x="11209" y="1552"/>
                  </a:lnTo>
                  <a:lnTo>
                    <a:pt x="11209" y="1568"/>
                  </a:lnTo>
                  <a:close/>
                  <a:moveTo>
                    <a:pt x="11145" y="1568"/>
                  </a:moveTo>
                  <a:lnTo>
                    <a:pt x="11097" y="1568"/>
                  </a:lnTo>
                  <a:lnTo>
                    <a:pt x="11097" y="1552"/>
                  </a:lnTo>
                  <a:lnTo>
                    <a:pt x="11145" y="1552"/>
                  </a:lnTo>
                  <a:lnTo>
                    <a:pt x="11145" y="1568"/>
                  </a:lnTo>
                  <a:close/>
                  <a:moveTo>
                    <a:pt x="11081" y="1568"/>
                  </a:moveTo>
                  <a:lnTo>
                    <a:pt x="11033" y="1568"/>
                  </a:lnTo>
                  <a:lnTo>
                    <a:pt x="11033" y="1552"/>
                  </a:lnTo>
                  <a:lnTo>
                    <a:pt x="11081" y="1552"/>
                  </a:lnTo>
                  <a:lnTo>
                    <a:pt x="11081" y="1568"/>
                  </a:lnTo>
                  <a:close/>
                  <a:moveTo>
                    <a:pt x="11017" y="1568"/>
                  </a:moveTo>
                  <a:lnTo>
                    <a:pt x="10969" y="1568"/>
                  </a:lnTo>
                  <a:lnTo>
                    <a:pt x="10969" y="1552"/>
                  </a:lnTo>
                  <a:lnTo>
                    <a:pt x="11017" y="1552"/>
                  </a:lnTo>
                  <a:lnTo>
                    <a:pt x="11017" y="1568"/>
                  </a:lnTo>
                  <a:close/>
                  <a:moveTo>
                    <a:pt x="10953" y="1568"/>
                  </a:moveTo>
                  <a:lnTo>
                    <a:pt x="10905" y="1568"/>
                  </a:lnTo>
                  <a:lnTo>
                    <a:pt x="10905" y="1552"/>
                  </a:lnTo>
                  <a:lnTo>
                    <a:pt x="10953" y="1552"/>
                  </a:lnTo>
                  <a:lnTo>
                    <a:pt x="10953" y="1568"/>
                  </a:lnTo>
                  <a:close/>
                  <a:moveTo>
                    <a:pt x="10888" y="1568"/>
                  </a:moveTo>
                  <a:lnTo>
                    <a:pt x="10840" y="1568"/>
                  </a:lnTo>
                  <a:lnTo>
                    <a:pt x="10840" y="1552"/>
                  </a:lnTo>
                  <a:lnTo>
                    <a:pt x="10888" y="1552"/>
                  </a:lnTo>
                  <a:lnTo>
                    <a:pt x="10888" y="1568"/>
                  </a:lnTo>
                  <a:close/>
                  <a:moveTo>
                    <a:pt x="10824" y="1568"/>
                  </a:moveTo>
                  <a:lnTo>
                    <a:pt x="10776" y="1568"/>
                  </a:lnTo>
                  <a:lnTo>
                    <a:pt x="10776" y="1552"/>
                  </a:lnTo>
                  <a:lnTo>
                    <a:pt x="10824" y="1552"/>
                  </a:lnTo>
                  <a:lnTo>
                    <a:pt x="10824" y="1568"/>
                  </a:lnTo>
                  <a:close/>
                  <a:moveTo>
                    <a:pt x="10760" y="1568"/>
                  </a:moveTo>
                  <a:lnTo>
                    <a:pt x="10712" y="1568"/>
                  </a:lnTo>
                  <a:lnTo>
                    <a:pt x="10712" y="1552"/>
                  </a:lnTo>
                  <a:lnTo>
                    <a:pt x="10760" y="1552"/>
                  </a:lnTo>
                  <a:lnTo>
                    <a:pt x="10760" y="1568"/>
                  </a:lnTo>
                  <a:close/>
                  <a:moveTo>
                    <a:pt x="10696" y="1568"/>
                  </a:moveTo>
                  <a:lnTo>
                    <a:pt x="10648" y="1568"/>
                  </a:lnTo>
                  <a:lnTo>
                    <a:pt x="10648" y="1552"/>
                  </a:lnTo>
                  <a:lnTo>
                    <a:pt x="10696" y="1552"/>
                  </a:lnTo>
                  <a:lnTo>
                    <a:pt x="10696" y="1568"/>
                  </a:lnTo>
                  <a:close/>
                  <a:moveTo>
                    <a:pt x="10632" y="1568"/>
                  </a:moveTo>
                  <a:lnTo>
                    <a:pt x="10584" y="1568"/>
                  </a:lnTo>
                  <a:lnTo>
                    <a:pt x="10584" y="1552"/>
                  </a:lnTo>
                  <a:lnTo>
                    <a:pt x="10632" y="1552"/>
                  </a:lnTo>
                  <a:lnTo>
                    <a:pt x="10632" y="1568"/>
                  </a:lnTo>
                  <a:close/>
                  <a:moveTo>
                    <a:pt x="10568" y="1568"/>
                  </a:moveTo>
                  <a:lnTo>
                    <a:pt x="10520" y="1568"/>
                  </a:lnTo>
                  <a:lnTo>
                    <a:pt x="10520" y="1552"/>
                  </a:lnTo>
                  <a:lnTo>
                    <a:pt x="10568" y="1552"/>
                  </a:lnTo>
                  <a:lnTo>
                    <a:pt x="10568" y="1568"/>
                  </a:lnTo>
                  <a:close/>
                  <a:moveTo>
                    <a:pt x="10504" y="1568"/>
                  </a:moveTo>
                  <a:lnTo>
                    <a:pt x="10456" y="1568"/>
                  </a:lnTo>
                  <a:lnTo>
                    <a:pt x="10456" y="1552"/>
                  </a:lnTo>
                  <a:lnTo>
                    <a:pt x="10504" y="1552"/>
                  </a:lnTo>
                  <a:lnTo>
                    <a:pt x="10504" y="1568"/>
                  </a:lnTo>
                  <a:close/>
                  <a:moveTo>
                    <a:pt x="10440" y="1568"/>
                  </a:moveTo>
                  <a:lnTo>
                    <a:pt x="10392" y="1568"/>
                  </a:lnTo>
                  <a:lnTo>
                    <a:pt x="10392" y="1552"/>
                  </a:lnTo>
                  <a:lnTo>
                    <a:pt x="10440" y="1552"/>
                  </a:lnTo>
                  <a:lnTo>
                    <a:pt x="10440" y="1568"/>
                  </a:lnTo>
                  <a:close/>
                  <a:moveTo>
                    <a:pt x="10376" y="1568"/>
                  </a:moveTo>
                  <a:lnTo>
                    <a:pt x="10328" y="1568"/>
                  </a:lnTo>
                  <a:lnTo>
                    <a:pt x="10328" y="1552"/>
                  </a:lnTo>
                  <a:lnTo>
                    <a:pt x="10376" y="1552"/>
                  </a:lnTo>
                  <a:lnTo>
                    <a:pt x="10376" y="1568"/>
                  </a:lnTo>
                  <a:close/>
                  <a:moveTo>
                    <a:pt x="10312" y="1568"/>
                  </a:moveTo>
                  <a:lnTo>
                    <a:pt x="10264" y="1568"/>
                  </a:lnTo>
                  <a:lnTo>
                    <a:pt x="10264" y="1552"/>
                  </a:lnTo>
                  <a:lnTo>
                    <a:pt x="10312" y="1552"/>
                  </a:lnTo>
                  <a:lnTo>
                    <a:pt x="10312" y="1568"/>
                  </a:lnTo>
                  <a:close/>
                  <a:moveTo>
                    <a:pt x="10248" y="1568"/>
                  </a:moveTo>
                  <a:lnTo>
                    <a:pt x="10200" y="1568"/>
                  </a:lnTo>
                  <a:lnTo>
                    <a:pt x="10200" y="1552"/>
                  </a:lnTo>
                  <a:lnTo>
                    <a:pt x="10248" y="1552"/>
                  </a:lnTo>
                  <a:lnTo>
                    <a:pt x="10248" y="1568"/>
                  </a:lnTo>
                  <a:close/>
                  <a:moveTo>
                    <a:pt x="10184" y="1568"/>
                  </a:moveTo>
                  <a:lnTo>
                    <a:pt x="10136" y="1568"/>
                  </a:lnTo>
                  <a:lnTo>
                    <a:pt x="10136" y="1552"/>
                  </a:lnTo>
                  <a:lnTo>
                    <a:pt x="10184" y="1552"/>
                  </a:lnTo>
                  <a:lnTo>
                    <a:pt x="10184" y="1568"/>
                  </a:lnTo>
                  <a:close/>
                  <a:moveTo>
                    <a:pt x="10120" y="1568"/>
                  </a:moveTo>
                  <a:lnTo>
                    <a:pt x="10072" y="1568"/>
                  </a:lnTo>
                  <a:lnTo>
                    <a:pt x="10072" y="1552"/>
                  </a:lnTo>
                  <a:lnTo>
                    <a:pt x="10120" y="1552"/>
                  </a:lnTo>
                  <a:lnTo>
                    <a:pt x="10120" y="1568"/>
                  </a:lnTo>
                  <a:close/>
                  <a:moveTo>
                    <a:pt x="10056" y="1568"/>
                  </a:moveTo>
                  <a:lnTo>
                    <a:pt x="10008" y="1568"/>
                  </a:lnTo>
                  <a:lnTo>
                    <a:pt x="10008" y="1552"/>
                  </a:lnTo>
                  <a:lnTo>
                    <a:pt x="10056" y="1552"/>
                  </a:lnTo>
                  <a:lnTo>
                    <a:pt x="10056" y="1568"/>
                  </a:lnTo>
                  <a:close/>
                  <a:moveTo>
                    <a:pt x="9992" y="1568"/>
                  </a:moveTo>
                  <a:lnTo>
                    <a:pt x="9944" y="1568"/>
                  </a:lnTo>
                  <a:lnTo>
                    <a:pt x="9944" y="1552"/>
                  </a:lnTo>
                  <a:lnTo>
                    <a:pt x="9992" y="1552"/>
                  </a:lnTo>
                  <a:lnTo>
                    <a:pt x="9992" y="1568"/>
                  </a:lnTo>
                  <a:close/>
                  <a:moveTo>
                    <a:pt x="9928" y="1568"/>
                  </a:moveTo>
                  <a:lnTo>
                    <a:pt x="9879" y="1568"/>
                  </a:lnTo>
                  <a:lnTo>
                    <a:pt x="9879" y="1552"/>
                  </a:lnTo>
                  <a:lnTo>
                    <a:pt x="9928" y="1552"/>
                  </a:lnTo>
                  <a:lnTo>
                    <a:pt x="9928" y="1568"/>
                  </a:lnTo>
                  <a:close/>
                  <a:moveTo>
                    <a:pt x="9863" y="1568"/>
                  </a:moveTo>
                  <a:lnTo>
                    <a:pt x="9815" y="1568"/>
                  </a:lnTo>
                  <a:lnTo>
                    <a:pt x="9815" y="1552"/>
                  </a:lnTo>
                  <a:lnTo>
                    <a:pt x="9863" y="1552"/>
                  </a:lnTo>
                  <a:lnTo>
                    <a:pt x="9863" y="1568"/>
                  </a:lnTo>
                  <a:close/>
                  <a:moveTo>
                    <a:pt x="9799" y="1568"/>
                  </a:moveTo>
                  <a:lnTo>
                    <a:pt x="9751" y="1568"/>
                  </a:lnTo>
                  <a:lnTo>
                    <a:pt x="9751" y="1552"/>
                  </a:lnTo>
                  <a:lnTo>
                    <a:pt x="9799" y="1552"/>
                  </a:lnTo>
                  <a:lnTo>
                    <a:pt x="9799" y="1568"/>
                  </a:lnTo>
                  <a:close/>
                  <a:moveTo>
                    <a:pt x="9735" y="1568"/>
                  </a:moveTo>
                  <a:lnTo>
                    <a:pt x="9687" y="1568"/>
                  </a:lnTo>
                  <a:lnTo>
                    <a:pt x="9687" y="1552"/>
                  </a:lnTo>
                  <a:lnTo>
                    <a:pt x="9735" y="1552"/>
                  </a:lnTo>
                  <a:lnTo>
                    <a:pt x="9735" y="1568"/>
                  </a:lnTo>
                  <a:close/>
                  <a:moveTo>
                    <a:pt x="9671" y="1568"/>
                  </a:moveTo>
                  <a:lnTo>
                    <a:pt x="9623" y="1568"/>
                  </a:lnTo>
                  <a:lnTo>
                    <a:pt x="9623" y="1552"/>
                  </a:lnTo>
                  <a:lnTo>
                    <a:pt x="9671" y="1552"/>
                  </a:lnTo>
                  <a:lnTo>
                    <a:pt x="9671" y="1568"/>
                  </a:lnTo>
                  <a:close/>
                  <a:moveTo>
                    <a:pt x="9607" y="1568"/>
                  </a:moveTo>
                  <a:lnTo>
                    <a:pt x="9559" y="1568"/>
                  </a:lnTo>
                  <a:lnTo>
                    <a:pt x="9559" y="1552"/>
                  </a:lnTo>
                  <a:lnTo>
                    <a:pt x="9607" y="1552"/>
                  </a:lnTo>
                  <a:lnTo>
                    <a:pt x="9607" y="1568"/>
                  </a:lnTo>
                  <a:close/>
                  <a:moveTo>
                    <a:pt x="9543" y="1568"/>
                  </a:moveTo>
                  <a:lnTo>
                    <a:pt x="9495" y="1568"/>
                  </a:lnTo>
                  <a:lnTo>
                    <a:pt x="9495" y="1552"/>
                  </a:lnTo>
                  <a:lnTo>
                    <a:pt x="9543" y="1552"/>
                  </a:lnTo>
                  <a:lnTo>
                    <a:pt x="9543" y="1568"/>
                  </a:lnTo>
                  <a:close/>
                  <a:moveTo>
                    <a:pt x="9479" y="1568"/>
                  </a:moveTo>
                  <a:lnTo>
                    <a:pt x="9431" y="1568"/>
                  </a:lnTo>
                  <a:lnTo>
                    <a:pt x="9431" y="1552"/>
                  </a:lnTo>
                  <a:lnTo>
                    <a:pt x="9479" y="1552"/>
                  </a:lnTo>
                  <a:lnTo>
                    <a:pt x="9479" y="1568"/>
                  </a:lnTo>
                  <a:close/>
                  <a:moveTo>
                    <a:pt x="9415" y="1568"/>
                  </a:moveTo>
                  <a:lnTo>
                    <a:pt x="9367" y="1568"/>
                  </a:lnTo>
                  <a:lnTo>
                    <a:pt x="9367" y="1552"/>
                  </a:lnTo>
                  <a:lnTo>
                    <a:pt x="9415" y="1552"/>
                  </a:lnTo>
                  <a:lnTo>
                    <a:pt x="9415" y="1568"/>
                  </a:lnTo>
                  <a:close/>
                  <a:moveTo>
                    <a:pt x="9351" y="1568"/>
                  </a:moveTo>
                  <a:lnTo>
                    <a:pt x="9303" y="1568"/>
                  </a:lnTo>
                  <a:lnTo>
                    <a:pt x="9303" y="1552"/>
                  </a:lnTo>
                  <a:lnTo>
                    <a:pt x="9351" y="1552"/>
                  </a:lnTo>
                  <a:lnTo>
                    <a:pt x="9351" y="1568"/>
                  </a:lnTo>
                  <a:close/>
                  <a:moveTo>
                    <a:pt x="9287" y="1568"/>
                  </a:moveTo>
                  <a:lnTo>
                    <a:pt x="9239" y="1568"/>
                  </a:lnTo>
                  <a:lnTo>
                    <a:pt x="9239" y="1552"/>
                  </a:lnTo>
                  <a:lnTo>
                    <a:pt x="9287" y="1552"/>
                  </a:lnTo>
                  <a:lnTo>
                    <a:pt x="9287" y="1568"/>
                  </a:lnTo>
                  <a:close/>
                  <a:moveTo>
                    <a:pt x="9223" y="1568"/>
                  </a:moveTo>
                  <a:lnTo>
                    <a:pt x="9175" y="1568"/>
                  </a:lnTo>
                  <a:lnTo>
                    <a:pt x="9175" y="1552"/>
                  </a:lnTo>
                  <a:lnTo>
                    <a:pt x="9223" y="1552"/>
                  </a:lnTo>
                  <a:lnTo>
                    <a:pt x="9223" y="1568"/>
                  </a:lnTo>
                  <a:close/>
                  <a:moveTo>
                    <a:pt x="9159" y="1568"/>
                  </a:moveTo>
                  <a:lnTo>
                    <a:pt x="9111" y="1568"/>
                  </a:lnTo>
                  <a:lnTo>
                    <a:pt x="9111" y="1552"/>
                  </a:lnTo>
                  <a:lnTo>
                    <a:pt x="9159" y="1552"/>
                  </a:lnTo>
                  <a:lnTo>
                    <a:pt x="9159" y="1568"/>
                  </a:lnTo>
                  <a:close/>
                  <a:moveTo>
                    <a:pt x="9095" y="1568"/>
                  </a:moveTo>
                  <a:lnTo>
                    <a:pt x="9047" y="1568"/>
                  </a:lnTo>
                  <a:lnTo>
                    <a:pt x="9047" y="1552"/>
                  </a:lnTo>
                  <a:lnTo>
                    <a:pt x="9095" y="1552"/>
                  </a:lnTo>
                  <a:lnTo>
                    <a:pt x="9095" y="1568"/>
                  </a:lnTo>
                  <a:close/>
                  <a:moveTo>
                    <a:pt x="9031" y="1568"/>
                  </a:moveTo>
                  <a:lnTo>
                    <a:pt x="8983" y="1568"/>
                  </a:lnTo>
                  <a:lnTo>
                    <a:pt x="8983" y="1552"/>
                  </a:lnTo>
                  <a:lnTo>
                    <a:pt x="9031" y="1552"/>
                  </a:lnTo>
                  <a:lnTo>
                    <a:pt x="9031" y="1568"/>
                  </a:lnTo>
                  <a:close/>
                  <a:moveTo>
                    <a:pt x="8967" y="1568"/>
                  </a:moveTo>
                  <a:lnTo>
                    <a:pt x="8918" y="1568"/>
                  </a:lnTo>
                  <a:lnTo>
                    <a:pt x="8918" y="1552"/>
                  </a:lnTo>
                  <a:lnTo>
                    <a:pt x="8967" y="1552"/>
                  </a:lnTo>
                  <a:lnTo>
                    <a:pt x="8967" y="1568"/>
                  </a:lnTo>
                  <a:close/>
                  <a:moveTo>
                    <a:pt x="8902" y="1568"/>
                  </a:moveTo>
                  <a:lnTo>
                    <a:pt x="8854" y="1568"/>
                  </a:lnTo>
                  <a:lnTo>
                    <a:pt x="8854" y="1552"/>
                  </a:lnTo>
                  <a:lnTo>
                    <a:pt x="8902" y="1552"/>
                  </a:lnTo>
                  <a:lnTo>
                    <a:pt x="8902" y="1568"/>
                  </a:lnTo>
                  <a:close/>
                  <a:moveTo>
                    <a:pt x="8838" y="1568"/>
                  </a:moveTo>
                  <a:lnTo>
                    <a:pt x="8790" y="1568"/>
                  </a:lnTo>
                  <a:lnTo>
                    <a:pt x="8790" y="1552"/>
                  </a:lnTo>
                  <a:lnTo>
                    <a:pt x="8838" y="1552"/>
                  </a:lnTo>
                  <a:lnTo>
                    <a:pt x="8838" y="1568"/>
                  </a:lnTo>
                  <a:close/>
                  <a:moveTo>
                    <a:pt x="8774" y="1568"/>
                  </a:moveTo>
                  <a:lnTo>
                    <a:pt x="8726" y="1568"/>
                  </a:lnTo>
                  <a:lnTo>
                    <a:pt x="8726" y="1552"/>
                  </a:lnTo>
                  <a:lnTo>
                    <a:pt x="8774" y="1552"/>
                  </a:lnTo>
                  <a:lnTo>
                    <a:pt x="8774" y="1568"/>
                  </a:lnTo>
                  <a:close/>
                  <a:moveTo>
                    <a:pt x="8710" y="1568"/>
                  </a:moveTo>
                  <a:lnTo>
                    <a:pt x="8662" y="1568"/>
                  </a:lnTo>
                  <a:lnTo>
                    <a:pt x="8662" y="1552"/>
                  </a:lnTo>
                  <a:lnTo>
                    <a:pt x="8710" y="1552"/>
                  </a:lnTo>
                  <a:lnTo>
                    <a:pt x="8710" y="1568"/>
                  </a:lnTo>
                  <a:close/>
                  <a:moveTo>
                    <a:pt x="8646" y="1568"/>
                  </a:moveTo>
                  <a:lnTo>
                    <a:pt x="8598" y="1568"/>
                  </a:lnTo>
                  <a:lnTo>
                    <a:pt x="8598" y="1552"/>
                  </a:lnTo>
                  <a:lnTo>
                    <a:pt x="8646" y="1552"/>
                  </a:lnTo>
                  <a:lnTo>
                    <a:pt x="8646" y="1568"/>
                  </a:lnTo>
                  <a:close/>
                  <a:moveTo>
                    <a:pt x="8582" y="1568"/>
                  </a:moveTo>
                  <a:lnTo>
                    <a:pt x="8534" y="1568"/>
                  </a:lnTo>
                  <a:lnTo>
                    <a:pt x="8534" y="1552"/>
                  </a:lnTo>
                  <a:lnTo>
                    <a:pt x="8582" y="1552"/>
                  </a:lnTo>
                  <a:lnTo>
                    <a:pt x="8582" y="1568"/>
                  </a:lnTo>
                  <a:close/>
                  <a:moveTo>
                    <a:pt x="8518" y="1568"/>
                  </a:moveTo>
                  <a:lnTo>
                    <a:pt x="8470" y="1568"/>
                  </a:lnTo>
                  <a:lnTo>
                    <a:pt x="8470" y="1552"/>
                  </a:lnTo>
                  <a:lnTo>
                    <a:pt x="8518" y="1552"/>
                  </a:lnTo>
                  <a:lnTo>
                    <a:pt x="8518" y="1568"/>
                  </a:lnTo>
                  <a:close/>
                  <a:moveTo>
                    <a:pt x="8454" y="1568"/>
                  </a:moveTo>
                  <a:lnTo>
                    <a:pt x="8406" y="1568"/>
                  </a:lnTo>
                  <a:lnTo>
                    <a:pt x="8406" y="1552"/>
                  </a:lnTo>
                  <a:lnTo>
                    <a:pt x="8454" y="1552"/>
                  </a:lnTo>
                  <a:lnTo>
                    <a:pt x="8454" y="1568"/>
                  </a:lnTo>
                  <a:close/>
                  <a:moveTo>
                    <a:pt x="8390" y="1568"/>
                  </a:moveTo>
                  <a:lnTo>
                    <a:pt x="8342" y="1568"/>
                  </a:lnTo>
                  <a:lnTo>
                    <a:pt x="8342" y="1552"/>
                  </a:lnTo>
                  <a:lnTo>
                    <a:pt x="8390" y="1552"/>
                  </a:lnTo>
                  <a:lnTo>
                    <a:pt x="8390" y="1568"/>
                  </a:lnTo>
                  <a:close/>
                  <a:moveTo>
                    <a:pt x="8326" y="1568"/>
                  </a:moveTo>
                  <a:lnTo>
                    <a:pt x="8278" y="1568"/>
                  </a:lnTo>
                  <a:lnTo>
                    <a:pt x="8278" y="1552"/>
                  </a:lnTo>
                  <a:lnTo>
                    <a:pt x="8326" y="1552"/>
                  </a:lnTo>
                  <a:lnTo>
                    <a:pt x="8326" y="1568"/>
                  </a:lnTo>
                  <a:close/>
                  <a:moveTo>
                    <a:pt x="8262" y="1568"/>
                  </a:moveTo>
                  <a:lnTo>
                    <a:pt x="8214" y="1568"/>
                  </a:lnTo>
                  <a:lnTo>
                    <a:pt x="8214" y="1552"/>
                  </a:lnTo>
                  <a:lnTo>
                    <a:pt x="8262" y="1552"/>
                  </a:lnTo>
                  <a:lnTo>
                    <a:pt x="8262" y="1568"/>
                  </a:lnTo>
                  <a:close/>
                  <a:moveTo>
                    <a:pt x="8198" y="1568"/>
                  </a:moveTo>
                  <a:lnTo>
                    <a:pt x="8150" y="1568"/>
                  </a:lnTo>
                  <a:lnTo>
                    <a:pt x="8150" y="1552"/>
                  </a:lnTo>
                  <a:lnTo>
                    <a:pt x="8198" y="1552"/>
                  </a:lnTo>
                  <a:lnTo>
                    <a:pt x="8198" y="1568"/>
                  </a:lnTo>
                  <a:close/>
                  <a:moveTo>
                    <a:pt x="8134" y="1568"/>
                  </a:moveTo>
                  <a:lnTo>
                    <a:pt x="8086" y="1568"/>
                  </a:lnTo>
                  <a:lnTo>
                    <a:pt x="8086" y="1552"/>
                  </a:lnTo>
                  <a:lnTo>
                    <a:pt x="8134" y="1552"/>
                  </a:lnTo>
                  <a:lnTo>
                    <a:pt x="8134" y="1568"/>
                  </a:lnTo>
                  <a:close/>
                  <a:moveTo>
                    <a:pt x="8070" y="1568"/>
                  </a:moveTo>
                  <a:lnTo>
                    <a:pt x="8022" y="1568"/>
                  </a:lnTo>
                  <a:lnTo>
                    <a:pt x="8022" y="1552"/>
                  </a:lnTo>
                  <a:lnTo>
                    <a:pt x="8070" y="1552"/>
                  </a:lnTo>
                  <a:lnTo>
                    <a:pt x="8070" y="1568"/>
                  </a:lnTo>
                  <a:close/>
                  <a:moveTo>
                    <a:pt x="8006" y="1568"/>
                  </a:moveTo>
                  <a:lnTo>
                    <a:pt x="7957" y="1568"/>
                  </a:lnTo>
                  <a:lnTo>
                    <a:pt x="7957" y="1552"/>
                  </a:lnTo>
                  <a:lnTo>
                    <a:pt x="8006" y="1552"/>
                  </a:lnTo>
                  <a:lnTo>
                    <a:pt x="8006" y="1568"/>
                  </a:lnTo>
                  <a:close/>
                  <a:moveTo>
                    <a:pt x="7941" y="1568"/>
                  </a:moveTo>
                  <a:lnTo>
                    <a:pt x="7893" y="1568"/>
                  </a:lnTo>
                  <a:lnTo>
                    <a:pt x="7893" y="1552"/>
                  </a:lnTo>
                  <a:lnTo>
                    <a:pt x="7941" y="1552"/>
                  </a:lnTo>
                  <a:lnTo>
                    <a:pt x="7941" y="1568"/>
                  </a:lnTo>
                  <a:close/>
                  <a:moveTo>
                    <a:pt x="7877" y="1568"/>
                  </a:moveTo>
                  <a:lnTo>
                    <a:pt x="7829" y="1568"/>
                  </a:lnTo>
                  <a:lnTo>
                    <a:pt x="7829" y="1552"/>
                  </a:lnTo>
                  <a:lnTo>
                    <a:pt x="7877" y="1552"/>
                  </a:lnTo>
                  <a:lnTo>
                    <a:pt x="7877" y="1568"/>
                  </a:lnTo>
                  <a:close/>
                  <a:moveTo>
                    <a:pt x="7813" y="1568"/>
                  </a:moveTo>
                  <a:lnTo>
                    <a:pt x="7765" y="1568"/>
                  </a:lnTo>
                  <a:lnTo>
                    <a:pt x="7765" y="1552"/>
                  </a:lnTo>
                  <a:lnTo>
                    <a:pt x="7813" y="1552"/>
                  </a:lnTo>
                  <a:lnTo>
                    <a:pt x="7813" y="1568"/>
                  </a:lnTo>
                  <a:close/>
                  <a:moveTo>
                    <a:pt x="7749" y="1568"/>
                  </a:moveTo>
                  <a:lnTo>
                    <a:pt x="7701" y="1568"/>
                  </a:lnTo>
                  <a:lnTo>
                    <a:pt x="7701" y="1552"/>
                  </a:lnTo>
                  <a:lnTo>
                    <a:pt x="7749" y="1552"/>
                  </a:lnTo>
                  <a:lnTo>
                    <a:pt x="7749" y="1568"/>
                  </a:lnTo>
                  <a:close/>
                  <a:moveTo>
                    <a:pt x="7685" y="1568"/>
                  </a:moveTo>
                  <a:lnTo>
                    <a:pt x="7637" y="1568"/>
                  </a:lnTo>
                  <a:lnTo>
                    <a:pt x="7637" y="1552"/>
                  </a:lnTo>
                  <a:lnTo>
                    <a:pt x="7685" y="1552"/>
                  </a:lnTo>
                  <a:lnTo>
                    <a:pt x="7685" y="1568"/>
                  </a:lnTo>
                  <a:close/>
                  <a:moveTo>
                    <a:pt x="7621" y="1568"/>
                  </a:moveTo>
                  <a:lnTo>
                    <a:pt x="7573" y="1568"/>
                  </a:lnTo>
                  <a:lnTo>
                    <a:pt x="7573" y="1552"/>
                  </a:lnTo>
                  <a:lnTo>
                    <a:pt x="7621" y="1552"/>
                  </a:lnTo>
                  <a:lnTo>
                    <a:pt x="7621" y="1568"/>
                  </a:lnTo>
                  <a:close/>
                  <a:moveTo>
                    <a:pt x="7557" y="1568"/>
                  </a:moveTo>
                  <a:lnTo>
                    <a:pt x="7509" y="1568"/>
                  </a:lnTo>
                  <a:lnTo>
                    <a:pt x="7509" y="1552"/>
                  </a:lnTo>
                  <a:lnTo>
                    <a:pt x="7557" y="1552"/>
                  </a:lnTo>
                  <a:lnTo>
                    <a:pt x="7557" y="1568"/>
                  </a:lnTo>
                  <a:close/>
                  <a:moveTo>
                    <a:pt x="7493" y="1568"/>
                  </a:moveTo>
                  <a:lnTo>
                    <a:pt x="7445" y="1568"/>
                  </a:lnTo>
                  <a:lnTo>
                    <a:pt x="7445" y="1552"/>
                  </a:lnTo>
                  <a:lnTo>
                    <a:pt x="7493" y="1552"/>
                  </a:lnTo>
                  <a:lnTo>
                    <a:pt x="7493" y="1568"/>
                  </a:lnTo>
                  <a:close/>
                  <a:moveTo>
                    <a:pt x="7429" y="1568"/>
                  </a:moveTo>
                  <a:lnTo>
                    <a:pt x="7381" y="1568"/>
                  </a:lnTo>
                  <a:lnTo>
                    <a:pt x="7381" y="1552"/>
                  </a:lnTo>
                  <a:lnTo>
                    <a:pt x="7429" y="1552"/>
                  </a:lnTo>
                  <a:lnTo>
                    <a:pt x="7429" y="1568"/>
                  </a:lnTo>
                  <a:close/>
                  <a:moveTo>
                    <a:pt x="7365" y="1568"/>
                  </a:moveTo>
                  <a:lnTo>
                    <a:pt x="7317" y="1568"/>
                  </a:lnTo>
                  <a:lnTo>
                    <a:pt x="7317" y="1552"/>
                  </a:lnTo>
                  <a:lnTo>
                    <a:pt x="7365" y="1552"/>
                  </a:lnTo>
                  <a:lnTo>
                    <a:pt x="7365" y="1568"/>
                  </a:lnTo>
                  <a:close/>
                  <a:moveTo>
                    <a:pt x="7301" y="1568"/>
                  </a:moveTo>
                  <a:lnTo>
                    <a:pt x="7253" y="1568"/>
                  </a:lnTo>
                  <a:lnTo>
                    <a:pt x="7253" y="1552"/>
                  </a:lnTo>
                  <a:lnTo>
                    <a:pt x="7301" y="1552"/>
                  </a:lnTo>
                  <a:lnTo>
                    <a:pt x="7301" y="1568"/>
                  </a:lnTo>
                  <a:close/>
                  <a:moveTo>
                    <a:pt x="7237" y="1568"/>
                  </a:moveTo>
                  <a:lnTo>
                    <a:pt x="7189" y="1568"/>
                  </a:lnTo>
                  <a:lnTo>
                    <a:pt x="7189" y="1552"/>
                  </a:lnTo>
                  <a:lnTo>
                    <a:pt x="7237" y="1552"/>
                  </a:lnTo>
                  <a:lnTo>
                    <a:pt x="7237" y="1568"/>
                  </a:lnTo>
                  <a:close/>
                  <a:moveTo>
                    <a:pt x="7173" y="1568"/>
                  </a:moveTo>
                  <a:lnTo>
                    <a:pt x="7125" y="1568"/>
                  </a:lnTo>
                  <a:lnTo>
                    <a:pt x="7125" y="1552"/>
                  </a:lnTo>
                  <a:lnTo>
                    <a:pt x="7173" y="1552"/>
                  </a:lnTo>
                  <a:lnTo>
                    <a:pt x="7173" y="1568"/>
                  </a:lnTo>
                  <a:close/>
                  <a:moveTo>
                    <a:pt x="7109" y="1568"/>
                  </a:moveTo>
                  <a:lnTo>
                    <a:pt x="7061" y="1568"/>
                  </a:lnTo>
                  <a:lnTo>
                    <a:pt x="7061" y="1552"/>
                  </a:lnTo>
                  <a:lnTo>
                    <a:pt x="7109" y="1552"/>
                  </a:lnTo>
                  <a:lnTo>
                    <a:pt x="7109" y="1568"/>
                  </a:lnTo>
                  <a:close/>
                  <a:moveTo>
                    <a:pt x="7045" y="1568"/>
                  </a:moveTo>
                  <a:lnTo>
                    <a:pt x="6997" y="1568"/>
                  </a:lnTo>
                  <a:lnTo>
                    <a:pt x="6997" y="1552"/>
                  </a:lnTo>
                  <a:lnTo>
                    <a:pt x="7045" y="1552"/>
                  </a:lnTo>
                  <a:lnTo>
                    <a:pt x="7045" y="1568"/>
                  </a:lnTo>
                  <a:close/>
                  <a:moveTo>
                    <a:pt x="6980" y="1568"/>
                  </a:moveTo>
                  <a:lnTo>
                    <a:pt x="6932" y="1568"/>
                  </a:lnTo>
                  <a:lnTo>
                    <a:pt x="6932" y="1552"/>
                  </a:lnTo>
                  <a:lnTo>
                    <a:pt x="6980" y="1552"/>
                  </a:lnTo>
                  <a:lnTo>
                    <a:pt x="6980" y="1568"/>
                  </a:lnTo>
                  <a:close/>
                  <a:moveTo>
                    <a:pt x="6916" y="1568"/>
                  </a:moveTo>
                  <a:lnTo>
                    <a:pt x="6868" y="1568"/>
                  </a:lnTo>
                  <a:lnTo>
                    <a:pt x="6868" y="1552"/>
                  </a:lnTo>
                  <a:lnTo>
                    <a:pt x="6916" y="1552"/>
                  </a:lnTo>
                  <a:lnTo>
                    <a:pt x="6916" y="1568"/>
                  </a:lnTo>
                  <a:close/>
                  <a:moveTo>
                    <a:pt x="6852" y="1568"/>
                  </a:moveTo>
                  <a:lnTo>
                    <a:pt x="6804" y="1568"/>
                  </a:lnTo>
                  <a:lnTo>
                    <a:pt x="6804" y="1552"/>
                  </a:lnTo>
                  <a:lnTo>
                    <a:pt x="6852" y="1552"/>
                  </a:lnTo>
                  <a:lnTo>
                    <a:pt x="6852" y="1568"/>
                  </a:lnTo>
                  <a:close/>
                  <a:moveTo>
                    <a:pt x="6788" y="1568"/>
                  </a:moveTo>
                  <a:lnTo>
                    <a:pt x="6740" y="1568"/>
                  </a:lnTo>
                  <a:lnTo>
                    <a:pt x="6740" y="1552"/>
                  </a:lnTo>
                  <a:lnTo>
                    <a:pt x="6788" y="1552"/>
                  </a:lnTo>
                  <a:lnTo>
                    <a:pt x="6788" y="1568"/>
                  </a:lnTo>
                  <a:close/>
                  <a:moveTo>
                    <a:pt x="6724" y="1568"/>
                  </a:moveTo>
                  <a:lnTo>
                    <a:pt x="6676" y="1568"/>
                  </a:lnTo>
                  <a:lnTo>
                    <a:pt x="6676" y="1552"/>
                  </a:lnTo>
                  <a:lnTo>
                    <a:pt x="6724" y="1552"/>
                  </a:lnTo>
                  <a:lnTo>
                    <a:pt x="6724" y="1568"/>
                  </a:lnTo>
                  <a:close/>
                  <a:moveTo>
                    <a:pt x="6660" y="1568"/>
                  </a:moveTo>
                  <a:lnTo>
                    <a:pt x="6612" y="1568"/>
                  </a:lnTo>
                  <a:lnTo>
                    <a:pt x="6612" y="1552"/>
                  </a:lnTo>
                  <a:lnTo>
                    <a:pt x="6660" y="1552"/>
                  </a:lnTo>
                  <a:lnTo>
                    <a:pt x="6660" y="1568"/>
                  </a:lnTo>
                  <a:close/>
                  <a:moveTo>
                    <a:pt x="6596" y="1568"/>
                  </a:moveTo>
                  <a:lnTo>
                    <a:pt x="6548" y="1568"/>
                  </a:lnTo>
                  <a:lnTo>
                    <a:pt x="6548" y="1552"/>
                  </a:lnTo>
                  <a:lnTo>
                    <a:pt x="6596" y="1552"/>
                  </a:lnTo>
                  <a:lnTo>
                    <a:pt x="6596" y="1568"/>
                  </a:lnTo>
                  <a:close/>
                  <a:moveTo>
                    <a:pt x="6532" y="1568"/>
                  </a:moveTo>
                  <a:lnTo>
                    <a:pt x="6484" y="1568"/>
                  </a:lnTo>
                  <a:lnTo>
                    <a:pt x="6484" y="1552"/>
                  </a:lnTo>
                  <a:lnTo>
                    <a:pt x="6532" y="1552"/>
                  </a:lnTo>
                  <a:lnTo>
                    <a:pt x="6532" y="1568"/>
                  </a:lnTo>
                  <a:close/>
                  <a:moveTo>
                    <a:pt x="6468" y="1568"/>
                  </a:moveTo>
                  <a:lnTo>
                    <a:pt x="6420" y="1568"/>
                  </a:lnTo>
                  <a:lnTo>
                    <a:pt x="6420" y="1552"/>
                  </a:lnTo>
                  <a:lnTo>
                    <a:pt x="6468" y="1552"/>
                  </a:lnTo>
                  <a:lnTo>
                    <a:pt x="6468" y="1568"/>
                  </a:lnTo>
                  <a:close/>
                  <a:moveTo>
                    <a:pt x="6404" y="1568"/>
                  </a:moveTo>
                  <a:lnTo>
                    <a:pt x="6356" y="1568"/>
                  </a:lnTo>
                  <a:lnTo>
                    <a:pt x="6356" y="1552"/>
                  </a:lnTo>
                  <a:lnTo>
                    <a:pt x="6404" y="1552"/>
                  </a:lnTo>
                  <a:lnTo>
                    <a:pt x="6404" y="1568"/>
                  </a:lnTo>
                  <a:close/>
                  <a:moveTo>
                    <a:pt x="6340" y="1568"/>
                  </a:moveTo>
                  <a:lnTo>
                    <a:pt x="6292" y="1568"/>
                  </a:lnTo>
                  <a:lnTo>
                    <a:pt x="6292" y="1552"/>
                  </a:lnTo>
                  <a:lnTo>
                    <a:pt x="6340" y="1552"/>
                  </a:lnTo>
                  <a:lnTo>
                    <a:pt x="6340" y="1568"/>
                  </a:lnTo>
                  <a:close/>
                  <a:moveTo>
                    <a:pt x="6276" y="1568"/>
                  </a:moveTo>
                  <a:lnTo>
                    <a:pt x="6228" y="1568"/>
                  </a:lnTo>
                  <a:lnTo>
                    <a:pt x="6228" y="1552"/>
                  </a:lnTo>
                  <a:lnTo>
                    <a:pt x="6276" y="1552"/>
                  </a:lnTo>
                  <a:lnTo>
                    <a:pt x="6276" y="1568"/>
                  </a:lnTo>
                  <a:close/>
                  <a:moveTo>
                    <a:pt x="6212" y="1568"/>
                  </a:moveTo>
                  <a:lnTo>
                    <a:pt x="6164" y="1568"/>
                  </a:lnTo>
                  <a:lnTo>
                    <a:pt x="6164" y="1552"/>
                  </a:lnTo>
                  <a:lnTo>
                    <a:pt x="6212" y="1552"/>
                  </a:lnTo>
                  <a:lnTo>
                    <a:pt x="6212" y="1568"/>
                  </a:lnTo>
                  <a:close/>
                  <a:moveTo>
                    <a:pt x="6148" y="1568"/>
                  </a:moveTo>
                  <a:lnTo>
                    <a:pt x="6100" y="1568"/>
                  </a:lnTo>
                  <a:lnTo>
                    <a:pt x="6100" y="1552"/>
                  </a:lnTo>
                  <a:lnTo>
                    <a:pt x="6148" y="1552"/>
                  </a:lnTo>
                  <a:lnTo>
                    <a:pt x="6148" y="1568"/>
                  </a:lnTo>
                  <a:close/>
                  <a:moveTo>
                    <a:pt x="6084" y="1568"/>
                  </a:moveTo>
                  <a:lnTo>
                    <a:pt x="6036" y="1568"/>
                  </a:lnTo>
                  <a:lnTo>
                    <a:pt x="6036" y="1552"/>
                  </a:lnTo>
                  <a:lnTo>
                    <a:pt x="6084" y="1552"/>
                  </a:lnTo>
                  <a:lnTo>
                    <a:pt x="6084" y="1568"/>
                  </a:lnTo>
                  <a:close/>
                  <a:moveTo>
                    <a:pt x="6020" y="1568"/>
                  </a:moveTo>
                  <a:lnTo>
                    <a:pt x="5971" y="1568"/>
                  </a:lnTo>
                  <a:lnTo>
                    <a:pt x="5971" y="1552"/>
                  </a:lnTo>
                  <a:lnTo>
                    <a:pt x="6020" y="1552"/>
                  </a:lnTo>
                  <a:lnTo>
                    <a:pt x="6020" y="1568"/>
                  </a:lnTo>
                  <a:close/>
                  <a:moveTo>
                    <a:pt x="5955" y="1568"/>
                  </a:moveTo>
                  <a:lnTo>
                    <a:pt x="5907" y="1568"/>
                  </a:lnTo>
                  <a:lnTo>
                    <a:pt x="5907" y="1552"/>
                  </a:lnTo>
                  <a:lnTo>
                    <a:pt x="5955" y="1552"/>
                  </a:lnTo>
                  <a:lnTo>
                    <a:pt x="5955" y="1568"/>
                  </a:lnTo>
                  <a:close/>
                  <a:moveTo>
                    <a:pt x="5891" y="1568"/>
                  </a:moveTo>
                  <a:lnTo>
                    <a:pt x="5843" y="1568"/>
                  </a:lnTo>
                  <a:lnTo>
                    <a:pt x="5843" y="1552"/>
                  </a:lnTo>
                  <a:lnTo>
                    <a:pt x="5891" y="1552"/>
                  </a:lnTo>
                  <a:lnTo>
                    <a:pt x="5891" y="1568"/>
                  </a:lnTo>
                  <a:close/>
                  <a:moveTo>
                    <a:pt x="5827" y="1568"/>
                  </a:moveTo>
                  <a:lnTo>
                    <a:pt x="5779" y="1568"/>
                  </a:lnTo>
                  <a:lnTo>
                    <a:pt x="5779" y="1552"/>
                  </a:lnTo>
                  <a:lnTo>
                    <a:pt x="5827" y="1552"/>
                  </a:lnTo>
                  <a:lnTo>
                    <a:pt x="5827" y="1568"/>
                  </a:lnTo>
                  <a:close/>
                  <a:moveTo>
                    <a:pt x="5763" y="1568"/>
                  </a:moveTo>
                  <a:lnTo>
                    <a:pt x="5715" y="1568"/>
                  </a:lnTo>
                  <a:lnTo>
                    <a:pt x="5715" y="1552"/>
                  </a:lnTo>
                  <a:lnTo>
                    <a:pt x="5763" y="1552"/>
                  </a:lnTo>
                  <a:lnTo>
                    <a:pt x="5763" y="1568"/>
                  </a:lnTo>
                  <a:close/>
                  <a:moveTo>
                    <a:pt x="5699" y="1568"/>
                  </a:moveTo>
                  <a:lnTo>
                    <a:pt x="5651" y="1568"/>
                  </a:lnTo>
                  <a:lnTo>
                    <a:pt x="5651" y="1552"/>
                  </a:lnTo>
                  <a:lnTo>
                    <a:pt x="5699" y="1552"/>
                  </a:lnTo>
                  <a:lnTo>
                    <a:pt x="5699" y="1568"/>
                  </a:lnTo>
                  <a:close/>
                  <a:moveTo>
                    <a:pt x="5635" y="1568"/>
                  </a:moveTo>
                  <a:lnTo>
                    <a:pt x="5587" y="1568"/>
                  </a:lnTo>
                  <a:lnTo>
                    <a:pt x="5587" y="1552"/>
                  </a:lnTo>
                  <a:lnTo>
                    <a:pt x="5635" y="1552"/>
                  </a:lnTo>
                  <a:lnTo>
                    <a:pt x="5635" y="1568"/>
                  </a:lnTo>
                  <a:close/>
                  <a:moveTo>
                    <a:pt x="5571" y="1568"/>
                  </a:moveTo>
                  <a:lnTo>
                    <a:pt x="5523" y="1568"/>
                  </a:lnTo>
                  <a:lnTo>
                    <a:pt x="5523" y="1552"/>
                  </a:lnTo>
                  <a:lnTo>
                    <a:pt x="5571" y="1552"/>
                  </a:lnTo>
                  <a:lnTo>
                    <a:pt x="5571" y="1568"/>
                  </a:lnTo>
                  <a:close/>
                  <a:moveTo>
                    <a:pt x="5507" y="1568"/>
                  </a:moveTo>
                  <a:lnTo>
                    <a:pt x="5459" y="1568"/>
                  </a:lnTo>
                  <a:lnTo>
                    <a:pt x="5459" y="1552"/>
                  </a:lnTo>
                  <a:lnTo>
                    <a:pt x="5507" y="1552"/>
                  </a:lnTo>
                  <a:lnTo>
                    <a:pt x="5507" y="1568"/>
                  </a:lnTo>
                  <a:close/>
                  <a:moveTo>
                    <a:pt x="5443" y="1568"/>
                  </a:moveTo>
                  <a:lnTo>
                    <a:pt x="5395" y="1568"/>
                  </a:lnTo>
                  <a:lnTo>
                    <a:pt x="5395" y="1552"/>
                  </a:lnTo>
                  <a:lnTo>
                    <a:pt x="5443" y="1552"/>
                  </a:lnTo>
                  <a:lnTo>
                    <a:pt x="5443" y="1568"/>
                  </a:lnTo>
                  <a:close/>
                  <a:moveTo>
                    <a:pt x="5379" y="1568"/>
                  </a:moveTo>
                  <a:lnTo>
                    <a:pt x="5331" y="1568"/>
                  </a:lnTo>
                  <a:lnTo>
                    <a:pt x="5331" y="1552"/>
                  </a:lnTo>
                  <a:lnTo>
                    <a:pt x="5379" y="1552"/>
                  </a:lnTo>
                  <a:lnTo>
                    <a:pt x="5379" y="1568"/>
                  </a:lnTo>
                  <a:close/>
                  <a:moveTo>
                    <a:pt x="5315" y="1568"/>
                  </a:moveTo>
                  <a:lnTo>
                    <a:pt x="5267" y="1568"/>
                  </a:lnTo>
                  <a:lnTo>
                    <a:pt x="5267" y="1552"/>
                  </a:lnTo>
                  <a:lnTo>
                    <a:pt x="5315" y="1552"/>
                  </a:lnTo>
                  <a:lnTo>
                    <a:pt x="5315" y="1568"/>
                  </a:lnTo>
                  <a:close/>
                  <a:moveTo>
                    <a:pt x="5251" y="1568"/>
                  </a:moveTo>
                  <a:lnTo>
                    <a:pt x="5203" y="1568"/>
                  </a:lnTo>
                  <a:lnTo>
                    <a:pt x="5203" y="1552"/>
                  </a:lnTo>
                  <a:lnTo>
                    <a:pt x="5251" y="1552"/>
                  </a:lnTo>
                  <a:lnTo>
                    <a:pt x="5251" y="1568"/>
                  </a:lnTo>
                  <a:close/>
                  <a:moveTo>
                    <a:pt x="5187" y="1568"/>
                  </a:moveTo>
                  <a:lnTo>
                    <a:pt x="5139" y="1568"/>
                  </a:lnTo>
                  <a:lnTo>
                    <a:pt x="5139" y="1552"/>
                  </a:lnTo>
                  <a:lnTo>
                    <a:pt x="5187" y="1552"/>
                  </a:lnTo>
                  <a:lnTo>
                    <a:pt x="5187" y="1568"/>
                  </a:lnTo>
                  <a:close/>
                  <a:moveTo>
                    <a:pt x="5123" y="1568"/>
                  </a:moveTo>
                  <a:lnTo>
                    <a:pt x="5075" y="1568"/>
                  </a:lnTo>
                  <a:lnTo>
                    <a:pt x="5075" y="1552"/>
                  </a:lnTo>
                  <a:lnTo>
                    <a:pt x="5123" y="1552"/>
                  </a:lnTo>
                  <a:lnTo>
                    <a:pt x="5123" y="1568"/>
                  </a:lnTo>
                  <a:close/>
                  <a:moveTo>
                    <a:pt x="5059" y="1568"/>
                  </a:moveTo>
                  <a:lnTo>
                    <a:pt x="5011" y="1568"/>
                  </a:lnTo>
                  <a:lnTo>
                    <a:pt x="5011" y="1552"/>
                  </a:lnTo>
                  <a:lnTo>
                    <a:pt x="5059" y="1552"/>
                  </a:lnTo>
                  <a:lnTo>
                    <a:pt x="5059" y="1568"/>
                  </a:lnTo>
                  <a:close/>
                  <a:moveTo>
                    <a:pt x="4994" y="1568"/>
                  </a:moveTo>
                  <a:lnTo>
                    <a:pt x="4946" y="1568"/>
                  </a:lnTo>
                  <a:lnTo>
                    <a:pt x="4946" y="1552"/>
                  </a:lnTo>
                  <a:lnTo>
                    <a:pt x="4994" y="1552"/>
                  </a:lnTo>
                  <a:lnTo>
                    <a:pt x="4994" y="1568"/>
                  </a:lnTo>
                  <a:close/>
                  <a:moveTo>
                    <a:pt x="4930" y="1568"/>
                  </a:moveTo>
                  <a:lnTo>
                    <a:pt x="4882" y="1568"/>
                  </a:lnTo>
                  <a:lnTo>
                    <a:pt x="4882" y="1552"/>
                  </a:lnTo>
                  <a:lnTo>
                    <a:pt x="4930" y="1552"/>
                  </a:lnTo>
                  <a:lnTo>
                    <a:pt x="4930" y="1568"/>
                  </a:lnTo>
                  <a:close/>
                  <a:moveTo>
                    <a:pt x="4866" y="1568"/>
                  </a:moveTo>
                  <a:lnTo>
                    <a:pt x="4818" y="1568"/>
                  </a:lnTo>
                  <a:lnTo>
                    <a:pt x="4818" y="1552"/>
                  </a:lnTo>
                  <a:lnTo>
                    <a:pt x="4866" y="1552"/>
                  </a:lnTo>
                  <a:lnTo>
                    <a:pt x="4866" y="1568"/>
                  </a:lnTo>
                  <a:close/>
                  <a:moveTo>
                    <a:pt x="4802" y="1568"/>
                  </a:moveTo>
                  <a:lnTo>
                    <a:pt x="4754" y="1568"/>
                  </a:lnTo>
                  <a:lnTo>
                    <a:pt x="4754" y="1552"/>
                  </a:lnTo>
                  <a:lnTo>
                    <a:pt x="4802" y="1552"/>
                  </a:lnTo>
                  <a:lnTo>
                    <a:pt x="4802" y="1568"/>
                  </a:lnTo>
                  <a:close/>
                  <a:moveTo>
                    <a:pt x="4738" y="1568"/>
                  </a:moveTo>
                  <a:lnTo>
                    <a:pt x="4690" y="1568"/>
                  </a:lnTo>
                  <a:lnTo>
                    <a:pt x="4690" y="1552"/>
                  </a:lnTo>
                  <a:lnTo>
                    <a:pt x="4738" y="1552"/>
                  </a:lnTo>
                  <a:lnTo>
                    <a:pt x="4738" y="1568"/>
                  </a:lnTo>
                  <a:close/>
                  <a:moveTo>
                    <a:pt x="4674" y="1568"/>
                  </a:moveTo>
                  <a:lnTo>
                    <a:pt x="4626" y="1568"/>
                  </a:lnTo>
                  <a:lnTo>
                    <a:pt x="4626" y="1552"/>
                  </a:lnTo>
                  <a:lnTo>
                    <a:pt x="4674" y="1552"/>
                  </a:lnTo>
                  <a:lnTo>
                    <a:pt x="4674" y="1568"/>
                  </a:lnTo>
                  <a:close/>
                  <a:moveTo>
                    <a:pt x="4610" y="1568"/>
                  </a:moveTo>
                  <a:lnTo>
                    <a:pt x="4562" y="1568"/>
                  </a:lnTo>
                  <a:lnTo>
                    <a:pt x="4562" y="1552"/>
                  </a:lnTo>
                  <a:lnTo>
                    <a:pt x="4610" y="1552"/>
                  </a:lnTo>
                  <a:lnTo>
                    <a:pt x="4610" y="1568"/>
                  </a:lnTo>
                  <a:close/>
                  <a:moveTo>
                    <a:pt x="4546" y="1568"/>
                  </a:moveTo>
                  <a:lnTo>
                    <a:pt x="4498" y="1568"/>
                  </a:lnTo>
                  <a:lnTo>
                    <a:pt x="4498" y="1552"/>
                  </a:lnTo>
                  <a:lnTo>
                    <a:pt x="4546" y="1552"/>
                  </a:lnTo>
                  <a:lnTo>
                    <a:pt x="4546" y="1568"/>
                  </a:lnTo>
                  <a:close/>
                  <a:moveTo>
                    <a:pt x="4482" y="1568"/>
                  </a:moveTo>
                  <a:lnTo>
                    <a:pt x="4434" y="1568"/>
                  </a:lnTo>
                  <a:lnTo>
                    <a:pt x="4434" y="1552"/>
                  </a:lnTo>
                  <a:lnTo>
                    <a:pt x="4482" y="1552"/>
                  </a:lnTo>
                  <a:lnTo>
                    <a:pt x="4482" y="1568"/>
                  </a:lnTo>
                  <a:close/>
                  <a:moveTo>
                    <a:pt x="4418" y="1568"/>
                  </a:moveTo>
                  <a:lnTo>
                    <a:pt x="4370" y="1568"/>
                  </a:lnTo>
                  <a:lnTo>
                    <a:pt x="4370" y="1552"/>
                  </a:lnTo>
                  <a:lnTo>
                    <a:pt x="4418" y="1552"/>
                  </a:lnTo>
                  <a:lnTo>
                    <a:pt x="4418" y="1568"/>
                  </a:lnTo>
                  <a:close/>
                  <a:moveTo>
                    <a:pt x="4354" y="1568"/>
                  </a:moveTo>
                  <a:lnTo>
                    <a:pt x="4306" y="1568"/>
                  </a:lnTo>
                  <a:lnTo>
                    <a:pt x="4306" y="1552"/>
                  </a:lnTo>
                  <a:lnTo>
                    <a:pt x="4354" y="1552"/>
                  </a:lnTo>
                  <a:lnTo>
                    <a:pt x="4354" y="1568"/>
                  </a:lnTo>
                  <a:close/>
                  <a:moveTo>
                    <a:pt x="4290" y="1568"/>
                  </a:moveTo>
                  <a:lnTo>
                    <a:pt x="4242" y="1568"/>
                  </a:lnTo>
                  <a:lnTo>
                    <a:pt x="4242" y="1552"/>
                  </a:lnTo>
                  <a:lnTo>
                    <a:pt x="4290" y="1552"/>
                  </a:lnTo>
                  <a:lnTo>
                    <a:pt x="4290" y="1568"/>
                  </a:lnTo>
                  <a:close/>
                  <a:moveTo>
                    <a:pt x="4226" y="1568"/>
                  </a:moveTo>
                  <a:lnTo>
                    <a:pt x="4178" y="1568"/>
                  </a:lnTo>
                  <a:lnTo>
                    <a:pt x="4178" y="1552"/>
                  </a:lnTo>
                  <a:lnTo>
                    <a:pt x="4226" y="1552"/>
                  </a:lnTo>
                  <a:lnTo>
                    <a:pt x="4226" y="1568"/>
                  </a:lnTo>
                  <a:close/>
                  <a:moveTo>
                    <a:pt x="4162" y="1568"/>
                  </a:moveTo>
                  <a:lnTo>
                    <a:pt x="4114" y="1568"/>
                  </a:lnTo>
                  <a:lnTo>
                    <a:pt x="4114" y="1552"/>
                  </a:lnTo>
                  <a:lnTo>
                    <a:pt x="4162" y="1552"/>
                  </a:lnTo>
                  <a:lnTo>
                    <a:pt x="4162" y="1568"/>
                  </a:lnTo>
                  <a:close/>
                  <a:moveTo>
                    <a:pt x="4098" y="1568"/>
                  </a:moveTo>
                  <a:lnTo>
                    <a:pt x="4050" y="1568"/>
                  </a:lnTo>
                  <a:lnTo>
                    <a:pt x="4050" y="1552"/>
                  </a:lnTo>
                  <a:lnTo>
                    <a:pt x="4098" y="1552"/>
                  </a:lnTo>
                  <a:lnTo>
                    <a:pt x="4098" y="1568"/>
                  </a:lnTo>
                  <a:close/>
                  <a:moveTo>
                    <a:pt x="4034" y="1568"/>
                  </a:moveTo>
                  <a:lnTo>
                    <a:pt x="3985" y="1568"/>
                  </a:lnTo>
                  <a:lnTo>
                    <a:pt x="3985" y="1552"/>
                  </a:lnTo>
                  <a:lnTo>
                    <a:pt x="4034" y="1552"/>
                  </a:lnTo>
                  <a:lnTo>
                    <a:pt x="4034" y="1568"/>
                  </a:lnTo>
                  <a:close/>
                  <a:moveTo>
                    <a:pt x="3969" y="1568"/>
                  </a:moveTo>
                  <a:lnTo>
                    <a:pt x="3921" y="1568"/>
                  </a:lnTo>
                  <a:lnTo>
                    <a:pt x="3921" y="1552"/>
                  </a:lnTo>
                  <a:lnTo>
                    <a:pt x="3969" y="1552"/>
                  </a:lnTo>
                  <a:lnTo>
                    <a:pt x="3969" y="1568"/>
                  </a:lnTo>
                  <a:close/>
                  <a:moveTo>
                    <a:pt x="3905" y="1568"/>
                  </a:moveTo>
                  <a:lnTo>
                    <a:pt x="3857" y="1568"/>
                  </a:lnTo>
                  <a:lnTo>
                    <a:pt x="3857" y="1552"/>
                  </a:lnTo>
                  <a:lnTo>
                    <a:pt x="3905" y="1552"/>
                  </a:lnTo>
                  <a:lnTo>
                    <a:pt x="3905" y="1568"/>
                  </a:lnTo>
                  <a:close/>
                  <a:moveTo>
                    <a:pt x="3841" y="1568"/>
                  </a:moveTo>
                  <a:lnTo>
                    <a:pt x="3793" y="1568"/>
                  </a:lnTo>
                  <a:lnTo>
                    <a:pt x="3793" y="1552"/>
                  </a:lnTo>
                  <a:lnTo>
                    <a:pt x="3841" y="1552"/>
                  </a:lnTo>
                  <a:lnTo>
                    <a:pt x="3841" y="1568"/>
                  </a:lnTo>
                  <a:close/>
                  <a:moveTo>
                    <a:pt x="3777" y="1568"/>
                  </a:moveTo>
                  <a:lnTo>
                    <a:pt x="3729" y="1568"/>
                  </a:lnTo>
                  <a:lnTo>
                    <a:pt x="3729" y="1552"/>
                  </a:lnTo>
                  <a:lnTo>
                    <a:pt x="3777" y="1552"/>
                  </a:lnTo>
                  <a:lnTo>
                    <a:pt x="3777" y="1568"/>
                  </a:lnTo>
                  <a:close/>
                  <a:moveTo>
                    <a:pt x="3713" y="1568"/>
                  </a:moveTo>
                  <a:lnTo>
                    <a:pt x="3665" y="1568"/>
                  </a:lnTo>
                  <a:lnTo>
                    <a:pt x="3665" y="1552"/>
                  </a:lnTo>
                  <a:lnTo>
                    <a:pt x="3713" y="1552"/>
                  </a:lnTo>
                  <a:lnTo>
                    <a:pt x="3713" y="1568"/>
                  </a:lnTo>
                  <a:close/>
                  <a:moveTo>
                    <a:pt x="3649" y="1568"/>
                  </a:moveTo>
                  <a:lnTo>
                    <a:pt x="3601" y="1568"/>
                  </a:lnTo>
                  <a:lnTo>
                    <a:pt x="3601" y="1552"/>
                  </a:lnTo>
                  <a:lnTo>
                    <a:pt x="3649" y="1552"/>
                  </a:lnTo>
                  <a:lnTo>
                    <a:pt x="3649" y="1568"/>
                  </a:lnTo>
                  <a:close/>
                  <a:moveTo>
                    <a:pt x="3585" y="1568"/>
                  </a:moveTo>
                  <a:lnTo>
                    <a:pt x="3537" y="1568"/>
                  </a:lnTo>
                  <a:lnTo>
                    <a:pt x="3537" y="1552"/>
                  </a:lnTo>
                  <a:lnTo>
                    <a:pt x="3585" y="1552"/>
                  </a:lnTo>
                  <a:lnTo>
                    <a:pt x="3585" y="1568"/>
                  </a:lnTo>
                  <a:close/>
                  <a:moveTo>
                    <a:pt x="3521" y="1568"/>
                  </a:moveTo>
                  <a:lnTo>
                    <a:pt x="3473" y="1568"/>
                  </a:lnTo>
                  <a:lnTo>
                    <a:pt x="3473" y="1552"/>
                  </a:lnTo>
                  <a:lnTo>
                    <a:pt x="3521" y="1552"/>
                  </a:lnTo>
                  <a:lnTo>
                    <a:pt x="3521" y="1568"/>
                  </a:lnTo>
                  <a:close/>
                  <a:moveTo>
                    <a:pt x="3457" y="1568"/>
                  </a:moveTo>
                  <a:lnTo>
                    <a:pt x="3409" y="1568"/>
                  </a:lnTo>
                  <a:lnTo>
                    <a:pt x="3409" y="1552"/>
                  </a:lnTo>
                  <a:lnTo>
                    <a:pt x="3457" y="1552"/>
                  </a:lnTo>
                  <a:lnTo>
                    <a:pt x="3457" y="1568"/>
                  </a:lnTo>
                  <a:close/>
                  <a:moveTo>
                    <a:pt x="3393" y="1568"/>
                  </a:moveTo>
                  <a:lnTo>
                    <a:pt x="3345" y="1568"/>
                  </a:lnTo>
                  <a:lnTo>
                    <a:pt x="3345" y="1552"/>
                  </a:lnTo>
                  <a:lnTo>
                    <a:pt x="3393" y="1552"/>
                  </a:lnTo>
                  <a:lnTo>
                    <a:pt x="3393" y="1568"/>
                  </a:lnTo>
                  <a:close/>
                  <a:moveTo>
                    <a:pt x="3329" y="1568"/>
                  </a:moveTo>
                  <a:lnTo>
                    <a:pt x="3281" y="1568"/>
                  </a:lnTo>
                  <a:lnTo>
                    <a:pt x="3281" y="1552"/>
                  </a:lnTo>
                  <a:lnTo>
                    <a:pt x="3329" y="1552"/>
                  </a:lnTo>
                  <a:lnTo>
                    <a:pt x="3329" y="1568"/>
                  </a:lnTo>
                  <a:close/>
                  <a:moveTo>
                    <a:pt x="3265" y="1568"/>
                  </a:moveTo>
                  <a:lnTo>
                    <a:pt x="3217" y="1568"/>
                  </a:lnTo>
                  <a:lnTo>
                    <a:pt x="3217" y="1552"/>
                  </a:lnTo>
                  <a:lnTo>
                    <a:pt x="3265" y="1552"/>
                  </a:lnTo>
                  <a:lnTo>
                    <a:pt x="3265" y="1568"/>
                  </a:lnTo>
                  <a:close/>
                  <a:moveTo>
                    <a:pt x="3201" y="1568"/>
                  </a:moveTo>
                  <a:lnTo>
                    <a:pt x="3153" y="1568"/>
                  </a:lnTo>
                  <a:lnTo>
                    <a:pt x="3153" y="1552"/>
                  </a:lnTo>
                  <a:lnTo>
                    <a:pt x="3201" y="1552"/>
                  </a:lnTo>
                  <a:lnTo>
                    <a:pt x="3201" y="1568"/>
                  </a:lnTo>
                  <a:close/>
                  <a:moveTo>
                    <a:pt x="3137" y="1568"/>
                  </a:moveTo>
                  <a:lnTo>
                    <a:pt x="3089" y="1568"/>
                  </a:lnTo>
                  <a:lnTo>
                    <a:pt x="3089" y="1552"/>
                  </a:lnTo>
                  <a:lnTo>
                    <a:pt x="3137" y="1552"/>
                  </a:lnTo>
                  <a:lnTo>
                    <a:pt x="3137" y="1568"/>
                  </a:lnTo>
                  <a:close/>
                  <a:moveTo>
                    <a:pt x="3073" y="1568"/>
                  </a:moveTo>
                  <a:lnTo>
                    <a:pt x="3025" y="1568"/>
                  </a:lnTo>
                  <a:lnTo>
                    <a:pt x="3025" y="1552"/>
                  </a:lnTo>
                  <a:lnTo>
                    <a:pt x="3073" y="1552"/>
                  </a:lnTo>
                  <a:lnTo>
                    <a:pt x="3073" y="1568"/>
                  </a:lnTo>
                  <a:close/>
                  <a:moveTo>
                    <a:pt x="3008" y="1568"/>
                  </a:moveTo>
                  <a:lnTo>
                    <a:pt x="2960" y="1568"/>
                  </a:lnTo>
                  <a:lnTo>
                    <a:pt x="2960" y="1552"/>
                  </a:lnTo>
                  <a:lnTo>
                    <a:pt x="3008" y="1552"/>
                  </a:lnTo>
                  <a:lnTo>
                    <a:pt x="3008" y="1568"/>
                  </a:lnTo>
                  <a:close/>
                  <a:moveTo>
                    <a:pt x="2944" y="1568"/>
                  </a:moveTo>
                  <a:lnTo>
                    <a:pt x="2896" y="1568"/>
                  </a:lnTo>
                  <a:lnTo>
                    <a:pt x="2896" y="1552"/>
                  </a:lnTo>
                  <a:lnTo>
                    <a:pt x="2944" y="1552"/>
                  </a:lnTo>
                  <a:lnTo>
                    <a:pt x="2944" y="1568"/>
                  </a:lnTo>
                  <a:close/>
                  <a:moveTo>
                    <a:pt x="2880" y="1568"/>
                  </a:moveTo>
                  <a:lnTo>
                    <a:pt x="2832" y="1568"/>
                  </a:lnTo>
                  <a:lnTo>
                    <a:pt x="2832" y="1552"/>
                  </a:lnTo>
                  <a:lnTo>
                    <a:pt x="2880" y="1552"/>
                  </a:lnTo>
                  <a:lnTo>
                    <a:pt x="2880" y="1568"/>
                  </a:lnTo>
                  <a:close/>
                  <a:moveTo>
                    <a:pt x="2816" y="1568"/>
                  </a:moveTo>
                  <a:lnTo>
                    <a:pt x="2768" y="1568"/>
                  </a:lnTo>
                  <a:lnTo>
                    <a:pt x="2768" y="1552"/>
                  </a:lnTo>
                  <a:lnTo>
                    <a:pt x="2816" y="1552"/>
                  </a:lnTo>
                  <a:lnTo>
                    <a:pt x="2816" y="1568"/>
                  </a:lnTo>
                  <a:close/>
                  <a:moveTo>
                    <a:pt x="2752" y="1568"/>
                  </a:moveTo>
                  <a:lnTo>
                    <a:pt x="2704" y="1568"/>
                  </a:lnTo>
                  <a:lnTo>
                    <a:pt x="2704" y="1552"/>
                  </a:lnTo>
                  <a:lnTo>
                    <a:pt x="2752" y="1552"/>
                  </a:lnTo>
                  <a:lnTo>
                    <a:pt x="2752" y="1568"/>
                  </a:lnTo>
                  <a:close/>
                  <a:moveTo>
                    <a:pt x="2688" y="1568"/>
                  </a:moveTo>
                  <a:lnTo>
                    <a:pt x="2640" y="1568"/>
                  </a:lnTo>
                  <a:lnTo>
                    <a:pt x="2640" y="1552"/>
                  </a:lnTo>
                  <a:lnTo>
                    <a:pt x="2688" y="1552"/>
                  </a:lnTo>
                  <a:lnTo>
                    <a:pt x="2688" y="1568"/>
                  </a:lnTo>
                  <a:close/>
                  <a:moveTo>
                    <a:pt x="2624" y="1568"/>
                  </a:moveTo>
                  <a:lnTo>
                    <a:pt x="2576" y="1568"/>
                  </a:lnTo>
                  <a:lnTo>
                    <a:pt x="2576" y="1552"/>
                  </a:lnTo>
                  <a:lnTo>
                    <a:pt x="2624" y="1552"/>
                  </a:lnTo>
                  <a:lnTo>
                    <a:pt x="2624" y="1568"/>
                  </a:lnTo>
                  <a:close/>
                  <a:moveTo>
                    <a:pt x="2560" y="1568"/>
                  </a:moveTo>
                  <a:lnTo>
                    <a:pt x="2512" y="1568"/>
                  </a:lnTo>
                  <a:lnTo>
                    <a:pt x="2512" y="1552"/>
                  </a:lnTo>
                  <a:lnTo>
                    <a:pt x="2560" y="1552"/>
                  </a:lnTo>
                  <a:lnTo>
                    <a:pt x="2560" y="1568"/>
                  </a:lnTo>
                  <a:close/>
                  <a:moveTo>
                    <a:pt x="2496" y="1568"/>
                  </a:moveTo>
                  <a:lnTo>
                    <a:pt x="2448" y="1568"/>
                  </a:lnTo>
                  <a:lnTo>
                    <a:pt x="2448" y="1552"/>
                  </a:lnTo>
                  <a:lnTo>
                    <a:pt x="2496" y="1552"/>
                  </a:lnTo>
                  <a:lnTo>
                    <a:pt x="2496" y="1568"/>
                  </a:lnTo>
                  <a:close/>
                  <a:moveTo>
                    <a:pt x="2432" y="1568"/>
                  </a:moveTo>
                  <a:lnTo>
                    <a:pt x="2384" y="1568"/>
                  </a:lnTo>
                  <a:lnTo>
                    <a:pt x="2384" y="1552"/>
                  </a:lnTo>
                  <a:lnTo>
                    <a:pt x="2432" y="1552"/>
                  </a:lnTo>
                  <a:lnTo>
                    <a:pt x="2432" y="1568"/>
                  </a:lnTo>
                  <a:close/>
                  <a:moveTo>
                    <a:pt x="2368" y="1568"/>
                  </a:moveTo>
                  <a:lnTo>
                    <a:pt x="2320" y="1568"/>
                  </a:lnTo>
                  <a:lnTo>
                    <a:pt x="2320" y="1552"/>
                  </a:lnTo>
                  <a:lnTo>
                    <a:pt x="2368" y="1552"/>
                  </a:lnTo>
                  <a:lnTo>
                    <a:pt x="2368" y="1568"/>
                  </a:lnTo>
                  <a:close/>
                  <a:moveTo>
                    <a:pt x="2304" y="1568"/>
                  </a:moveTo>
                  <a:lnTo>
                    <a:pt x="2256" y="1568"/>
                  </a:lnTo>
                  <a:lnTo>
                    <a:pt x="2256" y="1552"/>
                  </a:lnTo>
                  <a:lnTo>
                    <a:pt x="2304" y="1552"/>
                  </a:lnTo>
                  <a:lnTo>
                    <a:pt x="2304" y="1568"/>
                  </a:lnTo>
                  <a:close/>
                  <a:moveTo>
                    <a:pt x="2240" y="1568"/>
                  </a:moveTo>
                  <a:lnTo>
                    <a:pt x="2192" y="1568"/>
                  </a:lnTo>
                  <a:lnTo>
                    <a:pt x="2192" y="1552"/>
                  </a:lnTo>
                  <a:lnTo>
                    <a:pt x="2240" y="1552"/>
                  </a:lnTo>
                  <a:lnTo>
                    <a:pt x="2240" y="1568"/>
                  </a:lnTo>
                  <a:close/>
                  <a:moveTo>
                    <a:pt x="2176" y="1568"/>
                  </a:moveTo>
                  <a:lnTo>
                    <a:pt x="2128" y="1568"/>
                  </a:lnTo>
                  <a:lnTo>
                    <a:pt x="2128" y="1552"/>
                  </a:lnTo>
                  <a:lnTo>
                    <a:pt x="2176" y="1552"/>
                  </a:lnTo>
                  <a:lnTo>
                    <a:pt x="2176" y="1568"/>
                  </a:lnTo>
                  <a:close/>
                  <a:moveTo>
                    <a:pt x="2112" y="1568"/>
                  </a:moveTo>
                  <a:lnTo>
                    <a:pt x="2064" y="1568"/>
                  </a:lnTo>
                  <a:lnTo>
                    <a:pt x="2064" y="1552"/>
                  </a:lnTo>
                  <a:lnTo>
                    <a:pt x="2112" y="1552"/>
                  </a:lnTo>
                  <a:lnTo>
                    <a:pt x="2112" y="1568"/>
                  </a:lnTo>
                  <a:close/>
                  <a:moveTo>
                    <a:pt x="2048" y="1568"/>
                  </a:moveTo>
                  <a:lnTo>
                    <a:pt x="1999" y="1568"/>
                  </a:lnTo>
                  <a:lnTo>
                    <a:pt x="1999" y="1552"/>
                  </a:lnTo>
                  <a:lnTo>
                    <a:pt x="2048" y="1552"/>
                  </a:lnTo>
                  <a:lnTo>
                    <a:pt x="2048" y="1568"/>
                  </a:lnTo>
                  <a:close/>
                  <a:moveTo>
                    <a:pt x="1983" y="1568"/>
                  </a:moveTo>
                  <a:lnTo>
                    <a:pt x="1935" y="1568"/>
                  </a:lnTo>
                  <a:lnTo>
                    <a:pt x="1935" y="1552"/>
                  </a:lnTo>
                  <a:lnTo>
                    <a:pt x="1983" y="1552"/>
                  </a:lnTo>
                  <a:lnTo>
                    <a:pt x="1983" y="1568"/>
                  </a:lnTo>
                  <a:close/>
                  <a:moveTo>
                    <a:pt x="1919" y="1568"/>
                  </a:moveTo>
                  <a:lnTo>
                    <a:pt x="1871" y="1568"/>
                  </a:lnTo>
                  <a:lnTo>
                    <a:pt x="1871" y="1552"/>
                  </a:lnTo>
                  <a:lnTo>
                    <a:pt x="1919" y="1552"/>
                  </a:lnTo>
                  <a:lnTo>
                    <a:pt x="1919" y="1568"/>
                  </a:lnTo>
                  <a:close/>
                  <a:moveTo>
                    <a:pt x="1855" y="1568"/>
                  </a:moveTo>
                  <a:lnTo>
                    <a:pt x="1807" y="1568"/>
                  </a:lnTo>
                  <a:lnTo>
                    <a:pt x="1807" y="1552"/>
                  </a:lnTo>
                  <a:lnTo>
                    <a:pt x="1855" y="1552"/>
                  </a:lnTo>
                  <a:lnTo>
                    <a:pt x="1855" y="1568"/>
                  </a:lnTo>
                  <a:close/>
                  <a:moveTo>
                    <a:pt x="1791" y="1568"/>
                  </a:moveTo>
                  <a:lnTo>
                    <a:pt x="1743" y="1568"/>
                  </a:lnTo>
                  <a:lnTo>
                    <a:pt x="1743" y="1552"/>
                  </a:lnTo>
                  <a:lnTo>
                    <a:pt x="1791" y="1552"/>
                  </a:lnTo>
                  <a:lnTo>
                    <a:pt x="1791" y="1568"/>
                  </a:lnTo>
                  <a:close/>
                  <a:moveTo>
                    <a:pt x="1727" y="1568"/>
                  </a:moveTo>
                  <a:lnTo>
                    <a:pt x="1679" y="1568"/>
                  </a:lnTo>
                  <a:lnTo>
                    <a:pt x="1679" y="1552"/>
                  </a:lnTo>
                  <a:lnTo>
                    <a:pt x="1727" y="1552"/>
                  </a:lnTo>
                  <a:lnTo>
                    <a:pt x="1727" y="1568"/>
                  </a:lnTo>
                  <a:close/>
                  <a:moveTo>
                    <a:pt x="1663" y="1568"/>
                  </a:moveTo>
                  <a:lnTo>
                    <a:pt x="1615" y="1568"/>
                  </a:lnTo>
                  <a:lnTo>
                    <a:pt x="1615" y="1552"/>
                  </a:lnTo>
                  <a:lnTo>
                    <a:pt x="1663" y="1552"/>
                  </a:lnTo>
                  <a:lnTo>
                    <a:pt x="1663" y="1568"/>
                  </a:lnTo>
                  <a:close/>
                  <a:moveTo>
                    <a:pt x="1599" y="1568"/>
                  </a:moveTo>
                  <a:lnTo>
                    <a:pt x="1551" y="1568"/>
                  </a:lnTo>
                  <a:lnTo>
                    <a:pt x="1551" y="1552"/>
                  </a:lnTo>
                  <a:lnTo>
                    <a:pt x="1599" y="1552"/>
                  </a:lnTo>
                  <a:lnTo>
                    <a:pt x="1599" y="1568"/>
                  </a:lnTo>
                  <a:close/>
                  <a:moveTo>
                    <a:pt x="1535" y="1568"/>
                  </a:moveTo>
                  <a:lnTo>
                    <a:pt x="1487" y="1568"/>
                  </a:lnTo>
                  <a:lnTo>
                    <a:pt x="1487" y="1552"/>
                  </a:lnTo>
                  <a:lnTo>
                    <a:pt x="1535" y="1552"/>
                  </a:lnTo>
                  <a:lnTo>
                    <a:pt x="1535" y="1568"/>
                  </a:lnTo>
                  <a:close/>
                  <a:moveTo>
                    <a:pt x="1471" y="1568"/>
                  </a:moveTo>
                  <a:lnTo>
                    <a:pt x="1423" y="1568"/>
                  </a:lnTo>
                  <a:lnTo>
                    <a:pt x="1423" y="1552"/>
                  </a:lnTo>
                  <a:lnTo>
                    <a:pt x="1471" y="1552"/>
                  </a:lnTo>
                  <a:lnTo>
                    <a:pt x="1471" y="1568"/>
                  </a:lnTo>
                  <a:close/>
                  <a:moveTo>
                    <a:pt x="1407" y="1568"/>
                  </a:moveTo>
                  <a:lnTo>
                    <a:pt x="1359" y="1568"/>
                  </a:lnTo>
                  <a:lnTo>
                    <a:pt x="1359" y="1552"/>
                  </a:lnTo>
                  <a:lnTo>
                    <a:pt x="1407" y="1552"/>
                  </a:lnTo>
                  <a:lnTo>
                    <a:pt x="1407" y="1568"/>
                  </a:lnTo>
                  <a:close/>
                  <a:moveTo>
                    <a:pt x="1343" y="1568"/>
                  </a:moveTo>
                  <a:lnTo>
                    <a:pt x="1295" y="1568"/>
                  </a:lnTo>
                  <a:lnTo>
                    <a:pt x="1295" y="1552"/>
                  </a:lnTo>
                  <a:lnTo>
                    <a:pt x="1343" y="1552"/>
                  </a:lnTo>
                  <a:lnTo>
                    <a:pt x="1343" y="1568"/>
                  </a:lnTo>
                  <a:close/>
                  <a:moveTo>
                    <a:pt x="1279" y="1568"/>
                  </a:moveTo>
                  <a:lnTo>
                    <a:pt x="1231" y="1568"/>
                  </a:lnTo>
                  <a:lnTo>
                    <a:pt x="1231" y="1552"/>
                  </a:lnTo>
                  <a:lnTo>
                    <a:pt x="1279" y="1552"/>
                  </a:lnTo>
                  <a:lnTo>
                    <a:pt x="1279" y="1568"/>
                  </a:lnTo>
                  <a:close/>
                  <a:moveTo>
                    <a:pt x="1215" y="1568"/>
                  </a:moveTo>
                  <a:lnTo>
                    <a:pt x="1167" y="1568"/>
                  </a:lnTo>
                  <a:lnTo>
                    <a:pt x="1167" y="1552"/>
                  </a:lnTo>
                  <a:lnTo>
                    <a:pt x="1215" y="1552"/>
                  </a:lnTo>
                  <a:lnTo>
                    <a:pt x="1215" y="1568"/>
                  </a:lnTo>
                  <a:close/>
                  <a:moveTo>
                    <a:pt x="1151" y="1568"/>
                  </a:moveTo>
                  <a:lnTo>
                    <a:pt x="1103" y="1568"/>
                  </a:lnTo>
                  <a:lnTo>
                    <a:pt x="1103" y="1552"/>
                  </a:lnTo>
                  <a:lnTo>
                    <a:pt x="1151" y="1552"/>
                  </a:lnTo>
                  <a:lnTo>
                    <a:pt x="1151" y="1568"/>
                  </a:lnTo>
                  <a:close/>
                  <a:moveTo>
                    <a:pt x="1087" y="1568"/>
                  </a:moveTo>
                  <a:lnTo>
                    <a:pt x="1039" y="1568"/>
                  </a:lnTo>
                  <a:lnTo>
                    <a:pt x="1039" y="1552"/>
                  </a:lnTo>
                  <a:lnTo>
                    <a:pt x="1087" y="1552"/>
                  </a:lnTo>
                  <a:lnTo>
                    <a:pt x="1087" y="1568"/>
                  </a:lnTo>
                  <a:close/>
                  <a:moveTo>
                    <a:pt x="1023" y="1568"/>
                  </a:moveTo>
                  <a:lnTo>
                    <a:pt x="974" y="1568"/>
                  </a:lnTo>
                  <a:lnTo>
                    <a:pt x="974" y="1552"/>
                  </a:lnTo>
                  <a:lnTo>
                    <a:pt x="1023" y="1552"/>
                  </a:lnTo>
                  <a:lnTo>
                    <a:pt x="1023" y="1568"/>
                  </a:lnTo>
                  <a:close/>
                  <a:moveTo>
                    <a:pt x="958" y="1568"/>
                  </a:moveTo>
                  <a:lnTo>
                    <a:pt x="910" y="1568"/>
                  </a:lnTo>
                  <a:lnTo>
                    <a:pt x="910" y="1552"/>
                  </a:lnTo>
                  <a:lnTo>
                    <a:pt x="958" y="1552"/>
                  </a:lnTo>
                  <a:lnTo>
                    <a:pt x="958" y="1568"/>
                  </a:lnTo>
                  <a:close/>
                  <a:moveTo>
                    <a:pt x="894" y="1568"/>
                  </a:moveTo>
                  <a:lnTo>
                    <a:pt x="846" y="1568"/>
                  </a:lnTo>
                  <a:lnTo>
                    <a:pt x="846" y="1552"/>
                  </a:lnTo>
                  <a:lnTo>
                    <a:pt x="894" y="1552"/>
                  </a:lnTo>
                  <a:lnTo>
                    <a:pt x="894" y="1568"/>
                  </a:lnTo>
                  <a:close/>
                  <a:moveTo>
                    <a:pt x="830" y="1568"/>
                  </a:moveTo>
                  <a:lnTo>
                    <a:pt x="782" y="1568"/>
                  </a:lnTo>
                  <a:lnTo>
                    <a:pt x="782" y="1552"/>
                  </a:lnTo>
                  <a:lnTo>
                    <a:pt x="830" y="1552"/>
                  </a:lnTo>
                  <a:lnTo>
                    <a:pt x="830" y="1568"/>
                  </a:lnTo>
                  <a:close/>
                  <a:moveTo>
                    <a:pt x="766" y="1568"/>
                  </a:moveTo>
                  <a:lnTo>
                    <a:pt x="718" y="1568"/>
                  </a:lnTo>
                  <a:lnTo>
                    <a:pt x="718" y="1552"/>
                  </a:lnTo>
                  <a:lnTo>
                    <a:pt x="766" y="1552"/>
                  </a:lnTo>
                  <a:lnTo>
                    <a:pt x="766" y="1568"/>
                  </a:lnTo>
                  <a:close/>
                  <a:moveTo>
                    <a:pt x="702" y="1568"/>
                  </a:moveTo>
                  <a:lnTo>
                    <a:pt x="654" y="1568"/>
                  </a:lnTo>
                  <a:lnTo>
                    <a:pt x="654" y="1552"/>
                  </a:lnTo>
                  <a:lnTo>
                    <a:pt x="702" y="1552"/>
                  </a:lnTo>
                  <a:lnTo>
                    <a:pt x="702" y="1568"/>
                  </a:lnTo>
                  <a:close/>
                  <a:moveTo>
                    <a:pt x="638" y="1568"/>
                  </a:moveTo>
                  <a:lnTo>
                    <a:pt x="590" y="1568"/>
                  </a:lnTo>
                  <a:lnTo>
                    <a:pt x="590" y="1552"/>
                  </a:lnTo>
                  <a:lnTo>
                    <a:pt x="638" y="1552"/>
                  </a:lnTo>
                  <a:lnTo>
                    <a:pt x="638" y="1568"/>
                  </a:lnTo>
                  <a:close/>
                  <a:moveTo>
                    <a:pt x="574" y="1568"/>
                  </a:moveTo>
                  <a:lnTo>
                    <a:pt x="526" y="1568"/>
                  </a:lnTo>
                  <a:lnTo>
                    <a:pt x="526" y="1552"/>
                  </a:lnTo>
                  <a:lnTo>
                    <a:pt x="574" y="1552"/>
                  </a:lnTo>
                  <a:lnTo>
                    <a:pt x="574" y="1568"/>
                  </a:lnTo>
                  <a:close/>
                  <a:moveTo>
                    <a:pt x="510" y="1568"/>
                  </a:moveTo>
                  <a:lnTo>
                    <a:pt x="462" y="1568"/>
                  </a:lnTo>
                  <a:lnTo>
                    <a:pt x="462" y="1552"/>
                  </a:lnTo>
                  <a:lnTo>
                    <a:pt x="510" y="1552"/>
                  </a:lnTo>
                  <a:lnTo>
                    <a:pt x="510" y="1568"/>
                  </a:lnTo>
                  <a:close/>
                  <a:moveTo>
                    <a:pt x="446" y="1568"/>
                  </a:moveTo>
                  <a:lnTo>
                    <a:pt x="398" y="1568"/>
                  </a:lnTo>
                  <a:lnTo>
                    <a:pt x="398" y="1552"/>
                  </a:lnTo>
                  <a:lnTo>
                    <a:pt x="446" y="1552"/>
                  </a:lnTo>
                  <a:lnTo>
                    <a:pt x="446" y="1568"/>
                  </a:lnTo>
                  <a:close/>
                  <a:moveTo>
                    <a:pt x="382" y="1568"/>
                  </a:moveTo>
                  <a:lnTo>
                    <a:pt x="334" y="1568"/>
                  </a:lnTo>
                  <a:lnTo>
                    <a:pt x="334" y="1552"/>
                  </a:lnTo>
                  <a:lnTo>
                    <a:pt x="382" y="1552"/>
                  </a:lnTo>
                  <a:lnTo>
                    <a:pt x="382" y="1568"/>
                  </a:lnTo>
                  <a:close/>
                  <a:moveTo>
                    <a:pt x="318" y="1568"/>
                  </a:moveTo>
                  <a:lnTo>
                    <a:pt x="270" y="1568"/>
                  </a:lnTo>
                  <a:lnTo>
                    <a:pt x="270" y="1552"/>
                  </a:lnTo>
                  <a:lnTo>
                    <a:pt x="318" y="1552"/>
                  </a:lnTo>
                  <a:lnTo>
                    <a:pt x="318" y="1568"/>
                  </a:lnTo>
                  <a:close/>
                  <a:moveTo>
                    <a:pt x="253" y="1567"/>
                  </a:moveTo>
                  <a:lnTo>
                    <a:pt x="215" y="1563"/>
                  </a:lnTo>
                  <a:cubicBezTo>
                    <a:pt x="214" y="1563"/>
                    <a:pt x="214" y="1563"/>
                    <a:pt x="213" y="1563"/>
                  </a:cubicBezTo>
                  <a:lnTo>
                    <a:pt x="204" y="1560"/>
                  </a:lnTo>
                  <a:lnTo>
                    <a:pt x="209" y="1545"/>
                  </a:lnTo>
                  <a:lnTo>
                    <a:pt x="218" y="1548"/>
                  </a:lnTo>
                  <a:lnTo>
                    <a:pt x="216" y="1547"/>
                  </a:lnTo>
                  <a:lnTo>
                    <a:pt x="255" y="1551"/>
                  </a:lnTo>
                  <a:lnTo>
                    <a:pt x="253" y="1567"/>
                  </a:lnTo>
                  <a:close/>
                  <a:moveTo>
                    <a:pt x="189" y="1556"/>
                  </a:moveTo>
                  <a:lnTo>
                    <a:pt x="164" y="1548"/>
                  </a:lnTo>
                  <a:cubicBezTo>
                    <a:pt x="164" y="1548"/>
                    <a:pt x="163" y="1548"/>
                    <a:pt x="163" y="1547"/>
                  </a:cubicBezTo>
                  <a:lnTo>
                    <a:pt x="143" y="1537"/>
                  </a:lnTo>
                  <a:lnTo>
                    <a:pt x="151" y="1523"/>
                  </a:lnTo>
                  <a:lnTo>
                    <a:pt x="170" y="1533"/>
                  </a:lnTo>
                  <a:lnTo>
                    <a:pt x="169" y="1533"/>
                  </a:lnTo>
                  <a:lnTo>
                    <a:pt x="193" y="1540"/>
                  </a:lnTo>
                  <a:lnTo>
                    <a:pt x="189" y="1556"/>
                  </a:lnTo>
                  <a:close/>
                  <a:moveTo>
                    <a:pt x="129" y="1529"/>
                  </a:moveTo>
                  <a:lnTo>
                    <a:pt x="119" y="1523"/>
                  </a:lnTo>
                  <a:cubicBezTo>
                    <a:pt x="118" y="1523"/>
                    <a:pt x="118" y="1523"/>
                    <a:pt x="117" y="1523"/>
                  </a:cubicBezTo>
                  <a:lnTo>
                    <a:pt x="89" y="1500"/>
                  </a:lnTo>
                  <a:lnTo>
                    <a:pt x="99" y="1487"/>
                  </a:lnTo>
                  <a:lnTo>
                    <a:pt x="128" y="1510"/>
                  </a:lnTo>
                  <a:lnTo>
                    <a:pt x="126" y="1509"/>
                  </a:lnTo>
                  <a:lnTo>
                    <a:pt x="137" y="1515"/>
                  </a:lnTo>
                  <a:lnTo>
                    <a:pt x="129" y="1529"/>
                  </a:lnTo>
                  <a:close/>
                  <a:moveTo>
                    <a:pt x="76" y="1488"/>
                  </a:moveTo>
                  <a:lnTo>
                    <a:pt x="46" y="1452"/>
                  </a:lnTo>
                  <a:cubicBezTo>
                    <a:pt x="46" y="1451"/>
                    <a:pt x="46" y="1451"/>
                    <a:pt x="45" y="1450"/>
                  </a:cubicBezTo>
                  <a:lnTo>
                    <a:pt x="45" y="1450"/>
                  </a:lnTo>
                  <a:lnTo>
                    <a:pt x="59" y="1442"/>
                  </a:lnTo>
                  <a:lnTo>
                    <a:pt x="59" y="1443"/>
                  </a:lnTo>
                  <a:lnTo>
                    <a:pt x="59" y="1441"/>
                  </a:lnTo>
                  <a:lnTo>
                    <a:pt x="89" y="1478"/>
                  </a:lnTo>
                  <a:lnTo>
                    <a:pt x="76" y="1488"/>
                  </a:lnTo>
                  <a:close/>
                  <a:moveTo>
                    <a:pt x="37" y="1436"/>
                  </a:moveTo>
                  <a:lnTo>
                    <a:pt x="21" y="1407"/>
                  </a:lnTo>
                  <a:cubicBezTo>
                    <a:pt x="21" y="1407"/>
                    <a:pt x="21" y="1406"/>
                    <a:pt x="21" y="1406"/>
                  </a:cubicBezTo>
                  <a:lnTo>
                    <a:pt x="16" y="1391"/>
                  </a:lnTo>
                  <a:lnTo>
                    <a:pt x="32" y="1386"/>
                  </a:lnTo>
                  <a:lnTo>
                    <a:pt x="36" y="1401"/>
                  </a:lnTo>
                  <a:lnTo>
                    <a:pt x="35" y="1400"/>
                  </a:lnTo>
                  <a:lnTo>
                    <a:pt x="51" y="1428"/>
                  </a:lnTo>
                  <a:lnTo>
                    <a:pt x="37" y="1436"/>
                  </a:lnTo>
                  <a:close/>
                  <a:moveTo>
                    <a:pt x="12" y="1375"/>
                  </a:moveTo>
                  <a:lnTo>
                    <a:pt x="6" y="1357"/>
                  </a:lnTo>
                  <a:cubicBezTo>
                    <a:pt x="6" y="1356"/>
                    <a:pt x="6" y="1356"/>
                    <a:pt x="5" y="1355"/>
                  </a:cubicBezTo>
                  <a:lnTo>
                    <a:pt x="3" y="1327"/>
                  </a:lnTo>
                  <a:lnTo>
                    <a:pt x="19" y="1325"/>
                  </a:lnTo>
                  <a:lnTo>
                    <a:pt x="21" y="1354"/>
                  </a:lnTo>
                  <a:lnTo>
                    <a:pt x="21" y="1352"/>
                  </a:lnTo>
                  <a:lnTo>
                    <a:pt x="27" y="1371"/>
                  </a:lnTo>
                  <a:lnTo>
                    <a:pt x="12" y="1375"/>
                  </a:lnTo>
                  <a:close/>
                  <a:moveTo>
                    <a:pt x="1" y="1311"/>
                  </a:moveTo>
                  <a:lnTo>
                    <a:pt x="0" y="1303"/>
                  </a:lnTo>
                  <a:lnTo>
                    <a:pt x="16" y="1302"/>
                  </a:lnTo>
                  <a:lnTo>
                    <a:pt x="17" y="1309"/>
                  </a:lnTo>
                  <a:lnTo>
                    <a:pt x="1" y="1311"/>
                  </a:lnTo>
                  <a:close/>
                </a:path>
              </a:pathLst>
            </a:custGeom>
            <a:solidFill>
              <a:srgbClr val="be4b48"/>
            </a:solidFill>
            <a:ln w="0">
              <a:solidFill>
                <a:srgbClr val="be4b48"/>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8" name="Rectangle 23"/>
            <p:cNvSpPr/>
            <p:nvPr/>
          </p:nvSpPr>
          <p:spPr>
            <a:xfrm>
              <a:off x="4825080" y="1324080"/>
              <a:ext cx="42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endParaRPr b="0" lang="en-US" sz="1000" spc="-1" strike="noStrike">
                <a:solidFill>
                  <a:srgbClr val="000000"/>
                </a:solidFill>
                <a:latin typeface="Times New Roman"/>
              </a:endParaRPr>
            </a:p>
          </p:txBody>
        </p:sp>
        <p:sp>
          <p:nvSpPr>
            <p:cNvPr id="489" name="Rectangle 24"/>
            <p:cNvSpPr/>
            <p:nvPr/>
          </p:nvSpPr>
          <p:spPr>
            <a:xfrm>
              <a:off x="5238360" y="13240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490" name="Rectangle 25"/>
            <p:cNvSpPr/>
            <p:nvPr/>
          </p:nvSpPr>
          <p:spPr>
            <a:xfrm>
              <a:off x="5285160" y="1324080"/>
              <a:ext cx="12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a:t>
              </a:r>
              <a:endParaRPr b="0" lang="en-US" sz="1000" spc="-1" strike="noStrike">
                <a:solidFill>
                  <a:srgbClr val="000000"/>
                </a:solidFill>
                <a:latin typeface="Times New Roman"/>
              </a:endParaRPr>
            </a:p>
          </p:txBody>
        </p:sp>
        <p:sp>
          <p:nvSpPr>
            <p:cNvPr id="491" name="Rectangle 26"/>
            <p:cNvSpPr/>
            <p:nvPr/>
          </p:nvSpPr>
          <p:spPr>
            <a:xfrm>
              <a:off x="5403600" y="13240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492" name="Rectangle 27"/>
            <p:cNvSpPr/>
            <p:nvPr/>
          </p:nvSpPr>
          <p:spPr>
            <a:xfrm>
              <a:off x="5455080" y="1324080"/>
              <a:ext cx="224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y</a:t>
              </a:r>
              <a:endParaRPr b="0" lang="en-US" sz="1000" spc="-1" strike="noStrike">
                <a:solidFill>
                  <a:srgbClr val="000000"/>
                </a:solidFill>
                <a:latin typeface="Times New Roman"/>
              </a:endParaRPr>
            </a:p>
          </p:txBody>
        </p:sp>
        <p:pic>
          <p:nvPicPr>
            <p:cNvPr id="493" name="Picture 28" descr=""/>
            <p:cNvPicPr/>
            <p:nvPr/>
          </p:nvPicPr>
          <p:blipFill>
            <a:blip r:embed="rId7"/>
            <a:stretch/>
          </p:blipFill>
          <p:spPr>
            <a:xfrm>
              <a:off x="2000160" y="2151000"/>
              <a:ext cx="6567480" cy="887400"/>
            </a:xfrm>
            <a:prstGeom prst="rect">
              <a:avLst/>
            </a:prstGeom>
            <a:ln w="0">
              <a:noFill/>
            </a:ln>
          </p:spPr>
        </p:pic>
        <p:pic>
          <p:nvPicPr>
            <p:cNvPr id="494" name="Picture 29" descr=""/>
            <p:cNvPicPr/>
            <p:nvPr/>
          </p:nvPicPr>
          <p:blipFill>
            <a:blip r:embed="rId8"/>
            <a:stretch/>
          </p:blipFill>
          <p:spPr>
            <a:xfrm>
              <a:off x="2000160" y="2151000"/>
              <a:ext cx="6567480" cy="887400"/>
            </a:xfrm>
            <a:prstGeom prst="rect">
              <a:avLst/>
            </a:prstGeom>
            <a:ln w="0">
              <a:noFill/>
            </a:ln>
          </p:spPr>
        </p:pic>
        <p:sp>
          <p:nvSpPr>
            <p:cNvPr id="495" name="Freeform 30"/>
            <p:cNvSpPr/>
            <p:nvPr/>
          </p:nvSpPr>
          <p:spPr>
            <a:xfrm>
              <a:off x="2052720" y="2182680"/>
              <a:ext cx="6454800" cy="782640"/>
            </a:xfrm>
            <a:custGeom>
              <a:avLst/>
              <a:gdLst>
                <a:gd name="textAreaLeft" fmla="*/ 0 w 6454800"/>
                <a:gd name="textAreaRight" fmla="*/ 6455160 w 6454800"/>
                <a:gd name="textAreaTop" fmla="*/ 0 h 782640"/>
                <a:gd name="textAreaBottom" fmla="*/ 783000 h 782640"/>
              </a:gdLst>
              <a:ahLst/>
              <a:rect l="textAreaLeft" t="textAreaTop" r="textAreaRight" b="textAreaBottom"/>
              <a:pathLst>
                <a:path w="11952" h="1552">
                  <a:moveTo>
                    <a:pt x="0" y="259"/>
                  </a:moveTo>
                  <a:cubicBezTo>
                    <a:pt x="0" y="116"/>
                    <a:pt x="116" y="0"/>
                    <a:pt x="259" y="0"/>
                  </a:cubicBezTo>
                  <a:cubicBezTo>
                    <a:pt x="259" y="0"/>
                    <a:pt x="259" y="0"/>
                    <a:pt x="259" y="0"/>
                  </a:cubicBezTo>
                  <a:lnTo>
                    <a:pt x="259" y="0"/>
                  </a:lnTo>
                  <a:lnTo>
                    <a:pt x="11694" y="0"/>
                  </a:lnTo>
                  <a:lnTo>
                    <a:pt x="11694" y="0"/>
                  </a:lnTo>
                  <a:cubicBezTo>
                    <a:pt x="11837" y="0"/>
                    <a:pt x="11952" y="116"/>
                    <a:pt x="11952" y="259"/>
                  </a:cubicBezTo>
                  <a:cubicBezTo>
                    <a:pt x="11952" y="259"/>
                    <a:pt x="11952" y="259"/>
                    <a:pt x="11952" y="259"/>
                  </a:cubicBezTo>
                  <a:lnTo>
                    <a:pt x="11952" y="259"/>
                  </a:lnTo>
                  <a:lnTo>
                    <a:pt x="11952" y="1294"/>
                  </a:lnTo>
                  <a:lnTo>
                    <a:pt x="11952" y="1294"/>
                  </a:lnTo>
                  <a:cubicBezTo>
                    <a:pt x="11952" y="1437"/>
                    <a:pt x="11837" y="1552"/>
                    <a:pt x="11694" y="1552"/>
                  </a:cubicBezTo>
                  <a:cubicBezTo>
                    <a:pt x="11694" y="1552"/>
                    <a:pt x="11694" y="1552"/>
                    <a:pt x="11694" y="1552"/>
                  </a:cubicBezTo>
                  <a:lnTo>
                    <a:pt x="11694" y="1552"/>
                  </a:lnTo>
                  <a:lnTo>
                    <a:pt x="259" y="1552"/>
                  </a:lnTo>
                  <a:lnTo>
                    <a:pt x="259" y="1552"/>
                  </a:lnTo>
                  <a:cubicBezTo>
                    <a:pt x="116" y="1552"/>
                    <a:pt x="0" y="1437"/>
                    <a:pt x="0" y="1294"/>
                  </a:cubicBezTo>
                  <a:cubicBezTo>
                    <a:pt x="0" y="1294"/>
                    <a:pt x="0" y="1294"/>
                    <a:pt x="0" y="1294"/>
                  </a:cubicBezTo>
                  <a:lnTo>
                    <a:pt x="0" y="259"/>
                  </a:lnTo>
                  <a:close/>
                </a:path>
              </a:pathLst>
            </a:custGeom>
            <a:solidFill>
              <a:srgbClr val="dbeef4"/>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 name="Freeform 31"/>
            <p:cNvSpPr/>
            <p:nvPr/>
          </p:nvSpPr>
          <p:spPr>
            <a:xfrm>
              <a:off x="2048040" y="2179800"/>
              <a:ext cx="6464160" cy="790560"/>
            </a:xfrm>
            <a:custGeom>
              <a:avLst/>
              <a:gdLst>
                <a:gd name="textAreaLeft" fmla="*/ 0 w 6464160"/>
                <a:gd name="textAreaRight" fmla="*/ 6464520 w 6464160"/>
                <a:gd name="textAreaTop" fmla="*/ 0 h 790560"/>
                <a:gd name="textAreaBottom" fmla="*/ 790920 h 790560"/>
              </a:gdLst>
              <a:ahLst/>
              <a:rect l="textAreaLeft" t="textAreaTop" r="textAreaRight" b="textAreaBottom"/>
              <a:pathLst>
                <a:path w="11968" h="1568">
                  <a:moveTo>
                    <a:pt x="0" y="1302"/>
                  </a:moveTo>
                  <a:lnTo>
                    <a:pt x="0" y="1254"/>
                  </a:lnTo>
                  <a:lnTo>
                    <a:pt x="16" y="1254"/>
                  </a:lnTo>
                  <a:lnTo>
                    <a:pt x="16" y="1302"/>
                  </a:lnTo>
                  <a:lnTo>
                    <a:pt x="0" y="1302"/>
                  </a:lnTo>
                  <a:close/>
                  <a:moveTo>
                    <a:pt x="0" y="1238"/>
                  </a:moveTo>
                  <a:lnTo>
                    <a:pt x="0" y="1190"/>
                  </a:lnTo>
                  <a:lnTo>
                    <a:pt x="16" y="1190"/>
                  </a:lnTo>
                  <a:lnTo>
                    <a:pt x="16" y="1238"/>
                  </a:lnTo>
                  <a:lnTo>
                    <a:pt x="0" y="1238"/>
                  </a:lnTo>
                  <a:close/>
                  <a:moveTo>
                    <a:pt x="0" y="1174"/>
                  </a:moveTo>
                  <a:lnTo>
                    <a:pt x="0" y="1126"/>
                  </a:lnTo>
                  <a:lnTo>
                    <a:pt x="16" y="1126"/>
                  </a:lnTo>
                  <a:lnTo>
                    <a:pt x="16" y="1174"/>
                  </a:lnTo>
                  <a:lnTo>
                    <a:pt x="0" y="1174"/>
                  </a:lnTo>
                  <a:close/>
                  <a:moveTo>
                    <a:pt x="0" y="1110"/>
                  </a:moveTo>
                  <a:lnTo>
                    <a:pt x="0" y="1062"/>
                  </a:lnTo>
                  <a:lnTo>
                    <a:pt x="16" y="1062"/>
                  </a:lnTo>
                  <a:lnTo>
                    <a:pt x="16" y="1110"/>
                  </a:lnTo>
                  <a:lnTo>
                    <a:pt x="0" y="1110"/>
                  </a:lnTo>
                  <a:close/>
                  <a:moveTo>
                    <a:pt x="0" y="1046"/>
                  </a:moveTo>
                  <a:lnTo>
                    <a:pt x="0" y="998"/>
                  </a:lnTo>
                  <a:lnTo>
                    <a:pt x="16" y="998"/>
                  </a:lnTo>
                  <a:lnTo>
                    <a:pt x="16" y="1046"/>
                  </a:lnTo>
                  <a:lnTo>
                    <a:pt x="0" y="1046"/>
                  </a:lnTo>
                  <a:close/>
                  <a:moveTo>
                    <a:pt x="0" y="982"/>
                  </a:moveTo>
                  <a:lnTo>
                    <a:pt x="0" y="934"/>
                  </a:lnTo>
                  <a:lnTo>
                    <a:pt x="16" y="934"/>
                  </a:lnTo>
                  <a:lnTo>
                    <a:pt x="16" y="982"/>
                  </a:lnTo>
                  <a:lnTo>
                    <a:pt x="0" y="982"/>
                  </a:lnTo>
                  <a:close/>
                  <a:moveTo>
                    <a:pt x="0" y="918"/>
                  </a:moveTo>
                  <a:lnTo>
                    <a:pt x="0" y="870"/>
                  </a:lnTo>
                  <a:lnTo>
                    <a:pt x="16" y="870"/>
                  </a:lnTo>
                  <a:lnTo>
                    <a:pt x="16" y="918"/>
                  </a:lnTo>
                  <a:lnTo>
                    <a:pt x="0" y="918"/>
                  </a:lnTo>
                  <a:close/>
                  <a:moveTo>
                    <a:pt x="0" y="854"/>
                  </a:moveTo>
                  <a:lnTo>
                    <a:pt x="0" y="806"/>
                  </a:lnTo>
                  <a:lnTo>
                    <a:pt x="16" y="806"/>
                  </a:lnTo>
                  <a:lnTo>
                    <a:pt x="16" y="854"/>
                  </a:lnTo>
                  <a:lnTo>
                    <a:pt x="0" y="854"/>
                  </a:lnTo>
                  <a:close/>
                  <a:moveTo>
                    <a:pt x="0" y="790"/>
                  </a:moveTo>
                  <a:lnTo>
                    <a:pt x="0" y="742"/>
                  </a:lnTo>
                  <a:lnTo>
                    <a:pt x="16" y="742"/>
                  </a:lnTo>
                  <a:lnTo>
                    <a:pt x="16" y="790"/>
                  </a:lnTo>
                  <a:lnTo>
                    <a:pt x="0" y="790"/>
                  </a:lnTo>
                  <a:close/>
                  <a:moveTo>
                    <a:pt x="0" y="726"/>
                  </a:moveTo>
                  <a:lnTo>
                    <a:pt x="0" y="678"/>
                  </a:lnTo>
                  <a:lnTo>
                    <a:pt x="16" y="678"/>
                  </a:lnTo>
                  <a:lnTo>
                    <a:pt x="16" y="726"/>
                  </a:lnTo>
                  <a:lnTo>
                    <a:pt x="0" y="726"/>
                  </a:lnTo>
                  <a:close/>
                  <a:moveTo>
                    <a:pt x="0" y="662"/>
                  </a:moveTo>
                  <a:lnTo>
                    <a:pt x="0" y="614"/>
                  </a:lnTo>
                  <a:lnTo>
                    <a:pt x="16" y="614"/>
                  </a:lnTo>
                  <a:lnTo>
                    <a:pt x="16" y="662"/>
                  </a:lnTo>
                  <a:lnTo>
                    <a:pt x="0" y="662"/>
                  </a:lnTo>
                  <a:close/>
                  <a:moveTo>
                    <a:pt x="0" y="598"/>
                  </a:moveTo>
                  <a:lnTo>
                    <a:pt x="0" y="550"/>
                  </a:lnTo>
                  <a:lnTo>
                    <a:pt x="16" y="550"/>
                  </a:lnTo>
                  <a:lnTo>
                    <a:pt x="16" y="598"/>
                  </a:lnTo>
                  <a:lnTo>
                    <a:pt x="0" y="598"/>
                  </a:lnTo>
                  <a:close/>
                  <a:moveTo>
                    <a:pt x="0" y="534"/>
                  </a:moveTo>
                  <a:lnTo>
                    <a:pt x="0" y="486"/>
                  </a:lnTo>
                  <a:lnTo>
                    <a:pt x="16" y="486"/>
                  </a:lnTo>
                  <a:lnTo>
                    <a:pt x="16" y="534"/>
                  </a:lnTo>
                  <a:lnTo>
                    <a:pt x="0" y="534"/>
                  </a:lnTo>
                  <a:close/>
                  <a:moveTo>
                    <a:pt x="0" y="470"/>
                  </a:moveTo>
                  <a:lnTo>
                    <a:pt x="0" y="422"/>
                  </a:lnTo>
                  <a:lnTo>
                    <a:pt x="16" y="422"/>
                  </a:lnTo>
                  <a:lnTo>
                    <a:pt x="16" y="470"/>
                  </a:lnTo>
                  <a:lnTo>
                    <a:pt x="0" y="470"/>
                  </a:lnTo>
                  <a:close/>
                  <a:moveTo>
                    <a:pt x="0" y="406"/>
                  </a:moveTo>
                  <a:lnTo>
                    <a:pt x="0" y="357"/>
                  </a:lnTo>
                  <a:lnTo>
                    <a:pt x="16" y="357"/>
                  </a:lnTo>
                  <a:lnTo>
                    <a:pt x="16" y="406"/>
                  </a:lnTo>
                  <a:lnTo>
                    <a:pt x="0" y="406"/>
                  </a:lnTo>
                  <a:close/>
                  <a:moveTo>
                    <a:pt x="0" y="341"/>
                  </a:moveTo>
                  <a:lnTo>
                    <a:pt x="0" y="293"/>
                  </a:lnTo>
                  <a:lnTo>
                    <a:pt x="16" y="293"/>
                  </a:lnTo>
                  <a:lnTo>
                    <a:pt x="16" y="341"/>
                  </a:lnTo>
                  <a:lnTo>
                    <a:pt x="0" y="341"/>
                  </a:lnTo>
                  <a:close/>
                  <a:moveTo>
                    <a:pt x="0" y="277"/>
                  </a:moveTo>
                  <a:lnTo>
                    <a:pt x="0" y="267"/>
                  </a:lnTo>
                  <a:lnTo>
                    <a:pt x="4" y="229"/>
                  </a:lnTo>
                  <a:lnTo>
                    <a:pt x="20" y="230"/>
                  </a:lnTo>
                  <a:lnTo>
                    <a:pt x="16" y="267"/>
                  </a:lnTo>
                  <a:lnTo>
                    <a:pt x="16" y="277"/>
                  </a:lnTo>
                  <a:lnTo>
                    <a:pt x="0" y="277"/>
                  </a:lnTo>
                  <a:close/>
                  <a:moveTo>
                    <a:pt x="6" y="211"/>
                  </a:moveTo>
                  <a:lnTo>
                    <a:pt x="20" y="165"/>
                  </a:lnTo>
                  <a:lnTo>
                    <a:pt x="36" y="170"/>
                  </a:lnTo>
                  <a:lnTo>
                    <a:pt x="22" y="216"/>
                  </a:lnTo>
                  <a:lnTo>
                    <a:pt x="6" y="211"/>
                  </a:lnTo>
                  <a:close/>
                  <a:moveTo>
                    <a:pt x="28" y="150"/>
                  </a:moveTo>
                  <a:lnTo>
                    <a:pt x="45" y="119"/>
                  </a:lnTo>
                  <a:cubicBezTo>
                    <a:pt x="46" y="118"/>
                    <a:pt x="46" y="118"/>
                    <a:pt x="46" y="117"/>
                  </a:cubicBezTo>
                  <a:lnTo>
                    <a:pt x="54" y="108"/>
                  </a:lnTo>
                  <a:lnTo>
                    <a:pt x="67" y="118"/>
                  </a:lnTo>
                  <a:lnTo>
                    <a:pt x="59" y="128"/>
                  </a:lnTo>
                  <a:lnTo>
                    <a:pt x="59" y="126"/>
                  </a:lnTo>
                  <a:lnTo>
                    <a:pt x="43" y="157"/>
                  </a:lnTo>
                  <a:lnTo>
                    <a:pt x="28" y="150"/>
                  </a:lnTo>
                  <a:close/>
                  <a:moveTo>
                    <a:pt x="65" y="95"/>
                  </a:moveTo>
                  <a:lnTo>
                    <a:pt x="78" y="79"/>
                  </a:lnTo>
                  <a:cubicBezTo>
                    <a:pt x="79" y="79"/>
                    <a:pt x="79" y="79"/>
                    <a:pt x="79" y="78"/>
                  </a:cubicBezTo>
                  <a:lnTo>
                    <a:pt x="100" y="61"/>
                  </a:lnTo>
                  <a:lnTo>
                    <a:pt x="110" y="73"/>
                  </a:lnTo>
                  <a:lnTo>
                    <a:pt x="90" y="91"/>
                  </a:lnTo>
                  <a:lnTo>
                    <a:pt x="91" y="90"/>
                  </a:lnTo>
                  <a:lnTo>
                    <a:pt x="77" y="106"/>
                  </a:lnTo>
                  <a:lnTo>
                    <a:pt x="65" y="95"/>
                  </a:lnTo>
                  <a:close/>
                  <a:moveTo>
                    <a:pt x="112" y="51"/>
                  </a:moveTo>
                  <a:lnTo>
                    <a:pt x="117" y="46"/>
                  </a:lnTo>
                  <a:cubicBezTo>
                    <a:pt x="118" y="46"/>
                    <a:pt x="118" y="46"/>
                    <a:pt x="119" y="45"/>
                  </a:cubicBezTo>
                  <a:lnTo>
                    <a:pt x="155" y="26"/>
                  </a:lnTo>
                  <a:lnTo>
                    <a:pt x="163" y="40"/>
                  </a:lnTo>
                  <a:lnTo>
                    <a:pt x="126" y="59"/>
                  </a:lnTo>
                  <a:lnTo>
                    <a:pt x="128" y="59"/>
                  </a:lnTo>
                  <a:lnTo>
                    <a:pt x="123" y="63"/>
                  </a:lnTo>
                  <a:lnTo>
                    <a:pt x="112" y="51"/>
                  </a:lnTo>
                  <a:close/>
                  <a:moveTo>
                    <a:pt x="171" y="19"/>
                  </a:moveTo>
                  <a:lnTo>
                    <a:pt x="213" y="6"/>
                  </a:lnTo>
                  <a:cubicBezTo>
                    <a:pt x="214" y="6"/>
                    <a:pt x="214" y="6"/>
                    <a:pt x="215" y="5"/>
                  </a:cubicBezTo>
                  <a:lnTo>
                    <a:pt x="219" y="5"/>
                  </a:lnTo>
                  <a:lnTo>
                    <a:pt x="220" y="21"/>
                  </a:lnTo>
                  <a:lnTo>
                    <a:pt x="216" y="21"/>
                  </a:lnTo>
                  <a:lnTo>
                    <a:pt x="218" y="21"/>
                  </a:lnTo>
                  <a:lnTo>
                    <a:pt x="176" y="34"/>
                  </a:lnTo>
                  <a:lnTo>
                    <a:pt x="171" y="19"/>
                  </a:lnTo>
                  <a:close/>
                  <a:moveTo>
                    <a:pt x="235" y="4"/>
                  </a:moveTo>
                  <a:lnTo>
                    <a:pt x="267" y="0"/>
                  </a:lnTo>
                  <a:lnTo>
                    <a:pt x="268" y="16"/>
                  </a:lnTo>
                  <a:lnTo>
                    <a:pt x="236" y="19"/>
                  </a:lnTo>
                  <a:lnTo>
                    <a:pt x="235" y="4"/>
                  </a:lnTo>
                  <a:close/>
                  <a:moveTo>
                    <a:pt x="267" y="0"/>
                  </a:moveTo>
                  <a:lnTo>
                    <a:pt x="283" y="0"/>
                  </a:lnTo>
                  <a:lnTo>
                    <a:pt x="283" y="16"/>
                  </a:lnTo>
                  <a:lnTo>
                    <a:pt x="267" y="16"/>
                  </a:lnTo>
                  <a:lnTo>
                    <a:pt x="267" y="0"/>
                  </a:lnTo>
                  <a:close/>
                  <a:moveTo>
                    <a:pt x="299" y="0"/>
                  </a:moveTo>
                  <a:lnTo>
                    <a:pt x="347" y="0"/>
                  </a:lnTo>
                  <a:lnTo>
                    <a:pt x="347" y="16"/>
                  </a:lnTo>
                  <a:lnTo>
                    <a:pt x="299" y="16"/>
                  </a:lnTo>
                  <a:lnTo>
                    <a:pt x="299" y="0"/>
                  </a:lnTo>
                  <a:close/>
                  <a:moveTo>
                    <a:pt x="363" y="0"/>
                  </a:moveTo>
                  <a:lnTo>
                    <a:pt x="411" y="0"/>
                  </a:lnTo>
                  <a:lnTo>
                    <a:pt x="411" y="16"/>
                  </a:lnTo>
                  <a:lnTo>
                    <a:pt x="363" y="16"/>
                  </a:lnTo>
                  <a:lnTo>
                    <a:pt x="363" y="0"/>
                  </a:lnTo>
                  <a:close/>
                  <a:moveTo>
                    <a:pt x="428" y="0"/>
                  </a:moveTo>
                  <a:lnTo>
                    <a:pt x="476" y="0"/>
                  </a:lnTo>
                  <a:lnTo>
                    <a:pt x="476" y="16"/>
                  </a:lnTo>
                  <a:lnTo>
                    <a:pt x="428" y="16"/>
                  </a:lnTo>
                  <a:lnTo>
                    <a:pt x="428" y="0"/>
                  </a:lnTo>
                  <a:close/>
                  <a:moveTo>
                    <a:pt x="492" y="0"/>
                  </a:moveTo>
                  <a:lnTo>
                    <a:pt x="540" y="0"/>
                  </a:lnTo>
                  <a:lnTo>
                    <a:pt x="540" y="16"/>
                  </a:lnTo>
                  <a:lnTo>
                    <a:pt x="492" y="16"/>
                  </a:lnTo>
                  <a:lnTo>
                    <a:pt x="492" y="0"/>
                  </a:lnTo>
                  <a:close/>
                  <a:moveTo>
                    <a:pt x="556" y="0"/>
                  </a:moveTo>
                  <a:lnTo>
                    <a:pt x="604" y="0"/>
                  </a:lnTo>
                  <a:lnTo>
                    <a:pt x="604" y="16"/>
                  </a:lnTo>
                  <a:lnTo>
                    <a:pt x="556" y="16"/>
                  </a:lnTo>
                  <a:lnTo>
                    <a:pt x="556" y="0"/>
                  </a:lnTo>
                  <a:close/>
                  <a:moveTo>
                    <a:pt x="620" y="0"/>
                  </a:moveTo>
                  <a:lnTo>
                    <a:pt x="668" y="0"/>
                  </a:lnTo>
                  <a:lnTo>
                    <a:pt x="668" y="16"/>
                  </a:lnTo>
                  <a:lnTo>
                    <a:pt x="620" y="16"/>
                  </a:lnTo>
                  <a:lnTo>
                    <a:pt x="620" y="0"/>
                  </a:lnTo>
                  <a:close/>
                  <a:moveTo>
                    <a:pt x="684" y="0"/>
                  </a:moveTo>
                  <a:lnTo>
                    <a:pt x="732" y="0"/>
                  </a:lnTo>
                  <a:lnTo>
                    <a:pt x="732" y="16"/>
                  </a:lnTo>
                  <a:lnTo>
                    <a:pt x="684" y="16"/>
                  </a:lnTo>
                  <a:lnTo>
                    <a:pt x="684" y="0"/>
                  </a:lnTo>
                  <a:close/>
                  <a:moveTo>
                    <a:pt x="748" y="0"/>
                  </a:moveTo>
                  <a:lnTo>
                    <a:pt x="796" y="0"/>
                  </a:lnTo>
                  <a:lnTo>
                    <a:pt x="796" y="16"/>
                  </a:lnTo>
                  <a:lnTo>
                    <a:pt x="748" y="16"/>
                  </a:lnTo>
                  <a:lnTo>
                    <a:pt x="748" y="0"/>
                  </a:lnTo>
                  <a:close/>
                  <a:moveTo>
                    <a:pt x="812" y="0"/>
                  </a:moveTo>
                  <a:lnTo>
                    <a:pt x="860" y="0"/>
                  </a:lnTo>
                  <a:lnTo>
                    <a:pt x="860" y="16"/>
                  </a:lnTo>
                  <a:lnTo>
                    <a:pt x="812" y="16"/>
                  </a:lnTo>
                  <a:lnTo>
                    <a:pt x="812" y="0"/>
                  </a:lnTo>
                  <a:close/>
                  <a:moveTo>
                    <a:pt x="876" y="0"/>
                  </a:moveTo>
                  <a:lnTo>
                    <a:pt x="924" y="0"/>
                  </a:lnTo>
                  <a:lnTo>
                    <a:pt x="924" y="16"/>
                  </a:lnTo>
                  <a:lnTo>
                    <a:pt x="876" y="16"/>
                  </a:lnTo>
                  <a:lnTo>
                    <a:pt x="876" y="0"/>
                  </a:lnTo>
                  <a:close/>
                  <a:moveTo>
                    <a:pt x="940" y="0"/>
                  </a:moveTo>
                  <a:lnTo>
                    <a:pt x="988" y="0"/>
                  </a:lnTo>
                  <a:lnTo>
                    <a:pt x="988" y="16"/>
                  </a:lnTo>
                  <a:lnTo>
                    <a:pt x="940" y="16"/>
                  </a:lnTo>
                  <a:lnTo>
                    <a:pt x="940" y="0"/>
                  </a:lnTo>
                  <a:close/>
                  <a:moveTo>
                    <a:pt x="1004" y="0"/>
                  </a:moveTo>
                  <a:lnTo>
                    <a:pt x="1052" y="0"/>
                  </a:lnTo>
                  <a:lnTo>
                    <a:pt x="1052" y="16"/>
                  </a:lnTo>
                  <a:lnTo>
                    <a:pt x="1004" y="16"/>
                  </a:lnTo>
                  <a:lnTo>
                    <a:pt x="1004" y="0"/>
                  </a:lnTo>
                  <a:close/>
                  <a:moveTo>
                    <a:pt x="1068" y="0"/>
                  </a:moveTo>
                  <a:lnTo>
                    <a:pt x="1116" y="0"/>
                  </a:lnTo>
                  <a:lnTo>
                    <a:pt x="1116" y="16"/>
                  </a:lnTo>
                  <a:lnTo>
                    <a:pt x="1068" y="16"/>
                  </a:lnTo>
                  <a:lnTo>
                    <a:pt x="1068" y="0"/>
                  </a:lnTo>
                  <a:close/>
                  <a:moveTo>
                    <a:pt x="1132" y="0"/>
                  </a:moveTo>
                  <a:lnTo>
                    <a:pt x="1180" y="0"/>
                  </a:lnTo>
                  <a:lnTo>
                    <a:pt x="1180" y="16"/>
                  </a:lnTo>
                  <a:lnTo>
                    <a:pt x="1132" y="16"/>
                  </a:lnTo>
                  <a:lnTo>
                    <a:pt x="1132" y="0"/>
                  </a:lnTo>
                  <a:close/>
                  <a:moveTo>
                    <a:pt x="1196" y="0"/>
                  </a:moveTo>
                  <a:lnTo>
                    <a:pt x="1244" y="0"/>
                  </a:lnTo>
                  <a:lnTo>
                    <a:pt x="1244" y="16"/>
                  </a:lnTo>
                  <a:lnTo>
                    <a:pt x="1196" y="16"/>
                  </a:lnTo>
                  <a:lnTo>
                    <a:pt x="1196" y="0"/>
                  </a:lnTo>
                  <a:close/>
                  <a:moveTo>
                    <a:pt x="1260" y="0"/>
                  </a:moveTo>
                  <a:lnTo>
                    <a:pt x="1308" y="0"/>
                  </a:lnTo>
                  <a:lnTo>
                    <a:pt x="1308" y="16"/>
                  </a:lnTo>
                  <a:lnTo>
                    <a:pt x="1260" y="16"/>
                  </a:lnTo>
                  <a:lnTo>
                    <a:pt x="1260" y="0"/>
                  </a:lnTo>
                  <a:close/>
                  <a:moveTo>
                    <a:pt x="1324" y="0"/>
                  </a:moveTo>
                  <a:lnTo>
                    <a:pt x="1372" y="0"/>
                  </a:lnTo>
                  <a:lnTo>
                    <a:pt x="1372" y="16"/>
                  </a:lnTo>
                  <a:lnTo>
                    <a:pt x="1324" y="16"/>
                  </a:lnTo>
                  <a:lnTo>
                    <a:pt x="1324" y="0"/>
                  </a:lnTo>
                  <a:close/>
                  <a:moveTo>
                    <a:pt x="1388" y="0"/>
                  </a:moveTo>
                  <a:lnTo>
                    <a:pt x="1437" y="0"/>
                  </a:lnTo>
                  <a:lnTo>
                    <a:pt x="1437" y="16"/>
                  </a:lnTo>
                  <a:lnTo>
                    <a:pt x="1388" y="16"/>
                  </a:lnTo>
                  <a:lnTo>
                    <a:pt x="1388" y="0"/>
                  </a:lnTo>
                  <a:close/>
                  <a:moveTo>
                    <a:pt x="1453" y="0"/>
                  </a:moveTo>
                  <a:lnTo>
                    <a:pt x="1501" y="0"/>
                  </a:lnTo>
                  <a:lnTo>
                    <a:pt x="1501" y="16"/>
                  </a:lnTo>
                  <a:lnTo>
                    <a:pt x="1453" y="16"/>
                  </a:lnTo>
                  <a:lnTo>
                    <a:pt x="1453" y="0"/>
                  </a:lnTo>
                  <a:close/>
                  <a:moveTo>
                    <a:pt x="1517" y="0"/>
                  </a:moveTo>
                  <a:lnTo>
                    <a:pt x="1565" y="0"/>
                  </a:lnTo>
                  <a:lnTo>
                    <a:pt x="1565" y="16"/>
                  </a:lnTo>
                  <a:lnTo>
                    <a:pt x="1517" y="16"/>
                  </a:lnTo>
                  <a:lnTo>
                    <a:pt x="1517" y="0"/>
                  </a:lnTo>
                  <a:close/>
                  <a:moveTo>
                    <a:pt x="1581" y="0"/>
                  </a:moveTo>
                  <a:lnTo>
                    <a:pt x="1629" y="0"/>
                  </a:lnTo>
                  <a:lnTo>
                    <a:pt x="1629" y="16"/>
                  </a:lnTo>
                  <a:lnTo>
                    <a:pt x="1581" y="16"/>
                  </a:lnTo>
                  <a:lnTo>
                    <a:pt x="1581" y="0"/>
                  </a:lnTo>
                  <a:close/>
                  <a:moveTo>
                    <a:pt x="1645" y="0"/>
                  </a:moveTo>
                  <a:lnTo>
                    <a:pt x="1693" y="0"/>
                  </a:lnTo>
                  <a:lnTo>
                    <a:pt x="1693" y="16"/>
                  </a:lnTo>
                  <a:lnTo>
                    <a:pt x="1645" y="16"/>
                  </a:lnTo>
                  <a:lnTo>
                    <a:pt x="1645" y="0"/>
                  </a:lnTo>
                  <a:close/>
                  <a:moveTo>
                    <a:pt x="1709" y="0"/>
                  </a:moveTo>
                  <a:lnTo>
                    <a:pt x="1757" y="0"/>
                  </a:lnTo>
                  <a:lnTo>
                    <a:pt x="1757" y="16"/>
                  </a:lnTo>
                  <a:lnTo>
                    <a:pt x="1709" y="16"/>
                  </a:lnTo>
                  <a:lnTo>
                    <a:pt x="1709" y="0"/>
                  </a:lnTo>
                  <a:close/>
                  <a:moveTo>
                    <a:pt x="1773" y="0"/>
                  </a:moveTo>
                  <a:lnTo>
                    <a:pt x="1821" y="0"/>
                  </a:lnTo>
                  <a:lnTo>
                    <a:pt x="1821" y="16"/>
                  </a:lnTo>
                  <a:lnTo>
                    <a:pt x="1773" y="16"/>
                  </a:lnTo>
                  <a:lnTo>
                    <a:pt x="1773" y="0"/>
                  </a:lnTo>
                  <a:close/>
                  <a:moveTo>
                    <a:pt x="1837" y="0"/>
                  </a:moveTo>
                  <a:lnTo>
                    <a:pt x="1885" y="0"/>
                  </a:lnTo>
                  <a:lnTo>
                    <a:pt x="1885" y="16"/>
                  </a:lnTo>
                  <a:lnTo>
                    <a:pt x="1837" y="16"/>
                  </a:lnTo>
                  <a:lnTo>
                    <a:pt x="1837" y="0"/>
                  </a:lnTo>
                  <a:close/>
                  <a:moveTo>
                    <a:pt x="1901" y="0"/>
                  </a:moveTo>
                  <a:lnTo>
                    <a:pt x="1949" y="0"/>
                  </a:lnTo>
                  <a:lnTo>
                    <a:pt x="1949" y="16"/>
                  </a:lnTo>
                  <a:lnTo>
                    <a:pt x="1901" y="16"/>
                  </a:lnTo>
                  <a:lnTo>
                    <a:pt x="1901" y="0"/>
                  </a:lnTo>
                  <a:close/>
                  <a:moveTo>
                    <a:pt x="1965" y="0"/>
                  </a:moveTo>
                  <a:lnTo>
                    <a:pt x="2013" y="0"/>
                  </a:lnTo>
                  <a:lnTo>
                    <a:pt x="2013" y="16"/>
                  </a:lnTo>
                  <a:lnTo>
                    <a:pt x="1965" y="16"/>
                  </a:lnTo>
                  <a:lnTo>
                    <a:pt x="1965" y="0"/>
                  </a:lnTo>
                  <a:close/>
                  <a:moveTo>
                    <a:pt x="2029" y="0"/>
                  </a:moveTo>
                  <a:lnTo>
                    <a:pt x="2077" y="0"/>
                  </a:lnTo>
                  <a:lnTo>
                    <a:pt x="2077" y="16"/>
                  </a:lnTo>
                  <a:lnTo>
                    <a:pt x="2029" y="16"/>
                  </a:lnTo>
                  <a:lnTo>
                    <a:pt x="2029" y="0"/>
                  </a:lnTo>
                  <a:close/>
                  <a:moveTo>
                    <a:pt x="2093" y="0"/>
                  </a:moveTo>
                  <a:lnTo>
                    <a:pt x="2141" y="0"/>
                  </a:lnTo>
                  <a:lnTo>
                    <a:pt x="2141" y="16"/>
                  </a:lnTo>
                  <a:lnTo>
                    <a:pt x="2093" y="16"/>
                  </a:lnTo>
                  <a:lnTo>
                    <a:pt x="2093" y="0"/>
                  </a:lnTo>
                  <a:close/>
                  <a:moveTo>
                    <a:pt x="2157" y="0"/>
                  </a:moveTo>
                  <a:lnTo>
                    <a:pt x="2205" y="0"/>
                  </a:lnTo>
                  <a:lnTo>
                    <a:pt x="2205" y="16"/>
                  </a:lnTo>
                  <a:lnTo>
                    <a:pt x="2157" y="16"/>
                  </a:lnTo>
                  <a:lnTo>
                    <a:pt x="2157" y="0"/>
                  </a:lnTo>
                  <a:close/>
                  <a:moveTo>
                    <a:pt x="2221" y="0"/>
                  </a:moveTo>
                  <a:lnTo>
                    <a:pt x="2269" y="0"/>
                  </a:lnTo>
                  <a:lnTo>
                    <a:pt x="2269" y="16"/>
                  </a:lnTo>
                  <a:lnTo>
                    <a:pt x="2221" y="16"/>
                  </a:lnTo>
                  <a:lnTo>
                    <a:pt x="2221" y="0"/>
                  </a:lnTo>
                  <a:close/>
                  <a:moveTo>
                    <a:pt x="2285" y="0"/>
                  </a:moveTo>
                  <a:lnTo>
                    <a:pt x="2333" y="0"/>
                  </a:lnTo>
                  <a:lnTo>
                    <a:pt x="2333" y="16"/>
                  </a:lnTo>
                  <a:lnTo>
                    <a:pt x="2285" y="16"/>
                  </a:lnTo>
                  <a:lnTo>
                    <a:pt x="2285" y="0"/>
                  </a:lnTo>
                  <a:close/>
                  <a:moveTo>
                    <a:pt x="2349" y="0"/>
                  </a:moveTo>
                  <a:lnTo>
                    <a:pt x="2397" y="0"/>
                  </a:lnTo>
                  <a:lnTo>
                    <a:pt x="2397" y="16"/>
                  </a:lnTo>
                  <a:lnTo>
                    <a:pt x="2349" y="16"/>
                  </a:lnTo>
                  <a:lnTo>
                    <a:pt x="2349" y="0"/>
                  </a:lnTo>
                  <a:close/>
                  <a:moveTo>
                    <a:pt x="2413" y="0"/>
                  </a:moveTo>
                  <a:lnTo>
                    <a:pt x="2462" y="0"/>
                  </a:lnTo>
                  <a:lnTo>
                    <a:pt x="2462" y="16"/>
                  </a:lnTo>
                  <a:lnTo>
                    <a:pt x="2413" y="16"/>
                  </a:lnTo>
                  <a:lnTo>
                    <a:pt x="2413" y="0"/>
                  </a:lnTo>
                  <a:close/>
                  <a:moveTo>
                    <a:pt x="2478" y="0"/>
                  </a:moveTo>
                  <a:lnTo>
                    <a:pt x="2526" y="0"/>
                  </a:lnTo>
                  <a:lnTo>
                    <a:pt x="2526" y="16"/>
                  </a:lnTo>
                  <a:lnTo>
                    <a:pt x="2478" y="16"/>
                  </a:lnTo>
                  <a:lnTo>
                    <a:pt x="2478" y="0"/>
                  </a:lnTo>
                  <a:close/>
                  <a:moveTo>
                    <a:pt x="2542" y="0"/>
                  </a:moveTo>
                  <a:lnTo>
                    <a:pt x="2590" y="0"/>
                  </a:lnTo>
                  <a:lnTo>
                    <a:pt x="2590" y="16"/>
                  </a:lnTo>
                  <a:lnTo>
                    <a:pt x="2542" y="16"/>
                  </a:lnTo>
                  <a:lnTo>
                    <a:pt x="2542" y="0"/>
                  </a:lnTo>
                  <a:close/>
                  <a:moveTo>
                    <a:pt x="2606" y="0"/>
                  </a:moveTo>
                  <a:lnTo>
                    <a:pt x="2654" y="0"/>
                  </a:lnTo>
                  <a:lnTo>
                    <a:pt x="2654" y="16"/>
                  </a:lnTo>
                  <a:lnTo>
                    <a:pt x="2606" y="16"/>
                  </a:lnTo>
                  <a:lnTo>
                    <a:pt x="2606" y="0"/>
                  </a:lnTo>
                  <a:close/>
                  <a:moveTo>
                    <a:pt x="2670" y="0"/>
                  </a:moveTo>
                  <a:lnTo>
                    <a:pt x="2718" y="0"/>
                  </a:lnTo>
                  <a:lnTo>
                    <a:pt x="2718" y="16"/>
                  </a:lnTo>
                  <a:lnTo>
                    <a:pt x="2670" y="16"/>
                  </a:lnTo>
                  <a:lnTo>
                    <a:pt x="2670" y="0"/>
                  </a:lnTo>
                  <a:close/>
                  <a:moveTo>
                    <a:pt x="2734" y="0"/>
                  </a:moveTo>
                  <a:lnTo>
                    <a:pt x="2782" y="0"/>
                  </a:lnTo>
                  <a:lnTo>
                    <a:pt x="2782" y="16"/>
                  </a:lnTo>
                  <a:lnTo>
                    <a:pt x="2734" y="16"/>
                  </a:lnTo>
                  <a:lnTo>
                    <a:pt x="2734" y="0"/>
                  </a:lnTo>
                  <a:close/>
                  <a:moveTo>
                    <a:pt x="2798" y="0"/>
                  </a:moveTo>
                  <a:lnTo>
                    <a:pt x="2846" y="0"/>
                  </a:lnTo>
                  <a:lnTo>
                    <a:pt x="2846" y="16"/>
                  </a:lnTo>
                  <a:lnTo>
                    <a:pt x="2798" y="16"/>
                  </a:lnTo>
                  <a:lnTo>
                    <a:pt x="2798" y="0"/>
                  </a:lnTo>
                  <a:close/>
                  <a:moveTo>
                    <a:pt x="2862" y="0"/>
                  </a:moveTo>
                  <a:lnTo>
                    <a:pt x="2910" y="0"/>
                  </a:lnTo>
                  <a:lnTo>
                    <a:pt x="2910" y="16"/>
                  </a:lnTo>
                  <a:lnTo>
                    <a:pt x="2862" y="16"/>
                  </a:lnTo>
                  <a:lnTo>
                    <a:pt x="2862" y="0"/>
                  </a:lnTo>
                  <a:close/>
                  <a:moveTo>
                    <a:pt x="2926" y="0"/>
                  </a:moveTo>
                  <a:lnTo>
                    <a:pt x="2974" y="0"/>
                  </a:lnTo>
                  <a:lnTo>
                    <a:pt x="2974" y="16"/>
                  </a:lnTo>
                  <a:lnTo>
                    <a:pt x="2926" y="16"/>
                  </a:lnTo>
                  <a:lnTo>
                    <a:pt x="2926" y="0"/>
                  </a:lnTo>
                  <a:close/>
                  <a:moveTo>
                    <a:pt x="2990" y="0"/>
                  </a:moveTo>
                  <a:lnTo>
                    <a:pt x="3038" y="0"/>
                  </a:lnTo>
                  <a:lnTo>
                    <a:pt x="3038" y="16"/>
                  </a:lnTo>
                  <a:lnTo>
                    <a:pt x="2990" y="16"/>
                  </a:lnTo>
                  <a:lnTo>
                    <a:pt x="2990" y="0"/>
                  </a:lnTo>
                  <a:close/>
                  <a:moveTo>
                    <a:pt x="3054" y="0"/>
                  </a:moveTo>
                  <a:lnTo>
                    <a:pt x="3102" y="0"/>
                  </a:lnTo>
                  <a:lnTo>
                    <a:pt x="3102" y="16"/>
                  </a:lnTo>
                  <a:lnTo>
                    <a:pt x="3054" y="16"/>
                  </a:lnTo>
                  <a:lnTo>
                    <a:pt x="3054" y="0"/>
                  </a:lnTo>
                  <a:close/>
                  <a:moveTo>
                    <a:pt x="3118" y="0"/>
                  </a:moveTo>
                  <a:lnTo>
                    <a:pt x="3166" y="0"/>
                  </a:lnTo>
                  <a:lnTo>
                    <a:pt x="3166" y="16"/>
                  </a:lnTo>
                  <a:lnTo>
                    <a:pt x="3118" y="16"/>
                  </a:lnTo>
                  <a:lnTo>
                    <a:pt x="3118" y="0"/>
                  </a:lnTo>
                  <a:close/>
                  <a:moveTo>
                    <a:pt x="3182" y="0"/>
                  </a:moveTo>
                  <a:lnTo>
                    <a:pt x="3230" y="0"/>
                  </a:lnTo>
                  <a:lnTo>
                    <a:pt x="3230" y="16"/>
                  </a:lnTo>
                  <a:lnTo>
                    <a:pt x="3182" y="16"/>
                  </a:lnTo>
                  <a:lnTo>
                    <a:pt x="3182" y="0"/>
                  </a:lnTo>
                  <a:close/>
                  <a:moveTo>
                    <a:pt x="3246" y="0"/>
                  </a:moveTo>
                  <a:lnTo>
                    <a:pt x="3294" y="0"/>
                  </a:lnTo>
                  <a:lnTo>
                    <a:pt x="3294" y="16"/>
                  </a:lnTo>
                  <a:lnTo>
                    <a:pt x="3246" y="16"/>
                  </a:lnTo>
                  <a:lnTo>
                    <a:pt x="3246" y="0"/>
                  </a:lnTo>
                  <a:close/>
                  <a:moveTo>
                    <a:pt x="3310" y="0"/>
                  </a:moveTo>
                  <a:lnTo>
                    <a:pt x="3358" y="0"/>
                  </a:lnTo>
                  <a:lnTo>
                    <a:pt x="3358" y="16"/>
                  </a:lnTo>
                  <a:lnTo>
                    <a:pt x="3310" y="16"/>
                  </a:lnTo>
                  <a:lnTo>
                    <a:pt x="3310" y="0"/>
                  </a:lnTo>
                  <a:close/>
                  <a:moveTo>
                    <a:pt x="3374" y="0"/>
                  </a:moveTo>
                  <a:lnTo>
                    <a:pt x="3422" y="0"/>
                  </a:lnTo>
                  <a:lnTo>
                    <a:pt x="3422" y="16"/>
                  </a:lnTo>
                  <a:lnTo>
                    <a:pt x="3374" y="16"/>
                  </a:lnTo>
                  <a:lnTo>
                    <a:pt x="3374" y="0"/>
                  </a:lnTo>
                  <a:close/>
                  <a:moveTo>
                    <a:pt x="3438" y="0"/>
                  </a:moveTo>
                  <a:lnTo>
                    <a:pt x="3487" y="0"/>
                  </a:lnTo>
                  <a:lnTo>
                    <a:pt x="3487" y="16"/>
                  </a:lnTo>
                  <a:lnTo>
                    <a:pt x="3438" y="16"/>
                  </a:lnTo>
                  <a:lnTo>
                    <a:pt x="3438" y="0"/>
                  </a:lnTo>
                  <a:close/>
                  <a:moveTo>
                    <a:pt x="3503" y="0"/>
                  </a:moveTo>
                  <a:lnTo>
                    <a:pt x="3551" y="0"/>
                  </a:lnTo>
                  <a:lnTo>
                    <a:pt x="3551" y="16"/>
                  </a:lnTo>
                  <a:lnTo>
                    <a:pt x="3503" y="16"/>
                  </a:lnTo>
                  <a:lnTo>
                    <a:pt x="3503" y="0"/>
                  </a:lnTo>
                  <a:close/>
                  <a:moveTo>
                    <a:pt x="3567" y="0"/>
                  </a:moveTo>
                  <a:lnTo>
                    <a:pt x="3615" y="0"/>
                  </a:lnTo>
                  <a:lnTo>
                    <a:pt x="3615" y="16"/>
                  </a:lnTo>
                  <a:lnTo>
                    <a:pt x="3567" y="16"/>
                  </a:lnTo>
                  <a:lnTo>
                    <a:pt x="3567" y="0"/>
                  </a:lnTo>
                  <a:close/>
                  <a:moveTo>
                    <a:pt x="3631" y="0"/>
                  </a:moveTo>
                  <a:lnTo>
                    <a:pt x="3679" y="0"/>
                  </a:lnTo>
                  <a:lnTo>
                    <a:pt x="3679" y="16"/>
                  </a:lnTo>
                  <a:lnTo>
                    <a:pt x="3631" y="16"/>
                  </a:lnTo>
                  <a:lnTo>
                    <a:pt x="3631" y="0"/>
                  </a:lnTo>
                  <a:close/>
                  <a:moveTo>
                    <a:pt x="3695" y="0"/>
                  </a:moveTo>
                  <a:lnTo>
                    <a:pt x="3743" y="0"/>
                  </a:lnTo>
                  <a:lnTo>
                    <a:pt x="3743" y="16"/>
                  </a:lnTo>
                  <a:lnTo>
                    <a:pt x="3695" y="16"/>
                  </a:lnTo>
                  <a:lnTo>
                    <a:pt x="3695" y="0"/>
                  </a:lnTo>
                  <a:close/>
                  <a:moveTo>
                    <a:pt x="3759" y="0"/>
                  </a:moveTo>
                  <a:lnTo>
                    <a:pt x="3807" y="0"/>
                  </a:lnTo>
                  <a:lnTo>
                    <a:pt x="3807" y="16"/>
                  </a:lnTo>
                  <a:lnTo>
                    <a:pt x="3759" y="16"/>
                  </a:lnTo>
                  <a:lnTo>
                    <a:pt x="3759" y="0"/>
                  </a:lnTo>
                  <a:close/>
                  <a:moveTo>
                    <a:pt x="3823" y="0"/>
                  </a:moveTo>
                  <a:lnTo>
                    <a:pt x="3871" y="0"/>
                  </a:lnTo>
                  <a:lnTo>
                    <a:pt x="3871" y="16"/>
                  </a:lnTo>
                  <a:lnTo>
                    <a:pt x="3823" y="16"/>
                  </a:lnTo>
                  <a:lnTo>
                    <a:pt x="3823" y="0"/>
                  </a:lnTo>
                  <a:close/>
                  <a:moveTo>
                    <a:pt x="3887" y="0"/>
                  </a:moveTo>
                  <a:lnTo>
                    <a:pt x="3935" y="0"/>
                  </a:lnTo>
                  <a:lnTo>
                    <a:pt x="3935" y="16"/>
                  </a:lnTo>
                  <a:lnTo>
                    <a:pt x="3887" y="16"/>
                  </a:lnTo>
                  <a:lnTo>
                    <a:pt x="3887" y="0"/>
                  </a:lnTo>
                  <a:close/>
                  <a:moveTo>
                    <a:pt x="3951" y="0"/>
                  </a:moveTo>
                  <a:lnTo>
                    <a:pt x="3999" y="0"/>
                  </a:lnTo>
                  <a:lnTo>
                    <a:pt x="3999" y="16"/>
                  </a:lnTo>
                  <a:lnTo>
                    <a:pt x="3951" y="16"/>
                  </a:lnTo>
                  <a:lnTo>
                    <a:pt x="3951" y="0"/>
                  </a:lnTo>
                  <a:close/>
                  <a:moveTo>
                    <a:pt x="4015" y="0"/>
                  </a:moveTo>
                  <a:lnTo>
                    <a:pt x="4063" y="0"/>
                  </a:lnTo>
                  <a:lnTo>
                    <a:pt x="4063" y="16"/>
                  </a:lnTo>
                  <a:lnTo>
                    <a:pt x="4015" y="16"/>
                  </a:lnTo>
                  <a:lnTo>
                    <a:pt x="4015" y="0"/>
                  </a:lnTo>
                  <a:close/>
                  <a:moveTo>
                    <a:pt x="4079" y="0"/>
                  </a:moveTo>
                  <a:lnTo>
                    <a:pt x="4127" y="0"/>
                  </a:lnTo>
                  <a:lnTo>
                    <a:pt x="4127" y="16"/>
                  </a:lnTo>
                  <a:lnTo>
                    <a:pt x="4079" y="16"/>
                  </a:lnTo>
                  <a:lnTo>
                    <a:pt x="4079" y="0"/>
                  </a:lnTo>
                  <a:close/>
                  <a:moveTo>
                    <a:pt x="4143" y="0"/>
                  </a:moveTo>
                  <a:lnTo>
                    <a:pt x="4191" y="0"/>
                  </a:lnTo>
                  <a:lnTo>
                    <a:pt x="4191" y="16"/>
                  </a:lnTo>
                  <a:lnTo>
                    <a:pt x="4143" y="16"/>
                  </a:lnTo>
                  <a:lnTo>
                    <a:pt x="4143" y="0"/>
                  </a:lnTo>
                  <a:close/>
                  <a:moveTo>
                    <a:pt x="4207" y="0"/>
                  </a:moveTo>
                  <a:lnTo>
                    <a:pt x="4255" y="0"/>
                  </a:lnTo>
                  <a:lnTo>
                    <a:pt x="4255" y="16"/>
                  </a:lnTo>
                  <a:lnTo>
                    <a:pt x="4207" y="16"/>
                  </a:lnTo>
                  <a:lnTo>
                    <a:pt x="4207" y="0"/>
                  </a:lnTo>
                  <a:close/>
                  <a:moveTo>
                    <a:pt x="4271" y="0"/>
                  </a:moveTo>
                  <a:lnTo>
                    <a:pt x="4319" y="0"/>
                  </a:lnTo>
                  <a:lnTo>
                    <a:pt x="4319" y="16"/>
                  </a:lnTo>
                  <a:lnTo>
                    <a:pt x="4271" y="16"/>
                  </a:lnTo>
                  <a:lnTo>
                    <a:pt x="4271" y="0"/>
                  </a:lnTo>
                  <a:close/>
                  <a:moveTo>
                    <a:pt x="4335" y="0"/>
                  </a:moveTo>
                  <a:lnTo>
                    <a:pt x="4383" y="0"/>
                  </a:lnTo>
                  <a:lnTo>
                    <a:pt x="4383" y="16"/>
                  </a:lnTo>
                  <a:lnTo>
                    <a:pt x="4335" y="16"/>
                  </a:lnTo>
                  <a:lnTo>
                    <a:pt x="4335" y="0"/>
                  </a:lnTo>
                  <a:close/>
                  <a:moveTo>
                    <a:pt x="4399" y="0"/>
                  </a:moveTo>
                  <a:lnTo>
                    <a:pt x="4448" y="0"/>
                  </a:lnTo>
                  <a:lnTo>
                    <a:pt x="4448" y="16"/>
                  </a:lnTo>
                  <a:lnTo>
                    <a:pt x="4399" y="16"/>
                  </a:lnTo>
                  <a:lnTo>
                    <a:pt x="4399" y="0"/>
                  </a:lnTo>
                  <a:close/>
                  <a:moveTo>
                    <a:pt x="4464" y="0"/>
                  </a:moveTo>
                  <a:lnTo>
                    <a:pt x="4512" y="0"/>
                  </a:lnTo>
                  <a:lnTo>
                    <a:pt x="4512" y="16"/>
                  </a:lnTo>
                  <a:lnTo>
                    <a:pt x="4464" y="16"/>
                  </a:lnTo>
                  <a:lnTo>
                    <a:pt x="4464" y="0"/>
                  </a:lnTo>
                  <a:close/>
                  <a:moveTo>
                    <a:pt x="4528" y="0"/>
                  </a:moveTo>
                  <a:lnTo>
                    <a:pt x="4576" y="0"/>
                  </a:lnTo>
                  <a:lnTo>
                    <a:pt x="4576" y="16"/>
                  </a:lnTo>
                  <a:lnTo>
                    <a:pt x="4528" y="16"/>
                  </a:lnTo>
                  <a:lnTo>
                    <a:pt x="4528" y="0"/>
                  </a:lnTo>
                  <a:close/>
                  <a:moveTo>
                    <a:pt x="4592" y="0"/>
                  </a:moveTo>
                  <a:lnTo>
                    <a:pt x="4640" y="0"/>
                  </a:lnTo>
                  <a:lnTo>
                    <a:pt x="4640" y="16"/>
                  </a:lnTo>
                  <a:lnTo>
                    <a:pt x="4592" y="16"/>
                  </a:lnTo>
                  <a:lnTo>
                    <a:pt x="4592" y="0"/>
                  </a:lnTo>
                  <a:close/>
                  <a:moveTo>
                    <a:pt x="4656" y="0"/>
                  </a:moveTo>
                  <a:lnTo>
                    <a:pt x="4704" y="0"/>
                  </a:lnTo>
                  <a:lnTo>
                    <a:pt x="4704" y="16"/>
                  </a:lnTo>
                  <a:lnTo>
                    <a:pt x="4656" y="16"/>
                  </a:lnTo>
                  <a:lnTo>
                    <a:pt x="4656" y="0"/>
                  </a:lnTo>
                  <a:close/>
                  <a:moveTo>
                    <a:pt x="4720" y="0"/>
                  </a:moveTo>
                  <a:lnTo>
                    <a:pt x="4768" y="0"/>
                  </a:lnTo>
                  <a:lnTo>
                    <a:pt x="4768" y="16"/>
                  </a:lnTo>
                  <a:lnTo>
                    <a:pt x="4720" y="16"/>
                  </a:lnTo>
                  <a:lnTo>
                    <a:pt x="4720" y="0"/>
                  </a:lnTo>
                  <a:close/>
                  <a:moveTo>
                    <a:pt x="4784" y="0"/>
                  </a:moveTo>
                  <a:lnTo>
                    <a:pt x="4832" y="0"/>
                  </a:lnTo>
                  <a:lnTo>
                    <a:pt x="4832" y="16"/>
                  </a:lnTo>
                  <a:lnTo>
                    <a:pt x="4784" y="16"/>
                  </a:lnTo>
                  <a:lnTo>
                    <a:pt x="4784" y="0"/>
                  </a:lnTo>
                  <a:close/>
                  <a:moveTo>
                    <a:pt x="4848" y="0"/>
                  </a:moveTo>
                  <a:lnTo>
                    <a:pt x="4896" y="0"/>
                  </a:lnTo>
                  <a:lnTo>
                    <a:pt x="4896" y="16"/>
                  </a:lnTo>
                  <a:lnTo>
                    <a:pt x="4848" y="16"/>
                  </a:lnTo>
                  <a:lnTo>
                    <a:pt x="4848" y="0"/>
                  </a:lnTo>
                  <a:close/>
                  <a:moveTo>
                    <a:pt x="4912" y="0"/>
                  </a:moveTo>
                  <a:lnTo>
                    <a:pt x="4960" y="0"/>
                  </a:lnTo>
                  <a:lnTo>
                    <a:pt x="4960" y="16"/>
                  </a:lnTo>
                  <a:lnTo>
                    <a:pt x="4912" y="16"/>
                  </a:lnTo>
                  <a:lnTo>
                    <a:pt x="4912" y="0"/>
                  </a:lnTo>
                  <a:close/>
                  <a:moveTo>
                    <a:pt x="4976" y="0"/>
                  </a:moveTo>
                  <a:lnTo>
                    <a:pt x="5024" y="0"/>
                  </a:lnTo>
                  <a:lnTo>
                    <a:pt x="5024" y="16"/>
                  </a:lnTo>
                  <a:lnTo>
                    <a:pt x="4976" y="16"/>
                  </a:lnTo>
                  <a:lnTo>
                    <a:pt x="4976" y="0"/>
                  </a:lnTo>
                  <a:close/>
                  <a:moveTo>
                    <a:pt x="5040" y="0"/>
                  </a:moveTo>
                  <a:lnTo>
                    <a:pt x="5088" y="0"/>
                  </a:lnTo>
                  <a:lnTo>
                    <a:pt x="5088" y="16"/>
                  </a:lnTo>
                  <a:lnTo>
                    <a:pt x="5040" y="16"/>
                  </a:lnTo>
                  <a:lnTo>
                    <a:pt x="5040" y="0"/>
                  </a:lnTo>
                  <a:close/>
                  <a:moveTo>
                    <a:pt x="5104" y="0"/>
                  </a:moveTo>
                  <a:lnTo>
                    <a:pt x="5152" y="0"/>
                  </a:lnTo>
                  <a:lnTo>
                    <a:pt x="5152" y="16"/>
                  </a:lnTo>
                  <a:lnTo>
                    <a:pt x="5104" y="16"/>
                  </a:lnTo>
                  <a:lnTo>
                    <a:pt x="5104" y="0"/>
                  </a:lnTo>
                  <a:close/>
                  <a:moveTo>
                    <a:pt x="5168" y="0"/>
                  </a:moveTo>
                  <a:lnTo>
                    <a:pt x="5216" y="0"/>
                  </a:lnTo>
                  <a:lnTo>
                    <a:pt x="5216" y="16"/>
                  </a:lnTo>
                  <a:lnTo>
                    <a:pt x="5168" y="16"/>
                  </a:lnTo>
                  <a:lnTo>
                    <a:pt x="5168" y="0"/>
                  </a:lnTo>
                  <a:close/>
                  <a:moveTo>
                    <a:pt x="5232" y="0"/>
                  </a:moveTo>
                  <a:lnTo>
                    <a:pt x="5280" y="0"/>
                  </a:lnTo>
                  <a:lnTo>
                    <a:pt x="5280" y="16"/>
                  </a:lnTo>
                  <a:lnTo>
                    <a:pt x="5232" y="16"/>
                  </a:lnTo>
                  <a:lnTo>
                    <a:pt x="5232" y="0"/>
                  </a:lnTo>
                  <a:close/>
                  <a:moveTo>
                    <a:pt x="5296" y="0"/>
                  </a:moveTo>
                  <a:lnTo>
                    <a:pt x="5344" y="0"/>
                  </a:lnTo>
                  <a:lnTo>
                    <a:pt x="5344" y="16"/>
                  </a:lnTo>
                  <a:lnTo>
                    <a:pt x="5296" y="16"/>
                  </a:lnTo>
                  <a:lnTo>
                    <a:pt x="5296" y="0"/>
                  </a:lnTo>
                  <a:close/>
                  <a:moveTo>
                    <a:pt x="5360" y="0"/>
                  </a:moveTo>
                  <a:lnTo>
                    <a:pt x="5408" y="0"/>
                  </a:lnTo>
                  <a:lnTo>
                    <a:pt x="5408" y="16"/>
                  </a:lnTo>
                  <a:lnTo>
                    <a:pt x="5360" y="16"/>
                  </a:lnTo>
                  <a:lnTo>
                    <a:pt x="5360" y="0"/>
                  </a:lnTo>
                  <a:close/>
                  <a:moveTo>
                    <a:pt x="5424" y="0"/>
                  </a:moveTo>
                  <a:lnTo>
                    <a:pt x="5473" y="0"/>
                  </a:lnTo>
                  <a:lnTo>
                    <a:pt x="5473" y="16"/>
                  </a:lnTo>
                  <a:lnTo>
                    <a:pt x="5424" y="16"/>
                  </a:lnTo>
                  <a:lnTo>
                    <a:pt x="5424" y="0"/>
                  </a:lnTo>
                  <a:close/>
                  <a:moveTo>
                    <a:pt x="5489" y="0"/>
                  </a:moveTo>
                  <a:lnTo>
                    <a:pt x="5537" y="0"/>
                  </a:lnTo>
                  <a:lnTo>
                    <a:pt x="5537" y="16"/>
                  </a:lnTo>
                  <a:lnTo>
                    <a:pt x="5489" y="16"/>
                  </a:lnTo>
                  <a:lnTo>
                    <a:pt x="5489" y="0"/>
                  </a:lnTo>
                  <a:close/>
                  <a:moveTo>
                    <a:pt x="5553" y="0"/>
                  </a:moveTo>
                  <a:lnTo>
                    <a:pt x="5601" y="0"/>
                  </a:lnTo>
                  <a:lnTo>
                    <a:pt x="5601" y="16"/>
                  </a:lnTo>
                  <a:lnTo>
                    <a:pt x="5553" y="16"/>
                  </a:lnTo>
                  <a:lnTo>
                    <a:pt x="5553" y="0"/>
                  </a:lnTo>
                  <a:close/>
                  <a:moveTo>
                    <a:pt x="5617" y="0"/>
                  </a:moveTo>
                  <a:lnTo>
                    <a:pt x="5665" y="0"/>
                  </a:lnTo>
                  <a:lnTo>
                    <a:pt x="5665" y="16"/>
                  </a:lnTo>
                  <a:lnTo>
                    <a:pt x="5617" y="16"/>
                  </a:lnTo>
                  <a:lnTo>
                    <a:pt x="5617" y="0"/>
                  </a:lnTo>
                  <a:close/>
                  <a:moveTo>
                    <a:pt x="5681" y="0"/>
                  </a:moveTo>
                  <a:lnTo>
                    <a:pt x="5729" y="0"/>
                  </a:lnTo>
                  <a:lnTo>
                    <a:pt x="5729" y="16"/>
                  </a:lnTo>
                  <a:lnTo>
                    <a:pt x="5681" y="16"/>
                  </a:lnTo>
                  <a:lnTo>
                    <a:pt x="5681" y="0"/>
                  </a:lnTo>
                  <a:close/>
                  <a:moveTo>
                    <a:pt x="5745" y="0"/>
                  </a:moveTo>
                  <a:lnTo>
                    <a:pt x="5793" y="0"/>
                  </a:lnTo>
                  <a:lnTo>
                    <a:pt x="5793" y="16"/>
                  </a:lnTo>
                  <a:lnTo>
                    <a:pt x="5745" y="16"/>
                  </a:lnTo>
                  <a:lnTo>
                    <a:pt x="5745" y="0"/>
                  </a:lnTo>
                  <a:close/>
                  <a:moveTo>
                    <a:pt x="5809" y="0"/>
                  </a:moveTo>
                  <a:lnTo>
                    <a:pt x="5857" y="0"/>
                  </a:lnTo>
                  <a:lnTo>
                    <a:pt x="5857" y="16"/>
                  </a:lnTo>
                  <a:lnTo>
                    <a:pt x="5809" y="16"/>
                  </a:lnTo>
                  <a:lnTo>
                    <a:pt x="5809" y="0"/>
                  </a:lnTo>
                  <a:close/>
                  <a:moveTo>
                    <a:pt x="5873" y="0"/>
                  </a:moveTo>
                  <a:lnTo>
                    <a:pt x="5921" y="0"/>
                  </a:lnTo>
                  <a:lnTo>
                    <a:pt x="5921" y="16"/>
                  </a:lnTo>
                  <a:lnTo>
                    <a:pt x="5873" y="16"/>
                  </a:lnTo>
                  <a:lnTo>
                    <a:pt x="5873" y="0"/>
                  </a:lnTo>
                  <a:close/>
                  <a:moveTo>
                    <a:pt x="5937" y="0"/>
                  </a:moveTo>
                  <a:lnTo>
                    <a:pt x="5985" y="0"/>
                  </a:lnTo>
                  <a:lnTo>
                    <a:pt x="5985" y="16"/>
                  </a:lnTo>
                  <a:lnTo>
                    <a:pt x="5937" y="16"/>
                  </a:lnTo>
                  <a:lnTo>
                    <a:pt x="5937" y="0"/>
                  </a:lnTo>
                  <a:close/>
                  <a:moveTo>
                    <a:pt x="6001" y="0"/>
                  </a:moveTo>
                  <a:lnTo>
                    <a:pt x="6049" y="0"/>
                  </a:lnTo>
                  <a:lnTo>
                    <a:pt x="6049" y="16"/>
                  </a:lnTo>
                  <a:lnTo>
                    <a:pt x="6001" y="16"/>
                  </a:lnTo>
                  <a:lnTo>
                    <a:pt x="6001" y="0"/>
                  </a:lnTo>
                  <a:close/>
                  <a:moveTo>
                    <a:pt x="6065" y="0"/>
                  </a:moveTo>
                  <a:lnTo>
                    <a:pt x="6113" y="0"/>
                  </a:lnTo>
                  <a:lnTo>
                    <a:pt x="6113" y="16"/>
                  </a:lnTo>
                  <a:lnTo>
                    <a:pt x="6065" y="16"/>
                  </a:lnTo>
                  <a:lnTo>
                    <a:pt x="6065" y="0"/>
                  </a:lnTo>
                  <a:close/>
                  <a:moveTo>
                    <a:pt x="6129" y="0"/>
                  </a:moveTo>
                  <a:lnTo>
                    <a:pt x="6177" y="0"/>
                  </a:lnTo>
                  <a:lnTo>
                    <a:pt x="6177" y="16"/>
                  </a:lnTo>
                  <a:lnTo>
                    <a:pt x="6129" y="16"/>
                  </a:lnTo>
                  <a:lnTo>
                    <a:pt x="6129" y="0"/>
                  </a:lnTo>
                  <a:close/>
                  <a:moveTo>
                    <a:pt x="6193" y="0"/>
                  </a:moveTo>
                  <a:lnTo>
                    <a:pt x="6241" y="0"/>
                  </a:lnTo>
                  <a:lnTo>
                    <a:pt x="6241" y="16"/>
                  </a:lnTo>
                  <a:lnTo>
                    <a:pt x="6193" y="16"/>
                  </a:lnTo>
                  <a:lnTo>
                    <a:pt x="6193" y="0"/>
                  </a:lnTo>
                  <a:close/>
                  <a:moveTo>
                    <a:pt x="6257" y="0"/>
                  </a:moveTo>
                  <a:lnTo>
                    <a:pt x="6305" y="0"/>
                  </a:lnTo>
                  <a:lnTo>
                    <a:pt x="6305" y="16"/>
                  </a:lnTo>
                  <a:lnTo>
                    <a:pt x="6257" y="16"/>
                  </a:lnTo>
                  <a:lnTo>
                    <a:pt x="6257" y="0"/>
                  </a:lnTo>
                  <a:close/>
                  <a:moveTo>
                    <a:pt x="6321" y="0"/>
                  </a:moveTo>
                  <a:lnTo>
                    <a:pt x="6369" y="0"/>
                  </a:lnTo>
                  <a:lnTo>
                    <a:pt x="6369" y="16"/>
                  </a:lnTo>
                  <a:lnTo>
                    <a:pt x="6321" y="16"/>
                  </a:lnTo>
                  <a:lnTo>
                    <a:pt x="6321" y="0"/>
                  </a:lnTo>
                  <a:close/>
                  <a:moveTo>
                    <a:pt x="6385" y="0"/>
                  </a:moveTo>
                  <a:lnTo>
                    <a:pt x="6434" y="0"/>
                  </a:lnTo>
                  <a:lnTo>
                    <a:pt x="6434" y="16"/>
                  </a:lnTo>
                  <a:lnTo>
                    <a:pt x="6385" y="16"/>
                  </a:lnTo>
                  <a:lnTo>
                    <a:pt x="6385" y="0"/>
                  </a:lnTo>
                  <a:close/>
                  <a:moveTo>
                    <a:pt x="6450" y="0"/>
                  </a:moveTo>
                  <a:lnTo>
                    <a:pt x="6498" y="0"/>
                  </a:lnTo>
                  <a:lnTo>
                    <a:pt x="6498" y="16"/>
                  </a:lnTo>
                  <a:lnTo>
                    <a:pt x="6450" y="16"/>
                  </a:lnTo>
                  <a:lnTo>
                    <a:pt x="6450" y="0"/>
                  </a:lnTo>
                  <a:close/>
                  <a:moveTo>
                    <a:pt x="6514" y="0"/>
                  </a:moveTo>
                  <a:lnTo>
                    <a:pt x="6562" y="0"/>
                  </a:lnTo>
                  <a:lnTo>
                    <a:pt x="6562" y="16"/>
                  </a:lnTo>
                  <a:lnTo>
                    <a:pt x="6514" y="16"/>
                  </a:lnTo>
                  <a:lnTo>
                    <a:pt x="6514" y="0"/>
                  </a:lnTo>
                  <a:close/>
                  <a:moveTo>
                    <a:pt x="6578" y="0"/>
                  </a:moveTo>
                  <a:lnTo>
                    <a:pt x="6626" y="0"/>
                  </a:lnTo>
                  <a:lnTo>
                    <a:pt x="6626" y="16"/>
                  </a:lnTo>
                  <a:lnTo>
                    <a:pt x="6578" y="16"/>
                  </a:lnTo>
                  <a:lnTo>
                    <a:pt x="6578" y="0"/>
                  </a:lnTo>
                  <a:close/>
                  <a:moveTo>
                    <a:pt x="6642" y="0"/>
                  </a:moveTo>
                  <a:lnTo>
                    <a:pt x="6690" y="0"/>
                  </a:lnTo>
                  <a:lnTo>
                    <a:pt x="6690" y="16"/>
                  </a:lnTo>
                  <a:lnTo>
                    <a:pt x="6642" y="16"/>
                  </a:lnTo>
                  <a:lnTo>
                    <a:pt x="6642" y="0"/>
                  </a:lnTo>
                  <a:close/>
                  <a:moveTo>
                    <a:pt x="6706" y="0"/>
                  </a:moveTo>
                  <a:lnTo>
                    <a:pt x="6754" y="0"/>
                  </a:lnTo>
                  <a:lnTo>
                    <a:pt x="6754" y="16"/>
                  </a:lnTo>
                  <a:lnTo>
                    <a:pt x="6706" y="16"/>
                  </a:lnTo>
                  <a:lnTo>
                    <a:pt x="6706" y="0"/>
                  </a:lnTo>
                  <a:close/>
                  <a:moveTo>
                    <a:pt x="6770" y="0"/>
                  </a:moveTo>
                  <a:lnTo>
                    <a:pt x="6818" y="0"/>
                  </a:lnTo>
                  <a:lnTo>
                    <a:pt x="6818" y="16"/>
                  </a:lnTo>
                  <a:lnTo>
                    <a:pt x="6770" y="16"/>
                  </a:lnTo>
                  <a:lnTo>
                    <a:pt x="6770" y="0"/>
                  </a:lnTo>
                  <a:close/>
                  <a:moveTo>
                    <a:pt x="6834" y="0"/>
                  </a:moveTo>
                  <a:lnTo>
                    <a:pt x="6882" y="0"/>
                  </a:lnTo>
                  <a:lnTo>
                    <a:pt x="6882" y="16"/>
                  </a:lnTo>
                  <a:lnTo>
                    <a:pt x="6834" y="16"/>
                  </a:lnTo>
                  <a:lnTo>
                    <a:pt x="6834" y="0"/>
                  </a:lnTo>
                  <a:close/>
                  <a:moveTo>
                    <a:pt x="6898" y="0"/>
                  </a:moveTo>
                  <a:lnTo>
                    <a:pt x="6946" y="0"/>
                  </a:lnTo>
                  <a:lnTo>
                    <a:pt x="6946" y="16"/>
                  </a:lnTo>
                  <a:lnTo>
                    <a:pt x="6898" y="16"/>
                  </a:lnTo>
                  <a:lnTo>
                    <a:pt x="6898" y="0"/>
                  </a:lnTo>
                  <a:close/>
                  <a:moveTo>
                    <a:pt x="6962" y="0"/>
                  </a:moveTo>
                  <a:lnTo>
                    <a:pt x="7010" y="0"/>
                  </a:lnTo>
                  <a:lnTo>
                    <a:pt x="7010" y="16"/>
                  </a:lnTo>
                  <a:lnTo>
                    <a:pt x="6962" y="16"/>
                  </a:lnTo>
                  <a:lnTo>
                    <a:pt x="6962" y="0"/>
                  </a:lnTo>
                  <a:close/>
                  <a:moveTo>
                    <a:pt x="7026" y="0"/>
                  </a:moveTo>
                  <a:lnTo>
                    <a:pt x="7074" y="0"/>
                  </a:lnTo>
                  <a:lnTo>
                    <a:pt x="7074" y="16"/>
                  </a:lnTo>
                  <a:lnTo>
                    <a:pt x="7026" y="16"/>
                  </a:lnTo>
                  <a:lnTo>
                    <a:pt x="7026" y="0"/>
                  </a:lnTo>
                  <a:close/>
                  <a:moveTo>
                    <a:pt x="7090" y="0"/>
                  </a:moveTo>
                  <a:lnTo>
                    <a:pt x="7138" y="0"/>
                  </a:lnTo>
                  <a:lnTo>
                    <a:pt x="7138" y="16"/>
                  </a:lnTo>
                  <a:lnTo>
                    <a:pt x="7090" y="16"/>
                  </a:lnTo>
                  <a:lnTo>
                    <a:pt x="7090" y="0"/>
                  </a:lnTo>
                  <a:close/>
                  <a:moveTo>
                    <a:pt x="7154" y="0"/>
                  </a:moveTo>
                  <a:lnTo>
                    <a:pt x="7202" y="0"/>
                  </a:lnTo>
                  <a:lnTo>
                    <a:pt x="7202" y="16"/>
                  </a:lnTo>
                  <a:lnTo>
                    <a:pt x="7154" y="16"/>
                  </a:lnTo>
                  <a:lnTo>
                    <a:pt x="7154" y="0"/>
                  </a:lnTo>
                  <a:close/>
                  <a:moveTo>
                    <a:pt x="7218" y="0"/>
                  </a:moveTo>
                  <a:lnTo>
                    <a:pt x="7266" y="0"/>
                  </a:lnTo>
                  <a:lnTo>
                    <a:pt x="7266" y="16"/>
                  </a:lnTo>
                  <a:lnTo>
                    <a:pt x="7218" y="16"/>
                  </a:lnTo>
                  <a:lnTo>
                    <a:pt x="7218" y="0"/>
                  </a:lnTo>
                  <a:close/>
                  <a:moveTo>
                    <a:pt x="7282" y="0"/>
                  </a:moveTo>
                  <a:lnTo>
                    <a:pt x="7330" y="0"/>
                  </a:lnTo>
                  <a:lnTo>
                    <a:pt x="7330" y="16"/>
                  </a:lnTo>
                  <a:lnTo>
                    <a:pt x="7282" y="16"/>
                  </a:lnTo>
                  <a:lnTo>
                    <a:pt x="7282" y="0"/>
                  </a:lnTo>
                  <a:close/>
                  <a:moveTo>
                    <a:pt x="7346" y="0"/>
                  </a:moveTo>
                  <a:lnTo>
                    <a:pt x="7394" y="0"/>
                  </a:lnTo>
                  <a:lnTo>
                    <a:pt x="7394" y="16"/>
                  </a:lnTo>
                  <a:lnTo>
                    <a:pt x="7346" y="16"/>
                  </a:lnTo>
                  <a:lnTo>
                    <a:pt x="7346" y="0"/>
                  </a:lnTo>
                  <a:close/>
                  <a:moveTo>
                    <a:pt x="7410" y="0"/>
                  </a:moveTo>
                  <a:lnTo>
                    <a:pt x="7459" y="0"/>
                  </a:lnTo>
                  <a:lnTo>
                    <a:pt x="7459" y="16"/>
                  </a:lnTo>
                  <a:lnTo>
                    <a:pt x="7410" y="16"/>
                  </a:lnTo>
                  <a:lnTo>
                    <a:pt x="7410" y="0"/>
                  </a:lnTo>
                  <a:close/>
                  <a:moveTo>
                    <a:pt x="7475" y="0"/>
                  </a:moveTo>
                  <a:lnTo>
                    <a:pt x="7523" y="0"/>
                  </a:lnTo>
                  <a:lnTo>
                    <a:pt x="7523" y="16"/>
                  </a:lnTo>
                  <a:lnTo>
                    <a:pt x="7475" y="16"/>
                  </a:lnTo>
                  <a:lnTo>
                    <a:pt x="7475" y="0"/>
                  </a:lnTo>
                  <a:close/>
                  <a:moveTo>
                    <a:pt x="7539" y="0"/>
                  </a:moveTo>
                  <a:lnTo>
                    <a:pt x="7587" y="0"/>
                  </a:lnTo>
                  <a:lnTo>
                    <a:pt x="7587" y="16"/>
                  </a:lnTo>
                  <a:lnTo>
                    <a:pt x="7539" y="16"/>
                  </a:lnTo>
                  <a:lnTo>
                    <a:pt x="7539" y="0"/>
                  </a:lnTo>
                  <a:close/>
                  <a:moveTo>
                    <a:pt x="7603" y="0"/>
                  </a:moveTo>
                  <a:lnTo>
                    <a:pt x="7651" y="0"/>
                  </a:lnTo>
                  <a:lnTo>
                    <a:pt x="7651" y="16"/>
                  </a:lnTo>
                  <a:lnTo>
                    <a:pt x="7603" y="16"/>
                  </a:lnTo>
                  <a:lnTo>
                    <a:pt x="7603" y="0"/>
                  </a:lnTo>
                  <a:close/>
                  <a:moveTo>
                    <a:pt x="7667" y="0"/>
                  </a:moveTo>
                  <a:lnTo>
                    <a:pt x="7715" y="0"/>
                  </a:lnTo>
                  <a:lnTo>
                    <a:pt x="7715" y="16"/>
                  </a:lnTo>
                  <a:lnTo>
                    <a:pt x="7667" y="16"/>
                  </a:lnTo>
                  <a:lnTo>
                    <a:pt x="7667" y="0"/>
                  </a:lnTo>
                  <a:close/>
                  <a:moveTo>
                    <a:pt x="7731" y="0"/>
                  </a:moveTo>
                  <a:lnTo>
                    <a:pt x="7779" y="0"/>
                  </a:lnTo>
                  <a:lnTo>
                    <a:pt x="7779" y="16"/>
                  </a:lnTo>
                  <a:lnTo>
                    <a:pt x="7731" y="16"/>
                  </a:lnTo>
                  <a:lnTo>
                    <a:pt x="7731" y="0"/>
                  </a:lnTo>
                  <a:close/>
                  <a:moveTo>
                    <a:pt x="7795" y="0"/>
                  </a:moveTo>
                  <a:lnTo>
                    <a:pt x="7843" y="0"/>
                  </a:lnTo>
                  <a:lnTo>
                    <a:pt x="7843" y="16"/>
                  </a:lnTo>
                  <a:lnTo>
                    <a:pt x="7795" y="16"/>
                  </a:lnTo>
                  <a:lnTo>
                    <a:pt x="7795" y="0"/>
                  </a:lnTo>
                  <a:close/>
                  <a:moveTo>
                    <a:pt x="7859" y="0"/>
                  </a:moveTo>
                  <a:lnTo>
                    <a:pt x="7907" y="0"/>
                  </a:lnTo>
                  <a:lnTo>
                    <a:pt x="7907" y="16"/>
                  </a:lnTo>
                  <a:lnTo>
                    <a:pt x="7859" y="16"/>
                  </a:lnTo>
                  <a:lnTo>
                    <a:pt x="7859" y="0"/>
                  </a:lnTo>
                  <a:close/>
                  <a:moveTo>
                    <a:pt x="7923" y="0"/>
                  </a:moveTo>
                  <a:lnTo>
                    <a:pt x="7971" y="0"/>
                  </a:lnTo>
                  <a:lnTo>
                    <a:pt x="7971" y="16"/>
                  </a:lnTo>
                  <a:lnTo>
                    <a:pt x="7923" y="16"/>
                  </a:lnTo>
                  <a:lnTo>
                    <a:pt x="7923" y="0"/>
                  </a:lnTo>
                  <a:close/>
                  <a:moveTo>
                    <a:pt x="7987" y="0"/>
                  </a:moveTo>
                  <a:lnTo>
                    <a:pt x="8035" y="0"/>
                  </a:lnTo>
                  <a:lnTo>
                    <a:pt x="8035" y="16"/>
                  </a:lnTo>
                  <a:lnTo>
                    <a:pt x="7987" y="16"/>
                  </a:lnTo>
                  <a:lnTo>
                    <a:pt x="7987" y="0"/>
                  </a:lnTo>
                  <a:close/>
                  <a:moveTo>
                    <a:pt x="8051" y="0"/>
                  </a:moveTo>
                  <a:lnTo>
                    <a:pt x="8099" y="0"/>
                  </a:lnTo>
                  <a:lnTo>
                    <a:pt x="8099" y="16"/>
                  </a:lnTo>
                  <a:lnTo>
                    <a:pt x="8051" y="16"/>
                  </a:lnTo>
                  <a:lnTo>
                    <a:pt x="8051" y="0"/>
                  </a:lnTo>
                  <a:close/>
                  <a:moveTo>
                    <a:pt x="8115" y="0"/>
                  </a:moveTo>
                  <a:lnTo>
                    <a:pt x="8163" y="0"/>
                  </a:lnTo>
                  <a:lnTo>
                    <a:pt x="8163" y="16"/>
                  </a:lnTo>
                  <a:lnTo>
                    <a:pt x="8115" y="16"/>
                  </a:lnTo>
                  <a:lnTo>
                    <a:pt x="8115" y="0"/>
                  </a:lnTo>
                  <a:close/>
                  <a:moveTo>
                    <a:pt x="8179" y="0"/>
                  </a:moveTo>
                  <a:lnTo>
                    <a:pt x="8227" y="0"/>
                  </a:lnTo>
                  <a:lnTo>
                    <a:pt x="8227" y="16"/>
                  </a:lnTo>
                  <a:lnTo>
                    <a:pt x="8179" y="16"/>
                  </a:lnTo>
                  <a:lnTo>
                    <a:pt x="8179" y="0"/>
                  </a:lnTo>
                  <a:close/>
                  <a:moveTo>
                    <a:pt x="8243" y="0"/>
                  </a:moveTo>
                  <a:lnTo>
                    <a:pt x="8291" y="0"/>
                  </a:lnTo>
                  <a:lnTo>
                    <a:pt x="8291" y="16"/>
                  </a:lnTo>
                  <a:lnTo>
                    <a:pt x="8243" y="16"/>
                  </a:lnTo>
                  <a:lnTo>
                    <a:pt x="8243" y="0"/>
                  </a:lnTo>
                  <a:close/>
                  <a:moveTo>
                    <a:pt x="8307" y="0"/>
                  </a:moveTo>
                  <a:lnTo>
                    <a:pt x="8355" y="0"/>
                  </a:lnTo>
                  <a:lnTo>
                    <a:pt x="8355" y="16"/>
                  </a:lnTo>
                  <a:lnTo>
                    <a:pt x="8307" y="16"/>
                  </a:lnTo>
                  <a:lnTo>
                    <a:pt x="8307" y="0"/>
                  </a:lnTo>
                  <a:close/>
                  <a:moveTo>
                    <a:pt x="8371" y="0"/>
                  </a:moveTo>
                  <a:lnTo>
                    <a:pt x="8420" y="0"/>
                  </a:lnTo>
                  <a:lnTo>
                    <a:pt x="8420" y="16"/>
                  </a:lnTo>
                  <a:lnTo>
                    <a:pt x="8371" y="16"/>
                  </a:lnTo>
                  <a:lnTo>
                    <a:pt x="8371" y="0"/>
                  </a:lnTo>
                  <a:close/>
                  <a:moveTo>
                    <a:pt x="8436" y="0"/>
                  </a:moveTo>
                  <a:lnTo>
                    <a:pt x="8484" y="0"/>
                  </a:lnTo>
                  <a:lnTo>
                    <a:pt x="8484" y="16"/>
                  </a:lnTo>
                  <a:lnTo>
                    <a:pt x="8436" y="16"/>
                  </a:lnTo>
                  <a:lnTo>
                    <a:pt x="8436" y="0"/>
                  </a:lnTo>
                  <a:close/>
                  <a:moveTo>
                    <a:pt x="8500" y="0"/>
                  </a:moveTo>
                  <a:lnTo>
                    <a:pt x="8548" y="0"/>
                  </a:lnTo>
                  <a:lnTo>
                    <a:pt x="8548" y="16"/>
                  </a:lnTo>
                  <a:lnTo>
                    <a:pt x="8500" y="16"/>
                  </a:lnTo>
                  <a:lnTo>
                    <a:pt x="8500" y="0"/>
                  </a:lnTo>
                  <a:close/>
                  <a:moveTo>
                    <a:pt x="8564" y="0"/>
                  </a:moveTo>
                  <a:lnTo>
                    <a:pt x="8612" y="0"/>
                  </a:lnTo>
                  <a:lnTo>
                    <a:pt x="8612" y="16"/>
                  </a:lnTo>
                  <a:lnTo>
                    <a:pt x="8564" y="16"/>
                  </a:lnTo>
                  <a:lnTo>
                    <a:pt x="8564" y="0"/>
                  </a:lnTo>
                  <a:close/>
                  <a:moveTo>
                    <a:pt x="8628" y="0"/>
                  </a:moveTo>
                  <a:lnTo>
                    <a:pt x="8676" y="0"/>
                  </a:lnTo>
                  <a:lnTo>
                    <a:pt x="8676" y="16"/>
                  </a:lnTo>
                  <a:lnTo>
                    <a:pt x="8628" y="16"/>
                  </a:lnTo>
                  <a:lnTo>
                    <a:pt x="8628" y="0"/>
                  </a:lnTo>
                  <a:close/>
                  <a:moveTo>
                    <a:pt x="8692" y="0"/>
                  </a:moveTo>
                  <a:lnTo>
                    <a:pt x="8740" y="0"/>
                  </a:lnTo>
                  <a:lnTo>
                    <a:pt x="8740" y="16"/>
                  </a:lnTo>
                  <a:lnTo>
                    <a:pt x="8692" y="16"/>
                  </a:lnTo>
                  <a:lnTo>
                    <a:pt x="8692" y="0"/>
                  </a:lnTo>
                  <a:close/>
                  <a:moveTo>
                    <a:pt x="8756" y="0"/>
                  </a:moveTo>
                  <a:lnTo>
                    <a:pt x="8804" y="0"/>
                  </a:lnTo>
                  <a:lnTo>
                    <a:pt x="8804" y="16"/>
                  </a:lnTo>
                  <a:lnTo>
                    <a:pt x="8756" y="16"/>
                  </a:lnTo>
                  <a:lnTo>
                    <a:pt x="8756" y="0"/>
                  </a:lnTo>
                  <a:close/>
                  <a:moveTo>
                    <a:pt x="8820" y="0"/>
                  </a:moveTo>
                  <a:lnTo>
                    <a:pt x="8868" y="0"/>
                  </a:lnTo>
                  <a:lnTo>
                    <a:pt x="8868" y="16"/>
                  </a:lnTo>
                  <a:lnTo>
                    <a:pt x="8820" y="16"/>
                  </a:lnTo>
                  <a:lnTo>
                    <a:pt x="8820" y="0"/>
                  </a:lnTo>
                  <a:close/>
                  <a:moveTo>
                    <a:pt x="8884" y="0"/>
                  </a:moveTo>
                  <a:lnTo>
                    <a:pt x="8932" y="0"/>
                  </a:lnTo>
                  <a:lnTo>
                    <a:pt x="8932" y="16"/>
                  </a:lnTo>
                  <a:lnTo>
                    <a:pt x="8884" y="16"/>
                  </a:lnTo>
                  <a:lnTo>
                    <a:pt x="8884" y="0"/>
                  </a:lnTo>
                  <a:close/>
                  <a:moveTo>
                    <a:pt x="8948" y="0"/>
                  </a:moveTo>
                  <a:lnTo>
                    <a:pt x="8996" y="0"/>
                  </a:lnTo>
                  <a:lnTo>
                    <a:pt x="8996" y="16"/>
                  </a:lnTo>
                  <a:lnTo>
                    <a:pt x="8948" y="16"/>
                  </a:lnTo>
                  <a:lnTo>
                    <a:pt x="8948" y="0"/>
                  </a:lnTo>
                  <a:close/>
                  <a:moveTo>
                    <a:pt x="9012" y="0"/>
                  </a:moveTo>
                  <a:lnTo>
                    <a:pt x="9060" y="0"/>
                  </a:lnTo>
                  <a:lnTo>
                    <a:pt x="9060" y="16"/>
                  </a:lnTo>
                  <a:lnTo>
                    <a:pt x="9012" y="16"/>
                  </a:lnTo>
                  <a:lnTo>
                    <a:pt x="9012" y="0"/>
                  </a:lnTo>
                  <a:close/>
                  <a:moveTo>
                    <a:pt x="9076" y="0"/>
                  </a:moveTo>
                  <a:lnTo>
                    <a:pt x="9124" y="0"/>
                  </a:lnTo>
                  <a:lnTo>
                    <a:pt x="9124" y="16"/>
                  </a:lnTo>
                  <a:lnTo>
                    <a:pt x="9076" y="16"/>
                  </a:lnTo>
                  <a:lnTo>
                    <a:pt x="9076" y="0"/>
                  </a:lnTo>
                  <a:close/>
                  <a:moveTo>
                    <a:pt x="9140" y="0"/>
                  </a:moveTo>
                  <a:lnTo>
                    <a:pt x="9188" y="0"/>
                  </a:lnTo>
                  <a:lnTo>
                    <a:pt x="9188" y="16"/>
                  </a:lnTo>
                  <a:lnTo>
                    <a:pt x="9140" y="16"/>
                  </a:lnTo>
                  <a:lnTo>
                    <a:pt x="9140" y="0"/>
                  </a:lnTo>
                  <a:close/>
                  <a:moveTo>
                    <a:pt x="9204" y="0"/>
                  </a:moveTo>
                  <a:lnTo>
                    <a:pt x="9252" y="0"/>
                  </a:lnTo>
                  <a:lnTo>
                    <a:pt x="9252" y="16"/>
                  </a:lnTo>
                  <a:lnTo>
                    <a:pt x="9204" y="16"/>
                  </a:lnTo>
                  <a:lnTo>
                    <a:pt x="9204" y="0"/>
                  </a:lnTo>
                  <a:close/>
                  <a:moveTo>
                    <a:pt x="9268" y="0"/>
                  </a:moveTo>
                  <a:lnTo>
                    <a:pt x="9316" y="0"/>
                  </a:lnTo>
                  <a:lnTo>
                    <a:pt x="9316" y="16"/>
                  </a:lnTo>
                  <a:lnTo>
                    <a:pt x="9268" y="16"/>
                  </a:lnTo>
                  <a:lnTo>
                    <a:pt x="9268" y="0"/>
                  </a:lnTo>
                  <a:close/>
                  <a:moveTo>
                    <a:pt x="9332" y="0"/>
                  </a:moveTo>
                  <a:lnTo>
                    <a:pt x="9380" y="0"/>
                  </a:lnTo>
                  <a:lnTo>
                    <a:pt x="9380" y="16"/>
                  </a:lnTo>
                  <a:lnTo>
                    <a:pt x="9332" y="16"/>
                  </a:lnTo>
                  <a:lnTo>
                    <a:pt x="9332" y="0"/>
                  </a:lnTo>
                  <a:close/>
                  <a:moveTo>
                    <a:pt x="9396" y="0"/>
                  </a:moveTo>
                  <a:lnTo>
                    <a:pt x="9445" y="0"/>
                  </a:lnTo>
                  <a:lnTo>
                    <a:pt x="9445" y="16"/>
                  </a:lnTo>
                  <a:lnTo>
                    <a:pt x="9396" y="16"/>
                  </a:lnTo>
                  <a:lnTo>
                    <a:pt x="9396" y="0"/>
                  </a:lnTo>
                  <a:close/>
                  <a:moveTo>
                    <a:pt x="9461" y="0"/>
                  </a:moveTo>
                  <a:lnTo>
                    <a:pt x="9509" y="0"/>
                  </a:lnTo>
                  <a:lnTo>
                    <a:pt x="9509" y="16"/>
                  </a:lnTo>
                  <a:lnTo>
                    <a:pt x="9461" y="16"/>
                  </a:lnTo>
                  <a:lnTo>
                    <a:pt x="9461" y="0"/>
                  </a:lnTo>
                  <a:close/>
                  <a:moveTo>
                    <a:pt x="9525" y="0"/>
                  </a:moveTo>
                  <a:lnTo>
                    <a:pt x="9573" y="0"/>
                  </a:lnTo>
                  <a:lnTo>
                    <a:pt x="9573" y="16"/>
                  </a:lnTo>
                  <a:lnTo>
                    <a:pt x="9525" y="16"/>
                  </a:lnTo>
                  <a:lnTo>
                    <a:pt x="9525" y="0"/>
                  </a:lnTo>
                  <a:close/>
                  <a:moveTo>
                    <a:pt x="9589" y="0"/>
                  </a:moveTo>
                  <a:lnTo>
                    <a:pt x="9637" y="0"/>
                  </a:lnTo>
                  <a:lnTo>
                    <a:pt x="9637" y="16"/>
                  </a:lnTo>
                  <a:lnTo>
                    <a:pt x="9589" y="16"/>
                  </a:lnTo>
                  <a:lnTo>
                    <a:pt x="9589" y="0"/>
                  </a:lnTo>
                  <a:close/>
                  <a:moveTo>
                    <a:pt x="9653" y="0"/>
                  </a:moveTo>
                  <a:lnTo>
                    <a:pt x="9701" y="0"/>
                  </a:lnTo>
                  <a:lnTo>
                    <a:pt x="9701" y="16"/>
                  </a:lnTo>
                  <a:lnTo>
                    <a:pt x="9653" y="16"/>
                  </a:lnTo>
                  <a:lnTo>
                    <a:pt x="9653" y="0"/>
                  </a:lnTo>
                  <a:close/>
                  <a:moveTo>
                    <a:pt x="9717" y="0"/>
                  </a:moveTo>
                  <a:lnTo>
                    <a:pt x="9765" y="0"/>
                  </a:lnTo>
                  <a:lnTo>
                    <a:pt x="9765" y="16"/>
                  </a:lnTo>
                  <a:lnTo>
                    <a:pt x="9717" y="16"/>
                  </a:lnTo>
                  <a:lnTo>
                    <a:pt x="9717" y="0"/>
                  </a:lnTo>
                  <a:close/>
                  <a:moveTo>
                    <a:pt x="9781" y="0"/>
                  </a:moveTo>
                  <a:lnTo>
                    <a:pt x="9829" y="0"/>
                  </a:lnTo>
                  <a:lnTo>
                    <a:pt x="9829" y="16"/>
                  </a:lnTo>
                  <a:lnTo>
                    <a:pt x="9781" y="16"/>
                  </a:lnTo>
                  <a:lnTo>
                    <a:pt x="9781" y="0"/>
                  </a:lnTo>
                  <a:close/>
                  <a:moveTo>
                    <a:pt x="9845" y="0"/>
                  </a:moveTo>
                  <a:lnTo>
                    <a:pt x="9893" y="0"/>
                  </a:lnTo>
                  <a:lnTo>
                    <a:pt x="9893" y="16"/>
                  </a:lnTo>
                  <a:lnTo>
                    <a:pt x="9845" y="16"/>
                  </a:lnTo>
                  <a:lnTo>
                    <a:pt x="9845" y="0"/>
                  </a:lnTo>
                  <a:close/>
                  <a:moveTo>
                    <a:pt x="9909" y="0"/>
                  </a:moveTo>
                  <a:lnTo>
                    <a:pt x="9957" y="0"/>
                  </a:lnTo>
                  <a:lnTo>
                    <a:pt x="9957" y="16"/>
                  </a:lnTo>
                  <a:lnTo>
                    <a:pt x="9909" y="16"/>
                  </a:lnTo>
                  <a:lnTo>
                    <a:pt x="9909" y="0"/>
                  </a:lnTo>
                  <a:close/>
                  <a:moveTo>
                    <a:pt x="9973" y="0"/>
                  </a:moveTo>
                  <a:lnTo>
                    <a:pt x="10021" y="0"/>
                  </a:lnTo>
                  <a:lnTo>
                    <a:pt x="10021" y="16"/>
                  </a:lnTo>
                  <a:lnTo>
                    <a:pt x="9973" y="16"/>
                  </a:lnTo>
                  <a:lnTo>
                    <a:pt x="9973" y="0"/>
                  </a:lnTo>
                  <a:close/>
                  <a:moveTo>
                    <a:pt x="10037" y="0"/>
                  </a:moveTo>
                  <a:lnTo>
                    <a:pt x="10085" y="0"/>
                  </a:lnTo>
                  <a:lnTo>
                    <a:pt x="10085" y="16"/>
                  </a:lnTo>
                  <a:lnTo>
                    <a:pt x="10037" y="16"/>
                  </a:lnTo>
                  <a:lnTo>
                    <a:pt x="10037" y="0"/>
                  </a:lnTo>
                  <a:close/>
                  <a:moveTo>
                    <a:pt x="10101" y="0"/>
                  </a:moveTo>
                  <a:lnTo>
                    <a:pt x="10149" y="0"/>
                  </a:lnTo>
                  <a:lnTo>
                    <a:pt x="10149" y="16"/>
                  </a:lnTo>
                  <a:lnTo>
                    <a:pt x="10101" y="16"/>
                  </a:lnTo>
                  <a:lnTo>
                    <a:pt x="10101" y="0"/>
                  </a:lnTo>
                  <a:close/>
                  <a:moveTo>
                    <a:pt x="10165" y="0"/>
                  </a:moveTo>
                  <a:lnTo>
                    <a:pt x="10213" y="0"/>
                  </a:lnTo>
                  <a:lnTo>
                    <a:pt x="10213" y="16"/>
                  </a:lnTo>
                  <a:lnTo>
                    <a:pt x="10165" y="16"/>
                  </a:lnTo>
                  <a:lnTo>
                    <a:pt x="10165" y="0"/>
                  </a:lnTo>
                  <a:close/>
                  <a:moveTo>
                    <a:pt x="10229" y="0"/>
                  </a:moveTo>
                  <a:lnTo>
                    <a:pt x="10277" y="0"/>
                  </a:lnTo>
                  <a:lnTo>
                    <a:pt x="10277" y="16"/>
                  </a:lnTo>
                  <a:lnTo>
                    <a:pt x="10229" y="16"/>
                  </a:lnTo>
                  <a:lnTo>
                    <a:pt x="10229" y="0"/>
                  </a:lnTo>
                  <a:close/>
                  <a:moveTo>
                    <a:pt x="10293" y="0"/>
                  </a:moveTo>
                  <a:lnTo>
                    <a:pt x="10341" y="0"/>
                  </a:lnTo>
                  <a:lnTo>
                    <a:pt x="10341" y="16"/>
                  </a:lnTo>
                  <a:lnTo>
                    <a:pt x="10293" y="16"/>
                  </a:lnTo>
                  <a:lnTo>
                    <a:pt x="10293" y="0"/>
                  </a:lnTo>
                  <a:close/>
                  <a:moveTo>
                    <a:pt x="10357" y="0"/>
                  </a:moveTo>
                  <a:lnTo>
                    <a:pt x="10406" y="0"/>
                  </a:lnTo>
                  <a:lnTo>
                    <a:pt x="10406" y="16"/>
                  </a:lnTo>
                  <a:lnTo>
                    <a:pt x="10357" y="16"/>
                  </a:lnTo>
                  <a:lnTo>
                    <a:pt x="10357" y="0"/>
                  </a:lnTo>
                  <a:close/>
                  <a:moveTo>
                    <a:pt x="10422" y="0"/>
                  </a:moveTo>
                  <a:lnTo>
                    <a:pt x="10470" y="0"/>
                  </a:lnTo>
                  <a:lnTo>
                    <a:pt x="10470" y="16"/>
                  </a:lnTo>
                  <a:lnTo>
                    <a:pt x="10422" y="16"/>
                  </a:lnTo>
                  <a:lnTo>
                    <a:pt x="10422" y="0"/>
                  </a:lnTo>
                  <a:close/>
                  <a:moveTo>
                    <a:pt x="10486" y="0"/>
                  </a:moveTo>
                  <a:lnTo>
                    <a:pt x="10534" y="0"/>
                  </a:lnTo>
                  <a:lnTo>
                    <a:pt x="10534" y="16"/>
                  </a:lnTo>
                  <a:lnTo>
                    <a:pt x="10486" y="16"/>
                  </a:lnTo>
                  <a:lnTo>
                    <a:pt x="10486" y="0"/>
                  </a:lnTo>
                  <a:close/>
                  <a:moveTo>
                    <a:pt x="10550" y="0"/>
                  </a:moveTo>
                  <a:lnTo>
                    <a:pt x="10598" y="0"/>
                  </a:lnTo>
                  <a:lnTo>
                    <a:pt x="10598" y="16"/>
                  </a:lnTo>
                  <a:lnTo>
                    <a:pt x="10550" y="16"/>
                  </a:lnTo>
                  <a:lnTo>
                    <a:pt x="10550" y="0"/>
                  </a:lnTo>
                  <a:close/>
                  <a:moveTo>
                    <a:pt x="10614" y="0"/>
                  </a:moveTo>
                  <a:lnTo>
                    <a:pt x="10662" y="0"/>
                  </a:lnTo>
                  <a:lnTo>
                    <a:pt x="10662" y="16"/>
                  </a:lnTo>
                  <a:lnTo>
                    <a:pt x="10614" y="16"/>
                  </a:lnTo>
                  <a:lnTo>
                    <a:pt x="10614" y="0"/>
                  </a:lnTo>
                  <a:close/>
                  <a:moveTo>
                    <a:pt x="10678" y="0"/>
                  </a:moveTo>
                  <a:lnTo>
                    <a:pt x="10726" y="0"/>
                  </a:lnTo>
                  <a:lnTo>
                    <a:pt x="10726" y="16"/>
                  </a:lnTo>
                  <a:lnTo>
                    <a:pt x="10678" y="16"/>
                  </a:lnTo>
                  <a:lnTo>
                    <a:pt x="10678" y="0"/>
                  </a:lnTo>
                  <a:close/>
                  <a:moveTo>
                    <a:pt x="10742" y="0"/>
                  </a:moveTo>
                  <a:lnTo>
                    <a:pt x="10790" y="0"/>
                  </a:lnTo>
                  <a:lnTo>
                    <a:pt x="10790" y="16"/>
                  </a:lnTo>
                  <a:lnTo>
                    <a:pt x="10742" y="16"/>
                  </a:lnTo>
                  <a:lnTo>
                    <a:pt x="10742" y="0"/>
                  </a:lnTo>
                  <a:close/>
                  <a:moveTo>
                    <a:pt x="10806" y="0"/>
                  </a:moveTo>
                  <a:lnTo>
                    <a:pt x="10854" y="0"/>
                  </a:lnTo>
                  <a:lnTo>
                    <a:pt x="10854" y="16"/>
                  </a:lnTo>
                  <a:lnTo>
                    <a:pt x="10806" y="16"/>
                  </a:lnTo>
                  <a:lnTo>
                    <a:pt x="10806" y="0"/>
                  </a:lnTo>
                  <a:close/>
                  <a:moveTo>
                    <a:pt x="10870" y="0"/>
                  </a:moveTo>
                  <a:lnTo>
                    <a:pt x="10918" y="0"/>
                  </a:lnTo>
                  <a:lnTo>
                    <a:pt x="10918" y="16"/>
                  </a:lnTo>
                  <a:lnTo>
                    <a:pt x="10870" y="16"/>
                  </a:lnTo>
                  <a:lnTo>
                    <a:pt x="10870" y="0"/>
                  </a:lnTo>
                  <a:close/>
                  <a:moveTo>
                    <a:pt x="10934" y="0"/>
                  </a:moveTo>
                  <a:lnTo>
                    <a:pt x="10982" y="0"/>
                  </a:lnTo>
                  <a:lnTo>
                    <a:pt x="10982" y="16"/>
                  </a:lnTo>
                  <a:lnTo>
                    <a:pt x="10934" y="16"/>
                  </a:lnTo>
                  <a:lnTo>
                    <a:pt x="10934" y="0"/>
                  </a:lnTo>
                  <a:close/>
                  <a:moveTo>
                    <a:pt x="10998" y="0"/>
                  </a:moveTo>
                  <a:lnTo>
                    <a:pt x="11046" y="0"/>
                  </a:lnTo>
                  <a:lnTo>
                    <a:pt x="11046" y="16"/>
                  </a:lnTo>
                  <a:lnTo>
                    <a:pt x="10998" y="16"/>
                  </a:lnTo>
                  <a:lnTo>
                    <a:pt x="10998" y="0"/>
                  </a:lnTo>
                  <a:close/>
                  <a:moveTo>
                    <a:pt x="11062" y="0"/>
                  </a:moveTo>
                  <a:lnTo>
                    <a:pt x="11110" y="0"/>
                  </a:lnTo>
                  <a:lnTo>
                    <a:pt x="11110" y="16"/>
                  </a:lnTo>
                  <a:lnTo>
                    <a:pt x="11062" y="16"/>
                  </a:lnTo>
                  <a:lnTo>
                    <a:pt x="11062" y="0"/>
                  </a:lnTo>
                  <a:close/>
                  <a:moveTo>
                    <a:pt x="11126" y="0"/>
                  </a:moveTo>
                  <a:lnTo>
                    <a:pt x="11174" y="0"/>
                  </a:lnTo>
                  <a:lnTo>
                    <a:pt x="11174" y="16"/>
                  </a:lnTo>
                  <a:lnTo>
                    <a:pt x="11126" y="16"/>
                  </a:lnTo>
                  <a:lnTo>
                    <a:pt x="11126" y="0"/>
                  </a:lnTo>
                  <a:close/>
                  <a:moveTo>
                    <a:pt x="11190" y="0"/>
                  </a:moveTo>
                  <a:lnTo>
                    <a:pt x="11238" y="0"/>
                  </a:lnTo>
                  <a:lnTo>
                    <a:pt x="11238" y="16"/>
                  </a:lnTo>
                  <a:lnTo>
                    <a:pt x="11190" y="16"/>
                  </a:lnTo>
                  <a:lnTo>
                    <a:pt x="11190" y="0"/>
                  </a:lnTo>
                  <a:close/>
                  <a:moveTo>
                    <a:pt x="11254" y="0"/>
                  </a:moveTo>
                  <a:lnTo>
                    <a:pt x="11302" y="0"/>
                  </a:lnTo>
                  <a:lnTo>
                    <a:pt x="11302" y="16"/>
                  </a:lnTo>
                  <a:lnTo>
                    <a:pt x="11254" y="16"/>
                  </a:lnTo>
                  <a:lnTo>
                    <a:pt x="11254" y="0"/>
                  </a:lnTo>
                  <a:close/>
                  <a:moveTo>
                    <a:pt x="11319" y="0"/>
                  </a:moveTo>
                  <a:lnTo>
                    <a:pt x="11367" y="0"/>
                  </a:lnTo>
                  <a:lnTo>
                    <a:pt x="11367" y="16"/>
                  </a:lnTo>
                  <a:lnTo>
                    <a:pt x="11319" y="16"/>
                  </a:lnTo>
                  <a:lnTo>
                    <a:pt x="11319" y="0"/>
                  </a:lnTo>
                  <a:close/>
                  <a:moveTo>
                    <a:pt x="11383" y="0"/>
                  </a:moveTo>
                  <a:lnTo>
                    <a:pt x="11431" y="0"/>
                  </a:lnTo>
                  <a:lnTo>
                    <a:pt x="11431" y="16"/>
                  </a:lnTo>
                  <a:lnTo>
                    <a:pt x="11383" y="16"/>
                  </a:lnTo>
                  <a:lnTo>
                    <a:pt x="11383" y="0"/>
                  </a:lnTo>
                  <a:close/>
                  <a:moveTo>
                    <a:pt x="11447" y="0"/>
                  </a:moveTo>
                  <a:lnTo>
                    <a:pt x="11495" y="0"/>
                  </a:lnTo>
                  <a:lnTo>
                    <a:pt x="11495" y="16"/>
                  </a:lnTo>
                  <a:lnTo>
                    <a:pt x="11447" y="16"/>
                  </a:lnTo>
                  <a:lnTo>
                    <a:pt x="11447" y="0"/>
                  </a:lnTo>
                  <a:close/>
                  <a:moveTo>
                    <a:pt x="11511" y="0"/>
                  </a:moveTo>
                  <a:lnTo>
                    <a:pt x="11559" y="0"/>
                  </a:lnTo>
                  <a:lnTo>
                    <a:pt x="11559" y="16"/>
                  </a:lnTo>
                  <a:lnTo>
                    <a:pt x="11511" y="16"/>
                  </a:lnTo>
                  <a:lnTo>
                    <a:pt x="11511" y="0"/>
                  </a:lnTo>
                  <a:close/>
                  <a:moveTo>
                    <a:pt x="11575" y="0"/>
                  </a:moveTo>
                  <a:lnTo>
                    <a:pt x="11623" y="0"/>
                  </a:lnTo>
                  <a:lnTo>
                    <a:pt x="11623" y="16"/>
                  </a:lnTo>
                  <a:lnTo>
                    <a:pt x="11575" y="16"/>
                  </a:lnTo>
                  <a:lnTo>
                    <a:pt x="11575" y="0"/>
                  </a:lnTo>
                  <a:close/>
                  <a:moveTo>
                    <a:pt x="11639" y="0"/>
                  </a:moveTo>
                  <a:lnTo>
                    <a:pt x="11687" y="0"/>
                  </a:lnTo>
                  <a:lnTo>
                    <a:pt x="11687" y="16"/>
                  </a:lnTo>
                  <a:lnTo>
                    <a:pt x="11639" y="16"/>
                  </a:lnTo>
                  <a:lnTo>
                    <a:pt x="11639" y="0"/>
                  </a:lnTo>
                  <a:close/>
                  <a:moveTo>
                    <a:pt x="11704" y="1"/>
                  </a:moveTo>
                  <a:lnTo>
                    <a:pt x="11752" y="5"/>
                  </a:lnTo>
                  <a:lnTo>
                    <a:pt x="11750" y="21"/>
                  </a:lnTo>
                  <a:lnTo>
                    <a:pt x="11702" y="16"/>
                  </a:lnTo>
                  <a:lnTo>
                    <a:pt x="11704" y="1"/>
                  </a:lnTo>
                  <a:close/>
                  <a:moveTo>
                    <a:pt x="11769" y="9"/>
                  </a:moveTo>
                  <a:lnTo>
                    <a:pt x="11806" y="21"/>
                  </a:lnTo>
                  <a:cubicBezTo>
                    <a:pt x="11806" y="21"/>
                    <a:pt x="11807" y="21"/>
                    <a:pt x="11807" y="21"/>
                  </a:cubicBezTo>
                  <a:lnTo>
                    <a:pt x="11815" y="26"/>
                  </a:lnTo>
                  <a:lnTo>
                    <a:pt x="11807" y="40"/>
                  </a:lnTo>
                  <a:lnTo>
                    <a:pt x="11800" y="35"/>
                  </a:lnTo>
                  <a:lnTo>
                    <a:pt x="11801" y="36"/>
                  </a:lnTo>
                  <a:lnTo>
                    <a:pt x="11764" y="25"/>
                  </a:lnTo>
                  <a:lnTo>
                    <a:pt x="11769" y="9"/>
                  </a:lnTo>
                  <a:close/>
                  <a:moveTo>
                    <a:pt x="11829" y="34"/>
                  </a:moveTo>
                  <a:lnTo>
                    <a:pt x="11850" y="45"/>
                  </a:lnTo>
                  <a:cubicBezTo>
                    <a:pt x="11851" y="46"/>
                    <a:pt x="11851" y="46"/>
                    <a:pt x="11852" y="46"/>
                  </a:cubicBezTo>
                  <a:lnTo>
                    <a:pt x="11870" y="61"/>
                  </a:lnTo>
                  <a:lnTo>
                    <a:pt x="11860" y="74"/>
                  </a:lnTo>
                  <a:lnTo>
                    <a:pt x="11841" y="59"/>
                  </a:lnTo>
                  <a:lnTo>
                    <a:pt x="11843" y="59"/>
                  </a:lnTo>
                  <a:lnTo>
                    <a:pt x="11821" y="48"/>
                  </a:lnTo>
                  <a:lnTo>
                    <a:pt x="11829" y="34"/>
                  </a:lnTo>
                  <a:close/>
                  <a:moveTo>
                    <a:pt x="11882" y="72"/>
                  </a:moveTo>
                  <a:lnTo>
                    <a:pt x="11891" y="78"/>
                  </a:lnTo>
                  <a:cubicBezTo>
                    <a:pt x="11891" y="79"/>
                    <a:pt x="11891" y="79"/>
                    <a:pt x="11892" y="79"/>
                  </a:cubicBezTo>
                  <a:lnTo>
                    <a:pt x="11915" y="108"/>
                  </a:lnTo>
                  <a:lnTo>
                    <a:pt x="11903" y="119"/>
                  </a:lnTo>
                  <a:lnTo>
                    <a:pt x="11879" y="90"/>
                  </a:lnTo>
                  <a:lnTo>
                    <a:pt x="11880" y="91"/>
                  </a:lnTo>
                  <a:lnTo>
                    <a:pt x="11872" y="84"/>
                  </a:lnTo>
                  <a:lnTo>
                    <a:pt x="11882" y="72"/>
                  </a:lnTo>
                  <a:close/>
                  <a:moveTo>
                    <a:pt x="11926" y="123"/>
                  </a:moveTo>
                  <a:lnTo>
                    <a:pt x="11947" y="163"/>
                  </a:lnTo>
                  <a:cubicBezTo>
                    <a:pt x="11948" y="163"/>
                    <a:pt x="11948" y="164"/>
                    <a:pt x="11948" y="164"/>
                  </a:cubicBezTo>
                  <a:lnTo>
                    <a:pt x="11949" y="166"/>
                  </a:lnTo>
                  <a:lnTo>
                    <a:pt x="11934" y="171"/>
                  </a:lnTo>
                  <a:lnTo>
                    <a:pt x="11933" y="169"/>
                  </a:lnTo>
                  <a:lnTo>
                    <a:pt x="11933" y="170"/>
                  </a:lnTo>
                  <a:lnTo>
                    <a:pt x="11912" y="130"/>
                  </a:lnTo>
                  <a:lnTo>
                    <a:pt x="11926" y="123"/>
                  </a:lnTo>
                  <a:close/>
                  <a:moveTo>
                    <a:pt x="11954" y="182"/>
                  </a:moveTo>
                  <a:lnTo>
                    <a:pt x="11963" y="213"/>
                  </a:lnTo>
                  <a:cubicBezTo>
                    <a:pt x="11963" y="214"/>
                    <a:pt x="11963" y="214"/>
                    <a:pt x="11963" y="215"/>
                  </a:cubicBezTo>
                  <a:lnTo>
                    <a:pt x="11965" y="230"/>
                  </a:lnTo>
                  <a:lnTo>
                    <a:pt x="11949" y="231"/>
                  </a:lnTo>
                  <a:lnTo>
                    <a:pt x="11947" y="216"/>
                  </a:lnTo>
                  <a:lnTo>
                    <a:pt x="11948" y="218"/>
                  </a:lnTo>
                  <a:lnTo>
                    <a:pt x="11938" y="186"/>
                  </a:lnTo>
                  <a:lnTo>
                    <a:pt x="11954" y="182"/>
                  </a:lnTo>
                  <a:close/>
                  <a:moveTo>
                    <a:pt x="11966" y="246"/>
                  </a:moveTo>
                  <a:lnTo>
                    <a:pt x="11968" y="267"/>
                  </a:lnTo>
                  <a:lnTo>
                    <a:pt x="11952" y="268"/>
                  </a:lnTo>
                  <a:lnTo>
                    <a:pt x="11950" y="247"/>
                  </a:lnTo>
                  <a:lnTo>
                    <a:pt x="11966" y="246"/>
                  </a:lnTo>
                  <a:close/>
                  <a:moveTo>
                    <a:pt x="11968" y="267"/>
                  </a:moveTo>
                  <a:lnTo>
                    <a:pt x="11968" y="295"/>
                  </a:lnTo>
                  <a:lnTo>
                    <a:pt x="11952" y="295"/>
                  </a:lnTo>
                  <a:lnTo>
                    <a:pt x="11952" y="267"/>
                  </a:lnTo>
                  <a:lnTo>
                    <a:pt x="11968" y="267"/>
                  </a:lnTo>
                  <a:close/>
                  <a:moveTo>
                    <a:pt x="11968" y="311"/>
                  </a:moveTo>
                  <a:lnTo>
                    <a:pt x="11968" y="359"/>
                  </a:lnTo>
                  <a:lnTo>
                    <a:pt x="11952" y="359"/>
                  </a:lnTo>
                  <a:lnTo>
                    <a:pt x="11952" y="311"/>
                  </a:lnTo>
                  <a:lnTo>
                    <a:pt x="11968" y="311"/>
                  </a:lnTo>
                  <a:close/>
                  <a:moveTo>
                    <a:pt x="11968" y="375"/>
                  </a:moveTo>
                  <a:lnTo>
                    <a:pt x="11968" y="423"/>
                  </a:lnTo>
                  <a:lnTo>
                    <a:pt x="11952" y="423"/>
                  </a:lnTo>
                  <a:lnTo>
                    <a:pt x="11952" y="375"/>
                  </a:lnTo>
                  <a:lnTo>
                    <a:pt x="11968" y="375"/>
                  </a:lnTo>
                  <a:close/>
                  <a:moveTo>
                    <a:pt x="11968" y="439"/>
                  </a:moveTo>
                  <a:lnTo>
                    <a:pt x="11968" y="487"/>
                  </a:lnTo>
                  <a:lnTo>
                    <a:pt x="11952" y="487"/>
                  </a:lnTo>
                  <a:lnTo>
                    <a:pt x="11952" y="439"/>
                  </a:lnTo>
                  <a:lnTo>
                    <a:pt x="11968" y="439"/>
                  </a:lnTo>
                  <a:close/>
                  <a:moveTo>
                    <a:pt x="11968" y="503"/>
                  </a:moveTo>
                  <a:lnTo>
                    <a:pt x="11968" y="551"/>
                  </a:lnTo>
                  <a:lnTo>
                    <a:pt x="11952" y="551"/>
                  </a:lnTo>
                  <a:lnTo>
                    <a:pt x="11952" y="503"/>
                  </a:lnTo>
                  <a:lnTo>
                    <a:pt x="11968" y="503"/>
                  </a:lnTo>
                  <a:close/>
                  <a:moveTo>
                    <a:pt x="11968" y="567"/>
                  </a:moveTo>
                  <a:lnTo>
                    <a:pt x="11968" y="615"/>
                  </a:lnTo>
                  <a:lnTo>
                    <a:pt x="11952" y="615"/>
                  </a:lnTo>
                  <a:lnTo>
                    <a:pt x="11952" y="567"/>
                  </a:lnTo>
                  <a:lnTo>
                    <a:pt x="11968" y="567"/>
                  </a:lnTo>
                  <a:close/>
                  <a:moveTo>
                    <a:pt x="11968" y="631"/>
                  </a:moveTo>
                  <a:lnTo>
                    <a:pt x="11968" y="679"/>
                  </a:lnTo>
                  <a:lnTo>
                    <a:pt x="11952" y="679"/>
                  </a:lnTo>
                  <a:lnTo>
                    <a:pt x="11952" y="631"/>
                  </a:lnTo>
                  <a:lnTo>
                    <a:pt x="11968" y="631"/>
                  </a:lnTo>
                  <a:close/>
                  <a:moveTo>
                    <a:pt x="11968" y="695"/>
                  </a:moveTo>
                  <a:lnTo>
                    <a:pt x="11968" y="743"/>
                  </a:lnTo>
                  <a:lnTo>
                    <a:pt x="11952" y="743"/>
                  </a:lnTo>
                  <a:lnTo>
                    <a:pt x="11952" y="695"/>
                  </a:lnTo>
                  <a:lnTo>
                    <a:pt x="11968" y="695"/>
                  </a:lnTo>
                  <a:close/>
                  <a:moveTo>
                    <a:pt x="11968" y="759"/>
                  </a:moveTo>
                  <a:lnTo>
                    <a:pt x="11968" y="807"/>
                  </a:lnTo>
                  <a:lnTo>
                    <a:pt x="11952" y="807"/>
                  </a:lnTo>
                  <a:lnTo>
                    <a:pt x="11952" y="759"/>
                  </a:lnTo>
                  <a:lnTo>
                    <a:pt x="11968" y="759"/>
                  </a:lnTo>
                  <a:close/>
                  <a:moveTo>
                    <a:pt x="11968" y="823"/>
                  </a:moveTo>
                  <a:lnTo>
                    <a:pt x="11968" y="871"/>
                  </a:lnTo>
                  <a:lnTo>
                    <a:pt x="11952" y="871"/>
                  </a:lnTo>
                  <a:lnTo>
                    <a:pt x="11952" y="823"/>
                  </a:lnTo>
                  <a:lnTo>
                    <a:pt x="11968" y="823"/>
                  </a:lnTo>
                  <a:close/>
                  <a:moveTo>
                    <a:pt x="11968" y="887"/>
                  </a:moveTo>
                  <a:lnTo>
                    <a:pt x="11968" y="935"/>
                  </a:lnTo>
                  <a:lnTo>
                    <a:pt x="11952" y="935"/>
                  </a:lnTo>
                  <a:lnTo>
                    <a:pt x="11952" y="887"/>
                  </a:lnTo>
                  <a:lnTo>
                    <a:pt x="11968" y="887"/>
                  </a:lnTo>
                  <a:close/>
                  <a:moveTo>
                    <a:pt x="11968" y="951"/>
                  </a:moveTo>
                  <a:lnTo>
                    <a:pt x="11968" y="999"/>
                  </a:lnTo>
                  <a:lnTo>
                    <a:pt x="11952" y="999"/>
                  </a:lnTo>
                  <a:lnTo>
                    <a:pt x="11952" y="951"/>
                  </a:lnTo>
                  <a:lnTo>
                    <a:pt x="11968" y="951"/>
                  </a:lnTo>
                  <a:close/>
                  <a:moveTo>
                    <a:pt x="11968" y="1015"/>
                  </a:moveTo>
                  <a:lnTo>
                    <a:pt x="11968" y="1063"/>
                  </a:lnTo>
                  <a:lnTo>
                    <a:pt x="11952" y="1063"/>
                  </a:lnTo>
                  <a:lnTo>
                    <a:pt x="11952" y="1015"/>
                  </a:lnTo>
                  <a:lnTo>
                    <a:pt x="11968" y="1015"/>
                  </a:lnTo>
                  <a:close/>
                  <a:moveTo>
                    <a:pt x="11968" y="1079"/>
                  </a:moveTo>
                  <a:lnTo>
                    <a:pt x="11968" y="1127"/>
                  </a:lnTo>
                  <a:lnTo>
                    <a:pt x="11952" y="1127"/>
                  </a:lnTo>
                  <a:lnTo>
                    <a:pt x="11952" y="1079"/>
                  </a:lnTo>
                  <a:lnTo>
                    <a:pt x="11968" y="1079"/>
                  </a:lnTo>
                  <a:close/>
                  <a:moveTo>
                    <a:pt x="11968" y="1143"/>
                  </a:moveTo>
                  <a:lnTo>
                    <a:pt x="11968" y="1191"/>
                  </a:lnTo>
                  <a:lnTo>
                    <a:pt x="11952" y="1191"/>
                  </a:lnTo>
                  <a:lnTo>
                    <a:pt x="11952" y="1143"/>
                  </a:lnTo>
                  <a:lnTo>
                    <a:pt x="11968" y="1143"/>
                  </a:lnTo>
                  <a:close/>
                  <a:moveTo>
                    <a:pt x="11968" y="1207"/>
                  </a:moveTo>
                  <a:lnTo>
                    <a:pt x="11968" y="1255"/>
                  </a:lnTo>
                  <a:lnTo>
                    <a:pt x="11952" y="1255"/>
                  </a:lnTo>
                  <a:lnTo>
                    <a:pt x="11952" y="1207"/>
                  </a:lnTo>
                  <a:lnTo>
                    <a:pt x="11968" y="1207"/>
                  </a:lnTo>
                  <a:close/>
                  <a:moveTo>
                    <a:pt x="11968" y="1271"/>
                  </a:moveTo>
                  <a:lnTo>
                    <a:pt x="11968" y="1302"/>
                  </a:lnTo>
                  <a:lnTo>
                    <a:pt x="11952" y="1302"/>
                  </a:lnTo>
                  <a:lnTo>
                    <a:pt x="11952" y="1271"/>
                  </a:lnTo>
                  <a:lnTo>
                    <a:pt x="11968" y="1271"/>
                  </a:lnTo>
                  <a:close/>
                  <a:moveTo>
                    <a:pt x="11968" y="1303"/>
                  </a:moveTo>
                  <a:lnTo>
                    <a:pt x="11967" y="1320"/>
                  </a:lnTo>
                  <a:lnTo>
                    <a:pt x="11951" y="1319"/>
                  </a:lnTo>
                  <a:lnTo>
                    <a:pt x="11952" y="1302"/>
                  </a:lnTo>
                  <a:lnTo>
                    <a:pt x="11968" y="1303"/>
                  </a:lnTo>
                  <a:close/>
                  <a:moveTo>
                    <a:pt x="11965" y="1336"/>
                  </a:moveTo>
                  <a:lnTo>
                    <a:pt x="11963" y="1355"/>
                  </a:lnTo>
                  <a:cubicBezTo>
                    <a:pt x="11963" y="1356"/>
                    <a:pt x="11963" y="1356"/>
                    <a:pt x="11963" y="1357"/>
                  </a:cubicBezTo>
                  <a:lnTo>
                    <a:pt x="11955" y="1384"/>
                  </a:lnTo>
                  <a:lnTo>
                    <a:pt x="11939" y="1380"/>
                  </a:lnTo>
                  <a:lnTo>
                    <a:pt x="11948" y="1352"/>
                  </a:lnTo>
                  <a:lnTo>
                    <a:pt x="11947" y="1354"/>
                  </a:lnTo>
                  <a:lnTo>
                    <a:pt x="11949" y="1335"/>
                  </a:lnTo>
                  <a:lnTo>
                    <a:pt x="11965" y="1336"/>
                  </a:lnTo>
                  <a:close/>
                  <a:moveTo>
                    <a:pt x="11950" y="1400"/>
                  </a:moveTo>
                  <a:lnTo>
                    <a:pt x="11948" y="1406"/>
                  </a:lnTo>
                  <a:cubicBezTo>
                    <a:pt x="11948" y="1406"/>
                    <a:pt x="11948" y="1407"/>
                    <a:pt x="11947" y="1407"/>
                  </a:cubicBezTo>
                  <a:lnTo>
                    <a:pt x="11927" y="1444"/>
                  </a:lnTo>
                  <a:lnTo>
                    <a:pt x="11913" y="1436"/>
                  </a:lnTo>
                  <a:lnTo>
                    <a:pt x="11933" y="1400"/>
                  </a:lnTo>
                  <a:lnTo>
                    <a:pt x="11933" y="1401"/>
                  </a:lnTo>
                  <a:lnTo>
                    <a:pt x="11935" y="1395"/>
                  </a:lnTo>
                  <a:lnTo>
                    <a:pt x="11950" y="1400"/>
                  </a:lnTo>
                  <a:close/>
                  <a:moveTo>
                    <a:pt x="11917" y="1458"/>
                  </a:moveTo>
                  <a:lnTo>
                    <a:pt x="11892" y="1490"/>
                  </a:lnTo>
                  <a:cubicBezTo>
                    <a:pt x="11891" y="1491"/>
                    <a:pt x="11891" y="1491"/>
                    <a:pt x="11890" y="1492"/>
                  </a:cubicBezTo>
                  <a:lnTo>
                    <a:pt x="11885" y="1496"/>
                  </a:lnTo>
                  <a:lnTo>
                    <a:pt x="11875" y="1483"/>
                  </a:lnTo>
                  <a:lnTo>
                    <a:pt x="11880" y="1479"/>
                  </a:lnTo>
                  <a:lnTo>
                    <a:pt x="11879" y="1480"/>
                  </a:lnTo>
                  <a:lnTo>
                    <a:pt x="11905" y="1448"/>
                  </a:lnTo>
                  <a:lnTo>
                    <a:pt x="11917" y="1458"/>
                  </a:lnTo>
                  <a:close/>
                  <a:moveTo>
                    <a:pt x="11873" y="1506"/>
                  </a:moveTo>
                  <a:lnTo>
                    <a:pt x="11851" y="1523"/>
                  </a:lnTo>
                  <a:cubicBezTo>
                    <a:pt x="11851" y="1523"/>
                    <a:pt x="11851" y="1523"/>
                    <a:pt x="11850" y="1523"/>
                  </a:cubicBezTo>
                  <a:lnTo>
                    <a:pt x="11832" y="1534"/>
                  </a:lnTo>
                  <a:lnTo>
                    <a:pt x="11824" y="1520"/>
                  </a:lnTo>
                  <a:lnTo>
                    <a:pt x="11843" y="1509"/>
                  </a:lnTo>
                  <a:lnTo>
                    <a:pt x="11841" y="1510"/>
                  </a:lnTo>
                  <a:lnTo>
                    <a:pt x="11863" y="1493"/>
                  </a:lnTo>
                  <a:lnTo>
                    <a:pt x="11873" y="1506"/>
                  </a:lnTo>
                  <a:close/>
                  <a:moveTo>
                    <a:pt x="11818" y="1541"/>
                  </a:moveTo>
                  <a:lnTo>
                    <a:pt x="11807" y="1547"/>
                  </a:lnTo>
                  <a:cubicBezTo>
                    <a:pt x="11807" y="1548"/>
                    <a:pt x="11806" y="1548"/>
                    <a:pt x="11806" y="1548"/>
                  </a:cubicBezTo>
                  <a:lnTo>
                    <a:pt x="11772" y="1559"/>
                  </a:lnTo>
                  <a:lnTo>
                    <a:pt x="11767" y="1543"/>
                  </a:lnTo>
                  <a:lnTo>
                    <a:pt x="11801" y="1533"/>
                  </a:lnTo>
                  <a:lnTo>
                    <a:pt x="11800" y="1533"/>
                  </a:lnTo>
                  <a:lnTo>
                    <a:pt x="11810" y="1527"/>
                  </a:lnTo>
                  <a:lnTo>
                    <a:pt x="11818" y="1541"/>
                  </a:lnTo>
                  <a:close/>
                  <a:moveTo>
                    <a:pt x="11755" y="1563"/>
                  </a:moveTo>
                  <a:lnTo>
                    <a:pt x="11707" y="1568"/>
                  </a:lnTo>
                  <a:lnTo>
                    <a:pt x="11705" y="1552"/>
                  </a:lnTo>
                  <a:lnTo>
                    <a:pt x="11753" y="1548"/>
                  </a:lnTo>
                  <a:lnTo>
                    <a:pt x="11755" y="1563"/>
                  </a:lnTo>
                  <a:close/>
                  <a:moveTo>
                    <a:pt x="11690" y="1568"/>
                  </a:moveTo>
                  <a:lnTo>
                    <a:pt x="11642" y="1568"/>
                  </a:lnTo>
                  <a:lnTo>
                    <a:pt x="11642" y="1552"/>
                  </a:lnTo>
                  <a:lnTo>
                    <a:pt x="11690" y="1552"/>
                  </a:lnTo>
                  <a:lnTo>
                    <a:pt x="11690" y="1568"/>
                  </a:lnTo>
                  <a:close/>
                  <a:moveTo>
                    <a:pt x="11626" y="1568"/>
                  </a:moveTo>
                  <a:lnTo>
                    <a:pt x="11578" y="1568"/>
                  </a:lnTo>
                  <a:lnTo>
                    <a:pt x="11578" y="1552"/>
                  </a:lnTo>
                  <a:lnTo>
                    <a:pt x="11626" y="1552"/>
                  </a:lnTo>
                  <a:lnTo>
                    <a:pt x="11626" y="1568"/>
                  </a:lnTo>
                  <a:close/>
                  <a:moveTo>
                    <a:pt x="11562" y="1568"/>
                  </a:moveTo>
                  <a:lnTo>
                    <a:pt x="11514" y="1568"/>
                  </a:lnTo>
                  <a:lnTo>
                    <a:pt x="11514" y="1552"/>
                  </a:lnTo>
                  <a:lnTo>
                    <a:pt x="11562" y="1552"/>
                  </a:lnTo>
                  <a:lnTo>
                    <a:pt x="11562" y="1568"/>
                  </a:lnTo>
                  <a:close/>
                  <a:moveTo>
                    <a:pt x="11498" y="1568"/>
                  </a:moveTo>
                  <a:lnTo>
                    <a:pt x="11450" y="1568"/>
                  </a:lnTo>
                  <a:lnTo>
                    <a:pt x="11450" y="1552"/>
                  </a:lnTo>
                  <a:lnTo>
                    <a:pt x="11498" y="1552"/>
                  </a:lnTo>
                  <a:lnTo>
                    <a:pt x="11498" y="1568"/>
                  </a:lnTo>
                  <a:close/>
                  <a:moveTo>
                    <a:pt x="11434" y="1568"/>
                  </a:moveTo>
                  <a:lnTo>
                    <a:pt x="11386" y="1568"/>
                  </a:lnTo>
                  <a:lnTo>
                    <a:pt x="11386" y="1552"/>
                  </a:lnTo>
                  <a:lnTo>
                    <a:pt x="11434" y="1552"/>
                  </a:lnTo>
                  <a:lnTo>
                    <a:pt x="11434" y="1568"/>
                  </a:lnTo>
                  <a:close/>
                  <a:moveTo>
                    <a:pt x="11370" y="1568"/>
                  </a:moveTo>
                  <a:lnTo>
                    <a:pt x="11322" y="1568"/>
                  </a:lnTo>
                  <a:lnTo>
                    <a:pt x="11322" y="1552"/>
                  </a:lnTo>
                  <a:lnTo>
                    <a:pt x="11370" y="1552"/>
                  </a:lnTo>
                  <a:lnTo>
                    <a:pt x="11370" y="1568"/>
                  </a:lnTo>
                  <a:close/>
                  <a:moveTo>
                    <a:pt x="11306" y="1568"/>
                  </a:moveTo>
                  <a:lnTo>
                    <a:pt x="11258" y="1568"/>
                  </a:lnTo>
                  <a:lnTo>
                    <a:pt x="11258" y="1552"/>
                  </a:lnTo>
                  <a:lnTo>
                    <a:pt x="11306" y="1552"/>
                  </a:lnTo>
                  <a:lnTo>
                    <a:pt x="11306" y="1568"/>
                  </a:lnTo>
                  <a:close/>
                  <a:moveTo>
                    <a:pt x="11242" y="1568"/>
                  </a:moveTo>
                  <a:lnTo>
                    <a:pt x="11194" y="1568"/>
                  </a:lnTo>
                  <a:lnTo>
                    <a:pt x="11194" y="1552"/>
                  </a:lnTo>
                  <a:lnTo>
                    <a:pt x="11242" y="1552"/>
                  </a:lnTo>
                  <a:lnTo>
                    <a:pt x="11242" y="1568"/>
                  </a:lnTo>
                  <a:close/>
                  <a:moveTo>
                    <a:pt x="11178" y="1568"/>
                  </a:moveTo>
                  <a:lnTo>
                    <a:pt x="11129" y="1568"/>
                  </a:lnTo>
                  <a:lnTo>
                    <a:pt x="11129" y="1552"/>
                  </a:lnTo>
                  <a:lnTo>
                    <a:pt x="11178" y="1552"/>
                  </a:lnTo>
                  <a:lnTo>
                    <a:pt x="11178" y="1568"/>
                  </a:lnTo>
                  <a:close/>
                  <a:moveTo>
                    <a:pt x="11113" y="1568"/>
                  </a:moveTo>
                  <a:lnTo>
                    <a:pt x="11065" y="1568"/>
                  </a:lnTo>
                  <a:lnTo>
                    <a:pt x="11065" y="1552"/>
                  </a:lnTo>
                  <a:lnTo>
                    <a:pt x="11113" y="1552"/>
                  </a:lnTo>
                  <a:lnTo>
                    <a:pt x="11113" y="1568"/>
                  </a:lnTo>
                  <a:close/>
                  <a:moveTo>
                    <a:pt x="11049" y="1568"/>
                  </a:moveTo>
                  <a:lnTo>
                    <a:pt x="11001" y="1568"/>
                  </a:lnTo>
                  <a:lnTo>
                    <a:pt x="11001" y="1552"/>
                  </a:lnTo>
                  <a:lnTo>
                    <a:pt x="11049" y="1552"/>
                  </a:lnTo>
                  <a:lnTo>
                    <a:pt x="11049" y="1568"/>
                  </a:lnTo>
                  <a:close/>
                  <a:moveTo>
                    <a:pt x="10985" y="1568"/>
                  </a:moveTo>
                  <a:lnTo>
                    <a:pt x="10937" y="1568"/>
                  </a:lnTo>
                  <a:lnTo>
                    <a:pt x="10937" y="1552"/>
                  </a:lnTo>
                  <a:lnTo>
                    <a:pt x="10985" y="1552"/>
                  </a:lnTo>
                  <a:lnTo>
                    <a:pt x="10985" y="1568"/>
                  </a:lnTo>
                  <a:close/>
                  <a:moveTo>
                    <a:pt x="10921" y="1568"/>
                  </a:moveTo>
                  <a:lnTo>
                    <a:pt x="10873" y="1568"/>
                  </a:lnTo>
                  <a:lnTo>
                    <a:pt x="10873" y="1552"/>
                  </a:lnTo>
                  <a:lnTo>
                    <a:pt x="10921" y="1552"/>
                  </a:lnTo>
                  <a:lnTo>
                    <a:pt x="10921" y="1568"/>
                  </a:lnTo>
                  <a:close/>
                  <a:moveTo>
                    <a:pt x="10857" y="1568"/>
                  </a:moveTo>
                  <a:lnTo>
                    <a:pt x="10809" y="1568"/>
                  </a:lnTo>
                  <a:lnTo>
                    <a:pt x="10809" y="1552"/>
                  </a:lnTo>
                  <a:lnTo>
                    <a:pt x="10857" y="1552"/>
                  </a:lnTo>
                  <a:lnTo>
                    <a:pt x="10857" y="1568"/>
                  </a:lnTo>
                  <a:close/>
                  <a:moveTo>
                    <a:pt x="10793" y="1568"/>
                  </a:moveTo>
                  <a:lnTo>
                    <a:pt x="10745" y="1568"/>
                  </a:lnTo>
                  <a:lnTo>
                    <a:pt x="10745" y="1552"/>
                  </a:lnTo>
                  <a:lnTo>
                    <a:pt x="10793" y="1552"/>
                  </a:lnTo>
                  <a:lnTo>
                    <a:pt x="10793" y="1568"/>
                  </a:lnTo>
                  <a:close/>
                  <a:moveTo>
                    <a:pt x="10729" y="1568"/>
                  </a:moveTo>
                  <a:lnTo>
                    <a:pt x="10681" y="1568"/>
                  </a:lnTo>
                  <a:lnTo>
                    <a:pt x="10681" y="1552"/>
                  </a:lnTo>
                  <a:lnTo>
                    <a:pt x="10729" y="1552"/>
                  </a:lnTo>
                  <a:lnTo>
                    <a:pt x="10729" y="1568"/>
                  </a:lnTo>
                  <a:close/>
                  <a:moveTo>
                    <a:pt x="10665" y="1568"/>
                  </a:moveTo>
                  <a:lnTo>
                    <a:pt x="10617" y="1568"/>
                  </a:lnTo>
                  <a:lnTo>
                    <a:pt x="10617" y="1552"/>
                  </a:lnTo>
                  <a:lnTo>
                    <a:pt x="10665" y="1552"/>
                  </a:lnTo>
                  <a:lnTo>
                    <a:pt x="10665" y="1568"/>
                  </a:lnTo>
                  <a:close/>
                  <a:moveTo>
                    <a:pt x="10601" y="1568"/>
                  </a:moveTo>
                  <a:lnTo>
                    <a:pt x="10553" y="1568"/>
                  </a:lnTo>
                  <a:lnTo>
                    <a:pt x="10553" y="1552"/>
                  </a:lnTo>
                  <a:lnTo>
                    <a:pt x="10601" y="1552"/>
                  </a:lnTo>
                  <a:lnTo>
                    <a:pt x="10601" y="1568"/>
                  </a:lnTo>
                  <a:close/>
                  <a:moveTo>
                    <a:pt x="10537" y="1568"/>
                  </a:moveTo>
                  <a:lnTo>
                    <a:pt x="10489" y="1568"/>
                  </a:lnTo>
                  <a:lnTo>
                    <a:pt x="10489" y="1552"/>
                  </a:lnTo>
                  <a:lnTo>
                    <a:pt x="10537" y="1552"/>
                  </a:lnTo>
                  <a:lnTo>
                    <a:pt x="10537" y="1568"/>
                  </a:lnTo>
                  <a:close/>
                  <a:moveTo>
                    <a:pt x="10473" y="1568"/>
                  </a:moveTo>
                  <a:lnTo>
                    <a:pt x="10425" y="1568"/>
                  </a:lnTo>
                  <a:lnTo>
                    <a:pt x="10425" y="1552"/>
                  </a:lnTo>
                  <a:lnTo>
                    <a:pt x="10473" y="1552"/>
                  </a:lnTo>
                  <a:lnTo>
                    <a:pt x="10473" y="1568"/>
                  </a:lnTo>
                  <a:close/>
                  <a:moveTo>
                    <a:pt x="10409" y="1568"/>
                  </a:moveTo>
                  <a:lnTo>
                    <a:pt x="10361" y="1568"/>
                  </a:lnTo>
                  <a:lnTo>
                    <a:pt x="10361" y="1552"/>
                  </a:lnTo>
                  <a:lnTo>
                    <a:pt x="10409" y="1552"/>
                  </a:lnTo>
                  <a:lnTo>
                    <a:pt x="10409" y="1568"/>
                  </a:lnTo>
                  <a:close/>
                  <a:moveTo>
                    <a:pt x="10345" y="1568"/>
                  </a:moveTo>
                  <a:lnTo>
                    <a:pt x="10297" y="1568"/>
                  </a:lnTo>
                  <a:lnTo>
                    <a:pt x="10297" y="1552"/>
                  </a:lnTo>
                  <a:lnTo>
                    <a:pt x="10345" y="1552"/>
                  </a:lnTo>
                  <a:lnTo>
                    <a:pt x="10345" y="1568"/>
                  </a:lnTo>
                  <a:close/>
                  <a:moveTo>
                    <a:pt x="10281" y="1568"/>
                  </a:moveTo>
                  <a:lnTo>
                    <a:pt x="10233" y="1568"/>
                  </a:lnTo>
                  <a:lnTo>
                    <a:pt x="10233" y="1552"/>
                  </a:lnTo>
                  <a:lnTo>
                    <a:pt x="10281" y="1552"/>
                  </a:lnTo>
                  <a:lnTo>
                    <a:pt x="10281" y="1568"/>
                  </a:lnTo>
                  <a:close/>
                  <a:moveTo>
                    <a:pt x="10217" y="1568"/>
                  </a:moveTo>
                  <a:lnTo>
                    <a:pt x="10169" y="1568"/>
                  </a:lnTo>
                  <a:lnTo>
                    <a:pt x="10169" y="1552"/>
                  </a:lnTo>
                  <a:lnTo>
                    <a:pt x="10217" y="1552"/>
                  </a:lnTo>
                  <a:lnTo>
                    <a:pt x="10217" y="1568"/>
                  </a:lnTo>
                  <a:close/>
                  <a:moveTo>
                    <a:pt x="10152" y="1568"/>
                  </a:moveTo>
                  <a:lnTo>
                    <a:pt x="10104" y="1568"/>
                  </a:lnTo>
                  <a:lnTo>
                    <a:pt x="10104" y="1552"/>
                  </a:lnTo>
                  <a:lnTo>
                    <a:pt x="10152" y="1552"/>
                  </a:lnTo>
                  <a:lnTo>
                    <a:pt x="10152" y="1568"/>
                  </a:lnTo>
                  <a:close/>
                  <a:moveTo>
                    <a:pt x="10088" y="1568"/>
                  </a:moveTo>
                  <a:lnTo>
                    <a:pt x="10040" y="1568"/>
                  </a:lnTo>
                  <a:lnTo>
                    <a:pt x="10040" y="1552"/>
                  </a:lnTo>
                  <a:lnTo>
                    <a:pt x="10088" y="1552"/>
                  </a:lnTo>
                  <a:lnTo>
                    <a:pt x="10088" y="1568"/>
                  </a:lnTo>
                  <a:close/>
                  <a:moveTo>
                    <a:pt x="10024" y="1568"/>
                  </a:moveTo>
                  <a:lnTo>
                    <a:pt x="9976" y="1568"/>
                  </a:lnTo>
                  <a:lnTo>
                    <a:pt x="9976" y="1552"/>
                  </a:lnTo>
                  <a:lnTo>
                    <a:pt x="10024" y="1552"/>
                  </a:lnTo>
                  <a:lnTo>
                    <a:pt x="10024" y="1568"/>
                  </a:lnTo>
                  <a:close/>
                  <a:moveTo>
                    <a:pt x="9960" y="1568"/>
                  </a:moveTo>
                  <a:lnTo>
                    <a:pt x="9912" y="1568"/>
                  </a:lnTo>
                  <a:lnTo>
                    <a:pt x="9912" y="1552"/>
                  </a:lnTo>
                  <a:lnTo>
                    <a:pt x="9960" y="1552"/>
                  </a:lnTo>
                  <a:lnTo>
                    <a:pt x="9960" y="1568"/>
                  </a:lnTo>
                  <a:close/>
                  <a:moveTo>
                    <a:pt x="9896" y="1568"/>
                  </a:moveTo>
                  <a:lnTo>
                    <a:pt x="9848" y="1568"/>
                  </a:lnTo>
                  <a:lnTo>
                    <a:pt x="9848" y="1552"/>
                  </a:lnTo>
                  <a:lnTo>
                    <a:pt x="9896" y="1552"/>
                  </a:lnTo>
                  <a:lnTo>
                    <a:pt x="9896" y="1568"/>
                  </a:lnTo>
                  <a:close/>
                  <a:moveTo>
                    <a:pt x="9832" y="1568"/>
                  </a:moveTo>
                  <a:lnTo>
                    <a:pt x="9784" y="1568"/>
                  </a:lnTo>
                  <a:lnTo>
                    <a:pt x="9784" y="1552"/>
                  </a:lnTo>
                  <a:lnTo>
                    <a:pt x="9832" y="1552"/>
                  </a:lnTo>
                  <a:lnTo>
                    <a:pt x="9832" y="1568"/>
                  </a:lnTo>
                  <a:close/>
                  <a:moveTo>
                    <a:pt x="9768" y="1568"/>
                  </a:moveTo>
                  <a:lnTo>
                    <a:pt x="9720" y="1568"/>
                  </a:lnTo>
                  <a:lnTo>
                    <a:pt x="9720" y="1552"/>
                  </a:lnTo>
                  <a:lnTo>
                    <a:pt x="9768" y="1552"/>
                  </a:lnTo>
                  <a:lnTo>
                    <a:pt x="9768" y="1568"/>
                  </a:lnTo>
                  <a:close/>
                  <a:moveTo>
                    <a:pt x="9704" y="1568"/>
                  </a:moveTo>
                  <a:lnTo>
                    <a:pt x="9656" y="1568"/>
                  </a:lnTo>
                  <a:lnTo>
                    <a:pt x="9656" y="1552"/>
                  </a:lnTo>
                  <a:lnTo>
                    <a:pt x="9704" y="1552"/>
                  </a:lnTo>
                  <a:lnTo>
                    <a:pt x="9704" y="1568"/>
                  </a:lnTo>
                  <a:close/>
                  <a:moveTo>
                    <a:pt x="9640" y="1568"/>
                  </a:moveTo>
                  <a:lnTo>
                    <a:pt x="9592" y="1568"/>
                  </a:lnTo>
                  <a:lnTo>
                    <a:pt x="9592" y="1552"/>
                  </a:lnTo>
                  <a:lnTo>
                    <a:pt x="9640" y="1552"/>
                  </a:lnTo>
                  <a:lnTo>
                    <a:pt x="9640" y="1568"/>
                  </a:lnTo>
                  <a:close/>
                  <a:moveTo>
                    <a:pt x="9576" y="1568"/>
                  </a:moveTo>
                  <a:lnTo>
                    <a:pt x="9528" y="1568"/>
                  </a:lnTo>
                  <a:lnTo>
                    <a:pt x="9528" y="1552"/>
                  </a:lnTo>
                  <a:lnTo>
                    <a:pt x="9576" y="1552"/>
                  </a:lnTo>
                  <a:lnTo>
                    <a:pt x="9576" y="1568"/>
                  </a:lnTo>
                  <a:close/>
                  <a:moveTo>
                    <a:pt x="9512" y="1568"/>
                  </a:moveTo>
                  <a:lnTo>
                    <a:pt x="9464" y="1568"/>
                  </a:lnTo>
                  <a:lnTo>
                    <a:pt x="9464" y="1552"/>
                  </a:lnTo>
                  <a:lnTo>
                    <a:pt x="9512" y="1552"/>
                  </a:lnTo>
                  <a:lnTo>
                    <a:pt x="9512" y="1568"/>
                  </a:lnTo>
                  <a:close/>
                  <a:moveTo>
                    <a:pt x="9448" y="1568"/>
                  </a:moveTo>
                  <a:lnTo>
                    <a:pt x="9400" y="1568"/>
                  </a:lnTo>
                  <a:lnTo>
                    <a:pt x="9400" y="1552"/>
                  </a:lnTo>
                  <a:lnTo>
                    <a:pt x="9448" y="1552"/>
                  </a:lnTo>
                  <a:lnTo>
                    <a:pt x="9448" y="1568"/>
                  </a:lnTo>
                  <a:close/>
                  <a:moveTo>
                    <a:pt x="9384" y="1568"/>
                  </a:moveTo>
                  <a:lnTo>
                    <a:pt x="9336" y="1568"/>
                  </a:lnTo>
                  <a:lnTo>
                    <a:pt x="9336" y="1552"/>
                  </a:lnTo>
                  <a:lnTo>
                    <a:pt x="9384" y="1552"/>
                  </a:lnTo>
                  <a:lnTo>
                    <a:pt x="9384" y="1568"/>
                  </a:lnTo>
                  <a:close/>
                  <a:moveTo>
                    <a:pt x="9320" y="1568"/>
                  </a:moveTo>
                  <a:lnTo>
                    <a:pt x="9272" y="1568"/>
                  </a:lnTo>
                  <a:lnTo>
                    <a:pt x="9272" y="1552"/>
                  </a:lnTo>
                  <a:lnTo>
                    <a:pt x="9320" y="1552"/>
                  </a:lnTo>
                  <a:lnTo>
                    <a:pt x="9320" y="1568"/>
                  </a:lnTo>
                  <a:close/>
                  <a:moveTo>
                    <a:pt x="9256" y="1568"/>
                  </a:moveTo>
                  <a:lnTo>
                    <a:pt x="9208" y="1568"/>
                  </a:lnTo>
                  <a:lnTo>
                    <a:pt x="9208" y="1552"/>
                  </a:lnTo>
                  <a:lnTo>
                    <a:pt x="9256" y="1552"/>
                  </a:lnTo>
                  <a:lnTo>
                    <a:pt x="9256" y="1568"/>
                  </a:lnTo>
                  <a:close/>
                  <a:moveTo>
                    <a:pt x="9192" y="1568"/>
                  </a:moveTo>
                  <a:lnTo>
                    <a:pt x="9143" y="1568"/>
                  </a:lnTo>
                  <a:lnTo>
                    <a:pt x="9143" y="1552"/>
                  </a:lnTo>
                  <a:lnTo>
                    <a:pt x="9192" y="1552"/>
                  </a:lnTo>
                  <a:lnTo>
                    <a:pt x="9192" y="1568"/>
                  </a:lnTo>
                  <a:close/>
                  <a:moveTo>
                    <a:pt x="9127" y="1568"/>
                  </a:moveTo>
                  <a:lnTo>
                    <a:pt x="9079" y="1568"/>
                  </a:lnTo>
                  <a:lnTo>
                    <a:pt x="9079" y="1552"/>
                  </a:lnTo>
                  <a:lnTo>
                    <a:pt x="9127" y="1552"/>
                  </a:lnTo>
                  <a:lnTo>
                    <a:pt x="9127" y="1568"/>
                  </a:lnTo>
                  <a:close/>
                  <a:moveTo>
                    <a:pt x="9063" y="1568"/>
                  </a:moveTo>
                  <a:lnTo>
                    <a:pt x="9015" y="1568"/>
                  </a:lnTo>
                  <a:lnTo>
                    <a:pt x="9015" y="1552"/>
                  </a:lnTo>
                  <a:lnTo>
                    <a:pt x="9063" y="1552"/>
                  </a:lnTo>
                  <a:lnTo>
                    <a:pt x="9063" y="1568"/>
                  </a:lnTo>
                  <a:close/>
                  <a:moveTo>
                    <a:pt x="8999" y="1568"/>
                  </a:moveTo>
                  <a:lnTo>
                    <a:pt x="8951" y="1568"/>
                  </a:lnTo>
                  <a:lnTo>
                    <a:pt x="8951" y="1552"/>
                  </a:lnTo>
                  <a:lnTo>
                    <a:pt x="8999" y="1552"/>
                  </a:lnTo>
                  <a:lnTo>
                    <a:pt x="8999" y="1568"/>
                  </a:lnTo>
                  <a:close/>
                  <a:moveTo>
                    <a:pt x="8935" y="1568"/>
                  </a:moveTo>
                  <a:lnTo>
                    <a:pt x="8887" y="1568"/>
                  </a:lnTo>
                  <a:lnTo>
                    <a:pt x="8887" y="1552"/>
                  </a:lnTo>
                  <a:lnTo>
                    <a:pt x="8935" y="1552"/>
                  </a:lnTo>
                  <a:lnTo>
                    <a:pt x="8935" y="1568"/>
                  </a:lnTo>
                  <a:close/>
                  <a:moveTo>
                    <a:pt x="8871" y="1568"/>
                  </a:moveTo>
                  <a:lnTo>
                    <a:pt x="8823" y="1568"/>
                  </a:lnTo>
                  <a:lnTo>
                    <a:pt x="8823" y="1552"/>
                  </a:lnTo>
                  <a:lnTo>
                    <a:pt x="8871" y="1552"/>
                  </a:lnTo>
                  <a:lnTo>
                    <a:pt x="8871" y="1568"/>
                  </a:lnTo>
                  <a:close/>
                  <a:moveTo>
                    <a:pt x="8807" y="1568"/>
                  </a:moveTo>
                  <a:lnTo>
                    <a:pt x="8759" y="1568"/>
                  </a:lnTo>
                  <a:lnTo>
                    <a:pt x="8759" y="1552"/>
                  </a:lnTo>
                  <a:lnTo>
                    <a:pt x="8807" y="1552"/>
                  </a:lnTo>
                  <a:lnTo>
                    <a:pt x="8807" y="1568"/>
                  </a:lnTo>
                  <a:close/>
                  <a:moveTo>
                    <a:pt x="8743" y="1568"/>
                  </a:moveTo>
                  <a:lnTo>
                    <a:pt x="8695" y="1568"/>
                  </a:lnTo>
                  <a:lnTo>
                    <a:pt x="8695" y="1552"/>
                  </a:lnTo>
                  <a:lnTo>
                    <a:pt x="8743" y="1552"/>
                  </a:lnTo>
                  <a:lnTo>
                    <a:pt x="8743" y="1568"/>
                  </a:lnTo>
                  <a:close/>
                  <a:moveTo>
                    <a:pt x="8679" y="1568"/>
                  </a:moveTo>
                  <a:lnTo>
                    <a:pt x="8631" y="1568"/>
                  </a:lnTo>
                  <a:lnTo>
                    <a:pt x="8631" y="1552"/>
                  </a:lnTo>
                  <a:lnTo>
                    <a:pt x="8679" y="1552"/>
                  </a:lnTo>
                  <a:lnTo>
                    <a:pt x="8679" y="1568"/>
                  </a:lnTo>
                  <a:close/>
                  <a:moveTo>
                    <a:pt x="8615" y="1568"/>
                  </a:moveTo>
                  <a:lnTo>
                    <a:pt x="8567" y="1568"/>
                  </a:lnTo>
                  <a:lnTo>
                    <a:pt x="8567" y="1552"/>
                  </a:lnTo>
                  <a:lnTo>
                    <a:pt x="8615" y="1552"/>
                  </a:lnTo>
                  <a:lnTo>
                    <a:pt x="8615" y="1568"/>
                  </a:lnTo>
                  <a:close/>
                  <a:moveTo>
                    <a:pt x="8551" y="1568"/>
                  </a:moveTo>
                  <a:lnTo>
                    <a:pt x="8503" y="1568"/>
                  </a:lnTo>
                  <a:lnTo>
                    <a:pt x="8503" y="1552"/>
                  </a:lnTo>
                  <a:lnTo>
                    <a:pt x="8551" y="1552"/>
                  </a:lnTo>
                  <a:lnTo>
                    <a:pt x="8551" y="1568"/>
                  </a:lnTo>
                  <a:close/>
                  <a:moveTo>
                    <a:pt x="8487" y="1568"/>
                  </a:moveTo>
                  <a:lnTo>
                    <a:pt x="8439" y="1568"/>
                  </a:lnTo>
                  <a:lnTo>
                    <a:pt x="8439" y="1552"/>
                  </a:lnTo>
                  <a:lnTo>
                    <a:pt x="8487" y="1552"/>
                  </a:lnTo>
                  <a:lnTo>
                    <a:pt x="8487" y="1568"/>
                  </a:lnTo>
                  <a:close/>
                  <a:moveTo>
                    <a:pt x="8423" y="1568"/>
                  </a:moveTo>
                  <a:lnTo>
                    <a:pt x="8375" y="1568"/>
                  </a:lnTo>
                  <a:lnTo>
                    <a:pt x="8375" y="1552"/>
                  </a:lnTo>
                  <a:lnTo>
                    <a:pt x="8423" y="1552"/>
                  </a:lnTo>
                  <a:lnTo>
                    <a:pt x="8423" y="1568"/>
                  </a:lnTo>
                  <a:close/>
                  <a:moveTo>
                    <a:pt x="8359" y="1568"/>
                  </a:moveTo>
                  <a:lnTo>
                    <a:pt x="8311" y="1568"/>
                  </a:lnTo>
                  <a:lnTo>
                    <a:pt x="8311" y="1552"/>
                  </a:lnTo>
                  <a:lnTo>
                    <a:pt x="8359" y="1552"/>
                  </a:lnTo>
                  <a:lnTo>
                    <a:pt x="8359" y="1568"/>
                  </a:lnTo>
                  <a:close/>
                  <a:moveTo>
                    <a:pt x="8295" y="1568"/>
                  </a:moveTo>
                  <a:lnTo>
                    <a:pt x="8247" y="1568"/>
                  </a:lnTo>
                  <a:lnTo>
                    <a:pt x="8247" y="1552"/>
                  </a:lnTo>
                  <a:lnTo>
                    <a:pt x="8295" y="1552"/>
                  </a:lnTo>
                  <a:lnTo>
                    <a:pt x="8295" y="1568"/>
                  </a:lnTo>
                  <a:close/>
                  <a:moveTo>
                    <a:pt x="8231" y="1568"/>
                  </a:moveTo>
                  <a:lnTo>
                    <a:pt x="8182" y="1568"/>
                  </a:lnTo>
                  <a:lnTo>
                    <a:pt x="8182" y="1552"/>
                  </a:lnTo>
                  <a:lnTo>
                    <a:pt x="8231" y="1552"/>
                  </a:lnTo>
                  <a:lnTo>
                    <a:pt x="8231" y="1568"/>
                  </a:lnTo>
                  <a:close/>
                  <a:moveTo>
                    <a:pt x="8166" y="1568"/>
                  </a:moveTo>
                  <a:lnTo>
                    <a:pt x="8118" y="1568"/>
                  </a:lnTo>
                  <a:lnTo>
                    <a:pt x="8118" y="1552"/>
                  </a:lnTo>
                  <a:lnTo>
                    <a:pt x="8166" y="1552"/>
                  </a:lnTo>
                  <a:lnTo>
                    <a:pt x="8166" y="1568"/>
                  </a:lnTo>
                  <a:close/>
                  <a:moveTo>
                    <a:pt x="8102" y="1568"/>
                  </a:moveTo>
                  <a:lnTo>
                    <a:pt x="8054" y="1568"/>
                  </a:lnTo>
                  <a:lnTo>
                    <a:pt x="8054" y="1552"/>
                  </a:lnTo>
                  <a:lnTo>
                    <a:pt x="8102" y="1552"/>
                  </a:lnTo>
                  <a:lnTo>
                    <a:pt x="8102" y="1568"/>
                  </a:lnTo>
                  <a:close/>
                  <a:moveTo>
                    <a:pt x="8038" y="1568"/>
                  </a:moveTo>
                  <a:lnTo>
                    <a:pt x="7990" y="1568"/>
                  </a:lnTo>
                  <a:lnTo>
                    <a:pt x="7990" y="1552"/>
                  </a:lnTo>
                  <a:lnTo>
                    <a:pt x="8038" y="1552"/>
                  </a:lnTo>
                  <a:lnTo>
                    <a:pt x="8038" y="1568"/>
                  </a:lnTo>
                  <a:close/>
                  <a:moveTo>
                    <a:pt x="7974" y="1568"/>
                  </a:moveTo>
                  <a:lnTo>
                    <a:pt x="7926" y="1568"/>
                  </a:lnTo>
                  <a:lnTo>
                    <a:pt x="7926" y="1552"/>
                  </a:lnTo>
                  <a:lnTo>
                    <a:pt x="7974" y="1552"/>
                  </a:lnTo>
                  <a:lnTo>
                    <a:pt x="7974" y="1568"/>
                  </a:lnTo>
                  <a:close/>
                  <a:moveTo>
                    <a:pt x="7910" y="1568"/>
                  </a:moveTo>
                  <a:lnTo>
                    <a:pt x="7862" y="1568"/>
                  </a:lnTo>
                  <a:lnTo>
                    <a:pt x="7862" y="1552"/>
                  </a:lnTo>
                  <a:lnTo>
                    <a:pt x="7910" y="1552"/>
                  </a:lnTo>
                  <a:lnTo>
                    <a:pt x="7910" y="1568"/>
                  </a:lnTo>
                  <a:close/>
                  <a:moveTo>
                    <a:pt x="7846" y="1568"/>
                  </a:moveTo>
                  <a:lnTo>
                    <a:pt x="7798" y="1568"/>
                  </a:lnTo>
                  <a:lnTo>
                    <a:pt x="7798" y="1552"/>
                  </a:lnTo>
                  <a:lnTo>
                    <a:pt x="7846" y="1552"/>
                  </a:lnTo>
                  <a:lnTo>
                    <a:pt x="7846" y="1568"/>
                  </a:lnTo>
                  <a:close/>
                  <a:moveTo>
                    <a:pt x="7782" y="1568"/>
                  </a:moveTo>
                  <a:lnTo>
                    <a:pt x="7734" y="1568"/>
                  </a:lnTo>
                  <a:lnTo>
                    <a:pt x="7734" y="1552"/>
                  </a:lnTo>
                  <a:lnTo>
                    <a:pt x="7782" y="1552"/>
                  </a:lnTo>
                  <a:lnTo>
                    <a:pt x="7782" y="1568"/>
                  </a:lnTo>
                  <a:close/>
                  <a:moveTo>
                    <a:pt x="7718" y="1568"/>
                  </a:moveTo>
                  <a:lnTo>
                    <a:pt x="7670" y="1568"/>
                  </a:lnTo>
                  <a:lnTo>
                    <a:pt x="7670" y="1552"/>
                  </a:lnTo>
                  <a:lnTo>
                    <a:pt x="7718" y="1552"/>
                  </a:lnTo>
                  <a:lnTo>
                    <a:pt x="7718" y="1568"/>
                  </a:lnTo>
                  <a:close/>
                  <a:moveTo>
                    <a:pt x="7654" y="1568"/>
                  </a:moveTo>
                  <a:lnTo>
                    <a:pt x="7606" y="1568"/>
                  </a:lnTo>
                  <a:lnTo>
                    <a:pt x="7606" y="1552"/>
                  </a:lnTo>
                  <a:lnTo>
                    <a:pt x="7654" y="1552"/>
                  </a:lnTo>
                  <a:lnTo>
                    <a:pt x="7654" y="1568"/>
                  </a:lnTo>
                  <a:close/>
                  <a:moveTo>
                    <a:pt x="7590" y="1568"/>
                  </a:moveTo>
                  <a:lnTo>
                    <a:pt x="7542" y="1568"/>
                  </a:lnTo>
                  <a:lnTo>
                    <a:pt x="7542" y="1552"/>
                  </a:lnTo>
                  <a:lnTo>
                    <a:pt x="7590" y="1552"/>
                  </a:lnTo>
                  <a:lnTo>
                    <a:pt x="7590" y="1568"/>
                  </a:lnTo>
                  <a:close/>
                  <a:moveTo>
                    <a:pt x="7526" y="1568"/>
                  </a:moveTo>
                  <a:lnTo>
                    <a:pt x="7478" y="1568"/>
                  </a:lnTo>
                  <a:lnTo>
                    <a:pt x="7478" y="1552"/>
                  </a:lnTo>
                  <a:lnTo>
                    <a:pt x="7526" y="1552"/>
                  </a:lnTo>
                  <a:lnTo>
                    <a:pt x="7526" y="1568"/>
                  </a:lnTo>
                  <a:close/>
                  <a:moveTo>
                    <a:pt x="7462" y="1568"/>
                  </a:moveTo>
                  <a:lnTo>
                    <a:pt x="7414" y="1568"/>
                  </a:lnTo>
                  <a:lnTo>
                    <a:pt x="7414" y="1552"/>
                  </a:lnTo>
                  <a:lnTo>
                    <a:pt x="7462" y="1552"/>
                  </a:lnTo>
                  <a:lnTo>
                    <a:pt x="7462" y="1568"/>
                  </a:lnTo>
                  <a:close/>
                  <a:moveTo>
                    <a:pt x="7398" y="1568"/>
                  </a:moveTo>
                  <a:lnTo>
                    <a:pt x="7350" y="1568"/>
                  </a:lnTo>
                  <a:lnTo>
                    <a:pt x="7350" y="1552"/>
                  </a:lnTo>
                  <a:lnTo>
                    <a:pt x="7398" y="1552"/>
                  </a:lnTo>
                  <a:lnTo>
                    <a:pt x="7398" y="1568"/>
                  </a:lnTo>
                  <a:close/>
                  <a:moveTo>
                    <a:pt x="7334" y="1568"/>
                  </a:moveTo>
                  <a:lnTo>
                    <a:pt x="7286" y="1568"/>
                  </a:lnTo>
                  <a:lnTo>
                    <a:pt x="7286" y="1552"/>
                  </a:lnTo>
                  <a:lnTo>
                    <a:pt x="7334" y="1552"/>
                  </a:lnTo>
                  <a:lnTo>
                    <a:pt x="7334" y="1568"/>
                  </a:lnTo>
                  <a:close/>
                  <a:moveTo>
                    <a:pt x="7270" y="1568"/>
                  </a:moveTo>
                  <a:lnTo>
                    <a:pt x="7221" y="1568"/>
                  </a:lnTo>
                  <a:lnTo>
                    <a:pt x="7221" y="1552"/>
                  </a:lnTo>
                  <a:lnTo>
                    <a:pt x="7270" y="1552"/>
                  </a:lnTo>
                  <a:lnTo>
                    <a:pt x="7270" y="1568"/>
                  </a:lnTo>
                  <a:close/>
                  <a:moveTo>
                    <a:pt x="7205" y="1568"/>
                  </a:moveTo>
                  <a:lnTo>
                    <a:pt x="7157" y="1568"/>
                  </a:lnTo>
                  <a:lnTo>
                    <a:pt x="7157" y="1552"/>
                  </a:lnTo>
                  <a:lnTo>
                    <a:pt x="7205" y="1552"/>
                  </a:lnTo>
                  <a:lnTo>
                    <a:pt x="7205" y="1568"/>
                  </a:lnTo>
                  <a:close/>
                  <a:moveTo>
                    <a:pt x="7141" y="1568"/>
                  </a:moveTo>
                  <a:lnTo>
                    <a:pt x="7093" y="1568"/>
                  </a:lnTo>
                  <a:lnTo>
                    <a:pt x="7093" y="1552"/>
                  </a:lnTo>
                  <a:lnTo>
                    <a:pt x="7141" y="1552"/>
                  </a:lnTo>
                  <a:lnTo>
                    <a:pt x="7141" y="1568"/>
                  </a:lnTo>
                  <a:close/>
                  <a:moveTo>
                    <a:pt x="7077" y="1568"/>
                  </a:moveTo>
                  <a:lnTo>
                    <a:pt x="7029" y="1568"/>
                  </a:lnTo>
                  <a:lnTo>
                    <a:pt x="7029" y="1552"/>
                  </a:lnTo>
                  <a:lnTo>
                    <a:pt x="7077" y="1552"/>
                  </a:lnTo>
                  <a:lnTo>
                    <a:pt x="7077" y="1568"/>
                  </a:lnTo>
                  <a:close/>
                  <a:moveTo>
                    <a:pt x="7013" y="1568"/>
                  </a:moveTo>
                  <a:lnTo>
                    <a:pt x="6965" y="1568"/>
                  </a:lnTo>
                  <a:lnTo>
                    <a:pt x="6965" y="1552"/>
                  </a:lnTo>
                  <a:lnTo>
                    <a:pt x="7013" y="1552"/>
                  </a:lnTo>
                  <a:lnTo>
                    <a:pt x="7013" y="1568"/>
                  </a:lnTo>
                  <a:close/>
                  <a:moveTo>
                    <a:pt x="6949" y="1568"/>
                  </a:moveTo>
                  <a:lnTo>
                    <a:pt x="6901" y="1568"/>
                  </a:lnTo>
                  <a:lnTo>
                    <a:pt x="6901" y="1552"/>
                  </a:lnTo>
                  <a:lnTo>
                    <a:pt x="6949" y="1552"/>
                  </a:lnTo>
                  <a:lnTo>
                    <a:pt x="6949" y="1568"/>
                  </a:lnTo>
                  <a:close/>
                  <a:moveTo>
                    <a:pt x="6885" y="1568"/>
                  </a:moveTo>
                  <a:lnTo>
                    <a:pt x="6837" y="1568"/>
                  </a:lnTo>
                  <a:lnTo>
                    <a:pt x="6837" y="1552"/>
                  </a:lnTo>
                  <a:lnTo>
                    <a:pt x="6885" y="1552"/>
                  </a:lnTo>
                  <a:lnTo>
                    <a:pt x="6885" y="1568"/>
                  </a:lnTo>
                  <a:close/>
                  <a:moveTo>
                    <a:pt x="6821" y="1568"/>
                  </a:moveTo>
                  <a:lnTo>
                    <a:pt x="6773" y="1568"/>
                  </a:lnTo>
                  <a:lnTo>
                    <a:pt x="6773" y="1552"/>
                  </a:lnTo>
                  <a:lnTo>
                    <a:pt x="6821" y="1552"/>
                  </a:lnTo>
                  <a:lnTo>
                    <a:pt x="6821" y="1568"/>
                  </a:lnTo>
                  <a:close/>
                  <a:moveTo>
                    <a:pt x="6757" y="1568"/>
                  </a:moveTo>
                  <a:lnTo>
                    <a:pt x="6709" y="1568"/>
                  </a:lnTo>
                  <a:lnTo>
                    <a:pt x="6709" y="1552"/>
                  </a:lnTo>
                  <a:lnTo>
                    <a:pt x="6757" y="1552"/>
                  </a:lnTo>
                  <a:lnTo>
                    <a:pt x="6757" y="1568"/>
                  </a:lnTo>
                  <a:close/>
                  <a:moveTo>
                    <a:pt x="6693" y="1568"/>
                  </a:moveTo>
                  <a:lnTo>
                    <a:pt x="6645" y="1568"/>
                  </a:lnTo>
                  <a:lnTo>
                    <a:pt x="6645" y="1552"/>
                  </a:lnTo>
                  <a:lnTo>
                    <a:pt x="6693" y="1552"/>
                  </a:lnTo>
                  <a:lnTo>
                    <a:pt x="6693" y="1568"/>
                  </a:lnTo>
                  <a:close/>
                  <a:moveTo>
                    <a:pt x="6629" y="1568"/>
                  </a:moveTo>
                  <a:lnTo>
                    <a:pt x="6581" y="1568"/>
                  </a:lnTo>
                  <a:lnTo>
                    <a:pt x="6581" y="1552"/>
                  </a:lnTo>
                  <a:lnTo>
                    <a:pt x="6629" y="1552"/>
                  </a:lnTo>
                  <a:lnTo>
                    <a:pt x="6629" y="1568"/>
                  </a:lnTo>
                  <a:close/>
                  <a:moveTo>
                    <a:pt x="6565" y="1568"/>
                  </a:moveTo>
                  <a:lnTo>
                    <a:pt x="6517" y="1568"/>
                  </a:lnTo>
                  <a:lnTo>
                    <a:pt x="6517" y="1552"/>
                  </a:lnTo>
                  <a:lnTo>
                    <a:pt x="6565" y="1552"/>
                  </a:lnTo>
                  <a:lnTo>
                    <a:pt x="6565" y="1568"/>
                  </a:lnTo>
                  <a:close/>
                  <a:moveTo>
                    <a:pt x="6501" y="1568"/>
                  </a:moveTo>
                  <a:lnTo>
                    <a:pt x="6453" y="1568"/>
                  </a:lnTo>
                  <a:lnTo>
                    <a:pt x="6453" y="1552"/>
                  </a:lnTo>
                  <a:lnTo>
                    <a:pt x="6501" y="1552"/>
                  </a:lnTo>
                  <a:lnTo>
                    <a:pt x="6501" y="1568"/>
                  </a:lnTo>
                  <a:close/>
                  <a:moveTo>
                    <a:pt x="6437" y="1568"/>
                  </a:moveTo>
                  <a:lnTo>
                    <a:pt x="6389" y="1568"/>
                  </a:lnTo>
                  <a:lnTo>
                    <a:pt x="6389" y="1552"/>
                  </a:lnTo>
                  <a:lnTo>
                    <a:pt x="6437" y="1552"/>
                  </a:lnTo>
                  <a:lnTo>
                    <a:pt x="6437" y="1568"/>
                  </a:lnTo>
                  <a:close/>
                  <a:moveTo>
                    <a:pt x="6373" y="1568"/>
                  </a:moveTo>
                  <a:lnTo>
                    <a:pt x="6325" y="1568"/>
                  </a:lnTo>
                  <a:lnTo>
                    <a:pt x="6325" y="1552"/>
                  </a:lnTo>
                  <a:lnTo>
                    <a:pt x="6373" y="1552"/>
                  </a:lnTo>
                  <a:lnTo>
                    <a:pt x="6373" y="1568"/>
                  </a:lnTo>
                  <a:close/>
                  <a:moveTo>
                    <a:pt x="6309" y="1568"/>
                  </a:moveTo>
                  <a:lnTo>
                    <a:pt x="6261" y="1568"/>
                  </a:lnTo>
                  <a:lnTo>
                    <a:pt x="6261" y="1552"/>
                  </a:lnTo>
                  <a:lnTo>
                    <a:pt x="6309" y="1552"/>
                  </a:lnTo>
                  <a:lnTo>
                    <a:pt x="6309" y="1568"/>
                  </a:lnTo>
                  <a:close/>
                  <a:moveTo>
                    <a:pt x="6244" y="1568"/>
                  </a:moveTo>
                  <a:lnTo>
                    <a:pt x="6196" y="1568"/>
                  </a:lnTo>
                  <a:lnTo>
                    <a:pt x="6196" y="1552"/>
                  </a:lnTo>
                  <a:lnTo>
                    <a:pt x="6244" y="1552"/>
                  </a:lnTo>
                  <a:lnTo>
                    <a:pt x="6244" y="1568"/>
                  </a:lnTo>
                  <a:close/>
                  <a:moveTo>
                    <a:pt x="6180" y="1568"/>
                  </a:moveTo>
                  <a:lnTo>
                    <a:pt x="6132" y="1568"/>
                  </a:lnTo>
                  <a:lnTo>
                    <a:pt x="6132" y="1552"/>
                  </a:lnTo>
                  <a:lnTo>
                    <a:pt x="6180" y="1552"/>
                  </a:lnTo>
                  <a:lnTo>
                    <a:pt x="6180" y="1568"/>
                  </a:lnTo>
                  <a:close/>
                  <a:moveTo>
                    <a:pt x="6116" y="1568"/>
                  </a:moveTo>
                  <a:lnTo>
                    <a:pt x="6068" y="1568"/>
                  </a:lnTo>
                  <a:lnTo>
                    <a:pt x="6068" y="1552"/>
                  </a:lnTo>
                  <a:lnTo>
                    <a:pt x="6116" y="1552"/>
                  </a:lnTo>
                  <a:lnTo>
                    <a:pt x="6116" y="1568"/>
                  </a:lnTo>
                  <a:close/>
                  <a:moveTo>
                    <a:pt x="6052" y="1568"/>
                  </a:moveTo>
                  <a:lnTo>
                    <a:pt x="6004" y="1568"/>
                  </a:lnTo>
                  <a:lnTo>
                    <a:pt x="6004" y="1552"/>
                  </a:lnTo>
                  <a:lnTo>
                    <a:pt x="6052" y="1552"/>
                  </a:lnTo>
                  <a:lnTo>
                    <a:pt x="6052" y="1568"/>
                  </a:lnTo>
                  <a:close/>
                  <a:moveTo>
                    <a:pt x="5988" y="1568"/>
                  </a:moveTo>
                  <a:lnTo>
                    <a:pt x="5940" y="1568"/>
                  </a:lnTo>
                  <a:lnTo>
                    <a:pt x="5940" y="1552"/>
                  </a:lnTo>
                  <a:lnTo>
                    <a:pt x="5988" y="1552"/>
                  </a:lnTo>
                  <a:lnTo>
                    <a:pt x="5988" y="1568"/>
                  </a:lnTo>
                  <a:close/>
                  <a:moveTo>
                    <a:pt x="5924" y="1568"/>
                  </a:moveTo>
                  <a:lnTo>
                    <a:pt x="5876" y="1568"/>
                  </a:lnTo>
                  <a:lnTo>
                    <a:pt x="5876" y="1552"/>
                  </a:lnTo>
                  <a:lnTo>
                    <a:pt x="5924" y="1552"/>
                  </a:lnTo>
                  <a:lnTo>
                    <a:pt x="5924" y="1568"/>
                  </a:lnTo>
                  <a:close/>
                  <a:moveTo>
                    <a:pt x="5860" y="1568"/>
                  </a:moveTo>
                  <a:lnTo>
                    <a:pt x="5812" y="1568"/>
                  </a:lnTo>
                  <a:lnTo>
                    <a:pt x="5812" y="1552"/>
                  </a:lnTo>
                  <a:lnTo>
                    <a:pt x="5860" y="1552"/>
                  </a:lnTo>
                  <a:lnTo>
                    <a:pt x="5860" y="1568"/>
                  </a:lnTo>
                  <a:close/>
                  <a:moveTo>
                    <a:pt x="5796" y="1568"/>
                  </a:moveTo>
                  <a:lnTo>
                    <a:pt x="5748" y="1568"/>
                  </a:lnTo>
                  <a:lnTo>
                    <a:pt x="5748" y="1552"/>
                  </a:lnTo>
                  <a:lnTo>
                    <a:pt x="5796" y="1552"/>
                  </a:lnTo>
                  <a:lnTo>
                    <a:pt x="5796" y="1568"/>
                  </a:lnTo>
                  <a:close/>
                  <a:moveTo>
                    <a:pt x="5732" y="1568"/>
                  </a:moveTo>
                  <a:lnTo>
                    <a:pt x="5684" y="1568"/>
                  </a:lnTo>
                  <a:lnTo>
                    <a:pt x="5684" y="1552"/>
                  </a:lnTo>
                  <a:lnTo>
                    <a:pt x="5732" y="1552"/>
                  </a:lnTo>
                  <a:lnTo>
                    <a:pt x="5732" y="1568"/>
                  </a:lnTo>
                  <a:close/>
                  <a:moveTo>
                    <a:pt x="5668" y="1568"/>
                  </a:moveTo>
                  <a:lnTo>
                    <a:pt x="5620" y="1568"/>
                  </a:lnTo>
                  <a:lnTo>
                    <a:pt x="5620" y="1552"/>
                  </a:lnTo>
                  <a:lnTo>
                    <a:pt x="5668" y="1552"/>
                  </a:lnTo>
                  <a:lnTo>
                    <a:pt x="5668" y="1568"/>
                  </a:lnTo>
                  <a:close/>
                  <a:moveTo>
                    <a:pt x="5604" y="1568"/>
                  </a:moveTo>
                  <a:lnTo>
                    <a:pt x="5556" y="1568"/>
                  </a:lnTo>
                  <a:lnTo>
                    <a:pt x="5556" y="1552"/>
                  </a:lnTo>
                  <a:lnTo>
                    <a:pt x="5604" y="1552"/>
                  </a:lnTo>
                  <a:lnTo>
                    <a:pt x="5604" y="1568"/>
                  </a:lnTo>
                  <a:close/>
                  <a:moveTo>
                    <a:pt x="5540" y="1568"/>
                  </a:moveTo>
                  <a:lnTo>
                    <a:pt x="5492" y="1568"/>
                  </a:lnTo>
                  <a:lnTo>
                    <a:pt x="5492" y="1552"/>
                  </a:lnTo>
                  <a:lnTo>
                    <a:pt x="5540" y="1552"/>
                  </a:lnTo>
                  <a:lnTo>
                    <a:pt x="5540" y="1568"/>
                  </a:lnTo>
                  <a:close/>
                  <a:moveTo>
                    <a:pt x="5476" y="1568"/>
                  </a:moveTo>
                  <a:lnTo>
                    <a:pt x="5428" y="1568"/>
                  </a:lnTo>
                  <a:lnTo>
                    <a:pt x="5428" y="1552"/>
                  </a:lnTo>
                  <a:lnTo>
                    <a:pt x="5476" y="1552"/>
                  </a:lnTo>
                  <a:lnTo>
                    <a:pt x="5476" y="1568"/>
                  </a:lnTo>
                  <a:close/>
                  <a:moveTo>
                    <a:pt x="5412" y="1568"/>
                  </a:moveTo>
                  <a:lnTo>
                    <a:pt x="5364" y="1568"/>
                  </a:lnTo>
                  <a:lnTo>
                    <a:pt x="5364" y="1552"/>
                  </a:lnTo>
                  <a:lnTo>
                    <a:pt x="5412" y="1552"/>
                  </a:lnTo>
                  <a:lnTo>
                    <a:pt x="5412" y="1568"/>
                  </a:lnTo>
                  <a:close/>
                  <a:moveTo>
                    <a:pt x="5348" y="1568"/>
                  </a:moveTo>
                  <a:lnTo>
                    <a:pt x="5300" y="1568"/>
                  </a:lnTo>
                  <a:lnTo>
                    <a:pt x="5300" y="1552"/>
                  </a:lnTo>
                  <a:lnTo>
                    <a:pt x="5348" y="1552"/>
                  </a:lnTo>
                  <a:lnTo>
                    <a:pt x="5348" y="1568"/>
                  </a:lnTo>
                  <a:close/>
                  <a:moveTo>
                    <a:pt x="5284" y="1568"/>
                  </a:moveTo>
                  <a:lnTo>
                    <a:pt x="5235" y="1568"/>
                  </a:lnTo>
                  <a:lnTo>
                    <a:pt x="5235" y="1552"/>
                  </a:lnTo>
                  <a:lnTo>
                    <a:pt x="5284" y="1552"/>
                  </a:lnTo>
                  <a:lnTo>
                    <a:pt x="5284" y="1568"/>
                  </a:lnTo>
                  <a:close/>
                  <a:moveTo>
                    <a:pt x="5219" y="1568"/>
                  </a:moveTo>
                  <a:lnTo>
                    <a:pt x="5171" y="1568"/>
                  </a:lnTo>
                  <a:lnTo>
                    <a:pt x="5171" y="1552"/>
                  </a:lnTo>
                  <a:lnTo>
                    <a:pt x="5219" y="1552"/>
                  </a:lnTo>
                  <a:lnTo>
                    <a:pt x="5219" y="1568"/>
                  </a:lnTo>
                  <a:close/>
                  <a:moveTo>
                    <a:pt x="5155" y="1568"/>
                  </a:moveTo>
                  <a:lnTo>
                    <a:pt x="5107" y="1568"/>
                  </a:lnTo>
                  <a:lnTo>
                    <a:pt x="5107" y="1552"/>
                  </a:lnTo>
                  <a:lnTo>
                    <a:pt x="5155" y="1552"/>
                  </a:lnTo>
                  <a:lnTo>
                    <a:pt x="5155" y="1568"/>
                  </a:lnTo>
                  <a:close/>
                  <a:moveTo>
                    <a:pt x="5091" y="1568"/>
                  </a:moveTo>
                  <a:lnTo>
                    <a:pt x="5043" y="1568"/>
                  </a:lnTo>
                  <a:lnTo>
                    <a:pt x="5043" y="1552"/>
                  </a:lnTo>
                  <a:lnTo>
                    <a:pt x="5091" y="1552"/>
                  </a:lnTo>
                  <a:lnTo>
                    <a:pt x="5091" y="1568"/>
                  </a:lnTo>
                  <a:close/>
                  <a:moveTo>
                    <a:pt x="5027" y="1568"/>
                  </a:moveTo>
                  <a:lnTo>
                    <a:pt x="4979" y="1568"/>
                  </a:lnTo>
                  <a:lnTo>
                    <a:pt x="4979" y="1552"/>
                  </a:lnTo>
                  <a:lnTo>
                    <a:pt x="5027" y="1552"/>
                  </a:lnTo>
                  <a:lnTo>
                    <a:pt x="5027" y="1568"/>
                  </a:lnTo>
                  <a:close/>
                  <a:moveTo>
                    <a:pt x="4963" y="1568"/>
                  </a:moveTo>
                  <a:lnTo>
                    <a:pt x="4915" y="1568"/>
                  </a:lnTo>
                  <a:lnTo>
                    <a:pt x="4915" y="1552"/>
                  </a:lnTo>
                  <a:lnTo>
                    <a:pt x="4963" y="1552"/>
                  </a:lnTo>
                  <a:lnTo>
                    <a:pt x="4963" y="1568"/>
                  </a:lnTo>
                  <a:close/>
                  <a:moveTo>
                    <a:pt x="4899" y="1568"/>
                  </a:moveTo>
                  <a:lnTo>
                    <a:pt x="4851" y="1568"/>
                  </a:lnTo>
                  <a:lnTo>
                    <a:pt x="4851" y="1552"/>
                  </a:lnTo>
                  <a:lnTo>
                    <a:pt x="4899" y="1552"/>
                  </a:lnTo>
                  <a:lnTo>
                    <a:pt x="4899" y="1568"/>
                  </a:lnTo>
                  <a:close/>
                  <a:moveTo>
                    <a:pt x="4835" y="1568"/>
                  </a:moveTo>
                  <a:lnTo>
                    <a:pt x="4787" y="1568"/>
                  </a:lnTo>
                  <a:lnTo>
                    <a:pt x="4787" y="1552"/>
                  </a:lnTo>
                  <a:lnTo>
                    <a:pt x="4835" y="1552"/>
                  </a:lnTo>
                  <a:lnTo>
                    <a:pt x="4835" y="1568"/>
                  </a:lnTo>
                  <a:close/>
                  <a:moveTo>
                    <a:pt x="4771" y="1568"/>
                  </a:moveTo>
                  <a:lnTo>
                    <a:pt x="4723" y="1568"/>
                  </a:lnTo>
                  <a:lnTo>
                    <a:pt x="4723" y="1552"/>
                  </a:lnTo>
                  <a:lnTo>
                    <a:pt x="4771" y="1552"/>
                  </a:lnTo>
                  <a:lnTo>
                    <a:pt x="4771" y="1568"/>
                  </a:lnTo>
                  <a:close/>
                  <a:moveTo>
                    <a:pt x="4707" y="1568"/>
                  </a:moveTo>
                  <a:lnTo>
                    <a:pt x="4659" y="1568"/>
                  </a:lnTo>
                  <a:lnTo>
                    <a:pt x="4659" y="1552"/>
                  </a:lnTo>
                  <a:lnTo>
                    <a:pt x="4707" y="1552"/>
                  </a:lnTo>
                  <a:lnTo>
                    <a:pt x="4707" y="1568"/>
                  </a:lnTo>
                  <a:close/>
                  <a:moveTo>
                    <a:pt x="4643" y="1568"/>
                  </a:moveTo>
                  <a:lnTo>
                    <a:pt x="4595" y="1568"/>
                  </a:lnTo>
                  <a:lnTo>
                    <a:pt x="4595" y="1552"/>
                  </a:lnTo>
                  <a:lnTo>
                    <a:pt x="4643" y="1552"/>
                  </a:lnTo>
                  <a:lnTo>
                    <a:pt x="4643" y="1568"/>
                  </a:lnTo>
                  <a:close/>
                  <a:moveTo>
                    <a:pt x="4579" y="1568"/>
                  </a:moveTo>
                  <a:lnTo>
                    <a:pt x="4531" y="1568"/>
                  </a:lnTo>
                  <a:lnTo>
                    <a:pt x="4531" y="1552"/>
                  </a:lnTo>
                  <a:lnTo>
                    <a:pt x="4579" y="1552"/>
                  </a:lnTo>
                  <a:lnTo>
                    <a:pt x="4579" y="1568"/>
                  </a:lnTo>
                  <a:close/>
                  <a:moveTo>
                    <a:pt x="4515" y="1568"/>
                  </a:moveTo>
                  <a:lnTo>
                    <a:pt x="4467" y="1568"/>
                  </a:lnTo>
                  <a:lnTo>
                    <a:pt x="4467" y="1552"/>
                  </a:lnTo>
                  <a:lnTo>
                    <a:pt x="4515" y="1552"/>
                  </a:lnTo>
                  <a:lnTo>
                    <a:pt x="4515" y="1568"/>
                  </a:lnTo>
                  <a:close/>
                  <a:moveTo>
                    <a:pt x="4451" y="1568"/>
                  </a:moveTo>
                  <a:lnTo>
                    <a:pt x="4403" y="1568"/>
                  </a:lnTo>
                  <a:lnTo>
                    <a:pt x="4403" y="1552"/>
                  </a:lnTo>
                  <a:lnTo>
                    <a:pt x="4451" y="1552"/>
                  </a:lnTo>
                  <a:lnTo>
                    <a:pt x="4451" y="1568"/>
                  </a:lnTo>
                  <a:close/>
                  <a:moveTo>
                    <a:pt x="4387" y="1568"/>
                  </a:moveTo>
                  <a:lnTo>
                    <a:pt x="4339" y="1568"/>
                  </a:lnTo>
                  <a:lnTo>
                    <a:pt x="4339" y="1552"/>
                  </a:lnTo>
                  <a:lnTo>
                    <a:pt x="4387" y="1552"/>
                  </a:lnTo>
                  <a:lnTo>
                    <a:pt x="4387" y="1568"/>
                  </a:lnTo>
                  <a:close/>
                  <a:moveTo>
                    <a:pt x="4323" y="1568"/>
                  </a:moveTo>
                  <a:lnTo>
                    <a:pt x="4275" y="1568"/>
                  </a:lnTo>
                  <a:lnTo>
                    <a:pt x="4275" y="1552"/>
                  </a:lnTo>
                  <a:lnTo>
                    <a:pt x="4323" y="1552"/>
                  </a:lnTo>
                  <a:lnTo>
                    <a:pt x="4323" y="1568"/>
                  </a:lnTo>
                  <a:close/>
                  <a:moveTo>
                    <a:pt x="4258" y="1568"/>
                  </a:moveTo>
                  <a:lnTo>
                    <a:pt x="4210" y="1568"/>
                  </a:lnTo>
                  <a:lnTo>
                    <a:pt x="4210" y="1552"/>
                  </a:lnTo>
                  <a:lnTo>
                    <a:pt x="4258" y="1552"/>
                  </a:lnTo>
                  <a:lnTo>
                    <a:pt x="4258" y="1568"/>
                  </a:lnTo>
                  <a:close/>
                  <a:moveTo>
                    <a:pt x="4194" y="1568"/>
                  </a:moveTo>
                  <a:lnTo>
                    <a:pt x="4146" y="1568"/>
                  </a:lnTo>
                  <a:lnTo>
                    <a:pt x="4146" y="1552"/>
                  </a:lnTo>
                  <a:lnTo>
                    <a:pt x="4194" y="1552"/>
                  </a:lnTo>
                  <a:lnTo>
                    <a:pt x="4194" y="1568"/>
                  </a:lnTo>
                  <a:close/>
                  <a:moveTo>
                    <a:pt x="4130" y="1568"/>
                  </a:moveTo>
                  <a:lnTo>
                    <a:pt x="4082" y="1568"/>
                  </a:lnTo>
                  <a:lnTo>
                    <a:pt x="4082" y="1552"/>
                  </a:lnTo>
                  <a:lnTo>
                    <a:pt x="4130" y="1552"/>
                  </a:lnTo>
                  <a:lnTo>
                    <a:pt x="4130" y="1568"/>
                  </a:lnTo>
                  <a:close/>
                  <a:moveTo>
                    <a:pt x="4066" y="1568"/>
                  </a:moveTo>
                  <a:lnTo>
                    <a:pt x="4018" y="1568"/>
                  </a:lnTo>
                  <a:lnTo>
                    <a:pt x="4018" y="1552"/>
                  </a:lnTo>
                  <a:lnTo>
                    <a:pt x="4066" y="1552"/>
                  </a:lnTo>
                  <a:lnTo>
                    <a:pt x="4066" y="1568"/>
                  </a:lnTo>
                  <a:close/>
                  <a:moveTo>
                    <a:pt x="4002" y="1568"/>
                  </a:moveTo>
                  <a:lnTo>
                    <a:pt x="3954" y="1568"/>
                  </a:lnTo>
                  <a:lnTo>
                    <a:pt x="3954" y="1552"/>
                  </a:lnTo>
                  <a:lnTo>
                    <a:pt x="4002" y="1552"/>
                  </a:lnTo>
                  <a:lnTo>
                    <a:pt x="4002" y="1568"/>
                  </a:lnTo>
                  <a:close/>
                  <a:moveTo>
                    <a:pt x="3938" y="1568"/>
                  </a:moveTo>
                  <a:lnTo>
                    <a:pt x="3890" y="1568"/>
                  </a:lnTo>
                  <a:lnTo>
                    <a:pt x="3890" y="1552"/>
                  </a:lnTo>
                  <a:lnTo>
                    <a:pt x="3938" y="1552"/>
                  </a:lnTo>
                  <a:lnTo>
                    <a:pt x="3938" y="1568"/>
                  </a:lnTo>
                  <a:close/>
                  <a:moveTo>
                    <a:pt x="3874" y="1568"/>
                  </a:moveTo>
                  <a:lnTo>
                    <a:pt x="3826" y="1568"/>
                  </a:lnTo>
                  <a:lnTo>
                    <a:pt x="3826" y="1552"/>
                  </a:lnTo>
                  <a:lnTo>
                    <a:pt x="3874" y="1552"/>
                  </a:lnTo>
                  <a:lnTo>
                    <a:pt x="3874" y="1568"/>
                  </a:lnTo>
                  <a:close/>
                  <a:moveTo>
                    <a:pt x="3810" y="1568"/>
                  </a:moveTo>
                  <a:lnTo>
                    <a:pt x="3762" y="1568"/>
                  </a:lnTo>
                  <a:lnTo>
                    <a:pt x="3762" y="1552"/>
                  </a:lnTo>
                  <a:lnTo>
                    <a:pt x="3810" y="1552"/>
                  </a:lnTo>
                  <a:lnTo>
                    <a:pt x="3810" y="1568"/>
                  </a:lnTo>
                  <a:close/>
                  <a:moveTo>
                    <a:pt x="3746" y="1568"/>
                  </a:moveTo>
                  <a:lnTo>
                    <a:pt x="3698" y="1568"/>
                  </a:lnTo>
                  <a:lnTo>
                    <a:pt x="3698" y="1552"/>
                  </a:lnTo>
                  <a:lnTo>
                    <a:pt x="3746" y="1552"/>
                  </a:lnTo>
                  <a:lnTo>
                    <a:pt x="3746" y="1568"/>
                  </a:lnTo>
                  <a:close/>
                  <a:moveTo>
                    <a:pt x="3682" y="1568"/>
                  </a:moveTo>
                  <a:lnTo>
                    <a:pt x="3634" y="1568"/>
                  </a:lnTo>
                  <a:lnTo>
                    <a:pt x="3634" y="1552"/>
                  </a:lnTo>
                  <a:lnTo>
                    <a:pt x="3682" y="1552"/>
                  </a:lnTo>
                  <a:lnTo>
                    <a:pt x="3682" y="1568"/>
                  </a:lnTo>
                  <a:close/>
                  <a:moveTo>
                    <a:pt x="3618" y="1568"/>
                  </a:moveTo>
                  <a:lnTo>
                    <a:pt x="3570" y="1568"/>
                  </a:lnTo>
                  <a:lnTo>
                    <a:pt x="3570" y="1552"/>
                  </a:lnTo>
                  <a:lnTo>
                    <a:pt x="3618" y="1552"/>
                  </a:lnTo>
                  <a:lnTo>
                    <a:pt x="3618" y="1568"/>
                  </a:lnTo>
                  <a:close/>
                  <a:moveTo>
                    <a:pt x="3554" y="1568"/>
                  </a:moveTo>
                  <a:lnTo>
                    <a:pt x="3506" y="1568"/>
                  </a:lnTo>
                  <a:lnTo>
                    <a:pt x="3506" y="1552"/>
                  </a:lnTo>
                  <a:lnTo>
                    <a:pt x="3554" y="1552"/>
                  </a:lnTo>
                  <a:lnTo>
                    <a:pt x="3554" y="1568"/>
                  </a:lnTo>
                  <a:close/>
                  <a:moveTo>
                    <a:pt x="3490" y="1568"/>
                  </a:moveTo>
                  <a:lnTo>
                    <a:pt x="3442" y="1568"/>
                  </a:lnTo>
                  <a:lnTo>
                    <a:pt x="3442" y="1552"/>
                  </a:lnTo>
                  <a:lnTo>
                    <a:pt x="3490" y="1552"/>
                  </a:lnTo>
                  <a:lnTo>
                    <a:pt x="3490" y="1568"/>
                  </a:lnTo>
                  <a:close/>
                  <a:moveTo>
                    <a:pt x="3426" y="1568"/>
                  </a:moveTo>
                  <a:lnTo>
                    <a:pt x="3378" y="1568"/>
                  </a:lnTo>
                  <a:lnTo>
                    <a:pt x="3378" y="1552"/>
                  </a:lnTo>
                  <a:lnTo>
                    <a:pt x="3426" y="1552"/>
                  </a:lnTo>
                  <a:lnTo>
                    <a:pt x="3426" y="1568"/>
                  </a:lnTo>
                  <a:close/>
                  <a:moveTo>
                    <a:pt x="3362" y="1568"/>
                  </a:moveTo>
                  <a:lnTo>
                    <a:pt x="3314" y="1568"/>
                  </a:lnTo>
                  <a:lnTo>
                    <a:pt x="3314" y="1552"/>
                  </a:lnTo>
                  <a:lnTo>
                    <a:pt x="3362" y="1552"/>
                  </a:lnTo>
                  <a:lnTo>
                    <a:pt x="3362" y="1568"/>
                  </a:lnTo>
                  <a:close/>
                  <a:moveTo>
                    <a:pt x="3298" y="1568"/>
                  </a:moveTo>
                  <a:lnTo>
                    <a:pt x="3249" y="1568"/>
                  </a:lnTo>
                  <a:lnTo>
                    <a:pt x="3249" y="1552"/>
                  </a:lnTo>
                  <a:lnTo>
                    <a:pt x="3298" y="1552"/>
                  </a:lnTo>
                  <a:lnTo>
                    <a:pt x="3298" y="1568"/>
                  </a:lnTo>
                  <a:close/>
                  <a:moveTo>
                    <a:pt x="3233" y="1568"/>
                  </a:moveTo>
                  <a:lnTo>
                    <a:pt x="3185" y="1568"/>
                  </a:lnTo>
                  <a:lnTo>
                    <a:pt x="3185" y="1552"/>
                  </a:lnTo>
                  <a:lnTo>
                    <a:pt x="3233" y="1552"/>
                  </a:lnTo>
                  <a:lnTo>
                    <a:pt x="3233" y="1568"/>
                  </a:lnTo>
                  <a:close/>
                  <a:moveTo>
                    <a:pt x="3169" y="1568"/>
                  </a:moveTo>
                  <a:lnTo>
                    <a:pt x="3121" y="1568"/>
                  </a:lnTo>
                  <a:lnTo>
                    <a:pt x="3121" y="1552"/>
                  </a:lnTo>
                  <a:lnTo>
                    <a:pt x="3169" y="1552"/>
                  </a:lnTo>
                  <a:lnTo>
                    <a:pt x="3169" y="1568"/>
                  </a:lnTo>
                  <a:close/>
                  <a:moveTo>
                    <a:pt x="3105" y="1568"/>
                  </a:moveTo>
                  <a:lnTo>
                    <a:pt x="3057" y="1568"/>
                  </a:lnTo>
                  <a:lnTo>
                    <a:pt x="3057" y="1552"/>
                  </a:lnTo>
                  <a:lnTo>
                    <a:pt x="3105" y="1552"/>
                  </a:lnTo>
                  <a:lnTo>
                    <a:pt x="3105" y="1568"/>
                  </a:lnTo>
                  <a:close/>
                  <a:moveTo>
                    <a:pt x="3041" y="1568"/>
                  </a:moveTo>
                  <a:lnTo>
                    <a:pt x="2993" y="1568"/>
                  </a:lnTo>
                  <a:lnTo>
                    <a:pt x="2993" y="1552"/>
                  </a:lnTo>
                  <a:lnTo>
                    <a:pt x="3041" y="1552"/>
                  </a:lnTo>
                  <a:lnTo>
                    <a:pt x="3041" y="1568"/>
                  </a:lnTo>
                  <a:close/>
                  <a:moveTo>
                    <a:pt x="2977" y="1568"/>
                  </a:moveTo>
                  <a:lnTo>
                    <a:pt x="2929" y="1568"/>
                  </a:lnTo>
                  <a:lnTo>
                    <a:pt x="2929" y="1552"/>
                  </a:lnTo>
                  <a:lnTo>
                    <a:pt x="2977" y="1552"/>
                  </a:lnTo>
                  <a:lnTo>
                    <a:pt x="2977" y="1568"/>
                  </a:lnTo>
                  <a:close/>
                  <a:moveTo>
                    <a:pt x="2913" y="1568"/>
                  </a:moveTo>
                  <a:lnTo>
                    <a:pt x="2865" y="1568"/>
                  </a:lnTo>
                  <a:lnTo>
                    <a:pt x="2865" y="1552"/>
                  </a:lnTo>
                  <a:lnTo>
                    <a:pt x="2913" y="1552"/>
                  </a:lnTo>
                  <a:lnTo>
                    <a:pt x="2913" y="1568"/>
                  </a:lnTo>
                  <a:close/>
                  <a:moveTo>
                    <a:pt x="2849" y="1568"/>
                  </a:moveTo>
                  <a:lnTo>
                    <a:pt x="2801" y="1568"/>
                  </a:lnTo>
                  <a:lnTo>
                    <a:pt x="2801" y="1552"/>
                  </a:lnTo>
                  <a:lnTo>
                    <a:pt x="2849" y="1552"/>
                  </a:lnTo>
                  <a:lnTo>
                    <a:pt x="2849" y="1568"/>
                  </a:lnTo>
                  <a:close/>
                  <a:moveTo>
                    <a:pt x="2785" y="1568"/>
                  </a:moveTo>
                  <a:lnTo>
                    <a:pt x="2737" y="1568"/>
                  </a:lnTo>
                  <a:lnTo>
                    <a:pt x="2737" y="1552"/>
                  </a:lnTo>
                  <a:lnTo>
                    <a:pt x="2785" y="1552"/>
                  </a:lnTo>
                  <a:lnTo>
                    <a:pt x="2785" y="1568"/>
                  </a:lnTo>
                  <a:close/>
                  <a:moveTo>
                    <a:pt x="2721" y="1568"/>
                  </a:moveTo>
                  <a:lnTo>
                    <a:pt x="2673" y="1568"/>
                  </a:lnTo>
                  <a:lnTo>
                    <a:pt x="2673" y="1552"/>
                  </a:lnTo>
                  <a:lnTo>
                    <a:pt x="2721" y="1552"/>
                  </a:lnTo>
                  <a:lnTo>
                    <a:pt x="2721" y="1568"/>
                  </a:lnTo>
                  <a:close/>
                  <a:moveTo>
                    <a:pt x="2657" y="1568"/>
                  </a:moveTo>
                  <a:lnTo>
                    <a:pt x="2609" y="1568"/>
                  </a:lnTo>
                  <a:lnTo>
                    <a:pt x="2609" y="1552"/>
                  </a:lnTo>
                  <a:lnTo>
                    <a:pt x="2657" y="1552"/>
                  </a:lnTo>
                  <a:lnTo>
                    <a:pt x="2657" y="1568"/>
                  </a:lnTo>
                  <a:close/>
                  <a:moveTo>
                    <a:pt x="2593" y="1568"/>
                  </a:moveTo>
                  <a:lnTo>
                    <a:pt x="2545" y="1568"/>
                  </a:lnTo>
                  <a:lnTo>
                    <a:pt x="2545" y="1552"/>
                  </a:lnTo>
                  <a:lnTo>
                    <a:pt x="2593" y="1552"/>
                  </a:lnTo>
                  <a:lnTo>
                    <a:pt x="2593" y="1568"/>
                  </a:lnTo>
                  <a:close/>
                  <a:moveTo>
                    <a:pt x="2529" y="1568"/>
                  </a:moveTo>
                  <a:lnTo>
                    <a:pt x="2481" y="1568"/>
                  </a:lnTo>
                  <a:lnTo>
                    <a:pt x="2481" y="1552"/>
                  </a:lnTo>
                  <a:lnTo>
                    <a:pt x="2529" y="1552"/>
                  </a:lnTo>
                  <a:lnTo>
                    <a:pt x="2529" y="1568"/>
                  </a:lnTo>
                  <a:close/>
                  <a:moveTo>
                    <a:pt x="2465" y="1568"/>
                  </a:moveTo>
                  <a:lnTo>
                    <a:pt x="2417" y="1568"/>
                  </a:lnTo>
                  <a:lnTo>
                    <a:pt x="2417" y="1552"/>
                  </a:lnTo>
                  <a:lnTo>
                    <a:pt x="2465" y="1552"/>
                  </a:lnTo>
                  <a:lnTo>
                    <a:pt x="2465" y="1568"/>
                  </a:lnTo>
                  <a:close/>
                  <a:moveTo>
                    <a:pt x="2401" y="1568"/>
                  </a:moveTo>
                  <a:lnTo>
                    <a:pt x="2353" y="1568"/>
                  </a:lnTo>
                  <a:lnTo>
                    <a:pt x="2353" y="1552"/>
                  </a:lnTo>
                  <a:lnTo>
                    <a:pt x="2401" y="1552"/>
                  </a:lnTo>
                  <a:lnTo>
                    <a:pt x="2401" y="1568"/>
                  </a:lnTo>
                  <a:close/>
                  <a:moveTo>
                    <a:pt x="2337" y="1568"/>
                  </a:moveTo>
                  <a:lnTo>
                    <a:pt x="2289" y="1568"/>
                  </a:lnTo>
                  <a:lnTo>
                    <a:pt x="2289" y="1552"/>
                  </a:lnTo>
                  <a:lnTo>
                    <a:pt x="2337" y="1552"/>
                  </a:lnTo>
                  <a:lnTo>
                    <a:pt x="2337" y="1568"/>
                  </a:lnTo>
                  <a:close/>
                  <a:moveTo>
                    <a:pt x="2273" y="1568"/>
                  </a:moveTo>
                  <a:lnTo>
                    <a:pt x="2224" y="1568"/>
                  </a:lnTo>
                  <a:lnTo>
                    <a:pt x="2224" y="1552"/>
                  </a:lnTo>
                  <a:lnTo>
                    <a:pt x="2273" y="1552"/>
                  </a:lnTo>
                  <a:lnTo>
                    <a:pt x="2273" y="1568"/>
                  </a:lnTo>
                  <a:close/>
                  <a:moveTo>
                    <a:pt x="2208" y="1568"/>
                  </a:moveTo>
                  <a:lnTo>
                    <a:pt x="2160" y="1568"/>
                  </a:lnTo>
                  <a:lnTo>
                    <a:pt x="2160" y="1552"/>
                  </a:lnTo>
                  <a:lnTo>
                    <a:pt x="2208" y="1552"/>
                  </a:lnTo>
                  <a:lnTo>
                    <a:pt x="2208" y="1568"/>
                  </a:lnTo>
                  <a:close/>
                  <a:moveTo>
                    <a:pt x="2144" y="1568"/>
                  </a:moveTo>
                  <a:lnTo>
                    <a:pt x="2096" y="1568"/>
                  </a:lnTo>
                  <a:lnTo>
                    <a:pt x="2096" y="1552"/>
                  </a:lnTo>
                  <a:lnTo>
                    <a:pt x="2144" y="1552"/>
                  </a:lnTo>
                  <a:lnTo>
                    <a:pt x="2144" y="1568"/>
                  </a:lnTo>
                  <a:close/>
                  <a:moveTo>
                    <a:pt x="2080" y="1568"/>
                  </a:moveTo>
                  <a:lnTo>
                    <a:pt x="2032" y="1568"/>
                  </a:lnTo>
                  <a:lnTo>
                    <a:pt x="2032" y="1552"/>
                  </a:lnTo>
                  <a:lnTo>
                    <a:pt x="2080" y="1552"/>
                  </a:lnTo>
                  <a:lnTo>
                    <a:pt x="2080" y="1568"/>
                  </a:lnTo>
                  <a:close/>
                  <a:moveTo>
                    <a:pt x="2016" y="1568"/>
                  </a:moveTo>
                  <a:lnTo>
                    <a:pt x="1968" y="1568"/>
                  </a:lnTo>
                  <a:lnTo>
                    <a:pt x="1968" y="1552"/>
                  </a:lnTo>
                  <a:lnTo>
                    <a:pt x="2016" y="1552"/>
                  </a:lnTo>
                  <a:lnTo>
                    <a:pt x="2016" y="1568"/>
                  </a:lnTo>
                  <a:close/>
                  <a:moveTo>
                    <a:pt x="1952" y="1568"/>
                  </a:moveTo>
                  <a:lnTo>
                    <a:pt x="1904" y="1568"/>
                  </a:lnTo>
                  <a:lnTo>
                    <a:pt x="1904" y="1552"/>
                  </a:lnTo>
                  <a:lnTo>
                    <a:pt x="1952" y="1552"/>
                  </a:lnTo>
                  <a:lnTo>
                    <a:pt x="1952" y="1568"/>
                  </a:lnTo>
                  <a:close/>
                  <a:moveTo>
                    <a:pt x="1888" y="1568"/>
                  </a:moveTo>
                  <a:lnTo>
                    <a:pt x="1840" y="1568"/>
                  </a:lnTo>
                  <a:lnTo>
                    <a:pt x="1840" y="1552"/>
                  </a:lnTo>
                  <a:lnTo>
                    <a:pt x="1888" y="1552"/>
                  </a:lnTo>
                  <a:lnTo>
                    <a:pt x="1888" y="1568"/>
                  </a:lnTo>
                  <a:close/>
                  <a:moveTo>
                    <a:pt x="1824" y="1568"/>
                  </a:moveTo>
                  <a:lnTo>
                    <a:pt x="1776" y="1568"/>
                  </a:lnTo>
                  <a:lnTo>
                    <a:pt x="1776" y="1552"/>
                  </a:lnTo>
                  <a:lnTo>
                    <a:pt x="1824" y="1552"/>
                  </a:lnTo>
                  <a:lnTo>
                    <a:pt x="1824" y="1568"/>
                  </a:lnTo>
                  <a:close/>
                  <a:moveTo>
                    <a:pt x="1760" y="1568"/>
                  </a:moveTo>
                  <a:lnTo>
                    <a:pt x="1712" y="1568"/>
                  </a:lnTo>
                  <a:lnTo>
                    <a:pt x="1712" y="1552"/>
                  </a:lnTo>
                  <a:lnTo>
                    <a:pt x="1760" y="1552"/>
                  </a:lnTo>
                  <a:lnTo>
                    <a:pt x="1760" y="1568"/>
                  </a:lnTo>
                  <a:close/>
                  <a:moveTo>
                    <a:pt x="1696" y="1568"/>
                  </a:moveTo>
                  <a:lnTo>
                    <a:pt x="1648" y="1568"/>
                  </a:lnTo>
                  <a:lnTo>
                    <a:pt x="1648" y="1552"/>
                  </a:lnTo>
                  <a:lnTo>
                    <a:pt x="1696" y="1552"/>
                  </a:lnTo>
                  <a:lnTo>
                    <a:pt x="1696" y="1568"/>
                  </a:lnTo>
                  <a:close/>
                  <a:moveTo>
                    <a:pt x="1632" y="1568"/>
                  </a:moveTo>
                  <a:lnTo>
                    <a:pt x="1584" y="1568"/>
                  </a:lnTo>
                  <a:lnTo>
                    <a:pt x="1584" y="1552"/>
                  </a:lnTo>
                  <a:lnTo>
                    <a:pt x="1632" y="1552"/>
                  </a:lnTo>
                  <a:lnTo>
                    <a:pt x="1632" y="1568"/>
                  </a:lnTo>
                  <a:close/>
                  <a:moveTo>
                    <a:pt x="1568" y="1568"/>
                  </a:moveTo>
                  <a:lnTo>
                    <a:pt x="1520" y="1568"/>
                  </a:lnTo>
                  <a:lnTo>
                    <a:pt x="1520" y="1552"/>
                  </a:lnTo>
                  <a:lnTo>
                    <a:pt x="1568" y="1552"/>
                  </a:lnTo>
                  <a:lnTo>
                    <a:pt x="1568" y="1568"/>
                  </a:lnTo>
                  <a:close/>
                  <a:moveTo>
                    <a:pt x="1504" y="1568"/>
                  </a:moveTo>
                  <a:lnTo>
                    <a:pt x="1456" y="1568"/>
                  </a:lnTo>
                  <a:lnTo>
                    <a:pt x="1456" y="1552"/>
                  </a:lnTo>
                  <a:lnTo>
                    <a:pt x="1504" y="1552"/>
                  </a:lnTo>
                  <a:lnTo>
                    <a:pt x="1504" y="1568"/>
                  </a:lnTo>
                  <a:close/>
                  <a:moveTo>
                    <a:pt x="1440" y="1568"/>
                  </a:moveTo>
                  <a:lnTo>
                    <a:pt x="1392" y="1568"/>
                  </a:lnTo>
                  <a:lnTo>
                    <a:pt x="1392" y="1552"/>
                  </a:lnTo>
                  <a:lnTo>
                    <a:pt x="1440" y="1552"/>
                  </a:lnTo>
                  <a:lnTo>
                    <a:pt x="1440" y="1568"/>
                  </a:lnTo>
                  <a:close/>
                  <a:moveTo>
                    <a:pt x="1376" y="1568"/>
                  </a:moveTo>
                  <a:lnTo>
                    <a:pt x="1328" y="1568"/>
                  </a:lnTo>
                  <a:lnTo>
                    <a:pt x="1328" y="1552"/>
                  </a:lnTo>
                  <a:lnTo>
                    <a:pt x="1376" y="1552"/>
                  </a:lnTo>
                  <a:lnTo>
                    <a:pt x="1376" y="1568"/>
                  </a:lnTo>
                  <a:close/>
                  <a:moveTo>
                    <a:pt x="1312" y="1568"/>
                  </a:moveTo>
                  <a:lnTo>
                    <a:pt x="1263" y="1568"/>
                  </a:lnTo>
                  <a:lnTo>
                    <a:pt x="1263" y="1552"/>
                  </a:lnTo>
                  <a:lnTo>
                    <a:pt x="1312" y="1552"/>
                  </a:lnTo>
                  <a:lnTo>
                    <a:pt x="1312" y="1568"/>
                  </a:lnTo>
                  <a:close/>
                  <a:moveTo>
                    <a:pt x="1247" y="1568"/>
                  </a:moveTo>
                  <a:lnTo>
                    <a:pt x="1199" y="1568"/>
                  </a:lnTo>
                  <a:lnTo>
                    <a:pt x="1199" y="1552"/>
                  </a:lnTo>
                  <a:lnTo>
                    <a:pt x="1247" y="1552"/>
                  </a:lnTo>
                  <a:lnTo>
                    <a:pt x="1247" y="1568"/>
                  </a:lnTo>
                  <a:close/>
                  <a:moveTo>
                    <a:pt x="1183" y="1568"/>
                  </a:moveTo>
                  <a:lnTo>
                    <a:pt x="1135" y="1568"/>
                  </a:lnTo>
                  <a:lnTo>
                    <a:pt x="1135" y="1552"/>
                  </a:lnTo>
                  <a:lnTo>
                    <a:pt x="1183" y="1552"/>
                  </a:lnTo>
                  <a:lnTo>
                    <a:pt x="1183" y="1568"/>
                  </a:lnTo>
                  <a:close/>
                  <a:moveTo>
                    <a:pt x="1119" y="1568"/>
                  </a:moveTo>
                  <a:lnTo>
                    <a:pt x="1071" y="1568"/>
                  </a:lnTo>
                  <a:lnTo>
                    <a:pt x="1071" y="1552"/>
                  </a:lnTo>
                  <a:lnTo>
                    <a:pt x="1119" y="1552"/>
                  </a:lnTo>
                  <a:lnTo>
                    <a:pt x="1119" y="1568"/>
                  </a:lnTo>
                  <a:close/>
                  <a:moveTo>
                    <a:pt x="1055" y="1568"/>
                  </a:moveTo>
                  <a:lnTo>
                    <a:pt x="1007" y="1568"/>
                  </a:lnTo>
                  <a:lnTo>
                    <a:pt x="1007" y="1552"/>
                  </a:lnTo>
                  <a:lnTo>
                    <a:pt x="1055" y="1552"/>
                  </a:lnTo>
                  <a:lnTo>
                    <a:pt x="1055" y="1568"/>
                  </a:lnTo>
                  <a:close/>
                  <a:moveTo>
                    <a:pt x="991" y="1568"/>
                  </a:moveTo>
                  <a:lnTo>
                    <a:pt x="943" y="1568"/>
                  </a:lnTo>
                  <a:lnTo>
                    <a:pt x="943" y="1552"/>
                  </a:lnTo>
                  <a:lnTo>
                    <a:pt x="991" y="1552"/>
                  </a:lnTo>
                  <a:lnTo>
                    <a:pt x="991" y="1568"/>
                  </a:lnTo>
                  <a:close/>
                  <a:moveTo>
                    <a:pt x="927" y="1568"/>
                  </a:moveTo>
                  <a:lnTo>
                    <a:pt x="879" y="1568"/>
                  </a:lnTo>
                  <a:lnTo>
                    <a:pt x="879" y="1552"/>
                  </a:lnTo>
                  <a:lnTo>
                    <a:pt x="927" y="1552"/>
                  </a:lnTo>
                  <a:lnTo>
                    <a:pt x="927" y="1568"/>
                  </a:lnTo>
                  <a:close/>
                  <a:moveTo>
                    <a:pt x="863" y="1568"/>
                  </a:moveTo>
                  <a:lnTo>
                    <a:pt x="815" y="1568"/>
                  </a:lnTo>
                  <a:lnTo>
                    <a:pt x="815" y="1552"/>
                  </a:lnTo>
                  <a:lnTo>
                    <a:pt x="863" y="1552"/>
                  </a:lnTo>
                  <a:lnTo>
                    <a:pt x="863" y="1568"/>
                  </a:lnTo>
                  <a:close/>
                  <a:moveTo>
                    <a:pt x="799" y="1568"/>
                  </a:moveTo>
                  <a:lnTo>
                    <a:pt x="751" y="1568"/>
                  </a:lnTo>
                  <a:lnTo>
                    <a:pt x="751" y="1552"/>
                  </a:lnTo>
                  <a:lnTo>
                    <a:pt x="799" y="1552"/>
                  </a:lnTo>
                  <a:lnTo>
                    <a:pt x="799" y="1568"/>
                  </a:lnTo>
                  <a:close/>
                  <a:moveTo>
                    <a:pt x="735" y="1568"/>
                  </a:moveTo>
                  <a:lnTo>
                    <a:pt x="687" y="1568"/>
                  </a:lnTo>
                  <a:lnTo>
                    <a:pt x="687" y="1552"/>
                  </a:lnTo>
                  <a:lnTo>
                    <a:pt x="735" y="1552"/>
                  </a:lnTo>
                  <a:lnTo>
                    <a:pt x="735" y="1568"/>
                  </a:lnTo>
                  <a:close/>
                  <a:moveTo>
                    <a:pt x="671" y="1568"/>
                  </a:moveTo>
                  <a:lnTo>
                    <a:pt x="623" y="1568"/>
                  </a:lnTo>
                  <a:lnTo>
                    <a:pt x="623" y="1552"/>
                  </a:lnTo>
                  <a:lnTo>
                    <a:pt x="671" y="1552"/>
                  </a:lnTo>
                  <a:lnTo>
                    <a:pt x="671" y="1568"/>
                  </a:lnTo>
                  <a:close/>
                  <a:moveTo>
                    <a:pt x="607" y="1568"/>
                  </a:moveTo>
                  <a:lnTo>
                    <a:pt x="559" y="1568"/>
                  </a:lnTo>
                  <a:lnTo>
                    <a:pt x="559" y="1552"/>
                  </a:lnTo>
                  <a:lnTo>
                    <a:pt x="607" y="1552"/>
                  </a:lnTo>
                  <a:lnTo>
                    <a:pt x="607" y="1568"/>
                  </a:lnTo>
                  <a:close/>
                  <a:moveTo>
                    <a:pt x="543" y="1568"/>
                  </a:moveTo>
                  <a:lnTo>
                    <a:pt x="495" y="1568"/>
                  </a:lnTo>
                  <a:lnTo>
                    <a:pt x="495" y="1552"/>
                  </a:lnTo>
                  <a:lnTo>
                    <a:pt x="543" y="1552"/>
                  </a:lnTo>
                  <a:lnTo>
                    <a:pt x="543" y="1568"/>
                  </a:lnTo>
                  <a:close/>
                  <a:moveTo>
                    <a:pt x="479" y="1568"/>
                  </a:moveTo>
                  <a:lnTo>
                    <a:pt x="431" y="1568"/>
                  </a:lnTo>
                  <a:lnTo>
                    <a:pt x="431" y="1552"/>
                  </a:lnTo>
                  <a:lnTo>
                    <a:pt x="479" y="1552"/>
                  </a:lnTo>
                  <a:lnTo>
                    <a:pt x="479" y="1568"/>
                  </a:lnTo>
                  <a:close/>
                  <a:moveTo>
                    <a:pt x="415" y="1568"/>
                  </a:moveTo>
                  <a:lnTo>
                    <a:pt x="367" y="1568"/>
                  </a:lnTo>
                  <a:lnTo>
                    <a:pt x="367" y="1552"/>
                  </a:lnTo>
                  <a:lnTo>
                    <a:pt x="415" y="1552"/>
                  </a:lnTo>
                  <a:lnTo>
                    <a:pt x="415" y="1568"/>
                  </a:lnTo>
                  <a:close/>
                  <a:moveTo>
                    <a:pt x="351" y="1568"/>
                  </a:moveTo>
                  <a:lnTo>
                    <a:pt x="303" y="1568"/>
                  </a:lnTo>
                  <a:lnTo>
                    <a:pt x="303" y="1552"/>
                  </a:lnTo>
                  <a:lnTo>
                    <a:pt x="351" y="1552"/>
                  </a:lnTo>
                  <a:lnTo>
                    <a:pt x="351" y="1568"/>
                  </a:lnTo>
                  <a:close/>
                  <a:moveTo>
                    <a:pt x="287" y="1568"/>
                  </a:moveTo>
                  <a:lnTo>
                    <a:pt x="267" y="1568"/>
                  </a:lnTo>
                  <a:lnTo>
                    <a:pt x="267" y="1552"/>
                  </a:lnTo>
                  <a:lnTo>
                    <a:pt x="287" y="1552"/>
                  </a:lnTo>
                  <a:lnTo>
                    <a:pt x="287" y="1568"/>
                  </a:lnTo>
                  <a:close/>
                  <a:moveTo>
                    <a:pt x="267" y="1568"/>
                  </a:moveTo>
                  <a:lnTo>
                    <a:pt x="238" y="1566"/>
                  </a:lnTo>
                  <a:lnTo>
                    <a:pt x="239" y="1550"/>
                  </a:lnTo>
                  <a:lnTo>
                    <a:pt x="268" y="1552"/>
                  </a:lnTo>
                  <a:lnTo>
                    <a:pt x="267" y="1568"/>
                  </a:lnTo>
                  <a:close/>
                  <a:moveTo>
                    <a:pt x="222" y="1564"/>
                  </a:moveTo>
                  <a:lnTo>
                    <a:pt x="215" y="1563"/>
                  </a:lnTo>
                  <a:cubicBezTo>
                    <a:pt x="214" y="1563"/>
                    <a:pt x="214" y="1563"/>
                    <a:pt x="213" y="1563"/>
                  </a:cubicBezTo>
                  <a:lnTo>
                    <a:pt x="174" y="1551"/>
                  </a:lnTo>
                  <a:lnTo>
                    <a:pt x="179" y="1536"/>
                  </a:lnTo>
                  <a:lnTo>
                    <a:pt x="218" y="1548"/>
                  </a:lnTo>
                  <a:lnTo>
                    <a:pt x="216" y="1547"/>
                  </a:lnTo>
                  <a:lnTo>
                    <a:pt x="223" y="1548"/>
                  </a:lnTo>
                  <a:lnTo>
                    <a:pt x="222" y="1564"/>
                  </a:lnTo>
                  <a:close/>
                  <a:moveTo>
                    <a:pt x="158" y="1545"/>
                  </a:moveTo>
                  <a:lnTo>
                    <a:pt x="119" y="1523"/>
                  </a:lnTo>
                  <a:cubicBezTo>
                    <a:pt x="118" y="1523"/>
                    <a:pt x="118" y="1523"/>
                    <a:pt x="117" y="1523"/>
                  </a:cubicBezTo>
                  <a:lnTo>
                    <a:pt x="115" y="1520"/>
                  </a:lnTo>
                  <a:lnTo>
                    <a:pt x="125" y="1508"/>
                  </a:lnTo>
                  <a:lnTo>
                    <a:pt x="128" y="1510"/>
                  </a:lnTo>
                  <a:lnTo>
                    <a:pt x="126" y="1509"/>
                  </a:lnTo>
                  <a:lnTo>
                    <a:pt x="165" y="1531"/>
                  </a:lnTo>
                  <a:lnTo>
                    <a:pt x="158" y="1545"/>
                  </a:lnTo>
                  <a:close/>
                  <a:moveTo>
                    <a:pt x="102" y="1510"/>
                  </a:moveTo>
                  <a:lnTo>
                    <a:pt x="79" y="1492"/>
                  </a:lnTo>
                  <a:cubicBezTo>
                    <a:pt x="79" y="1491"/>
                    <a:pt x="79" y="1491"/>
                    <a:pt x="78" y="1491"/>
                  </a:cubicBezTo>
                  <a:lnTo>
                    <a:pt x="67" y="1476"/>
                  </a:lnTo>
                  <a:lnTo>
                    <a:pt x="79" y="1466"/>
                  </a:lnTo>
                  <a:lnTo>
                    <a:pt x="91" y="1480"/>
                  </a:lnTo>
                  <a:lnTo>
                    <a:pt x="90" y="1479"/>
                  </a:lnTo>
                  <a:lnTo>
                    <a:pt x="112" y="1498"/>
                  </a:lnTo>
                  <a:lnTo>
                    <a:pt x="102" y="1510"/>
                  </a:lnTo>
                  <a:close/>
                  <a:moveTo>
                    <a:pt x="56" y="1464"/>
                  </a:moveTo>
                  <a:lnTo>
                    <a:pt x="46" y="1452"/>
                  </a:lnTo>
                  <a:cubicBezTo>
                    <a:pt x="46" y="1451"/>
                    <a:pt x="46" y="1451"/>
                    <a:pt x="45" y="1450"/>
                  </a:cubicBezTo>
                  <a:lnTo>
                    <a:pt x="30" y="1422"/>
                  </a:lnTo>
                  <a:lnTo>
                    <a:pt x="44" y="1414"/>
                  </a:lnTo>
                  <a:lnTo>
                    <a:pt x="59" y="1443"/>
                  </a:lnTo>
                  <a:lnTo>
                    <a:pt x="59" y="1441"/>
                  </a:lnTo>
                  <a:lnTo>
                    <a:pt x="69" y="1454"/>
                  </a:lnTo>
                  <a:lnTo>
                    <a:pt x="56" y="1464"/>
                  </a:lnTo>
                  <a:close/>
                  <a:moveTo>
                    <a:pt x="22" y="1408"/>
                  </a:moveTo>
                  <a:lnTo>
                    <a:pt x="21" y="1407"/>
                  </a:lnTo>
                  <a:cubicBezTo>
                    <a:pt x="21" y="1407"/>
                    <a:pt x="21" y="1406"/>
                    <a:pt x="21" y="1406"/>
                  </a:cubicBezTo>
                  <a:lnTo>
                    <a:pt x="7" y="1361"/>
                  </a:lnTo>
                  <a:lnTo>
                    <a:pt x="22" y="1356"/>
                  </a:lnTo>
                  <a:lnTo>
                    <a:pt x="36" y="1401"/>
                  </a:lnTo>
                  <a:lnTo>
                    <a:pt x="35" y="1400"/>
                  </a:lnTo>
                  <a:lnTo>
                    <a:pt x="36" y="1400"/>
                  </a:lnTo>
                  <a:lnTo>
                    <a:pt x="22" y="1408"/>
                  </a:lnTo>
                  <a:close/>
                  <a:moveTo>
                    <a:pt x="4" y="1344"/>
                  </a:moveTo>
                  <a:lnTo>
                    <a:pt x="0" y="1303"/>
                  </a:lnTo>
                  <a:lnTo>
                    <a:pt x="16" y="1302"/>
                  </a:lnTo>
                  <a:lnTo>
                    <a:pt x="20" y="1342"/>
                  </a:lnTo>
                  <a:lnTo>
                    <a:pt x="4" y="1344"/>
                  </a:lnTo>
                  <a:close/>
                </a:path>
              </a:pathLst>
            </a:custGeom>
            <a:solidFill>
              <a:srgbClr val="7d60a0"/>
            </a:solidFill>
            <a:ln w="0">
              <a:solidFill>
                <a:srgbClr val="7d60a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7" name="Rectangle 32"/>
            <p:cNvSpPr/>
            <p:nvPr/>
          </p:nvSpPr>
          <p:spPr>
            <a:xfrm>
              <a:off x="4894560" y="2260440"/>
              <a:ext cx="34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der</a:t>
              </a:r>
              <a:endParaRPr b="0" lang="en-US" sz="1000" spc="-1" strike="noStrike">
                <a:solidFill>
                  <a:srgbClr val="000000"/>
                </a:solidFill>
                <a:latin typeface="Times New Roman"/>
              </a:endParaRPr>
            </a:p>
          </p:txBody>
        </p:sp>
        <p:sp>
          <p:nvSpPr>
            <p:cNvPr id="498" name="Rectangle 33"/>
            <p:cNvSpPr/>
            <p:nvPr/>
          </p:nvSpPr>
          <p:spPr>
            <a:xfrm>
              <a:off x="5235120" y="22604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499" name="Rectangle 34"/>
            <p:cNvSpPr/>
            <p:nvPr/>
          </p:nvSpPr>
          <p:spPr>
            <a:xfrm>
              <a:off x="5282280" y="2260440"/>
              <a:ext cx="12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a:t>
              </a:r>
              <a:endParaRPr b="0" lang="en-US" sz="1000" spc="-1" strike="noStrike">
                <a:solidFill>
                  <a:srgbClr val="000000"/>
                </a:solidFill>
                <a:latin typeface="Times New Roman"/>
              </a:endParaRPr>
            </a:p>
          </p:txBody>
        </p:sp>
        <p:sp>
          <p:nvSpPr>
            <p:cNvPr id="500" name="Rectangle 35"/>
            <p:cNvSpPr/>
            <p:nvPr/>
          </p:nvSpPr>
          <p:spPr>
            <a:xfrm>
              <a:off x="5400360" y="22604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501" name="Rectangle 36"/>
            <p:cNvSpPr/>
            <p:nvPr/>
          </p:nvSpPr>
          <p:spPr>
            <a:xfrm>
              <a:off x="5456880" y="2260440"/>
              <a:ext cx="30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sh</a:t>
              </a:r>
              <a:endParaRPr b="0" lang="en-US" sz="1000" spc="-1" strike="noStrike">
                <a:solidFill>
                  <a:srgbClr val="000000"/>
                </a:solidFill>
                <a:latin typeface="Times New Roman"/>
              </a:endParaRPr>
            </a:p>
          </p:txBody>
        </p:sp>
        <p:pic>
          <p:nvPicPr>
            <p:cNvPr id="502" name="Picture 37" descr=""/>
            <p:cNvPicPr/>
            <p:nvPr/>
          </p:nvPicPr>
          <p:blipFill>
            <a:blip r:embed="rId9"/>
            <a:stretch/>
          </p:blipFill>
          <p:spPr>
            <a:xfrm>
              <a:off x="1671480" y="4579920"/>
              <a:ext cx="4935600" cy="887400"/>
            </a:xfrm>
            <a:prstGeom prst="rect">
              <a:avLst/>
            </a:prstGeom>
            <a:ln w="0">
              <a:noFill/>
            </a:ln>
          </p:spPr>
        </p:pic>
        <p:pic>
          <p:nvPicPr>
            <p:cNvPr id="503" name="Picture 38" descr=""/>
            <p:cNvPicPr/>
            <p:nvPr/>
          </p:nvPicPr>
          <p:blipFill>
            <a:blip r:embed="rId10"/>
            <a:stretch/>
          </p:blipFill>
          <p:spPr>
            <a:xfrm>
              <a:off x="1671480" y="4579920"/>
              <a:ext cx="4935600" cy="887400"/>
            </a:xfrm>
            <a:prstGeom prst="rect">
              <a:avLst/>
            </a:prstGeom>
            <a:ln w="0">
              <a:noFill/>
            </a:ln>
          </p:spPr>
        </p:pic>
        <p:sp>
          <p:nvSpPr>
            <p:cNvPr id="504" name="Freeform 39"/>
            <p:cNvSpPr/>
            <p:nvPr/>
          </p:nvSpPr>
          <p:spPr>
            <a:xfrm>
              <a:off x="1724040" y="4611600"/>
              <a:ext cx="4821120" cy="782640"/>
            </a:xfrm>
            <a:custGeom>
              <a:avLst/>
              <a:gdLst>
                <a:gd name="textAreaLeft" fmla="*/ 0 w 4821120"/>
                <a:gd name="textAreaRight" fmla="*/ 4821480 w 4821120"/>
                <a:gd name="textAreaTop" fmla="*/ 0 h 782640"/>
                <a:gd name="textAreaBottom" fmla="*/ 783000 h 782640"/>
              </a:gdLst>
              <a:ahLst/>
              <a:rect l="textAreaLeft" t="textAreaTop" r="textAreaRight" b="textAreaBottom"/>
              <a:pathLst>
                <a:path w="8928" h="1552">
                  <a:moveTo>
                    <a:pt x="0" y="259"/>
                  </a:moveTo>
                  <a:cubicBezTo>
                    <a:pt x="0" y="116"/>
                    <a:pt x="116" y="0"/>
                    <a:pt x="259" y="0"/>
                  </a:cubicBezTo>
                  <a:cubicBezTo>
                    <a:pt x="259" y="0"/>
                    <a:pt x="259" y="0"/>
                    <a:pt x="259" y="0"/>
                  </a:cubicBezTo>
                  <a:lnTo>
                    <a:pt x="259" y="0"/>
                  </a:lnTo>
                  <a:lnTo>
                    <a:pt x="8670" y="0"/>
                  </a:lnTo>
                  <a:lnTo>
                    <a:pt x="8670" y="0"/>
                  </a:lnTo>
                  <a:cubicBezTo>
                    <a:pt x="8813" y="0"/>
                    <a:pt x="8928" y="116"/>
                    <a:pt x="8928" y="259"/>
                  </a:cubicBezTo>
                  <a:cubicBezTo>
                    <a:pt x="8928" y="259"/>
                    <a:pt x="8928" y="259"/>
                    <a:pt x="8928" y="259"/>
                  </a:cubicBezTo>
                  <a:lnTo>
                    <a:pt x="8928" y="259"/>
                  </a:lnTo>
                  <a:lnTo>
                    <a:pt x="8928" y="1294"/>
                  </a:lnTo>
                  <a:lnTo>
                    <a:pt x="8928" y="1294"/>
                  </a:lnTo>
                  <a:cubicBezTo>
                    <a:pt x="8928" y="1437"/>
                    <a:pt x="8813" y="1552"/>
                    <a:pt x="8670" y="1552"/>
                  </a:cubicBezTo>
                  <a:cubicBezTo>
                    <a:pt x="8670" y="1552"/>
                    <a:pt x="8670" y="1552"/>
                    <a:pt x="8670" y="1552"/>
                  </a:cubicBezTo>
                  <a:lnTo>
                    <a:pt x="8670" y="1552"/>
                  </a:lnTo>
                  <a:lnTo>
                    <a:pt x="259" y="1552"/>
                  </a:lnTo>
                  <a:lnTo>
                    <a:pt x="259" y="1552"/>
                  </a:lnTo>
                  <a:cubicBezTo>
                    <a:pt x="116" y="1552"/>
                    <a:pt x="0" y="1437"/>
                    <a:pt x="0" y="1294"/>
                  </a:cubicBezTo>
                  <a:cubicBezTo>
                    <a:pt x="0" y="1294"/>
                    <a:pt x="0" y="1294"/>
                    <a:pt x="0" y="1294"/>
                  </a:cubicBezTo>
                  <a:lnTo>
                    <a:pt x="0" y="259"/>
                  </a:lnTo>
                  <a:close/>
                </a:path>
              </a:pathLst>
            </a:custGeom>
            <a:solidFill>
              <a:srgbClr val="f2f2f2"/>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5" name="Freeform 40"/>
            <p:cNvSpPr/>
            <p:nvPr/>
          </p:nvSpPr>
          <p:spPr>
            <a:xfrm>
              <a:off x="1719360" y="4606920"/>
              <a:ext cx="4830840" cy="790560"/>
            </a:xfrm>
            <a:custGeom>
              <a:avLst/>
              <a:gdLst>
                <a:gd name="textAreaLeft" fmla="*/ 0 w 4830840"/>
                <a:gd name="textAreaRight" fmla="*/ 4831200 w 4830840"/>
                <a:gd name="textAreaTop" fmla="*/ 0 h 790560"/>
                <a:gd name="textAreaBottom" fmla="*/ 790920 h 790560"/>
              </a:gdLst>
              <a:ahLst/>
              <a:rect l="textAreaLeft" t="textAreaTop" r="textAreaRight" b="textAreaBottom"/>
              <a:pathLst>
                <a:path w="8944" h="1568">
                  <a:moveTo>
                    <a:pt x="0" y="1302"/>
                  </a:moveTo>
                  <a:lnTo>
                    <a:pt x="0" y="1254"/>
                  </a:lnTo>
                  <a:lnTo>
                    <a:pt x="16" y="1254"/>
                  </a:lnTo>
                  <a:lnTo>
                    <a:pt x="16" y="1302"/>
                  </a:lnTo>
                  <a:lnTo>
                    <a:pt x="0" y="1302"/>
                  </a:lnTo>
                  <a:close/>
                  <a:moveTo>
                    <a:pt x="0" y="1238"/>
                  </a:moveTo>
                  <a:lnTo>
                    <a:pt x="0" y="1190"/>
                  </a:lnTo>
                  <a:lnTo>
                    <a:pt x="16" y="1190"/>
                  </a:lnTo>
                  <a:lnTo>
                    <a:pt x="16" y="1238"/>
                  </a:lnTo>
                  <a:lnTo>
                    <a:pt x="0" y="1238"/>
                  </a:lnTo>
                  <a:close/>
                  <a:moveTo>
                    <a:pt x="0" y="1174"/>
                  </a:moveTo>
                  <a:lnTo>
                    <a:pt x="0" y="1126"/>
                  </a:lnTo>
                  <a:lnTo>
                    <a:pt x="16" y="1126"/>
                  </a:lnTo>
                  <a:lnTo>
                    <a:pt x="16" y="1174"/>
                  </a:lnTo>
                  <a:lnTo>
                    <a:pt x="0" y="1174"/>
                  </a:lnTo>
                  <a:close/>
                  <a:moveTo>
                    <a:pt x="0" y="1110"/>
                  </a:moveTo>
                  <a:lnTo>
                    <a:pt x="0" y="1062"/>
                  </a:lnTo>
                  <a:lnTo>
                    <a:pt x="16" y="1062"/>
                  </a:lnTo>
                  <a:lnTo>
                    <a:pt x="16" y="1110"/>
                  </a:lnTo>
                  <a:lnTo>
                    <a:pt x="0" y="1110"/>
                  </a:lnTo>
                  <a:close/>
                  <a:moveTo>
                    <a:pt x="0" y="1046"/>
                  </a:moveTo>
                  <a:lnTo>
                    <a:pt x="0" y="998"/>
                  </a:lnTo>
                  <a:lnTo>
                    <a:pt x="16" y="998"/>
                  </a:lnTo>
                  <a:lnTo>
                    <a:pt x="16" y="1046"/>
                  </a:lnTo>
                  <a:lnTo>
                    <a:pt x="0" y="1046"/>
                  </a:lnTo>
                  <a:close/>
                  <a:moveTo>
                    <a:pt x="0" y="982"/>
                  </a:moveTo>
                  <a:lnTo>
                    <a:pt x="0" y="934"/>
                  </a:lnTo>
                  <a:lnTo>
                    <a:pt x="16" y="934"/>
                  </a:lnTo>
                  <a:lnTo>
                    <a:pt x="16" y="982"/>
                  </a:lnTo>
                  <a:lnTo>
                    <a:pt x="0" y="982"/>
                  </a:lnTo>
                  <a:close/>
                  <a:moveTo>
                    <a:pt x="0" y="918"/>
                  </a:moveTo>
                  <a:lnTo>
                    <a:pt x="0" y="870"/>
                  </a:lnTo>
                  <a:lnTo>
                    <a:pt x="16" y="870"/>
                  </a:lnTo>
                  <a:lnTo>
                    <a:pt x="16" y="918"/>
                  </a:lnTo>
                  <a:lnTo>
                    <a:pt x="0" y="918"/>
                  </a:lnTo>
                  <a:close/>
                  <a:moveTo>
                    <a:pt x="0" y="854"/>
                  </a:moveTo>
                  <a:lnTo>
                    <a:pt x="0" y="806"/>
                  </a:lnTo>
                  <a:lnTo>
                    <a:pt x="16" y="806"/>
                  </a:lnTo>
                  <a:lnTo>
                    <a:pt x="16" y="854"/>
                  </a:lnTo>
                  <a:lnTo>
                    <a:pt x="0" y="854"/>
                  </a:lnTo>
                  <a:close/>
                  <a:moveTo>
                    <a:pt x="0" y="790"/>
                  </a:moveTo>
                  <a:lnTo>
                    <a:pt x="0" y="742"/>
                  </a:lnTo>
                  <a:lnTo>
                    <a:pt x="16" y="742"/>
                  </a:lnTo>
                  <a:lnTo>
                    <a:pt x="16" y="790"/>
                  </a:lnTo>
                  <a:lnTo>
                    <a:pt x="0" y="790"/>
                  </a:lnTo>
                  <a:close/>
                  <a:moveTo>
                    <a:pt x="0" y="726"/>
                  </a:moveTo>
                  <a:lnTo>
                    <a:pt x="0" y="678"/>
                  </a:lnTo>
                  <a:lnTo>
                    <a:pt x="16" y="678"/>
                  </a:lnTo>
                  <a:lnTo>
                    <a:pt x="16" y="726"/>
                  </a:lnTo>
                  <a:lnTo>
                    <a:pt x="0" y="726"/>
                  </a:lnTo>
                  <a:close/>
                  <a:moveTo>
                    <a:pt x="0" y="662"/>
                  </a:moveTo>
                  <a:lnTo>
                    <a:pt x="0" y="614"/>
                  </a:lnTo>
                  <a:lnTo>
                    <a:pt x="16" y="614"/>
                  </a:lnTo>
                  <a:lnTo>
                    <a:pt x="16" y="662"/>
                  </a:lnTo>
                  <a:lnTo>
                    <a:pt x="0" y="662"/>
                  </a:lnTo>
                  <a:close/>
                  <a:moveTo>
                    <a:pt x="0" y="598"/>
                  </a:moveTo>
                  <a:lnTo>
                    <a:pt x="0" y="550"/>
                  </a:lnTo>
                  <a:lnTo>
                    <a:pt x="16" y="550"/>
                  </a:lnTo>
                  <a:lnTo>
                    <a:pt x="16" y="598"/>
                  </a:lnTo>
                  <a:lnTo>
                    <a:pt x="0" y="598"/>
                  </a:lnTo>
                  <a:close/>
                  <a:moveTo>
                    <a:pt x="0" y="534"/>
                  </a:moveTo>
                  <a:lnTo>
                    <a:pt x="0" y="486"/>
                  </a:lnTo>
                  <a:lnTo>
                    <a:pt x="16" y="486"/>
                  </a:lnTo>
                  <a:lnTo>
                    <a:pt x="16" y="534"/>
                  </a:lnTo>
                  <a:lnTo>
                    <a:pt x="0" y="534"/>
                  </a:lnTo>
                  <a:close/>
                  <a:moveTo>
                    <a:pt x="0" y="470"/>
                  </a:moveTo>
                  <a:lnTo>
                    <a:pt x="0" y="422"/>
                  </a:lnTo>
                  <a:lnTo>
                    <a:pt x="16" y="422"/>
                  </a:lnTo>
                  <a:lnTo>
                    <a:pt x="16" y="470"/>
                  </a:lnTo>
                  <a:lnTo>
                    <a:pt x="0" y="470"/>
                  </a:lnTo>
                  <a:close/>
                  <a:moveTo>
                    <a:pt x="0" y="406"/>
                  </a:moveTo>
                  <a:lnTo>
                    <a:pt x="0" y="357"/>
                  </a:lnTo>
                  <a:lnTo>
                    <a:pt x="16" y="357"/>
                  </a:lnTo>
                  <a:lnTo>
                    <a:pt x="16" y="406"/>
                  </a:lnTo>
                  <a:lnTo>
                    <a:pt x="0" y="406"/>
                  </a:lnTo>
                  <a:close/>
                  <a:moveTo>
                    <a:pt x="0" y="341"/>
                  </a:moveTo>
                  <a:lnTo>
                    <a:pt x="0" y="293"/>
                  </a:lnTo>
                  <a:lnTo>
                    <a:pt x="16" y="293"/>
                  </a:lnTo>
                  <a:lnTo>
                    <a:pt x="16" y="341"/>
                  </a:lnTo>
                  <a:lnTo>
                    <a:pt x="0" y="341"/>
                  </a:lnTo>
                  <a:close/>
                  <a:moveTo>
                    <a:pt x="0" y="277"/>
                  </a:moveTo>
                  <a:lnTo>
                    <a:pt x="0" y="267"/>
                  </a:lnTo>
                  <a:lnTo>
                    <a:pt x="4" y="229"/>
                  </a:lnTo>
                  <a:lnTo>
                    <a:pt x="20" y="230"/>
                  </a:lnTo>
                  <a:lnTo>
                    <a:pt x="16" y="267"/>
                  </a:lnTo>
                  <a:lnTo>
                    <a:pt x="16" y="277"/>
                  </a:lnTo>
                  <a:lnTo>
                    <a:pt x="0" y="277"/>
                  </a:lnTo>
                  <a:close/>
                  <a:moveTo>
                    <a:pt x="6" y="211"/>
                  </a:moveTo>
                  <a:lnTo>
                    <a:pt x="20" y="165"/>
                  </a:lnTo>
                  <a:lnTo>
                    <a:pt x="36" y="170"/>
                  </a:lnTo>
                  <a:lnTo>
                    <a:pt x="22" y="216"/>
                  </a:lnTo>
                  <a:lnTo>
                    <a:pt x="6" y="211"/>
                  </a:lnTo>
                  <a:close/>
                  <a:moveTo>
                    <a:pt x="28" y="150"/>
                  </a:moveTo>
                  <a:lnTo>
                    <a:pt x="45" y="119"/>
                  </a:lnTo>
                  <a:cubicBezTo>
                    <a:pt x="46" y="118"/>
                    <a:pt x="46" y="118"/>
                    <a:pt x="46" y="117"/>
                  </a:cubicBezTo>
                  <a:lnTo>
                    <a:pt x="54" y="108"/>
                  </a:lnTo>
                  <a:lnTo>
                    <a:pt x="67" y="118"/>
                  </a:lnTo>
                  <a:lnTo>
                    <a:pt x="59" y="128"/>
                  </a:lnTo>
                  <a:lnTo>
                    <a:pt x="59" y="126"/>
                  </a:lnTo>
                  <a:lnTo>
                    <a:pt x="43" y="157"/>
                  </a:lnTo>
                  <a:lnTo>
                    <a:pt x="28" y="150"/>
                  </a:lnTo>
                  <a:close/>
                  <a:moveTo>
                    <a:pt x="65" y="95"/>
                  </a:moveTo>
                  <a:lnTo>
                    <a:pt x="78" y="79"/>
                  </a:lnTo>
                  <a:cubicBezTo>
                    <a:pt x="79" y="79"/>
                    <a:pt x="79" y="79"/>
                    <a:pt x="79" y="78"/>
                  </a:cubicBezTo>
                  <a:lnTo>
                    <a:pt x="100" y="61"/>
                  </a:lnTo>
                  <a:lnTo>
                    <a:pt x="110" y="73"/>
                  </a:lnTo>
                  <a:lnTo>
                    <a:pt x="90" y="91"/>
                  </a:lnTo>
                  <a:lnTo>
                    <a:pt x="91" y="90"/>
                  </a:lnTo>
                  <a:lnTo>
                    <a:pt x="77" y="106"/>
                  </a:lnTo>
                  <a:lnTo>
                    <a:pt x="65" y="95"/>
                  </a:lnTo>
                  <a:close/>
                  <a:moveTo>
                    <a:pt x="112" y="51"/>
                  </a:moveTo>
                  <a:lnTo>
                    <a:pt x="117" y="46"/>
                  </a:lnTo>
                  <a:cubicBezTo>
                    <a:pt x="118" y="46"/>
                    <a:pt x="118" y="46"/>
                    <a:pt x="119" y="45"/>
                  </a:cubicBezTo>
                  <a:lnTo>
                    <a:pt x="155" y="26"/>
                  </a:lnTo>
                  <a:lnTo>
                    <a:pt x="163" y="40"/>
                  </a:lnTo>
                  <a:lnTo>
                    <a:pt x="126" y="59"/>
                  </a:lnTo>
                  <a:lnTo>
                    <a:pt x="128" y="59"/>
                  </a:lnTo>
                  <a:lnTo>
                    <a:pt x="123" y="63"/>
                  </a:lnTo>
                  <a:lnTo>
                    <a:pt x="112" y="51"/>
                  </a:lnTo>
                  <a:close/>
                  <a:moveTo>
                    <a:pt x="171" y="19"/>
                  </a:moveTo>
                  <a:lnTo>
                    <a:pt x="213" y="6"/>
                  </a:lnTo>
                  <a:cubicBezTo>
                    <a:pt x="214" y="6"/>
                    <a:pt x="214" y="6"/>
                    <a:pt x="215" y="5"/>
                  </a:cubicBezTo>
                  <a:lnTo>
                    <a:pt x="219" y="5"/>
                  </a:lnTo>
                  <a:lnTo>
                    <a:pt x="220" y="21"/>
                  </a:lnTo>
                  <a:lnTo>
                    <a:pt x="216" y="21"/>
                  </a:lnTo>
                  <a:lnTo>
                    <a:pt x="218" y="21"/>
                  </a:lnTo>
                  <a:lnTo>
                    <a:pt x="176" y="34"/>
                  </a:lnTo>
                  <a:lnTo>
                    <a:pt x="171" y="19"/>
                  </a:lnTo>
                  <a:close/>
                  <a:moveTo>
                    <a:pt x="235" y="4"/>
                  </a:moveTo>
                  <a:lnTo>
                    <a:pt x="267" y="0"/>
                  </a:lnTo>
                  <a:lnTo>
                    <a:pt x="268" y="16"/>
                  </a:lnTo>
                  <a:lnTo>
                    <a:pt x="236" y="19"/>
                  </a:lnTo>
                  <a:lnTo>
                    <a:pt x="235" y="4"/>
                  </a:lnTo>
                  <a:close/>
                  <a:moveTo>
                    <a:pt x="267" y="0"/>
                  </a:moveTo>
                  <a:lnTo>
                    <a:pt x="283" y="0"/>
                  </a:lnTo>
                  <a:lnTo>
                    <a:pt x="283" y="16"/>
                  </a:lnTo>
                  <a:lnTo>
                    <a:pt x="267" y="16"/>
                  </a:lnTo>
                  <a:lnTo>
                    <a:pt x="267" y="0"/>
                  </a:lnTo>
                  <a:close/>
                  <a:moveTo>
                    <a:pt x="299" y="0"/>
                  </a:moveTo>
                  <a:lnTo>
                    <a:pt x="347" y="0"/>
                  </a:lnTo>
                  <a:lnTo>
                    <a:pt x="347" y="16"/>
                  </a:lnTo>
                  <a:lnTo>
                    <a:pt x="299" y="16"/>
                  </a:lnTo>
                  <a:lnTo>
                    <a:pt x="299" y="0"/>
                  </a:lnTo>
                  <a:close/>
                  <a:moveTo>
                    <a:pt x="363" y="0"/>
                  </a:moveTo>
                  <a:lnTo>
                    <a:pt x="411" y="0"/>
                  </a:lnTo>
                  <a:lnTo>
                    <a:pt x="411" y="16"/>
                  </a:lnTo>
                  <a:lnTo>
                    <a:pt x="363" y="16"/>
                  </a:lnTo>
                  <a:lnTo>
                    <a:pt x="363" y="0"/>
                  </a:lnTo>
                  <a:close/>
                  <a:moveTo>
                    <a:pt x="428" y="0"/>
                  </a:moveTo>
                  <a:lnTo>
                    <a:pt x="476" y="0"/>
                  </a:lnTo>
                  <a:lnTo>
                    <a:pt x="476" y="16"/>
                  </a:lnTo>
                  <a:lnTo>
                    <a:pt x="428" y="16"/>
                  </a:lnTo>
                  <a:lnTo>
                    <a:pt x="428" y="0"/>
                  </a:lnTo>
                  <a:close/>
                  <a:moveTo>
                    <a:pt x="492" y="0"/>
                  </a:moveTo>
                  <a:lnTo>
                    <a:pt x="540" y="0"/>
                  </a:lnTo>
                  <a:lnTo>
                    <a:pt x="540" y="16"/>
                  </a:lnTo>
                  <a:lnTo>
                    <a:pt x="492" y="16"/>
                  </a:lnTo>
                  <a:lnTo>
                    <a:pt x="492" y="0"/>
                  </a:lnTo>
                  <a:close/>
                  <a:moveTo>
                    <a:pt x="556" y="0"/>
                  </a:moveTo>
                  <a:lnTo>
                    <a:pt x="604" y="0"/>
                  </a:lnTo>
                  <a:lnTo>
                    <a:pt x="604" y="16"/>
                  </a:lnTo>
                  <a:lnTo>
                    <a:pt x="556" y="16"/>
                  </a:lnTo>
                  <a:lnTo>
                    <a:pt x="556" y="0"/>
                  </a:lnTo>
                  <a:close/>
                  <a:moveTo>
                    <a:pt x="620" y="0"/>
                  </a:moveTo>
                  <a:lnTo>
                    <a:pt x="668" y="0"/>
                  </a:lnTo>
                  <a:lnTo>
                    <a:pt x="668" y="16"/>
                  </a:lnTo>
                  <a:lnTo>
                    <a:pt x="620" y="16"/>
                  </a:lnTo>
                  <a:lnTo>
                    <a:pt x="620" y="0"/>
                  </a:lnTo>
                  <a:close/>
                  <a:moveTo>
                    <a:pt x="684" y="0"/>
                  </a:moveTo>
                  <a:lnTo>
                    <a:pt x="732" y="0"/>
                  </a:lnTo>
                  <a:lnTo>
                    <a:pt x="732" y="16"/>
                  </a:lnTo>
                  <a:lnTo>
                    <a:pt x="684" y="16"/>
                  </a:lnTo>
                  <a:lnTo>
                    <a:pt x="684" y="0"/>
                  </a:lnTo>
                  <a:close/>
                  <a:moveTo>
                    <a:pt x="748" y="0"/>
                  </a:moveTo>
                  <a:lnTo>
                    <a:pt x="796" y="0"/>
                  </a:lnTo>
                  <a:lnTo>
                    <a:pt x="796" y="16"/>
                  </a:lnTo>
                  <a:lnTo>
                    <a:pt x="748" y="16"/>
                  </a:lnTo>
                  <a:lnTo>
                    <a:pt x="748" y="0"/>
                  </a:lnTo>
                  <a:close/>
                  <a:moveTo>
                    <a:pt x="812" y="0"/>
                  </a:moveTo>
                  <a:lnTo>
                    <a:pt x="860" y="0"/>
                  </a:lnTo>
                  <a:lnTo>
                    <a:pt x="860" y="16"/>
                  </a:lnTo>
                  <a:lnTo>
                    <a:pt x="812" y="16"/>
                  </a:lnTo>
                  <a:lnTo>
                    <a:pt x="812" y="0"/>
                  </a:lnTo>
                  <a:close/>
                  <a:moveTo>
                    <a:pt x="876" y="0"/>
                  </a:moveTo>
                  <a:lnTo>
                    <a:pt x="924" y="0"/>
                  </a:lnTo>
                  <a:lnTo>
                    <a:pt x="924" y="16"/>
                  </a:lnTo>
                  <a:lnTo>
                    <a:pt x="876" y="16"/>
                  </a:lnTo>
                  <a:lnTo>
                    <a:pt x="876" y="0"/>
                  </a:lnTo>
                  <a:close/>
                  <a:moveTo>
                    <a:pt x="940" y="0"/>
                  </a:moveTo>
                  <a:lnTo>
                    <a:pt x="988" y="0"/>
                  </a:lnTo>
                  <a:lnTo>
                    <a:pt x="988" y="16"/>
                  </a:lnTo>
                  <a:lnTo>
                    <a:pt x="940" y="16"/>
                  </a:lnTo>
                  <a:lnTo>
                    <a:pt x="940" y="0"/>
                  </a:lnTo>
                  <a:close/>
                  <a:moveTo>
                    <a:pt x="1004" y="0"/>
                  </a:moveTo>
                  <a:lnTo>
                    <a:pt x="1052" y="0"/>
                  </a:lnTo>
                  <a:lnTo>
                    <a:pt x="1052" y="16"/>
                  </a:lnTo>
                  <a:lnTo>
                    <a:pt x="1004" y="16"/>
                  </a:lnTo>
                  <a:lnTo>
                    <a:pt x="1004" y="0"/>
                  </a:lnTo>
                  <a:close/>
                  <a:moveTo>
                    <a:pt x="1068" y="0"/>
                  </a:moveTo>
                  <a:lnTo>
                    <a:pt x="1116" y="0"/>
                  </a:lnTo>
                  <a:lnTo>
                    <a:pt x="1116" y="16"/>
                  </a:lnTo>
                  <a:lnTo>
                    <a:pt x="1068" y="16"/>
                  </a:lnTo>
                  <a:lnTo>
                    <a:pt x="1068" y="0"/>
                  </a:lnTo>
                  <a:close/>
                  <a:moveTo>
                    <a:pt x="1132" y="0"/>
                  </a:moveTo>
                  <a:lnTo>
                    <a:pt x="1180" y="0"/>
                  </a:lnTo>
                  <a:lnTo>
                    <a:pt x="1180" y="16"/>
                  </a:lnTo>
                  <a:lnTo>
                    <a:pt x="1132" y="16"/>
                  </a:lnTo>
                  <a:lnTo>
                    <a:pt x="1132" y="0"/>
                  </a:lnTo>
                  <a:close/>
                  <a:moveTo>
                    <a:pt x="1196" y="0"/>
                  </a:moveTo>
                  <a:lnTo>
                    <a:pt x="1244" y="0"/>
                  </a:lnTo>
                  <a:lnTo>
                    <a:pt x="1244" y="16"/>
                  </a:lnTo>
                  <a:lnTo>
                    <a:pt x="1196" y="16"/>
                  </a:lnTo>
                  <a:lnTo>
                    <a:pt x="1196" y="0"/>
                  </a:lnTo>
                  <a:close/>
                  <a:moveTo>
                    <a:pt x="1260" y="0"/>
                  </a:moveTo>
                  <a:lnTo>
                    <a:pt x="1308" y="0"/>
                  </a:lnTo>
                  <a:lnTo>
                    <a:pt x="1308" y="16"/>
                  </a:lnTo>
                  <a:lnTo>
                    <a:pt x="1260" y="16"/>
                  </a:lnTo>
                  <a:lnTo>
                    <a:pt x="1260" y="0"/>
                  </a:lnTo>
                  <a:close/>
                  <a:moveTo>
                    <a:pt x="1324" y="0"/>
                  </a:moveTo>
                  <a:lnTo>
                    <a:pt x="1372" y="0"/>
                  </a:lnTo>
                  <a:lnTo>
                    <a:pt x="1372" y="16"/>
                  </a:lnTo>
                  <a:lnTo>
                    <a:pt x="1324" y="16"/>
                  </a:lnTo>
                  <a:lnTo>
                    <a:pt x="1324" y="0"/>
                  </a:lnTo>
                  <a:close/>
                  <a:moveTo>
                    <a:pt x="1388" y="0"/>
                  </a:moveTo>
                  <a:lnTo>
                    <a:pt x="1437" y="0"/>
                  </a:lnTo>
                  <a:lnTo>
                    <a:pt x="1437" y="16"/>
                  </a:lnTo>
                  <a:lnTo>
                    <a:pt x="1388" y="16"/>
                  </a:lnTo>
                  <a:lnTo>
                    <a:pt x="1388" y="0"/>
                  </a:lnTo>
                  <a:close/>
                  <a:moveTo>
                    <a:pt x="1453" y="0"/>
                  </a:moveTo>
                  <a:lnTo>
                    <a:pt x="1501" y="0"/>
                  </a:lnTo>
                  <a:lnTo>
                    <a:pt x="1501" y="16"/>
                  </a:lnTo>
                  <a:lnTo>
                    <a:pt x="1453" y="16"/>
                  </a:lnTo>
                  <a:lnTo>
                    <a:pt x="1453" y="0"/>
                  </a:lnTo>
                  <a:close/>
                  <a:moveTo>
                    <a:pt x="1517" y="0"/>
                  </a:moveTo>
                  <a:lnTo>
                    <a:pt x="1565" y="0"/>
                  </a:lnTo>
                  <a:lnTo>
                    <a:pt x="1565" y="16"/>
                  </a:lnTo>
                  <a:lnTo>
                    <a:pt x="1517" y="16"/>
                  </a:lnTo>
                  <a:lnTo>
                    <a:pt x="1517" y="0"/>
                  </a:lnTo>
                  <a:close/>
                  <a:moveTo>
                    <a:pt x="1581" y="0"/>
                  </a:moveTo>
                  <a:lnTo>
                    <a:pt x="1629" y="0"/>
                  </a:lnTo>
                  <a:lnTo>
                    <a:pt x="1629" y="16"/>
                  </a:lnTo>
                  <a:lnTo>
                    <a:pt x="1581" y="16"/>
                  </a:lnTo>
                  <a:lnTo>
                    <a:pt x="1581" y="0"/>
                  </a:lnTo>
                  <a:close/>
                  <a:moveTo>
                    <a:pt x="1645" y="0"/>
                  </a:moveTo>
                  <a:lnTo>
                    <a:pt x="1693" y="0"/>
                  </a:lnTo>
                  <a:lnTo>
                    <a:pt x="1693" y="16"/>
                  </a:lnTo>
                  <a:lnTo>
                    <a:pt x="1645" y="16"/>
                  </a:lnTo>
                  <a:lnTo>
                    <a:pt x="1645" y="0"/>
                  </a:lnTo>
                  <a:close/>
                  <a:moveTo>
                    <a:pt x="1709" y="0"/>
                  </a:moveTo>
                  <a:lnTo>
                    <a:pt x="1757" y="0"/>
                  </a:lnTo>
                  <a:lnTo>
                    <a:pt x="1757" y="16"/>
                  </a:lnTo>
                  <a:lnTo>
                    <a:pt x="1709" y="16"/>
                  </a:lnTo>
                  <a:lnTo>
                    <a:pt x="1709" y="0"/>
                  </a:lnTo>
                  <a:close/>
                  <a:moveTo>
                    <a:pt x="1773" y="0"/>
                  </a:moveTo>
                  <a:lnTo>
                    <a:pt x="1821" y="0"/>
                  </a:lnTo>
                  <a:lnTo>
                    <a:pt x="1821" y="16"/>
                  </a:lnTo>
                  <a:lnTo>
                    <a:pt x="1773" y="16"/>
                  </a:lnTo>
                  <a:lnTo>
                    <a:pt x="1773" y="0"/>
                  </a:lnTo>
                  <a:close/>
                  <a:moveTo>
                    <a:pt x="1837" y="0"/>
                  </a:moveTo>
                  <a:lnTo>
                    <a:pt x="1885" y="0"/>
                  </a:lnTo>
                  <a:lnTo>
                    <a:pt x="1885" y="16"/>
                  </a:lnTo>
                  <a:lnTo>
                    <a:pt x="1837" y="16"/>
                  </a:lnTo>
                  <a:lnTo>
                    <a:pt x="1837" y="0"/>
                  </a:lnTo>
                  <a:close/>
                  <a:moveTo>
                    <a:pt x="1901" y="0"/>
                  </a:moveTo>
                  <a:lnTo>
                    <a:pt x="1949" y="0"/>
                  </a:lnTo>
                  <a:lnTo>
                    <a:pt x="1949" y="16"/>
                  </a:lnTo>
                  <a:lnTo>
                    <a:pt x="1901" y="16"/>
                  </a:lnTo>
                  <a:lnTo>
                    <a:pt x="1901" y="0"/>
                  </a:lnTo>
                  <a:close/>
                  <a:moveTo>
                    <a:pt x="1965" y="0"/>
                  </a:moveTo>
                  <a:lnTo>
                    <a:pt x="2013" y="0"/>
                  </a:lnTo>
                  <a:lnTo>
                    <a:pt x="2013" y="16"/>
                  </a:lnTo>
                  <a:lnTo>
                    <a:pt x="1965" y="16"/>
                  </a:lnTo>
                  <a:lnTo>
                    <a:pt x="1965" y="0"/>
                  </a:lnTo>
                  <a:close/>
                  <a:moveTo>
                    <a:pt x="2029" y="0"/>
                  </a:moveTo>
                  <a:lnTo>
                    <a:pt x="2077" y="0"/>
                  </a:lnTo>
                  <a:lnTo>
                    <a:pt x="2077" y="16"/>
                  </a:lnTo>
                  <a:lnTo>
                    <a:pt x="2029" y="16"/>
                  </a:lnTo>
                  <a:lnTo>
                    <a:pt x="2029" y="0"/>
                  </a:lnTo>
                  <a:close/>
                  <a:moveTo>
                    <a:pt x="2093" y="0"/>
                  </a:moveTo>
                  <a:lnTo>
                    <a:pt x="2141" y="0"/>
                  </a:lnTo>
                  <a:lnTo>
                    <a:pt x="2141" y="16"/>
                  </a:lnTo>
                  <a:lnTo>
                    <a:pt x="2093" y="16"/>
                  </a:lnTo>
                  <a:lnTo>
                    <a:pt x="2093" y="0"/>
                  </a:lnTo>
                  <a:close/>
                  <a:moveTo>
                    <a:pt x="2157" y="0"/>
                  </a:moveTo>
                  <a:lnTo>
                    <a:pt x="2205" y="0"/>
                  </a:lnTo>
                  <a:lnTo>
                    <a:pt x="2205" y="16"/>
                  </a:lnTo>
                  <a:lnTo>
                    <a:pt x="2157" y="16"/>
                  </a:lnTo>
                  <a:lnTo>
                    <a:pt x="2157" y="0"/>
                  </a:lnTo>
                  <a:close/>
                  <a:moveTo>
                    <a:pt x="2221" y="0"/>
                  </a:moveTo>
                  <a:lnTo>
                    <a:pt x="2269" y="0"/>
                  </a:lnTo>
                  <a:lnTo>
                    <a:pt x="2269" y="16"/>
                  </a:lnTo>
                  <a:lnTo>
                    <a:pt x="2221" y="16"/>
                  </a:lnTo>
                  <a:lnTo>
                    <a:pt x="2221" y="0"/>
                  </a:lnTo>
                  <a:close/>
                  <a:moveTo>
                    <a:pt x="2285" y="0"/>
                  </a:moveTo>
                  <a:lnTo>
                    <a:pt x="2333" y="0"/>
                  </a:lnTo>
                  <a:lnTo>
                    <a:pt x="2333" y="16"/>
                  </a:lnTo>
                  <a:lnTo>
                    <a:pt x="2285" y="16"/>
                  </a:lnTo>
                  <a:lnTo>
                    <a:pt x="2285" y="0"/>
                  </a:lnTo>
                  <a:close/>
                  <a:moveTo>
                    <a:pt x="2349" y="0"/>
                  </a:moveTo>
                  <a:lnTo>
                    <a:pt x="2397" y="0"/>
                  </a:lnTo>
                  <a:lnTo>
                    <a:pt x="2397" y="16"/>
                  </a:lnTo>
                  <a:lnTo>
                    <a:pt x="2349" y="16"/>
                  </a:lnTo>
                  <a:lnTo>
                    <a:pt x="2349" y="0"/>
                  </a:lnTo>
                  <a:close/>
                  <a:moveTo>
                    <a:pt x="2413" y="0"/>
                  </a:moveTo>
                  <a:lnTo>
                    <a:pt x="2462" y="0"/>
                  </a:lnTo>
                  <a:lnTo>
                    <a:pt x="2462" y="16"/>
                  </a:lnTo>
                  <a:lnTo>
                    <a:pt x="2413" y="16"/>
                  </a:lnTo>
                  <a:lnTo>
                    <a:pt x="2413" y="0"/>
                  </a:lnTo>
                  <a:close/>
                  <a:moveTo>
                    <a:pt x="2478" y="0"/>
                  </a:moveTo>
                  <a:lnTo>
                    <a:pt x="2526" y="0"/>
                  </a:lnTo>
                  <a:lnTo>
                    <a:pt x="2526" y="16"/>
                  </a:lnTo>
                  <a:lnTo>
                    <a:pt x="2478" y="16"/>
                  </a:lnTo>
                  <a:lnTo>
                    <a:pt x="2478" y="0"/>
                  </a:lnTo>
                  <a:close/>
                  <a:moveTo>
                    <a:pt x="2542" y="0"/>
                  </a:moveTo>
                  <a:lnTo>
                    <a:pt x="2590" y="0"/>
                  </a:lnTo>
                  <a:lnTo>
                    <a:pt x="2590" y="16"/>
                  </a:lnTo>
                  <a:lnTo>
                    <a:pt x="2542" y="16"/>
                  </a:lnTo>
                  <a:lnTo>
                    <a:pt x="2542" y="0"/>
                  </a:lnTo>
                  <a:close/>
                  <a:moveTo>
                    <a:pt x="2606" y="0"/>
                  </a:moveTo>
                  <a:lnTo>
                    <a:pt x="2654" y="0"/>
                  </a:lnTo>
                  <a:lnTo>
                    <a:pt x="2654" y="16"/>
                  </a:lnTo>
                  <a:lnTo>
                    <a:pt x="2606" y="16"/>
                  </a:lnTo>
                  <a:lnTo>
                    <a:pt x="2606" y="0"/>
                  </a:lnTo>
                  <a:close/>
                  <a:moveTo>
                    <a:pt x="2670" y="0"/>
                  </a:moveTo>
                  <a:lnTo>
                    <a:pt x="2718" y="0"/>
                  </a:lnTo>
                  <a:lnTo>
                    <a:pt x="2718" y="16"/>
                  </a:lnTo>
                  <a:lnTo>
                    <a:pt x="2670" y="16"/>
                  </a:lnTo>
                  <a:lnTo>
                    <a:pt x="2670" y="0"/>
                  </a:lnTo>
                  <a:close/>
                  <a:moveTo>
                    <a:pt x="2734" y="0"/>
                  </a:moveTo>
                  <a:lnTo>
                    <a:pt x="2782" y="0"/>
                  </a:lnTo>
                  <a:lnTo>
                    <a:pt x="2782" y="16"/>
                  </a:lnTo>
                  <a:lnTo>
                    <a:pt x="2734" y="16"/>
                  </a:lnTo>
                  <a:lnTo>
                    <a:pt x="2734" y="0"/>
                  </a:lnTo>
                  <a:close/>
                  <a:moveTo>
                    <a:pt x="2798" y="0"/>
                  </a:moveTo>
                  <a:lnTo>
                    <a:pt x="2846" y="0"/>
                  </a:lnTo>
                  <a:lnTo>
                    <a:pt x="2846" y="16"/>
                  </a:lnTo>
                  <a:lnTo>
                    <a:pt x="2798" y="16"/>
                  </a:lnTo>
                  <a:lnTo>
                    <a:pt x="2798" y="0"/>
                  </a:lnTo>
                  <a:close/>
                  <a:moveTo>
                    <a:pt x="2862" y="0"/>
                  </a:moveTo>
                  <a:lnTo>
                    <a:pt x="2910" y="0"/>
                  </a:lnTo>
                  <a:lnTo>
                    <a:pt x="2910" y="16"/>
                  </a:lnTo>
                  <a:lnTo>
                    <a:pt x="2862" y="16"/>
                  </a:lnTo>
                  <a:lnTo>
                    <a:pt x="2862" y="0"/>
                  </a:lnTo>
                  <a:close/>
                  <a:moveTo>
                    <a:pt x="2926" y="0"/>
                  </a:moveTo>
                  <a:lnTo>
                    <a:pt x="2974" y="0"/>
                  </a:lnTo>
                  <a:lnTo>
                    <a:pt x="2974" y="16"/>
                  </a:lnTo>
                  <a:lnTo>
                    <a:pt x="2926" y="16"/>
                  </a:lnTo>
                  <a:lnTo>
                    <a:pt x="2926" y="0"/>
                  </a:lnTo>
                  <a:close/>
                  <a:moveTo>
                    <a:pt x="2990" y="0"/>
                  </a:moveTo>
                  <a:lnTo>
                    <a:pt x="3038" y="0"/>
                  </a:lnTo>
                  <a:lnTo>
                    <a:pt x="3038" y="16"/>
                  </a:lnTo>
                  <a:lnTo>
                    <a:pt x="2990" y="16"/>
                  </a:lnTo>
                  <a:lnTo>
                    <a:pt x="2990" y="0"/>
                  </a:lnTo>
                  <a:close/>
                  <a:moveTo>
                    <a:pt x="3054" y="0"/>
                  </a:moveTo>
                  <a:lnTo>
                    <a:pt x="3102" y="0"/>
                  </a:lnTo>
                  <a:lnTo>
                    <a:pt x="3102" y="16"/>
                  </a:lnTo>
                  <a:lnTo>
                    <a:pt x="3054" y="16"/>
                  </a:lnTo>
                  <a:lnTo>
                    <a:pt x="3054" y="0"/>
                  </a:lnTo>
                  <a:close/>
                  <a:moveTo>
                    <a:pt x="3118" y="0"/>
                  </a:moveTo>
                  <a:lnTo>
                    <a:pt x="3166" y="0"/>
                  </a:lnTo>
                  <a:lnTo>
                    <a:pt x="3166" y="16"/>
                  </a:lnTo>
                  <a:lnTo>
                    <a:pt x="3118" y="16"/>
                  </a:lnTo>
                  <a:lnTo>
                    <a:pt x="3118" y="0"/>
                  </a:lnTo>
                  <a:close/>
                  <a:moveTo>
                    <a:pt x="3182" y="0"/>
                  </a:moveTo>
                  <a:lnTo>
                    <a:pt x="3230" y="0"/>
                  </a:lnTo>
                  <a:lnTo>
                    <a:pt x="3230" y="16"/>
                  </a:lnTo>
                  <a:lnTo>
                    <a:pt x="3182" y="16"/>
                  </a:lnTo>
                  <a:lnTo>
                    <a:pt x="3182" y="0"/>
                  </a:lnTo>
                  <a:close/>
                  <a:moveTo>
                    <a:pt x="3246" y="0"/>
                  </a:moveTo>
                  <a:lnTo>
                    <a:pt x="3294" y="0"/>
                  </a:lnTo>
                  <a:lnTo>
                    <a:pt x="3294" y="16"/>
                  </a:lnTo>
                  <a:lnTo>
                    <a:pt x="3246" y="16"/>
                  </a:lnTo>
                  <a:lnTo>
                    <a:pt x="3246" y="0"/>
                  </a:lnTo>
                  <a:close/>
                  <a:moveTo>
                    <a:pt x="3310" y="0"/>
                  </a:moveTo>
                  <a:lnTo>
                    <a:pt x="3358" y="0"/>
                  </a:lnTo>
                  <a:lnTo>
                    <a:pt x="3358" y="16"/>
                  </a:lnTo>
                  <a:lnTo>
                    <a:pt x="3310" y="16"/>
                  </a:lnTo>
                  <a:lnTo>
                    <a:pt x="3310" y="0"/>
                  </a:lnTo>
                  <a:close/>
                  <a:moveTo>
                    <a:pt x="3374" y="0"/>
                  </a:moveTo>
                  <a:lnTo>
                    <a:pt x="3422" y="0"/>
                  </a:lnTo>
                  <a:lnTo>
                    <a:pt x="3422" y="16"/>
                  </a:lnTo>
                  <a:lnTo>
                    <a:pt x="3374" y="16"/>
                  </a:lnTo>
                  <a:lnTo>
                    <a:pt x="3374" y="0"/>
                  </a:lnTo>
                  <a:close/>
                  <a:moveTo>
                    <a:pt x="3439" y="0"/>
                  </a:moveTo>
                  <a:lnTo>
                    <a:pt x="3487" y="0"/>
                  </a:lnTo>
                  <a:lnTo>
                    <a:pt x="3487" y="16"/>
                  </a:lnTo>
                  <a:lnTo>
                    <a:pt x="3439" y="16"/>
                  </a:lnTo>
                  <a:lnTo>
                    <a:pt x="3439" y="0"/>
                  </a:lnTo>
                  <a:close/>
                  <a:moveTo>
                    <a:pt x="3503" y="0"/>
                  </a:moveTo>
                  <a:lnTo>
                    <a:pt x="3551" y="0"/>
                  </a:lnTo>
                  <a:lnTo>
                    <a:pt x="3551" y="16"/>
                  </a:lnTo>
                  <a:lnTo>
                    <a:pt x="3503" y="16"/>
                  </a:lnTo>
                  <a:lnTo>
                    <a:pt x="3503" y="0"/>
                  </a:lnTo>
                  <a:close/>
                  <a:moveTo>
                    <a:pt x="3567" y="0"/>
                  </a:moveTo>
                  <a:lnTo>
                    <a:pt x="3615" y="0"/>
                  </a:lnTo>
                  <a:lnTo>
                    <a:pt x="3615" y="16"/>
                  </a:lnTo>
                  <a:lnTo>
                    <a:pt x="3567" y="16"/>
                  </a:lnTo>
                  <a:lnTo>
                    <a:pt x="3567" y="0"/>
                  </a:lnTo>
                  <a:close/>
                  <a:moveTo>
                    <a:pt x="3631" y="0"/>
                  </a:moveTo>
                  <a:lnTo>
                    <a:pt x="3679" y="0"/>
                  </a:lnTo>
                  <a:lnTo>
                    <a:pt x="3679" y="16"/>
                  </a:lnTo>
                  <a:lnTo>
                    <a:pt x="3631" y="16"/>
                  </a:lnTo>
                  <a:lnTo>
                    <a:pt x="3631" y="0"/>
                  </a:lnTo>
                  <a:close/>
                  <a:moveTo>
                    <a:pt x="3695" y="0"/>
                  </a:moveTo>
                  <a:lnTo>
                    <a:pt x="3743" y="0"/>
                  </a:lnTo>
                  <a:lnTo>
                    <a:pt x="3743" y="16"/>
                  </a:lnTo>
                  <a:lnTo>
                    <a:pt x="3695" y="16"/>
                  </a:lnTo>
                  <a:lnTo>
                    <a:pt x="3695" y="0"/>
                  </a:lnTo>
                  <a:close/>
                  <a:moveTo>
                    <a:pt x="3759" y="0"/>
                  </a:moveTo>
                  <a:lnTo>
                    <a:pt x="3807" y="0"/>
                  </a:lnTo>
                  <a:lnTo>
                    <a:pt x="3807" y="16"/>
                  </a:lnTo>
                  <a:lnTo>
                    <a:pt x="3759" y="16"/>
                  </a:lnTo>
                  <a:lnTo>
                    <a:pt x="3759" y="0"/>
                  </a:lnTo>
                  <a:close/>
                  <a:moveTo>
                    <a:pt x="3823" y="0"/>
                  </a:moveTo>
                  <a:lnTo>
                    <a:pt x="3871" y="0"/>
                  </a:lnTo>
                  <a:lnTo>
                    <a:pt x="3871" y="16"/>
                  </a:lnTo>
                  <a:lnTo>
                    <a:pt x="3823" y="16"/>
                  </a:lnTo>
                  <a:lnTo>
                    <a:pt x="3823" y="0"/>
                  </a:lnTo>
                  <a:close/>
                  <a:moveTo>
                    <a:pt x="3887" y="0"/>
                  </a:moveTo>
                  <a:lnTo>
                    <a:pt x="3935" y="0"/>
                  </a:lnTo>
                  <a:lnTo>
                    <a:pt x="3935" y="16"/>
                  </a:lnTo>
                  <a:lnTo>
                    <a:pt x="3887" y="16"/>
                  </a:lnTo>
                  <a:lnTo>
                    <a:pt x="3887" y="0"/>
                  </a:lnTo>
                  <a:close/>
                  <a:moveTo>
                    <a:pt x="3951" y="0"/>
                  </a:moveTo>
                  <a:lnTo>
                    <a:pt x="3999" y="0"/>
                  </a:lnTo>
                  <a:lnTo>
                    <a:pt x="3999" y="16"/>
                  </a:lnTo>
                  <a:lnTo>
                    <a:pt x="3951" y="16"/>
                  </a:lnTo>
                  <a:lnTo>
                    <a:pt x="3951" y="0"/>
                  </a:lnTo>
                  <a:close/>
                  <a:moveTo>
                    <a:pt x="4015" y="0"/>
                  </a:moveTo>
                  <a:lnTo>
                    <a:pt x="4063" y="0"/>
                  </a:lnTo>
                  <a:lnTo>
                    <a:pt x="4063" y="16"/>
                  </a:lnTo>
                  <a:lnTo>
                    <a:pt x="4015" y="16"/>
                  </a:lnTo>
                  <a:lnTo>
                    <a:pt x="4015" y="0"/>
                  </a:lnTo>
                  <a:close/>
                  <a:moveTo>
                    <a:pt x="4079" y="0"/>
                  </a:moveTo>
                  <a:lnTo>
                    <a:pt x="4127" y="0"/>
                  </a:lnTo>
                  <a:lnTo>
                    <a:pt x="4127" y="16"/>
                  </a:lnTo>
                  <a:lnTo>
                    <a:pt x="4079" y="16"/>
                  </a:lnTo>
                  <a:lnTo>
                    <a:pt x="4079" y="0"/>
                  </a:lnTo>
                  <a:close/>
                  <a:moveTo>
                    <a:pt x="4143" y="0"/>
                  </a:moveTo>
                  <a:lnTo>
                    <a:pt x="4191" y="0"/>
                  </a:lnTo>
                  <a:lnTo>
                    <a:pt x="4191" y="16"/>
                  </a:lnTo>
                  <a:lnTo>
                    <a:pt x="4143" y="16"/>
                  </a:lnTo>
                  <a:lnTo>
                    <a:pt x="4143" y="0"/>
                  </a:lnTo>
                  <a:close/>
                  <a:moveTo>
                    <a:pt x="4207" y="0"/>
                  </a:moveTo>
                  <a:lnTo>
                    <a:pt x="4255" y="0"/>
                  </a:lnTo>
                  <a:lnTo>
                    <a:pt x="4255" y="16"/>
                  </a:lnTo>
                  <a:lnTo>
                    <a:pt x="4207" y="16"/>
                  </a:lnTo>
                  <a:lnTo>
                    <a:pt x="4207" y="0"/>
                  </a:lnTo>
                  <a:close/>
                  <a:moveTo>
                    <a:pt x="4271" y="0"/>
                  </a:moveTo>
                  <a:lnTo>
                    <a:pt x="4319" y="0"/>
                  </a:lnTo>
                  <a:lnTo>
                    <a:pt x="4319" y="16"/>
                  </a:lnTo>
                  <a:lnTo>
                    <a:pt x="4271" y="16"/>
                  </a:lnTo>
                  <a:lnTo>
                    <a:pt x="4271" y="0"/>
                  </a:lnTo>
                  <a:close/>
                  <a:moveTo>
                    <a:pt x="4335" y="0"/>
                  </a:moveTo>
                  <a:lnTo>
                    <a:pt x="4383" y="0"/>
                  </a:lnTo>
                  <a:lnTo>
                    <a:pt x="4383" y="16"/>
                  </a:lnTo>
                  <a:lnTo>
                    <a:pt x="4335" y="16"/>
                  </a:lnTo>
                  <a:lnTo>
                    <a:pt x="4335" y="0"/>
                  </a:lnTo>
                  <a:close/>
                  <a:moveTo>
                    <a:pt x="4399" y="0"/>
                  </a:moveTo>
                  <a:lnTo>
                    <a:pt x="4448" y="0"/>
                  </a:lnTo>
                  <a:lnTo>
                    <a:pt x="4448" y="16"/>
                  </a:lnTo>
                  <a:lnTo>
                    <a:pt x="4399" y="16"/>
                  </a:lnTo>
                  <a:lnTo>
                    <a:pt x="4399" y="0"/>
                  </a:lnTo>
                  <a:close/>
                  <a:moveTo>
                    <a:pt x="4464" y="0"/>
                  </a:moveTo>
                  <a:lnTo>
                    <a:pt x="4512" y="0"/>
                  </a:lnTo>
                  <a:lnTo>
                    <a:pt x="4512" y="16"/>
                  </a:lnTo>
                  <a:lnTo>
                    <a:pt x="4464" y="16"/>
                  </a:lnTo>
                  <a:lnTo>
                    <a:pt x="4464" y="0"/>
                  </a:lnTo>
                  <a:close/>
                  <a:moveTo>
                    <a:pt x="4528" y="0"/>
                  </a:moveTo>
                  <a:lnTo>
                    <a:pt x="4576" y="0"/>
                  </a:lnTo>
                  <a:lnTo>
                    <a:pt x="4576" y="16"/>
                  </a:lnTo>
                  <a:lnTo>
                    <a:pt x="4528" y="16"/>
                  </a:lnTo>
                  <a:lnTo>
                    <a:pt x="4528" y="0"/>
                  </a:lnTo>
                  <a:close/>
                  <a:moveTo>
                    <a:pt x="4592" y="0"/>
                  </a:moveTo>
                  <a:lnTo>
                    <a:pt x="4640" y="0"/>
                  </a:lnTo>
                  <a:lnTo>
                    <a:pt x="4640" y="16"/>
                  </a:lnTo>
                  <a:lnTo>
                    <a:pt x="4592" y="16"/>
                  </a:lnTo>
                  <a:lnTo>
                    <a:pt x="4592" y="0"/>
                  </a:lnTo>
                  <a:close/>
                  <a:moveTo>
                    <a:pt x="4656" y="0"/>
                  </a:moveTo>
                  <a:lnTo>
                    <a:pt x="4704" y="0"/>
                  </a:lnTo>
                  <a:lnTo>
                    <a:pt x="4704" y="16"/>
                  </a:lnTo>
                  <a:lnTo>
                    <a:pt x="4656" y="16"/>
                  </a:lnTo>
                  <a:lnTo>
                    <a:pt x="4656" y="0"/>
                  </a:lnTo>
                  <a:close/>
                  <a:moveTo>
                    <a:pt x="4720" y="0"/>
                  </a:moveTo>
                  <a:lnTo>
                    <a:pt x="4768" y="0"/>
                  </a:lnTo>
                  <a:lnTo>
                    <a:pt x="4768" y="16"/>
                  </a:lnTo>
                  <a:lnTo>
                    <a:pt x="4720" y="16"/>
                  </a:lnTo>
                  <a:lnTo>
                    <a:pt x="4720" y="0"/>
                  </a:lnTo>
                  <a:close/>
                  <a:moveTo>
                    <a:pt x="4784" y="0"/>
                  </a:moveTo>
                  <a:lnTo>
                    <a:pt x="4832" y="0"/>
                  </a:lnTo>
                  <a:lnTo>
                    <a:pt x="4832" y="16"/>
                  </a:lnTo>
                  <a:lnTo>
                    <a:pt x="4784" y="16"/>
                  </a:lnTo>
                  <a:lnTo>
                    <a:pt x="4784" y="0"/>
                  </a:lnTo>
                  <a:close/>
                  <a:moveTo>
                    <a:pt x="4848" y="0"/>
                  </a:moveTo>
                  <a:lnTo>
                    <a:pt x="4896" y="0"/>
                  </a:lnTo>
                  <a:lnTo>
                    <a:pt x="4896" y="16"/>
                  </a:lnTo>
                  <a:lnTo>
                    <a:pt x="4848" y="16"/>
                  </a:lnTo>
                  <a:lnTo>
                    <a:pt x="4848" y="0"/>
                  </a:lnTo>
                  <a:close/>
                  <a:moveTo>
                    <a:pt x="4912" y="0"/>
                  </a:moveTo>
                  <a:lnTo>
                    <a:pt x="4960" y="0"/>
                  </a:lnTo>
                  <a:lnTo>
                    <a:pt x="4960" y="16"/>
                  </a:lnTo>
                  <a:lnTo>
                    <a:pt x="4912" y="16"/>
                  </a:lnTo>
                  <a:lnTo>
                    <a:pt x="4912" y="0"/>
                  </a:lnTo>
                  <a:close/>
                  <a:moveTo>
                    <a:pt x="4976" y="0"/>
                  </a:moveTo>
                  <a:lnTo>
                    <a:pt x="5024" y="0"/>
                  </a:lnTo>
                  <a:lnTo>
                    <a:pt x="5024" y="16"/>
                  </a:lnTo>
                  <a:lnTo>
                    <a:pt x="4976" y="16"/>
                  </a:lnTo>
                  <a:lnTo>
                    <a:pt x="4976" y="0"/>
                  </a:lnTo>
                  <a:close/>
                  <a:moveTo>
                    <a:pt x="5040" y="0"/>
                  </a:moveTo>
                  <a:lnTo>
                    <a:pt x="5088" y="0"/>
                  </a:lnTo>
                  <a:lnTo>
                    <a:pt x="5088" y="16"/>
                  </a:lnTo>
                  <a:lnTo>
                    <a:pt x="5040" y="16"/>
                  </a:lnTo>
                  <a:lnTo>
                    <a:pt x="5040" y="0"/>
                  </a:lnTo>
                  <a:close/>
                  <a:moveTo>
                    <a:pt x="5104" y="0"/>
                  </a:moveTo>
                  <a:lnTo>
                    <a:pt x="5152" y="0"/>
                  </a:lnTo>
                  <a:lnTo>
                    <a:pt x="5152" y="16"/>
                  </a:lnTo>
                  <a:lnTo>
                    <a:pt x="5104" y="16"/>
                  </a:lnTo>
                  <a:lnTo>
                    <a:pt x="5104" y="0"/>
                  </a:lnTo>
                  <a:close/>
                  <a:moveTo>
                    <a:pt x="5168" y="0"/>
                  </a:moveTo>
                  <a:lnTo>
                    <a:pt x="5216" y="0"/>
                  </a:lnTo>
                  <a:lnTo>
                    <a:pt x="5216" y="16"/>
                  </a:lnTo>
                  <a:lnTo>
                    <a:pt x="5168" y="16"/>
                  </a:lnTo>
                  <a:lnTo>
                    <a:pt x="5168" y="0"/>
                  </a:lnTo>
                  <a:close/>
                  <a:moveTo>
                    <a:pt x="5232" y="0"/>
                  </a:moveTo>
                  <a:lnTo>
                    <a:pt x="5280" y="0"/>
                  </a:lnTo>
                  <a:lnTo>
                    <a:pt x="5280" y="16"/>
                  </a:lnTo>
                  <a:lnTo>
                    <a:pt x="5232" y="16"/>
                  </a:lnTo>
                  <a:lnTo>
                    <a:pt x="5232" y="0"/>
                  </a:lnTo>
                  <a:close/>
                  <a:moveTo>
                    <a:pt x="5296" y="0"/>
                  </a:moveTo>
                  <a:lnTo>
                    <a:pt x="5344" y="0"/>
                  </a:lnTo>
                  <a:lnTo>
                    <a:pt x="5344" y="16"/>
                  </a:lnTo>
                  <a:lnTo>
                    <a:pt x="5296" y="16"/>
                  </a:lnTo>
                  <a:lnTo>
                    <a:pt x="5296" y="0"/>
                  </a:lnTo>
                  <a:close/>
                  <a:moveTo>
                    <a:pt x="5360" y="0"/>
                  </a:moveTo>
                  <a:lnTo>
                    <a:pt x="5408" y="0"/>
                  </a:lnTo>
                  <a:lnTo>
                    <a:pt x="5408" y="16"/>
                  </a:lnTo>
                  <a:lnTo>
                    <a:pt x="5360" y="16"/>
                  </a:lnTo>
                  <a:lnTo>
                    <a:pt x="5360" y="0"/>
                  </a:lnTo>
                  <a:close/>
                  <a:moveTo>
                    <a:pt x="5424" y="0"/>
                  </a:moveTo>
                  <a:lnTo>
                    <a:pt x="5473" y="0"/>
                  </a:lnTo>
                  <a:lnTo>
                    <a:pt x="5473" y="16"/>
                  </a:lnTo>
                  <a:lnTo>
                    <a:pt x="5424" y="16"/>
                  </a:lnTo>
                  <a:lnTo>
                    <a:pt x="5424" y="0"/>
                  </a:lnTo>
                  <a:close/>
                  <a:moveTo>
                    <a:pt x="5489" y="0"/>
                  </a:moveTo>
                  <a:lnTo>
                    <a:pt x="5537" y="0"/>
                  </a:lnTo>
                  <a:lnTo>
                    <a:pt x="5537" y="16"/>
                  </a:lnTo>
                  <a:lnTo>
                    <a:pt x="5489" y="16"/>
                  </a:lnTo>
                  <a:lnTo>
                    <a:pt x="5489" y="0"/>
                  </a:lnTo>
                  <a:close/>
                  <a:moveTo>
                    <a:pt x="5553" y="0"/>
                  </a:moveTo>
                  <a:lnTo>
                    <a:pt x="5601" y="0"/>
                  </a:lnTo>
                  <a:lnTo>
                    <a:pt x="5601" y="16"/>
                  </a:lnTo>
                  <a:lnTo>
                    <a:pt x="5553" y="16"/>
                  </a:lnTo>
                  <a:lnTo>
                    <a:pt x="5553" y="0"/>
                  </a:lnTo>
                  <a:close/>
                  <a:moveTo>
                    <a:pt x="5617" y="0"/>
                  </a:moveTo>
                  <a:lnTo>
                    <a:pt x="5665" y="0"/>
                  </a:lnTo>
                  <a:lnTo>
                    <a:pt x="5665" y="16"/>
                  </a:lnTo>
                  <a:lnTo>
                    <a:pt x="5617" y="16"/>
                  </a:lnTo>
                  <a:lnTo>
                    <a:pt x="5617" y="0"/>
                  </a:lnTo>
                  <a:close/>
                  <a:moveTo>
                    <a:pt x="5681" y="0"/>
                  </a:moveTo>
                  <a:lnTo>
                    <a:pt x="5729" y="0"/>
                  </a:lnTo>
                  <a:lnTo>
                    <a:pt x="5729" y="16"/>
                  </a:lnTo>
                  <a:lnTo>
                    <a:pt x="5681" y="16"/>
                  </a:lnTo>
                  <a:lnTo>
                    <a:pt x="5681" y="0"/>
                  </a:lnTo>
                  <a:close/>
                  <a:moveTo>
                    <a:pt x="5745" y="0"/>
                  </a:moveTo>
                  <a:lnTo>
                    <a:pt x="5793" y="0"/>
                  </a:lnTo>
                  <a:lnTo>
                    <a:pt x="5793" y="16"/>
                  </a:lnTo>
                  <a:lnTo>
                    <a:pt x="5745" y="16"/>
                  </a:lnTo>
                  <a:lnTo>
                    <a:pt x="5745" y="0"/>
                  </a:lnTo>
                  <a:close/>
                  <a:moveTo>
                    <a:pt x="5809" y="0"/>
                  </a:moveTo>
                  <a:lnTo>
                    <a:pt x="5857" y="0"/>
                  </a:lnTo>
                  <a:lnTo>
                    <a:pt x="5857" y="16"/>
                  </a:lnTo>
                  <a:lnTo>
                    <a:pt x="5809" y="16"/>
                  </a:lnTo>
                  <a:lnTo>
                    <a:pt x="5809" y="0"/>
                  </a:lnTo>
                  <a:close/>
                  <a:moveTo>
                    <a:pt x="5873" y="0"/>
                  </a:moveTo>
                  <a:lnTo>
                    <a:pt x="5921" y="0"/>
                  </a:lnTo>
                  <a:lnTo>
                    <a:pt x="5921" y="16"/>
                  </a:lnTo>
                  <a:lnTo>
                    <a:pt x="5873" y="16"/>
                  </a:lnTo>
                  <a:lnTo>
                    <a:pt x="5873" y="0"/>
                  </a:lnTo>
                  <a:close/>
                  <a:moveTo>
                    <a:pt x="5937" y="0"/>
                  </a:moveTo>
                  <a:lnTo>
                    <a:pt x="5985" y="0"/>
                  </a:lnTo>
                  <a:lnTo>
                    <a:pt x="5985" y="16"/>
                  </a:lnTo>
                  <a:lnTo>
                    <a:pt x="5937" y="16"/>
                  </a:lnTo>
                  <a:lnTo>
                    <a:pt x="5937" y="0"/>
                  </a:lnTo>
                  <a:close/>
                  <a:moveTo>
                    <a:pt x="6001" y="0"/>
                  </a:moveTo>
                  <a:lnTo>
                    <a:pt x="6049" y="0"/>
                  </a:lnTo>
                  <a:lnTo>
                    <a:pt x="6049" y="16"/>
                  </a:lnTo>
                  <a:lnTo>
                    <a:pt x="6001" y="16"/>
                  </a:lnTo>
                  <a:lnTo>
                    <a:pt x="6001" y="0"/>
                  </a:lnTo>
                  <a:close/>
                  <a:moveTo>
                    <a:pt x="6065" y="0"/>
                  </a:moveTo>
                  <a:lnTo>
                    <a:pt x="6113" y="0"/>
                  </a:lnTo>
                  <a:lnTo>
                    <a:pt x="6113" y="16"/>
                  </a:lnTo>
                  <a:lnTo>
                    <a:pt x="6065" y="16"/>
                  </a:lnTo>
                  <a:lnTo>
                    <a:pt x="6065" y="0"/>
                  </a:lnTo>
                  <a:close/>
                  <a:moveTo>
                    <a:pt x="6129" y="0"/>
                  </a:moveTo>
                  <a:lnTo>
                    <a:pt x="6177" y="0"/>
                  </a:lnTo>
                  <a:lnTo>
                    <a:pt x="6177" y="16"/>
                  </a:lnTo>
                  <a:lnTo>
                    <a:pt x="6129" y="16"/>
                  </a:lnTo>
                  <a:lnTo>
                    <a:pt x="6129" y="0"/>
                  </a:lnTo>
                  <a:close/>
                  <a:moveTo>
                    <a:pt x="6193" y="0"/>
                  </a:moveTo>
                  <a:lnTo>
                    <a:pt x="6241" y="0"/>
                  </a:lnTo>
                  <a:lnTo>
                    <a:pt x="6241" y="16"/>
                  </a:lnTo>
                  <a:lnTo>
                    <a:pt x="6193" y="16"/>
                  </a:lnTo>
                  <a:lnTo>
                    <a:pt x="6193" y="0"/>
                  </a:lnTo>
                  <a:close/>
                  <a:moveTo>
                    <a:pt x="6257" y="0"/>
                  </a:moveTo>
                  <a:lnTo>
                    <a:pt x="6305" y="0"/>
                  </a:lnTo>
                  <a:lnTo>
                    <a:pt x="6305" y="16"/>
                  </a:lnTo>
                  <a:lnTo>
                    <a:pt x="6257" y="16"/>
                  </a:lnTo>
                  <a:lnTo>
                    <a:pt x="6257" y="0"/>
                  </a:lnTo>
                  <a:close/>
                  <a:moveTo>
                    <a:pt x="6321" y="0"/>
                  </a:moveTo>
                  <a:lnTo>
                    <a:pt x="6369" y="0"/>
                  </a:lnTo>
                  <a:lnTo>
                    <a:pt x="6369" y="16"/>
                  </a:lnTo>
                  <a:lnTo>
                    <a:pt x="6321" y="16"/>
                  </a:lnTo>
                  <a:lnTo>
                    <a:pt x="6321" y="0"/>
                  </a:lnTo>
                  <a:close/>
                  <a:moveTo>
                    <a:pt x="6385" y="0"/>
                  </a:moveTo>
                  <a:lnTo>
                    <a:pt x="6434" y="0"/>
                  </a:lnTo>
                  <a:lnTo>
                    <a:pt x="6434" y="16"/>
                  </a:lnTo>
                  <a:lnTo>
                    <a:pt x="6385" y="16"/>
                  </a:lnTo>
                  <a:lnTo>
                    <a:pt x="6385" y="0"/>
                  </a:lnTo>
                  <a:close/>
                  <a:moveTo>
                    <a:pt x="6450" y="0"/>
                  </a:moveTo>
                  <a:lnTo>
                    <a:pt x="6498" y="0"/>
                  </a:lnTo>
                  <a:lnTo>
                    <a:pt x="6498" y="16"/>
                  </a:lnTo>
                  <a:lnTo>
                    <a:pt x="6450" y="16"/>
                  </a:lnTo>
                  <a:lnTo>
                    <a:pt x="6450" y="0"/>
                  </a:lnTo>
                  <a:close/>
                  <a:moveTo>
                    <a:pt x="6514" y="0"/>
                  </a:moveTo>
                  <a:lnTo>
                    <a:pt x="6562" y="0"/>
                  </a:lnTo>
                  <a:lnTo>
                    <a:pt x="6562" y="16"/>
                  </a:lnTo>
                  <a:lnTo>
                    <a:pt x="6514" y="16"/>
                  </a:lnTo>
                  <a:lnTo>
                    <a:pt x="6514" y="0"/>
                  </a:lnTo>
                  <a:close/>
                  <a:moveTo>
                    <a:pt x="6578" y="0"/>
                  </a:moveTo>
                  <a:lnTo>
                    <a:pt x="6626" y="0"/>
                  </a:lnTo>
                  <a:lnTo>
                    <a:pt x="6626" y="16"/>
                  </a:lnTo>
                  <a:lnTo>
                    <a:pt x="6578" y="16"/>
                  </a:lnTo>
                  <a:lnTo>
                    <a:pt x="6578" y="0"/>
                  </a:lnTo>
                  <a:close/>
                  <a:moveTo>
                    <a:pt x="6642" y="0"/>
                  </a:moveTo>
                  <a:lnTo>
                    <a:pt x="6690" y="0"/>
                  </a:lnTo>
                  <a:lnTo>
                    <a:pt x="6690" y="16"/>
                  </a:lnTo>
                  <a:lnTo>
                    <a:pt x="6642" y="16"/>
                  </a:lnTo>
                  <a:lnTo>
                    <a:pt x="6642" y="0"/>
                  </a:lnTo>
                  <a:close/>
                  <a:moveTo>
                    <a:pt x="6706" y="0"/>
                  </a:moveTo>
                  <a:lnTo>
                    <a:pt x="6754" y="0"/>
                  </a:lnTo>
                  <a:lnTo>
                    <a:pt x="6754" y="16"/>
                  </a:lnTo>
                  <a:lnTo>
                    <a:pt x="6706" y="16"/>
                  </a:lnTo>
                  <a:lnTo>
                    <a:pt x="6706" y="0"/>
                  </a:lnTo>
                  <a:close/>
                  <a:moveTo>
                    <a:pt x="6770" y="0"/>
                  </a:moveTo>
                  <a:lnTo>
                    <a:pt x="6818" y="0"/>
                  </a:lnTo>
                  <a:lnTo>
                    <a:pt x="6818" y="16"/>
                  </a:lnTo>
                  <a:lnTo>
                    <a:pt x="6770" y="16"/>
                  </a:lnTo>
                  <a:lnTo>
                    <a:pt x="6770" y="0"/>
                  </a:lnTo>
                  <a:close/>
                  <a:moveTo>
                    <a:pt x="6834" y="0"/>
                  </a:moveTo>
                  <a:lnTo>
                    <a:pt x="6882" y="0"/>
                  </a:lnTo>
                  <a:lnTo>
                    <a:pt x="6882" y="16"/>
                  </a:lnTo>
                  <a:lnTo>
                    <a:pt x="6834" y="16"/>
                  </a:lnTo>
                  <a:lnTo>
                    <a:pt x="6834" y="0"/>
                  </a:lnTo>
                  <a:close/>
                  <a:moveTo>
                    <a:pt x="6898" y="0"/>
                  </a:moveTo>
                  <a:lnTo>
                    <a:pt x="6946" y="0"/>
                  </a:lnTo>
                  <a:lnTo>
                    <a:pt x="6946" y="16"/>
                  </a:lnTo>
                  <a:lnTo>
                    <a:pt x="6898" y="16"/>
                  </a:lnTo>
                  <a:lnTo>
                    <a:pt x="6898" y="0"/>
                  </a:lnTo>
                  <a:close/>
                  <a:moveTo>
                    <a:pt x="6962" y="0"/>
                  </a:moveTo>
                  <a:lnTo>
                    <a:pt x="7010" y="0"/>
                  </a:lnTo>
                  <a:lnTo>
                    <a:pt x="7010" y="16"/>
                  </a:lnTo>
                  <a:lnTo>
                    <a:pt x="6962" y="16"/>
                  </a:lnTo>
                  <a:lnTo>
                    <a:pt x="6962" y="0"/>
                  </a:lnTo>
                  <a:close/>
                  <a:moveTo>
                    <a:pt x="7026" y="0"/>
                  </a:moveTo>
                  <a:lnTo>
                    <a:pt x="7074" y="0"/>
                  </a:lnTo>
                  <a:lnTo>
                    <a:pt x="7074" y="16"/>
                  </a:lnTo>
                  <a:lnTo>
                    <a:pt x="7026" y="16"/>
                  </a:lnTo>
                  <a:lnTo>
                    <a:pt x="7026" y="0"/>
                  </a:lnTo>
                  <a:close/>
                  <a:moveTo>
                    <a:pt x="7090" y="0"/>
                  </a:moveTo>
                  <a:lnTo>
                    <a:pt x="7138" y="0"/>
                  </a:lnTo>
                  <a:lnTo>
                    <a:pt x="7138" y="16"/>
                  </a:lnTo>
                  <a:lnTo>
                    <a:pt x="7090" y="16"/>
                  </a:lnTo>
                  <a:lnTo>
                    <a:pt x="7090" y="0"/>
                  </a:lnTo>
                  <a:close/>
                  <a:moveTo>
                    <a:pt x="7154" y="0"/>
                  </a:moveTo>
                  <a:lnTo>
                    <a:pt x="7202" y="0"/>
                  </a:lnTo>
                  <a:lnTo>
                    <a:pt x="7202" y="16"/>
                  </a:lnTo>
                  <a:lnTo>
                    <a:pt x="7154" y="16"/>
                  </a:lnTo>
                  <a:lnTo>
                    <a:pt x="7154" y="0"/>
                  </a:lnTo>
                  <a:close/>
                  <a:moveTo>
                    <a:pt x="7218" y="0"/>
                  </a:moveTo>
                  <a:lnTo>
                    <a:pt x="7266" y="0"/>
                  </a:lnTo>
                  <a:lnTo>
                    <a:pt x="7266" y="16"/>
                  </a:lnTo>
                  <a:lnTo>
                    <a:pt x="7218" y="16"/>
                  </a:lnTo>
                  <a:lnTo>
                    <a:pt x="7218" y="0"/>
                  </a:lnTo>
                  <a:close/>
                  <a:moveTo>
                    <a:pt x="7282" y="0"/>
                  </a:moveTo>
                  <a:lnTo>
                    <a:pt x="7330" y="0"/>
                  </a:lnTo>
                  <a:lnTo>
                    <a:pt x="7330" y="16"/>
                  </a:lnTo>
                  <a:lnTo>
                    <a:pt x="7282" y="16"/>
                  </a:lnTo>
                  <a:lnTo>
                    <a:pt x="7282" y="0"/>
                  </a:lnTo>
                  <a:close/>
                  <a:moveTo>
                    <a:pt x="7346" y="0"/>
                  </a:moveTo>
                  <a:lnTo>
                    <a:pt x="7394" y="0"/>
                  </a:lnTo>
                  <a:lnTo>
                    <a:pt x="7394" y="16"/>
                  </a:lnTo>
                  <a:lnTo>
                    <a:pt x="7346" y="16"/>
                  </a:lnTo>
                  <a:lnTo>
                    <a:pt x="7346" y="0"/>
                  </a:lnTo>
                  <a:close/>
                  <a:moveTo>
                    <a:pt x="7411" y="0"/>
                  </a:moveTo>
                  <a:lnTo>
                    <a:pt x="7459" y="0"/>
                  </a:lnTo>
                  <a:lnTo>
                    <a:pt x="7459" y="16"/>
                  </a:lnTo>
                  <a:lnTo>
                    <a:pt x="7411" y="16"/>
                  </a:lnTo>
                  <a:lnTo>
                    <a:pt x="7411" y="0"/>
                  </a:lnTo>
                  <a:close/>
                  <a:moveTo>
                    <a:pt x="7475" y="0"/>
                  </a:moveTo>
                  <a:lnTo>
                    <a:pt x="7523" y="0"/>
                  </a:lnTo>
                  <a:lnTo>
                    <a:pt x="7523" y="16"/>
                  </a:lnTo>
                  <a:lnTo>
                    <a:pt x="7475" y="16"/>
                  </a:lnTo>
                  <a:lnTo>
                    <a:pt x="7475" y="0"/>
                  </a:lnTo>
                  <a:close/>
                  <a:moveTo>
                    <a:pt x="7539" y="0"/>
                  </a:moveTo>
                  <a:lnTo>
                    <a:pt x="7587" y="0"/>
                  </a:lnTo>
                  <a:lnTo>
                    <a:pt x="7587" y="16"/>
                  </a:lnTo>
                  <a:lnTo>
                    <a:pt x="7539" y="16"/>
                  </a:lnTo>
                  <a:lnTo>
                    <a:pt x="7539" y="0"/>
                  </a:lnTo>
                  <a:close/>
                  <a:moveTo>
                    <a:pt x="7603" y="0"/>
                  </a:moveTo>
                  <a:lnTo>
                    <a:pt x="7651" y="0"/>
                  </a:lnTo>
                  <a:lnTo>
                    <a:pt x="7651" y="16"/>
                  </a:lnTo>
                  <a:lnTo>
                    <a:pt x="7603" y="16"/>
                  </a:lnTo>
                  <a:lnTo>
                    <a:pt x="7603" y="0"/>
                  </a:lnTo>
                  <a:close/>
                  <a:moveTo>
                    <a:pt x="7667" y="0"/>
                  </a:moveTo>
                  <a:lnTo>
                    <a:pt x="7715" y="0"/>
                  </a:lnTo>
                  <a:lnTo>
                    <a:pt x="7715" y="16"/>
                  </a:lnTo>
                  <a:lnTo>
                    <a:pt x="7667" y="16"/>
                  </a:lnTo>
                  <a:lnTo>
                    <a:pt x="7667" y="0"/>
                  </a:lnTo>
                  <a:close/>
                  <a:moveTo>
                    <a:pt x="7731" y="0"/>
                  </a:moveTo>
                  <a:lnTo>
                    <a:pt x="7779" y="0"/>
                  </a:lnTo>
                  <a:lnTo>
                    <a:pt x="7779" y="16"/>
                  </a:lnTo>
                  <a:lnTo>
                    <a:pt x="7731" y="16"/>
                  </a:lnTo>
                  <a:lnTo>
                    <a:pt x="7731" y="0"/>
                  </a:lnTo>
                  <a:close/>
                  <a:moveTo>
                    <a:pt x="7795" y="0"/>
                  </a:moveTo>
                  <a:lnTo>
                    <a:pt x="7843" y="0"/>
                  </a:lnTo>
                  <a:lnTo>
                    <a:pt x="7843" y="16"/>
                  </a:lnTo>
                  <a:lnTo>
                    <a:pt x="7795" y="16"/>
                  </a:lnTo>
                  <a:lnTo>
                    <a:pt x="7795" y="0"/>
                  </a:lnTo>
                  <a:close/>
                  <a:moveTo>
                    <a:pt x="7859" y="0"/>
                  </a:moveTo>
                  <a:lnTo>
                    <a:pt x="7907" y="0"/>
                  </a:lnTo>
                  <a:lnTo>
                    <a:pt x="7907" y="16"/>
                  </a:lnTo>
                  <a:lnTo>
                    <a:pt x="7859" y="16"/>
                  </a:lnTo>
                  <a:lnTo>
                    <a:pt x="7859" y="0"/>
                  </a:lnTo>
                  <a:close/>
                  <a:moveTo>
                    <a:pt x="7923" y="0"/>
                  </a:moveTo>
                  <a:lnTo>
                    <a:pt x="7971" y="0"/>
                  </a:lnTo>
                  <a:lnTo>
                    <a:pt x="7971" y="16"/>
                  </a:lnTo>
                  <a:lnTo>
                    <a:pt x="7923" y="16"/>
                  </a:lnTo>
                  <a:lnTo>
                    <a:pt x="7923" y="0"/>
                  </a:lnTo>
                  <a:close/>
                  <a:moveTo>
                    <a:pt x="7987" y="0"/>
                  </a:moveTo>
                  <a:lnTo>
                    <a:pt x="8035" y="0"/>
                  </a:lnTo>
                  <a:lnTo>
                    <a:pt x="8035" y="16"/>
                  </a:lnTo>
                  <a:lnTo>
                    <a:pt x="7987" y="16"/>
                  </a:lnTo>
                  <a:lnTo>
                    <a:pt x="7987" y="0"/>
                  </a:lnTo>
                  <a:close/>
                  <a:moveTo>
                    <a:pt x="8051" y="0"/>
                  </a:moveTo>
                  <a:lnTo>
                    <a:pt x="8099" y="0"/>
                  </a:lnTo>
                  <a:lnTo>
                    <a:pt x="8099" y="16"/>
                  </a:lnTo>
                  <a:lnTo>
                    <a:pt x="8051" y="16"/>
                  </a:lnTo>
                  <a:lnTo>
                    <a:pt x="8051" y="0"/>
                  </a:lnTo>
                  <a:close/>
                  <a:moveTo>
                    <a:pt x="8115" y="0"/>
                  </a:moveTo>
                  <a:lnTo>
                    <a:pt x="8163" y="0"/>
                  </a:lnTo>
                  <a:lnTo>
                    <a:pt x="8163" y="16"/>
                  </a:lnTo>
                  <a:lnTo>
                    <a:pt x="8115" y="16"/>
                  </a:lnTo>
                  <a:lnTo>
                    <a:pt x="8115" y="0"/>
                  </a:lnTo>
                  <a:close/>
                  <a:moveTo>
                    <a:pt x="8179" y="0"/>
                  </a:moveTo>
                  <a:lnTo>
                    <a:pt x="8227" y="0"/>
                  </a:lnTo>
                  <a:lnTo>
                    <a:pt x="8227" y="16"/>
                  </a:lnTo>
                  <a:lnTo>
                    <a:pt x="8179" y="16"/>
                  </a:lnTo>
                  <a:lnTo>
                    <a:pt x="8179" y="0"/>
                  </a:lnTo>
                  <a:close/>
                  <a:moveTo>
                    <a:pt x="8243" y="0"/>
                  </a:moveTo>
                  <a:lnTo>
                    <a:pt x="8291" y="0"/>
                  </a:lnTo>
                  <a:lnTo>
                    <a:pt x="8291" y="16"/>
                  </a:lnTo>
                  <a:lnTo>
                    <a:pt x="8243" y="16"/>
                  </a:lnTo>
                  <a:lnTo>
                    <a:pt x="8243" y="0"/>
                  </a:lnTo>
                  <a:close/>
                  <a:moveTo>
                    <a:pt x="8307" y="0"/>
                  </a:moveTo>
                  <a:lnTo>
                    <a:pt x="8355" y="0"/>
                  </a:lnTo>
                  <a:lnTo>
                    <a:pt x="8355" y="16"/>
                  </a:lnTo>
                  <a:lnTo>
                    <a:pt x="8307" y="16"/>
                  </a:lnTo>
                  <a:lnTo>
                    <a:pt x="8307" y="0"/>
                  </a:lnTo>
                  <a:close/>
                  <a:moveTo>
                    <a:pt x="8371" y="0"/>
                  </a:moveTo>
                  <a:lnTo>
                    <a:pt x="8420" y="0"/>
                  </a:lnTo>
                  <a:lnTo>
                    <a:pt x="8420" y="16"/>
                  </a:lnTo>
                  <a:lnTo>
                    <a:pt x="8371" y="16"/>
                  </a:lnTo>
                  <a:lnTo>
                    <a:pt x="8371" y="0"/>
                  </a:lnTo>
                  <a:close/>
                  <a:moveTo>
                    <a:pt x="8436" y="0"/>
                  </a:moveTo>
                  <a:lnTo>
                    <a:pt x="8484" y="0"/>
                  </a:lnTo>
                  <a:lnTo>
                    <a:pt x="8484" y="16"/>
                  </a:lnTo>
                  <a:lnTo>
                    <a:pt x="8436" y="16"/>
                  </a:lnTo>
                  <a:lnTo>
                    <a:pt x="8436" y="0"/>
                  </a:lnTo>
                  <a:close/>
                  <a:moveTo>
                    <a:pt x="8500" y="0"/>
                  </a:moveTo>
                  <a:lnTo>
                    <a:pt x="8548" y="0"/>
                  </a:lnTo>
                  <a:lnTo>
                    <a:pt x="8548" y="16"/>
                  </a:lnTo>
                  <a:lnTo>
                    <a:pt x="8500" y="16"/>
                  </a:lnTo>
                  <a:lnTo>
                    <a:pt x="8500" y="0"/>
                  </a:lnTo>
                  <a:close/>
                  <a:moveTo>
                    <a:pt x="8564" y="0"/>
                  </a:moveTo>
                  <a:lnTo>
                    <a:pt x="8612" y="0"/>
                  </a:lnTo>
                  <a:lnTo>
                    <a:pt x="8612" y="16"/>
                  </a:lnTo>
                  <a:lnTo>
                    <a:pt x="8564" y="16"/>
                  </a:lnTo>
                  <a:lnTo>
                    <a:pt x="8564" y="0"/>
                  </a:lnTo>
                  <a:close/>
                  <a:moveTo>
                    <a:pt x="8628" y="0"/>
                  </a:moveTo>
                  <a:lnTo>
                    <a:pt x="8676" y="0"/>
                  </a:lnTo>
                  <a:lnTo>
                    <a:pt x="8676" y="16"/>
                  </a:lnTo>
                  <a:lnTo>
                    <a:pt x="8628" y="16"/>
                  </a:lnTo>
                  <a:lnTo>
                    <a:pt x="8628" y="0"/>
                  </a:lnTo>
                  <a:close/>
                  <a:moveTo>
                    <a:pt x="8693" y="2"/>
                  </a:moveTo>
                  <a:lnTo>
                    <a:pt x="8731" y="5"/>
                  </a:lnTo>
                  <a:cubicBezTo>
                    <a:pt x="8732" y="6"/>
                    <a:pt x="8732" y="6"/>
                    <a:pt x="8733" y="6"/>
                  </a:cubicBezTo>
                  <a:lnTo>
                    <a:pt x="8742" y="8"/>
                  </a:lnTo>
                  <a:lnTo>
                    <a:pt x="8737" y="24"/>
                  </a:lnTo>
                  <a:lnTo>
                    <a:pt x="8728" y="21"/>
                  </a:lnTo>
                  <a:lnTo>
                    <a:pt x="8730" y="21"/>
                  </a:lnTo>
                  <a:lnTo>
                    <a:pt x="8691" y="18"/>
                  </a:lnTo>
                  <a:lnTo>
                    <a:pt x="8693" y="2"/>
                  </a:lnTo>
                  <a:close/>
                  <a:moveTo>
                    <a:pt x="8757" y="13"/>
                  </a:moveTo>
                  <a:lnTo>
                    <a:pt x="8782" y="21"/>
                  </a:lnTo>
                  <a:cubicBezTo>
                    <a:pt x="8782" y="21"/>
                    <a:pt x="8783" y="21"/>
                    <a:pt x="8783" y="21"/>
                  </a:cubicBezTo>
                  <a:lnTo>
                    <a:pt x="8803" y="32"/>
                  </a:lnTo>
                  <a:lnTo>
                    <a:pt x="8795" y="46"/>
                  </a:lnTo>
                  <a:lnTo>
                    <a:pt x="8776" y="35"/>
                  </a:lnTo>
                  <a:lnTo>
                    <a:pt x="8777" y="36"/>
                  </a:lnTo>
                  <a:lnTo>
                    <a:pt x="8752" y="28"/>
                  </a:lnTo>
                  <a:lnTo>
                    <a:pt x="8757" y="13"/>
                  </a:lnTo>
                  <a:close/>
                  <a:moveTo>
                    <a:pt x="8817" y="40"/>
                  </a:moveTo>
                  <a:lnTo>
                    <a:pt x="8826" y="45"/>
                  </a:lnTo>
                  <a:cubicBezTo>
                    <a:pt x="8827" y="46"/>
                    <a:pt x="8827" y="46"/>
                    <a:pt x="8828" y="46"/>
                  </a:cubicBezTo>
                  <a:lnTo>
                    <a:pt x="8856" y="70"/>
                  </a:lnTo>
                  <a:lnTo>
                    <a:pt x="8846" y="82"/>
                  </a:lnTo>
                  <a:lnTo>
                    <a:pt x="8817" y="59"/>
                  </a:lnTo>
                  <a:lnTo>
                    <a:pt x="8819" y="59"/>
                  </a:lnTo>
                  <a:lnTo>
                    <a:pt x="8809" y="54"/>
                  </a:lnTo>
                  <a:lnTo>
                    <a:pt x="8817" y="40"/>
                  </a:lnTo>
                  <a:close/>
                  <a:moveTo>
                    <a:pt x="8869" y="81"/>
                  </a:moveTo>
                  <a:lnTo>
                    <a:pt x="8899" y="117"/>
                  </a:lnTo>
                  <a:cubicBezTo>
                    <a:pt x="8899" y="118"/>
                    <a:pt x="8899" y="118"/>
                    <a:pt x="8899" y="119"/>
                  </a:cubicBezTo>
                  <a:lnTo>
                    <a:pt x="8900" y="120"/>
                  </a:lnTo>
                  <a:lnTo>
                    <a:pt x="8886" y="128"/>
                  </a:lnTo>
                  <a:lnTo>
                    <a:pt x="8885" y="126"/>
                  </a:lnTo>
                  <a:lnTo>
                    <a:pt x="8886" y="128"/>
                  </a:lnTo>
                  <a:lnTo>
                    <a:pt x="8857" y="91"/>
                  </a:lnTo>
                  <a:lnTo>
                    <a:pt x="8869" y="81"/>
                  </a:lnTo>
                  <a:close/>
                  <a:moveTo>
                    <a:pt x="8908" y="134"/>
                  </a:moveTo>
                  <a:lnTo>
                    <a:pt x="8923" y="163"/>
                  </a:lnTo>
                  <a:cubicBezTo>
                    <a:pt x="8924" y="163"/>
                    <a:pt x="8924" y="164"/>
                    <a:pt x="8924" y="164"/>
                  </a:cubicBezTo>
                  <a:lnTo>
                    <a:pt x="8929" y="179"/>
                  </a:lnTo>
                  <a:lnTo>
                    <a:pt x="8913" y="183"/>
                  </a:lnTo>
                  <a:lnTo>
                    <a:pt x="8909" y="169"/>
                  </a:lnTo>
                  <a:lnTo>
                    <a:pt x="8909" y="170"/>
                  </a:lnTo>
                  <a:lnTo>
                    <a:pt x="8894" y="142"/>
                  </a:lnTo>
                  <a:lnTo>
                    <a:pt x="8908" y="134"/>
                  </a:lnTo>
                  <a:close/>
                  <a:moveTo>
                    <a:pt x="8933" y="194"/>
                  </a:moveTo>
                  <a:lnTo>
                    <a:pt x="8939" y="213"/>
                  </a:lnTo>
                  <a:cubicBezTo>
                    <a:pt x="8939" y="214"/>
                    <a:pt x="8939" y="214"/>
                    <a:pt x="8939" y="215"/>
                  </a:cubicBezTo>
                  <a:lnTo>
                    <a:pt x="8942" y="243"/>
                  </a:lnTo>
                  <a:lnTo>
                    <a:pt x="8926" y="244"/>
                  </a:lnTo>
                  <a:lnTo>
                    <a:pt x="8923" y="216"/>
                  </a:lnTo>
                  <a:lnTo>
                    <a:pt x="8924" y="218"/>
                  </a:lnTo>
                  <a:lnTo>
                    <a:pt x="8918" y="199"/>
                  </a:lnTo>
                  <a:lnTo>
                    <a:pt x="8933" y="194"/>
                  </a:lnTo>
                  <a:close/>
                  <a:moveTo>
                    <a:pt x="8944" y="259"/>
                  </a:moveTo>
                  <a:lnTo>
                    <a:pt x="8944" y="267"/>
                  </a:lnTo>
                  <a:lnTo>
                    <a:pt x="8928" y="268"/>
                  </a:lnTo>
                  <a:lnTo>
                    <a:pt x="8928" y="260"/>
                  </a:lnTo>
                  <a:lnTo>
                    <a:pt x="8944" y="259"/>
                  </a:lnTo>
                  <a:close/>
                  <a:moveTo>
                    <a:pt x="8944" y="267"/>
                  </a:moveTo>
                  <a:lnTo>
                    <a:pt x="8944" y="307"/>
                  </a:lnTo>
                  <a:lnTo>
                    <a:pt x="8928" y="307"/>
                  </a:lnTo>
                  <a:lnTo>
                    <a:pt x="8928" y="267"/>
                  </a:lnTo>
                  <a:lnTo>
                    <a:pt x="8944" y="267"/>
                  </a:lnTo>
                  <a:close/>
                  <a:moveTo>
                    <a:pt x="8944" y="323"/>
                  </a:moveTo>
                  <a:lnTo>
                    <a:pt x="8944" y="371"/>
                  </a:lnTo>
                  <a:lnTo>
                    <a:pt x="8928" y="371"/>
                  </a:lnTo>
                  <a:lnTo>
                    <a:pt x="8928" y="323"/>
                  </a:lnTo>
                  <a:lnTo>
                    <a:pt x="8944" y="323"/>
                  </a:lnTo>
                  <a:close/>
                  <a:moveTo>
                    <a:pt x="8944" y="388"/>
                  </a:moveTo>
                  <a:lnTo>
                    <a:pt x="8944" y="436"/>
                  </a:lnTo>
                  <a:lnTo>
                    <a:pt x="8928" y="436"/>
                  </a:lnTo>
                  <a:lnTo>
                    <a:pt x="8928" y="388"/>
                  </a:lnTo>
                  <a:lnTo>
                    <a:pt x="8944" y="388"/>
                  </a:lnTo>
                  <a:close/>
                  <a:moveTo>
                    <a:pt x="8944" y="452"/>
                  </a:moveTo>
                  <a:lnTo>
                    <a:pt x="8944" y="500"/>
                  </a:lnTo>
                  <a:lnTo>
                    <a:pt x="8928" y="500"/>
                  </a:lnTo>
                  <a:lnTo>
                    <a:pt x="8928" y="452"/>
                  </a:lnTo>
                  <a:lnTo>
                    <a:pt x="8944" y="452"/>
                  </a:lnTo>
                  <a:close/>
                  <a:moveTo>
                    <a:pt x="8944" y="516"/>
                  </a:moveTo>
                  <a:lnTo>
                    <a:pt x="8944" y="564"/>
                  </a:lnTo>
                  <a:lnTo>
                    <a:pt x="8928" y="564"/>
                  </a:lnTo>
                  <a:lnTo>
                    <a:pt x="8928" y="516"/>
                  </a:lnTo>
                  <a:lnTo>
                    <a:pt x="8944" y="516"/>
                  </a:lnTo>
                  <a:close/>
                  <a:moveTo>
                    <a:pt x="8944" y="580"/>
                  </a:moveTo>
                  <a:lnTo>
                    <a:pt x="8944" y="628"/>
                  </a:lnTo>
                  <a:lnTo>
                    <a:pt x="8928" y="628"/>
                  </a:lnTo>
                  <a:lnTo>
                    <a:pt x="8928" y="580"/>
                  </a:lnTo>
                  <a:lnTo>
                    <a:pt x="8944" y="580"/>
                  </a:lnTo>
                  <a:close/>
                  <a:moveTo>
                    <a:pt x="8944" y="644"/>
                  </a:moveTo>
                  <a:lnTo>
                    <a:pt x="8944" y="692"/>
                  </a:lnTo>
                  <a:lnTo>
                    <a:pt x="8928" y="692"/>
                  </a:lnTo>
                  <a:lnTo>
                    <a:pt x="8928" y="644"/>
                  </a:lnTo>
                  <a:lnTo>
                    <a:pt x="8944" y="644"/>
                  </a:lnTo>
                  <a:close/>
                  <a:moveTo>
                    <a:pt x="8944" y="708"/>
                  </a:moveTo>
                  <a:lnTo>
                    <a:pt x="8944" y="756"/>
                  </a:lnTo>
                  <a:lnTo>
                    <a:pt x="8928" y="756"/>
                  </a:lnTo>
                  <a:lnTo>
                    <a:pt x="8928" y="708"/>
                  </a:lnTo>
                  <a:lnTo>
                    <a:pt x="8944" y="708"/>
                  </a:lnTo>
                  <a:close/>
                  <a:moveTo>
                    <a:pt x="8944" y="772"/>
                  </a:moveTo>
                  <a:lnTo>
                    <a:pt x="8944" y="820"/>
                  </a:lnTo>
                  <a:lnTo>
                    <a:pt x="8928" y="820"/>
                  </a:lnTo>
                  <a:lnTo>
                    <a:pt x="8928" y="772"/>
                  </a:lnTo>
                  <a:lnTo>
                    <a:pt x="8944" y="772"/>
                  </a:lnTo>
                  <a:close/>
                  <a:moveTo>
                    <a:pt x="8944" y="836"/>
                  </a:moveTo>
                  <a:lnTo>
                    <a:pt x="8944" y="884"/>
                  </a:lnTo>
                  <a:lnTo>
                    <a:pt x="8928" y="884"/>
                  </a:lnTo>
                  <a:lnTo>
                    <a:pt x="8928" y="836"/>
                  </a:lnTo>
                  <a:lnTo>
                    <a:pt x="8944" y="836"/>
                  </a:lnTo>
                  <a:close/>
                  <a:moveTo>
                    <a:pt x="8944" y="900"/>
                  </a:moveTo>
                  <a:lnTo>
                    <a:pt x="8944" y="948"/>
                  </a:lnTo>
                  <a:lnTo>
                    <a:pt x="8928" y="948"/>
                  </a:lnTo>
                  <a:lnTo>
                    <a:pt x="8928" y="900"/>
                  </a:lnTo>
                  <a:lnTo>
                    <a:pt x="8944" y="900"/>
                  </a:lnTo>
                  <a:close/>
                  <a:moveTo>
                    <a:pt x="8944" y="964"/>
                  </a:moveTo>
                  <a:lnTo>
                    <a:pt x="8944" y="1012"/>
                  </a:lnTo>
                  <a:lnTo>
                    <a:pt x="8928" y="1012"/>
                  </a:lnTo>
                  <a:lnTo>
                    <a:pt x="8928" y="964"/>
                  </a:lnTo>
                  <a:lnTo>
                    <a:pt x="8944" y="964"/>
                  </a:lnTo>
                  <a:close/>
                  <a:moveTo>
                    <a:pt x="8944" y="1028"/>
                  </a:moveTo>
                  <a:lnTo>
                    <a:pt x="8944" y="1076"/>
                  </a:lnTo>
                  <a:lnTo>
                    <a:pt x="8928" y="1076"/>
                  </a:lnTo>
                  <a:lnTo>
                    <a:pt x="8928" y="1028"/>
                  </a:lnTo>
                  <a:lnTo>
                    <a:pt x="8944" y="1028"/>
                  </a:lnTo>
                  <a:close/>
                  <a:moveTo>
                    <a:pt x="8944" y="1092"/>
                  </a:moveTo>
                  <a:lnTo>
                    <a:pt x="8944" y="1140"/>
                  </a:lnTo>
                  <a:lnTo>
                    <a:pt x="8928" y="1140"/>
                  </a:lnTo>
                  <a:lnTo>
                    <a:pt x="8928" y="1092"/>
                  </a:lnTo>
                  <a:lnTo>
                    <a:pt x="8944" y="1092"/>
                  </a:lnTo>
                  <a:close/>
                  <a:moveTo>
                    <a:pt x="8944" y="1156"/>
                  </a:moveTo>
                  <a:lnTo>
                    <a:pt x="8944" y="1204"/>
                  </a:lnTo>
                  <a:lnTo>
                    <a:pt x="8928" y="1204"/>
                  </a:lnTo>
                  <a:lnTo>
                    <a:pt x="8928" y="1156"/>
                  </a:lnTo>
                  <a:lnTo>
                    <a:pt x="8944" y="1156"/>
                  </a:lnTo>
                  <a:close/>
                  <a:moveTo>
                    <a:pt x="8944" y="1220"/>
                  </a:moveTo>
                  <a:lnTo>
                    <a:pt x="8944" y="1268"/>
                  </a:lnTo>
                  <a:lnTo>
                    <a:pt x="8928" y="1268"/>
                  </a:lnTo>
                  <a:lnTo>
                    <a:pt x="8928" y="1220"/>
                  </a:lnTo>
                  <a:lnTo>
                    <a:pt x="8944" y="1220"/>
                  </a:lnTo>
                  <a:close/>
                  <a:moveTo>
                    <a:pt x="8944" y="1284"/>
                  </a:moveTo>
                  <a:lnTo>
                    <a:pt x="8944" y="1302"/>
                  </a:lnTo>
                  <a:lnTo>
                    <a:pt x="8928" y="1302"/>
                  </a:lnTo>
                  <a:lnTo>
                    <a:pt x="8928" y="1284"/>
                  </a:lnTo>
                  <a:lnTo>
                    <a:pt x="8944" y="1284"/>
                  </a:lnTo>
                  <a:close/>
                  <a:moveTo>
                    <a:pt x="8944" y="1303"/>
                  </a:moveTo>
                  <a:lnTo>
                    <a:pt x="8942" y="1333"/>
                  </a:lnTo>
                  <a:lnTo>
                    <a:pt x="8926" y="1332"/>
                  </a:lnTo>
                  <a:lnTo>
                    <a:pt x="8928" y="1302"/>
                  </a:lnTo>
                  <a:lnTo>
                    <a:pt x="8944" y="1303"/>
                  </a:lnTo>
                  <a:close/>
                  <a:moveTo>
                    <a:pt x="8940" y="1349"/>
                  </a:moveTo>
                  <a:lnTo>
                    <a:pt x="8939" y="1355"/>
                  </a:lnTo>
                  <a:cubicBezTo>
                    <a:pt x="8939" y="1356"/>
                    <a:pt x="8939" y="1356"/>
                    <a:pt x="8939" y="1357"/>
                  </a:cubicBezTo>
                  <a:lnTo>
                    <a:pt x="8927" y="1397"/>
                  </a:lnTo>
                  <a:lnTo>
                    <a:pt x="8912" y="1392"/>
                  </a:lnTo>
                  <a:lnTo>
                    <a:pt x="8924" y="1352"/>
                  </a:lnTo>
                  <a:lnTo>
                    <a:pt x="8923" y="1354"/>
                  </a:lnTo>
                  <a:lnTo>
                    <a:pt x="8924" y="1347"/>
                  </a:lnTo>
                  <a:lnTo>
                    <a:pt x="8940" y="1349"/>
                  </a:lnTo>
                  <a:close/>
                  <a:moveTo>
                    <a:pt x="8920" y="1413"/>
                  </a:moveTo>
                  <a:lnTo>
                    <a:pt x="8899" y="1450"/>
                  </a:lnTo>
                  <a:cubicBezTo>
                    <a:pt x="8899" y="1451"/>
                    <a:pt x="8899" y="1451"/>
                    <a:pt x="8899" y="1451"/>
                  </a:cubicBezTo>
                  <a:lnTo>
                    <a:pt x="8895" y="1456"/>
                  </a:lnTo>
                  <a:lnTo>
                    <a:pt x="8883" y="1446"/>
                  </a:lnTo>
                  <a:lnTo>
                    <a:pt x="8886" y="1441"/>
                  </a:lnTo>
                  <a:lnTo>
                    <a:pt x="8885" y="1443"/>
                  </a:lnTo>
                  <a:lnTo>
                    <a:pt x="8906" y="1405"/>
                  </a:lnTo>
                  <a:lnTo>
                    <a:pt x="8920" y="1413"/>
                  </a:lnTo>
                  <a:close/>
                  <a:moveTo>
                    <a:pt x="8885" y="1468"/>
                  </a:moveTo>
                  <a:lnTo>
                    <a:pt x="8868" y="1490"/>
                  </a:lnTo>
                  <a:cubicBezTo>
                    <a:pt x="8867" y="1491"/>
                    <a:pt x="8867" y="1491"/>
                    <a:pt x="8866" y="1492"/>
                  </a:cubicBezTo>
                  <a:lnTo>
                    <a:pt x="8851" y="1504"/>
                  </a:lnTo>
                  <a:lnTo>
                    <a:pt x="8841" y="1491"/>
                  </a:lnTo>
                  <a:lnTo>
                    <a:pt x="8856" y="1479"/>
                  </a:lnTo>
                  <a:lnTo>
                    <a:pt x="8855" y="1480"/>
                  </a:lnTo>
                  <a:lnTo>
                    <a:pt x="8873" y="1458"/>
                  </a:lnTo>
                  <a:lnTo>
                    <a:pt x="8885" y="1468"/>
                  </a:lnTo>
                  <a:close/>
                  <a:moveTo>
                    <a:pt x="8839" y="1514"/>
                  </a:moveTo>
                  <a:lnTo>
                    <a:pt x="8827" y="1523"/>
                  </a:lnTo>
                  <a:cubicBezTo>
                    <a:pt x="8827" y="1523"/>
                    <a:pt x="8827" y="1523"/>
                    <a:pt x="8826" y="1523"/>
                  </a:cubicBezTo>
                  <a:lnTo>
                    <a:pt x="8797" y="1540"/>
                  </a:lnTo>
                  <a:lnTo>
                    <a:pt x="8789" y="1526"/>
                  </a:lnTo>
                  <a:lnTo>
                    <a:pt x="8819" y="1509"/>
                  </a:lnTo>
                  <a:lnTo>
                    <a:pt x="8817" y="1510"/>
                  </a:lnTo>
                  <a:lnTo>
                    <a:pt x="8829" y="1501"/>
                  </a:lnTo>
                  <a:lnTo>
                    <a:pt x="8839" y="1514"/>
                  </a:lnTo>
                  <a:close/>
                  <a:moveTo>
                    <a:pt x="8781" y="1548"/>
                  </a:moveTo>
                  <a:lnTo>
                    <a:pt x="8735" y="1562"/>
                  </a:lnTo>
                  <a:lnTo>
                    <a:pt x="8731" y="1547"/>
                  </a:lnTo>
                  <a:lnTo>
                    <a:pt x="8776" y="1533"/>
                  </a:lnTo>
                  <a:lnTo>
                    <a:pt x="8781" y="1548"/>
                  </a:lnTo>
                  <a:close/>
                  <a:moveTo>
                    <a:pt x="8718" y="1565"/>
                  </a:moveTo>
                  <a:lnTo>
                    <a:pt x="8679" y="1568"/>
                  </a:lnTo>
                  <a:lnTo>
                    <a:pt x="8678" y="1552"/>
                  </a:lnTo>
                  <a:lnTo>
                    <a:pt x="8716" y="1549"/>
                  </a:lnTo>
                  <a:lnTo>
                    <a:pt x="8718" y="1565"/>
                  </a:lnTo>
                  <a:close/>
                  <a:moveTo>
                    <a:pt x="8678" y="1568"/>
                  </a:moveTo>
                  <a:lnTo>
                    <a:pt x="8669" y="1568"/>
                  </a:lnTo>
                  <a:lnTo>
                    <a:pt x="8669" y="1552"/>
                  </a:lnTo>
                  <a:lnTo>
                    <a:pt x="8678" y="1552"/>
                  </a:lnTo>
                  <a:lnTo>
                    <a:pt x="8678" y="1568"/>
                  </a:lnTo>
                  <a:close/>
                  <a:moveTo>
                    <a:pt x="8653" y="1568"/>
                  </a:moveTo>
                  <a:lnTo>
                    <a:pt x="8605" y="1568"/>
                  </a:lnTo>
                  <a:lnTo>
                    <a:pt x="8605" y="1552"/>
                  </a:lnTo>
                  <a:lnTo>
                    <a:pt x="8653" y="1552"/>
                  </a:lnTo>
                  <a:lnTo>
                    <a:pt x="8653" y="1568"/>
                  </a:lnTo>
                  <a:close/>
                  <a:moveTo>
                    <a:pt x="8589" y="1568"/>
                  </a:moveTo>
                  <a:lnTo>
                    <a:pt x="8541" y="1568"/>
                  </a:lnTo>
                  <a:lnTo>
                    <a:pt x="8541" y="1552"/>
                  </a:lnTo>
                  <a:lnTo>
                    <a:pt x="8589" y="1552"/>
                  </a:lnTo>
                  <a:lnTo>
                    <a:pt x="8589" y="1568"/>
                  </a:lnTo>
                  <a:close/>
                  <a:moveTo>
                    <a:pt x="8525" y="1568"/>
                  </a:moveTo>
                  <a:lnTo>
                    <a:pt x="8477" y="1568"/>
                  </a:lnTo>
                  <a:lnTo>
                    <a:pt x="8477" y="1552"/>
                  </a:lnTo>
                  <a:lnTo>
                    <a:pt x="8525" y="1552"/>
                  </a:lnTo>
                  <a:lnTo>
                    <a:pt x="8525" y="1568"/>
                  </a:lnTo>
                  <a:close/>
                  <a:moveTo>
                    <a:pt x="8461" y="1568"/>
                  </a:moveTo>
                  <a:lnTo>
                    <a:pt x="8413" y="1568"/>
                  </a:lnTo>
                  <a:lnTo>
                    <a:pt x="8413" y="1552"/>
                  </a:lnTo>
                  <a:lnTo>
                    <a:pt x="8461" y="1552"/>
                  </a:lnTo>
                  <a:lnTo>
                    <a:pt x="8461" y="1568"/>
                  </a:lnTo>
                  <a:close/>
                  <a:moveTo>
                    <a:pt x="8397" y="1568"/>
                  </a:moveTo>
                  <a:lnTo>
                    <a:pt x="8349" y="1568"/>
                  </a:lnTo>
                  <a:lnTo>
                    <a:pt x="8349" y="1552"/>
                  </a:lnTo>
                  <a:lnTo>
                    <a:pt x="8397" y="1552"/>
                  </a:lnTo>
                  <a:lnTo>
                    <a:pt x="8397" y="1568"/>
                  </a:lnTo>
                  <a:close/>
                  <a:moveTo>
                    <a:pt x="8333" y="1568"/>
                  </a:moveTo>
                  <a:lnTo>
                    <a:pt x="8285" y="1568"/>
                  </a:lnTo>
                  <a:lnTo>
                    <a:pt x="8285" y="1552"/>
                  </a:lnTo>
                  <a:lnTo>
                    <a:pt x="8333" y="1552"/>
                  </a:lnTo>
                  <a:lnTo>
                    <a:pt x="8333" y="1568"/>
                  </a:lnTo>
                  <a:close/>
                  <a:moveTo>
                    <a:pt x="8269" y="1568"/>
                  </a:moveTo>
                  <a:lnTo>
                    <a:pt x="8221" y="1568"/>
                  </a:lnTo>
                  <a:lnTo>
                    <a:pt x="8221" y="1552"/>
                  </a:lnTo>
                  <a:lnTo>
                    <a:pt x="8269" y="1552"/>
                  </a:lnTo>
                  <a:lnTo>
                    <a:pt x="8269" y="1568"/>
                  </a:lnTo>
                  <a:close/>
                  <a:moveTo>
                    <a:pt x="8205" y="1568"/>
                  </a:moveTo>
                  <a:lnTo>
                    <a:pt x="8157" y="1568"/>
                  </a:lnTo>
                  <a:lnTo>
                    <a:pt x="8157" y="1552"/>
                  </a:lnTo>
                  <a:lnTo>
                    <a:pt x="8205" y="1552"/>
                  </a:lnTo>
                  <a:lnTo>
                    <a:pt x="8205" y="1568"/>
                  </a:lnTo>
                  <a:close/>
                  <a:moveTo>
                    <a:pt x="8141" y="1568"/>
                  </a:moveTo>
                  <a:lnTo>
                    <a:pt x="8093" y="1568"/>
                  </a:lnTo>
                  <a:lnTo>
                    <a:pt x="8093" y="1552"/>
                  </a:lnTo>
                  <a:lnTo>
                    <a:pt x="8141" y="1552"/>
                  </a:lnTo>
                  <a:lnTo>
                    <a:pt x="8141" y="1568"/>
                  </a:lnTo>
                  <a:close/>
                  <a:moveTo>
                    <a:pt x="8077" y="1568"/>
                  </a:moveTo>
                  <a:lnTo>
                    <a:pt x="8029" y="1568"/>
                  </a:lnTo>
                  <a:lnTo>
                    <a:pt x="8029" y="1552"/>
                  </a:lnTo>
                  <a:lnTo>
                    <a:pt x="8077" y="1552"/>
                  </a:lnTo>
                  <a:lnTo>
                    <a:pt x="8077" y="1568"/>
                  </a:lnTo>
                  <a:close/>
                  <a:moveTo>
                    <a:pt x="8012" y="1568"/>
                  </a:moveTo>
                  <a:lnTo>
                    <a:pt x="7964" y="1568"/>
                  </a:lnTo>
                  <a:lnTo>
                    <a:pt x="7964" y="1552"/>
                  </a:lnTo>
                  <a:lnTo>
                    <a:pt x="8012" y="1552"/>
                  </a:lnTo>
                  <a:lnTo>
                    <a:pt x="8012" y="1568"/>
                  </a:lnTo>
                  <a:close/>
                  <a:moveTo>
                    <a:pt x="7948" y="1568"/>
                  </a:moveTo>
                  <a:lnTo>
                    <a:pt x="7900" y="1568"/>
                  </a:lnTo>
                  <a:lnTo>
                    <a:pt x="7900" y="1552"/>
                  </a:lnTo>
                  <a:lnTo>
                    <a:pt x="7948" y="1552"/>
                  </a:lnTo>
                  <a:lnTo>
                    <a:pt x="7948" y="1568"/>
                  </a:lnTo>
                  <a:close/>
                  <a:moveTo>
                    <a:pt x="7884" y="1568"/>
                  </a:moveTo>
                  <a:lnTo>
                    <a:pt x="7836" y="1568"/>
                  </a:lnTo>
                  <a:lnTo>
                    <a:pt x="7836" y="1552"/>
                  </a:lnTo>
                  <a:lnTo>
                    <a:pt x="7884" y="1552"/>
                  </a:lnTo>
                  <a:lnTo>
                    <a:pt x="7884" y="1568"/>
                  </a:lnTo>
                  <a:close/>
                  <a:moveTo>
                    <a:pt x="7820" y="1568"/>
                  </a:moveTo>
                  <a:lnTo>
                    <a:pt x="7772" y="1568"/>
                  </a:lnTo>
                  <a:lnTo>
                    <a:pt x="7772" y="1552"/>
                  </a:lnTo>
                  <a:lnTo>
                    <a:pt x="7820" y="1552"/>
                  </a:lnTo>
                  <a:lnTo>
                    <a:pt x="7820" y="1568"/>
                  </a:lnTo>
                  <a:close/>
                  <a:moveTo>
                    <a:pt x="7756" y="1568"/>
                  </a:moveTo>
                  <a:lnTo>
                    <a:pt x="7708" y="1568"/>
                  </a:lnTo>
                  <a:lnTo>
                    <a:pt x="7708" y="1552"/>
                  </a:lnTo>
                  <a:lnTo>
                    <a:pt x="7756" y="1552"/>
                  </a:lnTo>
                  <a:lnTo>
                    <a:pt x="7756" y="1568"/>
                  </a:lnTo>
                  <a:close/>
                  <a:moveTo>
                    <a:pt x="7692" y="1568"/>
                  </a:moveTo>
                  <a:lnTo>
                    <a:pt x="7644" y="1568"/>
                  </a:lnTo>
                  <a:lnTo>
                    <a:pt x="7644" y="1552"/>
                  </a:lnTo>
                  <a:lnTo>
                    <a:pt x="7692" y="1552"/>
                  </a:lnTo>
                  <a:lnTo>
                    <a:pt x="7692" y="1568"/>
                  </a:lnTo>
                  <a:close/>
                  <a:moveTo>
                    <a:pt x="7628" y="1568"/>
                  </a:moveTo>
                  <a:lnTo>
                    <a:pt x="7580" y="1568"/>
                  </a:lnTo>
                  <a:lnTo>
                    <a:pt x="7580" y="1552"/>
                  </a:lnTo>
                  <a:lnTo>
                    <a:pt x="7628" y="1552"/>
                  </a:lnTo>
                  <a:lnTo>
                    <a:pt x="7628" y="1568"/>
                  </a:lnTo>
                  <a:close/>
                  <a:moveTo>
                    <a:pt x="7564" y="1568"/>
                  </a:moveTo>
                  <a:lnTo>
                    <a:pt x="7516" y="1568"/>
                  </a:lnTo>
                  <a:lnTo>
                    <a:pt x="7516" y="1552"/>
                  </a:lnTo>
                  <a:lnTo>
                    <a:pt x="7564" y="1552"/>
                  </a:lnTo>
                  <a:lnTo>
                    <a:pt x="7564" y="1568"/>
                  </a:lnTo>
                  <a:close/>
                  <a:moveTo>
                    <a:pt x="7500" y="1568"/>
                  </a:moveTo>
                  <a:lnTo>
                    <a:pt x="7452" y="1568"/>
                  </a:lnTo>
                  <a:lnTo>
                    <a:pt x="7452" y="1552"/>
                  </a:lnTo>
                  <a:lnTo>
                    <a:pt x="7500" y="1552"/>
                  </a:lnTo>
                  <a:lnTo>
                    <a:pt x="7500" y="1568"/>
                  </a:lnTo>
                  <a:close/>
                  <a:moveTo>
                    <a:pt x="7436" y="1568"/>
                  </a:moveTo>
                  <a:lnTo>
                    <a:pt x="7388" y="1568"/>
                  </a:lnTo>
                  <a:lnTo>
                    <a:pt x="7388" y="1552"/>
                  </a:lnTo>
                  <a:lnTo>
                    <a:pt x="7436" y="1552"/>
                  </a:lnTo>
                  <a:lnTo>
                    <a:pt x="7436" y="1568"/>
                  </a:lnTo>
                  <a:close/>
                  <a:moveTo>
                    <a:pt x="7372" y="1568"/>
                  </a:moveTo>
                  <a:lnTo>
                    <a:pt x="7324" y="1568"/>
                  </a:lnTo>
                  <a:lnTo>
                    <a:pt x="7324" y="1552"/>
                  </a:lnTo>
                  <a:lnTo>
                    <a:pt x="7372" y="1552"/>
                  </a:lnTo>
                  <a:lnTo>
                    <a:pt x="7372" y="1568"/>
                  </a:lnTo>
                  <a:close/>
                  <a:moveTo>
                    <a:pt x="7308" y="1568"/>
                  </a:moveTo>
                  <a:lnTo>
                    <a:pt x="7260" y="1568"/>
                  </a:lnTo>
                  <a:lnTo>
                    <a:pt x="7260" y="1552"/>
                  </a:lnTo>
                  <a:lnTo>
                    <a:pt x="7308" y="1552"/>
                  </a:lnTo>
                  <a:lnTo>
                    <a:pt x="7308" y="1568"/>
                  </a:lnTo>
                  <a:close/>
                  <a:moveTo>
                    <a:pt x="7244" y="1568"/>
                  </a:moveTo>
                  <a:lnTo>
                    <a:pt x="7196" y="1568"/>
                  </a:lnTo>
                  <a:lnTo>
                    <a:pt x="7196" y="1552"/>
                  </a:lnTo>
                  <a:lnTo>
                    <a:pt x="7244" y="1552"/>
                  </a:lnTo>
                  <a:lnTo>
                    <a:pt x="7244" y="1568"/>
                  </a:lnTo>
                  <a:close/>
                  <a:moveTo>
                    <a:pt x="7180" y="1568"/>
                  </a:moveTo>
                  <a:lnTo>
                    <a:pt x="7132" y="1568"/>
                  </a:lnTo>
                  <a:lnTo>
                    <a:pt x="7132" y="1552"/>
                  </a:lnTo>
                  <a:lnTo>
                    <a:pt x="7180" y="1552"/>
                  </a:lnTo>
                  <a:lnTo>
                    <a:pt x="7180" y="1568"/>
                  </a:lnTo>
                  <a:close/>
                  <a:moveTo>
                    <a:pt x="7116" y="1568"/>
                  </a:moveTo>
                  <a:lnTo>
                    <a:pt x="7068" y="1568"/>
                  </a:lnTo>
                  <a:lnTo>
                    <a:pt x="7068" y="1552"/>
                  </a:lnTo>
                  <a:lnTo>
                    <a:pt x="7116" y="1552"/>
                  </a:lnTo>
                  <a:lnTo>
                    <a:pt x="7116" y="1568"/>
                  </a:lnTo>
                  <a:close/>
                  <a:moveTo>
                    <a:pt x="7052" y="1568"/>
                  </a:moveTo>
                  <a:lnTo>
                    <a:pt x="7003" y="1568"/>
                  </a:lnTo>
                  <a:lnTo>
                    <a:pt x="7003" y="1552"/>
                  </a:lnTo>
                  <a:lnTo>
                    <a:pt x="7052" y="1552"/>
                  </a:lnTo>
                  <a:lnTo>
                    <a:pt x="7052" y="1568"/>
                  </a:lnTo>
                  <a:close/>
                  <a:moveTo>
                    <a:pt x="6987" y="1568"/>
                  </a:moveTo>
                  <a:lnTo>
                    <a:pt x="6939" y="1568"/>
                  </a:lnTo>
                  <a:lnTo>
                    <a:pt x="6939" y="1552"/>
                  </a:lnTo>
                  <a:lnTo>
                    <a:pt x="6987" y="1552"/>
                  </a:lnTo>
                  <a:lnTo>
                    <a:pt x="6987" y="1568"/>
                  </a:lnTo>
                  <a:close/>
                  <a:moveTo>
                    <a:pt x="6923" y="1568"/>
                  </a:moveTo>
                  <a:lnTo>
                    <a:pt x="6875" y="1568"/>
                  </a:lnTo>
                  <a:lnTo>
                    <a:pt x="6875" y="1552"/>
                  </a:lnTo>
                  <a:lnTo>
                    <a:pt x="6923" y="1552"/>
                  </a:lnTo>
                  <a:lnTo>
                    <a:pt x="6923" y="1568"/>
                  </a:lnTo>
                  <a:close/>
                  <a:moveTo>
                    <a:pt x="6859" y="1568"/>
                  </a:moveTo>
                  <a:lnTo>
                    <a:pt x="6811" y="1568"/>
                  </a:lnTo>
                  <a:lnTo>
                    <a:pt x="6811" y="1552"/>
                  </a:lnTo>
                  <a:lnTo>
                    <a:pt x="6859" y="1552"/>
                  </a:lnTo>
                  <a:lnTo>
                    <a:pt x="6859" y="1568"/>
                  </a:lnTo>
                  <a:close/>
                  <a:moveTo>
                    <a:pt x="6795" y="1568"/>
                  </a:moveTo>
                  <a:lnTo>
                    <a:pt x="6747" y="1568"/>
                  </a:lnTo>
                  <a:lnTo>
                    <a:pt x="6747" y="1552"/>
                  </a:lnTo>
                  <a:lnTo>
                    <a:pt x="6795" y="1552"/>
                  </a:lnTo>
                  <a:lnTo>
                    <a:pt x="6795" y="1568"/>
                  </a:lnTo>
                  <a:close/>
                  <a:moveTo>
                    <a:pt x="6731" y="1568"/>
                  </a:moveTo>
                  <a:lnTo>
                    <a:pt x="6683" y="1568"/>
                  </a:lnTo>
                  <a:lnTo>
                    <a:pt x="6683" y="1552"/>
                  </a:lnTo>
                  <a:lnTo>
                    <a:pt x="6731" y="1552"/>
                  </a:lnTo>
                  <a:lnTo>
                    <a:pt x="6731" y="1568"/>
                  </a:lnTo>
                  <a:close/>
                  <a:moveTo>
                    <a:pt x="6667" y="1568"/>
                  </a:moveTo>
                  <a:lnTo>
                    <a:pt x="6619" y="1568"/>
                  </a:lnTo>
                  <a:lnTo>
                    <a:pt x="6619" y="1552"/>
                  </a:lnTo>
                  <a:lnTo>
                    <a:pt x="6667" y="1552"/>
                  </a:lnTo>
                  <a:lnTo>
                    <a:pt x="6667" y="1568"/>
                  </a:lnTo>
                  <a:close/>
                  <a:moveTo>
                    <a:pt x="6603" y="1568"/>
                  </a:moveTo>
                  <a:lnTo>
                    <a:pt x="6555" y="1568"/>
                  </a:lnTo>
                  <a:lnTo>
                    <a:pt x="6555" y="1552"/>
                  </a:lnTo>
                  <a:lnTo>
                    <a:pt x="6603" y="1552"/>
                  </a:lnTo>
                  <a:lnTo>
                    <a:pt x="6603" y="1568"/>
                  </a:lnTo>
                  <a:close/>
                  <a:moveTo>
                    <a:pt x="6539" y="1568"/>
                  </a:moveTo>
                  <a:lnTo>
                    <a:pt x="6491" y="1568"/>
                  </a:lnTo>
                  <a:lnTo>
                    <a:pt x="6491" y="1552"/>
                  </a:lnTo>
                  <a:lnTo>
                    <a:pt x="6539" y="1552"/>
                  </a:lnTo>
                  <a:lnTo>
                    <a:pt x="6539" y="1568"/>
                  </a:lnTo>
                  <a:close/>
                  <a:moveTo>
                    <a:pt x="6475" y="1568"/>
                  </a:moveTo>
                  <a:lnTo>
                    <a:pt x="6427" y="1568"/>
                  </a:lnTo>
                  <a:lnTo>
                    <a:pt x="6427" y="1552"/>
                  </a:lnTo>
                  <a:lnTo>
                    <a:pt x="6475" y="1552"/>
                  </a:lnTo>
                  <a:lnTo>
                    <a:pt x="6475" y="1568"/>
                  </a:lnTo>
                  <a:close/>
                  <a:moveTo>
                    <a:pt x="6411" y="1568"/>
                  </a:moveTo>
                  <a:lnTo>
                    <a:pt x="6363" y="1568"/>
                  </a:lnTo>
                  <a:lnTo>
                    <a:pt x="6363" y="1552"/>
                  </a:lnTo>
                  <a:lnTo>
                    <a:pt x="6411" y="1552"/>
                  </a:lnTo>
                  <a:lnTo>
                    <a:pt x="6411" y="1568"/>
                  </a:lnTo>
                  <a:close/>
                  <a:moveTo>
                    <a:pt x="6347" y="1568"/>
                  </a:moveTo>
                  <a:lnTo>
                    <a:pt x="6299" y="1568"/>
                  </a:lnTo>
                  <a:lnTo>
                    <a:pt x="6299" y="1552"/>
                  </a:lnTo>
                  <a:lnTo>
                    <a:pt x="6347" y="1552"/>
                  </a:lnTo>
                  <a:lnTo>
                    <a:pt x="6347" y="1568"/>
                  </a:lnTo>
                  <a:close/>
                  <a:moveTo>
                    <a:pt x="6283" y="1568"/>
                  </a:moveTo>
                  <a:lnTo>
                    <a:pt x="6235" y="1568"/>
                  </a:lnTo>
                  <a:lnTo>
                    <a:pt x="6235" y="1552"/>
                  </a:lnTo>
                  <a:lnTo>
                    <a:pt x="6283" y="1552"/>
                  </a:lnTo>
                  <a:lnTo>
                    <a:pt x="6283" y="1568"/>
                  </a:lnTo>
                  <a:close/>
                  <a:moveTo>
                    <a:pt x="6219" y="1568"/>
                  </a:moveTo>
                  <a:lnTo>
                    <a:pt x="6171" y="1568"/>
                  </a:lnTo>
                  <a:lnTo>
                    <a:pt x="6171" y="1552"/>
                  </a:lnTo>
                  <a:lnTo>
                    <a:pt x="6219" y="1552"/>
                  </a:lnTo>
                  <a:lnTo>
                    <a:pt x="6219" y="1568"/>
                  </a:lnTo>
                  <a:close/>
                  <a:moveTo>
                    <a:pt x="6155" y="1568"/>
                  </a:moveTo>
                  <a:lnTo>
                    <a:pt x="6107" y="1568"/>
                  </a:lnTo>
                  <a:lnTo>
                    <a:pt x="6107" y="1552"/>
                  </a:lnTo>
                  <a:lnTo>
                    <a:pt x="6155" y="1552"/>
                  </a:lnTo>
                  <a:lnTo>
                    <a:pt x="6155" y="1568"/>
                  </a:lnTo>
                  <a:close/>
                  <a:moveTo>
                    <a:pt x="6091" y="1568"/>
                  </a:moveTo>
                  <a:lnTo>
                    <a:pt x="6042" y="1568"/>
                  </a:lnTo>
                  <a:lnTo>
                    <a:pt x="6042" y="1552"/>
                  </a:lnTo>
                  <a:lnTo>
                    <a:pt x="6091" y="1552"/>
                  </a:lnTo>
                  <a:lnTo>
                    <a:pt x="6091" y="1568"/>
                  </a:lnTo>
                  <a:close/>
                  <a:moveTo>
                    <a:pt x="6026" y="1568"/>
                  </a:moveTo>
                  <a:lnTo>
                    <a:pt x="5978" y="1568"/>
                  </a:lnTo>
                  <a:lnTo>
                    <a:pt x="5978" y="1552"/>
                  </a:lnTo>
                  <a:lnTo>
                    <a:pt x="6026" y="1552"/>
                  </a:lnTo>
                  <a:lnTo>
                    <a:pt x="6026" y="1568"/>
                  </a:lnTo>
                  <a:close/>
                  <a:moveTo>
                    <a:pt x="5962" y="1568"/>
                  </a:moveTo>
                  <a:lnTo>
                    <a:pt x="5914" y="1568"/>
                  </a:lnTo>
                  <a:lnTo>
                    <a:pt x="5914" y="1552"/>
                  </a:lnTo>
                  <a:lnTo>
                    <a:pt x="5962" y="1552"/>
                  </a:lnTo>
                  <a:lnTo>
                    <a:pt x="5962" y="1568"/>
                  </a:lnTo>
                  <a:close/>
                  <a:moveTo>
                    <a:pt x="5898" y="1568"/>
                  </a:moveTo>
                  <a:lnTo>
                    <a:pt x="5850" y="1568"/>
                  </a:lnTo>
                  <a:lnTo>
                    <a:pt x="5850" y="1552"/>
                  </a:lnTo>
                  <a:lnTo>
                    <a:pt x="5898" y="1552"/>
                  </a:lnTo>
                  <a:lnTo>
                    <a:pt x="5898" y="1568"/>
                  </a:lnTo>
                  <a:close/>
                  <a:moveTo>
                    <a:pt x="5834" y="1568"/>
                  </a:moveTo>
                  <a:lnTo>
                    <a:pt x="5786" y="1568"/>
                  </a:lnTo>
                  <a:lnTo>
                    <a:pt x="5786" y="1552"/>
                  </a:lnTo>
                  <a:lnTo>
                    <a:pt x="5834" y="1552"/>
                  </a:lnTo>
                  <a:lnTo>
                    <a:pt x="5834" y="1568"/>
                  </a:lnTo>
                  <a:close/>
                  <a:moveTo>
                    <a:pt x="5770" y="1568"/>
                  </a:moveTo>
                  <a:lnTo>
                    <a:pt x="5722" y="1568"/>
                  </a:lnTo>
                  <a:lnTo>
                    <a:pt x="5722" y="1552"/>
                  </a:lnTo>
                  <a:lnTo>
                    <a:pt x="5770" y="1552"/>
                  </a:lnTo>
                  <a:lnTo>
                    <a:pt x="5770" y="1568"/>
                  </a:lnTo>
                  <a:close/>
                  <a:moveTo>
                    <a:pt x="5706" y="1568"/>
                  </a:moveTo>
                  <a:lnTo>
                    <a:pt x="5658" y="1568"/>
                  </a:lnTo>
                  <a:lnTo>
                    <a:pt x="5658" y="1552"/>
                  </a:lnTo>
                  <a:lnTo>
                    <a:pt x="5706" y="1552"/>
                  </a:lnTo>
                  <a:lnTo>
                    <a:pt x="5706" y="1568"/>
                  </a:lnTo>
                  <a:close/>
                  <a:moveTo>
                    <a:pt x="5642" y="1568"/>
                  </a:moveTo>
                  <a:lnTo>
                    <a:pt x="5594" y="1568"/>
                  </a:lnTo>
                  <a:lnTo>
                    <a:pt x="5594" y="1552"/>
                  </a:lnTo>
                  <a:lnTo>
                    <a:pt x="5642" y="1552"/>
                  </a:lnTo>
                  <a:lnTo>
                    <a:pt x="5642" y="1568"/>
                  </a:lnTo>
                  <a:close/>
                  <a:moveTo>
                    <a:pt x="5578" y="1568"/>
                  </a:moveTo>
                  <a:lnTo>
                    <a:pt x="5530" y="1568"/>
                  </a:lnTo>
                  <a:lnTo>
                    <a:pt x="5530" y="1552"/>
                  </a:lnTo>
                  <a:lnTo>
                    <a:pt x="5578" y="1552"/>
                  </a:lnTo>
                  <a:lnTo>
                    <a:pt x="5578" y="1568"/>
                  </a:lnTo>
                  <a:close/>
                  <a:moveTo>
                    <a:pt x="5514" y="1568"/>
                  </a:moveTo>
                  <a:lnTo>
                    <a:pt x="5466" y="1568"/>
                  </a:lnTo>
                  <a:lnTo>
                    <a:pt x="5466" y="1552"/>
                  </a:lnTo>
                  <a:lnTo>
                    <a:pt x="5514" y="1552"/>
                  </a:lnTo>
                  <a:lnTo>
                    <a:pt x="5514" y="1568"/>
                  </a:lnTo>
                  <a:close/>
                  <a:moveTo>
                    <a:pt x="5450" y="1568"/>
                  </a:moveTo>
                  <a:lnTo>
                    <a:pt x="5402" y="1568"/>
                  </a:lnTo>
                  <a:lnTo>
                    <a:pt x="5402" y="1552"/>
                  </a:lnTo>
                  <a:lnTo>
                    <a:pt x="5450" y="1552"/>
                  </a:lnTo>
                  <a:lnTo>
                    <a:pt x="5450" y="1568"/>
                  </a:lnTo>
                  <a:close/>
                  <a:moveTo>
                    <a:pt x="5386" y="1568"/>
                  </a:moveTo>
                  <a:lnTo>
                    <a:pt x="5338" y="1568"/>
                  </a:lnTo>
                  <a:lnTo>
                    <a:pt x="5338" y="1552"/>
                  </a:lnTo>
                  <a:lnTo>
                    <a:pt x="5386" y="1552"/>
                  </a:lnTo>
                  <a:lnTo>
                    <a:pt x="5386" y="1568"/>
                  </a:lnTo>
                  <a:close/>
                  <a:moveTo>
                    <a:pt x="5322" y="1568"/>
                  </a:moveTo>
                  <a:lnTo>
                    <a:pt x="5274" y="1568"/>
                  </a:lnTo>
                  <a:lnTo>
                    <a:pt x="5274" y="1552"/>
                  </a:lnTo>
                  <a:lnTo>
                    <a:pt x="5322" y="1552"/>
                  </a:lnTo>
                  <a:lnTo>
                    <a:pt x="5322" y="1568"/>
                  </a:lnTo>
                  <a:close/>
                  <a:moveTo>
                    <a:pt x="5258" y="1568"/>
                  </a:moveTo>
                  <a:lnTo>
                    <a:pt x="5210" y="1568"/>
                  </a:lnTo>
                  <a:lnTo>
                    <a:pt x="5210" y="1552"/>
                  </a:lnTo>
                  <a:lnTo>
                    <a:pt x="5258" y="1552"/>
                  </a:lnTo>
                  <a:lnTo>
                    <a:pt x="5258" y="1568"/>
                  </a:lnTo>
                  <a:close/>
                  <a:moveTo>
                    <a:pt x="5194" y="1568"/>
                  </a:moveTo>
                  <a:lnTo>
                    <a:pt x="5146" y="1568"/>
                  </a:lnTo>
                  <a:lnTo>
                    <a:pt x="5146" y="1552"/>
                  </a:lnTo>
                  <a:lnTo>
                    <a:pt x="5194" y="1552"/>
                  </a:lnTo>
                  <a:lnTo>
                    <a:pt x="5194" y="1568"/>
                  </a:lnTo>
                  <a:close/>
                  <a:moveTo>
                    <a:pt x="5130" y="1568"/>
                  </a:moveTo>
                  <a:lnTo>
                    <a:pt x="5082" y="1568"/>
                  </a:lnTo>
                  <a:lnTo>
                    <a:pt x="5082" y="1552"/>
                  </a:lnTo>
                  <a:lnTo>
                    <a:pt x="5130" y="1552"/>
                  </a:lnTo>
                  <a:lnTo>
                    <a:pt x="5130" y="1568"/>
                  </a:lnTo>
                  <a:close/>
                  <a:moveTo>
                    <a:pt x="5065" y="1568"/>
                  </a:moveTo>
                  <a:lnTo>
                    <a:pt x="5017" y="1568"/>
                  </a:lnTo>
                  <a:lnTo>
                    <a:pt x="5017" y="1552"/>
                  </a:lnTo>
                  <a:lnTo>
                    <a:pt x="5065" y="1552"/>
                  </a:lnTo>
                  <a:lnTo>
                    <a:pt x="5065" y="1568"/>
                  </a:lnTo>
                  <a:close/>
                  <a:moveTo>
                    <a:pt x="5001" y="1568"/>
                  </a:moveTo>
                  <a:lnTo>
                    <a:pt x="4953" y="1568"/>
                  </a:lnTo>
                  <a:lnTo>
                    <a:pt x="4953" y="1552"/>
                  </a:lnTo>
                  <a:lnTo>
                    <a:pt x="5001" y="1552"/>
                  </a:lnTo>
                  <a:lnTo>
                    <a:pt x="5001" y="1568"/>
                  </a:lnTo>
                  <a:close/>
                  <a:moveTo>
                    <a:pt x="4937" y="1568"/>
                  </a:moveTo>
                  <a:lnTo>
                    <a:pt x="4889" y="1568"/>
                  </a:lnTo>
                  <a:lnTo>
                    <a:pt x="4889" y="1552"/>
                  </a:lnTo>
                  <a:lnTo>
                    <a:pt x="4937" y="1552"/>
                  </a:lnTo>
                  <a:lnTo>
                    <a:pt x="4937" y="1568"/>
                  </a:lnTo>
                  <a:close/>
                  <a:moveTo>
                    <a:pt x="4873" y="1568"/>
                  </a:moveTo>
                  <a:lnTo>
                    <a:pt x="4825" y="1568"/>
                  </a:lnTo>
                  <a:lnTo>
                    <a:pt x="4825" y="1552"/>
                  </a:lnTo>
                  <a:lnTo>
                    <a:pt x="4873" y="1552"/>
                  </a:lnTo>
                  <a:lnTo>
                    <a:pt x="4873" y="1568"/>
                  </a:lnTo>
                  <a:close/>
                  <a:moveTo>
                    <a:pt x="4809" y="1568"/>
                  </a:moveTo>
                  <a:lnTo>
                    <a:pt x="4761" y="1568"/>
                  </a:lnTo>
                  <a:lnTo>
                    <a:pt x="4761" y="1552"/>
                  </a:lnTo>
                  <a:lnTo>
                    <a:pt x="4809" y="1552"/>
                  </a:lnTo>
                  <a:lnTo>
                    <a:pt x="4809" y="1568"/>
                  </a:lnTo>
                  <a:close/>
                  <a:moveTo>
                    <a:pt x="4745" y="1568"/>
                  </a:moveTo>
                  <a:lnTo>
                    <a:pt x="4697" y="1568"/>
                  </a:lnTo>
                  <a:lnTo>
                    <a:pt x="4697" y="1552"/>
                  </a:lnTo>
                  <a:lnTo>
                    <a:pt x="4745" y="1552"/>
                  </a:lnTo>
                  <a:lnTo>
                    <a:pt x="4745" y="1568"/>
                  </a:lnTo>
                  <a:close/>
                  <a:moveTo>
                    <a:pt x="4681" y="1568"/>
                  </a:moveTo>
                  <a:lnTo>
                    <a:pt x="4633" y="1568"/>
                  </a:lnTo>
                  <a:lnTo>
                    <a:pt x="4633" y="1552"/>
                  </a:lnTo>
                  <a:lnTo>
                    <a:pt x="4681" y="1552"/>
                  </a:lnTo>
                  <a:lnTo>
                    <a:pt x="4681" y="1568"/>
                  </a:lnTo>
                  <a:close/>
                  <a:moveTo>
                    <a:pt x="4617" y="1568"/>
                  </a:moveTo>
                  <a:lnTo>
                    <a:pt x="4569" y="1568"/>
                  </a:lnTo>
                  <a:lnTo>
                    <a:pt x="4569" y="1552"/>
                  </a:lnTo>
                  <a:lnTo>
                    <a:pt x="4617" y="1552"/>
                  </a:lnTo>
                  <a:lnTo>
                    <a:pt x="4617" y="1568"/>
                  </a:lnTo>
                  <a:close/>
                  <a:moveTo>
                    <a:pt x="4553" y="1568"/>
                  </a:moveTo>
                  <a:lnTo>
                    <a:pt x="4505" y="1568"/>
                  </a:lnTo>
                  <a:lnTo>
                    <a:pt x="4505" y="1552"/>
                  </a:lnTo>
                  <a:lnTo>
                    <a:pt x="4553" y="1552"/>
                  </a:lnTo>
                  <a:lnTo>
                    <a:pt x="4553" y="1568"/>
                  </a:lnTo>
                  <a:close/>
                  <a:moveTo>
                    <a:pt x="4489" y="1568"/>
                  </a:moveTo>
                  <a:lnTo>
                    <a:pt x="4441" y="1568"/>
                  </a:lnTo>
                  <a:lnTo>
                    <a:pt x="4441" y="1552"/>
                  </a:lnTo>
                  <a:lnTo>
                    <a:pt x="4489" y="1552"/>
                  </a:lnTo>
                  <a:lnTo>
                    <a:pt x="4489" y="1568"/>
                  </a:lnTo>
                  <a:close/>
                  <a:moveTo>
                    <a:pt x="4425" y="1568"/>
                  </a:moveTo>
                  <a:lnTo>
                    <a:pt x="4377" y="1568"/>
                  </a:lnTo>
                  <a:lnTo>
                    <a:pt x="4377" y="1552"/>
                  </a:lnTo>
                  <a:lnTo>
                    <a:pt x="4425" y="1552"/>
                  </a:lnTo>
                  <a:lnTo>
                    <a:pt x="4425" y="1568"/>
                  </a:lnTo>
                  <a:close/>
                  <a:moveTo>
                    <a:pt x="4361" y="1568"/>
                  </a:moveTo>
                  <a:lnTo>
                    <a:pt x="4313" y="1568"/>
                  </a:lnTo>
                  <a:lnTo>
                    <a:pt x="4313" y="1552"/>
                  </a:lnTo>
                  <a:lnTo>
                    <a:pt x="4361" y="1552"/>
                  </a:lnTo>
                  <a:lnTo>
                    <a:pt x="4361" y="1568"/>
                  </a:lnTo>
                  <a:close/>
                  <a:moveTo>
                    <a:pt x="4297" y="1568"/>
                  </a:moveTo>
                  <a:lnTo>
                    <a:pt x="4249" y="1568"/>
                  </a:lnTo>
                  <a:lnTo>
                    <a:pt x="4249" y="1552"/>
                  </a:lnTo>
                  <a:lnTo>
                    <a:pt x="4297" y="1552"/>
                  </a:lnTo>
                  <a:lnTo>
                    <a:pt x="4297" y="1568"/>
                  </a:lnTo>
                  <a:close/>
                  <a:moveTo>
                    <a:pt x="4233" y="1568"/>
                  </a:moveTo>
                  <a:lnTo>
                    <a:pt x="4185" y="1568"/>
                  </a:lnTo>
                  <a:lnTo>
                    <a:pt x="4185" y="1552"/>
                  </a:lnTo>
                  <a:lnTo>
                    <a:pt x="4233" y="1552"/>
                  </a:lnTo>
                  <a:lnTo>
                    <a:pt x="4233" y="1568"/>
                  </a:lnTo>
                  <a:close/>
                  <a:moveTo>
                    <a:pt x="4169" y="1568"/>
                  </a:moveTo>
                  <a:lnTo>
                    <a:pt x="4121" y="1568"/>
                  </a:lnTo>
                  <a:lnTo>
                    <a:pt x="4121" y="1552"/>
                  </a:lnTo>
                  <a:lnTo>
                    <a:pt x="4169" y="1552"/>
                  </a:lnTo>
                  <a:lnTo>
                    <a:pt x="4169" y="1568"/>
                  </a:lnTo>
                  <a:close/>
                  <a:moveTo>
                    <a:pt x="4105" y="1568"/>
                  </a:moveTo>
                  <a:lnTo>
                    <a:pt x="4056" y="1568"/>
                  </a:lnTo>
                  <a:lnTo>
                    <a:pt x="4056" y="1552"/>
                  </a:lnTo>
                  <a:lnTo>
                    <a:pt x="4105" y="1552"/>
                  </a:lnTo>
                  <a:lnTo>
                    <a:pt x="4105" y="1568"/>
                  </a:lnTo>
                  <a:close/>
                  <a:moveTo>
                    <a:pt x="4040" y="1568"/>
                  </a:moveTo>
                  <a:lnTo>
                    <a:pt x="3992" y="1568"/>
                  </a:lnTo>
                  <a:lnTo>
                    <a:pt x="3992" y="1552"/>
                  </a:lnTo>
                  <a:lnTo>
                    <a:pt x="4040" y="1552"/>
                  </a:lnTo>
                  <a:lnTo>
                    <a:pt x="4040" y="1568"/>
                  </a:lnTo>
                  <a:close/>
                  <a:moveTo>
                    <a:pt x="3976" y="1568"/>
                  </a:moveTo>
                  <a:lnTo>
                    <a:pt x="3928" y="1568"/>
                  </a:lnTo>
                  <a:lnTo>
                    <a:pt x="3928" y="1552"/>
                  </a:lnTo>
                  <a:lnTo>
                    <a:pt x="3976" y="1552"/>
                  </a:lnTo>
                  <a:lnTo>
                    <a:pt x="3976" y="1568"/>
                  </a:lnTo>
                  <a:close/>
                  <a:moveTo>
                    <a:pt x="3912" y="1568"/>
                  </a:moveTo>
                  <a:lnTo>
                    <a:pt x="3864" y="1568"/>
                  </a:lnTo>
                  <a:lnTo>
                    <a:pt x="3864" y="1552"/>
                  </a:lnTo>
                  <a:lnTo>
                    <a:pt x="3912" y="1552"/>
                  </a:lnTo>
                  <a:lnTo>
                    <a:pt x="3912" y="1568"/>
                  </a:lnTo>
                  <a:close/>
                  <a:moveTo>
                    <a:pt x="3848" y="1568"/>
                  </a:moveTo>
                  <a:lnTo>
                    <a:pt x="3800" y="1568"/>
                  </a:lnTo>
                  <a:lnTo>
                    <a:pt x="3800" y="1552"/>
                  </a:lnTo>
                  <a:lnTo>
                    <a:pt x="3848" y="1552"/>
                  </a:lnTo>
                  <a:lnTo>
                    <a:pt x="3848" y="1568"/>
                  </a:lnTo>
                  <a:close/>
                  <a:moveTo>
                    <a:pt x="3784" y="1568"/>
                  </a:moveTo>
                  <a:lnTo>
                    <a:pt x="3736" y="1568"/>
                  </a:lnTo>
                  <a:lnTo>
                    <a:pt x="3736" y="1552"/>
                  </a:lnTo>
                  <a:lnTo>
                    <a:pt x="3784" y="1552"/>
                  </a:lnTo>
                  <a:lnTo>
                    <a:pt x="3784" y="1568"/>
                  </a:lnTo>
                  <a:close/>
                  <a:moveTo>
                    <a:pt x="3720" y="1568"/>
                  </a:moveTo>
                  <a:lnTo>
                    <a:pt x="3672" y="1568"/>
                  </a:lnTo>
                  <a:lnTo>
                    <a:pt x="3672" y="1552"/>
                  </a:lnTo>
                  <a:lnTo>
                    <a:pt x="3720" y="1552"/>
                  </a:lnTo>
                  <a:lnTo>
                    <a:pt x="3720" y="1568"/>
                  </a:lnTo>
                  <a:close/>
                  <a:moveTo>
                    <a:pt x="3656" y="1568"/>
                  </a:moveTo>
                  <a:lnTo>
                    <a:pt x="3608" y="1568"/>
                  </a:lnTo>
                  <a:lnTo>
                    <a:pt x="3608" y="1552"/>
                  </a:lnTo>
                  <a:lnTo>
                    <a:pt x="3656" y="1552"/>
                  </a:lnTo>
                  <a:lnTo>
                    <a:pt x="3656" y="1568"/>
                  </a:lnTo>
                  <a:close/>
                  <a:moveTo>
                    <a:pt x="3592" y="1568"/>
                  </a:moveTo>
                  <a:lnTo>
                    <a:pt x="3544" y="1568"/>
                  </a:lnTo>
                  <a:lnTo>
                    <a:pt x="3544" y="1552"/>
                  </a:lnTo>
                  <a:lnTo>
                    <a:pt x="3592" y="1552"/>
                  </a:lnTo>
                  <a:lnTo>
                    <a:pt x="3592" y="1568"/>
                  </a:lnTo>
                  <a:close/>
                  <a:moveTo>
                    <a:pt x="3528" y="1568"/>
                  </a:moveTo>
                  <a:lnTo>
                    <a:pt x="3480" y="1568"/>
                  </a:lnTo>
                  <a:lnTo>
                    <a:pt x="3480" y="1552"/>
                  </a:lnTo>
                  <a:lnTo>
                    <a:pt x="3528" y="1552"/>
                  </a:lnTo>
                  <a:lnTo>
                    <a:pt x="3528" y="1568"/>
                  </a:lnTo>
                  <a:close/>
                  <a:moveTo>
                    <a:pt x="3464" y="1568"/>
                  </a:moveTo>
                  <a:lnTo>
                    <a:pt x="3416" y="1568"/>
                  </a:lnTo>
                  <a:lnTo>
                    <a:pt x="3416" y="1552"/>
                  </a:lnTo>
                  <a:lnTo>
                    <a:pt x="3464" y="1552"/>
                  </a:lnTo>
                  <a:lnTo>
                    <a:pt x="3464" y="1568"/>
                  </a:lnTo>
                  <a:close/>
                  <a:moveTo>
                    <a:pt x="3400" y="1568"/>
                  </a:moveTo>
                  <a:lnTo>
                    <a:pt x="3352" y="1568"/>
                  </a:lnTo>
                  <a:lnTo>
                    <a:pt x="3352" y="1552"/>
                  </a:lnTo>
                  <a:lnTo>
                    <a:pt x="3400" y="1552"/>
                  </a:lnTo>
                  <a:lnTo>
                    <a:pt x="3400" y="1568"/>
                  </a:lnTo>
                  <a:close/>
                  <a:moveTo>
                    <a:pt x="3336" y="1568"/>
                  </a:moveTo>
                  <a:lnTo>
                    <a:pt x="3288" y="1568"/>
                  </a:lnTo>
                  <a:lnTo>
                    <a:pt x="3288" y="1552"/>
                  </a:lnTo>
                  <a:lnTo>
                    <a:pt x="3336" y="1552"/>
                  </a:lnTo>
                  <a:lnTo>
                    <a:pt x="3336" y="1568"/>
                  </a:lnTo>
                  <a:close/>
                  <a:moveTo>
                    <a:pt x="3272" y="1568"/>
                  </a:moveTo>
                  <a:lnTo>
                    <a:pt x="3224" y="1568"/>
                  </a:lnTo>
                  <a:lnTo>
                    <a:pt x="3224" y="1552"/>
                  </a:lnTo>
                  <a:lnTo>
                    <a:pt x="3272" y="1552"/>
                  </a:lnTo>
                  <a:lnTo>
                    <a:pt x="3272" y="1568"/>
                  </a:lnTo>
                  <a:close/>
                  <a:moveTo>
                    <a:pt x="3208" y="1568"/>
                  </a:moveTo>
                  <a:lnTo>
                    <a:pt x="3160" y="1568"/>
                  </a:lnTo>
                  <a:lnTo>
                    <a:pt x="3160" y="1552"/>
                  </a:lnTo>
                  <a:lnTo>
                    <a:pt x="3208" y="1552"/>
                  </a:lnTo>
                  <a:lnTo>
                    <a:pt x="3208" y="1568"/>
                  </a:lnTo>
                  <a:close/>
                  <a:moveTo>
                    <a:pt x="3144" y="1568"/>
                  </a:moveTo>
                  <a:lnTo>
                    <a:pt x="3096" y="1568"/>
                  </a:lnTo>
                  <a:lnTo>
                    <a:pt x="3096" y="1552"/>
                  </a:lnTo>
                  <a:lnTo>
                    <a:pt x="3144" y="1552"/>
                  </a:lnTo>
                  <a:lnTo>
                    <a:pt x="3144" y="1568"/>
                  </a:lnTo>
                  <a:close/>
                  <a:moveTo>
                    <a:pt x="3080" y="1568"/>
                  </a:moveTo>
                  <a:lnTo>
                    <a:pt x="3031" y="1568"/>
                  </a:lnTo>
                  <a:lnTo>
                    <a:pt x="3031" y="1552"/>
                  </a:lnTo>
                  <a:lnTo>
                    <a:pt x="3080" y="1552"/>
                  </a:lnTo>
                  <a:lnTo>
                    <a:pt x="3080" y="1568"/>
                  </a:lnTo>
                  <a:close/>
                  <a:moveTo>
                    <a:pt x="3015" y="1568"/>
                  </a:moveTo>
                  <a:lnTo>
                    <a:pt x="2967" y="1568"/>
                  </a:lnTo>
                  <a:lnTo>
                    <a:pt x="2967" y="1552"/>
                  </a:lnTo>
                  <a:lnTo>
                    <a:pt x="3015" y="1552"/>
                  </a:lnTo>
                  <a:lnTo>
                    <a:pt x="3015" y="1568"/>
                  </a:lnTo>
                  <a:close/>
                  <a:moveTo>
                    <a:pt x="2951" y="1568"/>
                  </a:moveTo>
                  <a:lnTo>
                    <a:pt x="2903" y="1568"/>
                  </a:lnTo>
                  <a:lnTo>
                    <a:pt x="2903" y="1552"/>
                  </a:lnTo>
                  <a:lnTo>
                    <a:pt x="2951" y="1552"/>
                  </a:lnTo>
                  <a:lnTo>
                    <a:pt x="2951" y="1568"/>
                  </a:lnTo>
                  <a:close/>
                  <a:moveTo>
                    <a:pt x="2887" y="1568"/>
                  </a:moveTo>
                  <a:lnTo>
                    <a:pt x="2839" y="1568"/>
                  </a:lnTo>
                  <a:lnTo>
                    <a:pt x="2839" y="1552"/>
                  </a:lnTo>
                  <a:lnTo>
                    <a:pt x="2887" y="1552"/>
                  </a:lnTo>
                  <a:lnTo>
                    <a:pt x="2887" y="1568"/>
                  </a:lnTo>
                  <a:close/>
                  <a:moveTo>
                    <a:pt x="2823" y="1568"/>
                  </a:moveTo>
                  <a:lnTo>
                    <a:pt x="2775" y="1568"/>
                  </a:lnTo>
                  <a:lnTo>
                    <a:pt x="2775" y="1552"/>
                  </a:lnTo>
                  <a:lnTo>
                    <a:pt x="2823" y="1552"/>
                  </a:lnTo>
                  <a:lnTo>
                    <a:pt x="2823" y="1568"/>
                  </a:lnTo>
                  <a:close/>
                  <a:moveTo>
                    <a:pt x="2759" y="1568"/>
                  </a:moveTo>
                  <a:lnTo>
                    <a:pt x="2711" y="1568"/>
                  </a:lnTo>
                  <a:lnTo>
                    <a:pt x="2711" y="1552"/>
                  </a:lnTo>
                  <a:lnTo>
                    <a:pt x="2759" y="1552"/>
                  </a:lnTo>
                  <a:lnTo>
                    <a:pt x="2759" y="1568"/>
                  </a:lnTo>
                  <a:close/>
                  <a:moveTo>
                    <a:pt x="2695" y="1568"/>
                  </a:moveTo>
                  <a:lnTo>
                    <a:pt x="2647" y="1568"/>
                  </a:lnTo>
                  <a:lnTo>
                    <a:pt x="2647" y="1552"/>
                  </a:lnTo>
                  <a:lnTo>
                    <a:pt x="2695" y="1552"/>
                  </a:lnTo>
                  <a:lnTo>
                    <a:pt x="2695" y="1568"/>
                  </a:lnTo>
                  <a:close/>
                  <a:moveTo>
                    <a:pt x="2631" y="1568"/>
                  </a:moveTo>
                  <a:lnTo>
                    <a:pt x="2583" y="1568"/>
                  </a:lnTo>
                  <a:lnTo>
                    <a:pt x="2583" y="1552"/>
                  </a:lnTo>
                  <a:lnTo>
                    <a:pt x="2631" y="1552"/>
                  </a:lnTo>
                  <a:lnTo>
                    <a:pt x="2631" y="1568"/>
                  </a:lnTo>
                  <a:close/>
                  <a:moveTo>
                    <a:pt x="2567" y="1568"/>
                  </a:moveTo>
                  <a:lnTo>
                    <a:pt x="2519" y="1568"/>
                  </a:lnTo>
                  <a:lnTo>
                    <a:pt x="2519" y="1552"/>
                  </a:lnTo>
                  <a:lnTo>
                    <a:pt x="2567" y="1552"/>
                  </a:lnTo>
                  <a:lnTo>
                    <a:pt x="2567" y="1568"/>
                  </a:lnTo>
                  <a:close/>
                  <a:moveTo>
                    <a:pt x="2503" y="1568"/>
                  </a:moveTo>
                  <a:lnTo>
                    <a:pt x="2455" y="1568"/>
                  </a:lnTo>
                  <a:lnTo>
                    <a:pt x="2455" y="1552"/>
                  </a:lnTo>
                  <a:lnTo>
                    <a:pt x="2503" y="1552"/>
                  </a:lnTo>
                  <a:lnTo>
                    <a:pt x="2503" y="1568"/>
                  </a:lnTo>
                  <a:close/>
                  <a:moveTo>
                    <a:pt x="2439" y="1568"/>
                  </a:moveTo>
                  <a:lnTo>
                    <a:pt x="2391" y="1568"/>
                  </a:lnTo>
                  <a:lnTo>
                    <a:pt x="2391" y="1552"/>
                  </a:lnTo>
                  <a:lnTo>
                    <a:pt x="2439" y="1552"/>
                  </a:lnTo>
                  <a:lnTo>
                    <a:pt x="2439" y="1568"/>
                  </a:lnTo>
                  <a:close/>
                  <a:moveTo>
                    <a:pt x="2375" y="1568"/>
                  </a:moveTo>
                  <a:lnTo>
                    <a:pt x="2327" y="1568"/>
                  </a:lnTo>
                  <a:lnTo>
                    <a:pt x="2327" y="1552"/>
                  </a:lnTo>
                  <a:lnTo>
                    <a:pt x="2375" y="1552"/>
                  </a:lnTo>
                  <a:lnTo>
                    <a:pt x="2375" y="1568"/>
                  </a:lnTo>
                  <a:close/>
                  <a:moveTo>
                    <a:pt x="2311" y="1568"/>
                  </a:moveTo>
                  <a:lnTo>
                    <a:pt x="2263" y="1568"/>
                  </a:lnTo>
                  <a:lnTo>
                    <a:pt x="2263" y="1552"/>
                  </a:lnTo>
                  <a:lnTo>
                    <a:pt x="2311" y="1552"/>
                  </a:lnTo>
                  <a:lnTo>
                    <a:pt x="2311" y="1568"/>
                  </a:lnTo>
                  <a:close/>
                  <a:moveTo>
                    <a:pt x="2247" y="1568"/>
                  </a:moveTo>
                  <a:lnTo>
                    <a:pt x="2199" y="1568"/>
                  </a:lnTo>
                  <a:lnTo>
                    <a:pt x="2199" y="1552"/>
                  </a:lnTo>
                  <a:lnTo>
                    <a:pt x="2247" y="1552"/>
                  </a:lnTo>
                  <a:lnTo>
                    <a:pt x="2247" y="1568"/>
                  </a:lnTo>
                  <a:close/>
                  <a:moveTo>
                    <a:pt x="2183" y="1568"/>
                  </a:moveTo>
                  <a:lnTo>
                    <a:pt x="2135" y="1568"/>
                  </a:lnTo>
                  <a:lnTo>
                    <a:pt x="2135" y="1552"/>
                  </a:lnTo>
                  <a:lnTo>
                    <a:pt x="2183" y="1552"/>
                  </a:lnTo>
                  <a:lnTo>
                    <a:pt x="2183" y="1568"/>
                  </a:lnTo>
                  <a:close/>
                  <a:moveTo>
                    <a:pt x="2119" y="1568"/>
                  </a:moveTo>
                  <a:lnTo>
                    <a:pt x="2070" y="1568"/>
                  </a:lnTo>
                  <a:lnTo>
                    <a:pt x="2070" y="1552"/>
                  </a:lnTo>
                  <a:lnTo>
                    <a:pt x="2119" y="1552"/>
                  </a:lnTo>
                  <a:lnTo>
                    <a:pt x="2119" y="1568"/>
                  </a:lnTo>
                  <a:close/>
                  <a:moveTo>
                    <a:pt x="2054" y="1568"/>
                  </a:moveTo>
                  <a:lnTo>
                    <a:pt x="2006" y="1568"/>
                  </a:lnTo>
                  <a:lnTo>
                    <a:pt x="2006" y="1552"/>
                  </a:lnTo>
                  <a:lnTo>
                    <a:pt x="2054" y="1552"/>
                  </a:lnTo>
                  <a:lnTo>
                    <a:pt x="2054" y="1568"/>
                  </a:lnTo>
                  <a:close/>
                  <a:moveTo>
                    <a:pt x="1990" y="1568"/>
                  </a:moveTo>
                  <a:lnTo>
                    <a:pt x="1942" y="1568"/>
                  </a:lnTo>
                  <a:lnTo>
                    <a:pt x="1942" y="1552"/>
                  </a:lnTo>
                  <a:lnTo>
                    <a:pt x="1990" y="1552"/>
                  </a:lnTo>
                  <a:lnTo>
                    <a:pt x="1990" y="1568"/>
                  </a:lnTo>
                  <a:close/>
                  <a:moveTo>
                    <a:pt x="1926" y="1568"/>
                  </a:moveTo>
                  <a:lnTo>
                    <a:pt x="1878" y="1568"/>
                  </a:lnTo>
                  <a:lnTo>
                    <a:pt x="1878" y="1552"/>
                  </a:lnTo>
                  <a:lnTo>
                    <a:pt x="1926" y="1552"/>
                  </a:lnTo>
                  <a:lnTo>
                    <a:pt x="1926" y="1568"/>
                  </a:lnTo>
                  <a:close/>
                  <a:moveTo>
                    <a:pt x="1862" y="1568"/>
                  </a:moveTo>
                  <a:lnTo>
                    <a:pt x="1814" y="1568"/>
                  </a:lnTo>
                  <a:lnTo>
                    <a:pt x="1814" y="1552"/>
                  </a:lnTo>
                  <a:lnTo>
                    <a:pt x="1862" y="1552"/>
                  </a:lnTo>
                  <a:lnTo>
                    <a:pt x="1862" y="1568"/>
                  </a:lnTo>
                  <a:close/>
                  <a:moveTo>
                    <a:pt x="1798" y="1568"/>
                  </a:moveTo>
                  <a:lnTo>
                    <a:pt x="1750" y="1568"/>
                  </a:lnTo>
                  <a:lnTo>
                    <a:pt x="1750" y="1552"/>
                  </a:lnTo>
                  <a:lnTo>
                    <a:pt x="1798" y="1552"/>
                  </a:lnTo>
                  <a:lnTo>
                    <a:pt x="1798" y="1568"/>
                  </a:lnTo>
                  <a:close/>
                  <a:moveTo>
                    <a:pt x="1734" y="1568"/>
                  </a:moveTo>
                  <a:lnTo>
                    <a:pt x="1686" y="1568"/>
                  </a:lnTo>
                  <a:lnTo>
                    <a:pt x="1686" y="1552"/>
                  </a:lnTo>
                  <a:lnTo>
                    <a:pt x="1734" y="1552"/>
                  </a:lnTo>
                  <a:lnTo>
                    <a:pt x="1734" y="1568"/>
                  </a:lnTo>
                  <a:close/>
                  <a:moveTo>
                    <a:pt x="1670" y="1568"/>
                  </a:moveTo>
                  <a:lnTo>
                    <a:pt x="1622" y="1568"/>
                  </a:lnTo>
                  <a:lnTo>
                    <a:pt x="1622" y="1552"/>
                  </a:lnTo>
                  <a:lnTo>
                    <a:pt x="1670" y="1552"/>
                  </a:lnTo>
                  <a:lnTo>
                    <a:pt x="1670" y="1568"/>
                  </a:lnTo>
                  <a:close/>
                  <a:moveTo>
                    <a:pt x="1606" y="1568"/>
                  </a:moveTo>
                  <a:lnTo>
                    <a:pt x="1558" y="1568"/>
                  </a:lnTo>
                  <a:lnTo>
                    <a:pt x="1558" y="1552"/>
                  </a:lnTo>
                  <a:lnTo>
                    <a:pt x="1606" y="1552"/>
                  </a:lnTo>
                  <a:lnTo>
                    <a:pt x="1606" y="1568"/>
                  </a:lnTo>
                  <a:close/>
                  <a:moveTo>
                    <a:pt x="1542" y="1568"/>
                  </a:moveTo>
                  <a:lnTo>
                    <a:pt x="1494" y="1568"/>
                  </a:lnTo>
                  <a:lnTo>
                    <a:pt x="1494" y="1552"/>
                  </a:lnTo>
                  <a:lnTo>
                    <a:pt x="1542" y="1552"/>
                  </a:lnTo>
                  <a:lnTo>
                    <a:pt x="1542" y="1568"/>
                  </a:lnTo>
                  <a:close/>
                  <a:moveTo>
                    <a:pt x="1478" y="1568"/>
                  </a:moveTo>
                  <a:lnTo>
                    <a:pt x="1430" y="1568"/>
                  </a:lnTo>
                  <a:lnTo>
                    <a:pt x="1430" y="1552"/>
                  </a:lnTo>
                  <a:lnTo>
                    <a:pt x="1478" y="1552"/>
                  </a:lnTo>
                  <a:lnTo>
                    <a:pt x="1478" y="1568"/>
                  </a:lnTo>
                  <a:close/>
                  <a:moveTo>
                    <a:pt x="1414" y="1568"/>
                  </a:moveTo>
                  <a:lnTo>
                    <a:pt x="1366" y="1568"/>
                  </a:lnTo>
                  <a:lnTo>
                    <a:pt x="1366" y="1552"/>
                  </a:lnTo>
                  <a:lnTo>
                    <a:pt x="1414" y="1552"/>
                  </a:lnTo>
                  <a:lnTo>
                    <a:pt x="1414" y="1568"/>
                  </a:lnTo>
                  <a:close/>
                  <a:moveTo>
                    <a:pt x="1350" y="1568"/>
                  </a:moveTo>
                  <a:lnTo>
                    <a:pt x="1302" y="1568"/>
                  </a:lnTo>
                  <a:lnTo>
                    <a:pt x="1302" y="1552"/>
                  </a:lnTo>
                  <a:lnTo>
                    <a:pt x="1350" y="1552"/>
                  </a:lnTo>
                  <a:lnTo>
                    <a:pt x="1350" y="1568"/>
                  </a:lnTo>
                  <a:close/>
                  <a:moveTo>
                    <a:pt x="1286" y="1568"/>
                  </a:moveTo>
                  <a:lnTo>
                    <a:pt x="1238" y="1568"/>
                  </a:lnTo>
                  <a:lnTo>
                    <a:pt x="1238" y="1552"/>
                  </a:lnTo>
                  <a:lnTo>
                    <a:pt x="1286" y="1552"/>
                  </a:lnTo>
                  <a:lnTo>
                    <a:pt x="1286" y="1568"/>
                  </a:lnTo>
                  <a:close/>
                  <a:moveTo>
                    <a:pt x="1222" y="1568"/>
                  </a:moveTo>
                  <a:lnTo>
                    <a:pt x="1174" y="1568"/>
                  </a:lnTo>
                  <a:lnTo>
                    <a:pt x="1174" y="1552"/>
                  </a:lnTo>
                  <a:lnTo>
                    <a:pt x="1222" y="1552"/>
                  </a:lnTo>
                  <a:lnTo>
                    <a:pt x="1222" y="1568"/>
                  </a:lnTo>
                  <a:close/>
                  <a:moveTo>
                    <a:pt x="1158" y="1568"/>
                  </a:moveTo>
                  <a:lnTo>
                    <a:pt x="1110" y="1568"/>
                  </a:lnTo>
                  <a:lnTo>
                    <a:pt x="1110" y="1552"/>
                  </a:lnTo>
                  <a:lnTo>
                    <a:pt x="1158" y="1552"/>
                  </a:lnTo>
                  <a:lnTo>
                    <a:pt x="1158" y="1568"/>
                  </a:lnTo>
                  <a:close/>
                  <a:moveTo>
                    <a:pt x="1094" y="1568"/>
                  </a:moveTo>
                  <a:lnTo>
                    <a:pt x="1045" y="1568"/>
                  </a:lnTo>
                  <a:lnTo>
                    <a:pt x="1045" y="1552"/>
                  </a:lnTo>
                  <a:lnTo>
                    <a:pt x="1094" y="1552"/>
                  </a:lnTo>
                  <a:lnTo>
                    <a:pt x="1094" y="1568"/>
                  </a:lnTo>
                  <a:close/>
                  <a:moveTo>
                    <a:pt x="1029" y="1568"/>
                  </a:moveTo>
                  <a:lnTo>
                    <a:pt x="981" y="1568"/>
                  </a:lnTo>
                  <a:lnTo>
                    <a:pt x="981" y="1552"/>
                  </a:lnTo>
                  <a:lnTo>
                    <a:pt x="1029" y="1552"/>
                  </a:lnTo>
                  <a:lnTo>
                    <a:pt x="1029" y="1568"/>
                  </a:lnTo>
                  <a:close/>
                  <a:moveTo>
                    <a:pt x="965" y="1568"/>
                  </a:moveTo>
                  <a:lnTo>
                    <a:pt x="917" y="1568"/>
                  </a:lnTo>
                  <a:lnTo>
                    <a:pt x="917" y="1552"/>
                  </a:lnTo>
                  <a:lnTo>
                    <a:pt x="965" y="1552"/>
                  </a:lnTo>
                  <a:lnTo>
                    <a:pt x="965" y="1568"/>
                  </a:lnTo>
                  <a:close/>
                  <a:moveTo>
                    <a:pt x="901" y="1568"/>
                  </a:moveTo>
                  <a:lnTo>
                    <a:pt x="853" y="1568"/>
                  </a:lnTo>
                  <a:lnTo>
                    <a:pt x="853" y="1552"/>
                  </a:lnTo>
                  <a:lnTo>
                    <a:pt x="901" y="1552"/>
                  </a:lnTo>
                  <a:lnTo>
                    <a:pt x="901" y="1568"/>
                  </a:lnTo>
                  <a:close/>
                  <a:moveTo>
                    <a:pt x="837" y="1568"/>
                  </a:moveTo>
                  <a:lnTo>
                    <a:pt x="789" y="1568"/>
                  </a:lnTo>
                  <a:lnTo>
                    <a:pt x="789" y="1552"/>
                  </a:lnTo>
                  <a:lnTo>
                    <a:pt x="837" y="1552"/>
                  </a:lnTo>
                  <a:lnTo>
                    <a:pt x="837" y="1568"/>
                  </a:lnTo>
                  <a:close/>
                  <a:moveTo>
                    <a:pt x="773" y="1568"/>
                  </a:moveTo>
                  <a:lnTo>
                    <a:pt x="725" y="1568"/>
                  </a:lnTo>
                  <a:lnTo>
                    <a:pt x="725" y="1552"/>
                  </a:lnTo>
                  <a:lnTo>
                    <a:pt x="773" y="1552"/>
                  </a:lnTo>
                  <a:lnTo>
                    <a:pt x="773" y="1568"/>
                  </a:lnTo>
                  <a:close/>
                  <a:moveTo>
                    <a:pt x="709" y="1568"/>
                  </a:moveTo>
                  <a:lnTo>
                    <a:pt x="661" y="1568"/>
                  </a:lnTo>
                  <a:lnTo>
                    <a:pt x="661" y="1552"/>
                  </a:lnTo>
                  <a:lnTo>
                    <a:pt x="709" y="1552"/>
                  </a:lnTo>
                  <a:lnTo>
                    <a:pt x="709" y="1568"/>
                  </a:lnTo>
                  <a:close/>
                  <a:moveTo>
                    <a:pt x="645" y="1568"/>
                  </a:moveTo>
                  <a:lnTo>
                    <a:pt x="597" y="1568"/>
                  </a:lnTo>
                  <a:lnTo>
                    <a:pt x="597" y="1552"/>
                  </a:lnTo>
                  <a:lnTo>
                    <a:pt x="645" y="1552"/>
                  </a:lnTo>
                  <a:lnTo>
                    <a:pt x="645" y="1568"/>
                  </a:lnTo>
                  <a:close/>
                  <a:moveTo>
                    <a:pt x="581" y="1568"/>
                  </a:moveTo>
                  <a:lnTo>
                    <a:pt x="533" y="1568"/>
                  </a:lnTo>
                  <a:lnTo>
                    <a:pt x="533" y="1552"/>
                  </a:lnTo>
                  <a:lnTo>
                    <a:pt x="581" y="1552"/>
                  </a:lnTo>
                  <a:lnTo>
                    <a:pt x="581" y="1568"/>
                  </a:lnTo>
                  <a:close/>
                  <a:moveTo>
                    <a:pt x="517" y="1568"/>
                  </a:moveTo>
                  <a:lnTo>
                    <a:pt x="469" y="1568"/>
                  </a:lnTo>
                  <a:lnTo>
                    <a:pt x="469" y="1552"/>
                  </a:lnTo>
                  <a:lnTo>
                    <a:pt x="517" y="1552"/>
                  </a:lnTo>
                  <a:lnTo>
                    <a:pt x="517" y="1568"/>
                  </a:lnTo>
                  <a:close/>
                  <a:moveTo>
                    <a:pt x="453" y="1568"/>
                  </a:moveTo>
                  <a:lnTo>
                    <a:pt x="405" y="1568"/>
                  </a:lnTo>
                  <a:lnTo>
                    <a:pt x="405" y="1552"/>
                  </a:lnTo>
                  <a:lnTo>
                    <a:pt x="453" y="1552"/>
                  </a:lnTo>
                  <a:lnTo>
                    <a:pt x="453" y="1568"/>
                  </a:lnTo>
                  <a:close/>
                  <a:moveTo>
                    <a:pt x="389" y="1568"/>
                  </a:moveTo>
                  <a:lnTo>
                    <a:pt x="341" y="1568"/>
                  </a:lnTo>
                  <a:lnTo>
                    <a:pt x="341" y="1552"/>
                  </a:lnTo>
                  <a:lnTo>
                    <a:pt x="389" y="1552"/>
                  </a:lnTo>
                  <a:lnTo>
                    <a:pt x="389" y="1568"/>
                  </a:lnTo>
                  <a:close/>
                  <a:moveTo>
                    <a:pt x="325" y="1568"/>
                  </a:moveTo>
                  <a:lnTo>
                    <a:pt x="277" y="1568"/>
                  </a:lnTo>
                  <a:lnTo>
                    <a:pt x="277" y="1552"/>
                  </a:lnTo>
                  <a:lnTo>
                    <a:pt x="325" y="1552"/>
                  </a:lnTo>
                  <a:lnTo>
                    <a:pt x="325" y="1568"/>
                  </a:lnTo>
                  <a:close/>
                  <a:moveTo>
                    <a:pt x="260" y="1568"/>
                  </a:moveTo>
                  <a:lnTo>
                    <a:pt x="215" y="1563"/>
                  </a:lnTo>
                  <a:cubicBezTo>
                    <a:pt x="214" y="1563"/>
                    <a:pt x="214" y="1563"/>
                    <a:pt x="213" y="1563"/>
                  </a:cubicBezTo>
                  <a:lnTo>
                    <a:pt x="211" y="1562"/>
                  </a:lnTo>
                  <a:lnTo>
                    <a:pt x="215" y="1547"/>
                  </a:lnTo>
                  <a:lnTo>
                    <a:pt x="218" y="1548"/>
                  </a:lnTo>
                  <a:lnTo>
                    <a:pt x="216" y="1547"/>
                  </a:lnTo>
                  <a:lnTo>
                    <a:pt x="261" y="1552"/>
                  </a:lnTo>
                  <a:lnTo>
                    <a:pt x="260" y="1568"/>
                  </a:lnTo>
                  <a:close/>
                  <a:moveTo>
                    <a:pt x="195" y="1558"/>
                  </a:moveTo>
                  <a:lnTo>
                    <a:pt x="164" y="1548"/>
                  </a:lnTo>
                  <a:cubicBezTo>
                    <a:pt x="164" y="1548"/>
                    <a:pt x="163" y="1548"/>
                    <a:pt x="163" y="1547"/>
                  </a:cubicBezTo>
                  <a:lnTo>
                    <a:pt x="149" y="1540"/>
                  </a:lnTo>
                  <a:lnTo>
                    <a:pt x="157" y="1526"/>
                  </a:lnTo>
                  <a:lnTo>
                    <a:pt x="170" y="1533"/>
                  </a:lnTo>
                  <a:lnTo>
                    <a:pt x="169" y="1533"/>
                  </a:lnTo>
                  <a:lnTo>
                    <a:pt x="200" y="1542"/>
                  </a:lnTo>
                  <a:lnTo>
                    <a:pt x="195" y="1558"/>
                  </a:lnTo>
                  <a:close/>
                  <a:moveTo>
                    <a:pt x="135" y="1532"/>
                  </a:moveTo>
                  <a:lnTo>
                    <a:pt x="119" y="1523"/>
                  </a:lnTo>
                  <a:cubicBezTo>
                    <a:pt x="118" y="1523"/>
                    <a:pt x="118" y="1523"/>
                    <a:pt x="117" y="1523"/>
                  </a:cubicBezTo>
                  <a:lnTo>
                    <a:pt x="95" y="1504"/>
                  </a:lnTo>
                  <a:lnTo>
                    <a:pt x="105" y="1492"/>
                  </a:lnTo>
                  <a:lnTo>
                    <a:pt x="128" y="1510"/>
                  </a:lnTo>
                  <a:lnTo>
                    <a:pt x="126" y="1509"/>
                  </a:lnTo>
                  <a:lnTo>
                    <a:pt x="143" y="1518"/>
                  </a:lnTo>
                  <a:lnTo>
                    <a:pt x="135" y="1532"/>
                  </a:lnTo>
                  <a:close/>
                  <a:moveTo>
                    <a:pt x="82" y="1494"/>
                  </a:moveTo>
                  <a:lnTo>
                    <a:pt x="79" y="1492"/>
                  </a:lnTo>
                  <a:cubicBezTo>
                    <a:pt x="79" y="1491"/>
                    <a:pt x="79" y="1491"/>
                    <a:pt x="78" y="1491"/>
                  </a:cubicBezTo>
                  <a:lnTo>
                    <a:pt x="50" y="1456"/>
                  </a:lnTo>
                  <a:lnTo>
                    <a:pt x="63" y="1446"/>
                  </a:lnTo>
                  <a:lnTo>
                    <a:pt x="91" y="1480"/>
                  </a:lnTo>
                  <a:lnTo>
                    <a:pt x="90" y="1479"/>
                  </a:lnTo>
                  <a:lnTo>
                    <a:pt x="92" y="1482"/>
                  </a:lnTo>
                  <a:lnTo>
                    <a:pt x="82" y="1494"/>
                  </a:lnTo>
                  <a:close/>
                  <a:moveTo>
                    <a:pt x="41" y="1442"/>
                  </a:moveTo>
                  <a:lnTo>
                    <a:pt x="21" y="1407"/>
                  </a:lnTo>
                  <a:cubicBezTo>
                    <a:pt x="21" y="1407"/>
                    <a:pt x="21" y="1406"/>
                    <a:pt x="21" y="1406"/>
                  </a:cubicBezTo>
                  <a:lnTo>
                    <a:pt x="18" y="1397"/>
                  </a:lnTo>
                  <a:lnTo>
                    <a:pt x="34" y="1393"/>
                  </a:lnTo>
                  <a:lnTo>
                    <a:pt x="36" y="1401"/>
                  </a:lnTo>
                  <a:lnTo>
                    <a:pt x="35" y="1400"/>
                  </a:lnTo>
                  <a:lnTo>
                    <a:pt x="55" y="1434"/>
                  </a:lnTo>
                  <a:lnTo>
                    <a:pt x="41" y="1442"/>
                  </a:lnTo>
                  <a:close/>
                  <a:moveTo>
                    <a:pt x="14" y="1382"/>
                  </a:moveTo>
                  <a:lnTo>
                    <a:pt x="6" y="1357"/>
                  </a:lnTo>
                  <a:cubicBezTo>
                    <a:pt x="6" y="1356"/>
                    <a:pt x="6" y="1356"/>
                    <a:pt x="5" y="1355"/>
                  </a:cubicBezTo>
                  <a:lnTo>
                    <a:pt x="3" y="1334"/>
                  </a:lnTo>
                  <a:lnTo>
                    <a:pt x="19" y="1332"/>
                  </a:lnTo>
                  <a:lnTo>
                    <a:pt x="21" y="1354"/>
                  </a:lnTo>
                  <a:lnTo>
                    <a:pt x="21" y="1352"/>
                  </a:lnTo>
                  <a:lnTo>
                    <a:pt x="29" y="1377"/>
                  </a:lnTo>
                  <a:lnTo>
                    <a:pt x="14" y="1382"/>
                  </a:lnTo>
                  <a:close/>
                  <a:moveTo>
                    <a:pt x="2" y="1318"/>
                  </a:moveTo>
                  <a:lnTo>
                    <a:pt x="0" y="1303"/>
                  </a:lnTo>
                  <a:lnTo>
                    <a:pt x="16" y="1302"/>
                  </a:lnTo>
                  <a:lnTo>
                    <a:pt x="18" y="1316"/>
                  </a:lnTo>
                  <a:lnTo>
                    <a:pt x="2" y="1318"/>
                  </a:lnTo>
                  <a:close/>
                </a:path>
              </a:pathLst>
            </a:custGeom>
            <a:solidFill>
              <a:srgbClr val="be4b48"/>
            </a:solidFill>
            <a:ln w="0">
              <a:solidFill>
                <a:srgbClr val="be4b48"/>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6" name="Rectangle 41"/>
            <p:cNvSpPr/>
            <p:nvPr/>
          </p:nvSpPr>
          <p:spPr>
            <a:xfrm>
              <a:off x="3748680" y="4686480"/>
              <a:ext cx="42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endParaRPr b="0" lang="en-US" sz="1000" spc="-1" strike="noStrike">
                <a:solidFill>
                  <a:srgbClr val="000000"/>
                </a:solidFill>
                <a:latin typeface="Times New Roman"/>
              </a:endParaRPr>
            </a:p>
          </p:txBody>
        </p:sp>
        <p:sp>
          <p:nvSpPr>
            <p:cNvPr id="507" name="Rectangle 42"/>
            <p:cNvSpPr/>
            <p:nvPr/>
          </p:nvSpPr>
          <p:spPr>
            <a:xfrm>
              <a:off x="4161960" y="46864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508" name="Rectangle 43"/>
            <p:cNvSpPr/>
            <p:nvPr/>
          </p:nvSpPr>
          <p:spPr>
            <a:xfrm>
              <a:off x="4209120" y="4686480"/>
              <a:ext cx="12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a:t>
              </a:r>
              <a:endParaRPr b="0" lang="en-US" sz="1000" spc="-1" strike="noStrike">
                <a:solidFill>
                  <a:srgbClr val="000000"/>
                </a:solidFill>
                <a:latin typeface="Times New Roman"/>
              </a:endParaRPr>
            </a:p>
          </p:txBody>
        </p:sp>
        <p:sp>
          <p:nvSpPr>
            <p:cNvPr id="509" name="Rectangle 44"/>
            <p:cNvSpPr/>
            <p:nvPr/>
          </p:nvSpPr>
          <p:spPr>
            <a:xfrm>
              <a:off x="4325400" y="46864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510" name="Rectangle 45"/>
            <p:cNvSpPr/>
            <p:nvPr/>
          </p:nvSpPr>
          <p:spPr>
            <a:xfrm>
              <a:off x="4378680" y="4686480"/>
              <a:ext cx="224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y</a:t>
              </a:r>
              <a:endParaRPr b="0" lang="en-US" sz="1000" spc="-1" strike="noStrike">
                <a:solidFill>
                  <a:srgbClr val="000000"/>
                </a:solidFill>
                <a:latin typeface="Times New Roman"/>
              </a:endParaRPr>
            </a:p>
          </p:txBody>
        </p:sp>
        <p:pic>
          <p:nvPicPr>
            <p:cNvPr id="511" name="Picture 46" descr=""/>
            <p:cNvPicPr/>
            <p:nvPr/>
          </p:nvPicPr>
          <p:blipFill>
            <a:blip r:embed="rId11"/>
            <a:stretch/>
          </p:blipFill>
          <p:spPr>
            <a:xfrm>
              <a:off x="514440" y="5556240"/>
              <a:ext cx="1623960" cy="668520"/>
            </a:xfrm>
            <a:prstGeom prst="rect">
              <a:avLst/>
            </a:prstGeom>
            <a:ln w="0">
              <a:noFill/>
            </a:ln>
          </p:spPr>
        </p:pic>
        <p:pic>
          <p:nvPicPr>
            <p:cNvPr id="512" name="Picture 47" descr=""/>
            <p:cNvPicPr/>
            <p:nvPr/>
          </p:nvPicPr>
          <p:blipFill>
            <a:blip r:embed="rId12"/>
            <a:stretch/>
          </p:blipFill>
          <p:spPr>
            <a:xfrm>
              <a:off x="514440" y="5556240"/>
              <a:ext cx="1623960" cy="668520"/>
            </a:xfrm>
            <a:prstGeom prst="rect">
              <a:avLst/>
            </a:prstGeom>
            <a:ln w="0">
              <a:noFill/>
            </a:ln>
          </p:spPr>
        </p:pic>
        <p:pic>
          <p:nvPicPr>
            <p:cNvPr id="513" name="Picture 48" descr=""/>
            <p:cNvPicPr/>
            <p:nvPr/>
          </p:nvPicPr>
          <p:blipFill>
            <a:blip r:embed="rId13"/>
            <a:stretch/>
          </p:blipFill>
          <p:spPr>
            <a:xfrm>
              <a:off x="936720" y="5587920"/>
              <a:ext cx="777960" cy="266760"/>
            </a:xfrm>
            <a:prstGeom prst="rect">
              <a:avLst/>
            </a:prstGeom>
            <a:ln w="0">
              <a:noFill/>
            </a:ln>
          </p:spPr>
        </p:pic>
        <p:pic>
          <p:nvPicPr>
            <p:cNvPr id="514" name="Picture 49" descr=""/>
            <p:cNvPicPr/>
            <p:nvPr/>
          </p:nvPicPr>
          <p:blipFill>
            <a:blip r:embed="rId14"/>
            <a:stretch/>
          </p:blipFill>
          <p:spPr>
            <a:xfrm>
              <a:off x="936720" y="5587920"/>
              <a:ext cx="777960" cy="266760"/>
            </a:xfrm>
            <a:prstGeom prst="rect">
              <a:avLst/>
            </a:prstGeom>
            <a:ln w="0">
              <a:noFill/>
            </a:ln>
          </p:spPr>
        </p:pic>
        <p:sp>
          <p:nvSpPr>
            <p:cNvPr id="515" name="Freeform 50"/>
            <p:cNvSpPr/>
            <p:nvPr/>
          </p:nvSpPr>
          <p:spPr>
            <a:xfrm>
              <a:off x="565200" y="5587920"/>
              <a:ext cx="1512720" cy="565200"/>
            </a:xfrm>
            <a:custGeom>
              <a:avLst/>
              <a:gdLst>
                <a:gd name="textAreaLeft" fmla="*/ 0 w 1512720"/>
                <a:gd name="textAreaRight" fmla="*/ 1513080 w 1512720"/>
                <a:gd name="textAreaTop" fmla="*/ 0 h 565200"/>
                <a:gd name="textAreaBottom" fmla="*/ 565560 h 565200"/>
              </a:gdLst>
              <a:ahLst/>
              <a:rect l="textAreaLeft" t="textAreaTop" r="textAreaRight" b="textAreaBottom"/>
              <a:pathLst>
                <a:path w="2800" h="1120">
                  <a:moveTo>
                    <a:pt x="0" y="187"/>
                  </a:moveTo>
                  <a:cubicBezTo>
                    <a:pt x="0" y="84"/>
                    <a:pt x="84" y="0"/>
                    <a:pt x="187" y="0"/>
                  </a:cubicBezTo>
                  <a:cubicBezTo>
                    <a:pt x="187" y="0"/>
                    <a:pt x="187" y="0"/>
                    <a:pt x="187" y="0"/>
                  </a:cubicBezTo>
                  <a:lnTo>
                    <a:pt x="187" y="0"/>
                  </a:lnTo>
                  <a:lnTo>
                    <a:pt x="2614" y="0"/>
                  </a:lnTo>
                  <a:lnTo>
                    <a:pt x="2614" y="0"/>
                  </a:lnTo>
                  <a:cubicBezTo>
                    <a:pt x="2717" y="0"/>
                    <a:pt x="2800" y="84"/>
                    <a:pt x="2800" y="187"/>
                  </a:cubicBezTo>
                  <a:cubicBezTo>
                    <a:pt x="2800" y="187"/>
                    <a:pt x="2800" y="187"/>
                    <a:pt x="2800" y="187"/>
                  </a:cubicBezTo>
                  <a:lnTo>
                    <a:pt x="2800" y="187"/>
                  </a:lnTo>
                  <a:lnTo>
                    <a:pt x="2800" y="934"/>
                  </a:lnTo>
                  <a:lnTo>
                    <a:pt x="2800" y="934"/>
                  </a:lnTo>
                  <a:cubicBezTo>
                    <a:pt x="2800" y="1037"/>
                    <a:pt x="2717" y="1120"/>
                    <a:pt x="2614" y="1120"/>
                  </a:cubicBezTo>
                  <a:cubicBezTo>
                    <a:pt x="2614" y="1120"/>
                    <a:pt x="2614" y="1120"/>
                    <a:pt x="2614" y="1120"/>
                  </a:cubicBezTo>
                  <a:lnTo>
                    <a:pt x="2614" y="1120"/>
                  </a:lnTo>
                  <a:lnTo>
                    <a:pt x="187" y="1120"/>
                  </a:lnTo>
                  <a:lnTo>
                    <a:pt x="187" y="1120"/>
                  </a:lnTo>
                  <a:cubicBezTo>
                    <a:pt x="84" y="1120"/>
                    <a:pt x="0" y="1037"/>
                    <a:pt x="0" y="934"/>
                  </a:cubicBezTo>
                  <a:cubicBezTo>
                    <a:pt x="0" y="934"/>
                    <a:pt x="0" y="934"/>
                    <a:pt x="0" y="934"/>
                  </a:cubicBezTo>
                  <a:lnTo>
                    <a:pt x="0" y="187"/>
                  </a:lnTo>
                  <a:close/>
                </a:path>
              </a:pathLst>
            </a:custGeom>
            <a:solidFill>
              <a:srgbClr val="fac09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6" name="Freeform 51"/>
            <p:cNvSpPr/>
            <p:nvPr/>
          </p:nvSpPr>
          <p:spPr>
            <a:xfrm>
              <a:off x="561960" y="5583240"/>
              <a:ext cx="1521000" cy="573120"/>
            </a:xfrm>
            <a:custGeom>
              <a:avLst/>
              <a:gdLst>
                <a:gd name="textAreaLeft" fmla="*/ 0 w 1521000"/>
                <a:gd name="textAreaRight" fmla="*/ 1521360 w 1521000"/>
                <a:gd name="textAreaTop" fmla="*/ 0 h 573120"/>
                <a:gd name="textAreaBottom" fmla="*/ 573480 h 573120"/>
              </a:gdLst>
              <a:ahLst/>
              <a:rect l="textAreaLeft" t="textAreaTop" r="textAreaRight" b="textAreaBottom"/>
              <a:pathLst>
                <a:path w="2816" h="1136">
                  <a:moveTo>
                    <a:pt x="0" y="942"/>
                  </a:moveTo>
                  <a:lnTo>
                    <a:pt x="0" y="878"/>
                  </a:lnTo>
                  <a:lnTo>
                    <a:pt x="16" y="878"/>
                  </a:lnTo>
                  <a:lnTo>
                    <a:pt x="16" y="942"/>
                  </a:lnTo>
                  <a:lnTo>
                    <a:pt x="0" y="942"/>
                  </a:lnTo>
                  <a:close/>
                  <a:moveTo>
                    <a:pt x="0" y="830"/>
                  </a:moveTo>
                  <a:lnTo>
                    <a:pt x="0" y="766"/>
                  </a:lnTo>
                  <a:lnTo>
                    <a:pt x="16" y="766"/>
                  </a:lnTo>
                  <a:lnTo>
                    <a:pt x="16" y="830"/>
                  </a:lnTo>
                  <a:lnTo>
                    <a:pt x="0" y="830"/>
                  </a:lnTo>
                  <a:close/>
                  <a:moveTo>
                    <a:pt x="0" y="718"/>
                  </a:moveTo>
                  <a:lnTo>
                    <a:pt x="0" y="654"/>
                  </a:lnTo>
                  <a:lnTo>
                    <a:pt x="16" y="654"/>
                  </a:lnTo>
                  <a:lnTo>
                    <a:pt x="16" y="718"/>
                  </a:lnTo>
                  <a:lnTo>
                    <a:pt x="0" y="718"/>
                  </a:lnTo>
                  <a:close/>
                  <a:moveTo>
                    <a:pt x="0" y="606"/>
                  </a:moveTo>
                  <a:lnTo>
                    <a:pt x="0" y="542"/>
                  </a:lnTo>
                  <a:lnTo>
                    <a:pt x="16" y="542"/>
                  </a:lnTo>
                  <a:lnTo>
                    <a:pt x="16" y="606"/>
                  </a:lnTo>
                  <a:lnTo>
                    <a:pt x="0" y="606"/>
                  </a:lnTo>
                  <a:close/>
                  <a:moveTo>
                    <a:pt x="0" y="494"/>
                  </a:moveTo>
                  <a:lnTo>
                    <a:pt x="0" y="430"/>
                  </a:lnTo>
                  <a:lnTo>
                    <a:pt x="16" y="430"/>
                  </a:lnTo>
                  <a:lnTo>
                    <a:pt x="16" y="494"/>
                  </a:lnTo>
                  <a:lnTo>
                    <a:pt x="0" y="494"/>
                  </a:lnTo>
                  <a:close/>
                  <a:moveTo>
                    <a:pt x="0" y="382"/>
                  </a:moveTo>
                  <a:lnTo>
                    <a:pt x="0" y="318"/>
                  </a:lnTo>
                  <a:lnTo>
                    <a:pt x="16" y="318"/>
                  </a:lnTo>
                  <a:lnTo>
                    <a:pt x="16" y="382"/>
                  </a:lnTo>
                  <a:lnTo>
                    <a:pt x="0" y="382"/>
                  </a:lnTo>
                  <a:close/>
                  <a:moveTo>
                    <a:pt x="0" y="270"/>
                  </a:moveTo>
                  <a:lnTo>
                    <a:pt x="0" y="206"/>
                  </a:lnTo>
                  <a:lnTo>
                    <a:pt x="16" y="206"/>
                  </a:lnTo>
                  <a:lnTo>
                    <a:pt x="16" y="270"/>
                  </a:lnTo>
                  <a:lnTo>
                    <a:pt x="0" y="270"/>
                  </a:lnTo>
                  <a:close/>
                  <a:moveTo>
                    <a:pt x="4" y="157"/>
                  </a:moveTo>
                  <a:lnTo>
                    <a:pt x="5" y="157"/>
                  </a:lnTo>
                  <a:cubicBezTo>
                    <a:pt x="5" y="156"/>
                    <a:pt x="5" y="156"/>
                    <a:pt x="5" y="155"/>
                  </a:cubicBezTo>
                  <a:lnTo>
                    <a:pt x="16" y="120"/>
                  </a:lnTo>
                  <a:cubicBezTo>
                    <a:pt x="16" y="120"/>
                    <a:pt x="16" y="119"/>
                    <a:pt x="16" y="119"/>
                  </a:cubicBezTo>
                  <a:lnTo>
                    <a:pt x="29" y="95"/>
                  </a:lnTo>
                  <a:lnTo>
                    <a:pt x="43" y="103"/>
                  </a:lnTo>
                  <a:lnTo>
                    <a:pt x="30" y="126"/>
                  </a:lnTo>
                  <a:lnTo>
                    <a:pt x="31" y="125"/>
                  </a:lnTo>
                  <a:lnTo>
                    <a:pt x="20" y="160"/>
                  </a:lnTo>
                  <a:lnTo>
                    <a:pt x="20" y="158"/>
                  </a:lnTo>
                  <a:lnTo>
                    <a:pt x="20" y="159"/>
                  </a:lnTo>
                  <a:lnTo>
                    <a:pt x="4" y="157"/>
                  </a:lnTo>
                  <a:close/>
                  <a:moveTo>
                    <a:pt x="61" y="55"/>
                  </a:moveTo>
                  <a:lnTo>
                    <a:pt x="86" y="34"/>
                  </a:lnTo>
                  <a:cubicBezTo>
                    <a:pt x="87" y="34"/>
                    <a:pt x="87" y="34"/>
                    <a:pt x="88" y="33"/>
                  </a:cubicBezTo>
                  <a:lnTo>
                    <a:pt x="115" y="18"/>
                  </a:lnTo>
                  <a:lnTo>
                    <a:pt x="123" y="32"/>
                  </a:lnTo>
                  <a:lnTo>
                    <a:pt x="95" y="47"/>
                  </a:lnTo>
                  <a:lnTo>
                    <a:pt x="97" y="47"/>
                  </a:lnTo>
                  <a:lnTo>
                    <a:pt x="71" y="67"/>
                  </a:lnTo>
                  <a:lnTo>
                    <a:pt x="61" y="55"/>
                  </a:lnTo>
                  <a:close/>
                  <a:moveTo>
                    <a:pt x="164" y="4"/>
                  </a:moveTo>
                  <a:lnTo>
                    <a:pt x="195" y="0"/>
                  </a:lnTo>
                  <a:lnTo>
                    <a:pt x="196" y="16"/>
                  </a:lnTo>
                  <a:lnTo>
                    <a:pt x="166" y="20"/>
                  </a:lnTo>
                  <a:lnTo>
                    <a:pt x="164" y="4"/>
                  </a:lnTo>
                  <a:close/>
                  <a:moveTo>
                    <a:pt x="195" y="0"/>
                  </a:moveTo>
                  <a:lnTo>
                    <a:pt x="229" y="0"/>
                  </a:lnTo>
                  <a:lnTo>
                    <a:pt x="229" y="16"/>
                  </a:lnTo>
                  <a:lnTo>
                    <a:pt x="195" y="16"/>
                  </a:lnTo>
                  <a:lnTo>
                    <a:pt x="195" y="0"/>
                  </a:lnTo>
                  <a:close/>
                  <a:moveTo>
                    <a:pt x="277" y="0"/>
                  </a:moveTo>
                  <a:lnTo>
                    <a:pt x="341" y="0"/>
                  </a:lnTo>
                  <a:lnTo>
                    <a:pt x="341" y="16"/>
                  </a:lnTo>
                  <a:lnTo>
                    <a:pt x="277" y="16"/>
                  </a:lnTo>
                  <a:lnTo>
                    <a:pt x="277" y="0"/>
                  </a:lnTo>
                  <a:close/>
                  <a:moveTo>
                    <a:pt x="389" y="0"/>
                  </a:moveTo>
                  <a:lnTo>
                    <a:pt x="453" y="0"/>
                  </a:lnTo>
                  <a:lnTo>
                    <a:pt x="453" y="16"/>
                  </a:lnTo>
                  <a:lnTo>
                    <a:pt x="389" y="16"/>
                  </a:lnTo>
                  <a:lnTo>
                    <a:pt x="389" y="0"/>
                  </a:lnTo>
                  <a:close/>
                  <a:moveTo>
                    <a:pt x="501" y="0"/>
                  </a:moveTo>
                  <a:lnTo>
                    <a:pt x="565" y="0"/>
                  </a:lnTo>
                  <a:lnTo>
                    <a:pt x="565" y="16"/>
                  </a:lnTo>
                  <a:lnTo>
                    <a:pt x="501" y="16"/>
                  </a:lnTo>
                  <a:lnTo>
                    <a:pt x="501" y="0"/>
                  </a:lnTo>
                  <a:close/>
                  <a:moveTo>
                    <a:pt x="613" y="0"/>
                  </a:moveTo>
                  <a:lnTo>
                    <a:pt x="677" y="0"/>
                  </a:lnTo>
                  <a:lnTo>
                    <a:pt x="677" y="16"/>
                  </a:lnTo>
                  <a:lnTo>
                    <a:pt x="613" y="16"/>
                  </a:lnTo>
                  <a:lnTo>
                    <a:pt x="613" y="0"/>
                  </a:lnTo>
                  <a:close/>
                  <a:moveTo>
                    <a:pt x="725" y="0"/>
                  </a:moveTo>
                  <a:lnTo>
                    <a:pt x="789" y="0"/>
                  </a:lnTo>
                  <a:lnTo>
                    <a:pt x="789" y="16"/>
                  </a:lnTo>
                  <a:lnTo>
                    <a:pt x="725" y="16"/>
                  </a:lnTo>
                  <a:lnTo>
                    <a:pt x="725" y="0"/>
                  </a:lnTo>
                  <a:close/>
                  <a:moveTo>
                    <a:pt x="837" y="0"/>
                  </a:moveTo>
                  <a:lnTo>
                    <a:pt x="901" y="0"/>
                  </a:lnTo>
                  <a:lnTo>
                    <a:pt x="901" y="16"/>
                  </a:lnTo>
                  <a:lnTo>
                    <a:pt x="837" y="16"/>
                  </a:lnTo>
                  <a:lnTo>
                    <a:pt x="837" y="0"/>
                  </a:lnTo>
                  <a:close/>
                  <a:moveTo>
                    <a:pt x="949" y="0"/>
                  </a:moveTo>
                  <a:lnTo>
                    <a:pt x="1013" y="0"/>
                  </a:lnTo>
                  <a:lnTo>
                    <a:pt x="1013" y="16"/>
                  </a:lnTo>
                  <a:lnTo>
                    <a:pt x="949" y="16"/>
                  </a:lnTo>
                  <a:lnTo>
                    <a:pt x="949" y="0"/>
                  </a:lnTo>
                  <a:close/>
                  <a:moveTo>
                    <a:pt x="1061" y="0"/>
                  </a:moveTo>
                  <a:lnTo>
                    <a:pt x="1125" y="0"/>
                  </a:lnTo>
                  <a:lnTo>
                    <a:pt x="1125" y="16"/>
                  </a:lnTo>
                  <a:lnTo>
                    <a:pt x="1061" y="16"/>
                  </a:lnTo>
                  <a:lnTo>
                    <a:pt x="1061" y="0"/>
                  </a:lnTo>
                  <a:close/>
                  <a:moveTo>
                    <a:pt x="1174" y="0"/>
                  </a:moveTo>
                  <a:lnTo>
                    <a:pt x="1238" y="0"/>
                  </a:lnTo>
                  <a:lnTo>
                    <a:pt x="1238" y="16"/>
                  </a:lnTo>
                  <a:lnTo>
                    <a:pt x="1174" y="16"/>
                  </a:lnTo>
                  <a:lnTo>
                    <a:pt x="1174" y="0"/>
                  </a:lnTo>
                  <a:close/>
                  <a:moveTo>
                    <a:pt x="1286" y="0"/>
                  </a:moveTo>
                  <a:lnTo>
                    <a:pt x="1350" y="0"/>
                  </a:lnTo>
                  <a:lnTo>
                    <a:pt x="1350" y="16"/>
                  </a:lnTo>
                  <a:lnTo>
                    <a:pt x="1286" y="16"/>
                  </a:lnTo>
                  <a:lnTo>
                    <a:pt x="1286" y="0"/>
                  </a:lnTo>
                  <a:close/>
                  <a:moveTo>
                    <a:pt x="1398" y="0"/>
                  </a:moveTo>
                  <a:lnTo>
                    <a:pt x="1462" y="0"/>
                  </a:lnTo>
                  <a:lnTo>
                    <a:pt x="1462" y="16"/>
                  </a:lnTo>
                  <a:lnTo>
                    <a:pt x="1398" y="16"/>
                  </a:lnTo>
                  <a:lnTo>
                    <a:pt x="1398" y="0"/>
                  </a:lnTo>
                  <a:close/>
                  <a:moveTo>
                    <a:pt x="1510" y="0"/>
                  </a:moveTo>
                  <a:lnTo>
                    <a:pt x="1574" y="0"/>
                  </a:lnTo>
                  <a:lnTo>
                    <a:pt x="1574" y="16"/>
                  </a:lnTo>
                  <a:lnTo>
                    <a:pt x="1510" y="16"/>
                  </a:lnTo>
                  <a:lnTo>
                    <a:pt x="1510" y="0"/>
                  </a:lnTo>
                  <a:close/>
                  <a:moveTo>
                    <a:pt x="1622" y="0"/>
                  </a:moveTo>
                  <a:lnTo>
                    <a:pt x="1686" y="0"/>
                  </a:lnTo>
                  <a:lnTo>
                    <a:pt x="1686" y="16"/>
                  </a:lnTo>
                  <a:lnTo>
                    <a:pt x="1622" y="16"/>
                  </a:lnTo>
                  <a:lnTo>
                    <a:pt x="1622" y="0"/>
                  </a:lnTo>
                  <a:close/>
                  <a:moveTo>
                    <a:pt x="1734" y="0"/>
                  </a:moveTo>
                  <a:lnTo>
                    <a:pt x="1798" y="0"/>
                  </a:lnTo>
                  <a:lnTo>
                    <a:pt x="1798" y="16"/>
                  </a:lnTo>
                  <a:lnTo>
                    <a:pt x="1734" y="16"/>
                  </a:lnTo>
                  <a:lnTo>
                    <a:pt x="1734" y="0"/>
                  </a:lnTo>
                  <a:close/>
                  <a:moveTo>
                    <a:pt x="1846" y="0"/>
                  </a:moveTo>
                  <a:lnTo>
                    <a:pt x="1910" y="0"/>
                  </a:lnTo>
                  <a:lnTo>
                    <a:pt x="1910" y="16"/>
                  </a:lnTo>
                  <a:lnTo>
                    <a:pt x="1846" y="16"/>
                  </a:lnTo>
                  <a:lnTo>
                    <a:pt x="1846" y="0"/>
                  </a:lnTo>
                  <a:close/>
                  <a:moveTo>
                    <a:pt x="1958" y="0"/>
                  </a:moveTo>
                  <a:lnTo>
                    <a:pt x="2022" y="0"/>
                  </a:lnTo>
                  <a:lnTo>
                    <a:pt x="2022" y="16"/>
                  </a:lnTo>
                  <a:lnTo>
                    <a:pt x="1958" y="16"/>
                  </a:lnTo>
                  <a:lnTo>
                    <a:pt x="1958" y="0"/>
                  </a:lnTo>
                  <a:close/>
                  <a:moveTo>
                    <a:pt x="2070" y="0"/>
                  </a:moveTo>
                  <a:lnTo>
                    <a:pt x="2134" y="0"/>
                  </a:lnTo>
                  <a:lnTo>
                    <a:pt x="2134" y="16"/>
                  </a:lnTo>
                  <a:lnTo>
                    <a:pt x="2070" y="16"/>
                  </a:lnTo>
                  <a:lnTo>
                    <a:pt x="2070" y="0"/>
                  </a:lnTo>
                  <a:close/>
                  <a:moveTo>
                    <a:pt x="2183" y="0"/>
                  </a:moveTo>
                  <a:lnTo>
                    <a:pt x="2247" y="0"/>
                  </a:lnTo>
                  <a:lnTo>
                    <a:pt x="2247" y="16"/>
                  </a:lnTo>
                  <a:lnTo>
                    <a:pt x="2183" y="16"/>
                  </a:lnTo>
                  <a:lnTo>
                    <a:pt x="2183" y="0"/>
                  </a:lnTo>
                  <a:close/>
                  <a:moveTo>
                    <a:pt x="2295" y="0"/>
                  </a:moveTo>
                  <a:lnTo>
                    <a:pt x="2359" y="0"/>
                  </a:lnTo>
                  <a:lnTo>
                    <a:pt x="2359" y="16"/>
                  </a:lnTo>
                  <a:lnTo>
                    <a:pt x="2295" y="16"/>
                  </a:lnTo>
                  <a:lnTo>
                    <a:pt x="2295" y="0"/>
                  </a:lnTo>
                  <a:close/>
                  <a:moveTo>
                    <a:pt x="2407" y="0"/>
                  </a:moveTo>
                  <a:lnTo>
                    <a:pt x="2471" y="0"/>
                  </a:lnTo>
                  <a:lnTo>
                    <a:pt x="2471" y="16"/>
                  </a:lnTo>
                  <a:lnTo>
                    <a:pt x="2407" y="16"/>
                  </a:lnTo>
                  <a:lnTo>
                    <a:pt x="2407" y="0"/>
                  </a:lnTo>
                  <a:close/>
                  <a:moveTo>
                    <a:pt x="2519" y="0"/>
                  </a:moveTo>
                  <a:lnTo>
                    <a:pt x="2583" y="0"/>
                  </a:lnTo>
                  <a:lnTo>
                    <a:pt x="2583" y="16"/>
                  </a:lnTo>
                  <a:lnTo>
                    <a:pt x="2519" y="16"/>
                  </a:lnTo>
                  <a:lnTo>
                    <a:pt x="2519" y="0"/>
                  </a:lnTo>
                  <a:close/>
                  <a:moveTo>
                    <a:pt x="2632" y="1"/>
                  </a:moveTo>
                  <a:lnTo>
                    <a:pt x="2661" y="4"/>
                  </a:lnTo>
                  <a:cubicBezTo>
                    <a:pt x="2662" y="5"/>
                    <a:pt x="2662" y="5"/>
                    <a:pt x="2663" y="5"/>
                  </a:cubicBezTo>
                  <a:lnTo>
                    <a:pt x="2696" y="15"/>
                  </a:lnTo>
                  <a:lnTo>
                    <a:pt x="2691" y="30"/>
                  </a:lnTo>
                  <a:lnTo>
                    <a:pt x="2658" y="20"/>
                  </a:lnTo>
                  <a:lnTo>
                    <a:pt x="2660" y="20"/>
                  </a:lnTo>
                  <a:lnTo>
                    <a:pt x="2630" y="17"/>
                  </a:lnTo>
                  <a:lnTo>
                    <a:pt x="2632" y="1"/>
                  </a:lnTo>
                  <a:close/>
                  <a:moveTo>
                    <a:pt x="2740" y="41"/>
                  </a:moveTo>
                  <a:lnTo>
                    <a:pt x="2760" y="57"/>
                  </a:lnTo>
                  <a:cubicBezTo>
                    <a:pt x="2760" y="58"/>
                    <a:pt x="2760" y="58"/>
                    <a:pt x="2761" y="59"/>
                  </a:cubicBezTo>
                  <a:lnTo>
                    <a:pt x="2783" y="86"/>
                  </a:lnTo>
                  <a:cubicBezTo>
                    <a:pt x="2783" y="87"/>
                    <a:pt x="2783" y="87"/>
                    <a:pt x="2783" y="88"/>
                  </a:cubicBezTo>
                  <a:lnTo>
                    <a:pt x="2785" y="90"/>
                  </a:lnTo>
                  <a:lnTo>
                    <a:pt x="2771" y="98"/>
                  </a:lnTo>
                  <a:lnTo>
                    <a:pt x="2769" y="95"/>
                  </a:lnTo>
                  <a:lnTo>
                    <a:pt x="2770" y="96"/>
                  </a:lnTo>
                  <a:lnTo>
                    <a:pt x="2748" y="68"/>
                  </a:lnTo>
                  <a:lnTo>
                    <a:pt x="2749" y="70"/>
                  </a:lnTo>
                  <a:lnTo>
                    <a:pt x="2729" y="53"/>
                  </a:lnTo>
                  <a:lnTo>
                    <a:pt x="2740" y="41"/>
                  </a:lnTo>
                  <a:close/>
                  <a:moveTo>
                    <a:pt x="2806" y="135"/>
                  </a:moveTo>
                  <a:lnTo>
                    <a:pt x="2812" y="155"/>
                  </a:lnTo>
                  <a:cubicBezTo>
                    <a:pt x="2812" y="156"/>
                    <a:pt x="2812" y="156"/>
                    <a:pt x="2812" y="157"/>
                  </a:cubicBezTo>
                  <a:lnTo>
                    <a:pt x="2816" y="195"/>
                  </a:lnTo>
                  <a:lnTo>
                    <a:pt x="2801" y="196"/>
                  </a:lnTo>
                  <a:lnTo>
                    <a:pt x="2797" y="158"/>
                  </a:lnTo>
                  <a:lnTo>
                    <a:pt x="2797" y="160"/>
                  </a:lnTo>
                  <a:lnTo>
                    <a:pt x="2790" y="139"/>
                  </a:lnTo>
                  <a:lnTo>
                    <a:pt x="2806" y="135"/>
                  </a:lnTo>
                  <a:close/>
                  <a:moveTo>
                    <a:pt x="2816" y="195"/>
                  </a:moveTo>
                  <a:lnTo>
                    <a:pt x="2816" y="200"/>
                  </a:lnTo>
                  <a:lnTo>
                    <a:pt x="2800" y="200"/>
                  </a:lnTo>
                  <a:lnTo>
                    <a:pt x="2800" y="195"/>
                  </a:lnTo>
                  <a:lnTo>
                    <a:pt x="2816" y="195"/>
                  </a:lnTo>
                  <a:close/>
                  <a:moveTo>
                    <a:pt x="2816" y="248"/>
                  </a:moveTo>
                  <a:lnTo>
                    <a:pt x="2816" y="312"/>
                  </a:lnTo>
                  <a:lnTo>
                    <a:pt x="2800" y="312"/>
                  </a:lnTo>
                  <a:lnTo>
                    <a:pt x="2800" y="248"/>
                  </a:lnTo>
                  <a:lnTo>
                    <a:pt x="2816" y="248"/>
                  </a:lnTo>
                  <a:close/>
                  <a:moveTo>
                    <a:pt x="2816" y="360"/>
                  </a:moveTo>
                  <a:lnTo>
                    <a:pt x="2816" y="424"/>
                  </a:lnTo>
                  <a:lnTo>
                    <a:pt x="2800" y="424"/>
                  </a:lnTo>
                  <a:lnTo>
                    <a:pt x="2800" y="360"/>
                  </a:lnTo>
                  <a:lnTo>
                    <a:pt x="2816" y="360"/>
                  </a:lnTo>
                  <a:close/>
                  <a:moveTo>
                    <a:pt x="2816" y="472"/>
                  </a:moveTo>
                  <a:lnTo>
                    <a:pt x="2816" y="536"/>
                  </a:lnTo>
                  <a:lnTo>
                    <a:pt x="2800" y="536"/>
                  </a:lnTo>
                  <a:lnTo>
                    <a:pt x="2800" y="472"/>
                  </a:lnTo>
                  <a:lnTo>
                    <a:pt x="2816" y="472"/>
                  </a:lnTo>
                  <a:close/>
                  <a:moveTo>
                    <a:pt x="2816" y="584"/>
                  </a:moveTo>
                  <a:lnTo>
                    <a:pt x="2816" y="648"/>
                  </a:lnTo>
                  <a:lnTo>
                    <a:pt x="2800" y="648"/>
                  </a:lnTo>
                  <a:lnTo>
                    <a:pt x="2800" y="584"/>
                  </a:lnTo>
                  <a:lnTo>
                    <a:pt x="2816" y="584"/>
                  </a:lnTo>
                  <a:close/>
                  <a:moveTo>
                    <a:pt x="2816" y="696"/>
                  </a:moveTo>
                  <a:lnTo>
                    <a:pt x="2816" y="760"/>
                  </a:lnTo>
                  <a:lnTo>
                    <a:pt x="2800" y="760"/>
                  </a:lnTo>
                  <a:lnTo>
                    <a:pt x="2800" y="696"/>
                  </a:lnTo>
                  <a:lnTo>
                    <a:pt x="2816" y="696"/>
                  </a:lnTo>
                  <a:close/>
                  <a:moveTo>
                    <a:pt x="2816" y="808"/>
                  </a:moveTo>
                  <a:lnTo>
                    <a:pt x="2816" y="873"/>
                  </a:lnTo>
                  <a:lnTo>
                    <a:pt x="2800" y="873"/>
                  </a:lnTo>
                  <a:lnTo>
                    <a:pt x="2800" y="808"/>
                  </a:lnTo>
                  <a:lnTo>
                    <a:pt x="2816" y="808"/>
                  </a:lnTo>
                  <a:close/>
                  <a:moveTo>
                    <a:pt x="2816" y="921"/>
                  </a:moveTo>
                  <a:lnTo>
                    <a:pt x="2816" y="942"/>
                  </a:lnTo>
                  <a:lnTo>
                    <a:pt x="2800" y="942"/>
                  </a:lnTo>
                  <a:lnTo>
                    <a:pt x="2800" y="921"/>
                  </a:lnTo>
                  <a:lnTo>
                    <a:pt x="2816" y="921"/>
                  </a:lnTo>
                  <a:close/>
                  <a:moveTo>
                    <a:pt x="2816" y="943"/>
                  </a:moveTo>
                  <a:lnTo>
                    <a:pt x="2812" y="981"/>
                  </a:lnTo>
                  <a:cubicBezTo>
                    <a:pt x="2812" y="982"/>
                    <a:pt x="2812" y="982"/>
                    <a:pt x="2812" y="983"/>
                  </a:cubicBezTo>
                  <a:lnTo>
                    <a:pt x="2811" y="987"/>
                  </a:lnTo>
                  <a:lnTo>
                    <a:pt x="2796" y="982"/>
                  </a:lnTo>
                  <a:lnTo>
                    <a:pt x="2797" y="978"/>
                  </a:lnTo>
                  <a:lnTo>
                    <a:pt x="2797" y="980"/>
                  </a:lnTo>
                  <a:lnTo>
                    <a:pt x="2801" y="942"/>
                  </a:lnTo>
                  <a:lnTo>
                    <a:pt x="2816" y="943"/>
                  </a:lnTo>
                  <a:close/>
                  <a:moveTo>
                    <a:pt x="2793" y="1033"/>
                  </a:moveTo>
                  <a:lnTo>
                    <a:pt x="2783" y="1050"/>
                  </a:lnTo>
                  <a:cubicBezTo>
                    <a:pt x="2783" y="1051"/>
                    <a:pt x="2783" y="1051"/>
                    <a:pt x="2783" y="1051"/>
                  </a:cubicBezTo>
                  <a:lnTo>
                    <a:pt x="2761" y="1079"/>
                  </a:lnTo>
                  <a:cubicBezTo>
                    <a:pt x="2760" y="1080"/>
                    <a:pt x="2760" y="1080"/>
                    <a:pt x="2759" y="1081"/>
                  </a:cubicBezTo>
                  <a:lnTo>
                    <a:pt x="2753" y="1086"/>
                  </a:lnTo>
                  <a:lnTo>
                    <a:pt x="2743" y="1073"/>
                  </a:lnTo>
                  <a:lnTo>
                    <a:pt x="2750" y="1068"/>
                  </a:lnTo>
                  <a:lnTo>
                    <a:pt x="2748" y="1069"/>
                  </a:lnTo>
                  <a:lnTo>
                    <a:pt x="2770" y="1042"/>
                  </a:lnTo>
                  <a:lnTo>
                    <a:pt x="2769" y="1043"/>
                  </a:lnTo>
                  <a:lnTo>
                    <a:pt x="2779" y="1025"/>
                  </a:lnTo>
                  <a:lnTo>
                    <a:pt x="2793" y="1033"/>
                  </a:lnTo>
                  <a:close/>
                  <a:moveTo>
                    <a:pt x="2712" y="1114"/>
                  </a:moveTo>
                  <a:lnTo>
                    <a:pt x="2699" y="1120"/>
                  </a:lnTo>
                  <a:cubicBezTo>
                    <a:pt x="2699" y="1121"/>
                    <a:pt x="2698" y="1121"/>
                    <a:pt x="2698" y="1121"/>
                  </a:cubicBezTo>
                  <a:lnTo>
                    <a:pt x="2663" y="1132"/>
                  </a:lnTo>
                  <a:cubicBezTo>
                    <a:pt x="2662" y="1132"/>
                    <a:pt x="2662" y="1132"/>
                    <a:pt x="2661" y="1132"/>
                  </a:cubicBezTo>
                  <a:lnTo>
                    <a:pt x="2648" y="1134"/>
                  </a:lnTo>
                  <a:lnTo>
                    <a:pt x="2647" y="1118"/>
                  </a:lnTo>
                  <a:lnTo>
                    <a:pt x="2660" y="1116"/>
                  </a:lnTo>
                  <a:lnTo>
                    <a:pt x="2658" y="1117"/>
                  </a:lnTo>
                  <a:lnTo>
                    <a:pt x="2693" y="1106"/>
                  </a:lnTo>
                  <a:lnTo>
                    <a:pt x="2692" y="1106"/>
                  </a:lnTo>
                  <a:lnTo>
                    <a:pt x="2704" y="1099"/>
                  </a:lnTo>
                  <a:lnTo>
                    <a:pt x="2712" y="1114"/>
                  </a:lnTo>
                  <a:close/>
                  <a:moveTo>
                    <a:pt x="2600" y="1136"/>
                  </a:moveTo>
                  <a:lnTo>
                    <a:pt x="2536" y="1136"/>
                  </a:lnTo>
                  <a:lnTo>
                    <a:pt x="2536" y="1120"/>
                  </a:lnTo>
                  <a:lnTo>
                    <a:pt x="2600" y="1120"/>
                  </a:lnTo>
                  <a:lnTo>
                    <a:pt x="2600" y="1136"/>
                  </a:lnTo>
                  <a:close/>
                  <a:moveTo>
                    <a:pt x="2488" y="1136"/>
                  </a:moveTo>
                  <a:lnTo>
                    <a:pt x="2424" y="1136"/>
                  </a:lnTo>
                  <a:lnTo>
                    <a:pt x="2424" y="1120"/>
                  </a:lnTo>
                  <a:lnTo>
                    <a:pt x="2488" y="1120"/>
                  </a:lnTo>
                  <a:lnTo>
                    <a:pt x="2488" y="1136"/>
                  </a:lnTo>
                  <a:close/>
                  <a:moveTo>
                    <a:pt x="2375" y="1136"/>
                  </a:moveTo>
                  <a:lnTo>
                    <a:pt x="2311" y="1136"/>
                  </a:lnTo>
                  <a:lnTo>
                    <a:pt x="2311" y="1120"/>
                  </a:lnTo>
                  <a:lnTo>
                    <a:pt x="2375" y="1120"/>
                  </a:lnTo>
                  <a:lnTo>
                    <a:pt x="2375" y="1136"/>
                  </a:lnTo>
                  <a:close/>
                  <a:moveTo>
                    <a:pt x="2263" y="1136"/>
                  </a:moveTo>
                  <a:lnTo>
                    <a:pt x="2199" y="1136"/>
                  </a:lnTo>
                  <a:lnTo>
                    <a:pt x="2199" y="1120"/>
                  </a:lnTo>
                  <a:lnTo>
                    <a:pt x="2263" y="1120"/>
                  </a:lnTo>
                  <a:lnTo>
                    <a:pt x="2263" y="1136"/>
                  </a:lnTo>
                  <a:close/>
                  <a:moveTo>
                    <a:pt x="2151" y="1136"/>
                  </a:moveTo>
                  <a:lnTo>
                    <a:pt x="2087" y="1136"/>
                  </a:lnTo>
                  <a:lnTo>
                    <a:pt x="2087" y="1120"/>
                  </a:lnTo>
                  <a:lnTo>
                    <a:pt x="2151" y="1120"/>
                  </a:lnTo>
                  <a:lnTo>
                    <a:pt x="2151" y="1136"/>
                  </a:lnTo>
                  <a:close/>
                  <a:moveTo>
                    <a:pt x="2039" y="1136"/>
                  </a:moveTo>
                  <a:lnTo>
                    <a:pt x="1975" y="1136"/>
                  </a:lnTo>
                  <a:lnTo>
                    <a:pt x="1975" y="1120"/>
                  </a:lnTo>
                  <a:lnTo>
                    <a:pt x="2039" y="1120"/>
                  </a:lnTo>
                  <a:lnTo>
                    <a:pt x="2039" y="1136"/>
                  </a:lnTo>
                  <a:close/>
                  <a:moveTo>
                    <a:pt x="1927" y="1136"/>
                  </a:moveTo>
                  <a:lnTo>
                    <a:pt x="1863" y="1136"/>
                  </a:lnTo>
                  <a:lnTo>
                    <a:pt x="1863" y="1120"/>
                  </a:lnTo>
                  <a:lnTo>
                    <a:pt x="1927" y="1120"/>
                  </a:lnTo>
                  <a:lnTo>
                    <a:pt x="1927" y="1136"/>
                  </a:lnTo>
                  <a:close/>
                  <a:moveTo>
                    <a:pt x="1815" y="1136"/>
                  </a:moveTo>
                  <a:lnTo>
                    <a:pt x="1751" y="1136"/>
                  </a:lnTo>
                  <a:lnTo>
                    <a:pt x="1751" y="1120"/>
                  </a:lnTo>
                  <a:lnTo>
                    <a:pt x="1815" y="1120"/>
                  </a:lnTo>
                  <a:lnTo>
                    <a:pt x="1815" y="1136"/>
                  </a:lnTo>
                  <a:close/>
                  <a:moveTo>
                    <a:pt x="1703" y="1136"/>
                  </a:moveTo>
                  <a:lnTo>
                    <a:pt x="1639" y="1136"/>
                  </a:lnTo>
                  <a:lnTo>
                    <a:pt x="1639" y="1120"/>
                  </a:lnTo>
                  <a:lnTo>
                    <a:pt x="1703" y="1120"/>
                  </a:lnTo>
                  <a:lnTo>
                    <a:pt x="1703" y="1136"/>
                  </a:lnTo>
                  <a:close/>
                  <a:moveTo>
                    <a:pt x="1591" y="1136"/>
                  </a:moveTo>
                  <a:lnTo>
                    <a:pt x="1527" y="1136"/>
                  </a:lnTo>
                  <a:lnTo>
                    <a:pt x="1527" y="1120"/>
                  </a:lnTo>
                  <a:lnTo>
                    <a:pt x="1591" y="1120"/>
                  </a:lnTo>
                  <a:lnTo>
                    <a:pt x="1591" y="1136"/>
                  </a:lnTo>
                  <a:close/>
                  <a:moveTo>
                    <a:pt x="1479" y="1136"/>
                  </a:moveTo>
                  <a:lnTo>
                    <a:pt x="1415" y="1136"/>
                  </a:lnTo>
                  <a:lnTo>
                    <a:pt x="1415" y="1120"/>
                  </a:lnTo>
                  <a:lnTo>
                    <a:pt x="1479" y="1120"/>
                  </a:lnTo>
                  <a:lnTo>
                    <a:pt x="1479" y="1136"/>
                  </a:lnTo>
                  <a:close/>
                  <a:moveTo>
                    <a:pt x="1366" y="1136"/>
                  </a:moveTo>
                  <a:lnTo>
                    <a:pt x="1302" y="1136"/>
                  </a:lnTo>
                  <a:lnTo>
                    <a:pt x="1302" y="1120"/>
                  </a:lnTo>
                  <a:lnTo>
                    <a:pt x="1366" y="1120"/>
                  </a:lnTo>
                  <a:lnTo>
                    <a:pt x="1366" y="1136"/>
                  </a:lnTo>
                  <a:close/>
                  <a:moveTo>
                    <a:pt x="1254" y="1136"/>
                  </a:moveTo>
                  <a:lnTo>
                    <a:pt x="1190" y="1136"/>
                  </a:lnTo>
                  <a:lnTo>
                    <a:pt x="1190" y="1120"/>
                  </a:lnTo>
                  <a:lnTo>
                    <a:pt x="1254" y="1120"/>
                  </a:lnTo>
                  <a:lnTo>
                    <a:pt x="1254" y="1136"/>
                  </a:lnTo>
                  <a:close/>
                  <a:moveTo>
                    <a:pt x="1142" y="1136"/>
                  </a:moveTo>
                  <a:lnTo>
                    <a:pt x="1078" y="1136"/>
                  </a:lnTo>
                  <a:lnTo>
                    <a:pt x="1078" y="1120"/>
                  </a:lnTo>
                  <a:lnTo>
                    <a:pt x="1142" y="1120"/>
                  </a:lnTo>
                  <a:lnTo>
                    <a:pt x="1142" y="1136"/>
                  </a:lnTo>
                  <a:close/>
                  <a:moveTo>
                    <a:pt x="1030" y="1136"/>
                  </a:moveTo>
                  <a:lnTo>
                    <a:pt x="966" y="1136"/>
                  </a:lnTo>
                  <a:lnTo>
                    <a:pt x="966" y="1120"/>
                  </a:lnTo>
                  <a:lnTo>
                    <a:pt x="1030" y="1120"/>
                  </a:lnTo>
                  <a:lnTo>
                    <a:pt x="1030" y="1136"/>
                  </a:lnTo>
                  <a:close/>
                  <a:moveTo>
                    <a:pt x="918" y="1136"/>
                  </a:moveTo>
                  <a:lnTo>
                    <a:pt x="854" y="1136"/>
                  </a:lnTo>
                  <a:lnTo>
                    <a:pt x="854" y="1120"/>
                  </a:lnTo>
                  <a:lnTo>
                    <a:pt x="918" y="1120"/>
                  </a:lnTo>
                  <a:lnTo>
                    <a:pt x="918" y="1136"/>
                  </a:lnTo>
                  <a:close/>
                  <a:moveTo>
                    <a:pt x="806" y="1136"/>
                  </a:moveTo>
                  <a:lnTo>
                    <a:pt x="742" y="1136"/>
                  </a:lnTo>
                  <a:lnTo>
                    <a:pt x="742" y="1120"/>
                  </a:lnTo>
                  <a:lnTo>
                    <a:pt x="806" y="1120"/>
                  </a:lnTo>
                  <a:lnTo>
                    <a:pt x="806" y="1136"/>
                  </a:lnTo>
                  <a:close/>
                  <a:moveTo>
                    <a:pt x="694" y="1136"/>
                  </a:moveTo>
                  <a:lnTo>
                    <a:pt x="630" y="1136"/>
                  </a:lnTo>
                  <a:lnTo>
                    <a:pt x="630" y="1120"/>
                  </a:lnTo>
                  <a:lnTo>
                    <a:pt x="694" y="1120"/>
                  </a:lnTo>
                  <a:lnTo>
                    <a:pt x="694" y="1136"/>
                  </a:lnTo>
                  <a:close/>
                  <a:moveTo>
                    <a:pt x="582" y="1136"/>
                  </a:moveTo>
                  <a:lnTo>
                    <a:pt x="518" y="1136"/>
                  </a:lnTo>
                  <a:lnTo>
                    <a:pt x="518" y="1120"/>
                  </a:lnTo>
                  <a:lnTo>
                    <a:pt x="582" y="1120"/>
                  </a:lnTo>
                  <a:lnTo>
                    <a:pt x="582" y="1136"/>
                  </a:lnTo>
                  <a:close/>
                  <a:moveTo>
                    <a:pt x="470" y="1136"/>
                  </a:moveTo>
                  <a:lnTo>
                    <a:pt x="406" y="1136"/>
                  </a:lnTo>
                  <a:lnTo>
                    <a:pt x="406" y="1120"/>
                  </a:lnTo>
                  <a:lnTo>
                    <a:pt x="470" y="1120"/>
                  </a:lnTo>
                  <a:lnTo>
                    <a:pt x="470" y="1136"/>
                  </a:lnTo>
                  <a:close/>
                  <a:moveTo>
                    <a:pt x="357" y="1136"/>
                  </a:moveTo>
                  <a:lnTo>
                    <a:pt x="293" y="1136"/>
                  </a:lnTo>
                  <a:lnTo>
                    <a:pt x="293" y="1120"/>
                  </a:lnTo>
                  <a:lnTo>
                    <a:pt x="357" y="1120"/>
                  </a:lnTo>
                  <a:lnTo>
                    <a:pt x="357" y="1136"/>
                  </a:lnTo>
                  <a:close/>
                  <a:moveTo>
                    <a:pt x="245" y="1136"/>
                  </a:moveTo>
                  <a:lnTo>
                    <a:pt x="195" y="1136"/>
                  </a:lnTo>
                  <a:lnTo>
                    <a:pt x="195" y="1120"/>
                  </a:lnTo>
                  <a:lnTo>
                    <a:pt x="245" y="1120"/>
                  </a:lnTo>
                  <a:lnTo>
                    <a:pt x="245" y="1136"/>
                  </a:lnTo>
                  <a:close/>
                  <a:moveTo>
                    <a:pt x="195" y="1136"/>
                  </a:moveTo>
                  <a:lnTo>
                    <a:pt x="181" y="1135"/>
                  </a:lnTo>
                  <a:lnTo>
                    <a:pt x="182" y="1119"/>
                  </a:lnTo>
                  <a:lnTo>
                    <a:pt x="196" y="1120"/>
                  </a:lnTo>
                  <a:lnTo>
                    <a:pt x="195" y="1136"/>
                  </a:lnTo>
                  <a:close/>
                  <a:moveTo>
                    <a:pt x="132" y="1125"/>
                  </a:moveTo>
                  <a:lnTo>
                    <a:pt x="120" y="1121"/>
                  </a:lnTo>
                  <a:cubicBezTo>
                    <a:pt x="120" y="1121"/>
                    <a:pt x="119" y="1121"/>
                    <a:pt x="119" y="1120"/>
                  </a:cubicBezTo>
                  <a:lnTo>
                    <a:pt x="88" y="1103"/>
                  </a:lnTo>
                  <a:cubicBezTo>
                    <a:pt x="87" y="1103"/>
                    <a:pt x="87" y="1103"/>
                    <a:pt x="87" y="1103"/>
                  </a:cubicBezTo>
                  <a:lnTo>
                    <a:pt x="74" y="1093"/>
                  </a:lnTo>
                  <a:lnTo>
                    <a:pt x="84" y="1080"/>
                  </a:lnTo>
                  <a:lnTo>
                    <a:pt x="96" y="1090"/>
                  </a:lnTo>
                  <a:lnTo>
                    <a:pt x="95" y="1089"/>
                  </a:lnTo>
                  <a:lnTo>
                    <a:pt x="126" y="1106"/>
                  </a:lnTo>
                  <a:lnTo>
                    <a:pt x="125" y="1106"/>
                  </a:lnTo>
                  <a:lnTo>
                    <a:pt x="137" y="1110"/>
                  </a:lnTo>
                  <a:lnTo>
                    <a:pt x="132" y="1125"/>
                  </a:lnTo>
                  <a:close/>
                  <a:moveTo>
                    <a:pt x="39" y="1058"/>
                  </a:moveTo>
                  <a:lnTo>
                    <a:pt x="34" y="1052"/>
                  </a:lnTo>
                  <a:cubicBezTo>
                    <a:pt x="34" y="1051"/>
                    <a:pt x="34" y="1051"/>
                    <a:pt x="33" y="1050"/>
                  </a:cubicBezTo>
                  <a:lnTo>
                    <a:pt x="16" y="1019"/>
                  </a:lnTo>
                  <a:cubicBezTo>
                    <a:pt x="16" y="1019"/>
                    <a:pt x="16" y="1018"/>
                    <a:pt x="16" y="1018"/>
                  </a:cubicBezTo>
                  <a:lnTo>
                    <a:pt x="10" y="998"/>
                  </a:lnTo>
                  <a:lnTo>
                    <a:pt x="25" y="993"/>
                  </a:lnTo>
                  <a:lnTo>
                    <a:pt x="31" y="1013"/>
                  </a:lnTo>
                  <a:lnTo>
                    <a:pt x="30" y="1012"/>
                  </a:lnTo>
                  <a:lnTo>
                    <a:pt x="47" y="1043"/>
                  </a:lnTo>
                  <a:lnTo>
                    <a:pt x="47" y="1041"/>
                  </a:lnTo>
                  <a:lnTo>
                    <a:pt x="52" y="1047"/>
                  </a:lnTo>
                  <a:lnTo>
                    <a:pt x="39" y="1058"/>
                  </a:lnTo>
                  <a:close/>
                  <a:moveTo>
                    <a:pt x="1" y="949"/>
                  </a:moveTo>
                  <a:lnTo>
                    <a:pt x="1" y="943"/>
                  </a:lnTo>
                  <a:lnTo>
                    <a:pt x="16" y="942"/>
                  </a:lnTo>
                  <a:lnTo>
                    <a:pt x="17" y="947"/>
                  </a:lnTo>
                  <a:lnTo>
                    <a:pt x="1" y="949"/>
                  </a:lnTo>
                  <a:close/>
                </a:path>
              </a:pathLst>
            </a:custGeom>
            <a:solidFill>
              <a:srgbClr val="f69240"/>
            </a:solidFill>
            <a:ln w="0">
              <a:solidFill>
                <a:srgbClr val="f6924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7" name="Rectangle 52"/>
            <p:cNvSpPr/>
            <p:nvPr/>
          </p:nvSpPr>
          <p:spPr>
            <a:xfrm>
              <a:off x="1101240" y="5649840"/>
              <a:ext cx="52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TURN</a:t>
              </a:r>
              <a:endParaRPr b="0" lang="en-US" sz="1000" spc="-1" strike="noStrike">
                <a:solidFill>
                  <a:srgbClr val="000000"/>
                </a:solidFill>
                <a:latin typeface="Times New Roman"/>
              </a:endParaRPr>
            </a:p>
          </p:txBody>
        </p:sp>
        <p:sp>
          <p:nvSpPr>
            <p:cNvPr id="518" name="Freeform 53"/>
            <p:cNvSpPr/>
            <p:nvPr/>
          </p:nvSpPr>
          <p:spPr>
            <a:xfrm>
              <a:off x="4363920" y="2962440"/>
              <a:ext cx="190440" cy="233280"/>
            </a:xfrm>
            <a:custGeom>
              <a:avLst/>
              <a:gdLst>
                <a:gd name="textAreaLeft" fmla="*/ 0 w 190440"/>
                <a:gd name="textAreaRight" fmla="*/ 190800 w 190440"/>
                <a:gd name="textAreaTop" fmla="*/ 0 h 233280"/>
                <a:gd name="textAreaBottom" fmla="*/ 233640 h 233280"/>
              </a:gdLst>
              <a:ahLst/>
              <a:rect l="textAreaLeft" t="textAreaTop" r="textAreaRight" b="textAreaBottom"/>
              <a:pathLst>
                <a:path w="120" h="147">
                  <a:moveTo>
                    <a:pt x="0" y="55"/>
                  </a:moveTo>
                  <a:lnTo>
                    <a:pt x="30" y="55"/>
                  </a:lnTo>
                  <a:lnTo>
                    <a:pt x="30" y="147"/>
                  </a:lnTo>
                  <a:lnTo>
                    <a:pt x="90" y="147"/>
                  </a:lnTo>
                  <a:lnTo>
                    <a:pt x="90" y="55"/>
                  </a:lnTo>
                  <a:lnTo>
                    <a:pt x="120" y="55"/>
                  </a:lnTo>
                  <a:lnTo>
                    <a:pt x="60" y="0"/>
                  </a:lnTo>
                  <a:lnTo>
                    <a:pt x="0" y="55"/>
                  </a:lnTo>
                  <a:close/>
                </a:path>
              </a:pathLst>
            </a:custGeom>
            <a:solidFill>
              <a:srgbClr val="f7964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9" name="Freeform 54"/>
            <p:cNvSpPr/>
            <p:nvPr/>
          </p:nvSpPr>
          <p:spPr>
            <a:xfrm>
              <a:off x="6670800" y="2913120"/>
              <a:ext cx="182520" cy="258840"/>
            </a:xfrm>
            <a:custGeom>
              <a:avLst/>
              <a:gdLst>
                <a:gd name="textAreaLeft" fmla="*/ 0 w 182520"/>
                <a:gd name="textAreaRight" fmla="*/ 182880 w 182520"/>
                <a:gd name="textAreaTop" fmla="*/ 0 h 258840"/>
                <a:gd name="textAreaBottom" fmla="*/ 259200 h 258840"/>
              </a:gdLst>
              <a:ahLst/>
              <a:rect l="textAreaLeft" t="textAreaTop" r="textAreaRight" b="textAreaBottom"/>
              <a:pathLst>
                <a:path w="115" h="163">
                  <a:moveTo>
                    <a:pt x="0" y="109"/>
                  </a:moveTo>
                  <a:lnTo>
                    <a:pt x="29" y="109"/>
                  </a:lnTo>
                  <a:lnTo>
                    <a:pt x="29" y="0"/>
                  </a:lnTo>
                  <a:lnTo>
                    <a:pt x="86" y="0"/>
                  </a:lnTo>
                  <a:lnTo>
                    <a:pt x="86" y="109"/>
                  </a:lnTo>
                  <a:lnTo>
                    <a:pt x="115" y="109"/>
                  </a:lnTo>
                  <a:lnTo>
                    <a:pt x="58" y="163"/>
                  </a:lnTo>
                  <a:lnTo>
                    <a:pt x="0" y="109"/>
                  </a:lnTo>
                  <a:close/>
                </a:path>
              </a:pathLst>
            </a:custGeom>
            <a:solidFill>
              <a:srgbClr val="f7964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0" name="Freeform 55"/>
            <p:cNvSpPr/>
            <p:nvPr/>
          </p:nvSpPr>
          <p:spPr>
            <a:xfrm>
              <a:off x="7724880" y="2001960"/>
              <a:ext cx="190440" cy="249120"/>
            </a:xfrm>
            <a:custGeom>
              <a:avLst/>
              <a:gdLst>
                <a:gd name="textAreaLeft" fmla="*/ 0 w 190440"/>
                <a:gd name="textAreaRight" fmla="*/ 190800 w 190440"/>
                <a:gd name="textAreaTop" fmla="*/ 0 h 249120"/>
                <a:gd name="textAreaBottom" fmla="*/ 249480 h 249120"/>
              </a:gdLst>
              <a:ahLst/>
              <a:rect l="textAreaLeft" t="textAreaTop" r="textAreaRight" b="textAreaBottom"/>
              <a:pathLst>
                <a:path w="120" h="157">
                  <a:moveTo>
                    <a:pt x="0" y="101"/>
                  </a:moveTo>
                  <a:lnTo>
                    <a:pt x="30" y="101"/>
                  </a:lnTo>
                  <a:lnTo>
                    <a:pt x="30" y="0"/>
                  </a:lnTo>
                  <a:lnTo>
                    <a:pt x="90" y="0"/>
                  </a:lnTo>
                  <a:lnTo>
                    <a:pt x="90" y="101"/>
                  </a:lnTo>
                  <a:lnTo>
                    <a:pt x="120" y="101"/>
                  </a:lnTo>
                  <a:lnTo>
                    <a:pt x="60" y="157"/>
                  </a:lnTo>
                  <a:lnTo>
                    <a:pt x="0" y="101"/>
                  </a:lnTo>
                  <a:close/>
                </a:path>
              </a:pathLst>
            </a:custGeom>
            <a:solidFill>
              <a:srgbClr val="f7964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1" name="Freeform 56"/>
            <p:cNvSpPr/>
            <p:nvPr/>
          </p:nvSpPr>
          <p:spPr>
            <a:xfrm>
              <a:off x="2376360" y="2986200"/>
              <a:ext cx="181080" cy="1612800"/>
            </a:xfrm>
            <a:custGeom>
              <a:avLst/>
              <a:gdLst>
                <a:gd name="textAreaLeft" fmla="*/ 0 w 181080"/>
                <a:gd name="textAreaRight" fmla="*/ 181440 w 181080"/>
                <a:gd name="textAreaTop" fmla="*/ 0 h 1612800"/>
                <a:gd name="textAreaBottom" fmla="*/ 1613160 h 1612800"/>
              </a:gdLst>
              <a:ahLst/>
              <a:rect l="textAreaLeft" t="textAreaTop" r="textAreaRight" b="textAreaBottom"/>
              <a:pathLst>
                <a:path w="114" h="1016">
                  <a:moveTo>
                    <a:pt x="0" y="963"/>
                  </a:moveTo>
                  <a:lnTo>
                    <a:pt x="28" y="963"/>
                  </a:lnTo>
                  <a:lnTo>
                    <a:pt x="28" y="0"/>
                  </a:lnTo>
                  <a:lnTo>
                    <a:pt x="86" y="0"/>
                  </a:lnTo>
                  <a:lnTo>
                    <a:pt x="86" y="963"/>
                  </a:lnTo>
                  <a:lnTo>
                    <a:pt x="114" y="963"/>
                  </a:lnTo>
                  <a:lnTo>
                    <a:pt x="57" y="1016"/>
                  </a:lnTo>
                  <a:lnTo>
                    <a:pt x="0" y="963"/>
                  </a:lnTo>
                  <a:close/>
                </a:path>
              </a:pathLst>
            </a:custGeom>
            <a:solidFill>
              <a:srgbClr val="f7964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2" name="Rectangle 57"/>
            <p:cNvSpPr/>
            <p:nvPr/>
          </p:nvSpPr>
          <p:spPr>
            <a:xfrm>
              <a:off x="3249720" y="5349960"/>
              <a:ext cx="85680" cy="523800"/>
            </a:xfrm>
            <a:prstGeom prst="rect">
              <a:avLst/>
            </a:prstGeom>
            <a:solidFill>
              <a:srgbClr val="f796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Freeform 58"/>
            <p:cNvSpPr/>
            <p:nvPr/>
          </p:nvSpPr>
          <p:spPr>
            <a:xfrm>
              <a:off x="2100240" y="5745240"/>
              <a:ext cx="1200240" cy="169920"/>
            </a:xfrm>
            <a:custGeom>
              <a:avLst/>
              <a:gdLst>
                <a:gd name="textAreaLeft" fmla="*/ 0 w 1200240"/>
                <a:gd name="textAreaRight" fmla="*/ 1200600 w 1200240"/>
                <a:gd name="textAreaTop" fmla="*/ 0 h 169920"/>
                <a:gd name="textAreaBottom" fmla="*/ 170280 h 169920"/>
              </a:gdLst>
              <a:ahLst/>
              <a:rect l="textAreaLeft" t="textAreaTop" r="textAreaRight" b="textAreaBottom"/>
              <a:pathLst>
                <a:path w="756" h="107">
                  <a:moveTo>
                    <a:pt x="756" y="27"/>
                  </a:moveTo>
                  <a:lnTo>
                    <a:pt x="57" y="27"/>
                  </a:lnTo>
                  <a:lnTo>
                    <a:pt x="57" y="0"/>
                  </a:lnTo>
                  <a:lnTo>
                    <a:pt x="0" y="53"/>
                  </a:lnTo>
                  <a:lnTo>
                    <a:pt x="57" y="107"/>
                  </a:lnTo>
                  <a:lnTo>
                    <a:pt x="57" y="80"/>
                  </a:lnTo>
                  <a:lnTo>
                    <a:pt x="756" y="80"/>
                  </a:lnTo>
                  <a:lnTo>
                    <a:pt x="756" y="27"/>
                  </a:lnTo>
                  <a:close/>
                </a:path>
              </a:pathLst>
            </a:custGeom>
            <a:solidFill>
              <a:srgbClr val="f7964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4" name="Rectangle 59"/>
            <p:cNvSpPr/>
            <p:nvPr/>
          </p:nvSpPr>
          <p:spPr>
            <a:xfrm>
              <a:off x="1312920" y="4106880"/>
              <a:ext cx="6489720" cy="104760"/>
            </a:xfrm>
            <a:prstGeom prst="rect">
              <a:avLst/>
            </a:prstGeom>
            <a:solidFill>
              <a:srgbClr val="f796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Rectangle 60"/>
            <p:cNvSpPr/>
            <p:nvPr/>
          </p:nvSpPr>
          <p:spPr>
            <a:xfrm>
              <a:off x="7716960" y="3679920"/>
              <a:ext cx="85680" cy="507960"/>
            </a:xfrm>
            <a:prstGeom prst="rect">
              <a:avLst/>
            </a:prstGeom>
            <a:solidFill>
              <a:srgbClr val="f796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Freeform 61"/>
            <p:cNvSpPr/>
            <p:nvPr/>
          </p:nvSpPr>
          <p:spPr>
            <a:xfrm>
              <a:off x="7147080" y="2381400"/>
              <a:ext cx="1036440" cy="419040"/>
            </a:xfrm>
            <a:custGeom>
              <a:avLst/>
              <a:gdLst>
                <a:gd name="textAreaLeft" fmla="*/ 0 w 1036440"/>
                <a:gd name="textAreaRight" fmla="*/ 1036800 w 1036440"/>
                <a:gd name="textAreaTop" fmla="*/ 0 h 419040"/>
                <a:gd name="textAreaBottom" fmla="*/ 419400 h 419040"/>
              </a:gdLst>
              <a:ahLst/>
              <a:rect l="textAreaLeft" t="textAreaTop" r="textAreaRight" b="textAreaBottom"/>
              <a:pathLst>
                <a:path w="1920" h="832">
                  <a:moveTo>
                    <a:pt x="0" y="139"/>
                  </a:moveTo>
                  <a:cubicBezTo>
                    <a:pt x="0" y="63"/>
                    <a:pt x="63" y="0"/>
                    <a:pt x="139" y="0"/>
                  </a:cubicBezTo>
                  <a:cubicBezTo>
                    <a:pt x="139" y="0"/>
                    <a:pt x="139" y="0"/>
                    <a:pt x="139" y="0"/>
                  </a:cubicBezTo>
                  <a:lnTo>
                    <a:pt x="139" y="0"/>
                  </a:lnTo>
                  <a:lnTo>
                    <a:pt x="1782" y="0"/>
                  </a:lnTo>
                  <a:lnTo>
                    <a:pt x="1782" y="0"/>
                  </a:lnTo>
                  <a:cubicBezTo>
                    <a:pt x="1858" y="0"/>
                    <a:pt x="1920" y="63"/>
                    <a:pt x="1920" y="139"/>
                  </a:cubicBezTo>
                  <a:cubicBezTo>
                    <a:pt x="1920" y="139"/>
                    <a:pt x="1920" y="139"/>
                    <a:pt x="1920" y="139"/>
                  </a:cubicBezTo>
                  <a:lnTo>
                    <a:pt x="1920" y="139"/>
                  </a:lnTo>
                  <a:lnTo>
                    <a:pt x="1920" y="694"/>
                  </a:lnTo>
                  <a:lnTo>
                    <a:pt x="1920" y="694"/>
                  </a:lnTo>
                  <a:cubicBezTo>
                    <a:pt x="1920" y="770"/>
                    <a:pt x="1858" y="832"/>
                    <a:pt x="1782" y="832"/>
                  </a:cubicBezTo>
                  <a:cubicBezTo>
                    <a:pt x="1782" y="832"/>
                    <a:pt x="1782" y="832"/>
                    <a:pt x="1782" y="832"/>
                  </a:cubicBezTo>
                  <a:lnTo>
                    <a:pt x="1782"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7" name="Rectangle 62"/>
            <p:cNvSpPr/>
            <p:nvPr/>
          </p:nvSpPr>
          <p:spPr>
            <a:xfrm>
              <a:off x="7350840" y="2482920"/>
              <a:ext cx="16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a:t>
              </a:r>
              <a:endParaRPr b="0" lang="en-US" sz="800" spc="-1" strike="noStrike">
                <a:solidFill>
                  <a:srgbClr val="000000"/>
                </a:solidFill>
                <a:latin typeface="Times New Roman"/>
              </a:endParaRPr>
            </a:p>
          </p:txBody>
        </p:sp>
        <p:sp>
          <p:nvSpPr>
            <p:cNvPr id="528" name="Rectangle 63"/>
            <p:cNvSpPr/>
            <p:nvPr/>
          </p:nvSpPr>
          <p:spPr>
            <a:xfrm>
              <a:off x="7521120" y="2482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0" lang="en-US" sz="800" spc="-1" strike="noStrike">
                <a:solidFill>
                  <a:srgbClr val="000000"/>
                </a:solidFill>
                <a:latin typeface="Times New Roman"/>
              </a:endParaRPr>
            </a:p>
          </p:txBody>
        </p:sp>
        <p:sp>
          <p:nvSpPr>
            <p:cNvPr id="529" name="Rectangle 64"/>
            <p:cNvSpPr/>
            <p:nvPr/>
          </p:nvSpPr>
          <p:spPr>
            <a:xfrm>
              <a:off x="7593120" y="2482920"/>
              <a:ext cx="48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hipment </a:t>
              </a:r>
              <a:endParaRPr b="0" lang="en-US" sz="800" spc="-1" strike="noStrike">
                <a:solidFill>
                  <a:srgbClr val="000000"/>
                </a:solidFill>
                <a:latin typeface="Times New Roman"/>
              </a:endParaRPr>
            </a:p>
          </p:txBody>
        </p:sp>
        <p:sp>
          <p:nvSpPr>
            <p:cNvPr id="530" name="Rectangle 65"/>
            <p:cNvSpPr/>
            <p:nvPr/>
          </p:nvSpPr>
          <p:spPr>
            <a:xfrm>
              <a:off x="7527600" y="2603520"/>
              <a:ext cx="35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inance</a:t>
              </a:r>
              <a:endParaRPr b="0" lang="en-US" sz="800" spc="-1" strike="noStrike">
                <a:solidFill>
                  <a:srgbClr val="000000"/>
                </a:solidFill>
                <a:latin typeface="Times New Roman"/>
              </a:endParaRPr>
            </a:p>
          </p:txBody>
        </p:sp>
        <p:sp>
          <p:nvSpPr>
            <p:cNvPr id="531" name="Freeform 66"/>
            <p:cNvSpPr/>
            <p:nvPr/>
          </p:nvSpPr>
          <p:spPr>
            <a:xfrm>
              <a:off x="2178000" y="3122640"/>
              <a:ext cx="1036800" cy="419040"/>
            </a:xfrm>
            <a:custGeom>
              <a:avLst/>
              <a:gdLst>
                <a:gd name="textAreaLeft" fmla="*/ 0 w 1036800"/>
                <a:gd name="textAreaRight" fmla="*/ 1037160 w 1036800"/>
                <a:gd name="textAreaTop" fmla="*/ 0 h 419040"/>
                <a:gd name="textAreaBottom" fmla="*/ 419400 h 419040"/>
              </a:gdLst>
              <a:ahLst/>
              <a:rect l="textAreaLeft" t="textAreaTop" r="textAreaRight" b="textAreaBottom"/>
              <a:pathLst>
                <a:path w="1920" h="832">
                  <a:moveTo>
                    <a:pt x="0" y="139"/>
                  </a:moveTo>
                  <a:cubicBezTo>
                    <a:pt x="0" y="63"/>
                    <a:pt x="63" y="0"/>
                    <a:pt x="139" y="0"/>
                  </a:cubicBezTo>
                  <a:cubicBezTo>
                    <a:pt x="139" y="0"/>
                    <a:pt x="139" y="0"/>
                    <a:pt x="139" y="0"/>
                  </a:cubicBezTo>
                  <a:lnTo>
                    <a:pt x="139" y="0"/>
                  </a:lnTo>
                  <a:lnTo>
                    <a:pt x="1782" y="0"/>
                  </a:lnTo>
                  <a:lnTo>
                    <a:pt x="1782" y="0"/>
                  </a:lnTo>
                  <a:cubicBezTo>
                    <a:pt x="1858" y="0"/>
                    <a:pt x="1920" y="63"/>
                    <a:pt x="1920" y="139"/>
                  </a:cubicBezTo>
                  <a:cubicBezTo>
                    <a:pt x="1920" y="139"/>
                    <a:pt x="1920" y="139"/>
                    <a:pt x="1920" y="139"/>
                  </a:cubicBezTo>
                  <a:lnTo>
                    <a:pt x="1920" y="139"/>
                  </a:lnTo>
                  <a:lnTo>
                    <a:pt x="1920" y="694"/>
                  </a:lnTo>
                  <a:lnTo>
                    <a:pt x="1920" y="694"/>
                  </a:lnTo>
                  <a:cubicBezTo>
                    <a:pt x="1920" y="770"/>
                    <a:pt x="1858" y="832"/>
                    <a:pt x="1782" y="832"/>
                  </a:cubicBezTo>
                  <a:cubicBezTo>
                    <a:pt x="1782" y="832"/>
                    <a:pt x="1782" y="832"/>
                    <a:pt x="1782" y="832"/>
                  </a:cubicBezTo>
                  <a:lnTo>
                    <a:pt x="1782"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2" name="Rectangle 67"/>
            <p:cNvSpPr/>
            <p:nvPr/>
          </p:nvSpPr>
          <p:spPr>
            <a:xfrm>
              <a:off x="2358360" y="3220920"/>
              <a:ext cx="22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ost</a:t>
              </a:r>
              <a:endParaRPr b="0" lang="en-US" sz="800" spc="-1" strike="noStrike">
                <a:solidFill>
                  <a:srgbClr val="000000"/>
                </a:solidFill>
                <a:latin typeface="Times New Roman"/>
              </a:endParaRPr>
            </a:p>
          </p:txBody>
        </p:sp>
        <p:sp>
          <p:nvSpPr>
            <p:cNvPr id="533" name="Rectangle 68"/>
            <p:cNvSpPr/>
            <p:nvPr/>
          </p:nvSpPr>
          <p:spPr>
            <a:xfrm>
              <a:off x="2585520" y="3220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0" lang="en-US" sz="800" spc="-1" strike="noStrike">
                <a:solidFill>
                  <a:srgbClr val="000000"/>
                </a:solidFill>
                <a:latin typeface="Times New Roman"/>
              </a:endParaRPr>
            </a:p>
          </p:txBody>
        </p:sp>
        <p:sp>
          <p:nvSpPr>
            <p:cNvPr id="534" name="Rectangle 69"/>
            <p:cNvSpPr/>
            <p:nvPr/>
          </p:nvSpPr>
          <p:spPr>
            <a:xfrm>
              <a:off x="2658960" y="3220920"/>
              <a:ext cx="48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hipment </a:t>
              </a:r>
              <a:endParaRPr b="0" lang="en-US" sz="800" spc="-1" strike="noStrike">
                <a:solidFill>
                  <a:srgbClr val="000000"/>
                </a:solidFill>
                <a:latin typeface="Times New Roman"/>
              </a:endParaRPr>
            </a:p>
          </p:txBody>
        </p:sp>
        <p:sp>
          <p:nvSpPr>
            <p:cNvPr id="535" name="Rectangle 70"/>
            <p:cNvSpPr/>
            <p:nvPr/>
          </p:nvSpPr>
          <p:spPr>
            <a:xfrm>
              <a:off x="2558880" y="3343320"/>
              <a:ext cx="35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inance</a:t>
              </a:r>
              <a:endParaRPr b="0" lang="en-US" sz="800" spc="-1" strike="noStrike">
                <a:solidFill>
                  <a:srgbClr val="000000"/>
                </a:solidFill>
                <a:latin typeface="Times New Roman"/>
              </a:endParaRPr>
            </a:p>
          </p:txBody>
        </p:sp>
        <p:sp>
          <p:nvSpPr>
            <p:cNvPr id="536" name="Freeform 71"/>
            <p:cNvSpPr/>
            <p:nvPr/>
          </p:nvSpPr>
          <p:spPr>
            <a:xfrm>
              <a:off x="5332320" y="4938840"/>
              <a:ext cx="1044720" cy="419040"/>
            </a:xfrm>
            <a:custGeom>
              <a:avLst/>
              <a:gdLst>
                <a:gd name="textAreaLeft" fmla="*/ 0 w 1044720"/>
                <a:gd name="textAreaRight" fmla="*/ 1045080 w 1044720"/>
                <a:gd name="textAreaTop" fmla="*/ 0 h 419040"/>
                <a:gd name="textAreaBottom" fmla="*/ 419400 h 419040"/>
              </a:gdLst>
              <a:ahLst/>
              <a:rect l="textAreaLeft" t="textAreaTop" r="textAreaRight" b="textAreaBottom"/>
              <a:pathLst>
                <a:path w="1936" h="832">
                  <a:moveTo>
                    <a:pt x="0" y="139"/>
                  </a:moveTo>
                  <a:cubicBezTo>
                    <a:pt x="0" y="63"/>
                    <a:pt x="63" y="0"/>
                    <a:pt x="139" y="0"/>
                  </a:cubicBezTo>
                  <a:cubicBezTo>
                    <a:pt x="139" y="0"/>
                    <a:pt x="139" y="0"/>
                    <a:pt x="139" y="0"/>
                  </a:cubicBezTo>
                  <a:lnTo>
                    <a:pt x="139" y="0"/>
                  </a:lnTo>
                  <a:lnTo>
                    <a:pt x="1798" y="0"/>
                  </a:lnTo>
                  <a:lnTo>
                    <a:pt x="1798" y="0"/>
                  </a:lnTo>
                  <a:cubicBezTo>
                    <a:pt x="1874" y="0"/>
                    <a:pt x="1936" y="63"/>
                    <a:pt x="1936" y="139"/>
                  </a:cubicBezTo>
                  <a:cubicBezTo>
                    <a:pt x="1936" y="139"/>
                    <a:pt x="1936" y="139"/>
                    <a:pt x="1936" y="139"/>
                  </a:cubicBezTo>
                  <a:lnTo>
                    <a:pt x="1936" y="139"/>
                  </a:lnTo>
                  <a:lnTo>
                    <a:pt x="1936" y="694"/>
                  </a:lnTo>
                  <a:lnTo>
                    <a:pt x="1936" y="694"/>
                  </a:lnTo>
                  <a:cubicBezTo>
                    <a:pt x="1936" y="770"/>
                    <a:pt x="1874" y="832"/>
                    <a:pt x="1798" y="832"/>
                  </a:cubicBezTo>
                  <a:cubicBezTo>
                    <a:pt x="1798" y="832"/>
                    <a:pt x="1798" y="832"/>
                    <a:pt x="1798" y="832"/>
                  </a:cubicBezTo>
                  <a:lnTo>
                    <a:pt x="1798"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7" name="Rectangle 72"/>
            <p:cNvSpPr/>
            <p:nvPr/>
          </p:nvSpPr>
          <p:spPr>
            <a:xfrm>
              <a:off x="5717880" y="5035680"/>
              <a:ext cx="42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verse </a:t>
              </a:r>
              <a:endParaRPr b="0" lang="en-US" sz="800" spc="-1" strike="noStrike">
                <a:solidFill>
                  <a:srgbClr val="000000"/>
                </a:solidFill>
                <a:latin typeface="Times New Roman"/>
              </a:endParaRPr>
            </a:p>
          </p:txBody>
        </p:sp>
        <p:sp>
          <p:nvSpPr>
            <p:cNvPr id="538" name="Rectangle 73"/>
            <p:cNvSpPr/>
            <p:nvPr/>
          </p:nvSpPr>
          <p:spPr>
            <a:xfrm>
              <a:off x="5691240" y="515772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toring</a:t>
              </a:r>
              <a:endParaRPr b="0" lang="en-US" sz="800" spc="-1" strike="noStrike">
                <a:solidFill>
                  <a:srgbClr val="000000"/>
                </a:solidFill>
                <a:latin typeface="Times New Roman"/>
              </a:endParaRPr>
            </a:p>
          </p:txBody>
        </p:sp>
        <p:sp>
          <p:nvSpPr>
            <p:cNvPr id="539" name="Freeform 74"/>
            <p:cNvSpPr/>
            <p:nvPr/>
          </p:nvSpPr>
          <p:spPr>
            <a:xfrm>
              <a:off x="3413160" y="1525680"/>
              <a:ext cx="1036440" cy="419040"/>
            </a:xfrm>
            <a:custGeom>
              <a:avLst/>
              <a:gdLst>
                <a:gd name="textAreaLeft" fmla="*/ 0 w 1036440"/>
                <a:gd name="textAreaRight" fmla="*/ 1036800 w 1036440"/>
                <a:gd name="textAreaTop" fmla="*/ 0 h 419040"/>
                <a:gd name="textAreaBottom" fmla="*/ 419400 h 419040"/>
              </a:gdLst>
              <a:ahLst/>
              <a:rect l="textAreaLeft" t="textAreaTop" r="textAreaRight" b="textAreaBottom"/>
              <a:pathLst>
                <a:path w="1920" h="832">
                  <a:moveTo>
                    <a:pt x="0" y="139"/>
                  </a:moveTo>
                  <a:cubicBezTo>
                    <a:pt x="0" y="63"/>
                    <a:pt x="63" y="0"/>
                    <a:pt x="139" y="0"/>
                  </a:cubicBezTo>
                  <a:cubicBezTo>
                    <a:pt x="139" y="0"/>
                    <a:pt x="139" y="0"/>
                    <a:pt x="139" y="0"/>
                  </a:cubicBezTo>
                  <a:lnTo>
                    <a:pt x="139" y="0"/>
                  </a:lnTo>
                  <a:lnTo>
                    <a:pt x="1782" y="0"/>
                  </a:lnTo>
                  <a:lnTo>
                    <a:pt x="1782" y="0"/>
                  </a:lnTo>
                  <a:cubicBezTo>
                    <a:pt x="1858" y="0"/>
                    <a:pt x="1920" y="63"/>
                    <a:pt x="1920" y="139"/>
                  </a:cubicBezTo>
                  <a:cubicBezTo>
                    <a:pt x="1920" y="139"/>
                    <a:pt x="1920" y="139"/>
                    <a:pt x="1920" y="139"/>
                  </a:cubicBezTo>
                  <a:lnTo>
                    <a:pt x="1920" y="139"/>
                  </a:lnTo>
                  <a:lnTo>
                    <a:pt x="1920" y="694"/>
                  </a:lnTo>
                  <a:lnTo>
                    <a:pt x="1920" y="694"/>
                  </a:lnTo>
                  <a:cubicBezTo>
                    <a:pt x="1920" y="770"/>
                    <a:pt x="1858" y="832"/>
                    <a:pt x="1782" y="832"/>
                  </a:cubicBezTo>
                  <a:cubicBezTo>
                    <a:pt x="1782" y="832"/>
                    <a:pt x="1782" y="832"/>
                    <a:pt x="1782" y="832"/>
                  </a:cubicBezTo>
                  <a:lnTo>
                    <a:pt x="1782"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0" name="Rectangle 75"/>
            <p:cNvSpPr/>
            <p:nvPr/>
          </p:nvSpPr>
          <p:spPr>
            <a:xfrm>
              <a:off x="3659400" y="1682640"/>
              <a:ext cx="674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uyer finance</a:t>
              </a:r>
              <a:endParaRPr b="0" lang="en-US" sz="800" spc="-1" strike="noStrike">
                <a:solidFill>
                  <a:srgbClr val="000000"/>
                </a:solidFill>
                <a:latin typeface="Times New Roman"/>
              </a:endParaRPr>
            </a:p>
          </p:txBody>
        </p:sp>
        <p:sp>
          <p:nvSpPr>
            <p:cNvPr id="541" name="Freeform 76"/>
            <p:cNvSpPr/>
            <p:nvPr/>
          </p:nvSpPr>
          <p:spPr>
            <a:xfrm>
              <a:off x="2670120" y="4865760"/>
              <a:ext cx="1036800" cy="419040"/>
            </a:xfrm>
            <a:custGeom>
              <a:avLst/>
              <a:gdLst>
                <a:gd name="textAreaLeft" fmla="*/ 0 w 1036800"/>
                <a:gd name="textAreaRight" fmla="*/ 1037160 w 1036800"/>
                <a:gd name="textAreaTop" fmla="*/ 0 h 419040"/>
                <a:gd name="textAreaBottom" fmla="*/ 419400 h 419040"/>
              </a:gdLst>
              <a:ahLst/>
              <a:rect l="textAreaLeft" t="textAreaTop" r="textAreaRight" b="textAreaBottom"/>
              <a:pathLst>
                <a:path w="1920" h="832">
                  <a:moveTo>
                    <a:pt x="0" y="139"/>
                  </a:moveTo>
                  <a:cubicBezTo>
                    <a:pt x="0" y="63"/>
                    <a:pt x="63" y="0"/>
                    <a:pt x="139" y="0"/>
                  </a:cubicBezTo>
                  <a:cubicBezTo>
                    <a:pt x="139" y="0"/>
                    <a:pt x="139" y="0"/>
                    <a:pt x="139" y="0"/>
                  </a:cubicBezTo>
                  <a:lnTo>
                    <a:pt x="139" y="0"/>
                  </a:lnTo>
                  <a:lnTo>
                    <a:pt x="1782" y="0"/>
                  </a:lnTo>
                  <a:lnTo>
                    <a:pt x="1782" y="0"/>
                  </a:lnTo>
                  <a:cubicBezTo>
                    <a:pt x="1858" y="0"/>
                    <a:pt x="1920" y="63"/>
                    <a:pt x="1920" y="139"/>
                  </a:cubicBezTo>
                  <a:cubicBezTo>
                    <a:pt x="1920" y="139"/>
                    <a:pt x="1920" y="139"/>
                    <a:pt x="1920" y="139"/>
                  </a:cubicBezTo>
                  <a:lnTo>
                    <a:pt x="1920" y="139"/>
                  </a:lnTo>
                  <a:lnTo>
                    <a:pt x="1920" y="694"/>
                  </a:lnTo>
                  <a:lnTo>
                    <a:pt x="1920" y="694"/>
                  </a:lnTo>
                  <a:cubicBezTo>
                    <a:pt x="1920" y="770"/>
                    <a:pt x="1858" y="832"/>
                    <a:pt x="1782" y="832"/>
                  </a:cubicBezTo>
                  <a:cubicBezTo>
                    <a:pt x="1782" y="832"/>
                    <a:pt x="1782" y="832"/>
                    <a:pt x="1782" y="832"/>
                  </a:cubicBezTo>
                  <a:lnTo>
                    <a:pt x="1782"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2" name="Rectangle 77"/>
            <p:cNvSpPr/>
            <p:nvPr/>
          </p:nvSpPr>
          <p:spPr>
            <a:xfrm>
              <a:off x="2903400" y="4960800"/>
              <a:ext cx="28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uyer</a:t>
              </a:r>
              <a:endParaRPr b="0" lang="en-US" sz="800" spc="-1" strike="noStrike">
                <a:solidFill>
                  <a:srgbClr val="000000"/>
                </a:solidFill>
                <a:latin typeface="Times New Roman"/>
              </a:endParaRPr>
            </a:p>
          </p:txBody>
        </p:sp>
        <p:sp>
          <p:nvSpPr>
            <p:cNvPr id="543" name="Rectangle 78"/>
            <p:cNvSpPr/>
            <p:nvPr/>
          </p:nvSpPr>
          <p:spPr>
            <a:xfrm>
              <a:off x="3195000" y="49608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0" lang="en-US" sz="800" spc="-1" strike="noStrike">
                <a:solidFill>
                  <a:srgbClr val="000000"/>
                </a:solidFill>
                <a:latin typeface="Times New Roman"/>
              </a:endParaRPr>
            </a:p>
          </p:txBody>
        </p:sp>
        <p:sp>
          <p:nvSpPr>
            <p:cNvPr id="544" name="Rectangle 79"/>
            <p:cNvSpPr/>
            <p:nvPr/>
          </p:nvSpPr>
          <p:spPr>
            <a:xfrm>
              <a:off x="3256200" y="4960800"/>
              <a:ext cx="33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riven </a:t>
              </a:r>
              <a:endParaRPr b="0" lang="en-US" sz="800" spc="-1" strike="noStrike">
                <a:solidFill>
                  <a:srgbClr val="000000"/>
                </a:solidFill>
                <a:latin typeface="Times New Roman"/>
              </a:endParaRPr>
            </a:p>
          </p:txBody>
        </p:sp>
        <p:sp>
          <p:nvSpPr>
            <p:cNvPr id="545" name="Rectangle 80"/>
            <p:cNvSpPr/>
            <p:nvPr/>
          </p:nvSpPr>
          <p:spPr>
            <a:xfrm>
              <a:off x="3024000" y="5081760"/>
              <a:ext cx="465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yables </a:t>
              </a:r>
              <a:endParaRPr b="0" lang="en-US" sz="800" spc="-1" strike="noStrike">
                <a:solidFill>
                  <a:srgbClr val="000000"/>
                </a:solidFill>
                <a:latin typeface="Times New Roman"/>
              </a:endParaRPr>
            </a:p>
          </p:txBody>
        </p:sp>
        <p:sp>
          <p:nvSpPr>
            <p:cNvPr id="546" name="Freeform 81"/>
            <p:cNvSpPr/>
            <p:nvPr/>
          </p:nvSpPr>
          <p:spPr>
            <a:xfrm>
              <a:off x="3732120" y="4865760"/>
              <a:ext cx="1435320" cy="419040"/>
            </a:xfrm>
            <a:custGeom>
              <a:avLst/>
              <a:gdLst>
                <a:gd name="textAreaLeft" fmla="*/ 0 w 1435320"/>
                <a:gd name="textAreaRight" fmla="*/ 1435680 w 1435320"/>
                <a:gd name="textAreaTop" fmla="*/ 0 h 419040"/>
                <a:gd name="textAreaBottom" fmla="*/ 419400 h 419040"/>
              </a:gdLst>
              <a:ahLst/>
              <a:rect l="textAreaLeft" t="textAreaTop" r="textAreaRight" b="textAreaBottom"/>
              <a:pathLst>
                <a:path w="2656" h="832">
                  <a:moveTo>
                    <a:pt x="0" y="139"/>
                  </a:moveTo>
                  <a:cubicBezTo>
                    <a:pt x="0" y="63"/>
                    <a:pt x="63" y="0"/>
                    <a:pt x="139" y="0"/>
                  </a:cubicBezTo>
                  <a:cubicBezTo>
                    <a:pt x="139" y="0"/>
                    <a:pt x="139" y="0"/>
                    <a:pt x="139" y="0"/>
                  </a:cubicBezTo>
                  <a:lnTo>
                    <a:pt x="139" y="0"/>
                  </a:lnTo>
                  <a:lnTo>
                    <a:pt x="2518" y="0"/>
                  </a:lnTo>
                  <a:lnTo>
                    <a:pt x="2518" y="0"/>
                  </a:lnTo>
                  <a:cubicBezTo>
                    <a:pt x="2594" y="0"/>
                    <a:pt x="2656" y="63"/>
                    <a:pt x="2656" y="139"/>
                  </a:cubicBezTo>
                  <a:cubicBezTo>
                    <a:pt x="2656" y="139"/>
                    <a:pt x="2656" y="139"/>
                    <a:pt x="2656" y="139"/>
                  </a:cubicBezTo>
                  <a:lnTo>
                    <a:pt x="2656" y="139"/>
                  </a:lnTo>
                  <a:lnTo>
                    <a:pt x="2656" y="694"/>
                  </a:lnTo>
                  <a:lnTo>
                    <a:pt x="2656" y="694"/>
                  </a:lnTo>
                  <a:cubicBezTo>
                    <a:pt x="2656" y="770"/>
                    <a:pt x="2594" y="832"/>
                    <a:pt x="2518" y="832"/>
                  </a:cubicBezTo>
                  <a:cubicBezTo>
                    <a:pt x="2518" y="832"/>
                    <a:pt x="2518" y="832"/>
                    <a:pt x="2518" y="832"/>
                  </a:cubicBezTo>
                  <a:lnTo>
                    <a:pt x="2518"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7" name="Rectangle 82"/>
            <p:cNvSpPr/>
            <p:nvPr/>
          </p:nvSpPr>
          <p:spPr>
            <a:xfrm>
              <a:off x="4324680" y="4960800"/>
              <a:ext cx="38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voice </a:t>
              </a:r>
              <a:endParaRPr b="0" lang="en-US" sz="800" spc="-1" strike="noStrike">
                <a:solidFill>
                  <a:srgbClr val="000000"/>
                </a:solidFill>
                <a:latin typeface="Times New Roman"/>
              </a:endParaRPr>
            </a:p>
          </p:txBody>
        </p:sp>
        <p:sp>
          <p:nvSpPr>
            <p:cNvPr id="548" name="Rectangle 83"/>
            <p:cNvSpPr/>
            <p:nvPr/>
          </p:nvSpPr>
          <p:spPr>
            <a:xfrm>
              <a:off x="3984840" y="5081760"/>
              <a:ext cx="1063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inancing/discounting</a:t>
              </a:r>
              <a:endParaRPr b="0" lang="en-US" sz="800" spc="-1" strike="noStrike">
                <a:solidFill>
                  <a:srgbClr val="000000"/>
                </a:solidFill>
                <a:latin typeface="Times New Roman"/>
              </a:endParaRPr>
            </a:p>
          </p:txBody>
        </p:sp>
        <p:sp>
          <p:nvSpPr>
            <p:cNvPr id="549" name="Freeform 84"/>
            <p:cNvSpPr/>
            <p:nvPr/>
          </p:nvSpPr>
          <p:spPr>
            <a:xfrm>
              <a:off x="5149800" y="3397320"/>
              <a:ext cx="1046160" cy="419040"/>
            </a:xfrm>
            <a:custGeom>
              <a:avLst/>
              <a:gdLst>
                <a:gd name="textAreaLeft" fmla="*/ 0 w 1046160"/>
                <a:gd name="textAreaRight" fmla="*/ 1046520 w 1046160"/>
                <a:gd name="textAreaTop" fmla="*/ 0 h 419040"/>
                <a:gd name="textAreaBottom" fmla="*/ 419400 h 419040"/>
              </a:gdLst>
              <a:ahLst/>
              <a:rect l="textAreaLeft" t="textAreaTop" r="textAreaRight" b="textAreaBottom"/>
              <a:pathLst>
                <a:path w="1936" h="832">
                  <a:moveTo>
                    <a:pt x="0" y="139"/>
                  </a:moveTo>
                  <a:cubicBezTo>
                    <a:pt x="0" y="63"/>
                    <a:pt x="63" y="0"/>
                    <a:pt x="139" y="0"/>
                  </a:cubicBezTo>
                  <a:cubicBezTo>
                    <a:pt x="139" y="0"/>
                    <a:pt x="139" y="0"/>
                    <a:pt x="139" y="0"/>
                  </a:cubicBezTo>
                  <a:lnTo>
                    <a:pt x="139" y="0"/>
                  </a:lnTo>
                  <a:lnTo>
                    <a:pt x="1798" y="0"/>
                  </a:lnTo>
                  <a:lnTo>
                    <a:pt x="1798" y="0"/>
                  </a:lnTo>
                  <a:cubicBezTo>
                    <a:pt x="1874" y="0"/>
                    <a:pt x="1936" y="63"/>
                    <a:pt x="1936" y="139"/>
                  </a:cubicBezTo>
                  <a:cubicBezTo>
                    <a:pt x="1936" y="139"/>
                    <a:pt x="1936" y="139"/>
                    <a:pt x="1936" y="139"/>
                  </a:cubicBezTo>
                  <a:lnTo>
                    <a:pt x="1936" y="139"/>
                  </a:lnTo>
                  <a:lnTo>
                    <a:pt x="1936" y="694"/>
                  </a:lnTo>
                  <a:lnTo>
                    <a:pt x="1936" y="694"/>
                  </a:lnTo>
                  <a:cubicBezTo>
                    <a:pt x="1936" y="770"/>
                    <a:pt x="1874" y="832"/>
                    <a:pt x="1798" y="832"/>
                  </a:cubicBezTo>
                  <a:cubicBezTo>
                    <a:pt x="1798" y="832"/>
                    <a:pt x="1798" y="832"/>
                    <a:pt x="1798" y="832"/>
                  </a:cubicBezTo>
                  <a:lnTo>
                    <a:pt x="1798"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0" name="Rectangle 85"/>
            <p:cNvSpPr/>
            <p:nvPr/>
          </p:nvSpPr>
          <p:spPr>
            <a:xfrm>
              <a:off x="5457600" y="3495600"/>
              <a:ext cx="578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arehouse </a:t>
              </a:r>
              <a:endParaRPr b="0" lang="en-US" sz="800" spc="-1" strike="noStrike">
                <a:solidFill>
                  <a:srgbClr val="000000"/>
                </a:solidFill>
                <a:latin typeface="Times New Roman"/>
              </a:endParaRPr>
            </a:p>
          </p:txBody>
        </p:sp>
        <p:sp>
          <p:nvSpPr>
            <p:cNvPr id="551" name="Rectangle 86"/>
            <p:cNvSpPr/>
            <p:nvPr/>
          </p:nvSpPr>
          <p:spPr>
            <a:xfrm>
              <a:off x="5538600" y="3616200"/>
              <a:ext cx="35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inance</a:t>
              </a:r>
              <a:endParaRPr b="0" lang="en-US" sz="800" spc="-1" strike="noStrike">
                <a:solidFill>
                  <a:srgbClr val="000000"/>
                </a:solidFill>
                <a:latin typeface="Times New Roman"/>
              </a:endParaRPr>
            </a:p>
          </p:txBody>
        </p:sp>
        <p:sp>
          <p:nvSpPr>
            <p:cNvPr id="552" name="Freeform 87"/>
            <p:cNvSpPr/>
            <p:nvPr/>
          </p:nvSpPr>
          <p:spPr>
            <a:xfrm>
              <a:off x="2151000" y="2195640"/>
              <a:ext cx="1036800" cy="419040"/>
            </a:xfrm>
            <a:custGeom>
              <a:avLst/>
              <a:gdLst>
                <a:gd name="textAreaLeft" fmla="*/ 0 w 1036800"/>
                <a:gd name="textAreaRight" fmla="*/ 1037160 w 1036800"/>
                <a:gd name="textAreaTop" fmla="*/ 0 h 419040"/>
                <a:gd name="textAreaBottom" fmla="*/ 419400 h 419040"/>
              </a:gdLst>
              <a:ahLst/>
              <a:rect l="textAreaLeft" t="textAreaTop" r="textAreaRight" b="textAreaBottom"/>
              <a:pathLst>
                <a:path w="1920" h="832">
                  <a:moveTo>
                    <a:pt x="0" y="139"/>
                  </a:moveTo>
                  <a:cubicBezTo>
                    <a:pt x="0" y="63"/>
                    <a:pt x="63" y="0"/>
                    <a:pt x="139" y="0"/>
                  </a:cubicBezTo>
                  <a:cubicBezTo>
                    <a:pt x="139" y="0"/>
                    <a:pt x="139" y="0"/>
                    <a:pt x="139" y="0"/>
                  </a:cubicBezTo>
                  <a:lnTo>
                    <a:pt x="139" y="0"/>
                  </a:lnTo>
                  <a:lnTo>
                    <a:pt x="1782" y="0"/>
                  </a:lnTo>
                  <a:lnTo>
                    <a:pt x="1782" y="0"/>
                  </a:lnTo>
                  <a:cubicBezTo>
                    <a:pt x="1858" y="0"/>
                    <a:pt x="1920" y="63"/>
                    <a:pt x="1920" y="139"/>
                  </a:cubicBezTo>
                  <a:cubicBezTo>
                    <a:pt x="1920" y="139"/>
                    <a:pt x="1920" y="139"/>
                    <a:pt x="1920" y="139"/>
                  </a:cubicBezTo>
                  <a:lnTo>
                    <a:pt x="1920" y="139"/>
                  </a:lnTo>
                  <a:lnTo>
                    <a:pt x="1920" y="694"/>
                  </a:lnTo>
                  <a:lnTo>
                    <a:pt x="1920" y="694"/>
                  </a:lnTo>
                  <a:cubicBezTo>
                    <a:pt x="1920" y="770"/>
                    <a:pt x="1858" y="832"/>
                    <a:pt x="1782" y="832"/>
                  </a:cubicBezTo>
                  <a:cubicBezTo>
                    <a:pt x="1782" y="832"/>
                    <a:pt x="1782" y="832"/>
                    <a:pt x="1782" y="832"/>
                  </a:cubicBezTo>
                  <a:lnTo>
                    <a:pt x="1782"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3" name="Rectangle 88"/>
            <p:cNvSpPr/>
            <p:nvPr/>
          </p:nvSpPr>
          <p:spPr>
            <a:xfrm>
              <a:off x="2405160" y="2292480"/>
              <a:ext cx="67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CA supplier </a:t>
              </a:r>
              <a:endParaRPr b="0" lang="en-US" sz="800" spc="-1" strike="noStrike">
                <a:solidFill>
                  <a:srgbClr val="000000"/>
                </a:solidFill>
                <a:latin typeface="Times New Roman"/>
              </a:endParaRPr>
            </a:p>
          </p:txBody>
        </p:sp>
        <p:sp>
          <p:nvSpPr>
            <p:cNvPr id="554" name="Rectangle 89"/>
            <p:cNvSpPr/>
            <p:nvPr/>
          </p:nvSpPr>
          <p:spPr>
            <a:xfrm>
              <a:off x="2490840" y="2413080"/>
              <a:ext cx="45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inancing</a:t>
              </a:r>
              <a:endParaRPr b="0" lang="en-US" sz="800" spc="-1" strike="noStrike">
                <a:solidFill>
                  <a:srgbClr val="000000"/>
                </a:solidFill>
                <a:latin typeface="Times New Roman"/>
              </a:endParaRPr>
            </a:p>
          </p:txBody>
        </p:sp>
        <p:sp>
          <p:nvSpPr>
            <p:cNvPr id="555" name="Freeform 90"/>
            <p:cNvSpPr/>
            <p:nvPr/>
          </p:nvSpPr>
          <p:spPr>
            <a:xfrm>
              <a:off x="5332320" y="4494240"/>
              <a:ext cx="1044720" cy="420840"/>
            </a:xfrm>
            <a:custGeom>
              <a:avLst/>
              <a:gdLst>
                <a:gd name="textAreaLeft" fmla="*/ 0 w 1044720"/>
                <a:gd name="textAreaRight" fmla="*/ 1045080 w 1044720"/>
                <a:gd name="textAreaTop" fmla="*/ 0 h 420840"/>
                <a:gd name="textAreaBottom" fmla="*/ 421200 h 420840"/>
              </a:gdLst>
              <a:ahLst/>
              <a:rect l="textAreaLeft" t="textAreaTop" r="textAreaRight" b="textAreaBottom"/>
              <a:pathLst>
                <a:path w="1936" h="832">
                  <a:moveTo>
                    <a:pt x="0" y="139"/>
                  </a:moveTo>
                  <a:cubicBezTo>
                    <a:pt x="0" y="63"/>
                    <a:pt x="63" y="0"/>
                    <a:pt x="139" y="0"/>
                  </a:cubicBezTo>
                  <a:cubicBezTo>
                    <a:pt x="139" y="0"/>
                    <a:pt x="139" y="0"/>
                    <a:pt x="139" y="0"/>
                  </a:cubicBezTo>
                  <a:lnTo>
                    <a:pt x="139" y="0"/>
                  </a:lnTo>
                  <a:lnTo>
                    <a:pt x="1798" y="0"/>
                  </a:lnTo>
                  <a:lnTo>
                    <a:pt x="1798" y="0"/>
                  </a:lnTo>
                  <a:cubicBezTo>
                    <a:pt x="1874" y="0"/>
                    <a:pt x="1936" y="63"/>
                    <a:pt x="1936" y="139"/>
                  </a:cubicBezTo>
                  <a:cubicBezTo>
                    <a:pt x="1936" y="139"/>
                    <a:pt x="1936" y="139"/>
                    <a:pt x="1936" y="139"/>
                  </a:cubicBezTo>
                  <a:lnTo>
                    <a:pt x="1936" y="139"/>
                  </a:lnTo>
                  <a:lnTo>
                    <a:pt x="1936" y="694"/>
                  </a:lnTo>
                  <a:lnTo>
                    <a:pt x="1936" y="694"/>
                  </a:lnTo>
                  <a:cubicBezTo>
                    <a:pt x="1936" y="770"/>
                    <a:pt x="1874" y="832"/>
                    <a:pt x="1798" y="832"/>
                  </a:cubicBezTo>
                  <a:cubicBezTo>
                    <a:pt x="1798" y="832"/>
                    <a:pt x="1798" y="832"/>
                    <a:pt x="1798" y="832"/>
                  </a:cubicBezTo>
                  <a:lnTo>
                    <a:pt x="1798"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6" name="Rectangle 91"/>
            <p:cNvSpPr/>
            <p:nvPr/>
          </p:nvSpPr>
          <p:spPr>
            <a:xfrm>
              <a:off x="5631480" y="4656240"/>
              <a:ext cx="54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firming</a:t>
              </a:r>
              <a:endParaRPr b="0" lang="en-US" sz="800" spc="-1" strike="noStrike">
                <a:solidFill>
                  <a:srgbClr val="000000"/>
                </a:solidFill>
                <a:latin typeface="Times New Roman"/>
              </a:endParaRPr>
            </a:p>
          </p:txBody>
        </p:sp>
        <p:sp>
          <p:nvSpPr>
            <p:cNvPr id="557" name="Freeform 92"/>
            <p:cNvSpPr/>
            <p:nvPr/>
          </p:nvSpPr>
          <p:spPr>
            <a:xfrm>
              <a:off x="5799240" y="2397240"/>
              <a:ext cx="1044360" cy="419040"/>
            </a:xfrm>
            <a:custGeom>
              <a:avLst/>
              <a:gdLst>
                <a:gd name="textAreaLeft" fmla="*/ 0 w 1044360"/>
                <a:gd name="textAreaRight" fmla="*/ 1044720 w 1044360"/>
                <a:gd name="textAreaTop" fmla="*/ 0 h 419040"/>
                <a:gd name="textAreaBottom" fmla="*/ 419400 h 419040"/>
              </a:gdLst>
              <a:ahLst/>
              <a:rect l="textAreaLeft" t="textAreaTop" r="textAreaRight" b="textAreaBottom"/>
              <a:pathLst>
                <a:path w="1936" h="832">
                  <a:moveTo>
                    <a:pt x="0" y="139"/>
                  </a:moveTo>
                  <a:cubicBezTo>
                    <a:pt x="0" y="63"/>
                    <a:pt x="63" y="0"/>
                    <a:pt x="139" y="0"/>
                  </a:cubicBezTo>
                  <a:cubicBezTo>
                    <a:pt x="139" y="0"/>
                    <a:pt x="139" y="0"/>
                    <a:pt x="139" y="0"/>
                  </a:cubicBezTo>
                  <a:lnTo>
                    <a:pt x="139" y="0"/>
                  </a:lnTo>
                  <a:lnTo>
                    <a:pt x="1798" y="0"/>
                  </a:lnTo>
                  <a:lnTo>
                    <a:pt x="1798" y="0"/>
                  </a:lnTo>
                  <a:cubicBezTo>
                    <a:pt x="1874" y="0"/>
                    <a:pt x="1936" y="63"/>
                    <a:pt x="1936" y="139"/>
                  </a:cubicBezTo>
                  <a:cubicBezTo>
                    <a:pt x="1936" y="139"/>
                    <a:pt x="1936" y="139"/>
                    <a:pt x="1936" y="139"/>
                  </a:cubicBezTo>
                  <a:lnTo>
                    <a:pt x="1936" y="139"/>
                  </a:lnTo>
                  <a:lnTo>
                    <a:pt x="1936" y="694"/>
                  </a:lnTo>
                  <a:lnTo>
                    <a:pt x="1936" y="694"/>
                  </a:lnTo>
                  <a:cubicBezTo>
                    <a:pt x="1936" y="770"/>
                    <a:pt x="1874" y="832"/>
                    <a:pt x="1798" y="832"/>
                  </a:cubicBezTo>
                  <a:cubicBezTo>
                    <a:pt x="1798" y="832"/>
                    <a:pt x="1798" y="832"/>
                    <a:pt x="1798" y="832"/>
                  </a:cubicBezTo>
                  <a:lnTo>
                    <a:pt x="1798"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8" name="Rectangle 93"/>
            <p:cNvSpPr/>
            <p:nvPr/>
          </p:nvSpPr>
          <p:spPr>
            <a:xfrm>
              <a:off x="6089040" y="2500200"/>
              <a:ext cx="602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tribution </a:t>
              </a:r>
              <a:endParaRPr b="0" lang="en-US" sz="800" spc="-1" strike="noStrike">
                <a:solidFill>
                  <a:srgbClr val="000000"/>
                </a:solidFill>
                <a:latin typeface="Times New Roman"/>
              </a:endParaRPr>
            </a:p>
          </p:txBody>
        </p:sp>
        <p:sp>
          <p:nvSpPr>
            <p:cNvPr id="559" name="Rectangle 94"/>
            <p:cNvSpPr/>
            <p:nvPr/>
          </p:nvSpPr>
          <p:spPr>
            <a:xfrm>
              <a:off x="6186960" y="2619360"/>
              <a:ext cx="35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inance</a:t>
              </a:r>
              <a:endParaRPr b="0" lang="en-US" sz="800" spc="-1" strike="noStrike">
                <a:solidFill>
                  <a:srgbClr val="000000"/>
                </a:solidFill>
                <a:latin typeface="Times New Roman"/>
              </a:endParaRPr>
            </a:p>
          </p:txBody>
        </p:sp>
        <p:sp>
          <p:nvSpPr>
            <p:cNvPr id="560" name="Freeform 95"/>
            <p:cNvSpPr/>
            <p:nvPr/>
          </p:nvSpPr>
          <p:spPr>
            <a:xfrm>
              <a:off x="6524640" y="4454640"/>
              <a:ext cx="1036800" cy="419040"/>
            </a:xfrm>
            <a:custGeom>
              <a:avLst/>
              <a:gdLst>
                <a:gd name="textAreaLeft" fmla="*/ 0 w 1036800"/>
                <a:gd name="textAreaRight" fmla="*/ 1037160 w 1036800"/>
                <a:gd name="textAreaTop" fmla="*/ 0 h 419040"/>
                <a:gd name="textAreaBottom" fmla="*/ 419400 h 419040"/>
              </a:gdLst>
              <a:ahLst/>
              <a:rect l="textAreaLeft" t="textAreaTop" r="textAreaRight" b="textAreaBottom"/>
              <a:pathLst>
                <a:path w="1920" h="832">
                  <a:moveTo>
                    <a:pt x="0" y="139"/>
                  </a:moveTo>
                  <a:cubicBezTo>
                    <a:pt x="0" y="63"/>
                    <a:pt x="63" y="0"/>
                    <a:pt x="139" y="0"/>
                  </a:cubicBezTo>
                  <a:cubicBezTo>
                    <a:pt x="139" y="0"/>
                    <a:pt x="139" y="0"/>
                    <a:pt x="139" y="0"/>
                  </a:cubicBezTo>
                  <a:lnTo>
                    <a:pt x="139" y="0"/>
                  </a:lnTo>
                  <a:lnTo>
                    <a:pt x="1782" y="0"/>
                  </a:lnTo>
                  <a:lnTo>
                    <a:pt x="1782" y="0"/>
                  </a:lnTo>
                  <a:cubicBezTo>
                    <a:pt x="1858" y="0"/>
                    <a:pt x="1920" y="63"/>
                    <a:pt x="1920" y="139"/>
                  </a:cubicBezTo>
                  <a:cubicBezTo>
                    <a:pt x="1920" y="139"/>
                    <a:pt x="1920" y="139"/>
                    <a:pt x="1920" y="139"/>
                  </a:cubicBezTo>
                  <a:lnTo>
                    <a:pt x="1920" y="139"/>
                  </a:lnTo>
                  <a:lnTo>
                    <a:pt x="1920" y="694"/>
                  </a:lnTo>
                  <a:lnTo>
                    <a:pt x="1920" y="694"/>
                  </a:lnTo>
                  <a:cubicBezTo>
                    <a:pt x="1920" y="770"/>
                    <a:pt x="1858" y="832"/>
                    <a:pt x="1782" y="832"/>
                  </a:cubicBezTo>
                  <a:cubicBezTo>
                    <a:pt x="1782" y="832"/>
                    <a:pt x="1782" y="832"/>
                    <a:pt x="1782" y="832"/>
                  </a:cubicBezTo>
                  <a:lnTo>
                    <a:pt x="1782"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1" name="Rectangle 96"/>
            <p:cNvSpPr/>
            <p:nvPr/>
          </p:nvSpPr>
          <p:spPr>
            <a:xfrm>
              <a:off x="6975000" y="4610160"/>
              <a:ext cx="22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PO</a:t>
              </a:r>
              <a:endParaRPr b="0" lang="en-US" sz="800" spc="-1" strike="noStrike">
                <a:solidFill>
                  <a:srgbClr val="000000"/>
                </a:solidFill>
                <a:latin typeface="Times New Roman"/>
              </a:endParaRPr>
            </a:p>
          </p:txBody>
        </p:sp>
        <p:sp>
          <p:nvSpPr>
            <p:cNvPr id="562" name="Freeform 97"/>
            <p:cNvSpPr/>
            <p:nvPr/>
          </p:nvSpPr>
          <p:spPr>
            <a:xfrm>
              <a:off x="6904080" y="4978440"/>
              <a:ext cx="190440" cy="630360"/>
            </a:xfrm>
            <a:custGeom>
              <a:avLst/>
              <a:gdLst>
                <a:gd name="textAreaLeft" fmla="*/ 0 w 190440"/>
                <a:gd name="textAreaRight" fmla="*/ 190800 w 190440"/>
                <a:gd name="textAreaTop" fmla="*/ 0 h 630360"/>
                <a:gd name="textAreaBottom" fmla="*/ 630360 h 630360"/>
              </a:gdLst>
              <a:ahLst/>
              <a:rect l="textAreaLeft" t="textAreaTop" r="textAreaRight" b="textAreaBottom"/>
              <a:pathLst>
                <a:path w="120" h="397">
                  <a:moveTo>
                    <a:pt x="0" y="341"/>
                  </a:moveTo>
                  <a:lnTo>
                    <a:pt x="30" y="341"/>
                  </a:lnTo>
                  <a:lnTo>
                    <a:pt x="30" y="0"/>
                  </a:lnTo>
                  <a:lnTo>
                    <a:pt x="90" y="0"/>
                  </a:lnTo>
                  <a:lnTo>
                    <a:pt x="90" y="341"/>
                  </a:lnTo>
                  <a:lnTo>
                    <a:pt x="120" y="341"/>
                  </a:lnTo>
                  <a:lnTo>
                    <a:pt x="60" y="397"/>
                  </a:lnTo>
                  <a:lnTo>
                    <a:pt x="0" y="341"/>
                  </a:lnTo>
                  <a:close/>
                </a:path>
              </a:pathLst>
            </a:custGeom>
            <a:solidFill>
              <a:srgbClr val="f7964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3" name="Rectangle 98"/>
            <p:cNvSpPr/>
            <p:nvPr/>
          </p:nvSpPr>
          <p:spPr>
            <a:xfrm>
              <a:off x="6559560" y="4897440"/>
              <a:ext cx="482760" cy="88920"/>
            </a:xfrm>
            <a:prstGeom prst="rect">
              <a:avLst/>
            </a:prstGeom>
            <a:solidFill>
              <a:srgbClr val="f7964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Freeform 99"/>
            <p:cNvSpPr/>
            <p:nvPr/>
          </p:nvSpPr>
          <p:spPr>
            <a:xfrm>
              <a:off x="2151000" y="3622680"/>
              <a:ext cx="1036800" cy="420840"/>
            </a:xfrm>
            <a:custGeom>
              <a:avLst/>
              <a:gdLst>
                <a:gd name="textAreaLeft" fmla="*/ 0 w 1036800"/>
                <a:gd name="textAreaRight" fmla="*/ 1037160 w 1036800"/>
                <a:gd name="textAreaTop" fmla="*/ 0 h 420840"/>
                <a:gd name="textAreaBottom" fmla="*/ 421200 h 420840"/>
              </a:gdLst>
              <a:ahLst/>
              <a:rect l="textAreaLeft" t="textAreaTop" r="textAreaRight" b="textAreaBottom"/>
              <a:pathLst>
                <a:path w="1920" h="832">
                  <a:moveTo>
                    <a:pt x="0" y="139"/>
                  </a:moveTo>
                  <a:cubicBezTo>
                    <a:pt x="0" y="63"/>
                    <a:pt x="63" y="0"/>
                    <a:pt x="139" y="0"/>
                  </a:cubicBezTo>
                  <a:cubicBezTo>
                    <a:pt x="139" y="0"/>
                    <a:pt x="139" y="0"/>
                    <a:pt x="139" y="0"/>
                  </a:cubicBezTo>
                  <a:lnTo>
                    <a:pt x="139" y="0"/>
                  </a:lnTo>
                  <a:lnTo>
                    <a:pt x="1782" y="0"/>
                  </a:lnTo>
                  <a:lnTo>
                    <a:pt x="1782" y="0"/>
                  </a:lnTo>
                  <a:cubicBezTo>
                    <a:pt x="1858" y="0"/>
                    <a:pt x="1920" y="63"/>
                    <a:pt x="1920" y="139"/>
                  </a:cubicBezTo>
                  <a:cubicBezTo>
                    <a:pt x="1920" y="139"/>
                    <a:pt x="1920" y="139"/>
                    <a:pt x="1920" y="139"/>
                  </a:cubicBezTo>
                  <a:lnTo>
                    <a:pt x="1920" y="139"/>
                  </a:lnTo>
                  <a:lnTo>
                    <a:pt x="1920" y="694"/>
                  </a:lnTo>
                  <a:lnTo>
                    <a:pt x="1920" y="694"/>
                  </a:lnTo>
                  <a:cubicBezTo>
                    <a:pt x="1920" y="770"/>
                    <a:pt x="1858" y="832"/>
                    <a:pt x="1782" y="832"/>
                  </a:cubicBezTo>
                  <a:cubicBezTo>
                    <a:pt x="1782" y="832"/>
                    <a:pt x="1782" y="832"/>
                    <a:pt x="1782" y="832"/>
                  </a:cubicBezTo>
                  <a:lnTo>
                    <a:pt x="1782"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5" name="Rectangle 100"/>
            <p:cNvSpPr/>
            <p:nvPr/>
          </p:nvSpPr>
          <p:spPr>
            <a:xfrm>
              <a:off x="2452320" y="3718080"/>
              <a:ext cx="578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arehouse </a:t>
              </a:r>
              <a:endParaRPr b="0" lang="en-US" sz="800" spc="-1" strike="noStrike">
                <a:solidFill>
                  <a:srgbClr val="000000"/>
                </a:solidFill>
                <a:latin typeface="Times New Roman"/>
              </a:endParaRPr>
            </a:p>
          </p:txBody>
        </p:sp>
        <p:sp>
          <p:nvSpPr>
            <p:cNvPr id="566" name="Rectangle 101"/>
            <p:cNvSpPr/>
            <p:nvPr/>
          </p:nvSpPr>
          <p:spPr>
            <a:xfrm>
              <a:off x="2531880" y="3838680"/>
              <a:ext cx="35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inance</a:t>
              </a:r>
              <a:endParaRPr b="0" lang="en-US" sz="800" spc="-1" strike="noStrike">
                <a:solidFill>
                  <a:srgbClr val="000000"/>
                </a:solidFill>
                <a:latin typeface="Times New Roman"/>
              </a:endParaRPr>
            </a:p>
          </p:txBody>
        </p:sp>
        <p:sp>
          <p:nvSpPr>
            <p:cNvPr id="567" name="Freeform 102"/>
            <p:cNvSpPr/>
            <p:nvPr/>
          </p:nvSpPr>
          <p:spPr>
            <a:xfrm>
              <a:off x="855720" y="5802480"/>
              <a:ext cx="1044360" cy="419040"/>
            </a:xfrm>
            <a:custGeom>
              <a:avLst/>
              <a:gdLst>
                <a:gd name="textAreaLeft" fmla="*/ 0 w 1044360"/>
                <a:gd name="textAreaRight" fmla="*/ 1044720 w 1044360"/>
                <a:gd name="textAreaTop" fmla="*/ 0 h 419040"/>
                <a:gd name="textAreaBottom" fmla="*/ 419400 h 419040"/>
              </a:gdLst>
              <a:ahLst/>
              <a:rect l="textAreaLeft" t="textAreaTop" r="textAreaRight" b="textAreaBottom"/>
              <a:pathLst>
                <a:path w="1936" h="832">
                  <a:moveTo>
                    <a:pt x="0" y="139"/>
                  </a:moveTo>
                  <a:cubicBezTo>
                    <a:pt x="0" y="63"/>
                    <a:pt x="63" y="0"/>
                    <a:pt x="139" y="0"/>
                  </a:cubicBezTo>
                  <a:cubicBezTo>
                    <a:pt x="139" y="0"/>
                    <a:pt x="139" y="0"/>
                    <a:pt x="139" y="0"/>
                  </a:cubicBezTo>
                  <a:lnTo>
                    <a:pt x="139" y="0"/>
                  </a:lnTo>
                  <a:lnTo>
                    <a:pt x="1798" y="0"/>
                  </a:lnTo>
                  <a:lnTo>
                    <a:pt x="1798" y="0"/>
                  </a:lnTo>
                  <a:cubicBezTo>
                    <a:pt x="1874" y="0"/>
                    <a:pt x="1936" y="63"/>
                    <a:pt x="1936" y="139"/>
                  </a:cubicBezTo>
                  <a:cubicBezTo>
                    <a:pt x="1936" y="139"/>
                    <a:pt x="1936" y="139"/>
                    <a:pt x="1936" y="139"/>
                  </a:cubicBezTo>
                  <a:lnTo>
                    <a:pt x="1936" y="139"/>
                  </a:lnTo>
                  <a:lnTo>
                    <a:pt x="1936" y="694"/>
                  </a:lnTo>
                  <a:lnTo>
                    <a:pt x="1936" y="694"/>
                  </a:lnTo>
                  <a:cubicBezTo>
                    <a:pt x="1936" y="770"/>
                    <a:pt x="1874" y="832"/>
                    <a:pt x="1798" y="832"/>
                  </a:cubicBezTo>
                  <a:cubicBezTo>
                    <a:pt x="1798" y="832"/>
                    <a:pt x="1798" y="832"/>
                    <a:pt x="1798" y="832"/>
                  </a:cubicBezTo>
                  <a:lnTo>
                    <a:pt x="1798"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8" name="Rectangle 103"/>
            <p:cNvSpPr/>
            <p:nvPr/>
          </p:nvSpPr>
          <p:spPr>
            <a:xfrm>
              <a:off x="1164960" y="5897520"/>
              <a:ext cx="578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arehouse </a:t>
              </a:r>
              <a:endParaRPr b="0" lang="en-US" sz="800" spc="-1" strike="noStrike">
                <a:solidFill>
                  <a:srgbClr val="000000"/>
                </a:solidFill>
                <a:latin typeface="Times New Roman"/>
              </a:endParaRPr>
            </a:p>
          </p:txBody>
        </p:sp>
        <p:sp>
          <p:nvSpPr>
            <p:cNvPr id="569" name="Rectangle 104"/>
            <p:cNvSpPr/>
            <p:nvPr/>
          </p:nvSpPr>
          <p:spPr>
            <a:xfrm>
              <a:off x="1246680" y="6021360"/>
              <a:ext cx="35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inance</a:t>
              </a:r>
              <a:endParaRPr b="0" lang="en-US" sz="800" spc="-1" strike="noStrike">
                <a:solidFill>
                  <a:srgbClr val="000000"/>
                </a:solidFill>
                <a:latin typeface="Times New Roman"/>
              </a:endParaRPr>
            </a:p>
          </p:txBody>
        </p:sp>
        <p:pic>
          <p:nvPicPr>
            <p:cNvPr id="570" name="Picture 105" descr=""/>
            <p:cNvPicPr/>
            <p:nvPr/>
          </p:nvPicPr>
          <p:blipFill>
            <a:blip r:embed="rId15"/>
            <a:stretch/>
          </p:blipFill>
          <p:spPr>
            <a:xfrm>
              <a:off x="3909960" y="5611680"/>
              <a:ext cx="4589640" cy="895320"/>
            </a:xfrm>
            <a:prstGeom prst="rect">
              <a:avLst/>
            </a:prstGeom>
            <a:ln w="0">
              <a:noFill/>
            </a:ln>
          </p:spPr>
        </p:pic>
        <p:pic>
          <p:nvPicPr>
            <p:cNvPr id="571" name="Picture 106" descr=""/>
            <p:cNvPicPr/>
            <p:nvPr/>
          </p:nvPicPr>
          <p:blipFill>
            <a:blip r:embed="rId16"/>
            <a:stretch/>
          </p:blipFill>
          <p:spPr>
            <a:xfrm>
              <a:off x="3909960" y="5611680"/>
              <a:ext cx="4589640" cy="895320"/>
            </a:xfrm>
            <a:prstGeom prst="rect">
              <a:avLst/>
            </a:prstGeom>
            <a:ln w="0">
              <a:noFill/>
            </a:ln>
          </p:spPr>
        </p:pic>
        <p:sp>
          <p:nvSpPr>
            <p:cNvPr id="572" name="Freeform 107"/>
            <p:cNvSpPr/>
            <p:nvPr/>
          </p:nvSpPr>
          <p:spPr>
            <a:xfrm>
              <a:off x="3962520" y="5643720"/>
              <a:ext cx="4476600" cy="792000"/>
            </a:xfrm>
            <a:custGeom>
              <a:avLst/>
              <a:gdLst>
                <a:gd name="textAreaLeft" fmla="*/ 0 w 4476600"/>
                <a:gd name="textAreaRight" fmla="*/ 4476960 w 4476600"/>
                <a:gd name="textAreaTop" fmla="*/ 0 h 792000"/>
                <a:gd name="textAreaBottom" fmla="*/ 792360 h 792000"/>
              </a:gdLst>
              <a:ahLst/>
              <a:rect l="textAreaLeft" t="textAreaTop" r="textAreaRight" b="textAreaBottom"/>
              <a:pathLst>
                <a:path w="8288" h="1568">
                  <a:moveTo>
                    <a:pt x="0" y="262"/>
                  </a:moveTo>
                  <a:cubicBezTo>
                    <a:pt x="0" y="117"/>
                    <a:pt x="117" y="0"/>
                    <a:pt x="262" y="0"/>
                  </a:cubicBezTo>
                  <a:cubicBezTo>
                    <a:pt x="262" y="0"/>
                    <a:pt x="262" y="0"/>
                    <a:pt x="262" y="0"/>
                  </a:cubicBezTo>
                  <a:lnTo>
                    <a:pt x="262" y="0"/>
                  </a:lnTo>
                  <a:lnTo>
                    <a:pt x="8027" y="0"/>
                  </a:lnTo>
                  <a:lnTo>
                    <a:pt x="8027" y="0"/>
                  </a:lnTo>
                  <a:cubicBezTo>
                    <a:pt x="8171" y="0"/>
                    <a:pt x="8288" y="117"/>
                    <a:pt x="8288" y="262"/>
                  </a:cubicBezTo>
                  <a:cubicBezTo>
                    <a:pt x="8288" y="262"/>
                    <a:pt x="8288" y="262"/>
                    <a:pt x="8288" y="262"/>
                  </a:cubicBezTo>
                  <a:lnTo>
                    <a:pt x="8288" y="262"/>
                  </a:lnTo>
                  <a:lnTo>
                    <a:pt x="8288" y="1307"/>
                  </a:lnTo>
                  <a:lnTo>
                    <a:pt x="8288" y="1307"/>
                  </a:lnTo>
                  <a:cubicBezTo>
                    <a:pt x="8288" y="1451"/>
                    <a:pt x="8171" y="1568"/>
                    <a:pt x="8027" y="1568"/>
                  </a:cubicBezTo>
                  <a:cubicBezTo>
                    <a:pt x="8027" y="1568"/>
                    <a:pt x="8027" y="1568"/>
                    <a:pt x="8027" y="1568"/>
                  </a:cubicBezTo>
                  <a:lnTo>
                    <a:pt x="8027" y="1568"/>
                  </a:lnTo>
                  <a:lnTo>
                    <a:pt x="262" y="1568"/>
                  </a:lnTo>
                  <a:lnTo>
                    <a:pt x="262" y="1568"/>
                  </a:lnTo>
                  <a:cubicBezTo>
                    <a:pt x="117" y="1568"/>
                    <a:pt x="0" y="1451"/>
                    <a:pt x="0" y="1307"/>
                  </a:cubicBezTo>
                  <a:cubicBezTo>
                    <a:pt x="0" y="1307"/>
                    <a:pt x="0" y="1307"/>
                    <a:pt x="0" y="1307"/>
                  </a:cubicBezTo>
                  <a:lnTo>
                    <a:pt x="0" y="262"/>
                  </a:lnTo>
                  <a:close/>
                </a:path>
              </a:pathLst>
            </a:custGeom>
            <a:solidFill>
              <a:srgbClr val="dbeef4"/>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3" name="Freeform 108"/>
            <p:cNvSpPr/>
            <p:nvPr/>
          </p:nvSpPr>
          <p:spPr>
            <a:xfrm>
              <a:off x="3957480" y="5640480"/>
              <a:ext cx="4484880" cy="798480"/>
            </a:xfrm>
            <a:custGeom>
              <a:avLst/>
              <a:gdLst>
                <a:gd name="textAreaLeft" fmla="*/ 0 w 4484880"/>
                <a:gd name="textAreaRight" fmla="*/ 4485240 w 4484880"/>
                <a:gd name="textAreaTop" fmla="*/ 0 h 798480"/>
                <a:gd name="textAreaBottom" fmla="*/ 798840 h 798480"/>
              </a:gdLst>
              <a:ahLst/>
              <a:rect l="textAreaLeft" t="textAreaTop" r="textAreaRight" b="textAreaBottom"/>
              <a:pathLst>
                <a:path w="8304" h="1584">
                  <a:moveTo>
                    <a:pt x="0" y="1315"/>
                  </a:moveTo>
                  <a:lnTo>
                    <a:pt x="0" y="1267"/>
                  </a:lnTo>
                  <a:lnTo>
                    <a:pt x="16" y="1267"/>
                  </a:lnTo>
                  <a:lnTo>
                    <a:pt x="16" y="1315"/>
                  </a:lnTo>
                  <a:lnTo>
                    <a:pt x="0" y="1315"/>
                  </a:lnTo>
                  <a:close/>
                  <a:moveTo>
                    <a:pt x="0" y="1251"/>
                  </a:moveTo>
                  <a:lnTo>
                    <a:pt x="0" y="1203"/>
                  </a:lnTo>
                  <a:lnTo>
                    <a:pt x="16" y="1203"/>
                  </a:lnTo>
                  <a:lnTo>
                    <a:pt x="16" y="1251"/>
                  </a:lnTo>
                  <a:lnTo>
                    <a:pt x="0" y="1251"/>
                  </a:lnTo>
                  <a:close/>
                  <a:moveTo>
                    <a:pt x="0" y="1187"/>
                  </a:moveTo>
                  <a:lnTo>
                    <a:pt x="0" y="1139"/>
                  </a:lnTo>
                  <a:lnTo>
                    <a:pt x="16" y="1139"/>
                  </a:lnTo>
                  <a:lnTo>
                    <a:pt x="16" y="1187"/>
                  </a:lnTo>
                  <a:lnTo>
                    <a:pt x="0" y="1187"/>
                  </a:lnTo>
                  <a:close/>
                  <a:moveTo>
                    <a:pt x="0" y="1123"/>
                  </a:moveTo>
                  <a:lnTo>
                    <a:pt x="0" y="1075"/>
                  </a:lnTo>
                  <a:lnTo>
                    <a:pt x="16" y="1075"/>
                  </a:lnTo>
                  <a:lnTo>
                    <a:pt x="16" y="1123"/>
                  </a:lnTo>
                  <a:lnTo>
                    <a:pt x="0" y="1123"/>
                  </a:lnTo>
                  <a:close/>
                  <a:moveTo>
                    <a:pt x="0" y="1059"/>
                  </a:moveTo>
                  <a:lnTo>
                    <a:pt x="0" y="1011"/>
                  </a:lnTo>
                  <a:lnTo>
                    <a:pt x="16" y="1011"/>
                  </a:lnTo>
                  <a:lnTo>
                    <a:pt x="16" y="1059"/>
                  </a:lnTo>
                  <a:lnTo>
                    <a:pt x="0" y="1059"/>
                  </a:lnTo>
                  <a:close/>
                  <a:moveTo>
                    <a:pt x="0" y="995"/>
                  </a:moveTo>
                  <a:lnTo>
                    <a:pt x="0" y="947"/>
                  </a:lnTo>
                  <a:lnTo>
                    <a:pt x="16" y="947"/>
                  </a:lnTo>
                  <a:lnTo>
                    <a:pt x="16" y="995"/>
                  </a:lnTo>
                  <a:lnTo>
                    <a:pt x="0" y="995"/>
                  </a:lnTo>
                  <a:close/>
                  <a:moveTo>
                    <a:pt x="0" y="931"/>
                  </a:moveTo>
                  <a:lnTo>
                    <a:pt x="0" y="883"/>
                  </a:lnTo>
                  <a:lnTo>
                    <a:pt x="16" y="883"/>
                  </a:lnTo>
                  <a:lnTo>
                    <a:pt x="16" y="931"/>
                  </a:lnTo>
                  <a:lnTo>
                    <a:pt x="0" y="931"/>
                  </a:lnTo>
                  <a:close/>
                  <a:moveTo>
                    <a:pt x="0" y="867"/>
                  </a:moveTo>
                  <a:lnTo>
                    <a:pt x="0" y="819"/>
                  </a:lnTo>
                  <a:lnTo>
                    <a:pt x="16" y="819"/>
                  </a:lnTo>
                  <a:lnTo>
                    <a:pt x="16" y="867"/>
                  </a:lnTo>
                  <a:lnTo>
                    <a:pt x="0" y="867"/>
                  </a:lnTo>
                  <a:close/>
                  <a:moveTo>
                    <a:pt x="0" y="803"/>
                  </a:moveTo>
                  <a:lnTo>
                    <a:pt x="0" y="755"/>
                  </a:lnTo>
                  <a:lnTo>
                    <a:pt x="16" y="755"/>
                  </a:lnTo>
                  <a:lnTo>
                    <a:pt x="16" y="803"/>
                  </a:lnTo>
                  <a:lnTo>
                    <a:pt x="0" y="803"/>
                  </a:lnTo>
                  <a:close/>
                  <a:moveTo>
                    <a:pt x="0" y="739"/>
                  </a:moveTo>
                  <a:lnTo>
                    <a:pt x="0" y="691"/>
                  </a:lnTo>
                  <a:lnTo>
                    <a:pt x="16" y="691"/>
                  </a:lnTo>
                  <a:lnTo>
                    <a:pt x="16" y="739"/>
                  </a:lnTo>
                  <a:lnTo>
                    <a:pt x="0" y="739"/>
                  </a:lnTo>
                  <a:close/>
                  <a:moveTo>
                    <a:pt x="0" y="675"/>
                  </a:moveTo>
                  <a:lnTo>
                    <a:pt x="0" y="627"/>
                  </a:lnTo>
                  <a:lnTo>
                    <a:pt x="16" y="627"/>
                  </a:lnTo>
                  <a:lnTo>
                    <a:pt x="16" y="675"/>
                  </a:lnTo>
                  <a:lnTo>
                    <a:pt x="0" y="675"/>
                  </a:lnTo>
                  <a:close/>
                  <a:moveTo>
                    <a:pt x="0" y="611"/>
                  </a:moveTo>
                  <a:lnTo>
                    <a:pt x="0" y="563"/>
                  </a:lnTo>
                  <a:lnTo>
                    <a:pt x="16" y="563"/>
                  </a:lnTo>
                  <a:lnTo>
                    <a:pt x="16" y="611"/>
                  </a:lnTo>
                  <a:lnTo>
                    <a:pt x="0" y="611"/>
                  </a:lnTo>
                  <a:close/>
                  <a:moveTo>
                    <a:pt x="0" y="547"/>
                  </a:moveTo>
                  <a:lnTo>
                    <a:pt x="0" y="499"/>
                  </a:lnTo>
                  <a:lnTo>
                    <a:pt x="16" y="499"/>
                  </a:lnTo>
                  <a:lnTo>
                    <a:pt x="16" y="547"/>
                  </a:lnTo>
                  <a:lnTo>
                    <a:pt x="0" y="547"/>
                  </a:lnTo>
                  <a:close/>
                  <a:moveTo>
                    <a:pt x="0" y="483"/>
                  </a:moveTo>
                  <a:lnTo>
                    <a:pt x="0" y="435"/>
                  </a:lnTo>
                  <a:lnTo>
                    <a:pt x="16" y="435"/>
                  </a:lnTo>
                  <a:lnTo>
                    <a:pt x="16" y="483"/>
                  </a:lnTo>
                  <a:lnTo>
                    <a:pt x="0" y="483"/>
                  </a:lnTo>
                  <a:close/>
                  <a:moveTo>
                    <a:pt x="0" y="419"/>
                  </a:moveTo>
                  <a:lnTo>
                    <a:pt x="0" y="370"/>
                  </a:lnTo>
                  <a:lnTo>
                    <a:pt x="16" y="370"/>
                  </a:lnTo>
                  <a:lnTo>
                    <a:pt x="16" y="419"/>
                  </a:lnTo>
                  <a:lnTo>
                    <a:pt x="0" y="419"/>
                  </a:lnTo>
                  <a:close/>
                  <a:moveTo>
                    <a:pt x="0" y="354"/>
                  </a:moveTo>
                  <a:lnTo>
                    <a:pt x="0" y="306"/>
                  </a:lnTo>
                  <a:lnTo>
                    <a:pt x="16" y="306"/>
                  </a:lnTo>
                  <a:lnTo>
                    <a:pt x="16" y="354"/>
                  </a:lnTo>
                  <a:lnTo>
                    <a:pt x="0" y="354"/>
                  </a:lnTo>
                  <a:close/>
                  <a:moveTo>
                    <a:pt x="0" y="290"/>
                  </a:moveTo>
                  <a:lnTo>
                    <a:pt x="0" y="270"/>
                  </a:lnTo>
                  <a:lnTo>
                    <a:pt x="3" y="242"/>
                  </a:lnTo>
                  <a:lnTo>
                    <a:pt x="19" y="243"/>
                  </a:lnTo>
                  <a:lnTo>
                    <a:pt x="16" y="270"/>
                  </a:lnTo>
                  <a:lnTo>
                    <a:pt x="16" y="290"/>
                  </a:lnTo>
                  <a:lnTo>
                    <a:pt x="0" y="290"/>
                  </a:lnTo>
                  <a:close/>
                  <a:moveTo>
                    <a:pt x="5" y="226"/>
                  </a:moveTo>
                  <a:lnTo>
                    <a:pt x="5" y="217"/>
                  </a:lnTo>
                  <a:cubicBezTo>
                    <a:pt x="6" y="216"/>
                    <a:pt x="6" y="216"/>
                    <a:pt x="6" y="215"/>
                  </a:cubicBezTo>
                  <a:lnTo>
                    <a:pt x="18" y="178"/>
                  </a:lnTo>
                  <a:lnTo>
                    <a:pt x="33" y="183"/>
                  </a:lnTo>
                  <a:lnTo>
                    <a:pt x="21" y="220"/>
                  </a:lnTo>
                  <a:lnTo>
                    <a:pt x="21" y="218"/>
                  </a:lnTo>
                  <a:lnTo>
                    <a:pt x="21" y="227"/>
                  </a:lnTo>
                  <a:lnTo>
                    <a:pt x="5" y="226"/>
                  </a:lnTo>
                  <a:close/>
                  <a:moveTo>
                    <a:pt x="24" y="162"/>
                  </a:moveTo>
                  <a:lnTo>
                    <a:pt x="46" y="120"/>
                  </a:lnTo>
                  <a:cubicBezTo>
                    <a:pt x="47" y="119"/>
                    <a:pt x="47" y="119"/>
                    <a:pt x="47" y="118"/>
                  </a:cubicBezTo>
                  <a:lnTo>
                    <a:pt x="48" y="118"/>
                  </a:lnTo>
                  <a:lnTo>
                    <a:pt x="60" y="128"/>
                  </a:lnTo>
                  <a:lnTo>
                    <a:pt x="60" y="129"/>
                  </a:lnTo>
                  <a:lnTo>
                    <a:pt x="61" y="127"/>
                  </a:lnTo>
                  <a:lnTo>
                    <a:pt x="38" y="169"/>
                  </a:lnTo>
                  <a:lnTo>
                    <a:pt x="24" y="162"/>
                  </a:lnTo>
                  <a:close/>
                  <a:moveTo>
                    <a:pt x="58" y="106"/>
                  </a:moveTo>
                  <a:lnTo>
                    <a:pt x="79" y="80"/>
                  </a:lnTo>
                  <a:cubicBezTo>
                    <a:pt x="80" y="80"/>
                    <a:pt x="80" y="80"/>
                    <a:pt x="80" y="79"/>
                  </a:cubicBezTo>
                  <a:lnTo>
                    <a:pt x="92" y="70"/>
                  </a:lnTo>
                  <a:lnTo>
                    <a:pt x="102" y="82"/>
                  </a:lnTo>
                  <a:lnTo>
                    <a:pt x="91" y="92"/>
                  </a:lnTo>
                  <a:lnTo>
                    <a:pt x="92" y="91"/>
                  </a:lnTo>
                  <a:lnTo>
                    <a:pt x="70" y="116"/>
                  </a:lnTo>
                  <a:lnTo>
                    <a:pt x="58" y="106"/>
                  </a:lnTo>
                  <a:close/>
                  <a:moveTo>
                    <a:pt x="104" y="59"/>
                  </a:moveTo>
                  <a:lnTo>
                    <a:pt x="118" y="47"/>
                  </a:lnTo>
                  <a:cubicBezTo>
                    <a:pt x="119" y="47"/>
                    <a:pt x="119" y="47"/>
                    <a:pt x="120" y="46"/>
                  </a:cubicBezTo>
                  <a:lnTo>
                    <a:pt x="145" y="33"/>
                  </a:lnTo>
                  <a:lnTo>
                    <a:pt x="153" y="47"/>
                  </a:lnTo>
                  <a:lnTo>
                    <a:pt x="127" y="61"/>
                  </a:lnTo>
                  <a:lnTo>
                    <a:pt x="129" y="60"/>
                  </a:lnTo>
                  <a:lnTo>
                    <a:pt x="114" y="72"/>
                  </a:lnTo>
                  <a:lnTo>
                    <a:pt x="104" y="59"/>
                  </a:lnTo>
                  <a:close/>
                  <a:moveTo>
                    <a:pt x="160" y="25"/>
                  </a:moveTo>
                  <a:lnTo>
                    <a:pt x="165" y="22"/>
                  </a:lnTo>
                  <a:cubicBezTo>
                    <a:pt x="165" y="22"/>
                    <a:pt x="166" y="22"/>
                    <a:pt x="166" y="22"/>
                  </a:cubicBezTo>
                  <a:lnTo>
                    <a:pt x="206" y="9"/>
                  </a:lnTo>
                  <a:lnTo>
                    <a:pt x="211" y="24"/>
                  </a:lnTo>
                  <a:lnTo>
                    <a:pt x="171" y="37"/>
                  </a:lnTo>
                  <a:lnTo>
                    <a:pt x="172" y="37"/>
                  </a:lnTo>
                  <a:lnTo>
                    <a:pt x="167" y="39"/>
                  </a:lnTo>
                  <a:lnTo>
                    <a:pt x="160" y="25"/>
                  </a:lnTo>
                  <a:close/>
                  <a:moveTo>
                    <a:pt x="223" y="5"/>
                  </a:moveTo>
                  <a:lnTo>
                    <a:pt x="270" y="0"/>
                  </a:lnTo>
                  <a:lnTo>
                    <a:pt x="271" y="16"/>
                  </a:lnTo>
                  <a:lnTo>
                    <a:pt x="225" y="21"/>
                  </a:lnTo>
                  <a:lnTo>
                    <a:pt x="223" y="5"/>
                  </a:lnTo>
                  <a:close/>
                  <a:moveTo>
                    <a:pt x="270" y="0"/>
                  </a:moveTo>
                  <a:lnTo>
                    <a:pt x="272" y="0"/>
                  </a:lnTo>
                  <a:lnTo>
                    <a:pt x="272" y="16"/>
                  </a:lnTo>
                  <a:lnTo>
                    <a:pt x="270" y="16"/>
                  </a:lnTo>
                  <a:lnTo>
                    <a:pt x="270" y="0"/>
                  </a:lnTo>
                  <a:close/>
                  <a:moveTo>
                    <a:pt x="288" y="0"/>
                  </a:moveTo>
                  <a:lnTo>
                    <a:pt x="336" y="0"/>
                  </a:lnTo>
                  <a:lnTo>
                    <a:pt x="336" y="16"/>
                  </a:lnTo>
                  <a:lnTo>
                    <a:pt x="288" y="16"/>
                  </a:lnTo>
                  <a:lnTo>
                    <a:pt x="288" y="0"/>
                  </a:lnTo>
                  <a:close/>
                  <a:moveTo>
                    <a:pt x="352" y="0"/>
                  </a:moveTo>
                  <a:lnTo>
                    <a:pt x="400" y="0"/>
                  </a:lnTo>
                  <a:lnTo>
                    <a:pt x="400" y="16"/>
                  </a:lnTo>
                  <a:lnTo>
                    <a:pt x="352" y="16"/>
                  </a:lnTo>
                  <a:lnTo>
                    <a:pt x="352" y="0"/>
                  </a:lnTo>
                  <a:close/>
                  <a:moveTo>
                    <a:pt x="416" y="0"/>
                  </a:moveTo>
                  <a:lnTo>
                    <a:pt x="464" y="0"/>
                  </a:lnTo>
                  <a:lnTo>
                    <a:pt x="464" y="16"/>
                  </a:lnTo>
                  <a:lnTo>
                    <a:pt x="416" y="16"/>
                  </a:lnTo>
                  <a:lnTo>
                    <a:pt x="416" y="0"/>
                  </a:lnTo>
                  <a:close/>
                  <a:moveTo>
                    <a:pt x="480" y="0"/>
                  </a:moveTo>
                  <a:lnTo>
                    <a:pt x="528" y="0"/>
                  </a:lnTo>
                  <a:lnTo>
                    <a:pt x="528" y="16"/>
                  </a:lnTo>
                  <a:lnTo>
                    <a:pt x="480" y="16"/>
                  </a:lnTo>
                  <a:lnTo>
                    <a:pt x="480" y="0"/>
                  </a:lnTo>
                  <a:close/>
                  <a:moveTo>
                    <a:pt x="544" y="0"/>
                  </a:moveTo>
                  <a:lnTo>
                    <a:pt x="592" y="0"/>
                  </a:lnTo>
                  <a:lnTo>
                    <a:pt x="592" y="16"/>
                  </a:lnTo>
                  <a:lnTo>
                    <a:pt x="544" y="16"/>
                  </a:lnTo>
                  <a:lnTo>
                    <a:pt x="544" y="0"/>
                  </a:lnTo>
                  <a:close/>
                  <a:moveTo>
                    <a:pt x="608" y="0"/>
                  </a:moveTo>
                  <a:lnTo>
                    <a:pt x="656" y="0"/>
                  </a:lnTo>
                  <a:lnTo>
                    <a:pt x="656" y="16"/>
                  </a:lnTo>
                  <a:lnTo>
                    <a:pt x="608" y="16"/>
                  </a:lnTo>
                  <a:lnTo>
                    <a:pt x="608" y="0"/>
                  </a:lnTo>
                  <a:close/>
                  <a:moveTo>
                    <a:pt x="672" y="0"/>
                  </a:moveTo>
                  <a:lnTo>
                    <a:pt x="720" y="0"/>
                  </a:lnTo>
                  <a:lnTo>
                    <a:pt x="720" y="16"/>
                  </a:lnTo>
                  <a:lnTo>
                    <a:pt x="672" y="16"/>
                  </a:lnTo>
                  <a:lnTo>
                    <a:pt x="672" y="0"/>
                  </a:lnTo>
                  <a:close/>
                  <a:moveTo>
                    <a:pt x="736" y="0"/>
                  </a:moveTo>
                  <a:lnTo>
                    <a:pt x="785" y="0"/>
                  </a:lnTo>
                  <a:lnTo>
                    <a:pt x="785" y="16"/>
                  </a:lnTo>
                  <a:lnTo>
                    <a:pt x="736" y="16"/>
                  </a:lnTo>
                  <a:lnTo>
                    <a:pt x="736" y="0"/>
                  </a:lnTo>
                  <a:close/>
                  <a:moveTo>
                    <a:pt x="801" y="0"/>
                  </a:moveTo>
                  <a:lnTo>
                    <a:pt x="849" y="0"/>
                  </a:lnTo>
                  <a:lnTo>
                    <a:pt x="849" y="16"/>
                  </a:lnTo>
                  <a:lnTo>
                    <a:pt x="801" y="16"/>
                  </a:lnTo>
                  <a:lnTo>
                    <a:pt x="801" y="0"/>
                  </a:lnTo>
                  <a:close/>
                  <a:moveTo>
                    <a:pt x="865" y="0"/>
                  </a:moveTo>
                  <a:lnTo>
                    <a:pt x="913" y="0"/>
                  </a:lnTo>
                  <a:lnTo>
                    <a:pt x="913" y="16"/>
                  </a:lnTo>
                  <a:lnTo>
                    <a:pt x="865" y="16"/>
                  </a:lnTo>
                  <a:lnTo>
                    <a:pt x="865" y="0"/>
                  </a:lnTo>
                  <a:close/>
                  <a:moveTo>
                    <a:pt x="929" y="0"/>
                  </a:moveTo>
                  <a:lnTo>
                    <a:pt x="977" y="0"/>
                  </a:lnTo>
                  <a:lnTo>
                    <a:pt x="977" y="16"/>
                  </a:lnTo>
                  <a:lnTo>
                    <a:pt x="929" y="16"/>
                  </a:lnTo>
                  <a:lnTo>
                    <a:pt x="929" y="0"/>
                  </a:lnTo>
                  <a:close/>
                  <a:moveTo>
                    <a:pt x="993" y="0"/>
                  </a:moveTo>
                  <a:lnTo>
                    <a:pt x="1041" y="0"/>
                  </a:lnTo>
                  <a:lnTo>
                    <a:pt x="1041" y="16"/>
                  </a:lnTo>
                  <a:lnTo>
                    <a:pt x="993" y="16"/>
                  </a:lnTo>
                  <a:lnTo>
                    <a:pt x="993" y="0"/>
                  </a:lnTo>
                  <a:close/>
                  <a:moveTo>
                    <a:pt x="1057" y="0"/>
                  </a:moveTo>
                  <a:lnTo>
                    <a:pt x="1105" y="0"/>
                  </a:lnTo>
                  <a:lnTo>
                    <a:pt x="1105" y="16"/>
                  </a:lnTo>
                  <a:lnTo>
                    <a:pt x="1057" y="16"/>
                  </a:lnTo>
                  <a:lnTo>
                    <a:pt x="1057" y="0"/>
                  </a:lnTo>
                  <a:close/>
                  <a:moveTo>
                    <a:pt x="1121" y="0"/>
                  </a:moveTo>
                  <a:lnTo>
                    <a:pt x="1169" y="0"/>
                  </a:lnTo>
                  <a:lnTo>
                    <a:pt x="1169" y="16"/>
                  </a:lnTo>
                  <a:lnTo>
                    <a:pt x="1121" y="16"/>
                  </a:lnTo>
                  <a:lnTo>
                    <a:pt x="1121" y="0"/>
                  </a:lnTo>
                  <a:close/>
                  <a:moveTo>
                    <a:pt x="1185" y="0"/>
                  </a:moveTo>
                  <a:lnTo>
                    <a:pt x="1233" y="0"/>
                  </a:lnTo>
                  <a:lnTo>
                    <a:pt x="1233" y="16"/>
                  </a:lnTo>
                  <a:lnTo>
                    <a:pt x="1185" y="16"/>
                  </a:lnTo>
                  <a:lnTo>
                    <a:pt x="1185" y="0"/>
                  </a:lnTo>
                  <a:close/>
                  <a:moveTo>
                    <a:pt x="1249" y="0"/>
                  </a:moveTo>
                  <a:lnTo>
                    <a:pt x="1297" y="0"/>
                  </a:lnTo>
                  <a:lnTo>
                    <a:pt x="1297" y="16"/>
                  </a:lnTo>
                  <a:lnTo>
                    <a:pt x="1249" y="16"/>
                  </a:lnTo>
                  <a:lnTo>
                    <a:pt x="1249" y="0"/>
                  </a:lnTo>
                  <a:close/>
                  <a:moveTo>
                    <a:pt x="1313" y="0"/>
                  </a:moveTo>
                  <a:lnTo>
                    <a:pt x="1361" y="0"/>
                  </a:lnTo>
                  <a:lnTo>
                    <a:pt x="1361" y="16"/>
                  </a:lnTo>
                  <a:lnTo>
                    <a:pt x="1313" y="16"/>
                  </a:lnTo>
                  <a:lnTo>
                    <a:pt x="1313" y="0"/>
                  </a:lnTo>
                  <a:close/>
                  <a:moveTo>
                    <a:pt x="1377" y="0"/>
                  </a:moveTo>
                  <a:lnTo>
                    <a:pt x="1425" y="0"/>
                  </a:lnTo>
                  <a:lnTo>
                    <a:pt x="1425" y="16"/>
                  </a:lnTo>
                  <a:lnTo>
                    <a:pt x="1377" y="16"/>
                  </a:lnTo>
                  <a:lnTo>
                    <a:pt x="1377" y="0"/>
                  </a:lnTo>
                  <a:close/>
                  <a:moveTo>
                    <a:pt x="1441" y="0"/>
                  </a:moveTo>
                  <a:lnTo>
                    <a:pt x="1489" y="0"/>
                  </a:lnTo>
                  <a:lnTo>
                    <a:pt x="1489" y="16"/>
                  </a:lnTo>
                  <a:lnTo>
                    <a:pt x="1441" y="16"/>
                  </a:lnTo>
                  <a:lnTo>
                    <a:pt x="1441" y="0"/>
                  </a:lnTo>
                  <a:close/>
                  <a:moveTo>
                    <a:pt x="1505" y="0"/>
                  </a:moveTo>
                  <a:lnTo>
                    <a:pt x="1553" y="0"/>
                  </a:lnTo>
                  <a:lnTo>
                    <a:pt x="1553" y="16"/>
                  </a:lnTo>
                  <a:lnTo>
                    <a:pt x="1505" y="16"/>
                  </a:lnTo>
                  <a:lnTo>
                    <a:pt x="1505" y="0"/>
                  </a:lnTo>
                  <a:close/>
                  <a:moveTo>
                    <a:pt x="1569" y="0"/>
                  </a:moveTo>
                  <a:lnTo>
                    <a:pt x="1617" y="0"/>
                  </a:lnTo>
                  <a:lnTo>
                    <a:pt x="1617" y="16"/>
                  </a:lnTo>
                  <a:lnTo>
                    <a:pt x="1569" y="16"/>
                  </a:lnTo>
                  <a:lnTo>
                    <a:pt x="1569" y="0"/>
                  </a:lnTo>
                  <a:close/>
                  <a:moveTo>
                    <a:pt x="1633" y="0"/>
                  </a:moveTo>
                  <a:lnTo>
                    <a:pt x="1681" y="0"/>
                  </a:lnTo>
                  <a:lnTo>
                    <a:pt x="1681" y="16"/>
                  </a:lnTo>
                  <a:lnTo>
                    <a:pt x="1633" y="16"/>
                  </a:lnTo>
                  <a:lnTo>
                    <a:pt x="1633" y="0"/>
                  </a:lnTo>
                  <a:close/>
                  <a:moveTo>
                    <a:pt x="1697" y="0"/>
                  </a:moveTo>
                  <a:lnTo>
                    <a:pt x="1745" y="0"/>
                  </a:lnTo>
                  <a:lnTo>
                    <a:pt x="1745" y="16"/>
                  </a:lnTo>
                  <a:lnTo>
                    <a:pt x="1697" y="16"/>
                  </a:lnTo>
                  <a:lnTo>
                    <a:pt x="1697" y="0"/>
                  </a:lnTo>
                  <a:close/>
                  <a:moveTo>
                    <a:pt x="1761" y="0"/>
                  </a:moveTo>
                  <a:lnTo>
                    <a:pt x="1810" y="0"/>
                  </a:lnTo>
                  <a:lnTo>
                    <a:pt x="1810" y="16"/>
                  </a:lnTo>
                  <a:lnTo>
                    <a:pt x="1761" y="16"/>
                  </a:lnTo>
                  <a:lnTo>
                    <a:pt x="1761" y="0"/>
                  </a:lnTo>
                  <a:close/>
                  <a:moveTo>
                    <a:pt x="1826" y="0"/>
                  </a:moveTo>
                  <a:lnTo>
                    <a:pt x="1874" y="0"/>
                  </a:lnTo>
                  <a:lnTo>
                    <a:pt x="1874" y="16"/>
                  </a:lnTo>
                  <a:lnTo>
                    <a:pt x="1826" y="16"/>
                  </a:lnTo>
                  <a:lnTo>
                    <a:pt x="1826" y="0"/>
                  </a:lnTo>
                  <a:close/>
                  <a:moveTo>
                    <a:pt x="1890" y="0"/>
                  </a:moveTo>
                  <a:lnTo>
                    <a:pt x="1938" y="0"/>
                  </a:lnTo>
                  <a:lnTo>
                    <a:pt x="1938" y="16"/>
                  </a:lnTo>
                  <a:lnTo>
                    <a:pt x="1890" y="16"/>
                  </a:lnTo>
                  <a:lnTo>
                    <a:pt x="1890" y="0"/>
                  </a:lnTo>
                  <a:close/>
                  <a:moveTo>
                    <a:pt x="1954" y="0"/>
                  </a:moveTo>
                  <a:lnTo>
                    <a:pt x="2002" y="0"/>
                  </a:lnTo>
                  <a:lnTo>
                    <a:pt x="2002" y="16"/>
                  </a:lnTo>
                  <a:lnTo>
                    <a:pt x="1954" y="16"/>
                  </a:lnTo>
                  <a:lnTo>
                    <a:pt x="1954" y="0"/>
                  </a:lnTo>
                  <a:close/>
                  <a:moveTo>
                    <a:pt x="2018" y="0"/>
                  </a:moveTo>
                  <a:lnTo>
                    <a:pt x="2066" y="0"/>
                  </a:lnTo>
                  <a:lnTo>
                    <a:pt x="2066" y="16"/>
                  </a:lnTo>
                  <a:lnTo>
                    <a:pt x="2018" y="16"/>
                  </a:lnTo>
                  <a:lnTo>
                    <a:pt x="2018" y="0"/>
                  </a:lnTo>
                  <a:close/>
                  <a:moveTo>
                    <a:pt x="2082" y="0"/>
                  </a:moveTo>
                  <a:lnTo>
                    <a:pt x="2130" y="0"/>
                  </a:lnTo>
                  <a:lnTo>
                    <a:pt x="2130" y="16"/>
                  </a:lnTo>
                  <a:lnTo>
                    <a:pt x="2082" y="16"/>
                  </a:lnTo>
                  <a:lnTo>
                    <a:pt x="2082" y="0"/>
                  </a:lnTo>
                  <a:close/>
                  <a:moveTo>
                    <a:pt x="2146" y="0"/>
                  </a:moveTo>
                  <a:lnTo>
                    <a:pt x="2194" y="0"/>
                  </a:lnTo>
                  <a:lnTo>
                    <a:pt x="2194" y="16"/>
                  </a:lnTo>
                  <a:lnTo>
                    <a:pt x="2146" y="16"/>
                  </a:lnTo>
                  <a:lnTo>
                    <a:pt x="2146" y="0"/>
                  </a:lnTo>
                  <a:close/>
                  <a:moveTo>
                    <a:pt x="2210" y="0"/>
                  </a:moveTo>
                  <a:lnTo>
                    <a:pt x="2258" y="0"/>
                  </a:lnTo>
                  <a:lnTo>
                    <a:pt x="2258" y="16"/>
                  </a:lnTo>
                  <a:lnTo>
                    <a:pt x="2210" y="16"/>
                  </a:lnTo>
                  <a:lnTo>
                    <a:pt x="2210" y="0"/>
                  </a:lnTo>
                  <a:close/>
                  <a:moveTo>
                    <a:pt x="2274" y="0"/>
                  </a:moveTo>
                  <a:lnTo>
                    <a:pt x="2322" y="0"/>
                  </a:lnTo>
                  <a:lnTo>
                    <a:pt x="2322" y="16"/>
                  </a:lnTo>
                  <a:lnTo>
                    <a:pt x="2274" y="16"/>
                  </a:lnTo>
                  <a:lnTo>
                    <a:pt x="2274" y="0"/>
                  </a:lnTo>
                  <a:close/>
                  <a:moveTo>
                    <a:pt x="2338" y="0"/>
                  </a:moveTo>
                  <a:lnTo>
                    <a:pt x="2386" y="0"/>
                  </a:lnTo>
                  <a:lnTo>
                    <a:pt x="2386" y="16"/>
                  </a:lnTo>
                  <a:lnTo>
                    <a:pt x="2338" y="16"/>
                  </a:lnTo>
                  <a:lnTo>
                    <a:pt x="2338" y="0"/>
                  </a:lnTo>
                  <a:close/>
                  <a:moveTo>
                    <a:pt x="2402" y="0"/>
                  </a:moveTo>
                  <a:lnTo>
                    <a:pt x="2450" y="0"/>
                  </a:lnTo>
                  <a:lnTo>
                    <a:pt x="2450" y="16"/>
                  </a:lnTo>
                  <a:lnTo>
                    <a:pt x="2402" y="16"/>
                  </a:lnTo>
                  <a:lnTo>
                    <a:pt x="2402" y="0"/>
                  </a:lnTo>
                  <a:close/>
                  <a:moveTo>
                    <a:pt x="2466" y="0"/>
                  </a:moveTo>
                  <a:lnTo>
                    <a:pt x="2514" y="0"/>
                  </a:lnTo>
                  <a:lnTo>
                    <a:pt x="2514" y="16"/>
                  </a:lnTo>
                  <a:lnTo>
                    <a:pt x="2466" y="16"/>
                  </a:lnTo>
                  <a:lnTo>
                    <a:pt x="2466" y="0"/>
                  </a:lnTo>
                  <a:close/>
                  <a:moveTo>
                    <a:pt x="2530" y="0"/>
                  </a:moveTo>
                  <a:lnTo>
                    <a:pt x="2578" y="0"/>
                  </a:lnTo>
                  <a:lnTo>
                    <a:pt x="2578" y="16"/>
                  </a:lnTo>
                  <a:lnTo>
                    <a:pt x="2530" y="16"/>
                  </a:lnTo>
                  <a:lnTo>
                    <a:pt x="2530" y="0"/>
                  </a:lnTo>
                  <a:close/>
                  <a:moveTo>
                    <a:pt x="2594" y="0"/>
                  </a:moveTo>
                  <a:lnTo>
                    <a:pt x="2642" y="0"/>
                  </a:lnTo>
                  <a:lnTo>
                    <a:pt x="2642" y="16"/>
                  </a:lnTo>
                  <a:lnTo>
                    <a:pt x="2594" y="16"/>
                  </a:lnTo>
                  <a:lnTo>
                    <a:pt x="2594" y="0"/>
                  </a:lnTo>
                  <a:close/>
                  <a:moveTo>
                    <a:pt x="2658" y="0"/>
                  </a:moveTo>
                  <a:lnTo>
                    <a:pt x="2706" y="0"/>
                  </a:lnTo>
                  <a:lnTo>
                    <a:pt x="2706" y="16"/>
                  </a:lnTo>
                  <a:lnTo>
                    <a:pt x="2658" y="16"/>
                  </a:lnTo>
                  <a:lnTo>
                    <a:pt x="2658" y="0"/>
                  </a:lnTo>
                  <a:close/>
                  <a:moveTo>
                    <a:pt x="2722" y="0"/>
                  </a:moveTo>
                  <a:lnTo>
                    <a:pt x="2770" y="0"/>
                  </a:lnTo>
                  <a:lnTo>
                    <a:pt x="2770" y="16"/>
                  </a:lnTo>
                  <a:lnTo>
                    <a:pt x="2722" y="16"/>
                  </a:lnTo>
                  <a:lnTo>
                    <a:pt x="2722" y="0"/>
                  </a:lnTo>
                  <a:close/>
                  <a:moveTo>
                    <a:pt x="2787" y="0"/>
                  </a:moveTo>
                  <a:lnTo>
                    <a:pt x="2835" y="0"/>
                  </a:lnTo>
                  <a:lnTo>
                    <a:pt x="2835" y="16"/>
                  </a:lnTo>
                  <a:lnTo>
                    <a:pt x="2787" y="16"/>
                  </a:lnTo>
                  <a:lnTo>
                    <a:pt x="2787" y="0"/>
                  </a:lnTo>
                  <a:close/>
                  <a:moveTo>
                    <a:pt x="2851" y="0"/>
                  </a:moveTo>
                  <a:lnTo>
                    <a:pt x="2899" y="0"/>
                  </a:lnTo>
                  <a:lnTo>
                    <a:pt x="2899" y="16"/>
                  </a:lnTo>
                  <a:lnTo>
                    <a:pt x="2851" y="16"/>
                  </a:lnTo>
                  <a:lnTo>
                    <a:pt x="2851" y="0"/>
                  </a:lnTo>
                  <a:close/>
                  <a:moveTo>
                    <a:pt x="2915" y="0"/>
                  </a:moveTo>
                  <a:lnTo>
                    <a:pt x="2963" y="0"/>
                  </a:lnTo>
                  <a:lnTo>
                    <a:pt x="2963" y="16"/>
                  </a:lnTo>
                  <a:lnTo>
                    <a:pt x="2915" y="16"/>
                  </a:lnTo>
                  <a:lnTo>
                    <a:pt x="2915" y="0"/>
                  </a:lnTo>
                  <a:close/>
                  <a:moveTo>
                    <a:pt x="2979" y="0"/>
                  </a:moveTo>
                  <a:lnTo>
                    <a:pt x="3027" y="0"/>
                  </a:lnTo>
                  <a:lnTo>
                    <a:pt x="3027" y="16"/>
                  </a:lnTo>
                  <a:lnTo>
                    <a:pt x="2979" y="16"/>
                  </a:lnTo>
                  <a:lnTo>
                    <a:pt x="2979" y="0"/>
                  </a:lnTo>
                  <a:close/>
                  <a:moveTo>
                    <a:pt x="3043" y="0"/>
                  </a:moveTo>
                  <a:lnTo>
                    <a:pt x="3091" y="0"/>
                  </a:lnTo>
                  <a:lnTo>
                    <a:pt x="3091" y="16"/>
                  </a:lnTo>
                  <a:lnTo>
                    <a:pt x="3043" y="16"/>
                  </a:lnTo>
                  <a:lnTo>
                    <a:pt x="3043" y="0"/>
                  </a:lnTo>
                  <a:close/>
                  <a:moveTo>
                    <a:pt x="3107" y="0"/>
                  </a:moveTo>
                  <a:lnTo>
                    <a:pt x="3155" y="0"/>
                  </a:lnTo>
                  <a:lnTo>
                    <a:pt x="3155" y="16"/>
                  </a:lnTo>
                  <a:lnTo>
                    <a:pt x="3107" y="16"/>
                  </a:lnTo>
                  <a:lnTo>
                    <a:pt x="3107" y="0"/>
                  </a:lnTo>
                  <a:close/>
                  <a:moveTo>
                    <a:pt x="3171" y="0"/>
                  </a:moveTo>
                  <a:lnTo>
                    <a:pt x="3219" y="0"/>
                  </a:lnTo>
                  <a:lnTo>
                    <a:pt x="3219" y="16"/>
                  </a:lnTo>
                  <a:lnTo>
                    <a:pt x="3171" y="16"/>
                  </a:lnTo>
                  <a:lnTo>
                    <a:pt x="3171" y="0"/>
                  </a:lnTo>
                  <a:close/>
                  <a:moveTo>
                    <a:pt x="3235" y="0"/>
                  </a:moveTo>
                  <a:lnTo>
                    <a:pt x="3283" y="0"/>
                  </a:lnTo>
                  <a:lnTo>
                    <a:pt x="3283" y="16"/>
                  </a:lnTo>
                  <a:lnTo>
                    <a:pt x="3235" y="16"/>
                  </a:lnTo>
                  <a:lnTo>
                    <a:pt x="3235" y="0"/>
                  </a:lnTo>
                  <a:close/>
                  <a:moveTo>
                    <a:pt x="3299" y="0"/>
                  </a:moveTo>
                  <a:lnTo>
                    <a:pt x="3347" y="0"/>
                  </a:lnTo>
                  <a:lnTo>
                    <a:pt x="3347" y="16"/>
                  </a:lnTo>
                  <a:lnTo>
                    <a:pt x="3299" y="16"/>
                  </a:lnTo>
                  <a:lnTo>
                    <a:pt x="3299" y="0"/>
                  </a:lnTo>
                  <a:close/>
                  <a:moveTo>
                    <a:pt x="3363" y="0"/>
                  </a:moveTo>
                  <a:lnTo>
                    <a:pt x="3411" y="0"/>
                  </a:lnTo>
                  <a:lnTo>
                    <a:pt x="3411" y="16"/>
                  </a:lnTo>
                  <a:lnTo>
                    <a:pt x="3363" y="16"/>
                  </a:lnTo>
                  <a:lnTo>
                    <a:pt x="3363" y="0"/>
                  </a:lnTo>
                  <a:close/>
                  <a:moveTo>
                    <a:pt x="3427" y="0"/>
                  </a:moveTo>
                  <a:lnTo>
                    <a:pt x="3475" y="0"/>
                  </a:lnTo>
                  <a:lnTo>
                    <a:pt x="3475" y="16"/>
                  </a:lnTo>
                  <a:lnTo>
                    <a:pt x="3427" y="16"/>
                  </a:lnTo>
                  <a:lnTo>
                    <a:pt x="3427" y="0"/>
                  </a:lnTo>
                  <a:close/>
                  <a:moveTo>
                    <a:pt x="3491" y="0"/>
                  </a:moveTo>
                  <a:lnTo>
                    <a:pt x="3539" y="0"/>
                  </a:lnTo>
                  <a:lnTo>
                    <a:pt x="3539" y="16"/>
                  </a:lnTo>
                  <a:lnTo>
                    <a:pt x="3491" y="16"/>
                  </a:lnTo>
                  <a:lnTo>
                    <a:pt x="3491" y="0"/>
                  </a:lnTo>
                  <a:close/>
                  <a:moveTo>
                    <a:pt x="3555" y="0"/>
                  </a:moveTo>
                  <a:lnTo>
                    <a:pt x="3603" y="0"/>
                  </a:lnTo>
                  <a:lnTo>
                    <a:pt x="3603" y="16"/>
                  </a:lnTo>
                  <a:lnTo>
                    <a:pt x="3555" y="16"/>
                  </a:lnTo>
                  <a:lnTo>
                    <a:pt x="3555" y="0"/>
                  </a:lnTo>
                  <a:close/>
                  <a:moveTo>
                    <a:pt x="3619" y="0"/>
                  </a:moveTo>
                  <a:lnTo>
                    <a:pt x="3667" y="0"/>
                  </a:lnTo>
                  <a:lnTo>
                    <a:pt x="3667" y="16"/>
                  </a:lnTo>
                  <a:lnTo>
                    <a:pt x="3619" y="16"/>
                  </a:lnTo>
                  <a:lnTo>
                    <a:pt x="3619" y="0"/>
                  </a:lnTo>
                  <a:close/>
                  <a:moveTo>
                    <a:pt x="3683" y="0"/>
                  </a:moveTo>
                  <a:lnTo>
                    <a:pt x="3731" y="0"/>
                  </a:lnTo>
                  <a:lnTo>
                    <a:pt x="3731" y="16"/>
                  </a:lnTo>
                  <a:lnTo>
                    <a:pt x="3683" y="16"/>
                  </a:lnTo>
                  <a:lnTo>
                    <a:pt x="3683" y="0"/>
                  </a:lnTo>
                  <a:close/>
                  <a:moveTo>
                    <a:pt x="3747" y="0"/>
                  </a:moveTo>
                  <a:lnTo>
                    <a:pt x="3796" y="0"/>
                  </a:lnTo>
                  <a:lnTo>
                    <a:pt x="3796" y="16"/>
                  </a:lnTo>
                  <a:lnTo>
                    <a:pt x="3747" y="16"/>
                  </a:lnTo>
                  <a:lnTo>
                    <a:pt x="3747" y="0"/>
                  </a:lnTo>
                  <a:close/>
                  <a:moveTo>
                    <a:pt x="3812" y="0"/>
                  </a:moveTo>
                  <a:lnTo>
                    <a:pt x="3860" y="0"/>
                  </a:lnTo>
                  <a:lnTo>
                    <a:pt x="3860" y="16"/>
                  </a:lnTo>
                  <a:lnTo>
                    <a:pt x="3812" y="16"/>
                  </a:lnTo>
                  <a:lnTo>
                    <a:pt x="3812" y="0"/>
                  </a:lnTo>
                  <a:close/>
                  <a:moveTo>
                    <a:pt x="3876" y="0"/>
                  </a:moveTo>
                  <a:lnTo>
                    <a:pt x="3924" y="0"/>
                  </a:lnTo>
                  <a:lnTo>
                    <a:pt x="3924" y="16"/>
                  </a:lnTo>
                  <a:lnTo>
                    <a:pt x="3876" y="16"/>
                  </a:lnTo>
                  <a:lnTo>
                    <a:pt x="3876" y="0"/>
                  </a:lnTo>
                  <a:close/>
                  <a:moveTo>
                    <a:pt x="3940" y="0"/>
                  </a:moveTo>
                  <a:lnTo>
                    <a:pt x="3988" y="0"/>
                  </a:lnTo>
                  <a:lnTo>
                    <a:pt x="3988" y="16"/>
                  </a:lnTo>
                  <a:lnTo>
                    <a:pt x="3940" y="16"/>
                  </a:lnTo>
                  <a:lnTo>
                    <a:pt x="3940" y="0"/>
                  </a:lnTo>
                  <a:close/>
                  <a:moveTo>
                    <a:pt x="4004" y="0"/>
                  </a:moveTo>
                  <a:lnTo>
                    <a:pt x="4052" y="0"/>
                  </a:lnTo>
                  <a:lnTo>
                    <a:pt x="4052" y="16"/>
                  </a:lnTo>
                  <a:lnTo>
                    <a:pt x="4004" y="16"/>
                  </a:lnTo>
                  <a:lnTo>
                    <a:pt x="4004" y="0"/>
                  </a:lnTo>
                  <a:close/>
                  <a:moveTo>
                    <a:pt x="4068" y="0"/>
                  </a:moveTo>
                  <a:lnTo>
                    <a:pt x="4116" y="0"/>
                  </a:lnTo>
                  <a:lnTo>
                    <a:pt x="4116" y="16"/>
                  </a:lnTo>
                  <a:lnTo>
                    <a:pt x="4068" y="16"/>
                  </a:lnTo>
                  <a:lnTo>
                    <a:pt x="4068" y="0"/>
                  </a:lnTo>
                  <a:close/>
                  <a:moveTo>
                    <a:pt x="4132" y="0"/>
                  </a:moveTo>
                  <a:lnTo>
                    <a:pt x="4180" y="0"/>
                  </a:lnTo>
                  <a:lnTo>
                    <a:pt x="4180" y="16"/>
                  </a:lnTo>
                  <a:lnTo>
                    <a:pt x="4132" y="16"/>
                  </a:lnTo>
                  <a:lnTo>
                    <a:pt x="4132" y="0"/>
                  </a:lnTo>
                  <a:close/>
                  <a:moveTo>
                    <a:pt x="4196" y="0"/>
                  </a:moveTo>
                  <a:lnTo>
                    <a:pt x="4244" y="0"/>
                  </a:lnTo>
                  <a:lnTo>
                    <a:pt x="4244" y="16"/>
                  </a:lnTo>
                  <a:lnTo>
                    <a:pt x="4196" y="16"/>
                  </a:lnTo>
                  <a:lnTo>
                    <a:pt x="4196" y="0"/>
                  </a:lnTo>
                  <a:close/>
                  <a:moveTo>
                    <a:pt x="4260" y="0"/>
                  </a:moveTo>
                  <a:lnTo>
                    <a:pt x="4308" y="0"/>
                  </a:lnTo>
                  <a:lnTo>
                    <a:pt x="4308" y="16"/>
                  </a:lnTo>
                  <a:lnTo>
                    <a:pt x="4260" y="16"/>
                  </a:lnTo>
                  <a:lnTo>
                    <a:pt x="4260" y="0"/>
                  </a:lnTo>
                  <a:close/>
                  <a:moveTo>
                    <a:pt x="4324" y="0"/>
                  </a:moveTo>
                  <a:lnTo>
                    <a:pt x="4372" y="0"/>
                  </a:lnTo>
                  <a:lnTo>
                    <a:pt x="4372" y="16"/>
                  </a:lnTo>
                  <a:lnTo>
                    <a:pt x="4324" y="16"/>
                  </a:lnTo>
                  <a:lnTo>
                    <a:pt x="4324" y="0"/>
                  </a:lnTo>
                  <a:close/>
                  <a:moveTo>
                    <a:pt x="4388" y="0"/>
                  </a:moveTo>
                  <a:lnTo>
                    <a:pt x="4436" y="0"/>
                  </a:lnTo>
                  <a:lnTo>
                    <a:pt x="4436" y="16"/>
                  </a:lnTo>
                  <a:lnTo>
                    <a:pt x="4388" y="16"/>
                  </a:lnTo>
                  <a:lnTo>
                    <a:pt x="4388" y="0"/>
                  </a:lnTo>
                  <a:close/>
                  <a:moveTo>
                    <a:pt x="4452" y="0"/>
                  </a:moveTo>
                  <a:lnTo>
                    <a:pt x="4500" y="0"/>
                  </a:lnTo>
                  <a:lnTo>
                    <a:pt x="4500" y="16"/>
                  </a:lnTo>
                  <a:lnTo>
                    <a:pt x="4452" y="16"/>
                  </a:lnTo>
                  <a:lnTo>
                    <a:pt x="4452" y="0"/>
                  </a:lnTo>
                  <a:close/>
                  <a:moveTo>
                    <a:pt x="4516" y="0"/>
                  </a:moveTo>
                  <a:lnTo>
                    <a:pt x="4564" y="0"/>
                  </a:lnTo>
                  <a:lnTo>
                    <a:pt x="4564" y="16"/>
                  </a:lnTo>
                  <a:lnTo>
                    <a:pt x="4516" y="16"/>
                  </a:lnTo>
                  <a:lnTo>
                    <a:pt x="4516" y="0"/>
                  </a:lnTo>
                  <a:close/>
                  <a:moveTo>
                    <a:pt x="4580" y="0"/>
                  </a:moveTo>
                  <a:lnTo>
                    <a:pt x="4628" y="0"/>
                  </a:lnTo>
                  <a:lnTo>
                    <a:pt x="4628" y="16"/>
                  </a:lnTo>
                  <a:lnTo>
                    <a:pt x="4580" y="16"/>
                  </a:lnTo>
                  <a:lnTo>
                    <a:pt x="4580" y="0"/>
                  </a:lnTo>
                  <a:close/>
                  <a:moveTo>
                    <a:pt x="4644" y="0"/>
                  </a:moveTo>
                  <a:lnTo>
                    <a:pt x="4692" y="0"/>
                  </a:lnTo>
                  <a:lnTo>
                    <a:pt x="4692" y="16"/>
                  </a:lnTo>
                  <a:lnTo>
                    <a:pt x="4644" y="16"/>
                  </a:lnTo>
                  <a:lnTo>
                    <a:pt x="4644" y="0"/>
                  </a:lnTo>
                  <a:close/>
                  <a:moveTo>
                    <a:pt x="4708" y="0"/>
                  </a:moveTo>
                  <a:lnTo>
                    <a:pt x="4756" y="0"/>
                  </a:lnTo>
                  <a:lnTo>
                    <a:pt x="4756" y="16"/>
                  </a:lnTo>
                  <a:lnTo>
                    <a:pt x="4708" y="16"/>
                  </a:lnTo>
                  <a:lnTo>
                    <a:pt x="4708" y="0"/>
                  </a:lnTo>
                  <a:close/>
                  <a:moveTo>
                    <a:pt x="4772" y="0"/>
                  </a:moveTo>
                  <a:lnTo>
                    <a:pt x="4821" y="0"/>
                  </a:lnTo>
                  <a:lnTo>
                    <a:pt x="4821" y="16"/>
                  </a:lnTo>
                  <a:lnTo>
                    <a:pt x="4772" y="16"/>
                  </a:lnTo>
                  <a:lnTo>
                    <a:pt x="4772" y="0"/>
                  </a:lnTo>
                  <a:close/>
                  <a:moveTo>
                    <a:pt x="4837" y="0"/>
                  </a:moveTo>
                  <a:lnTo>
                    <a:pt x="4885" y="0"/>
                  </a:lnTo>
                  <a:lnTo>
                    <a:pt x="4885" y="16"/>
                  </a:lnTo>
                  <a:lnTo>
                    <a:pt x="4837" y="16"/>
                  </a:lnTo>
                  <a:lnTo>
                    <a:pt x="4837" y="0"/>
                  </a:lnTo>
                  <a:close/>
                  <a:moveTo>
                    <a:pt x="4901" y="0"/>
                  </a:moveTo>
                  <a:lnTo>
                    <a:pt x="4949" y="0"/>
                  </a:lnTo>
                  <a:lnTo>
                    <a:pt x="4949" y="16"/>
                  </a:lnTo>
                  <a:lnTo>
                    <a:pt x="4901" y="16"/>
                  </a:lnTo>
                  <a:lnTo>
                    <a:pt x="4901" y="0"/>
                  </a:lnTo>
                  <a:close/>
                  <a:moveTo>
                    <a:pt x="4965" y="0"/>
                  </a:moveTo>
                  <a:lnTo>
                    <a:pt x="5013" y="0"/>
                  </a:lnTo>
                  <a:lnTo>
                    <a:pt x="5013" y="16"/>
                  </a:lnTo>
                  <a:lnTo>
                    <a:pt x="4965" y="16"/>
                  </a:lnTo>
                  <a:lnTo>
                    <a:pt x="4965" y="0"/>
                  </a:lnTo>
                  <a:close/>
                  <a:moveTo>
                    <a:pt x="5029" y="0"/>
                  </a:moveTo>
                  <a:lnTo>
                    <a:pt x="5077" y="0"/>
                  </a:lnTo>
                  <a:lnTo>
                    <a:pt x="5077" y="16"/>
                  </a:lnTo>
                  <a:lnTo>
                    <a:pt x="5029" y="16"/>
                  </a:lnTo>
                  <a:lnTo>
                    <a:pt x="5029" y="0"/>
                  </a:lnTo>
                  <a:close/>
                  <a:moveTo>
                    <a:pt x="5093" y="0"/>
                  </a:moveTo>
                  <a:lnTo>
                    <a:pt x="5141" y="0"/>
                  </a:lnTo>
                  <a:lnTo>
                    <a:pt x="5141" y="16"/>
                  </a:lnTo>
                  <a:lnTo>
                    <a:pt x="5093" y="16"/>
                  </a:lnTo>
                  <a:lnTo>
                    <a:pt x="5093" y="0"/>
                  </a:lnTo>
                  <a:close/>
                  <a:moveTo>
                    <a:pt x="5157" y="0"/>
                  </a:moveTo>
                  <a:lnTo>
                    <a:pt x="5205" y="0"/>
                  </a:lnTo>
                  <a:lnTo>
                    <a:pt x="5205" y="16"/>
                  </a:lnTo>
                  <a:lnTo>
                    <a:pt x="5157" y="16"/>
                  </a:lnTo>
                  <a:lnTo>
                    <a:pt x="5157" y="0"/>
                  </a:lnTo>
                  <a:close/>
                  <a:moveTo>
                    <a:pt x="5221" y="0"/>
                  </a:moveTo>
                  <a:lnTo>
                    <a:pt x="5269" y="0"/>
                  </a:lnTo>
                  <a:lnTo>
                    <a:pt x="5269" y="16"/>
                  </a:lnTo>
                  <a:lnTo>
                    <a:pt x="5221" y="16"/>
                  </a:lnTo>
                  <a:lnTo>
                    <a:pt x="5221" y="0"/>
                  </a:lnTo>
                  <a:close/>
                  <a:moveTo>
                    <a:pt x="5285" y="0"/>
                  </a:moveTo>
                  <a:lnTo>
                    <a:pt x="5333" y="0"/>
                  </a:lnTo>
                  <a:lnTo>
                    <a:pt x="5333" y="16"/>
                  </a:lnTo>
                  <a:lnTo>
                    <a:pt x="5285" y="16"/>
                  </a:lnTo>
                  <a:lnTo>
                    <a:pt x="5285" y="0"/>
                  </a:lnTo>
                  <a:close/>
                  <a:moveTo>
                    <a:pt x="5349" y="0"/>
                  </a:moveTo>
                  <a:lnTo>
                    <a:pt x="5397" y="0"/>
                  </a:lnTo>
                  <a:lnTo>
                    <a:pt x="5397" y="16"/>
                  </a:lnTo>
                  <a:lnTo>
                    <a:pt x="5349" y="16"/>
                  </a:lnTo>
                  <a:lnTo>
                    <a:pt x="5349" y="0"/>
                  </a:lnTo>
                  <a:close/>
                  <a:moveTo>
                    <a:pt x="5413" y="0"/>
                  </a:moveTo>
                  <a:lnTo>
                    <a:pt x="5461" y="0"/>
                  </a:lnTo>
                  <a:lnTo>
                    <a:pt x="5461" y="16"/>
                  </a:lnTo>
                  <a:lnTo>
                    <a:pt x="5413" y="16"/>
                  </a:lnTo>
                  <a:lnTo>
                    <a:pt x="5413" y="0"/>
                  </a:lnTo>
                  <a:close/>
                  <a:moveTo>
                    <a:pt x="5477" y="0"/>
                  </a:moveTo>
                  <a:lnTo>
                    <a:pt x="5525" y="0"/>
                  </a:lnTo>
                  <a:lnTo>
                    <a:pt x="5525" y="16"/>
                  </a:lnTo>
                  <a:lnTo>
                    <a:pt x="5477" y="16"/>
                  </a:lnTo>
                  <a:lnTo>
                    <a:pt x="5477" y="0"/>
                  </a:lnTo>
                  <a:close/>
                  <a:moveTo>
                    <a:pt x="5541" y="0"/>
                  </a:moveTo>
                  <a:lnTo>
                    <a:pt x="5589" y="0"/>
                  </a:lnTo>
                  <a:lnTo>
                    <a:pt x="5589" y="16"/>
                  </a:lnTo>
                  <a:lnTo>
                    <a:pt x="5541" y="16"/>
                  </a:lnTo>
                  <a:lnTo>
                    <a:pt x="5541" y="0"/>
                  </a:lnTo>
                  <a:close/>
                  <a:moveTo>
                    <a:pt x="5605" y="0"/>
                  </a:moveTo>
                  <a:lnTo>
                    <a:pt x="5653" y="0"/>
                  </a:lnTo>
                  <a:lnTo>
                    <a:pt x="5653" y="16"/>
                  </a:lnTo>
                  <a:lnTo>
                    <a:pt x="5605" y="16"/>
                  </a:lnTo>
                  <a:lnTo>
                    <a:pt x="5605" y="0"/>
                  </a:lnTo>
                  <a:close/>
                  <a:moveTo>
                    <a:pt x="5669" y="0"/>
                  </a:moveTo>
                  <a:lnTo>
                    <a:pt x="5717" y="0"/>
                  </a:lnTo>
                  <a:lnTo>
                    <a:pt x="5717" y="16"/>
                  </a:lnTo>
                  <a:lnTo>
                    <a:pt x="5669" y="16"/>
                  </a:lnTo>
                  <a:lnTo>
                    <a:pt x="5669" y="0"/>
                  </a:lnTo>
                  <a:close/>
                  <a:moveTo>
                    <a:pt x="5733" y="0"/>
                  </a:moveTo>
                  <a:lnTo>
                    <a:pt x="5782" y="0"/>
                  </a:lnTo>
                  <a:lnTo>
                    <a:pt x="5782" y="16"/>
                  </a:lnTo>
                  <a:lnTo>
                    <a:pt x="5733" y="16"/>
                  </a:lnTo>
                  <a:lnTo>
                    <a:pt x="5733" y="0"/>
                  </a:lnTo>
                  <a:close/>
                  <a:moveTo>
                    <a:pt x="5798" y="0"/>
                  </a:moveTo>
                  <a:lnTo>
                    <a:pt x="5846" y="0"/>
                  </a:lnTo>
                  <a:lnTo>
                    <a:pt x="5846" y="16"/>
                  </a:lnTo>
                  <a:lnTo>
                    <a:pt x="5798" y="16"/>
                  </a:lnTo>
                  <a:lnTo>
                    <a:pt x="5798" y="0"/>
                  </a:lnTo>
                  <a:close/>
                  <a:moveTo>
                    <a:pt x="5862" y="0"/>
                  </a:moveTo>
                  <a:lnTo>
                    <a:pt x="5910" y="0"/>
                  </a:lnTo>
                  <a:lnTo>
                    <a:pt x="5910" y="16"/>
                  </a:lnTo>
                  <a:lnTo>
                    <a:pt x="5862" y="16"/>
                  </a:lnTo>
                  <a:lnTo>
                    <a:pt x="5862" y="0"/>
                  </a:lnTo>
                  <a:close/>
                  <a:moveTo>
                    <a:pt x="5926" y="0"/>
                  </a:moveTo>
                  <a:lnTo>
                    <a:pt x="5974" y="0"/>
                  </a:lnTo>
                  <a:lnTo>
                    <a:pt x="5974" y="16"/>
                  </a:lnTo>
                  <a:lnTo>
                    <a:pt x="5926" y="16"/>
                  </a:lnTo>
                  <a:lnTo>
                    <a:pt x="5926" y="0"/>
                  </a:lnTo>
                  <a:close/>
                  <a:moveTo>
                    <a:pt x="5990" y="0"/>
                  </a:moveTo>
                  <a:lnTo>
                    <a:pt x="6038" y="0"/>
                  </a:lnTo>
                  <a:lnTo>
                    <a:pt x="6038" y="16"/>
                  </a:lnTo>
                  <a:lnTo>
                    <a:pt x="5990" y="16"/>
                  </a:lnTo>
                  <a:lnTo>
                    <a:pt x="5990" y="0"/>
                  </a:lnTo>
                  <a:close/>
                  <a:moveTo>
                    <a:pt x="6054" y="0"/>
                  </a:moveTo>
                  <a:lnTo>
                    <a:pt x="6102" y="0"/>
                  </a:lnTo>
                  <a:lnTo>
                    <a:pt x="6102" y="16"/>
                  </a:lnTo>
                  <a:lnTo>
                    <a:pt x="6054" y="16"/>
                  </a:lnTo>
                  <a:lnTo>
                    <a:pt x="6054" y="0"/>
                  </a:lnTo>
                  <a:close/>
                  <a:moveTo>
                    <a:pt x="6118" y="0"/>
                  </a:moveTo>
                  <a:lnTo>
                    <a:pt x="6166" y="0"/>
                  </a:lnTo>
                  <a:lnTo>
                    <a:pt x="6166" y="16"/>
                  </a:lnTo>
                  <a:lnTo>
                    <a:pt x="6118" y="16"/>
                  </a:lnTo>
                  <a:lnTo>
                    <a:pt x="6118" y="0"/>
                  </a:lnTo>
                  <a:close/>
                  <a:moveTo>
                    <a:pt x="6182" y="0"/>
                  </a:moveTo>
                  <a:lnTo>
                    <a:pt x="6230" y="0"/>
                  </a:lnTo>
                  <a:lnTo>
                    <a:pt x="6230" y="16"/>
                  </a:lnTo>
                  <a:lnTo>
                    <a:pt x="6182" y="16"/>
                  </a:lnTo>
                  <a:lnTo>
                    <a:pt x="6182" y="0"/>
                  </a:lnTo>
                  <a:close/>
                  <a:moveTo>
                    <a:pt x="6246" y="0"/>
                  </a:moveTo>
                  <a:lnTo>
                    <a:pt x="6294" y="0"/>
                  </a:lnTo>
                  <a:lnTo>
                    <a:pt x="6294" y="16"/>
                  </a:lnTo>
                  <a:lnTo>
                    <a:pt x="6246" y="16"/>
                  </a:lnTo>
                  <a:lnTo>
                    <a:pt x="6246" y="0"/>
                  </a:lnTo>
                  <a:close/>
                  <a:moveTo>
                    <a:pt x="6310" y="0"/>
                  </a:moveTo>
                  <a:lnTo>
                    <a:pt x="6358" y="0"/>
                  </a:lnTo>
                  <a:lnTo>
                    <a:pt x="6358" y="16"/>
                  </a:lnTo>
                  <a:lnTo>
                    <a:pt x="6310" y="16"/>
                  </a:lnTo>
                  <a:lnTo>
                    <a:pt x="6310" y="0"/>
                  </a:lnTo>
                  <a:close/>
                  <a:moveTo>
                    <a:pt x="6374" y="0"/>
                  </a:moveTo>
                  <a:lnTo>
                    <a:pt x="6422" y="0"/>
                  </a:lnTo>
                  <a:lnTo>
                    <a:pt x="6422" y="16"/>
                  </a:lnTo>
                  <a:lnTo>
                    <a:pt x="6374" y="16"/>
                  </a:lnTo>
                  <a:lnTo>
                    <a:pt x="6374" y="0"/>
                  </a:lnTo>
                  <a:close/>
                  <a:moveTo>
                    <a:pt x="6438" y="0"/>
                  </a:moveTo>
                  <a:lnTo>
                    <a:pt x="6486" y="0"/>
                  </a:lnTo>
                  <a:lnTo>
                    <a:pt x="6486" y="16"/>
                  </a:lnTo>
                  <a:lnTo>
                    <a:pt x="6438" y="16"/>
                  </a:lnTo>
                  <a:lnTo>
                    <a:pt x="6438" y="0"/>
                  </a:lnTo>
                  <a:close/>
                  <a:moveTo>
                    <a:pt x="6502" y="0"/>
                  </a:moveTo>
                  <a:lnTo>
                    <a:pt x="6550" y="0"/>
                  </a:lnTo>
                  <a:lnTo>
                    <a:pt x="6550" y="16"/>
                  </a:lnTo>
                  <a:lnTo>
                    <a:pt x="6502" y="16"/>
                  </a:lnTo>
                  <a:lnTo>
                    <a:pt x="6502" y="0"/>
                  </a:lnTo>
                  <a:close/>
                  <a:moveTo>
                    <a:pt x="6566" y="0"/>
                  </a:moveTo>
                  <a:lnTo>
                    <a:pt x="6614" y="0"/>
                  </a:lnTo>
                  <a:lnTo>
                    <a:pt x="6614" y="16"/>
                  </a:lnTo>
                  <a:lnTo>
                    <a:pt x="6566" y="16"/>
                  </a:lnTo>
                  <a:lnTo>
                    <a:pt x="6566" y="0"/>
                  </a:lnTo>
                  <a:close/>
                  <a:moveTo>
                    <a:pt x="6630" y="0"/>
                  </a:moveTo>
                  <a:lnTo>
                    <a:pt x="6678" y="0"/>
                  </a:lnTo>
                  <a:lnTo>
                    <a:pt x="6678" y="16"/>
                  </a:lnTo>
                  <a:lnTo>
                    <a:pt x="6630" y="16"/>
                  </a:lnTo>
                  <a:lnTo>
                    <a:pt x="6630" y="0"/>
                  </a:lnTo>
                  <a:close/>
                  <a:moveTo>
                    <a:pt x="6694" y="0"/>
                  </a:moveTo>
                  <a:lnTo>
                    <a:pt x="6742" y="0"/>
                  </a:lnTo>
                  <a:lnTo>
                    <a:pt x="6742" y="16"/>
                  </a:lnTo>
                  <a:lnTo>
                    <a:pt x="6694" y="16"/>
                  </a:lnTo>
                  <a:lnTo>
                    <a:pt x="6694" y="0"/>
                  </a:lnTo>
                  <a:close/>
                  <a:moveTo>
                    <a:pt x="6758" y="0"/>
                  </a:moveTo>
                  <a:lnTo>
                    <a:pt x="6807" y="0"/>
                  </a:lnTo>
                  <a:lnTo>
                    <a:pt x="6807" y="16"/>
                  </a:lnTo>
                  <a:lnTo>
                    <a:pt x="6758" y="16"/>
                  </a:lnTo>
                  <a:lnTo>
                    <a:pt x="6758" y="0"/>
                  </a:lnTo>
                  <a:close/>
                  <a:moveTo>
                    <a:pt x="6823" y="0"/>
                  </a:moveTo>
                  <a:lnTo>
                    <a:pt x="6871" y="0"/>
                  </a:lnTo>
                  <a:lnTo>
                    <a:pt x="6871" y="16"/>
                  </a:lnTo>
                  <a:lnTo>
                    <a:pt x="6823" y="16"/>
                  </a:lnTo>
                  <a:lnTo>
                    <a:pt x="6823" y="0"/>
                  </a:lnTo>
                  <a:close/>
                  <a:moveTo>
                    <a:pt x="6887" y="0"/>
                  </a:moveTo>
                  <a:lnTo>
                    <a:pt x="6935" y="0"/>
                  </a:lnTo>
                  <a:lnTo>
                    <a:pt x="6935" y="16"/>
                  </a:lnTo>
                  <a:lnTo>
                    <a:pt x="6887" y="16"/>
                  </a:lnTo>
                  <a:lnTo>
                    <a:pt x="6887" y="0"/>
                  </a:lnTo>
                  <a:close/>
                  <a:moveTo>
                    <a:pt x="6951" y="0"/>
                  </a:moveTo>
                  <a:lnTo>
                    <a:pt x="6999" y="0"/>
                  </a:lnTo>
                  <a:lnTo>
                    <a:pt x="6999" y="16"/>
                  </a:lnTo>
                  <a:lnTo>
                    <a:pt x="6951" y="16"/>
                  </a:lnTo>
                  <a:lnTo>
                    <a:pt x="6951" y="0"/>
                  </a:lnTo>
                  <a:close/>
                  <a:moveTo>
                    <a:pt x="7015" y="0"/>
                  </a:moveTo>
                  <a:lnTo>
                    <a:pt x="7063" y="0"/>
                  </a:lnTo>
                  <a:lnTo>
                    <a:pt x="7063" y="16"/>
                  </a:lnTo>
                  <a:lnTo>
                    <a:pt x="7015" y="16"/>
                  </a:lnTo>
                  <a:lnTo>
                    <a:pt x="7015" y="0"/>
                  </a:lnTo>
                  <a:close/>
                  <a:moveTo>
                    <a:pt x="7079" y="0"/>
                  </a:moveTo>
                  <a:lnTo>
                    <a:pt x="7127" y="0"/>
                  </a:lnTo>
                  <a:lnTo>
                    <a:pt x="7127" y="16"/>
                  </a:lnTo>
                  <a:lnTo>
                    <a:pt x="7079" y="16"/>
                  </a:lnTo>
                  <a:lnTo>
                    <a:pt x="7079" y="0"/>
                  </a:lnTo>
                  <a:close/>
                  <a:moveTo>
                    <a:pt x="7143" y="0"/>
                  </a:moveTo>
                  <a:lnTo>
                    <a:pt x="7191" y="0"/>
                  </a:lnTo>
                  <a:lnTo>
                    <a:pt x="7191" y="16"/>
                  </a:lnTo>
                  <a:lnTo>
                    <a:pt x="7143" y="16"/>
                  </a:lnTo>
                  <a:lnTo>
                    <a:pt x="7143" y="0"/>
                  </a:lnTo>
                  <a:close/>
                  <a:moveTo>
                    <a:pt x="7207" y="0"/>
                  </a:moveTo>
                  <a:lnTo>
                    <a:pt x="7255" y="0"/>
                  </a:lnTo>
                  <a:lnTo>
                    <a:pt x="7255" y="16"/>
                  </a:lnTo>
                  <a:lnTo>
                    <a:pt x="7207" y="16"/>
                  </a:lnTo>
                  <a:lnTo>
                    <a:pt x="7207" y="0"/>
                  </a:lnTo>
                  <a:close/>
                  <a:moveTo>
                    <a:pt x="7271" y="0"/>
                  </a:moveTo>
                  <a:lnTo>
                    <a:pt x="7319" y="0"/>
                  </a:lnTo>
                  <a:lnTo>
                    <a:pt x="7319" y="16"/>
                  </a:lnTo>
                  <a:lnTo>
                    <a:pt x="7271" y="16"/>
                  </a:lnTo>
                  <a:lnTo>
                    <a:pt x="7271" y="0"/>
                  </a:lnTo>
                  <a:close/>
                  <a:moveTo>
                    <a:pt x="7335" y="0"/>
                  </a:moveTo>
                  <a:lnTo>
                    <a:pt x="7383" y="0"/>
                  </a:lnTo>
                  <a:lnTo>
                    <a:pt x="7383" y="16"/>
                  </a:lnTo>
                  <a:lnTo>
                    <a:pt x="7335" y="16"/>
                  </a:lnTo>
                  <a:lnTo>
                    <a:pt x="7335" y="0"/>
                  </a:lnTo>
                  <a:close/>
                  <a:moveTo>
                    <a:pt x="7399" y="0"/>
                  </a:moveTo>
                  <a:lnTo>
                    <a:pt x="7447" y="0"/>
                  </a:lnTo>
                  <a:lnTo>
                    <a:pt x="7447" y="16"/>
                  </a:lnTo>
                  <a:lnTo>
                    <a:pt x="7399" y="16"/>
                  </a:lnTo>
                  <a:lnTo>
                    <a:pt x="7399" y="0"/>
                  </a:lnTo>
                  <a:close/>
                  <a:moveTo>
                    <a:pt x="7463" y="0"/>
                  </a:moveTo>
                  <a:lnTo>
                    <a:pt x="7511" y="0"/>
                  </a:lnTo>
                  <a:lnTo>
                    <a:pt x="7511" y="16"/>
                  </a:lnTo>
                  <a:lnTo>
                    <a:pt x="7463" y="16"/>
                  </a:lnTo>
                  <a:lnTo>
                    <a:pt x="7463" y="0"/>
                  </a:lnTo>
                  <a:close/>
                  <a:moveTo>
                    <a:pt x="7527" y="0"/>
                  </a:moveTo>
                  <a:lnTo>
                    <a:pt x="7575" y="0"/>
                  </a:lnTo>
                  <a:lnTo>
                    <a:pt x="7575" y="16"/>
                  </a:lnTo>
                  <a:lnTo>
                    <a:pt x="7527" y="16"/>
                  </a:lnTo>
                  <a:lnTo>
                    <a:pt x="7527" y="0"/>
                  </a:lnTo>
                  <a:close/>
                  <a:moveTo>
                    <a:pt x="7591" y="0"/>
                  </a:moveTo>
                  <a:lnTo>
                    <a:pt x="7639" y="0"/>
                  </a:lnTo>
                  <a:lnTo>
                    <a:pt x="7639" y="16"/>
                  </a:lnTo>
                  <a:lnTo>
                    <a:pt x="7591" y="16"/>
                  </a:lnTo>
                  <a:lnTo>
                    <a:pt x="7591" y="0"/>
                  </a:lnTo>
                  <a:close/>
                  <a:moveTo>
                    <a:pt x="7655" y="0"/>
                  </a:moveTo>
                  <a:lnTo>
                    <a:pt x="7703" y="0"/>
                  </a:lnTo>
                  <a:lnTo>
                    <a:pt x="7703" y="16"/>
                  </a:lnTo>
                  <a:lnTo>
                    <a:pt x="7655" y="16"/>
                  </a:lnTo>
                  <a:lnTo>
                    <a:pt x="7655" y="0"/>
                  </a:lnTo>
                  <a:close/>
                  <a:moveTo>
                    <a:pt x="7719" y="0"/>
                  </a:moveTo>
                  <a:lnTo>
                    <a:pt x="7768" y="0"/>
                  </a:lnTo>
                  <a:lnTo>
                    <a:pt x="7768" y="16"/>
                  </a:lnTo>
                  <a:lnTo>
                    <a:pt x="7719" y="16"/>
                  </a:lnTo>
                  <a:lnTo>
                    <a:pt x="7719" y="0"/>
                  </a:lnTo>
                  <a:close/>
                  <a:moveTo>
                    <a:pt x="7784" y="0"/>
                  </a:moveTo>
                  <a:lnTo>
                    <a:pt x="7832" y="0"/>
                  </a:lnTo>
                  <a:lnTo>
                    <a:pt x="7832" y="16"/>
                  </a:lnTo>
                  <a:lnTo>
                    <a:pt x="7784" y="16"/>
                  </a:lnTo>
                  <a:lnTo>
                    <a:pt x="7784" y="0"/>
                  </a:lnTo>
                  <a:close/>
                  <a:moveTo>
                    <a:pt x="7848" y="0"/>
                  </a:moveTo>
                  <a:lnTo>
                    <a:pt x="7896" y="0"/>
                  </a:lnTo>
                  <a:lnTo>
                    <a:pt x="7896" y="16"/>
                  </a:lnTo>
                  <a:lnTo>
                    <a:pt x="7848" y="16"/>
                  </a:lnTo>
                  <a:lnTo>
                    <a:pt x="7848" y="0"/>
                  </a:lnTo>
                  <a:close/>
                  <a:moveTo>
                    <a:pt x="7912" y="0"/>
                  </a:moveTo>
                  <a:lnTo>
                    <a:pt x="7960" y="0"/>
                  </a:lnTo>
                  <a:lnTo>
                    <a:pt x="7960" y="16"/>
                  </a:lnTo>
                  <a:lnTo>
                    <a:pt x="7912" y="16"/>
                  </a:lnTo>
                  <a:lnTo>
                    <a:pt x="7912" y="0"/>
                  </a:lnTo>
                  <a:close/>
                  <a:moveTo>
                    <a:pt x="7976" y="0"/>
                  </a:moveTo>
                  <a:lnTo>
                    <a:pt x="8024" y="0"/>
                  </a:lnTo>
                  <a:lnTo>
                    <a:pt x="8024" y="16"/>
                  </a:lnTo>
                  <a:lnTo>
                    <a:pt x="7976" y="16"/>
                  </a:lnTo>
                  <a:lnTo>
                    <a:pt x="7976" y="0"/>
                  </a:lnTo>
                  <a:close/>
                  <a:moveTo>
                    <a:pt x="8041" y="1"/>
                  </a:moveTo>
                  <a:lnTo>
                    <a:pt x="8088" y="5"/>
                  </a:lnTo>
                  <a:lnTo>
                    <a:pt x="8087" y="21"/>
                  </a:lnTo>
                  <a:lnTo>
                    <a:pt x="8039" y="17"/>
                  </a:lnTo>
                  <a:lnTo>
                    <a:pt x="8041" y="1"/>
                  </a:lnTo>
                  <a:close/>
                  <a:moveTo>
                    <a:pt x="8105" y="11"/>
                  </a:moveTo>
                  <a:lnTo>
                    <a:pt x="8140" y="22"/>
                  </a:lnTo>
                  <a:cubicBezTo>
                    <a:pt x="8140" y="22"/>
                    <a:pt x="8141" y="22"/>
                    <a:pt x="8141" y="22"/>
                  </a:cubicBezTo>
                  <a:lnTo>
                    <a:pt x="8152" y="28"/>
                  </a:lnTo>
                  <a:lnTo>
                    <a:pt x="8144" y="42"/>
                  </a:lnTo>
                  <a:lnTo>
                    <a:pt x="8134" y="36"/>
                  </a:lnTo>
                  <a:lnTo>
                    <a:pt x="8135" y="37"/>
                  </a:lnTo>
                  <a:lnTo>
                    <a:pt x="8100" y="26"/>
                  </a:lnTo>
                  <a:lnTo>
                    <a:pt x="8105" y="11"/>
                  </a:lnTo>
                  <a:close/>
                  <a:moveTo>
                    <a:pt x="8166" y="36"/>
                  </a:moveTo>
                  <a:lnTo>
                    <a:pt x="8185" y="46"/>
                  </a:lnTo>
                  <a:cubicBezTo>
                    <a:pt x="8186" y="47"/>
                    <a:pt x="8186" y="47"/>
                    <a:pt x="8187" y="47"/>
                  </a:cubicBezTo>
                  <a:lnTo>
                    <a:pt x="8206" y="64"/>
                  </a:lnTo>
                  <a:lnTo>
                    <a:pt x="8196" y="76"/>
                  </a:lnTo>
                  <a:lnTo>
                    <a:pt x="8176" y="60"/>
                  </a:lnTo>
                  <a:lnTo>
                    <a:pt x="8178" y="60"/>
                  </a:lnTo>
                  <a:lnTo>
                    <a:pt x="8158" y="50"/>
                  </a:lnTo>
                  <a:lnTo>
                    <a:pt x="8166" y="36"/>
                  </a:lnTo>
                  <a:close/>
                  <a:moveTo>
                    <a:pt x="8219" y="74"/>
                  </a:moveTo>
                  <a:lnTo>
                    <a:pt x="8226" y="79"/>
                  </a:lnTo>
                  <a:cubicBezTo>
                    <a:pt x="8226" y="80"/>
                    <a:pt x="8226" y="80"/>
                    <a:pt x="8227" y="80"/>
                  </a:cubicBezTo>
                  <a:lnTo>
                    <a:pt x="8251" y="111"/>
                  </a:lnTo>
                  <a:lnTo>
                    <a:pt x="8239" y="121"/>
                  </a:lnTo>
                  <a:lnTo>
                    <a:pt x="8214" y="91"/>
                  </a:lnTo>
                  <a:lnTo>
                    <a:pt x="8215" y="92"/>
                  </a:lnTo>
                  <a:lnTo>
                    <a:pt x="8209" y="86"/>
                  </a:lnTo>
                  <a:lnTo>
                    <a:pt x="8219" y="74"/>
                  </a:lnTo>
                  <a:close/>
                  <a:moveTo>
                    <a:pt x="8261" y="125"/>
                  </a:moveTo>
                  <a:lnTo>
                    <a:pt x="8283" y="165"/>
                  </a:lnTo>
                  <a:cubicBezTo>
                    <a:pt x="8283" y="165"/>
                    <a:pt x="8283" y="166"/>
                    <a:pt x="8283" y="166"/>
                  </a:cubicBezTo>
                  <a:lnTo>
                    <a:pt x="8284" y="169"/>
                  </a:lnTo>
                  <a:lnTo>
                    <a:pt x="8269" y="174"/>
                  </a:lnTo>
                  <a:lnTo>
                    <a:pt x="8268" y="171"/>
                  </a:lnTo>
                  <a:lnTo>
                    <a:pt x="8268" y="172"/>
                  </a:lnTo>
                  <a:lnTo>
                    <a:pt x="8247" y="133"/>
                  </a:lnTo>
                  <a:lnTo>
                    <a:pt x="8261" y="125"/>
                  </a:lnTo>
                  <a:close/>
                  <a:moveTo>
                    <a:pt x="8289" y="184"/>
                  </a:moveTo>
                  <a:lnTo>
                    <a:pt x="8299" y="215"/>
                  </a:lnTo>
                  <a:cubicBezTo>
                    <a:pt x="8299" y="216"/>
                    <a:pt x="8299" y="216"/>
                    <a:pt x="8299" y="217"/>
                  </a:cubicBezTo>
                  <a:lnTo>
                    <a:pt x="8301" y="232"/>
                  </a:lnTo>
                  <a:lnTo>
                    <a:pt x="8285" y="234"/>
                  </a:lnTo>
                  <a:lnTo>
                    <a:pt x="8283" y="218"/>
                  </a:lnTo>
                  <a:lnTo>
                    <a:pt x="8284" y="220"/>
                  </a:lnTo>
                  <a:lnTo>
                    <a:pt x="8274" y="189"/>
                  </a:lnTo>
                  <a:lnTo>
                    <a:pt x="8289" y="184"/>
                  </a:lnTo>
                  <a:close/>
                  <a:moveTo>
                    <a:pt x="8302" y="248"/>
                  </a:moveTo>
                  <a:lnTo>
                    <a:pt x="8304" y="270"/>
                  </a:lnTo>
                  <a:lnTo>
                    <a:pt x="8288" y="271"/>
                  </a:lnTo>
                  <a:lnTo>
                    <a:pt x="8286" y="250"/>
                  </a:lnTo>
                  <a:lnTo>
                    <a:pt x="8302" y="248"/>
                  </a:lnTo>
                  <a:close/>
                  <a:moveTo>
                    <a:pt x="8304" y="270"/>
                  </a:moveTo>
                  <a:lnTo>
                    <a:pt x="8304" y="297"/>
                  </a:lnTo>
                  <a:lnTo>
                    <a:pt x="8288" y="297"/>
                  </a:lnTo>
                  <a:lnTo>
                    <a:pt x="8288" y="270"/>
                  </a:lnTo>
                  <a:lnTo>
                    <a:pt x="8304" y="270"/>
                  </a:lnTo>
                  <a:close/>
                  <a:moveTo>
                    <a:pt x="8304" y="313"/>
                  </a:moveTo>
                  <a:lnTo>
                    <a:pt x="8304" y="361"/>
                  </a:lnTo>
                  <a:lnTo>
                    <a:pt x="8288" y="361"/>
                  </a:lnTo>
                  <a:lnTo>
                    <a:pt x="8288" y="313"/>
                  </a:lnTo>
                  <a:lnTo>
                    <a:pt x="8304" y="313"/>
                  </a:lnTo>
                  <a:close/>
                  <a:moveTo>
                    <a:pt x="8304" y="377"/>
                  </a:moveTo>
                  <a:lnTo>
                    <a:pt x="8304" y="425"/>
                  </a:lnTo>
                  <a:lnTo>
                    <a:pt x="8288" y="425"/>
                  </a:lnTo>
                  <a:lnTo>
                    <a:pt x="8288" y="377"/>
                  </a:lnTo>
                  <a:lnTo>
                    <a:pt x="8304" y="377"/>
                  </a:lnTo>
                  <a:close/>
                  <a:moveTo>
                    <a:pt x="8304" y="441"/>
                  </a:moveTo>
                  <a:lnTo>
                    <a:pt x="8304" y="489"/>
                  </a:lnTo>
                  <a:lnTo>
                    <a:pt x="8288" y="489"/>
                  </a:lnTo>
                  <a:lnTo>
                    <a:pt x="8288" y="441"/>
                  </a:lnTo>
                  <a:lnTo>
                    <a:pt x="8304" y="441"/>
                  </a:lnTo>
                  <a:close/>
                  <a:moveTo>
                    <a:pt x="8304" y="505"/>
                  </a:moveTo>
                  <a:lnTo>
                    <a:pt x="8304" y="553"/>
                  </a:lnTo>
                  <a:lnTo>
                    <a:pt x="8288" y="553"/>
                  </a:lnTo>
                  <a:lnTo>
                    <a:pt x="8288" y="505"/>
                  </a:lnTo>
                  <a:lnTo>
                    <a:pt x="8304" y="505"/>
                  </a:lnTo>
                  <a:close/>
                  <a:moveTo>
                    <a:pt x="8304" y="569"/>
                  </a:moveTo>
                  <a:lnTo>
                    <a:pt x="8304" y="617"/>
                  </a:lnTo>
                  <a:lnTo>
                    <a:pt x="8288" y="617"/>
                  </a:lnTo>
                  <a:lnTo>
                    <a:pt x="8288" y="569"/>
                  </a:lnTo>
                  <a:lnTo>
                    <a:pt x="8304" y="569"/>
                  </a:lnTo>
                  <a:close/>
                  <a:moveTo>
                    <a:pt x="8304" y="633"/>
                  </a:moveTo>
                  <a:lnTo>
                    <a:pt x="8304" y="681"/>
                  </a:lnTo>
                  <a:lnTo>
                    <a:pt x="8288" y="681"/>
                  </a:lnTo>
                  <a:lnTo>
                    <a:pt x="8288" y="633"/>
                  </a:lnTo>
                  <a:lnTo>
                    <a:pt x="8304" y="633"/>
                  </a:lnTo>
                  <a:close/>
                  <a:moveTo>
                    <a:pt x="8304" y="697"/>
                  </a:moveTo>
                  <a:lnTo>
                    <a:pt x="8304" y="746"/>
                  </a:lnTo>
                  <a:lnTo>
                    <a:pt x="8288" y="746"/>
                  </a:lnTo>
                  <a:lnTo>
                    <a:pt x="8288" y="697"/>
                  </a:lnTo>
                  <a:lnTo>
                    <a:pt x="8304" y="697"/>
                  </a:lnTo>
                  <a:close/>
                  <a:moveTo>
                    <a:pt x="8304" y="762"/>
                  </a:moveTo>
                  <a:lnTo>
                    <a:pt x="8304" y="810"/>
                  </a:lnTo>
                  <a:lnTo>
                    <a:pt x="8288" y="810"/>
                  </a:lnTo>
                  <a:lnTo>
                    <a:pt x="8288" y="762"/>
                  </a:lnTo>
                  <a:lnTo>
                    <a:pt x="8304" y="762"/>
                  </a:lnTo>
                  <a:close/>
                  <a:moveTo>
                    <a:pt x="8304" y="826"/>
                  </a:moveTo>
                  <a:lnTo>
                    <a:pt x="8304" y="874"/>
                  </a:lnTo>
                  <a:lnTo>
                    <a:pt x="8288" y="874"/>
                  </a:lnTo>
                  <a:lnTo>
                    <a:pt x="8288" y="826"/>
                  </a:lnTo>
                  <a:lnTo>
                    <a:pt x="8304" y="826"/>
                  </a:lnTo>
                  <a:close/>
                  <a:moveTo>
                    <a:pt x="8304" y="890"/>
                  </a:moveTo>
                  <a:lnTo>
                    <a:pt x="8304" y="938"/>
                  </a:lnTo>
                  <a:lnTo>
                    <a:pt x="8288" y="938"/>
                  </a:lnTo>
                  <a:lnTo>
                    <a:pt x="8288" y="890"/>
                  </a:lnTo>
                  <a:lnTo>
                    <a:pt x="8304" y="890"/>
                  </a:lnTo>
                  <a:close/>
                  <a:moveTo>
                    <a:pt x="8304" y="954"/>
                  </a:moveTo>
                  <a:lnTo>
                    <a:pt x="8304" y="1002"/>
                  </a:lnTo>
                  <a:lnTo>
                    <a:pt x="8288" y="1002"/>
                  </a:lnTo>
                  <a:lnTo>
                    <a:pt x="8288" y="954"/>
                  </a:lnTo>
                  <a:lnTo>
                    <a:pt x="8304" y="954"/>
                  </a:lnTo>
                  <a:close/>
                  <a:moveTo>
                    <a:pt x="8304" y="1018"/>
                  </a:moveTo>
                  <a:lnTo>
                    <a:pt x="8304" y="1066"/>
                  </a:lnTo>
                  <a:lnTo>
                    <a:pt x="8288" y="1066"/>
                  </a:lnTo>
                  <a:lnTo>
                    <a:pt x="8288" y="1018"/>
                  </a:lnTo>
                  <a:lnTo>
                    <a:pt x="8304" y="1018"/>
                  </a:lnTo>
                  <a:close/>
                  <a:moveTo>
                    <a:pt x="8304" y="1082"/>
                  </a:moveTo>
                  <a:lnTo>
                    <a:pt x="8304" y="1130"/>
                  </a:lnTo>
                  <a:lnTo>
                    <a:pt x="8288" y="1130"/>
                  </a:lnTo>
                  <a:lnTo>
                    <a:pt x="8288" y="1082"/>
                  </a:lnTo>
                  <a:lnTo>
                    <a:pt x="8304" y="1082"/>
                  </a:lnTo>
                  <a:close/>
                  <a:moveTo>
                    <a:pt x="8304" y="1146"/>
                  </a:moveTo>
                  <a:lnTo>
                    <a:pt x="8304" y="1194"/>
                  </a:lnTo>
                  <a:lnTo>
                    <a:pt x="8288" y="1194"/>
                  </a:lnTo>
                  <a:lnTo>
                    <a:pt x="8288" y="1146"/>
                  </a:lnTo>
                  <a:lnTo>
                    <a:pt x="8304" y="1146"/>
                  </a:lnTo>
                  <a:close/>
                  <a:moveTo>
                    <a:pt x="8304" y="1210"/>
                  </a:moveTo>
                  <a:lnTo>
                    <a:pt x="8304" y="1258"/>
                  </a:lnTo>
                  <a:lnTo>
                    <a:pt x="8288" y="1258"/>
                  </a:lnTo>
                  <a:lnTo>
                    <a:pt x="8288" y="1210"/>
                  </a:lnTo>
                  <a:lnTo>
                    <a:pt x="8304" y="1210"/>
                  </a:lnTo>
                  <a:close/>
                  <a:moveTo>
                    <a:pt x="8304" y="1274"/>
                  </a:moveTo>
                  <a:lnTo>
                    <a:pt x="8304" y="1315"/>
                  </a:lnTo>
                  <a:lnTo>
                    <a:pt x="8288" y="1315"/>
                  </a:lnTo>
                  <a:lnTo>
                    <a:pt x="8288" y="1274"/>
                  </a:lnTo>
                  <a:lnTo>
                    <a:pt x="8304" y="1274"/>
                  </a:lnTo>
                  <a:close/>
                  <a:moveTo>
                    <a:pt x="8304" y="1316"/>
                  </a:moveTo>
                  <a:lnTo>
                    <a:pt x="8304" y="1323"/>
                  </a:lnTo>
                  <a:lnTo>
                    <a:pt x="8288" y="1321"/>
                  </a:lnTo>
                  <a:lnTo>
                    <a:pt x="8288" y="1315"/>
                  </a:lnTo>
                  <a:lnTo>
                    <a:pt x="8304" y="1316"/>
                  </a:lnTo>
                  <a:close/>
                  <a:moveTo>
                    <a:pt x="8302" y="1339"/>
                  </a:moveTo>
                  <a:lnTo>
                    <a:pt x="8299" y="1369"/>
                  </a:lnTo>
                  <a:cubicBezTo>
                    <a:pt x="8299" y="1370"/>
                    <a:pt x="8299" y="1370"/>
                    <a:pt x="8299" y="1371"/>
                  </a:cubicBezTo>
                  <a:lnTo>
                    <a:pt x="8294" y="1388"/>
                  </a:lnTo>
                  <a:lnTo>
                    <a:pt x="8278" y="1383"/>
                  </a:lnTo>
                  <a:lnTo>
                    <a:pt x="8284" y="1366"/>
                  </a:lnTo>
                  <a:lnTo>
                    <a:pt x="8283" y="1368"/>
                  </a:lnTo>
                  <a:lnTo>
                    <a:pt x="8286" y="1337"/>
                  </a:lnTo>
                  <a:lnTo>
                    <a:pt x="8302" y="1339"/>
                  </a:lnTo>
                  <a:close/>
                  <a:moveTo>
                    <a:pt x="8289" y="1403"/>
                  </a:moveTo>
                  <a:lnTo>
                    <a:pt x="8283" y="1420"/>
                  </a:lnTo>
                  <a:cubicBezTo>
                    <a:pt x="8283" y="1420"/>
                    <a:pt x="8283" y="1421"/>
                    <a:pt x="8282" y="1421"/>
                  </a:cubicBezTo>
                  <a:lnTo>
                    <a:pt x="8268" y="1448"/>
                  </a:lnTo>
                  <a:lnTo>
                    <a:pt x="8254" y="1440"/>
                  </a:lnTo>
                  <a:lnTo>
                    <a:pt x="8268" y="1414"/>
                  </a:lnTo>
                  <a:lnTo>
                    <a:pt x="8268" y="1415"/>
                  </a:lnTo>
                  <a:lnTo>
                    <a:pt x="8273" y="1398"/>
                  </a:lnTo>
                  <a:lnTo>
                    <a:pt x="8289" y="1403"/>
                  </a:lnTo>
                  <a:close/>
                  <a:moveTo>
                    <a:pt x="8260" y="1462"/>
                  </a:moveTo>
                  <a:lnTo>
                    <a:pt x="8258" y="1465"/>
                  </a:lnTo>
                  <a:cubicBezTo>
                    <a:pt x="8258" y="1466"/>
                    <a:pt x="8258" y="1466"/>
                    <a:pt x="8258" y="1466"/>
                  </a:cubicBezTo>
                  <a:lnTo>
                    <a:pt x="8230" y="1501"/>
                  </a:lnTo>
                  <a:lnTo>
                    <a:pt x="8218" y="1491"/>
                  </a:lnTo>
                  <a:lnTo>
                    <a:pt x="8245" y="1456"/>
                  </a:lnTo>
                  <a:lnTo>
                    <a:pt x="8244" y="1458"/>
                  </a:lnTo>
                  <a:lnTo>
                    <a:pt x="8246" y="1454"/>
                  </a:lnTo>
                  <a:lnTo>
                    <a:pt x="8260" y="1462"/>
                  </a:lnTo>
                  <a:close/>
                  <a:moveTo>
                    <a:pt x="8218" y="1513"/>
                  </a:moveTo>
                  <a:lnTo>
                    <a:pt x="8186" y="1538"/>
                  </a:lnTo>
                  <a:cubicBezTo>
                    <a:pt x="8186" y="1538"/>
                    <a:pt x="8186" y="1538"/>
                    <a:pt x="8185" y="1538"/>
                  </a:cubicBezTo>
                  <a:lnTo>
                    <a:pt x="8178" y="1542"/>
                  </a:lnTo>
                  <a:lnTo>
                    <a:pt x="8170" y="1528"/>
                  </a:lnTo>
                  <a:lnTo>
                    <a:pt x="8178" y="1524"/>
                  </a:lnTo>
                  <a:lnTo>
                    <a:pt x="8176" y="1525"/>
                  </a:lnTo>
                  <a:lnTo>
                    <a:pt x="8208" y="1500"/>
                  </a:lnTo>
                  <a:lnTo>
                    <a:pt x="8218" y="1513"/>
                  </a:lnTo>
                  <a:close/>
                  <a:moveTo>
                    <a:pt x="8164" y="1550"/>
                  </a:moveTo>
                  <a:lnTo>
                    <a:pt x="8141" y="1562"/>
                  </a:lnTo>
                  <a:cubicBezTo>
                    <a:pt x="8141" y="1563"/>
                    <a:pt x="8140" y="1563"/>
                    <a:pt x="8140" y="1563"/>
                  </a:cubicBezTo>
                  <a:lnTo>
                    <a:pt x="8119" y="1570"/>
                  </a:lnTo>
                  <a:lnTo>
                    <a:pt x="8114" y="1555"/>
                  </a:lnTo>
                  <a:lnTo>
                    <a:pt x="8135" y="1548"/>
                  </a:lnTo>
                  <a:lnTo>
                    <a:pt x="8134" y="1548"/>
                  </a:lnTo>
                  <a:lnTo>
                    <a:pt x="8156" y="1536"/>
                  </a:lnTo>
                  <a:lnTo>
                    <a:pt x="8164" y="1550"/>
                  </a:lnTo>
                  <a:close/>
                  <a:moveTo>
                    <a:pt x="8104" y="1575"/>
                  </a:moveTo>
                  <a:lnTo>
                    <a:pt x="8091" y="1579"/>
                  </a:lnTo>
                  <a:cubicBezTo>
                    <a:pt x="8090" y="1579"/>
                    <a:pt x="8090" y="1579"/>
                    <a:pt x="8089" y="1579"/>
                  </a:cubicBezTo>
                  <a:lnTo>
                    <a:pt x="8055" y="1583"/>
                  </a:lnTo>
                  <a:lnTo>
                    <a:pt x="8053" y="1567"/>
                  </a:lnTo>
                  <a:lnTo>
                    <a:pt x="8088" y="1563"/>
                  </a:lnTo>
                  <a:lnTo>
                    <a:pt x="8086" y="1564"/>
                  </a:lnTo>
                  <a:lnTo>
                    <a:pt x="8099" y="1560"/>
                  </a:lnTo>
                  <a:lnTo>
                    <a:pt x="8104" y="1575"/>
                  </a:lnTo>
                  <a:close/>
                  <a:moveTo>
                    <a:pt x="8039" y="1584"/>
                  </a:moveTo>
                  <a:lnTo>
                    <a:pt x="8036" y="1584"/>
                  </a:lnTo>
                  <a:lnTo>
                    <a:pt x="8035" y="1568"/>
                  </a:lnTo>
                  <a:lnTo>
                    <a:pt x="8037" y="1568"/>
                  </a:lnTo>
                  <a:lnTo>
                    <a:pt x="8039" y="1584"/>
                  </a:lnTo>
                  <a:close/>
                  <a:moveTo>
                    <a:pt x="8035" y="1584"/>
                  </a:moveTo>
                  <a:lnTo>
                    <a:pt x="7990" y="1584"/>
                  </a:lnTo>
                  <a:lnTo>
                    <a:pt x="7990" y="1568"/>
                  </a:lnTo>
                  <a:lnTo>
                    <a:pt x="8035" y="1568"/>
                  </a:lnTo>
                  <a:lnTo>
                    <a:pt x="8035" y="1584"/>
                  </a:lnTo>
                  <a:close/>
                  <a:moveTo>
                    <a:pt x="7974" y="1584"/>
                  </a:moveTo>
                  <a:lnTo>
                    <a:pt x="7926" y="1584"/>
                  </a:lnTo>
                  <a:lnTo>
                    <a:pt x="7926" y="1568"/>
                  </a:lnTo>
                  <a:lnTo>
                    <a:pt x="7974" y="1568"/>
                  </a:lnTo>
                  <a:lnTo>
                    <a:pt x="7974" y="1584"/>
                  </a:lnTo>
                  <a:close/>
                  <a:moveTo>
                    <a:pt x="7910" y="1584"/>
                  </a:moveTo>
                  <a:lnTo>
                    <a:pt x="7862" y="1584"/>
                  </a:lnTo>
                  <a:lnTo>
                    <a:pt x="7862" y="1568"/>
                  </a:lnTo>
                  <a:lnTo>
                    <a:pt x="7910" y="1568"/>
                  </a:lnTo>
                  <a:lnTo>
                    <a:pt x="7910" y="1584"/>
                  </a:lnTo>
                  <a:close/>
                  <a:moveTo>
                    <a:pt x="7846" y="1584"/>
                  </a:moveTo>
                  <a:lnTo>
                    <a:pt x="7798" y="1584"/>
                  </a:lnTo>
                  <a:lnTo>
                    <a:pt x="7798" y="1568"/>
                  </a:lnTo>
                  <a:lnTo>
                    <a:pt x="7846" y="1568"/>
                  </a:lnTo>
                  <a:lnTo>
                    <a:pt x="7846" y="1584"/>
                  </a:lnTo>
                  <a:close/>
                  <a:moveTo>
                    <a:pt x="7782" y="1584"/>
                  </a:moveTo>
                  <a:lnTo>
                    <a:pt x="7734" y="1584"/>
                  </a:lnTo>
                  <a:lnTo>
                    <a:pt x="7734" y="1568"/>
                  </a:lnTo>
                  <a:lnTo>
                    <a:pt x="7782" y="1568"/>
                  </a:lnTo>
                  <a:lnTo>
                    <a:pt x="7782" y="1584"/>
                  </a:lnTo>
                  <a:close/>
                  <a:moveTo>
                    <a:pt x="7718" y="1584"/>
                  </a:moveTo>
                  <a:lnTo>
                    <a:pt x="7669" y="1584"/>
                  </a:lnTo>
                  <a:lnTo>
                    <a:pt x="7669" y="1568"/>
                  </a:lnTo>
                  <a:lnTo>
                    <a:pt x="7718" y="1568"/>
                  </a:lnTo>
                  <a:lnTo>
                    <a:pt x="7718" y="1584"/>
                  </a:lnTo>
                  <a:close/>
                  <a:moveTo>
                    <a:pt x="7653" y="1584"/>
                  </a:moveTo>
                  <a:lnTo>
                    <a:pt x="7605" y="1584"/>
                  </a:lnTo>
                  <a:lnTo>
                    <a:pt x="7605" y="1568"/>
                  </a:lnTo>
                  <a:lnTo>
                    <a:pt x="7653" y="1568"/>
                  </a:lnTo>
                  <a:lnTo>
                    <a:pt x="7653" y="1584"/>
                  </a:lnTo>
                  <a:close/>
                  <a:moveTo>
                    <a:pt x="7589" y="1584"/>
                  </a:moveTo>
                  <a:lnTo>
                    <a:pt x="7541" y="1584"/>
                  </a:lnTo>
                  <a:lnTo>
                    <a:pt x="7541" y="1568"/>
                  </a:lnTo>
                  <a:lnTo>
                    <a:pt x="7589" y="1568"/>
                  </a:lnTo>
                  <a:lnTo>
                    <a:pt x="7589" y="1584"/>
                  </a:lnTo>
                  <a:close/>
                  <a:moveTo>
                    <a:pt x="7525" y="1584"/>
                  </a:moveTo>
                  <a:lnTo>
                    <a:pt x="7477" y="1584"/>
                  </a:lnTo>
                  <a:lnTo>
                    <a:pt x="7477" y="1568"/>
                  </a:lnTo>
                  <a:lnTo>
                    <a:pt x="7525" y="1568"/>
                  </a:lnTo>
                  <a:lnTo>
                    <a:pt x="7525" y="1584"/>
                  </a:lnTo>
                  <a:close/>
                  <a:moveTo>
                    <a:pt x="7461" y="1584"/>
                  </a:moveTo>
                  <a:lnTo>
                    <a:pt x="7413" y="1584"/>
                  </a:lnTo>
                  <a:lnTo>
                    <a:pt x="7413" y="1568"/>
                  </a:lnTo>
                  <a:lnTo>
                    <a:pt x="7461" y="1568"/>
                  </a:lnTo>
                  <a:lnTo>
                    <a:pt x="7461" y="1584"/>
                  </a:lnTo>
                  <a:close/>
                  <a:moveTo>
                    <a:pt x="7397" y="1584"/>
                  </a:moveTo>
                  <a:lnTo>
                    <a:pt x="7349" y="1584"/>
                  </a:lnTo>
                  <a:lnTo>
                    <a:pt x="7349" y="1568"/>
                  </a:lnTo>
                  <a:lnTo>
                    <a:pt x="7397" y="1568"/>
                  </a:lnTo>
                  <a:lnTo>
                    <a:pt x="7397" y="1584"/>
                  </a:lnTo>
                  <a:close/>
                  <a:moveTo>
                    <a:pt x="7333" y="1584"/>
                  </a:moveTo>
                  <a:lnTo>
                    <a:pt x="7285" y="1584"/>
                  </a:lnTo>
                  <a:lnTo>
                    <a:pt x="7285" y="1568"/>
                  </a:lnTo>
                  <a:lnTo>
                    <a:pt x="7333" y="1568"/>
                  </a:lnTo>
                  <a:lnTo>
                    <a:pt x="7333" y="1584"/>
                  </a:lnTo>
                  <a:close/>
                  <a:moveTo>
                    <a:pt x="7269" y="1584"/>
                  </a:moveTo>
                  <a:lnTo>
                    <a:pt x="7221" y="1584"/>
                  </a:lnTo>
                  <a:lnTo>
                    <a:pt x="7221" y="1568"/>
                  </a:lnTo>
                  <a:lnTo>
                    <a:pt x="7269" y="1568"/>
                  </a:lnTo>
                  <a:lnTo>
                    <a:pt x="7269" y="1584"/>
                  </a:lnTo>
                  <a:close/>
                  <a:moveTo>
                    <a:pt x="7205" y="1584"/>
                  </a:moveTo>
                  <a:lnTo>
                    <a:pt x="7157" y="1584"/>
                  </a:lnTo>
                  <a:lnTo>
                    <a:pt x="7157" y="1568"/>
                  </a:lnTo>
                  <a:lnTo>
                    <a:pt x="7205" y="1568"/>
                  </a:lnTo>
                  <a:lnTo>
                    <a:pt x="7205" y="1584"/>
                  </a:lnTo>
                  <a:close/>
                  <a:moveTo>
                    <a:pt x="7141" y="1584"/>
                  </a:moveTo>
                  <a:lnTo>
                    <a:pt x="7093" y="1584"/>
                  </a:lnTo>
                  <a:lnTo>
                    <a:pt x="7093" y="1568"/>
                  </a:lnTo>
                  <a:lnTo>
                    <a:pt x="7141" y="1568"/>
                  </a:lnTo>
                  <a:lnTo>
                    <a:pt x="7141" y="1584"/>
                  </a:lnTo>
                  <a:close/>
                  <a:moveTo>
                    <a:pt x="7077" y="1584"/>
                  </a:moveTo>
                  <a:lnTo>
                    <a:pt x="7029" y="1584"/>
                  </a:lnTo>
                  <a:lnTo>
                    <a:pt x="7029" y="1568"/>
                  </a:lnTo>
                  <a:lnTo>
                    <a:pt x="7077" y="1568"/>
                  </a:lnTo>
                  <a:lnTo>
                    <a:pt x="7077" y="1584"/>
                  </a:lnTo>
                  <a:close/>
                  <a:moveTo>
                    <a:pt x="7013" y="1584"/>
                  </a:moveTo>
                  <a:lnTo>
                    <a:pt x="6965" y="1584"/>
                  </a:lnTo>
                  <a:lnTo>
                    <a:pt x="6965" y="1568"/>
                  </a:lnTo>
                  <a:lnTo>
                    <a:pt x="7013" y="1568"/>
                  </a:lnTo>
                  <a:lnTo>
                    <a:pt x="7013" y="1584"/>
                  </a:lnTo>
                  <a:close/>
                  <a:moveTo>
                    <a:pt x="6949" y="1584"/>
                  </a:moveTo>
                  <a:lnTo>
                    <a:pt x="6901" y="1584"/>
                  </a:lnTo>
                  <a:lnTo>
                    <a:pt x="6901" y="1568"/>
                  </a:lnTo>
                  <a:lnTo>
                    <a:pt x="6949" y="1568"/>
                  </a:lnTo>
                  <a:lnTo>
                    <a:pt x="6949" y="1584"/>
                  </a:lnTo>
                  <a:close/>
                  <a:moveTo>
                    <a:pt x="6885" y="1584"/>
                  </a:moveTo>
                  <a:lnTo>
                    <a:pt x="6837" y="1584"/>
                  </a:lnTo>
                  <a:lnTo>
                    <a:pt x="6837" y="1568"/>
                  </a:lnTo>
                  <a:lnTo>
                    <a:pt x="6885" y="1568"/>
                  </a:lnTo>
                  <a:lnTo>
                    <a:pt x="6885" y="1584"/>
                  </a:lnTo>
                  <a:close/>
                  <a:moveTo>
                    <a:pt x="6821" y="1584"/>
                  </a:moveTo>
                  <a:lnTo>
                    <a:pt x="6773" y="1584"/>
                  </a:lnTo>
                  <a:lnTo>
                    <a:pt x="6773" y="1568"/>
                  </a:lnTo>
                  <a:lnTo>
                    <a:pt x="6821" y="1568"/>
                  </a:lnTo>
                  <a:lnTo>
                    <a:pt x="6821" y="1584"/>
                  </a:lnTo>
                  <a:close/>
                  <a:moveTo>
                    <a:pt x="6757" y="1584"/>
                  </a:moveTo>
                  <a:lnTo>
                    <a:pt x="6708" y="1584"/>
                  </a:lnTo>
                  <a:lnTo>
                    <a:pt x="6708" y="1568"/>
                  </a:lnTo>
                  <a:lnTo>
                    <a:pt x="6757" y="1568"/>
                  </a:lnTo>
                  <a:lnTo>
                    <a:pt x="6757" y="1584"/>
                  </a:lnTo>
                  <a:close/>
                  <a:moveTo>
                    <a:pt x="6692" y="1584"/>
                  </a:moveTo>
                  <a:lnTo>
                    <a:pt x="6644" y="1584"/>
                  </a:lnTo>
                  <a:lnTo>
                    <a:pt x="6644" y="1568"/>
                  </a:lnTo>
                  <a:lnTo>
                    <a:pt x="6692" y="1568"/>
                  </a:lnTo>
                  <a:lnTo>
                    <a:pt x="6692" y="1584"/>
                  </a:lnTo>
                  <a:close/>
                  <a:moveTo>
                    <a:pt x="6628" y="1584"/>
                  </a:moveTo>
                  <a:lnTo>
                    <a:pt x="6580" y="1584"/>
                  </a:lnTo>
                  <a:lnTo>
                    <a:pt x="6580" y="1568"/>
                  </a:lnTo>
                  <a:lnTo>
                    <a:pt x="6628" y="1568"/>
                  </a:lnTo>
                  <a:lnTo>
                    <a:pt x="6628" y="1584"/>
                  </a:lnTo>
                  <a:close/>
                  <a:moveTo>
                    <a:pt x="6564" y="1584"/>
                  </a:moveTo>
                  <a:lnTo>
                    <a:pt x="6516" y="1584"/>
                  </a:lnTo>
                  <a:lnTo>
                    <a:pt x="6516" y="1568"/>
                  </a:lnTo>
                  <a:lnTo>
                    <a:pt x="6564" y="1568"/>
                  </a:lnTo>
                  <a:lnTo>
                    <a:pt x="6564" y="1584"/>
                  </a:lnTo>
                  <a:close/>
                  <a:moveTo>
                    <a:pt x="6500" y="1584"/>
                  </a:moveTo>
                  <a:lnTo>
                    <a:pt x="6452" y="1584"/>
                  </a:lnTo>
                  <a:lnTo>
                    <a:pt x="6452" y="1568"/>
                  </a:lnTo>
                  <a:lnTo>
                    <a:pt x="6500" y="1568"/>
                  </a:lnTo>
                  <a:lnTo>
                    <a:pt x="6500" y="1584"/>
                  </a:lnTo>
                  <a:close/>
                  <a:moveTo>
                    <a:pt x="6436" y="1584"/>
                  </a:moveTo>
                  <a:lnTo>
                    <a:pt x="6388" y="1584"/>
                  </a:lnTo>
                  <a:lnTo>
                    <a:pt x="6388" y="1568"/>
                  </a:lnTo>
                  <a:lnTo>
                    <a:pt x="6436" y="1568"/>
                  </a:lnTo>
                  <a:lnTo>
                    <a:pt x="6436" y="1584"/>
                  </a:lnTo>
                  <a:close/>
                  <a:moveTo>
                    <a:pt x="6372" y="1584"/>
                  </a:moveTo>
                  <a:lnTo>
                    <a:pt x="6324" y="1584"/>
                  </a:lnTo>
                  <a:lnTo>
                    <a:pt x="6324" y="1568"/>
                  </a:lnTo>
                  <a:lnTo>
                    <a:pt x="6372" y="1568"/>
                  </a:lnTo>
                  <a:lnTo>
                    <a:pt x="6372" y="1584"/>
                  </a:lnTo>
                  <a:close/>
                  <a:moveTo>
                    <a:pt x="6308" y="1584"/>
                  </a:moveTo>
                  <a:lnTo>
                    <a:pt x="6260" y="1584"/>
                  </a:lnTo>
                  <a:lnTo>
                    <a:pt x="6260" y="1568"/>
                  </a:lnTo>
                  <a:lnTo>
                    <a:pt x="6308" y="1568"/>
                  </a:lnTo>
                  <a:lnTo>
                    <a:pt x="6308" y="1584"/>
                  </a:lnTo>
                  <a:close/>
                  <a:moveTo>
                    <a:pt x="6244" y="1584"/>
                  </a:moveTo>
                  <a:lnTo>
                    <a:pt x="6196" y="1584"/>
                  </a:lnTo>
                  <a:lnTo>
                    <a:pt x="6196" y="1568"/>
                  </a:lnTo>
                  <a:lnTo>
                    <a:pt x="6244" y="1568"/>
                  </a:lnTo>
                  <a:lnTo>
                    <a:pt x="6244" y="1584"/>
                  </a:lnTo>
                  <a:close/>
                  <a:moveTo>
                    <a:pt x="6180" y="1584"/>
                  </a:moveTo>
                  <a:lnTo>
                    <a:pt x="6132" y="1584"/>
                  </a:lnTo>
                  <a:lnTo>
                    <a:pt x="6132" y="1568"/>
                  </a:lnTo>
                  <a:lnTo>
                    <a:pt x="6180" y="1568"/>
                  </a:lnTo>
                  <a:lnTo>
                    <a:pt x="6180" y="1584"/>
                  </a:lnTo>
                  <a:close/>
                  <a:moveTo>
                    <a:pt x="6116" y="1584"/>
                  </a:moveTo>
                  <a:lnTo>
                    <a:pt x="6068" y="1584"/>
                  </a:lnTo>
                  <a:lnTo>
                    <a:pt x="6068" y="1568"/>
                  </a:lnTo>
                  <a:lnTo>
                    <a:pt x="6116" y="1568"/>
                  </a:lnTo>
                  <a:lnTo>
                    <a:pt x="6116" y="1584"/>
                  </a:lnTo>
                  <a:close/>
                  <a:moveTo>
                    <a:pt x="6052" y="1584"/>
                  </a:moveTo>
                  <a:lnTo>
                    <a:pt x="6004" y="1584"/>
                  </a:lnTo>
                  <a:lnTo>
                    <a:pt x="6004" y="1568"/>
                  </a:lnTo>
                  <a:lnTo>
                    <a:pt x="6052" y="1568"/>
                  </a:lnTo>
                  <a:lnTo>
                    <a:pt x="6052" y="1584"/>
                  </a:lnTo>
                  <a:close/>
                  <a:moveTo>
                    <a:pt x="5988" y="1584"/>
                  </a:moveTo>
                  <a:lnTo>
                    <a:pt x="5940" y="1584"/>
                  </a:lnTo>
                  <a:lnTo>
                    <a:pt x="5940" y="1568"/>
                  </a:lnTo>
                  <a:lnTo>
                    <a:pt x="5988" y="1568"/>
                  </a:lnTo>
                  <a:lnTo>
                    <a:pt x="5988" y="1584"/>
                  </a:lnTo>
                  <a:close/>
                  <a:moveTo>
                    <a:pt x="5924" y="1584"/>
                  </a:moveTo>
                  <a:lnTo>
                    <a:pt x="5876" y="1584"/>
                  </a:lnTo>
                  <a:lnTo>
                    <a:pt x="5876" y="1568"/>
                  </a:lnTo>
                  <a:lnTo>
                    <a:pt x="5924" y="1568"/>
                  </a:lnTo>
                  <a:lnTo>
                    <a:pt x="5924" y="1584"/>
                  </a:lnTo>
                  <a:close/>
                  <a:moveTo>
                    <a:pt x="5860" y="1584"/>
                  </a:moveTo>
                  <a:lnTo>
                    <a:pt x="5812" y="1584"/>
                  </a:lnTo>
                  <a:lnTo>
                    <a:pt x="5812" y="1568"/>
                  </a:lnTo>
                  <a:lnTo>
                    <a:pt x="5860" y="1568"/>
                  </a:lnTo>
                  <a:lnTo>
                    <a:pt x="5860" y="1584"/>
                  </a:lnTo>
                  <a:close/>
                  <a:moveTo>
                    <a:pt x="5796" y="1584"/>
                  </a:moveTo>
                  <a:lnTo>
                    <a:pt x="5748" y="1584"/>
                  </a:lnTo>
                  <a:lnTo>
                    <a:pt x="5748" y="1568"/>
                  </a:lnTo>
                  <a:lnTo>
                    <a:pt x="5796" y="1568"/>
                  </a:lnTo>
                  <a:lnTo>
                    <a:pt x="5796" y="1584"/>
                  </a:lnTo>
                  <a:close/>
                  <a:moveTo>
                    <a:pt x="5731" y="1584"/>
                  </a:moveTo>
                  <a:lnTo>
                    <a:pt x="5683" y="1584"/>
                  </a:lnTo>
                  <a:lnTo>
                    <a:pt x="5683" y="1568"/>
                  </a:lnTo>
                  <a:lnTo>
                    <a:pt x="5731" y="1568"/>
                  </a:lnTo>
                  <a:lnTo>
                    <a:pt x="5731" y="1584"/>
                  </a:lnTo>
                  <a:close/>
                  <a:moveTo>
                    <a:pt x="5667" y="1584"/>
                  </a:moveTo>
                  <a:lnTo>
                    <a:pt x="5619" y="1584"/>
                  </a:lnTo>
                  <a:lnTo>
                    <a:pt x="5619" y="1568"/>
                  </a:lnTo>
                  <a:lnTo>
                    <a:pt x="5667" y="1568"/>
                  </a:lnTo>
                  <a:lnTo>
                    <a:pt x="5667" y="1584"/>
                  </a:lnTo>
                  <a:close/>
                  <a:moveTo>
                    <a:pt x="5603" y="1584"/>
                  </a:moveTo>
                  <a:lnTo>
                    <a:pt x="5555" y="1584"/>
                  </a:lnTo>
                  <a:lnTo>
                    <a:pt x="5555" y="1568"/>
                  </a:lnTo>
                  <a:lnTo>
                    <a:pt x="5603" y="1568"/>
                  </a:lnTo>
                  <a:lnTo>
                    <a:pt x="5603" y="1584"/>
                  </a:lnTo>
                  <a:close/>
                  <a:moveTo>
                    <a:pt x="5539" y="1584"/>
                  </a:moveTo>
                  <a:lnTo>
                    <a:pt x="5491" y="1584"/>
                  </a:lnTo>
                  <a:lnTo>
                    <a:pt x="5491" y="1568"/>
                  </a:lnTo>
                  <a:lnTo>
                    <a:pt x="5539" y="1568"/>
                  </a:lnTo>
                  <a:lnTo>
                    <a:pt x="5539" y="1584"/>
                  </a:lnTo>
                  <a:close/>
                  <a:moveTo>
                    <a:pt x="5475" y="1584"/>
                  </a:moveTo>
                  <a:lnTo>
                    <a:pt x="5427" y="1584"/>
                  </a:lnTo>
                  <a:lnTo>
                    <a:pt x="5427" y="1568"/>
                  </a:lnTo>
                  <a:lnTo>
                    <a:pt x="5475" y="1568"/>
                  </a:lnTo>
                  <a:lnTo>
                    <a:pt x="5475" y="1584"/>
                  </a:lnTo>
                  <a:close/>
                  <a:moveTo>
                    <a:pt x="5411" y="1584"/>
                  </a:moveTo>
                  <a:lnTo>
                    <a:pt x="5363" y="1584"/>
                  </a:lnTo>
                  <a:lnTo>
                    <a:pt x="5363" y="1568"/>
                  </a:lnTo>
                  <a:lnTo>
                    <a:pt x="5411" y="1568"/>
                  </a:lnTo>
                  <a:lnTo>
                    <a:pt x="5411" y="1584"/>
                  </a:lnTo>
                  <a:close/>
                  <a:moveTo>
                    <a:pt x="5347" y="1584"/>
                  </a:moveTo>
                  <a:lnTo>
                    <a:pt x="5299" y="1584"/>
                  </a:lnTo>
                  <a:lnTo>
                    <a:pt x="5299" y="1568"/>
                  </a:lnTo>
                  <a:lnTo>
                    <a:pt x="5347" y="1568"/>
                  </a:lnTo>
                  <a:lnTo>
                    <a:pt x="5347" y="1584"/>
                  </a:lnTo>
                  <a:close/>
                  <a:moveTo>
                    <a:pt x="5283" y="1584"/>
                  </a:moveTo>
                  <a:lnTo>
                    <a:pt x="5235" y="1584"/>
                  </a:lnTo>
                  <a:lnTo>
                    <a:pt x="5235" y="1568"/>
                  </a:lnTo>
                  <a:lnTo>
                    <a:pt x="5283" y="1568"/>
                  </a:lnTo>
                  <a:lnTo>
                    <a:pt x="5283" y="1584"/>
                  </a:lnTo>
                  <a:close/>
                  <a:moveTo>
                    <a:pt x="5219" y="1584"/>
                  </a:moveTo>
                  <a:lnTo>
                    <a:pt x="5171" y="1584"/>
                  </a:lnTo>
                  <a:lnTo>
                    <a:pt x="5171" y="1568"/>
                  </a:lnTo>
                  <a:lnTo>
                    <a:pt x="5219" y="1568"/>
                  </a:lnTo>
                  <a:lnTo>
                    <a:pt x="5219" y="1584"/>
                  </a:lnTo>
                  <a:close/>
                  <a:moveTo>
                    <a:pt x="5155" y="1584"/>
                  </a:moveTo>
                  <a:lnTo>
                    <a:pt x="5107" y="1584"/>
                  </a:lnTo>
                  <a:lnTo>
                    <a:pt x="5107" y="1568"/>
                  </a:lnTo>
                  <a:lnTo>
                    <a:pt x="5155" y="1568"/>
                  </a:lnTo>
                  <a:lnTo>
                    <a:pt x="5155" y="1584"/>
                  </a:lnTo>
                  <a:close/>
                  <a:moveTo>
                    <a:pt x="5091" y="1584"/>
                  </a:moveTo>
                  <a:lnTo>
                    <a:pt x="5043" y="1584"/>
                  </a:lnTo>
                  <a:lnTo>
                    <a:pt x="5043" y="1568"/>
                  </a:lnTo>
                  <a:lnTo>
                    <a:pt x="5091" y="1568"/>
                  </a:lnTo>
                  <a:lnTo>
                    <a:pt x="5091" y="1584"/>
                  </a:lnTo>
                  <a:close/>
                  <a:moveTo>
                    <a:pt x="5027" y="1584"/>
                  </a:moveTo>
                  <a:lnTo>
                    <a:pt x="4979" y="1584"/>
                  </a:lnTo>
                  <a:lnTo>
                    <a:pt x="4979" y="1568"/>
                  </a:lnTo>
                  <a:lnTo>
                    <a:pt x="5027" y="1568"/>
                  </a:lnTo>
                  <a:lnTo>
                    <a:pt x="5027" y="1584"/>
                  </a:lnTo>
                  <a:close/>
                  <a:moveTo>
                    <a:pt x="4963" y="1584"/>
                  </a:moveTo>
                  <a:lnTo>
                    <a:pt x="4915" y="1584"/>
                  </a:lnTo>
                  <a:lnTo>
                    <a:pt x="4915" y="1568"/>
                  </a:lnTo>
                  <a:lnTo>
                    <a:pt x="4963" y="1568"/>
                  </a:lnTo>
                  <a:lnTo>
                    <a:pt x="4963" y="1584"/>
                  </a:lnTo>
                  <a:close/>
                  <a:moveTo>
                    <a:pt x="4899" y="1584"/>
                  </a:moveTo>
                  <a:lnTo>
                    <a:pt x="4851" y="1584"/>
                  </a:lnTo>
                  <a:lnTo>
                    <a:pt x="4851" y="1568"/>
                  </a:lnTo>
                  <a:lnTo>
                    <a:pt x="4899" y="1568"/>
                  </a:lnTo>
                  <a:lnTo>
                    <a:pt x="4899" y="1584"/>
                  </a:lnTo>
                  <a:close/>
                  <a:moveTo>
                    <a:pt x="4835" y="1584"/>
                  </a:moveTo>
                  <a:lnTo>
                    <a:pt x="4787" y="1584"/>
                  </a:lnTo>
                  <a:lnTo>
                    <a:pt x="4787" y="1568"/>
                  </a:lnTo>
                  <a:lnTo>
                    <a:pt x="4835" y="1568"/>
                  </a:lnTo>
                  <a:lnTo>
                    <a:pt x="4835" y="1584"/>
                  </a:lnTo>
                  <a:close/>
                  <a:moveTo>
                    <a:pt x="4771" y="1584"/>
                  </a:moveTo>
                  <a:lnTo>
                    <a:pt x="4722" y="1584"/>
                  </a:lnTo>
                  <a:lnTo>
                    <a:pt x="4722" y="1568"/>
                  </a:lnTo>
                  <a:lnTo>
                    <a:pt x="4771" y="1568"/>
                  </a:lnTo>
                  <a:lnTo>
                    <a:pt x="4771" y="1584"/>
                  </a:lnTo>
                  <a:close/>
                  <a:moveTo>
                    <a:pt x="4706" y="1584"/>
                  </a:moveTo>
                  <a:lnTo>
                    <a:pt x="4658" y="1584"/>
                  </a:lnTo>
                  <a:lnTo>
                    <a:pt x="4658" y="1568"/>
                  </a:lnTo>
                  <a:lnTo>
                    <a:pt x="4706" y="1568"/>
                  </a:lnTo>
                  <a:lnTo>
                    <a:pt x="4706" y="1584"/>
                  </a:lnTo>
                  <a:close/>
                  <a:moveTo>
                    <a:pt x="4642" y="1584"/>
                  </a:moveTo>
                  <a:lnTo>
                    <a:pt x="4594" y="1584"/>
                  </a:lnTo>
                  <a:lnTo>
                    <a:pt x="4594" y="1568"/>
                  </a:lnTo>
                  <a:lnTo>
                    <a:pt x="4642" y="1568"/>
                  </a:lnTo>
                  <a:lnTo>
                    <a:pt x="4642" y="1584"/>
                  </a:lnTo>
                  <a:close/>
                  <a:moveTo>
                    <a:pt x="4578" y="1584"/>
                  </a:moveTo>
                  <a:lnTo>
                    <a:pt x="4530" y="1584"/>
                  </a:lnTo>
                  <a:lnTo>
                    <a:pt x="4530" y="1568"/>
                  </a:lnTo>
                  <a:lnTo>
                    <a:pt x="4578" y="1568"/>
                  </a:lnTo>
                  <a:lnTo>
                    <a:pt x="4578" y="1584"/>
                  </a:lnTo>
                  <a:close/>
                  <a:moveTo>
                    <a:pt x="4514" y="1584"/>
                  </a:moveTo>
                  <a:lnTo>
                    <a:pt x="4466" y="1584"/>
                  </a:lnTo>
                  <a:lnTo>
                    <a:pt x="4466" y="1568"/>
                  </a:lnTo>
                  <a:lnTo>
                    <a:pt x="4514" y="1568"/>
                  </a:lnTo>
                  <a:lnTo>
                    <a:pt x="4514" y="1584"/>
                  </a:lnTo>
                  <a:close/>
                  <a:moveTo>
                    <a:pt x="4450" y="1584"/>
                  </a:moveTo>
                  <a:lnTo>
                    <a:pt x="4402" y="1584"/>
                  </a:lnTo>
                  <a:lnTo>
                    <a:pt x="4402" y="1568"/>
                  </a:lnTo>
                  <a:lnTo>
                    <a:pt x="4450" y="1568"/>
                  </a:lnTo>
                  <a:lnTo>
                    <a:pt x="4450" y="1584"/>
                  </a:lnTo>
                  <a:close/>
                  <a:moveTo>
                    <a:pt x="4386" y="1584"/>
                  </a:moveTo>
                  <a:lnTo>
                    <a:pt x="4338" y="1584"/>
                  </a:lnTo>
                  <a:lnTo>
                    <a:pt x="4338" y="1568"/>
                  </a:lnTo>
                  <a:lnTo>
                    <a:pt x="4386" y="1568"/>
                  </a:lnTo>
                  <a:lnTo>
                    <a:pt x="4386" y="1584"/>
                  </a:lnTo>
                  <a:close/>
                  <a:moveTo>
                    <a:pt x="4322" y="1584"/>
                  </a:moveTo>
                  <a:lnTo>
                    <a:pt x="4274" y="1584"/>
                  </a:lnTo>
                  <a:lnTo>
                    <a:pt x="4274" y="1568"/>
                  </a:lnTo>
                  <a:lnTo>
                    <a:pt x="4322" y="1568"/>
                  </a:lnTo>
                  <a:lnTo>
                    <a:pt x="4322" y="1584"/>
                  </a:lnTo>
                  <a:close/>
                  <a:moveTo>
                    <a:pt x="4258" y="1584"/>
                  </a:moveTo>
                  <a:lnTo>
                    <a:pt x="4210" y="1584"/>
                  </a:lnTo>
                  <a:lnTo>
                    <a:pt x="4210" y="1568"/>
                  </a:lnTo>
                  <a:lnTo>
                    <a:pt x="4258" y="1568"/>
                  </a:lnTo>
                  <a:lnTo>
                    <a:pt x="4258" y="1584"/>
                  </a:lnTo>
                  <a:close/>
                  <a:moveTo>
                    <a:pt x="4194" y="1584"/>
                  </a:moveTo>
                  <a:lnTo>
                    <a:pt x="4146" y="1584"/>
                  </a:lnTo>
                  <a:lnTo>
                    <a:pt x="4146" y="1568"/>
                  </a:lnTo>
                  <a:lnTo>
                    <a:pt x="4194" y="1568"/>
                  </a:lnTo>
                  <a:lnTo>
                    <a:pt x="4194" y="1584"/>
                  </a:lnTo>
                  <a:close/>
                  <a:moveTo>
                    <a:pt x="4130" y="1584"/>
                  </a:moveTo>
                  <a:lnTo>
                    <a:pt x="4082" y="1584"/>
                  </a:lnTo>
                  <a:lnTo>
                    <a:pt x="4082" y="1568"/>
                  </a:lnTo>
                  <a:lnTo>
                    <a:pt x="4130" y="1568"/>
                  </a:lnTo>
                  <a:lnTo>
                    <a:pt x="4130" y="1584"/>
                  </a:lnTo>
                  <a:close/>
                  <a:moveTo>
                    <a:pt x="4066" y="1584"/>
                  </a:moveTo>
                  <a:lnTo>
                    <a:pt x="4018" y="1584"/>
                  </a:lnTo>
                  <a:lnTo>
                    <a:pt x="4018" y="1568"/>
                  </a:lnTo>
                  <a:lnTo>
                    <a:pt x="4066" y="1568"/>
                  </a:lnTo>
                  <a:lnTo>
                    <a:pt x="4066" y="1584"/>
                  </a:lnTo>
                  <a:close/>
                  <a:moveTo>
                    <a:pt x="4002" y="1584"/>
                  </a:moveTo>
                  <a:lnTo>
                    <a:pt x="3954" y="1584"/>
                  </a:lnTo>
                  <a:lnTo>
                    <a:pt x="3954" y="1568"/>
                  </a:lnTo>
                  <a:lnTo>
                    <a:pt x="4002" y="1568"/>
                  </a:lnTo>
                  <a:lnTo>
                    <a:pt x="4002" y="1584"/>
                  </a:lnTo>
                  <a:close/>
                  <a:moveTo>
                    <a:pt x="3938" y="1584"/>
                  </a:moveTo>
                  <a:lnTo>
                    <a:pt x="3890" y="1584"/>
                  </a:lnTo>
                  <a:lnTo>
                    <a:pt x="3890" y="1568"/>
                  </a:lnTo>
                  <a:lnTo>
                    <a:pt x="3938" y="1568"/>
                  </a:lnTo>
                  <a:lnTo>
                    <a:pt x="3938" y="1584"/>
                  </a:lnTo>
                  <a:close/>
                  <a:moveTo>
                    <a:pt x="3874" y="1584"/>
                  </a:moveTo>
                  <a:lnTo>
                    <a:pt x="3826" y="1584"/>
                  </a:lnTo>
                  <a:lnTo>
                    <a:pt x="3826" y="1568"/>
                  </a:lnTo>
                  <a:lnTo>
                    <a:pt x="3874" y="1568"/>
                  </a:lnTo>
                  <a:lnTo>
                    <a:pt x="3874" y="1584"/>
                  </a:lnTo>
                  <a:close/>
                  <a:moveTo>
                    <a:pt x="3810" y="1584"/>
                  </a:moveTo>
                  <a:lnTo>
                    <a:pt x="3762" y="1584"/>
                  </a:lnTo>
                  <a:lnTo>
                    <a:pt x="3762" y="1568"/>
                  </a:lnTo>
                  <a:lnTo>
                    <a:pt x="3810" y="1568"/>
                  </a:lnTo>
                  <a:lnTo>
                    <a:pt x="3810" y="1584"/>
                  </a:lnTo>
                  <a:close/>
                  <a:moveTo>
                    <a:pt x="3746" y="1584"/>
                  </a:moveTo>
                  <a:lnTo>
                    <a:pt x="3697" y="1584"/>
                  </a:lnTo>
                  <a:lnTo>
                    <a:pt x="3697" y="1568"/>
                  </a:lnTo>
                  <a:lnTo>
                    <a:pt x="3746" y="1568"/>
                  </a:lnTo>
                  <a:lnTo>
                    <a:pt x="3746" y="1584"/>
                  </a:lnTo>
                  <a:close/>
                  <a:moveTo>
                    <a:pt x="3681" y="1584"/>
                  </a:moveTo>
                  <a:lnTo>
                    <a:pt x="3633" y="1584"/>
                  </a:lnTo>
                  <a:lnTo>
                    <a:pt x="3633" y="1568"/>
                  </a:lnTo>
                  <a:lnTo>
                    <a:pt x="3681" y="1568"/>
                  </a:lnTo>
                  <a:lnTo>
                    <a:pt x="3681" y="1584"/>
                  </a:lnTo>
                  <a:close/>
                  <a:moveTo>
                    <a:pt x="3617" y="1584"/>
                  </a:moveTo>
                  <a:lnTo>
                    <a:pt x="3569" y="1584"/>
                  </a:lnTo>
                  <a:lnTo>
                    <a:pt x="3569" y="1568"/>
                  </a:lnTo>
                  <a:lnTo>
                    <a:pt x="3617" y="1568"/>
                  </a:lnTo>
                  <a:lnTo>
                    <a:pt x="3617" y="1584"/>
                  </a:lnTo>
                  <a:close/>
                  <a:moveTo>
                    <a:pt x="3553" y="1584"/>
                  </a:moveTo>
                  <a:lnTo>
                    <a:pt x="3505" y="1584"/>
                  </a:lnTo>
                  <a:lnTo>
                    <a:pt x="3505" y="1568"/>
                  </a:lnTo>
                  <a:lnTo>
                    <a:pt x="3553" y="1568"/>
                  </a:lnTo>
                  <a:lnTo>
                    <a:pt x="3553" y="1584"/>
                  </a:lnTo>
                  <a:close/>
                  <a:moveTo>
                    <a:pt x="3489" y="1584"/>
                  </a:moveTo>
                  <a:lnTo>
                    <a:pt x="3441" y="1584"/>
                  </a:lnTo>
                  <a:lnTo>
                    <a:pt x="3441" y="1568"/>
                  </a:lnTo>
                  <a:lnTo>
                    <a:pt x="3489" y="1568"/>
                  </a:lnTo>
                  <a:lnTo>
                    <a:pt x="3489" y="1584"/>
                  </a:lnTo>
                  <a:close/>
                  <a:moveTo>
                    <a:pt x="3425" y="1584"/>
                  </a:moveTo>
                  <a:lnTo>
                    <a:pt x="3377" y="1584"/>
                  </a:lnTo>
                  <a:lnTo>
                    <a:pt x="3377" y="1568"/>
                  </a:lnTo>
                  <a:lnTo>
                    <a:pt x="3425" y="1568"/>
                  </a:lnTo>
                  <a:lnTo>
                    <a:pt x="3425" y="1584"/>
                  </a:lnTo>
                  <a:close/>
                  <a:moveTo>
                    <a:pt x="3361" y="1584"/>
                  </a:moveTo>
                  <a:lnTo>
                    <a:pt x="3313" y="1584"/>
                  </a:lnTo>
                  <a:lnTo>
                    <a:pt x="3313" y="1568"/>
                  </a:lnTo>
                  <a:lnTo>
                    <a:pt x="3361" y="1568"/>
                  </a:lnTo>
                  <a:lnTo>
                    <a:pt x="3361" y="1584"/>
                  </a:lnTo>
                  <a:close/>
                  <a:moveTo>
                    <a:pt x="3297" y="1584"/>
                  </a:moveTo>
                  <a:lnTo>
                    <a:pt x="3249" y="1584"/>
                  </a:lnTo>
                  <a:lnTo>
                    <a:pt x="3249" y="1568"/>
                  </a:lnTo>
                  <a:lnTo>
                    <a:pt x="3297" y="1568"/>
                  </a:lnTo>
                  <a:lnTo>
                    <a:pt x="3297" y="1584"/>
                  </a:lnTo>
                  <a:close/>
                  <a:moveTo>
                    <a:pt x="3233" y="1584"/>
                  </a:moveTo>
                  <a:lnTo>
                    <a:pt x="3185" y="1584"/>
                  </a:lnTo>
                  <a:lnTo>
                    <a:pt x="3185" y="1568"/>
                  </a:lnTo>
                  <a:lnTo>
                    <a:pt x="3233" y="1568"/>
                  </a:lnTo>
                  <a:lnTo>
                    <a:pt x="3233" y="1584"/>
                  </a:lnTo>
                  <a:close/>
                  <a:moveTo>
                    <a:pt x="3169" y="1584"/>
                  </a:moveTo>
                  <a:lnTo>
                    <a:pt x="3121" y="1584"/>
                  </a:lnTo>
                  <a:lnTo>
                    <a:pt x="3121" y="1568"/>
                  </a:lnTo>
                  <a:lnTo>
                    <a:pt x="3169" y="1568"/>
                  </a:lnTo>
                  <a:lnTo>
                    <a:pt x="3169" y="1584"/>
                  </a:lnTo>
                  <a:close/>
                  <a:moveTo>
                    <a:pt x="3105" y="1584"/>
                  </a:moveTo>
                  <a:lnTo>
                    <a:pt x="3057" y="1584"/>
                  </a:lnTo>
                  <a:lnTo>
                    <a:pt x="3057" y="1568"/>
                  </a:lnTo>
                  <a:lnTo>
                    <a:pt x="3105" y="1568"/>
                  </a:lnTo>
                  <a:lnTo>
                    <a:pt x="3105" y="1584"/>
                  </a:lnTo>
                  <a:close/>
                  <a:moveTo>
                    <a:pt x="3041" y="1584"/>
                  </a:moveTo>
                  <a:lnTo>
                    <a:pt x="2993" y="1584"/>
                  </a:lnTo>
                  <a:lnTo>
                    <a:pt x="2993" y="1568"/>
                  </a:lnTo>
                  <a:lnTo>
                    <a:pt x="3041" y="1568"/>
                  </a:lnTo>
                  <a:lnTo>
                    <a:pt x="3041" y="1584"/>
                  </a:lnTo>
                  <a:close/>
                  <a:moveTo>
                    <a:pt x="2977" y="1584"/>
                  </a:moveTo>
                  <a:lnTo>
                    <a:pt x="2929" y="1584"/>
                  </a:lnTo>
                  <a:lnTo>
                    <a:pt x="2929" y="1568"/>
                  </a:lnTo>
                  <a:lnTo>
                    <a:pt x="2977" y="1568"/>
                  </a:lnTo>
                  <a:lnTo>
                    <a:pt x="2977" y="1584"/>
                  </a:lnTo>
                  <a:close/>
                  <a:moveTo>
                    <a:pt x="2913" y="1584"/>
                  </a:moveTo>
                  <a:lnTo>
                    <a:pt x="2865" y="1584"/>
                  </a:lnTo>
                  <a:lnTo>
                    <a:pt x="2865" y="1568"/>
                  </a:lnTo>
                  <a:lnTo>
                    <a:pt x="2913" y="1568"/>
                  </a:lnTo>
                  <a:lnTo>
                    <a:pt x="2913" y="1584"/>
                  </a:lnTo>
                  <a:close/>
                  <a:moveTo>
                    <a:pt x="2849" y="1584"/>
                  </a:moveTo>
                  <a:lnTo>
                    <a:pt x="2801" y="1584"/>
                  </a:lnTo>
                  <a:lnTo>
                    <a:pt x="2801" y="1568"/>
                  </a:lnTo>
                  <a:lnTo>
                    <a:pt x="2849" y="1568"/>
                  </a:lnTo>
                  <a:lnTo>
                    <a:pt x="2849" y="1584"/>
                  </a:lnTo>
                  <a:close/>
                  <a:moveTo>
                    <a:pt x="2785" y="1584"/>
                  </a:moveTo>
                  <a:lnTo>
                    <a:pt x="2736" y="1584"/>
                  </a:lnTo>
                  <a:lnTo>
                    <a:pt x="2736" y="1568"/>
                  </a:lnTo>
                  <a:lnTo>
                    <a:pt x="2785" y="1568"/>
                  </a:lnTo>
                  <a:lnTo>
                    <a:pt x="2785" y="1584"/>
                  </a:lnTo>
                  <a:close/>
                  <a:moveTo>
                    <a:pt x="2720" y="1584"/>
                  </a:moveTo>
                  <a:lnTo>
                    <a:pt x="2672" y="1584"/>
                  </a:lnTo>
                  <a:lnTo>
                    <a:pt x="2672" y="1568"/>
                  </a:lnTo>
                  <a:lnTo>
                    <a:pt x="2720" y="1568"/>
                  </a:lnTo>
                  <a:lnTo>
                    <a:pt x="2720" y="1584"/>
                  </a:lnTo>
                  <a:close/>
                  <a:moveTo>
                    <a:pt x="2656" y="1584"/>
                  </a:moveTo>
                  <a:lnTo>
                    <a:pt x="2608" y="1584"/>
                  </a:lnTo>
                  <a:lnTo>
                    <a:pt x="2608" y="1568"/>
                  </a:lnTo>
                  <a:lnTo>
                    <a:pt x="2656" y="1568"/>
                  </a:lnTo>
                  <a:lnTo>
                    <a:pt x="2656" y="1584"/>
                  </a:lnTo>
                  <a:close/>
                  <a:moveTo>
                    <a:pt x="2592" y="1584"/>
                  </a:moveTo>
                  <a:lnTo>
                    <a:pt x="2544" y="1584"/>
                  </a:lnTo>
                  <a:lnTo>
                    <a:pt x="2544" y="1568"/>
                  </a:lnTo>
                  <a:lnTo>
                    <a:pt x="2592" y="1568"/>
                  </a:lnTo>
                  <a:lnTo>
                    <a:pt x="2592" y="1584"/>
                  </a:lnTo>
                  <a:close/>
                  <a:moveTo>
                    <a:pt x="2528" y="1584"/>
                  </a:moveTo>
                  <a:lnTo>
                    <a:pt x="2480" y="1584"/>
                  </a:lnTo>
                  <a:lnTo>
                    <a:pt x="2480" y="1568"/>
                  </a:lnTo>
                  <a:lnTo>
                    <a:pt x="2528" y="1568"/>
                  </a:lnTo>
                  <a:lnTo>
                    <a:pt x="2528" y="1584"/>
                  </a:lnTo>
                  <a:close/>
                  <a:moveTo>
                    <a:pt x="2464" y="1584"/>
                  </a:moveTo>
                  <a:lnTo>
                    <a:pt x="2416" y="1584"/>
                  </a:lnTo>
                  <a:lnTo>
                    <a:pt x="2416" y="1568"/>
                  </a:lnTo>
                  <a:lnTo>
                    <a:pt x="2464" y="1568"/>
                  </a:lnTo>
                  <a:lnTo>
                    <a:pt x="2464" y="1584"/>
                  </a:lnTo>
                  <a:close/>
                  <a:moveTo>
                    <a:pt x="2400" y="1584"/>
                  </a:moveTo>
                  <a:lnTo>
                    <a:pt x="2352" y="1584"/>
                  </a:lnTo>
                  <a:lnTo>
                    <a:pt x="2352" y="1568"/>
                  </a:lnTo>
                  <a:lnTo>
                    <a:pt x="2400" y="1568"/>
                  </a:lnTo>
                  <a:lnTo>
                    <a:pt x="2400" y="1584"/>
                  </a:lnTo>
                  <a:close/>
                  <a:moveTo>
                    <a:pt x="2336" y="1584"/>
                  </a:moveTo>
                  <a:lnTo>
                    <a:pt x="2288" y="1584"/>
                  </a:lnTo>
                  <a:lnTo>
                    <a:pt x="2288" y="1568"/>
                  </a:lnTo>
                  <a:lnTo>
                    <a:pt x="2336" y="1568"/>
                  </a:lnTo>
                  <a:lnTo>
                    <a:pt x="2336" y="1584"/>
                  </a:lnTo>
                  <a:close/>
                  <a:moveTo>
                    <a:pt x="2272" y="1584"/>
                  </a:moveTo>
                  <a:lnTo>
                    <a:pt x="2224" y="1584"/>
                  </a:lnTo>
                  <a:lnTo>
                    <a:pt x="2224" y="1568"/>
                  </a:lnTo>
                  <a:lnTo>
                    <a:pt x="2272" y="1568"/>
                  </a:lnTo>
                  <a:lnTo>
                    <a:pt x="2272" y="1584"/>
                  </a:lnTo>
                  <a:close/>
                  <a:moveTo>
                    <a:pt x="2208" y="1584"/>
                  </a:moveTo>
                  <a:lnTo>
                    <a:pt x="2160" y="1584"/>
                  </a:lnTo>
                  <a:lnTo>
                    <a:pt x="2160" y="1568"/>
                  </a:lnTo>
                  <a:lnTo>
                    <a:pt x="2208" y="1568"/>
                  </a:lnTo>
                  <a:lnTo>
                    <a:pt x="2208" y="1584"/>
                  </a:lnTo>
                  <a:close/>
                  <a:moveTo>
                    <a:pt x="2144" y="1584"/>
                  </a:moveTo>
                  <a:lnTo>
                    <a:pt x="2096" y="1584"/>
                  </a:lnTo>
                  <a:lnTo>
                    <a:pt x="2096" y="1568"/>
                  </a:lnTo>
                  <a:lnTo>
                    <a:pt x="2144" y="1568"/>
                  </a:lnTo>
                  <a:lnTo>
                    <a:pt x="2144" y="1584"/>
                  </a:lnTo>
                  <a:close/>
                  <a:moveTo>
                    <a:pt x="2080" y="1584"/>
                  </a:moveTo>
                  <a:lnTo>
                    <a:pt x="2032" y="1584"/>
                  </a:lnTo>
                  <a:lnTo>
                    <a:pt x="2032" y="1568"/>
                  </a:lnTo>
                  <a:lnTo>
                    <a:pt x="2080" y="1568"/>
                  </a:lnTo>
                  <a:lnTo>
                    <a:pt x="2080" y="1584"/>
                  </a:lnTo>
                  <a:close/>
                  <a:moveTo>
                    <a:pt x="2016" y="1584"/>
                  </a:moveTo>
                  <a:lnTo>
                    <a:pt x="1968" y="1584"/>
                  </a:lnTo>
                  <a:lnTo>
                    <a:pt x="1968" y="1568"/>
                  </a:lnTo>
                  <a:lnTo>
                    <a:pt x="2016" y="1568"/>
                  </a:lnTo>
                  <a:lnTo>
                    <a:pt x="2016" y="1584"/>
                  </a:lnTo>
                  <a:close/>
                  <a:moveTo>
                    <a:pt x="1952" y="1584"/>
                  </a:moveTo>
                  <a:lnTo>
                    <a:pt x="1904" y="1584"/>
                  </a:lnTo>
                  <a:lnTo>
                    <a:pt x="1904" y="1568"/>
                  </a:lnTo>
                  <a:lnTo>
                    <a:pt x="1952" y="1568"/>
                  </a:lnTo>
                  <a:lnTo>
                    <a:pt x="1952" y="1584"/>
                  </a:lnTo>
                  <a:close/>
                  <a:moveTo>
                    <a:pt x="1888" y="1584"/>
                  </a:moveTo>
                  <a:lnTo>
                    <a:pt x="1840" y="1584"/>
                  </a:lnTo>
                  <a:lnTo>
                    <a:pt x="1840" y="1568"/>
                  </a:lnTo>
                  <a:lnTo>
                    <a:pt x="1888" y="1568"/>
                  </a:lnTo>
                  <a:lnTo>
                    <a:pt x="1888" y="1584"/>
                  </a:lnTo>
                  <a:close/>
                  <a:moveTo>
                    <a:pt x="1824" y="1584"/>
                  </a:moveTo>
                  <a:lnTo>
                    <a:pt x="1776" y="1584"/>
                  </a:lnTo>
                  <a:lnTo>
                    <a:pt x="1776" y="1568"/>
                  </a:lnTo>
                  <a:lnTo>
                    <a:pt x="1824" y="1568"/>
                  </a:lnTo>
                  <a:lnTo>
                    <a:pt x="1824" y="1584"/>
                  </a:lnTo>
                  <a:close/>
                  <a:moveTo>
                    <a:pt x="1760" y="1584"/>
                  </a:moveTo>
                  <a:lnTo>
                    <a:pt x="1711" y="1584"/>
                  </a:lnTo>
                  <a:lnTo>
                    <a:pt x="1711" y="1568"/>
                  </a:lnTo>
                  <a:lnTo>
                    <a:pt x="1760" y="1568"/>
                  </a:lnTo>
                  <a:lnTo>
                    <a:pt x="1760" y="1584"/>
                  </a:lnTo>
                  <a:close/>
                  <a:moveTo>
                    <a:pt x="1695" y="1584"/>
                  </a:moveTo>
                  <a:lnTo>
                    <a:pt x="1647" y="1584"/>
                  </a:lnTo>
                  <a:lnTo>
                    <a:pt x="1647" y="1568"/>
                  </a:lnTo>
                  <a:lnTo>
                    <a:pt x="1695" y="1568"/>
                  </a:lnTo>
                  <a:lnTo>
                    <a:pt x="1695" y="1584"/>
                  </a:lnTo>
                  <a:close/>
                  <a:moveTo>
                    <a:pt x="1631" y="1584"/>
                  </a:moveTo>
                  <a:lnTo>
                    <a:pt x="1583" y="1584"/>
                  </a:lnTo>
                  <a:lnTo>
                    <a:pt x="1583" y="1568"/>
                  </a:lnTo>
                  <a:lnTo>
                    <a:pt x="1631" y="1568"/>
                  </a:lnTo>
                  <a:lnTo>
                    <a:pt x="1631" y="1584"/>
                  </a:lnTo>
                  <a:close/>
                  <a:moveTo>
                    <a:pt x="1567" y="1584"/>
                  </a:moveTo>
                  <a:lnTo>
                    <a:pt x="1519" y="1584"/>
                  </a:lnTo>
                  <a:lnTo>
                    <a:pt x="1519" y="1568"/>
                  </a:lnTo>
                  <a:lnTo>
                    <a:pt x="1567" y="1568"/>
                  </a:lnTo>
                  <a:lnTo>
                    <a:pt x="1567" y="1584"/>
                  </a:lnTo>
                  <a:close/>
                  <a:moveTo>
                    <a:pt x="1503" y="1584"/>
                  </a:moveTo>
                  <a:lnTo>
                    <a:pt x="1455" y="1584"/>
                  </a:lnTo>
                  <a:lnTo>
                    <a:pt x="1455" y="1568"/>
                  </a:lnTo>
                  <a:lnTo>
                    <a:pt x="1503" y="1568"/>
                  </a:lnTo>
                  <a:lnTo>
                    <a:pt x="1503" y="1584"/>
                  </a:lnTo>
                  <a:close/>
                  <a:moveTo>
                    <a:pt x="1439" y="1584"/>
                  </a:moveTo>
                  <a:lnTo>
                    <a:pt x="1391" y="1584"/>
                  </a:lnTo>
                  <a:lnTo>
                    <a:pt x="1391" y="1568"/>
                  </a:lnTo>
                  <a:lnTo>
                    <a:pt x="1439" y="1568"/>
                  </a:lnTo>
                  <a:lnTo>
                    <a:pt x="1439" y="1584"/>
                  </a:lnTo>
                  <a:close/>
                  <a:moveTo>
                    <a:pt x="1375" y="1584"/>
                  </a:moveTo>
                  <a:lnTo>
                    <a:pt x="1327" y="1584"/>
                  </a:lnTo>
                  <a:lnTo>
                    <a:pt x="1327" y="1568"/>
                  </a:lnTo>
                  <a:lnTo>
                    <a:pt x="1375" y="1568"/>
                  </a:lnTo>
                  <a:lnTo>
                    <a:pt x="1375" y="1584"/>
                  </a:lnTo>
                  <a:close/>
                  <a:moveTo>
                    <a:pt x="1311" y="1584"/>
                  </a:moveTo>
                  <a:lnTo>
                    <a:pt x="1263" y="1584"/>
                  </a:lnTo>
                  <a:lnTo>
                    <a:pt x="1263" y="1568"/>
                  </a:lnTo>
                  <a:lnTo>
                    <a:pt x="1311" y="1568"/>
                  </a:lnTo>
                  <a:lnTo>
                    <a:pt x="1311" y="1584"/>
                  </a:lnTo>
                  <a:close/>
                  <a:moveTo>
                    <a:pt x="1247" y="1584"/>
                  </a:moveTo>
                  <a:lnTo>
                    <a:pt x="1199" y="1584"/>
                  </a:lnTo>
                  <a:lnTo>
                    <a:pt x="1199" y="1568"/>
                  </a:lnTo>
                  <a:lnTo>
                    <a:pt x="1247" y="1568"/>
                  </a:lnTo>
                  <a:lnTo>
                    <a:pt x="1247" y="1584"/>
                  </a:lnTo>
                  <a:close/>
                  <a:moveTo>
                    <a:pt x="1183" y="1584"/>
                  </a:moveTo>
                  <a:lnTo>
                    <a:pt x="1135" y="1584"/>
                  </a:lnTo>
                  <a:lnTo>
                    <a:pt x="1135" y="1568"/>
                  </a:lnTo>
                  <a:lnTo>
                    <a:pt x="1183" y="1568"/>
                  </a:lnTo>
                  <a:lnTo>
                    <a:pt x="1183" y="1584"/>
                  </a:lnTo>
                  <a:close/>
                  <a:moveTo>
                    <a:pt x="1119" y="1584"/>
                  </a:moveTo>
                  <a:lnTo>
                    <a:pt x="1071" y="1584"/>
                  </a:lnTo>
                  <a:lnTo>
                    <a:pt x="1071" y="1568"/>
                  </a:lnTo>
                  <a:lnTo>
                    <a:pt x="1119" y="1568"/>
                  </a:lnTo>
                  <a:lnTo>
                    <a:pt x="1119" y="1584"/>
                  </a:lnTo>
                  <a:close/>
                  <a:moveTo>
                    <a:pt x="1055" y="1584"/>
                  </a:moveTo>
                  <a:lnTo>
                    <a:pt x="1007" y="1584"/>
                  </a:lnTo>
                  <a:lnTo>
                    <a:pt x="1007" y="1568"/>
                  </a:lnTo>
                  <a:lnTo>
                    <a:pt x="1055" y="1568"/>
                  </a:lnTo>
                  <a:lnTo>
                    <a:pt x="1055" y="1584"/>
                  </a:lnTo>
                  <a:close/>
                  <a:moveTo>
                    <a:pt x="991" y="1584"/>
                  </a:moveTo>
                  <a:lnTo>
                    <a:pt x="943" y="1584"/>
                  </a:lnTo>
                  <a:lnTo>
                    <a:pt x="943" y="1568"/>
                  </a:lnTo>
                  <a:lnTo>
                    <a:pt x="991" y="1568"/>
                  </a:lnTo>
                  <a:lnTo>
                    <a:pt x="991" y="1584"/>
                  </a:lnTo>
                  <a:close/>
                  <a:moveTo>
                    <a:pt x="927" y="1584"/>
                  </a:moveTo>
                  <a:lnTo>
                    <a:pt x="879" y="1584"/>
                  </a:lnTo>
                  <a:lnTo>
                    <a:pt x="879" y="1568"/>
                  </a:lnTo>
                  <a:lnTo>
                    <a:pt x="927" y="1568"/>
                  </a:lnTo>
                  <a:lnTo>
                    <a:pt x="927" y="1584"/>
                  </a:lnTo>
                  <a:close/>
                  <a:moveTo>
                    <a:pt x="863" y="1584"/>
                  </a:moveTo>
                  <a:lnTo>
                    <a:pt x="815" y="1584"/>
                  </a:lnTo>
                  <a:lnTo>
                    <a:pt x="815" y="1568"/>
                  </a:lnTo>
                  <a:lnTo>
                    <a:pt x="863" y="1568"/>
                  </a:lnTo>
                  <a:lnTo>
                    <a:pt x="863" y="1584"/>
                  </a:lnTo>
                  <a:close/>
                  <a:moveTo>
                    <a:pt x="799" y="1584"/>
                  </a:moveTo>
                  <a:lnTo>
                    <a:pt x="751" y="1584"/>
                  </a:lnTo>
                  <a:lnTo>
                    <a:pt x="751" y="1568"/>
                  </a:lnTo>
                  <a:lnTo>
                    <a:pt x="799" y="1568"/>
                  </a:lnTo>
                  <a:lnTo>
                    <a:pt x="799" y="1584"/>
                  </a:lnTo>
                  <a:close/>
                  <a:moveTo>
                    <a:pt x="734" y="1584"/>
                  </a:moveTo>
                  <a:lnTo>
                    <a:pt x="686" y="1584"/>
                  </a:lnTo>
                  <a:lnTo>
                    <a:pt x="686" y="1568"/>
                  </a:lnTo>
                  <a:lnTo>
                    <a:pt x="734" y="1568"/>
                  </a:lnTo>
                  <a:lnTo>
                    <a:pt x="734" y="1584"/>
                  </a:lnTo>
                  <a:close/>
                  <a:moveTo>
                    <a:pt x="670" y="1584"/>
                  </a:moveTo>
                  <a:lnTo>
                    <a:pt x="622" y="1584"/>
                  </a:lnTo>
                  <a:lnTo>
                    <a:pt x="622" y="1568"/>
                  </a:lnTo>
                  <a:lnTo>
                    <a:pt x="670" y="1568"/>
                  </a:lnTo>
                  <a:lnTo>
                    <a:pt x="670" y="1584"/>
                  </a:lnTo>
                  <a:close/>
                  <a:moveTo>
                    <a:pt x="606" y="1584"/>
                  </a:moveTo>
                  <a:lnTo>
                    <a:pt x="558" y="1584"/>
                  </a:lnTo>
                  <a:lnTo>
                    <a:pt x="558" y="1568"/>
                  </a:lnTo>
                  <a:lnTo>
                    <a:pt x="606" y="1568"/>
                  </a:lnTo>
                  <a:lnTo>
                    <a:pt x="606" y="1584"/>
                  </a:lnTo>
                  <a:close/>
                  <a:moveTo>
                    <a:pt x="542" y="1584"/>
                  </a:moveTo>
                  <a:lnTo>
                    <a:pt x="494" y="1584"/>
                  </a:lnTo>
                  <a:lnTo>
                    <a:pt x="494" y="1568"/>
                  </a:lnTo>
                  <a:lnTo>
                    <a:pt x="542" y="1568"/>
                  </a:lnTo>
                  <a:lnTo>
                    <a:pt x="542" y="1584"/>
                  </a:lnTo>
                  <a:close/>
                  <a:moveTo>
                    <a:pt x="478" y="1584"/>
                  </a:moveTo>
                  <a:lnTo>
                    <a:pt x="430" y="1584"/>
                  </a:lnTo>
                  <a:lnTo>
                    <a:pt x="430" y="1568"/>
                  </a:lnTo>
                  <a:lnTo>
                    <a:pt x="478" y="1568"/>
                  </a:lnTo>
                  <a:lnTo>
                    <a:pt x="478" y="1584"/>
                  </a:lnTo>
                  <a:close/>
                  <a:moveTo>
                    <a:pt x="414" y="1584"/>
                  </a:moveTo>
                  <a:lnTo>
                    <a:pt x="366" y="1584"/>
                  </a:lnTo>
                  <a:lnTo>
                    <a:pt x="366" y="1568"/>
                  </a:lnTo>
                  <a:lnTo>
                    <a:pt x="414" y="1568"/>
                  </a:lnTo>
                  <a:lnTo>
                    <a:pt x="414" y="1584"/>
                  </a:lnTo>
                  <a:close/>
                  <a:moveTo>
                    <a:pt x="350" y="1584"/>
                  </a:moveTo>
                  <a:lnTo>
                    <a:pt x="302" y="1584"/>
                  </a:lnTo>
                  <a:lnTo>
                    <a:pt x="302" y="1568"/>
                  </a:lnTo>
                  <a:lnTo>
                    <a:pt x="350" y="1568"/>
                  </a:lnTo>
                  <a:lnTo>
                    <a:pt x="350" y="1584"/>
                  </a:lnTo>
                  <a:close/>
                  <a:moveTo>
                    <a:pt x="286" y="1584"/>
                  </a:moveTo>
                  <a:lnTo>
                    <a:pt x="270" y="1584"/>
                  </a:lnTo>
                  <a:lnTo>
                    <a:pt x="270" y="1568"/>
                  </a:lnTo>
                  <a:lnTo>
                    <a:pt x="286" y="1568"/>
                  </a:lnTo>
                  <a:lnTo>
                    <a:pt x="286" y="1584"/>
                  </a:lnTo>
                  <a:close/>
                  <a:moveTo>
                    <a:pt x="270" y="1584"/>
                  </a:moveTo>
                  <a:lnTo>
                    <a:pt x="237" y="1581"/>
                  </a:lnTo>
                  <a:lnTo>
                    <a:pt x="239" y="1565"/>
                  </a:lnTo>
                  <a:lnTo>
                    <a:pt x="271" y="1568"/>
                  </a:lnTo>
                  <a:lnTo>
                    <a:pt x="270" y="1584"/>
                  </a:lnTo>
                  <a:close/>
                  <a:moveTo>
                    <a:pt x="221" y="1580"/>
                  </a:moveTo>
                  <a:lnTo>
                    <a:pt x="217" y="1579"/>
                  </a:lnTo>
                  <a:cubicBezTo>
                    <a:pt x="216" y="1579"/>
                    <a:pt x="216" y="1579"/>
                    <a:pt x="215" y="1579"/>
                  </a:cubicBezTo>
                  <a:lnTo>
                    <a:pt x="174" y="1566"/>
                  </a:lnTo>
                  <a:lnTo>
                    <a:pt x="179" y="1550"/>
                  </a:lnTo>
                  <a:lnTo>
                    <a:pt x="220" y="1564"/>
                  </a:lnTo>
                  <a:lnTo>
                    <a:pt x="218" y="1563"/>
                  </a:lnTo>
                  <a:lnTo>
                    <a:pt x="223" y="1564"/>
                  </a:lnTo>
                  <a:lnTo>
                    <a:pt x="221" y="1580"/>
                  </a:lnTo>
                  <a:close/>
                  <a:moveTo>
                    <a:pt x="158" y="1559"/>
                  </a:moveTo>
                  <a:lnTo>
                    <a:pt x="120" y="1539"/>
                  </a:lnTo>
                  <a:cubicBezTo>
                    <a:pt x="119" y="1538"/>
                    <a:pt x="119" y="1538"/>
                    <a:pt x="118" y="1538"/>
                  </a:cubicBezTo>
                  <a:lnTo>
                    <a:pt x="115" y="1535"/>
                  </a:lnTo>
                  <a:lnTo>
                    <a:pt x="125" y="1522"/>
                  </a:lnTo>
                  <a:lnTo>
                    <a:pt x="129" y="1525"/>
                  </a:lnTo>
                  <a:lnTo>
                    <a:pt x="127" y="1524"/>
                  </a:lnTo>
                  <a:lnTo>
                    <a:pt x="165" y="1545"/>
                  </a:lnTo>
                  <a:lnTo>
                    <a:pt x="158" y="1559"/>
                  </a:lnTo>
                  <a:close/>
                  <a:moveTo>
                    <a:pt x="102" y="1524"/>
                  </a:moveTo>
                  <a:lnTo>
                    <a:pt x="80" y="1507"/>
                  </a:lnTo>
                  <a:cubicBezTo>
                    <a:pt x="80" y="1506"/>
                    <a:pt x="80" y="1506"/>
                    <a:pt x="79" y="1506"/>
                  </a:cubicBezTo>
                  <a:lnTo>
                    <a:pt x="67" y="1490"/>
                  </a:lnTo>
                  <a:lnTo>
                    <a:pt x="79" y="1480"/>
                  </a:lnTo>
                  <a:lnTo>
                    <a:pt x="92" y="1495"/>
                  </a:lnTo>
                  <a:lnTo>
                    <a:pt x="91" y="1494"/>
                  </a:lnTo>
                  <a:lnTo>
                    <a:pt x="112" y="1512"/>
                  </a:lnTo>
                  <a:lnTo>
                    <a:pt x="102" y="1524"/>
                  </a:lnTo>
                  <a:close/>
                  <a:moveTo>
                    <a:pt x="57" y="1478"/>
                  </a:moveTo>
                  <a:lnTo>
                    <a:pt x="47" y="1467"/>
                  </a:lnTo>
                  <a:cubicBezTo>
                    <a:pt x="47" y="1466"/>
                    <a:pt x="47" y="1466"/>
                    <a:pt x="46" y="1465"/>
                  </a:cubicBezTo>
                  <a:lnTo>
                    <a:pt x="30" y="1436"/>
                  </a:lnTo>
                  <a:lnTo>
                    <a:pt x="44" y="1428"/>
                  </a:lnTo>
                  <a:lnTo>
                    <a:pt x="60" y="1458"/>
                  </a:lnTo>
                  <a:lnTo>
                    <a:pt x="60" y="1456"/>
                  </a:lnTo>
                  <a:lnTo>
                    <a:pt x="69" y="1468"/>
                  </a:lnTo>
                  <a:lnTo>
                    <a:pt x="57" y="1478"/>
                  </a:lnTo>
                  <a:close/>
                  <a:moveTo>
                    <a:pt x="23" y="1422"/>
                  </a:moveTo>
                  <a:lnTo>
                    <a:pt x="22" y="1421"/>
                  </a:lnTo>
                  <a:cubicBezTo>
                    <a:pt x="22" y="1421"/>
                    <a:pt x="22" y="1420"/>
                    <a:pt x="22" y="1420"/>
                  </a:cubicBezTo>
                  <a:lnTo>
                    <a:pt x="7" y="1375"/>
                  </a:lnTo>
                  <a:lnTo>
                    <a:pt x="22" y="1370"/>
                  </a:lnTo>
                  <a:lnTo>
                    <a:pt x="37" y="1415"/>
                  </a:lnTo>
                  <a:lnTo>
                    <a:pt x="36" y="1414"/>
                  </a:lnTo>
                  <a:lnTo>
                    <a:pt x="37" y="1414"/>
                  </a:lnTo>
                  <a:lnTo>
                    <a:pt x="23" y="1422"/>
                  </a:lnTo>
                  <a:close/>
                  <a:moveTo>
                    <a:pt x="4" y="1357"/>
                  </a:moveTo>
                  <a:lnTo>
                    <a:pt x="0" y="1316"/>
                  </a:lnTo>
                  <a:lnTo>
                    <a:pt x="16" y="1315"/>
                  </a:lnTo>
                  <a:lnTo>
                    <a:pt x="20" y="1356"/>
                  </a:lnTo>
                  <a:lnTo>
                    <a:pt x="4" y="1357"/>
                  </a:lnTo>
                  <a:close/>
                </a:path>
              </a:pathLst>
            </a:custGeom>
            <a:solidFill>
              <a:srgbClr val="7d60a0"/>
            </a:solidFill>
            <a:ln w="0">
              <a:solidFill>
                <a:srgbClr val="7d60a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4" name="Rectangle 109"/>
            <p:cNvSpPr/>
            <p:nvPr/>
          </p:nvSpPr>
          <p:spPr>
            <a:xfrm>
              <a:off x="5809680" y="5724360"/>
              <a:ext cx="34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der</a:t>
              </a:r>
              <a:endParaRPr b="0" lang="en-US" sz="1000" spc="-1" strike="noStrike">
                <a:solidFill>
                  <a:srgbClr val="000000"/>
                </a:solidFill>
                <a:latin typeface="Times New Roman"/>
              </a:endParaRPr>
            </a:p>
          </p:txBody>
        </p:sp>
        <p:sp>
          <p:nvSpPr>
            <p:cNvPr id="575" name="Rectangle 110"/>
            <p:cNvSpPr/>
            <p:nvPr/>
          </p:nvSpPr>
          <p:spPr>
            <a:xfrm>
              <a:off x="6151320" y="57243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576" name="Rectangle 111"/>
            <p:cNvSpPr/>
            <p:nvPr/>
          </p:nvSpPr>
          <p:spPr>
            <a:xfrm>
              <a:off x="6198120" y="5724360"/>
              <a:ext cx="12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a:t>
              </a:r>
              <a:endParaRPr b="0" lang="en-US" sz="1000" spc="-1" strike="noStrike">
                <a:solidFill>
                  <a:srgbClr val="000000"/>
                </a:solidFill>
                <a:latin typeface="Times New Roman"/>
              </a:endParaRPr>
            </a:p>
          </p:txBody>
        </p:sp>
        <p:sp>
          <p:nvSpPr>
            <p:cNvPr id="577" name="Rectangle 112"/>
            <p:cNvSpPr/>
            <p:nvPr/>
          </p:nvSpPr>
          <p:spPr>
            <a:xfrm>
              <a:off x="6314760" y="57243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578" name="Rectangle 113"/>
            <p:cNvSpPr/>
            <p:nvPr/>
          </p:nvSpPr>
          <p:spPr>
            <a:xfrm>
              <a:off x="6372720" y="5724360"/>
              <a:ext cx="30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sh</a:t>
              </a:r>
              <a:endParaRPr b="0" lang="en-US" sz="1000" spc="-1" strike="noStrike">
                <a:solidFill>
                  <a:srgbClr val="000000"/>
                </a:solidFill>
                <a:latin typeface="Times New Roman"/>
              </a:endParaRPr>
            </a:p>
          </p:txBody>
        </p:sp>
        <p:sp>
          <p:nvSpPr>
            <p:cNvPr id="579" name="Freeform 114"/>
            <p:cNvSpPr/>
            <p:nvPr/>
          </p:nvSpPr>
          <p:spPr>
            <a:xfrm>
              <a:off x="6524640" y="5915160"/>
              <a:ext cx="1036800" cy="419040"/>
            </a:xfrm>
            <a:custGeom>
              <a:avLst/>
              <a:gdLst>
                <a:gd name="textAreaLeft" fmla="*/ 0 w 1036800"/>
                <a:gd name="textAreaRight" fmla="*/ 1037160 w 1036800"/>
                <a:gd name="textAreaTop" fmla="*/ 0 h 419040"/>
                <a:gd name="textAreaBottom" fmla="*/ 419400 h 419040"/>
              </a:gdLst>
              <a:ahLst/>
              <a:rect l="textAreaLeft" t="textAreaTop" r="textAreaRight" b="textAreaBottom"/>
              <a:pathLst>
                <a:path w="1920" h="832">
                  <a:moveTo>
                    <a:pt x="0" y="139"/>
                  </a:moveTo>
                  <a:cubicBezTo>
                    <a:pt x="0" y="63"/>
                    <a:pt x="63" y="0"/>
                    <a:pt x="139" y="0"/>
                  </a:cubicBezTo>
                  <a:cubicBezTo>
                    <a:pt x="139" y="0"/>
                    <a:pt x="139" y="0"/>
                    <a:pt x="139" y="0"/>
                  </a:cubicBezTo>
                  <a:lnTo>
                    <a:pt x="139" y="0"/>
                  </a:lnTo>
                  <a:lnTo>
                    <a:pt x="1782" y="0"/>
                  </a:lnTo>
                  <a:lnTo>
                    <a:pt x="1782" y="0"/>
                  </a:lnTo>
                  <a:cubicBezTo>
                    <a:pt x="1858" y="0"/>
                    <a:pt x="1920" y="63"/>
                    <a:pt x="1920" y="139"/>
                  </a:cubicBezTo>
                  <a:cubicBezTo>
                    <a:pt x="1920" y="139"/>
                    <a:pt x="1920" y="139"/>
                    <a:pt x="1920" y="139"/>
                  </a:cubicBezTo>
                  <a:lnTo>
                    <a:pt x="1920" y="139"/>
                  </a:lnTo>
                  <a:lnTo>
                    <a:pt x="1920" y="694"/>
                  </a:lnTo>
                  <a:lnTo>
                    <a:pt x="1920" y="694"/>
                  </a:lnTo>
                  <a:cubicBezTo>
                    <a:pt x="1920" y="770"/>
                    <a:pt x="1858" y="832"/>
                    <a:pt x="1782" y="832"/>
                  </a:cubicBezTo>
                  <a:cubicBezTo>
                    <a:pt x="1782" y="832"/>
                    <a:pt x="1782" y="832"/>
                    <a:pt x="1782" y="832"/>
                  </a:cubicBezTo>
                  <a:lnTo>
                    <a:pt x="1782"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0" name="Rectangle 115"/>
            <p:cNvSpPr/>
            <p:nvPr/>
          </p:nvSpPr>
          <p:spPr>
            <a:xfrm>
              <a:off x="6810120" y="6012000"/>
              <a:ext cx="618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ceivables </a:t>
              </a:r>
              <a:endParaRPr b="0" lang="en-US" sz="800" spc="-1" strike="noStrike">
                <a:solidFill>
                  <a:srgbClr val="000000"/>
                </a:solidFill>
                <a:latin typeface="Times New Roman"/>
              </a:endParaRPr>
            </a:p>
          </p:txBody>
        </p:sp>
        <p:sp>
          <p:nvSpPr>
            <p:cNvPr id="581" name="Rectangle 116"/>
            <p:cNvSpPr/>
            <p:nvPr/>
          </p:nvSpPr>
          <p:spPr>
            <a:xfrm>
              <a:off x="6867000" y="6132600"/>
              <a:ext cx="453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rchase</a:t>
              </a:r>
              <a:endParaRPr b="0" lang="en-US" sz="800" spc="-1" strike="noStrike">
                <a:solidFill>
                  <a:srgbClr val="000000"/>
                </a:solidFill>
                <a:latin typeface="Times New Roman"/>
              </a:endParaRPr>
            </a:p>
          </p:txBody>
        </p:sp>
        <p:sp>
          <p:nvSpPr>
            <p:cNvPr id="582" name="Freeform 117"/>
            <p:cNvSpPr/>
            <p:nvPr/>
          </p:nvSpPr>
          <p:spPr>
            <a:xfrm>
              <a:off x="4441680" y="5931000"/>
              <a:ext cx="1408320" cy="419040"/>
            </a:xfrm>
            <a:custGeom>
              <a:avLst/>
              <a:gdLst>
                <a:gd name="textAreaLeft" fmla="*/ 0 w 1408320"/>
                <a:gd name="textAreaRight" fmla="*/ 1408680 w 1408320"/>
                <a:gd name="textAreaTop" fmla="*/ 0 h 419040"/>
                <a:gd name="textAreaBottom" fmla="*/ 419400 h 419040"/>
              </a:gdLst>
              <a:ahLst/>
              <a:rect l="textAreaLeft" t="textAreaTop" r="textAreaRight" b="textAreaBottom"/>
              <a:pathLst>
                <a:path w="2608" h="832">
                  <a:moveTo>
                    <a:pt x="0" y="139"/>
                  </a:moveTo>
                  <a:cubicBezTo>
                    <a:pt x="0" y="63"/>
                    <a:pt x="63" y="0"/>
                    <a:pt x="139" y="0"/>
                  </a:cubicBezTo>
                  <a:cubicBezTo>
                    <a:pt x="139" y="0"/>
                    <a:pt x="139" y="0"/>
                    <a:pt x="139" y="0"/>
                  </a:cubicBezTo>
                  <a:lnTo>
                    <a:pt x="139" y="0"/>
                  </a:lnTo>
                  <a:lnTo>
                    <a:pt x="2470" y="0"/>
                  </a:lnTo>
                  <a:lnTo>
                    <a:pt x="2470" y="0"/>
                  </a:lnTo>
                  <a:cubicBezTo>
                    <a:pt x="2546" y="0"/>
                    <a:pt x="2608" y="63"/>
                    <a:pt x="2608" y="139"/>
                  </a:cubicBezTo>
                  <a:cubicBezTo>
                    <a:pt x="2608" y="139"/>
                    <a:pt x="2608" y="139"/>
                    <a:pt x="2608" y="139"/>
                  </a:cubicBezTo>
                  <a:lnTo>
                    <a:pt x="2608" y="139"/>
                  </a:lnTo>
                  <a:lnTo>
                    <a:pt x="2608" y="694"/>
                  </a:lnTo>
                  <a:lnTo>
                    <a:pt x="2608" y="694"/>
                  </a:lnTo>
                  <a:cubicBezTo>
                    <a:pt x="2608" y="770"/>
                    <a:pt x="2546" y="832"/>
                    <a:pt x="2470" y="832"/>
                  </a:cubicBezTo>
                  <a:cubicBezTo>
                    <a:pt x="2470" y="832"/>
                    <a:pt x="2470" y="832"/>
                    <a:pt x="2470" y="832"/>
                  </a:cubicBezTo>
                  <a:lnTo>
                    <a:pt x="2470"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3" name="Rectangle 118"/>
            <p:cNvSpPr/>
            <p:nvPr/>
          </p:nvSpPr>
          <p:spPr>
            <a:xfrm>
              <a:off x="5015160" y="6027840"/>
              <a:ext cx="38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voice </a:t>
              </a:r>
              <a:endParaRPr b="0" lang="en-US" sz="800" spc="-1" strike="noStrike">
                <a:solidFill>
                  <a:srgbClr val="000000"/>
                </a:solidFill>
                <a:latin typeface="Times New Roman"/>
              </a:endParaRPr>
            </a:p>
          </p:txBody>
        </p:sp>
        <p:sp>
          <p:nvSpPr>
            <p:cNvPr id="584" name="Rectangle 119"/>
            <p:cNvSpPr/>
            <p:nvPr/>
          </p:nvSpPr>
          <p:spPr>
            <a:xfrm>
              <a:off x="4710600" y="6148440"/>
              <a:ext cx="100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inancing/discountin</a:t>
              </a:r>
              <a:endParaRPr b="0" lang="en-US" sz="800" spc="-1" strike="noStrike">
                <a:solidFill>
                  <a:srgbClr val="000000"/>
                </a:solidFill>
                <a:latin typeface="Times New Roman"/>
              </a:endParaRPr>
            </a:p>
          </p:txBody>
        </p:sp>
        <p:sp>
          <p:nvSpPr>
            <p:cNvPr id="585" name="Freeform 120"/>
            <p:cNvSpPr/>
            <p:nvPr/>
          </p:nvSpPr>
          <p:spPr>
            <a:xfrm>
              <a:off x="4614840" y="2397240"/>
              <a:ext cx="1036800" cy="515880"/>
            </a:xfrm>
            <a:custGeom>
              <a:avLst/>
              <a:gdLst>
                <a:gd name="textAreaLeft" fmla="*/ 0 w 1036800"/>
                <a:gd name="textAreaRight" fmla="*/ 1037160 w 1036800"/>
                <a:gd name="textAreaTop" fmla="*/ 0 h 515880"/>
                <a:gd name="textAreaBottom" fmla="*/ 516240 h 515880"/>
              </a:gdLst>
              <a:ahLst/>
              <a:rect l="textAreaLeft" t="textAreaTop" r="textAreaRight" b="textAreaBottom"/>
              <a:pathLst>
                <a:path w="1920" h="1024">
                  <a:moveTo>
                    <a:pt x="0" y="171"/>
                  </a:moveTo>
                  <a:cubicBezTo>
                    <a:pt x="0" y="77"/>
                    <a:pt x="77" y="0"/>
                    <a:pt x="171" y="0"/>
                  </a:cubicBezTo>
                  <a:cubicBezTo>
                    <a:pt x="171" y="0"/>
                    <a:pt x="171" y="0"/>
                    <a:pt x="171" y="0"/>
                  </a:cubicBezTo>
                  <a:lnTo>
                    <a:pt x="171" y="0"/>
                  </a:lnTo>
                  <a:lnTo>
                    <a:pt x="1750" y="0"/>
                  </a:lnTo>
                  <a:lnTo>
                    <a:pt x="1750" y="0"/>
                  </a:lnTo>
                  <a:cubicBezTo>
                    <a:pt x="1844" y="0"/>
                    <a:pt x="1920" y="77"/>
                    <a:pt x="1920" y="171"/>
                  </a:cubicBezTo>
                  <a:cubicBezTo>
                    <a:pt x="1920" y="171"/>
                    <a:pt x="1920" y="171"/>
                    <a:pt x="1920" y="171"/>
                  </a:cubicBezTo>
                  <a:lnTo>
                    <a:pt x="1920" y="171"/>
                  </a:lnTo>
                  <a:lnTo>
                    <a:pt x="1920" y="854"/>
                  </a:lnTo>
                  <a:lnTo>
                    <a:pt x="1920" y="854"/>
                  </a:lnTo>
                  <a:cubicBezTo>
                    <a:pt x="1920" y="948"/>
                    <a:pt x="1844" y="1024"/>
                    <a:pt x="1750" y="1024"/>
                  </a:cubicBezTo>
                  <a:cubicBezTo>
                    <a:pt x="1750" y="1024"/>
                    <a:pt x="1750" y="1024"/>
                    <a:pt x="1750" y="1024"/>
                  </a:cubicBezTo>
                  <a:lnTo>
                    <a:pt x="1750" y="1024"/>
                  </a:lnTo>
                  <a:lnTo>
                    <a:pt x="171" y="1024"/>
                  </a:lnTo>
                  <a:lnTo>
                    <a:pt x="171" y="1024"/>
                  </a:lnTo>
                  <a:cubicBezTo>
                    <a:pt x="77" y="1024"/>
                    <a:pt x="0" y="948"/>
                    <a:pt x="0" y="854"/>
                  </a:cubicBezTo>
                  <a:cubicBezTo>
                    <a:pt x="0" y="854"/>
                    <a:pt x="0" y="854"/>
                    <a:pt x="0" y="854"/>
                  </a:cubicBezTo>
                  <a:lnTo>
                    <a:pt x="0" y="171"/>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6" name="Rectangle 121"/>
            <p:cNvSpPr/>
            <p:nvPr/>
          </p:nvSpPr>
          <p:spPr>
            <a:xfrm>
              <a:off x="4952520" y="2481120"/>
              <a:ext cx="488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rchase </a:t>
              </a:r>
              <a:endParaRPr b="0" lang="en-US" sz="800" spc="-1" strike="noStrike">
                <a:solidFill>
                  <a:srgbClr val="000000"/>
                </a:solidFill>
                <a:latin typeface="Times New Roman"/>
              </a:endParaRPr>
            </a:p>
          </p:txBody>
        </p:sp>
        <p:sp>
          <p:nvSpPr>
            <p:cNvPr id="587" name="Rectangle 122"/>
            <p:cNvSpPr/>
            <p:nvPr/>
          </p:nvSpPr>
          <p:spPr>
            <a:xfrm>
              <a:off x="5047560" y="260352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der </a:t>
              </a:r>
              <a:endParaRPr b="0" lang="en-US" sz="800" spc="-1" strike="noStrike">
                <a:solidFill>
                  <a:srgbClr val="000000"/>
                </a:solidFill>
                <a:latin typeface="Times New Roman"/>
              </a:endParaRPr>
            </a:p>
          </p:txBody>
        </p:sp>
        <p:sp>
          <p:nvSpPr>
            <p:cNvPr id="588" name="Rectangle 123"/>
            <p:cNvSpPr/>
            <p:nvPr/>
          </p:nvSpPr>
          <p:spPr>
            <a:xfrm>
              <a:off x="4882320" y="2724120"/>
              <a:ext cx="63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mitment </a:t>
              </a:r>
              <a:endParaRPr b="0" lang="en-US" sz="800" spc="-1" strike="noStrike">
                <a:solidFill>
                  <a:srgbClr val="000000"/>
                </a:solidFill>
                <a:latin typeface="Times New Roman"/>
              </a:endParaRPr>
            </a:p>
          </p:txBody>
        </p:sp>
        <p:sp>
          <p:nvSpPr>
            <p:cNvPr id="589" name="Freeform 124"/>
            <p:cNvSpPr/>
            <p:nvPr/>
          </p:nvSpPr>
          <p:spPr>
            <a:xfrm>
              <a:off x="4605480" y="1533600"/>
              <a:ext cx="1038240" cy="411120"/>
            </a:xfrm>
            <a:custGeom>
              <a:avLst/>
              <a:gdLst>
                <a:gd name="textAreaLeft" fmla="*/ 0 w 1038240"/>
                <a:gd name="textAreaRight" fmla="*/ 1038600 w 1038240"/>
                <a:gd name="textAreaTop" fmla="*/ 0 h 411120"/>
                <a:gd name="textAreaBottom" fmla="*/ 411480 h 411120"/>
              </a:gdLst>
              <a:ahLst/>
              <a:rect l="textAreaLeft" t="textAreaTop" r="textAreaRight" b="textAreaBottom"/>
              <a:pathLst>
                <a:path w="1920" h="816">
                  <a:moveTo>
                    <a:pt x="0" y="136"/>
                  </a:moveTo>
                  <a:cubicBezTo>
                    <a:pt x="0" y="61"/>
                    <a:pt x="61" y="0"/>
                    <a:pt x="136" y="0"/>
                  </a:cubicBezTo>
                  <a:cubicBezTo>
                    <a:pt x="136" y="0"/>
                    <a:pt x="136" y="0"/>
                    <a:pt x="136" y="0"/>
                  </a:cubicBezTo>
                  <a:lnTo>
                    <a:pt x="136" y="0"/>
                  </a:lnTo>
                  <a:lnTo>
                    <a:pt x="1784" y="0"/>
                  </a:lnTo>
                  <a:lnTo>
                    <a:pt x="1784" y="0"/>
                  </a:lnTo>
                  <a:cubicBezTo>
                    <a:pt x="1860" y="0"/>
                    <a:pt x="1920" y="61"/>
                    <a:pt x="1920" y="136"/>
                  </a:cubicBezTo>
                  <a:cubicBezTo>
                    <a:pt x="1920" y="136"/>
                    <a:pt x="1920" y="136"/>
                    <a:pt x="1920" y="136"/>
                  </a:cubicBezTo>
                  <a:lnTo>
                    <a:pt x="1920" y="136"/>
                  </a:lnTo>
                  <a:lnTo>
                    <a:pt x="1920" y="680"/>
                  </a:lnTo>
                  <a:lnTo>
                    <a:pt x="1920" y="680"/>
                  </a:lnTo>
                  <a:cubicBezTo>
                    <a:pt x="1920" y="756"/>
                    <a:pt x="1860" y="816"/>
                    <a:pt x="1784" y="816"/>
                  </a:cubicBezTo>
                  <a:cubicBezTo>
                    <a:pt x="1784" y="816"/>
                    <a:pt x="1784" y="816"/>
                    <a:pt x="1784" y="816"/>
                  </a:cubicBezTo>
                  <a:lnTo>
                    <a:pt x="1784" y="816"/>
                  </a:lnTo>
                  <a:lnTo>
                    <a:pt x="136" y="816"/>
                  </a:lnTo>
                  <a:lnTo>
                    <a:pt x="136" y="816"/>
                  </a:lnTo>
                  <a:cubicBezTo>
                    <a:pt x="61" y="816"/>
                    <a:pt x="0" y="756"/>
                    <a:pt x="0" y="680"/>
                  </a:cubicBezTo>
                  <a:cubicBezTo>
                    <a:pt x="0" y="680"/>
                    <a:pt x="0" y="680"/>
                    <a:pt x="0" y="680"/>
                  </a:cubicBezTo>
                  <a:lnTo>
                    <a:pt x="0" y="136"/>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0" name="Rectangle 125"/>
            <p:cNvSpPr/>
            <p:nvPr/>
          </p:nvSpPr>
          <p:spPr>
            <a:xfrm>
              <a:off x="4898880" y="1623960"/>
              <a:ext cx="58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rchasing </a:t>
              </a:r>
              <a:endParaRPr b="0" lang="en-US" sz="800" spc="-1" strike="noStrike">
                <a:solidFill>
                  <a:srgbClr val="000000"/>
                </a:solidFill>
                <a:latin typeface="Times New Roman"/>
              </a:endParaRPr>
            </a:p>
          </p:txBody>
        </p:sp>
        <p:sp>
          <p:nvSpPr>
            <p:cNvPr id="591" name="Rectangle 126"/>
            <p:cNvSpPr/>
            <p:nvPr/>
          </p:nvSpPr>
          <p:spPr>
            <a:xfrm>
              <a:off x="5054760" y="1746360"/>
              <a:ext cx="21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ard</a:t>
              </a:r>
              <a:endParaRPr b="0" lang="en-US" sz="800" spc="-1" strike="noStrike">
                <a:solidFill>
                  <a:srgbClr val="000000"/>
                </a:solidFill>
                <a:latin typeface="Times New Roman"/>
              </a:endParaRPr>
            </a:p>
          </p:txBody>
        </p:sp>
        <p:sp>
          <p:nvSpPr>
            <p:cNvPr id="592" name="Freeform 127"/>
            <p:cNvSpPr/>
            <p:nvPr/>
          </p:nvSpPr>
          <p:spPr>
            <a:xfrm>
              <a:off x="2151000" y="2662200"/>
              <a:ext cx="1036800" cy="412920"/>
            </a:xfrm>
            <a:custGeom>
              <a:avLst/>
              <a:gdLst>
                <a:gd name="textAreaLeft" fmla="*/ 0 w 1036800"/>
                <a:gd name="textAreaRight" fmla="*/ 1037160 w 1036800"/>
                <a:gd name="textAreaTop" fmla="*/ 0 h 412920"/>
                <a:gd name="textAreaBottom" fmla="*/ 413280 h 412920"/>
              </a:gdLst>
              <a:ahLst/>
              <a:rect l="textAreaLeft" t="textAreaTop" r="textAreaRight" b="textAreaBottom"/>
              <a:pathLst>
                <a:path w="1920" h="816">
                  <a:moveTo>
                    <a:pt x="0" y="136"/>
                  </a:moveTo>
                  <a:cubicBezTo>
                    <a:pt x="0" y="61"/>
                    <a:pt x="61" y="0"/>
                    <a:pt x="136" y="0"/>
                  </a:cubicBezTo>
                  <a:cubicBezTo>
                    <a:pt x="136" y="0"/>
                    <a:pt x="136" y="0"/>
                    <a:pt x="136" y="0"/>
                  </a:cubicBezTo>
                  <a:lnTo>
                    <a:pt x="136" y="0"/>
                  </a:lnTo>
                  <a:lnTo>
                    <a:pt x="1784" y="0"/>
                  </a:lnTo>
                  <a:lnTo>
                    <a:pt x="1784" y="0"/>
                  </a:lnTo>
                  <a:cubicBezTo>
                    <a:pt x="1860" y="0"/>
                    <a:pt x="1920" y="61"/>
                    <a:pt x="1920" y="136"/>
                  </a:cubicBezTo>
                  <a:cubicBezTo>
                    <a:pt x="1920" y="136"/>
                    <a:pt x="1920" y="136"/>
                    <a:pt x="1920" y="136"/>
                  </a:cubicBezTo>
                  <a:lnTo>
                    <a:pt x="1920" y="136"/>
                  </a:lnTo>
                  <a:lnTo>
                    <a:pt x="1920" y="680"/>
                  </a:lnTo>
                  <a:lnTo>
                    <a:pt x="1920" y="680"/>
                  </a:lnTo>
                  <a:cubicBezTo>
                    <a:pt x="1920" y="756"/>
                    <a:pt x="1860" y="816"/>
                    <a:pt x="1784" y="816"/>
                  </a:cubicBezTo>
                  <a:cubicBezTo>
                    <a:pt x="1784" y="816"/>
                    <a:pt x="1784" y="816"/>
                    <a:pt x="1784" y="816"/>
                  </a:cubicBezTo>
                  <a:lnTo>
                    <a:pt x="1784" y="816"/>
                  </a:lnTo>
                  <a:lnTo>
                    <a:pt x="136" y="816"/>
                  </a:lnTo>
                  <a:lnTo>
                    <a:pt x="136" y="816"/>
                  </a:lnTo>
                  <a:cubicBezTo>
                    <a:pt x="61" y="816"/>
                    <a:pt x="0" y="756"/>
                    <a:pt x="0" y="680"/>
                  </a:cubicBezTo>
                  <a:cubicBezTo>
                    <a:pt x="0" y="680"/>
                    <a:pt x="0" y="680"/>
                    <a:pt x="0" y="680"/>
                  </a:cubicBezTo>
                  <a:lnTo>
                    <a:pt x="0" y="136"/>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3" name="Rectangle 128"/>
            <p:cNvSpPr/>
            <p:nvPr/>
          </p:nvSpPr>
          <p:spPr>
            <a:xfrm>
              <a:off x="2368440" y="2814480"/>
              <a:ext cx="743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tter of credit </a:t>
              </a:r>
              <a:endParaRPr b="0" lang="en-US" sz="800" spc="-1" strike="noStrike">
                <a:solidFill>
                  <a:srgbClr val="000000"/>
                </a:solidFill>
                <a:latin typeface="Times New Roman"/>
              </a:endParaRPr>
            </a:p>
          </p:txBody>
        </p:sp>
        <p:sp>
          <p:nvSpPr>
            <p:cNvPr id="594" name="Freeform 129"/>
            <p:cNvSpPr/>
            <p:nvPr/>
          </p:nvSpPr>
          <p:spPr>
            <a:xfrm>
              <a:off x="3456000" y="2486160"/>
              <a:ext cx="1046160" cy="411120"/>
            </a:xfrm>
            <a:custGeom>
              <a:avLst/>
              <a:gdLst>
                <a:gd name="textAreaLeft" fmla="*/ 0 w 1046160"/>
                <a:gd name="textAreaRight" fmla="*/ 1046520 w 1046160"/>
                <a:gd name="textAreaTop" fmla="*/ 0 h 411120"/>
                <a:gd name="textAreaBottom" fmla="*/ 411480 h 411120"/>
              </a:gdLst>
              <a:ahLst/>
              <a:rect l="textAreaLeft" t="textAreaTop" r="textAreaRight" b="textAreaBottom"/>
              <a:pathLst>
                <a:path w="1936" h="816">
                  <a:moveTo>
                    <a:pt x="0" y="136"/>
                  </a:moveTo>
                  <a:cubicBezTo>
                    <a:pt x="0" y="61"/>
                    <a:pt x="61" y="0"/>
                    <a:pt x="136" y="0"/>
                  </a:cubicBezTo>
                  <a:cubicBezTo>
                    <a:pt x="136" y="0"/>
                    <a:pt x="136" y="0"/>
                    <a:pt x="136" y="0"/>
                  </a:cubicBezTo>
                  <a:lnTo>
                    <a:pt x="136" y="0"/>
                  </a:lnTo>
                  <a:lnTo>
                    <a:pt x="1800" y="0"/>
                  </a:lnTo>
                  <a:lnTo>
                    <a:pt x="1800" y="0"/>
                  </a:lnTo>
                  <a:cubicBezTo>
                    <a:pt x="1876" y="0"/>
                    <a:pt x="1936" y="61"/>
                    <a:pt x="1936" y="136"/>
                  </a:cubicBezTo>
                  <a:cubicBezTo>
                    <a:pt x="1936" y="136"/>
                    <a:pt x="1936" y="136"/>
                    <a:pt x="1936" y="136"/>
                  </a:cubicBezTo>
                  <a:lnTo>
                    <a:pt x="1936" y="136"/>
                  </a:lnTo>
                  <a:lnTo>
                    <a:pt x="1936" y="680"/>
                  </a:lnTo>
                  <a:lnTo>
                    <a:pt x="1936" y="680"/>
                  </a:lnTo>
                  <a:cubicBezTo>
                    <a:pt x="1936" y="756"/>
                    <a:pt x="1876" y="816"/>
                    <a:pt x="1800" y="816"/>
                  </a:cubicBezTo>
                  <a:cubicBezTo>
                    <a:pt x="1800" y="816"/>
                    <a:pt x="1800" y="816"/>
                    <a:pt x="1800" y="816"/>
                  </a:cubicBezTo>
                  <a:lnTo>
                    <a:pt x="1800" y="816"/>
                  </a:lnTo>
                  <a:lnTo>
                    <a:pt x="136" y="816"/>
                  </a:lnTo>
                  <a:lnTo>
                    <a:pt x="136" y="816"/>
                  </a:lnTo>
                  <a:cubicBezTo>
                    <a:pt x="61" y="816"/>
                    <a:pt x="0" y="756"/>
                    <a:pt x="0" y="680"/>
                  </a:cubicBezTo>
                  <a:cubicBezTo>
                    <a:pt x="0" y="680"/>
                    <a:pt x="0" y="680"/>
                    <a:pt x="0" y="680"/>
                  </a:cubicBezTo>
                  <a:lnTo>
                    <a:pt x="0" y="136"/>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5" name="Rectangle 130"/>
            <p:cNvSpPr/>
            <p:nvPr/>
          </p:nvSpPr>
          <p:spPr>
            <a:xfrm>
              <a:off x="3759840" y="2639880"/>
              <a:ext cx="56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uarantees</a:t>
              </a:r>
              <a:endParaRPr b="0" lang="en-US" sz="800" spc="-1" strike="noStrike">
                <a:solidFill>
                  <a:srgbClr val="000000"/>
                </a:solidFill>
                <a:latin typeface="Times New Roman"/>
              </a:endParaRPr>
            </a:p>
          </p:txBody>
        </p:sp>
        <p:sp>
          <p:nvSpPr>
            <p:cNvPr id="596" name="Freeform 131"/>
            <p:cNvSpPr/>
            <p:nvPr/>
          </p:nvSpPr>
          <p:spPr>
            <a:xfrm>
              <a:off x="1573200" y="4599000"/>
              <a:ext cx="1036800" cy="420840"/>
            </a:xfrm>
            <a:custGeom>
              <a:avLst/>
              <a:gdLst>
                <a:gd name="textAreaLeft" fmla="*/ 0 w 1036800"/>
                <a:gd name="textAreaRight" fmla="*/ 1037160 w 1036800"/>
                <a:gd name="textAreaTop" fmla="*/ 0 h 420840"/>
                <a:gd name="textAreaBottom" fmla="*/ 421200 h 420840"/>
              </a:gdLst>
              <a:ahLst/>
              <a:rect l="textAreaLeft" t="textAreaTop" r="textAreaRight" b="textAreaBottom"/>
              <a:pathLst>
                <a:path w="1920" h="832">
                  <a:moveTo>
                    <a:pt x="0" y="139"/>
                  </a:moveTo>
                  <a:cubicBezTo>
                    <a:pt x="0" y="63"/>
                    <a:pt x="63" y="0"/>
                    <a:pt x="139" y="0"/>
                  </a:cubicBezTo>
                  <a:cubicBezTo>
                    <a:pt x="139" y="0"/>
                    <a:pt x="139" y="0"/>
                    <a:pt x="139" y="0"/>
                  </a:cubicBezTo>
                  <a:lnTo>
                    <a:pt x="139" y="0"/>
                  </a:lnTo>
                  <a:lnTo>
                    <a:pt x="1782" y="0"/>
                  </a:lnTo>
                  <a:lnTo>
                    <a:pt x="1782" y="0"/>
                  </a:lnTo>
                  <a:cubicBezTo>
                    <a:pt x="1858" y="0"/>
                    <a:pt x="1920" y="63"/>
                    <a:pt x="1920" y="139"/>
                  </a:cubicBezTo>
                  <a:cubicBezTo>
                    <a:pt x="1920" y="139"/>
                    <a:pt x="1920" y="139"/>
                    <a:pt x="1920" y="139"/>
                  </a:cubicBezTo>
                  <a:lnTo>
                    <a:pt x="1920" y="139"/>
                  </a:lnTo>
                  <a:lnTo>
                    <a:pt x="1920" y="694"/>
                  </a:lnTo>
                  <a:lnTo>
                    <a:pt x="1920" y="694"/>
                  </a:lnTo>
                  <a:cubicBezTo>
                    <a:pt x="1920" y="770"/>
                    <a:pt x="1858" y="832"/>
                    <a:pt x="1782" y="832"/>
                  </a:cubicBezTo>
                  <a:cubicBezTo>
                    <a:pt x="1782" y="832"/>
                    <a:pt x="1782" y="832"/>
                    <a:pt x="1782" y="832"/>
                  </a:cubicBezTo>
                  <a:lnTo>
                    <a:pt x="1782"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7" name="Rectangle 132"/>
            <p:cNvSpPr/>
            <p:nvPr/>
          </p:nvSpPr>
          <p:spPr>
            <a:xfrm>
              <a:off x="1938960" y="4697280"/>
              <a:ext cx="43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ash on </a:t>
              </a:r>
              <a:endParaRPr b="0" lang="en-US" sz="800" spc="-1" strike="noStrike">
                <a:solidFill>
                  <a:srgbClr val="000000"/>
                </a:solidFill>
                <a:latin typeface="Times New Roman"/>
              </a:endParaRPr>
            </a:p>
          </p:txBody>
        </p:sp>
        <p:sp>
          <p:nvSpPr>
            <p:cNvPr id="598" name="Rectangle 133"/>
            <p:cNvSpPr/>
            <p:nvPr/>
          </p:nvSpPr>
          <p:spPr>
            <a:xfrm>
              <a:off x="1944360" y="4818240"/>
              <a:ext cx="386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ivery</a:t>
              </a:r>
              <a:endParaRPr b="0" lang="en-US" sz="800" spc="-1" strike="noStrike">
                <a:solidFill>
                  <a:srgbClr val="000000"/>
                </a:solidFill>
                <a:latin typeface="Times New Roman"/>
              </a:endParaRPr>
            </a:p>
          </p:txBody>
        </p:sp>
        <p:sp>
          <p:nvSpPr>
            <p:cNvPr id="599" name="Freeform 134"/>
            <p:cNvSpPr/>
            <p:nvPr/>
          </p:nvSpPr>
          <p:spPr>
            <a:xfrm>
              <a:off x="1054080" y="3365640"/>
              <a:ext cx="1036800" cy="411120"/>
            </a:xfrm>
            <a:custGeom>
              <a:avLst/>
              <a:gdLst>
                <a:gd name="textAreaLeft" fmla="*/ 0 w 1036800"/>
                <a:gd name="textAreaRight" fmla="*/ 1037160 w 1036800"/>
                <a:gd name="textAreaTop" fmla="*/ 0 h 411120"/>
                <a:gd name="textAreaBottom" fmla="*/ 411480 h 411120"/>
              </a:gdLst>
              <a:ahLst/>
              <a:rect l="textAreaLeft" t="textAreaTop" r="textAreaRight" b="textAreaBottom"/>
              <a:pathLst>
                <a:path w="1920" h="816">
                  <a:moveTo>
                    <a:pt x="0" y="136"/>
                  </a:moveTo>
                  <a:cubicBezTo>
                    <a:pt x="0" y="61"/>
                    <a:pt x="61" y="0"/>
                    <a:pt x="136" y="0"/>
                  </a:cubicBezTo>
                  <a:cubicBezTo>
                    <a:pt x="136" y="0"/>
                    <a:pt x="136" y="0"/>
                    <a:pt x="136" y="0"/>
                  </a:cubicBezTo>
                  <a:lnTo>
                    <a:pt x="136" y="0"/>
                  </a:lnTo>
                  <a:lnTo>
                    <a:pt x="1784" y="0"/>
                  </a:lnTo>
                  <a:lnTo>
                    <a:pt x="1784" y="0"/>
                  </a:lnTo>
                  <a:cubicBezTo>
                    <a:pt x="1860" y="0"/>
                    <a:pt x="1920" y="61"/>
                    <a:pt x="1920" y="136"/>
                  </a:cubicBezTo>
                  <a:cubicBezTo>
                    <a:pt x="1920" y="136"/>
                    <a:pt x="1920" y="136"/>
                    <a:pt x="1920" y="136"/>
                  </a:cubicBezTo>
                  <a:lnTo>
                    <a:pt x="1920" y="136"/>
                  </a:lnTo>
                  <a:lnTo>
                    <a:pt x="1920" y="680"/>
                  </a:lnTo>
                  <a:lnTo>
                    <a:pt x="1920" y="680"/>
                  </a:lnTo>
                  <a:cubicBezTo>
                    <a:pt x="1920" y="756"/>
                    <a:pt x="1860" y="816"/>
                    <a:pt x="1784" y="816"/>
                  </a:cubicBezTo>
                  <a:cubicBezTo>
                    <a:pt x="1784" y="816"/>
                    <a:pt x="1784" y="816"/>
                    <a:pt x="1784" y="816"/>
                  </a:cubicBezTo>
                  <a:lnTo>
                    <a:pt x="1784" y="816"/>
                  </a:lnTo>
                  <a:lnTo>
                    <a:pt x="136" y="816"/>
                  </a:lnTo>
                  <a:lnTo>
                    <a:pt x="136" y="816"/>
                  </a:lnTo>
                  <a:cubicBezTo>
                    <a:pt x="61" y="816"/>
                    <a:pt x="0" y="756"/>
                    <a:pt x="0" y="680"/>
                  </a:cubicBezTo>
                  <a:cubicBezTo>
                    <a:pt x="0" y="680"/>
                    <a:pt x="0" y="680"/>
                    <a:pt x="0" y="680"/>
                  </a:cubicBezTo>
                  <a:lnTo>
                    <a:pt x="0" y="136"/>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0" name="Rectangle 135"/>
            <p:cNvSpPr/>
            <p:nvPr/>
          </p:nvSpPr>
          <p:spPr>
            <a:xfrm>
              <a:off x="1391400" y="3524400"/>
              <a:ext cx="47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orfaiting</a:t>
              </a:r>
              <a:endParaRPr b="0" lang="en-US" sz="800" spc="-1" strike="noStrike">
                <a:solidFill>
                  <a:srgbClr val="000000"/>
                </a:solidFill>
                <a:latin typeface="Times New Roman"/>
              </a:endParaRPr>
            </a:p>
          </p:txBody>
        </p:sp>
        <p:sp>
          <p:nvSpPr>
            <p:cNvPr id="601" name="Freeform 136"/>
            <p:cNvSpPr/>
            <p:nvPr/>
          </p:nvSpPr>
          <p:spPr>
            <a:xfrm>
              <a:off x="6273720" y="3405240"/>
              <a:ext cx="1036800" cy="411120"/>
            </a:xfrm>
            <a:custGeom>
              <a:avLst/>
              <a:gdLst>
                <a:gd name="textAreaLeft" fmla="*/ 0 w 1036800"/>
                <a:gd name="textAreaRight" fmla="*/ 1037160 w 1036800"/>
                <a:gd name="textAreaTop" fmla="*/ 0 h 411120"/>
                <a:gd name="textAreaBottom" fmla="*/ 411480 h 411120"/>
              </a:gdLst>
              <a:ahLst/>
              <a:rect l="textAreaLeft" t="textAreaTop" r="textAreaRight" b="textAreaBottom"/>
              <a:pathLst>
                <a:path w="1920" h="816">
                  <a:moveTo>
                    <a:pt x="0" y="136"/>
                  </a:moveTo>
                  <a:cubicBezTo>
                    <a:pt x="0" y="61"/>
                    <a:pt x="61" y="0"/>
                    <a:pt x="136" y="0"/>
                  </a:cubicBezTo>
                  <a:cubicBezTo>
                    <a:pt x="136" y="0"/>
                    <a:pt x="136" y="0"/>
                    <a:pt x="136" y="0"/>
                  </a:cubicBezTo>
                  <a:lnTo>
                    <a:pt x="136" y="0"/>
                  </a:lnTo>
                  <a:lnTo>
                    <a:pt x="1784" y="0"/>
                  </a:lnTo>
                  <a:lnTo>
                    <a:pt x="1784" y="0"/>
                  </a:lnTo>
                  <a:cubicBezTo>
                    <a:pt x="1860" y="0"/>
                    <a:pt x="1920" y="61"/>
                    <a:pt x="1920" y="136"/>
                  </a:cubicBezTo>
                  <a:cubicBezTo>
                    <a:pt x="1920" y="136"/>
                    <a:pt x="1920" y="136"/>
                    <a:pt x="1920" y="136"/>
                  </a:cubicBezTo>
                  <a:lnTo>
                    <a:pt x="1920" y="136"/>
                  </a:lnTo>
                  <a:lnTo>
                    <a:pt x="1920" y="680"/>
                  </a:lnTo>
                  <a:lnTo>
                    <a:pt x="1920" y="680"/>
                  </a:lnTo>
                  <a:cubicBezTo>
                    <a:pt x="1920" y="756"/>
                    <a:pt x="1860" y="816"/>
                    <a:pt x="1784" y="816"/>
                  </a:cubicBezTo>
                  <a:cubicBezTo>
                    <a:pt x="1784" y="816"/>
                    <a:pt x="1784" y="816"/>
                    <a:pt x="1784" y="816"/>
                  </a:cubicBezTo>
                  <a:lnTo>
                    <a:pt x="1784" y="816"/>
                  </a:lnTo>
                  <a:lnTo>
                    <a:pt x="136" y="816"/>
                  </a:lnTo>
                  <a:lnTo>
                    <a:pt x="136" y="816"/>
                  </a:lnTo>
                  <a:cubicBezTo>
                    <a:pt x="61" y="816"/>
                    <a:pt x="0" y="756"/>
                    <a:pt x="0" y="680"/>
                  </a:cubicBezTo>
                  <a:cubicBezTo>
                    <a:pt x="0" y="680"/>
                    <a:pt x="0" y="680"/>
                    <a:pt x="0" y="680"/>
                  </a:cubicBezTo>
                  <a:lnTo>
                    <a:pt x="0" y="136"/>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2" name="Rectangle 137"/>
            <p:cNvSpPr/>
            <p:nvPr/>
          </p:nvSpPr>
          <p:spPr>
            <a:xfrm>
              <a:off x="6523560" y="3502080"/>
              <a:ext cx="27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sset</a:t>
              </a:r>
              <a:endParaRPr b="0" lang="en-US" sz="800" spc="-1" strike="noStrike">
                <a:solidFill>
                  <a:srgbClr val="000000"/>
                </a:solidFill>
                <a:latin typeface="Times New Roman"/>
              </a:endParaRPr>
            </a:p>
          </p:txBody>
        </p:sp>
        <p:sp>
          <p:nvSpPr>
            <p:cNvPr id="603" name="Rectangle 138"/>
            <p:cNvSpPr/>
            <p:nvPr/>
          </p:nvSpPr>
          <p:spPr>
            <a:xfrm>
              <a:off x="6795720" y="35020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0" lang="en-US" sz="800" spc="-1" strike="noStrike">
                <a:solidFill>
                  <a:srgbClr val="000000"/>
                </a:solidFill>
                <a:latin typeface="Times New Roman"/>
              </a:endParaRPr>
            </a:p>
          </p:txBody>
        </p:sp>
        <p:sp>
          <p:nvSpPr>
            <p:cNvPr id="604" name="Rectangle 139"/>
            <p:cNvSpPr/>
            <p:nvPr/>
          </p:nvSpPr>
          <p:spPr>
            <a:xfrm>
              <a:off x="6854040" y="3502080"/>
              <a:ext cx="323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ased </a:t>
              </a:r>
              <a:endParaRPr b="0" lang="en-US" sz="800" spc="-1" strike="noStrike">
                <a:solidFill>
                  <a:srgbClr val="000000"/>
                </a:solidFill>
                <a:latin typeface="Times New Roman"/>
              </a:endParaRPr>
            </a:p>
          </p:txBody>
        </p:sp>
        <p:sp>
          <p:nvSpPr>
            <p:cNvPr id="605" name="Rectangle 140"/>
            <p:cNvSpPr/>
            <p:nvPr/>
          </p:nvSpPr>
          <p:spPr>
            <a:xfrm>
              <a:off x="6647400" y="3621240"/>
              <a:ext cx="36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nding</a:t>
              </a:r>
              <a:endParaRPr b="0" lang="en-US" sz="800" spc="-1" strike="noStrike">
                <a:solidFill>
                  <a:srgbClr val="000000"/>
                </a:solidFill>
                <a:latin typeface="Times New Roman"/>
              </a:endParaRPr>
            </a:p>
          </p:txBody>
        </p:sp>
        <p:sp>
          <p:nvSpPr>
            <p:cNvPr id="606" name="Freeform 141"/>
            <p:cNvSpPr/>
            <p:nvPr/>
          </p:nvSpPr>
          <p:spPr>
            <a:xfrm>
              <a:off x="3887640" y="3252960"/>
              <a:ext cx="1038240" cy="411120"/>
            </a:xfrm>
            <a:custGeom>
              <a:avLst/>
              <a:gdLst>
                <a:gd name="textAreaLeft" fmla="*/ 0 w 1038240"/>
                <a:gd name="textAreaRight" fmla="*/ 1038600 w 1038240"/>
                <a:gd name="textAreaTop" fmla="*/ 0 h 411120"/>
                <a:gd name="textAreaBottom" fmla="*/ 411480 h 411120"/>
              </a:gdLst>
              <a:ahLst/>
              <a:rect l="textAreaLeft" t="textAreaTop" r="textAreaRight" b="textAreaBottom"/>
              <a:pathLst>
                <a:path w="1920" h="816">
                  <a:moveTo>
                    <a:pt x="0" y="136"/>
                  </a:moveTo>
                  <a:cubicBezTo>
                    <a:pt x="0" y="61"/>
                    <a:pt x="61" y="0"/>
                    <a:pt x="136" y="0"/>
                  </a:cubicBezTo>
                  <a:cubicBezTo>
                    <a:pt x="136" y="0"/>
                    <a:pt x="136" y="0"/>
                    <a:pt x="136" y="0"/>
                  </a:cubicBezTo>
                  <a:lnTo>
                    <a:pt x="136" y="0"/>
                  </a:lnTo>
                  <a:lnTo>
                    <a:pt x="1784" y="0"/>
                  </a:lnTo>
                  <a:lnTo>
                    <a:pt x="1784" y="0"/>
                  </a:lnTo>
                  <a:cubicBezTo>
                    <a:pt x="1860" y="0"/>
                    <a:pt x="1920" y="61"/>
                    <a:pt x="1920" y="136"/>
                  </a:cubicBezTo>
                  <a:cubicBezTo>
                    <a:pt x="1920" y="136"/>
                    <a:pt x="1920" y="136"/>
                    <a:pt x="1920" y="136"/>
                  </a:cubicBezTo>
                  <a:lnTo>
                    <a:pt x="1920" y="136"/>
                  </a:lnTo>
                  <a:lnTo>
                    <a:pt x="1920" y="680"/>
                  </a:lnTo>
                  <a:lnTo>
                    <a:pt x="1920" y="680"/>
                  </a:lnTo>
                  <a:cubicBezTo>
                    <a:pt x="1920" y="756"/>
                    <a:pt x="1860" y="816"/>
                    <a:pt x="1784" y="816"/>
                  </a:cubicBezTo>
                  <a:cubicBezTo>
                    <a:pt x="1784" y="816"/>
                    <a:pt x="1784" y="816"/>
                    <a:pt x="1784" y="816"/>
                  </a:cubicBezTo>
                  <a:lnTo>
                    <a:pt x="1784" y="816"/>
                  </a:lnTo>
                  <a:lnTo>
                    <a:pt x="136" y="816"/>
                  </a:lnTo>
                  <a:lnTo>
                    <a:pt x="136" y="816"/>
                  </a:lnTo>
                  <a:cubicBezTo>
                    <a:pt x="61" y="816"/>
                    <a:pt x="0" y="756"/>
                    <a:pt x="0" y="680"/>
                  </a:cubicBezTo>
                  <a:cubicBezTo>
                    <a:pt x="0" y="680"/>
                    <a:pt x="0" y="680"/>
                    <a:pt x="0" y="680"/>
                  </a:cubicBezTo>
                  <a:lnTo>
                    <a:pt x="0" y="136"/>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7" name="Rectangle 142"/>
            <p:cNvSpPr/>
            <p:nvPr/>
          </p:nvSpPr>
          <p:spPr>
            <a:xfrm>
              <a:off x="4255560" y="3408480"/>
              <a:ext cx="386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asing</a:t>
              </a:r>
              <a:endParaRPr b="0" lang="en-US" sz="800" spc="-1" strike="noStrike">
                <a:solidFill>
                  <a:srgbClr val="000000"/>
                </a:solidFill>
                <a:latin typeface="Times New Roman"/>
              </a:endParaRPr>
            </a:p>
          </p:txBody>
        </p:sp>
        <p:sp>
          <p:nvSpPr>
            <p:cNvPr id="608" name="Freeform 143"/>
            <p:cNvSpPr/>
            <p:nvPr/>
          </p:nvSpPr>
          <p:spPr>
            <a:xfrm>
              <a:off x="3957480" y="3687840"/>
              <a:ext cx="1036800" cy="411120"/>
            </a:xfrm>
            <a:custGeom>
              <a:avLst/>
              <a:gdLst>
                <a:gd name="textAreaLeft" fmla="*/ 0 w 1036800"/>
                <a:gd name="textAreaRight" fmla="*/ 1037160 w 1036800"/>
                <a:gd name="textAreaTop" fmla="*/ 0 h 411120"/>
                <a:gd name="textAreaBottom" fmla="*/ 411480 h 411120"/>
              </a:gdLst>
              <a:ahLst/>
              <a:rect l="textAreaLeft" t="textAreaTop" r="textAreaRight" b="textAreaBottom"/>
              <a:pathLst>
                <a:path w="1920" h="816">
                  <a:moveTo>
                    <a:pt x="0" y="136"/>
                  </a:moveTo>
                  <a:cubicBezTo>
                    <a:pt x="0" y="61"/>
                    <a:pt x="61" y="0"/>
                    <a:pt x="136" y="0"/>
                  </a:cubicBezTo>
                  <a:cubicBezTo>
                    <a:pt x="136" y="0"/>
                    <a:pt x="136" y="0"/>
                    <a:pt x="136" y="0"/>
                  </a:cubicBezTo>
                  <a:lnTo>
                    <a:pt x="136" y="0"/>
                  </a:lnTo>
                  <a:lnTo>
                    <a:pt x="1784" y="0"/>
                  </a:lnTo>
                  <a:lnTo>
                    <a:pt x="1784" y="0"/>
                  </a:lnTo>
                  <a:cubicBezTo>
                    <a:pt x="1860" y="0"/>
                    <a:pt x="1920" y="61"/>
                    <a:pt x="1920" y="136"/>
                  </a:cubicBezTo>
                  <a:cubicBezTo>
                    <a:pt x="1920" y="136"/>
                    <a:pt x="1920" y="136"/>
                    <a:pt x="1920" y="136"/>
                  </a:cubicBezTo>
                  <a:lnTo>
                    <a:pt x="1920" y="136"/>
                  </a:lnTo>
                  <a:lnTo>
                    <a:pt x="1920" y="680"/>
                  </a:lnTo>
                  <a:lnTo>
                    <a:pt x="1920" y="680"/>
                  </a:lnTo>
                  <a:cubicBezTo>
                    <a:pt x="1920" y="756"/>
                    <a:pt x="1860" y="816"/>
                    <a:pt x="1784" y="816"/>
                  </a:cubicBezTo>
                  <a:cubicBezTo>
                    <a:pt x="1784" y="816"/>
                    <a:pt x="1784" y="816"/>
                    <a:pt x="1784" y="816"/>
                  </a:cubicBezTo>
                  <a:lnTo>
                    <a:pt x="1784" y="816"/>
                  </a:lnTo>
                  <a:lnTo>
                    <a:pt x="136" y="816"/>
                  </a:lnTo>
                  <a:lnTo>
                    <a:pt x="136" y="816"/>
                  </a:lnTo>
                  <a:cubicBezTo>
                    <a:pt x="61" y="816"/>
                    <a:pt x="0" y="756"/>
                    <a:pt x="0" y="680"/>
                  </a:cubicBezTo>
                  <a:cubicBezTo>
                    <a:pt x="0" y="680"/>
                    <a:pt x="0" y="680"/>
                    <a:pt x="0" y="680"/>
                  </a:cubicBezTo>
                  <a:lnTo>
                    <a:pt x="0" y="136"/>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9" name="Rectangle 144"/>
            <p:cNvSpPr/>
            <p:nvPr/>
          </p:nvSpPr>
          <p:spPr>
            <a:xfrm>
              <a:off x="4170960" y="3843360"/>
              <a:ext cx="732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ject finance</a:t>
              </a:r>
              <a:endParaRPr b="0" lang="en-US" sz="800" spc="-1" strike="noStrike">
                <a:solidFill>
                  <a:srgbClr val="000000"/>
                </a:solidFill>
                <a:latin typeface="Times New Roman"/>
              </a:endParaRPr>
            </a:p>
          </p:txBody>
        </p:sp>
        <p:sp>
          <p:nvSpPr>
            <p:cNvPr id="610" name="Freeform 145"/>
            <p:cNvSpPr/>
            <p:nvPr/>
          </p:nvSpPr>
          <p:spPr>
            <a:xfrm>
              <a:off x="2316240" y="1525680"/>
              <a:ext cx="1036440" cy="411120"/>
            </a:xfrm>
            <a:custGeom>
              <a:avLst/>
              <a:gdLst>
                <a:gd name="textAreaLeft" fmla="*/ 0 w 1036440"/>
                <a:gd name="textAreaRight" fmla="*/ 1036800 w 1036440"/>
                <a:gd name="textAreaTop" fmla="*/ 0 h 411120"/>
                <a:gd name="textAreaBottom" fmla="*/ 411480 h 411120"/>
              </a:gdLst>
              <a:ahLst/>
              <a:rect l="textAreaLeft" t="textAreaTop" r="textAreaRight" b="textAreaBottom"/>
              <a:pathLst>
                <a:path w="1920" h="816">
                  <a:moveTo>
                    <a:pt x="0" y="136"/>
                  </a:moveTo>
                  <a:cubicBezTo>
                    <a:pt x="0" y="61"/>
                    <a:pt x="61" y="0"/>
                    <a:pt x="136" y="0"/>
                  </a:cubicBezTo>
                  <a:cubicBezTo>
                    <a:pt x="136" y="0"/>
                    <a:pt x="136" y="0"/>
                    <a:pt x="136" y="0"/>
                  </a:cubicBezTo>
                  <a:lnTo>
                    <a:pt x="136" y="0"/>
                  </a:lnTo>
                  <a:lnTo>
                    <a:pt x="1784" y="0"/>
                  </a:lnTo>
                  <a:lnTo>
                    <a:pt x="1784" y="0"/>
                  </a:lnTo>
                  <a:cubicBezTo>
                    <a:pt x="1860" y="0"/>
                    <a:pt x="1920" y="61"/>
                    <a:pt x="1920" y="136"/>
                  </a:cubicBezTo>
                  <a:cubicBezTo>
                    <a:pt x="1920" y="136"/>
                    <a:pt x="1920" y="136"/>
                    <a:pt x="1920" y="136"/>
                  </a:cubicBezTo>
                  <a:lnTo>
                    <a:pt x="1920" y="136"/>
                  </a:lnTo>
                  <a:lnTo>
                    <a:pt x="1920" y="680"/>
                  </a:lnTo>
                  <a:lnTo>
                    <a:pt x="1920" y="680"/>
                  </a:lnTo>
                  <a:cubicBezTo>
                    <a:pt x="1920" y="756"/>
                    <a:pt x="1860" y="816"/>
                    <a:pt x="1784" y="816"/>
                  </a:cubicBezTo>
                  <a:cubicBezTo>
                    <a:pt x="1784" y="816"/>
                    <a:pt x="1784" y="816"/>
                    <a:pt x="1784" y="816"/>
                  </a:cubicBezTo>
                  <a:lnTo>
                    <a:pt x="1784" y="816"/>
                  </a:lnTo>
                  <a:lnTo>
                    <a:pt x="136" y="816"/>
                  </a:lnTo>
                  <a:lnTo>
                    <a:pt x="136" y="816"/>
                  </a:lnTo>
                  <a:cubicBezTo>
                    <a:pt x="61" y="816"/>
                    <a:pt x="0" y="756"/>
                    <a:pt x="0" y="680"/>
                  </a:cubicBezTo>
                  <a:cubicBezTo>
                    <a:pt x="0" y="680"/>
                    <a:pt x="0" y="680"/>
                    <a:pt x="0" y="680"/>
                  </a:cubicBezTo>
                  <a:lnTo>
                    <a:pt x="0" y="136"/>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1" name="Rectangle 146"/>
            <p:cNvSpPr/>
            <p:nvPr/>
          </p:nvSpPr>
          <p:spPr>
            <a:xfrm>
              <a:off x="2607120" y="1619280"/>
              <a:ext cx="59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modity </a:t>
              </a:r>
              <a:endParaRPr b="0" lang="en-US" sz="800" spc="-1" strike="noStrike">
                <a:solidFill>
                  <a:srgbClr val="000000"/>
                </a:solidFill>
                <a:latin typeface="Times New Roman"/>
              </a:endParaRPr>
            </a:p>
          </p:txBody>
        </p:sp>
        <p:sp>
          <p:nvSpPr>
            <p:cNvPr id="612" name="Rectangle 147"/>
            <p:cNvSpPr/>
            <p:nvPr/>
          </p:nvSpPr>
          <p:spPr>
            <a:xfrm>
              <a:off x="2699280" y="1738440"/>
              <a:ext cx="35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inance</a:t>
              </a:r>
              <a:endParaRPr b="0" lang="en-US" sz="800" spc="-1" strike="noStrike">
                <a:solidFill>
                  <a:srgbClr val="000000"/>
                </a:solidFill>
                <a:latin typeface="Times New Roman"/>
              </a:endParaRPr>
            </a:p>
          </p:txBody>
        </p:sp>
        <p:sp>
          <p:nvSpPr>
            <p:cNvPr id="613" name="Rectangle 148"/>
            <p:cNvSpPr/>
            <p:nvPr/>
          </p:nvSpPr>
          <p:spPr>
            <a:xfrm>
              <a:off x="1312920" y="4156200"/>
              <a:ext cx="104760" cy="1460520"/>
            </a:xfrm>
            <a:prstGeom prst="rect">
              <a:avLst/>
            </a:prstGeom>
            <a:solidFill>
              <a:srgbClr val="f796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4" name="Rectangle 98"/>
          <p:cNvSpPr/>
          <p:nvPr/>
        </p:nvSpPr>
        <p:spPr>
          <a:xfrm>
            <a:off x="7467480" y="3657600"/>
            <a:ext cx="330480" cy="88920"/>
          </a:xfrm>
          <a:prstGeom prst="rect">
            <a:avLst/>
          </a:prstGeom>
          <a:solidFill>
            <a:srgbClr val="f7964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ite Group: Partner, Advisor, Catalyst</a:t>
            </a:r>
            <a:endParaRPr b="1" lang="en-US" sz="3600" spc="-1" strike="noStrike">
              <a:solidFill>
                <a:srgbClr val="000000"/>
              </a:solidFill>
              <a:latin typeface="Calibri"/>
            </a:endParaRPr>
          </a:p>
        </p:txBody>
      </p:sp>
      <p:sp>
        <p:nvSpPr>
          <p:cNvPr id="616" name=""/>
          <p:cNvSpPr txBox="1"/>
          <p:nvPr/>
        </p:nvSpPr>
        <p:spPr>
          <a:xfrm>
            <a:off x="685800" y="1676520"/>
            <a:ext cx="777240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Aite Group (pronounced eye-tay) is an independent research and advisory firm focused on business, technology and regulatory issues and their impact on the financial services industry. </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Enrico Camerinelli- Senior Analyst</a:t>
            </a:r>
            <a:br>
              <a:rPr sz="2000"/>
            </a:br>
            <a:r>
              <a:rPr b="0" lang="en-US" sz="2000" spc="-1" strike="noStrike">
                <a:solidFill>
                  <a:srgbClr val="2d2db9"/>
                </a:solidFill>
                <a:latin typeface="Calibri"/>
              </a:rPr>
              <a:t>ecamerinelli@aitegroup.com</a:t>
            </a:r>
            <a:br>
              <a:rPr sz="2000"/>
            </a:br>
            <a:r>
              <a:rPr b="0" lang="en-US" sz="2000" spc="-1" strike="noStrike">
                <a:solidFill>
                  <a:srgbClr val="000000"/>
                </a:solidFill>
                <a:latin typeface="Calibri"/>
              </a:rPr>
              <a:t>+39.039.21.00.137</a:t>
            </a:r>
            <a:br>
              <a:rPr sz="2000"/>
            </a:br>
            <a:r>
              <a:rPr b="0" lang="en-US" sz="2000" spc="-1" strike="noStrike">
                <a:solidFill>
                  <a:srgbClr val="2d2db9"/>
                </a:solidFill>
                <a:latin typeface="Calibri"/>
              </a:rPr>
              <a:t>www.aitegroup.co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Agenda</a:t>
            </a:r>
            <a:endParaRPr b="1" lang="en-US" sz="3600" spc="-1" strike="noStrike">
              <a:solidFill>
                <a:srgbClr val="000000"/>
              </a:solidFill>
              <a:latin typeface="Calibri"/>
            </a:endParaRPr>
          </a:p>
        </p:txBody>
      </p:sp>
      <p:sp>
        <p:nvSpPr>
          <p:cNvPr id="59" name=""/>
          <p:cNvSpPr txBox="1"/>
          <p:nvPr/>
        </p:nvSpPr>
        <p:spPr>
          <a:xfrm>
            <a:off x="414360" y="1676520"/>
            <a:ext cx="8043840" cy="41148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he SCOR model</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COR and BSP face-to-fac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inking the physical and the financial valuechains</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C Organization - Chapters</a:t>
            </a:r>
            <a:endParaRPr b="1" lang="en-US" sz="3200" spc="-1" strike="noStrike">
              <a:solidFill>
                <a:srgbClr val="000000"/>
              </a:solidFill>
              <a:latin typeface="Calibri"/>
            </a:endParaRPr>
          </a:p>
        </p:txBody>
      </p:sp>
      <p:grpSp>
        <p:nvGrpSpPr>
          <p:cNvPr id="61" name="Group 3"/>
          <p:cNvGrpSpPr/>
          <p:nvPr/>
        </p:nvGrpSpPr>
        <p:grpSpPr>
          <a:xfrm>
            <a:off x="0" y="1374840"/>
            <a:ext cx="9152280" cy="4872600"/>
            <a:chOff x="0" y="1374840"/>
            <a:chExt cx="9152280" cy="4872600"/>
          </a:xfrm>
        </p:grpSpPr>
        <p:grpSp>
          <p:nvGrpSpPr>
            <p:cNvPr id="62" name="Group 4"/>
            <p:cNvGrpSpPr/>
            <p:nvPr/>
          </p:nvGrpSpPr>
          <p:grpSpPr>
            <a:xfrm>
              <a:off x="3217680" y="1374840"/>
              <a:ext cx="3029760" cy="4872600"/>
              <a:chOff x="3217680" y="1374840"/>
              <a:chExt cx="3029760" cy="4872600"/>
            </a:xfrm>
          </p:grpSpPr>
          <p:sp>
            <p:nvSpPr>
              <p:cNvPr id="63" name="Freeform 5"/>
              <p:cNvSpPr/>
              <p:nvPr/>
            </p:nvSpPr>
            <p:spPr>
              <a:xfrm>
                <a:off x="4915080" y="4239360"/>
                <a:ext cx="874440" cy="2008080"/>
              </a:xfrm>
              <a:custGeom>
                <a:avLst/>
                <a:gdLst>
                  <a:gd name="textAreaLeft" fmla="*/ 0 w 874440"/>
                  <a:gd name="textAreaRight" fmla="*/ 874800 w 874440"/>
                  <a:gd name="textAreaTop" fmla="*/ 0 h 2008080"/>
                  <a:gd name="textAreaBottom" fmla="*/ 2008440 h 2008080"/>
                </a:gdLst>
                <a:ahLst/>
                <a:rect l="textAreaLeft" t="textAreaTop" r="textAreaRight" b="textAreaBottom"/>
                <a:pathLst>
                  <a:path w="472" h="947">
                    <a:moveTo>
                      <a:pt x="15" y="61"/>
                    </a:moveTo>
                    <a:lnTo>
                      <a:pt x="6" y="102"/>
                    </a:lnTo>
                    <a:lnTo>
                      <a:pt x="0" y="158"/>
                    </a:lnTo>
                    <a:lnTo>
                      <a:pt x="2" y="217"/>
                    </a:lnTo>
                    <a:lnTo>
                      <a:pt x="12" y="265"/>
                    </a:lnTo>
                    <a:lnTo>
                      <a:pt x="23" y="283"/>
                    </a:lnTo>
                    <a:lnTo>
                      <a:pt x="35" y="301"/>
                    </a:lnTo>
                    <a:lnTo>
                      <a:pt x="48" y="317"/>
                    </a:lnTo>
                    <a:lnTo>
                      <a:pt x="62" y="333"/>
                    </a:lnTo>
                    <a:lnTo>
                      <a:pt x="74" y="349"/>
                    </a:lnTo>
                    <a:lnTo>
                      <a:pt x="86" y="366"/>
                    </a:lnTo>
                    <a:lnTo>
                      <a:pt x="94" y="382"/>
                    </a:lnTo>
                    <a:lnTo>
                      <a:pt x="100" y="400"/>
                    </a:lnTo>
                    <a:lnTo>
                      <a:pt x="106" y="435"/>
                    </a:lnTo>
                    <a:lnTo>
                      <a:pt x="107" y="477"/>
                    </a:lnTo>
                    <a:lnTo>
                      <a:pt x="104" y="520"/>
                    </a:lnTo>
                    <a:lnTo>
                      <a:pt x="97" y="564"/>
                    </a:lnTo>
                    <a:lnTo>
                      <a:pt x="91" y="593"/>
                    </a:lnTo>
                    <a:lnTo>
                      <a:pt x="88" y="622"/>
                    </a:lnTo>
                    <a:lnTo>
                      <a:pt x="86" y="652"/>
                    </a:lnTo>
                    <a:lnTo>
                      <a:pt x="85" y="681"/>
                    </a:lnTo>
                    <a:lnTo>
                      <a:pt x="83" y="708"/>
                    </a:lnTo>
                    <a:lnTo>
                      <a:pt x="82" y="733"/>
                    </a:lnTo>
                    <a:lnTo>
                      <a:pt x="79" y="756"/>
                    </a:lnTo>
                    <a:lnTo>
                      <a:pt x="76" y="774"/>
                    </a:lnTo>
                    <a:lnTo>
                      <a:pt x="70" y="792"/>
                    </a:lnTo>
                    <a:lnTo>
                      <a:pt x="65" y="813"/>
                    </a:lnTo>
                    <a:lnTo>
                      <a:pt x="62" y="833"/>
                    </a:lnTo>
                    <a:lnTo>
                      <a:pt x="67" y="853"/>
                    </a:lnTo>
                    <a:lnTo>
                      <a:pt x="74" y="874"/>
                    </a:lnTo>
                    <a:lnTo>
                      <a:pt x="85" y="899"/>
                    </a:lnTo>
                    <a:lnTo>
                      <a:pt x="95" y="922"/>
                    </a:lnTo>
                    <a:lnTo>
                      <a:pt x="107" y="937"/>
                    </a:lnTo>
                    <a:lnTo>
                      <a:pt x="115" y="940"/>
                    </a:lnTo>
                    <a:lnTo>
                      <a:pt x="122" y="942"/>
                    </a:lnTo>
                    <a:lnTo>
                      <a:pt x="130" y="946"/>
                    </a:lnTo>
                    <a:lnTo>
                      <a:pt x="138" y="946"/>
                    </a:lnTo>
                    <a:lnTo>
                      <a:pt x="147" y="947"/>
                    </a:lnTo>
                    <a:lnTo>
                      <a:pt x="153" y="947"/>
                    </a:lnTo>
                    <a:lnTo>
                      <a:pt x="159" y="946"/>
                    </a:lnTo>
                    <a:lnTo>
                      <a:pt x="163" y="944"/>
                    </a:lnTo>
                    <a:lnTo>
                      <a:pt x="163" y="937"/>
                    </a:lnTo>
                    <a:lnTo>
                      <a:pt x="159" y="933"/>
                    </a:lnTo>
                    <a:lnTo>
                      <a:pt x="154" y="928"/>
                    </a:lnTo>
                    <a:lnTo>
                      <a:pt x="148" y="919"/>
                    </a:lnTo>
                    <a:lnTo>
                      <a:pt x="142" y="908"/>
                    </a:lnTo>
                    <a:lnTo>
                      <a:pt x="138" y="894"/>
                    </a:lnTo>
                    <a:lnTo>
                      <a:pt x="135" y="874"/>
                    </a:lnTo>
                    <a:lnTo>
                      <a:pt x="136" y="847"/>
                    </a:lnTo>
                    <a:lnTo>
                      <a:pt x="142" y="822"/>
                    </a:lnTo>
                    <a:lnTo>
                      <a:pt x="150" y="806"/>
                    </a:lnTo>
                    <a:lnTo>
                      <a:pt x="160" y="793"/>
                    </a:lnTo>
                    <a:lnTo>
                      <a:pt x="172" y="781"/>
                    </a:lnTo>
                    <a:lnTo>
                      <a:pt x="184" y="767"/>
                    </a:lnTo>
                    <a:lnTo>
                      <a:pt x="192" y="749"/>
                    </a:lnTo>
                    <a:lnTo>
                      <a:pt x="198" y="729"/>
                    </a:lnTo>
                    <a:lnTo>
                      <a:pt x="204" y="711"/>
                    </a:lnTo>
                    <a:lnTo>
                      <a:pt x="212" y="697"/>
                    </a:lnTo>
                    <a:lnTo>
                      <a:pt x="221" y="690"/>
                    </a:lnTo>
                    <a:lnTo>
                      <a:pt x="231" y="684"/>
                    </a:lnTo>
                    <a:lnTo>
                      <a:pt x="242" y="677"/>
                    </a:lnTo>
                    <a:lnTo>
                      <a:pt x="251" y="668"/>
                    </a:lnTo>
                    <a:lnTo>
                      <a:pt x="260" y="654"/>
                    </a:lnTo>
                    <a:lnTo>
                      <a:pt x="268" y="641"/>
                    </a:lnTo>
                    <a:lnTo>
                      <a:pt x="275" y="631"/>
                    </a:lnTo>
                    <a:lnTo>
                      <a:pt x="283" y="620"/>
                    </a:lnTo>
                    <a:lnTo>
                      <a:pt x="290" y="609"/>
                    </a:lnTo>
                    <a:lnTo>
                      <a:pt x="296" y="598"/>
                    </a:lnTo>
                    <a:lnTo>
                      <a:pt x="304" y="586"/>
                    </a:lnTo>
                    <a:lnTo>
                      <a:pt x="310" y="575"/>
                    </a:lnTo>
                    <a:lnTo>
                      <a:pt x="313" y="566"/>
                    </a:lnTo>
                    <a:lnTo>
                      <a:pt x="317" y="557"/>
                    </a:lnTo>
                    <a:lnTo>
                      <a:pt x="323" y="548"/>
                    </a:lnTo>
                    <a:lnTo>
                      <a:pt x="326" y="536"/>
                    </a:lnTo>
                    <a:lnTo>
                      <a:pt x="325" y="521"/>
                    </a:lnTo>
                    <a:lnTo>
                      <a:pt x="323" y="509"/>
                    </a:lnTo>
                    <a:lnTo>
                      <a:pt x="326" y="500"/>
                    </a:lnTo>
                    <a:lnTo>
                      <a:pt x="334" y="496"/>
                    </a:lnTo>
                    <a:lnTo>
                      <a:pt x="343" y="494"/>
                    </a:lnTo>
                    <a:lnTo>
                      <a:pt x="351" y="494"/>
                    </a:lnTo>
                    <a:lnTo>
                      <a:pt x="360" y="491"/>
                    </a:lnTo>
                    <a:lnTo>
                      <a:pt x="369" y="487"/>
                    </a:lnTo>
                    <a:lnTo>
                      <a:pt x="379" y="482"/>
                    </a:lnTo>
                    <a:lnTo>
                      <a:pt x="390" y="477"/>
                    </a:lnTo>
                    <a:lnTo>
                      <a:pt x="401" y="475"/>
                    </a:lnTo>
                    <a:lnTo>
                      <a:pt x="410" y="473"/>
                    </a:lnTo>
                    <a:lnTo>
                      <a:pt x="417" y="466"/>
                    </a:lnTo>
                    <a:lnTo>
                      <a:pt x="423" y="457"/>
                    </a:lnTo>
                    <a:lnTo>
                      <a:pt x="429" y="448"/>
                    </a:lnTo>
                    <a:lnTo>
                      <a:pt x="435" y="432"/>
                    </a:lnTo>
                    <a:lnTo>
                      <a:pt x="443" y="407"/>
                    </a:lnTo>
                    <a:lnTo>
                      <a:pt x="450" y="380"/>
                    </a:lnTo>
                    <a:lnTo>
                      <a:pt x="456" y="358"/>
                    </a:lnTo>
                    <a:lnTo>
                      <a:pt x="459" y="341"/>
                    </a:lnTo>
                    <a:lnTo>
                      <a:pt x="464" y="321"/>
                    </a:lnTo>
                    <a:lnTo>
                      <a:pt x="467" y="303"/>
                    </a:lnTo>
                    <a:lnTo>
                      <a:pt x="470" y="289"/>
                    </a:lnTo>
                    <a:lnTo>
                      <a:pt x="472" y="274"/>
                    </a:lnTo>
                    <a:lnTo>
                      <a:pt x="470" y="256"/>
                    </a:lnTo>
                    <a:lnTo>
                      <a:pt x="466" y="238"/>
                    </a:lnTo>
                    <a:lnTo>
                      <a:pt x="461" y="230"/>
                    </a:lnTo>
                    <a:lnTo>
                      <a:pt x="456" y="228"/>
                    </a:lnTo>
                    <a:lnTo>
                      <a:pt x="450" y="224"/>
                    </a:lnTo>
                    <a:lnTo>
                      <a:pt x="443" y="222"/>
                    </a:lnTo>
                    <a:lnTo>
                      <a:pt x="435" y="219"/>
                    </a:lnTo>
                    <a:lnTo>
                      <a:pt x="429" y="215"/>
                    </a:lnTo>
                    <a:lnTo>
                      <a:pt x="422" y="210"/>
                    </a:lnTo>
                    <a:lnTo>
                      <a:pt x="417" y="204"/>
                    </a:lnTo>
                    <a:lnTo>
                      <a:pt x="414" y="199"/>
                    </a:lnTo>
                    <a:lnTo>
                      <a:pt x="410" y="188"/>
                    </a:lnTo>
                    <a:lnTo>
                      <a:pt x="404" y="179"/>
                    </a:lnTo>
                    <a:lnTo>
                      <a:pt x="396" y="174"/>
                    </a:lnTo>
                    <a:lnTo>
                      <a:pt x="388" y="172"/>
                    </a:lnTo>
                    <a:lnTo>
                      <a:pt x="384" y="172"/>
                    </a:lnTo>
                    <a:lnTo>
                      <a:pt x="378" y="172"/>
                    </a:lnTo>
                    <a:lnTo>
                      <a:pt x="372" y="172"/>
                    </a:lnTo>
                    <a:lnTo>
                      <a:pt x="364" y="172"/>
                    </a:lnTo>
                    <a:lnTo>
                      <a:pt x="357" y="170"/>
                    </a:lnTo>
                    <a:lnTo>
                      <a:pt x="351" y="167"/>
                    </a:lnTo>
                    <a:lnTo>
                      <a:pt x="346" y="163"/>
                    </a:lnTo>
                    <a:lnTo>
                      <a:pt x="342" y="158"/>
                    </a:lnTo>
                    <a:lnTo>
                      <a:pt x="334" y="144"/>
                    </a:lnTo>
                    <a:lnTo>
                      <a:pt x="323" y="124"/>
                    </a:lnTo>
                    <a:lnTo>
                      <a:pt x="314" y="108"/>
                    </a:lnTo>
                    <a:lnTo>
                      <a:pt x="305" y="97"/>
                    </a:lnTo>
                    <a:lnTo>
                      <a:pt x="299" y="92"/>
                    </a:lnTo>
                    <a:lnTo>
                      <a:pt x="289" y="83"/>
                    </a:lnTo>
                    <a:lnTo>
                      <a:pt x="275" y="72"/>
                    </a:lnTo>
                    <a:lnTo>
                      <a:pt x="258" y="59"/>
                    </a:lnTo>
                    <a:lnTo>
                      <a:pt x="240" y="49"/>
                    </a:lnTo>
                    <a:lnTo>
                      <a:pt x="222" y="38"/>
                    </a:lnTo>
                    <a:lnTo>
                      <a:pt x="204" y="31"/>
                    </a:lnTo>
                    <a:lnTo>
                      <a:pt x="187" y="27"/>
                    </a:lnTo>
                    <a:lnTo>
                      <a:pt x="172" y="25"/>
                    </a:lnTo>
                    <a:lnTo>
                      <a:pt x="160" y="24"/>
                    </a:lnTo>
                    <a:lnTo>
                      <a:pt x="148" y="22"/>
                    </a:lnTo>
                    <a:lnTo>
                      <a:pt x="139" y="20"/>
                    </a:lnTo>
                    <a:lnTo>
                      <a:pt x="130" y="20"/>
                    </a:lnTo>
                    <a:lnTo>
                      <a:pt x="122" y="18"/>
                    </a:lnTo>
                    <a:lnTo>
                      <a:pt x="118" y="18"/>
                    </a:lnTo>
                    <a:lnTo>
                      <a:pt x="113" y="20"/>
                    </a:lnTo>
                    <a:lnTo>
                      <a:pt x="107" y="20"/>
                    </a:lnTo>
                    <a:lnTo>
                      <a:pt x="101" y="17"/>
                    </a:lnTo>
                    <a:lnTo>
                      <a:pt x="95" y="11"/>
                    </a:lnTo>
                    <a:lnTo>
                      <a:pt x="91" y="6"/>
                    </a:lnTo>
                    <a:lnTo>
                      <a:pt x="85" y="2"/>
                    </a:lnTo>
                    <a:lnTo>
                      <a:pt x="79" y="0"/>
                    </a:lnTo>
                    <a:lnTo>
                      <a:pt x="71" y="4"/>
                    </a:lnTo>
                    <a:lnTo>
                      <a:pt x="65" y="8"/>
                    </a:lnTo>
                    <a:lnTo>
                      <a:pt x="59" y="15"/>
                    </a:lnTo>
                    <a:lnTo>
                      <a:pt x="51" y="25"/>
                    </a:lnTo>
                    <a:lnTo>
                      <a:pt x="45" y="34"/>
                    </a:lnTo>
                    <a:lnTo>
                      <a:pt x="38" y="42"/>
                    </a:lnTo>
                    <a:lnTo>
                      <a:pt x="35" y="43"/>
                    </a:lnTo>
                    <a:lnTo>
                      <a:pt x="29" y="47"/>
                    </a:lnTo>
                    <a:lnTo>
                      <a:pt x="21" y="54"/>
                    </a:lnTo>
                    <a:lnTo>
                      <a:pt x="15" y="6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Freeform 6"/>
              <p:cNvSpPr/>
              <p:nvPr/>
            </p:nvSpPr>
            <p:spPr>
              <a:xfrm>
                <a:off x="3217680" y="2121120"/>
                <a:ext cx="2212920" cy="2247480"/>
              </a:xfrm>
              <a:custGeom>
                <a:avLst/>
                <a:gdLst>
                  <a:gd name="textAreaLeft" fmla="*/ 0 w 2212920"/>
                  <a:gd name="textAreaRight" fmla="*/ 2213280 w 2212920"/>
                  <a:gd name="textAreaTop" fmla="*/ 0 h 2247480"/>
                  <a:gd name="textAreaBottom" fmla="*/ 2247840 h 2247480"/>
                </a:gdLst>
                <a:ahLst/>
                <a:rect l="textAreaLeft" t="textAreaTop" r="textAreaRight" b="textAreaBottom"/>
                <a:pathLst>
                  <a:path w="1194" h="1060">
                    <a:moveTo>
                      <a:pt x="872" y="770"/>
                    </a:moveTo>
                    <a:lnTo>
                      <a:pt x="862" y="772"/>
                    </a:lnTo>
                    <a:lnTo>
                      <a:pt x="853" y="767"/>
                    </a:lnTo>
                    <a:lnTo>
                      <a:pt x="843" y="763"/>
                    </a:lnTo>
                    <a:lnTo>
                      <a:pt x="833" y="768"/>
                    </a:lnTo>
                    <a:lnTo>
                      <a:pt x="822" y="779"/>
                    </a:lnTo>
                    <a:lnTo>
                      <a:pt x="816" y="785"/>
                    </a:lnTo>
                    <a:lnTo>
                      <a:pt x="809" y="788"/>
                    </a:lnTo>
                    <a:lnTo>
                      <a:pt x="800" y="790"/>
                    </a:lnTo>
                    <a:lnTo>
                      <a:pt x="794" y="790"/>
                    </a:lnTo>
                    <a:lnTo>
                      <a:pt x="786" y="790"/>
                    </a:lnTo>
                    <a:lnTo>
                      <a:pt x="778" y="790"/>
                    </a:lnTo>
                    <a:lnTo>
                      <a:pt x="771" y="790"/>
                    </a:lnTo>
                    <a:lnTo>
                      <a:pt x="765" y="795"/>
                    </a:lnTo>
                    <a:lnTo>
                      <a:pt x="759" y="802"/>
                    </a:lnTo>
                    <a:lnTo>
                      <a:pt x="753" y="815"/>
                    </a:lnTo>
                    <a:lnTo>
                      <a:pt x="750" y="833"/>
                    </a:lnTo>
                    <a:lnTo>
                      <a:pt x="748" y="853"/>
                    </a:lnTo>
                    <a:lnTo>
                      <a:pt x="750" y="869"/>
                    </a:lnTo>
                    <a:lnTo>
                      <a:pt x="756" y="881"/>
                    </a:lnTo>
                    <a:lnTo>
                      <a:pt x="762" y="892"/>
                    </a:lnTo>
                    <a:lnTo>
                      <a:pt x="769" y="901"/>
                    </a:lnTo>
                    <a:lnTo>
                      <a:pt x="777" y="908"/>
                    </a:lnTo>
                    <a:lnTo>
                      <a:pt x="785" y="912"/>
                    </a:lnTo>
                    <a:lnTo>
                      <a:pt x="791" y="915"/>
                    </a:lnTo>
                    <a:lnTo>
                      <a:pt x="797" y="915"/>
                    </a:lnTo>
                    <a:lnTo>
                      <a:pt x="803" y="913"/>
                    </a:lnTo>
                    <a:lnTo>
                      <a:pt x="809" y="910"/>
                    </a:lnTo>
                    <a:lnTo>
                      <a:pt x="816" y="905"/>
                    </a:lnTo>
                    <a:lnTo>
                      <a:pt x="822" y="899"/>
                    </a:lnTo>
                    <a:lnTo>
                      <a:pt x="828" y="892"/>
                    </a:lnTo>
                    <a:lnTo>
                      <a:pt x="834" y="887"/>
                    </a:lnTo>
                    <a:lnTo>
                      <a:pt x="840" y="879"/>
                    </a:lnTo>
                    <a:lnTo>
                      <a:pt x="850" y="878"/>
                    </a:lnTo>
                    <a:lnTo>
                      <a:pt x="854" y="890"/>
                    </a:lnTo>
                    <a:lnTo>
                      <a:pt x="854" y="908"/>
                    </a:lnTo>
                    <a:lnTo>
                      <a:pt x="850" y="924"/>
                    </a:lnTo>
                    <a:lnTo>
                      <a:pt x="845" y="935"/>
                    </a:lnTo>
                    <a:lnTo>
                      <a:pt x="848" y="940"/>
                    </a:lnTo>
                    <a:lnTo>
                      <a:pt x="854" y="946"/>
                    </a:lnTo>
                    <a:lnTo>
                      <a:pt x="863" y="947"/>
                    </a:lnTo>
                    <a:lnTo>
                      <a:pt x="872" y="951"/>
                    </a:lnTo>
                    <a:lnTo>
                      <a:pt x="881" y="958"/>
                    </a:lnTo>
                    <a:lnTo>
                      <a:pt x="890" y="971"/>
                    </a:lnTo>
                    <a:lnTo>
                      <a:pt x="895" y="989"/>
                    </a:lnTo>
                    <a:lnTo>
                      <a:pt x="896" y="1005"/>
                    </a:lnTo>
                    <a:lnTo>
                      <a:pt x="898" y="1016"/>
                    </a:lnTo>
                    <a:lnTo>
                      <a:pt x="899" y="1026"/>
                    </a:lnTo>
                    <a:lnTo>
                      <a:pt x="904" y="1033"/>
                    </a:lnTo>
                    <a:lnTo>
                      <a:pt x="910" y="1037"/>
                    </a:lnTo>
                    <a:lnTo>
                      <a:pt x="919" y="1041"/>
                    </a:lnTo>
                    <a:lnTo>
                      <a:pt x="928" y="1042"/>
                    </a:lnTo>
                    <a:lnTo>
                      <a:pt x="936" y="1044"/>
                    </a:lnTo>
                    <a:lnTo>
                      <a:pt x="942" y="1044"/>
                    </a:lnTo>
                    <a:lnTo>
                      <a:pt x="945" y="1042"/>
                    </a:lnTo>
                    <a:lnTo>
                      <a:pt x="946" y="1042"/>
                    </a:lnTo>
                    <a:lnTo>
                      <a:pt x="946" y="1044"/>
                    </a:lnTo>
                    <a:lnTo>
                      <a:pt x="945" y="1048"/>
                    </a:lnTo>
                    <a:lnTo>
                      <a:pt x="942" y="1053"/>
                    </a:lnTo>
                    <a:lnTo>
                      <a:pt x="937" y="1058"/>
                    </a:lnTo>
                    <a:lnTo>
                      <a:pt x="931" y="1060"/>
                    </a:lnTo>
                    <a:lnTo>
                      <a:pt x="927" y="1060"/>
                    </a:lnTo>
                    <a:lnTo>
                      <a:pt x="919" y="1058"/>
                    </a:lnTo>
                    <a:lnTo>
                      <a:pt x="913" y="1058"/>
                    </a:lnTo>
                    <a:lnTo>
                      <a:pt x="905" y="1055"/>
                    </a:lnTo>
                    <a:lnTo>
                      <a:pt x="898" y="1053"/>
                    </a:lnTo>
                    <a:lnTo>
                      <a:pt x="890" y="1051"/>
                    </a:lnTo>
                    <a:lnTo>
                      <a:pt x="886" y="1048"/>
                    </a:lnTo>
                    <a:lnTo>
                      <a:pt x="883" y="1046"/>
                    </a:lnTo>
                    <a:lnTo>
                      <a:pt x="878" y="1042"/>
                    </a:lnTo>
                    <a:lnTo>
                      <a:pt x="871" y="1037"/>
                    </a:lnTo>
                    <a:lnTo>
                      <a:pt x="862" y="1030"/>
                    </a:lnTo>
                    <a:lnTo>
                      <a:pt x="851" y="1021"/>
                    </a:lnTo>
                    <a:lnTo>
                      <a:pt x="842" y="1012"/>
                    </a:lnTo>
                    <a:lnTo>
                      <a:pt x="836" y="1005"/>
                    </a:lnTo>
                    <a:lnTo>
                      <a:pt x="831" y="998"/>
                    </a:lnTo>
                    <a:lnTo>
                      <a:pt x="827" y="992"/>
                    </a:lnTo>
                    <a:lnTo>
                      <a:pt x="822" y="987"/>
                    </a:lnTo>
                    <a:lnTo>
                      <a:pt x="816" y="981"/>
                    </a:lnTo>
                    <a:lnTo>
                      <a:pt x="807" y="976"/>
                    </a:lnTo>
                    <a:lnTo>
                      <a:pt x="795" y="971"/>
                    </a:lnTo>
                    <a:lnTo>
                      <a:pt x="786" y="967"/>
                    </a:lnTo>
                    <a:lnTo>
                      <a:pt x="775" y="962"/>
                    </a:lnTo>
                    <a:lnTo>
                      <a:pt x="766" y="958"/>
                    </a:lnTo>
                    <a:lnTo>
                      <a:pt x="757" y="953"/>
                    </a:lnTo>
                    <a:lnTo>
                      <a:pt x="748" y="949"/>
                    </a:lnTo>
                    <a:lnTo>
                      <a:pt x="741" y="946"/>
                    </a:lnTo>
                    <a:lnTo>
                      <a:pt x="733" y="942"/>
                    </a:lnTo>
                    <a:lnTo>
                      <a:pt x="726" y="939"/>
                    </a:lnTo>
                    <a:lnTo>
                      <a:pt x="718" y="935"/>
                    </a:lnTo>
                    <a:lnTo>
                      <a:pt x="710" y="928"/>
                    </a:lnTo>
                    <a:lnTo>
                      <a:pt x="703" y="919"/>
                    </a:lnTo>
                    <a:lnTo>
                      <a:pt x="695" y="910"/>
                    </a:lnTo>
                    <a:lnTo>
                      <a:pt x="689" y="901"/>
                    </a:lnTo>
                    <a:lnTo>
                      <a:pt x="683" y="892"/>
                    </a:lnTo>
                    <a:lnTo>
                      <a:pt x="677" y="885"/>
                    </a:lnTo>
                    <a:lnTo>
                      <a:pt x="674" y="881"/>
                    </a:lnTo>
                    <a:lnTo>
                      <a:pt x="668" y="874"/>
                    </a:lnTo>
                    <a:lnTo>
                      <a:pt x="661" y="863"/>
                    </a:lnTo>
                    <a:lnTo>
                      <a:pt x="653" y="854"/>
                    </a:lnTo>
                    <a:lnTo>
                      <a:pt x="642" y="849"/>
                    </a:lnTo>
                    <a:lnTo>
                      <a:pt x="635" y="847"/>
                    </a:lnTo>
                    <a:lnTo>
                      <a:pt x="627" y="845"/>
                    </a:lnTo>
                    <a:lnTo>
                      <a:pt x="618" y="842"/>
                    </a:lnTo>
                    <a:lnTo>
                      <a:pt x="609" y="838"/>
                    </a:lnTo>
                    <a:lnTo>
                      <a:pt x="600" y="833"/>
                    </a:lnTo>
                    <a:lnTo>
                      <a:pt x="591" y="826"/>
                    </a:lnTo>
                    <a:lnTo>
                      <a:pt x="584" y="820"/>
                    </a:lnTo>
                    <a:lnTo>
                      <a:pt x="576" y="811"/>
                    </a:lnTo>
                    <a:lnTo>
                      <a:pt x="562" y="795"/>
                    </a:lnTo>
                    <a:lnTo>
                      <a:pt x="550" y="779"/>
                    </a:lnTo>
                    <a:lnTo>
                      <a:pt x="541" y="763"/>
                    </a:lnTo>
                    <a:lnTo>
                      <a:pt x="537" y="749"/>
                    </a:lnTo>
                    <a:lnTo>
                      <a:pt x="532" y="734"/>
                    </a:lnTo>
                    <a:lnTo>
                      <a:pt x="529" y="720"/>
                    </a:lnTo>
                    <a:lnTo>
                      <a:pt x="525" y="706"/>
                    </a:lnTo>
                    <a:lnTo>
                      <a:pt x="520" y="693"/>
                    </a:lnTo>
                    <a:lnTo>
                      <a:pt x="517" y="688"/>
                    </a:lnTo>
                    <a:lnTo>
                      <a:pt x="512" y="681"/>
                    </a:lnTo>
                    <a:lnTo>
                      <a:pt x="505" y="674"/>
                    </a:lnTo>
                    <a:lnTo>
                      <a:pt x="497" y="665"/>
                    </a:lnTo>
                    <a:lnTo>
                      <a:pt x="490" y="657"/>
                    </a:lnTo>
                    <a:lnTo>
                      <a:pt x="481" y="647"/>
                    </a:lnTo>
                    <a:lnTo>
                      <a:pt x="475" y="638"/>
                    </a:lnTo>
                    <a:lnTo>
                      <a:pt x="469" y="627"/>
                    </a:lnTo>
                    <a:lnTo>
                      <a:pt x="464" y="604"/>
                    </a:lnTo>
                    <a:lnTo>
                      <a:pt x="464" y="579"/>
                    </a:lnTo>
                    <a:lnTo>
                      <a:pt x="469" y="557"/>
                    </a:lnTo>
                    <a:lnTo>
                      <a:pt x="473" y="543"/>
                    </a:lnTo>
                    <a:lnTo>
                      <a:pt x="475" y="527"/>
                    </a:lnTo>
                    <a:lnTo>
                      <a:pt x="475" y="505"/>
                    </a:lnTo>
                    <a:lnTo>
                      <a:pt x="473" y="480"/>
                    </a:lnTo>
                    <a:lnTo>
                      <a:pt x="469" y="457"/>
                    </a:lnTo>
                    <a:lnTo>
                      <a:pt x="463" y="441"/>
                    </a:lnTo>
                    <a:lnTo>
                      <a:pt x="458" y="430"/>
                    </a:lnTo>
                    <a:lnTo>
                      <a:pt x="451" y="423"/>
                    </a:lnTo>
                    <a:lnTo>
                      <a:pt x="440" y="414"/>
                    </a:lnTo>
                    <a:lnTo>
                      <a:pt x="431" y="403"/>
                    </a:lnTo>
                    <a:lnTo>
                      <a:pt x="425" y="393"/>
                    </a:lnTo>
                    <a:lnTo>
                      <a:pt x="420" y="382"/>
                    </a:lnTo>
                    <a:lnTo>
                      <a:pt x="417" y="367"/>
                    </a:lnTo>
                    <a:lnTo>
                      <a:pt x="411" y="355"/>
                    </a:lnTo>
                    <a:lnTo>
                      <a:pt x="402" y="344"/>
                    </a:lnTo>
                    <a:lnTo>
                      <a:pt x="392" y="339"/>
                    </a:lnTo>
                    <a:lnTo>
                      <a:pt x="381" y="339"/>
                    </a:lnTo>
                    <a:lnTo>
                      <a:pt x="376" y="341"/>
                    </a:lnTo>
                    <a:lnTo>
                      <a:pt x="369" y="339"/>
                    </a:lnTo>
                    <a:lnTo>
                      <a:pt x="363" y="337"/>
                    </a:lnTo>
                    <a:lnTo>
                      <a:pt x="355" y="332"/>
                    </a:lnTo>
                    <a:lnTo>
                      <a:pt x="346" y="328"/>
                    </a:lnTo>
                    <a:lnTo>
                      <a:pt x="339" y="324"/>
                    </a:lnTo>
                    <a:lnTo>
                      <a:pt x="331" y="319"/>
                    </a:lnTo>
                    <a:lnTo>
                      <a:pt x="325" y="316"/>
                    </a:lnTo>
                    <a:lnTo>
                      <a:pt x="315" y="310"/>
                    </a:lnTo>
                    <a:lnTo>
                      <a:pt x="307" y="305"/>
                    </a:lnTo>
                    <a:lnTo>
                      <a:pt x="299" y="299"/>
                    </a:lnTo>
                    <a:lnTo>
                      <a:pt x="289" y="296"/>
                    </a:lnTo>
                    <a:lnTo>
                      <a:pt x="283" y="296"/>
                    </a:lnTo>
                    <a:lnTo>
                      <a:pt x="277" y="294"/>
                    </a:lnTo>
                    <a:lnTo>
                      <a:pt x="271" y="296"/>
                    </a:lnTo>
                    <a:lnTo>
                      <a:pt x="263" y="296"/>
                    </a:lnTo>
                    <a:lnTo>
                      <a:pt x="256" y="296"/>
                    </a:lnTo>
                    <a:lnTo>
                      <a:pt x="248" y="294"/>
                    </a:lnTo>
                    <a:lnTo>
                      <a:pt x="240" y="290"/>
                    </a:lnTo>
                    <a:lnTo>
                      <a:pt x="233" y="287"/>
                    </a:lnTo>
                    <a:lnTo>
                      <a:pt x="225" y="282"/>
                    </a:lnTo>
                    <a:lnTo>
                      <a:pt x="219" y="278"/>
                    </a:lnTo>
                    <a:lnTo>
                      <a:pt x="212" y="276"/>
                    </a:lnTo>
                    <a:lnTo>
                      <a:pt x="204" y="274"/>
                    </a:lnTo>
                    <a:lnTo>
                      <a:pt x="197" y="274"/>
                    </a:lnTo>
                    <a:lnTo>
                      <a:pt x="188" y="274"/>
                    </a:lnTo>
                    <a:lnTo>
                      <a:pt x="177" y="276"/>
                    </a:lnTo>
                    <a:lnTo>
                      <a:pt x="166" y="278"/>
                    </a:lnTo>
                    <a:lnTo>
                      <a:pt x="156" y="282"/>
                    </a:lnTo>
                    <a:lnTo>
                      <a:pt x="145" y="290"/>
                    </a:lnTo>
                    <a:lnTo>
                      <a:pt x="138" y="301"/>
                    </a:lnTo>
                    <a:lnTo>
                      <a:pt x="129" y="312"/>
                    </a:lnTo>
                    <a:lnTo>
                      <a:pt x="121" y="323"/>
                    </a:lnTo>
                    <a:lnTo>
                      <a:pt x="112" y="332"/>
                    </a:lnTo>
                    <a:lnTo>
                      <a:pt x="103" y="339"/>
                    </a:lnTo>
                    <a:lnTo>
                      <a:pt x="92" y="339"/>
                    </a:lnTo>
                    <a:lnTo>
                      <a:pt x="82" y="333"/>
                    </a:lnTo>
                    <a:lnTo>
                      <a:pt x="76" y="326"/>
                    </a:lnTo>
                    <a:lnTo>
                      <a:pt x="71" y="319"/>
                    </a:lnTo>
                    <a:lnTo>
                      <a:pt x="62" y="310"/>
                    </a:lnTo>
                    <a:lnTo>
                      <a:pt x="53" y="299"/>
                    </a:lnTo>
                    <a:lnTo>
                      <a:pt x="49" y="282"/>
                    </a:lnTo>
                    <a:lnTo>
                      <a:pt x="49" y="258"/>
                    </a:lnTo>
                    <a:lnTo>
                      <a:pt x="55" y="231"/>
                    </a:lnTo>
                    <a:lnTo>
                      <a:pt x="58" y="217"/>
                    </a:lnTo>
                    <a:lnTo>
                      <a:pt x="56" y="206"/>
                    </a:lnTo>
                    <a:lnTo>
                      <a:pt x="52" y="201"/>
                    </a:lnTo>
                    <a:lnTo>
                      <a:pt x="44" y="197"/>
                    </a:lnTo>
                    <a:lnTo>
                      <a:pt x="36" y="196"/>
                    </a:lnTo>
                    <a:lnTo>
                      <a:pt x="26" y="192"/>
                    </a:lnTo>
                    <a:lnTo>
                      <a:pt x="15" y="188"/>
                    </a:lnTo>
                    <a:lnTo>
                      <a:pt x="6" y="183"/>
                    </a:lnTo>
                    <a:lnTo>
                      <a:pt x="0" y="174"/>
                    </a:lnTo>
                    <a:lnTo>
                      <a:pt x="0" y="162"/>
                    </a:lnTo>
                    <a:lnTo>
                      <a:pt x="5" y="147"/>
                    </a:lnTo>
                    <a:lnTo>
                      <a:pt x="12" y="131"/>
                    </a:lnTo>
                    <a:lnTo>
                      <a:pt x="23" y="117"/>
                    </a:lnTo>
                    <a:lnTo>
                      <a:pt x="33" y="101"/>
                    </a:lnTo>
                    <a:lnTo>
                      <a:pt x="44" y="88"/>
                    </a:lnTo>
                    <a:lnTo>
                      <a:pt x="55" y="79"/>
                    </a:lnTo>
                    <a:lnTo>
                      <a:pt x="64" y="72"/>
                    </a:lnTo>
                    <a:lnTo>
                      <a:pt x="71" y="63"/>
                    </a:lnTo>
                    <a:lnTo>
                      <a:pt x="80" y="54"/>
                    </a:lnTo>
                    <a:lnTo>
                      <a:pt x="91" y="47"/>
                    </a:lnTo>
                    <a:lnTo>
                      <a:pt x="106" y="42"/>
                    </a:lnTo>
                    <a:lnTo>
                      <a:pt x="126" y="38"/>
                    </a:lnTo>
                    <a:lnTo>
                      <a:pt x="150" y="38"/>
                    </a:lnTo>
                    <a:lnTo>
                      <a:pt x="182" y="42"/>
                    </a:lnTo>
                    <a:lnTo>
                      <a:pt x="197" y="52"/>
                    </a:lnTo>
                    <a:lnTo>
                      <a:pt x="209" y="60"/>
                    </a:lnTo>
                    <a:lnTo>
                      <a:pt x="219" y="65"/>
                    </a:lnTo>
                    <a:lnTo>
                      <a:pt x="228" y="68"/>
                    </a:lnTo>
                    <a:lnTo>
                      <a:pt x="236" y="70"/>
                    </a:lnTo>
                    <a:lnTo>
                      <a:pt x="243" y="74"/>
                    </a:lnTo>
                    <a:lnTo>
                      <a:pt x="251" y="76"/>
                    </a:lnTo>
                    <a:lnTo>
                      <a:pt x="257" y="77"/>
                    </a:lnTo>
                    <a:lnTo>
                      <a:pt x="266" y="81"/>
                    </a:lnTo>
                    <a:lnTo>
                      <a:pt x="278" y="83"/>
                    </a:lnTo>
                    <a:lnTo>
                      <a:pt x="293" y="85"/>
                    </a:lnTo>
                    <a:lnTo>
                      <a:pt x="310" y="88"/>
                    </a:lnTo>
                    <a:lnTo>
                      <a:pt x="325" y="90"/>
                    </a:lnTo>
                    <a:lnTo>
                      <a:pt x="340" y="90"/>
                    </a:lnTo>
                    <a:lnTo>
                      <a:pt x="354" y="90"/>
                    </a:lnTo>
                    <a:lnTo>
                      <a:pt x="363" y="90"/>
                    </a:lnTo>
                    <a:lnTo>
                      <a:pt x="372" y="88"/>
                    </a:lnTo>
                    <a:lnTo>
                      <a:pt x="384" y="88"/>
                    </a:lnTo>
                    <a:lnTo>
                      <a:pt x="398" y="88"/>
                    </a:lnTo>
                    <a:lnTo>
                      <a:pt x="413" y="88"/>
                    </a:lnTo>
                    <a:lnTo>
                      <a:pt x="428" y="88"/>
                    </a:lnTo>
                    <a:lnTo>
                      <a:pt x="441" y="90"/>
                    </a:lnTo>
                    <a:lnTo>
                      <a:pt x="454" y="90"/>
                    </a:lnTo>
                    <a:lnTo>
                      <a:pt x="461" y="90"/>
                    </a:lnTo>
                    <a:lnTo>
                      <a:pt x="467" y="90"/>
                    </a:lnTo>
                    <a:lnTo>
                      <a:pt x="475" y="92"/>
                    </a:lnTo>
                    <a:lnTo>
                      <a:pt x="484" y="94"/>
                    </a:lnTo>
                    <a:lnTo>
                      <a:pt x="493" y="95"/>
                    </a:lnTo>
                    <a:lnTo>
                      <a:pt x="502" y="97"/>
                    </a:lnTo>
                    <a:lnTo>
                      <a:pt x="511" y="101"/>
                    </a:lnTo>
                    <a:lnTo>
                      <a:pt x="520" y="103"/>
                    </a:lnTo>
                    <a:lnTo>
                      <a:pt x="528" y="106"/>
                    </a:lnTo>
                    <a:lnTo>
                      <a:pt x="538" y="110"/>
                    </a:lnTo>
                    <a:lnTo>
                      <a:pt x="550" y="113"/>
                    </a:lnTo>
                    <a:lnTo>
                      <a:pt x="567" y="117"/>
                    </a:lnTo>
                    <a:lnTo>
                      <a:pt x="584" y="119"/>
                    </a:lnTo>
                    <a:lnTo>
                      <a:pt x="600" y="122"/>
                    </a:lnTo>
                    <a:lnTo>
                      <a:pt x="615" y="126"/>
                    </a:lnTo>
                    <a:lnTo>
                      <a:pt x="629" y="128"/>
                    </a:lnTo>
                    <a:lnTo>
                      <a:pt x="638" y="128"/>
                    </a:lnTo>
                    <a:lnTo>
                      <a:pt x="647" y="128"/>
                    </a:lnTo>
                    <a:lnTo>
                      <a:pt x="661" y="128"/>
                    </a:lnTo>
                    <a:lnTo>
                      <a:pt x="676" y="126"/>
                    </a:lnTo>
                    <a:lnTo>
                      <a:pt x="694" y="124"/>
                    </a:lnTo>
                    <a:lnTo>
                      <a:pt x="710" y="122"/>
                    </a:lnTo>
                    <a:lnTo>
                      <a:pt x="727" y="119"/>
                    </a:lnTo>
                    <a:lnTo>
                      <a:pt x="741" y="115"/>
                    </a:lnTo>
                    <a:lnTo>
                      <a:pt x="753" y="110"/>
                    </a:lnTo>
                    <a:lnTo>
                      <a:pt x="768" y="101"/>
                    </a:lnTo>
                    <a:lnTo>
                      <a:pt x="777" y="94"/>
                    </a:lnTo>
                    <a:lnTo>
                      <a:pt x="780" y="86"/>
                    </a:lnTo>
                    <a:lnTo>
                      <a:pt x="782" y="79"/>
                    </a:lnTo>
                    <a:lnTo>
                      <a:pt x="778" y="72"/>
                    </a:lnTo>
                    <a:lnTo>
                      <a:pt x="771" y="61"/>
                    </a:lnTo>
                    <a:lnTo>
                      <a:pt x="763" y="52"/>
                    </a:lnTo>
                    <a:lnTo>
                      <a:pt x="757" y="45"/>
                    </a:lnTo>
                    <a:lnTo>
                      <a:pt x="756" y="36"/>
                    </a:lnTo>
                    <a:lnTo>
                      <a:pt x="759" y="26"/>
                    </a:lnTo>
                    <a:lnTo>
                      <a:pt x="765" y="15"/>
                    </a:lnTo>
                    <a:lnTo>
                      <a:pt x="771" y="4"/>
                    </a:lnTo>
                    <a:lnTo>
                      <a:pt x="780" y="0"/>
                    </a:lnTo>
                    <a:lnTo>
                      <a:pt x="789" y="2"/>
                    </a:lnTo>
                    <a:lnTo>
                      <a:pt x="801" y="8"/>
                    </a:lnTo>
                    <a:lnTo>
                      <a:pt x="812" y="13"/>
                    </a:lnTo>
                    <a:lnTo>
                      <a:pt x="818" y="20"/>
                    </a:lnTo>
                    <a:lnTo>
                      <a:pt x="819" y="31"/>
                    </a:lnTo>
                    <a:lnTo>
                      <a:pt x="819" y="42"/>
                    </a:lnTo>
                    <a:lnTo>
                      <a:pt x="819" y="51"/>
                    </a:lnTo>
                    <a:lnTo>
                      <a:pt x="822" y="60"/>
                    </a:lnTo>
                    <a:lnTo>
                      <a:pt x="830" y="72"/>
                    </a:lnTo>
                    <a:lnTo>
                      <a:pt x="840" y="79"/>
                    </a:lnTo>
                    <a:lnTo>
                      <a:pt x="854" y="83"/>
                    </a:lnTo>
                    <a:lnTo>
                      <a:pt x="862" y="83"/>
                    </a:lnTo>
                    <a:lnTo>
                      <a:pt x="869" y="83"/>
                    </a:lnTo>
                    <a:lnTo>
                      <a:pt x="877" y="85"/>
                    </a:lnTo>
                    <a:lnTo>
                      <a:pt x="884" y="86"/>
                    </a:lnTo>
                    <a:lnTo>
                      <a:pt x="892" y="90"/>
                    </a:lnTo>
                    <a:lnTo>
                      <a:pt x="899" y="92"/>
                    </a:lnTo>
                    <a:lnTo>
                      <a:pt x="907" y="94"/>
                    </a:lnTo>
                    <a:lnTo>
                      <a:pt x="915" y="95"/>
                    </a:lnTo>
                    <a:lnTo>
                      <a:pt x="927" y="97"/>
                    </a:lnTo>
                    <a:lnTo>
                      <a:pt x="933" y="101"/>
                    </a:lnTo>
                    <a:lnTo>
                      <a:pt x="933" y="108"/>
                    </a:lnTo>
                    <a:lnTo>
                      <a:pt x="931" y="117"/>
                    </a:lnTo>
                    <a:lnTo>
                      <a:pt x="928" y="122"/>
                    </a:lnTo>
                    <a:lnTo>
                      <a:pt x="925" y="128"/>
                    </a:lnTo>
                    <a:lnTo>
                      <a:pt x="919" y="131"/>
                    </a:lnTo>
                    <a:lnTo>
                      <a:pt x="913" y="133"/>
                    </a:lnTo>
                    <a:lnTo>
                      <a:pt x="905" y="135"/>
                    </a:lnTo>
                    <a:lnTo>
                      <a:pt x="898" y="137"/>
                    </a:lnTo>
                    <a:lnTo>
                      <a:pt x="890" y="137"/>
                    </a:lnTo>
                    <a:lnTo>
                      <a:pt x="883" y="138"/>
                    </a:lnTo>
                    <a:lnTo>
                      <a:pt x="869" y="144"/>
                    </a:lnTo>
                    <a:lnTo>
                      <a:pt x="859" y="149"/>
                    </a:lnTo>
                    <a:lnTo>
                      <a:pt x="848" y="158"/>
                    </a:lnTo>
                    <a:lnTo>
                      <a:pt x="839" y="167"/>
                    </a:lnTo>
                    <a:lnTo>
                      <a:pt x="830" y="178"/>
                    </a:lnTo>
                    <a:lnTo>
                      <a:pt x="819" y="190"/>
                    </a:lnTo>
                    <a:lnTo>
                      <a:pt x="807" y="205"/>
                    </a:lnTo>
                    <a:lnTo>
                      <a:pt x="797" y="224"/>
                    </a:lnTo>
                    <a:lnTo>
                      <a:pt x="791" y="249"/>
                    </a:lnTo>
                    <a:lnTo>
                      <a:pt x="791" y="282"/>
                    </a:lnTo>
                    <a:lnTo>
                      <a:pt x="794" y="310"/>
                    </a:lnTo>
                    <a:lnTo>
                      <a:pt x="797" y="330"/>
                    </a:lnTo>
                    <a:lnTo>
                      <a:pt x="801" y="339"/>
                    </a:lnTo>
                    <a:lnTo>
                      <a:pt x="807" y="341"/>
                    </a:lnTo>
                    <a:lnTo>
                      <a:pt x="815" y="339"/>
                    </a:lnTo>
                    <a:lnTo>
                      <a:pt x="822" y="339"/>
                    </a:lnTo>
                    <a:lnTo>
                      <a:pt x="831" y="341"/>
                    </a:lnTo>
                    <a:lnTo>
                      <a:pt x="842" y="342"/>
                    </a:lnTo>
                    <a:lnTo>
                      <a:pt x="851" y="348"/>
                    </a:lnTo>
                    <a:lnTo>
                      <a:pt x="860" y="353"/>
                    </a:lnTo>
                    <a:lnTo>
                      <a:pt x="869" y="357"/>
                    </a:lnTo>
                    <a:lnTo>
                      <a:pt x="877" y="360"/>
                    </a:lnTo>
                    <a:lnTo>
                      <a:pt x="883" y="362"/>
                    </a:lnTo>
                    <a:lnTo>
                      <a:pt x="890" y="362"/>
                    </a:lnTo>
                    <a:lnTo>
                      <a:pt x="898" y="362"/>
                    </a:lnTo>
                    <a:lnTo>
                      <a:pt x="904" y="366"/>
                    </a:lnTo>
                    <a:lnTo>
                      <a:pt x="908" y="371"/>
                    </a:lnTo>
                    <a:lnTo>
                      <a:pt x="910" y="380"/>
                    </a:lnTo>
                    <a:lnTo>
                      <a:pt x="913" y="389"/>
                    </a:lnTo>
                    <a:lnTo>
                      <a:pt x="918" y="394"/>
                    </a:lnTo>
                    <a:lnTo>
                      <a:pt x="924" y="398"/>
                    </a:lnTo>
                    <a:lnTo>
                      <a:pt x="931" y="400"/>
                    </a:lnTo>
                    <a:lnTo>
                      <a:pt x="936" y="394"/>
                    </a:lnTo>
                    <a:lnTo>
                      <a:pt x="937" y="380"/>
                    </a:lnTo>
                    <a:lnTo>
                      <a:pt x="937" y="364"/>
                    </a:lnTo>
                    <a:lnTo>
                      <a:pt x="934" y="348"/>
                    </a:lnTo>
                    <a:lnTo>
                      <a:pt x="936" y="339"/>
                    </a:lnTo>
                    <a:lnTo>
                      <a:pt x="943" y="332"/>
                    </a:lnTo>
                    <a:lnTo>
                      <a:pt x="955" y="328"/>
                    </a:lnTo>
                    <a:lnTo>
                      <a:pt x="966" y="323"/>
                    </a:lnTo>
                    <a:lnTo>
                      <a:pt x="973" y="316"/>
                    </a:lnTo>
                    <a:lnTo>
                      <a:pt x="972" y="303"/>
                    </a:lnTo>
                    <a:lnTo>
                      <a:pt x="967" y="292"/>
                    </a:lnTo>
                    <a:lnTo>
                      <a:pt x="958" y="283"/>
                    </a:lnTo>
                    <a:lnTo>
                      <a:pt x="952" y="274"/>
                    </a:lnTo>
                    <a:lnTo>
                      <a:pt x="949" y="264"/>
                    </a:lnTo>
                    <a:lnTo>
                      <a:pt x="951" y="253"/>
                    </a:lnTo>
                    <a:lnTo>
                      <a:pt x="954" y="240"/>
                    </a:lnTo>
                    <a:lnTo>
                      <a:pt x="963" y="231"/>
                    </a:lnTo>
                    <a:lnTo>
                      <a:pt x="975" y="228"/>
                    </a:lnTo>
                    <a:lnTo>
                      <a:pt x="989" y="231"/>
                    </a:lnTo>
                    <a:lnTo>
                      <a:pt x="996" y="239"/>
                    </a:lnTo>
                    <a:lnTo>
                      <a:pt x="1002" y="246"/>
                    </a:lnTo>
                    <a:lnTo>
                      <a:pt x="1011" y="253"/>
                    </a:lnTo>
                    <a:lnTo>
                      <a:pt x="1020" y="256"/>
                    </a:lnTo>
                    <a:lnTo>
                      <a:pt x="1028" y="262"/>
                    </a:lnTo>
                    <a:lnTo>
                      <a:pt x="1034" y="267"/>
                    </a:lnTo>
                    <a:lnTo>
                      <a:pt x="1040" y="274"/>
                    </a:lnTo>
                    <a:lnTo>
                      <a:pt x="1046" y="283"/>
                    </a:lnTo>
                    <a:lnTo>
                      <a:pt x="1052" y="290"/>
                    </a:lnTo>
                    <a:lnTo>
                      <a:pt x="1060" y="292"/>
                    </a:lnTo>
                    <a:lnTo>
                      <a:pt x="1067" y="285"/>
                    </a:lnTo>
                    <a:lnTo>
                      <a:pt x="1076" y="274"/>
                    </a:lnTo>
                    <a:lnTo>
                      <a:pt x="1082" y="264"/>
                    </a:lnTo>
                    <a:lnTo>
                      <a:pt x="1088" y="258"/>
                    </a:lnTo>
                    <a:lnTo>
                      <a:pt x="1099" y="262"/>
                    </a:lnTo>
                    <a:lnTo>
                      <a:pt x="1108" y="271"/>
                    </a:lnTo>
                    <a:lnTo>
                      <a:pt x="1114" y="285"/>
                    </a:lnTo>
                    <a:lnTo>
                      <a:pt x="1119" y="296"/>
                    </a:lnTo>
                    <a:lnTo>
                      <a:pt x="1125" y="307"/>
                    </a:lnTo>
                    <a:lnTo>
                      <a:pt x="1131" y="316"/>
                    </a:lnTo>
                    <a:lnTo>
                      <a:pt x="1140" y="328"/>
                    </a:lnTo>
                    <a:lnTo>
                      <a:pt x="1149" y="341"/>
                    </a:lnTo>
                    <a:lnTo>
                      <a:pt x="1153" y="350"/>
                    </a:lnTo>
                    <a:lnTo>
                      <a:pt x="1156" y="359"/>
                    </a:lnTo>
                    <a:lnTo>
                      <a:pt x="1158" y="367"/>
                    </a:lnTo>
                    <a:lnTo>
                      <a:pt x="1161" y="375"/>
                    </a:lnTo>
                    <a:lnTo>
                      <a:pt x="1168" y="376"/>
                    </a:lnTo>
                    <a:lnTo>
                      <a:pt x="1177" y="375"/>
                    </a:lnTo>
                    <a:lnTo>
                      <a:pt x="1185" y="373"/>
                    </a:lnTo>
                    <a:lnTo>
                      <a:pt x="1191" y="375"/>
                    </a:lnTo>
                    <a:lnTo>
                      <a:pt x="1194" y="382"/>
                    </a:lnTo>
                    <a:lnTo>
                      <a:pt x="1193" y="396"/>
                    </a:lnTo>
                    <a:lnTo>
                      <a:pt x="1188" y="412"/>
                    </a:lnTo>
                    <a:lnTo>
                      <a:pt x="1181" y="425"/>
                    </a:lnTo>
                    <a:lnTo>
                      <a:pt x="1173" y="430"/>
                    </a:lnTo>
                    <a:lnTo>
                      <a:pt x="1164" y="432"/>
                    </a:lnTo>
                    <a:lnTo>
                      <a:pt x="1153" y="434"/>
                    </a:lnTo>
                    <a:lnTo>
                      <a:pt x="1144" y="435"/>
                    </a:lnTo>
                    <a:lnTo>
                      <a:pt x="1137" y="437"/>
                    </a:lnTo>
                    <a:lnTo>
                      <a:pt x="1129" y="439"/>
                    </a:lnTo>
                    <a:lnTo>
                      <a:pt x="1123" y="443"/>
                    </a:lnTo>
                    <a:lnTo>
                      <a:pt x="1120" y="452"/>
                    </a:lnTo>
                    <a:lnTo>
                      <a:pt x="1120" y="464"/>
                    </a:lnTo>
                    <a:lnTo>
                      <a:pt x="1122" y="478"/>
                    </a:lnTo>
                    <a:lnTo>
                      <a:pt x="1123" y="493"/>
                    </a:lnTo>
                    <a:lnTo>
                      <a:pt x="1120" y="505"/>
                    </a:lnTo>
                    <a:lnTo>
                      <a:pt x="1109" y="518"/>
                    </a:lnTo>
                    <a:lnTo>
                      <a:pt x="1096" y="527"/>
                    </a:lnTo>
                    <a:lnTo>
                      <a:pt x="1084" y="532"/>
                    </a:lnTo>
                    <a:lnTo>
                      <a:pt x="1075" y="538"/>
                    </a:lnTo>
                    <a:lnTo>
                      <a:pt x="1066" y="546"/>
                    </a:lnTo>
                    <a:lnTo>
                      <a:pt x="1057" y="557"/>
                    </a:lnTo>
                    <a:lnTo>
                      <a:pt x="1052" y="570"/>
                    </a:lnTo>
                    <a:lnTo>
                      <a:pt x="1048" y="580"/>
                    </a:lnTo>
                    <a:lnTo>
                      <a:pt x="1043" y="589"/>
                    </a:lnTo>
                    <a:lnTo>
                      <a:pt x="1035" y="595"/>
                    </a:lnTo>
                    <a:lnTo>
                      <a:pt x="1028" y="604"/>
                    </a:lnTo>
                    <a:lnTo>
                      <a:pt x="1020" y="611"/>
                    </a:lnTo>
                    <a:lnTo>
                      <a:pt x="1014" y="613"/>
                    </a:lnTo>
                    <a:lnTo>
                      <a:pt x="1007" y="615"/>
                    </a:lnTo>
                    <a:lnTo>
                      <a:pt x="998" y="620"/>
                    </a:lnTo>
                    <a:lnTo>
                      <a:pt x="992" y="627"/>
                    </a:lnTo>
                    <a:lnTo>
                      <a:pt x="992" y="634"/>
                    </a:lnTo>
                    <a:lnTo>
                      <a:pt x="992" y="641"/>
                    </a:lnTo>
                    <a:lnTo>
                      <a:pt x="990" y="650"/>
                    </a:lnTo>
                    <a:lnTo>
                      <a:pt x="987" y="661"/>
                    </a:lnTo>
                    <a:lnTo>
                      <a:pt x="986" y="672"/>
                    </a:lnTo>
                    <a:lnTo>
                      <a:pt x="983" y="684"/>
                    </a:lnTo>
                    <a:lnTo>
                      <a:pt x="978" y="695"/>
                    </a:lnTo>
                    <a:lnTo>
                      <a:pt x="975" y="704"/>
                    </a:lnTo>
                    <a:lnTo>
                      <a:pt x="975" y="711"/>
                    </a:lnTo>
                    <a:lnTo>
                      <a:pt x="973" y="717"/>
                    </a:lnTo>
                    <a:lnTo>
                      <a:pt x="966" y="718"/>
                    </a:lnTo>
                    <a:lnTo>
                      <a:pt x="957" y="720"/>
                    </a:lnTo>
                    <a:lnTo>
                      <a:pt x="951" y="722"/>
                    </a:lnTo>
                    <a:lnTo>
                      <a:pt x="946" y="727"/>
                    </a:lnTo>
                    <a:lnTo>
                      <a:pt x="942" y="740"/>
                    </a:lnTo>
                    <a:lnTo>
                      <a:pt x="943" y="763"/>
                    </a:lnTo>
                    <a:lnTo>
                      <a:pt x="948" y="792"/>
                    </a:lnTo>
                    <a:lnTo>
                      <a:pt x="949" y="819"/>
                    </a:lnTo>
                    <a:lnTo>
                      <a:pt x="942" y="829"/>
                    </a:lnTo>
                    <a:lnTo>
                      <a:pt x="933" y="828"/>
                    </a:lnTo>
                    <a:lnTo>
                      <a:pt x="925" y="824"/>
                    </a:lnTo>
                    <a:lnTo>
                      <a:pt x="921" y="817"/>
                    </a:lnTo>
                    <a:lnTo>
                      <a:pt x="916" y="808"/>
                    </a:lnTo>
                    <a:lnTo>
                      <a:pt x="911" y="797"/>
                    </a:lnTo>
                    <a:lnTo>
                      <a:pt x="908" y="785"/>
                    </a:lnTo>
                    <a:lnTo>
                      <a:pt x="905" y="774"/>
                    </a:lnTo>
                    <a:lnTo>
                      <a:pt x="904" y="770"/>
                    </a:lnTo>
                    <a:lnTo>
                      <a:pt x="901" y="770"/>
                    </a:lnTo>
                    <a:lnTo>
                      <a:pt x="892" y="768"/>
                    </a:lnTo>
                    <a:lnTo>
                      <a:pt x="881" y="768"/>
                    </a:lnTo>
                    <a:lnTo>
                      <a:pt x="872" y="77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Freeform 7"/>
              <p:cNvSpPr/>
              <p:nvPr/>
            </p:nvSpPr>
            <p:spPr>
              <a:xfrm>
                <a:off x="4806000" y="2029680"/>
                <a:ext cx="537480" cy="574560"/>
              </a:xfrm>
              <a:custGeom>
                <a:avLst/>
                <a:gdLst>
                  <a:gd name="textAreaLeft" fmla="*/ 0 w 537480"/>
                  <a:gd name="textAreaRight" fmla="*/ 537840 w 537480"/>
                  <a:gd name="textAreaTop" fmla="*/ 0 h 574560"/>
                  <a:gd name="textAreaBottom" fmla="*/ 574920 h 574560"/>
                </a:gdLst>
                <a:ahLst/>
                <a:rect l="textAreaLeft" t="textAreaTop" r="textAreaRight" b="textAreaBottom"/>
                <a:pathLst>
                  <a:path w="290" h="271">
                    <a:moveTo>
                      <a:pt x="14" y="8"/>
                    </a:moveTo>
                    <a:lnTo>
                      <a:pt x="20" y="4"/>
                    </a:lnTo>
                    <a:lnTo>
                      <a:pt x="27" y="0"/>
                    </a:lnTo>
                    <a:lnTo>
                      <a:pt x="35" y="0"/>
                    </a:lnTo>
                    <a:lnTo>
                      <a:pt x="42" y="0"/>
                    </a:lnTo>
                    <a:lnTo>
                      <a:pt x="50" y="2"/>
                    </a:lnTo>
                    <a:lnTo>
                      <a:pt x="58" y="4"/>
                    </a:lnTo>
                    <a:lnTo>
                      <a:pt x="65" y="6"/>
                    </a:lnTo>
                    <a:lnTo>
                      <a:pt x="74" y="9"/>
                    </a:lnTo>
                    <a:lnTo>
                      <a:pt x="83" y="13"/>
                    </a:lnTo>
                    <a:lnTo>
                      <a:pt x="92" y="17"/>
                    </a:lnTo>
                    <a:lnTo>
                      <a:pt x="103" y="20"/>
                    </a:lnTo>
                    <a:lnTo>
                      <a:pt x="113" y="24"/>
                    </a:lnTo>
                    <a:lnTo>
                      <a:pt x="123" y="29"/>
                    </a:lnTo>
                    <a:lnTo>
                      <a:pt x="132" y="33"/>
                    </a:lnTo>
                    <a:lnTo>
                      <a:pt x="141" y="36"/>
                    </a:lnTo>
                    <a:lnTo>
                      <a:pt x="147" y="38"/>
                    </a:lnTo>
                    <a:lnTo>
                      <a:pt x="154" y="40"/>
                    </a:lnTo>
                    <a:lnTo>
                      <a:pt x="165" y="43"/>
                    </a:lnTo>
                    <a:lnTo>
                      <a:pt x="175" y="47"/>
                    </a:lnTo>
                    <a:lnTo>
                      <a:pt x="187" y="52"/>
                    </a:lnTo>
                    <a:lnTo>
                      <a:pt x="200" y="60"/>
                    </a:lnTo>
                    <a:lnTo>
                      <a:pt x="212" y="65"/>
                    </a:lnTo>
                    <a:lnTo>
                      <a:pt x="221" y="74"/>
                    </a:lnTo>
                    <a:lnTo>
                      <a:pt x="228" y="81"/>
                    </a:lnTo>
                    <a:lnTo>
                      <a:pt x="239" y="101"/>
                    </a:lnTo>
                    <a:lnTo>
                      <a:pt x="248" y="128"/>
                    </a:lnTo>
                    <a:lnTo>
                      <a:pt x="256" y="151"/>
                    </a:lnTo>
                    <a:lnTo>
                      <a:pt x="263" y="163"/>
                    </a:lnTo>
                    <a:lnTo>
                      <a:pt x="271" y="171"/>
                    </a:lnTo>
                    <a:lnTo>
                      <a:pt x="277" y="183"/>
                    </a:lnTo>
                    <a:lnTo>
                      <a:pt x="280" y="197"/>
                    </a:lnTo>
                    <a:lnTo>
                      <a:pt x="281" y="212"/>
                    </a:lnTo>
                    <a:lnTo>
                      <a:pt x="281" y="224"/>
                    </a:lnTo>
                    <a:lnTo>
                      <a:pt x="284" y="235"/>
                    </a:lnTo>
                    <a:lnTo>
                      <a:pt x="287" y="244"/>
                    </a:lnTo>
                    <a:lnTo>
                      <a:pt x="290" y="253"/>
                    </a:lnTo>
                    <a:lnTo>
                      <a:pt x="289" y="258"/>
                    </a:lnTo>
                    <a:lnTo>
                      <a:pt x="283" y="264"/>
                    </a:lnTo>
                    <a:lnTo>
                      <a:pt x="275" y="267"/>
                    </a:lnTo>
                    <a:lnTo>
                      <a:pt x="265" y="269"/>
                    </a:lnTo>
                    <a:lnTo>
                      <a:pt x="254" y="271"/>
                    </a:lnTo>
                    <a:lnTo>
                      <a:pt x="243" y="269"/>
                    </a:lnTo>
                    <a:lnTo>
                      <a:pt x="233" y="264"/>
                    </a:lnTo>
                    <a:lnTo>
                      <a:pt x="225" y="256"/>
                    </a:lnTo>
                    <a:lnTo>
                      <a:pt x="218" y="248"/>
                    </a:lnTo>
                    <a:lnTo>
                      <a:pt x="210" y="239"/>
                    </a:lnTo>
                    <a:lnTo>
                      <a:pt x="201" y="231"/>
                    </a:lnTo>
                    <a:lnTo>
                      <a:pt x="192" y="224"/>
                    </a:lnTo>
                    <a:lnTo>
                      <a:pt x="183" y="219"/>
                    </a:lnTo>
                    <a:lnTo>
                      <a:pt x="174" y="214"/>
                    </a:lnTo>
                    <a:lnTo>
                      <a:pt x="165" y="212"/>
                    </a:lnTo>
                    <a:lnTo>
                      <a:pt x="157" y="210"/>
                    </a:lnTo>
                    <a:lnTo>
                      <a:pt x="142" y="206"/>
                    </a:lnTo>
                    <a:lnTo>
                      <a:pt x="129" y="196"/>
                    </a:lnTo>
                    <a:lnTo>
                      <a:pt x="121" y="185"/>
                    </a:lnTo>
                    <a:lnTo>
                      <a:pt x="121" y="172"/>
                    </a:lnTo>
                    <a:lnTo>
                      <a:pt x="124" y="169"/>
                    </a:lnTo>
                    <a:lnTo>
                      <a:pt x="130" y="165"/>
                    </a:lnTo>
                    <a:lnTo>
                      <a:pt x="136" y="163"/>
                    </a:lnTo>
                    <a:lnTo>
                      <a:pt x="144" y="163"/>
                    </a:lnTo>
                    <a:lnTo>
                      <a:pt x="150" y="162"/>
                    </a:lnTo>
                    <a:lnTo>
                      <a:pt x="157" y="162"/>
                    </a:lnTo>
                    <a:lnTo>
                      <a:pt x="163" y="162"/>
                    </a:lnTo>
                    <a:lnTo>
                      <a:pt x="169" y="160"/>
                    </a:lnTo>
                    <a:lnTo>
                      <a:pt x="172" y="151"/>
                    </a:lnTo>
                    <a:lnTo>
                      <a:pt x="166" y="137"/>
                    </a:lnTo>
                    <a:lnTo>
                      <a:pt x="156" y="122"/>
                    </a:lnTo>
                    <a:lnTo>
                      <a:pt x="145" y="111"/>
                    </a:lnTo>
                    <a:lnTo>
                      <a:pt x="139" y="108"/>
                    </a:lnTo>
                    <a:lnTo>
                      <a:pt x="129" y="106"/>
                    </a:lnTo>
                    <a:lnTo>
                      <a:pt x="116" y="101"/>
                    </a:lnTo>
                    <a:lnTo>
                      <a:pt x="103" y="97"/>
                    </a:lnTo>
                    <a:lnTo>
                      <a:pt x="88" y="94"/>
                    </a:lnTo>
                    <a:lnTo>
                      <a:pt x="74" y="90"/>
                    </a:lnTo>
                    <a:lnTo>
                      <a:pt x="62" y="86"/>
                    </a:lnTo>
                    <a:lnTo>
                      <a:pt x="51" y="83"/>
                    </a:lnTo>
                    <a:lnTo>
                      <a:pt x="42" y="77"/>
                    </a:lnTo>
                    <a:lnTo>
                      <a:pt x="32" y="72"/>
                    </a:lnTo>
                    <a:lnTo>
                      <a:pt x="20" y="63"/>
                    </a:lnTo>
                    <a:lnTo>
                      <a:pt x="11" y="52"/>
                    </a:lnTo>
                    <a:lnTo>
                      <a:pt x="3" y="42"/>
                    </a:lnTo>
                    <a:lnTo>
                      <a:pt x="0" y="31"/>
                    </a:lnTo>
                    <a:lnTo>
                      <a:pt x="3" y="18"/>
                    </a:lnTo>
                    <a:lnTo>
                      <a:pt x="14"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Freeform 8"/>
              <p:cNvSpPr/>
              <p:nvPr/>
            </p:nvSpPr>
            <p:spPr>
              <a:xfrm>
                <a:off x="5145120" y="1374840"/>
                <a:ext cx="1095120" cy="1225800"/>
              </a:xfrm>
              <a:custGeom>
                <a:avLst/>
                <a:gdLst>
                  <a:gd name="textAreaLeft" fmla="*/ 0 w 1095120"/>
                  <a:gd name="textAreaRight" fmla="*/ 1095480 w 1095120"/>
                  <a:gd name="textAreaTop" fmla="*/ 0 h 1225800"/>
                  <a:gd name="textAreaBottom" fmla="*/ 1226160 h 1225800"/>
                </a:gdLst>
                <a:ahLst/>
                <a:rect l="textAreaLeft" t="textAreaTop" r="textAreaRight" b="textAreaBottom"/>
                <a:pathLst>
                  <a:path w="591" h="578">
                    <a:moveTo>
                      <a:pt x="136" y="80"/>
                    </a:moveTo>
                    <a:lnTo>
                      <a:pt x="128" y="82"/>
                    </a:lnTo>
                    <a:lnTo>
                      <a:pt x="122" y="84"/>
                    </a:lnTo>
                    <a:lnTo>
                      <a:pt x="116" y="82"/>
                    </a:lnTo>
                    <a:lnTo>
                      <a:pt x="110" y="82"/>
                    </a:lnTo>
                    <a:lnTo>
                      <a:pt x="104" y="82"/>
                    </a:lnTo>
                    <a:lnTo>
                      <a:pt x="98" y="84"/>
                    </a:lnTo>
                    <a:lnTo>
                      <a:pt x="91" y="89"/>
                    </a:lnTo>
                    <a:lnTo>
                      <a:pt x="83" y="96"/>
                    </a:lnTo>
                    <a:lnTo>
                      <a:pt x="71" y="116"/>
                    </a:lnTo>
                    <a:lnTo>
                      <a:pt x="63" y="132"/>
                    </a:lnTo>
                    <a:lnTo>
                      <a:pt x="56" y="147"/>
                    </a:lnTo>
                    <a:lnTo>
                      <a:pt x="45" y="157"/>
                    </a:lnTo>
                    <a:lnTo>
                      <a:pt x="38" y="163"/>
                    </a:lnTo>
                    <a:lnTo>
                      <a:pt x="30" y="166"/>
                    </a:lnTo>
                    <a:lnTo>
                      <a:pt x="21" y="172"/>
                    </a:lnTo>
                    <a:lnTo>
                      <a:pt x="14" y="177"/>
                    </a:lnTo>
                    <a:lnTo>
                      <a:pt x="6" y="182"/>
                    </a:lnTo>
                    <a:lnTo>
                      <a:pt x="1" y="188"/>
                    </a:lnTo>
                    <a:lnTo>
                      <a:pt x="0" y="193"/>
                    </a:lnTo>
                    <a:lnTo>
                      <a:pt x="1" y="199"/>
                    </a:lnTo>
                    <a:lnTo>
                      <a:pt x="9" y="206"/>
                    </a:lnTo>
                    <a:lnTo>
                      <a:pt x="15" y="209"/>
                    </a:lnTo>
                    <a:lnTo>
                      <a:pt x="20" y="215"/>
                    </a:lnTo>
                    <a:lnTo>
                      <a:pt x="24" y="222"/>
                    </a:lnTo>
                    <a:lnTo>
                      <a:pt x="27" y="233"/>
                    </a:lnTo>
                    <a:lnTo>
                      <a:pt x="35" y="243"/>
                    </a:lnTo>
                    <a:lnTo>
                      <a:pt x="44" y="249"/>
                    </a:lnTo>
                    <a:lnTo>
                      <a:pt x="56" y="241"/>
                    </a:lnTo>
                    <a:lnTo>
                      <a:pt x="68" y="231"/>
                    </a:lnTo>
                    <a:lnTo>
                      <a:pt x="77" y="225"/>
                    </a:lnTo>
                    <a:lnTo>
                      <a:pt x="88" y="224"/>
                    </a:lnTo>
                    <a:lnTo>
                      <a:pt x="98" y="222"/>
                    </a:lnTo>
                    <a:lnTo>
                      <a:pt x="106" y="218"/>
                    </a:lnTo>
                    <a:lnTo>
                      <a:pt x="112" y="216"/>
                    </a:lnTo>
                    <a:lnTo>
                      <a:pt x="116" y="216"/>
                    </a:lnTo>
                    <a:lnTo>
                      <a:pt x="121" y="224"/>
                    </a:lnTo>
                    <a:lnTo>
                      <a:pt x="128" y="236"/>
                    </a:lnTo>
                    <a:lnTo>
                      <a:pt x="137" y="249"/>
                    </a:lnTo>
                    <a:lnTo>
                      <a:pt x="145" y="256"/>
                    </a:lnTo>
                    <a:lnTo>
                      <a:pt x="148" y="259"/>
                    </a:lnTo>
                    <a:lnTo>
                      <a:pt x="148" y="263"/>
                    </a:lnTo>
                    <a:lnTo>
                      <a:pt x="148" y="270"/>
                    </a:lnTo>
                    <a:lnTo>
                      <a:pt x="148" y="281"/>
                    </a:lnTo>
                    <a:lnTo>
                      <a:pt x="150" y="290"/>
                    </a:lnTo>
                    <a:lnTo>
                      <a:pt x="153" y="301"/>
                    </a:lnTo>
                    <a:lnTo>
                      <a:pt x="160" y="311"/>
                    </a:lnTo>
                    <a:lnTo>
                      <a:pt x="171" y="322"/>
                    </a:lnTo>
                    <a:lnTo>
                      <a:pt x="180" y="333"/>
                    </a:lnTo>
                    <a:lnTo>
                      <a:pt x="186" y="344"/>
                    </a:lnTo>
                    <a:lnTo>
                      <a:pt x="189" y="352"/>
                    </a:lnTo>
                    <a:lnTo>
                      <a:pt x="190" y="365"/>
                    </a:lnTo>
                    <a:lnTo>
                      <a:pt x="192" y="379"/>
                    </a:lnTo>
                    <a:lnTo>
                      <a:pt x="193" y="397"/>
                    </a:lnTo>
                    <a:lnTo>
                      <a:pt x="195" y="417"/>
                    </a:lnTo>
                    <a:lnTo>
                      <a:pt x="195" y="435"/>
                    </a:lnTo>
                    <a:lnTo>
                      <a:pt x="193" y="446"/>
                    </a:lnTo>
                    <a:lnTo>
                      <a:pt x="189" y="456"/>
                    </a:lnTo>
                    <a:lnTo>
                      <a:pt x="184" y="467"/>
                    </a:lnTo>
                    <a:lnTo>
                      <a:pt x="181" y="478"/>
                    </a:lnTo>
                    <a:lnTo>
                      <a:pt x="180" y="489"/>
                    </a:lnTo>
                    <a:lnTo>
                      <a:pt x="181" y="497"/>
                    </a:lnTo>
                    <a:lnTo>
                      <a:pt x="186" y="503"/>
                    </a:lnTo>
                    <a:lnTo>
                      <a:pt x="190" y="506"/>
                    </a:lnTo>
                    <a:lnTo>
                      <a:pt x="193" y="514"/>
                    </a:lnTo>
                    <a:lnTo>
                      <a:pt x="195" y="524"/>
                    </a:lnTo>
                    <a:lnTo>
                      <a:pt x="196" y="535"/>
                    </a:lnTo>
                    <a:lnTo>
                      <a:pt x="201" y="546"/>
                    </a:lnTo>
                    <a:lnTo>
                      <a:pt x="207" y="555"/>
                    </a:lnTo>
                    <a:lnTo>
                      <a:pt x="213" y="558"/>
                    </a:lnTo>
                    <a:lnTo>
                      <a:pt x="221" y="564"/>
                    </a:lnTo>
                    <a:lnTo>
                      <a:pt x="230" y="569"/>
                    </a:lnTo>
                    <a:lnTo>
                      <a:pt x="240" y="574"/>
                    </a:lnTo>
                    <a:lnTo>
                      <a:pt x="251" y="578"/>
                    </a:lnTo>
                    <a:lnTo>
                      <a:pt x="260" y="578"/>
                    </a:lnTo>
                    <a:lnTo>
                      <a:pt x="267" y="578"/>
                    </a:lnTo>
                    <a:lnTo>
                      <a:pt x="274" y="573"/>
                    </a:lnTo>
                    <a:lnTo>
                      <a:pt x="278" y="565"/>
                    </a:lnTo>
                    <a:lnTo>
                      <a:pt x="284" y="557"/>
                    </a:lnTo>
                    <a:lnTo>
                      <a:pt x="293" y="548"/>
                    </a:lnTo>
                    <a:lnTo>
                      <a:pt x="302" y="539"/>
                    </a:lnTo>
                    <a:lnTo>
                      <a:pt x="311" y="528"/>
                    </a:lnTo>
                    <a:lnTo>
                      <a:pt x="320" y="517"/>
                    </a:lnTo>
                    <a:lnTo>
                      <a:pt x="329" y="508"/>
                    </a:lnTo>
                    <a:lnTo>
                      <a:pt x="337" y="499"/>
                    </a:lnTo>
                    <a:lnTo>
                      <a:pt x="343" y="490"/>
                    </a:lnTo>
                    <a:lnTo>
                      <a:pt x="349" y="481"/>
                    </a:lnTo>
                    <a:lnTo>
                      <a:pt x="355" y="471"/>
                    </a:lnTo>
                    <a:lnTo>
                      <a:pt x="361" y="460"/>
                    </a:lnTo>
                    <a:lnTo>
                      <a:pt x="367" y="449"/>
                    </a:lnTo>
                    <a:lnTo>
                      <a:pt x="373" y="440"/>
                    </a:lnTo>
                    <a:lnTo>
                      <a:pt x="381" y="433"/>
                    </a:lnTo>
                    <a:lnTo>
                      <a:pt x="388" y="429"/>
                    </a:lnTo>
                    <a:lnTo>
                      <a:pt x="396" y="428"/>
                    </a:lnTo>
                    <a:lnTo>
                      <a:pt x="405" y="426"/>
                    </a:lnTo>
                    <a:lnTo>
                      <a:pt x="413" y="424"/>
                    </a:lnTo>
                    <a:lnTo>
                      <a:pt x="420" y="422"/>
                    </a:lnTo>
                    <a:lnTo>
                      <a:pt x="426" y="420"/>
                    </a:lnTo>
                    <a:lnTo>
                      <a:pt x="434" y="417"/>
                    </a:lnTo>
                    <a:lnTo>
                      <a:pt x="440" y="413"/>
                    </a:lnTo>
                    <a:lnTo>
                      <a:pt x="444" y="410"/>
                    </a:lnTo>
                    <a:lnTo>
                      <a:pt x="453" y="403"/>
                    </a:lnTo>
                    <a:lnTo>
                      <a:pt x="461" y="397"/>
                    </a:lnTo>
                    <a:lnTo>
                      <a:pt x="467" y="392"/>
                    </a:lnTo>
                    <a:lnTo>
                      <a:pt x="476" y="386"/>
                    </a:lnTo>
                    <a:lnTo>
                      <a:pt x="484" y="379"/>
                    </a:lnTo>
                    <a:lnTo>
                      <a:pt x="490" y="370"/>
                    </a:lnTo>
                    <a:lnTo>
                      <a:pt x="494" y="363"/>
                    </a:lnTo>
                    <a:lnTo>
                      <a:pt x="494" y="356"/>
                    </a:lnTo>
                    <a:lnTo>
                      <a:pt x="491" y="351"/>
                    </a:lnTo>
                    <a:lnTo>
                      <a:pt x="485" y="345"/>
                    </a:lnTo>
                    <a:lnTo>
                      <a:pt x="479" y="340"/>
                    </a:lnTo>
                    <a:lnTo>
                      <a:pt x="475" y="338"/>
                    </a:lnTo>
                    <a:lnTo>
                      <a:pt x="468" y="336"/>
                    </a:lnTo>
                    <a:lnTo>
                      <a:pt x="459" y="333"/>
                    </a:lnTo>
                    <a:lnTo>
                      <a:pt x="453" y="329"/>
                    </a:lnTo>
                    <a:lnTo>
                      <a:pt x="453" y="320"/>
                    </a:lnTo>
                    <a:lnTo>
                      <a:pt x="458" y="309"/>
                    </a:lnTo>
                    <a:lnTo>
                      <a:pt x="462" y="299"/>
                    </a:lnTo>
                    <a:lnTo>
                      <a:pt x="467" y="293"/>
                    </a:lnTo>
                    <a:lnTo>
                      <a:pt x="475" y="295"/>
                    </a:lnTo>
                    <a:lnTo>
                      <a:pt x="484" y="299"/>
                    </a:lnTo>
                    <a:lnTo>
                      <a:pt x="496" y="301"/>
                    </a:lnTo>
                    <a:lnTo>
                      <a:pt x="505" y="302"/>
                    </a:lnTo>
                    <a:lnTo>
                      <a:pt x="509" y="302"/>
                    </a:lnTo>
                    <a:lnTo>
                      <a:pt x="511" y="301"/>
                    </a:lnTo>
                    <a:lnTo>
                      <a:pt x="514" y="295"/>
                    </a:lnTo>
                    <a:lnTo>
                      <a:pt x="515" y="286"/>
                    </a:lnTo>
                    <a:lnTo>
                      <a:pt x="518" y="272"/>
                    </a:lnTo>
                    <a:lnTo>
                      <a:pt x="521" y="258"/>
                    </a:lnTo>
                    <a:lnTo>
                      <a:pt x="523" y="245"/>
                    </a:lnTo>
                    <a:lnTo>
                      <a:pt x="521" y="234"/>
                    </a:lnTo>
                    <a:lnTo>
                      <a:pt x="520" y="222"/>
                    </a:lnTo>
                    <a:lnTo>
                      <a:pt x="517" y="207"/>
                    </a:lnTo>
                    <a:lnTo>
                      <a:pt x="517" y="190"/>
                    </a:lnTo>
                    <a:lnTo>
                      <a:pt x="520" y="170"/>
                    </a:lnTo>
                    <a:lnTo>
                      <a:pt x="526" y="154"/>
                    </a:lnTo>
                    <a:lnTo>
                      <a:pt x="530" y="141"/>
                    </a:lnTo>
                    <a:lnTo>
                      <a:pt x="536" y="132"/>
                    </a:lnTo>
                    <a:lnTo>
                      <a:pt x="544" y="123"/>
                    </a:lnTo>
                    <a:lnTo>
                      <a:pt x="549" y="118"/>
                    </a:lnTo>
                    <a:lnTo>
                      <a:pt x="555" y="113"/>
                    </a:lnTo>
                    <a:lnTo>
                      <a:pt x="561" y="107"/>
                    </a:lnTo>
                    <a:lnTo>
                      <a:pt x="568" y="102"/>
                    </a:lnTo>
                    <a:lnTo>
                      <a:pt x="574" y="96"/>
                    </a:lnTo>
                    <a:lnTo>
                      <a:pt x="580" y="91"/>
                    </a:lnTo>
                    <a:lnTo>
                      <a:pt x="586" y="84"/>
                    </a:lnTo>
                    <a:lnTo>
                      <a:pt x="589" y="79"/>
                    </a:lnTo>
                    <a:lnTo>
                      <a:pt x="591" y="68"/>
                    </a:lnTo>
                    <a:lnTo>
                      <a:pt x="586" y="62"/>
                    </a:lnTo>
                    <a:lnTo>
                      <a:pt x="579" y="62"/>
                    </a:lnTo>
                    <a:lnTo>
                      <a:pt x="570" y="64"/>
                    </a:lnTo>
                    <a:lnTo>
                      <a:pt x="561" y="64"/>
                    </a:lnTo>
                    <a:lnTo>
                      <a:pt x="550" y="62"/>
                    </a:lnTo>
                    <a:lnTo>
                      <a:pt x="540" y="61"/>
                    </a:lnTo>
                    <a:lnTo>
                      <a:pt x="532" y="59"/>
                    </a:lnTo>
                    <a:lnTo>
                      <a:pt x="524" y="59"/>
                    </a:lnTo>
                    <a:lnTo>
                      <a:pt x="518" y="59"/>
                    </a:lnTo>
                    <a:lnTo>
                      <a:pt x="514" y="64"/>
                    </a:lnTo>
                    <a:lnTo>
                      <a:pt x="509" y="71"/>
                    </a:lnTo>
                    <a:lnTo>
                      <a:pt x="506" y="75"/>
                    </a:lnTo>
                    <a:lnTo>
                      <a:pt x="502" y="77"/>
                    </a:lnTo>
                    <a:lnTo>
                      <a:pt x="496" y="79"/>
                    </a:lnTo>
                    <a:lnTo>
                      <a:pt x="490" y="80"/>
                    </a:lnTo>
                    <a:lnTo>
                      <a:pt x="482" y="80"/>
                    </a:lnTo>
                    <a:lnTo>
                      <a:pt x="476" y="80"/>
                    </a:lnTo>
                    <a:lnTo>
                      <a:pt x="468" y="80"/>
                    </a:lnTo>
                    <a:lnTo>
                      <a:pt x="462" y="80"/>
                    </a:lnTo>
                    <a:lnTo>
                      <a:pt x="450" y="79"/>
                    </a:lnTo>
                    <a:lnTo>
                      <a:pt x="438" y="77"/>
                    </a:lnTo>
                    <a:lnTo>
                      <a:pt x="428" y="75"/>
                    </a:lnTo>
                    <a:lnTo>
                      <a:pt x="419" y="75"/>
                    </a:lnTo>
                    <a:lnTo>
                      <a:pt x="414" y="75"/>
                    </a:lnTo>
                    <a:lnTo>
                      <a:pt x="417" y="73"/>
                    </a:lnTo>
                    <a:lnTo>
                      <a:pt x="425" y="70"/>
                    </a:lnTo>
                    <a:lnTo>
                      <a:pt x="434" y="61"/>
                    </a:lnTo>
                    <a:lnTo>
                      <a:pt x="443" y="52"/>
                    </a:lnTo>
                    <a:lnTo>
                      <a:pt x="452" y="46"/>
                    </a:lnTo>
                    <a:lnTo>
                      <a:pt x="461" y="45"/>
                    </a:lnTo>
                    <a:lnTo>
                      <a:pt x="470" y="43"/>
                    </a:lnTo>
                    <a:lnTo>
                      <a:pt x="481" y="43"/>
                    </a:lnTo>
                    <a:lnTo>
                      <a:pt x="494" y="45"/>
                    </a:lnTo>
                    <a:lnTo>
                      <a:pt x="505" y="48"/>
                    </a:lnTo>
                    <a:lnTo>
                      <a:pt x="509" y="48"/>
                    </a:lnTo>
                    <a:lnTo>
                      <a:pt x="502" y="34"/>
                    </a:lnTo>
                    <a:lnTo>
                      <a:pt x="491" y="19"/>
                    </a:lnTo>
                    <a:lnTo>
                      <a:pt x="481" y="11"/>
                    </a:lnTo>
                    <a:lnTo>
                      <a:pt x="472" y="5"/>
                    </a:lnTo>
                    <a:lnTo>
                      <a:pt x="467" y="3"/>
                    </a:lnTo>
                    <a:lnTo>
                      <a:pt x="459" y="3"/>
                    </a:lnTo>
                    <a:lnTo>
                      <a:pt x="452" y="2"/>
                    </a:lnTo>
                    <a:lnTo>
                      <a:pt x="443" y="0"/>
                    </a:lnTo>
                    <a:lnTo>
                      <a:pt x="434" y="0"/>
                    </a:lnTo>
                    <a:lnTo>
                      <a:pt x="423" y="0"/>
                    </a:lnTo>
                    <a:lnTo>
                      <a:pt x="413" y="0"/>
                    </a:lnTo>
                    <a:lnTo>
                      <a:pt x="402" y="2"/>
                    </a:lnTo>
                    <a:lnTo>
                      <a:pt x="391" y="3"/>
                    </a:lnTo>
                    <a:lnTo>
                      <a:pt x="381" y="5"/>
                    </a:lnTo>
                    <a:lnTo>
                      <a:pt x="369" y="5"/>
                    </a:lnTo>
                    <a:lnTo>
                      <a:pt x="358" y="5"/>
                    </a:lnTo>
                    <a:lnTo>
                      <a:pt x="348" y="7"/>
                    </a:lnTo>
                    <a:lnTo>
                      <a:pt x="339" y="7"/>
                    </a:lnTo>
                    <a:lnTo>
                      <a:pt x="331" y="7"/>
                    </a:lnTo>
                    <a:lnTo>
                      <a:pt x="325" y="9"/>
                    </a:lnTo>
                    <a:lnTo>
                      <a:pt x="314" y="14"/>
                    </a:lnTo>
                    <a:lnTo>
                      <a:pt x="305" y="19"/>
                    </a:lnTo>
                    <a:lnTo>
                      <a:pt x="296" y="25"/>
                    </a:lnTo>
                    <a:lnTo>
                      <a:pt x="287" y="27"/>
                    </a:lnTo>
                    <a:lnTo>
                      <a:pt x="280" y="27"/>
                    </a:lnTo>
                    <a:lnTo>
                      <a:pt x="275" y="28"/>
                    </a:lnTo>
                    <a:lnTo>
                      <a:pt x="270" y="32"/>
                    </a:lnTo>
                    <a:lnTo>
                      <a:pt x="263" y="36"/>
                    </a:lnTo>
                    <a:lnTo>
                      <a:pt x="258" y="41"/>
                    </a:lnTo>
                    <a:lnTo>
                      <a:pt x="260" y="46"/>
                    </a:lnTo>
                    <a:lnTo>
                      <a:pt x="264" y="55"/>
                    </a:lnTo>
                    <a:lnTo>
                      <a:pt x="267" y="64"/>
                    </a:lnTo>
                    <a:lnTo>
                      <a:pt x="266" y="70"/>
                    </a:lnTo>
                    <a:lnTo>
                      <a:pt x="260" y="70"/>
                    </a:lnTo>
                    <a:lnTo>
                      <a:pt x="251" y="70"/>
                    </a:lnTo>
                    <a:lnTo>
                      <a:pt x="240" y="71"/>
                    </a:lnTo>
                    <a:lnTo>
                      <a:pt x="230" y="75"/>
                    </a:lnTo>
                    <a:lnTo>
                      <a:pt x="222" y="75"/>
                    </a:lnTo>
                    <a:lnTo>
                      <a:pt x="215" y="75"/>
                    </a:lnTo>
                    <a:lnTo>
                      <a:pt x="209" y="73"/>
                    </a:lnTo>
                    <a:lnTo>
                      <a:pt x="201" y="73"/>
                    </a:lnTo>
                    <a:lnTo>
                      <a:pt x="190" y="75"/>
                    </a:lnTo>
                    <a:lnTo>
                      <a:pt x="181" y="77"/>
                    </a:lnTo>
                    <a:lnTo>
                      <a:pt x="177" y="79"/>
                    </a:lnTo>
                    <a:lnTo>
                      <a:pt x="172" y="79"/>
                    </a:lnTo>
                    <a:lnTo>
                      <a:pt x="162" y="77"/>
                    </a:lnTo>
                    <a:lnTo>
                      <a:pt x="148" y="77"/>
                    </a:lnTo>
                    <a:lnTo>
                      <a:pt x="136" y="8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Freeform 9"/>
              <p:cNvSpPr/>
              <p:nvPr/>
            </p:nvSpPr>
            <p:spPr>
              <a:xfrm>
                <a:off x="4761360" y="1452960"/>
                <a:ext cx="591120" cy="415440"/>
              </a:xfrm>
              <a:custGeom>
                <a:avLst/>
                <a:gdLst>
                  <a:gd name="textAreaLeft" fmla="*/ 0 w 591120"/>
                  <a:gd name="textAreaRight" fmla="*/ 591480 w 591120"/>
                  <a:gd name="textAreaTop" fmla="*/ 0 h 415440"/>
                  <a:gd name="textAreaBottom" fmla="*/ 415800 h 415440"/>
                </a:gdLst>
                <a:ahLst/>
                <a:rect l="textAreaLeft" t="textAreaTop" r="textAreaRight" b="textAreaBottom"/>
                <a:pathLst>
                  <a:path w="319" h="196">
                    <a:moveTo>
                      <a:pt x="319" y="20"/>
                    </a:moveTo>
                    <a:lnTo>
                      <a:pt x="317" y="18"/>
                    </a:lnTo>
                    <a:lnTo>
                      <a:pt x="308" y="18"/>
                    </a:lnTo>
                    <a:lnTo>
                      <a:pt x="293" y="18"/>
                    </a:lnTo>
                    <a:lnTo>
                      <a:pt x="276" y="18"/>
                    </a:lnTo>
                    <a:lnTo>
                      <a:pt x="258" y="16"/>
                    </a:lnTo>
                    <a:lnTo>
                      <a:pt x="242" y="16"/>
                    </a:lnTo>
                    <a:lnTo>
                      <a:pt x="227" y="15"/>
                    </a:lnTo>
                    <a:lnTo>
                      <a:pt x="218" y="13"/>
                    </a:lnTo>
                    <a:lnTo>
                      <a:pt x="208" y="9"/>
                    </a:lnTo>
                    <a:lnTo>
                      <a:pt x="195" y="8"/>
                    </a:lnTo>
                    <a:lnTo>
                      <a:pt x="178" y="4"/>
                    </a:lnTo>
                    <a:lnTo>
                      <a:pt x="160" y="2"/>
                    </a:lnTo>
                    <a:lnTo>
                      <a:pt x="142" y="0"/>
                    </a:lnTo>
                    <a:lnTo>
                      <a:pt x="127" y="2"/>
                    </a:lnTo>
                    <a:lnTo>
                      <a:pt x="113" y="4"/>
                    </a:lnTo>
                    <a:lnTo>
                      <a:pt x="104" y="8"/>
                    </a:lnTo>
                    <a:lnTo>
                      <a:pt x="97" y="13"/>
                    </a:lnTo>
                    <a:lnTo>
                      <a:pt x="88" y="16"/>
                    </a:lnTo>
                    <a:lnTo>
                      <a:pt x="78" y="18"/>
                    </a:lnTo>
                    <a:lnTo>
                      <a:pt x="69" y="20"/>
                    </a:lnTo>
                    <a:lnTo>
                      <a:pt x="60" y="24"/>
                    </a:lnTo>
                    <a:lnTo>
                      <a:pt x="51" y="25"/>
                    </a:lnTo>
                    <a:lnTo>
                      <a:pt x="44" y="27"/>
                    </a:lnTo>
                    <a:lnTo>
                      <a:pt x="38" y="29"/>
                    </a:lnTo>
                    <a:lnTo>
                      <a:pt x="27" y="33"/>
                    </a:lnTo>
                    <a:lnTo>
                      <a:pt x="15" y="33"/>
                    </a:lnTo>
                    <a:lnTo>
                      <a:pt x="6" y="33"/>
                    </a:lnTo>
                    <a:lnTo>
                      <a:pt x="0" y="38"/>
                    </a:lnTo>
                    <a:lnTo>
                      <a:pt x="1" y="47"/>
                    </a:lnTo>
                    <a:lnTo>
                      <a:pt x="7" y="54"/>
                    </a:lnTo>
                    <a:lnTo>
                      <a:pt x="17" y="59"/>
                    </a:lnTo>
                    <a:lnTo>
                      <a:pt x="24" y="65"/>
                    </a:lnTo>
                    <a:lnTo>
                      <a:pt x="32" y="68"/>
                    </a:lnTo>
                    <a:lnTo>
                      <a:pt x="41" y="70"/>
                    </a:lnTo>
                    <a:lnTo>
                      <a:pt x="51" y="74"/>
                    </a:lnTo>
                    <a:lnTo>
                      <a:pt x="60" y="79"/>
                    </a:lnTo>
                    <a:lnTo>
                      <a:pt x="69" y="88"/>
                    </a:lnTo>
                    <a:lnTo>
                      <a:pt x="77" y="99"/>
                    </a:lnTo>
                    <a:lnTo>
                      <a:pt x="78" y="110"/>
                    </a:lnTo>
                    <a:lnTo>
                      <a:pt x="69" y="119"/>
                    </a:lnTo>
                    <a:lnTo>
                      <a:pt x="56" y="127"/>
                    </a:lnTo>
                    <a:lnTo>
                      <a:pt x="48" y="140"/>
                    </a:lnTo>
                    <a:lnTo>
                      <a:pt x="44" y="151"/>
                    </a:lnTo>
                    <a:lnTo>
                      <a:pt x="42" y="156"/>
                    </a:lnTo>
                    <a:lnTo>
                      <a:pt x="39" y="187"/>
                    </a:lnTo>
                    <a:lnTo>
                      <a:pt x="80" y="187"/>
                    </a:lnTo>
                    <a:lnTo>
                      <a:pt x="83" y="188"/>
                    </a:lnTo>
                    <a:lnTo>
                      <a:pt x="89" y="192"/>
                    </a:lnTo>
                    <a:lnTo>
                      <a:pt x="97" y="196"/>
                    </a:lnTo>
                    <a:lnTo>
                      <a:pt x="104" y="194"/>
                    </a:lnTo>
                    <a:lnTo>
                      <a:pt x="109" y="190"/>
                    </a:lnTo>
                    <a:lnTo>
                      <a:pt x="115" y="187"/>
                    </a:lnTo>
                    <a:lnTo>
                      <a:pt x="122" y="181"/>
                    </a:lnTo>
                    <a:lnTo>
                      <a:pt x="130" y="174"/>
                    </a:lnTo>
                    <a:lnTo>
                      <a:pt x="139" y="169"/>
                    </a:lnTo>
                    <a:lnTo>
                      <a:pt x="145" y="163"/>
                    </a:lnTo>
                    <a:lnTo>
                      <a:pt x="150" y="158"/>
                    </a:lnTo>
                    <a:lnTo>
                      <a:pt x="151" y="154"/>
                    </a:lnTo>
                    <a:lnTo>
                      <a:pt x="151" y="147"/>
                    </a:lnTo>
                    <a:lnTo>
                      <a:pt x="150" y="138"/>
                    </a:lnTo>
                    <a:lnTo>
                      <a:pt x="151" y="127"/>
                    </a:lnTo>
                    <a:lnTo>
                      <a:pt x="153" y="117"/>
                    </a:lnTo>
                    <a:lnTo>
                      <a:pt x="157" y="104"/>
                    </a:lnTo>
                    <a:lnTo>
                      <a:pt x="163" y="92"/>
                    </a:lnTo>
                    <a:lnTo>
                      <a:pt x="169" y="85"/>
                    </a:lnTo>
                    <a:lnTo>
                      <a:pt x="177" y="83"/>
                    </a:lnTo>
                    <a:lnTo>
                      <a:pt x="186" y="88"/>
                    </a:lnTo>
                    <a:lnTo>
                      <a:pt x="193" y="97"/>
                    </a:lnTo>
                    <a:lnTo>
                      <a:pt x="199" y="106"/>
                    </a:lnTo>
                    <a:lnTo>
                      <a:pt x="202" y="117"/>
                    </a:lnTo>
                    <a:lnTo>
                      <a:pt x="204" y="124"/>
                    </a:lnTo>
                    <a:lnTo>
                      <a:pt x="207" y="127"/>
                    </a:lnTo>
                    <a:lnTo>
                      <a:pt x="213" y="129"/>
                    </a:lnTo>
                    <a:lnTo>
                      <a:pt x="224" y="124"/>
                    </a:lnTo>
                    <a:lnTo>
                      <a:pt x="233" y="117"/>
                    </a:lnTo>
                    <a:lnTo>
                      <a:pt x="240" y="106"/>
                    </a:lnTo>
                    <a:lnTo>
                      <a:pt x="249" y="92"/>
                    </a:lnTo>
                    <a:lnTo>
                      <a:pt x="260" y="77"/>
                    </a:lnTo>
                    <a:lnTo>
                      <a:pt x="270" y="61"/>
                    </a:lnTo>
                    <a:lnTo>
                      <a:pt x="284" y="45"/>
                    </a:lnTo>
                    <a:lnTo>
                      <a:pt x="301" y="31"/>
                    </a:lnTo>
                    <a:lnTo>
                      <a:pt x="319" y="2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10"/>
              <p:cNvSpPr/>
              <p:nvPr/>
            </p:nvSpPr>
            <p:spPr>
              <a:xfrm>
                <a:off x="4240440" y="2095560"/>
                <a:ext cx="296280" cy="207720"/>
              </a:xfrm>
              <a:custGeom>
                <a:avLst/>
                <a:gdLst>
                  <a:gd name="textAreaLeft" fmla="*/ 0 w 296280"/>
                  <a:gd name="textAreaRight" fmla="*/ 296640 w 296280"/>
                  <a:gd name="textAreaTop" fmla="*/ 0 h 207720"/>
                  <a:gd name="textAreaBottom" fmla="*/ 208080 h 207720"/>
                </a:gdLst>
                <a:ahLst/>
                <a:rect l="textAreaLeft" t="textAreaTop" r="textAreaRight" b="textAreaBottom"/>
                <a:pathLst>
                  <a:path w="160" h="98">
                    <a:moveTo>
                      <a:pt x="16" y="7"/>
                    </a:moveTo>
                    <a:lnTo>
                      <a:pt x="24" y="4"/>
                    </a:lnTo>
                    <a:lnTo>
                      <a:pt x="33" y="0"/>
                    </a:lnTo>
                    <a:lnTo>
                      <a:pt x="44" y="0"/>
                    </a:lnTo>
                    <a:lnTo>
                      <a:pt x="53" y="0"/>
                    </a:lnTo>
                    <a:lnTo>
                      <a:pt x="63" y="2"/>
                    </a:lnTo>
                    <a:lnTo>
                      <a:pt x="71" y="4"/>
                    </a:lnTo>
                    <a:lnTo>
                      <a:pt x="78" y="7"/>
                    </a:lnTo>
                    <a:lnTo>
                      <a:pt x="84" y="11"/>
                    </a:lnTo>
                    <a:lnTo>
                      <a:pt x="89" y="14"/>
                    </a:lnTo>
                    <a:lnTo>
                      <a:pt x="93" y="20"/>
                    </a:lnTo>
                    <a:lnTo>
                      <a:pt x="98" y="23"/>
                    </a:lnTo>
                    <a:lnTo>
                      <a:pt x="104" y="27"/>
                    </a:lnTo>
                    <a:lnTo>
                      <a:pt x="110" y="30"/>
                    </a:lnTo>
                    <a:lnTo>
                      <a:pt x="118" y="34"/>
                    </a:lnTo>
                    <a:lnTo>
                      <a:pt x="124" y="36"/>
                    </a:lnTo>
                    <a:lnTo>
                      <a:pt x="131" y="36"/>
                    </a:lnTo>
                    <a:lnTo>
                      <a:pt x="143" y="41"/>
                    </a:lnTo>
                    <a:lnTo>
                      <a:pt x="152" y="54"/>
                    </a:lnTo>
                    <a:lnTo>
                      <a:pt x="158" y="68"/>
                    </a:lnTo>
                    <a:lnTo>
                      <a:pt x="160" y="73"/>
                    </a:lnTo>
                    <a:lnTo>
                      <a:pt x="158" y="73"/>
                    </a:lnTo>
                    <a:lnTo>
                      <a:pt x="155" y="75"/>
                    </a:lnTo>
                    <a:lnTo>
                      <a:pt x="149" y="77"/>
                    </a:lnTo>
                    <a:lnTo>
                      <a:pt x="143" y="80"/>
                    </a:lnTo>
                    <a:lnTo>
                      <a:pt x="136" y="82"/>
                    </a:lnTo>
                    <a:lnTo>
                      <a:pt x="127" y="82"/>
                    </a:lnTo>
                    <a:lnTo>
                      <a:pt x="119" y="84"/>
                    </a:lnTo>
                    <a:lnTo>
                      <a:pt x="112" y="82"/>
                    </a:lnTo>
                    <a:lnTo>
                      <a:pt x="104" y="80"/>
                    </a:lnTo>
                    <a:lnTo>
                      <a:pt x="95" y="82"/>
                    </a:lnTo>
                    <a:lnTo>
                      <a:pt x="86" y="84"/>
                    </a:lnTo>
                    <a:lnTo>
                      <a:pt x="77" y="88"/>
                    </a:lnTo>
                    <a:lnTo>
                      <a:pt x="68" y="91"/>
                    </a:lnTo>
                    <a:lnTo>
                      <a:pt x="62" y="93"/>
                    </a:lnTo>
                    <a:lnTo>
                      <a:pt x="57" y="97"/>
                    </a:lnTo>
                    <a:lnTo>
                      <a:pt x="56" y="97"/>
                    </a:lnTo>
                    <a:lnTo>
                      <a:pt x="48" y="98"/>
                    </a:lnTo>
                    <a:lnTo>
                      <a:pt x="35" y="98"/>
                    </a:lnTo>
                    <a:lnTo>
                      <a:pt x="19" y="98"/>
                    </a:lnTo>
                    <a:lnTo>
                      <a:pt x="12" y="91"/>
                    </a:lnTo>
                    <a:lnTo>
                      <a:pt x="15" y="79"/>
                    </a:lnTo>
                    <a:lnTo>
                      <a:pt x="22" y="64"/>
                    </a:lnTo>
                    <a:lnTo>
                      <a:pt x="29" y="54"/>
                    </a:lnTo>
                    <a:lnTo>
                      <a:pt x="32" y="50"/>
                    </a:lnTo>
                    <a:lnTo>
                      <a:pt x="0" y="25"/>
                    </a:lnTo>
                    <a:lnTo>
                      <a:pt x="1" y="21"/>
                    </a:lnTo>
                    <a:lnTo>
                      <a:pt x="6" y="16"/>
                    </a:lnTo>
                    <a:lnTo>
                      <a:pt x="16" y="7"/>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Freeform 11"/>
              <p:cNvSpPr/>
              <p:nvPr/>
            </p:nvSpPr>
            <p:spPr>
              <a:xfrm>
                <a:off x="6019560" y="2331360"/>
                <a:ext cx="227880" cy="162720"/>
              </a:xfrm>
              <a:custGeom>
                <a:avLst/>
                <a:gdLst>
                  <a:gd name="textAreaLeft" fmla="*/ 0 w 227880"/>
                  <a:gd name="textAreaRight" fmla="*/ 228240 w 227880"/>
                  <a:gd name="textAreaTop" fmla="*/ 0 h 162720"/>
                  <a:gd name="textAreaBottom" fmla="*/ 163080 h 162720"/>
                </a:gdLst>
                <a:ahLst/>
                <a:rect l="textAreaLeft" t="textAreaTop" r="textAreaRight" b="textAreaBottom"/>
                <a:pathLst>
                  <a:path w="123" h="77">
                    <a:moveTo>
                      <a:pt x="48" y="23"/>
                    </a:moveTo>
                    <a:lnTo>
                      <a:pt x="49" y="32"/>
                    </a:lnTo>
                    <a:lnTo>
                      <a:pt x="55" y="34"/>
                    </a:lnTo>
                    <a:lnTo>
                      <a:pt x="64" y="30"/>
                    </a:lnTo>
                    <a:lnTo>
                      <a:pt x="74" y="23"/>
                    </a:lnTo>
                    <a:lnTo>
                      <a:pt x="84" y="16"/>
                    </a:lnTo>
                    <a:lnTo>
                      <a:pt x="95" y="7"/>
                    </a:lnTo>
                    <a:lnTo>
                      <a:pt x="104" y="4"/>
                    </a:lnTo>
                    <a:lnTo>
                      <a:pt x="111" y="4"/>
                    </a:lnTo>
                    <a:lnTo>
                      <a:pt x="120" y="16"/>
                    </a:lnTo>
                    <a:lnTo>
                      <a:pt x="123" y="34"/>
                    </a:lnTo>
                    <a:lnTo>
                      <a:pt x="123" y="48"/>
                    </a:lnTo>
                    <a:lnTo>
                      <a:pt x="123" y="55"/>
                    </a:lnTo>
                    <a:lnTo>
                      <a:pt x="120" y="59"/>
                    </a:lnTo>
                    <a:lnTo>
                      <a:pt x="113" y="64"/>
                    </a:lnTo>
                    <a:lnTo>
                      <a:pt x="99" y="72"/>
                    </a:lnTo>
                    <a:lnTo>
                      <a:pt x="84" y="75"/>
                    </a:lnTo>
                    <a:lnTo>
                      <a:pt x="75" y="75"/>
                    </a:lnTo>
                    <a:lnTo>
                      <a:pt x="66" y="75"/>
                    </a:lnTo>
                    <a:lnTo>
                      <a:pt x="57" y="77"/>
                    </a:lnTo>
                    <a:lnTo>
                      <a:pt x="48" y="75"/>
                    </a:lnTo>
                    <a:lnTo>
                      <a:pt x="40" y="75"/>
                    </a:lnTo>
                    <a:lnTo>
                      <a:pt x="34" y="73"/>
                    </a:lnTo>
                    <a:lnTo>
                      <a:pt x="31" y="72"/>
                    </a:lnTo>
                    <a:lnTo>
                      <a:pt x="28" y="66"/>
                    </a:lnTo>
                    <a:lnTo>
                      <a:pt x="22" y="57"/>
                    </a:lnTo>
                    <a:lnTo>
                      <a:pt x="12" y="48"/>
                    </a:lnTo>
                    <a:lnTo>
                      <a:pt x="4" y="45"/>
                    </a:lnTo>
                    <a:lnTo>
                      <a:pt x="0" y="43"/>
                    </a:lnTo>
                    <a:lnTo>
                      <a:pt x="0" y="38"/>
                    </a:lnTo>
                    <a:lnTo>
                      <a:pt x="1" y="23"/>
                    </a:lnTo>
                    <a:lnTo>
                      <a:pt x="7" y="9"/>
                    </a:lnTo>
                    <a:lnTo>
                      <a:pt x="16" y="0"/>
                    </a:lnTo>
                    <a:lnTo>
                      <a:pt x="28" y="0"/>
                    </a:lnTo>
                    <a:lnTo>
                      <a:pt x="37" y="4"/>
                    </a:lnTo>
                    <a:lnTo>
                      <a:pt x="45" y="12"/>
                    </a:lnTo>
                    <a:lnTo>
                      <a:pt x="48" y="2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Freeform 12"/>
              <p:cNvSpPr/>
              <p:nvPr/>
            </p:nvSpPr>
            <p:spPr>
              <a:xfrm>
                <a:off x="4948200" y="4004280"/>
                <a:ext cx="213480" cy="144000"/>
              </a:xfrm>
              <a:custGeom>
                <a:avLst/>
                <a:gdLst>
                  <a:gd name="textAreaLeft" fmla="*/ 0 w 213480"/>
                  <a:gd name="textAreaRight" fmla="*/ 213840 w 213480"/>
                  <a:gd name="textAreaTop" fmla="*/ 0 h 144000"/>
                  <a:gd name="textAreaBottom" fmla="*/ 144360 h 144000"/>
                </a:gdLst>
                <a:ahLst/>
                <a:rect l="textAreaLeft" t="textAreaTop" r="textAreaRight" b="textAreaBottom"/>
                <a:pathLst>
                  <a:path w="115" h="68">
                    <a:moveTo>
                      <a:pt x="0" y="8"/>
                    </a:moveTo>
                    <a:lnTo>
                      <a:pt x="5" y="0"/>
                    </a:lnTo>
                    <a:lnTo>
                      <a:pt x="12" y="0"/>
                    </a:lnTo>
                    <a:lnTo>
                      <a:pt x="24" y="4"/>
                    </a:lnTo>
                    <a:lnTo>
                      <a:pt x="36" y="11"/>
                    </a:lnTo>
                    <a:lnTo>
                      <a:pt x="50" y="18"/>
                    </a:lnTo>
                    <a:lnTo>
                      <a:pt x="64" y="27"/>
                    </a:lnTo>
                    <a:lnTo>
                      <a:pt x="76" y="36"/>
                    </a:lnTo>
                    <a:lnTo>
                      <a:pt x="85" y="42"/>
                    </a:lnTo>
                    <a:lnTo>
                      <a:pt x="100" y="49"/>
                    </a:lnTo>
                    <a:lnTo>
                      <a:pt x="112" y="58"/>
                    </a:lnTo>
                    <a:lnTo>
                      <a:pt x="115" y="65"/>
                    </a:lnTo>
                    <a:lnTo>
                      <a:pt x="107" y="68"/>
                    </a:lnTo>
                    <a:lnTo>
                      <a:pt x="100" y="68"/>
                    </a:lnTo>
                    <a:lnTo>
                      <a:pt x="91" y="67"/>
                    </a:lnTo>
                    <a:lnTo>
                      <a:pt x="83" y="65"/>
                    </a:lnTo>
                    <a:lnTo>
                      <a:pt x="74" y="63"/>
                    </a:lnTo>
                    <a:lnTo>
                      <a:pt x="67" y="63"/>
                    </a:lnTo>
                    <a:lnTo>
                      <a:pt x="61" y="61"/>
                    </a:lnTo>
                    <a:lnTo>
                      <a:pt x="58" y="59"/>
                    </a:lnTo>
                    <a:lnTo>
                      <a:pt x="56" y="59"/>
                    </a:lnTo>
                    <a:lnTo>
                      <a:pt x="53" y="58"/>
                    </a:lnTo>
                    <a:lnTo>
                      <a:pt x="47" y="54"/>
                    </a:lnTo>
                    <a:lnTo>
                      <a:pt x="38" y="49"/>
                    </a:lnTo>
                    <a:lnTo>
                      <a:pt x="27" y="42"/>
                    </a:lnTo>
                    <a:lnTo>
                      <a:pt x="17" y="33"/>
                    </a:lnTo>
                    <a:lnTo>
                      <a:pt x="8" y="24"/>
                    </a:lnTo>
                    <a:lnTo>
                      <a:pt x="2" y="15"/>
                    </a:lnTo>
                    <a:lnTo>
                      <a:pt x="0"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Group 13"/>
            <p:cNvGrpSpPr/>
            <p:nvPr/>
          </p:nvGrpSpPr>
          <p:grpSpPr>
            <a:xfrm>
              <a:off x="0" y="1767240"/>
              <a:ext cx="2562840" cy="4162320"/>
              <a:chOff x="0" y="1767240"/>
              <a:chExt cx="2562840" cy="4162320"/>
            </a:xfrm>
          </p:grpSpPr>
          <p:sp>
            <p:nvSpPr>
              <p:cNvPr id="72" name="Freeform 14"/>
              <p:cNvSpPr/>
              <p:nvPr/>
            </p:nvSpPr>
            <p:spPr>
              <a:xfrm>
                <a:off x="0" y="3075480"/>
                <a:ext cx="1641960" cy="1344240"/>
              </a:xfrm>
              <a:custGeom>
                <a:avLst/>
                <a:gdLst>
                  <a:gd name="textAreaLeft" fmla="*/ 0 w 1641960"/>
                  <a:gd name="textAreaRight" fmla="*/ 1642320 w 1641960"/>
                  <a:gd name="textAreaTop" fmla="*/ 0 h 1344240"/>
                  <a:gd name="textAreaBottom" fmla="*/ 1344600 h 1344240"/>
                </a:gdLst>
                <a:ahLst/>
                <a:rect l="textAreaLeft" t="textAreaTop" r="textAreaRight" b="textAreaBottom"/>
                <a:pathLst>
                  <a:path w="886" h="634">
                    <a:moveTo>
                      <a:pt x="6" y="0"/>
                    </a:moveTo>
                    <a:lnTo>
                      <a:pt x="0" y="342"/>
                    </a:lnTo>
                    <a:lnTo>
                      <a:pt x="57" y="350"/>
                    </a:lnTo>
                    <a:lnTo>
                      <a:pt x="72" y="357"/>
                    </a:lnTo>
                    <a:lnTo>
                      <a:pt x="87" y="364"/>
                    </a:lnTo>
                    <a:lnTo>
                      <a:pt x="101" y="372"/>
                    </a:lnTo>
                    <a:lnTo>
                      <a:pt x="110" y="381"/>
                    </a:lnTo>
                    <a:lnTo>
                      <a:pt x="118" y="390"/>
                    </a:lnTo>
                    <a:lnTo>
                      <a:pt x="127" y="397"/>
                    </a:lnTo>
                    <a:lnTo>
                      <a:pt x="136" y="404"/>
                    </a:lnTo>
                    <a:lnTo>
                      <a:pt x="145" y="409"/>
                    </a:lnTo>
                    <a:lnTo>
                      <a:pt x="155" y="415"/>
                    </a:lnTo>
                    <a:lnTo>
                      <a:pt x="161" y="422"/>
                    </a:lnTo>
                    <a:lnTo>
                      <a:pt x="165" y="429"/>
                    </a:lnTo>
                    <a:lnTo>
                      <a:pt x="168" y="438"/>
                    </a:lnTo>
                    <a:lnTo>
                      <a:pt x="171" y="460"/>
                    </a:lnTo>
                    <a:lnTo>
                      <a:pt x="174" y="480"/>
                    </a:lnTo>
                    <a:lnTo>
                      <a:pt x="179" y="501"/>
                    </a:lnTo>
                    <a:lnTo>
                      <a:pt x="187" y="517"/>
                    </a:lnTo>
                    <a:lnTo>
                      <a:pt x="196" y="534"/>
                    </a:lnTo>
                    <a:lnTo>
                      <a:pt x="205" y="553"/>
                    </a:lnTo>
                    <a:lnTo>
                      <a:pt x="216" y="573"/>
                    </a:lnTo>
                    <a:lnTo>
                      <a:pt x="226" y="588"/>
                    </a:lnTo>
                    <a:lnTo>
                      <a:pt x="237" y="595"/>
                    </a:lnTo>
                    <a:lnTo>
                      <a:pt x="245" y="597"/>
                    </a:lnTo>
                    <a:lnTo>
                      <a:pt x="249" y="588"/>
                    </a:lnTo>
                    <a:lnTo>
                      <a:pt x="251" y="562"/>
                    </a:lnTo>
                    <a:lnTo>
                      <a:pt x="252" y="530"/>
                    </a:lnTo>
                    <a:lnTo>
                      <a:pt x="258" y="498"/>
                    </a:lnTo>
                    <a:lnTo>
                      <a:pt x="269" y="472"/>
                    </a:lnTo>
                    <a:lnTo>
                      <a:pt x="287" y="451"/>
                    </a:lnTo>
                    <a:lnTo>
                      <a:pt x="298" y="442"/>
                    </a:lnTo>
                    <a:lnTo>
                      <a:pt x="307" y="435"/>
                    </a:lnTo>
                    <a:lnTo>
                      <a:pt x="316" y="427"/>
                    </a:lnTo>
                    <a:lnTo>
                      <a:pt x="325" y="422"/>
                    </a:lnTo>
                    <a:lnTo>
                      <a:pt x="333" y="417"/>
                    </a:lnTo>
                    <a:lnTo>
                      <a:pt x="341" y="413"/>
                    </a:lnTo>
                    <a:lnTo>
                      <a:pt x="347" y="409"/>
                    </a:lnTo>
                    <a:lnTo>
                      <a:pt x="351" y="406"/>
                    </a:lnTo>
                    <a:lnTo>
                      <a:pt x="363" y="395"/>
                    </a:lnTo>
                    <a:lnTo>
                      <a:pt x="377" y="381"/>
                    </a:lnTo>
                    <a:lnTo>
                      <a:pt x="388" y="375"/>
                    </a:lnTo>
                    <a:lnTo>
                      <a:pt x="391" y="393"/>
                    </a:lnTo>
                    <a:lnTo>
                      <a:pt x="389" y="422"/>
                    </a:lnTo>
                    <a:lnTo>
                      <a:pt x="389" y="444"/>
                    </a:lnTo>
                    <a:lnTo>
                      <a:pt x="394" y="463"/>
                    </a:lnTo>
                    <a:lnTo>
                      <a:pt x="406" y="483"/>
                    </a:lnTo>
                    <a:lnTo>
                      <a:pt x="418" y="505"/>
                    </a:lnTo>
                    <a:lnTo>
                      <a:pt x="427" y="526"/>
                    </a:lnTo>
                    <a:lnTo>
                      <a:pt x="434" y="548"/>
                    </a:lnTo>
                    <a:lnTo>
                      <a:pt x="438" y="564"/>
                    </a:lnTo>
                    <a:lnTo>
                      <a:pt x="441" y="582"/>
                    </a:lnTo>
                    <a:lnTo>
                      <a:pt x="443" y="602"/>
                    </a:lnTo>
                    <a:lnTo>
                      <a:pt x="446" y="618"/>
                    </a:lnTo>
                    <a:lnTo>
                      <a:pt x="446" y="625"/>
                    </a:lnTo>
                    <a:lnTo>
                      <a:pt x="473" y="602"/>
                    </a:lnTo>
                    <a:lnTo>
                      <a:pt x="476" y="609"/>
                    </a:lnTo>
                    <a:lnTo>
                      <a:pt x="484" y="622"/>
                    </a:lnTo>
                    <a:lnTo>
                      <a:pt x="493" y="634"/>
                    </a:lnTo>
                    <a:lnTo>
                      <a:pt x="502" y="634"/>
                    </a:lnTo>
                    <a:lnTo>
                      <a:pt x="504" y="622"/>
                    </a:lnTo>
                    <a:lnTo>
                      <a:pt x="498" y="602"/>
                    </a:lnTo>
                    <a:lnTo>
                      <a:pt x="490" y="582"/>
                    </a:lnTo>
                    <a:lnTo>
                      <a:pt x="490" y="564"/>
                    </a:lnTo>
                    <a:lnTo>
                      <a:pt x="496" y="553"/>
                    </a:lnTo>
                    <a:lnTo>
                      <a:pt x="504" y="550"/>
                    </a:lnTo>
                    <a:lnTo>
                      <a:pt x="513" y="550"/>
                    </a:lnTo>
                    <a:lnTo>
                      <a:pt x="522" y="550"/>
                    </a:lnTo>
                    <a:lnTo>
                      <a:pt x="533" y="546"/>
                    </a:lnTo>
                    <a:lnTo>
                      <a:pt x="545" y="539"/>
                    </a:lnTo>
                    <a:lnTo>
                      <a:pt x="556" y="528"/>
                    </a:lnTo>
                    <a:lnTo>
                      <a:pt x="566" y="517"/>
                    </a:lnTo>
                    <a:lnTo>
                      <a:pt x="569" y="507"/>
                    </a:lnTo>
                    <a:lnTo>
                      <a:pt x="565" y="496"/>
                    </a:lnTo>
                    <a:lnTo>
                      <a:pt x="557" y="485"/>
                    </a:lnTo>
                    <a:lnTo>
                      <a:pt x="554" y="474"/>
                    </a:lnTo>
                    <a:lnTo>
                      <a:pt x="549" y="463"/>
                    </a:lnTo>
                    <a:lnTo>
                      <a:pt x="542" y="454"/>
                    </a:lnTo>
                    <a:lnTo>
                      <a:pt x="534" y="447"/>
                    </a:lnTo>
                    <a:lnTo>
                      <a:pt x="534" y="436"/>
                    </a:lnTo>
                    <a:lnTo>
                      <a:pt x="539" y="431"/>
                    </a:lnTo>
                    <a:lnTo>
                      <a:pt x="546" y="424"/>
                    </a:lnTo>
                    <a:lnTo>
                      <a:pt x="557" y="418"/>
                    </a:lnTo>
                    <a:lnTo>
                      <a:pt x="568" y="411"/>
                    </a:lnTo>
                    <a:lnTo>
                      <a:pt x="581" y="404"/>
                    </a:lnTo>
                    <a:lnTo>
                      <a:pt x="594" y="399"/>
                    </a:lnTo>
                    <a:lnTo>
                      <a:pt x="604" y="393"/>
                    </a:lnTo>
                    <a:lnTo>
                      <a:pt x="615" y="388"/>
                    </a:lnTo>
                    <a:lnTo>
                      <a:pt x="623" y="384"/>
                    </a:lnTo>
                    <a:lnTo>
                      <a:pt x="632" y="377"/>
                    </a:lnTo>
                    <a:lnTo>
                      <a:pt x="639" y="372"/>
                    </a:lnTo>
                    <a:lnTo>
                      <a:pt x="649" y="363"/>
                    </a:lnTo>
                    <a:lnTo>
                      <a:pt x="656" y="355"/>
                    </a:lnTo>
                    <a:lnTo>
                      <a:pt x="665" y="347"/>
                    </a:lnTo>
                    <a:lnTo>
                      <a:pt x="673" y="339"/>
                    </a:lnTo>
                    <a:lnTo>
                      <a:pt x="681" y="332"/>
                    </a:lnTo>
                    <a:lnTo>
                      <a:pt x="693" y="314"/>
                    </a:lnTo>
                    <a:lnTo>
                      <a:pt x="699" y="293"/>
                    </a:lnTo>
                    <a:lnTo>
                      <a:pt x="697" y="271"/>
                    </a:lnTo>
                    <a:lnTo>
                      <a:pt x="693" y="251"/>
                    </a:lnTo>
                    <a:lnTo>
                      <a:pt x="688" y="235"/>
                    </a:lnTo>
                    <a:lnTo>
                      <a:pt x="688" y="217"/>
                    </a:lnTo>
                    <a:lnTo>
                      <a:pt x="693" y="201"/>
                    </a:lnTo>
                    <a:lnTo>
                      <a:pt x="702" y="185"/>
                    </a:lnTo>
                    <a:lnTo>
                      <a:pt x="708" y="176"/>
                    </a:lnTo>
                    <a:lnTo>
                      <a:pt x="714" y="165"/>
                    </a:lnTo>
                    <a:lnTo>
                      <a:pt x="722" y="156"/>
                    </a:lnTo>
                    <a:lnTo>
                      <a:pt x="728" y="147"/>
                    </a:lnTo>
                    <a:lnTo>
                      <a:pt x="735" y="141"/>
                    </a:lnTo>
                    <a:lnTo>
                      <a:pt x="740" y="140"/>
                    </a:lnTo>
                    <a:lnTo>
                      <a:pt x="746" y="143"/>
                    </a:lnTo>
                    <a:lnTo>
                      <a:pt x="749" y="152"/>
                    </a:lnTo>
                    <a:lnTo>
                      <a:pt x="754" y="179"/>
                    </a:lnTo>
                    <a:lnTo>
                      <a:pt x="757" y="206"/>
                    </a:lnTo>
                    <a:lnTo>
                      <a:pt x="758" y="228"/>
                    </a:lnTo>
                    <a:lnTo>
                      <a:pt x="758" y="237"/>
                    </a:lnTo>
                    <a:lnTo>
                      <a:pt x="775" y="219"/>
                    </a:lnTo>
                    <a:lnTo>
                      <a:pt x="786" y="194"/>
                    </a:lnTo>
                    <a:lnTo>
                      <a:pt x="792" y="168"/>
                    </a:lnTo>
                    <a:lnTo>
                      <a:pt x="798" y="152"/>
                    </a:lnTo>
                    <a:lnTo>
                      <a:pt x="807" y="136"/>
                    </a:lnTo>
                    <a:lnTo>
                      <a:pt x="818" y="113"/>
                    </a:lnTo>
                    <a:lnTo>
                      <a:pt x="832" y="89"/>
                    </a:lnTo>
                    <a:lnTo>
                      <a:pt x="842" y="75"/>
                    </a:lnTo>
                    <a:lnTo>
                      <a:pt x="851" y="64"/>
                    </a:lnTo>
                    <a:lnTo>
                      <a:pt x="862" y="46"/>
                    </a:lnTo>
                    <a:lnTo>
                      <a:pt x="873" y="28"/>
                    </a:lnTo>
                    <a:lnTo>
                      <a:pt x="882" y="14"/>
                    </a:lnTo>
                    <a:lnTo>
                      <a:pt x="883" y="12"/>
                    </a:lnTo>
                    <a:lnTo>
                      <a:pt x="885" y="10"/>
                    </a:lnTo>
                    <a:lnTo>
                      <a:pt x="885" y="8"/>
                    </a:lnTo>
                    <a:lnTo>
                      <a:pt x="886" y="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Freeform 15"/>
              <p:cNvSpPr/>
              <p:nvPr/>
            </p:nvSpPr>
            <p:spPr>
              <a:xfrm>
                <a:off x="10800" y="1767240"/>
                <a:ext cx="2552040" cy="1333800"/>
              </a:xfrm>
              <a:custGeom>
                <a:avLst/>
                <a:gdLst>
                  <a:gd name="textAreaLeft" fmla="*/ 0 w 2552040"/>
                  <a:gd name="textAreaRight" fmla="*/ 2552040 w 2552040"/>
                  <a:gd name="textAreaTop" fmla="*/ 0 h 1333800"/>
                  <a:gd name="textAreaBottom" fmla="*/ 1334160 h 1333800"/>
                </a:gdLst>
                <a:ahLst/>
                <a:rect l="textAreaLeft" t="textAreaTop" r="textAreaRight" b="textAreaBottom"/>
                <a:pathLst>
                  <a:path w="1377" h="629">
                    <a:moveTo>
                      <a:pt x="855" y="629"/>
                    </a:moveTo>
                    <a:lnTo>
                      <a:pt x="865" y="610"/>
                    </a:lnTo>
                    <a:lnTo>
                      <a:pt x="874" y="584"/>
                    </a:lnTo>
                    <a:lnTo>
                      <a:pt x="881" y="561"/>
                    </a:lnTo>
                    <a:lnTo>
                      <a:pt x="887" y="547"/>
                    </a:lnTo>
                    <a:lnTo>
                      <a:pt x="889" y="532"/>
                    </a:lnTo>
                    <a:lnTo>
                      <a:pt x="884" y="514"/>
                    </a:lnTo>
                    <a:lnTo>
                      <a:pt x="874" y="500"/>
                    </a:lnTo>
                    <a:lnTo>
                      <a:pt x="855" y="494"/>
                    </a:lnTo>
                    <a:lnTo>
                      <a:pt x="840" y="491"/>
                    </a:lnTo>
                    <a:lnTo>
                      <a:pt x="839" y="480"/>
                    </a:lnTo>
                    <a:lnTo>
                      <a:pt x="846" y="466"/>
                    </a:lnTo>
                    <a:lnTo>
                      <a:pt x="860" y="448"/>
                    </a:lnTo>
                    <a:lnTo>
                      <a:pt x="869" y="439"/>
                    </a:lnTo>
                    <a:lnTo>
                      <a:pt x="880" y="428"/>
                    </a:lnTo>
                    <a:lnTo>
                      <a:pt x="892" y="419"/>
                    </a:lnTo>
                    <a:lnTo>
                      <a:pt x="904" y="410"/>
                    </a:lnTo>
                    <a:lnTo>
                      <a:pt x="915" y="403"/>
                    </a:lnTo>
                    <a:lnTo>
                      <a:pt x="926" y="397"/>
                    </a:lnTo>
                    <a:lnTo>
                      <a:pt x="933" y="397"/>
                    </a:lnTo>
                    <a:lnTo>
                      <a:pt x="936" y="399"/>
                    </a:lnTo>
                    <a:lnTo>
                      <a:pt x="941" y="412"/>
                    </a:lnTo>
                    <a:lnTo>
                      <a:pt x="948" y="422"/>
                    </a:lnTo>
                    <a:lnTo>
                      <a:pt x="956" y="428"/>
                    </a:lnTo>
                    <a:lnTo>
                      <a:pt x="964" y="424"/>
                    </a:lnTo>
                    <a:lnTo>
                      <a:pt x="974" y="413"/>
                    </a:lnTo>
                    <a:lnTo>
                      <a:pt x="988" y="406"/>
                    </a:lnTo>
                    <a:lnTo>
                      <a:pt x="1002" y="406"/>
                    </a:lnTo>
                    <a:lnTo>
                      <a:pt x="1008" y="413"/>
                    </a:lnTo>
                    <a:lnTo>
                      <a:pt x="1009" y="426"/>
                    </a:lnTo>
                    <a:lnTo>
                      <a:pt x="1014" y="435"/>
                    </a:lnTo>
                    <a:lnTo>
                      <a:pt x="1022" y="437"/>
                    </a:lnTo>
                    <a:lnTo>
                      <a:pt x="1032" y="428"/>
                    </a:lnTo>
                    <a:lnTo>
                      <a:pt x="1038" y="419"/>
                    </a:lnTo>
                    <a:lnTo>
                      <a:pt x="1046" y="408"/>
                    </a:lnTo>
                    <a:lnTo>
                      <a:pt x="1054" y="397"/>
                    </a:lnTo>
                    <a:lnTo>
                      <a:pt x="1063" y="386"/>
                    </a:lnTo>
                    <a:lnTo>
                      <a:pt x="1070" y="377"/>
                    </a:lnTo>
                    <a:lnTo>
                      <a:pt x="1078" y="372"/>
                    </a:lnTo>
                    <a:lnTo>
                      <a:pt x="1086" y="370"/>
                    </a:lnTo>
                    <a:lnTo>
                      <a:pt x="1092" y="376"/>
                    </a:lnTo>
                    <a:lnTo>
                      <a:pt x="1099" y="390"/>
                    </a:lnTo>
                    <a:lnTo>
                      <a:pt x="1099" y="399"/>
                    </a:lnTo>
                    <a:lnTo>
                      <a:pt x="1093" y="406"/>
                    </a:lnTo>
                    <a:lnTo>
                      <a:pt x="1084" y="419"/>
                    </a:lnTo>
                    <a:lnTo>
                      <a:pt x="1078" y="426"/>
                    </a:lnTo>
                    <a:lnTo>
                      <a:pt x="1070" y="433"/>
                    </a:lnTo>
                    <a:lnTo>
                      <a:pt x="1063" y="439"/>
                    </a:lnTo>
                    <a:lnTo>
                      <a:pt x="1055" y="444"/>
                    </a:lnTo>
                    <a:lnTo>
                      <a:pt x="1048" y="451"/>
                    </a:lnTo>
                    <a:lnTo>
                      <a:pt x="1041" y="457"/>
                    </a:lnTo>
                    <a:lnTo>
                      <a:pt x="1038" y="464"/>
                    </a:lnTo>
                    <a:lnTo>
                      <a:pt x="1040" y="471"/>
                    </a:lnTo>
                    <a:lnTo>
                      <a:pt x="1044" y="493"/>
                    </a:lnTo>
                    <a:lnTo>
                      <a:pt x="1048" y="520"/>
                    </a:lnTo>
                    <a:lnTo>
                      <a:pt x="1051" y="543"/>
                    </a:lnTo>
                    <a:lnTo>
                      <a:pt x="1060" y="556"/>
                    </a:lnTo>
                    <a:lnTo>
                      <a:pt x="1066" y="556"/>
                    </a:lnTo>
                    <a:lnTo>
                      <a:pt x="1073" y="552"/>
                    </a:lnTo>
                    <a:lnTo>
                      <a:pt x="1081" y="545"/>
                    </a:lnTo>
                    <a:lnTo>
                      <a:pt x="1090" y="538"/>
                    </a:lnTo>
                    <a:lnTo>
                      <a:pt x="1098" y="527"/>
                    </a:lnTo>
                    <a:lnTo>
                      <a:pt x="1104" y="518"/>
                    </a:lnTo>
                    <a:lnTo>
                      <a:pt x="1112" y="511"/>
                    </a:lnTo>
                    <a:lnTo>
                      <a:pt x="1116" y="503"/>
                    </a:lnTo>
                    <a:lnTo>
                      <a:pt x="1124" y="491"/>
                    </a:lnTo>
                    <a:lnTo>
                      <a:pt x="1131" y="473"/>
                    </a:lnTo>
                    <a:lnTo>
                      <a:pt x="1134" y="457"/>
                    </a:lnTo>
                    <a:lnTo>
                      <a:pt x="1136" y="442"/>
                    </a:lnTo>
                    <a:lnTo>
                      <a:pt x="1139" y="431"/>
                    </a:lnTo>
                    <a:lnTo>
                      <a:pt x="1145" y="421"/>
                    </a:lnTo>
                    <a:lnTo>
                      <a:pt x="1159" y="412"/>
                    </a:lnTo>
                    <a:lnTo>
                      <a:pt x="1177" y="404"/>
                    </a:lnTo>
                    <a:lnTo>
                      <a:pt x="1189" y="401"/>
                    </a:lnTo>
                    <a:lnTo>
                      <a:pt x="1203" y="397"/>
                    </a:lnTo>
                    <a:lnTo>
                      <a:pt x="1218" y="392"/>
                    </a:lnTo>
                    <a:lnTo>
                      <a:pt x="1232" y="386"/>
                    </a:lnTo>
                    <a:lnTo>
                      <a:pt x="1247" y="381"/>
                    </a:lnTo>
                    <a:lnTo>
                      <a:pt x="1259" y="376"/>
                    </a:lnTo>
                    <a:lnTo>
                      <a:pt x="1269" y="368"/>
                    </a:lnTo>
                    <a:lnTo>
                      <a:pt x="1273" y="361"/>
                    </a:lnTo>
                    <a:lnTo>
                      <a:pt x="1281" y="347"/>
                    </a:lnTo>
                    <a:lnTo>
                      <a:pt x="1291" y="331"/>
                    </a:lnTo>
                    <a:lnTo>
                      <a:pt x="1301" y="320"/>
                    </a:lnTo>
                    <a:lnTo>
                      <a:pt x="1305" y="314"/>
                    </a:lnTo>
                    <a:lnTo>
                      <a:pt x="1354" y="358"/>
                    </a:lnTo>
                    <a:lnTo>
                      <a:pt x="1360" y="336"/>
                    </a:lnTo>
                    <a:lnTo>
                      <a:pt x="1369" y="309"/>
                    </a:lnTo>
                    <a:lnTo>
                      <a:pt x="1377" y="282"/>
                    </a:lnTo>
                    <a:lnTo>
                      <a:pt x="1374" y="268"/>
                    </a:lnTo>
                    <a:lnTo>
                      <a:pt x="1368" y="264"/>
                    </a:lnTo>
                    <a:lnTo>
                      <a:pt x="1362" y="264"/>
                    </a:lnTo>
                    <a:lnTo>
                      <a:pt x="1352" y="264"/>
                    </a:lnTo>
                    <a:lnTo>
                      <a:pt x="1345" y="266"/>
                    </a:lnTo>
                    <a:lnTo>
                      <a:pt x="1337" y="268"/>
                    </a:lnTo>
                    <a:lnTo>
                      <a:pt x="1331" y="269"/>
                    </a:lnTo>
                    <a:lnTo>
                      <a:pt x="1327" y="271"/>
                    </a:lnTo>
                    <a:lnTo>
                      <a:pt x="1325" y="271"/>
                    </a:lnTo>
                    <a:lnTo>
                      <a:pt x="1320" y="271"/>
                    </a:lnTo>
                    <a:lnTo>
                      <a:pt x="1310" y="268"/>
                    </a:lnTo>
                    <a:lnTo>
                      <a:pt x="1296" y="260"/>
                    </a:lnTo>
                    <a:lnTo>
                      <a:pt x="1285" y="248"/>
                    </a:lnTo>
                    <a:lnTo>
                      <a:pt x="1279" y="241"/>
                    </a:lnTo>
                    <a:lnTo>
                      <a:pt x="1270" y="233"/>
                    </a:lnTo>
                    <a:lnTo>
                      <a:pt x="1259" y="226"/>
                    </a:lnTo>
                    <a:lnTo>
                      <a:pt x="1247" y="219"/>
                    </a:lnTo>
                    <a:lnTo>
                      <a:pt x="1237" y="215"/>
                    </a:lnTo>
                    <a:lnTo>
                      <a:pt x="1226" y="214"/>
                    </a:lnTo>
                    <a:lnTo>
                      <a:pt x="1217" y="214"/>
                    </a:lnTo>
                    <a:lnTo>
                      <a:pt x="1212" y="219"/>
                    </a:lnTo>
                    <a:lnTo>
                      <a:pt x="1208" y="226"/>
                    </a:lnTo>
                    <a:lnTo>
                      <a:pt x="1198" y="230"/>
                    </a:lnTo>
                    <a:lnTo>
                      <a:pt x="1186" y="233"/>
                    </a:lnTo>
                    <a:lnTo>
                      <a:pt x="1173" y="233"/>
                    </a:lnTo>
                    <a:lnTo>
                      <a:pt x="1156" y="233"/>
                    </a:lnTo>
                    <a:lnTo>
                      <a:pt x="1139" y="230"/>
                    </a:lnTo>
                    <a:lnTo>
                      <a:pt x="1121" y="226"/>
                    </a:lnTo>
                    <a:lnTo>
                      <a:pt x="1104" y="219"/>
                    </a:lnTo>
                    <a:lnTo>
                      <a:pt x="1086" y="210"/>
                    </a:lnTo>
                    <a:lnTo>
                      <a:pt x="1066" y="199"/>
                    </a:lnTo>
                    <a:lnTo>
                      <a:pt x="1044" y="187"/>
                    </a:lnTo>
                    <a:lnTo>
                      <a:pt x="1025" y="176"/>
                    </a:lnTo>
                    <a:lnTo>
                      <a:pt x="1003" y="163"/>
                    </a:lnTo>
                    <a:lnTo>
                      <a:pt x="987" y="154"/>
                    </a:lnTo>
                    <a:lnTo>
                      <a:pt x="970" y="149"/>
                    </a:lnTo>
                    <a:lnTo>
                      <a:pt x="959" y="149"/>
                    </a:lnTo>
                    <a:lnTo>
                      <a:pt x="951" y="149"/>
                    </a:lnTo>
                    <a:lnTo>
                      <a:pt x="947" y="144"/>
                    </a:lnTo>
                    <a:lnTo>
                      <a:pt x="942" y="138"/>
                    </a:lnTo>
                    <a:lnTo>
                      <a:pt x="938" y="131"/>
                    </a:lnTo>
                    <a:lnTo>
                      <a:pt x="933" y="126"/>
                    </a:lnTo>
                    <a:lnTo>
                      <a:pt x="927" y="122"/>
                    </a:lnTo>
                    <a:lnTo>
                      <a:pt x="919" y="120"/>
                    </a:lnTo>
                    <a:lnTo>
                      <a:pt x="907" y="126"/>
                    </a:lnTo>
                    <a:lnTo>
                      <a:pt x="894" y="133"/>
                    </a:lnTo>
                    <a:lnTo>
                      <a:pt x="878" y="142"/>
                    </a:lnTo>
                    <a:lnTo>
                      <a:pt x="863" y="151"/>
                    </a:lnTo>
                    <a:lnTo>
                      <a:pt x="846" y="158"/>
                    </a:lnTo>
                    <a:lnTo>
                      <a:pt x="829" y="163"/>
                    </a:lnTo>
                    <a:lnTo>
                      <a:pt x="811" y="165"/>
                    </a:lnTo>
                    <a:lnTo>
                      <a:pt x="791" y="163"/>
                    </a:lnTo>
                    <a:lnTo>
                      <a:pt x="772" y="158"/>
                    </a:lnTo>
                    <a:lnTo>
                      <a:pt x="750" y="149"/>
                    </a:lnTo>
                    <a:lnTo>
                      <a:pt x="729" y="140"/>
                    </a:lnTo>
                    <a:lnTo>
                      <a:pt x="706" y="133"/>
                    </a:lnTo>
                    <a:lnTo>
                      <a:pt x="686" y="126"/>
                    </a:lnTo>
                    <a:lnTo>
                      <a:pt x="665" y="120"/>
                    </a:lnTo>
                    <a:lnTo>
                      <a:pt x="647" y="117"/>
                    </a:lnTo>
                    <a:lnTo>
                      <a:pt x="631" y="117"/>
                    </a:lnTo>
                    <a:lnTo>
                      <a:pt x="618" y="120"/>
                    </a:lnTo>
                    <a:lnTo>
                      <a:pt x="605" y="126"/>
                    </a:lnTo>
                    <a:lnTo>
                      <a:pt x="590" y="129"/>
                    </a:lnTo>
                    <a:lnTo>
                      <a:pt x="576" y="133"/>
                    </a:lnTo>
                    <a:lnTo>
                      <a:pt x="561" y="135"/>
                    </a:lnTo>
                    <a:lnTo>
                      <a:pt x="547" y="138"/>
                    </a:lnTo>
                    <a:lnTo>
                      <a:pt x="537" y="138"/>
                    </a:lnTo>
                    <a:lnTo>
                      <a:pt x="531" y="140"/>
                    </a:lnTo>
                    <a:lnTo>
                      <a:pt x="528" y="140"/>
                    </a:lnTo>
                    <a:lnTo>
                      <a:pt x="540" y="124"/>
                    </a:lnTo>
                    <a:lnTo>
                      <a:pt x="543" y="106"/>
                    </a:lnTo>
                    <a:lnTo>
                      <a:pt x="541" y="93"/>
                    </a:lnTo>
                    <a:lnTo>
                      <a:pt x="540" y="88"/>
                    </a:lnTo>
                    <a:lnTo>
                      <a:pt x="575" y="73"/>
                    </a:lnTo>
                    <a:lnTo>
                      <a:pt x="560" y="61"/>
                    </a:lnTo>
                    <a:lnTo>
                      <a:pt x="546" y="48"/>
                    </a:lnTo>
                    <a:lnTo>
                      <a:pt x="532" y="34"/>
                    </a:lnTo>
                    <a:lnTo>
                      <a:pt x="520" y="21"/>
                    </a:lnTo>
                    <a:lnTo>
                      <a:pt x="508" y="10"/>
                    </a:lnTo>
                    <a:lnTo>
                      <a:pt x="497" y="3"/>
                    </a:lnTo>
                    <a:lnTo>
                      <a:pt x="486" y="0"/>
                    </a:lnTo>
                    <a:lnTo>
                      <a:pt x="479" y="1"/>
                    </a:lnTo>
                    <a:lnTo>
                      <a:pt x="471" y="7"/>
                    </a:lnTo>
                    <a:lnTo>
                      <a:pt x="464" y="14"/>
                    </a:lnTo>
                    <a:lnTo>
                      <a:pt x="456" y="21"/>
                    </a:lnTo>
                    <a:lnTo>
                      <a:pt x="450" y="30"/>
                    </a:lnTo>
                    <a:lnTo>
                      <a:pt x="442" y="37"/>
                    </a:lnTo>
                    <a:lnTo>
                      <a:pt x="436" y="43"/>
                    </a:lnTo>
                    <a:lnTo>
                      <a:pt x="428" y="50"/>
                    </a:lnTo>
                    <a:lnTo>
                      <a:pt x="422" y="54"/>
                    </a:lnTo>
                    <a:lnTo>
                      <a:pt x="413" y="52"/>
                    </a:lnTo>
                    <a:lnTo>
                      <a:pt x="404" y="43"/>
                    </a:lnTo>
                    <a:lnTo>
                      <a:pt x="393" y="36"/>
                    </a:lnTo>
                    <a:lnTo>
                      <a:pt x="378" y="39"/>
                    </a:lnTo>
                    <a:lnTo>
                      <a:pt x="369" y="46"/>
                    </a:lnTo>
                    <a:lnTo>
                      <a:pt x="358" y="55"/>
                    </a:lnTo>
                    <a:lnTo>
                      <a:pt x="348" y="63"/>
                    </a:lnTo>
                    <a:lnTo>
                      <a:pt x="337" y="72"/>
                    </a:lnTo>
                    <a:lnTo>
                      <a:pt x="325" y="79"/>
                    </a:lnTo>
                    <a:lnTo>
                      <a:pt x="314" y="84"/>
                    </a:lnTo>
                    <a:lnTo>
                      <a:pt x="302" y="90"/>
                    </a:lnTo>
                    <a:lnTo>
                      <a:pt x="290" y="91"/>
                    </a:lnTo>
                    <a:lnTo>
                      <a:pt x="279" y="95"/>
                    </a:lnTo>
                    <a:lnTo>
                      <a:pt x="270" y="104"/>
                    </a:lnTo>
                    <a:lnTo>
                      <a:pt x="262" y="115"/>
                    </a:lnTo>
                    <a:lnTo>
                      <a:pt x="255" y="126"/>
                    </a:lnTo>
                    <a:lnTo>
                      <a:pt x="249" y="140"/>
                    </a:lnTo>
                    <a:lnTo>
                      <a:pt x="241" y="153"/>
                    </a:lnTo>
                    <a:lnTo>
                      <a:pt x="235" y="163"/>
                    </a:lnTo>
                    <a:lnTo>
                      <a:pt x="226" y="172"/>
                    </a:lnTo>
                    <a:lnTo>
                      <a:pt x="221" y="174"/>
                    </a:lnTo>
                    <a:lnTo>
                      <a:pt x="214" y="176"/>
                    </a:lnTo>
                    <a:lnTo>
                      <a:pt x="206" y="174"/>
                    </a:lnTo>
                    <a:lnTo>
                      <a:pt x="198" y="172"/>
                    </a:lnTo>
                    <a:lnTo>
                      <a:pt x="189" y="171"/>
                    </a:lnTo>
                    <a:lnTo>
                      <a:pt x="180" y="167"/>
                    </a:lnTo>
                    <a:lnTo>
                      <a:pt x="171" y="165"/>
                    </a:lnTo>
                    <a:lnTo>
                      <a:pt x="162" y="163"/>
                    </a:lnTo>
                    <a:lnTo>
                      <a:pt x="151" y="162"/>
                    </a:lnTo>
                    <a:lnTo>
                      <a:pt x="139" y="163"/>
                    </a:lnTo>
                    <a:lnTo>
                      <a:pt x="125" y="165"/>
                    </a:lnTo>
                    <a:lnTo>
                      <a:pt x="111" y="169"/>
                    </a:lnTo>
                    <a:lnTo>
                      <a:pt x="99" y="176"/>
                    </a:lnTo>
                    <a:lnTo>
                      <a:pt x="88" y="183"/>
                    </a:lnTo>
                    <a:lnTo>
                      <a:pt x="81" y="190"/>
                    </a:lnTo>
                    <a:lnTo>
                      <a:pt x="78" y="201"/>
                    </a:lnTo>
                    <a:lnTo>
                      <a:pt x="75" y="210"/>
                    </a:lnTo>
                    <a:lnTo>
                      <a:pt x="67" y="219"/>
                    </a:lnTo>
                    <a:lnTo>
                      <a:pt x="56" y="226"/>
                    </a:lnTo>
                    <a:lnTo>
                      <a:pt x="46" y="230"/>
                    </a:lnTo>
                    <a:lnTo>
                      <a:pt x="34" y="235"/>
                    </a:lnTo>
                    <a:lnTo>
                      <a:pt x="21" y="237"/>
                    </a:lnTo>
                    <a:lnTo>
                      <a:pt x="11" y="239"/>
                    </a:lnTo>
                    <a:lnTo>
                      <a:pt x="0" y="61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Freeform 16"/>
              <p:cNvSpPr/>
              <p:nvPr/>
            </p:nvSpPr>
            <p:spPr>
              <a:xfrm>
                <a:off x="47880" y="1828440"/>
                <a:ext cx="262800" cy="225000"/>
              </a:xfrm>
              <a:custGeom>
                <a:avLst/>
                <a:gdLst>
                  <a:gd name="textAreaLeft" fmla="*/ 0 w 262800"/>
                  <a:gd name="textAreaRight" fmla="*/ 263160 w 262800"/>
                  <a:gd name="textAreaTop" fmla="*/ 0 h 225000"/>
                  <a:gd name="textAreaBottom" fmla="*/ 225360 h 225000"/>
                </a:gdLst>
                <a:ahLst/>
                <a:rect l="textAreaLeft" t="textAreaTop" r="textAreaRight" b="textAreaBottom"/>
                <a:pathLst>
                  <a:path w="142" h="106">
                    <a:moveTo>
                      <a:pt x="24" y="56"/>
                    </a:moveTo>
                    <a:lnTo>
                      <a:pt x="35" y="52"/>
                    </a:lnTo>
                    <a:lnTo>
                      <a:pt x="44" y="47"/>
                    </a:lnTo>
                    <a:lnTo>
                      <a:pt x="53" y="40"/>
                    </a:lnTo>
                    <a:lnTo>
                      <a:pt x="60" y="33"/>
                    </a:lnTo>
                    <a:lnTo>
                      <a:pt x="66" y="26"/>
                    </a:lnTo>
                    <a:lnTo>
                      <a:pt x="74" y="18"/>
                    </a:lnTo>
                    <a:lnTo>
                      <a:pt x="80" y="15"/>
                    </a:lnTo>
                    <a:lnTo>
                      <a:pt x="87" y="13"/>
                    </a:lnTo>
                    <a:lnTo>
                      <a:pt x="95" y="11"/>
                    </a:lnTo>
                    <a:lnTo>
                      <a:pt x="103" y="9"/>
                    </a:lnTo>
                    <a:lnTo>
                      <a:pt x="110" y="6"/>
                    </a:lnTo>
                    <a:lnTo>
                      <a:pt x="118" y="2"/>
                    </a:lnTo>
                    <a:lnTo>
                      <a:pt x="124" y="0"/>
                    </a:lnTo>
                    <a:lnTo>
                      <a:pt x="130" y="0"/>
                    </a:lnTo>
                    <a:lnTo>
                      <a:pt x="136" y="4"/>
                    </a:lnTo>
                    <a:lnTo>
                      <a:pt x="139" y="13"/>
                    </a:lnTo>
                    <a:lnTo>
                      <a:pt x="142" y="33"/>
                    </a:lnTo>
                    <a:lnTo>
                      <a:pt x="137" y="47"/>
                    </a:lnTo>
                    <a:lnTo>
                      <a:pt x="124" y="58"/>
                    </a:lnTo>
                    <a:lnTo>
                      <a:pt x="104" y="61"/>
                    </a:lnTo>
                    <a:lnTo>
                      <a:pt x="93" y="61"/>
                    </a:lnTo>
                    <a:lnTo>
                      <a:pt x="83" y="61"/>
                    </a:lnTo>
                    <a:lnTo>
                      <a:pt x="74" y="63"/>
                    </a:lnTo>
                    <a:lnTo>
                      <a:pt x="68" y="65"/>
                    </a:lnTo>
                    <a:lnTo>
                      <a:pt x="62" y="67"/>
                    </a:lnTo>
                    <a:lnTo>
                      <a:pt x="57" y="70"/>
                    </a:lnTo>
                    <a:lnTo>
                      <a:pt x="54" y="74"/>
                    </a:lnTo>
                    <a:lnTo>
                      <a:pt x="51" y="79"/>
                    </a:lnTo>
                    <a:lnTo>
                      <a:pt x="45" y="92"/>
                    </a:lnTo>
                    <a:lnTo>
                      <a:pt x="35" y="101"/>
                    </a:lnTo>
                    <a:lnTo>
                      <a:pt x="21" y="106"/>
                    </a:lnTo>
                    <a:lnTo>
                      <a:pt x="7" y="102"/>
                    </a:lnTo>
                    <a:lnTo>
                      <a:pt x="0" y="90"/>
                    </a:lnTo>
                    <a:lnTo>
                      <a:pt x="0" y="76"/>
                    </a:lnTo>
                    <a:lnTo>
                      <a:pt x="7" y="63"/>
                    </a:lnTo>
                    <a:lnTo>
                      <a:pt x="24" y="5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Freeform 17"/>
              <p:cNvSpPr/>
              <p:nvPr/>
            </p:nvSpPr>
            <p:spPr>
              <a:xfrm>
                <a:off x="1159920" y="4833720"/>
                <a:ext cx="785880" cy="833040"/>
              </a:xfrm>
              <a:custGeom>
                <a:avLst/>
                <a:gdLst>
                  <a:gd name="textAreaLeft" fmla="*/ 0 w 785880"/>
                  <a:gd name="textAreaRight" fmla="*/ 786240 w 785880"/>
                  <a:gd name="textAreaTop" fmla="*/ 0 h 833040"/>
                  <a:gd name="textAreaBottom" fmla="*/ 833400 h 833040"/>
                </a:gdLst>
                <a:ahLst/>
                <a:rect l="textAreaLeft" t="textAreaTop" r="textAreaRight" b="textAreaBottom"/>
                <a:pathLst>
                  <a:path w="424" h="393">
                    <a:moveTo>
                      <a:pt x="299" y="78"/>
                    </a:moveTo>
                    <a:lnTo>
                      <a:pt x="291" y="76"/>
                    </a:lnTo>
                    <a:lnTo>
                      <a:pt x="284" y="75"/>
                    </a:lnTo>
                    <a:lnTo>
                      <a:pt x="276" y="75"/>
                    </a:lnTo>
                    <a:lnTo>
                      <a:pt x="269" y="73"/>
                    </a:lnTo>
                    <a:lnTo>
                      <a:pt x="260" y="71"/>
                    </a:lnTo>
                    <a:lnTo>
                      <a:pt x="254" y="69"/>
                    </a:lnTo>
                    <a:lnTo>
                      <a:pt x="248" y="69"/>
                    </a:lnTo>
                    <a:lnTo>
                      <a:pt x="243" y="68"/>
                    </a:lnTo>
                    <a:lnTo>
                      <a:pt x="239" y="64"/>
                    </a:lnTo>
                    <a:lnTo>
                      <a:pt x="239" y="57"/>
                    </a:lnTo>
                    <a:lnTo>
                      <a:pt x="243" y="50"/>
                    </a:lnTo>
                    <a:lnTo>
                      <a:pt x="251" y="42"/>
                    </a:lnTo>
                    <a:lnTo>
                      <a:pt x="252" y="35"/>
                    </a:lnTo>
                    <a:lnTo>
                      <a:pt x="245" y="26"/>
                    </a:lnTo>
                    <a:lnTo>
                      <a:pt x="234" y="19"/>
                    </a:lnTo>
                    <a:lnTo>
                      <a:pt x="227" y="12"/>
                    </a:lnTo>
                    <a:lnTo>
                      <a:pt x="222" y="7"/>
                    </a:lnTo>
                    <a:lnTo>
                      <a:pt x="217" y="1"/>
                    </a:lnTo>
                    <a:lnTo>
                      <a:pt x="213" y="0"/>
                    </a:lnTo>
                    <a:lnTo>
                      <a:pt x="211" y="5"/>
                    </a:lnTo>
                    <a:lnTo>
                      <a:pt x="205" y="12"/>
                    </a:lnTo>
                    <a:lnTo>
                      <a:pt x="193" y="21"/>
                    </a:lnTo>
                    <a:lnTo>
                      <a:pt x="180" y="28"/>
                    </a:lnTo>
                    <a:lnTo>
                      <a:pt x="168" y="35"/>
                    </a:lnTo>
                    <a:lnTo>
                      <a:pt x="160" y="41"/>
                    </a:lnTo>
                    <a:lnTo>
                      <a:pt x="155" y="46"/>
                    </a:lnTo>
                    <a:lnTo>
                      <a:pt x="148" y="48"/>
                    </a:lnTo>
                    <a:lnTo>
                      <a:pt x="139" y="50"/>
                    </a:lnTo>
                    <a:lnTo>
                      <a:pt x="133" y="51"/>
                    </a:lnTo>
                    <a:lnTo>
                      <a:pt x="125" y="53"/>
                    </a:lnTo>
                    <a:lnTo>
                      <a:pt x="116" y="59"/>
                    </a:lnTo>
                    <a:lnTo>
                      <a:pt x="109" y="64"/>
                    </a:lnTo>
                    <a:lnTo>
                      <a:pt x="100" y="71"/>
                    </a:lnTo>
                    <a:lnTo>
                      <a:pt x="92" y="78"/>
                    </a:lnTo>
                    <a:lnTo>
                      <a:pt x="86" y="87"/>
                    </a:lnTo>
                    <a:lnTo>
                      <a:pt x="80" y="96"/>
                    </a:lnTo>
                    <a:lnTo>
                      <a:pt x="75" y="105"/>
                    </a:lnTo>
                    <a:lnTo>
                      <a:pt x="71" y="111"/>
                    </a:lnTo>
                    <a:lnTo>
                      <a:pt x="65" y="118"/>
                    </a:lnTo>
                    <a:lnTo>
                      <a:pt x="59" y="123"/>
                    </a:lnTo>
                    <a:lnTo>
                      <a:pt x="53" y="128"/>
                    </a:lnTo>
                    <a:lnTo>
                      <a:pt x="45" y="136"/>
                    </a:lnTo>
                    <a:lnTo>
                      <a:pt x="36" y="141"/>
                    </a:lnTo>
                    <a:lnTo>
                      <a:pt x="27" y="148"/>
                    </a:lnTo>
                    <a:lnTo>
                      <a:pt x="16" y="152"/>
                    </a:lnTo>
                    <a:lnTo>
                      <a:pt x="7" y="152"/>
                    </a:lnTo>
                    <a:lnTo>
                      <a:pt x="1" y="162"/>
                    </a:lnTo>
                    <a:lnTo>
                      <a:pt x="0" y="202"/>
                    </a:lnTo>
                    <a:lnTo>
                      <a:pt x="0" y="218"/>
                    </a:lnTo>
                    <a:lnTo>
                      <a:pt x="1" y="227"/>
                    </a:lnTo>
                    <a:lnTo>
                      <a:pt x="3" y="234"/>
                    </a:lnTo>
                    <a:lnTo>
                      <a:pt x="7" y="243"/>
                    </a:lnTo>
                    <a:lnTo>
                      <a:pt x="15" y="250"/>
                    </a:lnTo>
                    <a:lnTo>
                      <a:pt x="22" y="256"/>
                    </a:lnTo>
                    <a:lnTo>
                      <a:pt x="25" y="263"/>
                    </a:lnTo>
                    <a:lnTo>
                      <a:pt x="24" y="273"/>
                    </a:lnTo>
                    <a:lnTo>
                      <a:pt x="19" y="284"/>
                    </a:lnTo>
                    <a:lnTo>
                      <a:pt x="15" y="293"/>
                    </a:lnTo>
                    <a:lnTo>
                      <a:pt x="12" y="304"/>
                    </a:lnTo>
                    <a:lnTo>
                      <a:pt x="12" y="318"/>
                    </a:lnTo>
                    <a:lnTo>
                      <a:pt x="15" y="325"/>
                    </a:lnTo>
                    <a:lnTo>
                      <a:pt x="19" y="331"/>
                    </a:lnTo>
                    <a:lnTo>
                      <a:pt x="29" y="336"/>
                    </a:lnTo>
                    <a:lnTo>
                      <a:pt x="38" y="338"/>
                    </a:lnTo>
                    <a:lnTo>
                      <a:pt x="47" y="338"/>
                    </a:lnTo>
                    <a:lnTo>
                      <a:pt x="57" y="338"/>
                    </a:lnTo>
                    <a:lnTo>
                      <a:pt x="66" y="336"/>
                    </a:lnTo>
                    <a:lnTo>
                      <a:pt x="74" y="332"/>
                    </a:lnTo>
                    <a:lnTo>
                      <a:pt x="80" y="329"/>
                    </a:lnTo>
                    <a:lnTo>
                      <a:pt x="87" y="325"/>
                    </a:lnTo>
                    <a:lnTo>
                      <a:pt x="95" y="322"/>
                    </a:lnTo>
                    <a:lnTo>
                      <a:pt x="103" y="318"/>
                    </a:lnTo>
                    <a:lnTo>
                      <a:pt x="112" y="315"/>
                    </a:lnTo>
                    <a:lnTo>
                      <a:pt x="121" y="311"/>
                    </a:lnTo>
                    <a:lnTo>
                      <a:pt x="130" y="307"/>
                    </a:lnTo>
                    <a:lnTo>
                      <a:pt x="139" y="304"/>
                    </a:lnTo>
                    <a:lnTo>
                      <a:pt x="149" y="300"/>
                    </a:lnTo>
                    <a:lnTo>
                      <a:pt x="162" y="298"/>
                    </a:lnTo>
                    <a:lnTo>
                      <a:pt x="175" y="297"/>
                    </a:lnTo>
                    <a:lnTo>
                      <a:pt x="189" y="295"/>
                    </a:lnTo>
                    <a:lnTo>
                      <a:pt x="202" y="297"/>
                    </a:lnTo>
                    <a:lnTo>
                      <a:pt x="216" y="298"/>
                    </a:lnTo>
                    <a:lnTo>
                      <a:pt x="228" y="304"/>
                    </a:lnTo>
                    <a:lnTo>
                      <a:pt x="239" y="309"/>
                    </a:lnTo>
                    <a:lnTo>
                      <a:pt x="248" y="316"/>
                    </a:lnTo>
                    <a:lnTo>
                      <a:pt x="257" y="325"/>
                    </a:lnTo>
                    <a:lnTo>
                      <a:pt x="264" y="334"/>
                    </a:lnTo>
                    <a:lnTo>
                      <a:pt x="272" y="345"/>
                    </a:lnTo>
                    <a:lnTo>
                      <a:pt x="278" y="356"/>
                    </a:lnTo>
                    <a:lnTo>
                      <a:pt x="285" y="365"/>
                    </a:lnTo>
                    <a:lnTo>
                      <a:pt x="290" y="374"/>
                    </a:lnTo>
                    <a:lnTo>
                      <a:pt x="295" y="383"/>
                    </a:lnTo>
                    <a:lnTo>
                      <a:pt x="301" y="388"/>
                    </a:lnTo>
                    <a:lnTo>
                      <a:pt x="310" y="392"/>
                    </a:lnTo>
                    <a:lnTo>
                      <a:pt x="320" y="393"/>
                    </a:lnTo>
                    <a:lnTo>
                      <a:pt x="332" y="392"/>
                    </a:lnTo>
                    <a:lnTo>
                      <a:pt x="344" y="390"/>
                    </a:lnTo>
                    <a:lnTo>
                      <a:pt x="353" y="388"/>
                    </a:lnTo>
                    <a:lnTo>
                      <a:pt x="361" y="384"/>
                    </a:lnTo>
                    <a:lnTo>
                      <a:pt x="364" y="379"/>
                    </a:lnTo>
                    <a:lnTo>
                      <a:pt x="367" y="367"/>
                    </a:lnTo>
                    <a:lnTo>
                      <a:pt x="373" y="350"/>
                    </a:lnTo>
                    <a:lnTo>
                      <a:pt x="379" y="336"/>
                    </a:lnTo>
                    <a:lnTo>
                      <a:pt x="382" y="324"/>
                    </a:lnTo>
                    <a:lnTo>
                      <a:pt x="387" y="313"/>
                    </a:lnTo>
                    <a:lnTo>
                      <a:pt x="396" y="300"/>
                    </a:lnTo>
                    <a:lnTo>
                      <a:pt x="405" y="288"/>
                    </a:lnTo>
                    <a:lnTo>
                      <a:pt x="409" y="275"/>
                    </a:lnTo>
                    <a:lnTo>
                      <a:pt x="411" y="263"/>
                    </a:lnTo>
                    <a:lnTo>
                      <a:pt x="415" y="248"/>
                    </a:lnTo>
                    <a:lnTo>
                      <a:pt x="421" y="234"/>
                    </a:lnTo>
                    <a:lnTo>
                      <a:pt x="424" y="220"/>
                    </a:lnTo>
                    <a:lnTo>
                      <a:pt x="423" y="213"/>
                    </a:lnTo>
                    <a:lnTo>
                      <a:pt x="420" y="204"/>
                    </a:lnTo>
                    <a:lnTo>
                      <a:pt x="414" y="196"/>
                    </a:lnTo>
                    <a:lnTo>
                      <a:pt x="408" y="189"/>
                    </a:lnTo>
                    <a:lnTo>
                      <a:pt x="400" y="180"/>
                    </a:lnTo>
                    <a:lnTo>
                      <a:pt x="393" y="173"/>
                    </a:lnTo>
                    <a:lnTo>
                      <a:pt x="385" y="168"/>
                    </a:lnTo>
                    <a:lnTo>
                      <a:pt x="381" y="161"/>
                    </a:lnTo>
                    <a:lnTo>
                      <a:pt x="367" y="143"/>
                    </a:lnTo>
                    <a:lnTo>
                      <a:pt x="356" y="128"/>
                    </a:lnTo>
                    <a:lnTo>
                      <a:pt x="347" y="116"/>
                    </a:lnTo>
                    <a:lnTo>
                      <a:pt x="343" y="102"/>
                    </a:lnTo>
                    <a:lnTo>
                      <a:pt x="340" y="84"/>
                    </a:lnTo>
                    <a:lnTo>
                      <a:pt x="338" y="66"/>
                    </a:lnTo>
                    <a:lnTo>
                      <a:pt x="337" y="50"/>
                    </a:lnTo>
                    <a:lnTo>
                      <a:pt x="332" y="35"/>
                    </a:lnTo>
                    <a:lnTo>
                      <a:pt x="326" y="23"/>
                    </a:lnTo>
                    <a:lnTo>
                      <a:pt x="319" y="14"/>
                    </a:lnTo>
                    <a:lnTo>
                      <a:pt x="311" y="5"/>
                    </a:lnTo>
                    <a:lnTo>
                      <a:pt x="305" y="0"/>
                    </a:lnTo>
                    <a:lnTo>
                      <a:pt x="308" y="17"/>
                    </a:lnTo>
                    <a:lnTo>
                      <a:pt x="311" y="35"/>
                    </a:lnTo>
                    <a:lnTo>
                      <a:pt x="311" y="51"/>
                    </a:lnTo>
                    <a:lnTo>
                      <a:pt x="311" y="64"/>
                    </a:lnTo>
                    <a:lnTo>
                      <a:pt x="311" y="71"/>
                    </a:lnTo>
                    <a:lnTo>
                      <a:pt x="308" y="76"/>
                    </a:lnTo>
                    <a:lnTo>
                      <a:pt x="305" y="78"/>
                    </a:lnTo>
                    <a:lnTo>
                      <a:pt x="299" y="7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Freeform 18"/>
              <p:cNvSpPr/>
              <p:nvPr/>
            </p:nvSpPr>
            <p:spPr>
              <a:xfrm>
                <a:off x="1089360" y="4334760"/>
                <a:ext cx="153720" cy="297000"/>
              </a:xfrm>
              <a:custGeom>
                <a:avLst/>
                <a:gdLst>
                  <a:gd name="textAreaLeft" fmla="*/ 0 w 153720"/>
                  <a:gd name="textAreaRight" fmla="*/ 154080 w 153720"/>
                  <a:gd name="textAreaTop" fmla="*/ 0 h 297000"/>
                  <a:gd name="textAreaBottom" fmla="*/ 297360 h 297000"/>
                </a:gdLst>
                <a:ahLst/>
                <a:rect l="textAreaLeft" t="textAreaTop" r="textAreaRight" b="textAreaBottom"/>
                <a:pathLst>
                  <a:path w="83" h="140">
                    <a:moveTo>
                      <a:pt x="24" y="50"/>
                    </a:moveTo>
                    <a:lnTo>
                      <a:pt x="35" y="45"/>
                    </a:lnTo>
                    <a:lnTo>
                      <a:pt x="42" y="36"/>
                    </a:lnTo>
                    <a:lnTo>
                      <a:pt x="48" y="27"/>
                    </a:lnTo>
                    <a:lnTo>
                      <a:pt x="56" y="16"/>
                    </a:lnTo>
                    <a:lnTo>
                      <a:pt x="63" y="7"/>
                    </a:lnTo>
                    <a:lnTo>
                      <a:pt x="73" y="0"/>
                    </a:lnTo>
                    <a:lnTo>
                      <a:pt x="80" y="4"/>
                    </a:lnTo>
                    <a:lnTo>
                      <a:pt x="83" y="18"/>
                    </a:lnTo>
                    <a:lnTo>
                      <a:pt x="83" y="36"/>
                    </a:lnTo>
                    <a:lnTo>
                      <a:pt x="82" y="50"/>
                    </a:lnTo>
                    <a:lnTo>
                      <a:pt x="79" y="63"/>
                    </a:lnTo>
                    <a:lnTo>
                      <a:pt x="80" y="75"/>
                    </a:lnTo>
                    <a:lnTo>
                      <a:pt x="80" y="88"/>
                    </a:lnTo>
                    <a:lnTo>
                      <a:pt x="77" y="100"/>
                    </a:lnTo>
                    <a:lnTo>
                      <a:pt x="71" y="111"/>
                    </a:lnTo>
                    <a:lnTo>
                      <a:pt x="62" y="116"/>
                    </a:lnTo>
                    <a:lnTo>
                      <a:pt x="53" y="120"/>
                    </a:lnTo>
                    <a:lnTo>
                      <a:pt x="44" y="125"/>
                    </a:lnTo>
                    <a:lnTo>
                      <a:pt x="36" y="131"/>
                    </a:lnTo>
                    <a:lnTo>
                      <a:pt x="32" y="136"/>
                    </a:lnTo>
                    <a:lnTo>
                      <a:pt x="27" y="140"/>
                    </a:lnTo>
                    <a:lnTo>
                      <a:pt x="20" y="138"/>
                    </a:lnTo>
                    <a:lnTo>
                      <a:pt x="12" y="132"/>
                    </a:lnTo>
                    <a:lnTo>
                      <a:pt x="6" y="124"/>
                    </a:lnTo>
                    <a:lnTo>
                      <a:pt x="0" y="107"/>
                    </a:lnTo>
                    <a:lnTo>
                      <a:pt x="0" y="86"/>
                    </a:lnTo>
                    <a:lnTo>
                      <a:pt x="8" y="64"/>
                    </a:lnTo>
                    <a:lnTo>
                      <a:pt x="24" y="5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Freeform 19"/>
              <p:cNvSpPr/>
              <p:nvPr/>
            </p:nvSpPr>
            <p:spPr>
              <a:xfrm>
                <a:off x="781560" y="4487760"/>
                <a:ext cx="231840" cy="298800"/>
              </a:xfrm>
              <a:custGeom>
                <a:avLst/>
                <a:gdLst>
                  <a:gd name="textAreaLeft" fmla="*/ 0 w 231840"/>
                  <a:gd name="textAreaRight" fmla="*/ 232200 w 231840"/>
                  <a:gd name="textAreaTop" fmla="*/ 0 h 298800"/>
                  <a:gd name="textAreaBottom" fmla="*/ 299160 h 298800"/>
                </a:gdLst>
                <a:ahLst/>
                <a:rect l="textAreaLeft" t="textAreaTop" r="textAreaRight" b="textAreaBottom"/>
                <a:pathLst>
                  <a:path w="125" h="141">
                    <a:moveTo>
                      <a:pt x="0" y="3"/>
                    </a:moveTo>
                    <a:lnTo>
                      <a:pt x="1" y="12"/>
                    </a:lnTo>
                    <a:lnTo>
                      <a:pt x="13" y="19"/>
                    </a:lnTo>
                    <a:lnTo>
                      <a:pt x="27" y="28"/>
                    </a:lnTo>
                    <a:lnTo>
                      <a:pt x="36" y="41"/>
                    </a:lnTo>
                    <a:lnTo>
                      <a:pt x="42" y="52"/>
                    </a:lnTo>
                    <a:lnTo>
                      <a:pt x="47" y="60"/>
                    </a:lnTo>
                    <a:lnTo>
                      <a:pt x="51" y="69"/>
                    </a:lnTo>
                    <a:lnTo>
                      <a:pt x="56" y="80"/>
                    </a:lnTo>
                    <a:lnTo>
                      <a:pt x="62" y="93"/>
                    </a:lnTo>
                    <a:lnTo>
                      <a:pt x="71" y="107"/>
                    </a:lnTo>
                    <a:lnTo>
                      <a:pt x="80" y="121"/>
                    </a:lnTo>
                    <a:lnTo>
                      <a:pt x="90" y="137"/>
                    </a:lnTo>
                    <a:lnTo>
                      <a:pt x="98" y="141"/>
                    </a:lnTo>
                    <a:lnTo>
                      <a:pt x="107" y="141"/>
                    </a:lnTo>
                    <a:lnTo>
                      <a:pt x="116" y="139"/>
                    </a:lnTo>
                    <a:lnTo>
                      <a:pt x="124" y="134"/>
                    </a:lnTo>
                    <a:lnTo>
                      <a:pt x="125" y="125"/>
                    </a:lnTo>
                    <a:lnTo>
                      <a:pt x="122" y="114"/>
                    </a:lnTo>
                    <a:lnTo>
                      <a:pt x="116" y="102"/>
                    </a:lnTo>
                    <a:lnTo>
                      <a:pt x="107" y="93"/>
                    </a:lnTo>
                    <a:lnTo>
                      <a:pt x="100" y="86"/>
                    </a:lnTo>
                    <a:lnTo>
                      <a:pt x="92" y="78"/>
                    </a:lnTo>
                    <a:lnTo>
                      <a:pt x="83" y="71"/>
                    </a:lnTo>
                    <a:lnTo>
                      <a:pt x="75" y="64"/>
                    </a:lnTo>
                    <a:lnTo>
                      <a:pt x="69" y="57"/>
                    </a:lnTo>
                    <a:lnTo>
                      <a:pt x="63" y="50"/>
                    </a:lnTo>
                    <a:lnTo>
                      <a:pt x="59" y="43"/>
                    </a:lnTo>
                    <a:lnTo>
                      <a:pt x="54" y="35"/>
                    </a:lnTo>
                    <a:lnTo>
                      <a:pt x="50" y="26"/>
                    </a:lnTo>
                    <a:lnTo>
                      <a:pt x="44" y="19"/>
                    </a:lnTo>
                    <a:lnTo>
                      <a:pt x="38" y="14"/>
                    </a:lnTo>
                    <a:lnTo>
                      <a:pt x="30" y="12"/>
                    </a:lnTo>
                    <a:lnTo>
                      <a:pt x="22" y="9"/>
                    </a:lnTo>
                    <a:lnTo>
                      <a:pt x="13" y="3"/>
                    </a:lnTo>
                    <a:lnTo>
                      <a:pt x="6" y="0"/>
                    </a:lnTo>
                    <a:lnTo>
                      <a:pt x="0" y="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Freeform 20"/>
              <p:cNvSpPr/>
              <p:nvPr/>
            </p:nvSpPr>
            <p:spPr>
              <a:xfrm>
                <a:off x="1528920" y="3257640"/>
                <a:ext cx="249840" cy="333000"/>
              </a:xfrm>
              <a:custGeom>
                <a:avLst/>
                <a:gdLst>
                  <a:gd name="textAreaLeft" fmla="*/ 0 w 249840"/>
                  <a:gd name="textAreaRight" fmla="*/ 250200 w 249840"/>
                  <a:gd name="textAreaTop" fmla="*/ 0 h 333000"/>
                  <a:gd name="textAreaBottom" fmla="*/ 333360 h 333000"/>
                </a:gdLst>
                <a:ahLst/>
                <a:rect l="textAreaLeft" t="textAreaTop" r="textAreaRight" b="textAreaBottom"/>
                <a:pathLst>
                  <a:path w="135" h="157">
                    <a:moveTo>
                      <a:pt x="83" y="141"/>
                    </a:moveTo>
                    <a:lnTo>
                      <a:pt x="97" y="123"/>
                    </a:lnTo>
                    <a:lnTo>
                      <a:pt x="109" y="102"/>
                    </a:lnTo>
                    <a:lnTo>
                      <a:pt x="117" y="78"/>
                    </a:lnTo>
                    <a:lnTo>
                      <a:pt x="120" y="60"/>
                    </a:lnTo>
                    <a:lnTo>
                      <a:pt x="124" y="46"/>
                    </a:lnTo>
                    <a:lnTo>
                      <a:pt x="130" y="32"/>
                    </a:lnTo>
                    <a:lnTo>
                      <a:pt x="135" y="17"/>
                    </a:lnTo>
                    <a:lnTo>
                      <a:pt x="127" y="5"/>
                    </a:lnTo>
                    <a:lnTo>
                      <a:pt x="115" y="0"/>
                    </a:lnTo>
                    <a:lnTo>
                      <a:pt x="109" y="1"/>
                    </a:lnTo>
                    <a:lnTo>
                      <a:pt x="106" y="10"/>
                    </a:lnTo>
                    <a:lnTo>
                      <a:pt x="103" y="23"/>
                    </a:lnTo>
                    <a:lnTo>
                      <a:pt x="99" y="41"/>
                    </a:lnTo>
                    <a:lnTo>
                      <a:pt x="89" y="60"/>
                    </a:lnTo>
                    <a:lnTo>
                      <a:pt x="80" y="78"/>
                    </a:lnTo>
                    <a:lnTo>
                      <a:pt x="71" y="94"/>
                    </a:lnTo>
                    <a:lnTo>
                      <a:pt x="65" y="102"/>
                    </a:lnTo>
                    <a:lnTo>
                      <a:pt x="55" y="109"/>
                    </a:lnTo>
                    <a:lnTo>
                      <a:pt x="44" y="116"/>
                    </a:lnTo>
                    <a:lnTo>
                      <a:pt x="32" y="123"/>
                    </a:lnTo>
                    <a:lnTo>
                      <a:pt x="20" y="128"/>
                    </a:lnTo>
                    <a:lnTo>
                      <a:pt x="9" y="134"/>
                    </a:lnTo>
                    <a:lnTo>
                      <a:pt x="3" y="136"/>
                    </a:lnTo>
                    <a:lnTo>
                      <a:pt x="0" y="137"/>
                    </a:lnTo>
                    <a:lnTo>
                      <a:pt x="8" y="146"/>
                    </a:lnTo>
                    <a:lnTo>
                      <a:pt x="18" y="152"/>
                    </a:lnTo>
                    <a:lnTo>
                      <a:pt x="29" y="157"/>
                    </a:lnTo>
                    <a:lnTo>
                      <a:pt x="40" y="157"/>
                    </a:lnTo>
                    <a:lnTo>
                      <a:pt x="52" y="157"/>
                    </a:lnTo>
                    <a:lnTo>
                      <a:pt x="62" y="154"/>
                    </a:lnTo>
                    <a:lnTo>
                      <a:pt x="74" y="148"/>
                    </a:lnTo>
                    <a:lnTo>
                      <a:pt x="83" y="14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Freeform 21"/>
              <p:cNvSpPr/>
              <p:nvPr/>
            </p:nvSpPr>
            <p:spPr>
              <a:xfrm>
                <a:off x="1539720" y="4585320"/>
                <a:ext cx="327960" cy="230760"/>
              </a:xfrm>
              <a:custGeom>
                <a:avLst/>
                <a:gdLst>
                  <a:gd name="textAreaLeft" fmla="*/ 0 w 327960"/>
                  <a:gd name="textAreaRight" fmla="*/ 327960 w 327960"/>
                  <a:gd name="textAreaTop" fmla="*/ 0 h 230760"/>
                  <a:gd name="textAreaBottom" fmla="*/ 231120 h 230760"/>
                </a:gdLst>
                <a:ahLst/>
                <a:rect l="textAreaLeft" t="textAreaTop" r="textAreaRight" b="textAreaBottom"/>
                <a:pathLst>
                  <a:path w="177" h="109">
                    <a:moveTo>
                      <a:pt x="31" y="6"/>
                    </a:moveTo>
                    <a:lnTo>
                      <a:pt x="38" y="4"/>
                    </a:lnTo>
                    <a:lnTo>
                      <a:pt x="44" y="2"/>
                    </a:lnTo>
                    <a:lnTo>
                      <a:pt x="52" y="2"/>
                    </a:lnTo>
                    <a:lnTo>
                      <a:pt x="58" y="0"/>
                    </a:lnTo>
                    <a:lnTo>
                      <a:pt x="64" y="0"/>
                    </a:lnTo>
                    <a:lnTo>
                      <a:pt x="71" y="2"/>
                    </a:lnTo>
                    <a:lnTo>
                      <a:pt x="77" y="6"/>
                    </a:lnTo>
                    <a:lnTo>
                      <a:pt x="85" y="11"/>
                    </a:lnTo>
                    <a:lnTo>
                      <a:pt x="93" y="18"/>
                    </a:lnTo>
                    <a:lnTo>
                      <a:pt x="100" y="25"/>
                    </a:lnTo>
                    <a:lnTo>
                      <a:pt x="106" y="34"/>
                    </a:lnTo>
                    <a:lnTo>
                      <a:pt x="114" y="41"/>
                    </a:lnTo>
                    <a:lnTo>
                      <a:pt x="120" y="50"/>
                    </a:lnTo>
                    <a:lnTo>
                      <a:pt x="127" y="57"/>
                    </a:lnTo>
                    <a:lnTo>
                      <a:pt x="133" y="63"/>
                    </a:lnTo>
                    <a:lnTo>
                      <a:pt x="141" y="68"/>
                    </a:lnTo>
                    <a:lnTo>
                      <a:pt x="155" y="79"/>
                    </a:lnTo>
                    <a:lnTo>
                      <a:pt x="167" y="91"/>
                    </a:lnTo>
                    <a:lnTo>
                      <a:pt x="174" y="104"/>
                    </a:lnTo>
                    <a:lnTo>
                      <a:pt x="177" y="109"/>
                    </a:lnTo>
                    <a:lnTo>
                      <a:pt x="126" y="95"/>
                    </a:lnTo>
                    <a:lnTo>
                      <a:pt x="94" y="100"/>
                    </a:lnTo>
                    <a:lnTo>
                      <a:pt x="91" y="100"/>
                    </a:lnTo>
                    <a:lnTo>
                      <a:pt x="85" y="100"/>
                    </a:lnTo>
                    <a:lnTo>
                      <a:pt x="76" y="99"/>
                    </a:lnTo>
                    <a:lnTo>
                      <a:pt x="65" y="95"/>
                    </a:lnTo>
                    <a:lnTo>
                      <a:pt x="53" y="90"/>
                    </a:lnTo>
                    <a:lnTo>
                      <a:pt x="41" y="82"/>
                    </a:lnTo>
                    <a:lnTo>
                      <a:pt x="32" y="72"/>
                    </a:lnTo>
                    <a:lnTo>
                      <a:pt x="26" y="57"/>
                    </a:lnTo>
                    <a:lnTo>
                      <a:pt x="22" y="48"/>
                    </a:lnTo>
                    <a:lnTo>
                      <a:pt x="14" y="40"/>
                    </a:lnTo>
                    <a:lnTo>
                      <a:pt x="8" y="34"/>
                    </a:lnTo>
                    <a:lnTo>
                      <a:pt x="2" y="27"/>
                    </a:lnTo>
                    <a:lnTo>
                      <a:pt x="0" y="20"/>
                    </a:lnTo>
                    <a:lnTo>
                      <a:pt x="3" y="14"/>
                    </a:lnTo>
                    <a:lnTo>
                      <a:pt x="14" y="9"/>
                    </a:lnTo>
                    <a:lnTo>
                      <a:pt x="31"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Freeform 22"/>
              <p:cNvSpPr/>
              <p:nvPr/>
            </p:nvSpPr>
            <p:spPr>
              <a:xfrm>
                <a:off x="2158920" y="5679360"/>
                <a:ext cx="151560" cy="250200"/>
              </a:xfrm>
              <a:custGeom>
                <a:avLst/>
                <a:gdLst>
                  <a:gd name="textAreaLeft" fmla="*/ 0 w 151560"/>
                  <a:gd name="textAreaRight" fmla="*/ 151920 w 151560"/>
                  <a:gd name="textAreaTop" fmla="*/ 0 h 250200"/>
                  <a:gd name="textAreaBottom" fmla="*/ 250560 h 250200"/>
                </a:gdLst>
                <a:ahLst/>
                <a:rect l="textAreaLeft" t="textAreaTop" r="textAreaRight" b="textAreaBottom"/>
                <a:pathLst>
                  <a:path w="82" h="118">
                    <a:moveTo>
                      <a:pt x="23" y="62"/>
                    </a:moveTo>
                    <a:lnTo>
                      <a:pt x="29" y="59"/>
                    </a:lnTo>
                    <a:lnTo>
                      <a:pt x="37" y="53"/>
                    </a:lnTo>
                    <a:lnTo>
                      <a:pt x="46" y="44"/>
                    </a:lnTo>
                    <a:lnTo>
                      <a:pt x="53" y="34"/>
                    </a:lnTo>
                    <a:lnTo>
                      <a:pt x="62" y="25"/>
                    </a:lnTo>
                    <a:lnTo>
                      <a:pt x="70" y="14"/>
                    </a:lnTo>
                    <a:lnTo>
                      <a:pt x="76" y="7"/>
                    </a:lnTo>
                    <a:lnTo>
                      <a:pt x="79" y="2"/>
                    </a:lnTo>
                    <a:lnTo>
                      <a:pt x="82" y="0"/>
                    </a:lnTo>
                    <a:lnTo>
                      <a:pt x="82" y="3"/>
                    </a:lnTo>
                    <a:lnTo>
                      <a:pt x="82" y="14"/>
                    </a:lnTo>
                    <a:lnTo>
                      <a:pt x="80" y="30"/>
                    </a:lnTo>
                    <a:lnTo>
                      <a:pt x="77" y="46"/>
                    </a:lnTo>
                    <a:lnTo>
                      <a:pt x="70" y="59"/>
                    </a:lnTo>
                    <a:lnTo>
                      <a:pt x="61" y="68"/>
                    </a:lnTo>
                    <a:lnTo>
                      <a:pt x="52" y="73"/>
                    </a:lnTo>
                    <a:lnTo>
                      <a:pt x="47" y="78"/>
                    </a:lnTo>
                    <a:lnTo>
                      <a:pt x="44" y="89"/>
                    </a:lnTo>
                    <a:lnTo>
                      <a:pt x="44" y="102"/>
                    </a:lnTo>
                    <a:lnTo>
                      <a:pt x="44" y="111"/>
                    </a:lnTo>
                    <a:lnTo>
                      <a:pt x="38" y="116"/>
                    </a:lnTo>
                    <a:lnTo>
                      <a:pt x="26" y="118"/>
                    </a:lnTo>
                    <a:lnTo>
                      <a:pt x="11" y="114"/>
                    </a:lnTo>
                    <a:lnTo>
                      <a:pt x="2" y="105"/>
                    </a:lnTo>
                    <a:lnTo>
                      <a:pt x="0" y="93"/>
                    </a:lnTo>
                    <a:lnTo>
                      <a:pt x="3" y="78"/>
                    </a:lnTo>
                    <a:lnTo>
                      <a:pt x="11" y="68"/>
                    </a:lnTo>
                    <a:lnTo>
                      <a:pt x="23" y="6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Freeform 23"/>
              <p:cNvSpPr/>
              <p:nvPr/>
            </p:nvSpPr>
            <p:spPr>
              <a:xfrm>
                <a:off x="2320560" y="5497200"/>
                <a:ext cx="118440" cy="203400"/>
              </a:xfrm>
              <a:custGeom>
                <a:avLst/>
                <a:gdLst>
                  <a:gd name="textAreaLeft" fmla="*/ 0 w 118440"/>
                  <a:gd name="textAreaRight" fmla="*/ 118800 w 118440"/>
                  <a:gd name="textAreaTop" fmla="*/ 0 h 203400"/>
                  <a:gd name="textAreaBottom" fmla="*/ 203760 h 203400"/>
                </a:gdLst>
                <a:ahLst/>
                <a:rect l="textAreaLeft" t="textAreaTop" r="textAreaRight" b="textAreaBottom"/>
                <a:pathLst>
                  <a:path w="64" h="96">
                    <a:moveTo>
                      <a:pt x="3" y="0"/>
                    </a:moveTo>
                    <a:lnTo>
                      <a:pt x="12" y="7"/>
                    </a:lnTo>
                    <a:lnTo>
                      <a:pt x="21" y="21"/>
                    </a:lnTo>
                    <a:lnTo>
                      <a:pt x="28" y="36"/>
                    </a:lnTo>
                    <a:lnTo>
                      <a:pt x="34" y="43"/>
                    </a:lnTo>
                    <a:lnTo>
                      <a:pt x="42" y="43"/>
                    </a:lnTo>
                    <a:lnTo>
                      <a:pt x="51" y="43"/>
                    </a:lnTo>
                    <a:lnTo>
                      <a:pt x="60" y="45"/>
                    </a:lnTo>
                    <a:lnTo>
                      <a:pt x="64" y="50"/>
                    </a:lnTo>
                    <a:lnTo>
                      <a:pt x="64" y="59"/>
                    </a:lnTo>
                    <a:lnTo>
                      <a:pt x="61" y="68"/>
                    </a:lnTo>
                    <a:lnTo>
                      <a:pt x="55" y="79"/>
                    </a:lnTo>
                    <a:lnTo>
                      <a:pt x="49" y="88"/>
                    </a:lnTo>
                    <a:lnTo>
                      <a:pt x="43" y="93"/>
                    </a:lnTo>
                    <a:lnTo>
                      <a:pt x="37" y="96"/>
                    </a:lnTo>
                    <a:lnTo>
                      <a:pt x="30" y="95"/>
                    </a:lnTo>
                    <a:lnTo>
                      <a:pt x="24" y="88"/>
                    </a:lnTo>
                    <a:lnTo>
                      <a:pt x="19" y="77"/>
                    </a:lnTo>
                    <a:lnTo>
                      <a:pt x="16" y="66"/>
                    </a:lnTo>
                    <a:lnTo>
                      <a:pt x="15" y="55"/>
                    </a:lnTo>
                    <a:lnTo>
                      <a:pt x="15" y="48"/>
                    </a:lnTo>
                    <a:lnTo>
                      <a:pt x="13" y="39"/>
                    </a:lnTo>
                    <a:lnTo>
                      <a:pt x="9" y="28"/>
                    </a:lnTo>
                    <a:lnTo>
                      <a:pt x="3" y="21"/>
                    </a:lnTo>
                    <a:lnTo>
                      <a:pt x="0" y="18"/>
                    </a:lnTo>
                    <a:lnTo>
                      <a:pt x="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Group 24"/>
            <p:cNvGrpSpPr/>
            <p:nvPr/>
          </p:nvGrpSpPr>
          <p:grpSpPr>
            <a:xfrm>
              <a:off x="7573680" y="1701720"/>
              <a:ext cx="1578600" cy="3468600"/>
              <a:chOff x="7573680" y="1701720"/>
              <a:chExt cx="1578600" cy="3468600"/>
            </a:xfrm>
          </p:grpSpPr>
          <p:sp>
            <p:nvSpPr>
              <p:cNvPr id="83" name="Freeform 25"/>
              <p:cNvSpPr/>
              <p:nvPr/>
            </p:nvSpPr>
            <p:spPr>
              <a:xfrm>
                <a:off x="7792200" y="2714760"/>
                <a:ext cx="1356480" cy="1096200"/>
              </a:xfrm>
              <a:custGeom>
                <a:avLst/>
                <a:gdLst>
                  <a:gd name="textAreaLeft" fmla="*/ 0 w 1356480"/>
                  <a:gd name="textAreaRight" fmla="*/ 1356840 w 1356480"/>
                  <a:gd name="textAreaTop" fmla="*/ 0 h 1096200"/>
                  <a:gd name="textAreaBottom" fmla="*/ 1096560 h 1096200"/>
                </a:gdLst>
                <a:ahLst/>
                <a:rect l="textAreaLeft" t="textAreaTop" r="textAreaRight" b="textAreaBottom"/>
                <a:pathLst>
                  <a:path w="732" h="517">
                    <a:moveTo>
                      <a:pt x="732" y="372"/>
                    </a:moveTo>
                    <a:lnTo>
                      <a:pt x="732" y="0"/>
                    </a:lnTo>
                    <a:lnTo>
                      <a:pt x="100" y="5"/>
                    </a:lnTo>
                    <a:lnTo>
                      <a:pt x="95" y="16"/>
                    </a:lnTo>
                    <a:lnTo>
                      <a:pt x="90" y="25"/>
                    </a:lnTo>
                    <a:lnTo>
                      <a:pt x="87" y="32"/>
                    </a:lnTo>
                    <a:lnTo>
                      <a:pt x="84" y="36"/>
                    </a:lnTo>
                    <a:lnTo>
                      <a:pt x="77" y="41"/>
                    </a:lnTo>
                    <a:lnTo>
                      <a:pt x="68" y="41"/>
                    </a:lnTo>
                    <a:lnTo>
                      <a:pt x="57" y="41"/>
                    </a:lnTo>
                    <a:lnTo>
                      <a:pt x="47" y="37"/>
                    </a:lnTo>
                    <a:lnTo>
                      <a:pt x="36" y="34"/>
                    </a:lnTo>
                    <a:lnTo>
                      <a:pt x="27" y="30"/>
                    </a:lnTo>
                    <a:lnTo>
                      <a:pt x="21" y="28"/>
                    </a:lnTo>
                    <a:lnTo>
                      <a:pt x="19" y="27"/>
                    </a:lnTo>
                    <a:lnTo>
                      <a:pt x="16" y="30"/>
                    </a:lnTo>
                    <a:lnTo>
                      <a:pt x="10" y="41"/>
                    </a:lnTo>
                    <a:lnTo>
                      <a:pt x="3" y="55"/>
                    </a:lnTo>
                    <a:lnTo>
                      <a:pt x="0" y="70"/>
                    </a:lnTo>
                    <a:lnTo>
                      <a:pt x="3" y="88"/>
                    </a:lnTo>
                    <a:lnTo>
                      <a:pt x="9" y="111"/>
                    </a:lnTo>
                    <a:lnTo>
                      <a:pt x="16" y="132"/>
                    </a:lnTo>
                    <a:lnTo>
                      <a:pt x="24" y="145"/>
                    </a:lnTo>
                    <a:lnTo>
                      <a:pt x="28" y="148"/>
                    </a:lnTo>
                    <a:lnTo>
                      <a:pt x="33" y="152"/>
                    </a:lnTo>
                    <a:lnTo>
                      <a:pt x="41" y="154"/>
                    </a:lnTo>
                    <a:lnTo>
                      <a:pt x="48" y="156"/>
                    </a:lnTo>
                    <a:lnTo>
                      <a:pt x="57" y="154"/>
                    </a:lnTo>
                    <a:lnTo>
                      <a:pt x="65" y="152"/>
                    </a:lnTo>
                    <a:lnTo>
                      <a:pt x="72" y="147"/>
                    </a:lnTo>
                    <a:lnTo>
                      <a:pt x="80" y="139"/>
                    </a:lnTo>
                    <a:lnTo>
                      <a:pt x="86" y="129"/>
                    </a:lnTo>
                    <a:lnTo>
                      <a:pt x="95" y="116"/>
                    </a:lnTo>
                    <a:lnTo>
                      <a:pt x="104" y="100"/>
                    </a:lnTo>
                    <a:lnTo>
                      <a:pt x="115" y="84"/>
                    </a:lnTo>
                    <a:lnTo>
                      <a:pt x="125" y="70"/>
                    </a:lnTo>
                    <a:lnTo>
                      <a:pt x="136" y="57"/>
                    </a:lnTo>
                    <a:lnTo>
                      <a:pt x="146" y="46"/>
                    </a:lnTo>
                    <a:lnTo>
                      <a:pt x="155" y="41"/>
                    </a:lnTo>
                    <a:lnTo>
                      <a:pt x="165" y="37"/>
                    </a:lnTo>
                    <a:lnTo>
                      <a:pt x="174" y="37"/>
                    </a:lnTo>
                    <a:lnTo>
                      <a:pt x="183" y="36"/>
                    </a:lnTo>
                    <a:lnTo>
                      <a:pt x="192" y="37"/>
                    </a:lnTo>
                    <a:lnTo>
                      <a:pt x="201" y="39"/>
                    </a:lnTo>
                    <a:lnTo>
                      <a:pt x="210" y="43"/>
                    </a:lnTo>
                    <a:lnTo>
                      <a:pt x="217" y="48"/>
                    </a:lnTo>
                    <a:lnTo>
                      <a:pt x="223" y="55"/>
                    </a:lnTo>
                    <a:lnTo>
                      <a:pt x="230" y="64"/>
                    </a:lnTo>
                    <a:lnTo>
                      <a:pt x="237" y="75"/>
                    </a:lnTo>
                    <a:lnTo>
                      <a:pt x="245" y="88"/>
                    </a:lnTo>
                    <a:lnTo>
                      <a:pt x="252" y="100"/>
                    </a:lnTo>
                    <a:lnTo>
                      <a:pt x="260" y="111"/>
                    </a:lnTo>
                    <a:lnTo>
                      <a:pt x="266" y="122"/>
                    </a:lnTo>
                    <a:lnTo>
                      <a:pt x="269" y="129"/>
                    </a:lnTo>
                    <a:lnTo>
                      <a:pt x="270" y="130"/>
                    </a:lnTo>
                    <a:lnTo>
                      <a:pt x="279" y="98"/>
                    </a:lnTo>
                    <a:lnTo>
                      <a:pt x="311" y="88"/>
                    </a:lnTo>
                    <a:lnTo>
                      <a:pt x="323" y="145"/>
                    </a:lnTo>
                    <a:lnTo>
                      <a:pt x="325" y="141"/>
                    </a:lnTo>
                    <a:lnTo>
                      <a:pt x="331" y="132"/>
                    </a:lnTo>
                    <a:lnTo>
                      <a:pt x="340" y="118"/>
                    </a:lnTo>
                    <a:lnTo>
                      <a:pt x="350" y="102"/>
                    </a:lnTo>
                    <a:lnTo>
                      <a:pt x="364" y="80"/>
                    </a:lnTo>
                    <a:lnTo>
                      <a:pt x="376" y="55"/>
                    </a:lnTo>
                    <a:lnTo>
                      <a:pt x="385" y="36"/>
                    </a:lnTo>
                    <a:lnTo>
                      <a:pt x="390" y="27"/>
                    </a:lnTo>
                    <a:lnTo>
                      <a:pt x="393" y="28"/>
                    </a:lnTo>
                    <a:lnTo>
                      <a:pt x="400" y="30"/>
                    </a:lnTo>
                    <a:lnTo>
                      <a:pt x="409" y="36"/>
                    </a:lnTo>
                    <a:lnTo>
                      <a:pt x="418" y="41"/>
                    </a:lnTo>
                    <a:lnTo>
                      <a:pt x="424" y="45"/>
                    </a:lnTo>
                    <a:lnTo>
                      <a:pt x="431" y="46"/>
                    </a:lnTo>
                    <a:lnTo>
                      <a:pt x="440" y="50"/>
                    </a:lnTo>
                    <a:lnTo>
                      <a:pt x="447" y="52"/>
                    </a:lnTo>
                    <a:lnTo>
                      <a:pt x="455" y="54"/>
                    </a:lnTo>
                    <a:lnTo>
                      <a:pt x="461" y="54"/>
                    </a:lnTo>
                    <a:lnTo>
                      <a:pt x="465" y="55"/>
                    </a:lnTo>
                    <a:lnTo>
                      <a:pt x="467" y="55"/>
                    </a:lnTo>
                    <a:lnTo>
                      <a:pt x="473" y="57"/>
                    </a:lnTo>
                    <a:lnTo>
                      <a:pt x="485" y="61"/>
                    </a:lnTo>
                    <a:lnTo>
                      <a:pt x="500" y="66"/>
                    </a:lnTo>
                    <a:lnTo>
                      <a:pt x="511" y="73"/>
                    </a:lnTo>
                    <a:lnTo>
                      <a:pt x="518" y="84"/>
                    </a:lnTo>
                    <a:lnTo>
                      <a:pt x="529" y="98"/>
                    </a:lnTo>
                    <a:lnTo>
                      <a:pt x="538" y="111"/>
                    </a:lnTo>
                    <a:lnTo>
                      <a:pt x="542" y="116"/>
                    </a:lnTo>
                    <a:lnTo>
                      <a:pt x="530" y="118"/>
                    </a:lnTo>
                    <a:lnTo>
                      <a:pt x="520" y="120"/>
                    </a:lnTo>
                    <a:lnTo>
                      <a:pt x="509" y="122"/>
                    </a:lnTo>
                    <a:lnTo>
                      <a:pt x="500" y="122"/>
                    </a:lnTo>
                    <a:lnTo>
                      <a:pt x="491" y="122"/>
                    </a:lnTo>
                    <a:lnTo>
                      <a:pt x="482" y="122"/>
                    </a:lnTo>
                    <a:lnTo>
                      <a:pt x="474" y="120"/>
                    </a:lnTo>
                    <a:lnTo>
                      <a:pt x="467" y="116"/>
                    </a:lnTo>
                    <a:lnTo>
                      <a:pt x="458" y="113"/>
                    </a:lnTo>
                    <a:lnTo>
                      <a:pt x="449" y="113"/>
                    </a:lnTo>
                    <a:lnTo>
                      <a:pt x="440" y="113"/>
                    </a:lnTo>
                    <a:lnTo>
                      <a:pt x="431" y="113"/>
                    </a:lnTo>
                    <a:lnTo>
                      <a:pt x="420" y="114"/>
                    </a:lnTo>
                    <a:lnTo>
                      <a:pt x="411" y="118"/>
                    </a:lnTo>
                    <a:lnTo>
                      <a:pt x="402" y="122"/>
                    </a:lnTo>
                    <a:lnTo>
                      <a:pt x="394" y="125"/>
                    </a:lnTo>
                    <a:lnTo>
                      <a:pt x="382" y="139"/>
                    </a:lnTo>
                    <a:lnTo>
                      <a:pt x="373" y="156"/>
                    </a:lnTo>
                    <a:lnTo>
                      <a:pt x="369" y="172"/>
                    </a:lnTo>
                    <a:lnTo>
                      <a:pt x="367" y="177"/>
                    </a:lnTo>
                    <a:lnTo>
                      <a:pt x="372" y="179"/>
                    </a:lnTo>
                    <a:lnTo>
                      <a:pt x="382" y="182"/>
                    </a:lnTo>
                    <a:lnTo>
                      <a:pt x="397" y="188"/>
                    </a:lnTo>
                    <a:lnTo>
                      <a:pt x="411" y="191"/>
                    </a:lnTo>
                    <a:lnTo>
                      <a:pt x="420" y="197"/>
                    </a:lnTo>
                    <a:lnTo>
                      <a:pt x="426" y="202"/>
                    </a:lnTo>
                    <a:lnTo>
                      <a:pt x="429" y="213"/>
                    </a:lnTo>
                    <a:lnTo>
                      <a:pt x="431" y="225"/>
                    </a:lnTo>
                    <a:lnTo>
                      <a:pt x="427" y="240"/>
                    </a:lnTo>
                    <a:lnTo>
                      <a:pt x="423" y="256"/>
                    </a:lnTo>
                    <a:lnTo>
                      <a:pt x="417" y="267"/>
                    </a:lnTo>
                    <a:lnTo>
                      <a:pt x="414" y="272"/>
                    </a:lnTo>
                    <a:lnTo>
                      <a:pt x="423" y="281"/>
                    </a:lnTo>
                    <a:lnTo>
                      <a:pt x="435" y="293"/>
                    </a:lnTo>
                    <a:lnTo>
                      <a:pt x="446" y="310"/>
                    </a:lnTo>
                    <a:lnTo>
                      <a:pt x="450" y="320"/>
                    </a:lnTo>
                    <a:lnTo>
                      <a:pt x="462" y="327"/>
                    </a:lnTo>
                    <a:lnTo>
                      <a:pt x="471" y="342"/>
                    </a:lnTo>
                    <a:lnTo>
                      <a:pt x="479" y="358"/>
                    </a:lnTo>
                    <a:lnTo>
                      <a:pt x="482" y="372"/>
                    </a:lnTo>
                    <a:lnTo>
                      <a:pt x="485" y="381"/>
                    </a:lnTo>
                    <a:lnTo>
                      <a:pt x="489" y="395"/>
                    </a:lnTo>
                    <a:lnTo>
                      <a:pt x="497" y="412"/>
                    </a:lnTo>
                    <a:lnTo>
                      <a:pt x="505" y="431"/>
                    </a:lnTo>
                    <a:lnTo>
                      <a:pt x="514" y="451"/>
                    </a:lnTo>
                    <a:lnTo>
                      <a:pt x="521" y="467"/>
                    </a:lnTo>
                    <a:lnTo>
                      <a:pt x="529" y="480"/>
                    </a:lnTo>
                    <a:lnTo>
                      <a:pt x="533" y="485"/>
                    </a:lnTo>
                    <a:lnTo>
                      <a:pt x="544" y="490"/>
                    </a:lnTo>
                    <a:lnTo>
                      <a:pt x="556" y="501"/>
                    </a:lnTo>
                    <a:lnTo>
                      <a:pt x="568" y="512"/>
                    </a:lnTo>
                    <a:lnTo>
                      <a:pt x="576" y="517"/>
                    </a:lnTo>
                    <a:lnTo>
                      <a:pt x="580" y="517"/>
                    </a:lnTo>
                    <a:lnTo>
                      <a:pt x="585" y="517"/>
                    </a:lnTo>
                    <a:lnTo>
                      <a:pt x="592" y="514"/>
                    </a:lnTo>
                    <a:lnTo>
                      <a:pt x="598" y="510"/>
                    </a:lnTo>
                    <a:lnTo>
                      <a:pt x="606" y="506"/>
                    </a:lnTo>
                    <a:lnTo>
                      <a:pt x="612" y="501"/>
                    </a:lnTo>
                    <a:lnTo>
                      <a:pt x="618" y="494"/>
                    </a:lnTo>
                    <a:lnTo>
                      <a:pt x="621" y="487"/>
                    </a:lnTo>
                    <a:lnTo>
                      <a:pt x="624" y="480"/>
                    </a:lnTo>
                    <a:lnTo>
                      <a:pt x="629" y="469"/>
                    </a:lnTo>
                    <a:lnTo>
                      <a:pt x="636" y="458"/>
                    </a:lnTo>
                    <a:lnTo>
                      <a:pt x="642" y="446"/>
                    </a:lnTo>
                    <a:lnTo>
                      <a:pt x="650" y="435"/>
                    </a:lnTo>
                    <a:lnTo>
                      <a:pt x="657" y="424"/>
                    </a:lnTo>
                    <a:lnTo>
                      <a:pt x="665" y="417"/>
                    </a:lnTo>
                    <a:lnTo>
                      <a:pt x="671" y="412"/>
                    </a:lnTo>
                    <a:lnTo>
                      <a:pt x="683" y="404"/>
                    </a:lnTo>
                    <a:lnTo>
                      <a:pt x="695" y="395"/>
                    </a:lnTo>
                    <a:lnTo>
                      <a:pt x="703" y="388"/>
                    </a:lnTo>
                    <a:lnTo>
                      <a:pt x="706" y="385"/>
                    </a:lnTo>
                    <a:lnTo>
                      <a:pt x="689" y="379"/>
                    </a:lnTo>
                    <a:lnTo>
                      <a:pt x="672" y="374"/>
                    </a:lnTo>
                    <a:lnTo>
                      <a:pt x="656" y="369"/>
                    </a:lnTo>
                    <a:lnTo>
                      <a:pt x="639" y="363"/>
                    </a:lnTo>
                    <a:lnTo>
                      <a:pt x="624" y="356"/>
                    </a:lnTo>
                    <a:lnTo>
                      <a:pt x="610" y="349"/>
                    </a:lnTo>
                    <a:lnTo>
                      <a:pt x="600" y="342"/>
                    </a:lnTo>
                    <a:lnTo>
                      <a:pt x="592" y="333"/>
                    </a:lnTo>
                    <a:lnTo>
                      <a:pt x="585" y="315"/>
                    </a:lnTo>
                    <a:lnTo>
                      <a:pt x="583" y="299"/>
                    </a:lnTo>
                    <a:lnTo>
                      <a:pt x="589" y="284"/>
                    </a:lnTo>
                    <a:lnTo>
                      <a:pt x="600" y="274"/>
                    </a:lnTo>
                    <a:lnTo>
                      <a:pt x="612" y="272"/>
                    </a:lnTo>
                    <a:lnTo>
                      <a:pt x="622" y="277"/>
                    </a:lnTo>
                    <a:lnTo>
                      <a:pt x="632" y="288"/>
                    </a:lnTo>
                    <a:lnTo>
                      <a:pt x="638" y="299"/>
                    </a:lnTo>
                    <a:lnTo>
                      <a:pt x="641" y="304"/>
                    </a:lnTo>
                    <a:lnTo>
                      <a:pt x="644" y="310"/>
                    </a:lnTo>
                    <a:lnTo>
                      <a:pt x="650" y="317"/>
                    </a:lnTo>
                    <a:lnTo>
                      <a:pt x="656" y="324"/>
                    </a:lnTo>
                    <a:lnTo>
                      <a:pt x="662" y="331"/>
                    </a:lnTo>
                    <a:lnTo>
                      <a:pt x="669" y="336"/>
                    </a:lnTo>
                    <a:lnTo>
                      <a:pt x="677" y="338"/>
                    </a:lnTo>
                    <a:lnTo>
                      <a:pt x="686" y="338"/>
                    </a:lnTo>
                    <a:lnTo>
                      <a:pt x="697" y="338"/>
                    </a:lnTo>
                    <a:lnTo>
                      <a:pt x="710" y="338"/>
                    </a:lnTo>
                    <a:lnTo>
                      <a:pt x="725" y="34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Freeform 26"/>
              <p:cNvSpPr/>
              <p:nvPr/>
            </p:nvSpPr>
            <p:spPr>
              <a:xfrm>
                <a:off x="7573680" y="3117600"/>
                <a:ext cx="1298880" cy="2052720"/>
              </a:xfrm>
              <a:custGeom>
                <a:avLst/>
                <a:gdLst>
                  <a:gd name="textAreaLeft" fmla="*/ 0 w 1298880"/>
                  <a:gd name="textAreaRight" fmla="*/ 1299240 w 1298880"/>
                  <a:gd name="textAreaTop" fmla="*/ 0 h 2052720"/>
                  <a:gd name="textAreaBottom" fmla="*/ 2053080 h 2052720"/>
                </a:gdLst>
                <a:ahLst/>
                <a:rect l="textAreaLeft" t="textAreaTop" r="textAreaRight" b="textAreaBottom"/>
                <a:pathLst>
                  <a:path w="701" h="968">
                    <a:moveTo>
                      <a:pt x="511" y="98"/>
                    </a:moveTo>
                    <a:lnTo>
                      <a:pt x="502" y="98"/>
                    </a:lnTo>
                    <a:lnTo>
                      <a:pt x="491" y="98"/>
                    </a:lnTo>
                    <a:lnTo>
                      <a:pt x="481" y="95"/>
                    </a:lnTo>
                    <a:lnTo>
                      <a:pt x="471" y="91"/>
                    </a:lnTo>
                    <a:lnTo>
                      <a:pt x="462" y="88"/>
                    </a:lnTo>
                    <a:lnTo>
                      <a:pt x="455" y="82"/>
                    </a:lnTo>
                    <a:lnTo>
                      <a:pt x="449" y="79"/>
                    </a:lnTo>
                    <a:lnTo>
                      <a:pt x="443" y="75"/>
                    </a:lnTo>
                    <a:lnTo>
                      <a:pt x="438" y="73"/>
                    </a:lnTo>
                    <a:lnTo>
                      <a:pt x="432" y="73"/>
                    </a:lnTo>
                    <a:lnTo>
                      <a:pt x="426" y="77"/>
                    </a:lnTo>
                    <a:lnTo>
                      <a:pt x="420" y="80"/>
                    </a:lnTo>
                    <a:lnTo>
                      <a:pt x="413" y="86"/>
                    </a:lnTo>
                    <a:lnTo>
                      <a:pt x="406" y="91"/>
                    </a:lnTo>
                    <a:lnTo>
                      <a:pt x="399" y="95"/>
                    </a:lnTo>
                    <a:lnTo>
                      <a:pt x="391" y="98"/>
                    </a:lnTo>
                    <a:lnTo>
                      <a:pt x="384" y="98"/>
                    </a:lnTo>
                    <a:lnTo>
                      <a:pt x="373" y="96"/>
                    </a:lnTo>
                    <a:lnTo>
                      <a:pt x="363" y="95"/>
                    </a:lnTo>
                    <a:lnTo>
                      <a:pt x="352" y="89"/>
                    </a:lnTo>
                    <a:lnTo>
                      <a:pt x="342" y="82"/>
                    </a:lnTo>
                    <a:lnTo>
                      <a:pt x="331" y="75"/>
                    </a:lnTo>
                    <a:lnTo>
                      <a:pt x="322" y="66"/>
                    </a:lnTo>
                    <a:lnTo>
                      <a:pt x="316" y="55"/>
                    </a:lnTo>
                    <a:lnTo>
                      <a:pt x="308" y="45"/>
                    </a:lnTo>
                    <a:lnTo>
                      <a:pt x="298" y="32"/>
                    </a:lnTo>
                    <a:lnTo>
                      <a:pt x="284" y="21"/>
                    </a:lnTo>
                    <a:lnTo>
                      <a:pt x="272" y="12"/>
                    </a:lnTo>
                    <a:lnTo>
                      <a:pt x="258" y="5"/>
                    </a:lnTo>
                    <a:lnTo>
                      <a:pt x="246" y="0"/>
                    </a:lnTo>
                    <a:lnTo>
                      <a:pt x="236" y="0"/>
                    </a:lnTo>
                    <a:lnTo>
                      <a:pt x="228" y="3"/>
                    </a:lnTo>
                    <a:lnTo>
                      <a:pt x="221" y="9"/>
                    </a:lnTo>
                    <a:lnTo>
                      <a:pt x="212" y="14"/>
                    </a:lnTo>
                    <a:lnTo>
                      <a:pt x="199" y="16"/>
                    </a:lnTo>
                    <a:lnTo>
                      <a:pt x="187" y="18"/>
                    </a:lnTo>
                    <a:lnTo>
                      <a:pt x="175" y="20"/>
                    </a:lnTo>
                    <a:lnTo>
                      <a:pt x="163" y="21"/>
                    </a:lnTo>
                    <a:lnTo>
                      <a:pt x="153" y="27"/>
                    </a:lnTo>
                    <a:lnTo>
                      <a:pt x="144" y="32"/>
                    </a:lnTo>
                    <a:lnTo>
                      <a:pt x="136" y="39"/>
                    </a:lnTo>
                    <a:lnTo>
                      <a:pt x="127" y="50"/>
                    </a:lnTo>
                    <a:lnTo>
                      <a:pt x="116" y="62"/>
                    </a:lnTo>
                    <a:lnTo>
                      <a:pt x="107" y="75"/>
                    </a:lnTo>
                    <a:lnTo>
                      <a:pt x="98" y="88"/>
                    </a:lnTo>
                    <a:lnTo>
                      <a:pt x="89" y="100"/>
                    </a:lnTo>
                    <a:lnTo>
                      <a:pt x="82" y="113"/>
                    </a:lnTo>
                    <a:lnTo>
                      <a:pt x="77" y="122"/>
                    </a:lnTo>
                    <a:lnTo>
                      <a:pt x="71" y="131"/>
                    </a:lnTo>
                    <a:lnTo>
                      <a:pt x="62" y="138"/>
                    </a:lnTo>
                    <a:lnTo>
                      <a:pt x="53" y="147"/>
                    </a:lnTo>
                    <a:lnTo>
                      <a:pt x="42" y="156"/>
                    </a:lnTo>
                    <a:lnTo>
                      <a:pt x="33" y="165"/>
                    </a:lnTo>
                    <a:lnTo>
                      <a:pt x="24" y="173"/>
                    </a:lnTo>
                    <a:lnTo>
                      <a:pt x="18" y="182"/>
                    </a:lnTo>
                    <a:lnTo>
                      <a:pt x="17" y="193"/>
                    </a:lnTo>
                    <a:lnTo>
                      <a:pt x="14" y="215"/>
                    </a:lnTo>
                    <a:lnTo>
                      <a:pt x="9" y="236"/>
                    </a:lnTo>
                    <a:lnTo>
                      <a:pt x="3" y="250"/>
                    </a:lnTo>
                    <a:lnTo>
                      <a:pt x="0" y="258"/>
                    </a:lnTo>
                    <a:lnTo>
                      <a:pt x="1" y="268"/>
                    </a:lnTo>
                    <a:lnTo>
                      <a:pt x="4" y="295"/>
                    </a:lnTo>
                    <a:lnTo>
                      <a:pt x="9" y="324"/>
                    </a:lnTo>
                    <a:lnTo>
                      <a:pt x="17" y="344"/>
                    </a:lnTo>
                    <a:lnTo>
                      <a:pt x="23" y="360"/>
                    </a:lnTo>
                    <a:lnTo>
                      <a:pt x="27" y="383"/>
                    </a:lnTo>
                    <a:lnTo>
                      <a:pt x="36" y="404"/>
                    </a:lnTo>
                    <a:lnTo>
                      <a:pt x="53" y="419"/>
                    </a:lnTo>
                    <a:lnTo>
                      <a:pt x="66" y="422"/>
                    </a:lnTo>
                    <a:lnTo>
                      <a:pt x="85" y="426"/>
                    </a:lnTo>
                    <a:lnTo>
                      <a:pt x="104" y="429"/>
                    </a:lnTo>
                    <a:lnTo>
                      <a:pt x="125" y="431"/>
                    </a:lnTo>
                    <a:lnTo>
                      <a:pt x="147" y="433"/>
                    </a:lnTo>
                    <a:lnTo>
                      <a:pt x="166" y="435"/>
                    </a:lnTo>
                    <a:lnTo>
                      <a:pt x="183" y="435"/>
                    </a:lnTo>
                    <a:lnTo>
                      <a:pt x="196" y="433"/>
                    </a:lnTo>
                    <a:lnTo>
                      <a:pt x="207" y="431"/>
                    </a:lnTo>
                    <a:lnTo>
                      <a:pt x="216" y="431"/>
                    </a:lnTo>
                    <a:lnTo>
                      <a:pt x="225" y="431"/>
                    </a:lnTo>
                    <a:lnTo>
                      <a:pt x="234" y="433"/>
                    </a:lnTo>
                    <a:lnTo>
                      <a:pt x="242" y="435"/>
                    </a:lnTo>
                    <a:lnTo>
                      <a:pt x="249" y="438"/>
                    </a:lnTo>
                    <a:lnTo>
                      <a:pt x="257" y="442"/>
                    </a:lnTo>
                    <a:lnTo>
                      <a:pt x="263" y="447"/>
                    </a:lnTo>
                    <a:lnTo>
                      <a:pt x="275" y="458"/>
                    </a:lnTo>
                    <a:lnTo>
                      <a:pt x="283" y="472"/>
                    </a:lnTo>
                    <a:lnTo>
                      <a:pt x="286" y="487"/>
                    </a:lnTo>
                    <a:lnTo>
                      <a:pt x="284" y="503"/>
                    </a:lnTo>
                    <a:lnTo>
                      <a:pt x="280" y="519"/>
                    </a:lnTo>
                    <a:lnTo>
                      <a:pt x="280" y="530"/>
                    </a:lnTo>
                    <a:lnTo>
                      <a:pt x="287" y="539"/>
                    </a:lnTo>
                    <a:lnTo>
                      <a:pt x="304" y="546"/>
                    </a:lnTo>
                    <a:lnTo>
                      <a:pt x="317" y="555"/>
                    </a:lnTo>
                    <a:lnTo>
                      <a:pt x="320" y="569"/>
                    </a:lnTo>
                    <a:lnTo>
                      <a:pt x="319" y="585"/>
                    </a:lnTo>
                    <a:lnTo>
                      <a:pt x="317" y="603"/>
                    </a:lnTo>
                    <a:lnTo>
                      <a:pt x="317" y="623"/>
                    </a:lnTo>
                    <a:lnTo>
                      <a:pt x="316" y="643"/>
                    </a:lnTo>
                    <a:lnTo>
                      <a:pt x="313" y="666"/>
                    </a:lnTo>
                    <a:lnTo>
                      <a:pt x="311" y="693"/>
                    </a:lnTo>
                    <a:lnTo>
                      <a:pt x="308" y="705"/>
                    </a:lnTo>
                    <a:lnTo>
                      <a:pt x="304" y="716"/>
                    </a:lnTo>
                    <a:lnTo>
                      <a:pt x="302" y="727"/>
                    </a:lnTo>
                    <a:lnTo>
                      <a:pt x="307" y="745"/>
                    </a:lnTo>
                    <a:lnTo>
                      <a:pt x="311" y="755"/>
                    </a:lnTo>
                    <a:lnTo>
                      <a:pt x="317" y="773"/>
                    </a:lnTo>
                    <a:lnTo>
                      <a:pt x="323" y="791"/>
                    </a:lnTo>
                    <a:lnTo>
                      <a:pt x="329" y="804"/>
                    </a:lnTo>
                    <a:lnTo>
                      <a:pt x="335" y="816"/>
                    </a:lnTo>
                    <a:lnTo>
                      <a:pt x="345" y="836"/>
                    </a:lnTo>
                    <a:lnTo>
                      <a:pt x="354" y="857"/>
                    </a:lnTo>
                    <a:lnTo>
                      <a:pt x="360" y="873"/>
                    </a:lnTo>
                    <a:lnTo>
                      <a:pt x="364" y="893"/>
                    </a:lnTo>
                    <a:lnTo>
                      <a:pt x="370" y="922"/>
                    </a:lnTo>
                    <a:lnTo>
                      <a:pt x="379" y="947"/>
                    </a:lnTo>
                    <a:lnTo>
                      <a:pt x="388" y="961"/>
                    </a:lnTo>
                    <a:lnTo>
                      <a:pt x="394" y="965"/>
                    </a:lnTo>
                    <a:lnTo>
                      <a:pt x="405" y="967"/>
                    </a:lnTo>
                    <a:lnTo>
                      <a:pt x="416" y="968"/>
                    </a:lnTo>
                    <a:lnTo>
                      <a:pt x="429" y="968"/>
                    </a:lnTo>
                    <a:lnTo>
                      <a:pt x="441" y="967"/>
                    </a:lnTo>
                    <a:lnTo>
                      <a:pt x="453" y="963"/>
                    </a:lnTo>
                    <a:lnTo>
                      <a:pt x="462" y="956"/>
                    </a:lnTo>
                    <a:lnTo>
                      <a:pt x="470" y="947"/>
                    </a:lnTo>
                    <a:lnTo>
                      <a:pt x="476" y="936"/>
                    </a:lnTo>
                    <a:lnTo>
                      <a:pt x="485" y="927"/>
                    </a:lnTo>
                    <a:lnTo>
                      <a:pt x="494" y="918"/>
                    </a:lnTo>
                    <a:lnTo>
                      <a:pt x="503" y="909"/>
                    </a:lnTo>
                    <a:lnTo>
                      <a:pt x="512" y="902"/>
                    </a:lnTo>
                    <a:lnTo>
                      <a:pt x="520" y="895"/>
                    </a:lnTo>
                    <a:lnTo>
                      <a:pt x="526" y="888"/>
                    </a:lnTo>
                    <a:lnTo>
                      <a:pt x="530" y="881"/>
                    </a:lnTo>
                    <a:lnTo>
                      <a:pt x="533" y="866"/>
                    </a:lnTo>
                    <a:lnTo>
                      <a:pt x="530" y="848"/>
                    </a:lnTo>
                    <a:lnTo>
                      <a:pt x="527" y="832"/>
                    </a:lnTo>
                    <a:lnTo>
                      <a:pt x="526" y="820"/>
                    </a:lnTo>
                    <a:lnTo>
                      <a:pt x="530" y="814"/>
                    </a:lnTo>
                    <a:lnTo>
                      <a:pt x="541" y="814"/>
                    </a:lnTo>
                    <a:lnTo>
                      <a:pt x="553" y="816"/>
                    </a:lnTo>
                    <a:lnTo>
                      <a:pt x="562" y="814"/>
                    </a:lnTo>
                    <a:lnTo>
                      <a:pt x="564" y="807"/>
                    </a:lnTo>
                    <a:lnTo>
                      <a:pt x="562" y="795"/>
                    </a:lnTo>
                    <a:lnTo>
                      <a:pt x="561" y="779"/>
                    </a:lnTo>
                    <a:lnTo>
                      <a:pt x="562" y="762"/>
                    </a:lnTo>
                    <a:lnTo>
                      <a:pt x="570" y="752"/>
                    </a:lnTo>
                    <a:lnTo>
                      <a:pt x="582" y="741"/>
                    </a:lnTo>
                    <a:lnTo>
                      <a:pt x="594" y="732"/>
                    </a:lnTo>
                    <a:lnTo>
                      <a:pt x="601" y="721"/>
                    </a:lnTo>
                    <a:lnTo>
                      <a:pt x="606" y="700"/>
                    </a:lnTo>
                    <a:lnTo>
                      <a:pt x="608" y="673"/>
                    </a:lnTo>
                    <a:lnTo>
                      <a:pt x="606" y="644"/>
                    </a:lnTo>
                    <a:lnTo>
                      <a:pt x="606" y="621"/>
                    </a:lnTo>
                    <a:lnTo>
                      <a:pt x="601" y="607"/>
                    </a:lnTo>
                    <a:lnTo>
                      <a:pt x="592" y="598"/>
                    </a:lnTo>
                    <a:lnTo>
                      <a:pt x="585" y="589"/>
                    </a:lnTo>
                    <a:lnTo>
                      <a:pt x="582" y="574"/>
                    </a:lnTo>
                    <a:lnTo>
                      <a:pt x="588" y="558"/>
                    </a:lnTo>
                    <a:lnTo>
                      <a:pt x="600" y="542"/>
                    </a:lnTo>
                    <a:lnTo>
                      <a:pt x="614" y="524"/>
                    </a:lnTo>
                    <a:lnTo>
                      <a:pt x="626" y="503"/>
                    </a:lnTo>
                    <a:lnTo>
                      <a:pt x="633" y="489"/>
                    </a:lnTo>
                    <a:lnTo>
                      <a:pt x="644" y="469"/>
                    </a:lnTo>
                    <a:lnTo>
                      <a:pt x="657" y="447"/>
                    </a:lnTo>
                    <a:lnTo>
                      <a:pt x="669" y="426"/>
                    </a:lnTo>
                    <a:lnTo>
                      <a:pt x="682" y="404"/>
                    </a:lnTo>
                    <a:lnTo>
                      <a:pt x="692" y="388"/>
                    </a:lnTo>
                    <a:lnTo>
                      <a:pt x="698" y="376"/>
                    </a:lnTo>
                    <a:lnTo>
                      <a:pt x="701" y="372"/>
                    </a:lnTo>
                    <a:lnTo>
                      <a:pt x="694" y="369"/>
                    </a:lnTo>
                    <a:lnTo>
                      <a:pt x="683" y="369"/>
                    </a:lnTo>
                    <a:lnTo>
                      <a:pt x="672" y="372"/>
                    </a:lnTo>
                    <a:lnTo>
                      <a:pt x="662" y="372"/>
                    </a:lnTo>
                    <a:lnTo>
                      <a:pt x="656" y="369"/>
                    </a:lnTo>
                    <a:lnTo>
                      <a:pt x="648" y="361"/>
                    </a:lnTo>
                    <a:lnTo>
                      <a:pt x="638" y="352"/>
                    </a:lnTo>
                    <a:lnTo>
                      <a:pt x="627" y="344"/>
                    </a:lnTo>
                    <a:lnTo>
                      <a:pt x="617" y="333"/>
                    </a:lnTo>
                    <a:lnTo>
                      <a:pt x="606" y="320"/>
                    </a:lnTo>
                    <a:lnTo>
                      <a:pt x="597" y="310"/>
                    </a:lnTo>
                    <a:lnTo>
                      <a:pt x="589" y="301"/>
                    </a:lnTo>
                    <a:lnTo>
                      <a:pt x="577" y="281"/>
                    </a:lnTo>
                    <a:lnTo>
                      <a:pt x="568" y="258"/>
                    </a:lnTo>
                    <a:lnTo>
                      <a:pt x="559" y="234"/>
                    </a:lnTo>
                    <a:lnTo>
                      <a:pt x="555" y="211"/>
                    </a:lnTo>
                    <a:lnTo>
                      <a:pt x="552" y="186"/>
                    </a:lnTo>
                    <a:lnTo>
                      <a:pt x="550" y="157"/>
                    </a:lnTo>
                    <a:lnTo>
                      <a:pt x="550" y="136"/>
                    </a:lnTo>
                    <a:lnTo>
                      <a:pt x="550" y="127"/>
                    </a:lnTo>
                    <a:lnTo>
                      <a:pt x="544" y="116"/>
                    </a:lnTo>
                    <a:lnTo>
                      <a:pt x="533" y="107"/>
                    </a:lnTo>
                    <a:lnTo>
                      <a:pt x="521" y="100"/>
                    </a:lnTo>
                    <a:lnTo>
                      <a:pt x="511" y="9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27"/>
              <p:cNvSpPr/>
              <p:nvPr/>
            </p:nvSpPr>
            <p:spPr>
              <a:xfrm>
                <a:off x="9018720" y="1735200"/>
                <a:ext cx="83520" cy="144000"/>
              </a:xfrm>
              <a:custGeom>
                <a:avLst/>
                <a:gdLst>
                  <a:gd name="textAreaLeft" fmla="*/ 0 w 83520"/>
                  <a:gd name="textAreaRight" fmla="*/ 83880 w 83520"/>
                  <a:gd name="textAreaTop" fmla="*/ 0 h 144000"/>
                  <a:gd name="textAreaBottom" fmla="*/ 144360 h 144000"/>
                </a:gdLst>
                <a:ahLst/>
                <a:rect l="textAreaLeft" t="textAreaTop" r="textAreaRight" b="textAreaBottom"/>
                <a:pathLst>
                  <a:path w="45" h="68">
                    <a:moveTo>
                      <a:pt x="38" y="0"/>
                    </a:moveTo>
                    <a:lnTo>
                      <a:pt x="36" y="2"/>
                    </a:lnTo>
                    <a:lnTo>
                      <a:pt x="30" y="4"/>
                    </a:lnTo>
                    <a:lnTo>
                      <a:pt x="22" y="7"/>
                    </a:lnTo>
                    <a:lnTo>
                      <a:pt x="15" y="13"/>
                    </a:lnTo>
                    <a:lnTo>
                      <a:pt x="7" y="18"/>
                    </a:lnTo>
                    <a:lnTo>
                      <a:pt x="1" y="23"/>
                    </a:lnTo>
                    <a:lnTo>
                      <a:pt x="0" y="29"/>
                    </a:lnTo>
                    <a:lnTo>
                      <a:pt x="1" y="32"/>
                    </a:lnTo>
                    <a:lnTo>
                      <a:pt x="13" y="45"/>
                    </a:lnTo>
                    <a:lnTo>
                      <a:pt x="29" y="59"/>
                    </a:lnTo>
                    <a:lnTo>
                      <a:pt x="41" y="68"/>
                    </a:lnTo>
                    <a:lnTo>
                      <a:pt x="45" y="61"/>
                    </a:lnTo>
                    <a:lnTo>
                      <a:pt x="44" y="41"/>
                    </a:lnTo>
                    <a:lnTo>
                      <a:pt x="42" y="22"/>
                    </a:lnTo>
                    <a:lnTo>
                      <a:pt x="39" y="6"/>
                    </a:lnTo>
                    <a:lnTo>
                      <a:pt x="38"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Freeform 28"/>
              <p:cNvSpPr/>
              <p:nvPr/>
            </p:nvSpPr>
            <p:spPr>
              <a:xfrm>
                <a:off x="7749720" y="2290680"/>
                <a:ext cx="229320" cy="371160"/>
              </a:xfrm>
              <a:custGeom>
                <a:avLst/>
                <a:gdLst>
                  <a:gd name="textAreaLeft" fmla="*/ 0 w 229320"/>
                  <a:gd name="textAreaRight" fmla="*/ 229680 w 229320"/>
                  <a:gd name="textAreaTop" fmla="*/ 0 h 371160"/>
                  <a:gd name="textAreaBottom" fmla="*/ 371520 h 371160"/>
                </a:gdLst>
                <a:ahLst/>
                <a:rect l="textAreaLeft" t="textAreaTop" r="textAreaRight" b="textAreaBottom"/>
                <a:pathLst>
                  <a:path w="124" h="175">
                    <a:moveTo>
                      <a:pt x="2" y="91"/>
                    </a:moveTo>
                    <a:lnTo>
                      <a:pt x="0" y="82"/>
                    </a:lnTo>
                    <a:lnTo>
                      <a:pt x="3" y="75"/>
                    </a:lnTo>
                    <a:lnTo>
                      <a:pt x="6" y="71"/>
                    </a:lnTo>
                    <a:lnTo>
                      <a:pt x="12" y="68"/>
                    </a:lnTo>
                    <a:lnTo>
                      <a:pt x="20" y="64"/>
                    </a:lnTo>
                    <a:lnTo>
                      <a:pt x="27" y="59"/>
                    </a:lnTo>
                    <a:lnTo>
                      <a:pt x="35" y="53"/>
                    </a:lnTo>
                    <a:lnTo>
                      <a:pt x="41" y="44"/>
                    </a:lnTo>
                    <a:lnTo>
                      <a:pt x="47" y="34"/>
                    </a:lnTo>
                    <a:lnTo>
                      <a:pt x="53" y="23"/>
                    </a:lnTo>
                    <a:lnTo>
                      <a:pt x="59" y="14"/>
                    </a:lnTo>
                    <a:lnTo>
                      <a:pt x="67" y="7"/>
                    </a:lnTo>
                    <a:lnTo>
                      <a:pt x="74" y="1"/>
                    </a:lnTo>
                    <a:lnTo>
                      <a:pt x="82" y="0"/>
                    </a:lnTo>
                    <a:lnTo>
                      <a:pt x="91" y="1"/>
                    </a:lnTo>
                    <a:lnTo>
                      <a:pt x="101" y="7"/>
                    </a:lnTo>
                    <a:lnTo>
                      <a:pt x="115" y="25"/>
                    </a:lnTo>
                    <a:lnTo>
                      <a:pt x="121" y="43"/>
                    </a:lnTo>
                    <a:lnTo>
                      <a:pt x="121" y="62"/>
                    </a:lnTo>
                    <a:lnTo>
                      <a:pt x="123" y="82"/>
                    </a:lnTo>
                    <a:lnTo>
                      <a:pt x="124" y="96"/>
                    </a:lnTo>
                    <a:lnTo>
                      <a:pt x="121" y="111"/>
                    </a:lnTo>
                    <a:lnTo>
                      <a:pt x="117" y="123"/>
                    </a:lnTo>
                    <a:lnTo>
                      <a:pt x="112" y="136"/>
                    </a:lnTo>
                    <a:lnTo>
                      <a:pt x="109" y="145"/>
                    </a:lnTo>
                    <a:lnTo>
                      <a:pt x="104" y="154"/>
                    </a:lnTo>
                    <a:lnTo>
                      <a:pt x="98" y="161"/>
                    </a:lnTo>
                    <a:lnTo>
                      <a:pt x="91" y="168"/>
                    </a:lnTo>
                    <a:lnTo>
                      <a:pt x="82" y="173"/>
                    </a:lnTo>
                    <a:lnTo>
                      <a:pt x="76" y="175"/>
                    </a:lnTo>
                    <a:lnTo>
                      <a:pt x="70" y="171"/>
                    </a:lnTo>
                    <a:lnTo>
                      <a:pt x="65" y="162"/>
                    </a:lnTo>
                    <a:lnTo>
                      <a:pt x="59" y="143"/>
                    </a:lnTo>
                    <a:lnTo>
                      <a:pt x="56" y="128"/>
                    </a:lnTo>
                    <a:lnTo>
                      <a:pt x="58" y="118"/>
                    </a:lnTo>
                    <a:lnTo>
                      <a:pt x="70" y="111"/>
                    </a:lnTo>
                    <a:lnTo>
                      <a:pt x="83" y="100"/>
                    </a:lnTo>
                    <a:lnTo>
                      <a:pt x="92" y="84"/>
                    </a:lnTo>
                    <a:lnTo>
                      <a:pt x="92" y="68"/>
                    </a:lnTo>
                    <a:lnTo>
                      <a:pt x="85" y="59"/>
                    </a:lnTo>
                    <a:lnTo>
                      <a:pt x="79" y="57"/>
                    </a:lnTo>
                    <a:lnTo>
                      <a:pt x="71" y="55"/>
                    </a:lnTo>
                    <a:lnTo>
                      <a:pt x="64" y="55"/>
                    </a:lnTo>
                    <a:lnTo>
                      <a:pt x="56" y="57"/>
                    </a:lnTo>
                    <a:lnTo>
                      <a:pt x="50" y="60"/>
                    </a:lnTo>
                    <a:lnTo>
                      <a:pt x="44" y="64"/>
                    </a:lnTo>
                    <a:lnTo>
                      <a:pt x="39" y="69"/>
                    </a:lnTo>
                    <a:lnTo>
                      <a:pt x="36" y="78"/>
                    </a:lnTo>
                    <a:lnTo>
                      <a:pt x="30" y="94"/>
                    </a:lnTo>
                    <a:lnTo>
                      <a:pt x="21" y="105"/>
                    </a:lnTo>
                    <a:lnTo>
                      <a:pt x="9" y="107"/>
                    </a:lnTo>
                    <a:lnTo>
                      <a:pt x="2" y="9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29"/>
              <p:cNvSpPr/>
              <p:nvPr/>
            </p:nvSpPr>
            <p:spPr>
              <a:xfrm>
                <a:off x="8761320" y="4515120"/>
                <a:ext cx="149760" cy="419760"/>
              </a:xfrm>
              <a:custGeom>
                <a:avLst/>
                <a:gdLst>
                  <a:gd name="textAreaLeft" fmla="*/ 0 w 149760"/>
                  <a:gd name="textAreaRight" fmla="*/ 150120 w 149760"/>
                  <a:gd name="textAreaTop" fmla="*/ 0 h 419760"/>
                  <a:gd name="textAreaBottom" fmla="*/ 420120 h 419760"/>
                </a:gdLst>
                <a:ahLst/>
                <a:rect l="textAreaLeft" t="textAreaTop" r="textAreaRight" b="textAreaBottom"/>
                <a:pathLst>
                  <a:path w="81" h="198">
                    <a:moveTo>
                      <a:pt x="54" y="3"/>
                    </a:moveTo>
                    <a:lnTo>
                      <a:pt x="69" y="0"/>
                    </a:lnTo>
                    <a:lnTo>
                      <a:pt x="77" y="3"/>
                    </a:lnTo>
                    <a:lnTo>
                      <a:pt x="81" y="14"/>
                    </a:lnTo>
                    <a:lnTo>
                      <a:pt x="81" y="28"/>
                    </a:lnTo>
                    <a:lnTo>
                      <a:pt x="80" y="44"/>
                    </a:lnTo>
                    <a:lnTo>
                      <a:pt x="77" y="62"/>
                    </a:lnTo>
                    <a:lnTo>
                      <a:pt x="74" y="78"/>
                    </a:lnTo>
                    <a:lnTo>
                      <a:pt x="72" y="93"/>
                    </a:lnTo>
                    <a:lnTo>
                      <a:pt x="72" y="120"/>
                    </a:lnTo>
                    <a:lnTo>
                      <a:pt x="71" y="146"/>
                    </a:lnTo>
                    <a:lnTo>
                      <a:pt x="68" y="170"/>
                    </a:lnTo>
                    <a:lnTo>
                      <a:pt x="65" y="184"/>
                    </a:lnTo>
                    <a:lnTo>
                      <a:pt x="62" y="188"/>
                    </a:lnTo>
                    <a:lnTo>
                      <a:pt x="57" y="191"/>
                    </a:lnTo>
                    <a:lnTo>
                      <a:pt x="50" y="195"/>
                    </a:lnTo>
                    <a:lnTo>
                      <a:pt x="42" y="198"/>
                    </a:lnTo>
                    <a:lnTo>
                      <a:pt x="33" y="198"/>
                    </a:lnTo>
                    <a:lnTo>
                      <a:pt x="25" y="197"/>
                    </a:lnTo>
                    <a:lnTo>
                      <a:pt x="19" y="189"/>
                    </a:lnTo>
                    <a:lnTo>
                      <a:pt x="13" y="180"/>
                    </a:lnTo>
                    <a:lnTo>
                      <a:pt x="6" y="155"/>
                    </a:lnTo>
                    <a:lnTo>
                      <a:pt x="1" y="134"/>
                    </a:lnTo>
                    <a:lnTo>
                      <a:pt x="0" y="116"/>
                    </a:lnTo>
                    <a:lnTo>
                      <a:pt x="1" y="103"/>
                    </a:lnTo>
                    <a:lnTo>
                      <a:pt x="6" y="91"/>
                    </a:lnTo>
                    <a:lnTo>
                      <a:pt x="13" y="77"/>
                    </a:lnTo>
                    <a:lnTo>
                      <a:pt x="24" y="66"/>
                    </a:lnTo>
                    <a:lnTo>
                      <a:pt x="33" y="62"/>
                    </a:lnTo>
                    <a:lnTo>
                      <a:pt x="39" y="53"/>
                    </a:lnTo>
                    <a:lnTo>
                      <a:pt x="44" y="34"/>
                    </a:lnTo>
                    <a:lnTo>
                      <a:pt x="48" y="14"/>
                    </a:lnTo>
                    <a:lnTo>
                      <a:pt x="54" y="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30"/>
              <p:cNvSpPr/>
              <p:nvPr/>
            </p:nvSpPr>
            <p:spPr>
              <a:xfrm>
                <a:off x="7995960" y="1701720"/>
                <a:ext cx="1156320" cy="1040760"/>
              </a:xfrm>
              <a:custGeom>
                <a:avLst/>
                <a:gdLst>
                  <a:gd name="textAreaLeft" fmla="*/ 0 w 1156320"/>
                  <a:gd name="textAreaRight" fmla="*/ 1156680 w 1156320"/>
                  <a:gd name="textAreaTop" fmla="*/ 0 h 1040760"/>
                  <a:gd name="textAreaBottom" fmla="*/ 1041120 h 1040760"/>
                </a:gdLst>
                <a:ahLst/>
                <a:rect l="textAreaLeft" t="textAreaTop" r="textAreaRight" b="textAreaBottom"/>
                <a:pathLst>
                  <a:path w="624" h="491">
                    <a:moveTo>
                      <a:pt x="624" y="486"/>
                    </a:moveTo>
                    <a:lnTo>
                      <a:pt x="618" y="102"/>
                    </a:lnTo>
                    <a:lnTo>
                      <a:pt x="613" y="101"/>
                    </a:lnTo>
                    <a:lnTo>
                      <a:pt x="601" y="99"/>
                    </a:lnTo>
                    <a:lnTo>
                      <a:pt x="585" y="97"/>
                    </a:lnTo>
                    <a:lnTo>
                      <a:pt x="570" y="95"/>
                    </a:lnTo>
                    <a:lnTo>
                      <a:pt x="555" y="95"/>
                    </a:lnTo>
                    <a:lnTo>
                      <a:pt x="543" y="97"/>
                    </a:lnTo>
                    <a:lnTo>
                      <a:pt x="532" y="101"/>
                    </a:lnTo>
                    <a:lnTo>
                      <a:pt x="526" y="106"/>
                    </a:lnTo>
                    <a:lnTo>
                      <a:pt x="517" y="122"/>
                    </a:lnTo>
                    <a:lnTo>
                      <a:pt x="506" y="139"/>
                    </a:lnTo>
                    <a:lnTo>
                      <a:pt x="495" y="153"/>
                    </a:lnTo>
                    <a:lnTo>
                      <a:pt x="491" y="158"/>
                    </a:lnTo>
                    <a:lnTo>
                      <a:pt x="447" y="153"/>
                    </a:lnTo>
                    <a:lnTo>
                      <a:pt x="444" y="155"/>
                    </a:lnTo>
                    <a:lnTo>
                      <a:pt x="438" y="157"/>
                    </a:lnTo>
                    <a:lnTo>
                      <a:pt x="430" y="160"/>
                    </a:lnTo>
                    <a:lnTo>
                      <a:pt x="421" y="162"/>
                    </a:lnTo>
                    <a:lnTo>
                      <a:pt x="413" y="164"/>
                    </a:lnTo>
                    <a:lnTo>
                      <a:pt x="407" y="166"/>
                    </a:lnTo>
                    <a:lnTo>
                      <a:pt x="406" y="164"/>
                    </a:lnTo>
                    <a:lnTo>
                      <a:pt x="410" y="158"/>
                    </a:lnTo>
                    <a:lnTo>
                      <a:pt x="418" y="140"/>
                    </a:lnTo>
                    <a:lnTo>
                      <a:pt x="416" y="119"/>
                    </a:lnTo>
                    <a:lnTo>
                      <a:pt x="406" y="101"/>
                    </a:lnTo>
                    <a:lnTo>
                      <a:pt x="393" y="95"/>
                    </a:lnTo>
                    <a:lnTo>
                      <a:pt x="386" y="97"/>
                    </a:lnTo>
                    <a:lnTo>
                      <a:pt x="375" y="99"/>
                    </a:lnTo>
                    <a:lnTo>
                      <a:pt x="364" y="101"/>
                    </a:lnTo>
                    <a:lnTo>
                      <a:pt x="352" y="101"/>
                    </a:lnTo>
                    <a:lnTo>
                      <a:pt x="340" y="99"/>
                    </a:lnTo>
                    <a:lnTo>
                      <a:pt x="331" y="97"/>
                    </a:lnTo>
                    <a:lnTo>
                      <a:pt x="325" y="92"/>
                    </a:lnTo>
                    <a:lnTo>
                      <a:pt x="322" y="86"/>
                    </a:lnTo>
                    <a:lnTo>
                      <a:pt x="319" y="67"/>
                    </a:lnTo>
                    <a:lnTo>
                      <a:pt x="311" y="40"/>
                    </a:lnTo>
                    <a:lnTo>
                      <a:pt x="285" y="2"/>
                    </a:lnTo>
                    <a:lnTo>
                      <a:pt x="276" y="0"/>
                    </a:lnTo>
                    <a:lnTo>
                      <a:pt x="265" y="4"/>
                    </a:lnTo>
                    <a:lnTo>
                      <a:pt x="253" y="11"/>
                    </a:lnTo>
                    <a:lnTo>
                      <a:pt x="239" y="20"/>
                    </a:lnTo>
                    <a:lnTo>
                      <a:pt x="226" y="31"/>
                    </a:lnTo>
                    <a:lnTo>
                      <a:pt x="210" y="43"/>
                    </a:lnTo>
                    <a:lnTo>
                      <a:pt x="197" y="56"/>
                    </a:lnTo>
                    <a:lnTo>
                      <a:pt x="171" y="79"/>
                    </a:lnTo>
                    <a:lnTo>
                      <a:pt x="157" y="94"/>
                    </a:lnTo>
                    <a:lnTo>
                      <a:pt x="142" y="110"/>
                    </a:lnTo>
                    <a:lnTo>
                      <a:pt x="111" y="142"/>
                    </a:lnTo>
                    <a:lnTo>
                      <a:pt x="98" y="155"/>
                    </a:lnTo>
                    <a:lnTo>
                      <a:pt x="85" y="167"/>
                    </a:lnTo>
                    <a:lnTo>
                      <a:pt x="76" y="176"/>
                    </a:lnTo>
                    <a:lnTo>
                      <a:pt x="64" y="193"/>
                    </a:lnTo>
                    <a:lnTo>
                      <a:pt x="56" y="209"/>
                    </a:lnTo>
                    <a:lnTo>
                      <a:pt x="55" y="229"/>
                    </a:lnTo>
                    <a:lnTo>
                      <a:pt x="61" y="248"/>
                    </a:lnTo>
                    <a:lnTo>
                      <a:pt x="70" y="272"/>
                    </a:lnTo>
                    <a:lnTo>
                      <a:pt x="88" y="317"/>
                    </a:lnTo>
                    <a:lnTo>
                      <a:pt x="101" y="324"/>
                    </a:lnTo>
                    <a:lnTo>
                      <a:pt x="108" y="324"/>
                    </a:lnTo>
                    <a:lnTo>
                      <a:pt x="117" y="322"/>
                    </a:lnTo>
                    <a:lnTo>
                      <a:pt x="127" y="320"/>
                    </a:lnTo>
                    <a:lnTo>
                      <a:pt x="136" y="317"/>
                    </a:lnTo>
                    <a:lnTo>
                      <a:pt x="145" y="311"/>
                    </a:lnTo>
                    <a:lnTo>
                      <a:pt x="154" y="308"/>
                    </a:lnTo>
                    <a:lnTo>
                      <a:pt x="160" y="302"/>
                    </a:lnTo>
                    <a:lnTo>
                      <a:pt x="165" y="295"/>
                    </a:lnTo>
                    <a:lnTo>
                      <a:pt x="172" y="281"/>
                    </a:lnTo>
                    <a:lnTo>
                      <a:pt x="183" y="266"/>
                    </a:lnTo>
                    <a:lnTo>
                      <a:pt x="189" y="252"/>
                    </a:lnTo>
                    <a:lnTo>
                      <a:pt x="189" y="234"/>
                    </a:lnTo>
                    <a:lnTo>
                      <a:pt x="183" y="214"/>
                    </a:lnTo>
                    <a:lnTo>
                      <a:pt x="180" y="196"/>
                    </a:lnTo>
                    <a:lnTo>
                      <a:pt x="181" y="182"/>
                    </a:lnTo>
                    <a:lnTo>
                      <a:pt x="189" y="167"/>
                    </a:lnTo>
                    <a:lnTo>
                      <a:pt x="213" y="146"/>
                    </a:lnTo>
                    <a:lnTo>
                      <a:pt x="221" y="139"/>
                    </a:lnTo>
                    <a:lnTo>
                      <a:pt x="239" y="126"/>
                    </a:lnTo>
                    <a:lnTo>
                      <a:pt x="242" y="124"/>
                    </a:lnTo>
                    <a:lnTo>
                      <a:pt x="247" y="126"/>
                    </a:lnTo>
                    <a:lnTo>
                      <a:pt x="252" y="133"/>
                    </a:lnTo>
                    <a:lnTo>
                      <a:pt x="253" y="144"/>
                    </a:lnTo>
                    <a:lnTo>
                      <a:pt x="252" y="153"/>
                    </a:lnTo>
                    <a:lnTo>
                      <a:pt x="245" y="157"/>
                    </a:lnTo>
                    <a:lnTo>
                      <a:pt x="236" y="162"/>
                    </a:lnTo>
                    <a:lnTo>
                      <a:pt x="226" y="171"/>
                    </a:lnTo>
                    <a:lnTo>
                      <a:pt x="216" y="189"/>
                    </a:lnTo>
                    <a:lnTo>
                      <a:pt x="216" y="211"/>
                    </a:lnTo>
                    <a:lnTo>
                      <a:pt x="224" y="229"/>
                    </a:lnTo>
                    <a:lnTo>
                      <a:pt x="241" y="234"/>
                    </a:lnTo>
                    <a:lnTo>
                      <a:pt x="253" y="230"/>
                    </a:lnTo>
                    <a:lnTo>
                      <a:pt x="265" y="225"/>
                    </a:lnTo>
                    <a:lnTo>
                      <a:pt x="277" y="220"/>
                    </a:lnTo>
                    <a:lnTo>
                      <a:pt x="290" y="214"/>
                    </a:lnTo>
                    <a:lnTo>
                      <a:pt x="302" y="207"/>
                    </a:lnTo>
                    <a:lnTo>
                      <a:pt x="313" y="203"/>
                    </a:lnTo>
                    <a:lnTo>
                      <a:pt x="320" y="200"/>
                    </a:lnTo>
                    <a:lnTo>
                      <a:pt x="326" y="200"/>
                    </a:lnTo>
                    <a:lnTo>
                      <a:pt x="335" y="209"/>
                    </a:lnTo>
                    <a:lnTo>
                      <a:pt x="345" y="225"/>
                    </a:lnTo>
                    <a:lnTo>
                      <a:pt x="352" y="241"/>
                    </a:lnTo>
                    <a:lnTo>
                      <a:pt x="358" y="252"/>
                    </a:lnTo>
                    <a:lnTo>
                      <a:pt x="349" y="254"/>
                    </a:lnTo>
                    <a:lnTo>
                      <a:pt x="340" y="256"/>
                    </a:lnTo>
                    <a:lnTo>
                      <a:pt x="332" y="261"/>
                    </a:lnTo>
                    <a:lnTo>
                      <a:pt x="325" y="266"/>
                    </a:lnTo>
                    <a:lnTo>
                      <a:pt x="319" y="272"/>
                    </a:lnTo>
                    <a:lnTo>
                      <a:pt x="314" y="275"/>
                    </a:lnTo>
                    <a:lnTo>
                      <a:pt x="311" y="279"/>
                    </a:lnTo>
                    <a:lnTo>
                      <a:pt x="309" y="281"/>
                    </a:lnTo>
                    <a:lnTo>
                      <a:pt x="306" y="281"/>
                    </a:lnTo>
                    <a:lnTo>
                      <a:pt x="299" y="279"/>
                    </a:lnTo>
                    <a:lnTo>
                      <a:pt x="287" y="277"/>
                    </a:lnTo>
                    <a:lnTo>
                      <a:pt x="274" y="275"/>
                    </a:lnTo>
                    <a:lnTo>
                      <a:pt x="261" y="275"/>
                    </a:lnTo>
                    <a:lnTo>
                      <a:pt x="248" y="277"/>
                    </a:lnTo>
                    <a:lnTo>
                      <a:pt x="241" y="281"/>
                    </a:lnTo>
                    <a:lnTo>
                      <a:pt x="238" y="286"/>
                    </a:lnTo>
                    <a:lnTo>
                      <a:pt x="235" y="306"/>
                    </a:lnTo>
                    <a:lnTo>
                      <a:pt x="229" y="329"/>
                    </a:lnTo>
                    <a:lnTo>
                      <a:pt x="215" y="349"/>
                    </a:lnTo>
                    <a:lnTo>
                      <a:pt x="197" y="353"/>
                    </a:lnTo>
                    <a:lnTo>
                      <a:pt x="184" y="349"/>
                    </a:lnTo>
                    <a:lnTo>
                      <a:pt x="168" y="347"/>
                    </a:lnTo>
                    <a:lnTo>
                      <a:pt x="149" y="349"/>
                    </a:lnTo>
                    <a:lnTo>
                      <a:pt x="130" y="351"/>
                    </a:lnTo>
                    <a:lnTo>
                      <a:pt x="111" y="355"/>
                    </a:lnTo>
                    <a:lnTo>
                      <a:pt x="93" y="362"/>
                    </a:lnTo>
                    <a:lnTo>
                      <a:pt x="79" y="373"/>
                    </a:lnTo>
                    <a:lnTo>
                      <a:pt x="69" y="385"/>
                    </a:lnTo>
                    <a:lnTo>
                      <a:pt x="61" y="398"/>
                    </a:lnTo>
                    <a:lnTo>
                      <a:pt x="53" y="409"/>
                    </a:lnTo>
                    <a:lnTo>
                      <a:pt x="47" y="418"/>
                    </a:lnTo>
                    <a:lnTo>
                      <a:pt x="40" y="427"/>
                    </a:lnTo>
                    <a:lnTo>
                      <a:pt x="34" y="434"/>
                    </a:lnTo>
                    <a:lnTo>
                      <a:pt x="27" y="441"/>
                    </a:lnTo>
                    <a:lnTo>
                      <a:pt x="21" y="448"/>
                    </a:lnTo>
                    <a:lnTo>
                      <a:pt x="17" y="457"/>
                    </a:lnTo>
                    <a:lnTo>
                      <a:pt x="12" y="466"/>
                    </a:lnTo>
                    <a:lnTo>
                      <a:pt x="8" y="473"/>
                    </a:lnTo>
                    <a:lnTo>
                      <a:pt x="3" y="482"/>
                    </a:lnTo>
                    <a:lnTo>
                      <a:pt x="0" y="49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9" name="Text Box 31"/>
          <p:cNvSpPr/>
          <p:nvPr/>
        </p:nvSpPr>
        <p:spPr>
          <a:xfrm>
            <a:off x="2057400" y="2895480"/>
            <a:ext cx="1752480" cy="580680"/>
          </a:xfrm>
          <a:prstGeom prst="rect">
            <a:avLst/>
          </a:prstGeom>
          <a:solidFill>
            <a:srgbClr val="ffffff"/>
          </a:solidFill>
          <a:ln w="9360">
            <a:solidFill>
              <a:srgbClr val="566884"/>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Arial Narrow"/>
              </a:rPr>
              <a:t>Japan Chapter   Tokyo, Japan</a:t>
            </a:r>
            <a:endParaRPr b="0" lang="en-US" sz="1600" spc="-1" strike="noStrike">
              <a:solidFill>
                <a:srgbClr val="000000"/>
              </a:solidFill>
              <a:latin typeface="Times New Roman"/>
            </a:endParaRPr>
          </a:p>
        </p:txBody>
      </p:sp>
      <p:sp>
        <p:nvSpPr>
          <p:cNvPr id="90" name="Text Box 32"/>
          <p:cNvSpPr/>
          <p:nvPr/>
        </p:nvSpPr>
        <p:spPr>
          <a:xfrm>
            <a:off x="533520" y="5029200"/>
            <a:ext cx="2760480" cy="580680"/>
          </a:xfrm>
          <a:prstGeom prst="rect">
            <a:avLst/>
          </a:prstGeom>
          <a:solidFill>
            <a:srgbClr val="ffffff"/>
          </a:solidFill>
          <a:ln w="9360">
            <a:solidFill>
              <a:srgbClr val="566884"/>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Arial Narrow"/>
              </a:rPr>
              <a:t>Australia/New Zealand Chapter Sydney, Australia</a:t>
            </a:r>
            <a:endParaRPr b="0" lang="en-US" sz="1600" spc="-1" strike="noStrike">
              <a:solidFill>
                <a:srgbClr val="000000"/>
              </a:solidFill>
              <a:latin typeface="Times New Roman"/>
            </a:endParaRPr>
          </a:p>
        </p:txBody>
      </p:sp>
      <p:sp>
        <p:nvSpPr>
          <p:cNvPr id="91" name="Text Box 33"/>
          <p:cNvSpPr/>
          <p:nvPr/>
        </p:nvSpPr>
        <p:spPr>
          <a:xfrm>
            <a:off x="533520" y="3657600"/>
            <a:ext cx="2438280" cy="580680"/>
          </a:xfrm>
          <a:prstGeom prst="rect">
            <a:avLst/>
          </a:prstGeom>
          <a:solidFill>
            <a:srgbClr val="ffffff"/>
          </a:solidFill>
          <a:ln w="9360">
            <a:solidFill>
              <a:srgbClr val="566884"/>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Arial Narrow"/>
              </a:rPr>
              <a:t>South East Asia Chapter Singapore</a:t>
            </a:r>
            <a:endParaRPr b="0" lang="en-US" sz="1600" spc="-1" strike="noStrike">
              <a:solidFill>
                <a:srgbClr val="000000"/>
              </a:solidFill>
              <a:latin typeface="Times New Roman"/>
            </a:endParaRPr>
          </a:p>
        </p:txBody>
      </p:sp>
      <p:sp>
        <p:nvSpPr>
          <p:cNvPr id="92" name="Text Box 34"/>
          <p:cNvSpPr/>
          <p:nvPr/>
        </p:nvSpPr>
        <p:spPr>
          <a:xfrm>
            <a:off x="3705120" y="1695600"/>
            <a:ext cx="2467080" cy="337320"/>
          </a:xfrm>
          <a:prstGeom prst="rect">
            <a:avLst/>
          </a:prstGeom>
          <a:solidFill>
            <a:srgbClr val="ffffff"/>
          </a:solidFill>
          <a:ln w="9360">
            <a:solidFill>
              <a:srgbClr val="566884"/>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Arial Narrow"/>
              </a:rPr>
              <a:t>SCORboard</a:t>
            </a:r>
            <a:endParaRPr b="0" lang="en-US" sz="1600" spc="-1" strike="noStrike">
              <a:solidFill>
                <a:srgbClr val="000000"/>
              </a:solidFill>
              <a:latin typeface="Times New Roman"/>
            </a:endParaRPr>
          </a:p>
        </p:txBody>
      </p:sp>
      <p:sp>
        <p:nvSpPr>
          <p:cNvPr id="93" name="Text Box 35"/>
          <p:cNvSpPr/>
          <p:nvPr/>
        </p:nvSpPr>
        <p:spPr>
          <a:xfrm>
            <a:off x="6781680" y="2362320"/>
            <a:ext cx="1981440" cy="580680"/>
          </a:xfrm>
          <a:prstGeom prst="rect">
            <a:avLst/>
          </a:prstGeom>
          <a:solidFill>
            <a:srgbClr val="ffffff"/>
          </a:solidFill>
          <a:ln w="9360">
            <a:solidFill>
              <a:srgbClr val="566884"/>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Arial Narrow"/>
              </a:rPr>
              <a:t>European Chapter Brussels, Belgium</a:t>
            </a:r>
            <a:endParaRPr b="0" lang="en-US" sz="1600" spc="-1" strike="noStrike">
              <a:solidFill>
                <a:srgbClr val="000000"/>
              </a:solidFill>
              <a:latin typeface="Times New Roman"/>
            </a:endParaRPr>
          </a:p>
        </p:txBody>
      </p:sp>
      <p:sp>
        <p:nvSpPr>
          <p:cNvPr id="94" name="Text Box 36"/>
          <p:cNvSpPr/>
          <p:nvPr/>
        </p:nvSpPr>
        <p:spPr>
          <a:xfrm>
            <a:off x="6553080" y="4724280"/>
            <a:ext cx="2438640" cy="580680"/>
          </a:xfrm>
          <a:prstGeom prst="rect">
            <a:avLst/>
          </a:prstGeom>
          <a:solidFill>
            <a:srgbClr val="ffffff"/>
          </a:solidFill>
          <a:ln w="9360">
            <a:solidFill>
              <a:srgbClr val="566884"/>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Arial Narrow"/>
              </a:rPr>
              <a:t>Southern Africa Cape Town, South Africa</a:t>
            </a:r>
            <a:endParaRPr b="0" lang="en-US" sz="1600" spc="-1" strike="noStrike">
              <a:solidFill>
                <a:srgbClr val="000000"/>
              </a:solidFill>
              <a:latin typeface="Times New Roman"/>
            </a:endParaRPr>
          </a:p>
        </p:txBody>
      </p:sp>
      <p:sp>
        <p:nvSpPr>
          <p:cNvPr id="95" name="Text Box 37"/>
          <p:cNvSpPr/>
          <p:nvPr/>
        </p:nvSpPr>
        <p:spPr>
          <a:xfrm>
            <a:off x="4114800" y="2743200"/>
            <a:ext cx="2209680" cy="580680"/>
          </a:xfrm>
          <a:prstGeom prst="rect">
            <a:avLst/>
          </a:prstGeom>
          <a:solidFill>
            <a:srgbClr val="ffffff"/>
          </a:solidFill>
          <a:ln w="9360">
            <a:solidFill>
              <a:srgbClr val="566884"/>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Arial Narrow"/>
              </a:rPr>
              <a:t>North America Chapter Washington D.C.</a:t>
            </a:r>
            <a:endParaRPr b="0" lang="en-US" sz="1600" spc="-1" strike="noStrike">
              <a:solidFill>
                <a:srgbClr val="000000"/>
              </a:solidFill>
              <a:latin typeface="Times New Roman"/>
            </a:endParaRPr>
          </a:p>
        </p:txBody>
      </p:sp>
      <p:sp>
        <p:nvSpPr>
          <p:cNvPr id="96" name="Text Box 38"/>
          <p:cNvSpPr/>
          <p:nvPr/>
        </p:nvSpPr>
        <p:spPr>
          <a:xfrm>
            <a:off x="4495680" y="4530600"/>
            <a:ext cx="1781280" cy="337320"/>
          </a:xfrm>
          <a:prstGeom prst="rect">
            <a:avLst/>
          </a:prstGeom>
          <a:solidFill>
            <a:srgbClr val="ffffff"/>
          </a:solidFill>
          <a:ln w="9360">
            <a:solidFill>
              <a:srgbClr val="566884"/>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Arial Narrow"/>
              </a:rPr>
              <a:t>Brazil Chapter</a:t>
            </a:r>
            <a:endParaRPr b="0" lang="en-US" sz="1600" spc="-1" strike="noStrike">
              <a:solidFill>
                <a:srgbClr val="000000"/>
              </a:solidFill>
              <a:latin typeface="Times New Roman"/>
            </a:endParaRPr>
          </a:p>
        </p:txBody>
      </p:sp>
      <p:sp>
        <p:nvSpPr>
          <p:cNvPr id="97" name="Text Box 39"/>
          <p:cNvSpPr/>
          <p:nvPr/>
        </p:nvSpPr>
        <p:spPr>
          <a:xfrm>
            <a:off x="228600" y="2438280"/>
            <a:ext cx="1752480" cy="707760"/>
          </a:xfrm>
          <a:prstGeom prst="rect">
            <a:avLst/>
          </a:prstGeom>
          <a:solidFill>
            <a:srgbClr val="ffffff"/>
          </a:solidFill>
          <a:ln w="9360">
            <a:solidFill>
              <a:srgbClr val="566884"/>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Arial Narrow"/>
              </a:rPr>
              <a:t>Greater China,</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66884"/>
                </a:solidFill>
                <a:latin typeface="Arial Narrow"/>
              </a:rPr>
              <a:t>Shanghai</a:t>
            </a:r>
            <a:endParaRPr b="0" lang="en-US" sz="1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pply Chain Operations Reference-Model</a:t>
            </a:r>
            <a:br>
              <a:rPr sz="3200"/>
            </a:br>
            <a:r>
              <a:rPr b="1" lang="en-US" sz="3200" spc="-1" strike="noStrike">
                <a:solidFill>
                  <a:srgbClr val="000000"/>
                </a:solidFill>
                <a:latin typeface="Calibri"/>
              </a:rPr>
              <a:t>(SCOR</a:t>
            </a:r>
            <a:r>
              <a:rPr b="1" lang="en-US" sz="3200" spc="-1" strike="noStrike" baseline="28000">
                <a:solidFill>
                  <a:srgbClr val="000000"/>
                </a:solidFill>
                <a:latin typeface="Calibri"/>
              </a:rPr>
              <a:t>®</a:t>
            </a:r>
            <a:r>
              <a:rPr b="1" lang="en-US" sz="3200" spc="-1" strike="noStrike">
                <a:solidFill>
                  <a:srgbClr val="000000"/>
                </a:solidFill>
                <a:latin typeface="Calibri"/>
              </a:rPr>
              <a:t>) Overview</a:t>
            </a:r>
            <a:endParaRPr b="1"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75960"/>
            <a:ext cx="74674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OR - </a:t>
            </a:r>
            <a:br>
              <a:rPr sz="3200"/>
            </a:br>
            <a:r>
              <a:rPr b="1" lang="en-US" sz="3200" spc="-1" strike="noStrike">
                <a:solidFill>
                  <a:srgbClr val="000000"/>
                </a:solidFill>
                <a:latin typeface="Calibri"/>
              </a:rPr>
              <a:t>5 distinct Management Processes</a:t>
            </a:r>
            <a:endParaRPr b="1" lang="en-US" sz="3200" spc="-1" strike="noStrike">
              <a:solidFill>
                <a:srgbClr val="000000"/>
              </a:solidFill>
              <a:latin typeface="Calibri"/>
            </a:endParaRPr>
          </a:p>
        </p:txBody>
      </p:sp>
      <p:sp>
        <p:nvSpPr>
          <p:cNvPr id="100" name="Freeform 3"/>
          <p:cNvSpPr/>
          <p:nvPr/>
        </p:nvSpPr>
        <p:spPr>
          <a:xfrm>
            <a:off x="627120" y="1832040"/>
            <a:ext cx="7678800" cy="1216080"/>
          </a:xfrm>
          <a:custGeom>
            <a:avLst/>
            <a:gdLst>
              <a:gd name="textAreaLeft" fmla="*/ 0 w 7678800"/>
              <a:gd name="textAreaRight" fmla="*/ 7679160 w 7678800"/>
              <a:gd name="textAreaTop" fmla="*/ 0 h 1216080"/>
              <a:gd name="textAreaBottom" fmla="*/ 1216440 h 1216080"/>
            </a:gdLst>
            <a:ahLst/>
            <a:rect l="textAreaLeft" t="textAreaTop" r="textAreaRight" b="textAreaBottom"/>
            <a:pathLst>
              <a:path w="4905" h="632">
                <a:moveTo>
                  <a:pt x="8" y="543"/>
                </a:moveTo>
                <a:lnTo>
                  <a:pt x="567" y="452"/>
                </a:lnTo>
                <a:lnTo>
                  <a:pt x="1066" y="426"/>
                </a:lnTo>
                <a:lnTo>
                  <a:pt x="1530" y="387"/>
                </a:lnTo>
                <a:lnTo>
                  <a:pt x="1899" y="335"/>
                </a:lnTo>
                <a:lnTo>
                  <a:pt x="2193" y="266"/>
                </a:lnTo>
                <a:lnTo>
                  <a:pt x="2342" y="201"/>
                </a:lnTo>
                <a:lnTo>
                  <a:pt x="2390" y="148"/>
                </a:lnTo>
                <a:lnTo>
                  <a:pt x="2404" y="70"/>
                </a:lnTo>
                <a:lnTo>
                  <a:pt x="2342" y="70"/>
                </a:lnTo>
                <a:lnTo>
                  <a:pt x="2453" y="0"/>
                </a:lnTo>
                <a:lnTo>
                  <a:pt x="2562" y="69"/>
                </a:lnTo>
                <a:lnTo>
                  <a:pt x="2494" y="69"/>
                </a:lnTo>
                <a:lnTo>
                  <a:pt x="2513" y="148"/>
                </a:lnTo>
                <a:lnTo>
                  <a:pt x="2602" y="218"/>
                </a:lnTo>
                <a:lnTo>
                  <a:pt x="2814" y="296"/>
                </a:lnTo>
                <a:lnTo>
                  <a:pt x="2985" y="331"/>
                </a:lnTo>
                <a:lnTo>
                  <a:pt x="3285" y="379"/>
                </a:lnTo>
                <a:lnTo>
                  <a:pt x="3600" y="409"/>
                </a:lnTo>
                <a:lnTo>
                  <a:pt x="4084" y="444"/>
                </a:lnTo>
                <a:lnTo>
                  <a:pt x="4570" y="461"/>
                </a:lnTo>
                <a:lnTo>
                  <a:pt x="4904" y="527"/>
                </a:lnTo>
                <a:lnTo>
                  <a:pt x="4884" y="631"/>
                </a:lnTo>
                <a:lnTo>
                  <a:pt x="0" y="631"/>
                </a:lnTo>
                <a:lnTo>
                  <a:pt x="8" y="543"/>
                </a:lnTo>
              </a:path>
            </a:pathLst>
          </a:custGeom>
          <a:gradFill rotWithShape="0">
            <a:gsLst>
              <a:gs pos="0">
                <a:srgbClr val="e07a33"/>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Rectangle 4"/>
          <p:cNvSpPr/>
          <p:nvPr/>
        </p:nvSpPr>
        <p:spPr>
          <a:xfrm>
            <a:off x="1365120" y="3390840"/>
            <a:ext cx="1381320" cy="282600"/>
          </a:xfrm>
          <a:prstGeom prst="rect">
            <a:avLst/>
          </a:prstGeom>
          <a:noFill/>
          <a:ln w="0">
            <a:noFill/>
          </a:ln>
        </p:spPr>
        <p:style>
          <a:lnRef idx="0"/>
          <a:fillRef idx="0"/>
          <a:effectRef idx="0"/>
          <a:fontRef idx="minor"/>
        </p:style>
        <p:txBody>
          <a:bodyPr lIns="68760" rIns="68760" tIns="34560" bIns="34560" anchor="t">
            <a:spAutoFit/>
          </a:bodyPr>
          <a:p>
            <a:pPr algn="ctr">
              <a:spcBef>
                <a:spcPts val="876"/>
              </a:spcBef>
              <a:tabLst>
                <a:tab algn="l" pos="0"/>
                <a:tab algn="l" pos="507960"/>
                <a:tab algn="l" pos="1015920"/>
                <a:tab algn="l" pos="1523880"/>
                <a:tab algn="l" pos="20318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Lst>
            </a:pPr>
            <a:r>
              <a:rPr b="1" lang="en-US" sz="1400" spc="-1" strike="noStrike">
                <a:solidFill>
                  <a:srgbClr val="566884"/>
                </a:solidFill>
                <a:latin typeface="Times New Roman"/>
              </a:rPr>
              <a:t>Supplier</a:t>
            </a:r>
            <a:endParaRPr b="0" lang="en-US" sz="1400" spc="-1" strike="noStrike">
              <a:solidFill>
                <a:srgbClr val="000000"/>
              </a:solidFill>
              <a:latin typeface="Times New Roman"/>
            </a:endParaRPr>
          </a:p>
        </p:txBody>
      </p:sp>
      <p:sp>
        <p:nvSpPr>
          <p:cNvPr id="102" name="Oval 5"/>
          <p:cNvSpPr/>
          <p:nvPr/>
        </p:nvSpPr>
        <p:spPr>
          <a:xfrm>
            <a:off x="3852720" y="1414440"/>
            <a:ext cx="1252800" cy="399240"/>
          </a:xfrm>
          <a:prstGeom prst="ellipse">
            <a:avLst/>
          </a:prstGeom>
          <a:noFill/>
          <a:ln w="25560">
            <a:solidFill>
              <a:srgbClr val="e07a33"/>
            </a:solidFill>
            <a:miter/>
          </a:ln>
        </p:spPr>
        <p:style>
          <a:lnRef idx="0"/>
          <a:fillRef idx="0"/>
          <a:effectRef idx="0"/>
          <a:fontRef idx="minor"/>
        </p:style>
        <p:txBody>
          <a:bodyPr lIns="68760" rIns="68760" tIns="34560" bIns="345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07a33"/>
                </a:solidFill>
                <a:latin typeface="Times New Roman"/>
              </a:rPr>
              <a:t>Plan</a:t>
            </a:r>
            <a:endParaRPr b="0" lang="en-US" sz="1400" spc="-1" strike="noStrike">
              <a:solidFill>
                <a:srgbClr val="000000"/>
              </a:solidFill>
              <a:latin typeface="Times New Roman"/>
            </a:endParaRPr>
          </a:p>
        </p:txBody>
      </p:sp>
      <p:sp>
        <p:nvSpPr>
          <p:cNvPr id="103" name="Line 6"/>
          <p:cNvSpPr/>
          <p:nvPr/>
        </p:nvSpPr>
        <p:spPr>
          <a:xfrm flipV="1">
            <a:off x="8128080" y="1861920"/>
            <a:ext cx="0" cy="1724040"/>
          </a:xfrm>
          <a:prstGeom prst="line">
            <a:avLst/>
          </a:prstGeom>
          <a:ln w="12600">
            <a:solidFill>
              <a:srgbClr val="566884"/>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Line 7"/>
          <p:cNvSpPr/>
          <p:nvPr/>
        </p:nvSpPr>
        <p:spPr>
          <a:xfrm flipV="1">
            <a:off x="2768760" y="1810800"/>
            <a:ext cx="0" cy="1724040"/>
          </a:xfrm>
          <a:prstGeom prst="line">
            <a:avLst/>
          </a:prstGeom>
          <a:ln w="12600">
            <a:solidFill>
              <a:srgbClr val="566884"/>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Line 8"/>
          <p:cNvSpPr/>
          <p:nvPr/>
        </p:nvSpPr>
        <p:spPr>
          <a:xfrm flipV="1">
            <a:off x="6159600" y="1848960"/>
            <a:ext cx="0" cy="1724040"/>
          </a:xfrm>
          <a:prstGeom prst="line">
            <a:avLst/>
          </a:prstGeom>
          <a:ln w="12600">
            <a:solidFill>
              <a:srgbClr val="566884"/>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Line 9"/>
          <p:cNvSpPr/>
          <p:nvPr/>
        </p:nvSpPr>
        <p:spPr>
          <a:xfrm flipV="1">
            <a:off x="787320" y="1793520"/>
            <a:ext cx="0" cy="1725480"/>
          </a:xfrm>
          <a:prstGeom prst="line">
            <a:avLst/>
          </a:prstGeom>
          <a:ln w="12600">
            <a:solidFill>
              <a:srgbClr val="566884"/>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Rectangle 10"/>
          <p:cNvSpPr/>
          <p:nvPr/>
        </p:nvSpPr>
        <p:spPr>
          <a:xfrm>
            <a:off x="6345360" y="3390840"/>
            <a:ext cx="1380960" cy="282600"/>
          </a:xfrm>
          <a:prstGeom prst="rect">
            <a:avLst/>
          </a:prstGeom>
          <a:noFill/>
          <a:ln w="0">
            <a:noFill/>
          </a:ln>
        </p:spPr>
        <p:style>
          <a:lnRef idx="0"/>
          <a:fillRef idx="0"/>
          <a:effectRef idx="0"/>
          <a:fontRef idx="minor"/>
        </p:style>
        <p:txBody>
          <a:bodyPr lIns="68760" rIns="68760" tIns="34560" bIns="34560" anchor="t">
            <a:spAutoFit/>
          </a:bodyPr>
          <a:p>
            <a:pPr algn="ctr">
              <a:spcBef>
                <a:spcPts val="876"/>
              </a:spcBef>
              <a:tabLst>
                <a:tab algn="l" pos="0"/>
                <a:tab algn="l" pos="507960"/>
                <a:tab algn="l" pos="1015920"/>
                <a:tab algn="l" pos="1523880"/>
                <a:tab algn="l" pos="20318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Lst>
            </a:pPr>
            <a:r>
              <a:rPr b="1" lang="en-US" sz="1400" spc="-1" strike="noStrike">
                <a:solidFill>
                  <a:srgbClr val="566884"/>
                </a:solidFill>
                <a:latin typeface="Times New Roman"/>
              </a:rPr>
              <a:t>Customer</a:t>
            </a:r>
            <a:endParaRPr b="0" lang="en-US" sz="1400" spc="-1" strike="noStrike">
              <a:solidFill>
                <a:srgbClr val="000000"/>
              </a:solidFill>
              <a:latin typeface="Times New Roman"/>
            </a:endParaRPr>
          </a:p>
        </p:txBody>
      </p:sp>
      <p:sp>
        <p:nvSpPr>
          <p:cNvPr id="108" name="Rectangle 11"/>
          <p:cNvSpPr/>
          <p:nvPr/>
        </p:nvSpPr>
        <p:spPr>
          <a:xfrm>
            <a:off x="7862760" y="3390840"/>
            <a:ext cx="1128960" cy="495720"/>
          </a:xfrm>
          <a:prstGeom prst="rect">
            <a:avLst/>
          </a:prstGeom>
          <a:noFill/>
          <a:ln w="0">
            <a:noFill/>
          </a:ln>
        </p:spPr>
        <p:style>
          <a:lnRef idx="0"/>
          <a:fillRef idx="0"/>
          <a:effectRef idx="0"/>
          <a:fontRef idx="minor"/>
        </p:style>
        <p:txBody>
          <a:bodyPr lIns="68760" rIns="68760" tIns="34560" bIns="34560" anchor="t">
            <a:spAutoFit/>
          </a:bodyPr>
          <a:p>
            <a:pPr algn="ctr">
              <a:tabLst>
                <a:tab algn="l" pos="0"/>
                <a:tab algn="l" pos="507960"/>
                <a:tab algn="l" pos="1015920"/>
                <a:tab algn="l" pos="1523880"/>
                <a:tab algn="l" pos="20318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Lst>
            </a:pPr>
            <a:r>
              <a:rPr b="1" lang="en-US" sz="1400" spc="-1" strike="noStrike">
                <a:solidFill>
                  <a:srgbClr val="566884"/>
                </a:solidFill>
                <a:latin typeface="Times New Roman"/>
              </a:rPr>
              <a:t>Customer’s</a:t>
            </a:r>
            <a:br>
              <a:rPr sz="1400"/>
            </a:br>
            <a:r>
              <a:rPr b="1" lang="en-US" sz="1400" spc="-1" strike="noStrike">
                <a:solidFill>
                  <a:srgbClr val="566884"/>
                </a:solidFill>
                <a:latin typeface="Times New Roman"/>
              </a:rPr>
              <a:t>Customer</a:t>
            </a:r>
            <a:endParaRPr b="0" lang="en-US" sz="1400" spc="-1" strike="noStrike">
              <a:solidFill>
                <a:srgbClr val="000000"/>
              </a:solidFill>
              <a:latin typeface="Times New Roman"/>
            </a:endParaRPr>
          </a:p>
        </p:txBody>
      </p:sp>
      <p:sp>
        <p:nvSpPr>
          <p:cNvPr id="109" name="Rectangle 12"/>
          <p:cNvSpPr/>
          <p:nvPr/>
        </p:nvSpPr>
        <p:spPr>
          <a:xfrm>
            <a:off x="152280" y="3390840"/>
            <a:ext cx="1076400" cy="495720"/>
          </a:xfrm>
          <a:prstGeom prst="rect">
            <a:avLst/>
          </a:prstGeom>
          <a:noFill/>
          <a:ln w="0">
            <a:noFill/>
          </a:ln>
        </p:spPr>
        <p:style>
          <a:lnRef idx="0"/>
          <a:fillRef idx="0"/>
          <a:effectRef idx="0"/>
          <a:fontRef idx="minor"/>
        </p:style>
        <p:txBody>
          <a:bodyPr lIns="68760" rIns="68760" tIns="34560" bIns="34560" anchor="t">
            <a:spAutoFit/>
          </a:bodyPr>
          <a:p>
            <a:pPr algn="ctr">
              <a:spcBef>
                <a:spcPts val="876"/>
              </a:spcBef>
              <a:tabLst>
                <a:tab algn="l" pos="0"/>
                <a:tab algn="l" pos="507960"/>
                <a:tab algn="l" pos="1015920"/>
                <a:tab algn="l" pos="1523880"/>
                <a:tab algn="l" pos="20318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Lst>
            </a:pPr>
            <a:r>
              <a:rPr b="1" lang="en-US" sz="1400" spc="-1" strike="noStrike">
                <a:solidFill>
                  <a:srgbClr val="566884"/>
                </a:solidFill>
                <a:latin typeface="Times New Roman"/>
              </a:rPr>
              <a:t>Suppliers’</a:t>
            </a:r>
            <a:br>
              <a:rPr sz="1400"/>
            </a:br>
            <a:r>
              <a:rPr b="1" lang="en-US" sz="1400" spc="-1" strike="noStrike">
                <a:solidFill>
                  <a:srgbClr val="566884"/>
                </a:solidFill>
                <a:latin typeface="Times New Roman"/>
              </a:rPr>
              <a:t>Supplier</a:t>
            </a:r>
            <a:endParaRPr b="0" lang="en-US" sz="1400" spc="-1" strike="noStrike">
              <a:solidFill>
                <a:srgbClr val="000000"/>
              </a:solidFill>
              <a:latin typeface="Times New Roman"/>
            </a:endParaRPr>
          </a:p>
        </p:txBody>
      </p:sp>
      <p:sp>
        <p:nvSpPr>
          <p:cNvPr id="110" name="Line 13"/>
          <p:cNvSpPr/>
          <p:nvPr/>
        </p:nvSpPr>
        <p:spPr>
          <a:xfrm>
            <a:off x="2424240" y="2754360"/>
            <a:ext cx="29880" cy="30240"/>
          </a:xfrm>
          <a:prstGeom prst="line">
            <a:avLst/>
          </a:prstGeom>
          <a:ln w="9360">
            <a:solidFill>
              <a:srgbClr val="566884"/>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1" name="Oval 14"/>
          <p:cNvSpPr/>
          <p:nvPr/>
        </p:nvSpPr>
        <p:spPr>
          <a:xfrm>
            <a:off x="4952880" y="2514600"/>
            <a:ext cx="1246320" cy="50652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6884"/>
                </a:solidFill>
                <a:latin typeface="Times New Roman"/>
              </a:rPr>
              <a:t>Deliver</a:t>
            </a:r>
            <a:endParaRPr b="0" lang="en-US" sz="1400" spc="-1" strike="noStrike">
              <a:solidFill>
                <a:srgbClr val="000000"/>
              </a:solidFill>
              <a:latin typeface="Times New Roman"/>
            </a:endParaRPr>
          </a:p>
        </p:txBody>
      </p:sp>
      <p:sp>
        <p:nvSpPr>
          <p:cNvPr id="112" name="Oval 15"/>
          <p:cNvSpPr/>
          <p:nvPr/>
        </p:nvSpPr>
        <p:spPr>
          <a:xfrm>
            <a:off x="8077320" y="2620800"/>
            <a:ext cx="73980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66884"/>
                </a:solidFill>
                <a:latin typeface="Times New Roman"/>
              </a:rPr>
              <a:t>Source</a:t>
            </a:r>
            <a:endParaRPr b="0" lang="en-US" sz="1000" spc="-1" strike="noStrike">
              <a:solidFill>
                <a:srgbClr val="000000"/>
              </a:solidFill>
              <a:latin typeface="Times New Roman"/>
            </a:endParaRPr>
          </a:p>
        </p:txBody>
      </p:sp>
      <p:sp>
        <p:nvSpPr>
          <p:cNvPr id="113" name="Oval 16"/>
          <p:cNvSpPr/>
          <p:nvPr/>
        </p:nvSpPr>
        <p:spPr>
          <a:xfrm>
            <a:off x="2854440" y="2514600"/>
            <a:ext cx="1249200" cy="50652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Oval 17"/>
          <p:cNvSpPr/>
          <p:nvPr/>
        </p:nvSpPr>
        <p:spPr>
          <a:xfrm>
            <a:off x="3852720" y="2514600"/>
            <a:ext cx="1252800" cy="50652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6884"/>
                </a:solidFill>
                <a:latin typeface="Times New Roman"/>
              </a:rPr>
              <a:t>Make</a:t>
            </a:r>
            <a:endParaRPr b="0" lang="en-US" sz="1400" spc="-1" strike="noStrike">
              <a:solidFill>
                <a:srgbClr val="000000"/>
              </a:solidFill>
              <a:latin typeface="Times New Roman"/>
            </a:endParaRPr>
          </a:p>
        </p:txBody>
      </p:sp>
      <p:sp>
        <p:nvSpPr>
          <p:cNvPr id="115" name="Oval 18"/>
          <p:cNvSpPr/>
          <p:nvPr/>
        </p:nvSpPr>
        <p:spPr>
          <a:xfrm>
            <a:off x="1422360" y="2620800"/>
            <a:ext cx="73656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66884"/>
                </a:solidFill>
                <a:latin typeface="Times New Roman"/>
              </a:rPr>
              <a:t>Make</a:t>
            </a:r>
            <a:endParaRPr b="0" lang="en-US" sz="1000" spc="-1" strike="noStrike">
              <a:solidFill>
                <a:srgbClr val="000000"/>
              </a:solidFill>
              <a:latin typeface="Times New Roman"/>
            </a:endParaRPr>
          </a:p>
        </p:txBody>
      </p:sp>
      <p:sp>
        <p:nvSpPr>
          <p:cNvPr id="116" name="Oval 19"/>
          <p:cNvSpPr/>
          <p:nvPr/>
        </p:nvSpPr>
        <p:spPr>
          <a:xfrm>
            <a:off x="7445520" y="2620800"/>
            <a:ext cx="73980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66884"/>
                </a:solidFill>
                <a:latin typeface="Times New Roman"/>
              </a:rPr>
              <a:t>Deliver</a:t>
            </a:r>
            <a:endParaRPr b="0" lang="en-US" sz="1000" spc="-1" strike="noStrike">
              <a:solidFill>
                <a:srgbClr val="000000"/>
              </a:solidFill>
              <a:latin typeface="Times New Roman"/>
            </a:endParaRPr>
          </a:p>
        </p:txBody>
      </p:sp>
      <p:sp>
        <p:nvSpPr>
          <p:cNvPr id="117" name="Oval 20"/>
          <p:cNvSpPr/>
          <p:nvPr/>
        </p:nvSpPr>
        <p:spPr>
          <a:xfrm>
            <a:off x="6781680" y="2620800"/>
            <a:ext cx="73980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66884"/>
                </a:solidFill>
                <a:latin typeface="Times New Roman"/>
              </a:rPr>
              <a:t>Make</a:t>
            </a:r>
            <a:endParaRPr b="0" lang="en-US" sz="1000" spc="-1" strike="noStrike">
              <a:solidFill>
                <a:srgbClr val="000000"/>
              </a:solidFill>
              <a:latin typeface="Times New Roman"/>
            </a:endParaRPr>
          </a:p>
        </p:txBody>
      </p:sp>
      <p:sp>
        <p:nvSpPr>
          <p:cNvPr id="118" name="Oval 21"/>
          <p:cNvSpPr/>
          <p:nvPr/>
        </p:nvSpPr>
        <p:spPr>
          <a:xfrm>
            <a:off x="6119640" y="2620800"/>
            <a:ext cx="73692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66884"/>
                </a:solidFill>
                <a:latin typeface="Times New Roman"/>
              </a:rPr>
              <a:t>Source</a:t>
            </a:r>
            <a:endParaRPr b="0" lang="en-US" sz="1000" spc="-1" strike="noStrike">
              <a:solidFill>
                <a:srgbClr val="000000"/>
              </a:solidFill>
              <a:latin typeface="Times New Roman"/>
            </a:endParaRPr>
          </a:p>
        </p:txBody>
      </p:sp>
      <p:sp>
        <p:nvSpPr>
          <p:cNvPr id="119" name="Oval 22"/>
          <p:cNvSpPr/>
          <p:nvPr/>
        </p:nvSpPr>
        <p:spPr>
          <a:xfrm>
            <a:off x="96840" y="2620800"/>
            <a:ext cx="73980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66884"/>
                </a:solidFill>
                <a:latin typeface="Times New Roman"/>
              </a:rPr>
              <a:t>Deliver</a:t>
            </a:r>
            <a:endParaRPr b="0" lang="en-US" sz="1000" spc="-1" strike="noStrike">
              <a:solidFill>
                <a:srgbClr val="000000"/>
              </a:solidFill>
              <a:latin typeface="Times New Roman"/>
            </a:endParaRPr>
          </a:p>
        </p:txBody>
      </p:sp>
      <p:sp>
        <p:nvSpPr>
          <p:cNvPr id="120" name="Rectangle 23"/>
          <p:cNvSpPr/>
          <p:nvPr/>
        </p:nvSpPr>
        <p:spPr>
          <a:xfrm>
            <a:off x="1042920" y="3919680"/>
            <a:ext cx="1865520" cy="301320"/>
          </a:xfrm>
          <a:prstGeom prst="rect">
            <a:avLst/>
          </a:prstGeom>
          <a:noFill/>
          <a:ln w="0">
            <a:noFill/>
          </a:ln>
        </p:spPr>
        <p:style>
          <a:lnRef idx="0"/>
          <a:fillRef idx="0"/>
          <a:effectRef idx="0"/>
          <a:fontRef idx="minor"/>
        </p:style>
        <p:txBody>
          <a:bodyPr lIns="89280" rIns="89280" tIns="43920" bIns="43920" anchor="t">
            <a:spAutoFit/>
          </a:bodyPr>
          <a:p>
            <a:pPr algn="ctr">
              <a:spcBef>
                <a:spcPts val="876"/>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566884"/>
                </a:solidFill>
                <a:latin typeface="Times New Roman"/>
              </a:rPr>
              <a:t>Internal or External</a:t>
            </a:r>
            <a:endParaRPr b="0" lang="en-US" sz="1400" spc="-1" strike="noStrike">
              <a:solidFill>
                <a:srgbClr val="000000"/>
              </a:solidFill>
              <a:latin typeface="Times New Roman"/>
            </a:endParaRPr>
          </a:p>
        </p:txBody>
      </p:sp>
      <p:sp>
        <p:nvSpPr>
          <p:cNvPr id="121" name="Rectangle 24"/>
          <p:cNvSpPr/>
          <p:nvPr/>
        </p:nvSpPr>
        <p:spPr>
          <a:xfrm>
            <a:off x="6019920" y="3919680"/>
            <a:ext cx="1846080" cy="301320"/>
          </a:xfrm>
          <a:prstGeom prst="rect">
            <a:avLst/>
          </a:prstGeom>
          <a:noFill/>
          <a:ln w="0">
            <a:noFill/>
          </a:ln>
        </p:spPr>
        <p:style>
          <a:lnRef idx="0"/>
          <a:fillRef idx="0"/>
          <a:effectRef idx="0"/>
          <a:fontRef idx="minor"/>
        </p:style>
        <p:txBody>
          <a:bodyPr lIns="89280" rIns="89280" tIns="43920" bIns="43920" anchor="t">
            <a:spAutoFit/>
          </a:bodyPr>
          <a:p>
            <a:pPr algn="ctr">
              <a:spcBef>
                <a:spcPts val="876"/>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566884"/>
                </a:solidFill>
                <a:latin typeface="Times New Roman"/>
              </a:rPr>
              <a:t>Internal or External</a:t>
            </a:r>
            <a:endParaRPr b="0" lang="en-US" sz="1400" spc="-1" strike="noStrike">
              <a:solidFill>
                <a:srgbClr val="000000"/>
              </a:solidFill>
              <a:latin typeface="Times New Roman"/>
            </a:endParaRPr>
          </a:p>
        </p:txBody>
      </p:sp>
      <p:sp>
        <p:nvSpPr>
          <p:cNvPr id="122" name="Rectangle 25"/>
          <p:cNvSpPr/>
          <p:nvPr/>
        </p:nvSpPr>
        <p:spPr>
          <a:xfrm>
            <a:off x="2933640" y="3390840"/>
            <a:ext cx="3086280" cy="282600"/>
          </a:xfrm>
          <a:prstGeom prst="rect">
            <a:avLst/>
          </a:prstGeom>
          <a:noFill/>
          <a:ln w="0">
            <a:noFill/>
          </a:ln>
        </p:spPr>
        <p:style>
          <a:lnRef idx="0"/>
          <a:fillRef idx="0"/>
          <a:effectRef idx="0"/>
          <a:fontRef idx="minor"/>
        </p:style>
        <p:txBody>
          <a:bodyPr lIns="68760" rIns="68760" tIns="34560" bIns="34560" anchor="t">
            <a:spAutoFit/>
          </a:bodyPr>
          <a:p>
            <a:pPr algn="ctr">
              <a:spcBef>
                <a:spcPts val="876"/>
              </a:spcBef>
              <a:tabLst>
                <a:tab algn="l" pos="0"/>
                <a:tab algn="l" pos="507960"/>
                <a:tab algn="l" pos="1015920"/>
                <a:tab algn="l" pos="1523880"/>
                <a:tab algn="l" pos="20318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Lst>
            </a:pPr>
            <a:r>
              <a:rPr b="1" lang="en-US" sz="1400" spc="-1" strike="noStrike">
                <a:solidFill>
                  <a:srgbClr val="566884"/>
                </a:solidFill>
                <a:latin typeface="Times New Roman"/>
              </a:rPr>
              <a:t>Your Company</a:t>
            </a:r>
            <a:endParaRPr b="0" lang="en-US" sz="1400" spc="-1" strike="noStrike">
              <a:solidFill>
                <a:srgbClr val="000000"/>
              </a:solidFill>
              <a:latin typeface="Times New Roman"/>
            </a:endParaRPr>
          </a:p>
        </p:txBody>
      </p:sp>
      <p:sp>
        <p:nvSpPr>
          <p:cNvPr id="123" name="Oval 26"/>
          <p:cNvSpPr/>
          <p:nvPr/>
        </p:nvSpPr>
        <p:spPr>
          <a:xfrm>
            <a:off x="757080" y="2620800"/>
            <a:ext cx="73836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66884"/>
                </a:solidFill>
                <a:latin typeface="Times New Roman"/>
              </a:rPr>
              <a:t>Source</a:t>
            </a:r>
            <a:endParaRPr b="0" lang="en-US" sz="1000" spc="-1" strike="noStrike">
              <a:solidFill>
                <a:srgbClr val="000000"/>
              </a:solidFill>
              <a:latin typeface="Times New Roman"/>
            </a:endParaRPr>
          </a:p>
        </p:txBody>
      </p:sp>
      <p:sp>
        <p:nvSpPr>
          <p:cNvPr id="124" name="AutoShape 27"/>
          <p:cNvSpPr/>
          <p:nvPr/>
        </p:nvSpPr>
        <p:spPr>
          <a:xfrm>
            <a:off x="334800" y="4191120"/>
            <a:ext cx="8275680" cy="761760"/>
          </a:xfrm>
          <a:prstGeom prst="leftRightArrow">
            <a:avLst>
              <a:gd name="adj1" fmla="val 50000"/>
              <a:gd name="adj2" fmla="val 216272"/>
            </a:avLst>
          </a:prstGeom>
          <a:gradFill rotWithShape="0">
            <a:gsLst>
              <a:gs pos="0">
                <a:srgbClr val="e59157"/>
              </a:gs>
              <a:gs pos="50000">
                <a:srgbClr val="e07a33"/>
              </a:gs>
              <a:gs pos="100000">
                <a:srgbClr val="e59157"/>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COR Model </a:t>
            </a:r>
            <a:endParaRPr b="0" lang="en-US" sz="2000" spc="-1" strike="noStrike">
              <a:solidFill>
                <a:srgbClr val="000000"/>
              </a:solidFill>
              <a:latin typeface="Times New Roman"/>
            </a:endParaRPr>
          </a:p>
        </p:txBody>
      </p:sp>
      <p:sp>
        <p:nvSpPr>
          <p:cNvPr id="125" name="Oval 28"/>
          <p:cNvSpPr/>
          <p:nvPr/>
        </p:nvSpPr>
        <p:spPr>
          <a:xfrm>
            <a:off x="98280" y="2884320"/>
            <a:ext cx="73980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07a33"/>
                </a:solidFill>
                <a:latin typeface="Times New Roman"/>
              </a:rPr>
              <a:t>Return</a:t>
            </a:r>
            <a:endParaRPr b="0" lang="en-US" sz="1000" spc="-1" strike="noStrike">
              <a:solidFill>
                <a:srgbClr val="000000"/>
              </a:solidFill>
              <a:latin typeface="Times New Roman"/>
            </a:endParaRPr>
          </a:p>
        </p:txBody>
      </p:sp>
      <p:sp>
        <p:nvSpPr>
          <p:cNvPr id="126" name="Oval 29"/>
          <p:cNvSpPr/>
          <p:nvPr/>
        </p:nvSpPr>
        <p:spPr>
          <a:xfrm>
            <a:off x="755640" y="2884320"/>
            <a:ext cx="73980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07a33"/>
                </a:solidFill>
                <a:latin typeface="Times New Roman"/>
              </a:rPr>
              <a:t>Return</a:t>
            </a:r>
            <a:endParaRPr b="0" lang="en-US" sz="1000" spc="-1" strike="noStrike">
              <a:solidFill>
                <a:srgbClr val="000000"/>
              </a:solidFill>
              <a:latin typeface="Times New Roman"/>
            </a:endParaRPr>
          </a:p>
        </p:txBody>
      </p:sp>
      <p:sp>
        <p:nvSpPr>
          <p:cNvPr id="127" name="Oval 30"/>
          <p:cNvSpPr/>
          <p:nvPr/>
        </p:nvSpPr>
        <p:spPr>
          <a:xfrm>
            <a:off x="2070000" y="2884320"/>
            <a:ext cx="73980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07a33"/>
                </a:solidFill>
                <a:latin typeface="Times New Roman"/>
              </a:rPr>
              <a:t>Return</a:t>
            </a:r>
            <a:endParaRPr b="0" lang="en-US" sz="1000" spc="-1" strike="noStrike">
              <a:solidFill>
                <a:srgbClr val="000000"/>
              </a:solidFill>
              <a:latin typeface="Times New Roman"/>
            </a:endParaRPr>
          </a:p>
        </p:txBody>
      </p:sp>
      <p:sp>
        <p:nvSpPr>
          <p:cNvPr id="128" name="Oval 31"/>
          <p:cNvSpPr/>
          <p:nvPr/>
        </p:nvSpPr>
        <p:spPr>
          <a:xfrm>
            <a:off x="2666880" y="2922480"/>
            <a:ext cx="1249560" cy="506520"/>
          </a:xfrm>
          <a:prstGeom prst="ellipse">
            <a:avLst/>
          </a:prstGeom>
          <a:noFill/>
          <a:ln w="25560">
            <a:solidFill>
              <a:srgbClr val="e07a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07a33"/>
                </a:solidFill>
                <a:latin typeface="Times New Roman"/>
              </a:rPr>
              <a:t>Return</a:t>
            </a:r>
            <a:endParaRPr b="0" lang="en-US" sz="1400" spc="-1" strike="noStrike">
              <a:solidFill>
                <a:srgbClr val="000000"/>
              </a:solidFill>
              <a:latin typeface="Times New Roman"/>
            </a:endParaRPr>
          </a:p>
        </p:txBody>
      </p:sp>
      <p:sp>
        <p:nvSpPr>
          <p:cNvPr id="129" name="Oval 32"/>
          <p:cNvSpPr/>
          <p:nvPr/>
        </p:nvSpPr>
        <p:spPr>
          <a:xfrm>
            <a:off x="4998960" y="2922480"/>
            <a:ext cx="1249560" cy="506520"/>
          </a:xfrm>
          <a:prstGeom prst="ellipse">
            <a:avLst/>
          </a:prstGeom>
          <a:noFill/>
          <a:ln w="25560">
            <a:solidFill>
              <a:srgbClr val="e07a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07a33"/>
                </a:solidFill>
                <a:latin typeface="Times New Roman"/>
              </a:rPr>
              <a:t>Return</a:t>
            </a:r>
            <a:endParaRPr b="0" lang="en-US" sz="1400" spc="-1" strike="noStrike">
              <a:solidFill>
                <a:srgbClr val="000000"/>
              </a:solidFill>
              <a:latin typeface="Times New Roman"/>
            </a:endParaRPr>
          </a:p>
        </p:txBody>
      </p:sp>
      <p:sp>
        <p:nvSpPr>
          <p:cNvPr id="130" name="Oval 33"/>
          <p:cNvSpPr/>
          <p:nvPr/>
        </p:nvSpPr>
        <p:spPr>
          <a:xfrm>
            <a:off x="6118200" y="2884320"/>
            <a:ext cx="73980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07a33"/>
                </a:solidFill>
                <a:latin typeface="Times New Roman"/>
              </a:rPr>
              <a:t>Return</a:t>
            </a:r>
            <a:endParaRPr b="0" lang="en-US" sz="1000" spc="-1" strike="noStrike">
              <a:solidFill>
                <a:srgbClr val="000000"/>
              </a:solidFill>
              <a:latin typeface="Times New Roman"/>
            </a:endParaRPr>
          </a:p>
        </p:txBody>
      </p:sp>
      <p:sp>
        <p:nvSpPr>
          <p:cNvPr id="131" name="Oval 34"/>
          <p:cNvSpPr/>
          <p:nvPr/>
        </p:nvSpPr>
        <p:spPr>
          <a:xfrm>
            <a:off x="8077320" y="2884320"/>
            <a:ext cx="73980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07a33"/>
                </a:solidFill>
                <a:latin typeface="Times New Roman"/>
              </a:rPr>
              <a:t>Return</a:t>
            </a:r>
            <a:endParaRPr b="0" lang="en-US" sz="1000" spc="-1" strike="noStrike">
              <a:solidFill>
                <a:srgbClr val="000000"/>
              </a:solidFill>
              <a:latin typeface="Times New Roman"/>
            </a:endParaRPr>
          </a:p>
        </p:txBody>
      </p:sp>
      <p:sp>
        <p:nvSpPr>
          <p:cNvPr id="132" name="Oval 36"/>
          <p:cNvSpPr/>
          <p:nvPr/>
        </p:nvSpPr>
        <p:spPr>
          <a:xfrm>
            <a:off x="2743200" y="2516040"/>
            <a:ext cx="1252440" cy="50652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6884"/>
                </a:solidFill>
                <a:latin typeface="Times New Roman"/>
              </a:rPr>
              <a:t>Source</a:t>
            </a:r>
            <a:endParaRPr b="0" lang="en-US" sz="1400" spc="-1" strike="noStrike">
              <a:solidFill>
                <a:srgbClr val="000000"/>
              </a:solidFill>
              <a:latin typeface="Times New Roman"/>
            </a:endParaRPr>
          </a:p>
        </p:txBody>
      </p:sp>
      <p:sp>
        <p:nvSpPr>
          <p:cNvPr id="133" name="Oval 37"/>
          <p:cNvSpPr/>
          <p:nvPr/>
        </p:nvSpPr>
        <p:spPr>
          <a:xfrm>
            <a:off x="7445520" y="2884320"/>
            <a:ext cx="73980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07a33"/>
                </a:solidFill>
                <a:latin typeface="Times New Roman"/>
              </a:rPr>
              <a:t>Return</a:t>
            </a:r>
            <a:endParaRPr b="0" lang="en-US" sz="1000" spc="-1" strike="noStrike">
              <a:solidFill>
                <a:srgbClr val="000000"/>
              </a:solidFill>
              <a:latin typeface="Times New Roman"/>
            </a:endParaRPr>
          </a:p>
        </p:txBody>
      </p:sp>
      <p:sp>
        <p:nvSpPr>
          <p:cNvPr id="134" name="Oval 38"/>
          <p:cNvSpPr/>
          <p:nvPr/>
        </p:nvSpPr>
        <p:spPr>
          <a:xfrm>
            <a:off x="2071800" y="2620800"/>
            <a:ext cx="73656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66884"/>
                </a:solidFill>
                <a:latin typeface="Times New Roman"/>
              </a:rPr>
              <a:t>Deliver</a:t>
            </a:r>
            <a:endParaRPr b="0" lang="en-US" sz="1000" spc="-1" strike="noStrike">
              <a:solidFill>
                <a:srgbClr val="000000"/>
              </a:solidFill>
              <a:latin typeface="Times New Roman"/>
            </a:endParaRPr>
          </a:p>
        </p:txBody>
      </p:sp>
      <p:sp>
        <p:nvSpPr>
          <p:cNvPr id="135" name="Text Box 39"/>
          <p:cNvSpPr/>
          <p:nvPr/>
        </p:nvSpPr>
        <p:spPr>
          <a:xfrm>
            <a:off x="4724280" y="5029200"/>
            <a:ext cx="1752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Times New Roman"/>
              </a:rPr>
              <a:t>Best Practices</a:t>
            </a:r>
            <a:endParaRPr b="0" lang="en-US" sz="1600" spc="-1" strike="noStrike">
              <a:solidFill>
                <a:srgbClr val="000000"/>
              </a:solidFill>
              <a:latin typeface="Times New Roman"/>
            </a:endParaRPr>
          </a:p>
        </p:txBody>
      </p:sp>
      <p:sp>
        <p:nvSpPr>
          <p:cNvPr id="136" name="Text Box 41"/>
          <p:cNvSpPr/>
          <p:nvPr/>
        </p:nvSpPr>
        <p:spPr>
          <a:xfrm>
            <a:off x="3809880" y="50292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Times New Roman"/>
              </a:rPr>
              <a:t>Metrics</a:t>
            </a:r>
            <a:endParaRPr b="0" lang="en-US" sz="1600" spc="-1" strike="noStrike">
              <a:solidFill>
                <a:srgbClr val="000000"/>
              </a:solidFill>
              <a:latin typeface="Times New Roman"/>
            </a:endParaRPr>
          </a:p>
        </p:txBody>
      </p:sp>
      <p:sp>
        <p:nvSpPr>
          <p:cNvPr id="137" name="Text Box 42"/>
          <p:cNvSpPr/>
          <p:nvPr/>
        </p:nvSpPr>
        <p:spPr>
          <a:xfrm>
            <a:off x="2209680" y="5029200"/>
            <a:ext cx="1752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Times New Roman"/>
              </a:rPr>
              <a:t>Processes</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COR is a hierarchical model</a:t>
            </a:r>
            <a:endParaRPr b="1" lang="en-US" sz="3200" spc="-1" strike="noStrike">
              <a:solidFill>
                <a:srgbClr val="000000"/>
              </a:solidFill>
              <a:latin typeface="Calibri"/>
            </a:endParaRPr>
          </a:p>
        </p:txBody>
      </p:sp>
      <p:pic>
        <p:nvPicPr>
          <p:cNvPr id="139" name="Picture 3" descr=""/>
          <p:cNvPicPr/>
          <p:nvPr/>
        </p:nvPicPr>
        <p:blipFill>
          <a:blip r:embed="rId1"/>
          <a:stretch/>
        </p:blipFill>
        <p:spPr>
          <a:xfrm>
            <a:off x="2133720" y="1066680"/>
            <a:ext cx="4056120" cy="5639040"/>
          </a:xfrm>
          <a:prstGeom prst="rect">
            <a:avLst/>
          </a:prstGeom>
          <a:ln w="0">
            <a:noFill/>
          </a:ln>
        </p:spPr>
      </p:pic>
      <p:sp>
        <p:nvSpPr>
          <p:cNvPr id="140" name="AutoShape 4"/>
          <p:cNvSpPr/>
          <p:nvPr/>
        </p:nvSpPr>
        <p:spPr>
          <a:xfrm>
            <a:off x="6248520" y="1219320"/>
            <a:ext cx="457200" cy="3962160"/>
          </a:xfrm>
          <a:custGeom>
            <a:avLst/>
            <a:gdLst>
              <a:gd name="textAreaLeft" fmla="*/ 0 w 457200"/>
              <a:gd name="textAreaRight" fmla="*/ 164880 w 457200"/>
              <a:gd name="textAreaTop" fmla="*/ 103320 h 3962160"/>
              <a:gd name="textAreaBottom" fmla="*/ 3858840 h 3962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5"/>
          <p:cNvSpPr/>
          <p:nvPr/>
        </p:nvSpPr>
        <p:spPr>
          <a:xfrm>
            <a:off x="7005240" y="2604960"/>
            <a:ext cx="1756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Verdana"/>
                <a:ea typeface="Arial"/>
              </a:rPr>
              <a:t>SCOR</a:t>
            </a:r>
            <a:endParaRPr b="0" lang="en-US" sz="4800" spc="-1" strike="noStrike">
              <a:solidFill>
                <a:srgbClr val="000000"/>
              </a:solidFill>
              <a:latin typeface="Times New Roman"/>
            </a:endParaRPr>
          </a:p>
        </p:txBody>
      </p:sp>
      <p:sp>
        <p:nvSpPr>
          <p:cNvPr id="142" name="Line 6"/>
          <p:cNvSpPr/>
          <p:nvPr/>
        </p:nvSpPr>
        <p:spPr>
          <a:xfrm>
            <a:off x="1143000" y="5181480"/>
            <a:ext cx="5181480" cy="0"/>
          </a:xfrm>
          <a:prstGeom prst="line">
            <a:avLst/>
          </a:prstGeom>
          <a:ln w="57240">
            <a:solidFill>
              <a:srgbClr val="ff99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7"/>
          <p:cNvSpPr/>
          <p:nvPr/>
        </p:nvSpPr>
        <p:spPr>
          <a:xfrm>
            <a:off x="990720" y="1295280"/>
            <a:ext cx="5181480" cy="0"/>
          </a:xfrm>
          <a:prstGeom prst="line">
            <a:avLst/>
          </a:prstGeom>
          <a:ln w="57240">
            <a:solidFill>
              <a:srgbClr val="ff99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 name="Group 24"/>
          <p:cNvGrpSpPr/>
          <p:nvPr/>
        </p:nvGrpSpPr>
        <p:grpSpPr>
          <a:xfrm>
            <a:off x="663480" y="1530360"/>
            <a:ext cx="1339200" cy="1096200"/>
            <a:chOff x="663480" y="1530360"/>
            <a:chExt cx="1339200" cy="1096200"/>
          </a:xfrm>
        </p:grpSpPr>
        <p:pic>
          <p:nvPicPr>
            <p:cNvPr id="145" name="Picture 25" descr="lozenge-red"/>
            <p:cNvPicPr/>
            <p:nvPr/>
          </p:nvPicPr>
          <p:blipFill>
            <a:blip r:embed="rId1"/>
            <a:stretch/>
          </p:blipFill>
          <p:spPr>
            <a:xfrm>
              <a:off x="663480" y="1530360"/>
              <a:ext cx="1319400" cy="1096200"/>
            </a:xfrm>
            <a:prstGeom prst="rect">
              <a:avLst/>
            </a:prstGeom>
            <a:ln w="0">
              <a:noFill/>
            </a:ln>
          </p:spPr>
        </p:pic>
        <p:sp>
          <p:nvSpPr>
            <p:cNvPr id="146" name="Text Box 26"/>
            <p:cNvSpPr/>
            <p:nvPr/>
          </p:nvSpPr>
          <p:spPr>
            <a:xfrm>
              <a:off x="711720" y="1677600"/>
              <a:ext cx="1290960" cy="856800"/>
            </a:xfrm>
            <a:prstGeom prst="rect">
              <a:avLst/>
            </a:prstGeom>
            <a:noFill/>
            <a:ln w="0">
              <a:noFill/>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upply</a:t>
              </a:r>
              <a:br>
                <a:rPr sz="1400"/>
              </a:br>
              <a:r>
                <a:rPr b="1" lang="en-US" sz="1400" spc="-1" strike="noStrike">
                  <a:solidFill>
                    <a:srgbClr val="000000"/>
                  </a:solidFill>
                  <a:latin typeface="Calibri"/>
                </a:rPr>
                <a:t>Chain</a:t>
              </a:r>
              <a:endParaRPr b="0" lang="en-US" sz="1400" spc="-1" strike="noStrike">
                <a:solidFill>
                  <a:srgbClr val="000000"/>
                </a:solidFill>
                <a:latin typeface="Times New Roman"/>
              </a:endParaRPr>
            </a:p>
          </p:txBody>
        </p:sp>
      </p:grpSp>
      <p:sp>
        <p:nvSpPr>
          <p:cNvPr id="147" name="PlaceHolder 1"/>
          <p:cNvSpPr>
            <a:spLocks noGrp="1"/>
          </p:cNvSpPr>
          <p:nvPr>
            <p:ph type="title"/>
          </p:nvPr>
        </p:nvSpPr>
        <p:spPr>
          <a:xfrm>
            <a:off x="837720" y="152280"/>
            <a:ext cx="6737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OR Framework Levels</a:t>
            </a:r>
            <a:endParaRPr b="1" lang="en-US" sz="3200" spc="-1" strike="noStrike">
              <a:solidFill>
                <a:srgbClr val="000000"/>
              </a:solidFill>
              <a:latin typeface="Calibri"/>
            </a:endParaRPr>
          </a:p>
        </p:txBody>
      </p:sp>
      <p:sp>
        <p:nvSpPr>
          <p:cNvPr id="148" name="Text Box 29"/>
          <p:cNvSpPr/>
          <p:nvPr/>
        </p:nvSpPr>
        <p:spPr>
          <a:xfrm>
            <a:off x="2124000" y="1992240"/>
            <a:ext cx="2733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vel-1 Sets </a:t>
            </a:r>
            <a:r>
              <a:rPr b="1" lang="en-US" sz="1600" spc="-1" strike="noStrike">
                <a:solidFill>
                  <a:srgbClr val="cc3300"/>
                </a:solidFill>
                <a:latin typeface="Calibri"/>
              </a:rPr>
              <a:t>Scope</a:t>
            </a:r>
            <a:r>
              <a:rPr b="0" lang="en-US" sz="1600" spc="-1" strike="noStrike">
                <a:solidFill>
                  <a:srgbClr val="000000"/>
                </a:solidFill>
                <a:latin typeface="Calibri"/>
              </a:rPr>
              <a:t> and Context, Geographies, Segments and Products</a:t>
            </a:r>
            <a:endParaRPr b="0" lang="en-US" sz="1600" spc="-1" strike="noStrike">
              <a:solidFill>
                <a:srgbClr val="000000"/>
              </a:solidFill>
              <a:latin typeface="Times New Roman"/>
            </a:endParaRPr>
          </a:p>
        </p:txBody>
      </p:sp>
      <p:grpSp>
        <p:nvGrpSpPr>
          <p:cNvPr id="149" name="Group 64"/>
          <p:cNvGrpSpPr/>
          <p:nvPr/>
        </p:nvGrpSpPr>
        <p:grpSpPr>
          <a:xfrm>
            <a:off x="876240" y="2616120"/>
            <a:ext cx="7353360" cy="1869120"/>
            <a:chOff x="876240" y="2616120"/>
            <a:chExt cx="7353360" cy="1869120"/>
          </a:xfrm>
        </p:grpSpPr>
        <p:grpSp>
          <p:nvGrpSpPr>
            <p:cNvPr id="150" name="Group 8"/>
            <p:cNvGrpSpPr/>
            <p:nvPr/>
          </p:nvGrpSpPr>
          <p:grpSpPr>
            <a:xfrm>
              <a:off x="4038480" y="3441600"/>
              <a:ext cx="1216080" cy="712800"/>
              <a:chOff x="4038480" y="3441600"/>
              <a:chExt cx="1216080" cy="712800"/>
            </a:xfrm>
          </p:grpSpPr>
          <p:pic>
            <p:nvPicPr>
              <p:cNvPr id="151" name="Picture 9" descr="chip-red"/>
              <p:cNvPicPr/>
              <p:nvPr/>
            </p:nvPicPr>
            <p:blipFill>
              <a:blip r:embed="rId2"/>
              <a:stretch/>
            </p:blipFill>
            <p:spPr>
              <a:xfrm>
                <a:off x="4038480" y="3441600"/>
                <a:ext cx="1216080" cy="712800"/>
              </a:xfrm>
              <a:prstGeom prst="rect">
                <a:avLst/>
              </a:prstGeom>
              <a:ln w="0">
                <a:noFill/>
              </a:ln>
            </p:spPr>
          </p:pic>
          <p:sp>
            <p:nvSpPr>
              <p:cNvPr id="152" name="Text Box 10"/>
              <p:cNvSpPr/>
              <p:nvPr/>
            </p:nvSpPr>
            <p:spPr>
              <a:xfrm>
                <a:off x="4113000" y="3502080"/>
                <a:ext cx="1096920" cy="593640"/>
              </a:xfrm>
              <a:prstGeom prst="rect">
                <a:avLst/>
              </a:prstGeom>
              <a:noFill/>
              <a:ln w="0">
                <a:noFill/>
              </a:ln>
            </p:spPr>
            <p:style>
              <a:lnRef idx="0"/>
              <a:fillRef idx="0"/>
              <a:effectRef idx="0"/>
              <a:fontRef idx="minor"/>
            </p:style>
            <p:txBody>
              <a:bodyPr lIns="0" rIns="0" tIns="0" bIns="0" anchor="t"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3</a:t>
                </a:r>
                <a:br>
                  <a:rPr sz="1000"/>
                </a:br>
                <a:r>
                  <a:rPr b="1" lang="en-US" sz="1000" spc="-1" strike="noStrike">
                    <a:solidFill>
                      <a:srgbClr val="000000"/>
                    </a:solidFill>
                    <a:latin typeface="Calibri"/>
                  </a:rPr>
                  <a:t>Make</a:t>
                </a:r>
                <a:br>
                  <a:rPr sz="1000"/>
                </a:br>
                <a:r>
                  <a:rPr b="1" lang="en-US" sz="1000" spc="-1" strike="noStrike">
                    <a:solidFill>
                      <a:srgbClr val="000000"/>
                    </a:solidFill>
                    <a:latin typeface="Calibri"/>
                  </a:rPr>
                  <a:t>Engineer to Order</a:t>
                </a:r>
                <a:endParaRPr b="0" lang="en-US" sz="1000" spc="-1" strike="noStrike">
                  <a:solidFill>
                    <a:srgbClr val="000000"/>
                  </a:solidFill>
                  <a:latin typeface="Times New Roman"/>
                </a:endParaRPr>
              </a:p>
            </p:txBody>
          </p:sp>
        </p:grpSp>
        <p:grpSp>
          <p:nvGrpSpPr>
            <p:cNvPr id="153" name="Group 18"/>
            <p:cNvGrpSpPr/>
            <p:nvPr/>
          </p:nvGrpSpPr>
          <p:grpSpPr>
            <a:xfrm>
              <a:off x="2454120" y="3438360"/>
              <a:ext cx="1216080" cy="712800"/>
              <a:chOff x="2454120" y="3438360"/>
              <a:chExt cx="1216080" cy="712800"/>
            </a:xfrm>
          </p:grpSpPr>
          <p:pic>
            <p:nvPicPr>
              <p:cNvPr id="154" name="Picture 19" descr="chip-red"/>
              <p:cNvPicPr/>
              <p:nvPr/>
            </p:nvPicPr>
            <p:blipFill>
              <a:blip r:embed="rId3"/>
              <a:stretch/>
            </p:blipFill>
            <p:spPr>
              <a:xfrm>
                <a:off x="2454120" y="3438360"/>
                <a:ext cx="1216080" cy="712800"/>
              </a:xfrm>
              <a:prstGeom prst="rect">
                <a:avLst/>
              </a:prstGeom>
              <a:ln w="0">
                <a:noFill/>
              </a:ln>
            </p:spPr>
          </p:pic>
          <p:sp>
            <p:nvSpPr>
              <p:cNvPr id="155" name="Text Box 20"/>
              <p:cNvSpPr/>
              <p:nvPr/>
            </p:nvSpPr>
            <p:spPr>
              <a:xfrm>
                <a:off x="2538360" y="3498840"/>
                <a:ext cx="1096920" cy="593640"/>
              </a:xfrm>
              <a:prstGeom prst="rect">
                <a:avLst/>
              </a:prstGeom>
              <a:noFill/>
              <a:ln w="0">
                <a:noFill/>
              </a:ln>
            </p:spPr>
            <p:style>
              <a:lnRef idx="0"/>
              <a:fillRef idx="0"/>
              <a:effectRef idx="0"/>
              <a:fontRef idx="minor"/>
            </p:style>
            <p:txBody>
              <a:bodyPr lIns="0" rIns="0" tIns="0" bIns="0" anchor="t"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2</a:t>
                </a:r>
                <a:br>
                  <a:rPr sz="1000"/>
                </a:br>
                <a:r>
                  <a:rPr b="1" lang="en-US" sz="1000" spc="-1" strike="noStrike">
                    <a:solidFill>
                      <a:srgbClr val="000000"/>
                    </a:solidFill>
                    <a:latin typeface="Calibri"/>
                  </a:rPr>
                  <a:t>Make</a:t>
                </a:r>
                <a:br>
                  <a:rPr sz="1000"/>
                </a:br>
                <a:r>
                  <a:rPr b="1" lang="en-US" sz="1000" spc="-1" strike="noStrike">
                    <a:solidFill>
                      <a:srgbClr val="000000"/>
                    </a:solidFill>
                    <a:latin typeface="Calibri"/>
                  </a:rPr>
                  <a:t>Build to Order</a:t>
                </a:r>
                <a:endParaRPr b="0" lang="en-US" sz="1000" spc="-1" strike="noStrike">
                  <a:solidFill>
                    <a:srgbClr val="000000"/>
                  </a:solidFill>
                  <a:latin typeface="Times New Roman"/>
                </a:endParaRPr>
              </a:p>
            </p:txBody>
          </p:sp>
        </p:grpSp>
        <p:grpSp>
          <p:nvGrpSpPr>
            <p:cNvPr id="156" name="Group 21"/>
            <p:cNvGrpSpPr/>
            <p:nvPr/>
          </p:nvGrpSpPr>
          <p:grpSpPr>
            <a:xfrm>
              <a:off x="914400" y="3441600"/>
              <a:ext cx="1216080" cy="712800"/>
              <a:chOff x="914400" y="3441600"/>
              <a:chExt cx="1216080" cy="712800"/>
            </a:xfrm>
          </p:grpSpPr>
          <p:pic>
            <p:nvPicPr>
              <p:cNvPr id="157" name="Picture 22" descr="chip-red"/>
              <p:cNvPicPr/>
              <p:nvPr/>
            </p:nvPicPr>
            <p:blipFill>
              <a:blip r:embed="rId4"/>
              <a:stretch/>
            </p:blipFill>
            <p:spPr>
              <a:xfrm>
                <a:off x="914400" y="3441600"/>
                <a:ext cx="1216080" cy="712800"/>
              </a:xfrm>
              <a:prstGeom prst="rect">
                <a:avLst/>
              </a:prstGeom>
              <a:ln w="0">
                <a:noFill/>
              </a:ln>
            </p:spPr>
          </p:pic>
          <p:sp>
            <p:nvSpPr>
              <p:cNvPr id="158" name="Text Box 23"/>
              <p:cNvSpPr/>
              <p:nvPr/>
            </p:nvSpPr>
            <p:spPr>
              <a:xfrm>
                <a:off x="1003320" y="3502080"/>
                <a:ext cx="1096920" cy="593640"/>
              </a:xfrm>
              <a:prstGeom prst="rect">
                <a:avLst/>
              </a:prstGeom>
              <a:noFill/>
              <a:ln w="0">
                <a:noFill/>
              </a:ln>
            </p:spPr>
            <p:style>
              <a:lnRef idx="0"/>
              <a:fillRef idx="0"/>
              <a:effectRef idx="0"/>
              <a:fontRef idx="minor"/>
            </p:style>
            <p:txBody>
              <a:bodyPr lIns="0" rIns="0" tIns="0" bIns="0" anchor="t"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1</a:t>
                </a:r>
                <a:br>
                  <a:rPr sz="1000"/>
                </a:br>
                <a:r>
                  <a:rPr b="1" lang="en-US" sz="1000" spc="-1" strike="noStrike">
                    <a:solidFill>
                      <a:srgbClr val="000000"/>
                    </a:solidFill>
                    <a:latin typeface="Calibri"/>
                  </a:rPr>
                  <a:t>Make</a:t>
                </a:r>
                <a:br>
                  <a:rPr sz="1000"/>
                </a:br>
                <a:r>
                  <a:rPr b="1" lang="en-US" sz="1000" spc="-1" strike="noStrike">
                    <a:solidFill>
                      <a:srgbClr val="000000"/>
                    </a:solidFill>
                    <a:latin typeface="Calibri"/>
                  </a:rPr>
                  <a:t>Build to Stock</a:t>
                </a:r>
                <a:endParaRPr b="0" lang="en-US" sz="1000" spc="-1" strike="noStrike">
                  <a:solidFill>
                    <a:srgbClr val="000000"/>
                  </a:solidFill>
                  <a:latin typeface="Times New Roman"/>
                </a:endParaRPr>
              </a:p>
            </p:txBody>
          </p:sp>
        </p:grpSp>
        <p:sp>
          <p:nvSpPr>
            <p:cNvPr id="159" name="Freeform 27"/>
            <p:cNvSpPr/>
            <p:nvPr/>
          </p:nvSpPr>
          <p:spPr>
            <a:xfrm>
              <a:off x="876240" y="2616120"/>
              <a:ext cx="5854680" cy="817560"/>
            </a:xfrm>
            <a:custGeom>
              <a:avLst/>
              <a:gdLst>
                <a:gd name="textAreaLeft" fmla="*/ 0 w 5854680"/>
                <a:gd name="textAreaRight" fmla="*/ 5855040 w 5854680"/>
                <a:gd name="textAreaTop" fmla="*/ 0 h 817560"/>
                <a:gd name="textAreaBottom" fmla="*/ 817920 h 817560"/>
              </a:gdLst>
              <a:ahLst/>
              <a:rect l="textAreaLeft" t="textAreaTop" r="textAreaRight" b="textAreaBottom"/>
              <a:pathLst>
                <a:path w="3688" h="515">
                  <a:moveTo>
                    <a:pt x="3688" y="0"/>
                  </a:moveTo>
                  <a:lnTo>
                    <a:pt x="2824" y="515"/>
                  </a:lnTo>
                  <a:lnTo>
                    <a:pt x="0" y="515"/>
                  </a:lnTo>
                  <a:lnTo>
                    <a:pt x="3107" y="0"/>
                  </a:lnTo>
                  <a:lnTo>
                    <a:pt x="3688" y="0"/>
                  </a:lnTo>
                  <a:close/>
                </a:path>
              </a:pathLst>
            </a:custGeom>
            <a:gradFill rotWithShape="0">
              <a:gsLst>
                <a:gs pos="0">
                  <a:srgbClr val="ffffff"/>
                </a:gs>
                <a:gs pos="100000">
                  <a:srgbClr val="ccccff">
                    <a:alpha val="80000"/>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Text Box 30"/>
            <p:cNvSpPr/>
            <p:nvPr/>
          </p:nvSpPr>
          <p:spPr>
            <a:xfrm>
              <a:off x="5564160" y="3417840"/>
              <a:ext cx="266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vel-2 Identifies Major </a:t>
              </a:r>
              <a:r>
                <a:rPr b="1" lang="en-US" sz="1600" spc="-1" strike="noStrike">
                  <a:solidFill>
                    <a:srgbClr val="cc3300"/>
                  </a:solidFill>
                  <a:latin typeface="Calibri"/>
                </a:rPr>
                <a:t>Configurations</a:t>
              </a:r>
              <a:r>
                <a:rPr b="0" lang="en-US" sz="1600" spc="-1" strike="noStrike">
                  <a:solidFill>
                    <a:srgbClr val="000000"/>
                  </a:solidFill>
                  <a:latin typeface="Calibri"/>
                </a:rPr>
                <a:t> within Geographies, Segments and Products</a:t>
              </a:r>
              <a:endParaRPr b="0" lang="en-US" sz="1600" spc="-1" strike="noStrike">
                <a:solidFill>
                  <a:srgbClr val="000000"/>
                </a:solidFill>
                <a:latin typeface="Times New Roman"/>
              </a:endParaRPr>
            </a:p>
          </p:txBody>
        </p:sp>
      </p:grpSp>
      <p:grpSp>
        <p:nvGrpSpPr>
          <p:cNvPr id="161" name="Group 68"/>
          <p:cNvGrpSpPr/>
          <p:nvPr/>
        </p:nvGrpSpPr>
        <p:grpSpPr>
          <a:xfrm>
            <a:off x="328680" y="4049640"/>
            <a:ext cx="7638840" cy="2130480"/>
            <a:chOff x="328680" y="4049640"/>
            <a:chExt cx="7638840" cy="2130480"/>
          </a:xfrm>
        </p:grpSpPr>
        <p:grpSp>
          <p:nvGrpSpPr>
            <p:cNvPr id="162" name="Group 67"/>
            <p:cNvGrpSpPr/>
            <p:nvPr/>
          </p:nvGrpSpPr>
          <p:grpSpPr>
            <a:xfrm>
              <a:off x="426960" y="5467320"/>
              <a:ext cx="7518600" cy="712800"/>
              <a:chOff x="426960" y="5467320"/>
              <a:chExt cx="7518600" cy="712800"/>
            </a:xfrm>
          </p:grpSpPr>
          <p:pic>
            <p:nvPicPr>
              <p:cNvPr id="163" name="Picture 2" descr="chip-red"/>
              <p:cNvPicPr/>
              <p:nvPr/>
            </p:nvPicPr>
            <p:blipFill>
              <a:blip r:embed="rId5"/>
              <a:stretch/>
            </p:blipFill>
            <p:spPr>
              <a:xfrm>
                <a:off x="426960" y="5467320"/>
                <a:ext cx="1368360" cy="712800"/>
              </a:xfrm>
              <a:prstGeom prst="rect">
                <a:avLst/>
              </a:prstGeom>
              <a:ln w="0">
                <a:noFill/>
              </a:ln>
            </p:spPr>
          </p:pic>
          <p:pic>
            <p:nvPicPr>
              <p:cNvPr id="164" name="Picture 3" descr="chip-red"/>
              <p:cNvPicPr/>
              <p:nvPr/>
            </p:nvPicPr>
            <p:blipFill>
              <a:blip r:embed="rId6"/>
              <a:stretch/>
            </p:blipFill>
            <p:spPr>
              <a:xfrm>
                <a:off x="1808280" y="5467320"/>
                <a:ext cx="1216080" cy="712800"/>
              </a:xfrm>
              <a:prstGeom prst="rect">
                <a:avLst/>
              </a:prstGeom>
              <a:ln w="0">
                <a:noFill/>
              </a:ln>
            </p:spPr>
          </p:pic>
          <p:pic>
            <p:nvPicPr>
              <p:cNvPr id="165" name="Picture 4" descr="chip-red"/>
              <p:cNvPicPr/>
              <p:nvPr/>
            </p:nvPicPr>
            <p:blipFill>
              <a:blip r:embed="rId7"/>
              <a:stretch/>
            </p:blipFill>
            <p:spPr>
              <a:xfrm>
                <a:off x="3038400" y="5467320"/>
                <a:ext cx="1216080" cy="712800"/>
              </a:xfrm>
              <a:prstGeom prst="rect">
                <a:avLst/>
              </a:prstGeom>
              <a:ln w="0">
                <a:noFill/>
              </a:ln>
            </p:spPr>
          </p:pic>
          <p:pic>
            <p:nvPicPr>
              <p:cNvPr id="166" name="Picture 5" descr="chip-red"/>
              <p:cNvPicPr/>
              <p:nvPr/>
            </p:nvPicPr>
            <p:blipFill>
              <a:blip r:embed="rId8"/>
              <a:stretch/>
            </p:blipFill>
            <p:spPr>
              <a:xfrm>
                <a:off x="4268880" y="5467320"/>
                <a:ext cx="1216080" cy="712800"/>
              </a:xfrm>
              <a:prstGeom prst="rect">
                <a:avLst/>
              </a:prstGeom>
              <a:ln w="0">
                <a:noFill/>
              </a:ln>
            </p:spPr>
          </p:pic>
          <p:pic>
            <p:nvPicPr>
              <p:cNvPr id="167" name="Picture 6" descr="chip-red"/>
              <p:cNvPicPr/>
              <p:nvPr/>
            </p:nvPicPr>
            <p:blipFill>
              <a:blip r:embed="rId9"/>
              <a:stretch/>
            </p:blipFill>
            <p:spPr>
              <a:xfrm>
                <a:off x="5499000" y="5467320"/>
                <a:ext cx="1216080" cy="712800"/>
              </a:xfrm>
              <a:prstGeom prst="rect">
                <a:avLst/>
              </a:prstGeom>
              <a:ln w="0">
                <a:noFill/>
              </a:ln>
            </p:spPr>
          </p:pic>
          <p:pic>
            <p:nvPicPr>
              <p:cNvPr id="168" name="Picture 7" descr="chip-red"/>
              <p:cNvPicPr/>
              <p:nvPr/>
            </p:nvPicPr>
            <p:blipFill>
              <a:blip r:embed="rId10"/>
              <a:stretch/>
            </p:blipFill>
            <p:spPr>
              <a:xfrm>
                <a:off x="6729480" y="5467320"/>
                <a:ext cx="1216080" cy="712800"/>
              </a:xfrm>
              <a:prstGeom prst="rect">
                <a:avLst/>
              </a:prstGeom>
              <a:ln w="0">
                <a:noFill/>
              </a:ln>
            </p:spPr>
          </p:pic>
          <p:sp>
            <p:nvSpPr>
              <p:cNvPr id="169" name="Text Box 11"/>
              <p:cNvSpPr/>
              <p:nvPr/>
            </p:nvSpPr>
            <p:spPr>
              <a:xfrm>
                <a:off x="660240" y="5513400"/>
                <a:ext cx="1097280" cy="593640"/>
              </a:xfrm>
              <a:prstGeom prst="rect">
                <a:avLst/>
              </a:prstGeom>
              <a:noFill/>
              <a:ln w="0">
                <a:noFill/>
              </a:ln>
            </p:spPr>
            <p:style>
              <a:lnRef idx="0"/>
              <a:fillRef idx="0"/>
              <a:effectRef idx="0"/>
              <a:fontRef idx="minor"/>
            </p:style>
            <p:txBody>
              <a:bodyPr lIns="0" rIns="0" tIns="0" bIns="0" anchor="t"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2.01</a:t>
                </a:r>
                <a:br>
                  <a:rPr sz="1000"/>
                </a:br>
                <a:r>
                  <a:rPr b="1" lang="en-US" sz="1000" spc="-1" strike="noStrike">
                    <a:solidFill>
                      <a:srgbClr val="000000"/>
                    </a:solidFill>
                    <a:latin typeface="Calibri"/>
                  </a:rPr>
                  <a:t>Schedule Production Activities</a:t>
                </a:r>
                <a:endParaRPr b="0" lang="en-US" sz="1000" spc="-1" strike="noStrike">
                  <a:solidFill>
                    <a:srgbClr val="000000"/>
                  </a:solidFill>
                  <a:latin typeface="Times New Roman"/>
                </a:endParaRPr>
              </a:p>
            </p:txBody>
          </p:sp>
          <p:sp>
            <p:nvSpPr>
              <p:cNvPr id="170" name="Text Box 12"/>
              <p:cNvSpPr/>
              <p:nvPr/>
            </p:nvSpPr>
            <p:spPr>
              <a:xfrm>
                <a:off x="1889280" y="5513400"/>
                <a:ext cx="1096920" cy="593640"/>
              </a:xfrm>
              <a:prstGeom prst="rect">
                <a:avLst/>
              </a:prstGeom>
              <a:noFill/>
              <a:ln w="0">
                <a:noFill/>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2.02</a:t>
                </a:r>
                <a:br>
                  <a:rPr sz="1000"/>
                </a:br>
                <a:r>
                  <a:rPr b="1" lang="en-US" sz="1000" spc="-1" strike="noStrike">
                    <a:solidFill>
                      <a:srgbClr val="000000"/>
                    </a:solidFill>
                    <a:latin typeface="Calibri"/>
                  </a:rPr>
                  <a:t>Issue Product</a:t>
                </a:r>
                <a:endParaRPr b="0" lang="en-US" sz="1000" spc="-1" strike="noStrike">
                  <a:solidFill>
                    <a:srgbClr val="000000"/>
                  </a:solidFill>
                  <a:latin typeface="Times New Roman"/>
                </a:endParaRPr>
              </a:p>
            </p:txBody>
          </p:sp>
          <p:sp>
            <p:nvSpPr>
              <p:cNvPr id="171" name="Text Box 13"/>
              <p:cNvSpPr/>
              <p:nvPr/>
            </p:nvSpPr>
            <p:spPr>
              <a:xfrm>
                <a:off x="3119400" y="5513400"/>
                <a:ext cx="1096920" cy="593640"/>
              </a:xfrm>
              <a:prstGeom prst="rect">
                <a:avLst/>
              </a:prstGeom>
              <a:noFill/>
              <a:ln w="0">
                <a:noFill/>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2.03</a:t>
                </a:r>
                <a:br>
                  <a:rPr sz="900"/>
                </a:br>
                <a:r>
                  <a:rPr b="1" lang="en-US" sz="900" spc="-1" strike="noStrike">
                    <a:solidFill>
                      <a:srgbClr val="000000"/>
                    </a:solidFill>
                    <a:latin typeface="Calibri"/>
                  </a:rPr>
                  <a:t>Produce &amp; Test</a:t>
                </a:r>
                <a:endParaRPr b="0" lang="en-US" sz="900" spc="-1" strike="noStrike">
                  <a:solidFill>
                    <a:srgbClr val="000000"/>
                  </a:solidFill>
                  <a:latin typeface="Times New Roman"/>
                </a:endParaRPr>
              </a:p>
            </p:txBody>
          </p:sp>
          <p:sp>
            <p:nvSpPr>
              <p:cNvPr id="172" name="Text Box 14"/>
              <p:cNvSpPr/>
              <p:nvPr/>
            </p:nvSpPr>
            <p:spPr>
              <a:xfrm>
                <a:off x="4349880" y="5513400"/>
                <a:ext cx="1096920" cy="593640"/>
              </a:xfrm>
              <a:prstGeom prst="rect">
                <a:avLst/>
              </a:prstGeom>
              <a:noFill/>
              <a:ln w="0">
                <a:noFill/>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2.04</a:t>
                </a:r>
                <a:br>
                  <a:rPr sz="1000"/>
                </a:br>
                <a:r>
                  <a:rPr b="1" lang="en-US" sz="1000" spc="-1" strike="noStrike">
                    <a:solidFill>
                      <a:srgbClr val="000000"/>
                    </a:solidFill>
                    <a:latin typeface="Calibri"/>
                  </a:rPr>
                  <a:t>Package</a:t>
                </a:r>
                <a:endParaRPr b="0" lang="en-US" sz="1000" spc="-1" strike="noStrike">
                  <a:solidFill>
                    <a:srgbClr val="000000"/>
                  </a:solidFill>
                  <a:latin typeface="Times New Roman"/>
                </a:endParaRPr>
              </a:p>
            </p:txBody>
          </p:sp>
          <p:sp>
            <p:nvSpPr>
              <p:cNvPr id="173" name="Text Box 15"/>
              <p:cNvSpPr/>
              <p:nvPr/>
            </p:nvSpPr>
            <p:spPr>
              <a:xfrm>
                <a:off x="5580000" y="5513400"/>
                <a:ext cx="1096920" cy="593640"/>
              </a:xfrm>
              <a:prstGeom prst="rect">
                <a:avLst/>
              </a:prstGeom>
              <a:noFill/>
              <a:ln w="0">
                <a:noFill/>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2.05</a:t>
                </a:r>
                <a:br>
                  <a:rPr sz="1000"/>
                </a:br>
                <a:r>
                  <a:rPr b="1" lang="en-US" sz="1000" spc="-1" strike="noStrike">
                    <a:solidFill>
                      <a:srgbClr val="000000"/>
                    </a:solidFill>
                    <a:latin typeface="Calibri"/>
                  </a:rPr>
                  <a:t>Stage Product</a:t>
                </a:r>
                <a:endParaRPr b="0" lang="en-US" sz="1000" spc="-1" strike="noStrike">
                  <a:solidFill>
                    <a:srgbClr val="000000"/>
                  </a:solidFill>
                  <a:latin typeface="Times New Roman"/>
                </a:endParaRPr>
              </a:p>
            </p:txBody>
          </p:sp>
          <p:sp>
            <p:nvSpPr>
              <p:cNvPr id="174" name="Text Box 16"/>
              <p:cNvSpPr/>
              <p:nvPr/>
            </p:nvSpPr>
            <p:spPr>
              <a:xfrm>
                <a:off x="6810480" y="5513400"/>
                <a:ext cx="1096920" cy="593640"/>
              </a:xfrm>
              <a:prstGeom prst="rect">
                <a:avLst/>
              </a:prstGeom>
              <a:noFill/>
              <a:ln w="0">
                <a:noFill/>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2.06</a:t>
                </a:r>
                <a:br>
                  <a:rPr sz="1000"/>
                </a:br>
                <a:r>
                  <a:rPr b="1" lang="en-US" sz="1000" spc="-1" strike="noStrike">
                    <a:solidFill>
                      <a:srgbClr val="000000"/>
                    </a:solidFill>
                    <a:latin typeface="Calibri"/>
                  </a:rPr>
                  <a:t>Release Product to Deliver</a:t>
                </a:r>
                <a:endParaRPr b="0" lang="en-US" sz="1000" spc="-1" strike="noStrike">
                  <a:solidFill>
                    <a:srgbClr val="000000"/>
                  </a:solidFill>
                  <a:latin typeface="Times New Roman"/>
                </a:endParaRPr>
              </a:p>
            </p:txBody>
          </p:sp>
        </p:grpSp>
        <p:sp>
          <p:nvSpPr>
            <p:cNvPr id="175" name="Freeform 17"/>
            <p:cNvSpPr/>
            <p:nvPr/>
          </p:nvSpPr>
          <p:spPr>
            <a:xfrm>
              <a:off x="671400" y="4049640"/>
              <a:ext cx="7296120" cy="1398600"/>
            </a:xfrm>
            <a:custGeom>
              <a:avLst/>
              <a:gdLst>
                <a:gd name="textAreaLeft" fmla="*/ 0 w 7296120"/>
                <a:gd name="textAreaRight" fmla="*/ 7296480 w 7296120"/>
                <a:gd name="textAreaTop" fmla="*/ 0 h 1398600"/>
                <a:gd name="textAreaBottom" fmla="*/ 1398960 h 1398600"/>
              </a:gdLst>
              <a:ahLst/>
              <a:rect l="textAreaLeft" t="textAreaTop" r="textAreaRight" b="textAreaBottom"/>
              <a:pathLst>
                <a:path w="4596" h="881">
                  <a:moveTo>
                    <a:pt x="1943" y="0"/>
                  </a:moveTo>
                  <a:lnTo>
                    <a:pt x="4596" y="868"/>
                  </a:lnTo>
                  <a:lnTo>
                    <a:pt x="0" y="881"/>
                  </a:lnTo>
                  <a:lnTo>
                    <a:pt x="1106" y="0"/>
                  </a:lnTo>
                  <a:lnTo>
                    <a:pt x="1943" y="0"/>
                  </a:lnTo>
                  <a:close/>
                </a:path>
              </a:pathLst>
            </a:custGeom>
            <a:gradFill rotWithShape="0">
              <a:gsLst>
                <a:gs pos="0">
                  <a:srgbClr val="ffffff"/>
                </a:gs>
                <a:gs pos="100000">
                  <a:srgbClr val="ccccff">
                    <a:alpha val="80000"/>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Text Box 31"/>
            <p:cNvSpPr/>
            <p:nvPr/>
          </p:nvSpPr>
          <p:spPr>
            <a:xfrm>
              <a:off x="328680" y="4381560"/>
              <a:ext cx="2450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vel-3 Identifies key </a:t>
              </a:r>
              <a:r>
                <a:rPr b="1" lang="en-US" sz="1600" spc="-1" strike="noStrike">
                  <a:solidFill>
                    <a:srgbClr val="cc3300"/>
                  </a:solidFill>
                  <a:latin typeface="Calibri"/>
                </a:rPr>
                <a:t>business activities</a:t>
              </a:r>
              <a:r>
                <a:rPr b="0" lang="en-US" sz="1600" spc="-1" strike="noStrike">
                  <a:solidFill>
                    <a:srgbClr val="000000"/>
                  </a:solidFill>
                  <a:latin typeface="Calibri"/>
                </a:rPr>
                <a:t> within a configuration</a:t>
              </a:r>
              <a:endParaRPr b="0" lang="en-US" sz="1600" spc="-1" strike="noStrike">
                <a:solidFill>
                  <a:srgbClr val="000000"/>
                </a:solidFill>
                <a:latin typeface="Times New Roman"/>
              </a:endParaRPr>
            </a:p>
          </p:txBody>
        </p:sp>
      </p:grpSp>
      <p:grpSp>
        <p:nvGrpSpPr>
          <p:cNvPr id="177" name="Group 32"/>
          <p:cNvGrpSpPr/>
          <p:nvPr/>
        </p:nvGrpSpPr>
        <p:grpSpPr>
          <a:xfrm>
            <a:off x="4987800" y="1523880"/>
            <a:ext cx="2955600" cy="1726920"/>
            <a:chOff x="4987800" y="1523880"/>
            <a:chExt cx="2955600" cy="1726920"/>
          </a:xfrm>
        </p:grpSpPr>
        <p:grpSp>
          <p:nvGrpSpPr>
            <p:cNvPr id="178" name="Group 33"/>
            <p:cNvGrpSpPr/>
            <p:nvPr/>
          </p:nvGrpSpPr>
          <p:grpSpPr>
            <a:xfrm>
              <a:off x="5057640" y="1523880"/>
              <a:ext cx="2741400" cy="922320"/>
              <a:chOff x="5057640" y="1523880"/>
              <a:chExt cx="2741400" cy="922320"/>
            </a:xfrm>
          </p:grpSpPr>
          <p:pic>
            <p:nvPicPr>
              <p:cNvPr id="179" name="Picture 34" descr="arrow-blue-large"/>
              <p:cNvPicPr/>
              <p:nvPr/>
            </p:nvPicPr>
            <p:blipFill>
              <a:blip r:embed="rId11"/>
              <a:stretch/>
            </p:blipFill>
            <p:spPr>
              <a:xfrm>
                <a:off x="5057640" y="1523880"/>
                <a:ext cx="2741400" cy="922320"/>
              </a:xfrm>
              <a:prstGeom prst="rect">
                <a:avLst/>
              </a:prstGeom>
              <a:ln w="0">
                <a:noFill/>
              </a:ln>
            </p:spPr>
          </p:pic>
          <p:sp>
            <p:nvSpPr>
              <p:cNvPr id="180" name="Text Box 35"/>
              <p:cNvSpPr/>
              <p:nvPr/>
            </p:nvSpPr>
            <p:spPr>
              <a:xfrm>
                <a:off x="5852880" y="18288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an</a:t>
                </a:r>
                <a:endParaRPr b="0" lang="en-US" sz="1600" spc="-1" strike="noStrike">
                  <a:solidFill>
                    <a:srgbClr val="000000"/>
                  </a:solidFill>
                  <a:latin typeface="Times New Roman"/>
                </a:endParaRPr>
              </a:p>
            </p:txBody>
          </p:sp>
        </p:grpSp>
        <p:grpSp>
          <p:nvGrpSpPr>
            <p:cNvPr id="181" name="Group 36"/>
            <p:cNvGrpSpPr/>
            <p:nvPr/>
          </p:nvGrpSpPr>
          <p:grpSpPr>
            <a:xfrm>
              <a:off x="6629040" y="2525400"/>
              <a:ext cx="1106280" cy="725400"/>
              <a:chOff x="6629040" y="2525400"/>
              <a:chExt cx="1106280" cy="725400"/>
            </a:xfrm>
          </p:grpSpPr>
          <p:pic>
            <p:nvPicPr>
              <p:cNvPr id="182" name="Picture 37" descr="arrow-blue-left"/>
              <p:cNvPicPr/>
              <p:nvPr/>
            </p:nvPicPr>
            <p:blipFill>
              <a:blip r:embed="rId12"/>
              <a:stretch/>
            </p:blipFill>
            <p:spPr>
              <a:xfrm>
                <a:off x="6629040" y="2525400"/>
                <a:ext cx="1106280" cy="725400"/>
              </a:xfrm>
              <a:prstGeom prst="rect">
                <a:avLst/>
              </a:prstGeom>
              <a:ln w="0">
                <a:noFill/>
              </a:ln>
            </p:spPr>
          </p:pic>
          <p:sp>
            <p:nvSpPr>
              <p:cNvPr id="183" name="Text Box 38"/>
              <p:cNvSpPr/>
              <p:nvPr/>
            </p:nvSpPr>
            <p:spPr>
              <a:xfrm>
                <a:off x="6828840" y="274284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turn</a:t>
                </a:r>
                <a:endParaRPr b="0" lang="en-US" sz="1600" spc="-1" strike="noStrike">
                  <a:solidFill>
                    <a:srgbClr val="000000"/>
                  </a:solidFill>
                  <a:latin typeface="Times New Roman"/>
                </a:endParaRPr>
              </a:p>
            </p:txBody>
          </p:sp>
        </p:grpSp>
        <p:grpSp>
          <p:nvGrpSpPr>
            <p:cNvPr id="184" name="Group 39"/>
            <p:cNvGrpSpPr/>
            <p:nvPr/>
          </p:nvGrpSpPr>
          <p:grpSpPr>
            <a:xfrm>
              <a:off x="6837120" y="1969920"/>
              <a:ext cx="1106280" cy="725400"/>
              <a:chOff x="6837120" y="1969920"/>
              <a:chExt cx="1106280" cy="725400"/>
            </a:xfrm>
          </p:grpSpPr>
          <p:pic>
            <p:nvPicPr>
              <p:cNvPr id="185" name="Picture 40" descr="arrow-blue"/>
              <p:cNvPicPr/>
              <p:nvPr/>
            </p:nvPicPr>
            <p:blipFill>
              <a:blip r:embed="rId13"/>
              <a:stretch/>
            </p:blipFill>
            <p:spPr>
              <a:xfrm>
                <a:off x="6837120" y="1969920"/>
                <a:ext cx="1106280" cy="725400"/>
              </a:xfrm>
              <a:prstGeom prst="rect">
                <a:avLst/>
              </a:prstGeom>
              <a:ln w="0">
                <a:noFill/>
              </a:ln>
            </p:spPr>
          </p:pic>
          <p:sp>
            <p:nvSpPr>
              <p:cNvPr id="186" name="Text Box 41"/>
              <p:cNvSpPr/>
              <p:nvPr/>
            </p:nvSpPr>
            <p:spPr>
              <a:xfrm>
                <a:off x="7088040" y="2187360"/>
                <a:ext cx="582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liver</a:t>
                </a:r>
                <a:endParaRPr b="0" lang="en-US" sz="1600" spc="-1" strike="noStrike">
                  <a:solidFill>
                    <a:srgbClr val="000000"/>
                  </a:solidFill>
                  <a:latin typeface="Times New Roman"/>
                </a:endParaRPr>
              </a:p>
            </p:txBody>
          </p:sp>
        </p:grpSp>
        <p:grpSp>
          <p:nvGrpSpPr>
            <p:cNvPr id="187" name="Group 42"/>
            <p:cNvGrpSpPr/>
            <p:nvPr/>
          </p:nvGrpSpPr>
          <p:grpSpPr>
            <a:xfrm>
              <a:off x="5889240" y="1969920"/>
              <a:ext cx="1106640" cy="725400"/>
              <a:chOff x="5889240" y="1969920"/>
              <a:chExt cx="1106640" cy="725400"/>
            </a:xfrm>
          </p:grpSpPr>
          <p:pic>
            <p:nvPicPr>
              <p:cNvPr id="188" name="Picture 43" descr="arrow-blue"/>
              <p:cNvPicPr/>
              <p:nvPr/>
            </p:nvPicPr>
            <p:blipFill>
              <a:blip r:embed="rId14"/>
              <a:stretch/>
            </p:blipFill>
            <p:spPr>
              <a:xfrm>
                <a:off x="5889240" y="1969920"/>
                <a:ext cx="1106640" cy="725400"/>
              </a:xfrm>
              <a:prstGeom prst="rect">
                <a:avLst/>
              </a:prstGeom>
              <a:ln w="0">
                <a:noFill/>
              </a:ln>
            </p:spPr>
          </p:pic>
          <p:sp>
            <p:nvSpPr>
              <p:cNvPr id="189" name="Text Box 44"/>
              <p:cNvSpPr/>
              <p:nvPr/>
            </p:nvSpPr>
            <p:spPr>
              <a:xfrm>
                <a:off x="6055920" y="218736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ke</a:t>
                </a:r>
                <a:endParaRPr b="0" lang="en-US" sz="1600" spc="-1" strike="noStrike">
                  <a:solidFill>
                    <a:srgbClr val="000000"/>
                  </a:solidFill>
                  <a:latin typeface="Times New Roman"/>
                </a:endParaRPr>
              </a:p>
            </p:txBody>
          </p:sp>
        </p:grpSp>
        <p:grpSp>
          <p:nvGrpSpPr>
            <p:cNvPr id="190" name="Group 45"/>
            <p:cNvGrpSpPr/>
            <p:nvPr/>
          </p:nvGrpSpPr>
          <p:grpSpPr>
            <a:xfrm>
              <a:off x="4987800" y="1969920"/>
              <a:ext cx="1106280" cy="725400"/>
              <a:chOff x="4987800" y="1969920"/>
              <a:chExt cx="1106280" cy="725400"/>
            </a:xfrm>
          </p:grpSpPr>
          <p:pic>
            <p:nvPicPr>
              <p:cNvPr id="191" name="Picture 46" descr="arrow-blue"/>
              <p:cNvPicPr/>
              <p:nvPr/>
            </p:nvPicPr>
            <p:blipFill>
              <a:blip r:embed="rId15"/>
              <a:stretch/>
            </p:blipFill>
            <p:spPr>
              <a:xfrm>
                <a:off x="4987800" y="1969920"/>
                <a:ext cx="1106280" cy="725400"/>
              </a:xfrm>
              <a:prstGeom prst="rect">
                <a:avLst/>
              </a:prstGeom>
              <a:ln w="0">
                <a:noFill/>
              </a:ln>
            </p:spPr>
          </p:pic>
          <p:sp>
            <p:nvSpPr>
              <p:cNvPr id="192" name="Text Box 47"/>
              <p:cNvSpPr/>
              <p:nvPr/>
            </p:nvSpPr>
            <p:spPr>
              <a:xfrm>
                <a:off x="5154480" y="2187360"/>
                <a:ext cx="750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a:t>
                </a:r>
                <a:endParaRPr b="0" lang="en-US" sz="1600" spc="-1" strike="noStrike">
                  <a:solidFill>
                    <a:srgbClr val="000000"/>
                  </a:solidFill>
                  <a:latin typeface="Times New Roman"/>
                </a:endParaRPr>
              </a:p>
            </p:txBody>
          </p:sp>
        </p:grpSp>
      </p:grpSp>
      <p:grpSp>
        <p:nvGrpSpPr>
          <p:cNvPr id="193" name="Group 48"/>
          <p:cNvGrpSpPr/>
          <p:nvPr/>
        </p:nvGrpSpPr>
        <p:grpSpPr>
          <a:xfrm>
            <a:off x="4987800" y="1527120"/>
            <a:ext cx="2955600" cy="1727280"/>
            <a:chOff x="4987800" y="1527120"/>
            <a:chExt cx="2955600" cy="1727280"/>
          </a:xfrm>
        </p:grpSpPr>
        <p:grpSp>
          <p:nvGrpSpPr>
            <p:cNvPr id="194" name="Group 49"/>
            <p:cNvGrpSpPr/>
            <p:nvPr/>
          </p:nvGrpSpPr>
          <p:grpSpPr>
            <a:xfrm>
              <a:off x="5070240" y="1527120"/>
              <a:ext cx="2741400" cy="922320"/>
              <a:chOff x="5070240" y="1527120"/>
              <a:chExt cx="2741400" cy="922320"/>
            </a:xfrm>
          </p:grpSpPr>
          <p:pic>
            <p:nvPicPr>
              <p:cNvPr id="195" name="Picture 50" descr="arrow-red-large"/>
              <p:cNvPicPr/>
              <p:nvPr/>
            </p:nvPicPr>
            <p:blipFill>
              <a:blip r:embed="rId16"/>
              <a:stretch/>
            </p:blipFill>
            <p:spPr>
              <a:xfrm>
                <a:off x="5070240" y="1527120"/>
                <a:ext cx="2741400" cy="922320"/>
              </a:xfrm>
              <a:prstGeom prst="rect">
                <a:avLst/>
              </a:prstGeom>
              <a:ln w="0">
                <a:noFill/>
              </a:ln>
            </p:spPr>
          </p:pic>
          <p:sp>
            <p:nvSpPr>
              <p:cNvPr id="196" name="Text Box 51"/>
              <p:cNvSpPr/>
              <p:nvPr/>
            </p:nvSpPr>
            <p:spPr>
              <a:xfrm>
                <a:off x="5852880" y="183204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an</a:t>
                </a:r>
                <a:endParaRPr b="0" lang="en-US" sz="1600" spc="-1" strike="noStrike">
                  <a:solidFill>
                    <a:srgbClr val="000000"/>
                  </a:solidFill>
                  <a:latin typeface="Times New Roman"/>
                </a:endParaRPr>
              </a:p>
            </p:txBody>
          </p:sp>
        </p:grpSp>
        <p:grpSp>
          <p:nvGrpSpPr>
            <p:cNvPr id="197" name="Group 52"/>
            <p:cNvGrpSpPr/>
            <p:nvPr/>
          </p:nvGrpSpPr>
          <p:grpSpPr>
            <a:xfrm>
              <a:off x="6629040" y="2529000"/>
              <a:ext cx="1106640" cy="725400"/>
              <a:chOff x="6629040" y="2529000"/>
              <a:chExt cx="1106640" cy="725400"/>
            </a:xfrm>
          </p:grpSpPr>
          <p:pic>
            <p:nvPicPr>
              <p:cNvPr id="198" name="Picture 53" descr="arrow-red-left"/>
              <p:cNvPicPr/>
              <p:nvPr/>
            </p:nvPicPr>
            <p:blipFill>
              <a:blip r:embed="rId17"/>
              <a:stretch/>
            </p:blipFill>
            <p:spPr>
              <a:xfrm>
                <a:off x="6629040" y="2529000"/>
                <a:ext cx="1106640" cy="725400"/>
              </a:xfrm>
              <a:prstGeom prst="rect">
                <a:avLst/>
              </a:prstGeom>
              <a:ln w="0">
                <a:noFill/>
              </a:ln>
            </p:spPr>
          </p:pic>
          <p:sp>
            <p:nvSpPr>
              <p:cNvPr id="199" name="Text Box 54"/>
              <p:cNvSpPr/>
              <p:nvPr/>
            </p:nvSpPr>
            <p:spPr>
              <a:xfrm>
                <a:off x="6829200" y="274644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turn</a:t>
                </a:r>
                <a:endParaRPr b="0" lang="en-US" sz="1600" spc="-1" strike="noStrike">
                  <a:solidFill>
                    <a:srgbClr val="000000"/>
                  </a:solidFill>
                  <a:latin typeface="Times New Roman"/>
                </a:endParaRPr>
              </a:p>
            </p:txBody>
          </p:sp>
        </p:grpSp>
        <p:grpSp>
          <p:nvGrpSpPr>
            <p:cNvPr id="200" name="Group 55"/>
            <p:cNvGrpSpPr/>
            <p:nvPr/>
          </p:nvGrpSpPr>
          <p:grpSpPr>
            <a:xfrm>
              <a:off x="6837120" y="1973160"/>
              <a:ext cx="1106280" cy="725400"/>
              <a:chOff x="6837120" y="1973160"/>
              <a:chExt cx="1106280" cy="725400"/>
            </a:xfrm>
          </p:grpSpPr>
          <p:pic>
            <p:nvPicPr>
              <p:cNvPr id="201" name="Picture 56" descr="arrow-red"/>
              <p:cNvPicPr/>
              <p:nvPr/>
            </p:nvPicPr>
            <p:blipFill>
              <a:blip r:embed="rId18"/>
              <a:stretch/>
            </p:blipFill>
            <p:spPr>
              <a:xfrm>
                <a:off x="6837120" y="1973160"/>
                <a:ext cx="1106280" cy="725400"/>
              </a:xfrm>
              <a:prstGeom prst="rect">
                <a:avLst/>
              </a:prstGeom>
              <a:ln w="0">
                <a:noFill/>
              </a:ln>
            </p:spPr>
          </p:pic>
          <p:sp>
            <p:nvSpPr>
              <p:cNvPr id="202" name="Text Box 57"/>
              <p:cNvSpPr/>
              <p:nvPr/>
            </p:nvSpPr>
            <p:spPr>
              <a:xfrm>
                <a:off x="7088400" y="2190600"/>
                <a:ext cx="582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liver</a:t>
                </a:r>
                <a:endParaRPr b="0" lang="en-US" sz="1600" spc="-1" strike="noStrike">
                  <a:solidFill>
                    <a:srgbClr val="000000"/>
                  </a:solidFill>
                  <a:latin typeface="Times New Roman"/>
                </a:endParaRPr>
              </a:p>
            </p:txBody>
          </p:sp>
        </p:grpSp>
        <p:grpSp>
          <p:nvGrpSpPr>
            <p:cNvPr id="203" name="Group 58"/>
            <p:cNvGrpSpPr/>
            <p:nvPr/>
          </p:nvGrpSpPr>
          <p:grpSpPr>
            <a:xfrm>
              <a:off x="5889240" y="1973160"/>
              <a:ext cx="1106640" cy="725400"/>
              <a:chOff x="5889240" y="1973160"/>
              <a:chExt cx="1106640" cy="725400"/>
            </a:xfrm>
          </p:grpSpPr>
          <p:pic>
            <p:nvPicPr>
              <p:cNvPr id="204" name="Picture 59" descr="arrow-red"/>
              <p:cNvPicPr/>
              <p:nvPr/>
            </p:nvPicPr>
            <p:blipFill>
              <a:blip r:embed="rId19"/>
              <a:stretch/>
            </p:blipFill>
            <p:spPr>
              <a:xfrm>
                <a:off x="5889240" y="1973160"/>
                <a:ext cx="1106640" cy="725400"/>
              </a:xfrm>
              <a:prstGeom prst="rect">
                <a:avLst/>
              </a:prstGeom>
              <a:ln w="0">
                <a:noFill/>
              </a:ln>
            </p:spPr>
          </p:pic>
          <p:sp>
            <p:nvSpPr>
              <p:cNvPr id="205" name="Text Box 60"/>
              <p:cNvSpPr/>
              <p:nvPr/>
            </p:nvSpPr>
            <p:spPr>
              <a:xfrm>
                <a:off x="6055920" y="21906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ke</a:t>
                </a:r>
                <a:endParaRPr b="0" lang="en-US" sz="1600" spc="-1" strike="noStrike">
                  <a:solidFill>
                    <a:srgbClr val="000000"/>
                  </a:solidFill>
                  <a:latin typeface="Times New Roman"/>
                </a:endParaRPr>
              </a:p>
            </p:txBody>
          </p:sp>
        </p:grpSp>
        <p:grpSp>
          <p:nvGrpSpPr>
            <p:cNvPr id="206" name="Group 61"/>
            <p:cNvGrpSpPr/>
            <p:nvPr/>
          </p:nvGrpSpPr>
          <p:grpSpPr>
            <a:xfrm>
              <a:off x="4987800" y="1973160"/>
              <a:ext cx="1106280" cy="725400"/>
              <a:chOff x="4987800" y="1973160"/>
              <a:chExt cx="1106280" cy="725400"/>
            </a:xfrm>
          </p:grpSpPr>
          <p:pic>
            <p:nvPicPr>
              <p:cNvPr id="207" name="Picture 62" descr="arrow-red"/>
              <p:cNvPicPr/>
              <p:nvPr/>
            </p:nvPicPr>
            <p:blipFill>
              <a:blip r:embed="rId20"/>
              <a:stretch/>
            </p:blipFill>
            <p:spPr>
              <a:xfrm>
                <a:off x="4987800" y="1973160"/>
                <a:ext cx="1106280" cy="725400"/>
              </a:xfrm>
              <a:prstGeom prst="rect">
                <a:avLst/>
              </a:prstGeom>
              <a:ln w="0">
                <a:noFill/>
              </a:ln>
            </p:spPr>
          </p:pic>
          <p:sp>
            <p:nvSpPr>
              <p:cNvPr id="208" name="Text Box 63"/>
              <p:cNvSpPr/>
              <p:nvPr/>
            </p:nvSpPr>
            <p:spPr>
              <a:xfrm>
                <a:off x="5154480" y="2190600"/>
                <a:ext cx="750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a:t>
                </a:r>
                <a:endParaRPr b="0" lang="en-US" sz="1600" spc="-1" strike="noStrike">
                  <a:solidFill>
                    <a:srgbClr val="000000"/>
                  </a:solidFill>
                  <a:latin typeface="Times New Roman"/>
                </a:endParaRPr>
              </a:p>
            </p:txBody>
          </p:sp>
        </p:gr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49"/>
                                        </p:tgtEl>
                                        <p:attrNameLst>
                                          <p:attrName>style.visibility</p:attrName>
                                        </p:attrNameLst>
                                      </p:cBhvr>
                                      <p:to>
                                        <p:strVal val="visible"/>
                                      </p:to>
                                    </p:set>
                                    <p:animEffect filter="wipe(up)" transition="in">
                                      <p:cBhvr additive="repl">
                                        <p:cTn id="7" dur="500"/>
                                        <p:tgtEl>
                                          <p:spTgt spid="1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61"/>
                                        </p:tgtEl>
                                        <p:attrNameLst>
                                          <p:attrName>style.visibility</p:attrName>
                                        </p:attrNameLst>
                                      </p:cBhvr>
                                      <p:to>
                                        <p:strVal val="visible"/>
                                      </p:to>
                                    </p:set>
                                    <p:animEffect filter="wipe(up)" transition="in">
                                      <p:cBhvr additive="repl">
                                        <p:cTn id="1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of SCOR utilization</a:t>
            </a:r>
            <a:endParaRPr b="1"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8T05:57:16Z</dcterms:created>
  <dc:creator>Enrico Camerinelli</dc:creator>
  <dc:description/>
  <dc:language>en-US</dc:language>
  <cp:lastModifiedBy>Enrico Camerinelli</cp:lastModifiedBy>
  <dcterms:modified xsi:type="dcterms:W3CDTF">2012-04-13T16:42:41Z</dcterms:modified>
  <cp:revision>160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A2464A2EFA28249AD998E79D7DC3ECD</vt:lpwstr>
  </property>
</Properties>
</file>