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9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2.wmf" ContentType="image/x-wmf"/>
  <Override PartName="/ppt/media/image29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40.png" ContentType="image/png"/>
  <Override PartName="/ppt/media/image9.jpeg" ContentType="image/jpeg"/>
  <Override PartName="/ppt/media/image42.png" ContentType="image/png"/>
  <Override PartName="/ppt/media/image46.png" ContentType="image/png"/>
  <Override PartName="/ppt/media/image49.jpeg" ContentType="image/jpeg"/>
  <Override PartName="/ppt/media/image47.png" ContentType="image/png"/>
  <Override PartName="/ppt/media/image50.jpeg" ContentType="image/jpeg"/>
  <Override PartName="/ppt/media/image45.png" ContentType="image/png"/>
  <Override PartName="/ppt/media/image51.jpeg" ContentType="image/jpeg"/>
  <Override PartName="/ppt/media/image23.png" ContentType="image/png"/>
  <Override PartName="/ppt/media/image43.png" ContentType="image/png"/>
  <Override PartName="/ppt/media/image52.jpeg" ContentType="image/jpeg"/>
  <Override PartName="/ppt/media/image41.png" ContentType="image/png"/>
  <Override PartName="/ppt/media/image39.png" ContentType="image/png"/>
  <Override PartName="/ppt/media/image48.jpeg" ContentType="image/jpeg"/>
  <Override PartName="/ppt/media/image37.png" ContentType="image/png"/>
  <Override PartName="/ppt/media/image53.png" ContentType="image/png"/>
  <Override PartName="/ppt/media/image32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28.png" ContentType="image/png"/>
  <Override PartName="/ppt/media/image7.jpeg" ContentType="image/jpeg"/>
  <Override PartName="/ppt/media/image36.png" ContentType="image/png"/>
  <Override PartName="/ppt/media/image6.png" ContentType="image/png"/>
  <Override PartName="/ppt/media/image13.jpeg" ContentType="image/jpeg"/>
  <Override PartName="/ppt/media/image4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7F2D-E285-4196-94DC-DB2096E2B6E8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6EDE-829C-4236-BD37-3CCAF4900A7B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B3A1-7639-46B2-94AF-90F65DBED7B4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F0C1-8543-47A4-9D74-845532554A65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9FB4-7ACA-49F4-8E8C-EFB90FD6C41B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804F-AD7E-4AE6-88FE-B267C5259D44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8E2B-F643-43C0-905E-2B4D766EAE7B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0739-3EAD-4DB4-9BAB-8E3C737F977D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BA66-31ED-4747-91BA-F16BB4B7F5D1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D58A-2EBF-4783-A0AC-89C86C726F80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7DE5-2561-4D59-BB72-2D0E0FD1D67C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20B5-EE49-4134-A6CD-E4CD5F735E02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5A5C-2C5F-44E5-AA05-4F385BAC3CE1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6840-42CF-4796-B2C8-3542D4D03DFE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62C9-0BF7-4C97-A5E2-9A3DA59DD320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8220-B1AB-4FEA-9759-8EC3240A68F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4B47-DEA6-4559-A905-17148F40286E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ED99-6AE5-4204-A3FD-0AFBC56904CE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CF63-ABF1-46D6-8FD9-94DB8DE035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C28A-0882-48DB-BCFB-E9558392AD02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A9D0-5A1E-48CE-B6E4-347EF530D908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D6A6-3F95-4998-82BC-3F9D76D248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0148-3F4C-4B98-851D-449CC3A1C88A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13E7-1831-43E3-8B0C-AC9CF6FC4A5E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4A46-9E55-4F2E-882E-C176CE4B83DF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2E59-598F-482D-89EE-E546A9B6ABDB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585C7-F528-4300-BE01-EFE71F04C6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BE424-A7CD-4963-BD31-9ABAC6A04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8F753-CFCC-42E8-976E-1928F1A29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63AC0-171D-45B1-B347-779004582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462D8-8F77-4E3F-A38A-7698EE88CC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6CB32-6009-449C-9911-5F08E3F81E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3489E-6729-4B35-9B44-4C94DB25CA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274D4-CE82-465A-A6BD-ECB06E48E6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F8F63-3BD9-4834-BBE8-3DB97509DD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F79EB-E8B2-45CC-B7D2-D170C35A6D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BA8DE-369B-4D40-8EC8-5878287076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0082B-652E-48B0-9BDF-3A6C1B341F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4DEE8-3672-46D5-9FF0-F30E93FDC0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C4FE4-D2FF-439A-9BA8-7209F44C16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94DDB-14FF-403F-BC7A-425F0B7CEC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009D9-0E3A-4900-8D6A-D500C48715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8A830-7407-4D54-B52D-0BF101D7445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CEF8-9639-4D13-B692-C0B9D73AF9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D68FB-C860-4A5E-BD2A-934772FE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9ECBC-0084-4693-911F-C4934F4B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BCEA7-F649-40E1-B520-B243CBDA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873FA-6F32-40E8-BAA7-BA6C71C7265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50E94-7839-49A5-9F97-11AE327E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8AFC7-840C-4E04-A29F-1E2F71C0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171EA-E83D-4F08-92EA-2244DBF4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6AA94-87AE-46E6-85CB-83275492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57BD3-EA6D-4F75-A524-0F576718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8BB80-81E5-460D-A520-61CE62DE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4AD03-F1DC-4963-BDC9-C8B862F9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EF382-C88F-4A66-B6F9-8D74E36F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CF284-B89F-4DEC-A030-BA69711C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93FD8F-B353-4584-87DD-7EC4961E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F7E5F-CB4E-4AF3-BE6E-98112D51169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FE9AFB-0367-469D-B68D-689AA55B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49598-D328-46AB-8367-13A06181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C2739B-F62C-457A-AA3A-285A0C60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CC481-7304-4468-AAA9-378CEC9E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30CE9-B585-4925-8BA7-1D8DEB8F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C7023-4E40-4DCB-9138-07D54EF0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73EF0A-B02E-4262-8937-AE48688F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717B0-6B12-4745-B033-7818377E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A7DA06-EB3B-4546-A668-26349422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0E4F8-6317-4AF9-93CE-05DD2811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BE38-0C89-4E01-9BC1-69A2A4A2617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71BF52-1CA0-4EF0-AA69-FC8AE23F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0CC12-100D-41BC-AB4F-B29A621A3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7370D-FE3C-4F55-BA27-8D9B151FD3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3E32-904D-4DD8-A354-DA0C072C9D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E47A-C5CB-4D4F-9830-07A1BD0726F1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61F6-9318-46FD-B3D2-45C043B385A8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4344-CBDB-4D3F-A5F7-D0356E71C372}" type="datetime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C4C3-A45D-4B26-B222-8669C00F1F8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6"/>
          </p:nvPr>
        </p:nvSpPr>
        <p:spPr>
          <a:xfrm>
            <a:off x="3949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30 August – 3 September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7"/>
          </p:nvPr>
        </p:nvSpPr>
        <p:spPr>
          <a:xfrm>
            <a:off x="277164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th UN/CEFACT FORUM – Geneva, Switz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C9CD-5CF4-46BF-B448-FA7E107D11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2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0.png"/><Relationship Id="rId16" Type="http://schemas.openxmlformats.org/officeDocument/2006/relationships/image" Target="../media/image29.png"/><Relationship Id="rId17" Type="http://schemas.openxmlformats.org/officeDocument/2006/relationships/image" Target="../media/image31.png"/><Relationship Id="rId18" Type="http://schemas.openxmlformats.org/officeDocument/2006/relationships/image" Target="../media/image30.png"/><Relationship Id="rId19" Type="http://schemas.openxmlformats.org/officeDocument/2006/relationships/image" Target="../media/image29.png"/><Relationship Id="rId20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uncefact.org/" TargetMode="External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ttp://www.un.org/en/aboutun/structure/pdfs/un_system_chart_colour_sm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mailto:cefactforum@unece.org" TargetMode="External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4920" y="1981080"/>
            <a:ext cx="678204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spcBef>
                <a:spcPts val="18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1f497d"/>
                </a:solidFill>
                <a:latin typeface="Calibri"/>
                <a:ea typeface="Arial"/>
              </a:rPr>
              <a:t>19</a:t>
            </a:r>
            <a:r>
              <a:rPr b="1" lang="de-CH" sz="4400" spc="-1" strike="noStrike" baseline="30000">
                <a:solidFill>
                  <a:srgbClr val="1f497d"/>
                </a:solidFill>
                <a:latin typeface="Calibri"/>
                <a:ea typeface="Arial"/>
              </a:rPr>
              <a:t>th</a:t>
            </a:r>
            <a:r>
              <a:rPr b="1" lang="de-CH" sz="4400" spc="-1" strike="noStrike">
                <a:solidFill>
                  <a:srgbClr val="1f497d"/>
                </a:solidFill>
                <a:latin typeface="Calibri"/>
                <a:ea typeface="Arial"/>
              </a:rPr>
              <a:t> UN/CEFACT Forum</a:t>
            </a:r>
            <a:br>
              <a:rPr sz="4400"/>
            </a:b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Opening Plenary</a:t>
            </a:r>
            <a:br>
              <a:rPr sz="4000"/>
            </a:br>
            <a:r>
              <a:rPr b="1" lang="de-CH" sz="2800" spc="-1" strike="noStrike">
                <a:solidFill>
                  <a:srgbClr val="1f497d"/>
                </a:solidFill>
                <a:latin typeface="Calibri"/>
                <a:ea typeface="Arial"/>
              </a:rPr>
              <a:t>10.00 – 13.00 hrs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1828800" y="510552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1f497d"/>
                </a:solidFill>
                <a:latin typeface="Arial"/>
              </a:rPr>
              <a:t>16 April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Palais des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Geneva, Switz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1"/>
          <p:cNvGrpSpPr/>
          <p:nvPr/>
        </p:nvGrpSpPr>
        <p:grpSpPr>
          <a:xfrm>
            <a:off x="957240" y="1892160"/>
            <a:ext cx="7272360" cy="4356360"/>
            <a:chOff x="957240" y="1892160"/>
            <a:chExt cx="7272360" cy="4356360"/>
          </a:xfrm>
        </p:grpSpPr>
        <p:sp>
          <p:nvSpPr>
            <p:cNvPr id="253" name="Straight Connector 2"/>
            <p:cNvSpPr/>
            <p:nvPr/>
          </p:nvSpPr>
          <p:spPr>
            <a:xfrm>
              <a:off x="6924240" y="4381920"/>
              <a:ext cx="7920" cy="4986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Straight Connector 3"/>
            <p:cNvSpPr/>
            <p:nvPr/>
          </p:nvSpPr>
          <p:spPr>
            <a:xfrm>
              <a:off x="3400920" y="4381920"/>
              <a:ext cx="7920" cy="4986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Straight Connector 5"/>
            <p:cNvSpPr/>
            <p:nvPr/>
          </p:nvSpPr>
          <p:spPr>
            <a:xfrm flipH="1">
              <a:off x="3399480" y="4381920"/>
              <a:ext cx="15832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fgeronde rechthoek 8"/>
            <p:cNvSpPr/>
            <p:nvPr/>
          </p:nvSpPr>
          <p:spPr>
            <a:xfrm>
              <a:off x="4120560" y="1892160"/>
              <a:ext cx="1996920" cy="19911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LEN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---------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lenary Bure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7" name="Group 7" descr=""/>
            <p:cNvPicPr/>
            <p:nvPr/>
          </p:nvPicPr>
          <p:blipFill>
            <a:blip r:embed="rId1"/>
            <a:stretch/>
          </p:blipFill>
          <p:spPr>
            <a:xfrm>
              <a:off x="6087600" y="4725360"/>
              <a:ext cx="2142000" cy="14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Group 9" descr=""/>
            <p:cNvPicPr/>
            <p:nvPr/>
          </p:nvPicPr>
          <p:blipFill>
            <a:blip r:embed="rId2"/>
            <a:stretch/>
          </p:blipFill>
          <p:spPr>
            <a:xfrm>
              <a:off x="2667240" y="4725360"/>
              <a:ext cx="2202840" cy="152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Straight Connector 10"/>
            <p:cNvSpPr/>
            <p:nvPr/>
          </p:nvSpPr>
          <p:spPr>
            <a:xfrm>
              <a:off x="5120640" y="3883320"/>
              <a:ext cx="7920" cy="4986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Straight Connector 11"/>
            <p:cNvSpPr/>
            <p:nvPr/>
          </p:nvSpPr>
          <p:spPr>
            <a:xfrm flipH="1">
              <a:off x="4982400" y="4381920"/>
              <a:ext cx="19414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Straight Connector 12"/>
            <p:cNvSpPr/>
            <p:nvPr/>
          </p:nvSpPr>
          <p:spPr>
            <a:xfrm flipH="1">
              <a:off x="3162960" y="3096360"/>
              <a:ext cx="9334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fgeronde rechthoek 5"/>
            <p:cNvSpPr/>
            <p:nvPr/>
          </p:nvSpPr>
          <p:spPr>
            <a:xfrm>
              <a:off x="957240" y="2966040"/>
              <a:ext cx="2514960" cy="355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Regional Rapporteu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Rectangle 3"/>
          <p:cNvSpPr/>
          <p:nvPr/>
        </p:nvSpPr>
        <p:spPr>
          <a:xfrm>
            <a:off x="4648320" y="8380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cument 15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2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8071-4BD2-4253-91AA-B1CDF35358EE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1"/>
          <p:cNvGrpSpPr/>
          <p:nvPr/>
        </p:nvGrpSpPr>
        <p:grpSpPr>
          <a:xfrm>
            <a:off x="685800" y="1754280"/>
            <a:ext cx="7162920" cy="4417920"/>
            <a:chOff x="685800" y="1754280"/>
            <a:chExt cx="7162920" cy="4417920"/>
          </a:xfrm>
        </p:grpSpPr>
        <p:sp>
          <p:nvSpPr>
            <p:cNvPr id="266" name="Straight Connector 12"/>
            <p:cNvSpPr/>
            <p:nvPr/>
          </p:nvSpPr>
          <p:spPr>
            <a:xfrm flipH="1">
              <a:off x="3118680" y="2355840"/>
              <a:ext cx="93276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Straight Connector 10"/>
            <p:cNvSpPr/>
            <p:nvPr/>
          </p:nvSpPr>
          <p:spPr>
            <a:xfrm>
              <a:off x="4867200" y="2957760"/>
              <a:ext cx="29880" cy="133488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Straight Connector 2"/>
            <p:cNvSpPr/>
            <p:nvPr/>
          </p:nvSpPr>
          <p:spPr>
            <a:xfrm>
              <a:off x="6693120" y="4305240"/>
              <a:ext cx="7920" cy="49824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Straight Connector 3"/>
            <p:cNvSpPr/>
            <p:nvPr/>
          </p:nvSpPr>
          <p:spPr>
            <a:xfrm>
              <a:off x="3171240" y="4305240"/>
              <a:ext cx="7920" cy="49824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Straight Connector 5"/>
            <p:cNvSpPr/>
            <p:nvPr/>
          </p:nvSpPr>
          <p:spPr>
            <a:xfrm flipH="1">
              <a:off x="3169800" y="4305240"/>
              <a:ext cx="158256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fgeronde rechthoek 8"/>
            <p:cNvSpPr/>
            <p:nvPr/>
          </p:nvSpPr>
          <p:spPr>
            <a:xfrm>
              <a:off x="3955320" y="1754280"/>
              <a:ext cx="1813680" cy="1140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len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---------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Plenary Bure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2" name="Group 7" descr=""/>
            <p:cNvPicPr/>
            <p:nvPr/>
          </p:nvPicPr>
          <p:blipFill>
            <a:blip r:embed="rId1"/>
            <a:stretch/>
          </p:blipFill>
          <p:spPr>
            <a:xfrm>
              <a:off x="3566160" y="3169800"/>
              <a:ext cx="4282560" cy="281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Group 9" descr=""/>
            <p:cNvPicPr/>
            <p:nvPr/>
          </p:nvPicPr>
          <p:blipFill>
            <a:blip r:embed="rId2"/>
            <a:stretch/>
          </p:blipFill>
          <p:spPr>
            <a:xfrm>
              <a:off x="2440800" y="4650120"/>
              <a:ext cx="2196000" cy="15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Straight Connector 11"/>
            <p:cNvSpPr/>
            <p:nvPr/>
          </p:nvSpPr>
          <p:spPr>
            <a:xfrm flipH="1">
              <a:off x="4752360" y="4305240"/>
              <a:ext cx="194040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fgeronde rechthoek 5"/>
            <p:cNvSpPr/>
            <p:nvPr/>
          </p:nvSpPr>
          <p:spPr>
            <a:xfrm>
              <a:off x="685800" y="2205360"/>
              <a:ext cx="2513880" cy="355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egional Rapporteu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Slide Number Placeholder 24"/>
          <p:cNvSpPr/>
          <p:nvPr/>
        </p:nvSpPr>
        <p:spPr>
          <a:xfrm>
            <a:off x="7391520" y="46483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1A5F-7BFC-4318-8EBB-A6412736C428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fgeronde rechthoek 12"/>
          <p:cNvSpPr/>
          <p:nvPr/>
        </p:nvSpPr>
        <p:spPr>
          <a:xfrm>
            <a:off x="6477120" y="5307120"/>
            <a:ext cx="1511280" cy="86508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jec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4"/>
          <p:cNvSpPr/>
          <p:nvPr/>
        </p:nvSpPr>
        <p:spPr>
          <a:xfrm>
            <a:off x="5801400" y="838080"/>
            <a:ext cx="28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Programmme of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8BFF-4844-4BBD-8C22-D11340DFBD1C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Bur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2095560" y="1752480"/>
            <a:ext cx="7391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Peter Amstu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Harm Jan van 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Pier Alberto Cuc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Mike Do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Victor Dravit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Stuart Feder, 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Tahseen A. K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Tim McGr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Bruno Pre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Mats Wic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92AD-BED8-4CC8-B0DF-5745CF591AF1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52280" y="1765800"/>
            <a:ext cx="8763120" cy="44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1f497d"/>
                </a:solidFill>
                <a:uFillTx/>
                <a:latin typeface="Calibri"/>
                <a:ea typeface="Times New Roman"/>
              </a:rPr>
              <a:t>PROGRAMME DEVELOPMENT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Trade &amp; Transport Facilitation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  - Vice Chairs: Mats Wicktor and Viktor Dravit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</a:t>
            </a:r>
            <a:r>
              <a:rPr b="0" lang="en-GB" sz="1600" spc="-1" strike="noStrike">
                <a:solidFill>
                  <a:srgbClr val="1f497d"/>
                </a:solidFill>
                <a:latin typeface="Wingdings"/>
                <a:ea typeface="Wingdings"/>
              </a:rPr>
              <a:t>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International Trade Procedures, Customs,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Supply Chain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– Vice Chairs: Mike Doran and Tim McGr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    </a:t>
            </a:r>
            <a:r>
              <a:rPr b="0" lang="en-GB" sz="1600" spc="-1" strike="noStrike">
                <a:solidFill>
                  <a:srgbClr val="1f497d"/>
                </a:solidFill>
                <a:latin typeface="Wingdings"/>
                <a:ea typeface="Wingdings"/>
              </a:rPr>
              <a:t></a:t>
            </a:r>
            <a:r>
              <a:rPr b="0" lang="en-GB" sz="1600" spc="-1" strike="noStrike">
                <a:solidFill>
                  <a:srgbClr val="1f497d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Supply Chain Management, Procurement, Payments/Finance, Accounting and Au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Regulatory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– Vice Chairs, Tahseen Khan and Mats Wick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Arial"/>
                <a:ea typeface="Times New Roman"/>
              </a:rPr>
              <a:t>     </a:t>
            </a:r>
            <a:r>
              <a:rPr b="0" lang="en-GB" sz="1600" spc="-1" strike="noStrike">
                <a:solidFill>
                  <a:srgbClr val="1f497d"/>
                </a:solidFill>
                <a:latin typeface="Wingdings"/>
                <a:ea typeface="Wingdings"/>
              </a:rPr>
              <a:t>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Customs, Government, Environmental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Sectoral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– Vice Chairs Bruno Prepin and Harm-Jan van 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  <a:ea typeface="Times New Roman"/>
              </a:rPr>
              <a:t>     </a:t>
            </a:r>
            <a:r>
              <a:rPr b="0" lang="en-GB" sz="1600" spc="-1" strike="noStrike">
                <a:solidFill>
                  <a:srgbClr val="1f497d"/>
                </a:solidFill>
                <a:latin typeface="Wingdings"/>
                <a:ea typeface="Wingdings"/>
              </a:rPr>
              <a:t>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Agriculture, Health Care, Insurance, Travel/Tour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Methodology &amp; Technology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 –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Vice Chairs Peter Amstutz and Tim McGrath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  </a:t>
            </a:r>
            <a:r>
              <a:rPr b="0" lang="en-GB" sz="1600" spc="-1" strike="noStrike">
                <a:solidFill>
                  <a:srgbClr val="1f497d"/>
                </a:solidFill>
                <a:latin typeface="Wingdings"/>
                <a:ea typeface="Wingdings"/>
              </a:rPr>
              <a:t>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Business Process Analysis, Methodology, Harmonisation, Library, Audit, UN/EDIFACT,  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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1f497d"/>
                </a:solidFill>
                <a:uFillTx/>
                <a:latin typeface="Calibri"/>
              </a:rPr>
              <a:t>BUREAU PROGRAMM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f497d"/>
                </a:solidFill>
                <a:latin typeface="Calibri"/>
              </a:rPr>
              <a:t>Vice Chairs: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Peter Amstutz,  Pier Alberto Cucino (Communications), Harm-Jan van Burg (Liais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5715000" y="838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Arial"/>
              </a:rPr>
              <a:t>Current 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CB50-21E9-46FC-8A0C-17B5F28E963E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ecret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2286000" y="2438280"/>
            <a:ext cx="640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s. Virginia Cram-Mar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Tom Butt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Tauno Kang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s. Kamola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Khusnutdinova (temp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326A-63D5-4602-91B1-4127B7A4C817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4876920" y="7621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 </a:t>
            </a: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1981080" y="248904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457200" indent="291960">
              <a:lnSpc>
                <a:spcPct val="2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9840" y="1676160"/>
            <a:ext cx="907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Strategic Directions and Program of Work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2666880" y="545004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19th UN/CEFACT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1f497d"/>
                </a:solidFill>
                <a:latin typeface="Arial"/>
              </a:rPr>
              <a:t>16 - 20 April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1f497d"/>
                </a:solidFill>
                <a:latin typeface="Arial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3210480" y="4114800"/>
            <a:ext cx="25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70c0"/>
                </a:solidFill>
                <a:latin typeface="Arial"/>
              </a:rPr>
              <a:t>Mats Wic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70c0"/>
                </a:solidFill>
                <a:latin typeface="Arial"/>
              </a:rPr>
              <a:t>Vice Chair TTF &amp; 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" descr="http://www.strategy-keys.com/image-files/strategic-management-models.jpg"/>
          <p:cNvPicPr/>
          <p:nvPr/>
        </p:nvPicPr>
        <p:blipFill>
          <a:blip r:embed="rId1"/>
          <a:stretch/>
        </p:blipFill>
        <p:spPr>
          <a:xfrm>
            <a:off x="0" y="38098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http://www.nciles.co.uk/images/strategy.jpg"/>
          <p:cNvPicPr/>
          <p:nvPr/>
        </p:nvPicPr>
        <p:blipFill>
          <a:blip r:embed="rId2"/>
          <a:stretch/>
        </p:blipFill>
        <p:spPr>
          <a:xfrm>
            <a:off x="5689440" y="4267080"/>
            <a:ext cx="3454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DC04-0976-4F21-89DA-644C6EB63857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2"/>
          <p:cNvSpPr/>
          <p:nvPr/>
        </p:nvSpPr>
        <p:spPr>
          <a:xfrm>
            <a:off x="533520" y="1600200"/>
            <a:ext cx="82296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rade Facilitation 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lectronic Business Stand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overnmental &amp; Business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ransparent and effective processes for global t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6" descr="http://whywebstandards.org/wp-content/uploads/2010/03/web-standards.jpg"/>
          <p:cNvPicPr/>
          <p:nvPr/>
        </p:nvPicPr>
        <p:blipFill>
          <a:blip r:embed="rId1"/>
          <a:stretch/>
        </p:blipFill>
        <p:spPr>
          <a:xfrm>
            <a:off x="1031760" y="5562720"/>
            <a:ext cx="72741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58F2-5B0E-4ABE-AF48-5F6196759A13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6" descr="http://eagereyes.org/media/2009/toolbox.jpg"/>
          <p:cNvPicPr/>
          <p:nvPr/>
        </p:nvPicPr>
        <p:blipFill>
          <a:blip r:embed="rId1"/>
          <a:stretch/>
        </p:blipFill>
        <p:spPr>
          <a:xfrm>
            <a:off x="3686040" y="3200400"/>
            <a:ext cx="5065920" cy="3352680"/>
          </a:xfrm>
          <a:prstGeom prst="rect">
            <a:avLst/>
          </a:prstGeom>
          <a:ln w="0">
            <a:noFill/>
          </a:ln>
        </p:spPr>
      </p:pic>
      <p:sp>
        <p:nvSpPr>
          <p:cNvPr id="303" name="TextBox 3"/>
          <p:cNvSpPr/>
          <p:nvPr/>
        </p:nvSpPr>
        <p:spPr>
          <a:xfrm>
            <a:off x="533520" y="167652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and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ther Instru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317A-EFCD-4109-B31D-44B485427945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"/>
          <p:cNvSpPr/>
          <p:nvPr/>
        </p:nvSpPr>
        <p:spPr>
          <a:xfrm>
            <a:off x="609480" y="2209680"/>
            <a:ext cx="8229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mmon Libr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mmon Direc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ternationally agreed and standardiz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ambigious sharing of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ith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" descr="http://www.hds.harvard.edu/library/collections/images/031505_Divinity_Library_57.jpg"/>
          <p:cNvPicPr/>
          <p:nvPr/>
        </p:nvPicPr>
        <p:blipFill>
          <a:blip r:embed="rId1"/>
          <a:stretch/>
        </p:blipFill>
        <p:spPr>
          <a:xfrm>
            <a:off x="5562720" y="1676520"/>
            <a:ext cx="32763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7C9A-F7B7-4479-AF31-3F7500BF7C18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1066680" y="838080"/>
            <a:ext cx="8077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0:00 – 10:15  Welco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0:15 – 11:30 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1:30 – 12:00  Coffee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2:00 –13:00    Overview 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5943600" y="838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BFBA-0B1A-4214-BFBC-B2A849092B6B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"/>
          <p:cNvSpPr/>
          <p:nvPr/>
        </p:nvSpPr>
        <p:spPr>
          <a:xfrm>
            <a:off x="533520" y="1447920"/>
            <a:ext cx="8381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reate a solid foun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llaboration with oth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crease uptake through high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se the unique remit to fill the g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clus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6" descr="http://www.newdirectionsconsulting.com/wp-content/uploads/2011/07/bridgingthegap.jpg"/>
          <p:cNvPicPr/>
          <p:nvPr/>
        </p:nvPicPr>
        <p:blipFill>
          <a:blip r:embed="rId1"/>
          <a:stretch/>
        </p:blipFill>
        <p:spPr>
          <a:xfrm>
            <a:off x="2819520" y="3962520"/>
            <a:ext cx="36478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9A99-159C-4201-808F-8C917047F61D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304920" y="1905120"/>
            <a:ext cx="8534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he PoW is NOT a Bureau documen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ntent is based on input from the stakeholder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 o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6" descr="http://ec.europa.eu/enterprise/policies/sustainable-business/media/photos/corporate-social-responsibility_multi-stakeholder-forum.jpg"/>
          <p:cNvPicPr/>
          <p:nvPr/>
        </p:nvPicPr>
        <p:blipFill>
          <a:blip r:embed="rId1"/>
          <a:stretch/>
        </p:blipFill>
        <p:spPr>
          <a:xfrm>
            <a:off x="3048120" y="4343400"/>
            <a:ext cx="33368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Elephant_256x256"/>
          <p:cNvPicPr/>
          <p:nvPr/>
        </p:nvPicPr>
        <p:blipFill>
          <a:blip r:embed="rId1"/>
          <a:stretch/>
        </p:blipFill>
        <p:spPr>
          <a:xfrm>
            <a:off x="2057400" y="1752480"/>
            <a:ext cx="4724280" cy="4724640"/>
          </a:xfrm>
          <a:prstGeom prst="rect">
            <a:avLst/>
          </a:prstGeom>
          <a:ln w="0">
            <a:noFill/>
          </a:ln>
        </p:spPr>
      </p:pic>
      <p:sp>
        <p:nvSpPr>
          <p:cNvPr id="317" name="TextBox 3"/>
          <p:cNvSpPr/>
          <p:nvPr/>
        </p:nvSpPr>
        <p:spPr>
          <a:xfrm>
            <a:off x="541008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Realistic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4F74-CF96-41A7-91A3-41B726000378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"/>
          <p:cNvSpPr/>
          <p:nvPr/>
        </p:nvSpPr>
        <p:spPr>
          <a:xfrm>
            <a:off x="228600" y="1676520"/>
            <a:ext cx="7772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/CEFACT has a role to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ique remit/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utr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llaborate with other SDO‘s, avoid duplic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nhance the role of being a unique meeting place for vertical (and other) SDO‘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spository-creation for implementations, knowledg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5334120" y="7621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ggregated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Aggregation-of-Supply"/>
          <p:cNvPicPr/>
          <p:nvPr/>
        </p:nvPicPr>
        <p:blipFill>
          <a:blip r:embed="rId1"/>
          <a:stretch/>
        </p:blipFill>
        <p:spPr>
          <a:xfrm>
            <a:off x="6705720" y="1447920"/>
            <a:ext cx="2286000" cy="171432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6"/>
          <p:cNvSpPr/>
          <p:nvPr/>
        </p:nvSpPr>
        <p:spPr>
          <a:xfrm>
            <a:off x="1981080" y="6004080"/>
            <a:ext cx="472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Arial"/>
              </a:rPr>
              <a:t>Strengthen strength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7" descr="zlatan_823511c"/>
          <p:cNvPicPr/>
          <p:nvPr/>
        </p:nvPicPr>
        <p:blipFill>
          <a:blip r:embed="rId2"/>
          <a:stretch/>
        </p:blipFill>
        <p:spPr>
          <a:xfrm>
            <a:off x="1371600" y="2133720"/>
            <a:ext cx="594360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0678-601F-4F85-8038-11D0DDA3E311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5334120" y="7621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How to proc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It's+Up+To+All+Of+Us"/>
          <p:cNvPicPr/>
          <p:nvPr/>
        </p:nvPicPr>
        <p:blipFill>
          <a:blip r:embed="rId1"/>
          <a:stretch/>
        </p:blipFill>
        <p:spPr>
          <a:xfrm>
            <a:off x="2819520" y="1600200"/>
            <a:ext cx="3971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79232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Trade and Transport Facilitation P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2666880" y="60199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Mr. Viktor Dravit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Mr. Mats Wic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5" descr="http://incite-consulting.com/wp-content/uploads/2011/04/iStock_facilitation.jpg"/>
          <p:cNvPicPr/>
          <p:nvPr/>
        </p:nvPicPr>
        <p:blipFill>
          <a:blip r:embed="rId1"/>
          <a:stretch/>
        </p:blipFill>
        <p:spPr>
          <a:xfrm>
            <a:off x="1600200" y="2057400"/>
            <a:ext cx="585936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228C-FC0F-4F29-9802-D99F313FAA42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2" descr="http://www.thesocialpenguinblog.com/cms/wp-content/uploads/2011/09/simple-is-beautiful.jpg"/>
          <p:cNvPicPr/>
          <p:nvPr/>
        </p:nvPicPr>
        <p:blipFill>
          <a:blip r:embed="rId1"/>
          <a:stretch/>
        </p:blipFill>
        <p:spPr>
          <a:xfrm>
            <a:off x="1143000" y="1447920"/>
            <a:ext cx="6759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1f497d"/>
                </a:solidFill>
                <a:latin typeface="Calibri"/>
              </a:rPr>
              <a:t>International Trade Procedures – Johan Ponté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1f497d"/>
                </a:solidFill>
                <a:latin typeface="Calibri"/>
              </a:rPr>
              <a:t>Transport –Dominique Vankemmel &amp; Michael Ond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1f497d"/>
                </a:solidFill>
                <a:latin typeface="Calibri"/>
              </a:rPr>
              <a:t>Customs – SP Sah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5305-BA12-405C-A685-6F31F8BAC3E5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3"/>
          <p:cNvSpPr/>
          <p:nvPr/>
        </p:nvSpPr>
        <p:spPr>
          <a:xfrm>
            <a:off x="5638680" y="7621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ord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85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385" fill="hold"/>
                                        <p:tgtEl>
                                          <p:spTgt spid="3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385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385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CE3C-0475-47ED-B491-08742E06D7D6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2"/>
          <p:cNvSpPr/>
          <p:nvPr/>
        </p:nvSpPr>
        <p:spPr>
          <a:xfrm>
            <a:off x="304920" y="1905120"/>
            <a:ext cx="8534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Single Window Interoperability – first draft being developed and project group meeting planned week after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Recommendation on Consultation Models - first draft being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PrivatePublicPartnership Recommendation – first discussions in order to prepare project proposal under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Trade Facilitation Implementation Guide – comments on first draft from CEFACT project team to UNECE consultants team provided during F2F-meeting 13-14 February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385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385" fill="hold"/>
                                        <p:tgtEl>
                                          <p:spTgt spid="3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" dur="385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385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2806-AD64-4CF2-9DC5-0DE5D990C789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2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4"/>
          <p:cNvSpPr/>
          <p:nvPr/>
        </p:nvSpPr>
        <p:spPr>
          <a:xfrm>
            <a:off x="0" y="1447920"/>
            <a:ext cx="914400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Interim meeting Transport Domain in 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Valencia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ov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roject “Cargo Tracing and Tracking” progressing well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roject “Status Report and Transport Instructions” scarc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Multi Modal Transport (MMT) structure progr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rojects for Transport Waybill and Dangerous Goods 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Assessment/approval of DMR’s from the Maritime Transport Industry (SMD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ending issu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duced resources of the Transport/Logistics Group delaying further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eeking Experts especially new Projects L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ecure support to CEFACT from International Transport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xt Transport Domain meeting not fixed, likely in Paris May/June 20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385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385" fill="hold"/>
                                        <p:tgtEl>
                                          <p:spTgt spid="3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3" dur="385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5" dur="385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1931-FF99-48EB-B958-40F9FC5648E4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1066680" y="2527200"/>
            <a:ext cx="8077320" cy="23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457200" indent="291960">
              <a:lnSpc>
                <a:spcPct val="250000"/>
              </a:lnSpc>
              <a:spcBef>
                <a:spcPts val="1800"/>
              </a:spcBef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ECE: Virginia Cram-Martos, 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spcBef>
                <a:spcPts val="1199"/>
              </a:spcBef>
              <a:spcAft>
                <a:spcPts val="1800"/>
              </a:spcAft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/CEFACT: Stuart Feder, Plenary 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5943600" y="838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Wel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971440" y="1294920"/>
            <a:ext cx="35067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Regulatory P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5" descr="http://i.telegraph.co.uk/multimedia/archive/01796/RedTape_1796038c.jpg"/>
          <p:cNvPicPr/>
          <p:nvPr/>
        </p:nvPicPr>
        <p:blipFill>
          <a:blip r:embed="rId1"/>
          <a:stretch/>
        </p:blipFill>
        <p:spPr>
          <a:xfrm>
            <a:off x="1752480" y="1981080"/>
            <a:ext cx="6134400" cy="38275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4"/>
          <p:cNvSpPr/>
          <p:nvPr/>
        </p:nvSpPr>
        <p:spPr>
          <a:xfrm>
            <a:off x="2971800" y="5867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Mr. Tahseen K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Mr. Mats Wic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1f497d"/>
                </a:solidFill>
                <a:latin typeface="Calibri"/>
              </a:rPr>
              <a:t>Environmental Management – Delta Pelgri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1f497d"/>
                </a:solidFill>
                <a:latin typeface="Calibri"/>
              </a:rPr>
              <a:t>Government – Ray Pisan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1f497d"/>
                </a:solidFill>
                <a:latin typeface="Calibri"/>
              </a:rPr>
              <a:t>Customs – SP Sah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BE48-5E62-41D6-9787-8E53CBC17AE2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3"/>
          <p:cNvSpPr/>
          <p:nvPr/>
        </p:nvSpPr>
        <p:spPr>
          <a:xfrm>
            <a:off x="5791320" y="7621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ord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F6D9-EE8F-4A2C-9678-BA9DA87010E9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2"/>
          <p:cNvSpPr/>
          <p:nvPr/>
        </p:nvSpPr>
        <p:spPr>
          <a:xfrm>
            <a:off x="533520" y="1676520"/>
            <a:ext cx="7848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armonization of classification of chemical products and hazardous mater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angerous goods declar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Waste management a possible area if experts could be identif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3"/>
          <p:cNvSpPr/>
          <p:nvPr/>
        </p:nvSpPr>
        <p:spPr>
          <a:xfrm>
            <a:off x="5791320" y="7621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385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385" fill="hold"/>
                                        <p:tgtEl>
                                          <p:spTgt spid="3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1" dur="385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3" dur="385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BD9E-6D66-48A9-99B7-C1CFD2E8F1FE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2"/>
          <p:cNvSpPr/>
          <p:nvPr/>
        </p:nvSpPr>
        <p:spPr>
          <a:xfrm>
            <a:off x="685800" y="167652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Procurement </a:t>
            </a:r>
            <a:r>
              <a:rPr b="1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(hosted under Supply Chain PDA in a cross-domain collaboration eff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5791320" y="7621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385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385" fill="hold"/>
                                        <p:tgtEl>
                                          <p:spTgt spid="3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6" dur="385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8" dur="385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D2A4-B481-433A-9FFC-3337B28F36B9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us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3"/>
          <p:cNvSpPr/>
          <p:nvPr/>
        </p:nvSpPr>
        <p:spPr>
          <a:xfrm>
            <a:off x="380880" y="182880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28600" y="1600200"/>
            <a:ext cx="8381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solution on Natural Disaster Relie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xpress Cargo – Immediate Release Gu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Single Window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  C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b  Non-preferential Cert. of Ori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  Veterinary, phytosanit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  Intellectual Property Regi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385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385" fill="hold"/>
                                        <p:tgtEl>
                                          <p:spTgt spid="3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385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385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DFDF-8C76-4EA0-B130-44ED971F6318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"/>
          <p:cNvSpPr/>
          <p:nvPr/>
        </p:nvSpPr>
        <p:spPr>
          <a:xfrm>
            <a:off x="5791320" y="7621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us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3"/>
          <p:cNvSpPr/>
          <p:nvPr/>
        </p:nvSpPr>
        <p:spPr>
          <a:xfrm>
            <a:off x="152280" y="1676520"/>
            <a:ext cx="8763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-to-G repor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Passenger, Baggage and PNR information in the marine mode; harmonization with the API PAXLST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maing RKC Procedures, i.a. warehousing, IPR/OPR &amp; Temporary Im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385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2" dur="385" fill="hold"/>
                                        <p:tgtEl>
                                          <p:spTgt spid="3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4" dur="385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6" dur="385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75AC-2F9C-48A8-87A6-271744335689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http://www.mangoorange.com/wp-content/uploads/2010/02/easy-button.jpg"/>
          <p:cNvPicPr/>
          <p:nvPr/>
        </p:nvPicPr>
        <p:blipFill>
          <a:blip r:embed="rId1"/>
          <a:stretch/>
        </p:blipFill>
        <p:spPr>
          <a:xfrm>
            <a:off x="2286000" y="160020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2"/>
          <p:cNvSpPr/>
          <p:nvPr/>
        </p:nvSpPr>
        <p:spPr>
          <a:xfrm>
            <a:off x="5791320" y="7621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eek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762120" y="1676520"/>
            <a:ext cx="7696080" cy="761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762120" y="2590920"/>
            <a:ext cx="7696080" cy="761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762120" y="3581280"/>
            <a:ext cx="769608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762120" y="4648320"/>
            <a:ext cx="7696080" cy="761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762120" y="5715000"/>
            <a:ext cx="769608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1"/>
          <p:cNvSpPr/>
          <p:nvPr/>
        </p:nvSpPr>
        <p:spPr>
          <a:xfrm>
            <a:off x="230400" y="1828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2"/>
          <p:cNvSpPr/>
          <p:nvPr/>
        </p:nvSpPr>
        <p:spPr>
          <a:xfrm>
            <a:off x="230040" y="28195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3"/>
          <p:cNvSpPr/>
          <p:nvPr/>
        </p:nvSpPr>
        <p:spPr>
          <a:xfrm>
            <a:off x="230040" y="38098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4"/>
          <p:cNvSpPr/>
          <p:nvPr/>
        </p:nvSpPr>
        <p:spPr>
          <a:xfrm>
            <a:off x="230040" y="48769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5"/>
          <p:cNvSpPr/>
          <p:nvPr/>
        </p:nvSpPr>
        <p:spPr>
          <a:xfrm>
            <a:off x="230040" y="594360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6"/>
          <p:cNvSpPr/>
          <p:nvPr/>
        </p:nvSpPr>
        <p:spPr>
          <a:xfrm>
            <a:off x="4572000" y="1676520"/>
            <a:ext cx="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7"/>
          <p:cNvSpPr/>
          <p:nvPr/>
        </p:nvSpPr>
        <p:spPr>
          <a:xfrm>
            <a:off x="2059560" y="175248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8"/>
          <p:cNvSpPr/>
          <p:nvPr/>
        </p:nvSpPr>
        <p:spPr>
          <a:xfrm>
            <a:off x="5640840" y="586728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9"/>
          <p:cNvSpPr/>
          <p:nvPr/>
        </p:nvSpPr>
        <p:spPr>
          <a:xfrm>
            <a:off x="4725720" y="167652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Domain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0"/>
          <p:cNvSpPr/>
          <p:nvPr/>
        </p:nvSpPr>
        <p:spPr>
          <a:xfrm>
            <a:off x="5490720" y="2666880"/>
            <a:ext cx="23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DA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1"/>
          <p:cNvSpPr/>
          <p:nvPr/>
        </p:nvSpPr>
        <p:spPr>
          <a:xfrm>
            <a:off x="4752000" y="2057400"/>
            <a:ext cx="26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16 – 17 SCO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1464840" y="2971800"/>
            <a:ext cx="31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Message 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3"/>
          <p:cNvSpPr/>
          <p:nvPr/>
        </p:nvSpPr>
        <p:spPr>
          <a:xfrm>
            <a:off x="4599360" y="3733920"/>
            <a:ext cx="39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Joint meeting SC P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4"/>
          <p:cNvSpPr/>
          <p:nvPr/>
        </p:nvSpPr>
        <p:spPr>
          <a:xfrm>
            <a:off x="2288160" y="259092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I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5"/>
          <p:cNvSpPr/>
          <p:nvPr/>
        </p:nvSpPr>
        <p:spPr>
          <a:xfrm>
            <a:off x="1064520" y="3733920"/>
            <a:ext cx="33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New Technical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6"/>
          <p:cNvSpPr/>
          <p:nvPr/>
        </p:nvSpPr>
        <p:spPr>
          <a:xfrm>
            <a:off x="1452240" y="4800600"/>
            <a:ext cx="23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DA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7"/>
          <p:cNvSpPr/>
          <p:nvPr/>
        </p:nvSpPr>
        <p:spPr>
          <a:xfrm>
            <a:off x="5490720" y="4800600"/>
            <a:ext cx="23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DA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8"/>
          <p:cNvSpPr/>
          <p:nvPr/>
        </p:nvSpPr>
        <p:spPr>
          <a:xfrm>
            <a:off x="767160" y="5867280"/>
            <a:ext cx="37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Closing prepa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385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385" fill="hold"/>
                                        <p:tgtEl>
                                          <p:spTgt spid="3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6" dur="385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8" dur="385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4360" y="1523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Palatino"/>
              </a:rPr>
              <a:t>19</a:t>
            </a:r>
            <a:r>
              <a:rPr b="1" lang="en-US" sz="3600" spc="-1" strike="noStrike" baseline="30000">
                <a:solidFill>
                  <a:srgbClr val="0054a8"/>
                </a:solidFill>
                <a:latin typeface="Palatino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Palatino"/>
              </a:rPr>
              <a:t> UN/CEFACT FORUM</a:t>
            </a:r>
            <a:br>
              <a:rPr sz="3600"/>
            </a:br>
            <a:r>
              <a:rPr b="1" lang="en-US" sz="3600" spc="-1" strike="noStrike">
                <a:solidFill>
                  <a:srgbClr val="0054a8"/>
                </a:solidFill>
                <a:latin typeface="Palatino"/>
              </a:rPr>
              <a:t>OPENING PLENAR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971640" y="3047760"/>
            <a:ext cx="7200720" cy="32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Palatino"/>
              </a:rPr>
              <a:t>Supply Cha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Palatino"/>
              </a:rPr>
              <a:t>Programme Development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Palatino"/>
              </a:rPr>
              <a:t>Agenda for the W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Palatino"/>
              </a:rPr>
              <a:t>Mike Doran &amp; Tim McGr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Palatino"/>
              </a:rPr>
              <a:t> </a:t>
            </a:r>
            <a:r>
              <a:rPr b="1" lang="en-US" sz="2000" spc="-1" strike="noStrike">
                <a:solidFill>
                  <a:srgbClr val="0054a8"/>
                </a:solidFill>
                <a:latin typeface="Palatino"/>
              </a:rPr>
              <a:t>UN/CEFACT Bureau Vice Chai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Date Placeholder 1"/>
          <p:cNvSpPr/>
          <p:nvPr/>
        </p:nvSpPr>
        <p:spPr>
          <a:xfrm>
            <a:off x="3952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6 - 20 April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2"/>
          <p:cNvSpPr/>
          <p:nvPr/>
        </p:nvSpPr>
        <p:spPr>
          <a:xfrm>
            <a:off x="277164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Afgeronde rechthoek 5"/>
          <p:cNvSpPr/>
          <p:nvPr/>
        </p:nvSpPr>
        <p:spPr>
          <a:xfrm>
            <a:off x="380880" y="1447920"/>
            <a:ext cx="1371600" cy="434340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4343400"/>
              <a:gd name="textAreaBottom" fmla="*/ 4276440 h 4343400"/>
            </a:gdLst>
            <a:ahLst/>
            <a:rect l="textAreaLeft" t="textAreaTop" r="textAreaRight" b="textAreaBottom"/>
            <a:pathLst>
              <a:path w="21600" h="68388">
                <a:moveTo>
                  <a:pt x="3600" y="0"/>
                </a:moveTo>
                <a:arcTo wR="3600" hR="3600" stAng="16200000" swAng="-5400000"/>
                <a:lnTo>
                  <a:pt x="0" y="64788"/>
                </a:lnTo>
                <a:arcTo wR="3600" hR="3600" stAng="10800000" swAng="-5400000"/>
                <a:lnTo>
                  <a:pt x="18000" y="68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Vice Ch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Mike Do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Tim McGr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fgeronde rechthoek 7"/>
          <p:cNvSpPr/>
          <p:nvPr/>
        </p:nvSpPr>
        <p:spPr>
          <a:xfrm>
            <a:off x="1828800" y="1447920"/>
            <a:ext cx="2133720" cy="427644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4276440"/>
              <a:gd name="textAreaBottom" fmla="*/ 4172400 h 4276440"/>
            </a:gdLst>
            <a:ahLst/>
            <a:rect l="textAreaLeft" t="textAreaTop" r="textAreaRight" b="textAreaBottom"/>
            <a:pathLst>
              <a:path w="21600" h="43287">
                <a:moveTo>
                  <a:pt x="3600" y="0"/>
                </a:moveTo>
                <a:arcTo wR="3600" hR="3600" stAng="16200000" swAng="-5400000"/>
                <a:lnTo>
                  <a:pt x="0" y="39687"/>
                </a:lnTo>
                <a:arcTo wR="3600" hR="3600" stAng="10800000" swAng="-5400000"/>
                <a:lnTo>
                  <a:pt x="18000" y="432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  <a:ea typeface="Palatino"/>
              </a:rPr>
              <a:t>Supply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  <a:ea typeface="Palatino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fgeronde rechthoek 12"/>
          <p:cNvSpPr/>
          <p:nvPr/>
        </p:nvSpPr>
        <p:spPr>
          <a:xfrm>
            <a:off x="4038480" y="1523880"/>
            <a:ext cx="4876920" cy="42674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Palatino"/>
                <a:ea typeface="Palatino"/>
              </a:rPr>
              <a:t>Doma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Palatino"/>
                <a:ea typeface="Palatino"/>
              </a:rPr>
              <a:t>Supply Chai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Palatino"/>
                <a:ea typeface="Palatino"/>
              </a:rPr>
              <a:t>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Palatino"/>
                <a:ea typeface="Palatino"/>
              </a:rPr>
              <a:t>Accounting &amp; 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Palatino"/>
                <a:ea typeface="Palatino"/>
              </a:rPr>
              <a:t>Finance/Pay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Palatino"/>
                <a:ea typeface="Palatino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Calibri"/>
              </a:rPr>
              <a:t>16 - 20 Apri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"/>
          <p:cNvSpPr/>
          <p:nvPr/>
        </p:nvSpPr>
        <p:spPr>
          <a:xfrm flipH="1">
            <a:off x="5715000" y="838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PDA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EC76-B853-4C23-861E-DDCCEF00D729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1219320" y="2514600"/>
            <a:ext cx="739116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etting the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Programme Developm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Bureau Programm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echnical Framework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ome additional points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5257800" y="7398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Overview 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56840" y="2133360"/>
            <a:ext cx="82407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Bureau Vice Chairs:</a:t>
            </a:r>
            <a:r>
              <a:rPr b="1" lang="en-US" sz="2000" spc="-1" strike="noStrike">
                <a:solidFill>
                  <a:srgbClr val="ff0000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1f497d"/>
                </a:solidFill>
                <a:latin typeface="Palatino"/>
              </a:rPr>
              <a:t>Mike Doran &amp; Tim McGra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Domain Coordinator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Supply Chain Managemen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</a:t>
            </a:r>
            <a:r>
              <a:rPr b="0" lang="en-US" sz="1800" spc="-1" strike="noStrike">
                <a:solidFill>
                  <a:srgbClr val="1f497d"/>
                </a:solidFill>
                <a:latin typeface="Palatino"/>
              </a:rPr>
              <a:t>Karina Duvinger &amp; Edmund Gr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Procuremen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</a:t>
            </a:r>
            <a:r>
              <a:rPr b="0" lang="en-US" sz="1800" spc="-1" strike="noStrike">
                <a:solidFill>
                  <a:srgbClr val="1f497d"/>
                </a:solidFill>
                <a:latin typeface="Palatino"/>
              </a:rPr>
              <a:t>Bernard Longh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Finance &amp; Payments</a:t>
            </a:r>
            <a:r>
              <a:rPr b="1" lang="en-US" sz="2000" spc="-1" strike="noStrike">
                <a:solidFill>
                  <a:srgbClr val="0000ff"/>
                </a:solidFill>
                <a:latin typeface="Palatino"/>
              </a:rPr>
              <a:t>: </a:t>
            </a:r>
            <a:r>
              <a:rPr b="0" lang="en-US" sz="1800" spc="-1" strike="noStrike">
                <a:solidFill>
                  <a:srgbClr val="1f497d"/>
                </a:solidFill>
                <a:latin typeface="Palatino"/>
              </a:rPr>
              <a:t>Liliana Fratini Pas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Governmen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</a:t>
            </a:r>
            <a:r>
              <a:rPr b="0" lang="en-US" sz="1800" spc="-1" strike="noStrike">
                <a:solidFill>
                  <a:srgbClr val="1f497d"/>
                </a:solidFill>
                <a:latin typeface="Palatino"/>
              </a:rPr>
              <a:t>Ray Pisan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Accounting &amp; Audi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</a:t>
            </a:r>
            <a:r>
              <a:rPr b="0" lang="en-US" sz="1800" spc="-1" strike="noStrike">
                <a:solidFill>
                  <a:srgbClr val="1f497d"/>
                </a:solidFill>
                <a:latin typeface="Palatino"/>
              </a:rPr>
              <a:t>Benoit Marchal &amp; Eric Coh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"/>
          <p:cNvSpPr/>
          <p:nvPr/>
        </p:nvSpPr>
        <p:spPr>
          <a:xfrm>
            <a:off x="4038480" y="9079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CURRENT PDA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48320" y="620640"/>
            <a:ext cx="44956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Palatino"/>
              </a:rPr>
              <a:t>Supply Chain PDA Sc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3" name="AutoShape 4"/>
          <p:cNvGrpSpPr/>
          <p:nvPr/>
        </p:nvGrpSpPr>
        <p:grpSpPr>
          <a:xfrm>
            <a:off x="609480" y="1974960"/>
            <a:ext cx="1865520" cy="1311120"/>
            <a:chOff x="609480" y="1974960"/>
            <a:chExt cx="1865520" cy="1311120"/>
          </a:xfrm>
        </p:grpSpPr>
        <p:pic>
          <p:nvPicPr>
            <p:cNvPr id="404" name="AutoShape 4" descr=""/>
            <p:cNvPicPr/>
            <p:nvPr/>
          </p:nvPicPr>
          <p:blipFill>
            <a:blip r:embed="rId1"/>
            <a:stretch/>
          </p:blipFill>
          <p:spPr>
            <a:xfrm>
              <a:off x="609480" y="1974960"/>
              <a:ext cx="186552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 rot="10800000">
              <a:off x="1181160" y="2057040"/>
              <a:ext cx="838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NOTIF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AutoShape 5"/>
          <p:cNvGrpSpPr/>
          <p:nvPr/>
        </p:nvGrpSpPr>
        <p:grpSpPr>
          <a:xfrm>
            <a:off x="2535120" y="1981080"/>
            <a:ext cx="1847880" cy="1298520"/>
            <a:chOff x="2535120" y="1981080"/>
            <a:chExt cx="1847880" cy="1298520"/>
          </a:xfrm>
        </p:grpSpPr>
        <p:pic>
          <p:nvPicPr>
            <p:cNvPr id="407" name="AutoShape 5" descr=""/>
            <p:cNvPicPr/>
            <p:nvPr/>
          </p:nvPicPr>
          <p:blipFill>
            <a:blip r:embed="rId2"/>
            <a:stretch/>
          </p:blipFill>
          <p:spPr>
            <a:xfrm>
              <a:off x="2535120" y="1981080"/>
              <a:ext cx="184788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3086280" y="2057400"/>
              <a:ext cx="838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SOURC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AutoShape 6"/>
          <p:cNvGrpSpPr/>
          <p:nvPr/>
        </p:nvGrpSpPr>
        <p:grpSpPr>
          <a:xfrm>
            <a:off x="4363920" y="1981080"/>
            <a:ext cx="1847880" cy="1298520"/>
            <a:chOff x="4363920" y="1981080"/>
            <a:chExt cx="1847880" cy="1298520"/>
          </a:xfrm>
        </p:grpSpPr>
        <p:pic>
          <p:nvPicPr>
            <p:cNvPr id="410" name="AutoShape 6" descr=""/>
            <p:cNvPicPr/>
            <p:nvPr/>
          </p:nvPicPr>
          <p:blipFill>
            <a:blip r:embed="rId3"/>
            <a:stretch/>
          </p:blipFill>
          <p:spPr>
            <a:xfrm>
              <a:off x="4363920" y="1981080"/>
              <a:ext cx="184788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4915080" y="2057400"/>
              <a:ext cx="838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TENDE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Text Box 9"/>
          <p:cNvSpPr/>
          <p:nvPr/>
        </p:nvSpPr>
        <p:spPr>
          <a:xfrm>
            <a:off x="1828800" y="5986440"/>
            <a:ext cx="6095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0"/>
          <p:cNvSpPr/>
          <p:nvPr/>
        </p:nvSpPr>
        <p:spPr>
          <a:xfrm>
            <a:off x="3809880" y="43434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AutoShape 11"/>
          <p:cNvGrpSpPr/>
          <p:nvPr/>
        </p:nvGrpSpPr>
        <p:grpSpPr>
          <a:xfrm>
            <a:off x="695160" y="3651120"/>
            <a:ext cx="1779840" cy="1311480"/>
            <a:chOff x="695160" y="3651120"/>
            <a:chExt cx="1779840" cy="1311480"/>
          </a:xfrm>
        </p:grpSpPr>
        <p:pic>
          <p:nvPicPr>
            <p:cNvPr id="415" name="AutoShape 11" descr=""/>
            <p:cNvPicPr/>
            <p:nvPr/>
          </p:nvPicPr>
          <p:blipFill>
            <a:blip r:embed="rId4"/>
            <a:stretch/>
          </p:blipFill>
          <p:spPr>
            <a:xfrm>
              <a:off x="695160" y="3651120"/>
              <a:ext cx="177984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 rot="10800000">
              <a:off x="1195560" y="3733560"/>
              <a:ext cx="885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DELIVE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AutoShape 12"/>
          <p:cNvSpPr/>
          <p:nvPr/>
        </p:nvSpPr>
        <p:spPr>
          <a:xfrm>
            <a:off x="6400800" y="3124080"/>
            <a:ext cx="976320" cy="486000"/>
          </a:xfrm>
          <a:custGeom>
            <a:avLst/>
            <a:gdLst>
              <a:gd name="textAreaLeft" fmla="*/ 0 w 976320"/>
              <a:gd name="textAreaRight" fmla="*/ 976680 w 976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AutoShape 13"/>
          <p:cNvGrpSpPr/>
          <p:nvPr/>
        </p:nvGrpSpPr>
        <p:grpSpPr>
          <a:xfrm>
            <a:off x="6168960" y="1974960"/>
            <a:ext cx="2176560" cy="1311120"/>
            <a:chOff x="6168960" y="1974960"/>
            <a:chExt cx="2176560" cy="1311120"/>
          </a:xfrm>
        </p:grpSpPr>
        <p:pic>
          <p:nvPicPr>
            <p:cNvPr id="419" name="AutoShape 13" descr=""/>
            <p:cNvPicPr/>
            <p:nvPr/>
          </p:nvPicPr>
          <p:blipFill>
            <a:blip r:embed="rId5"/>
            <a:stretch/>
          </p:blipFill>
          <p:spPr>
            <a:xfrm>
              <a:off x="6168960" y="1974960"/>
              <a:ext cx="217656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 rot="10800000">
              <a:off x="6794640" y="2057040"/>
              <a:ext cx="1041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CONTR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ORDER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AutoShape 14"/>
          <p:cNvSpPr/>
          <p:nvPr/>
        </p:nvSpPr>
        <p:spPr>
          <a:xfrm>
            <a:off x="2971800" y="4267080"/>
            <a:ext cx="976320" cy="486000"/>
          </a:xfrm>
          <a:custGeom>
            <a:avLst/>
            <a:gdLst>
              <a:gd name="textAreaLeft" fmla="*/ 0 w 976320"/>
              <a:gd name="textAreaRight" fmla="*/ 976680 w 976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AutoShape 15"/>
          <p:cNvGrpSpPr/>
          <p:nvPr/>
        </p:nvGrpSpPr>
        <p:grpSpPr>
          <a:xfrm>
            <a:off x="2597040" y="3651120"/>
            <a:ext cx="1706760" cy="1311480"/>
            <a:chOff x="2597040" y="3651120"/>
            <a:chExt cx="1706760" cy="1311480"/>
          </a:xfrm>
        </p:grpSpPr>
        <p:pic>
          <p:nvPicPr>
            <p:cNvPr id="423" name="AutoShape 15" descr=""/>
            <p:cNvPicPr/>
            <p:nvPr/>
          </p:nvPicPr>
          <p:blipFill>
            <a:blip r:embed="rId6"/>
            <a:stretch/>
          </p:blipFill>
          <p:spPr>
            <a:xfrm>
              <a:off x="2597040" y="3651120"/>
              <a:ext cx="170676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rot="10800000">
              <a:off x="3099960" y="3733560"/>
              <a:ext cx="809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BIL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AutoShape 16"/>
          <p:cNvSpPr/>
          <p:nvPr/>
        </p:nvSpPr>
        <p:spPr>
          <a:xfrm>
            <a:off x="5257800" y="441972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AutoShape 17"/>
          <p:cNvGrpSpPr/>
          <p:nvPr/>
        </p:nvGrpSpPr>
        <p:grpSpPr>
          <a:xfrm>
            <a:off x="4425840" y="3651120"/>
            <a:ext cx="1706760" cy="1311480"/>
            <a:chOff x="4425840" y="3651120"/>
            <a:chExt cx="1706760" cy="1311480"/>
          </a:xfrm>
        </p:grpSpPr>
        <p:pic>
          <p:nvPicPr>
            <p:cNvPr id="427" name="AutoShape 17" descr=""/>
            <p:cNvPicPr/>
            <p:nvPr/>
          </p:nvPicPr>
          <p:blipFill>
            <a:blip r:embed="rId7"/>
            <a:stretch/>
          </p:blipFill>
          <p:spPr>
            <a:xfrm>
              <a:off x="4425840" y="3651120"/>
              <a:ext cx="170676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 rot="10800000">
              <a:off x="4952520" y="3733560"/>
              <a:ext cx="762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PAY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AutoShape 18"/>
          <p:cNvSpPr/>
          <p:nvPr/>
        </p:nvSpPr>
        <p:spPr>
          <a:xfrm>
            <a:off x="7162920" y="464832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AutoShape 19"/>
          <p:cNvGrpSpPr/>
          <p:nvPr/>
        </p:nvGrpSpPr>
        <p:grpSpPr>
          <a:xfrm>
            <a:off x="6248520" y="3651120"/>
            <a:ext cx="1865160" cy="1311480"/>
            <a:chOff x="6248520" y="3651120"/>
            <a:chExt cx="1865160" cy="1311480"/>
          </a:xfrm>
        </p:grpSpPr>
        <p:pic>
          <p:nvPicPr>
            <p:cNvPr id="431" name="AutoShape 19" descr=""/>
            <p:cNvPicPr/>
            <p:nvPr/>
          </p:nvPicPr>
          <p:blipFill>
            <a:blip r:embed="rId8"/>
            <a:stretch/>
          </p:blipFill>
          <p:spPr>
            <a:xfrm>
              <a:off x="6248520" y="3651120"/>
              <a:ext cx="186516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 rot="10800000">
              <a:off x="6819480" y="3733560"/>
              <a:ext cx="8384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RETUR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AutoShape 21"/>
          <p:cNvGrpSpPr/>
          <p:nvPr/>
        </p:nvGrpSpPr>
        <p:grpSpPr>
          <a:xfrm>
            <a:off x="695160" y="5022720"/>
            <a:ext cx="1706760" cy="1238400"/>
            <a:chOff x="695160" y="5022720"/>
            <a:chExt cx="1706760" cy="1238400"/>
          </a:xfrm>
        </p:grpSpPr>
        <p:pic>
          <p:nvPicPr>
            <p:cNvPr id="434" name="AutoShape 21" descr=""/>
            <p:cNvPicPr/>
            <p:nvPr/>
          </p:nvPicPr>
          <p:blipFill>
            <a:blip r:embed="rId9"/>
            <a:stretch/>
          </p:blipFill>
          <p:spPr>
            <a:xfrm>
              <a:off x="695160" y="5022720"/>
              <a:ext cx="170676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 rot="10800000">
              <a:off x="1193760" y="5105160"/>
              <a:ext cx="8128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REPOR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Notched Right Arrow 2"/>
          <p:cNvGrpSpPr/>
          <p:nvPr/>
        </p:nvGrpSpPr>
        <p:grpSpPr>
          <a:xfrm>
            <a:off x="2395440" y="2438280"/>
            <a:ext cx="463680" cy="311400"/>
            <a:chOff x="2395440" y="2438280"/>
            <a:chExt cx="463680" cy="311400"/>
          </a:xfrm>
        </p:grpSpPr>
        <p:pic>
          <p:nvPicPr>
            <p:cNvPr id="437" name="Notched Right Arrow 2" descr=""/>
            <p:cNvPicPr/>
            <p:nvPr/>
          </p:nvPicPr>
          <p:blipFill>
            <a:blip r:embed="rId10"/>
            <a:stretch/>
          </p:blipFill>
          <p:spPr>
            <a:xfrm>
              <a:off x="2395440" y="2438280"/>
              <a:ext cx="4636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2552760" y="2552760"/>
              <a:ext cx="228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Notched Right Arrow 24"/>
          <p:cNvGrpSpPr/>
          <p:nvPr/>
        </p:nvGrpSpPr>
        <p:grpSpPr>
          <a:xfrm>
            <a:off x="4297320" y="2438280"/>
            <a:ext cx="463680" cy="311400"/>
            <a:chOff x="4297320" y="2438280"/>
            <a:chExt cx="463680" cy="311400"/>
          </a:xfrm>
        </p:grpSpPr>
        <p:pic>
          <p:nvPicPr>
            <p:cNvPr id="440" name="Notched Right Arrow 24" descr=""/>
            <p:cNvPicPr/>
            <p:nvPr/>
          </p:nvPicPr>
          <p:blipFill>
            <a:blip r:embed="rId11"/>
            <a:stretch/>
          </p:blipFill>
          <p:spPr>
            <a:xfrm>
              <a:off x="4297320" y="2438280"/>
              <a:ext cx="4636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4457880" y="2552760"/>
              <a:ext cx="228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Notched Right Arrow 25"/>
          <p:cNvGrpSpPr/>
          <p:nvPr/>
        </p:nvGrpSpPr>
        <p:grpSpPr>
          <a:xfrm>
            <a:off x="6205680" y="2438280"/>
            <a:ext cx="463320" cy="311400"/>
            <a:chOff x="6205680" y="2438280"/>
            <a:chExt cx="463320" cy="311400"/>
          </a:xfrm>
        </p:grpSpPr>
        <p:pic>
          <p:nvPicPr>
            <p:cNvPr id="443" name="Notched Right Arrow 25" descr=""/>
            <p:cNvPicPr/>
            <p:nvPr/>
          </p:nvPicPr>
          <p:blipFill>
            <a:blip r:embed="rId12"/>
            <a:stretch/>
          </p:blipFill>
          <p:spPr>
            <a:xfrm>
              <a:off x="6205680" y="2438280"/>
              <a:ext cx="46332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6362640" y="2552760"/>
              <a:ext cx="228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Notched Right Arrow 26"/>
          <p:cNvGrpSpPr/>
          <p:nvPr/>
        </p:nvGrpSpPr>
        <p:grpSpPr>
          <a:xfrm>
            <a:off x="2395440" y="4114800"/>
            <a:ext cx="463680" cy="311040"/>
            <a:chOff x="2395440" y="4114800"/>
            <a:chExt cx="463680" cy="311040"/>
          </a:xfrm>
        </p:grpSpPr>
        <p:pic>
          <p:nvPicPr>
            <p:cNvPr id="446" name="Notched Right Arrow 26" descr=""/>
            <p:cNvPicPr/>
            <p:nvPr/>
          </p:nvPicPr>
          <p:blipFill>
            <a:blip r:embed="rId13"/>
            <a:stretch/>
          </p:blipFill>
          <p:spPr>
            <a:xfrm>
              <a:off x="2395440" y="4114800"/>
              <a:ext cx="46368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2552760" y="4229280"/>
              <a:ext cx="22860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Notched Right Arrow 27"/>
          <p:cNvGrpSpPr/>
          <p:nvPr/>
        </p:nvGrpSpPr>
        <p:grpSpPr>
          <a:xfrm>
            <a:off x="4297320" y="4114800"/>
            <a:ext cx="463680" cy="311040"/>
            <a:chOff x="4297320" y="4114800"/>
            <a:chExt cx="463680" cy="311040"/>
          </a:xfrm>
        </p:grpSpPr>
        <p:pic>
          <p:nvPicPr>
            <p:cNvPr id="449" name="Notched Right Arrow 27" descr=""/>
            <p:cNvPicPr/>
            <p:nvPr/>
          </p:nvPicPr>
          <p:blipFill>
            <a:blip r:embed="rId14"/>
            <a:stretch/>
          </p:blipFill>
          <p:spPr>
            <a:xfrm>
              <a:off x="4297320" y="4114800"/>
              <a:ext cx="46368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4457880" y="4229280"/>
              <a:ext cx="22860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Notched Right Arrow 28"/>
          <p:cNvGrpSpPr/>
          <p:nvPr/>
        </p:nvGrpSpPr>
        <p:grpSpPr>
          <a:xfrm>
            <a:off x="6126120" y="4114800"/>
            <a:ext cx="463680" cy="311040"/>
            <a:chOff x="6126120" y="4114800"/>
            <a:chExt cx="463680" cy="311040"/>
          </a:xfrm>
        </p:grpSpPr>
        <p:pic>
          <p:nvPicPr>
            <p:cNvPr id="452" name="Notched Right Arrow 28" descr=""/>
            <p:cNvPicPr/>
            <p:nvPr/>
          </p:nvPicPr>
          <p:blipFill>
            <a:blip r:embed="rId15"/>
            <a:stretch/>
          </p:blipFill>
          <p:spPr>
            <a:xfrm>
              <a:off x="6126120" y="4114800"/>
              <a:ext cx="46368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6286680" y="4229280"/>
              <a:ext cx="22860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Notched Right Arrow 29"/>
          <p:cNvGrpSpPr/>
          <p:nvPr/>
        </p:nvGrpSpPr>
        <p:grpSpPr>
          <a:xfrm>
            <a:off x="566640" y="4114800"/>
            <a:ext cx="463680" cy="311040"/>
            <a:chOff x="566640" y="4114800"/>
            <a:chExt cx="463680" cy="311040"/>
          </a:xfrm>
        </p:grpSpPr>
        <p:pic>
          <p:nvPicPr>
            <p:cNvPr id="455" name="Notched Right Arrow 29" descr=""/>
            <p:cNvPicPr/>
            <p:nvPr/>
          </p:nvPicPr>
          <p:blipFill>
            <a:blip r:embed="rId16"/>
            <a:stretch/>
          </p:blipFill>
          <p:spPr>
            <a:xfrm>
              <a:off x="566640" y="4114800"/>
              <a:ext cx="46368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723960" y="4229280"/>
              <a:ext cx="22860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Notched Right Arrow 30"/>
          <p:cNvGrpSpPr/>
          <p:nvPr/>
        </p:nvGrpSpPr>
        <p:grpSpPr>
          <a:xfrm>
            <a:off x="487440" y="5407200"/>
            <a:ext cx="463320" cy="311040"/>
            <a:chOff x="487440" y="5407200"/>
            <a:chExt cx="463320" cy="311040"/>
          </a:xfrm>
        </p:grpSpPr>
        <p:pic>
          <p:nvPicPr>
            <p:cNvPr id="458" name="Notched Right Arrow 30" descr=""/>
            <p:cNvPicPr/>
            <p:nvPr/>
          </p:nvPicPr>
          <p:blipFill>
            <a:blip r:embed="rId17"/>
            <a:stretch/>
          </p:blipFill>
          <p:spPr>
            <a:xfrm>
              <a:off x="487440" y="5407200"/>
              <a:ext cx="46332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647640" y="5524560"/>
              <a:ext cx="228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Notched Right Arrow 31"/>
          <p:cNvGrpSpPr/>
          <p:nvPr/>
        </p:nvGrpSpPr>
        <p:grpSpPr>
          <a:xfrm>
            <a:off x="8259840" y="2438280"/>
            <a:ext cx="463320" cy="311400"/>
            <a:chOff x="8259840" y="2438280"/>
            <a:chExt cx="463320" cy="311400"/>
          </a:xfrm>
        </p:grpSpPr>
        <p:pic>
          <p:nvPicPr>
            <p:cNvPr id="461" name="Notched Right Arrow 31" descr=""/>
            <p:cNvPicPr/>
            <p:nvPr/>
          </p:nvPicPr>
          <p:blipFill>
            <a:blip r:embed="rId18"/>
            <a:stretch/>
          </p:blipFill>
          <p:spPr>
            <a:xfrm>
              <a:off x="8259840" y="2438280"/>
              <a:ext cx="46332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8420040" y="2552760"/>
              <a:ext cx="228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Notched Right Arrow 33"/>
          <p:cNvGrpSpPr/>
          <p:nvPr/>
        </p:nvGrpSpPr>
        <p:grpSpPr>
          <a:xfrm>
            <a:off x="8034480" y="4114800"/>
            <a:ext cx="463320" cy="311040"/>
            <a:chOff x="8034480" y="4114800"/>
            <a:chExt cx="463320" cy="311040"/>
          </a:xfrm>
        </p:grpSpPr>
        <p:pic>
          <p:nvPicPr>
            <p:cNvPr id="464" name="Notched Right Arrow 33" descr=""/>
            <p:cNvPicPr/>
            <p:nvPr/>
          </p:nvPicPr>
          <p:blipFill>
            <a:blip r:embed="rId19"/>
            <a:stretch/>
          </p:blipFill>
          <p:spPr>
            <a:xfrm>
              <a:off x="8034480" y="4114800"/>
              <a:ext cx="46332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8191440" y="4229280"/>
              <a:ext cx="22860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1676520"/>
            <a:ext cx="8064360" cy="5760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PROJECTS &amp; PROJECT LEA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602080" y="2286000"/>
            <a:ext cx="64656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Legal Notification Publication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Didier Har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Catalogue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: Karina Duving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eTendering ebXML Standards Projec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Kevin Smith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Quotation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Gilles Brand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"/>
          <p:cNvSpPr/>
          <p:nvPr/>
        </p:nvSpPr>
        <p:spPr>
          <a:xfrm>
            <a:off x="5181480" y="907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AutoShape 4"/>
          <p:cNvGrpSpPr/>
          <p:nvPr/>
        </p:nvGrpSpPr>
        <p:grpSpPr>
          <a:xfrm>
            <a:off x="457200" y="2279520"/>
            <a:ext cx="1865160" cy="1311480"/>
            <a:chOff x="457200" y="2279520"/>
            <a:chExt cx="1865160" cy="1311480"/>
          </a:xfrm>
        </p:grpSpPr>
        <p:pic>
          <p:nvPicPr>
            <p:cNvPr id="474" name="AutoShape 4" descr=""/>
            <p:cNvPicPr/>
            <p:nvPr/>
          </p:nvPicPr>
          <p:blipFill>
            <a:blip r:embed="rId1"/>
            <a:stretch/>
          </p:blipFill>
          <p:spPr>
            <a:xfrm>
              <a:off x="457200" y="2279520"/>
              <a:ext cx="186516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 rot="10800000">
              <a:off x="1028880" y="2361960"/>
              <a:ext cx="838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NOTIF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AutoShape 5"/>
          <p:cNvGrpSpPr/>
          <p:nvPr/>
        </p:nvGrpSpPr>
        <p:grpSpPr>
          <a:xfrm>
            <a:off x="476280" y="3578400"/>
            <a:ext cx="1846080" cy="1304640"/>
            <a:chOff x="476280" y="3578400"/>
            <a:chExt cx="1846080" cy="1304640"/>
          </a:xfrm>
        </p:grpSpPr>
        <p:pic>
          <p:nvPicPr>
            <p:cNvPr id="477" name="AutoShape 5" descr=""/>
            <p:cNvPicPr/>
            <p:nvPr/>
          </p:nvPicPr>
          <p:blipFill>
            <a:blip r:embed="rId2"/>
            <a:stretch/>
          </p:blipFill>
          <p:spPr>
            <a:xfrm>
              <a:off x="476280" y="3578400"/>
              <a:ext cx="184608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1028880" y="3657600"/>
              <a:ext cx="838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SOURC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AutoShape 6"/>
          <p:cNvGrpSpPr/>
          <p:nvPr/>
        </p:nvGrpSpPr>
        <p:grpSpPr>
          <a:xfrm>
            <a:off x="476280" y="5102280"/>
            <a:ext cx="1846080" cy="1305000"/>
            <a:chOff x="476280" y="5102280"/>
            <a:chExt cx="1846080" cy="1305000"/>
          </a:xfrm>
        </p:grpSpPr>
        <p:pic>
          <p:nvPicPr>
            <p:cNvPr id="480" name="AutoShape 6" descr=""/>
            <p:cNvPicPr/>
            <p:nvPr/>
          </p:nvPicPr>
          <p:blipFill>
            <a:blip r:embed="rId3"/>
            <a:stretch/>
          </p:blipFill>
          <p:spPr>
            <a:xfrm>
              <a:off x="476280" y="5102280"/>
              <a:ext cx="184608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1028880" y="5181480"/>
              <a:ext cx="838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TENDE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PROJECTS &amp; PROJECT LEA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590920" y="2209320"/>
            <a:ext cx="6324480" cy="39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Ordering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Martin Forsbe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Project Schedule &amp; Cost Performance Management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Chris Hassl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Scheduling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Samy Scema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Delivery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Edmund Gra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Invoice: v2.0 + 2.1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Edmund Gra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ontract Financial Execution Management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: Michel Entat</a:t>
            </a:r>
            <a:r>
              <a:rPr b="0" lang="en-US" sz="14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1"/>
          <p:cNvSpPr/>
          <p:nvPr/>
        </p:nvSpPr>
        <p:spPr>
          <a:xfrm>
            <a:off x="5410080" y="907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AutoShape 11"/>
          <p:cNvGrpSpPr/>
          <p:nvPr/>
        </p:nvGrpSpPr>
        <p:grpSpPr>
          <a:xfrm>
            <a:off x="225360" y="3571920"/>
            <a:ext cx="2176560" cy="1317600"/>
            <a:chOff x="225360" y="3571920"/>
            <a:chExt cx="2176560" cy="1317600"/>
          </a:xfrm>
        </p:grpSpPr>
        <p:pic>
          <p:nvPicPr>
            <p:cNvPr id="490" name="AutoShape 11" descr=""/>
            <p:cNvPicPr/>
            <p:nvPr/>
          </p:nvPicPr>
          <p:blipFill>
            <a:blip r:embed="rId1"/>
            <a:stretch/>
          </p:blipFill>
          <p:spPr>
            <a:xfrm>
              <a:off x="225360" y="3571920"/>
              <a:ext cx="217656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 rot="10800000">
              <a:off x="738360" y="3657240"/>
              <a:ext cx="1266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DELIVE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AutoShape 13"/>
          <p:cNvGrpSpPr/>
          <p:nvPr/>
        </p:nvGrpSpPr>
        <p:grpSpPr>
          <a:xfrm>
            <a:off x="146160" y="2200320"/>
            <a:ext cx="2176200" cy="1317600"/>
            <a:chOff x="146160" y="2200320"/>
            <a:chExt cx="2176200" cy="1317600"/>
          </a:xfrm>
        </p:grpSpPr>
        <p:pic>
          <p:nvPicPr>
            <p:cNvPr id="493" name="AutoShape 13" descr=""/>
            <p:cNvPicPr/>
            <p:nvPr/>
          </p:nvPicPr>
          <p:blipFill>
            <a:blip r:embed="rId2"/>
            <a:stretch/>
          </p:blipFill>
          <p:spPr>
            <a:xfrm>
              <a:off x="146160" y="2200320"/>
              <a:ext cx="217620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 rot="10800000">
              <a:off x="774360" y="2285640"/>
              <a:ext cx="1041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CONTR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ORDER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AutoShape 15"/>
          <p:cNvGrpSpPr/>
          <p:nvPr/>
        </p:nvGrpSpPr>
        <p:grpSpPr>
          <a:xfrm>
            <a:off x="231840" y="5175360"/>
            <a:ext cx="2090520" cy="1311120"/>
            <a:chOff x="231840" y="5175360"/>
            <a:chExt cx="2090520" cy="1311120"/>
          </a:xfrm>
        </p:grpSpPr>
        <p:pic>
          <p:nvPicPr>
            <p:cNvPr id="496" name="AutoShape 15" descr=""/>
            <p:cNvPicPr/>
            <p:nvPr/>
          </p:nvPicPr>
          <p:blipFill>
            <a:blip r:embed="rId3"/>
            <a:stretch/>
          </p:blipFill>
          <p:spPr>
            <a:xfrm>
              <a:off x="231840" y="5175360"/>
              <a:ext cx="209052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 rot="10800000">
              <a:off x="738000" y="5257440"/>
              <a:ext cx="1190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BIL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PROJECTS &amp; PROJECT LEA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819160" y="2133720"/>
            <a:ext cx="647676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Remittance Advice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Mounir El-Kou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ontract Financial Execution Managemen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Michel Entat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Market Research Information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Helge Simons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1"/>
          <p:cNvSpPr/>
          <p:nvPr/>
        </p:nvSpPr>
        <p:spPr>
          <a:xfrm>
            <a:off x="5334120" y="907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AutoShape 17"/>
          <p:cNvGrpSpPr/>
          <p:nvPr/>
        </p:nvGrpSpPr>
        <p:grpSpPr>
          <a:xfrm>
            <a:off x="695160" y="2505240"/>
            <a:ext cx="1779840" cy="1317600"/>
            <a:chOff x="695160" y="2505240"/>
            <a:chExt cx="1779840" cy="1317600"/>
          </a:xfrm>
        </p:grpSpPr>
        <p:pic>
          <p:nvPicPr>
            <p:cNvPr id="506" name="AutoShape 17" descr=""/>
            <p:cNvPicPr/>
            <p:nvPr/>
          </p:nvPicPr>
          <p:blipFill>
            <a:blip r:embed="rId1"/>
            <a:stretch/>
          </p:blipFill>
          <p:spPr>
            <a:xfrm>
              <a:off x="695160" y="2505240"/>
              <a:ext cx="177984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 rot="10800000">
              <a:off x="1219320" y="2590560"/>
              <a:ext cx="838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PAY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AutoShape 19"/>
          <p:cNvGrpSpPr/>
          <p:nvPr/>
        </p:nvGrpSpPr>
        <p:grpSpPr>
          <a:xfrm>
            <a:off x="695160" y="3803760"/>
            <a:ext cx="1779840" cy="1238040"/>
            <a:chOff x="695160" y="3803760"/>
            <a:chExt cx="1779840" cy="1238040"/>
          </a:xfrm>
        </p:grpSpPr>
        <p:pic>
          <p:nvPicPr>
            <p:cNvPr id="509" name="AutoShape 19" descr=""/>
            <p:cNvPicPr/>
            <p:nvPr/>
          </p:nvPicPr>
          <p:blipFill>
            <a:blip r:embed="rId2"/>
            <a:stretch/>
          </p:blipFill>
          <p:spPr>
            <a:xfrm>
              <a:off x="695160" y="3803760"/>
              <a:ext cx="1779840" cy="123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 rot="10800000">
              <a:off x="1228680" y="3885840"/>
              <a:ext cx="81936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RETUR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AutoShape 21"/>
          <p:cNvGrpSpPr/>
          <p:nvPr/>
        </p:nvGrpSpPr>
        <p:grpSpPr>
          <a:xfrm>
            <a:off x="695160" y="5022720"/>
            <a:ext cx="1779840" cy="1238400"/>
            <a:chOff x="695160" y="5022720"/>
            <a:chExt cx="1779840" cy="1238400"/>
          </a:xfrm>
        </p:grpSpPr>
        <p:pic>
          <p:nvPicPr>
            <p:cNvPr id="512" name="AutoShape 21" descr=""/>
            <p:cNvPicPr/>
            <p:nvPr/>
          </p:nvPicPr>
          <p:blipFill>
            <a:blip r:embed="rId3"/>
            <a:stretch/>
          </p:blipFill>
          <p:spPr>
            <a:xfrm>
              <a:off x="695160" y="5022720"/>
              <a:ext cx="177984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 rot="10800000">
              <a:off x="1193760" y="5105160"/>
              <a:ext cx="889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  <a:ea typeface="Arial Rounded MT Bold"/>
                </a:rPr>
                <a:t>REPOR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ROJECTS &amp; PROJECT LEA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Cross Dom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Supply Chain Process Common Requirements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ue Prob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Migration Cross Industry Invoice to Core Component Technical Specification 3.0 (CCTS) &amp; Naming &amp; Design Rules 3.0 (NDR)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Karina Duvinger (Coordina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Recommendation 37 on Signed Digital Document Interoperability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François Devor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48640" indent="-164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Palatino"/>
              </a:rPr>
              <a:t>Documents: ECE/TRADE/C/CEFACT/2010/14/Rev.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548640" indent="-164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Palatino"/>
              </a:rPr>
              <a:t>ECE/TRADE/C/CEFACT/2012/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548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"/>
          <p:cNvSpPr/>
          <p:nvPr/>
        </p:nvSpPr>
        <p:spPr>
          <a:xfrm>
            <a:off x="5181480" y="907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000" y="1599840"/>
            <a:ext cx="8064360" cy="67644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MONDAY 16 APR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14:00 – 15:30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lanning for the week – Room E.30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16:00 – 17:00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esentation, in Room XXIV, to the Supply Chain and Trade &amp; Transport Facilitation PDAs, on the Supply Chain Council’s SCOR Model &amp; its possible relevance to the Buy-Ship-Pay model by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Enrico Camerinelli, former Executive Director of the Supply Chain Counci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Enrico will also discuss the relationships between the physical and financial value cha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"/>
          <p:cNvSpPr/>
          <p:nvPr/>
        </p:nvSpPr>
        <p:spPr>
          <a:xfrm>
            <a:off x="4724280" y="91440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 Agenda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68000" y="1599840"/>
            <a:ext cx="8064360" cy="67644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TUESDAY 17 APR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09:00-12:30  Supply Chain PDA Projects – Room E.30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llow up on SCOR pres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upply Chain PDA Scope discu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reparation for joint meeting with Trade &amp; Transport Facilitation &amp; ITC on Trade Finance &amp; Cross Border Pay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12:30 – 13:00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unch &amp; Learn given by Angela Strachan, Business Environment, International Trade Centre, (ITC), Geneva, on ITCs work in Agriculture, Trade Facilitation &amp; Trade Finance – Room XX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"/>
          <p:cNvSpPr/>
          <p:nvPr/>
        </p:nvSpPr>
        <p:spPr>
          <a:xfrm>
            <a:off x="4724280" y="907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 Agenda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000" y="1599840"/>
            <a:ext cx="8064360" cy="67644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TUESDAY 17 APR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14:00 – 15:30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Joint meeting in Room XXIV, of the Supply Chain, Regulatory and Trade &amp; Transport Facilitation PDAs, and ITC, on Trade Finance &amp; Cross Border Pay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16:00 - 17:00 Joint meeting with other interested PDAs on Core Component Technical Specification 2.01/3.0 issues – PEPPOL and BII2. Salle XX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"/>
          <p:cNvSpPr/>
          <p:nvPr/>
        </p:nvSpPr>
        <p:spPr>
          <a:xfrm>
            <a:off x="4724280" y="907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 Agenda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000" y="1599840"/>
            <a:ext cx="8064360" cy="67644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Wednesday 18 APR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09:00-12:30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ly Chain PDA Projects – Room E.30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ontinue CCTS 2.01/3.0 discu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Migration to Core Component Library 3 – project updates, (BRS) &amp; validation, p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Cross Industry Invoice (CII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eTend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Contract Execution Financial Management (CEF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eNot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Resources required to complete projects (Roster of Exper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Recommendation 37 – Status re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1"/>
          <p:cNvSpPr/>
          <p:nvPr/>
        </p:nvSpPr>
        <p:spPr>
          <a:xfrm>
            <a:off x="4724280" y="907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 Agenda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33160" y="28951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1f497d"/>
                </a:solidFill>
                <a:latin typeface="Calibri"/>
              </a:rPr>
              <a:t>Simple, Transparent and Effec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1f497d"/>
                </a:solidFill>
                <a:latin typeface="Calibri"/>
              </a:rPr>
              <a:t>Processes for Global Commer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533412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/CEFACT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000" y="1599840"/>
            <a:ext cx="8064360" cy="67644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WEDNESDAY 18 APR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14:00 – 17:00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Joint meeting in Room XXIV, of the Supply Chain and Trade &amp; Transport Facilitation PDAs on sharing information on current projects being undertaken under the Buy-Ship-Pay model and discussing possible future joint projects between the two PD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1"/>
          <p:cNvSpPr/>
          <p:nvPr/>
        </p:nvSpPr>
        <p:spPr>
          <a:xfrm>
            <a:off x="4724280" y="907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 Agenda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8000" y="1599840"/>
            <a:ext cx="8064360" cy="67644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THURSDAY 19 APR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09:00-12:30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ly Chain PDA Projects – Room E.30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14:00-17:00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ly Chain PDA Projects – Room E.30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-    Prepare status report for the Closing Plen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"/>
          <p:cNvSpPr/>
          <p:nvPr/>
        </p:nvSpPr>
        <p:spPr>
          <a:xfrm>
            <a:off x="4724280" y="907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 Agenda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000" y="1599840"/>
            <a:ext cx="8064360" cy="67644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FRIDAY 20 APR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09:00-12:30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ly Chain PDA Projects – Room E.30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14:30-16:30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losing Plenary – Room XX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"/>
          <p:cNvSpPr/>
          <p:nvPr/>
        </p:nvSpPr>
        <p:spPr>
          <a:xfrm>
            <a:off x="4724280" y="907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 Agenda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6 - 20 April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5"/>
          <p:cNvSpPr/>
          <p:nvPr/>
        </p:nvSpPr>
        <p:spPr>
          <a:xfrm>
            <a:off x="1222200" y="2335320"/>
            <a:ext cx="6791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JasmineUPC"/>
                <a:ea typeface="JasmineUPC"/>
              </a:rPr>
              <a:t>PDA Sectoral / Agriculture</a:t>
            </a:r>
            <a:br>
              <a:rPr sz="6600"/>
            </a:br>
            <a:r>
              <a:rPr b="1" lang="de-CH" sz="4000" spc="-1" strike="noStrike">
                <a:solidFill>
                  <a:srgbClr val="1f497d"/>
                </a:solidFill>
                <a:latin typeface="JasmineUPC"/>
                <a:ea typeface="JasmineUPC"/>
              </a:rPr>
              <a:t>Bruno PREPI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4"/>
          <p:cNvSpPr/>
          <p:nvPr/>
        </p:nvSpPr>
        <p:spPr>
          <a:xfrm>
            <a:off x="1835280" y="5732640"/>
            <a:ext cx="5832360" cy="1008720"/>
          </a:xfrm>
          <a:prstGeom prst="rect">
            <a:avLst/>
          </a:prstGeom>
          <a:noFill/>
          <a:ln w="15840">
            <a:solidFill>
              <a:srgbClr val="17375e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1f497d"/>
                </a:solidFill>
                <a:latin typeface="JasmineUPC"/>
                <a:ea typeface="JasmineUPC"/>
              </a:rPr>
              <a:t>19TH UN/CEFACT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000" spc="-1" strike="noStrike">
                <a:solidFill>
                  <a:srgbClr val="1f497d"/>
                </a:solidFill>
                <a:latin typeface="JasmineUPC"/>
                <a:ea typeface="JasmineUPC"/>
              </a:rPr>
              <a:t>16-20 APRIL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000" spc="-1" strike="noStrike">
                <a:solidFill>
                  <a:srgbClr val="1f497d"/>
                </a:solidFill>
                <a:latin typeface="JasmineUPC"/>
                <a:ea typeface="JasmineUPC"/>
              </a:rPr>
              <a:t>PALAIS DES NATIONS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3" descr=""/>
          <p:cNvPicPr/>
          <p:nvPr/>
        </p:nvPicPr>
        <p:blipFill>
          <a:blip r:embed="rId1"/>
          <a:stretch/>
        </p:blipFill>
        <p:spPr>
          <a:xfrm>
            <a:off x="11988720" y="26758800"/>
            <a:ext cx="4802400" cy="32148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C:\Users\fdelahalle\Documents\bandeau uncefact.png"/>
          <p:cNvPicPr/>
          <p:nvPr/>
        </p:nvPicPr>
        <p:blipFill>
          <a:blip r:embed="rId2"/>
          <a:stretch/>
        </p:blipFill>
        <p:spPr>
          <a:xfrm>
            <a:off x="485640" y="189000"/>
            <a:ext cx="826632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511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19</a:t>
            </a:r>
            <a:r>
              <a:rPr b="1" lang="en-US" sz="3600" spc="-1" strike="noStrike" baseline="30000">
                <a:solidFill>
                  <a:srgbClr val="0054a8"/>
                </a:solidFill>
                <a:latin typeface="Times New Roman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 UN/CEFACT FORU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971640" y="3428640"/>
            <a:ext cx="72007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Times New Roman"/>
              </a:rPr>
              <a:t>Sectoral PDA, Domain Insu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Times New Roman"/>
              </a:rPr>
              <a:t>Palais des N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Times New Roman"/>
              </a:rPr>
              <a:t>Geneva, Switzerland – 16 April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511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19</a:t>
            </a:r>
            <a:r>
              <a:rPr b="1" lang="en-US" sz="3600" spc="-1" strike="noStrike" baseline="30000">
                <a:solidFill>
                  <a:srgbClr val="0054a8"/>
                </a:solidFill>
                <a:latin typeface="Times New Roman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 UN/CEFACT FORU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971640" y="3428640"/>
            <a:ext cx="72007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Times New Roman"/>
              </a:rPr>
              <a:t>Sectoral PDA, Domain Travel/Tour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 Coordinator &amp; Project L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kio Suzu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Times New Roman"/>
              </a:rPr>
              <a:t>Palais des N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Times New Roman"/>
              </a:rPr>
              <a:t>Geneva, Switzerland – 16 April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4572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3rd  stage of SLH(Small scaled Lodging Hou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Process Project or Reservation Project is now in the state of following the document formality process , which will take some further time to be draf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ACT TT&amp;L(Travel, Tourism and Leisure) W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rees to work for Destination Information Process Project, taking 3 year time frame for tha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1st  stage of this project will be the trial implementation of SLH Project among AFACT reg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matter is going to be further discussed at the next AFACT meeting coming in this Ma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will probably be some new projects proposed for UN/CEFACT Forum Travel/Tourism Domain in the near fut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0CC6-41BA-4CFA-87AE-5008ACB612B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5"/>
          <p:cNvSpPr/>
          <p:nvPr/>
        </p:nvSpPr>
        <p:spPr>
          <a:xfrm>
            <a:off x="6225480" y="9144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H Project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511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19</a:t>
            </a:r>
            <a:r>
              <a:rPr b="1" lang="en-US" sz="3600" spc="-1" strike="noStrike" baseline="30000">
                <a:solidFill>
                  <a:srgbClr val="0054a8"/>
                </a:solidFill>
                <a:latin typeface="Times New Roman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 UN/CEFACT FORU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971640" y="3428640"/>
            <a:ext cx="72007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Times New Roman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Times New Roman"/>
              </a:rPr>
              <a:t>Methodology &amp; Technology P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Times New Roman"/>
              </a:rPr>
              <a:t>Palais des N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Times New Roman"/>
              </a:rPr>
              <a:t>Geneva, Switzerland – 16 April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23640" y="1757520"/>
            <a:ext cx="867564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Palatino"/>
              </a:rPr>
              <a:t>Review of current Pro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Implementation of CCL 3.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BD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CB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Framework for Signed Digital Data Interoper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Rec. 10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Palatino"/>
              </a:rPr>
              <a:t>Open discussion on new Technical Frame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Review of 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Presentation of o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Open Data Interchange Framework Technical Report (with IS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Palatino"/>
              </a:rPr>
              <a:t>Session on cross border messag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Reliable message exchange between comm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Best Pract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Palatino"/>
              </a:rPr>
              <a:t>Using the collaboration too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Online Forum (lunch &amp; lear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3827520" y="5837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TextBox 1" descr=""/>
          <p:cNvPicPr/>
          <p:nvPr/>
        </p:nvPicPr>
        <p:blipFill>
          <a:blip r:embed="rId1"/>
          <a:stretch/>
        </p:blipFill>
        <p:spPr>
          <a:xfrm>
            <a:off x="5022720" y="665280"/>
            <a:ext cx="3945240" cy="7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Afgeronde rechthoek 7"/>
          <p:cNvSpPr/>
          <p:nvPr/>
        </p:nvSpPr>
        <p:spPr>
          <a:xfrm>
            <a:off x="1879560" y="1752480"/>
            <a:ext cx="2209680" cy="3812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PROGRAMME DEVELOPMENT AR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fgeronde rechthoek 12"/>
          <p:cNvSpPr/>
          <p:nvPr/>
        </p:nvSpPr>
        <p:spPr>
          <a:xfrm>
            <a:off x="4160880" y="1752480"/>
            <a:ext cx="4900680" cy="3812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PROJECT 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fgeronde rechthoek 7"/>
          <p:cNvSpPr/>
          <p:nvPr/>
        </p:nvSpPr>
        <p:spPr>
          <a:xfrm>
            <a:off x="1879560" y="1427040"/>
            <a:ext cx="7182000" cy="30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PROGRAMME OF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fgeronde rechthoek 5"/>
          <p:cNvSpPr/>
          <p:nvPr/>
        </p:nvSpPr>
        <p:spPr>
          <a:xfrm>
            <a:off x="93600" y="2133720"/>
            <a:ext cx="1735200" cy="4535280"/>
          </a:xfrm>
          <a:custGeom>
            <a:avLst/>
            <a:gdLst>
              <a:gd name="textAreaLeft" fmla="*/ 84600 w 1735200"/>
              <a:gd name="textAreaRight" fmla="*/ 1650600 w 1735200"/>
              <a:gd name="textAreaTop" fmla="*/ 84600 h 4535280"/>
              <a:gd name="textAreaBottom" fmla="*/ 4450680 h 4535280"/>
            </a:gdLst>
            <a:ahLst/>
            <a:rect l="textAreaLeft" t="textAreaTop" r="textAreaRight" b="textAreaBottom"/>
            <a:pathLst>
              <a:path w="21600" h="56449">
                <a:moveTo>
                  <a:pt x="3600" y="0"/>
                </a:moveTo>
                <a:arcTo wR="3600" hR="3600" stAng="16200000" swAng="-5400000"/>
                <a:lnTo>
                  <a:pt x="0" y="52849"/>
                </a:lnTo>
                <a:arcTo wR="3600" hR="3600" stAng="10800000" swAng="-5400000"/>
                <a:lnTo>
                  <a:pt x="18000" y="564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ce Ch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ter Amst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im McGr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fgeronde rechthoek 7"/>
          <p:cNvSpPr/>
          <p:nvPr/>
        </p:nvSpPr>
        <p:spPr>
          <a:xfrm>
            <a:off x="1828800" y="2133720"/>
            <a:ext cx="2311560" cy="3598920"/>
          </a:xfrm>
          <a:custGeom>
            <a:avLst/>
            <a:gdLst>
              <a:gd name="textAreaLeft" fmla="*/ 112680 w 2311560"/>
              <a:gd name="textAreaRight" fmla="*/ 2198880 w 2311560"/>
              <a:gd name="textAreaTop" fmla="*/ 112680 h 3598920"/>
              <a:gd name="textAreaBottom" fmla="*/ 3486240 h 3598920"/>
            </a:gdLst>
            <a:ahLst/>
            <a:rect l="textAreaLeft" t="textAreaTop" r="textAreaRight" b="textAreaBottom"/>
            <a:pathLst>
              <a:path w="21600" h="33628">
                <a:moveTo>
                  <a:pt x="3600" y="0"/>
                </a:moveTo>
                <a:arcTo wR="3600" hR="3600" stAng="16200000" swAng="-5400000"/>
                <a:lnTo>
                  <a:pt x="0" y="30028"/>
                </a:lnTo>
                <a:arcTo wR="3600" hR="3600" stAng="10800000" swAng="-5400000"/>
                <a:lnTo>
                  <a:pt x="18000" y="336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fgeronde rechthoek 12"/>
          <p:cNvSpPr/>
          <p:nvPr/>
        </p:nvSpPr>
        <p:spPr>
          <a:xfrm>
            <a:off x="1828800" y="5732640"/>
            <a:ext cx="7315200" cy="10666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Calibri"/>
              </a:rPr>
              <a:t>Domai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</a:rPr>
              <a:t>Business Process Modelling, Methodology, UN/EDIFACT,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254061"/>
                </a:solidFill>
                <a:latin typeface="Calibri"/>
              </a:rPr>
              <a:t>Audit/Validation, </a:t>
            </a:r>
            <a:r>
              <a:rPr b="0" lang="de-CH" sz="1800" spc="-1" strike="noStrike">
                <a:solidFill>
                  <a:srgbClr val="0000e5"/>
                </a:solidFill>
                <a:latin typeface="Calibri"/>
              </a:rPr>
              <a:t>Harmonisation, Library maintenance &amp; production</a:t>
            </a:r>
            <a:r>
              <a:rPr b="0" lang="de-CH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fgeronde rechthoek 12"/>
          <p:cNvSpPr/>
          <p:nvPr/>
        </p:nvSpPr>
        <p:spPr>
          <a:xfrm>
            <a:off x="4140360" y="2133720"/>
            <a:ext cx="5010120" cy="35989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8"/>
          <p:cNvSpPr/>
          <p:nvPr/>
        </p:nvSpPr>
        <p:spPr>
          <a:xfrm>
            <a:off x="4308480" y="3322440"/>
            <a:ext cx="475308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re Component Business Document Assembly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gration to CCTS 3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/CEFACT Context Methodolog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/CEFACT Business Document Head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1023 upda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amework for signed digital data interoperabil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llow on from Security for XML Messages (rec 37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ounded Rectangular Callout 1"/>
          <p:cNvSpPr/>
          <p:nvPr/>
        </p:nvSpPr>
        <p:spPr>
          <a:xfrm>
            <a:off x="108000" y="5229360"/>
            <a:ext cx="2232000" cy="1008000"/>
          </a:xfrm>
          <a:prstGeom prst="wedgeRoundRectCallout">
            <a:avLst>
              <a:gd name="adj1" fmla="val 55861"/>
              <a:gd name="adj2" fmla="val 71157"/>
              <a:gd name="adj3" fmla="val 16667"/>
            </a:avLst>
          </a:prstGeom>
          <a:solidFill>
            <a:srgbClr val="646486"/>
          </a:solidFill>
          <a:ln w="9360">
            <a:solidFill>
              <a:srgbClr val="c6c6f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do i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ponsible f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TextBox 1" descr=""/>
          <p:cNvPicPr/>
          <p:nvPr/>
        </p:nvPicPr>
        <p:blipFill>
          <a:blip r:embed="rId1"/>
          <a:stretch/>
        </p:blipFill>
        <p:spPr>
          <a:xfrm>
            <a:off x="5310360" y="665280"/>
            <a:ext cx="3004920" cy="49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3B4B-DB4D-48C1-B518-6059B01F6E4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2"/>
          <p:cNvGraphicFramePr/>
          <p:nvPr/>
        </p:nvGraphicFramePr>
        <p:xfrm>
          <a:off x="411120" y="152280"/>
          <a:ext cx="8558280" cy="632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52280"/>
                    <a:ext cx="8558280" cy="632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Oval 5"/>
          <p:cNvSpPr/>
          <p:nvPr/>
        </p:nvSpPr>
        <p:spPr>
          <a:xfrm>
            <a:off x="1692360" y="4653000"/>
            <a:ext cx="44280" cy="46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3276720" y="3886200"/>
            <a:ext cx="137160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Table 4" descr=""/>
          <p:cNvPicPr/>
          <p:nvPr/>
        </p:nvPicPr>
        <p:blipFill>
          <a:blip r:embed="rId1"/>
          <a:stretch/>
        </p:blipFill>
        <p:spPr>
          <a:xfrm>
            <a:off x="19080" y="1517760"/>
            <a:ext cx="9032760" cy="5102280"/>
          </a:xfrm>
          <a:prstGeom prst="rect">
            <a:avLst/>
          </a:prstGeom>
          <a:ln w="0">
            <a:noFill/>
          </a:ln>
        </p:spPr>
      </p:pic>
      <p:pic>
        <p:nvPicPr>
          <p:cNvPr id="593" name="TextBox 1" descr=""/>
          <p:cNvPicPr/>
          <p:nvPr/>
        </p:nvPicPr>
        <p:blipFill>
          <a:blip r:embed="rId2"/>
          <a:stretch/>
        </p:blipFill>
        <p:spPr>
          <a:xfrm>
            <a:off x="5310360" y="665280"/>
            <a:ext cx="3004920" cy="7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606680" y="2615760"/>
            <a:ext cx="59306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</a:rPr>
              <a:t>Bureau Programme Support (BP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1981080" y="55627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16 – 20 April 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19th UN/CEFACT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Geneva, Palais des 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1CD0-ADF9-4D44-AD9F-5CEA0CFBC2C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5" descr=""/>
          <p:cNvPicPr/>
          <p:nvPr/>
        </p:nvPicPr>
        <p:blipFill>
          <a:blip r:embed="rId1"/>
          <a:stretch/>
        </p:blipFill>
        <p:spPr>
          <a:xfrm>
            <a:off x="-76320" y="2270160"/>
            <a:ext cx="9280800" cy="3673440"/>
          </a:xfrm>
          <a:prstGeom prst="rect">
            <a:avLst/>
          </a:prstGeom>
          <a:ln w="0">
            <a:noFill/>
          </a:ln>
        </p:spPr>
      </p:pic>
      <p:sp>
        <p:nvSpPr>
          <p:cNvPr id="598" name="TextBox 6"/>
          <p:cNvSpPr/>
          <p:nvPr/>
        </p:nvSpPr>
        <p:spPr>
          <a:xfrm>
            <a:off x="6491160" y="9144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Afgeronde rechthoek 7"/>
          <p:cNvSpPr/>
          <p:nvPr/>
        </p:nvSpPr>
        <p:spPr>
          <a:xfrm>
            <a:off x="1841400" y="1822320"/>
            <a:ext cx="6934320" cy="30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Calibri"/>
              </a:rPr>
              <a:t>PROGRAMME OF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fgeronde rechthoek 5"/>
          <p:cNvSpPr/>
          <p:nvPr/>
        </p:nvSpPr>
        <p:spPr>
          <a:xfrm>
            <a:off x="380880" y="1828800"/>
            <a:ext cx="1371600" cy="502920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5029200"/>
              <a:gd name="textAreaBottom" fmla="*/ 4962240 h 5029200"/>
            </a:gdLst>
            <a:ahLst/>
            <a:rect l="textAreaLeft" t="textAreaTop" r="textAreaRight" b="textAreaBottom"/>
            <a:pathLst>
              <a:path w="21600" h="79185">
                <a:moveTo>
                  <a:pt x="3600" y="0"/>
                </a:moveTo>
                <a:arcTo wR="3600" hR="3600" stAng="16200000" swAng="-5400000"/>
                <a:lnTo>
                  <a:pt x="0" y="75585"/>
                </a:lnTo>
                <a:arcTo wR="3600" hR="3600" stAng="10800000" swAng="-5400000"/>
                <a:lnTo>
                  <a:pt x="18000" y="791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Vice Ch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eter Amstutz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ier Alberto Cuc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Harm Jan  van 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fgeronde rechthoek 7"/>
          <p:cNvSpPr/>
          <p:nvPr/>
        </p:nvSpPr>
        <p:spPr>
          <a:xfrm>
            <a:off x="1841400" y="2209680"/>
            <a:ext cx="6934320" cy="685800"/>
          </a:xfrm>
          <a:prstGeom prst="roundRect">
            <a:avLst>
              <a:gd name="adj" fmla="val 16667"/>
            </a:avLst>
          </a:prstGeom>
          <a:solidFill>
            <a:srgbClr val="215968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Calibri"/>
              </a:rPr>
              <a:t>BUREAU PROGRAMME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fgeronde rechthoek 12"/>
          <p:cNvSpPr/>
          <p:nvPr/>
        </p:nvSpPr>
        <p:spPr>
          <a:xfrm>
            <a:off x="1841400" y="2889360"/>
            <a:ext cx="6934320" cy="3962160"/>
          </a:xfrm>
          <a:prstGeom prst="roundRect">
            <a:avLst>
              <a:gd name="adj" fmla="val 16667"/>
            </a:avLst>
          </a:prstGeom>
          <a:solidFill>
            <a:srgbClr val="215968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Support Services Tas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&amp; Communication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Work Programme Coherence and Coordination, Project Monitoring, Harmonisation,  Core Component  Library,  Audit/Quality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tenance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, Schema development and maintenance, Directories, Legal,  Communication </a:t>
            </a:r>
            <a:r>
              <a:rPr b="1" lang="de-CH" sz="2000" spc="-1" strike="noStrike">
                <a:solidFill>
                  <a:srgbClr val="ffffff"/>
                </a:solidFill>
                <a:latin typeface="Calibri"/>
              </a:rPr>
              <a:t>(external/internal),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Marketing , Events, </a:t>
            </a:r>
            <a:r>
              <a:rPr b="1" lang="de-CH" sz="2000" spc="-1" strike="noStrike">
                <a:solidFill>
                  <a:srgbClr val="ffffff"/>
                </a:solidFill>
                <a:latin typeface="Calibri"/>
              </a:rPr>
              <a:t>Liaison, Training / Capacity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9AE5-F4F7-4B92-9F36-74B0AEB6A318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181120" y="685800"/>
            <a:ext cx="3565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Bureau </a:t>
            </a:r>
            <a:br>
              <a:rPr sz="2400"/>
            </a:b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Programme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4240" indent="-331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reau Programme Support is responsible for non-project worked carried out by UN/CEF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3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munication, marketing, outreach, capacity buil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3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liverables maintenance, validation, pub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3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herence and coordination, project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3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vents, liaison, outreach,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4240" indent="-331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cus of Bureau Programme Support has been on protection and continuity of key deliverables during reorga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19</a:t>
            </a:r>
            <a:r>
              <a:rPr b="1" lang="en-US" sz="3600" spc="-1" strike="noStrike" baseline="30000">
                <a:solidFill>
                  <a:srgbClr val="0054a8"/>
                </a:solidFill>
                <a:latin typeface="Times New Roman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 UN/CEFACT FORU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971640" y="3885840"/>
            <a:ext cx="720072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Priorities of UN/CEFACT Commun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4a8"/>
                </a:solidFill>
                <a:latin typeface="Times New Roman"/>
              </a:rPr>
              <a:t>Pier Alberto Cuci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4a8"/>
                </a:solidFill>
                <a:latin typeface="Times New Roman"/>
              </a:rPr>
              <a:t>Bureau Vice Ch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Times New Roman"/>
              </a:rPr>
              <a:t>Palais des N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Times New Roman"/>
              </a:rPr>
              <a:t>Geneva, Switzerland – 16 April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2ABA-4677-4D4F-BA6B-4ADACCA3241E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CasellaDiTesto 2"/>
          <p:cNvSpPr/>
          <p:nvPr/>
        </p:nvSpPr>
        <p:spPr>
          <a:xfrm>
            <a:off x="5562720" y="9907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CasellaDiTesto 3"/>
          <p:cNvSpPr/>
          <p:nvPr/>
        </p:nvSpPr>
        <p:spPr>
          <a:xfrm>
            <a:off x="990720" y="1828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hich direction for UN/CEFACT commun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Segnaposto contenuto 5" descr=""/>
          <p:cNvPicPr/>
          <p:nvPr/>
        </p:nvPicPr>
        <p:blipFill>
          <a:blip r:embed="rId1"/>
          <a:srcRect l="0" t="13334" r="0" b="13334"/>
          <a:stretch/>
        </p:blipFill>
        <p:spPr>
          <a:xfrm>
            <a:off x="685800" y="2514600"/>
            <a:ext cx="746748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B8A1-C1A2-4798-88EC-0F23F9C274C4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CasellaDiTesto 3"/>
          <p:cNvSpPr/>
          <p:nvPr/>
        </p:nvSpPr>
        <p:spPr>
          <a:xfrm>
            <a:off x="5105520" y="99072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CasellaDiTesto 4"/>
          <p:cNvSpPr/>
          <p:nvPr/>
        </p:nvSpPr>
        <p:spPr>
          <a:xfrm>
            <a:off x="990720" y="1905120"/>
            <a:ext cx="4724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CasellaDiTesto 5"/>
          <p:cNvSpPr/>
          <p:nvPr/>
        </p:nvSpPr>
        <p:spPr>
          <a:xfrm>
            <a:off x="152280" y="1981080"/>
            <a:ext cx="86868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etune UN/CEFACT’s relationship and increase interaction with its traditional stakehol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 knowledge about UN/CEFACT activity and  deliverables among decision makers of all UN Member Countries, pointing out its increased demand driven approach thanks to its new project oriented 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act more stakeholders and experts from all UN Member Countries to be involved in UN/CEFACT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communication inside UN/CE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CasellaDiTesto 6"/>
          <p:cNvSpPr/>
          <p:nvPr/>
        </p:nvSpPr>
        <p:spPr>
          <a:xfrm>
            <a:off x="3733920" y="4800600"/>
            <a:ext cx="3124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Immagine 7" descr=""/>
          <p:cNvPicPr/>
          <p:nvPr/>
        </p:nvPicPr>
        <p:blipFill>
          <a:blip r:embed="rId1"/>
          <a:stretch/>
        </p:blipFill>
        <p:spPr>
          <a:xfrm>
            <a:off x="1676520" y="5181480"/>
            <a:ext cx="2895480" cy="1320840"/>
          </a:xfrm>
          <a:prstGeom prst="rect">
            <a:avLst/>
          </a:prstGeom>
          <a:ln w="0">
            <a:noFill/>
          </a:ln>
        </p:spPr>
      </p:pic>
      <p:pic>
        <p:nvPicPr>
          <p:cNvPr id="618" name="Immagine 1" descr="DSCN1026.jpg"/>
          <p:cNvPicPr/>
          <p:nvPr/>
        </p:nvPicPr>
        <p:blipFill>
          <a:blip r:embed="rId2"/>
          <a:stretch/>
        </p:blipFill>
        <p:spPr>
          <a:xfrm>
            <a:off x="5715000" y="5105520"/>
            <a:ext cx="2133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D5C0-704C-470B-AAE5-6A4432AC6D5B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2"/>
          <p:cNvSpPr/>
          <p:nvPr/>
        </p:nvSpPr>
        <p:spPr>
          <a:xfrm>
            <a:off x="1079640" y="2514600"/>
            <a:ext cx="80769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Arial"/>
              </a:rPr>
              <a:t>Products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ll products should be promoted, they are all part of UN/CEFACT’s TF “integrated packag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Arial"/>
              </a:rPr>
              <a:t>Audiences: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overnments, public organisations, business communities, UN/CEFACT members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3"/>
          <p:cNvSpPr/>
          <p:nvPr/>
        </p:nvSpPr>
        <p:spPr>
          <a:xfrm>
            <a:off x="5638680" y="8380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CasellaDiTesto 1"/>
          <p:cNvSpPr/>
          <p:nvPr/>
        </p:nvSpPr>
        <p:spPr>
          <a:xfrm>
            <a:off x="0" y="19810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it-IT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oducts &amp; Aud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Immagine 1" descr="imgres-2.jpeg"/>
          <p:cNvPicPr/>
          <p:nvPr/>
        </p:nvPicPr>
        <p:blipFill>
          <a:blip r:embed="rId1"/>
          <a:stretch/>
        </p:blipFill>
        <p:spPr>
          <a:xfrm>
            <a:off x="5181480" y="4495680"/>
            <a:ext cx="3206880" cy="2133720"/>
          </a:xfrm>
          <a:prstGeom prst="rect">
            <a:avLst/>
          </a:prstGeom>
          <a:ln w="0">
            <a:noFill/>
          </a:ln>
        </p:spPr>
      </p:pic>
      <p:pic>
        <p:nvPicPr>
          <p:cNvPr id="624" name="Immagine 2" descr="imgres-1.jpeg"/>
          <p:cNvPicPr/>
          <p:nvPr/>
        </p:nvPicPr>
        <p:blipFill>
          <a:blip r:embed="rId2"/>
          <a:stretch/>
        </p:blipFill>
        <p:spPr>
          <a:xfrm>
            <a:off x="1447920" y="4495680"/>
            <a:ext cx="278136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927A-16F1-4B46-939C-C9FB4D3E3066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2"/>
          <p:cNvSpPr/>
          <p:nvPr/>
        </p:nvSpPr>
        <p:spPr>
          <a:xfrm>
            <a:off x="1049400" y="25909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3"/>
          <p:cNvSpPr/>
          <p:nvPr/>
        </p:nvSpPr>
        <p:spPr>
          <a:xfrm>
            <a:off x="5638680" y="8380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CasellaDiTesto 1"/>
          <p:cNvSpPr/>
          <p:nvPr/>
        </p:nvSpPr>
        <p:spPr>
          <a:xfrm>
            <a:off x="190440" y="1981080"/>
            <a:ext cx="8991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0000"/>
                </a:solidFill>
                <a:uFillTx/>
                <a:latin typeface="Arial"/>
              </a:rPr>
              <a:t>Current &amp; Future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ous update of the website </a:t>
            </a:r>
            <a:r>
              <a:rPr b="0" lang="it-IT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uncefac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of other communication tools for UNCEFACT pro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27d929"/>
                </a:solidFill>
                <a:uFillTx/>
                <a:latin typeface="Times New Roman"/>
                <a:ea typeface="Times New Roman"/>
              </a:rPr>
              <a:t>Goals of the we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7d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7d929"/>
                </a:solidFill>
                <a:latin typeface="Times New Roman"/>
                <a:ea typeface="Times New Roman"/>
              </a:rPr>
              <a:t>New video interviews on UNCEFACT success s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7d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7d929"/>
                </a:solidFill>
                <a:latin typeface="Times New Roman"/>
                <a:ea typeface="Times New Roman"/>
              </a:rPr>
              <a:t>New Photos and Videos of “UNCEFACT at work</a:t>
            </a:r>
            <a:r>
              <a:rPr b="1" lang="it-IT" sz="2400" spc="-1" strike="noStrike">
                <a:solidFill>
                  <a:srgbClr val="27d929"/>
                </a:solidFill>
                <a:latin typeface="Times New Roman"/>
                <a:ea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Immagine 1" descr="imgres.jpeg"/>
          <p:cNvPicPr/>
          <p:nvPr/>
        </p:nvPicPr>
        <p:blipFill>
          <a:blip r:embed="rId2"/>
          <a:stretch/>
        </p:blipFill>
        <p:spPr>
          <a:xfrm>
            <a:off x="6248520" y="4648320"/>
            <a:ext cx="246384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76"/>
          <p:cNvGrpSpPr/>
          <p:nvPr/>
        </p:nvGrpSpPr>
        <p:grpSpPr>
          <a:xfrm>
            <a:off x="3203640" y="1916280"/>
            <a:ext cx="3097080" cy="4681440"/>
            <a:chOff x="3203640" y="1916280"/>
            <a:chExt cx="3097080" cy="4681440"/>
          </a:xfrm>
        </p:grpSpPr>
        <p:sp>
          <p:nvSpPr>
            <p:cNvPr id="234" name="Straight Connector 73"/>
            <p:cNvSpPr/>
            <p:nvPr/>
          </p:nvSpPr>
          <p:spPr>
            <a:xfrm>
              <a:off x="4716360" y="5301000"/>
              <a:ext cx="0" cy="360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fgeronde rechthoek 8"/>
            <p:cNvSpPr/>
            <p:nvPr/>
          </p:nvSpPr>
          <p:spPr>
            <a:xfrm>
              <a:off x="3203640" y="5661360"/>
              <a:ext cx="3097080" cy="93636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CENTRE FOR TRADE FACILI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AND ELECTRONIC BUSI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fgeronde rechthoek 5"/>
            <p:cNvSpPr/>
            <p:nvPr/>
          </p:nvSpPr>
          <p:spPr>
            <a:xfrm>
              <a:off x="3219480" y="1916280"/>
              <a:ext cx="3009960" cy="64764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GENERAL ASSEMB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fgeronde rechthoek 5"/>
            <p:cNvSpPr/>
            <p:nvPr/>
          </p:nvSpPr>
          <p:spPr>
            <a:xfrm>
              <a:off x="3219480" y="2779920"/>
              <a:ext cx="3009960" cy="64908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ECONOMIC AND SOCIAL COUNC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fgeronde rechthoek 5"/>
            <p:cNvSpPr/>
            <p:nvPr/>
          </p:nvSpPr>
          <p:spPr>
            <a:xfrm>
              <a:off x="3219480" y="3716280"/>
              <a:ext cx="3009960" cy="85536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ECONOMIC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FOR EUROP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(Executive Committe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fgeronde rechthoek 5"/>
            <p:cNvSpPr/>
            <p:nvPr/>
          </p:nvSpPr>
          <p:spPr>
            <a:xfrm>
              <a:off x="3219480" y="4724640"/>
              <a:ext cx="3009960" cy="64764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COMMITTEE ON TR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Straight Connector 35"/>
            <p:cNvSpPr/>
            <p:nvPr/>
          </p:nvSpPr>
          <p:spPr>
            <a:xfrm>
              <a:off x="4724280" y="256392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Straight Connector 37"/>
            <p:cNvSpPr/>
            <p:nvPr/>
          </p:nvSpPr>
          <p:spPr>
            <a:xfrm>
              <a:off x="4724280" y="3429000"/>
              <a:ext cx="0" cy="287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Straight Connector 39"/>
            <p:cNvSpPr/>
            <p:nvPr/>
          </p:nvSpPr>
          <p:spPr>
            <a:xfrm>
              <a:off x="4724280" y="4572000"/>
              <a:ext cx="0" cy="152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Rectangle 75"/>
          <p:cNvSpPr/>
          <p:nvPr/>
        </p:nvSpPr>
        <p:spPr>
          <a:xfrm>
            <a:off x="3652920" y="1484280"/>
            <a:ext cx="19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ITED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4669-FC88-4CF1-9E7E-AF56DCD2022C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3"/>
          <p:cNvSpPr/>
          <p:nvPr/>
        </p:nvSpPr>
        <p:spPr>
          <a:xfrm>
            <a:off x="5982480" y="91440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UN Frame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DABB-E8D3-48FA-81EA-BFDA54DEC076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2"/>
          <p:cNvSpPr/>
          <p:nvPr/>
        </p:nvSpPr>
        <p:spPr>
          <a:xfrm>
            <a:off x="1049400" y="25909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3"/>
          <p:cNvSpPr/>
          <p:nvPr/>
        </p:nvSpPr>
        <p:spPr>
          <a:xfrm>
            <a:off x="5638680" y="8380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CasellaDiTesto 1"/>
          <p:cNvSpPr/>
          <p:nvPr/>
        </p:nvSpPr>
        <p:spPr>
          <a:xfrm>
            <a:off x="0" y="1981080"/>
            <a:ext cx="89917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/CEFACT’s project oriented flexible structure increases its communication potential among existing and new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Immagine 1" descr="imgres-2.jpeg"/>
          <p:cNvPicPr/>
          <p:nvPr/>
        </p:nvPicPr>
        <p:blipFill>
          <a:blip r:embed="rId1"/>
          <a:stretch/>
        </p:blipFill>
        <p:spPr>
          <a:xfrm>
            <a:off x="3048120" y="4114800"/>
            <a:ext cx="34257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876E-2908-43A9-8D20-2B2BF45EA227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2"/>
          <p:cNvSpPr/>
          <p:nvPr/>
        </p:nvSpPr>
        <p:spPr>
          <a:xfrm>
            <a:off x="1049400" y="25909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3"/>
          <p:cNvSpPr/>
          <p:nvPr/>
        </p:nvSpPr>
        <p:spPr>
          <a:xfrm>
            <a:off x="5638680" y="8380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CasellaDiTesto 1"/>
          <p:cNvSpPr/>
          <p:nvPr/>
        </p:nvSpPr>
        <p:spPr>
          <a:xfrm>
            <a:off x="0" y="19810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…</a:t>
            </a:r>
            <a:r>
              <a:rPr b="1" i="1" lang="it-IT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n opportunity to be seiz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Segnaposto contenuto 5" descr=""/>
          <p:cNvPicPr/>
          <p:nvPr/>
        </p:nvPicPr>
        <p:blipFill>
          <a:blip r:embed="rId1"/>
          <a:srcRect l="0" t="8383" r="0" b="8383"/>
          <a:stretch/>
        </p:blipFill>
        <p:spPr>
          <a:xfrm>
            <a:off x="457200" y="2895480"/>
            <a:ext cx="822960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D6DB-B62D-4849-BBDE-F813E0550440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2"/>
          <p:cNvSpPr/>
          <p:nvPr/>
        </p:nvSpPr>
        <p:spPr>
          <a:xfrm>
            <a:off x="838080" y="1600200"/>
            <a:ext cx="739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alidate cover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rategic review – old/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ransparent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lear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Formal – UNECE MOU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operati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lationship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Li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E28C-9A12-43E6-9DB7-949ECE488A30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2"/>
          <p:cNvSpPr/>
          <p:nvPr/>
        </p:nvSpPr>
        <p:spPr>
          <a:xfrm>
            <a:off x="1676520" y="2819520"/>
            <a:ext cx="556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Forum Sched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General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3C27-2F4B-4A0D-884F-AAEFA0B3E535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"/>
          <p:cNvSpPr/>
          <p:nvPr/>
        </p:nvSpPr>
        <p:spPr>
          <a:xfrm>
            <a:off x="1371600" y="1667520"/>
            <a:ext cx="662940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19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th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UN/CEFACT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onday, 16 April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3:00 –14:00       Lunch Break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eetings of Programme Development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4:00 - 15:30        Salle XXIV –  Trade and Transport Facil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. 1058/1060 - Regul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.3023 –  Supply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.3025 –  Sectoral (Agriculture Dom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.1064 –  Sectoral (non-Agriculture Doma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alle XXV–  Methodology an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5:30 – 16.00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offee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6:00 - 17:00    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(meeting rooms same as abo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eetings of  Bureau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(Monday to Thursd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7:00 – 17:30       Salle XXV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pen to Forum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7:45 – 18:45       E.1058/10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4"/>
          <p:cNvSpPr/>
          <p:nvPr/>
        </p:nvSpPr>
        <p:spPr>
          <a:xfrm>
            <a:off x="5410080" y="91440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Revised Schedule - Mon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2AD7-575D-4BE3-88FC-F374ABD107C6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2"/>
          <p:cNvSpPr/>
          <p:nvPr/>
        </p:nvSpPr>
        <p:spPr>
          <a:xfrm>
            <a:off x="685800" y="220968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NECE/Forum Secretariat: E.20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formation Desk: E.20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efactforum@unec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AD2B-FC13-4289-BB2F-DF79BDCD49C4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2"/>
          <p:cNvSpPr/>
          <p:nvPr/>
        </p:nvSpPr>
        <p:spPr>
          <a:xfrm>
            <a:off x="1143000" y="3105000"/>
            <a:ext cx="693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UN/CEFACT website is located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ttp://www.uncefact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58A5-36CA-4668-B5AC-F653623C482D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"/>
          <p:cNvSpPr/>
          <p:nvPr/>
        </p:nvSpPr>
        <p:spPr>
          <a:xfrm>
            <a:off x="1371600" y="2971800"/>
            <a:ext cx="67816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ANK YOU FOR YOUR ATTENTION AND HAVE A GOOD WEEK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486040" y="838080"/>
            <a:ext cx="39625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Overview of Meeti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371600" y="1219320"/>
            <a:ext cx="82296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2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1f497d"/>
                </a:solidFill>
                <a:latin typeface="Calibri"/>
                <a:ea typeface="Arial"/>
              </a:rPr>
              <a:t>12 December 2011 </a:t>
            </a:r>
            <a:r>
              <a:rPr b="1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–</a:t>
            </a:r>
            <a:r>
              <a:rPr b="1" lang="fr-CH" sz="1600" spc="-1" strike="noStrike">
                <a:solidFill>
                  <a:srgbClr val="1f497d"/>
                </a:solidFill>
                <a:latin typeface="Calibri"/>
                <a:ea typeface="Arial"/>
              </a:rPr>
              <a:t> UNECE Executive Committee, Gene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2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15-17 February 2012 – 18</a:t>
            </a:r>
            <a:r>
              <a:rPr b="1" lang="en-GB" sz="1600" spc="-1" strike="noStrike" baseline="30000">
                <a:solidFill>
                  <a:srgbClr val="1f497d"/>
                </a:solidFill>
                <a:latin typeface="Calibri"/>
                <a:ea typeface="Arial"/>
              </a:rPr>
              <a:t>th</a:t>
            </a:r>
            <a:r>
              <a:rPr b="1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 UN/CEFACT Plenary, Gene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2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16-20 April 2012 – 19</a:t>
            </a:r>
            <a:r>
              <a:rPr b="1" lang="en-GB" sz="1600" spc="-1" strike="noStrike" baseline="30000">
                <a:solidFill>
                  <a:srgbClr val="1f497d"/>
                </a:solidFill>
                <a:latin typeface="Calibri"/>
                <a:ea typeface="Arial"/>
              </a:rPr>
              <a:t>th</a:t>
            </a:r>
            <a:r>
              <a:rPr b="1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 UN/CEFACT Forum, Gene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2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1f497d"/>
                </a:solidFill>
                <a:latin typeface="Calibri"/>
                <a:ea typeface="Arial"/>
              </a:rPr>
              <a:t>5-7 June 2012 – UNECE Executive Committee, Gene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2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1f497d"/>
                </a:solidFill>
                <a:latin typeface="Calibri"/>
                <a:ea typeface="Arial"/>
              </a:rPr>
              <a:t>18-19 June 2012 </a:t>
            </a:r>
            <a:r>
              <a:rPr b="1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–</a:t>
            </a:r>
            <a:r>
              <a:rPr b="1" lang="fr-CH" sz="16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r>
              <a:rPr b="1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5</a:t>
            </a:r>
            <a:r>
              <a:rPr b="1" lang="en-GB" sz="1600" spc="-1" strike="noStrike" baseline="30000">
                <a:solidFill>
                  <a:srgbClr val="1f497d"/>
                </a:solidFill>
                <a:latin typeface="Calibri"/>
                <a:ea typeface="Arial"/>
              </a:rPr>
              <a:t>th</a:t>
            </a:r>
            <a:r>
              <a:rPr b="1" lang="fr-CH" sz="1600" spc="-1" strike="noStrike">
                <a:solidFill>
                  <a:srgbClr val="1f497d"/>
                </a:solidFill>
                <a:latin typeface="Calibri"/>
                <a:ea typeface="Arial"/>
              </a:rPr>
              <a:t> Session of UNECE Committee on Trade, Gene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20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17-21 September 2012 – 20</a:t>
            </a:r>
            <a:r>
              <a:rPr b="1" lang="en-GB" sz="1600" spc="-1" strike="noStrike" baseline="30000">
                <a:solidFill>
                  <a:srgbClr val="1f497d"/>
                </a:solidFill>
                <a:latin typeface="Calibri"/>
                <a:ea typeface="Arial"/>
              </a:rPr>
              <a:t>th</a:t>
            </a:r>
            <a:r>
              <a:rPr b="1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 UN/CEFACT Forum, Vie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20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1f497d"/>
                </a:solidFill>
                <a:latin typeface="Calibri"/>
                <a:ea typeface="Arial"/>
              </a:rPr>
              <a:t>December 2012 – UNECE Executive Committee, Gene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20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15-19 April 2013 – 21</a:t>
            </a:r>
            <a:r>
              <a:rPr b="1" lang="en-GB" sz="1600" spc="-1" strike="noStrike" baseline="30000">
                <a:solidFill>
                  <a:srgbClr val="1f497d"/>
                </a:solidFill>
                <a:latin typeface="Calibri"/>
                <a:ea typeface="Arial"/>
              </a:rPr>
              <a:t>th</a:t>
            </a:r>
            <a:r>
              <a:rPr b="1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 UN/CEFACT Forum, Geneva (tb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20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5-7 June 2013 – 21</a:t>
            </a:r>
            <a:r>
              <a:rPr b="1" lang="en-GB" sz="1600" spc="-1" strike="noStrike" baseline="30000">
                <a:solidFill>
                  <a:srgbClr val="1f497d"/>
                </a:solidFill>
                <a:latin typeface="Calibri"/>
                <a:ea typeface="Arial"/>
              </a:rPr>
              <a:t>st</a:t>
            </a:r>
            <a:r>
              <a:rPr b="1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 UN/CEFACT Plenary, Geneva (tb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20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October/November  2013 – 22</a:t>
            </a:r>
            <a:r>
              <a:rPr b="1" lang="en-GB" sz="1600" spc="-1" strike="noStrike" baseline="30000">
                <a:solidFill>
                  <a:srgbClr val="1f497d"/>
                </a:solidFill>
                <a:latin typeface="Calibri"/>
                <a:ea typeface="Arial"/>
              </a:rPr>
              <a:t>nd</a:t>
            </a:r>
            <a:r>
              <a:rPr b="1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 UN/CEFACT Forum, India (tb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Arial"/>
              </a:rPr>
              <a:t>Public-private sector collabo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Arial"/>
              </a:rPr>
              <a:t>Intergovernmental and non-governmental organis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Arial"/>
              </a:rPr>
              <a:t>Global rem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Arial"/>
              </a:rPr>
              <a:t>Member states of the UN participate on the basis of equ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Arial"/>
              </a:rPr>
              <a:t>Multidisciplin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Arial"/>
              </a:rPr>
              <a:t>Consensus-dri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Arial"/>
              </a:rPr>
              <a:t>Trade Facilitation Recommendations and eBusiness Standards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Arial"/>
              </a:rPr>
              <a:t>Real-world solutions-orien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Arial"/>
              </a:rPr>
              <a:t>Free to participate / to use 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Arial"/>
              </a:rPr>
              <a:t>Independent volunteer experts in their own righ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Arial"/>
              </a:rPr>
              <a:t>Members of Bureau act in personal capa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0946-8305-4C46-9209-FB8EEADE2F4A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5105520" y="91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E5FB-CBF8-4DA2-9376-3C8C0C913F5D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Tauno Kangur</cp:lastModifiedBy>
  <dcterms:modified xsi:type="dcterms:W3CDTF">2012-04-23T08:35:57Z</dcterms:modified>
  <cp:revision>439</cp:revision>
  <dc:subject>PPT Template</dc:subject>
  <dc:title>United Nations Economic Commssion for Europe</dc:title>
</cp:coreProperties>
</file>