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B4F-6BD4-4181-9FBB-B88E532013B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9B83-596E-4375-9A5B-1DE0051F1B4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3CB8-1B91-4461-B609-C7E65C37135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4D20-E34F-414F-87D1-9C17D72E74E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96B-237E-4B17-8E80-291B370CD7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F87C-009E-4A47-B24F-CC1DD805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B3E9-55BD-4285-9D7D-ACFD1D683FA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1484-4B09-4840-8C16-A2C9A5907A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2E5D-8A7A-4BEA-B644-511D545607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CB9-2D67-4190-BDA2-7E0698EA4C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0DEC-E101-4BB9-A855-A468E16065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E344-2D12-4C37-B256-B2D5469B4D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0125-4845-4086-A634-A77B1EABE6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ECF4-6C63-4EA2-B023-3936AFF8F7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C663-86F2-4D4B-9B46-C748359AA1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267E-1D70-4289-8F8A-922F85E08C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6D83-5640-4F8F-BAF4-01534A74A317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A50-1681-4207-B17E-C6109521196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65F8-19C6-4366-B36A-0BA8C7702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E9DC-09B1-4B7B-B23C-51FDF097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F17-0876-4D70-9DFD-8A9CAC91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4342-10E7-4813-979A-15673D1C5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C5A2-98B6-48AA-A13C-0A9E8CE53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F3F8-785D-4BA8-B4BF-654252997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0C41-3B42-4278-B752-50AFBEA32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DB95-38D0-472F-9112-8F5BCB499A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E748-1AB4-4088-AF64-B5D007826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D0AF-BDDA-49C6-9DCE-937F794736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A614-10FB-4206-AA56-069A1C291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B8C7-EA51-4FA1-B8AB-6F032A6734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DDA0-CA7F-4AD3-BD33-0F7D30702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B8A-5803-49C6-BB22-72840F0569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C953-524F-4374-9D93-A05CB12EA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1964-D765-45C1-B4F6-0FCD860CD0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8F68-D700-436B-8FC3-F9F56A580D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F0CD-5BE2-41CD-A856-D778D67B95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05BC-90D3-47E2-8B82-79D76AE74B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A6B3-9ECC-41C4-84B7-9DA35A0282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BB60-A8B3-4EAB-BE10-DFD6C09C21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11ABA-C89E-46DD-ACEF-1BB10397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D05F6-E53D-4972-8DFB-76E3737E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C673A-08F1-44C9-9747-D69A7D2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522E-3A30-44ED-90B2-3834C4EF7F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78AC-0810-4A1C-96BF-AEA3885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AA632-3D19-4855-A61A-A8E6CE68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DFCA6-D00A-4619-A22C-9DE9F490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2107-CD7E-4DBB-8211-9655AE7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B2770-4567-4B8C-8AF9-307E516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90C3-F43F-48C1-BF1B-4900E03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C18FC-52A6-463A-89EE-9C0C960F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D95B1-1353-431B-BE04-ADDC29A5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A6DCA-E144-40BA-9DB9-E7CB9009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AB18-6D5E-4887-B479-FE04844587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D73D-73CB-4F96-9D9F-5A3AA6DD3C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CFF1A-B5B3-4CB3-90B4-F8237BB2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11A66-5297-4378-939A-FE7B0499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3E62B-8580-47C1-8BBF-81D7CBD4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7D959-C781-408D-9FE7-90DAAEF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111EF-F1D1-4363-BD51-52DAAD55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4D0E8-33F9-42C0-B78C-ECB3DEF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3B07D-729B-4FF9-84DB-E1050D0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03996-ADBA-416D-9748-F2EBA11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C2602-EA97-4454-8924-333DB9F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18BE-451E-47CA-B518-1F904C4054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14E83-D539-4E80-900D-12281003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AF018-41DB-4B88-A837-BA174A79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0FA2D-B912-482D-A729-8552856A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04EC-9489-4553-B26D-D85B9C85B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8C13-1C8E-41E8-8455-FAD9041EF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0195-2B6B-42AE-A1B7-D756A08BA1E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E9E-32FF-40A6-933F-A9675C13FDE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April 20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UN/CEFACT FORUM – Rome, Italy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9AB2-20C7-4300-90BD-4D2182F1806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4571-44A8-4BA3-9F2A-60CDBA71A75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Closing P</a:t>
            </a: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4.0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182880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23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fgeronde rechthoek 7"/>
          <p:cNvSpPr/>
          <p:nvPr/>
        </p:nvSpPr>
        <p:spPr>
          <a:xfrm>
            <a:off x="1828800" y="838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fgeronde rechthoek 7"/>
          <p:cNvSpPr/>
          <p:nvPr/>
        </p:nvSpPr>
        <p:spPr>
          <a:xfrm>
            <a:off x="1828800" y="38088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fgeronde rechthoek 5"/>
          <p:cNvSpPr/>
          <p:nvPr/>
        </p:nvSpPr>
        <p:spPr>
          <a:xfrm>
            <a:off x="304920" y="1295280"/>
            <a:ext cx="1295280" cy="54104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410440"/>
              <a:gd name="textAreaBottom" fmla="*/ 5347440 h 5410440"/>
            </a:gdLst>
            <a:ahLst/>
            <a:rect l="textAreaLeft" t="textAreaTop" r="textAreaRight" b="textAreaBottom"/>
            <a:pathLst>
              <a:path w="21600" h="90205">
                <a:moveTo>
                  <a:pt x="3600" y="0"/>
                </a:moveTo>
                <a:arcTo wR="3600" hR="3600" stAng="16200000" swAng="-5400000"/>
                <a:lnTo>
                  <a:pt x="0" y="86605"/>
                </a:lnTo>
                <a:arcTo wR="3600" hR="3600" stAng="10800000" swAng="-5400000"/>
                <a:lnTo>
                  <a:pt x="18000" y="9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ke Do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fgeronde rechthoek 7"/>
          <p:cNvSpPr/>
          <p:nvPr/>
        </p:nvSpPr>
        <p:spPr>
          <a:xfrm>
            <a:off x="2222640" y="1700280"/>
            <a:ext cx="1844640" cy="4276800"/>
          </a:xfrm>
          <a:custGeom>
            <a:avLst/>
            <a:gdLst>
              <a:gd name="textAreaLeft" fmla="*/ 90000 w 1844640"/>
              <a:gd name="textAreaRight" fmla="*/ 1754640 w 1844640"/>
              <a:gd name="textAreaTop" fmla="*/ 90000 h 4276800"/>
              <a:gd name="textAreaBottom" fmla="*/ 4186800 h 4276800"/>
            </a:gdLst>
            <a:ahLst/>
            <a:rect l="textAreaLeft" t="textAreaTop" r="textAreaRight" b="textAreaBottom"/>
            <a:pathLst>
              <a:path w="21600" h="50074">
                <a:moveTo>
                  <a:pt x="3600" y="0"/>
                </a:moveTo>
                <a:arcTo wR="3600" hR="3600" stAng="16200000" swAng="-5400000"/>
                <a:lnTo>
                  <a:pt x="0" y="46474"/>
                </a:lnTo>
                <a:arcTo wR="3600" hR="3600" stAng="10800000" swAng="-5400000"/>
                <a:lnTo>
                  <a:pt x="18000" y="50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fgeronde rechthoek 12"/>
          <p:cNvSpPr/>
          <p:nvPr/>
        </p:nvSpPr>
        <p:spPr>
          <a:xfrm>
            <a:off x="4191120" y="1670040"/>
            <a:ext cx="4724280" cy="4121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4724280" y="2488320"/>
            <a:ext cx="3951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nce/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ccounting/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URRENT DOMAINS &amp; COORDINATO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Finance &amp; Pay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Ray Pisa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Michel Lesourd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5257800" y="907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223344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uropean perspective on eProcurement from the PEPPOL &amp; BII Point of View - Josteyn Fromy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U Multistakeholder Forum to Facilitate the Adoption of eInvoicing -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EN Message User Guidelines MUG 1 - 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EN European Core Invoice Implementation Guide - Kevin Sm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egal Notice Publication – Didier Har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5219640" y="90792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19720" y="804600"/>
            <a:ext cx="5029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Palatino"/>
              </a:rPr>
              <a:t>Supply Chain PD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AutoShape 4"/>
          <p:cNvSpPr/>
          <p:nvPr/>
        </p:nvSpPr>
        <p:spPr>
          <a:xfrm flipV="1">
            <a:off x="762120" y="2590200"/>
            <a:ext cx="1676160" cy="1143000"/>
          </a:xfrm>
          <a:custGeom>
            <a:avLst/>
            <a:gdLst>
              <a:gd name="textAreaLeft" fmla="*/ 0 w 1676160"/>
              <a:gd name="textAreaRight" fmla="*/ 1676520 w 167616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666880" y="2590920"/>
            <a:ext cx="1676520" cy="11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4495680" y="2590920"/>
            <a:ext cx="1676520" cy="11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1600200" y="4800600"/>
            <a:ext cx="65530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International Supply Chains consist of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integrated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and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coordinated flows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of information, goods &amp;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828800" y="5986440"/>
            <a:ext cx="6095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503600" y="440208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flipV="1">
            <a:off x="762120" y="403776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7094520" y="318276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3"/>
          <p:cNvSpPr/>
          <p:nvPr/>
        </p:nvSpPr>
        <p:spPr>
          <a:xfrm flipV="1">
            <a:off x="6324480" y="2666880"/>
            <a:ext cx="1752840" cy="1067040"/>
          </a:xfrm>
          <a:custGeom>
            <a:avLst/>
            <a:gdLst>
              <a:gd name="textAreaLeft" fmla="*/ 0 w 1752840"/>
              <a:gd name="textAreaRight" fmla="*/ 1753200 w 175284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ORDER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4"/>
          <p:cNvSpPr/>
          <p:nvPr/>
        </p:nvSpPr>
        <p:spPr>
          <a:xfrm>
            <a:off x="3665520" y="432576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5"/>
          <p:cNvSpPr/>
          <p:nvPr/>
        </p:nvSpPr>
        <p:spPr>
          <a:xfrm flipV="1">
            <a:off x="2743200" y="411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ILL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5951520" y="4478400"/>
            <a:ext cx="184320" cy="36648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7"/>
          <p:cNvSpPr/>
          <p:nvPr/>
        </p:nvSpPr>
        <p:spPr>
          <a:xfrm flipV="1">
            <a:off x="4572000" y="4190400"/>
            <a:ext cx="1523880" cy="1143000"/>
          </a:xfrm>
          <a:custGeom>
            <a:avLst/>
            <a:gdLst>
              <a:gd name="textAreaLeft" fmla="*/ 0 w 1523880"/>
              <a:gd name="textAreaRight" fmla="*/ 1524240 w 152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7856640" y="4707000"/>
            <a:ext cx="183960" cy="366480"/>
          </a:xfrm>
          <a:custGeom>
            <a:avLst/>
            <a:gdLst>
              <a:gd name="textAreaLeft" fmla="*/ 0 w 183960"/>
              <a:gd name="textAreaRight" fmla="*/ 184320 w 1839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 flipV="1">
            <a:off x="6400800" y="4190400"/>
            <a:ext cx="1676520" cy="11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0"/>
          <p:cNvSpPr/>
          <p:nvPr/>
        </p:nvSpPr>
        <p:spPr>
          <a:xfrm>
            <a:off x="2065320" y="615456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1"/>
          <p:cNvSpPr/>
          <p:nvPr/>
        </p:nvSpPr>
        <p:spPr>
          <a:xfrm flipV="1">
            <a:off x="838080" y="5562000"/>
            <a:ext cx="1524240" cy="1143000"/>
          </a:xfrm>
          <a:custGeom>
            <a:avLst/>
            <a:gdLst>
              <a:gd name="textAreaLeft" fmla="*/ 0 w 1524240"/>
              <a:gd name="textAreaRight" fmla="*/ 1524600 w 152424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762120" y="1773360"/>
            <a:ext cx="739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flow diagram will be discussed with other PDAs to provide a complete view of CEFACT Scope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NOTIF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Legal Notification Public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Didier Har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OURCE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rice Lists (N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eTendering (including eNotices)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evin Smith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Quot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525780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CONTRACT/OR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Ordering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DELI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Scheduling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Delivery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BILL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Invoice: v2.0 + 2.1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Migration CII to CCTS 3.0 &amp; NDR 3.0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Karina Duvinger (Coordinat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525780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Remittance Advice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ustomer Statement (N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5181480" y="9144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ross Domain and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Accounting Toke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Security for XML Documents &amp; Messages (Rec 37)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Sujeet Bhat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ster &amp; Measured Data Alignment for the Europ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nergy Market (Proposal): Kees Sparreb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"/>
          <p:cNvSpPr/>
          <p:nvPr/>
        </p:nvSpPr>
        <p:spPr>
          <a:xfrm>
            <a:off x="518148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pply Chain Finance: new standardization needs to be addressed (eg.: guarantees, letters of credit, open account, trade counterparties scree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ross-Industry Invoice: maintainance with respect to financial issues / coordination with other PDA doma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Liaison with ISO20022 and global financial services (e.g.: Common Global Implement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o be followed up after SIBOS event in Toro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5181480" y="914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xical Nomenclatur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Trial Balanc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Bundle Collec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Entry v.1 &amp; v.2 (maintenance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Ledger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Chart of Accou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Reporting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Messag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Journal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5219640" y="90792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51BE-0BFF-4B7D-938B-49279702E4D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762120" y="1981080"/>
            <a:ext cx="80769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de and Transport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gula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t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ethodology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Programm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osing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6256080" y="838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uture Supply Chain PDA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Publish current project deliverables by end of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Improve UN/CEFACT’s Publication Process as a matter of high p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Address private and public sector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Revisit Gap Analysis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Propose new Themes &amp; Projects - Business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Review external Supply Chain initi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Encourage Supply Chain experts to return to UN/CEF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Request resources from Plenary delegations, and/or other potential sponsors, to suppor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5219640" y="76212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208116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lanning for Vir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Meeting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Every Second Wednesday at 16:00 C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Starting on 28 Septembe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5219640" y="90792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3"/>
          <p:cNvSpPr/>
          <p:nvPr/>
        </p:nvSpPr>
        <p:spPr>
          <a:xfrm>
            <a:off x="992880" y="2438280"/>
            <a:ext cx="656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Domai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Environmental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609480" y="152280"/>
            <a:ext cx="7772400" cy="12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0" descr="cefact_forum"/>
          <p:cNvPicPr/>
          <p:nvPr/>
        </p:nvPicPr>
        <p:blipFill>
          <a:blip r:embed="rId1"/>
          <a:stretch/>
        </p:blipFill>
        <p:spPr>
          <a:xfrm>
            <a:off x="395280" y="115920"/>
            <a:ext cx="8309160" cy="12650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148000" y="691920"/>
            <a:ext cx="3600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Environmental</a:t>
            </a:r>
            <a:br>
              <a:rPr sz="2600"/>
            </a:b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73880" y="1557360"/>
            <a:ext cx="8818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s on the work program for the Environment Dom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work on the GHS, MSDS and REACH pro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/updates coming to the waste disposal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s on developing a Recommendation for the Environ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jointly with International Trade Procedures Dom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1640" y="804600"/>
            <a:ext cx="4125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Sector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2E5-0306-4170-99D4-8E625F0D74BC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33520" y="31237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Programme Development Area Sect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17236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omain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reas Schul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95320" y="804600"/>
            <a:ext cx="4202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Dom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e domain insurance is at present a joint work between  ACORD - USA, and the European eBusiness Expert Group for Insurance (eEG7) with members from BiPRO - Germany, SIVI – The Netherlands, Telebib - Belgium, GS4eB – Germ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19720" y="804600"/>
            <a:ext cx="42782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Work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jects are plann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mmercial line business (from small commercial up to large industri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ivat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ogether with the healthcare domain for exchange between healthcare professionals, patients and health insurance compa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160020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Travel/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476000" y="3429000"/>
            <a:ext cx="6767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 Coordin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io Suzu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omain Travel/Touris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3520" y="20574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hieved this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BRS preparation for Small scaled Lodging House Reservation Information Process was prog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Attended the CCL property terms review held and guided by CCL 3.0 development/maintenance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Discussion on the new project proposed by  a Thailand expert was held and will be further studied among the expe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976-A6B9-47C6-A7DA-86328F785A7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6378480" y="8492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Bur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762120" y="1447920"/>
            <a:ext cx="807696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8404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    </a:t>
            </a: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Some key topics/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cus on developments in PDAs and 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en Bureau sessions Monday-Thursday 17.00-17.30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lenary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genda, documents, recommendation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s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ebsite, transparency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iaison and strategic cooperation in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CE Mobile Business flier to b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lendar of events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dia - March/April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enna Sept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62520" y="804600"/>
            <a:ext cx="4735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Small scaled Lodging House Reservation Information Process will be finalized (by March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New project proposals will be discussed among the experts. And they will be proposed to be in time for the next forum when they are agreed upon by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Collaboration with such organizations as OTA,  AFACT, other international or national bodies will be well checked and negotiated, if needed, by the experts of the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Capacity building activity will be considered especially for Asian coun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95F7-28A8-4B4E-8AF9-C7BA6291C86E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3480" y="1752120"/>
            <a:ext cx="740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ans van Die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C51-AAC5-42D1-AF32-0C1553F5547D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62520" y="804600"/>
            <a:ext cx="4735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ivestock Life Events Recor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Focus on animal trade iss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gricultural observ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Focus on 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e-LAB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xchange of  laboratoria observations and conclusions 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il, animal  and plant sample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New projects expec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ross industry invo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xtensions to support trade in fresh vegetables, fruits and cutflow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arming  management  and farm operation  information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chine instructions, logging of operations and remote sensing on the fa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54120" y="2615760"/>
            <a:ext cx="60357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Methodology and Technology PDA</a:t>
            </a:r>
            <a:br>
              <a:rPr sz="3200"/>
            </a:br>
            <a:br>
              <a:rPr sz="3200"/>
            </a:b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Closing Plenar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6FD5-207C-482C-81C2-4BA9941B103B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5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ointment of Domain Coordinator(s) not needed at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 the status of all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 of the existing Programme of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1F22-8B8C-461D-8BF4-E12AECFF6676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57440" y="838080"/>
            <a:ext cx="304308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ject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26920" y="231948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6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siness Document H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re Components Business Document Assem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eft Arrow 7"/>
          <p:cNvSpPr/>
          <p:nvPr/>
        </p:nvSpPr>
        <p:spPr>
          <a:xfrm>
            <a:off x="5580000" y="3357720"/>
            <a:ext cx="1368360" cy="1008000"/>
          </a:xfrm>
          <a:prstGeom prst="left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eft Arrow 8"/>
          <p:cNvSpPr/>
          <p:nvPr/>
        </p:nvSpPr>
        <p:spPr>
          <a:xfrm>
            <a:off x="2411280" y="3357720"/>
            <a:ext cx="1368720" cy="1008000"/>
          </a:xfrm>
          <a:prstGeom prst="leftArrow">
            <a:avLst>
              <a:gd name="adj1" fmla="val 50000"/>
              <a:gd name="adj2" fmla="val 5002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2F42-4704-4A41-AF56-DAA40D53EF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4"/>
          <p:cNvSpPr/>
          <p:nvPr/>
        </p:nvSpPr>
        <p:spPr>
          <a:xfrm>
            <a:off x="6443640" y="1989000"/>
            <a:ext cx="2232000" cy="403236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4032360"/>
              <a:gd name="textAreaBottom" fmla="*/ 3923640 h 4032360"/>
            </a:gdLst>
            <a:ahLst/>
            <a:rect l="textAreaLeft" t="textAreaTop" r="textAreaRight" b="textAreaBottom"/>
            <a:pathLst>
              <a:path w="21600" h="39020">
                <a:moveTo>
                  <a:pt x="3600" y="0"/>
                </a:moveTo>
                <a:arcTo wR="3600" hR="3600" stAng="16200000" swAng="-5400000"/>
                <a:lnTo>
                  <a:pt x="0" y="35420"/>
                </a:lnTo>
                <a:arcTo wR="3600" hR="3600" stAng="10800000" swAng="-5400000"/>
                <a:lnTo>
                  <a:pt x="18000" y="39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intenance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ounded Rectangle 5"/>
          <p:cNvSpPr/>
          <p:nvPr/>
        </p:nvSpPr>
        <p:spPr>
          <a:xfrm>
            <a:off x="3419640" y="1989000"/>
            <a:ext cx="2232000" cy="403236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4032360"/>
              <a:gd name="textAreaBottom" fmla="*/ 3923640 h 4032360"/>
            </a:gdLst>
            <a:ahLst/>
            <a:rect l="textAreaLeft" t="textAreaTop" r="textAreaRight" b="textAreaBottom"/>
            <a:pathLst>
              <a:path w="21600" h="39020">
                <a:moveTo>
                  <a:pt x="3600" y="0"/>
                </a:moveTo>
                <a:arcTo wR="3600" hR="3600" stAng="16200000" swAng="-5400000"/>
                <a:lnTo>
                  <a:pt x="0" y="35420"/>
                </a:lnTo>
                <a:arcTo wR="3600" hR="3600" stAng="10800000" swAng="-5400000"/>
                <a:lnTo>
                  <a:pt x="18000" y="39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6"/>
          <p:cNvSpPr/>
          <p:nvPr/>
        </p:nvSpPr>
        <p:spPr>
          <a:xfrm>
            <a:off x="250920" y="2060640"/>
            <a:ext cx="2233440" cy="4032360"/>
          </a:xfrm>
          <a:custGeom>
            <a:avLst/>
            <a:gdLst>
              <a:gd name="textAreaLeft" fmla="*/ 108720 w 2233440"/>
              <a:gd name="textAreaRight" fmla="*/ 2124720 w 2233440"/>
              <a:gd name="textAreaTop" fmla="*/ 108720 h 4032360"/>
              <a:gd name="textAreaBottom" fmla="*/ 3923640 h 4032360"/>
            </a:gdLst>
            <a:ahLst/>
            <a:rect l="textAreaLeft" t="textAreaTop" r="textAreaRight" b="textAreaBottom"/>
            <a:pathLst>
              <a:path w="21600" h="38995">
                <a:moveTo>
                  <a:pt x="3600" y="0"/>
                </a:moveTo>
                <a:arcTo wR="3600" hR="3600" stAng="16200000" swAng="-5400000"/>
                <a:lnTo>
                  <a:pt x="0" y="35395"/>
                </a:lnTo>
                <a:arcTo wR="3600" hR="3600" stAng="10800000" swAng="-5400000"/>
                <a:lnTo>
                  <a:pt x="18000" y="389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stom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own Arrow 9"/>
          <p:cNvSpPr/>
          <p:nvPr/>
        </p:nvSpPr>
        <p:spPr>
          <a:xfrm>
            <a:off x="4211640" y="2852640"/>
            <a:ext cx="865080" cy="244800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3489840" y="141300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User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6200640" y="141300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Intern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157320" y="141300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Extern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73840" y="515772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5472360" y="8380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</a:rPr>
              <a:t>Futur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46C4-DA24-4C1A-8E92-BAB192957FFB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57440" y="838080"/>
            <a:ext cx="298764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Identified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26920" y="186228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Versioning/Compat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ing (of AB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ing (of Property te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of XML (data type for extending a model/sc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lists publis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y synchr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act Analysis on UN/CEFACT Spec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06680" y="2615760"/>
            <a:ext cx="5930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Bureau Programme Support (BPS)</a:t>
            </a:r>
            <a:br>
              <a:rPr sz="3200"/>
            </a:br>
            <a:br>
              <a:rPr sz="3200"/>
            </a:b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Closing Plenar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0D36-E11C-4925-A6A1-381FA920C2EF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ointment of Domain Coordinator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ry Kay Blantz – Librar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dekazu Enjo – Validation (not confirm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view of all maintenance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braries, Codelists, XML Schema ge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a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939240" y="2286000"/>
            <a:ext cx="722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Domai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International Trade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cefact_forum"/>
          <p:cNvPicPr/>
          <p:nvPr/>
        </p:nvPicPr>
        <p:blipFill>
          <a:blip r:embed="rId1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24080" y="842760"/>
            <a:ext cx="7772400" cy="12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rade and Transport Facili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FFC8-FA1F-4115-89E0-D642FE2EA312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CTS 3.0 Property Harm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IFACT DMR processing compl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1.A XML schemas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1.A CCL revalid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A4F4-E9D1-40FF-9588-394F4966C6B9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entified key areas to focu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31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eamline production proc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dates to technical specifications and ‘methodologies’ to eliminate ‘oddities’ that drive unnecessary work and r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31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PS needs help, especially in the codelist, validation, and EDIFACT maintenance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31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lete gaps in method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lidation is a key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blication, versi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0BF0-88C0-48E3-A9B2-18CBA5B60550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bsite migration issues identified with corrective action plan esta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rketing /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ero (Fellini) Cucino has video taped many testimonials to be published on th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F051-6400-482A-96AF-55E8AFBB4CC9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cellent Turnout within BP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5791320" y="3467160"/>
            <a:ext cx="2119320" cy="3182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927000" cy="1001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146160" y="4732200"/>
            <a:ext cx="1968480" cy="2125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4"/>
          <a:stretch/>
        </p:blipFill>
        <p:spPr>
          <a:xfrm>
            <a:off x="2016000" y="3368520"/>
            <a:ext cx="1262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3333E-006 L 0.09167 -0.06666 C 0.11094 -0.08194 0.13976 -0.08958 0.16962 -0.08958 C 0.20382 -0.08958 0.23125 -0.08194 0.25052 -0.06666 L 0.34236 -3.33333E-006 E">
                                      <p:cBhvr>
                                        <p:cTn id="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06 0.05509 L 0.14583 0.07014 C 0.16233 0.07361 0.18698 0.07569 0.2125 0.07569 C 0.24167 0.07569 0.26476 0.07361 0.28125 0.07014 L 0.35972 0.05509 E">
                                      <p:cBhvr>
                                        <p:cTn id="8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507 L 0.0533 0.07524 C 0.06441 0.08079 0.08125 0.08403 0.09862 0.08403 C 0.11858 0.08403 0.13455 0.08079 0.14566 0.07524 L 0.19914 0.0507 E">
                                      <p:cBhvr>
                                        <p:cTn id="10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ECB5-1080-4159-B990-01D0B665923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5638680" y="8380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Communication: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of the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asellaDiTesto 1"/>
          <p:cNvSpPr/>
          <p:nvPr/>
        </p:nvSpPr>
        <p:spPr>
          <a:xfrm>
            <a:off x="1600200" y="1981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s agreed with the Secreteri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team was formed to update and revise the website www.uncefac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romotional materials: 5 video interviews on UN/CEFACT  success stor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AAA4-812D-4973-829D-906906B9F81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asellaDiTesto 2"/>
          <p:cNvSpPr/>
          <p:nvPr/>
        </p:nvSpPr>
        <p:spPr>
          <a:xfrm>
            <a:off x="1143000" y="2133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And now watch the vide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2466-08A6-4ECA-ABDF-FCFBAAFABDD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DSCN0568.MOV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7177-A471-4979-82BB-6EE7BD1F31A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380880" y="1981080"/>
            <a:ext cx="807732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osing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0" descr="cefact_forum"/>
          <p:cNvPicPr/>
          <p:nvPr/>
        </p:nvPicPr>
        <p:blipFill>
          <a:blip r:embed="rId1"/>
          <a:stretch/>
        </p:blipFill>
        <p:spPr>
          <a:xfrm>
            <a:off x="380880" y="152280"/>
            <a:ext cx="8309160" cy="12654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3640" y="76500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International Trade Proced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73520" y="1398600"/>
            <a:ext cx="845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nd update of work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 36 Single Window Interoperability first draft being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 on Consultation Models first draft being developed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of Business Process Analysis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/REC 1 ITP Nominee to reengage with ISO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ly on the aligned standard Layou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 14 further discussions on possible update-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 for a new project to prepare a recommen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the work on Environmental (Hazardo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 Coding (supporting the work of Ms Pilgr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Discussion on the future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ingle Window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Discussion on mBusiness solutions for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cefact_forum"/>
          <p:cNvPicPr/>
          <p:nvPr/>
        </p:nvPicPr>
        <p:blipFill>
          <a:blip r:embed="rId1"/>
          <a:stretch/>
        </p:blipFill>
        <p:spPr>
          <a:xfrm>
            <a:off x="395280" y="115920"/>
            <a:ext cx="8309160" cy="1265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48000" y="838080"/>
            <a:ext cx="360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Custo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179280" y="1484280"/>
            <a:ext cx="878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ed in the EDIFACT technical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ed DMRs for GOVCBR; updated GOVCBR expected in D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ed in the project Single Window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d the group on the initiative on Globally Networked Cust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pdated the PDA on developments on IMO FAL Committ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nalization of the FAL compend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atment of stowaways, privately Contracted Armed Security Personne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zation of the Maritime Single Window Guidelin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of guidelines for electronic access to certificates on board vessels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ed in the UNECE information session on a standard for the electronic CIM/SMGS Consignment Note for Rai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pdates on development of a standard on advance cargo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of a new electronic message not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O will convey the difficulties faced by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common data requirements and procedures for advance cargo reporting by count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d discussions with UNCTAD on areas of mutual interest in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" descr="cefact_forum"/>
          <p:cNvPicPr/>
          <p:nvPr/>
        </p:nvPicPr>
        <p:blipFill>
          <a:blip r:embed="rId1"/>
          <a:stretch/>
        </p:blipFill>
        <p:spPr>
          <a:xfrm>
            <a:off x="395280" y="115920"/>
            <a:ext cx="8309160" cy="1265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2854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atus of and further actions for the projects in the Transport Domain (status report, transport instruction, waybill, dangerous goods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tion plan to progress the “Cargo Tracing and Tracking”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Multi Modal Transport structure as a subset of the Core Components for use in the Transport and Logistics dom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ssessment of DMR’s from the transport dom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rmonization work between TDED and EDED Directories for transport i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intenance of the EDIFACT Directories and UN/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port on cooperation with developments in the Transport domain (IATA, UIC, FIATA, IMO, SMDG, PROTEC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oint meeting with Customs / WCO on the action plan regarding the Advance Cargo Declaration harmonization issue; Other items: IMO FAL Forms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port on cooperation with ISO committees relevant for the Transport domain, namely ISO TC204 ( ITS - Intelligent Transport Systems) and ISO TC8 (Maritim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firmation of the Transport interim meeting in Valencia on 14‐18 Nove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ptember 20th : Meeting with International Transport Organizations at IATA to assess impact of the CEFACT reorganization on the Transport/Logistics sec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ptember 21th: Meeting with UNECE Trade-Transport Division and UIC to discuss regulatory aspects and data harmonization of the Rail Consignment Note (CIM) with the CEFACT standard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71640" y="2743200"/>
            <a:ext cx="720072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Achiev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of th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Palatino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Palatino"/>
              </a:rPr>
              <a:t>Geneva, Switzerland – 23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Changes in Supply Chain PDA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Supply Chain PDA Sco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Projects within Supply Chain PDA  Scope - Existing &amp;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Projects outside Supply Chain PD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Future Supply Chain PDA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5181480" y="90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Admin</cp:lastModifiedBy>
  <dcterms:modified xsi:type="dcterms:W3CDTF">2011-09-23T10:18:34Z</dcterms:modified>
  <cp:revision>441</cp:revision>
  <dc:subject>PPT Template</dc:subject>
  <dc:title>United Nations Economic Commssion for Europe</dc:title>
</cp:coreProperties>
</file>