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27D2-C555-46C1-B7B1-47281BA60CA3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745A-0F31-4B39-902E-82D1830DD655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8BCB-4830-4446-B643-2AF05E63F90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6522-2CF5-4E84-B019-AD4E84A96735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DB77-BB06-4ED1-A160-FBBF25F3D1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B91B-7EA3-43DB-9A27-7F37B7E3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9B3F-7BC2-484C-9359-EF654DBAA2C0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644A-FF3E-402E-8D6E-B8C0DCCFEF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1904-CEC0-4FF5-86B0-C6A01848CB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1B98-1C35-4C56-94AE-B2F9BCB1C7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2D62-764F-4C98-BFAB-CC72EB7FD8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A3E1-C069-4C0C-814C-E3B0D3001A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9638-03A8-4062-9016-5B6AB315EB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0603-8DE3-443D-B29B-FBE5C684A8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54C5-4EF0-45AB-8953-9247853EE0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C0CB-E8DD-4676-82F2-B17A3D69B2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A96A-9A41-40B9-9F18-E937207AAD35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EE0C-D8B4-4451-A2A1-002162B91361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F38B-5558-46A2-80FA-7B594937A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76E6-ACC9-459D-BEAF-76DB10B21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A5A0-2F84-4702-A5CB-BBBA42ABC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8687-C68B-4BC4-BE93-6832035D9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2941-020C-4FF9-95A5-59F7CFAC1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851F-E4A0-4836-B943-2F4355309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020D-A34D-4853-B6BE-AEE5D5D30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5971-CE43-482E-B03B-5222B9CB6B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6099-A09C-4964-84BE-E36AF532BD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8233-FDEE-4A85-9691-B89EF503B2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1A4C-260A-404F-9235-212A281EC2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8E06-5276-422F-B5A8-F01CDE78D0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B84D-3E20-404A-9A52-F62C984E11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99E3-91FF-4D09-AA36-D3FDC8F81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891B-42C2-46E1-A039-B87E53399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B0747-6E9E-420D-9DBE-FC12A36075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C371-446B-440F-802A-3E27823737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31D6-0C4B-4551-9418-93538F0774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9F54-34BB-44FA-A94C-4F36AC358D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3C7E-5CF6-4892-9B41-8C7FB66145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76A7-BC4E-4AEF-A085-1058933054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E562B-3F3D-47F6-B3E2-070A78D9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63F7C-FC13-4653-9BAC-C610547F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2A82-F3D3-407B-BA1C-B2FC401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2B78-64F9-43DD-AE3D-26B5DB2CA4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AD12F-D917-4E45-9F72-2D50D968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94990-5B92-45FC-A80B-6141D216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BA823-F60A-4819-A1D8-EB488B78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B4D2E-0563-479C-A4AE-1E5E5E96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22794-9892-466D-AFF0-61F0B765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78C56-1F69-45EF-A9CE-19AC85D0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AFF20-CA9C-4158-8375-A91AB0BD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06204-8214-4E7B-8306-3816E6BC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75413-5154-424E-B4A1-859E24CE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BE39-D4FF-4987-ACB4-7E2415DF2E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ACA6-EDFA-4848-B0C2-56DFDB6917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935E4-A475-4CE3-B961-B740D4B5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434AA-9751-4A28-B316-C5502831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7B24B-9F43-4349-8F78-C488C1B3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88B4C-FBB3-45E2-BD1D-92876B39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49C23-AF75-4130-9680-3255BB81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EFD29-5F7B-430A-A076-4E26E7D4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A96CC-2403-4773-865F-AFAC2A9D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817F0-599B-4618-973B-4106AC4D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2878B-8F24-41E2-86E0-28DB4BBF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2199-CB06-4A82-81DB-4B126944752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CCA6C-0E0F-4E8A-8E7F-79517B7A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9EDF1-873F-4332-9178-ACEA8227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C5DC2-F92D-42F5-A622-FD146DC3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67C0-2AF1-49F0-B152-A7243B144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16F6-7E27-4D13-B6D9-B93D8114F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3F22-EF9F-416F-B769-466132C56862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30FA-3D37-4240-83CA-E8423E80355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April 20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4"/>
          </p:nvPr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UN/CEFACT FORUM – Rome, Italy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55A9-5CF2-42EA-86E2-9B071D4F55C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9036-0907-44AF-BA0B-D5BCDE962DC0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4920" y="1981080"/>
            <a:ext cx="67820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18</a:t>
            </a:r>
            <a:r>
              <a:rPr b="1" lang="de-CH" sz="4400" spc="-1" strike="noStrike" baseline="30000">
                <a:solidFill>
                  <a:srgbClr val="1f497d"/>
                </a:solidFill>
                <a:latin typeface="Calibri"/>
                <a:ea typeface="Arial"/>
              </a:rPr>
              <a:t>th</a:t>
            </a: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 UN/CEFACT Forum</a:t>
            </a:r>
            <a:br>
              <a:rPr sz="4400"/>
            </a:b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Arial"/>
              </a:rPr>
              <a:t>Closing P</a:t>
            </a: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lenary</a:t>
            </a:r>
            <a:br>
              <a:rPr sz="4000"/>
            </a:b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14.00 hr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1828800" y="510552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1f497d"/>
                </a:solidFill>
                <a:latin typeface="Arial"/>
              </a:rPr>
              <a:t>23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 International Conferenc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fgeronde rechthoek 7"/>
          <p:cNvSpPr/>
          <p:nvPr/>
        </p:nvSpPr>
        <p:spPr>
          <a:xfrm>
            <a:off x="1828800" y="838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fgeronde rechthoek 12"/>
          <p:cNvSpPr/>
          <p:nvPr/>
        </p:nvSpPr>
        <p:spPr>
          <a:xfrm>
            <a:off x="4343400" y="838080"/>
            <a:ext cx="4267080" cy="3812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fgeronde rechthoek 7"/>
          <p:cNvSpPr/>
          <p:nvPr/>
        </p:nvSpPr>
        <p:spPr>
          <a:xfrm>
            <a:off x="1828800" y="380880"/>
            <a:ext cx="69343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OF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fgeronde rechthoek 5"/>
          <p:cNvSpPr/>
          <p:nvPr/>
        </p:nvSpPr>
        <p:spPr>
          <a:xfrm>
            <a:off x="304920" y="1295280"/>
            <a:ext cx="1295280" cy="54104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410440"/>
              <a:gd name="textAreaBottom" fmla="*/ 5347440 h 5410440"/>
            </a:gdLst>
            <a:ahLst/>
            <a:rect l="textAreaLeft" t="textAreaTop" r="textAreaRight" b="textAreaBottom"/>
            <a:pathLst>
              <a:path w="21600" h="90205">
                <a:moveTo>
                  <a:pt x="3600" y="0"/>
                </a:moveTo>
                <a:arcTo wR="3600" hR="3600" stAng="16200000" swAng="-5400000"/>
                <a:lnTo>
                  <a:pt x="0" y="86605"/>
                </a:lnTo>
                <a:arcTo wR="3600" hR="3600" stAng="10800000" swAng="-5400000"/>
                <a:lnTo>
                  <a:pt x="18000" y="9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ke Do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 McG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fgeronde rechthoek 7"/>
          <p:cNvSpPr/>
          <p:nvPr/>
        </p:nvSpPr>
        <p:spPr>
          <a:xfrm>
            <a:off x="2222640" y="1700280"/>
            <a:ext cx="1844640" cy="4276800"/>
          </a:xfrm>
          <a:custGeom>
            <a:avLst/>
            <a:gdLst>
              <a:gd name="textAreaLeft" fmla="*/ 90000 w 1844640"/>
              <a:gd name="textAreaRight" fmla="*/ 1754640 w 1844640"/>
              <a:gd name="textAreaTop" fmla="*/ 90000 h 4276800"/>
              <a:gd name="textAreaBottom" fmla="*/ 4186800 h 4276800"/>
            </a:gdLst>
            <a:ahLst/>
            <a:rect l="textAreaLeft" t="textAreaTop" r="textAreaRight" b="textAreaBottom"/>
            <a:pathLst>
              <a:path w="21600" h="50074">
                <a:moveTo>
                  <a:pt x="3600" y="0"/>
                </a:moveTo>
                <a:arcTo wR="3600" hR="3600" stAng="16200000" swAng="-5400000"/>
                <a:lnTo>
                  <a:pt x="0" y="46474"/>
                </a:lnTo>
                <a:arcTo wR="3600" hR="3600" stAng="10800000" swAng="-5400000"/>
                <a:lnTo>
                  <a:pt x="18000" y="500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fgeronde rechthoek 12"/>
          <p:cNvSpPr/>
          <p:nvPr/>
        </p:nvSpPr>
        <p:spPr>
          <a:xfrm>
            <a:off x="4191120" y="1670040"/>
            <a:ext cx="4724280" cy="4121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8"/>
          <p:cNvSpPr/>
          <p:nvPr/>
        </p:nvSpPr>
        <p:spPr>
          <a:xfrm>
            <a:off x="4724280" y="2488320"/>
            <a:ext cx="3951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inance/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ccounting/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8064360" cy="13478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URRENT DOMAINS &amp; COORDINATO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Palatino"/>
              </a:rPr>
              <a:t>Supply Chai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Karina Duvinger &amp; 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Palatino"/>
              </a:rPr>
              <a:t>Procur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Bernard Long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Finance &amp; Payments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Liliana Fratini Pas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Ray Pisan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Accounting &amp; Audi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Michel Lesourd &amp; Eric Co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5257800" y="907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2233440"/>
            <a:ext cx="8064360" cy="13478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uropean perspective on eProcurement from the PEPPOL &amp; BII Point of View - Josteyn Fromy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U Multistakeholder Forum to Facilitate the Adoption of eInvoicing - 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EN Message User Guidelines MUG 1 - Bernard Long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EN European Core Invoice Implementation Guide - Kevin Sm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Legal Notice Publication – Didier Har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5219640" y="90792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19720" y="804600"/>
            <a:ext cx="50292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Palatino"/>
              </a:rPr>
              <a:t>Supply Chain PD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AutoShape 4"/>
          <p:cNvSpPr/>
          <p:nvPr/>
        </p:nvSpPr>
        <p:spPr>
          <a:xfrm flipV="1">
            <a:off x="762120" y="2590200"/>
            <a:ext cx="1676160" cy="1143000"/>
          </a:xfrm>
          <a:custGeom>
            <a:avLst/>
            <a:gdLst>
              <a:gd name="textAreaLeft" fmla="*/ 0 w 1676160"/>
              <a:gd name="textAreaRight" fmla="*/ 1676520 w 167616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2666880" y="2590920"/>
            <a:ext cx="1676520" cy="11430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4495680" y="2590920"/>
            <a:ext cx="1676520" cy="11430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1600200" y="4800600"/>
            <a:ext cx="65530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International Supply Chains consist of </a:t>
            </a:r>
            <a:r>
              <a:rPr b="0" lang="en-US" sz="2000" spc="-1" strike="noStrike" u="sng">
                <a:solidFill>
                  <a:srgbClr val="e9ffff"/>
                </a:solidFill>
                <a:uFillTx/>
                <a:latin typeface="Times New Roman"/>
              </a:rPr>
              <a:t>integrated </a:t>
            </a: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and </a:t>
            </a:r>
            <a:r>
              <a:rPr b="0" lang="en-US" sz="2000" spc="-1" strike="noStrike" u="sng">
                <a:solidFill>
                  <a:srgbClr val="e9ffff"/>
                </a:solidFill>
                <a:uFillTx/>
                <a:latin typeface="Times New Roman"/>
              </a:rPr>
              <a:t>coordinated flows </a:t>
            </a: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of information, goods &amp;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1828800" y="5986440"/>
            <a:ext cx="6095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503600" y="4402080"/>
            <a:ext cx="184320" cy="366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 flipV="1">
            <a:off x="762120" y="4037760"/>
            <a:ext cx="1523880" cy="1219320"/>
          </a:xfrm>
          <a:custGeom>
            <a:avLst/>
            <a:gdLst>
              <a:gd name="textAreaLeft" fmla="*/ 0 w 1523880"/>
              <a:gd name="textAreaRight" fmla="*/ 1524240 w 1523880"/>
              <a:gd name="textAreaTop" fmla="*/ -360 h 1219320"/>
              <a:gd name="textAreaBottom" fmla="*/ 1219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7094520" y="3182760"/>
            <a:ext cx="184320" cy="366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3"/>
          <p:cNvSpPr/>
          <p:nvPr/>
        </p:nvSpPr>
        <p:spPr>
          <a:xfrm flipV="1">
            <a:off x="6324480" y="2666880"/>
            <a:ext cx="1752840" cy="1067040"/>
          </a:xfrm>
          <a:custGeom>
            <a:avLst/>
            <a:gdLst>
              <a:gd name="textAreaLeft" fmla="*/ 0 w 1752840"/>
              <a:gd name="textAreaRight" fmla="*/ 1753200 w 1752840"/>
              <a:gd name="textAreaTop" fmla="*/ 360 h 1067040"/>
              <a:gd name="textAreaBottom" fmla="*/ 1067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ORDER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4"/>
          <p:cNvSpPr/>
          <p:nvPr/>
        </p:nvSpPr>
        <p:spPr>
          <a:xfrm>
            <a:off x="3665520" y="4325760"/>
            <a:ext cx="184320" cy="366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5"/>
          <p:cNvSpPr/>
          <p:nvPr/>
        </p:nvSpPr>
        <p:spPr>
          <a:xfrm flipV="1">
            <a:off x="2743200" y="4114080"/>
            <a:ext cx="1523880" cy="1219320"/>
          </a:xfrm>
          <a:custGeom>
            <a:avLst/>
            <a:gdLst>
              <a:gd name="textAreaLeft" fmla="*/ 0 w 1523880"/>
              <a:gd name="textAreaRight" fmla="*/ 1524240 w 1523880"/>
              <a:gd name="textAreaTop" fmla="*/ -360 h 1219320"/>
              <a:gd name="textAreaBottom" fmla="*/ 1219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BILL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5951520" y="4478400"/>
            <a:ext cx="184320" cy="366480"/>
          </a:xfrm>
          <a:custGeom>
            <a:avLst/>
            <a:gdLst>
              <a:gd name="textAreaLeft" fmla="*/ 0 w 184320"/>
              <a:gd name="textAreaRight" fmla="*/ 184680 w 1843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7"/>
          <p:cNvSpPr/>
          <p:nvPr/>
        </p:nvSpPr>
        <p:spPr>
          <a:xfrm flipV="1">
            <a:off x="4572000" y="4190400"/>
            <a:ext cx="1523880" cy="1143000"/>
          </a:xfrm>
          <a:custGeom>
            <a:avLst/>
            <a:gdLst>
              <a:gd name="textAreaLeft" fmla="*/ 0 w 1523880"/>
              <a:gd name="textAreaRight" fmla="*/ 1524240 w 152388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8"/>
          <p:cNvSpPr/>
          <p:nvPr/>
        </p:nvSpPr>
        <p:spPr>
          <a:xfrm>
            <a:off x="7856640" y="4707000"/>
            <a:ext cx="183960" cy="366480"/>
          </a:xfrm>
          <a:custGeom>
            <a:avLst/>
            <a:gdLst>
              <a:gd name="textAreaLeft" fmla="*/ 0 w 183960"/>
              <a:gd name="textAreaRight" fmla="*/ 184320 w 1839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 flipV="1">
            <a:off x="6400800" y="4190400"/>
            <a:ext cx="1676520" cy="1143000"/>
          </a:xfrm>
          <a:custGeom>
            <a:avLst/>
            <a:gdLst>
              <a:gd name="textAreaLeft" fmla="*/ 0 w 1676520"/>
              <a:gd name="textAreaRight" fmla="*/ 1676880 w 167652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0"/>
          <p:cNvSpPr/>
          <p:nvPr/>
        </p:nvSpPr>
        <p:spPr>
          <a:xfrm>
            <a:off x="2065320" y="6154560"/>
            <a:ext cx="184320" cy="366840"/>
          </a:xfrm>
          <a:custGeom>
            <a:avLst/>
            <a:gdLst>
              <a:gd name="textAreaLeft" fmla="*/ 0 w 184320"/>
              <a:gd name="textAreaRight" fmla="*/ 184680 w 1843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1"/>
          <p:cNvSpPr/>
          <p:nvPr/>
        </p:nvSpPr>
        <p:spPr>
          <a:xfrm flipV="1">
            <a:off x="838080" y="5562000"/>
            <a:ext cx="1524240" cy="1143000"/>
          </a:xfrm>
          <a:custGeom>
            <a:avLst/>
            <a:gdLst>
              <a:gd name="textAreaLeft" fmla="*/ 0 w 1524240"/>
              <a:gd name="textAreaRight" fmla="*/ 1524600 w 152424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RE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762120" y="1773360"/>
            <a:ext cx="739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flow diagram will be discussed with other PDAs to provide a complete view of CEFACT Scope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NOTIF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Legal Notification Publicatio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Didier Har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SOURCE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Catalogue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Karina Duvin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rice Lists (N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TEN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eTendering (including eNotices)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Kevin Smith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Quotatio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Gilles Bran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"/>
          <p:cNvSpPr/>
          <p:nvPr/>
        </p:nvSpPr>
        <p:spPr>
          <a:xfrm>
            <a:off x="5257800" y="90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CONTRACT/OR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Ordering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artin Forsbe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DELI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Project Schedule &amp; Cost Performance Management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hris Hassler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Scheduling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amy Scema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Delivery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BILL</a:t>
            </a: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Michel Entat</a:t>
            </a: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Invoice: v2.0 + 2.1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Migration CII to CCTS 3.0 &amp; NDR 3.0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Karina Duvinger (Coordinat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5257800" y="90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Cross Industry Remittance Advice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ounir El-Kou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ustomer Statement (Ne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Market Research Informatio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Helge Simons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5181480" y="9144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ross Domain and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Accounting Toke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Supply Chain Process Common Requirements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ue Probe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Security for XML Documents &amp; Messages (Rec 37)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Sujeet Bhat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aster &amp; Measured Data Alignment for the Europe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nergy Market (Proposal): Kees Sparreb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"/>
          <p:cNvSpPr/>
          <p:nvPr/>
        </p:nvSpPr>
        <p:spPr>
          <a:xfrm>
            <a:off x="5181480" y="90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Finance &amp; Pay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upply Chain Finance: new standardization needs to be addressed (eg.: guarantees, letters of credit, open account, trade counterparties scree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ross-Industry Invoice: maintainance with respect to financial issues / coordination with other PDA doma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Liaison with ISO20022 and global financial services (e.g.: Common Global Implement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o be followed up after SIBOS event in Toro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5181480" y="914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ccounting &amp; Audi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Lexical Nomenclatur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Trial Balanc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Bundle Collection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Entry v.1 &amp; v.2 (maintenance)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Ledger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Chart of Accounts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Reporting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Message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Accounting Journal: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Michel Lesou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5219640" y="90792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EA13-279D-42DB-B608-20777340A344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762120" y="1981080"/>
            <a:ext cx="807696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gramme Development 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de and Transport Fac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</a:t>
            </a: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</a:t>
            </a: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gula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</a:t>
            </a: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t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</a:t>
            </a:r>
            <a:r>
              <a:rPr b="1" lang="de-CH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ethodology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ureau Programm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losing Re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6256080" y="838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uture Supply Chain PDA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Palatino"/>
              </a:rPr>
              <a:t>Publish current project deliverables by end of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Palatino"/>
              </a:rPr>
              <a:t>Improve UN/CEFACT’s Publication Process as a matter of high p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Address private and public sector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Revisit Gap Analysis recommend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Propose new Themes &amp; Projects - Business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Review external Supply Chain initia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Palatino"/>
              </a:rPr>
              <a:t>Encourage Supply Chain experts to return to UN/CEF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Palatino"/>
              </a:rPr>
              <a:t>Request resources from Plenary delegations, and/or other potential sponsors, to suppor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5219640" y="76212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000" y="2081160"/>
            <a:ext cx="8064360" cy="134784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lanning for Virt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Meeting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Every Second Wednesday at 16:00 C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Starting on 28 Septembe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5219640" y="90792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3"/>
          <p:cNvSpPr/>
          <p:nvPr/>
        </p:nvSpPr>
        <p:spPr>
          <a:xfrm>
            <a:off x="992880" y="2438280"/>
            <a:ext cx="656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Domai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Environmental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609480" y="152280"/>
            <a:ext cx="7772400" cy="121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0" descr="cefact_forum"/>
          <p:cNvPicPr/>
          <p:nvPr/>
        </p:nvPicPr>
        <p:blipFill>
          <a:blip r:embed="rId1"/>
          <a:stretch/>
        </p:blipFill>
        <p:spPr>
          <a:xfrm>
            <a:off x="395280" y="115920"/>
            <a:ext cx="8309160" cy="12650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148000" y="691920"/>
            <a:ext cx="3600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Calibri"/>
              </a:rPr>
              <a:t>Environmental</a:t>
            </a:r>
            <a:br>
              <a:rPr sz="2600"/>
            </a:br>
            <a:r>
              <a:rPr b="1" lang="sv-SE" sz="26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173880" y="1557360"/>
            <a:ext cx="8818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s on the work program for the Environment Dom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work on the GHS, MSDS and REACH proj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/updates coming to the waste disposal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s on developing a Recommendation for the Environmen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jointly with International Trade Procedures Dom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1640" y="804600"/>
            <a:ext cx="4125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Sector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99B7-B003-4004-883F-36423CB37D1B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33520" y="31237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Programme Development Area Sect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 – 23 Septemb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17236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ectoral PDA</a:t>
            </a:r>
            <a:br>
              <a:rPr sz="44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omain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omain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dreas Schul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95320" y="804600"/>
            <a:ext cx="4202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Domain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he domain insurance is at present a joint work between  ACORD - USA, and the European eBusiness Expert Group for Insurance (eEG7) with members from BiPRO - Germany, SIVI – The Netherlands, Telebib - Belgium, GS4eB – Germ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19720" y="804600"/>
            <a:ext cx="42782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Work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ojects are plann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mmercial line business (from small commercial up to large industri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ivate Cl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ogether with the healthcare domain for exchange between healthcare professionals, patients and health insurance compa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160020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al P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Travel/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476000" y="3429000"/>
            <a:ext cx="6767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 Coordina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io Suzu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omain Travel/Tourism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3520" y="20574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hieved this w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BRS preparation for Small scaled Lodging House Reservation Information Process was progres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Attended the CCL property terms review held and guided by CCL 3.0 development/maintenance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Discussion on the new project proposed by  a Thailand expert was held and will be further studied among the expe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B3C4-A20A-4088-A8AC-B841B95CA78F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6378480" y="8492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Bur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762120" y="1447920"/>
            <a:ext cx="8076960" cy="62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 indent="28404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    </a:t>
            </a:r>
            <a:r>
              <a:rPr b="0" lang="de-CH" sz="2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Some key topics/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ocus on developments in PDAs and B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pen Bureau sessions Monday-Thursday 17.00-17.30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lenary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gramm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genda, documents, recommendation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sul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ebsite, transparency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Liaison and strategic cooperation in stand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ECE Mobile Business flier to be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alendar of events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dia - March/April 20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enna Sept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62520" y="804600"/>
            <a:ext cx="4735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Small scaled Lodging House Reservation Information Process will be finalized (by March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New project proposals will be discussed among the experts. And they will be proposed to be in time for the next forum when they are agreed upon by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Collaboration with such organizations as OTA,  AFACT, other international or national bodies will be well checked and negotiated, if needed, by the experts of the gro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Capacity building activity will be considered especially for Asian count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C70C-F99E-490F-BC72-F1089EAF9A90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3480" y="1752120"/>
            <a:ext cx="7404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ectoral PD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ain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ain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ans van Die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78BC-EF5A-48FF-AEAC-1E0256D1A239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62520" y="804600"/>
            <a:ext cx="47354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ivestock Life Events Recor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Focus on animal trade iss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gricultural observ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Focus on 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e-LAB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xchange of  laboratoria observations and conclusions 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il, animal  and plant sample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New projects expect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ross industry invoi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xtensions to support trade in fresh vegetables, fruits and cutflow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arming  management  and farm operation  information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achine instructions, logging of operations and remote sensing on the fa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54120" y="2615760"/>
            <a:ext cx="60357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Methodology and Technology PDA</a:t>
            </a:r>
            <a:br>
              <a:rPr sz="3200"/>
            </a:br>
            <a:br>
              <a:rPr sz="3200"/>
            </a:b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Closing Plenary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 – 23 Septemb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797A-3A76-4FCD-B47B-25B8A1227072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gress for the we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5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ointment of Domain Coordinator(s) not needed at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iew the status of all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iew of the existing Programme of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CA44-9924-4DED-8E6B-2914F9E5D7EF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257440" y="838080"/>
            <a:ext cx="304308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ject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26920" y="2319480"/>
            <a:ext cx="77724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6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usiness Document H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re Components Business Document Assemb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eft Arrow 7"/>
          <p:cNvSpPr/>
          <p:nvPr/>
        </p:nvSpPr>
        <p:spPr>
          <a:xfrm>
            <a:off x="5580000" y="3357720"/>
            <a:ext cx="1368360" cy="1008000"/>
          </a:xfrm>
          <a:prstGeom prst="left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eft Arrow 8"/>
          <p:cNvSpPr/>
          <p:nvPr/>
        </p:nvSpPr>
        <p:spPr>
          <a:xfrm>
            <a:off x="2411280" y="3357720"/>
            <a:ext cx="1368720" cy="1008000"/>
          </a:xfrm>
          <a:prstGeom prst="leftArrow">
            <a:avLst>
              <a:gd name="adj1" fmla="val 50000"/>
              <a:gd name="adj2" fmla="val 5002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96F7-0D0B-4721-A238-684FC476DC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ounded Rectangle 4"/>
          <p:cNvSpPr/>
          <p:nvPr/>
        </p:nvSpPr>
        <p:spPr>
          <a:xfrm>
            <a:off x="6443640" y="1989000"/>
            <a:ext cx="2232000" cy="403236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4032360"/>
              <a:gd name="textAreaBottom" fmla="*/ 3923640 h 4032360"/>
            </a:gdLst>
            <a:ahLst/>
            <a:rect l="textAreaLeft" t="textAreaTop" r="textAreaRight" b="textAreaBottom"/>
            <a:pathLst>
              <a:path w="21600" h="39020">
                <a:moveTo>
                  <a:pt x="3600" y="0"/>
                </a:moveTo>
                <a:arcTo wR="3600" hR="3600" stAng="16200000" swAng="-5400000"/>
                <a:lnTo>
                  <a:pt x="0" y="35420"/>
                </a:lnTo>
                <a:arcTo wR="3600" hR="3600" stAng="10800000" swAng="-5400000"/>
                <a:lnTo>
                  <a:pt x="18000" y="390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intenance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ounded Rectangle 5"/>
          <p:cNvSpPr/>
          <p:nvPr/>
        </p:nvSpPr>
        <p:spPr>
          <a:xfrm>
            <a:off x="3419640" y="1989000"/>
            <a:ext cx="2232000" cy="403236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4032360"/>
              <a:gd name="textAreaBottom" fmla="*/ 3923640 h 4032360"/>
            </a:gdLst>
            <a:ahLst/>
            <a:rect l="textAreaLeft" t="textAreaTop" r="textAreaRight" b="textAreaBottom"/>
            <a:pathLst>
              <a:path w="21600" h="39020">
                <a:moveTo>
                  <a:pt x="3600" y="0"/>
                </a:moveTo>
                <a:arcTo wR="3600" hR="3600" stAng="16200000" swAng="-5400000"/>
                <a:lnTo>
                  <a:pt x="0" y="35420"/>
                </a:lnTo>
                <a:arcTo wR="3600" hR="3600" stAng="10800000" swAng="-5400000"/>
                <a:lnTo>
                  <a:pt x="18000" y="390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le 6"/>
          <p:cNvSpPr/>
          <p:nvPr/>
        </p:nvSpPr>
        <p:spPr>
          <a:xfrm>
            <a:off x="250920" y="2060640"/>
            <a:ext cx="2233440" cy="4032360"/>
          </a:xfrm>
          <a:custGeom>
            <a:avLst/>
            <a:gdLst>
              <a:gd name="textAreaLeft" fmla="*/ 108720 w 2233440"/>
              <a:gd name="textAreaRight" fmla="*/ 2124720 w 2233440"/>
              <a:gd name="textAreaTop" fmla="*/ 108720 h 4032360"/>
              <a:gd name="textAreaBottom" fmla="*/ 3923640 h 4032360"/>
            </a:gdLst>
            <a:ahLst/>
            <a:rect l="textAreaLeft" t="textAreaTop" r="textAreaRight" b="textAreaBottom"/>
            <a:pathLst>
              <a:path w="21600" h="38995">
                <a:moveTo>
                  <a:pt x="3600" y="0"/>
                </a:moveTo>
                <a:arcTo wR="3600" hR="3600" stAng="16200000" swAng="-5400000"/>
                <a:lnTo>
                  <a:pt x="0" y="35395"/>
                </a:lnTo>
                <a:arcTo wR="3600" hR="3600" stAng="10800000" swAng="-5400000"/>
                <a:lnTo>
                  <a:pt x="18000" y="389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stom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own Arrow 9"/>
          <p:cNvSpPr/>
          <p:nvPr/>
        </p:nvSpPr>
        <p:spPr>
          <a:xfrm>
            <a:off x="4211640" y="2852640"/>
            <a:ext cx="865080" cy="244800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c6d9f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3489840" y="141300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User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1"/>
          <p:cNvSpPr/>
          <p:nvPr/>
        </p:nvSpPr>
        <p:spPr>
          <a:xfrm>
            <a:off x="6200640" y="141300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Internal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2"/>
          <p:cNvSpPr/>
          <p:nvPr/>
        </p:nvSpPr>
        <p:spPr>
          <a:xfrm>
            <a:off x="157320" y="141300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External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573840" y="515772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5472360" y="8380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</a:rPr>
              <a:t>Futur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A34F-3563-4E13-8CDA-044A01529C17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57440" y="838080"/>
            <a:ext cx="298764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Identified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26920" y="1862280"/>
            <a:ext cx="77724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ML Versioning/Compat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ing (of AB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ing (of Property ter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on of XML (data type for extending a model/sc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 lists publis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rary synchr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act Analysis on UN/CEFACT Spec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06680" y="2615760"/>
            <a:ext cx="5930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Bureau Programme Support (BPS)</a:t>
            </a:r>
            <a:br>
              <a:rPr sz="3200"/>
            </a:br>
            <a:br>
              <a:rPr sz="3200"/>
            </a:b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Closing Plenary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9 – 23 Septemb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9F5B-9940-4EE9-84B3-E04C5DF01F60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1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gress for the we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ointment of Domain Coordinator(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ry Kay Blantz – Library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idekazu Enjo – Validation (not confirm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6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view of all maintenance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braries, Codelists, XML Schema gen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at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32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939240" y="2286000"/>
            <a:ext cx="722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Domai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International Trade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cefact_forum"/>
          <p:cNvPicPr/>
          <p:nvPr/>
        </p:nvPicPr>
        <p:blipFill>
          <a:blip r:embed="rId1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24080" y="842760"/>
            <a:ext cx="7772400" cy="121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rade and Transport Facili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C925-4A92-45CE-9307-296F39C0086B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1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gress for the we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CTS 3.0 Property Harm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IFACT DMR processing comple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1.A XML schemas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1.A CCL revalid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57F2-F1A3-41D9-971E-F8CC85C67C59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1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gress for the we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dentified key areas to focu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31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eamline production proce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6360" indent="-31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pdates to technical specifications and ‘methodologies’ to eliminate ‘oddities’ that drive unnecessary work and r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31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6360" indent="-31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PS needs help, especially in the codelist, validation, and EDIFACT maintenance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31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lete gaps in method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6360" indent="-31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alidation is a key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6360" indent="-31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blication, versio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8FBB-979B-407A-99E3-405C56AD3D7C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gress for the we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bsite migration issues identified with corrective action plan esta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rketing /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36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iero (Fellini) Cucino has video taped many testimonials to be published on the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62BB-13DA-4601-98F0-9D25907B3BA1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181120" y="685800"/>
            <a:ext cx="3565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Bureau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cellent Turnout within BP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5791320" y="3467160"/>
            <a:ext cx="2119320" cy="31827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927000" cy="1001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146160" y="4732200"/>
            <a:ext cx="1968480" cy="2125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4"/>
          <a:stretch/>
        </p:blipFill>
        <p:spPr>
          <a:xfrm>
            <a:off x="2016000" y="3368520"/>
            <a:ext cx="1262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33333E-006 L 0.09167 -0.06666 C 0.11094 -0.08194 0.13976 -0.08958 0.16962 -0.08958 C 0.20382 -0.08958 0.23125 -0.08194 0.25052 -0.06666 L 0.34236 -3.33333E-006 E">
                                      <p:cBhvr>
                                        <p:cTn id="6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06 0.05509 L 0.14583 0.07014 C 0.16233 0.07361 0.18698 0.07569 0.2125 0.07569 C 0.24167 0.07569 0.26476 0.07361 0.28125 0.07014 L 0.35972 0.05509 E">
                                      <p:cBhvr>
                                        <p:cTn id="8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507 L 0.0533 0.07524 C 0.06441 0.08079 0.08125 0.08403 0.09862 0.08403 C 0.11858 0.08403 0.13455 0.08079 0.14566 0.07524 L 0.19914 0.0507 E">
                                      <p:cBhvr>
                                        <p:cTn id="10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60D9-1560-4ABA-A62D-E6E8F2CDD80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"/>
          <p:cNvSpPr/>
          <p:nvPr/>
        </p:nvSpPr>
        <p:spPr>
          <a:xfrm>
            <a:off x="1049400" y="25909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"/>
          <p:cNvSpPr/>
          <p:nvPr/>
        </p:nvSpPr>
        <p:spPr>
          <a:xfrm>
            <a:off x="5638680" y="8380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Communication: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of the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CasellaDiTesto 1"/>
          <p:cNvSpPr/>
          <p:nvPr/>
        </p:nvSpPr>
        <p:spPr>
          <a:xfrm>
            <a:off x="1600200" y="198108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s agreed with the Secreteri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team was formed to update and revise the website www.uncefact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Promotional materials: 5 video interviews on UN/CEFACT  success stor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4984-EA94-4EBF-BF3B-3BEDB2A5CF0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asellaDiTesto 2"/>
          <p:cNvSpPr/>
          <p:nvPr/>
        </p:nvSpPr>
        <p:spPr>
          <a:xfrm>
            <a:off x="1143000" y="2133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And now watch the vide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B97-326A-4E06-8AD7-46077B7F49F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DSCN0568.MOV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9C95-E630-4678-847E-E58C87C9F0C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"/>
          <p:cNvSpPr/>
          <p:nvPr/>
        </p:nvSpPr>
        <p:spPr>
          <a:xfrm>
            <a:off x="380880" y="1981080"/>
            <a:ext cx="807732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losing Re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buClr>
                <a:srgbClr val="1f497d"/>
              </a:buClr>
              <a:buFont typeface="Symbol" charset="2"/>
              <a:buChar char=""/>
              <a:tabLst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84040">
              <a:lnSpc>
                <a:spcPct val="100000"/>
              </a:lnSpc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0" descr="cefact_forum"/>
          <p:cNvPicPr/>
          <p:nvPr/>
        </p:nvPicPr>
        <p:blipFill>
          <a:blip r:embed="rId1"/>
          <a:stretch/>
        </p:blipFill>
        <p:spPr>
          <a:xfrm>
            <a:off x="380880" y="152280"/>
            <a:ext cx="8309160" cy="12654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3640" y="76500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Calibri"/>
              </a:rPr>
              <a:t>International Trade Proced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173520" y="1398600"/>
            <a:ext cx="8452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and update of work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 36 Single Window Interoperability first draft being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 on Consultation Models first draft being developed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of Business Process Analysis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/REC 1 ITP Nominee to reengage with ISO 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ly on the aligned standard Layou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 14 further discussions on possible update-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 for a new project to prepare a recommen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ing the work on Environmental (Hazardo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 Coding (supporting the work of Ms Pilgr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Discussion on the future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ingle Window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Discussion on mBusiness solutions for Trade Fac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cefact_forum"/>
          <p:cNvPicPr/>
          <p:nvPr/>
        </p:nvPicPr>
        <p:blipFill>
          <a:blip r:embed="rId1"/>
          <a:stretch/>
        </p:blipFill>
        <p:spPr>
          <a:xfrm>
            <a:off x="395280" y="115920"/>
            <a:ext cx="8309160" cy="12650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48000" y="838080"/>
            <a:ext cx="3600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Calibri"/>
              </a:rPr>
              <a:t>Custo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Content Placeholder 2"/>
          <p:cNvSpPr/>
          <p:nvPr/>
        </p:nvSpPr>
        <p:spPr>
          <a:xfrm>
            <a:off x="179280" y="1484280"/>
            <a:ext cx="8785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ted in the EDIFACT technical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ed DMRs for GOVCBR; updated GOVCBR expected in D1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ted in the project Single Window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d the group on the initiative on Globally Networked Cust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pdated the PDA on developments on IMO FAL Committ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inalization of the FAL compendiu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atment of stowaways, privately Contracted Armed Security Personne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zation of the Maritime Single Window Guidelin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of guidelines for electronic access to certificates on board vessels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ted in the UNECE information session on a standard for the electronic CIM/SMGS Consignment Note for Rai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pdates on development of a standard on advance cargo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of a new electronic message not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CO will convey the difficulties faced by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for common data requirements and procedures for advance cargo reporting by count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d discussions with UNCTAD on areas of mutual interest in Trade Fac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0" descr="cefact_forum"/>
          <p:cNvPicPr/>
          <p:nvPr/>
        </p:nvPicPr>
        <p:blipFill>
          <a:blip r:embed="rId1"/>
          <a:stretch/>
        </p:blipFill>
        <p:spPr>
          <a:xfrm>
            <a:off x="395280" y="115920"/>
            <a:ext cx="8309160" cy="1265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2854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Calibri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atus of and further actions for the projects in the Transport Domain (status report, transport instruction, waybill, dangerous goods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tion plan to progress the “Cargo Tracing and Tracking”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Multi Modal Transport structure as a subset of the Core Components for use in the Transport and Logistics dom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ssessment of DMR’s from the transport dom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armonization work between TDED and EDED Directories for transport i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intenance of the EDIFACT Directories and UN/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port on cooperation with developments in the Transport domain (IATA, UIC, FIATA, IMO, SMDG, PROTECT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oint meeting with Customs / WCO on the action plan regarding the Advance Cargo Declaration harmonization issue; Other items: IMO FAL Forms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port on cooperation with ISO committees relevant for the Transport domain, namely ISO TC204 ( ITS - Intelligent Transport Systems) and ISO TC8 (Maritim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firmation of the Transport interim meeting in Valencia on 14‐18 Nove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ptember 20th : Meeting with International Transport Organizations at IATA to assess impact of the CEFACT reorganization on the Transport/Logistics sec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ptember 21th: Meeting with UNECE Trade-Transport Division and UIC to discuss regulatory aspects and data harmonization of the Rail Consignment Note (CIM) with the CEFACT standard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Palatino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 UN/CEFACT FOR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71640" y="2743200"/>
            <a:ext cx="720072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Supply Chain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Achieve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of the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Palatino"/>
              </a:rPr>
              <a:t>Geneva International Conference Cen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4a8"/>
                </a:solidFill>
                <a:latin typeface="Palatino"/>
              </a:rPr>
              <a:t>Geneva, Switzerland – 23 Septem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Changes in Supply Chain PDA Dom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Supply Chain PDA Scop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Projects within Supply Chain PDA  Scope - Existing &amp;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Projects outside Supply Chain PD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Future Supply Chain PDA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5181480" y="90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Admin</cp:lastModifiedBy>
  <dcterms:modified xsi:type="dcterms:W3CDTF">2011-09-23T10:18:34Z</dcterms:modified>
  <cp:revision>441</cp:revision>
  <dc:subject>PPT Template</dc:subject>
  <dc:title>United Nations Economic Commssion for Europe</dc:title>
</cp:coreProperties>
</file>