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594A-8A67-4072-A1F4-769AB1239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93D0-4DC4-49A7-B20F-84F9605D52E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2D8DF-0553-4B5C-8A79-8816724E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02439-49BC-4014-BF3B-BE3B3CA8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1E507-A6A2-488F-ABFB-A9500CF6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684F2-BE5B-43FA-A4AA-BADF6912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2BCEF-E322-4A69-BD2F-D91E2FB8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E26DD-ACA0-40AA-B54D-BDF4581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8F51D-5B6A-4FFC-B999-EE1C82E4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410CC-BFE0-43A3-BD86-B8FF0385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B7463-08E5-4CE2-903B-975ADDBA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3A65B-881B-4E06-A415-D3DE905E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94A4-7B0E-477C-A246-51D658F842C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D3E7D-64B3-47D2-AFE1-B9523DC6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5B44F-3031-4BC7-88ED-BD6E01FC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E88FF-EFC6-4F5D-A6DD-756EC137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79E39-3730-4CE2-9C69-D007068C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3F325-4C29-4D44-A5EF-5F96CD05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28466-3524-4C30-B12F-15C3BC7F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9D08D-F959-4583-B113-9C0D3B34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50462-0232-45DA-AA4C-2574531D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D4003-C756-4589-9DE2-F8A5A561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7E1C1-8A6F-4419-84DD-E638033F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9A26-0103-4A6A-BFF0-8E920F3487C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73028-D00D-4239-85A0-21CA106A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07EE94-0FAD-49D0-885B-30F0D54C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730C9B-0BFD-4F8D-8DF9-50970B62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4EC13D-313D-4F72-84CB-30813C49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964E69-0760-4F5E-9ECE-56BC1C99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834A83-D52E-4639-AB6D-E3E76A22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EE3D7C-6866-4296-B5BE-487FF93C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3E6F2D-9FCB-4EAB-A548-7F0CC59E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185FAA-ED2F-4B5C-8EF1-254AECC4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DBDA7F-1772-48FD-A709-22DBBE94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538EE-B79C-4554-98FB-70E0024D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882D41-1929-4F4C-9812-409C2E5F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3EECBD-E387-4476-A34B-CF754A9D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D6E492-8A0C-4569-B539-1AE3F556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286C8-A8DA-4AAF-866E-766BCDED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0070C-8AA1-4698-B2A0-E5C578E1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ECCB1-605D-4233-9961-EA40BDC7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32A3D-445D-421B-9B23-F9FF3392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42E6F-90B4-47E9-B930-420314C1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48FC5-BEA5-4DA4-AFD5-798CC188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1DFC-3289-41A5-B4DB-A685EC850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44230-1C72-4D84-A795-8FF35CFB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5D9F5-1E3E-4B74-9BD2-E5D62013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CC4BA-EA09-4DEA-9067-142595B0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238A5-5B32-45DF-8018-3AE5D535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4A253-B1EC-4B34-A9E6-AD93F99D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957A73-AFD0-4645-B33A-4B1B018B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1758A6-271F-4A32-9C8B-6BD67CE2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7F9545-3933-481E-B459-0A8AA2EC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23D83D-07BF-4E8E-9A1D-A51B0D5C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ED75EC-00AD-4B7A-8E5A-6B3E3214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10FD-E029-469E-B82A-63F6C346E0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975C5-D3E4-41A1-977A-1B991E37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F4A52E-8197-44BC-A805-E18BD584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FF001-1835-440C-AF0E-2D7F70A5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F9FA4A-C6B7-4CDF-A82D-F5A43620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1F1A2-2DF1-445E-8A0E-DB168697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B0EDB-7645-40CE-B2DB-FADD79F2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850B82-DD6B-4076-9278-0997AE06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BEC1F1-BBC8-4876-B8A0-F015C5BE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7ED9E2-0DBC-4D67-BCE6-3BDB99A2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C9000-75C2-4C25-8480-F4480FB4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AB11-0043-41B6-88F5-9B5A44613D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F44F9F-02E8-44F1-9AA8-708005AC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6EDD5E-E5CC-46D8-A716-8DCE4417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93138B-3386-41E2-8FFF-C7D1B5D3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27353-C495-4630-849E-9D2336D6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8A602-9FD3-451A-807C-B6DB3978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23458-F917-43ED-B66F-99479CA6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0C428-6FA6-47BC-8BD2-72720B26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0B0FA1-0FAE-4848-ACD5-4CE47C42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42F0E-3CB9-4AB1-A4A0-B02759D2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A3429B-B2EA-457C-9FCA-3C90E791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B27F-1816-4112-A42B-B9A8AF17350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F9A609-A6F0-41B1-8F9A-A6885AA9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C7BE11-0663-4606-9F1D-57C3764A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BB83FA-625A-4E38-8270-702E5CBD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8924D1-E445-49AF-8202-F7C23D38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55CCE3-20E4-485C-866A-331DF94D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392E8B-D964-47A4-AD26-DBA26072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920F0A-46F9-4815-A736-BA96E262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3CF199-0885-4718-AD36-8AF59132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ED828B-06B9-4B44-986D-F2FBF6B5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C3578C-ECB7-4B00-8D3E-7B1D8DDF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37AF-06E2-44D7-92DC-4743407A452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F581B2-2724-43E9-8B9D-57446DF2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42EAB6-94E3-42E5-97C2-FA28F666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3543DC-6CA1-4EED-86A3-FA15805D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81C9D5-7A72-497D-BC96-A0EDB2EA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AE255A-20D5-4325-A242-CE460ECA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0289C5-079D-4A2B-A48A-10DD8740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3A7B13-F497-4DA8-BDF6-BDAD8B2C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8C0BD1-548E-4312-A616-458809D8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9536D1-2D8A-49DC-A4ED-1A932D48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CB5CAC-2473-411E-B0BB-D5765702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2961-2A2A-4796-BA02-8C73293ACBB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569EE1-EC09-4AAC-9923-56FCDD78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7D9FA5-AFA4-42F5-9765-F0798EEF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74A133-898D-4405-A3D6-72C97366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D9819E-99FC-466A-B653-2BAA67D9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80B3B9-C35A-4994-BF38-E4D76DE9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AAA019-4E1F-433D-9510-C00432A8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4D3BA0-276D-4752-BE9D-D23E13C6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42116A-873F-4207-8E6A-0CA1A869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84D348-2080-4246-B63E-E739972D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B19DF4-4AF5-4BC6-941E-BA4ECE6B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5B2C-94C8-464E-982F-D1EF8B6FB95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00C71A-F023-4112-8516-1B44448A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24DEF7-64A7-4B30-8584-9F53D50F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37A0C7-3D7A-421D-BB05-263BB316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515923-77AE-4395-871D-B8C3DA75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42A853-AF0B-499A-96F1-62356DD0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E5A077-3F7F-47B9-92C1-EB4576CD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B4261E-4EAC-4B17-90CE-73F813CA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5F9482-0D8D-4E47-AD9A-3523873A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D0DC47-BFD9-4DB3-A634-ED4BA007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7E9946-1F6B-4CBD-8932-989A0406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658E-4B52-4CF4-AF5F-E321F8E55BE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0E25B1-0B44-4814-B9FB-A6FB14D7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00A8F3-EB1C-4777-BB02-E1E93A6D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D5F967-29A4-450F-884A-2D1DCE80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26789B-F9A0-4E24-A2BB-7F09E3EC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06556F-F53E-45A4-BDCD-872CFF60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B32040-F7CD-4AF9-8852-5E034292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DC870D-42A4-46F7-B887-30A0B336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26974-059A-45C1-843E-53CD66BC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3B4E3-E1C4-4896-9E3E-F1940984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37486-7986-4331-88C2-0E9D7F6F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FA06-D2E9-43E5-8666-0FE06C7AC77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221A-5266-4BEC-9891-A8B4B597AA6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8ED1-3F30-4AEB-934A-1FEA5410F4CF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8B3B-D585-4CFA-962F-7B46FB1A8C36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C8C6-568B-4750-AEDB-258C0DA91FBA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1388-BE6D-453A-A5C8-2C8C14DEE133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8EC5-6BF2-4CA7-97AA-BDEA45AF54D5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EC05-6C58-4AFB-813C-04632975340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C70D-8C3E-4EFC-80BE-38FCBFBE6692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5FD5-B800-4C8A-B278-DA9B9AAB96C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1446120" y="74448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ffffff"/>
                </a:solidFill>
                <a:latin typeface="Arial"/>
              </a:rPr>
              <a:t>UN Economic Commission for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105520" y="925560"/>
            <a:ext cx="35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cefact_forum"/>
          <p:cNvPicPr/>
          <p:nvPr/>
        </p:nvPicPr>
        <p:blipFill>
          <a:blip r:embed="rId2"/>
          <a:stretch/>
        </p:blipFill>
        <p:spPr>
          <a:xfrm>
            <a:off x="417600" y="147600"/>
            <a:ext cx="8308800" cy="12654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1BA5-618E-48FC-B884-3F3AAF4A509F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06560" y="2615760"/>
            <a:ext cx="53308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f497d"/>
                </a:solidFill>
                <a:latin typeface="Calibri"/>
              </a:rPr>
              <a:t>Online Registry Develop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447920" y="3499920"/>
            <a:ext cx="6400800" cy="10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1f497d"/>
                </a:solidFill>
                <a:latin typeface="Calibri"/>
              </a:rPr>
              <a:t>Garret Minaka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1f497d"/>
                </a:solidFill>
                <a:latin typeface="Calibri"/>
              </a:rPr>
              <a:t>Coen Jans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19810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3 September 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UN/CEFAC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1f497d"/>
                </a:solidFill>
                <a:latin typeface="Calibri"/>
              </a:rPr>
              <a:t>International Conference Centre,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6840" y="18284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eBGT Project – Online Standards Registry (OS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UN/CEFACT Online Standards Registry (OSR) is the prime mechanism for storing, managing and distributing UN/CEFACT artefacts.  It is designed to be used in two contex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88760" indent="-219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y all users to search and retrieve one or more public stored artefact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88760" indent="-219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y the various working groups within UN/CEFACT to submit, validate, search, and retrieve private, working and public stored artefac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88760" indent="-219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788760" indent="-21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  <a:ea typeface="Arial"/>
              </a:rPr>
              <a:t>OSR is implementation of UN/CEFACT Registry Implementation Specification, V 1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88760" indent="-219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  <a:ea typeface="Arial"/>
              </a:rPr>
              <a:t>UN/CEFACT Registry Implementation Specification based on OASIS ebXML Reg/R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88760" indent="-219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  <a:ea typeface="Arial"/>
              </a:rPr>
              <a:t>ebXML Registry Information Model (RI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88760" indent="-219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  <a:ea typeface="Arial"/>
              </a:rPr>
              <a:t>ebXML Registry Services Specification (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3BF6-C99F-42A2-98CF-8C62A195FC65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525780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ackground - O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9C81-4B4E-4C78-BDA4-1412C766F323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ncept - O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"/>
          <p:cNvSpPr/>
          <p:nvPr/>
        </p:nvSpPr>
        <p:spPr>
          <a:xfrm>
            <a:off x="380880" y="1628640"/>
            <a:ext cx="8410680" cy="4924440"/>
          </a:xfrm>
          <a:prstGeom prst="roundRect">
            <a:avLst>
              <a:gd name="adj" fmla="val 16667"/>
            </a:avLst>
          </a:prstGeom>
          <a:solidFill>
            <a:srgbClr val="3366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Object 4"/>
          <p:cNvGraphicFramePr/>
          <p:nvPr/>
        </p:nvGraphicFramePr>
        <p:xfrm>
          <a:off x="838080" y="1828800"/>
          <a:ext cx="74678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467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6840" y="18284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eBGT Project – Online Standards Showcase (O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SS will be a resource available via the Internet, demonstrating a representative set of UN/CEFACT processes supporting the Buy-Ship-Pay model. It will contain process descriptions, documentation, and business information models with corresponding XML schemas. The goal is to present a coherent framework that will facilitate awareness-building, with a view to fostering confidence that implementing the UN/CEFACT's standards and guidelines will result in more effective e-business, e-government and e-trad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SS is intended to reach a variety of audiences, from executives to managers to technology implementers; and to resonate with the widest possible range of stakeholders around the worl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68F3-115D-4A94-9DFF-0DE482F289B5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525780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ackground - 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5189-CB53-486C-A654-E26E6779B419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ncept - 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45"/>
          <p:cNvGrpSpPr/>
          <p:nvPr/>
        </p:nvGrpSpPr>
        <p:grpSpPr>
          <a:xfrm>
            <a:off x="559800" y="1371600"/>
            <a:ext cx="8120520" cy="5410080"/>
            <a:chOff x="559800" y="1371600"/>
            <a:chExt cx="8120520" cy="5410080"/>
          </a:xfrm>
        </p:grpSpPr>
        <p:sp>
          <p:nvSpPr>
            <p:cNvPr id="489" name="Text Box 4"/>
            <p:cNvSpPr/>
            <p:nvPr/>
          </p:nvSpPr>
          <p:spPr>
            <a:xfrm>
              <a:off x="631080" y="1433880"/>
              <a:ext cx="13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Lev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5"/>
            <p:cNvSpPr/>
            <p:nvPr/>
          </p:nvSpPr>
          <p:spPr>
            <a:xfrm>
              <a:off x="2504160" y="1371600"/>
              <a:ext cx="114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BU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6"/>
            <p:cNvSpPr/>
            <p:nvPr/>
          </p:nvSpPr>
          <p:spPr>
            <a:xfrm>
              <a:off x="4746240" y="1371600"/>
              <a:ext cx="12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SH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7"/>
            <p:cNvSpPr/>
            <p:nvPr/>
          </p:nvSpPr>
          <p:spPr>
            <a:xfrm>
              <a:off x="6996600" y="1371600"/>
              <a:ext cx="112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PA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>
              <a:off x="3772800" y="1537560"/>
              <a:ext cx="718920" cy="204120"/>
            </a:xfrm>
            <a:prstGeom prst="rightArrow">
              <a:avLst>
                <a:gd name="adj1" fmla="val 50000"/>
                <a:gd name="adj2" fmla="val 83763"/>
              </a:avLst>
            </a:prstGeom>
            <a:solidFill>
              <a:srgbClr val="ea2e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9"/>
            <p:cNvSpPr/>
            <p:nvPr/>
          </p:nvSpPr>
          <p:spPr>
            <a:xfrm>
              <a:off x="6074280" y="1537560"/>
              <a:ext cx="718920" cy="204120"/>
            </a:xfrm>
            <a:prstGeom prst="rightArrow">
              <a:avLst>
                <a:gd name="adj1" fmla="val 50000"/>
                <a:gd name="adj2" fmla="val 83763"/>
              </a:avLst>
            </a:prstGeom>
            <a:solidFill>
              <a:srgbClr val="ea2e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0"/>
            <p:cNvSpPr/>
            <p:nvPr/>
          </p:nvSpPr>
          <p:spPr>
            <a:xfrm>
              <a:off x="752400" y="2218680"/>
              <a:ext cx="73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630720" y="25236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2"/>
            <p:cNvSpPr/>
            <p:nvPr/>
          </p:nvSpPr>
          <p:spPr>
            <a:xfrm>
              <a:off x="3197520" y="1946160"/>
              <a:ext cx="646920" cy="74916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3"/>
            <p:cNvSpPr/>
            <p:nvPr/>
          </p:nvSpPr>
          <p:spPr>
            <a:xfrm>
              <a:off x="3990960" y="2319120"/>
              <a:ext cx="20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rdering Proces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4"/>
            <p:cNvSpPr/>
            <p:nvPr/>
          </p:nvSpPr>
          <p:spPr>
            <a:xfrm>
              <a:off x="3916440" y="2899800"/>
              <a:ext cx="503280" cy="61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5"/>
            <p:cNvSpPr/>
            <p:nvPr/>
          </p:nvSpPr>
          <p:spPr>
            <a:xfrm>
              <a:off x="6002280" y="2899800"/>
              <a:ext cx="503280" cy="61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6"/>
            <p:cNvSpPr/>
            <p:nvPr/>
          </p:nvSpPr>
          <p:spPr>
            <a:xfrm>
              <a:off x="3759840" y="352332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7"/>
            <p:cNvSpPr/>
            <p:nvPr/>
          </p:nvSpPr>
          <p:spPr>
            <a:xfrm>
              <a:off x="5905440" y="352332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8"/>
            <p:cNvSpPr/>
            <p:nvPr/>
          </p:nvSpPr>
          <p:spPr>
            <a:xfrm>
              <a:off x="4492080" y="2967840"/>
              <a:ext cx="13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9"/>
            <p:cNvSpPr/>
            <p:nvPr/>
          </p:nvSpPr>
          <p:spPr>
            <a:xfrm flipH="1">
              <a:off x="4563360" y="3376440"/>
              <a:ext cx="129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4323240" y="2939400"/>
              <a:ext cx="161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urchase 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21"/>
            <p:cNvSpPr/>
            <p:nvPr/>
          </p:nvSpPr>
          <p:spPr>
            <a:xfrm>
              <a:off x="4344120" y="3376440"/>
              <a:ext cx="166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Order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2"/>
            <p:cNvSpPr/>
            <p:nvPr/>
          </p:nvSpPr>
          <p:spPr>
            <a:xfrm>
              <a:off x="752400" y="3921120"/>
              <a:ext cx="73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3"/>
            <p:cNvSpPr/>
            <p:nvPr/>
          </p:nvSpPr>
          <p:spPr>
            <a:xfrm>
              <a:off x="3628800" y="2286720"/>
              <a:ext cx="3164040" cy="156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5"/>
            <p:cNvSpPr/>
            <p:nvPr/>
          </p:nvSpPr>
          <p:spPr>
            <a:xfrm>
              <a:off x="559800" y="4233600"/>
              <a:ext cx="128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ssag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6"/>
            <p:cNvSpPr/>
            <p:nvPr/>
          </p:nvSpPr>
          <p:spPr>
            <a:xfrm>
              <a:off x="2313360" y="4021920"/>
              <a:ext cx="290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rder Response Messag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27"/>
            <p:cNvSpPr/>
            <p:nvPr/>
          </p:nvSpPr>
          <p:spPr>
            <a:xfrm>
              <a:off x="2336760" y="4341240"/>
              <a:ext cx="310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yer Party Details (in contex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ler Party Details (in contex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ne Item Details (in contex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8"/>
            <p:cNvSpPr/>
            <p:nvPr/>
          </p:nvSpPr>
          <p:spPr>
            <a:xfrm flipH="1">
              <a:off x="4419720" y="3648960"/>
              <a:ext cx="646920" cy="34020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9"/>
            <p:cNvSpPr/>
            <p:nvPr/>
          </p:nvSpPr>
          <p:spPr>
            <a:xfrm>
              <a:off x="2406240" y="3989520"/>
              <a:ext cx="3020400" cy="115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0"/>
            <p:cNvSpPr/>
            <p:nvPr/>
          </p:nvSpPr>
          <p:spPr>
            <a:xfrm>
              <a:off x="5498640" y="4466160"/>
              <a:ext cx="718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31"/>
            <p:cNvSpPr/>
            <p:nvPr/>
          </p:nvSpPr>
          <p:spPr>
            <a:xfrm>
              <a:off x="5498640" y="4738680"/>
              <a:ext cx="718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2"/>
            <p:cNvSpPr/>
            <p:nvPr/>
          </p:nvSpPr>
          <p:spPr>
            <a:xfrm>
              <a:off x="5498640" y="4942800"/>
              <a:ext cx="718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33"/>
            <p:cNvSpPr/>
            <p:nvPr/>
          </p:nvSpPr>
          <p:spPr>
            <a:xfrm>
              <a:off x="6148440" y="4330080"/>
              <a:ext cx="2531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e Buyer party Det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e Seller Party Det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e Line Item Det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5"/>
            <p:cNvSpPr/>
            <p:nvPr/>
          </p:nvSpPr>
          <p:spPr>
            <a:xfrm>
              <a:off x="5456160" y="4111560"/>
              <a:ext cx="103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ased 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6"/>
            <p:cNvSpPr/>
            <p:nvPr/>
          </p:nvSpPr>
          <p:spPr>
            <a:xfrm>
              <a:off x="752400" y="5283360"/>
              <a:ext cx="73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37"/>
            <p:cNvSpPr/>
            <p:nvPr/>
          </p:nvSpPr>
          <p:spPr>
            <a:xfrm flipV="1">
              <a:off x="7224840" y="5078880"/>
              <a:ext cx="0" cy="54468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38"/>
            <p:cNvSpPr/>
            <p:nvPr/>
          </p:nvSpPr>
          <p:spPr>
            <a:xfrm>
              <a:off x="5642640" y="5623920"/>
              <a:ext cx="2948400" cy="102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39"/>
            <p:cNvSpPr/>
            <p:nvPr/>
          </p:nvSpPr>
          <p:spPr>
            <a:xfrm>
              <a:off x="5826240" y="5737680"/>
              <a:ext cx="246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rary of context-fre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rmonized, 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40"/>
            <p:cNvSpPr/>
            <p:nvPr/>
          </p:nvSpPr>
          <p:spPr>
            <a:xfrm>
              <a:off x="968040" y="5351400"/>
              <a:ext cx="2876400" cy="1430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41"/>
            <p:cNvSpPr/>
            <p:nvPr/>
          </p:nvSpPr>
          <p:spPr>
            <a:xfrm>
              <a:off x="1354320" y="5504400"/>
              <a:ext cx="233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lows for 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 component re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ross all processes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43"/>
            <p:cNvSpPr/>
            <p:nvPr/>
          </p:nvSpPr>
          <p:spPr>
            <a:xfrm>
              <a:off x="1758960" y="4874760"/>
              <a:ext cx="862920" cy="612720"/>
            </a:xfrm>
            <a:custGeom>
              <a:avLst/>
              <a:gdLst>
                <a:gd name="textAreaLeft" fmla="*/ 496440 w 862920"/>
                <a:gd name="textAreaRight" fmla="*/ 728280 w 862920"/>
                <a:gd name="textAreaTop" fmla="*/ 82440 h 612720"/>
                <a:gd name="textAreaBottom" fmla="*/ 2620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44"/>
            <p:cNvSpPr/>
            <p:nvPr/>
          </p:nvSpPr>
          <p:spPr>
            <a:xfrm>
              <a:off x="3772800" y="5896440"/>
              <a:ext cx="1581840" cy="272160"/>
            </a:xfrm>
            <a:prstGeom prst="rightArrow">
              <a:avLst>
                <a:gd name="adj1" fmla="val 50000"/>
                <a:gd name="adj2" fmla="val 13822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6840" y="18284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Discussed at March, 2010 and June, 2010 Extended Bureau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000"/>
                </a:solidFill>
                <a:latin typeface="Calibri"/>
                <a:ea typeface="Arial"/>
              </a:rPr>
              <a:t>Decision to limit focus of project for initial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Publish CCL to w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Target general public, not only UN/CEFACT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Focus on user experience for browse and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Create and demonstrate proto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Publish and solicit feedback for improv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Publish updated functional requirements to reflect new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Request submission of reference implem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Review and approve submitted reference implem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531C-E53A-4D9C-8A60-5D1FEA46AAD4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525780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1C9A-4F4F-4D6F-996C-770690D400DB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510552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urrent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"/>
          <p:cNvSpPr/>
          <p:nvPr/>
        </p:nvSpPr>
        <p:spPr>
          <a:xfrm>
            <a:off x="380880" y="1628640"/>
            <a:ext cx="8410680" cy="4924440"/>
          </a:xfrm>
          <a:prstGeom prst="roundRect">
            <a:avLst>
              <a:gd name="adj" fmla="val 16667"/>
            </a:avLst>
          </a:prstGeom>
          <a:solidFill>
            <a:srgbClr val="3366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4"/>
          <p:cNvGraphicFramePr/>
          <p:nvPr/>
        </p:nvGraphicFramePr>
        <p:xfrm>
          <a:off x="838080" y="1828800"/>
          <a:ext cx="74678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467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TextBox 6"/>
          <p:cNvSpPr/>
          <p:nvPr/>
        </p:nvSpPr>
        <p:spPr>
          <a:xfrm>
            <a:off x="442224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7436880" y="2678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838080" y="19051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9"/>
          <p:cNvSpPr/>
          <p:nvPr/>
        </p:nvSpPr>
        <p:spPr>
          <a:xfrm>
            <a:off x="838080" y="35812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838080" y="49068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1"/>
          <p:cNvSpPr/>
          <p:nvPr/>
        </p:nvSpPr>
        <p:spPr>
          <a:xfrm>
            <a:off x="3962520" y="53053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2"/>
          <p:cNvSpPr/>
          <p:nvPr/>
        </p:nvSpPr>
        <p:spPr>
          <a:xfrm>
            <a:off x="4952880" y="53053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2666880" y="247320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5"/>
          <p:cNvSpPr/>
          <p:nvPr/>
        </p:nvSpPr>
        <p:spPr>
          <a:xfrm>
            <a:off x="2666880" y="38098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6"/>
          <p:cNvSpPr/>
          <p:nvPr/>
        </p:nvSpPr>
        <p:spPr>
          <a:xfrm>
            <a:off x="526032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7"/>
          <p:cNvSpPr/>
          <p:nvPr/>
        </p:nvSpPr>
        <p:spPr>
          <a:xfrm>
            <a:off x="7512840" y="411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8"/>
          <p:cNvSpPr/>
          <p:nvPr/>
        </p:nvSpPr>
        <p:spPr>
          <a:xfrm>
            <a:off x="7436880" y="3287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9"/>
          <p:cNvSpPr/>
          <p:nvPr/>
        </p:nvSpPr>
        <p:spPr>
          <a:xfrm>
            <a:off x="743688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676520" y="2133720"/>
            <a:ext cx="716256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1904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Garret Minaka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1904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Coen Jan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1904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Arofan Gr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1904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Mary Kay Blant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1904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Tim McGr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3DAB-5044-4B28-AAD4-43B3A20841BA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5029200" y="7621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urrent Projec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26:57Z</dcterms:created>
  <dc:creator>Admin</dc:creator>
  <dc:description/>
  <dc:language>en-US</dc:language>
  <cp:lastModifiedBy>Admin</cp:lastModifiedBy>
  <dcterms:modified xsi:type="dcterms:W3CDTF">2010-10-01T09:18:09Z</dcterms:modified>
  <cp:revision>185</cp:revision>
  <dc:subject/>
  <dc:title>Slide 1</dc:title>
</cp:coreProperties>
</file>