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41AE5-EA38-4384-B7E9-FE5F2F29CB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40745-3D29-49CF-B63D-B2503C361D5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CF4188-51B4-47B7-9BE7-488363A6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5B2CDC-3F4A-4687-AC34-ED31E8A4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4FFA40-CD4A-46E7-8805-89ECEEEE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7BD3DC-BC07-40E0-A47B-997ED664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3D14FC-C367-4E12-A006-C95E96EE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EB7086-5670-40CB-9EF4-985D0036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31D94A-F4C6-4C0C-9527-831E5A54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8536DB-C160-4592-B528-689950D57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D32D7B-4A82-47BB-8704-4137B98F3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0ED2F9-86FD-4173-8080-E5EB21C60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E7DF0-DC03-4A2F-A34D-D1DD2178695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B13088-FEFC-462F-919D-A55F6FBF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2FC19A-423F-4867-9540-819ECB67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E2A4CC-6A3C-4656-B4D8-1EAEBD30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59A200-78FA-4D25-892D-E5F831D7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AEDC49-AF78-4B84-B746-06C9556A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6C5016-135F-4DE9-AFC9-44D1E6E6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3AF2C6-77DE-4E06-AECD-C88FA5C6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8D83B3-4AF6-4B4E-92A2-310B6A37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B6C86D-0D5B-4AB6-91B5-3239EAB5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FBE460-D95E-4EEA-8EE6-598D09144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0EB02-5860-46EF-BC53-64ACF01BE40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FC88CE-0C0E-401C-A7D9-C0B4DD5E2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D148031-CA1A-46F8-90E8-C56624EF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B696A73-49EF-4FEF-AD1E-C4E29968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66EF8EA-9BDD-4B3B-9898-785BFEF9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FCFAB17-CCEB-4A4F-A686-42466468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8E1C1E9-1E0A-4AA6-8A31-3F9A27F3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8E3FD0-F318-4B49-9554-A2172B54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FC9823A-CFB6-4CF2-8724-37D3B65D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7CA1A98-CEC7-41BC-B7E0-0F2F6392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06A3D8-226A-4C3B-8D41-4CB6D076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EECC0-D33D-47AC-A77D-21DFF4FFD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553DB5C-DA2C-404D-B7A6-F22DDA36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02303D1-1D37-4574-9D34-2F0337E2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BDA858-97CA-4EA5-AE57-9005016A2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4CF90-D974-42EB-8630-A9464251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228BD-50EF-47D6-A224-15391E8B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DCB5A-9C4D-461D-8F06-67D413B9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D130D-E1AD-416D-BCF0-F489EA76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F2F1F-B200-4483-A622-6AA14B1F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28AF5-C7B7-4545-A3C5-9DCECAD8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52CA7-68CD-455C-B72E-7151FD99B2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1A73B-F55F-4D03-BA5D-A5C50C6E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3B4EA-BBE2-4BFA-BCD0-47E8180E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E9949-E77B-40CE-BF6E-373BC7D9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21E0A-B30B-4A2E-95E6-FA930461E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AEA6E-51EE-4BDC-A401-E40F55633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3507C1-CBD9-4870-9061-6BD46E2EE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FABF02-7AF8-4C68-A4F5-CC458E74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39382F-7ED5-47DC-A581-9C285196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D9D067-02DE-4C81-9DFA-534E1276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D7CBBD-1517-42BE-92A4-25075CA6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5FDA2-3B1D-43EF-A341-BFA8C236404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E0C0AF-CF9C-45CE-8957-D7C76A2A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71E51D-FB30-4301-AA13-84425F7D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6E97FE-247A-47B7-8B48-D1F49259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5231CF-0FF8-41BE-AC2E-61C871BA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9B8228-5AE1-4D8D-BB73-F13A9B11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9743E0-A63E-47FE-9FD3-5D0939A40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D6DDFE-E101-4E07-9A55-5B00DDD91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98890B-BED7-43B5-A357-D4CE036DC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053BEE-D863-4A7C-973A-7D64CDA9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AEC789-DFDF-4BAC-ABC8-D2737F0D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AF6B5-3748-45EB-A65A-919C3133D7C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C300AB-E04E-47D5-B643-B7C73F5A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FEF41A-E688-43CC-A917-A2CC843E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8824D9-D5F1-4DEE-A225-5F8FE0AA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828F71-4925-465D-9698-59368EB5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5D3A27-93CD-4F41-983C-F825F6CF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2D08FD-0461-4AA1-8CD5-8237A813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E76BAB-63D1-4561-9B74-24E7517D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3A3B93-076F-4847-91E7-98FD4C8F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43784F-49AA-49A7-BF3B-944BE4470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5AF812-1E83-44F6-9E94-FFC766EBB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B28F7-2722-4C0B-A807-EEAAD5EE62B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CD6A5C-9BFC-4D64-A291-43E5E859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AA0A96-8B74-47DD-960A-1FF30705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1A7B76-8CD6-438C-9BC0-5D887B8B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E108BE-F68B-473C-A705-AE6A491C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9367F5-BC95-4A56-A0E4-41D2F4F2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CDE7FA-E676-49F6-A2AD-B0829665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12DE9E-5F6A-4A9B-A3BF-8D70152B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B85A6F-19F5-4CC2-BA8C-78EF94C2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175E75-9746-4966-9429-5485BC9B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24B626-6493-4505-9829-87847059F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72AE5-98D8-4633-9CD0-124249121AC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B0CD87-A122-4EB8-8CB1-4A9A68538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2CFBCF-BED0-486F-A3C0-57ED73D20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739B0A-4BC7-4652-B76E-FCCD2A33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767E6C-0C33-453C-A43B-A9D9A705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41EAA9-397A-440B-BB1A-B2957882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2162AD-C205-4A24-AD75-9E704E82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5B282C-181B-429D-99DA-FF1E0B7C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0D3D0F-5B57-455B-AEF7-9CBA5979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D111FE-9CB9-4321-AE27-2AF92933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4D36D7-C39F-46AD-96E3-27331094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294A1-9A11-4832-B4F2-A37E7E55395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7190E2-BBD3-4F7F-AF99-A24BE0D6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EDA0BB-69D6-41B0-B08B-C5D636C06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4D0BC1-2A0E-4AE6-A6A5-4178FD1E9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10A8E7-4573-4A4A-B209-57885CA42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636395-280F-4D35-B851-F4202145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3C8F5B-2DAB-4C1B-ABA1-47FFA8FF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27DB42-6F77-4C12-8F23-FA92D008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88D706-C5F5-4F1B-98AE-C5D7B2F4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555774-702E-4FE6-8973-57D011A6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53A1F3-A83A-4C54-9056-D64B7CBD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42541-0F90-4D89-9A64-FAAEB5595F0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33C50B-BE2A-41B1-83B1-888576FE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3C1075-49A4-41D7-A91C-886325F8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D1F9C4-0422-4002-8AA0-F8D258BD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3AC573-4028-4A98-8BE4-6B8AB307F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933185-CBCE-4760-A3B4-D33DE6035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F3A182-AB84-4316-A7AD-49864BD7F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3746FF-5A1D-4A72-A68D-230FF99A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F40CF5-1812-4CD8-95D4-6E753410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5D07D4-AF91-444C-B32C-A05955A9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30A288-B1C6-4C14-8F49-55169574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AD4BD-C0E4-4A08-8EBE-EC39BF51AD7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24B29D-BE72-4C83-BF1C-F2B7AAE2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FA4B5F-3134-48EB-BD4F-F1EA2B70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00BEF2-F73F-4EC6-AB01-29C1FC3A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81E2BA-5C10-4114-8C79-DE6B873F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100B8A-F71E-4F7B-9645-A9963976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D036A7-9E10-428E-AAB7-0DE5B4A64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F2CF44-907B-4855-8A42-B36CA6752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E61048-C9EE-4F42-A3CD-091127AB8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82595E-4221-4CD7-B8F0-4FECACE5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25CA29-2602-4C99-BCF8-FFF06379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2DE5-E37C-4C25-878B-CF9CF133BD22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BAB4-3701-4394-AC86-1BD070FFE376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B376-6495-4162-9E55-9EC61AF7524F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D0F9-821C-4012-8A42-CBA468E344EB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C872-D82A-4F7C-86A4-DA35FE34B1D4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993D-E1C7-4306-A5B8-BC2F824DF6A4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BA5C-7200-4FC3-A9A7-13331CEDA426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3353-1159-420A-97C2-7269C54CFF29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069E-9E9B-4CF2-9A8A-A4ADCCAAD788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B9ED-0A90-499D-BD1A-9687227A30C7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4A2D-7C70-4213-8647-99A4D4F2D427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906560" y="2615760"/>
            <a:ext cx="533088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</a:rPr>
              <a:t>Online Registry Develop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1447920" y="3499920"/>
            <a:ext cx="6400800" cy="10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1f497d"/>
                </a:solidFill>
                <a:latin typeface="Calibri"/>
              </a:rPr>
              <a:t>Garret Minakaw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1f497d"/>
                </a:solidFill>
                <a:latin typeface="Calibri"/>
              </a:rPr>
              <a:t>Coen Jans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1981080" y="556272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3 September 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UN/CEFACT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International Conference Centre,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456840" y="1828440"/>
            <a:ext cx="83818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  <a:ea typeface="Arial"/>
              </a:rPr>
              <a:t>eBGT Project – Online Standards Registry (OS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 UN/CEFACT Online Standards Registry (OSR) is the prime mechanism for storing, managing and distributing UN/CEFACT artefacts.  It is designed to be used in two context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88760" indent="-219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y all users to search and retrieve one or more public stored artefact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88760" indent="-219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y the various working groups within UN/CEFACT to submit, validate, search, and retrieve private, working and public stored artefac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88760" indent="-219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788760" indent="-219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alibri"/>
                <a:ea typeface="Arial"/>
              </a:rPr>
              <a:t>OSR is implementation of UN/CEFACT Registry Implementation Specification, V 1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88760" indent="-219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alibri"/>
                <a:ea typeface="Arial"/>
              </a:rPr>
              <a:t>UN/CEFACT Registry Implementation Specification based on OASIS ebXML Reg/R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88760" indent="-219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alibri"/>
                <a:ea typeface="Arial"/>
              </a:rPr>
              <a:t>ebXML Registry Information Model (RI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88760" indent="-219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alibri"/>
                <a:ea typeface="Arial"/>
              </a:rPr>
              <a:t>ebXML Registry Services Specification (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5F85-882B-4A0E-ACED-BAA5267EBFA6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5257800" y="7621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Background - O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6D1A-1537-4787-991A-4CDF2D98A8D9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3"/>
          <p:cNvSpPr/>
          <p:nvPr/>
        </p:nvSpPr>
        <p:spPr>
          <a:xfrm>
            <a:off x="5105520" y="7621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oncept - O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2"/>
          <p:cNvSpPr/>
          <p:nvPr/>
        </p:nvSpPr>
        <p:spPr>
          <a:xfrm>
            <a:off x="380880" y="1628640"/>
            <a:ext cx="8410680" cy="4924440"/>
          </a:xfrm>
          <a:prstGeom prst="roundRect">
            <a:avLst>
              <a:gd name="adj" fmla="val 16667"/>
            </a:avLst>
          </a:prstGeom>
          <a:solidFill>
            <a:srgbClr val="3366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Object 4"/>
          <p:cNvGraphicFramePr/>
          <p:nvPr/>
        </p:nvGraphicFramePr>
        <p:xfrm>
          <a:off x="838080" y="1828800"/>
          <a:ext cx="74678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4678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456840" y="1828440"/>
            <a:ext cx="83818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  <a:ea typeface="Arial"/>
              </a:rPr>
              <a:t>eBGT Project – Online Standards Showcase (O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OSS will be a resource available via the Internet, demonstrating a representative set of UN/CEFACT processes supporting the Buy-Ship-Pay model. It will contain process descriptions, documentation, and business information models with corresponding XML schemas. The goal is to present a coherent framework that will facilitate awareness-building, with a view to fostering confidence that implementing the UN/CEFACT's standards and guidelines will result in more effective e-business, e-government and e-trad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OSS is intended to reach a variety of audiences, from executives to managers to technology implementers; and to resonate with the widest possible range of stakeholders around the worl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CC17-AE39-4ECB-A785-130EF560A091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5257800" y="7621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Background - 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86E7-07B1-4013-84A8-01E19E246793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3"/>
          <p:cNvSpPr/>
          <p:nvPr/>
        </p:nvSpPr>
        <p:spPr>
          <a:xfrm>
            <a:off x="5105520" y="7621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oncept - 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Group 45"/>
          <p:cNvGrpSpPr/>
          <p:nvPr/>
        </p:nvGrpSpPr>
        <p:grpSpPr>
          <a:xfrm>
            <a:off x="559800" y="1371600"/>
            <a:ext cx="8120520" cy="5410080"/>
            <a:chOff x="559800" y="1371600"/>
            <a:chExt cx="8120520" cy="5410080"/>
          </a:xfrm>
        </p:grpSpPr>
        <p:sp>
          <p:nvSpPr>
            <p:cNvPr id="489" name="Text Box 4"/>
            <p:cNvSpPr/>
            <p:nvPr/>
          </p:nvSpPr>
          <p:spPr>
            <a:xfrm>
              <a:off x="631080" y="1433880"/>
              <a:ext cx="133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igh-Leve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del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 Box 5"/>
            <p:cNvSpPr/>
            <p:nvPr/>
          </p:nvSpPr>
          <p:spPr>
            <a:xfrm>
              <a:off x="2504160" y="1371600"/>
              <a:ext cx="114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BU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 Box 6"/>
            <p:cNvSpPr/>
            <p:nvPr/>
          </p:nvSpPr>
          <p:spPr>
            <a:xfrm>
              <a:off x="4746240" y="1371600"/>
              <a:ext cx="124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SH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7"/>
            <p:cNvSpPr/>
            <p:nvPr/>
          </p:nvSpPr>
          <p:spPr>
            <a:xfrm>
              <a:off x="6996600" y="1371600"/>
              <a:ext cx="112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PA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AutoShape 8"/>
            <p:cNvSpPr/>
            <p:nvPr/>
          </p:nvSpPr>
          <p:spPr>
            <a:xfrm>
              <a:off x="3772800" y="1537560"/>
              <a:ext cx="718920" cy="204120"/>
            </a:xfrm>
            <a:prstGeom prst="rightArrow">
              <a:avLst>
                <a:gd name="adj1" fmla="val 50000"/>
                <a:gd name="adj2" fmla="val 83763"/>
              </a:avLst>
            </a:prstGeom>
            <a:solidFill>
              <a:srgbClr val="ea2e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AutoShape 9"/>
            <p:cNvSpPr/>
            <p:nvPr/>
          </p:nvSpPr>
          <p:spPr>
            <a:xfrm>
              <a:off x="6074280" y="1537560"/>
              <a:ext cx="718920" cy="204120"/>
            </a:xfrm>
            <a:prstGeom prst="rightArrow">
              <a:avLst>
                <a:gd name="adj1" fmla="val 50000"/>
                <a:gd name="adj2" fmla="val 83763"/>
              </a:avLst>
            </a:prstGeom>
            <a:solidFill>
              <a:srgbClr val="ea2e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10"/>
            <p:cNvSpPr/>
            <p:nvPr/>
          </p:nvSpPr>
          <p:spPr>
            <a:xfrm>
              <a:off x="752400" y="2218680"/>
              <a:ext cx="7335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11"/>
            <p:cNvSpPr/>
            <p:nvPr/>
          </p:nvSpPr>
          <p:spPr>
            <a:xfrm>
              <a:off x="630720" y="2523600"/>
              <a:ext cx="131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sin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e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12"/>
            <p:cNvSpPr/>
            <p:nvPr/>
          </p:nvSpPr>
          <p:spPr>
            <a:xfrm>
              <a:off x="3197520" y="1946160"/>
              <a:ext cx="646920" cy="749160"/>
            </a:xfrm>
            <a:prstGeom prst="line">
              <a:avLst/>
            </a:prstGeom>
            <a:ln w="7632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13"/>
            <p:cNvSpPr/>
            <p:nvPr/>
          </p:nvSpPr>
          <p:spPr>
            <a:xfrm>
              <a:off x="3990960" y="2319120"/>
              <a:ext cx="202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Ordering Proces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14"/>
            <p:cNvSpPr/>
            <p:nvPr/>
          </p:nvSpPr>
          <p:spPr>
            <a:xfrm>
              <a:off x="3916440" y="2899800"/>
              <a:ext cx="503280" cy="6127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15"/>
            <p:cNvSpPr/>
            <p:nvPr/>
          </p:nvSpPr>
          <p:spPr>
            <a:xfrm>
              <a:off x="6002280" y="2899800"/>
              <a:ext cx="503280" cy="6127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16"/>
            <p:cNvSpPr/>
            <p:nvPr/>
          </p:nvSpPr>
          <p:spPr>
            <a:xfrm>
              <a:off x="3759840" y="352332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y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17"/>
            <p:cNvSpPr/>
            <p:nvPr/>
          </p:nvSpPr>
          <p:spPr>
            <a:xfrm>
              <a:off x="5905440" y="3523320"/>
              <a:ext cx="76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18"/>
            <p:cNvSpPr/>
            <p:nvPr/>
          </p:nvSpPr>
          <p:spPr>
            <a:xfrm>
              <a:off x="4492080" y="2967840"/>
              <a:ext cx="136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19"/>
            <p:cNvSpPr/>
            <p:nvPr/>
          </p:nvSpPr>
          <p:spPr>
            <a:xfrm flipH="1">
              <a:off x="4563360" y="3376440"/>
              <a:ext cx="1294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20"/>
            <p:cNvSpPr/>
            <p:nvPr/>
          </p:nvSpPr>
          <p:spPr>
            <a:xfrm>
              <a:off x="4323240" y="2939400"/>
              <a:ext cx="161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Purchase Or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21"/>
            <p:cNvSpPr/>
            <p:nvPr/>
          </p:nvSpPr>
          <p:spPr>
            <a:xfrm>
              <a:off x="4344120" y="3376440"/>
              <a:ext cx="166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Order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2"/>
            <p:cNvSpPr/>
            <p:nvPr/>
          </p:nvSpPr>
          <p:spPr>
            <a:xfrm>
              <a:off x="752400" y="3921120"/>
              <a:ext cx="7335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23"/>
            <p:cNvSpPr/>
            <p:nvPr/>
          </p:nvSpPr>
          <p:spPr>
            <a:xfrm>
              <a:off x="3628800" y="2286720"/>
              <a:ext cx="3164040" cy="156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25"/>
            <p:cNvSpPr/>
            <p:nvPr/>
          </p:nvSpPr>
          <p:spPr>
            <a:xfrm>
              <a:off x="559800" y="4233600"/>
              <a:ext cx="128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sin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ssage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26"/>
            <p:cNvSpPr/>
            <p:nvPr/>
          </p:nvSpPr>
          <p:spPr>
            <a:xfrm>
              <a:off x="2313360" y="4021920"/>
              <a:ext cx="290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Order Response Messag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27"/>
            <p:cNvSpPr/>
            <p:nvPr/>
          </p:nvSpPr>
          <p:spPr>
            <a:xfrm>
              <a:off x="2336760" y="4341240"/>
              <a:ext cx="3108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uyer Party Details (in contex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ller Party Details (in contex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ine Item Details (in contex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28"/>
            <p:cNvSpPr/>
            <p:nvPr/>
          </p:nvSpPr>
          <p:spPr>
            <a:xfrm flipH="1">
              <a:off x="4419720" y="3648960"/>
              <a:ext cx="646920" cy="340200"/>
            </a:xfrm>
            <a:prstGeom prst="line">
              <a:avLst/>
            </a:prstGeom>
            <a:ln w="7632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29"/>
            <p:cNvSpPr/>
            <p:nvPr/>
          </p:nvSpPr>
          <p:spPr>
            <a:xfrm>
              <a:off x="2406240" y="3989520"/>
              <a:ext cx="3020400" cy="115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30"/>
            <p:cNvSpPr/>
            <p:nvPr/>
          </p:nvSpPr>
          <p:spPr>
            <a:xfrm>
              <a:off x="5498640" y="4466160"/>
              <a:ext cx="718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31"/>
            <p:cNvSpPr/>
            <p:nvPr/>
          </p:nvSpPr>
          <p:spPr>
            <a:xfrm>
              <a:off x="5498640" y="4738680"/>
              <a:ext cx="718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32"/>
            <p:cNvSpPr/>
            <p:nvPr/>
          </p:nvSpPr>
          <p:spPr>
            <a:xfrm>
              <a:off x="5498640" y="4942800"/>
              <a:ext cx="718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33"/>
            <p:cNvSpPr/>
            <p:nvPr/>
          </p:nvSpPr>
          <p:spPr>
            <a:xfrm>
              <a:off x="6148440" y="4330080"/>
              <a:ext cx="2531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e Buyer party Detai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e Seller Party Detai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e Line Item Detai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35"/>
            <p:cNvSpPr/>
            <p:nvPr/>
          </p:nvSpPr>
          <p:spPr>
            <a:xfrm>
              <a:off x="5456160" y="4111560"/>
              <a:ext cx="103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Based 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36"/>
            <p:cNvSpPr/>
            <p:nvPr/>
          </p:nvSpPr>
          <p:spPr>
            <a:xfrm>
              <a:off x="752400" y="5283360"/>
              <a:ext cx="7335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37"/>
            <p:cNvSpPr/>
            <p:nvPr/>
          </p:nvSpPr>
          <p:spPr>
            <a:xfrm flipV="1">
              <a:off x="7224840" y="5078880"/>
              <a:ext cx="0" cy="544680"/>
            </a:xfrm>
            <a:prstGeom prst="line">
              <a:avLst/>
            </a:prstGeom>
            <a:ln w="7632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38"/>
            <p:cNvSpPr/>
            <p:nvPr/>
          </p:nvSpPr>
          <p:spPr>
            <a:xfrm>
              <a:off x="5642640" y="5623920"/>
              <a:ext cx="2948400" cy="1021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39"/>
            <p:cNvSpPr/>
            <p:nvPr/>
          </p:nvSpPr>
          <p:spPr>
            <a:xfrm>
              <a:off x="5826240" y="5737680"/>
              <a:ext cx="246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brary of context-free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armonized, c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onent mode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40"/>
            <p:cNvSpPr/>
            <p:nvPr/>
          </p:nvSpPr>
          <p:spPr>
            <a:xfrm>
              <a:off x="968040" y="5351400"/>
              <a:ext cx="2876400" cy="1430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41"/>
            <p:cNvSpPr/>
            <p:nvPr/>
          </p:nvSpPr>
          <p:spPr>
            <a:xfrm>
              <a:off x="1354320" y="5504400"/>
              <a:ext cx="2337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lows for vie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f component re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ross all processes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ssa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AutoShape 43"/>
            <p:cNvSpPr/>
            <p:nvPr/>
          </p:nvSpPr>
          <p:spPr>
            <a:xfrm>
              <a:off x="1758960" y="4874760"/>
              <a:ext cx="862920" cy="612720"/>
            </a:xfrm>
            <a:custGeom>
              <a:avLst/>
              <a:gdLst>
                <a:gd name="textAreaLeft" fmla="*/ 496440 w 862920"/>
                <a:gd name="textAreaRight" fmla="*/ 728280 w 862920"/>
                <a:gd name="textAreaTop" fmla="*/ 82440 h 612720"/>
                <a:gd name="textAreaBottom" fmla="*/ 262080 h 6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AutoShape 44"/>
            <p:cNvSpPr/>
            <p:nvPr/>
          </p:nvSpPr>
          <p:spPr>
            <a:xfrm>
              <a:off x="3772800" y="5896440"/>
              <a:ext cx="1581840" cy="272160"/>
            </a:xfrm>
            <a:prstGeom prst="rightArrow">
              <a:avLst>
                <a:gd name="adj1" fmla="val 50000"/>
                <a:gd name="adj2" fmla="val 13822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456840" y="1828440"/>
            <a:ext cx="83818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  <a:ea typeface="Arial"/>
              </a:rPr>
              <a:t>Discussed at March, 2010 and June, 2010 Extended Bureau mee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0000"/>
                </a:solidFill>
                <a:latin typeface="Calibri"/>
                <a:ea typeface="Arial"/>
              </a:rPr>
              <a:t>Decision to limit focus of project for initial imple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Calibri"/>
                <a:ea typeface="Arial"/>
              </a:rPr>
              <a:t>Publish CCL to we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Calibri"/>
                <a:ea typeface="Arial"/>
              </a:rPr>
              <a:t>Target general public, not only UN/CEFACT memb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Calibri"/>
                <a:ea typeface="Arial"/>
              </a:rPr>
              <a:t>Focus on user experience for browse and 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  <a:ea typeface="Arial"/>
              </a:rPr>
              <a:t>Create and demonstrate proto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Calibri"/>
                <a:ea typeface="Arial"/>
              </a:rPr>
              <a:t>Publish and solicit feedback for improv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  <a:ea typeface="Arial"/>
              </a:rPr>
              <a:t>Publish updated functional requirements to reflect new sco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Calibri"/>
                <a:ea typeface="Arial"/>
              </a:rPr>
              <a:t>Request submission of reference implemen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Calibri"/>
                <a:ea typeface="Arial"/>
              </a:rPr>
              <a:t>Review and approve submitted reference implemen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23BA-D8E7-4DA3-B1CD-1831EE24EC57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5257800" y="7621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urrent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B4DC-E5DF-4E14-AD9B-1A2F8A6F8E77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5105520" y="7621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urrent 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2"/>
          <p:cNvSpPr/>
          <p:nvPr/>
        </p:nvSpPr>
        <p:spPr>
          <a:xfrm>
            <a:off x="380880" y="1628640"/>
            <a:ext cx="8410680" cy="4924440"/>
          </a:xfrm>
          <a:prstGeom prst="roundRect">
            <a:avLst>
              <a:gd name="adj" fmla="val 16667"/>
            </a:avLst>
          </a:prstGeom>
          <a:solidFill>
            <a:srgbClr val="3366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3" name="Object 4"/>
          <p:cNvGraphicFramePr/>
          <p:nvPr/>
        </p:nvGraphicFramePr>
        <p:xfrm>
          <a:off x="838080" y="1828800"/>
          <a:ext cx="74678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4678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TextBox 6"/>
          <p:cNvSpPr/>
          <p:nvPr/>
        </p:nvSpPr>
        <p:spPr>
          <a:xfrm>
            <a:off x="4422240" y="3962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7"/>
          <p:cNvSpPr/>
          <p:nvPr/>
        </p:nvSpPr>
        <p:spPr>
          <a:xfrm>
            <a:off x="7436880" y="26780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8"/>
          <p:cNvSpPr/>
          <p:nvPr/>
        </p:nvSpPr>
        <p:spPr>
          <a:xfrm>
            <a:off x="838080" y="190512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9"/>
          <p:cNvSpPr/>
          <p:nvPr/>
        </p:nvSpPr>
        <p:spPr>
          <a:xfrm>
            <a:off x="838080" y="358128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10"/>
          <p:cNvSpPr/>
          <p:nvPr/>
        </p:nvSpPr>
        <p:spPr>
          <a:xfrm>
            <a:off x="838080" y="49068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11"/>
          <p:cNvSpPr/>
          <p:nvPr/>
        </p:nvSpPr>
        <p:spPr>
          <a:xfrm>
            <a:off x="3962520" y="530532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12"/>
          <p:cNvSpPr/>
          <p:nvPr/>
        </p:nvSpPr>
        <p:spPr>
          <a:xfrm>
            <a:off x="4952880" y="530532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13"/>
          <p:cNvSpPr/>
          <p:nvPr/>
        </p:nvSpPr>
        <p:spPr>
          <a:xfrm>
            <a:off x="2666880" y="247320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15"/>
          <p:cNvSpPr/>
          <p:nvPr/>
        </p:nvSpPr>
        <p:spPr>
          <a:xfrm>
            <a:off x="2666880" y="380988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16"/>
          <p:cNvSpPr/>
          <p:nvPr/>
        </p:nvSpPr>
        <p:spPr>
          <a:xfrm>
            <a:off x="5260320" y="3962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17"/>
          <p:cNvSpPr/>
          <p:nvPr/>
        </p:nvSpPr>
        <p:spPr>
          <a:xfrm>
            <a:off x="7512840" y="4114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18"/>
          <p:cNvSpPr/>
          <p:nvPr/>
        </p:nvSpPr>
        <p:spPr>
          <a:xfrm>
            <a:off x="7436880" y="3287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19"/>
          <p:cNvSpPr/>
          <p:nvPr/>
        </p:nvSpPr>
        <p:spPr>
          <a:xfrm>
            <a:off x="7436880" y="2362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1676520" y="2133720"/>
            <a:ext cx="716256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19040" indent="-287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  <a:ea typeface="Arial"/>
              </a:rPr>
              <a:t>Garret Minaka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319040" indent="-287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  <a:ea typeface="Arial"/>
              </a:rPr>
              <a:t>Coen Jan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319040" indent="-287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  <a:ea typeface="Arial"/>
              </a:rPr>
              <a:t>Arofan Greg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319040" indent="-287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  <a:ea typeface="Arial"/>
              </a:rPr>
              <a:t>Mary Kay Blant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319040" indent="-287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  <a:ea typeface="Arial"/>
              </a:rPr>
              <a:t>Tim McGra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23F1-A193-4369-BC3D-3A1F9D6AF2AF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5029200" y="7621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urrent Projec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87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8:26:57Z</dcterms:created>
  <dc:creator>Admin</dc:creator>
  <dc:description/>
  <dc:language>en-US</dc:language>
  <cp:lastModifiedBy>Admin</cp:lastModifiedBy>
  <dcterms:modified xsi:type="dcterms:W3CDTF">2010-10-01T09:18:09Z</dcterms:modified>
  <cp:revision>185</cp:revision>
  <dc:subject/>
  <dc:title>Slide 1</dc:title>
</cp:coreProperties>
</file>