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2825" cy="6858000"/>
  <p:notesSz cx="9856788" cy="12736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71400" y="650088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82F4-4B70-437F-8B27-F489CDE61FD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1590840" cy="684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81280" y="1457280"/>
            <a:ext cx="76928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The World Road Association (PIARC)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90720" y="2193840"/>
          <a:ext cx="587376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193840"/>
                    <a:ext cx="58737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908000" y="380880"/>
            <a:ext cx="79948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A non-profit association founded in 1909 to promote international cooperation in issues related to roads and road trans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4760" y="531360"/>
            <a:ext cx="794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ARC Member Countr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898640"/>
            <a:ext cx="9902880" cy="43084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0" y="9360"/>
            <a:ext cx="841320" cy="1895760"/>
            <a:chOff x="0" y="9360"/>
            <a:chExt cx="841320" cy="18957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3560" y="9360"/>
              <a:ext cx="785520" cy="18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1531080"/>
              <a:ext cx="841320" cy="37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875120" y="2527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89240" y="386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32480" y="3613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0040" y="3841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680" y="1820880"/>
            <a:ext cx="8816760" cy="709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ff3ff"/>
                </a:solidFill>
                <a:latin typeface="Arial"/>
              </a:rPr>
              <a:t>A large range of pub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920" y="304560"/>
            <a:ext cx="7358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Arial"/>
              </a:rPr>
              <a:t>Strategic Themes</a:t>
            </a: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   2004 - 2007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03520" y="1892160"/>
            <a:ext cx="805644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1: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overnance and Management of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     the Road System  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K. Inoue – Jap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2 : Sustainable Mobility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G. Clarke – U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3 : Safety and Road operations </a:t>
            </a:r>
            <a:br>
              <a:rPr sz="3200"/>
            </a:b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C. Nottingham – U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4 : Quality of road infrastructures</a:t>
            </a:r>
            <a:br>
              <a:rPr sz="3200"/>
            </a:b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A.-M. Leclerc – Canada-Québe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43200" y="609120"/>
            <a:ext cx="73166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echnical Committee 2.4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reight Transport and Intermoda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5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. Taniguchi (Japan )--- Chai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J-C Poutchy-Tixier (France), Y. Imanishi (Japan) --- Secreta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elgium, Burkina Faso, Guinea, Hungary, Italy, The Netherlands, Norway, Rumania, Spain, Sweden, Mali….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9040" y="609120"/>
            <a:ext cx="7300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search Work Pla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43200" y="1701720"/>
            <a:ext cx="7813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bgroup 1  Evolution of freight logist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e response of road administrations to the development of freight logistics over time and the increase in road freight transport within countries and across count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bgroup 2  Alternative and termin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ith the increase in freight movements how can this be accommodated on road networks of the wider transport infrastru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3200" y="609120"/>
            <a:ext cx="73166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search Work Plan (cont’d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10800" y="1981080"/>
            <a:ext cx="73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bgroup 3  Mitigation of impa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itigation of negative impacts of increased movement of freigh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7480" y="181080"/>
            <a:ext cx="98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Visit PIARC website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http://www.piar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5040" y="1130400"/>
            <a:ext cx="7808760" cy="533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8:24:42Z</dcterms:created>
  <dc:creator/>
  <dc:description/>
  <dc:language>en-US</dc:language>
  <cp:lastModifiedBy>Eiichi Taniguchi</cp:lastModifiedBy>
  <cp:lastPrinted>2001-09-21T16:04:39Z</cp:lastPrinted>
  <dcterms:modified xsi:type="dcterms:W3CDTF">2004-09-27T08:57:28Z</dcterms:modified>
  <cp:revision>146</cp:revision>
  <dc:subject/>
  <dc:title>AIPCR Durban CD</dc:title>
</cp:coreProperties>
</file>