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902825" cy="6858000"/>
  <p:notesSz cx="9856788" cy="12736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43040" y="413064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5620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8884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3500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4304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8884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3500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43040" y="609120"/>
            <a:ext cx="8416800" cy="32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5620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771400" y="6500880"/>
            <a:ext cx="64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9F8D5-006D-483C-A458-F36627B0C5CC}" type="slidenum">
              <a:rPr b="0" lang="en-GB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7920"/>
            <a:ext cx="1590840" cy="6842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1781280" y="1457280"/>
            <a:ext cx="7692840" cy="36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fr-FR" sz="4400" spc="-1" strike="noStrike">
                <a:solidFill>
                  <a:srgbClr val="ffff00"/>
                </a:solidFill>
                <a:latin typeface="Arial"/>
              </a:rPr>
              <a:t>The World Road Association (PIARC)</a:t>
            </a:r>
            <a:r>
              <a:rPr b="0" lang="fr-FR" sz="1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790720" y="2193840"/>
          <a:ext cx="5873760" cy="341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90720" y="2193840"/>
                    <a:ext cx="5873760" cy="34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908000" y="380880"/>
            <a:ext cx="7994880" cy="15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cc"/>
                </a:solidFill>
                <a:latin typeface="Arial"/>
              </a:rPr>
              <a:t>A non-profit association founded in 1909 to promote international cooperation in issues related to roads and road transpor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64760" y="531360"/>
            <a:ext cx="79441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PIARC Member Countrie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1898640"/>
            <a:ext cx="9902880" cy="4308480"/>
          </a:xfrm>
          <a:prstGeom prst="rect">
            <a:avLst/>
          </a:prstGeom>
          <a:ln w="0">
            <a:noFill/>
          </a:ln>
        </p:spPr>
      </p:pic>
      <p:grpSp>
        <p:nvGrpSpPr>
          <p:cNvPr id="46" name=""/>
          <p:cNvGrpSpPr/>
          <p:nvPr/>
        </p:nvGrpSpPr>
        <p:grpSpPr>
          <a:xfrm>
            <a:off x="0" y="9360"/>
            <a:ext cx="841320" cy="1895760"/>
            <a:chOff x="0" y="9360"/>
            <a:chExt cx="841320" cy="1895760"/>
          </a:xfrm>
        </p:grpSpPr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43560" y="9360"/>
              <a:ext cx="785520" cy="186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0" y="1531080"/>
              <a:ext cx="841320" cy="37404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4875120" y="25272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3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989240" y="386064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2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332480" y="36133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2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70040" y="38419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ＭＳ Ｐゴシック"/>
              </a:rPr>
              <a:t>2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3500"/>
                            </p:stCondLst>
                            <p:childTnLst>
                              <p:par>
                                <p:cTn id="28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2880" cy="68594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74680" y="1820880"/>
            <a:ext cx="8816760" cy="7095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dff3ff"/>
                </a:solidFill>
                <a:latin typeface="Arial"/>
              </a:rPr>
              <a:t>A large range of publicatio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920" y="304560"/>
            <a:ext cx="735804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66"/>
                </a:solidFill>
                <a:latin typeface="Arial"/>
              </a:rPr>
              <a:t>Strategic Themes</a:t>
            </a:r>
            <a:r>
              <a:rPr b="0" lang="fr-FR" sz="3600" spc="-1" strike="noStrike">
                <a:solidFill>
                  <a:srgbClr val="ffff66"/>
                </a:solidFill>
                <a:latin typeface="Arial"/>
              </a:rPr>
              <a:t>   2004 - 2007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03520" y="1892160"/>
            <a:ext cx="8056440" cy="41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65400" indent="-365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ST1: </a:t>
            </a:r>
            <a:r>
              <a:rPr b="0" lang="fr-FR" sz="3200" spc="-1" strike="noStrike">
                <a:solidFill>
                  <a:srgbClr val="ffffcc"/>
                </a:solidFill>
                <a:latin typeface="Arial"/>
              </a:rPr>
              <a:t>Governance and Management of</a:t>
            </a:r>
            <a:br>
              <a:rPr sz="3200"/>
            </a:br>
            <a:r>
              <a:rPr b="0" lang="fr-FR" sz="3200" spc="-1" strike="noStrike">
                <a:solidFill>
                  <a:srgbClr val="ffffcc"/>
                </a:solidFill>
                <a:latin typeface="Arial"/>
              </a:rPr>
              <a:t>     the Road System   </a:t>
            </a:r>
            <a:r>
              <a:rPr b="0" lang="fr-FR" sz="3200" spc="-1" strike="noStrike">
                <a:solidFill>
                  <a:srgbClr val="dff3ff"/>
                </a:solidFill>
                <a:latin typeface="Arial"/>
              </a:rPr>
              <a:t>(K. Inoue – Japa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ST2 : Sustainable Mobility </a:t>
            </a:r>
            <a:r>
              <a:rPr b="0" lang="fr-FR" sz="3200" spc="-1" strike="noStrike">
                <a:solidFill>
                  <a:srgbClr val="dff3ff"/>
                </a:solidFill>
                <a:latin typeface="Arial"/>
              </a:rPr>
              <a:t>(G. Clarke – UK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ST3 : Safety and Road operations </a:t>
            </a:r>
            <a:br>
              <a:rPr sz="3200"/>
            </a:b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        </a:t>
            </a:r>
            <a:r>
              <a:rPr b="0" lang="fr-FR" sz="3200" spc="-1" strike="noStrike">
                <a:solidFill>
                  <a:srgbClr val="dff3ff"/>
                </a:solidFill>
                <a:latin typeface="Arial"/>
              </a:rPr>
              <a:t>(C. Nottingham – US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65400" indent="-365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ST4 : Quality of road infrastructures</a:t>
            </a:r>
            <a:br>
              <a:rPr sz="3200"/>
            </a:b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Arial"/>
              </a:rPr>
              <a:t>       </a:t>
            </a:r>
            <a:r>
              <a:rPr b="0" lang="fr-FR" sz="3200" spc="-1" strike="noStrike">
                <a:solidFill>
                  <a:srgbClr val="dff3ff"/>
                </a:solidFill>
                <a:latin typeface="Arial"/>
              </a:rPr>
              <a:t>(A.-M. Leclerc – Canada-Québe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95600" y="1181160"/>
            <a:ext cx="50371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43200" y="609120"/>
            <a:ext cx="731664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Technical Committee 2.4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Freight Transport and Intermodalit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725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E. Taniguchi (Japan )--- Chair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J-C Poutchy-Tixier (France), Y. Imanishi (Japan) --- Secretary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Belgium, Burkina Faso, Guinea, Hungary, Italy, The Netherlands, Norway, Rumania, Spain, Sweden, Mali….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59040" y="609120"/>
            <a:ext cx="73008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Research Work Plan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843200" y="1701720"/>
            <a:ext cx="78134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Subgroup 1  Evolution of freight logistic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The response of road administrations to the development of freight logistics over time and the increase in road freight transport within countries and across countri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Subgroup 2  Alternative and terminal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  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With the increase in freight movements how can this be accommodated on road networks of the wider transport infrastructur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843200" y="609120"/>
            <a:ext cx="731664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Research Work Plan (cont’d)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810800" y="1981080"/>
            <a:ext cx="734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Subgroup 3  Mitigation of impact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  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Mitigation of negative impacts of increased movement of freigh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87480" y="181080"/>
            <a:ext cx="98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Visit PIARC website</a:t>
            </a:r>
            <a:r>
              <a:rPr b="0" lang="en-GB" sz="4000" spc="-1" strike="noStrike">
                <a:solidFill>
                  <a:srgbClr val="ffffcc"/>
                </a:solidFill>
                <a:latin typeface="Arial"/>
              </a:rPr>
              <a:t> http://www.piarc.or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05040" y="1130400"/>
            <a:ext cx="7808760" cy="5337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5T08:24:42Z</dcterms:created>
  <dc:creator/>
  <dc:description/>
  <dc:language>en-US</dc:language>
  <cp:lastModifiedBy>Eiichi Taniguchi</cp:lastModifiedBy>
  <cp:lastPrinted>2001-09-21T16:04:39Z</cp:lastPrinted>
  <dcterms:modified xsi:type="dcterms:W3CDTF">2004-09-27T08:57:28Z</dcterms:modified>
  <cp:revision>146</cp:revision>
  <dc:subject/>
  <dc:title>AIPCR Durban CD</dc:title>
</cp:coreProperties>
</file>