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7696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0C44-731B-4846-8A4F-B394D0FA8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684000"/>
            <a:ext cx="76201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224080"/>
            <a:ext cx="777240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85800" y="4636080"/>
            <a:ext cx="777240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C57A-7850-49B0-9CF2-D495A46A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684000"/>
            <a:ext cx="76201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224080"/>
            <a:ext cx="379260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2224080"/>
            <a:ext cx="379260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4636080"/>
            <a:ext cx="379260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68480" y="4636080"/>
            <a:ext cx="379260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C1DE-53E0-4D84-AE8E-3D0DDBC3F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684000"/>
            <a:ext cx="76201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224080"/>
            <a:ext cx="250236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13800" y="2224080"/>
            <a:ext cx="250236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941440" y="2224080"/>
            <a:ext cx="250236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85800" y="4636080"/>
            <a:ext cx="250236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13800" y="4636080"/>
            <a:ext cx="250236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941440" y="4636080"/>
            <a:ext cx="250236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F006-8A05-423C-99DA-04F84506E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04A2-35FB-4754-A16C-2CA553E5E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684000"/>
            <a:ext cx="76201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85800" y="2224080"/>
            <a:ext cx="7772400" cy="46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CE63-9909-44A7-96F5-CCC7B1F4A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684000"/>
            <a:ext cx="76201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2224080"/>
            <a:ext cx="777240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6AF4-3AF0-45E6-A23E-2567283F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684000"/>
            <a:ext cx="76201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2224080"/>
            <a:ext cx="379260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2224080"/>
            <a:ext cx="379260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7951-4506-41E8-9FC9-155DC89D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684000"/>
            <a:ext cx="76201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5F8A-F7DD-488B-9BB4-1D89C72B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837720" y="684000"/>
            <a:ext cx="762012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8B4E-AF15-471B-B07E-46940440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684000"/>
            <a:ext cx="76201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224080"/>
            <a:ext cx="379260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224080"/>
            <a:ext cx="379260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85800" y="4636080"/>
            <a:ext cx="379260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9ACA-4904-4C98-89DE-08AC6B99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684000"/>
            <a:ext cx="76201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2224080"/>
            <a:ext cx="7772400" cy="461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16D4-DBE6-4B1C-9918-E3CB12E8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684000"/>
            <a:ext cx="76201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2224080"/>
            <a:ext cx="379260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8480" y="2224080"/>
            <a:ext cx="379260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68480" y="4636080"/>
            <a:ext cx="379260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7EE0-7C0F-48D0-B311-3D554012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684000"/>
            <a:ext cx="76201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2224080"/>
            <a:ext cx="379260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2224080"/>
            <a:ext cx="379260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4636080"/>
            <a:ext cx="777240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52833-481A-455B-97D4-B2EDF567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684000"/>
            <a:ext cx="76201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2224080"/>
            <a:ext cx="777240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85800" y="4636080"/>
            <a:ext cx="777240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01BA-E3DA-4A2C-BE21-66E6061E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684000"/>
            <a:ext cx="76201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2224080"/>
            <a:ext cx="379260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2224080"/>
            <a:ext cx="379260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4636080"/>
            <a:ext cx="379260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68480" y="4636080"/>
            <a:ext cx="379260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F9DCF-DB76-4267-B28E-CD0DA98C9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684000"/>
            <a:ext cx="76201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224080"/>
            <a:ext cx="250236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313800" y="2224080"/>
            <a:ext cx="250236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41440" y="2224080"/>
            <a:ext cx="250236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85800" y="4636080"/>
            <a:ext cx="250236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313800" y="4636080"/>
            <a:ext cx="250236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41440" y="4636080"/>
            <a:ext cx="250236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9EB6-ACDA-4610-9648-EE57FC7E6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684000"/>
            <a:ext cx="76201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224080"/>
            <a:ext cx="777240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517E-FBF9-459B-B3EC-48715AD5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684000"/>
            <a:ext cx="76201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224080"/>
            <a:ext cx="379260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2224080"/>
            <a:ext cx="379260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5D87-A169-477B-BEF9-B12DCF86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684000"/>
            <a:ext cx="76201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7361-61FC-4547-BBFC-E9B58F39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837720" y="684000"/>
            <a:ext cx="7620120" cy="594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49AA-D6A3-4BC5-8523-01C68955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684000"/>
            <a:ext cx="76201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224080"/>
            <a:ext cx="379260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2224080"/>
            <a:ext cx="379260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636080"/>
            <a:ext cx="379260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EE18-2B8D-47C4-8262-0D8DA5B1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684000"/>
            <a:ext cx="76201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224080"/>
            <a:ext cx="379260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2224080"/>
            <a:ext cx="379260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68480" y="4636080"/>
            <a:ext cx="379260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68F4-4C40-4671-8047-702E22F2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684000"/>
            <a:ext cx="76201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224080"/>
            <a:ext cx="379260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2224080"/>
            <a:ext cx="379260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4636080"/>
            <a:ext cx="7772400" cy="22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C3D5-32E0-4A96-9BB4-B962971F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436680" y="-258840"/>
            <a:ext cx="9814320" cy="8533080"/>
            <a:chOff x="-436680" y="-258840"/>
            <a:chExt cx="9814320" cy="8533080"/>
          </a:xfrm>
        </p:grpSpPr>
        <p:grpSp>
          <p:nvGrpSpPr>
            <p:cNvPr id="1" name=""/>
            <p:cNvGrpSpPr/>
            <p:nvPr/>
          </p:nvGrpSpPr>
          <p:grpSpPr>
            <a:xfrm>
              <a:off x="-436680" y="-258840"/>
              <a:ext cx="9814320" cy="8533080"/>
              <a:chOff x="-436680" y="-258840"/>
              <a:chExt cx="9814320" cy="8533080"/>
            </a:xfrm>
          </p:grpSpPr>
          <p:sp>
            <p:nvSpPr>
              <p:cNvPr id="2" name=""/>
              <p:cNvSpPr/>
              <p:nvPr/>
            </p:nvSpPr>
            <p:spPr>
              <a:xfrm>
                <a:off x="5337360" y="5352480"/>
                <a:ext cx="1090440" cy="10846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568680" y="4632840"/>
                <a:ext cx="1567080" cy="132300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708360" y="5453640"/>
                <a:ext cx="1032120" cy="115416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218120" y="6364080"/>
                <a:ext cx="1015920" cy="141912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94680" y="3286080"/>
                <a:ext cx="84924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979880" y="3701160"/>
                <a:ext cx="1090800" cy="10846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rot="3318000">
                <a:off x="3591360" y="3477600"/>
                <a:ext cx="11401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20977200">
                <a:off x="4768200" y="6050880"/>
                <a:ext cx="84924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967120" y="5370120"/>
                <a:ext cx="1374840" cy="141588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16245000">
                <a:off x="5762880" y="6770520"/>
                <a:ext cx="95328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rot="6018000">
                <a:off x="3119040" y="6462720"/>
                <a:ext cx="142848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6283800">
                <a:off x="5411160" y="5565960"/>
                <a:ext cx="113976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V="1" rot="19272000">
                <a:off x="5137200" y="4058640"/>
                <a:ext cx="1015920" cy="141912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 rot="564000">
                <a:off x="2927160" y="4226760"/>
                <a:ext cx="84924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2024280" y="4889520"/>
                <a:ext cx="1090440" cy="10843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255600" y="4618440"/>
                <a:ext cx="1567080" cy="1323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19320" y="5375520"/>
                <a:ext cx="1031760" cy="115416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19469400">
                <a:off x="1247760" y="6691320"/>
                <a:ext cx="1015920" cy="14194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2967120" y="3507120"/>
                <a:ext cx="84924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666800" y="3687120"/>
                <a:ext cx="1090800" cy="10846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3318000">
                <a:off x="-102240" y="3677760"/>
                <a:ext cx="11401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flipH="1" rot="20977200">
                <a:off x="1455840" y="6036120"/>
                <a:ext cx="849240" cy="114912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54000" y="5291640"/>
                <a:ext cx="1374840" cy="141588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flipH="1" rot="16245000">
                <a:off x="2431080" y="6727320"/>
                <a:ext cx="95256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508000">
                <a:off x="-40680" y="6364440"/>
                <a:ext cx="142812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6283800">
                <a:off x="1868760" y="5273640"/>
                <a:ext cx="11401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flipV="1" rot="19272000">
                <a:off x="1576440" y="3659400"/>
                <a:ext cx="1015920" cy="141912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flipH="1" rot="564000">
                <a:off x="871200" y="3977280"/>
                <a:ext cx="84924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997280" y="1576080"/>
                <a:ext cx="1090440" cy="10846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228600" y="856440"/>
                <a:ext cx="1567080" cy="132300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44640" y="2019960"/>
                <a:ext cx="1031760" cy="115380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220760" y="2930040"/>
                <a:ext cx="1015920" cy="141912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940120" y="22680"/>
                <a:ext cx="84924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639800" y="203040"/>
                <a:ext cx="1090800" cy="10843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18000">
                <a:off x="308520" y="-62640"/>
                <a:ext cx="113976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flipH="1" rot="20977200">
                <a:off x="1428120" y="2274480"/>
                <a:ext cx="84924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370080" y="1722240"/>
                <a:ext cx="1374480" cy="141588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flipH="1" rot="16245000">
                <a:off x="2384640" y="2694600"/>
                <a:ext cx="9525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428800">
                <a:off x="-181080" y="3026160"/>
                <a:ext cx="1273320" cy="12571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6283800">
                <a:off x="2070360" y="1789200"/>
                <a:ext cx="11397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V="1" rot="19272000">
                <a:off x="1549080" y="175320"/>
                <a:ext cx="1015920" cy="14194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flipH="1" rot="564000">
                <a:off x="44280" y="450720"/>
                <a:ext cx="84924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322960" y="1576080"/>
                <a:ext cx="1090440" cy="10846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554640" y="856440"/>
                <a:ext cx="1566720" cy="132300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370320" y="2019960"/>
                <a:ext cx="1031760" cy="115380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546800" y="2930040"/>
                <a:ext cx="1015920" cy="141912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265800" y="22680"/>
                <a:ext cx="84960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965840" y="203040"/>
                <a:ext cx="1090440" cy="10843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3318000">
                <a:off x="3196080" y="193320"/>
                <a:ext cx="113976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20977200">
                <a:off x="4753800" y="2274480"/>
                <a:ext cx="84924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105360" y="1935720"/>
                <a:ext cx="1374480" cy="141588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16245000">
                <a:off x="5710320" y="2694600"/>
                <a:ext cx="9525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428800">
                <a:off x="3144600" y="3025800"/>
                <a:ext cx="1272960" cy="12571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6283800">
                <a:off x="5396760" y="1789560"/>
                <a:ext cx="113976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 rot="19272000">
                <a:off x="4874760" y="176040"/>
                <a:ext cx="1016280" cy="14194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rot="564000">
                <a:off x="3008160" y="450720"/>
                <a:ext cx="84924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8132760" y="1570680"/>
                <a:ext cx="1090800" cy="10846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881760" y="872640"/>
                <a:ext cx="1567080" cy="132300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697800" y="2035800"/>
                <a:ext cx="1031760" cy="115416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159760" y="2838960"/>
                <a:ext cx="1015920" cy="14194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740720" y="69120"/>
                <a:ext cx="1090440" cy="10843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3318000">
                <a:off x="6580440" y="16920"/>
                <a:ext cx="11401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20977200">
                <a:off x="8081280" y="2290680"/>
                <a:ext cx="84924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946920" y="1716840"/>
                <a:ext cx="1374840" cy="141588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16245000">
                <a:off x="8235000" y="5810040"/>
                <a:ext cx="95256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428800">
                <a:off x="6681960" y="2891880"/>
                <a:ext cx="1272960" cy="12578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6283800">
                <a:off x="7790760" y="1485000"/>
                <a:ext cx="113976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 rot="21012000">
                <a:off x="8206920" y="41760"/>
                <a:ext cx="1016280" cy="141912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64000">
                <a:off x="6144840" y="851400"/>
                <a:ext cx="84924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6521400">
                <a:off x="8101440" y="5348880"/>
                <a:ext cx="122328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881760" y="4634640"/>
                <a:ext cx="1567080" cy="132300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697800" y="5797800"/>
                <a:ext cx="1031760" cy="115380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845200">
                <a:off x="8020440" y="6534720"/>
                <a:ext cx="11397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778880" y="3660120"/>
                <a:ext cx="1090440" cy="10843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3318000">
                <a:off x="6523560" y="3693600"/>
                <a:ext cx="113976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20977200">
                <a:off x="7891560" y="6588360"/>
                <a:ext cx="849240" cy="114912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432480" y="5713920"/>
                <a:ext cx="1374840" cy="141588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6819600">
                <a:off x="6604200" y="6572880"/>
                <a:ext cx="142812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283800">
                <a:off x="7295040" y="4691160"/>
                <a:ext cx="11401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 rot="15949200">
                <a:off x="8135280" y="3861360"/>
                <a:ext cx="113976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64000">
                <a:off x="6392520" y="4335120"/>
                <a:ext cx="84924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263520" y="587520"/>
              <a:ext cx="8745120" cy="250920"/>
              <a:chOff x="263520" y="587520"/>
              <a:chExt cx="8745120" cy="250920"/>
            </a:xfrm>
          </p:grpSpPr>
          <p:sp>
            <p:nvSpPr>
              <p:cNvPr id="84" name=""/>
              <p:cNvSpPr/>
              <p:nvPr/>
            </p:nvSpPr>
            <p:spPr>
              <a:xfrm>
                <a:off x="263520" y="587520"/>
                <a:ext cx="8745120" cy="250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04920" y="659160"/>
                <a:ext cx="8649360" cy="6228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155520" y="486360"/>
              <a:ext cx="8745120" cy="250920"/>
              <a:chOff x="155520" y="486360"/>
              <a:chExt cx="8745120" cy="250920"/>
            </a:xfrm>
          </p:grpSpPr>
          <p:sp>
            <p:nvSpPr>
              <p:cNvPr id="87" name=""/>
              <p:cNvSpPr/>
              <p:nvPr/>
            </p:nvSpPr>
            <p:spPr>
              <a:xfrm>
                <a:off x="155520" y="486360"/>
                <a:ext cx="8745120" cy="250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96920" y="558000"/>
                <a:ext cx="8649360" cy="622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8e8e8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227160" y="591120"/>
              <a:ext cx="1374840" cy="1416240"/>
            </a:xfrm>
            <a:custGeom>
              <a:avLst/>
              <a:gdLst/>
              <a:ahLst/>
              <a:rect l="l" t="t" r="r" b="b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289080" y="224280"/>
              <a:ext cx="1253880" cy="1311840"/>
              <a:chOff x="289080" y="224280"/>
              <a:chExt cx="1253880" cy="1311840"/>
            </a:xfrm>
          </p:grpSpPr>
          <p:sp>
            <p:nvSpPr>
              <p:cNvPr id="91" name=""/>
              <p:cNvSpPr/>
              <p:nvPr/>
            </p:nvSpPr>
            <p:spPr>
              <a:xfrm>
                <a:off x="289080" y="243360"/>
                <a:ext cx="1253880" cy="1292760"/>
              </a:xfrm>
              <a:custGeom>
                <a:avLst/>
                <a:gdLst/>
                <a:ahLst/>
                <a:rect l="l" t="t" r="r" b="b"/>
                <a:pathLst>
                  <a:path w="790" h="815">
                    <a:moveTo>
                      <a:pt x="16" y="185"/>
                    </a:moveTo>
                    <a:cubicBezTo>
                      <a:pt x="45" y="423"/>
                      <a:pt x="188" y="652"/>
                      <a:pt x="259" y="738"/>
                    </a:cubicBezTo>
                    <a:cubicBezTo>
                      <a:pt x="327" y="815"/>
                      <a:pt x="385" y="790"/>
                      <a:pt x="347" y="704"/>
                    </a:cubicBezTo>
                    <a:cubicBezTo>
                      <a:pt x="259" y="388"/>
                      <a:pt x="180" y="188"/>
                      <a:pt x="590" y="255"/>
                    </a:cubicBezTo>
                    <a:cubicBezTo>
                      <a:pt x="790" y="283"/>
                      <a:pt x="722" y="179"/>
                      <a:pt x="653" y="141"/>
                    </a:cubicBezTo>
                    <a:cubicBezTo>
                      <a:pt x="525" y="65"/>
                      <a:pt x="289" y="6"/>
                      <a:pt x="166" y="0"/>
                    </a:cubicBezTo>
                    <a:cubicBezTo>
                      <a:pt x="87" y="0"/>
                      <a:pt x="0" y="33"/>
                      <a:pt x="73" y="242"/>
                    </a:cubicBez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07800" y="250920"/>
                <a:ext cx="287640" cy="948600"/>
              </a:xfrm>
              <a:custGeom>
                <a:avLst/>
                <a:gdLst/>
                <a:ahLst/>
                <a:rect l="l" t="t" r="r" b="b"/>
                <a:pathLst>
                  <a:path w="181" h="533">
                    <a:moveTo>
                      <a:pt x="60" y="12"/>
                    </a:moveTo>
                    <a:cubicBezTo>
                      <a:pt x="18" y="35"/>
                      <a:pt x="0" y="83"/>
                      <a:pt x="2" y="153"/>
                    </a:cubicBezTo>
                    <a:cubicBezTo>
                      <a:pt x="3" y="212"/>
                      <a:pt x="39" y="306"/>
                      <a:pt x="63" y="366"/>
                    </a:cubicBezTo>
                    <a:cubicBezTo>
                      <a:pt x="87" y="426"/>
                      <a:pt x="131" y="492"/>
                      <a:pt x="146" y="512"/>
                    </a:cubicBezTo>
                    <a:cubicBezTo>
                      <a:pt x="162" y="533"/>
                      <a:pt x="168" y="526"/>
                      <a:pt x="156" y="489"/>
                    </a:cubicBezTo>
                    <a:cubicBezTo>
                      <a:pt x="144" y="453"/>
                      <a:pt x="90" y="350"/>
                      <a:pt x="74" y="294"/>
                    </a:cubicBezTo>
                    <a:cubicBezTo>
                      <a:pt x="59" y="239"/>
                      <a:pt x="59" y="196"/>
                      <a:pt x="63" y="155"/>
                    </a:cubicBezTo>
                    <a:cubicBezTo>
                      <a:pt x="67" y="115"/>
                      <a:pt x="86" y="74"/>
                      <a:pt x="98" y="53"/>
                    </a:cubicBezTo>
                    <a:cubicBezTo>
                      <a:pt x="110" y="33"/>
                      <a:pt x="121" y="39"/>
                      <a:pt x="135" y="32"/>
                    </a:cubicBezTo>
                    <a:cubicBezTo>
                      <a:pt x="148" y="26"/>
                      <a:pt x="177" y="21"/>
                      <a:pt x="179" y="16"/>
                    </a:cubicBezTo>
                    <a:cubicBezTo>
                      <a:pt x="181" y="11"/>
                      <a:pt x="161" y="4"/>
                      <a:pt x="146" y="2"/>
                    </a:cubicBezTo>
                    <a:cubicBezTo>
                      <a:pt x="132" y="0"/>
                      <a:pt x="107" y="1"/>
                      <a:pt x="93" y="2"/>
                    </a:cubicBezTo>
                    <a:cubicBezTo>
                      <a:pt x="78" y="4"/>
                      <a:pt x="74" y="0"/>
                      <a:pt x="60" y="12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1520" y="224280"/>
                <a:ext cx="1057320" cy="347040"/>
              </a:xfrm>
              <a:custGeom>
                <a:avLst/>
                <a:gdLst/>
                <a:ahLst/>
                <a:rect l="l" t="t" r="r" b="b"/>
                <a:pathLst>
                  <a:path w="666" h="195">
                    <a:moveTo>
                      <a:pt x="10" y="32"/>
                    </a:moveTo>
                    <a:cubicBezTo>
                      <a:pt x="20" y="24"/>
                      <a:pt x="38" y="6"/>
                      <a:pt x="72" y="3"/>
                    </a:cubicBezTo>
                    <a:cubicBezTo>
                      <a:pt x="106" y="0"/>
                      <a:pt x="153" y="4"/>
                      <a:pt x="214" y="16"/>
                    </a:cubicBezTo>
                    <a:cubicBezTo>
                      <a:pt x="275" y="28"/>
                      <a:pt x="375" y="53"/>
                      <a:pt x="440" y="74"/>
                    </a:cubicBezTo>
                    <a:cubicBezTo>
                      <a:pt x="505" y="95"/>
                      <a:pt x="568" y="122"/>
                      <a:pt x="604" y="140"/>
                    </a:cubicBezTo>
                    <a:cubicBezTo>
                      <a:pt x="640" y="158"/>
                      <a:pt x="647" y="174"/>
                      <a:pt x="653" y="182"/>
                    </a:cubicBezTo>
                    <a:cubicBezTo>
                      <a:pt x="659" y="190"/>
                      <a:pt x="666" y="195"/>
                      <a:pt x="638" y="186"/>
                    </a:cubicBezTo>
                    <a:cubicBezTo>
                      <a:pt x="609" y="177"/>
                      <a:pt x="548" y="150"/>
                      <a:pt x="483" y="129"/>
                    </a:cubicBezTo>
                    <a:cubicBezTo>
                      <a:pt x="416" y="109"/>
                      <a:pt x="306" y="78"/>
                      <a:pt x="244" y="64"/>
                    </a:cubicBezTo>
                    <a:cubicBezTo>
                      <a:pt x="181" y="51"/>
                      <a:pt x="139" y="49"/>
                      <a:pt x="107" y="51"/>
                    </a:cubicBezTo>
                    <a:cubicBezTo>
                      <a:pt x="76" y="53"/>
                      <a:pt x="71" y="75"/>
                      <a:pt x="55" y="74"/>
                    </a:cubicBezTo>
                    <a:cubicBezTo>
                      <a:pt x="39" y="74"/>
                      <a:pt x="18" y="57"/>
                      <a:pt x="10" y="50"/>
                    </a:cubicBezTo>
                    <a:cubicBezTo>
                      <a:pt x="2" y="43"/>
                      <a:pt x="0" y="40"/>
                      <a:pt x="10" y="32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55560" y="572760"/>
                <a:ext cx="682560" cy="742320"/>
              </a:xfrm>
              <a:custGeom>
                <a:avLst/>
                <a:gdLst/>
                <a:ahLst/>
                <a:rect l="l" t="t" r="r" b="b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60520" y="482040"/>
                <a:ext cx="406080" cy="452160"/>
              </a:xfrm>
              <a:custGeom>
                <a:avLst/>
                <a:gdLst/>
                <a:ahLst/>
                <a:rect l="l" t="t" r="r" b="b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84000"/>
            <a:ext cx="76201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2224080"/>
            <a:ext cx="777240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685800" y="7012080"/>
            <a:ext cx="19051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3124080" y="7012080"/>
            <a:ext cx="289584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6553080" y="7012080"/>
            <a:ext cx="19051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2136-B3A7-4460-B482-61697C2A83B9}" type="slidenum">
              <a:rPr b="0" lang="de-DE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086600" y="341280"/>
            <a:ext cx="1647720" cy="4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-512640" y="-284400"/>
            <a:ext cx="9813960" cy="8533080"/>
            <a:chOff x="-512640" y="-284400"/>
            <a:chExt cx="9813960" cy="8533080"/>
          </a:xfrm>
        </p:grpSpPr>
        <p:grpSp>
          <p:nvGrpSpPr>
            <p:cNvPr id="139" name=""/>
            <p:cNvGrpSpPr/>
            <p:nvPr/>
          </p:nvGrpSpPr>
          <p:grpSpPr>
            <a:xfrm>
              <a:off x="-512640" y="-284400"/>
              <a:ext cx="9813960" cy="8533080"/>
              <a:chOff x="-512640" y="-284400"/>
              <a:chExt cx="9813960" cy="8533080"/>
            </a:xfrm>
          </p:grpSpPr>
          <p:sp>
            <p:nvSpPr>
              <p:cNvPr id="140" name=""/>
              <p:cNvSpPr/>
              <p:nvPr/>
            </p:nvSpPr>
            <p:spPr>
              <a:xfrm>
                <a:off x="5261040" y="5326920"/>
                <a:ext cx="1090440" cy="10846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492360" y="4607280"/>
                <a:ext cx="1567080" cy="132300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632040" y="5428080"/>
                <a:ext cx="1032120" cy="115416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141800" y="6338520"/>
                <a:ext cx="1015920" cy="141912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318360" y="3260520"/>
                <a:ext cx="84924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903920" y="3675600"/>
                <a:ext cx="1090440" cy="10846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3318000">
                <a:off x="3515040" y="3452040"/>
                <a:ext cx="11401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 rot="20977200">
                <a:off x="4691880" y="6025320"/>
                <a:ext cx="84924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890800" y="5344560"/>
                <a:ext cx="1374840" cy="141588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 rot="16245000">
                <a:off x="5686200" y="6744960"/>
                <a:ext cx="95328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6018000">
                <a:off x="3042720" y="6437160"/>
                <a:ext cx="142848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6283800">
                <a:off x="5334840" y="5540400"/>
                <a:ext cx="113976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 rot="19272000">
                <a:off x="5060880" y="4033080"/>
                <a:ext cx="1015920" cy="141912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rot="564000">
                <a:off x="2850840" y="4201200"/>
                <a:ext cx="84924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947960" y="4863960"/>
                <a:ext cx="1090440" cy="10843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79280" y="4592880"/>
                <a:ext cx="1567080" cy="1323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43000" y="5349960"/>
                <a:ext cx="1031760" cy="115416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19469400">
                <a:off x="1171440" y="6665760"/>
                <a:ext cx="1016280" cy="14194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2890800" y="3481560"/>
                <a:ext cx="84924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590840" y="3661560"/>
                <a:ext cx="1090440" cy="10846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3318000">
                <a:off x="-178560" y="3651840"/>
                <a:ext cx="113976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rot="20977200">
                <a:off x="1379520" y="6010560"/>
                <a:ext cx="849240" cy="114912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-22320" y="5266080"/>
                <a:ext cx="1374840" cy="141588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rot="16245000">
                <a:off x="2354400" y="6701760"/>
                <a:ext cx="9525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5508000">
                <a:off x="-117000" y="6338880"/>
                <a:ext cx="142812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rot="6283800">
                <a:off x="1792800" y="5248080"/>
                <a:ext cx="11401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 rot="19272000">
                <a:off x="1500120" y="3633840"/>
                <a:ext cx="1015920" cy="141912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 rot="564000">
                <a:off x="794880" y="3951720"/>
                <a:ext cx="84924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20960" y="1550520"/>
                <a:ext cx="1090440" cy="10846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52280" y="830880"/>
                <a:ext cx="1567080" cy="132300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-31680" y="1994040"/>
                <a:ext cx="1031760" cy="115416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144440" y="2904480"/>
                <a:ext cx="1016280" cy="141912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863800" y="-2520"/>
                <a:ext cx="84924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563840" y="177480"/>
                <a:ext cx="1090440" cy="10843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3318000">
                <a:off x="232200" y="-88200"/>
                <a:ext cx="113976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20977200">
                <a:off x="1351800" y="2248920"/>
                <a:ext cx="84924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93760" y="1696680"/>
                <a:ext cx="1374840" cy="141588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 rot="16245000">
                <a:off x="2308320" y="2669040"/>
                <a:ext cx="9525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2428800">
                <a:off x="-257040" y="3000240"/>
                <a:ext cx="1272960" cy="12571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6283800">
                <a:off x="1994760" y="1764000"/>
                <a:ext cx="113976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 rot="19272000">
                <a:off x="1472760" y="149760"/>
                <a:ext cx="1015920" cy="14194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 rot="564000">
                <a:off x="-31680" y="425160"/>
                <a:ext cx="84924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246640" y="1550520"/>
                <a:ext cx="1090800" cy="10846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478320" y="830880"/>
                <a:ext cx="1566720" cy="132300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294000" y="1994040"/>
                <a:ext cx="1031760" cy="115416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470480" y="2904480"/>
                <a:ext cx="1015920" cy="141912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189840" y="-2520"/>
                <a:ext cx="84924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889520" y="177480"/>
                <a:ext cx="1090440" cy="10843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3318000">
                <a:off x="3119760" y="167760"/>
                <a:ext cx="11397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 rot="20977200">
                <a:off x="4678200" y="2248560"/>
                <a:ext cx="84960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029040" y="1910160"/>
                <a:ext cx="1374840" cy="141588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 rot="16245000">
                <a:off x="5634000" y="2669040"/>
                <a:ext cx="9525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2428800">
                <a:off x="3068280" y="3000600"/>
                <a:ext cx="1273320" cy="12571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6283800">
                <a:off x="5320080" y="1763640"/>
                <a:ext cx="113976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 rot="19272000">
                <a:off x="4798800" y="149760"/>
                <a:ext cx="1015920" cy="14194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 rot="564000">
                <a:off x="2931840" y="425160"/>
                <a:ext cx="84924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8056440" y="1545120"/>
                <a:ext cx="1090800" cy="108468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805440" y="847080"/>
                <a:ext cx="1567080" cy="132300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621480" y="2010240"/>
                <a:ext cx="1031760" cy="115416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083440" y="2813400"/>
                <a:ext cx="1016280" cy="14194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664400" y="43560"/>
                <a:ext cx="1090800" cy="10843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3318000">
                <a:off x="6504480" y="-7920"/>
                <a:ext cx="11401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rot="20977200">
                <a:off x="8004960" y="2265120"/>
                <a:ext cx="84924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870600" y="1691280"/>
                <a:ext cx="1374840" cy="141588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 rot="16245000">
                <a:off x="8158320" y="5784480"/>
                <a:ext cx="95256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2428800">
                <a:off x="6605640" y="2866320"/>
                <a:ext cx="1272960" cy="12578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6283800">
                <a:off x="7714440" y="1459440"/>
                <a:ext cx="113976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 rot="21012000">
                <a:off x="8131320" y="16200"/>
                <a:ext cx="1015920" cy="14194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 rot="564000">
                <a:off x="6067800" y="825840"/>
                <a:ext cx="84960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521400">
                <a:off x="8025120" y="5323320"/>
                <a:ext cx="122328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805440" y="4609080"/>
                <a:ext cx="1567080" cy="132300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621480" y="5772240"/>
                <a:ext cx="1031760" cy="115380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845200">
                <a:off x="7943760" y="6509160"/>
                <a:ext cx="11401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702560" y="3634560"/>
                <a:ext cx="1090440" cy="108432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3318000">
                <a:off x="6447240" y="3668040"/>
                <a:ext cx="113976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 rot="20977200">
                <a:off x="7815240" y="6562800"/>
                <a:ext cx="849240" cy="114912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356520" y="5688360"/>
                <a:ext cx="1374480" cy="141588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6819600">
                <a:off x="6527520" y="6547320"/>
                <a:ext cx="142848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6283800">
                <a:off x="7218720" y="4665600"/>
                <a:ext cx="11401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 rot="15949200">
                <a:off x="8058960" y="3834720"/>
                <a:ext cx="11401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 rot="564000">
                <a:off x="6316200" y="4309560"/>
                <a:ext cx="849240" cy="114876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44280" y="3155400"/>
              <a:ext cx="8929440" cy="2746440"/>
              <a:chOff x="44280" y="3155400"/>
              <a:chExt cx="8929440" cy="2746440"/>
            </a:xfrm>
          </p:grpSpPr>
          <p:sp>
            <p:nvSpPr>
              <p:cNvPr id="222" name=""/>
              <p:cNvSpPr/>
              <p:nvPr/>
            </p:nvSpPr>
            <p:spPr>
              <a:xfrm rot="17967600">
                <a:off x="248400" y="3810240"/>
                <a:ext cx="1999800" cy="16365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223" name=""/>
              <p:cNvGrpSpPr/>
              <p:nvPr/>
            </p:nvGrpSpPr>
            <p:grpSpPr>
              <a:xfrm>
                <a:off x="228600" y="3956760"/>
                <a:ext cx="8745120" cy="250920"/>
                <a:chOff x="228600" y="3956760"/>
                <a:chExt cx="8745120" cy="25092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228600" y="3956760"/>
                  <a:ext cx="8745120" cy="250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70000" y="4028400"/>
                  <a:ext cx="8649360" cy="6228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120600" y="3855600"/>
                <a:ext cx="8745120" cy="250560"/>
                <a:chOff x="120600" y="3855600"/>
                <a:chExt cx="8745120" cy="25056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120600" y="3855600"/>
                  <a:ext cx="8745120" cy="250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25252"/>
                    </a:gs>
                    <a:gs pos="50000">
                      <a:srgbClr val="b2b2b2"/>
                    </a:gs>
                    <a:gs pos="100000">
                      <a:srgbClr val="5252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162000" y="3926880"/>
                  <a:ext cx="8649360" cy="62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8e8e8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480" bIns="1548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106200" y="3155400"/>
                <a:ext cx="2199600" cy="2324880"/>
                <a:chOff x="106200" y="3155400"/>
                <a:chExt cx="2199600" cy="2324880"/>
              </a:xfrm>
            </p:grpSpPr>
            <p:sp>
              <p:nvSpPr>
                <p:cNvPr id="230" name=""/>
                <p:cNvSpPr/>
                <p:nvPr/>
              </p:nvSpPr>
              <p:spPr>
                <a:xfrm rot="17970000">
                  <a:off x="293040" y="3570480"/>
                  <a:ext cx="1825560" cy="1494360"/>
                </a:xfrm>
                <a:custGeom>
                  <a:avLst/>
                  <a:gdLst/>
                  <a:ahLst/>
                  <a:rect l="l" t="t" r="r" b="b"/>
                  <a:pathLst>
                    <a:path w="866" h="795">
                      <a:moveTo>
                        <a:pt x="17" y="180"/>
                      </a:moveTo>
                      <a:cubicBezTo>
                        <a:pt x="49" y="413"/>
                        <a:pt x="206" y="636"/>
                        <a:pt x="284" y="720"/>
                      </a:cubicBezTo>
                      <a:cubicBezTo>
                        <a:pt x="359" y="795"/>
                        <a:pt x="422" y="771"/>
                        <a:pt x="380" y="687"/>
                      </a:cubicBezTo>
                      <a:cubicBezTo>
                        <a:pt x="284" y="378"/>
                        <a:pt x="197" y="183"/>
                        <a:pt x="647" y="249"/>
                      </a:cubicBezTo>
                      <a:cubicBezTo>
                        <a:pt x="866" y="276"/>
                        <a:pt x="791" y="175"/>
                        <a:pt x="716" y="138"/>
                      </a:cubicBezTo>
                      <a:cubicBezTo>
                        <a:pt x="575" y="63"/>
                        <a:pt x="317" y="6"/>
                        <a:pt x="182" y="0"/>
                      </a:cubicBezTo>
                      <a:cubicBezTo>
                        <a:pt x="95" y="0"/>
                        <a:pt x="0" y="32"/>
                        <a:pt x="17" y="180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rot="17970000">
                  <a:off x="502560" y="4261680"/>
                  <a:ext cx="411840" cy="1096920"/>
                </a:xfrm>
                <a:custGeom>
                  <a:avLst/>
                  <a:gdLst/>
                  <a:ahLst/>
                  <a:rect l="l" t="t" r="r" b="b"/>
                  <a:pathLst>
                    <a:path w="642" h="1919">
                      <a:moveTo>
                        <a:pt x="209" y="42"/>
                      </a:moveTo>
                      <a:cubicBezTo>
                        <a:pt x="59" y="125"/>
                        <a:pt x="0" y="338"/>
                        <a:pt x="1" y="551"/>
                      </a:cubicBezTo>
                      <a:cubicBezTo>
                        <a:pt x="2" y="764"/>
                        <a:pt x="132" y="1103"/>
                        <a:pt x="218" y="1319"/>
                      </a:cubicBezTo>
                      <a:cubicBezTo>
                        <a:pt x="304" y="1535"/>
                        <a:pt x="462" y="1771"/>
                        <a:pt x="518" y="1845"/>
                      </a:cubicBezTo>
                      <a:cubicBezTo>
                        <a:pt x="574" y="1919"/>
                        <a:pt x="594" y="1892"/>
                        <a:pt x="551" y="1761"/>
                      </a:cubicBezTo>
                      <a:cubicBezTo>
                        <a:pt x="508" y="1630"/>
                        <a:pt x="314" y="1260"/>
                        <a:pt x="259" y="1060"/>
                      </a:cubicBezTo>
                      <a:cubicBezTo>
                        <a:pt x="204" y="860"/>
                        <a:pt x="204" y="704"/>
                        <a:pt x="218" y="559"/>
                      </a:cubicBezTo>
                      <a:cubicBezTo>
                        <a:pt x="232" y="414"/>
                        <a:pt x="300" y="266"/>
                        <a:pt x="343" y="192"/>
                      </a:cubicBezTo>
                      <a:cubicBezTo>
                        <a:pt x="386" y="118"/>
                        <a:pt x="427" y="139"/>
                        <a:pt x="476" y="117"/>
                      </a:cubicBezTo>
                      <a:cubicBezTo>
                        <a:pt x="525" y="95"/>
                        <a:pt x="628" y="76"/>
                        <a:pt x="635" y="58"/>
                      </a:cubicBezTo>
                      <a:cubicBezTo>
                        <a:pt x="642" y="40"/>
                        <a:pt x="569" y="16"/>
                        <a:pt x="518" y="8"/>
                      </a:cubicBezTo>
                      <a:cubicBezTo>
                        <a:pt x="467" y="0"/>
                        <a:pt x="378" y="2"/>
                        <a:pt x="326" y="8"/>
                      </a:cubicBezTo>
                      <a:cubicBezTo>
                        <a:pt x="274" y="14"/>
                        <a:pt x="259" y="0"/>
                        <a:pt x="209" y="42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17970000">
                  <a:off x="-87480" y="3870360"/>
                  <a:ext cx="1547640" cy="360000"/>
                </a:xfrm>
                <a:custGeom>
                  <a:avLst/>
                  <a:gdLst/>
                  <a:ahLst/>
                  <a:rect l="l" t="t" r="r" b="b"/>
                  <a:pathLst>
                    <a:path w="2411" h="630">
                      <a:moveTo>
                        <a:pt x="11" y="117"/>
                      </a:moveTo>
                      <a:cubicBezTo>
                        <a:pt x="41" y="92"/>
                        <a:pt x="124" y="20"/>
                        <a:pt x="250" y="10"/>
                      </a:cubicBezTo>
                      <a:cubicBezTo>
                        <a:pt x="375" y="0"/>
                        <a:pt x="545" y="18"/>
                        <a:pt x="765" y="58"/>
                      </a:cubicBezTo>
                      <a:cubicBezTo>
                        <a:pt x="986" y="100"/>
                        <a:pt x="1341" y="187"/>
                        <a:pt x="1574" y="256"/>
                      </a:cubicBezTo>
                      <a:cubicBezTo>
                        <a:pt x="1807" y="324"/>
                        <a:pt x="2032" y="415"/>
                        <a:pt x="2162" y="470"/>
                      </a:cubicBezTo>
                      <a:cubicBezTo>
                        <a:pt x="2293" y="525"/>
                        <a:pt x="2336" y="565"/>
                        <a:pt x="2359" y="586"/>
                      </a:cubicBezTo>
                      <a:cubicBezTo>
                        <a:pt x="2383" y="607"/>
                        <a:pt x="2411" y="630"/>
                        <a:pt x="2307" y="601"/>
                      </a:cubicBezTo>
                      <a:cubicBezTo>
                        <a:pt x="2204" y="573"/>
                        <a:pt x="1980" y="481"/>
                        <a:pt x="1741" y="415"/>
                      </a:cubicBezTo>
                      <a:cubicBezTo>
                        <a:pt x="1502" y="351"/>
                        <a:pt x="1100" y="251"/>
                        <a:pt x="874" y="212"/>
                      </a:cubicBezTo>
                      <a:cubicBezTo>
                        <a:pt x="648" y="173"/>
                        <a:pt x="495" y="169"/>
                        <a:pt x="382" y="179"/>
                      </a:cubicBezTo>
                      <a:cubicBezTo>
                        <a:pt x="269" y="189"/>
                        <a:pt x="256" y="269"/>
                        <a:pt x="198" y="270"/>
                      </a:cubicBezTo>
                      <a:cubicBezTo>
                        <a:pt x="140" y="271"/>
                        <a:pt x="62" y="212"/>
                        <a:pt x="31" y="187"/>
                      </a:cubicBezTo>
                      <a:cubicBezTo>
                        <a:pt x="0" y="162"/>
                        <a:pt x="15" y="132"/>
                        <a:pt x="11" y="117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17970000">
                  <a:off x="822960" y="3816720"/>
                  <a:ext cx="992880" cy="858600"/>
                </a:xfrm>
                <a:custGeom>
                  <a:avLst/>
                  <a:gdLst/>
                  <a:ahLst/>
                  <a:rect l="l" t="t" r="r" b="b"/>
                  <a:pathLst>
                    <a:path w="1547" h="1502">
                      <a:moveTo>
                        <a:pt x="54" y="275"/>
                      </a:moveTo>
                      <a:cubicBezTo>
                        <a:pt x="112" y="178"/>
                        <a:pt x="177" y="66"/>
                        <a:pt x="388" y="33"/>
                      </a:cubicBezTo>
                      <a:cubicBezTo>
                        <a:pt x="599" y="0"/>
                        <a:pt x="1146" y="55"/>
                        <a:pt x="1323" y="74"/>
                      </a:cubicBezTo>
                      <a:cubicBezTo>
                        <a:pt x="1500" y="93"/>
                        <a:pt x="1547" y="143"/>
                        <a:pt x="1448" y="149"/>
                      </a:cubicBezTo>
                      <a:cubicBezTo>
                        <a:pt x="1349" y="155"/>
                        <a:pt x="920" y="97"/>
                        <a:pt x="730" y="108"/>
                      </a:cubicBezTo>
                      <a:cubicBezTo>
                        <a:pt x="540" y="119"/>
                        <a:pt x="402" y="147"/>
                        <a:pt x="305" y="216"/>
                      </a:cubicBezTo>
                      <a:cubicBezTo>
                        <a:pt x="208" y="285"/>
                        <a:pt x="156" y="373"/>
                        <a:pt x="146" y="525"/>
                      </a:cubicBezTo>
                      <a:cubicBezTo>
                        <a:pt x="136" y="677"/>
                        <a:pt x="214" y="974"/>
                        <a:pt x="246" y="1126"/>
                      </a:cubicBezTo>
                      <a:cubicBezTo>
                        <a:pt x="278" y="1278"/>
                        <a:pt x="332" y="1383"/>
                        <a:pt x="338" y="1435"/>
                      </a:cubicBezTo>
                      <a:cubicBezTo>
                        <a:pt x="344" y="1487"/>
                        <a:pt x="316" y="1502"/>
                        <a:pt x="280" y="1435"/>
                      </a:cubicBezTo>
                      <a:cubicBezTo>
                        <a:pt x="244" y="1368"/>
                        <a:pt x="161" y="1170"/>
                        <a:pt x="121" y="1034"/>
                      </a:cubicBezTo>
                      <a:cubicBezTo>
                        <a:pt x="81" y="898"/>
                        <a:pt x="49" y="743"/>
                        <a:pt x="38" y="617"/>
                      </a:cubicBezTo>
                      <a:cubicBezTo>
                        <a:pt x="27" y="491"/>
                        <a:pt x="0" y="375"/>
                        <a:pt x="54" y="275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rot="17970000">
                  <a:off x="618120" y="4145760"/>
                  <a:ext cx="591120" cy="521280"/>
                </a:xfrm>
                <a:custGeom>
                  <a:avLst/>
                  <a:gdLst/>
                  <a:ahLst/>
                  <a:rect l="l" t="t" r="r" b="b"/>
                  <a:pathLst>
                    <a:path w="921" h="912">
                      <a:moveTo>
                        <a:pt x="14" y="164"/>
                      </a:moveTo>
                      <a:cubicBezTo>
                        <a:pt x="0" y="66"/>
                        <a:pt x="67" y="0"/>
                        <a:pt x="216" y="33"/>
                      </a:cubicBezTo>
                      <a:cubicBezTo>
                        <a:pt x="419" y="54"/>
                        <a:pt x="487" y="8"/>
                        <a:pt x="871" y="217"/>
                      </a:cubicBezTo>
                      <a:cubicBezTo>
                        <a:pt x="921" y="234"/>
                        <a:pt x="692" y="228"/>
                        <a:pt x="613" y="258"/>
                      </a:cubicBezTo>
                      <a:cubicBezTo>
                        <a:pt x="534" y="288"/>
                        <a:pt x="450" y="347"/>
                        <a:pt x="396" y="400"/>
                      </a:cubicBezTo>
                      <a:cubicBezTo>
                        <a:pt x="342" y="453"/>
                        <a:pt x="309" y="502"/>
                        <a:pt x="287" y="576"/>
                      </a:cubicBezTo>
                      <a:cubicBezTo>
                        <a:pt x="265" y="650"/>
                        <a:pt x="308" y="912"/>
                        <a:pt x="262" y="843"/>
                      </a:cubicBezTo>
                      <a:cubicBezTo>
                        <a:pt x="45" y="626"/>
                        <a:pt x="59" y="295"/>
                        <a:pt x="14" y="164"/>
                      </a:cubicBez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05120" y="2479320"/>
            <a:ext cx="68580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4"/>
          </p:nvPr>
        </p:nvSpPr>
        <p:spPr>
          <a:xfrm>
            <a:off x="685800" y="7012080"/>
            <a:ext cx="19051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ftr" idx="5"/>
          </p:nvPr>
        </p:nvSpPr>
        <p:spPr>
          <a:xfrm>
            <a:off x="3124080" y="7012080"/>
            <a:ext cx="289584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sldNum" idx="6"/>
          </p:nvPr>
        </p:nvSpPr>
        <p:spPr>
          <a:xfrm>
            <a:off x="6553080" y="7012080"/>
            <a:ext cx="190512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D078-9150-47F1-A377-94C3E883646B}" type="slidenum">
              <a:rPr b="0" lang="de-DE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7086600" y="341280"/>
            <a:ext cx="1647720" cy="4539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5"/>
          <p:cNvSpPr>
            <a:spLocks noGrp="1"/>
          </p:cNvSpPr>
          <p:nvPr>
            <p:ph type="body"/>
          </p:nvPr>
        </p:nvSpPr>
        <p:spPr>
          <a:xfrm>
            <a:off x="457200" y="1800720"/>
            <a:ext cx="8229240" cy="44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66680" y="1219320"/>
            <a:ext cx="7313760" cy="1752480"/>
          </a:xfrm>
          <a:prstGeom prst="rect">
            <a:avLst/>
          </a:prstGeom>
          <a:noFill/>
          <a:ln w="3240">
            <a:solidFill>
              <a:srgbClr val="3333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3333ff"/>
                </a:solidFill>
                <a:latin typeface="Arial Narrow"/>
              </a:rPr>
              <a:t>Intermodal Transport Europe-Asia:</a:t>
            </a:r>
            <a:br>
              <a:rPr sz="3200"/>
            </a:br>
            <a:r>
              <a:rPr b="1" lang="de-AT" sz="3200" spc="-1" strike="noStrike">
                <a:solidFill>
                  <a:srgbClr val="3333ff"/>
                </a:solidFill>
                <a:latin typeface="Arial Narrow"/>
              </a:rPr>
              <a:t>Opportunities and Challenges</a:t>
            </a:r>
            <a:br>
              <a:rPr sz="3200"/>
            </a:br>
            <a:r>
              <a:rPr b="1" lang="de-AT" sz="3200" spc="-1" strike="noStrike">
                <a:solidFill>
                  <a:srgbClr val="3333ff"/>
                </a:solidFill>
                <a:latin typeface="Arial Narrow"/>
              </a:rPr>
              <a:t>Presentation by Austria</a:t>
            </a:r>
            <a:endParaRPr b="0" lang="en-US" sz="32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828800" y="4446360"/>
            <a:ext cx="5943600" cy="18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333333"/>
                </a:solidFill>
                <a:latin typeface="Arial Narrow"/>
              </a:rPr>
              <a:t>Mrs. Lydia Feige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333333"/>
                </a:solidFill>
                <a:latin typeface="Arial Narrow"/>
              </a:rPr>
              <a:t>Kiev, 27 and 28 September 2004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bmvit, Abt. I/K7                                                            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4300-5FB9-42F6-AED6-F403A3677D5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320" y="1368000"/>
            <a:ext cx="7620120" cy="52092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3333ff"/>
                </a:solidFill>
                <a:latin typeface="Arial Narrow"/>
              </a:rPr>
              <a:t>Promotion</a:t>
            </a:r>
            <a:r>
              <a:rPr b="1" lang="de-AT" sz="3000" spc="-1" strike="noStrike">
                <a:solidFill>
                  <a:srgbClr val="007572"/>
                </a:solidFill>
                <a:latin typeface="Arial Narrow"/>
              </a:rPr>
              <a:t> </a:t>
            </a:r>
            <a:r>
              <a:rPr b="1" lang="de-AT" sz="3200" spc="-1" strike="noStrike">
                <a:solidFill>
                  <a:srgbClr val="3333ff"/>
                </a:solidFill>
                <a:latin typeface="Arial Narrow"/>
              </a:rPr>
              <a:t>of Combined Transport</a:t>
            </a:r>
            <a:endParaRPr b="0" lang="en-US" sz="32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66680" y="2224080"/>
            <a:ext cx="739152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333333"/>
                </a:solidFill>
                <a:uFillTx/>
                <a:latin typeface="Arial Narrow"/>
                <a:ea typeface="Arial"/>
              </a:rPr>
              <a:t>Austrian transport policy</a:t>
            </a:r>
            <a:r>
              <a:rPr b="0" lang="en-GB" sz="2600" spc="-1" strike="noStrike">
                <a:solidFill>
                  <a:srgbClr val="333333"/>
                </a:solidFill>
                <a:latin typeface="Arial Narrow"/>
                <a:ea typeface="Arial"/>
              </a:rPr>
              <a:t>: Combined Transport is of central importance for solving problems considering road freight transport caused by the Austrian geographical and topographical situation</a:t>
            </a:r>
            <a:endParaRPr b="0" lang="en-US" sz="2600" spc="-1" strike="noStrike">
              <a:solidFill>
                <a:srgbClr val="333333"/>
              </a:solidFill>
              <a:latin typeface="Arial Narrow"/>
            </a:endParaRPr>
          </a:p>
          <a:p>
            <a:pPr marL="528120" indent="-52812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333333"/>
                </a:solidFill>
                <a:uFillTx/>
                <a:latin typeface="Arial Narrow"/>
                <a:ea typeface="Arial"/>
              </a:rPr>
              <a:t>Goal</a:t>
            </a:r>
            <a:r>
              <a:rPr b="1" lang="en-GB" sz="2600" spc="-1" strike="noStrike">
                <a:solidFill>
                  <a:srgbClr val="333333"/>
                </a:solidFill>
                <a:latin typeface="Arial Narrow"/>
                <a:ea typeface="Arial"/>
              </a:rPr>
              <a:t>:</a:t>
            </a:r>
            <a:r>
              <a:rPr b="0" lang="en-GB" sz="2600" spc="-1" strike="noStrike">
                <a:solidFill>
                  <a:srgbClr val="333333"/>
                </a:solidFill>
                <a:latin typeface="Arial Narrow"/>
                <a:ea typeface="Arial"/>
              </a:rPr>
              <a:t> to shift freight from road transport to other more environmental friendly modes of transport e.g. railways to the largest possible extent</a:t>
            </a:r>
            <a:endParaRPr b="0" lang="en-US" sz="2600" spc="-1" strike="noStrike">
              <a:solidFill>
                <a:srgbClr val="333333"/>
              </a:solidFill>
              <a:latin typeface="Arial Narrow"/>
            </a:endParaRPr>
          </a:p>
          <a:p>
            <a:pPr marL="528120" indent="-52812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333333"/>
                </a:solidFill>
                <a:uFillTx/>
                <a:latin typeface="Arial Narrow"/>
                <a:ea typeface="Arial"/>
              </a:rPr>
              <a:t>European transport policy</a:t>
            </a:r>
            <a:r>
              <a:rPr b="0" lang="en-GB" sz="2600" spc="-1" strike="noStrike">
                <a:solidFill>
                  <a:srgbClr val="333333"/>
                </a:solidFill>
                <a:latin typeface="Arial Narrow"/>
                <a:ea typeface="Arial"/>
              </a:rPr>
              <a:t>: also promoted in the White Paper-European Transport Policy for 2010</a:t>
            </a:r>
            <a:endParaRPr b="0" lang="en-US" sz="2600" spc="-1" strike="noStrike">
              <a:solidFill>
                <a:srgbClr val="333333"/>
              </a:solidFill>
              <a:latin typeface="Arial Narrow"/>
            </a:endParaRPr>
          </a:p>
          <a:p>
            <a:pPr marL="528120" indent="-528120">
              <a:lnSpc>
                <a:spcPct val="90000"/>
              </a:lnSpc>
              <a:spcBef>
                <a:spcPts val="64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 u="sng">
                <a:solidFill>
                  <a:srgbClr val="333333"/>
                </a:solidFill>
                <a:uFillTx/>
                <a:latin typeface="Arial Narrow"/>
                <a:ea typeface="Arial"/>
              </a:rPr>
              <a:t>Possible Solution</a:t>
            </a:r>
            <a:r>
              <a:rPr b="1" lang="en-GB" sz="2600" spc="-1" strike="noStrike">
                <a:solidFill>
                  <a:srgbClr val="333333"/>
                </a:solidFill>
                <a:latin typeface="Arial Narrow"/>
                <a:ea typeface="Arial"/>
              </a:rPr>
              <a:t>:</a:t>
            </a:r>
            <a:r>
              <a:rPr b="0" lang="en-GB" sz="2600" spc="-1" strike="noStrike">
                <a:solidFill>
                  <a:srgbClr val="333333"/>
                </a:solidFill>
                <a:latin typeface="Arial Narrow"/>
                <a:ea typeface="Arial"/>
              </a:rPr>
              <a:t> to avoid road congestion, accidents, noise disturbance and the pollution of the environment</a:t>
            </a:r>
            <a:endParaRPr b="0" lang="en-US" sz="2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mvit, Abt. I/K7                                                            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9A0B-9A34-4E6C-A271-50ECAA3568A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320" y="1368000"/>
            <a:ext cx="7620120" cy="52092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 Narrow"/>
              </a:rPr>
              <a:t>Modal Split Landtransport 2001</a:t>
            </a:r>
            <a:endParaRPr b="0" lang="en-US" sz="32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2" name=""/>
          <p:cNvSpPr/>
          <p:nvPr/>
        </p:nvSpPr>
        <p:spPr>
          <a:xfrm>
            <a:off x="3200400" y="3962520"/>
            <a:ext cx="609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2224080"/>
            <a:ext cx="777240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333333"/>
                </a:solidFill>
                <a:latin typeface="Arial"/>
                <a:ea typeface="Arial"/>
              </a:rPr>
              <a:t>   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533520" y="2971800"/>
          <a:ext cx="7932600" cy="285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971800"/>
                    <a:ext cx="7932600" cy="28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8458200" y="3124080"/>
            <a:ext cx="0" cy="266724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mvit, Abt. I/K7                                                            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0CD1-E5DA-45CD-9481-5CB0746AF0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772400" cy="4572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3333ff"/>
                </a:solidFill>
                <a:latin typeface="Arial Narrow"/>
              </a:rPr>
              <a:t>Development of Combined Transport in Austria</a:t>
            </a:r>
            <a:endParaRPr b="0" lang="en-US" sz="32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2224080"/>
            <a:ext cx="777240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 Narrow"/>
                <a:ea typeface="Times New Roman"/>
              </a:rPr>
              <a:t>  </a:t>
            </a:r>
            <a:endParaRPr b="0" lang="en-US" sz="1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 Narrow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914400" y="1600200"/>
          <a:ext cx="7315200" cy="533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00200"/>
                    <a:ext cx="73152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2057400" y="2666880"/>
            <a:ext cx="18972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33"/>
                </a:solidFill>
                <a:latin typeface="Arial"/>
              </a:rPr>
              <a:t>average annual increase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33"/>
                </a:solidFill>
                <a:latin typeface="Arial"/>
              </a:rPr>
              <a:t>1983-2003: 17,69%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33"/>
                </a:solidFill>
                <a:latin typeface="Arial"/>
              </a:rPr>
              <a:t>1983-1990: 31,43%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33"/>
                </a:solidFill>
                <a:latin typeface="Arial"/>
              </a:rPr>
              <a:t>1990-1993: 16,40%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33"/>
                </a:solidFill>
                <a:latin typeface="Arial"/>
              </a:rPr>
              <a:t>1993-1995: 8,98%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33"/>
                </a:solidFill>
                <a:latin typeface="Arial"/>
              </a:rPr>
              <a:t>1995-1999: 4,13%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33"/>
                </a:solidFill>
                <a:latin typeface="Arial"/>
              </a:rPr>
              <a:t>1999-2003: 12,78%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562720" y="3809880"/>
            <a:ext cx="9442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33"/>
                </a:solidFill>
                <a:latin typeface="Arial"/>
              </a:rPr>
              <a:t>EU-access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33"/>
                </a:solidFill>
                <a:latin typeface="Arial"/>
              </a:rPr>
              <a:t>01.01.95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0" y="4876920"/>
            <a:ext cx="9223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33"/>
                </a:solidFill>
                <a:latin typeface="Arial"/>
              </a:rPr>
              <a:t>discount for comb. transpor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33"/>
                </a:solidFill>
                <a:latin typeface="Arial"/>
              </a:rPr>
              <a:t>middle 99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114800" y="4952880"/>
            <a:ext cx="0" cy="129564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029200" y="4267080"/>
            <a:ext cx="0" cy="175284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562720" y="3352680"/>
            <a:ext cx="0" cy="259092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3505320"/>
            <a:ext cx="0" cy="259056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114800" y="5715000"/>
            <a:ext cx="1905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33"/>
                </a:solidFill>
                <a:latin typeface="Arial"/>
              </a:rPr>
              <a:t>ban on nighttime driving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33"/>
                </a:solidFill>
                <a:latin typeface="Arial"/>
              </a:rPr>
              <a:t>01.12.89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029200" y="5181480"/>
            <a:ext cx="1104840" cy="47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33"/>
                </a:solidFill>
                <a:latin typeface="Arial"/>
              </a:rPr>
              <a:t>transit-treaty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33333"/>
                </a:solidFill>
                <a:latin typeface="Arial"/>
              </a:rPr>
              <a:t>01.01.93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mvit, Abt. I/K7                                                            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5D5B-25EF-4EAB-AEAA-F9E63C9BBF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684000"/>
            <a:ext cx="76201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3333ff"/>
                </a:solidFill>
                <a:latin typeface="Arial Narrow"/>
              </a:rPr>
              <a:t>Transport Austria-Asia</a:t>
            </a:r>
            <a:endParaRPr b="0" lang="en-US" sz="3200" spc="-1" strike="noStrike">
              <a:solidFill>
                <a:srgbClr val="007572"/>
              </a:solidFill>
              <a:latin typeface="Arial Narrow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685800" y="2278080"/>
          <a:ext cx="7772400" cy="4508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78080"/>
                    <a:ext cx="7772400" cy="450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838080" y="914400"/>
            <a:ext cx="7467840" cy="68580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mvit, Abt. I/K7                                                            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D411-CB0A-4F65-846A-423BAA2EA0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684000"/>
            <a:ext cx="762012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3333ff"/>
                </a:solidFill>
                <a:latin typeface="Arial Narrow"/>
              </a:rPr>
              <a:t>Transport Austria-Asia</a:t>
            </a:r>
            <a:endParaRPr b="0" lang="en-US" sz="32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990720"/>
            <a:ext cx="7315200" cy="5331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685800" y="2273400"/>
          <a:ext cx="7772400" cy="451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73400"/>
                    <a:ext cx="7772400" cy="45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mvit, Abt. I/K7                                                                             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FAE6-E584-4647-9744-EB01B37438A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320" y="1143000"/>
            <a:ext cx="7620120" cy="914400"/>
          </a:xfrm>
          <a:prstGeom prst="rect">
            <a:avLst/>
          </a:prstGeom>
          <a:noFill/>
          <a:ln w="6480">
            <a:solidFill>
              <a:srgbClr val="3333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3333ff"/>
                </a:solidFill>
                <a:latin typeface="Arial Narrow"/>
              </a:rPr>
              <a:t>Necessary steps to support </a:t>
            </a:r>
            <a:br>
              <a:rPr sz="3200"/>
            </a:br>
            <a:r>
              <a:rPr b="1" lang="de-AT" sz="3200" spc="-1" strike="noStrike">
                <a:solidFill>
                  <a:srgbClr val="3333ff"/>
                </a:solidFill>
                <a:latin typeface="Arial Narrow"/>
              </a:rPr>
              <a:t>Combined/Intermodal Transport in the Future</a:t>
            </a:r>
            <a:endParaRPr b="0" lang="en-US" sz="32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66680" y="2224080"/>
            <a:ext cx="739152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80000"/>
              </a:lnSpc>
              <a:spcBef>
                <a:spcPts val="64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600" spc="-1" strike="noStrike">
                <a:solidFill>
                  <a:srgbClr val="333333"/>
                </a:solidFill>
                <a:latin typeface="Arial Narrow"/>
              </a:rPr>
              <a:t>Setting financial, fiscal and legal measures</a:t>
            </a:r>
            <a:endParaRPr b="0" lang="en-US" sz="2600" spc="-1" strike="noStrike">
              <a:solidFill>
                <a:srgbClr val="333333"/>
              </a:solidFill>
              <a:latin typeface="Arial Narrow"/>
            </a:endParaRPr>
          </a:p>
          <a:p>
            <a:pPr marL="528120" indent="-528120">
              <a:lnSpc>
                <a:spcPct val="80000"/>
              </a:lnSpc>
              <a:spcBef>
                <a:spcPts val="64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600" spc="-1" strike="noStrike">
                <a:solidFill>
                  <a:srgbClr val="333333"/>
                </a:solidFill>
                <a:latin typeface="Arial Narrow"/>
              </a:rPr>
              <a:t>Examples of Austrian measures: </a:t>
            </a:r>
            <a:endParaRPr b="0" lang="en-US" sz="2600" spc="-1" strike="noStrike">
              <a:solidFill>
                <a:srgbClr val="333333"/>
              </a:solidFill>
              <a:latin typeface="Arial Narrow"/>
            </a:endParaRPr>
          </a:p>
          <a:p>
            <a:pPr marL="528120" indent="-528120">
              <a:lnSpc>
                <a:spcPct val="80000"/>
              </a:lnSpc>
              <a:spcBef>
                <a:spcPts val="649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600" spc="-1" strike="noStrike">
                <a:solidFill>
                  <a:srgbClr val="333333"/>
                </a:solidFill>
                <a:latin typeface="Arial Narrow"/>
              </a:rPr>
              <a:t>„</a:t>
            </a:r>
            <a:r>
              <a:rPr b="1" lang="de-AT" sz="2600" spc="-1" strike="noStrike">
                <a:solidFill>
                  <a:srgbClr val="333333"/>
                </a:solidFill>
                <a:latin typeface="Arial Narrow"/>
              </a:rPr>
              <a:t>Programme for the promotion of combined transport road/rail/ship“ /</a:t>
            </a:r>
            <a:endParaRPr b="0" lang="en-US" sz="2600" spc="-1" strike="noStrike">
              <a:solidFill>
                <a:srgbClr val="333333"/>
              </a:solidFill>
              <a:latin typeface="Arial Narrow"/>
            </a:endParaRPr>
          </a:p>
          <a:p>
            <a:pPr marL="528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600" spc="-1" strike="noStrike">
                <a:solidFill>
                  <a:srgbClr val="333333"/>
                </a:solidFill>
                <a:latin typeface="Arial Narrow"/>
              </a:rPr>
              <a:t>       </a:t>
            </a:r>
            <a:r>
              <a:rPr b="1" lang="de-AT" sz="2600" spc="-1" strike="noStrike">
                <a:solidFill>
                  <a:srgbClr val="333333"/>
                </a:solidFill>
                <a:latin typeface="Arial Narrow"/>
              </a:rPr>
              <a:t>financial dimension:</a:t>
            </a:r>
            <a:r>
              <a:rPr b="1" lang="de-AT" sz="2600" spc="-1" strike="noStrike">
                <a:solidFill>
                  <a:srgbClr val="333333"/>
                </a:solidFill>
                <a:latin typeface="Arial Narrow"/>
              </a:rPr>
              <a:t>	</a:t>
            </a:r>
            <a:r>
              <a:rPr b="1" lang="de-AT" sz="2600" spc="-1" strike="noStrike">
                <a:solidFill>
                  <a:srgbClr val="333333"/>
                </a:solidFill>
                <a:latin typeface="Arial Narrow"/>
              </a:rPr>
              <a:t>22 Mio. Euro</a:t>
            </a:r>
            <a:endParaRPr b="0" lang="en-US" sz="2600" spc="-1" strike="noStrike">
              <a:solidFill>
                <a:srgbClr val="333333"/>
              </a:solidFill>
              <a:latin typeface="Arial Narrow"/>
            </a:endParaRPr>
          </a:p>
          <a:p>
            <a:pPr marL="528120" indent="-528120">
              <a:lnSpc>
                <a:spcPct val="80000"/>
              </a:lnSpc>
              <a:spcBef>
                <a:spcPts val="649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600" spc="-1" strike="noStrike">
                <a:solidFill>
                  <a:srgbClr val="333333"/>
                </a:solidFill>
                <a:latin typeface="Arial Narrow"/>
              </a:rPr>
              <a:t>Payload adjustment</a:t>
            </a:r>
            <a:endParaRPr b="0" lang="en-US" sz="2600" spc="-1" strike="noStrike">
              <a:solidFill>
                <a:srgbClr val="333333"/>
              </a:solidFill>
              <a:latin typeface="Arial Narrow"/>
            </a:endParaRPr>
          </a:p>
          <a:p>
            <a:pPr marL="528120" indent="-528120">
              <a:lnSpc>
                <a:spcPct val="80000"/>
              </a:lnSpc>
              <a:spcBef>
                <a:spcPts val="64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600" spc="-1" strike="noStrike">
                <a:solidFill>
                  <a:srgbClr val="333333"/>
                </a:solidFill>
                <a:latin typeface="Arial Narrow"/>
              </a:rPr>
              <a:t>Examples of European Community measures:</a:t>
            </a:r>
            <a:endParaRPr b="0" lang="en-US" sz="2600" spc="-1" strike="noStrike">
              <a:solidFill>
                <a:srgbClr val="333333"/>
              </a:solidFill>
              <a:latin typeface="Arial Narrow"/>
            </a:endParaRPr>
          </a:p>
          <a:p>
            <a:pPr marL="528120" indent="-528120">
              <a:lnSpc>
                <a:spcPct val="80000"/>
              </a:lnSpc>
              <a:spcBef>
                <a:spcPts val="649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600" spc="-1" strike="noStrike">
                <a:solidFill>
                  <a:srgbClr val="333333"/>
                </a:solidFill>
                <a:latin typeface="Arial Narrow"/>
              </a:rPr>
              <a:t>Marco Polo</a:t>
            </a:r>
            <a:endParaRPr b="0" lang="en-US" sz="2600" spc="-1" strike="noStrike">
              <a:solidFill>
                <a:srgbClr val="333333"/>
              </a:solidFill>
              <a:latin typeface="Arial Narrow"/>
            </a:endParaRPr>
          </a:p>
          <a:p>
            <a:pPr marL="528120" indent="-528120">
              <a:lnSpc>
                <a:spcPct val="80000"/>
              </a:lnSpc>
              <a:spcBef>
                <a:spcPts val="649"/>
              </a:spcBef>
              <a:buClr>
                <a:srgbClr val="3333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600" spc="-1" strike="noStrike">
                <a:solidFill>
                  <a:srgbClr val="333333"/>
                </a:solidFill>
                <a:latin typeface="Arial Narrow"/>
              </a:rPr>
              <a:t>6 framework  programme /</a:t>
            </a:r>
            <a:endParaRPr b="0" lang="en-US" sz="2600" spc="-1" strike="noStrike">
              <a:solidFill>
                <a:srgbClr val="333333"/>
              </a:solidFill>
              <a:latin typeface="Arial Narrow"/>
            </a:endParaRPr>
          </a:p>
          <a:p>
            <a:pPr marL="528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600" spc="-1" strike="noStrike">
                <a:solidFill>
                  <a:srgbClr val="333333"/>
                </a:solidFill>
                <a:latin typeface="Arial Narrow"/>
              </a:rPr>
              <a:t>	</a:t>
            </a:r>
            <a:r>
              <a:rPr b="1" lang="de-AT" sz="2600" spc="-1" strike="noStrike">
                <a:solidFill>
                  <a:srgbClr val="333333"/>
                </a:solidFill>
                <a:latin typeface="Arial Narrow"/>
              </a:rPr>
              <a:t>financial dimension:</a:t>
            </a:r>
            <a:r>
              <a:rPr b="1" lang="de-AT" sz="2600" spc="-1" strike="noStrike">
                <a:solidFill>
                  <a:srgbClr val="333333"/>
                </a:solidFill>
                <a:latin typeface="Arial Narrow"/>
              </a:rPr>
              <a:t>	</a:t>
            </a:r>
            <a:r>
              <a:rPr b="1" lang="de-AT" sz="2600" spc="-1" strike="noStrike">
                <a:solidFill>
                  <a:srgbClr val="333333"/>
                </a:solidFill>
                <a:latin typeface="Arial Narrow"/>
              </a:rPr>
              <a:t>75 Mio. Euro</a:t>
            </a:r>
            <a:endParaRPr b="0" lang="en-US" sz="2600" spc="-1" strike="noStrike">
              <a:solidFill>
                <a:srgbClr val="333333"/>
              </a:solidFill>
              <a:latin typeface="Arial Narrow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600" spc="-1" strike="noStrike">
                <a:solidFill>
                  <a:srgbClr val="333333"/>
                </a:solidFill>
                <a:latin typeface="Arial Narrow"/>
              </a:rPr>
              <a:t>International and improved co-operation between all involved parties</a:t>
            </a:r>
            <a:r>
              <a:rPr b="1" lang="de-AT" sz="2400" spc="-1" strike="noStrike">
                <a:solidFill>
                  <a:srgbClr val="333333"/>
                </a:solidFill>
                <a:latin typeface="Arial Narrow"/>
              </a:rPr>
              <a:t>	</a:t>
            </a:r>
            <a:r>
              <a:rPr b="1" lang="de-AT" sz="2400" spc="-1" strike="noStrike">
                <a:solidFill>
                  <a:srgbClr val="333333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mvit, Abt. I/K7                                                                             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F58E-AF56-4E8E-8179-53CBC88368F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14:13:41Z</dcterms:created>
  <dc:creator>Mag. Martin Feige</dc:creator>
  <dc:description/>
  <dc:language>en-US</dc:language>
  <cp:lastModifiedBy>Otradnova</cp:lastModifiedBy>
  <dcterms:modified xsi:type="dcterms:W3CDTF">2004-09-20T14:23:19Z</dcterms:modified>
  <cp:revision>378</cp:revision>
  <dc:subject/>
  <dc:title>MARCO POL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SC#COOELAK@1.1001:ApprovedAt">
    <vt:lpwstr/>
  </property>
  <property fmtid="{D5CDD505-2E9C-101B-9397-08002B2CF9AE}" pid="3" name="FSC#COOELAK@1.1001:ApprovedBy">
    <vt:lpwstr/>
  </property>
  <property fmtid="{D5CDD505-2E9C-101B-9397-08002B2CF9AE}" pid="4" name="FSC#COOELAK@1.1001:CreatedAt">
    <vt:lpwstr>14.09.2004 11:01:59</vt:lpwstr>
  </property>
  <property fmtid="{D5CDD505-2E9C-101B-9397-08002B2CF9AE}" pid="5" name="FSC#COOELAK@1.1001:Department">
    <vt:lpwstr>BMVIT - I/K7 (Kombinierter Verkehr)</vt:lpwstr>
  </property>
  <property fmtid="{D5CDD505-2E9C-101B-9397-08002B2CF9AE}" pid="6" name="FSC#COOELAK@1.1001:DispatchedAt">
    <vt:lpwstr/>
  </property>
  <property fmtid="{D5CDD505-2E9C-101B-9397-08002B2CF9AE}" pid="7" name="FSC#COOELAK@1.1001:DispatchedBy">
    <vt:lpwstr/>
  </property>
  <property fmtid="{D5CDD505-2E9C-101B-9397-08002B2CF9AE}" pid="8" name="FSC#COOELAK@1.1001:ExternalRef">
    <vt:lpwstr/>
  </property>
  <property fmtid="{D5CDD505-2E9C-101B-9397-08002B2CF9AE}" pid="9" name="FSC#COOELAK@1.1001:FileRefBarCode">
    <vt:lpwstr>*BMVIT-753.025/0007-I/K7/2004*</vt:lpwstr>
  </property>
  <property fmtid="{D5CDD505-2E9C-101B-9397-08002B2CF9AE}" pid="10" name="FSC#COOELAK@1.1001:FileRefOU">
    <vt:lpwstr>I/K7</vt:lpwstr>
  </property>
  <property fmtid="{D5CDD505-2E9C-101B-9397-08002B2CF9AE}" pid="11" name="FSC#COOELAK@1.1001:FileRefOrdinal">
    <vt:lpwstr>7</vt:lpwstr>
  </property>
  <property fmtid="{D5CDD505-2E9C-101B-9397-08002B2CF9AE}" pid="12" name="FSC#COOELAK@1.1001:FileRefYear">
    <vt:lpwstr>2004</vt:lpwstr>
  </property>
  <property fmtid="{D5CDD505-2E9C-101B-9397-08002B2CF9AE}" pid="13" name="FSC#COOELAK@1.1001:FileReference">
    <vt:lpwstr>BMVIT-753.025/0007-I/K7/2004</vt:lpwstr>
  </property>
  <property fmtid="{D5CDD505-2E9C-101B-9397-08002B2CF9AE}" pid="14" name="FSC#COOELAK@1.1001:OU">
    <vt:lpwstr>BMVIT - I/K7 (Kombinierter Verkehr)</vt:lpwstr>
  </property>
  <property fmtid="{D5CDD505-2E9C-101B-9397-08002B2CF9AE}" pid="15" name="FSC#COOELAK@1.1001:ObjBarCode">
    <vt:lpwstr>*COO.3000.106.7.38296*</vt:lpwstr>
  </property>
  <property fmtid="{D5CDD505-2E9C-101B-9397-08002B2CF9AE}" pid="16" name="FSC#COOELAK@1.1001:Organization">
    <vt:lpwstr/>
  </property>
  <property fmtid="{D5CDD505-2E9C-101B-9397-08002B2CF9AE}" pid="17" name="FSC#COOELAK@1.1001:Owner">
    <vt:lpwstr>Dipl.-Ing. Julia Elsinger</vt:lpwstr>
  </property>
  <property fmtid="{D5CDD505-2E9C-101B-9397-08002B2CF9AE}" pid="18" name="FSC#COOELAK@1.1001:OwnerExtension">
    <vt:lpwstr/>
  </property>
  <property fmtid="{D5CDD505-2E9C-101B-9397-08002B2CF9AE}" pid="19" name="FSC#COOELAK@1.1001:OwnerFaxExtension">
    <vt:lpwstr/>
  </property>
  <property fmtid="{D5CDD505-2E9C-101B-9397-08002B2CF9AE}" pid="20" name="FSC#COOELAK@1.1001:Priority">
    <vt:lpwstr/>
  </property>
  <property fmtid="{D5CDD505-2E9C-101B-9397-08002B2CF9AE}" pid="21" name="FSC#COOELAK@1.1001:RefBarCode">
    <vt:lpwstr>*Vortrag21September2004EntwicklungSchieneStraßerKombiverkehrppt*</vt:lpwstr>
  </property>
  <property fmtid="{D5CDD505-2E9C-101B-9397-08002B2CF9AE}" pid="22" name="FSC#COOELAK@1.1001:Subject">
    <vt:lpwstr>Vortrag21September2004EntwicklungSchieneStraßeKombiverkehrppt</vt:lpwstr>
  </property>
  <property fmtid="{D5CDD505-2E9C-101B-9397-08002B2CF9AE}" pid="23" name="FSC#COOSYSTEM@1.1:Container">
    <vt:lpwstr>COO.3000.106.7.38296</vt:lpwstr>
  </property>
  <property fmtid="{D5CDD505-2E9C-101B-9397-08002B2CF9AE}" pid="24" name="FSC#EIBPRECONFIG@1.1001:Attachments">
    <vt:lpwstr/>
  </property>
  <property fmtid="{D5CDD505-2E9C-101B-9397-08002B2CF9AE}" pid="25" name="FSC#EIBPRECONFIG@1.1001:Classified">
    <vt:lpwstr/>
  </property>
  <property fmtid="{D5CDD505-2E9C-101B-9397-08002B2CF9AE}" pid="26" name="FSC#EIBPRECONFIG@1.1001:CompletedOrdinals">
    <vt:lpwstr/>
  </property>
  <property fmtid="{D5CDD505-2E9C-101B-9397-08002B2CF9AE}" pid="27" name="FSC#EIBPRECONFIG@1.1001:Deadline">
    <vt:lpwstr/>
  </property>
  <property fmtid="{D5CDD505-2E9C-101B-9397-08002B2CF9AE}" pid="28" name="FSC#EIBPRECONFIG@1.1001:EIBApprovedAt">
    <vt:lpwstr>14.09.2004</vt:lpwstr>
  </property>
  <property fmtid="{D5CDD505-2E9C-101B-9397-08002B2CF9AE}" pid="29" name="FSC#EIBPRECONFIG@1.1001:EIBApprovedBy">
    <vt:lpwstr>Julia Elsinger</vt:lpwstr>
  </property>
  <property fmtid="{D5CDD505-2E9C-101B-9397-08002B2CF9AE}" pid="30" name="FSC#EIBPRECONFIG@1.1001:EIBApprovedByTitle">
    <vt:lpwstr>Dipl.-Ing. Julia Elsinger</vt:lpwstr>
  </property>
  <property fmtid="{D5CDD505-2E9C-101B-9397-08002B2CF9AE}" pid="31" name="FSC#EIBPRECONFIG@1.1001:EIBDepartment">
    <vt:lpwstr>BMVIT - I/K7 (Kombinierter Verkehr)</vt:lpwstr>
  </property>
  <property fmtid="{D5CDD505-2E9C-101B-9397-08002B2CF9AE}" pid="32" name="FSC#EIBPRECONFIG@1.1001:EIBDispatchedBy">
    <vt:lpwstr/>
  </property>
  <property fmtid="{D5CDD505-2E9C-101B-9397-08002B2CF9AE}" pid="33" name="FSC#EIBPRECONFIG@1.1001:ExtRefInc">
    <vt:lpwstr/>
  </property>
  <property fmtid="{D5CDD505-2E9C-101B-9397-08002B2CF9AE}" pid="34" name="FSC#EIBPRECONFIG@1.1001:IncomingAddrdate">
    <vt:lpwstr/>
  </property>
  <property fmtid="{D5CDD505-2E9C-101B-9397-08002B2CF9AE}" pid="35" name="FSC#EIBPRECONFIG@1.1001:IncomingDelivery">
    <vt:lpwstr>14.09.2004</vt:lpwstr>
  </property>
  <property fmtid="{D5CDD505-2E9C-101B-9397-08002B2CF9AE}" pid="36" name="FSC#EIBPRECONFIG@1.1001:NextFiles">
    <vt:lpwstr/>
  </property>
  <property fmtid="{D5CDD505-2E9C-101B-9397-08002B2CF9AE}" pid="37" name="FSC#EIBPRECONFIG@1.1001:NrAttachments">
    <vt:lpwstr/>
  </property>
  <property fmtid="{D5CDD505-2E9C-101B-9397-08002B2CF9AE}" pid="38" name="FSC#EIBPRECONFIG@1.1001:OUAddr">
    <vt:lpwstr>Radetzkystraße 2, 1030 Wien</vt:lpwstr>
  </property>
  <property fmtid="{D5CDD505-2E9C-101B-9397-08002B2CF9AE}" pid="39" name="FSC#EIBPRECONFIG@1.1001:OUDescr">
    <vt:lpwstr/>
  </property>
  <property fmtid="{D5CDD505-2E9C-101B-9397-08002B2CF9AE}" pid="40" name="FSC#EIBPRECONFIG@1.1001:OUEmail">
    <vt:lpwstr>k7@bmvit.gv.at</vt:lpwstr>
  </property>
  <property fmtid="{D5CDD505-2E9C-101B-9397-08002B2CF9AE}" pid="41" name="FSC#EIBPRECONFIG@1.1001:OwnerEmail">
    <vt:lpwstr>julia.elsinger@bmvit.gv.at</vt:lpwstr>
  </property>
  <property fmtid="{D5CDD505-2E9C-101B-9397-08002B2CF9AE}" pid="42" name="FSC#EIBPRECONFIG@1.1001:OwnerGender">
    <vt:lpwstr/>
  </property>
  <property fmtid="{D5CDD505-2E9C-101B-9397-08002B2CF9AE}" pid="43" name="FSC#EIBPRECONFIG@1.1001:PreviousFiles">
    <vt:lpwstr/>
  </property>
  <property fmtid="{D5CDD505-2E9C-101B-9397-08002B2CF9AE}" pid="44" name="FSC#EIBPRECONFIG@1.1001:Priority">
    <vt:lpwstr>Nein</vt:lpwstr>
  </property>
  <property fmtid="{D5CDD505-2E9C-101B-9397-08002B2CF9AE}" pid="45" name="FSC#EIBPRECONFIG@1.1001:Recipients">
    <vt:lpwstr/>
  </property>
  <property fmtid="{D5CDD505-2E9C-101B-9397-08002B2CF9AE}" pid="46" name="FSC#EIBPRECONFIG@1.1001:RelatedFiles">
    <vt:lpwstr/>
  </property>
  <property fmtid="{D5CDD505-2E9C-101B-9397-08002B2CF9AE}" pid="47" name="FSC#EIBPRECONFIG@1.1001:SettlementSubj">
    <vt:lpwstr>BMVIT-015627/2004</vt:lpwstr>
  </property>
  <property fmtid="{D5CDD505-2E9C-101B-9397-08002B2CF9AE}" pid="48" name="FSC#EIBPRECONFIG@1.1001:Signatures">
    <vt:lpwstr>Abzeichnen
Genehmigt
Ablage</vt:lpwstr>
  </property>
  <property fmtid="{D5CDD505-2E9C-101B-9397-08002B2CF9AE}" pid="49" name="FSC#EIBPRECONFIG@1.1001:SubjectArea">
    <vt:lpwstr>Veranstaltungen betr. den kombinierten Verkehr (Inland)</vt:lpwstr>
  </property>
  <property fmtid="{D5CDD505-2E9C-101B-9397-08002B2CF9AE}" pid="50" name="FSC#EIBPRECONFIG@1.1001:currentuser">
    <vt:lpwstr>COO.3000.100.1.53903</vt:lpwstr>
  </property>
  <property fmtid="{D5CDD505-2E9C-101B-9397-08002B2CF9AE}" pid="51" name="FSC#EIBPRECONFIG@1.1001:currentuserrolegroup">
    <vt:lpwstr>COO.3000.100.1.53677</vt:lpwstr>
  </property>
  <property fmtid="{D5CDD505-2E9C-101B-9397-08002B2CF9AE}" pid="52" name="FSC#EIBPRECONFIG@1.1001:currentuserroleposition">
    <vt:lpwstr>COO.1.1001.1.4328</vt:lpwstr>
  </property>
  <property fmtid="{D5CDD505-2E9C-101B-9397-08002B2CF9AE}" pid="53" name="FSC#EIBPRECONFIG@1.1001:currentuserroot">
    <vt:lpwstr>COO.3000.106.2.284573</vt:lpwstr>
  </property>
  <property fmtid="{D5CDD505-2E9C-101B-9397-08002B2CF9AE}" pid="54" name="FSC#EIBPRECONFIG@1.1001:objchangedat">
    <vt:lpwstr>14.09.2004 11:11:51</vt:lpwstr>
  </property>
  <property fmtid="{D5CDD505-2E9C-101B-9397-08002B2CF9AE}" pid="55" name="FSC#EIBPRECONFIG@1.1001:objchangedby">
    <vt:lpwstr>Elsinger, Julia, Dipl.-Ing.</vt:lpwstr>
  </property>
  <property fmtid="{D5CDD505-2E9C-101B-9397-08002B2CF9AE}" pid="56" name="FSC#EIBPRECONFIG@1.1001:objname">
    <vt:lpwstr>Vortrag21September2004EntwicklungSchieneStraßerKombiverkehrppt</vt:lpwstr>
  </property>
  <property fmtid="{D5CDD505-2E9C-101B-9397-08002B2CF9AE}" pid="57" name="FSC#EIBPRECONFIG@1.1001:toplevelobject">
    <vt:lpwstr>COO.3000.106.7.38297</vt:lpwstr>
  </property>
  <property fmtid="{D5CDD505-2E9C-101B-9397-08002B2CF9AE}" pid="58" name="_AdHocReviewCycleID">
    <vt:r8>1574282099</vt:r8>
  </property>
  <property fmtid="{D5CDD505-2E9C-101B-9397-08002B2CF9AE}" pid="59" name="_AuthorEmail">
    <vt:lpwstr>Feige.Treuhand@teleweb.at</vt:lpwstr>
  </property>
  <property fmtid="{D5CDD505-2E9C-101B-9397-08002B2CF9AE}" pid="60" name="_AuthorEmailDisplayName">
    <vt:lpwstr>Martin Feige</vt:lpwstr>
  </property>
  <property fmtid="{D5CDD505-2E9C-101B-9397-08002B2CF9AE}" pid="61" name="_EmailSubject">
    <vt:lpwstr>Etnwurf Vortrag 21.9.04</vt:lpwstr>
  </property>
</Properties>
</file>