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7696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7D2-CD79-4BBF-966C-09AB229D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636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948-A79B-4256-B7F9-D4BF86D3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9C7-9CBB-44CA-BF9E-5E7F679C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AE5-AF84-476F-8B50-FC3B11D9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A875-9CBA-41EF-A931-9F56699D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13C1-20E4-4C4D-981A-7E5DF440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682B-49A4-4B4C-A608-30A90495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4258-05F5-47BE-BE85-1A02C794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59A0-0314-48F5-8836-FB89314C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684000"/>
            <a:ext cx="762012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A9DB-605B-49F9-92CA-A5A6CA79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DA30-4BD1-4DBF-9E4A-535908C7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525-FDDA-489F-9691-94DD6650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41D7-823A-4CCB-826A-D01BC98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F023-5B01-42E0-A33E-14D31566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636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E46E-A4BE-4D31-8A51-B1FEBA94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963B-A5E5-42E5-B21B-F4FCF8F8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9DBD-0854-4DA3-A5AD-E0830331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FA9-2719-4108-A4B0-B5D2E51B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238-8BB4-48FF-BCE5-0BAAA6E2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5F4-F401-423C-A38D-CB44D2FE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37720" y="684000"/>
            <a:ext cx="762012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A99-7286-4281-83C8-F112A2AA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2F2-20A4-41AD-9CF0-93D0E46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308-98D7-4F30-864C-150F1762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3EE-7DBF-4824-99EE-29DE3774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36680" y="-258840"/>
            <a:ext cx="9814320" cy="8533080"/>
            <a:chOff x="-436680" y="-258840"/>
            <a:chExt cx="9814320" cy="8533080"/>
          </a:xfrm>
        </p:grpSpPr>
        <p:grpSp>
          <p:nvGrpSpPr>
            <p:cNvPr id="1" name=""/>
            <p:cNvGrpSpPr/>
            <p:nvPr/>
          </p:nvGrpSpPr>
          <p:grpSpPr>
            <a:xfrm>
              <a:off x="-436680" y="-258840"/>
              <a:ext cx="9814320" cy="8533080"/>
              <a:chOff x="-436680" y="-258840"/>
              <a:chExt cx="9814320" cy="8533080"/>
            </a:xfrm>
          </p:grpSpPr>
          <p:sp>
            <p:nvSpPr>
              <p:cNvPr id="2" name=""/>
              <p:cNvSpPr/>
              <p:nvPr/>
            </p:nvSpPr>
            <p:spPr>
              <a:xfrm>
                <a:off x="5337360" y="535248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568680" y="463284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08360" y="5453640"/>
                <a:ext cx="103212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218120" y="636408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94680" y="32860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79880" y="370116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91360" y="347760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768200" y="60508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967120" y="537012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62880" y="6770520"/>
                <a:ext cx="9532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19040" y="6462720"/>
                <a:ext cx="14284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411160" y="556596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137200" y="405864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927160" y="42267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024280" y="488952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5600" y="4618440"/>
                <a:ext cx="1567080" cy="1323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19320" y="537552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247760" y="669132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967120" y="35071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666800" y="368712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02240" y="3677760"/>
                <a:ext cx="11401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455840" y="6036120"/>
                <a:ext cx="849240" cy="11491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4000" y="529164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31080" y="6727320"/>
                <a:ext cx="9525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40680" y="6364440"/>
                <a:ext cx="14281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68760" y="527364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76440" y="365940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871200" y="39772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97280" y="157608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28600" y="85644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4640" y="2019960"/>
                <a:ext cx="1031760" cy="115380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220760" y="293004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940120" y="226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39800" y="203040"/>
                <a:ext cx="109080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308520" y="-6264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428120" y="22744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370080" y="1722240"/>
                <a:ext cx="137448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84640" y="269460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181080" y="3026160"/>
                <a:ext cx="1273320" cy="1257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70360" y="1789200"/>
                <a:ext cx="11397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549080" y="17532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44280" y="4507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322960" y="157608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554640" y="856440"/>
                <a:ext cx="156672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370320" y="2019960"/>
                <a:ext cx="1031760" cy="115380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46800" y="293004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65800" y="22680"/>
                <a:ext cx="84960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965840" y="20304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96080" y="19332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753800" y="22744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105360" y="1935720"/>
                <a:ext cx="137448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710320" y="269460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144600" y="3025800"/>
                <a:ext cx="1272960" cy="1257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96760" y="178956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74760" y="176040"/>
                <a:ext cx="101628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3008160" y="4507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132760" y="157068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81760" y="87264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97800" y="203580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159760" y="283896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40720" y="6912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80440" y="1692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81280" y="22906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946920" y="171684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35000" y="5810040"/>
                <a:ext cx="9525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81960" y="2891880"/>
                <a:ext cx="1272960" cy="12578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90760" y="14850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206920" y="41760"/>
                <a:ext cx="101628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144840" y="85140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101440" y="5348880"/>
                <a:ext cx="12232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81760" y="463464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97800" y="5797800"/>
                <a:ext cx="1031760" cy="115380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20440" y="6534720"/>
                <a:ext cx="11397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78880" y="366012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23560" y="36936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91560" y="6588360"/>
                <a:ext cx="849240" cy="11491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32480" y="571392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4200" y="6572880"/>
                <a:ext cx="14281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95040" y="4691160"/>
                <a:ext cx="11401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35280" y="3861360"/>
                <a:ext cx="113976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92520" y="43351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63520" y="587520"/>
              <a:ext cx="8745120" cy="250920"/>
              <a:chOff x="263520" y="587520"/>
              <a:chExt cx="8745120" cy="250920"/>
            </a:xfrm>
          </p:grpSpPr>
          <p:sp>
            <p:nvSpPr>
              <p:cNvPr id="84" name=""/>
              <p:cNvSpPr/>
              <p:nvPr/>
            </p:nvSpPr>
            <p:spPr>
              <a:xfrm>
                <a:off x="263520" y="587520"/>
                <a:ext cx="8745120" cy="250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4920" y="659160"/>
                <a:ext cx="8649360" cy="62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155520" y="486360"/>
              <a:ext cx="8745120" cy="250920"/>
              <a:chOff x="155520" y="486360"/>
              <a:chExt cx="8745120" cy="250920"/>
            </a:xfrm>
          </p:grpSpPr>
          <p:sp>
            <p:nvSpPr>
              <p:cNvPr id="87" name=""/>
              <p:cNvSpPr/>
              <p:nvPr/>
            </p:nvSpPr>
            <p:spPr>
              <a:xfrm>
                <a:off x="155520" y="486360"/>
                <a:ext cx="8745120" cy="250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6920" y="558000"/>
                <a:ext cx="8649360" cy="62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27160" y="591120"/>
              <a:ext cx="1374840" cy="141624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89080" y="224280"/>
              <a:ext cx="1253880" cy="1311840"/>
              <a:chOff x="289080" y="224280"/>
              <a:chExt cx="1253880" cy="1311840"/>
            </a:xfrm>
          </p:grpSpPr>
          <p:sp>
            <p:nvSpPr>
              <p:cNvPr id="91" name=""/>
              <p:cNvSpPr/>
              <p:nvPr/>
            </p:nvSpPr>
            <p:spPr>
              <a:xfrm>
                <a:off x="289080" y="243360"/>
                <a:ext cx="1253880" cy="1292760"/>
              </a:xfrm>
              <a:custGeom>
                <a:avLst/>
                <a:gdLst/>
                <a:ahLst/>
                <a:rect l="l" t="t" r="r" b="b"/>
                <a:pathLst>
                  <a:path w="790" h="815">
                    <a:moveTo>
                      <a:pt x="16" y="185"/>
                    </a:moveTo>
                    <a:cubicBezTo>
                      <a:pt x="45" y="423"/>
                      <a:pt x="188" y="652"/>
                      <a:pt x="259" y="738"/>
                    </a:cubicBezTo>
                    <a:cubicBezTo>
                      <a:pt x="327" y="815"/>
                      <a:pt x="385" y="790"/>
                      <a:pt x="347" y="704"/>
                    </a:cubicBezTo>
                    <a:cubicBezTo>
                      <a:pt x="259" y="388"/>
                      <a:pt x="180" y="188"/>
                      <a:pt x="590" y="255"/>
                    </a:cubicBezTo>
                    <a:cubicBezTo>
                      <a:pt x="790" y="283"/>
                      <a:pt x="722" y="179"/>
                      <a:pt x="653" y="141"/>
                    </a:cubicBezTo>
                    <a:cubicBezTo>
                      <a:pt x="525" y="65"/>
                      <a:pt x="289" y="6"/>
                      <a:pt x="166" y="0"/>
                    </a:cubicBezTo>
                    <a:cubicBezTo>
                      <a:pt x="87" y="0"/>
                      <a:pt x="0" y="33"/>
                      <a:pt x="73" y="242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7800" y="250920"/>
                <a:ext cx="287640" cy="94860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520" y="224280"/>
                <a:ext cx="1057320" cy="3470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5560" y="572760"/>
                <a:ext cx="682560" cy="74232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0520" y="482040"/>
                <a:ext cx="406080" cy="45216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701208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7012080"/>
            <a:ext cx="289584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701208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8070-0760-4688-9BBF-F1D2955E6C8B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86600" y="341280"/>
            <a:ext cx="164772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-512640" y="-284400"/>
            <a:ext cx="9813960" cy="8533080"/>
            <a:chOff x="-512640" y="-284400"/>
            <a:chExt cx="9813960" cy="8533080"/>
          </a:xfrm>
        </p:grpSpPr>
        <p:grpSp>
          <p:nvGrpSpPr>
            <p:cNvPr id="139" name=""/>
            <p:cNvGrpSpPr/>
            <p:nvPr/>
          </p:nvGrpSpPr>
          <p:grpSpPr>
            <a:xfrm>
              <a:off x="-512640" y="-284400"/>
              <a:ext cx="9813960" cy="8533080"/>
              <a:chOff x="-512640" y="-284400"/>
              <a:chExt cx="9813960" cy="8533080"/>
            </a:xfrm>
          </p:grpSpPr>
          <p:sp>
            <p:nvSpPr>
              <p:cNvPr id="140" name=""/>
              <p:cNvSpPr/>
              <p:nvPr/>
            </p:nvSpPr>
            <p:spPr>
              <a:xfrm>
                <a:off x="5261040" y="532692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92360" y="460728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32040" y="5428080"/>
                <a:ext cx="103212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41800" y="633852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18360" y="32605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03920" y="367560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3318000">
                <a:off x="3515040" y="345204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0977200">
                <a:off x="4691880" y="60253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90800" y="534456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rot="16245000">
                <a:off x="5686200" y="6744960"/>
                <a:ext cx="9532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018000">
                <a:off x="3042720" y="6437160"/>
                <a:ext cx="14284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283800">
                <a:off x="5334840" y="55404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 rot="19272000">
                <a:off x="5060880" y="403308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rot="564000">
                <a:off x="2850840" y="420120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47960" y="486396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9280" y="4592880"/>
                <a:ext cx="1567080" cy="1323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3000" y="534996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469400">
                <a:off x="1171440" y="6665760"/>
                <a:ext cx="101628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90800" y="34815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90840" y="366156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318000">
                <a:off x="-178560" y="365184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20977200">
                <a:off x="1379520" y="6010560"/>
                <a:ext cx="849240" cy="11491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-22320" y="526608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45000">
                <a:off x="2354400" y="670176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5508000">
                <a:off x="-117000" y="6338880"/>
                <a:ext cx="14281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283800">
                <a:off x="1792800" y="5248080"/>
                <a:ext cx="11401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 rot="19272000">
                <a:off x="1500120" y="363384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564000">
                <a:off x="794880" y="39517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20960" y="155052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2280" y="83088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-31680" y="199404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44440" y="2904480"/>
                <a:ext cx="101628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63800" y="-25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63840" y="17748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3318000">
                <a:off x="232200" y="-882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20977200">
                <a:off x="1351800" y="22489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3760" y="169668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6245000">
                <a:off x="2308320" y="266904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428800">
                <a:off x="-257040" y="3000240"/>
                <a:ext cx="1272960" cy="1257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283800">
                <a:off x="1994760" y="17640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 rot="19272000">
                <a:off x="1472760" y="14976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64000">
                <a:off x="-31680" y="4251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46640" y="155052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78320" y="830880"/>
                <a:ext cx="156672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94000" y="199404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70480" y="290448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89840" y="-25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89520" y="17748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3318000">
                <a:off x="3119760" y="167760"/>
                <a:ext cx="11397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20977200">
                <a:off x="4678200" y="2248560"/>
                <a:ext cx="84960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29040" y="191016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45000">
                <a:off x="5634000" y="266904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428800">
                <a:off x="3068280" y="3000600"/>
                <a:ext cx="1273320" cy="1257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6283800">
                <a:off x="5320080" y="1763640"/>
                <a:ext cx="11397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 rot="19272000">
                <a:off x="4798800" y="14976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564000">
                <a:off x="2931840" y="4251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8056440" y="154512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805440" y="84708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621480" y="201024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83440" y="2813400"/>
                <a:ext cx="101628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664400" y="43560"/>
                <a:ext cx="109080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3318000">
                <a:off x="6504480" y="-7920"/>
                <a:ext cx="11401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20977200">
                <a:off x="8004960" y="22651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70600" y="169128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16245000">
                <a:off x="8158320" y="578448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428800">
                <a:off x="6605640" y="2866320"/>
                <a:ext cx="1272960" cy="12578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6283800">
                <a:off x="7714440" y="145944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 rot="21012000">
                <a:off x="8131320" y="1620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564000">
                <a:off x="6067800" y="825840"/>
                <a:ext cx="84960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521400">
                <a:off x="8025120" y="5323320"/>
                <a:ext cx="12232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05440" y="460908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21480" y="5772240"/>
                <a:ext cx="1031760" cy="115380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845200">
                <a:off x="7943760" y="650916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02560" y="363456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3318000">
                <a:off x="6447240" y="366804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20977200">
                <a:off x="7815240" y="6562800"/>
                <a:ext cx="849240" cy="11491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56520" y="5688360"/>
                <a:ext cx="137448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819600">
                <a:off x="6527520" y="6547320"/>
                <a:ext cx="14284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6283800">
                <a:off x="7218720" y="466560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 rot="15949200">
                <a:off x="8058960" y="3834720"/>
                <a:ext cx="11401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564000">
                <a:off x="6316200" y="43095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4280" y="3155400"/>
              <a:ext cx="8929440" cy="2746440"/>
              <a:chOff x="44280" y="3155400"/>
              <a:chExt cx="8929440" cy="2746440"/>
            </a:xfrm>
          </p:grpSpPr>
          <p:sp>
            <p:nvSpPr>
              <p:cNvPr id="222" name=""/>
              <p:cNvSpPr/>
              <p:nvPr/>
            </p:nvSpPr>
            <p:spPr>
              <a:xfrm rot="17967600">
                <a:off x="248400" y="3810240"/>
                <a:ext cx="199980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28600" y="3956760"/>
                <a:ext cx="8745120" cy="250920"/>
                <a:chOff x="228600" y="3956760"/>
                <a:chExt cx="8745120" cy="2509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28600" y="3956760"/>
                  <a:ext cx="8745120" cy="250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70000" y="4028400"/>
                  <a:ext cx="8649360" cy="622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20600" y="3855600"/>
                <a:ext cx="8745120" cy="250560"/>
                <a:chOff x="120600" y="3855600"/>
                <a:chExt cx="8745120" cy="2505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20600" y="3855600"/>
                  <a:ext cx="8745120" cy="250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2000" y="3926880"/>
                  <a:ext cx="8649360" cy="6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06200" y="3155400"/>
                <a:ext cx="2199600" cy="2324880"/>
                <a:chOff x="106200" y="3155400"/>
                <a:chExt cx="2199600" cy="2324880"/>
              </a:xfrm>
            </p:grpSpPr>
            <p:sp>
              <p:nvSpPr>
                <p:cNvPr id="230" name=""/>
                <p:cNvSpPr/>
                <p:nvPr/>
              </p:nvSpPr>
              <p:spPr>
                <a:xfrm rot="17970000">
                  <a:off x="293040" y="3570480"/>
                  <a:ext cx="182556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502560" y="4261680"/>
                  <a:ext cx="41184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-87480" y="3870360"/>
                  <a:ext cx="154764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822960" y="3816720"/>
                  <a:ext cx="992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7970000">
                  <a:off x="618120" y="4145760"/>
                  <a:ext cx="59112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5120" y="2479320"/>
            <a:ext cx="6858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4"/>
          </p:nvPr>
        </p:nvSpPr>
        <p:spPr>
          <a:xfrm>
            <a:off x="685800" y="701208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3124080" y="7012080"/>
            <a:ext cx="289584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6"/>
          </p:nvPr>
        </p:nvSpPr>
        <p:spPr>
          <a:xfrm>
            <a:off x="6553080" y="701208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85B7-57AD-4B28-8963-096F3BBCB82F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086600" y="341280"/>
            <a:ext cx="1647720" cy="453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457200" y="1800720"/>
            <a:ext cx="8229240" cy="44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7313760" cy="1752480"/>
          </a:xfrm>
          <a:prstGeom prst="rect">
            <a:avLst/>
          </a:prstGeom>
          <a:noFill/>
          <a:ln w="324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Intermodal Transport Europe-Asia:</a:t>
            </a:r>
            <a:br>
              <a:rPr sz="3200"/>
            </a:b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Opportunities and Challenges</a:t>
            </a:r>
            <a:br>
              <a:rPr sz="3200"/>
            </a:b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Presentation by Austria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828800" y="4446360"/>
            <a:ext cx="5943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3333"/>
                </a:solidFill>
                <a:latin typeface="Arial Narrow"/>
              </a:rPr>
              <a:t>Mrs. Lydia Feige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3333"/>
                </a:solidFill>
                <a:latin typeface="Arial Narrow"/>
              </a:rPr>
              <a:t>Kiev, 27 and 28 September 2004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F3E8-3CB7-48E7-ACC2-D49088E497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1368000"/>
            <a:ext cx="7620120" cy="5209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Promotion</a:t>
            </a:r>
            <a:r>
              <a:rPr b="1" lang="de-AT" sz="30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of Combined Transport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2224080"/>
            <a:ext cx="73915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333333"/>
                </a:solidFill>
                <a:uFillTx/>
                <a:latin typeface="Arial Narrow"/>
                <a:ea typeface="Arial"/>
              </a:rPr>
              <a:t>Austrian transport policy</a:t>
            </a:r>
            <a:r>
              <a:rPr b="0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: Combined Transport is of central importance for solving problems considering road freight transport caused by the Austrian geographical and topographical situation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333333"/>
                </a:solidFill>
                <a:uFillTx/>
                <a:latin typeface="Arial Narrow"/>
                <a:ea typeface="Arial"/>
              </a:rPr>
              <a:t>Goal</a:t>
            </a:r>
            <a:r>
              <a:rPr b="1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:</a:t>
            </a:r>
            <a:r>
              <a:rPr b="0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 to shift freight from road transport to other more environmental friendly modes of transport e.g. railways to the largest possible extent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333333"/>
                </a:solidFill>
                <a:uFillTx/>
                <a:latin typeface="Arial Narrow"/>
                <a:ea typeface="Arial"/>
              </a:rPr>
              <a:t>European transport policy</a:t>
            </a:r>
            <a:r>
              <a:rPr b="0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: also promoted in the White Paper-European Transport Policy for 2010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333333"/>
                </a:solidFill>
                <a:uFillTx/>
                <a:latin typeface="Arial Narrow"/>
                <a:ea typeface="Arial"/>
              </a:rPr>
              <a:t>Possible Solution</a:t>
            </a:r>
            <a:r>
              <a:rPr b="1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:</a:t>
            </a:r>
            <a:r>
              <a:rPr b="0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 to avoid road congestion, accidents, noise disturbance and the pollution of the environment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5C2-EABC-4558-B461-F2A8F702C2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1368000"/>
            <a:ext cx="7620120" cy="5209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Modal Split Landtransport 2001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3962520"/>
            <a:ext cx="60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33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971800"/>
          <a:ext cx="793260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79326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8458200" y="3124080"/>
            <a:ext cx="0" cy="2667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789-D472-47E8-8CAF-940E02747E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4572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Development of Combined Transport in Austria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  </a:t>
            </a:r>
            <a:endParaRPr b="0" lang="en-US" sz="1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 Narrow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14400" y="1600200"/>
          <a:ext cx="73152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315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057400" y="2666880"/>
            <a:ext cx="18972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average annual increase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83-2003: 17,69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83-1990: 31,43%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90-1993: 16,40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93-1995: 8,98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95-1999: 4,13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99-2003: 12,78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3809880"/>
            <a:ext cx="9442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EU-access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01.01.95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4876920"/>
            <a:ext cx="922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discount for comb. transpor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middle 99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952880"/>
            <a:ext cx="0" cy="12956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4267080"/>
            <a:ext cx="0" cy="17528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3352680"/>
            <a:ext cx="0" cy="2590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3505320"/>
            <a:ext cx="0" cy="25905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571500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ban on nighttime driving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01.12.89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5181480"/>
            <a:ext cx="110484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transit-treaty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01.01.9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938-C01B-4460-BEFC-B4AEC564DB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Transport Austria-Asia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2278080"/>
          <a:ext cx="777240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8080"/>
                    <a:ext cx="77724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838080" y="914400"/>
            <a:ext cx="7467840" cy="685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C31-F54E-44B3-BE94-24F4066C50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Transport Austria-Asia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990720"/>
            <a:ext cx="7315200" cy="53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5800" y="2273400"/>
          <a:ext cx="7772400" cy="451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3400"/>
                    <a:ext cx="77724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18C-03CB-4965-A5CE-F5319560C0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1143000"/>
            <a:ext cx="7620120" cy="9144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Necessary steps to support </a:t>
            </a:r>
            <a:br>
              <a:rPr sz="3200"/>
            </a:b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Combined/Intermodal Transport in the Future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2224080"/>
            <a:ext cx="73915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Setting financial, fiscal and legal measures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Examples of Austrian measures: 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„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Programme for the promotion of combined transport road/rail/ship“ /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       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financial dimension: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22 Mio. Euro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Payload adjustment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Examples of European Community measures: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Marco Polo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6 framework  programme /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financial dimension: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75 Mio. Euro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International and improved co-operation between all involved parties</a:t>
            </a:r>
            <a:r>
              <a:rPr b="1" lang="de-AT" sz="24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de-AT" sz="2400" spc="-1" strike="noStrike">
                <a:solidFill>
                  <a:srgbClr val="333333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CB5-171E-4797-A012-20FB2A8698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4:13:41Z</dcterms:created>
  <dc:creator>Mag. Martin Feige</dc:creator>
  <dc:description/>
  <dc:language>en-US</dc:language>
  <cp:lastModifiedBy>Otradnova</cp:lastModifiedBy>
  <dcterms:modified xsi:type="dcterms:W3CDTF">2004-09-20T14:23:19Z</dcterms:modified>
  <cp:revision>378</cp:revision>
  <dc:subject/>
  <dc:title>MARCO POL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14.09.2004 11:01:59</vt:lpwstr>
  </property>
  <property fmtid="{D5CDD505-2E9C-101B-9397-08002B2CF9AE}" pid="5" name="FSC#COOELAK@1.1001:Department">
    <vt:lpwstr>BMVIT - I/K7 (Kombinierter Verkehr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>*BMVIT-753.025/0007-I/K7/2004*</vt:lpwstr>
  </property>
  <property fmtid="{D5CDD505-2E9C-101B-9397-08002B2CF9AE}" pid="10" name="FSC#COOELAK@1.1001:FileRefOU">
    <vt:lpwstr>I/K7</vt:lpwstr>
  </property>
  <property fmtid="{D5CDD505-2E9C-101B-9397-08002B2CF9AE}" pid="11" name="FSC#COOELAK@1.1001:FileRefOrdinal">
    <vt:lpwstr>7</vt:lpwstr>
  </property>
  <property fmtid="{D5CDD505-2E9C-101B-9397-08002B2CF9AE}" pid="12" name="FSC#COOELAK@1.1001:FileRefYear">
    <vt:lpwstr>2004</vt:lpwstr>
  </property>
  <property fmtid="{D5CDD505-2E9C-101B-9397-08002B2CF9AE}" pid="13" name="FSC#COOELAK@1.1001:FileReference">
    <vt:lpwstr>BMVIT-753.025/0007-I/K7/2004</vt:lpwstr>
  </property>
  <property fmtid="{D5CDD505-2E9C-101B-9397-08002B2CF9AE}" pid="14" name="FSC#COOELAK@1.1001:OU">
    <vt:lpwstr>BMVIT - I/K7 (Kombinierter Verkehr)</vt:lpwstr>
  </property>
  <property fmtid="{D5CDD505-2E9C-101B-9397-08002B2CF9AE}" pid="15" name="FSC#COOELAK@1.1001:ObjBarCode">
    <vt:lpwstr>*COO.3000.106.7.38296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Dipl.-Ing. Julia Elsinge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Vortrag21September2004EntwicklungSchieneStraßerKombiverkehrppt*</vt:lpwstr>
  </property>
  <property fmtid="{D5CDD505-2E9C-101B-9397-08002B2CF9AE}" pid="22" name="FSC#COOELAK@1.1001:Subject">
    <vt:lpwstr>Vortrag21September2004EntwicklungSchieneStraßeKombiverkehrppt</vt:lpwstr>
  </property>
  <property fmtid="{D5CDD505-2E9C-101B-9397-08002B2CF9AE}" pid="23" name="FSC#COOSYSTEM@1.1:Container">
    <vt:lpwstr>COO.3000.106.7.38296</vt:lpwstr>
  </property>
  <property fmtid="{D5CDD505-2E9C-101B-9397-08002B2CF9AE}" pid="24" name="FSC#EIBPRECONFIG@1.1001:Attachments">
    <vt:lpwstr/>
  </property>
  <property fmtid="{D5CDD505-2E9C-101B-9397-08002B2CF9AE}" pid="25" name="FSC#EIBPRECONFIG@1.1001:Classified">
    <vt:lpwstr/>
  </property>
  <property fmtid="{D5CDD505-2E9C-101B-9397-08002B2CF9AE}" pid="26" name="FSC#EIBPRECONFIG@1.1001:CompletedOrdinals">
    <vt:lpwstr/>
  </property>
  <property fmtid="{D5CDD505-2E9C-101B-9397-08002B2CF9AE}" pid="27" name="FSC#EIBPRECONFIG@1.1001:Deadline">
    <vt:lpwstr/>
  </property>
  <property fmtid="{D5CDD505-2E9C-101B-9397-08002B2CF9AE}" pid="28" name="FSC#EIBPRECONFIG@1.1001:EIBApprovedAt">
    <vt:lpwstr>14.09.2004</vt:lpwstr>
  </property>
  <property fmtid="{D5CDD505-2E9C-101B-9397-08002B2CF9AE}" pid="29" name="FSC#EIBPRECONFIG@1.1001:EIBApprovedBy">
    <vt:lpwstr>Julia Elsinger</vt:lpwstr>
  </property>
  <property fmtid="{D5CDD505-2E9C-101B-9397-08002B2CF9AE}" pid="30" name="FSC#EIBPRECONFIG@1.1001:EIBApprovedByTitle">
    <vt:lpwstr>Dipl.-Ing. Julia Elsinger</vt:lpwstr>
  </property>
  <property fmtid="{D5CDD505-2E9C-101B-9397-08002B2CF9AE}" pid="31" name="FSC#EIBPRECONFIG@1.1001:EIBDepartment">
    <vt:lpwstr>BMVIT - I/K7 (Kombinierter Verkehr)</vt:lpwstr>
  </property>
  <property fmtid="{D5CDD505-2E9C-101B-9397-08002B2CF9AE}" pid="32" name="FSC#EIBPRECONFIG@1.1001:EIBDispatchedBy">
    <vt:lpwstr/>
  </property>
  <property fmtid="{D5CDD505-2E9C-101B-9397-08002B2CF9AE}" pid="33" name="FSC#EIBPRECONFIG@1.1001:ExtRefInc">
    <vt:lpwstr/>
  </property>
  <property fmtid="{D5CDD505-2E9C-101B-9397-08002B2CF9AE}" pid="34" name="FSC#EIBPRECONFIG@1.1001:IncomingAddrdate">
    <vt:lpwstr/>
  </property>
  <property fmtid="{D5CDD505-2E9C-101B-9397-08002B2CF9AE}" pid="35" name="FSC#EIBPRECONFIG@1.1001:IncomingDelivery">
    <vt:lpwstr>14.09.2004</vt:lpwstr>
  </property>
  <property fmtid="{D5CDD505-2E9C-101B-9397-08002B2CF9AE}" pid="36" name="FSC#EIBPRECONFIG@1.1001:NextFiles">
    <vt:lpwstr/>
  </property>
  <property fmtid="{D5CDD505-2E9C-101B-9397-08002B2CF9AE}" pid="37" name="FSC#EIBPRECONFIG@1.1001:NrAttachments">
    <vt:lpwstr/>
  </property>
  <property fmtid="{D5CDD505-2E9C-101B-9397-08002B2CF9AE}" pid="38" name="FSC#EIBPRECONFIG@1.1001:OUAddr">
    <vt:lpwstr>Radetzkystraße 2, 1030 Wien</vt:lpwstr>
  </property>
  <property fmtid="{D5CDD505-2E9C-101B-9397-08002B2CF9AE}" pid="39" name="FSC#EIBPRECONFIG@1.1001:OUDescr">
    <vt:lpwstr/>
  </property>
  <property fmtid="{D5CDD505-2E9C-101B-9397-08002B2CF9AE}" pid="40" name="FSC#EIBPRECONFIG@1.1001:OUEmail">
    <vt:lpwstr>k7@bmvit.gv.at</vt:lpwstr>
  </property>
  <property fmtid="{D5CDD505-2E9C-101B-9397-08002B2CF9AE}" pid="41" name="FSC#EIBPRECONFIG@1.1001:OwnerEmail">
    <vt:lpwstr>julia.elsinger@bmvit.gv.at</vt:lpwstr>
  </property>
  <property fmtid="{D5CDD505-2E9C-101B-9397-08002B2CF9AE}" pid="42" name="FSC#EIBPRECONFIG@1.1001:OwnerGender">
    <vt:lpwstr/>
  </property>
  <property fmtid="{D5CDD505-2E9C-101B-9397-08002B2CF9AE}" pid="43" name="FSC#EIBPRECONFIG@1.1001:PreviousFiles">
    <vt:lpwstr/>
  </property>
  <property fmtid="{D5CDD505-2E9C-101B-9397-08002B2CF9AE}" pid="44" name="FSC#EIBPRECONFIG@1.1001:Priority">
    <vt:lpwstr>Nein</vt:lpwstr>
  </property>
  <property fmtid="{D5CDD505-2E9C-101B-9397-08002B2CF9AE}" pid="45" name="FSC#EIBPRECONFIG@1.1001:Recipients">
    <vt:lpwstr/>
  </property>
  <property fmtid="{D5CDD505-2E9C-101B-9397-08002B2CF9AE}" pid="46" name="FSC#EIBPRECONFIG@1.1001:RelatedFiles">
    <vt:lpwstr/>
  </property>
  <property fmtid="{D5CDD505-2E9C-101B-9397-08002B2CF9AE}" pid="47" name="FSC#EIBPRECONFIG@1.1001:SettlementSubj">
    <vt:lpwstr>BMVIT-015627/2004</vt:lpwstr>
  </property>
  <property fmtid="{D5CDD505-2E9C-101B-9397-08002B2CF9AE}" pid="48" name="FSC#EIBPRECONFIG@1.1001:Signatures">
    <vt:lpwstr>Abzeichnen
Genehmigt
Ablage</vt:lpwstr>
  </property>
  <property fmtid="{D5CDD505-2E9C-101B-9397-08002B2CF9AE}" pid="49" name="FSC#EIBPRECONFIG@1.1001:SubjectArea">
    <vt:lpwstr>Veranstaltungen betr. den kombinierten Verkehr (Inland)</vt:lpwstr>
  </property>
  <property fmtid="{D5CDD505-2E9C-101B-9397-08002B2CF9AE}" pid="50" name="FSC#EIBPRECONFIG@1.1001:currentuser">
    <vt:lpwstr>COO.3000.100.1.53903</vt:lpwstr>
  </property>
  <property fmtid="{D5CDD505-2E9C-101B-9397-08002B2CF9AE}" pid="51" name="FSC#EIBPRECONFIG@1.1001:currentuserrolegroup">
    <vt:lpwstr>COO.3000.100.1.53677</vt:lpwstr>
  </property>
  <property fmtid="{D5CDD505-2E9C-101B-9397-08002B2CF9AE}" pid="52" name="FSC#EIBPRECONFIG@1.1001:currentuserroleposition">
    <vt:lpwstr>COO.1.1001.1.4328</vt:lpwstr>
  </property>
  <property fmtid="{D5CDD505-2E9C-101B-9397-08002B2CF9AE}" pid="53" name="FSC#EIBPRECONFIG@1.1001:currentuserroot">
    <vt:lpwstr>COO.3000.106.2.284573</vt:lpwstr>
  </property>
  <property fmtid="{D5CDD505-2E9C-101B-9397-08002B2CF9AE}" pid="54" name="FSC#EIBPRECONFIG@1.1001:objchangedat">
    <vt:lpwstr>14.09.2004 11:11:51</vt:lpwstr>
  </property>
  <property fmtid="{D5CDD505-2E9C-101B-9397-08002B2CF9AE}" pid="55" name="FSC#EIBPRECONFIG@1.1001:objchangedby">
    <vt:lpwstr>Elsinger, Julia, Dipl.-Ing.</vt:lpwstr>
  </property>
  <property fmtid="{D5CDD505-2E9C-101B-9397-08002B2CF9AE}" pid="56" name="FSC#EIBPRECONFIG@1.1001:objname">
    <vt:lpwstr>Vortrag21September2004EntwicklungSchieneStraßerKombiverkehrppt</vt:lpwstr>
  </property>
  <property fmtid="{D5CDD505-2E9C-101B-9397-08002B2CF9AE}" pid="57" name="FSC#EIBPRECONFIG@1.1001:toplevelobject">
    <vt:lpwstr>COO.3000.106.7.38297</vt:lpwstr>
  </property>
  <property fmtid="{D5CDD505-2E9C-101B-9397-08002B2CF9AE}" pid="58" name="_AdHocReviewCycleID">
    <vt:r8>1574282099</vt:r8>
  </property>
  <property fmtid="{D5CDD505-2E9C-101B-9397-08002B2CF9AE}" pid="59" name="_AuthorEmail">
    <vt:lpwstr>Feige.Treuhand@teleweb.at</vt:lpwstr>
  </property>
  <property fmtid="{D5CDD505-2E9C-101B-9397-08002B2CF9AE}" pid="60" name="_AuthorEmailDisplayName">
    <vt:lpwstr>Martin Feige</vt:lpwstr>
  </property>
  <property fmtid="{D5CDD505-2E9C-101B-9397-08002B2CF9AE}" pid="61" name="_EmailSubject">
    <vt:lpwstr>Etnwurf Vortrag 21.9.04</vt:lpwstr>
  </property>
</Properties>
</file>