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415-D18E-44B3-8B0A-D1E67C11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F7C-25C3-4DD9-A904-97265D17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194-3DEC-4180-A5A2-4541FC1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1B3-C445-4879-B062-4417874A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71A-DD01-45C9-81B5-CCCC33F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83D-968D-4F05-A852-F6C5C996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3B8-2522-4494-B75E-EF11696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80E-439F-467D-8AF5-55A9DE5E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FBD-8B50-428F-8B5A-EE6ACCF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0B3-AC45-43AA-9A5D-D0B25068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134-E174-4529-8BD8-02BBF758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B97-B936-41CD-9BBF-5EED6DBE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ntribution of Romania to Intermodal Transport between Europe and Asia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arin STANCU                                                                                                  Ministry of Transport, Constructions and Tour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3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2063-6C4E-481A-B5AC-25B793BBE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ECMT/UNECE Seminar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MODAL TRANSPORT BETWEEN EUROPE AND ASIA: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OPPORTUNITIES AND CHALLENGES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029200"/>
            <a:ext cx="8686800" cy="1008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  <a:ea typeface="Arial"/>
              </a:rPr>
              <a:t>HOSTED BY MINISTRY OF TRANSPORT OF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KIEV, 27 and 28 Septem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34316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010280" y="609480"/>
          <a:ext cx="115092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609480"/>
                    <a:ext cx="1150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62520" y="609480"/>
            <a:ext cx="11476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rridor I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in Characteristics of the Romanian Railway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80 k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d lin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98 %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ified lin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99 %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800600"/>
            <a:ext cx="9144000" cy="152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x spe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ss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0 km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0 km/h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Bucharest-Campina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reight: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 95 km/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20 km/h (Bucharest-Campina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038480"/>
            <a:ext cx="914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x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0 Trains/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n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60 Trains/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ber of station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orridor V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 Characteristics of the Romanian Sector of Danu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75 km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ver and sea port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3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88620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pacity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51.5 mil. tons/yea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72428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al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Danube – Black 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arta Alba – Mi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ga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rridor I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ain Characteristics of the Romanian Railway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655 km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oubled lin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79 %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ectrified lin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79 %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038480"/>
            <a:ext cx="9144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ax speed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ass: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40 km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60 km/h (Bucharest-Ploiest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reight: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95 km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20 km/h (Bucharest-Ploiest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umber of stations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19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. LEGAL FRAMEWORK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TERMODAL TRANSPOR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Romanian Regulations in connection with UNECE  Agre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438280"/>
            <a:ext cx="914400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w 8/1993 regarding the ratification of EUROPEAN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REEMENT ON IMPORTANT INTERNATION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BINED TRANSPORT LINES AND RELATED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ALLATIONS (AG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419720"/>
            <a:ext cx="91440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mania is one of the seven Contracting Partie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OCOL ON COMBINED TRANSPORT ON INL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WERWAYS (1997) TO THE AGT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Romanian Legislation harmonized  with European Union Regulation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057400"/>
            <a:ext cx="4495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termodal Transport Railway-R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590920"/>
            <a:ext cx="86868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Ordinance 88/1999 regarding the establishing some rules for combined transport, approved by Law 401/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352680"/>
            <a:ext cx="8686800" cy="703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ulation for Romanian Railway Transport, approved by Government Ordinance 41/19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876920"/>
            <a:ext cx="8686800" cy="1618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Urgency Ordinance 125/2003, approved by Law 128/2004, amending GUO 12/199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non-discriminatory access in terminals and por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inked to rai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 provisions for intermodal logistic cent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4114800"/>
            <a:ext cx="86868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Urgency Ordinance 12/1998 regarding transport on Romanian Rail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Romanian Legislation harmonized  with European Union Regulation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057400"/>
            <a:ext cx="5638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termodal Transport Railway-Road-Mari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590920"/>
            <a:ext cx="8686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Ordinance 42/1997 regarding civil navi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124080"/>
            <a:ext cx="8686800" cy="1008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Ordinance 116/1998 concerning the setting up of special regime for international maritime transport activity, approved by Law 231/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257800"/>
            <a:ext cx="8686800" cy="703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Decision 71/1997 regarding the authorization of commercial societies that perform international maritime 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343400"/>
            <a:ext cx="86868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Ordinance 22/1999 regarding management of ports and services offered in the 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3. VOLUME OF INTERMOD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RANSPORT IN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reight Transport in Roman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2066760"/>
          <a:ext cx="4267080" cy="267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6760"/>
                    <a:ext cx="42670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267080" y="2057400"/>
          <a:ext cx="487692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057400"/>
                    <a:ext cx="48769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termodal Transport at CFR MARF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- 2003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17760" y="1363680"/>
          <a:ext cx="617544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363680"/>
                    <a:ext cx="617544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204960" y="4646520"/>
            <a:ext cx="1223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6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86200" y="53352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 O M A N I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609480"/>
            <a:ext cx="7617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609480"/>
            <a:ext cx="7621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60948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26400" y="4648320"/>
            <a:ext cx="4007520" cy="855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Marin STANC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uperior Counsel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General Direction for Railway Trans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600200"/>
            <a:ext cx="9144000" cy="444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10000"/>
                </a:solidFill>
                <a:latin typeface="Arial"/>
              </a:rPr>
              <a:t>MINISTRY OF TRANSPORT, CONSTRUCTIONS AND TOURIS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6095880"/>
            <a:ext cx="3504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00"/>
                </a:solidFill>
                <a:latin typeface="Times New Roman"/>
              </a:rPr>
              <a:t>KIEV, 27 and 28 Septem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66880"/>
            <a:ext cx="9144000" cy="15562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TRIBUTION OF ROMAN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 INTERMODAL TRANSPORT BETWEEN EUROPE AND A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termodal Transport at CFR MARF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irst semester of 2004/200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1432080"/>
          <a:ext cx="441972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2080"/>
                    <a:ext cx="441972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27480" y="1523880"/>
          <a:ext cx="4675320" cy="48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27480" y="1523880"/>
                    <a:ext cx="4675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4. INTERMODAL TRANSPOR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ERMINALS IN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FR MARFA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1120" y="2286000"/>
            <a:ext cx="2710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mber of terminal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TANTA PORT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191120"/>
            <a:ext cx="914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CONTAINER-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FRIGO (ICF)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TTI &amp; DAEWOO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609480"/>
            <a:ext cx="5943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xisting termi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AN d. VLIS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1120" y="2286000"/>
            <a:ext cx="2710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mber of terminal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OMTRAN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FR MARFA (RO-LA)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609480"/>
            <a:ext cx="6476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New terminals in short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onstanta Port – The turntable of European and Euro - Asian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51460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biggest commercial port of the Black S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0040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tal surface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 3.000 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88620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ading and unloading capacitie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 200 mil. Tons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56272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d opportunities for intermodal transport (4 intermodal termina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572000"/>
            <a:ext cx="9144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nection with Rotterdam through: Black Sea-Danube Canal, Danube, Main-Rhi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5. INTERMODAL TRANSPOR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YSTEMS IN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xisting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52480"/>
            <a:ext cx="91440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accompanied intermodal railway–road transport, that grants the “door to door“ transport using the two transport modalities, without affecting the freight when changing the type of transpor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048120"/>
            <a:ext cx="91440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companied intermodal transport (RO-LA), that offers the transport of road tractors accompanied by the drivers, technology that grants the elimination of congestion of traffic and less pollution of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572000"/>
            <a:ext cx="91440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companied and unaccompani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ilway and/or road- maritime intermodal transport, by using the ferry-boat vessels from the patrimony of the national freight operator CFR MARF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ransport RO - LA at CFR MARF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ial wagons (Saadkkms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axels with low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243828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mber of wagons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perating trains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2  weekly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n both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nnection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rad-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Glogovăţ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Romania) 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Wel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(Austri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19112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veling time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0 ho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Using ferryboats of CFR MARFA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752480"/>
            <a:ext cx="9144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nection of Romania wit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243828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ddle E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124080"/>
            <a:ext cx="6400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ucasian Are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648320"/>
            <a:ext cx="9144000" cy="1557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nsports in </a:t>
            </a:r>
            <a:r>
              <a:rPr b="1" lang="ro-RO" sz="2400" spc="-1" strike="noStrike">
                <a:solidFill>
                  <a:srgbClr val="0000cc"/>
                </a:solidFill>
                <a:latin typeface="Arial"/>
              </a:rPr>
              <a:t>ferry-boa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ffers a wide range of advantages for freight transportation in wagons or trucks: reduced distance, reduced traveling time</a:t>
            </a:r>
            <a:r>
              <a:rPr b="1" lang="ro-RO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d numbers of borders, good accommodations for truck dri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80988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 Asia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762120"/>
            <a:ext cx="8381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Using ferryboats of CFR MARFA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2286000"/>
          <a:ext cx="82296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380880"/>
            <a:ext cx="3505320" cy="113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ROMANI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didate Coun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143000"/>
            <a:ext cx="3429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8 391 k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.5 millions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harest – 2.5 m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286000"/>
            <a:ext cx="3429000" cy="180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itio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uth-East of 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ighbor with Black S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st-East: Europe-A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th-South of 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990360" cy="2819160"/>
          </a:xfrm>
          <a:prstGeom prst="line">
            <a:avLst/>
          </a:prstGeom>
          <a:ln w="139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ntribution of Romania to Intermodal Transport between Europe and Asia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75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rin STANCU                                                                                                    Ministry of Transport, Construction and Tour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2160" y="403848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4880" y="48006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4572000"/>
            <a:ext cx="5029200" cy="121932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1752480"/>
            <a:ext cx="0" cy="43434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6. INTERMODAL TRANSPOR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DEVELOPMENT PERSPECTIVE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crease Transport betwe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urope and Asia next 30 y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36232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port of oil and other natural resources from Asia to Europe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4812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port of manufactured products in both directions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88620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velopment of Eastern Europe (Enlargement of European Un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257800"/>
            <a:ext cx="7848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 a result: Increase of Intermodal Trans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crease Intermodal Transport in Roman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36232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port of goods from Asia to Europe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4812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port of manufactured products in both directions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886200"/>
            <a:ext cx="91440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velopment of logistic centers in Roman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he most appropriate locations: Constanta, Bucharest, Timisoara, Oradea, Brasov, Bacau and Craio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5410080"/>
            <a:ext cx="7848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 a result: Increase of Intermodal Trans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7. CONCLUSION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676520" y="380880"/>
            <a:ext cx="60195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371600"/>
            <a:ext cx="82296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n important path of transport between Europe and Asia passed through ROMAN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2209680"/>
            <a:ext cx="822960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t is necessary to develop international legislation for increase intermodal transport, inclusively between EUROPE and ASIA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. ROMANIA can participate at this proces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3352680"/>
            <a:ext cx="82296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umber of intermodal transport terminals from ROMANIA have  incre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267080"/>
            <a:ext cx="822960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t is a big potential for intermodal transport in ROMAN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876920"/>
            <a:ext cx="822960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OMANIA intends to develop next years, logistic center for intermodal transport that will be used for increase the intermodal transport between EUROPE and AS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 rot="20493000">
            <a:off x="1218960" y="1828440"/>
            <a:ext cx="6375240" cy="3332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0040" y="2743200"/>
            <a:ext cx="464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457200"/>
            <a:ext cx="22096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ual statu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143000"/>
            <a:ext cx="815328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OMANIA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 2003 the provisional negotiations with EUROPEAN UNION for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Chapter 9 – Policy in the field of transports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809880"/>
            <a:ext cx="20574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 step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495680"/>
            <a:ext cx="81532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The foresight for accession of ROMANIA to EUROPEAN UNION is January 1</a:t>
            </a:r>
            <a:r>
              <a:rPr b="1" lang="en-US" sz="2400" spc="-1" strike="noStrike" baseline="30000">
                <a:solidFill>
                  <a:srgbClr val="0000cc"/>
                </a:solidFill>
                <a:latin typeface="Arial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2007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33520"/>
            <a:ext cx="9144000" cy="5867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TRANSPORT CORRIDORS THROUGH ROM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LEGAL FRAMEWORK ON INTERMODAL TRANSPOR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ROMAN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VOLUME OF INTERMODAL TRANSPORT IN ROMAN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INTERMODAL TRANSPORT TERMINALS IN ROM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INTERMODAL TRANSPORT SYSTEMS IN ROM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. IT DEVELOPMENT PERSPE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. CONCLUSION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. TRANSPORT CORRIDO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HROUGH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304920"/>
            <a:ext cx="9144000" cy="634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457200"/>
            <a:ext cx="72388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an-European Transport Corrid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 Roman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133720"/>
            <a:ext cx="8686800" cy="1130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ridor IV: Central Europe – South East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lin/Nurnberg–Praha–Budape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Arad-Bucharest–Consta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ad–Timisoara–Craiova–Calafat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in–Istanbul/Thessaloniki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886200"/>
            <a:ext cx="8686800" cy="42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rridor VII:  Danub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(waterway corrid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876920"/>
            <a:ext cx="8686800" cy="1130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orridor IX: North East Europe – South East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sinki-S.Petersburg-Kiev/Moskva-Odessa-Chisinau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-Ia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-Bucharest-Giurgiu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itrovgrad-Alexandroupo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0" y="1981080"/>
            <a:ext cx="2286000" cy="752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rridor 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Danub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2971800"/>
            <a:ext cx="228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orridor 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95280"/>
            <a:ext cx="6858000" cy="51818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267080"/>
            <a:ext cx="728640" cy="2170080"/>
          </a:xfrm>
          <a:custGeom>
            <a:avLst/>
            <a:gdLst/>
            <a:ahLst/>
            <a:rect l="l" t="t" r="r" b="b"/>
            <a:pathLst>
              <a:path w="459" h="1367">
                <a:moveTo>
                  <a:pt x="459" y="0"/>
                </a:moveTo>
                <a:cubicBezTo>
                  <a:pt x="446" y="3"/>
                  <a:pt x="433" y="6"/>
                  <a:pt x="420" y="10"/>
                </a:cubicBezTo>
                <a:cubicBezTo>
                  <a:pt x="410" y="13"/>
                  <a:pt x="394" y="10"/>
                  <a:pt x="391" y="20"/>
                </a:cubicBezTo>
                <a:cubicBezTo>
                  <a:pt x="386" y="35"/>
                  <a:pt x="397" y="52"/>
                  <a:pt x="400" y="68"/>
                </a:cubicBezTo>
                <a:cubicBezTo>
                  <a:pt x="380" y="135"/>
                  <a:pt x="410" y="224"/>
                  <a:pt x="420" y="293"/>
                </a:cubicBezTo>
                <a:cubicBezTo>
                  <a:pt x="420" y="295"/>
                  <a:pt x="416" y="386"/>
                  <a:pt x="400" y="410"/>
                </a:cubicBezTo>
                <a:cubicBezTo>
                  <a:pt x="377" y="443"/>
                  <a:pt x="365" y="439"/>
                  <a:pt x="332" y="459"/>
                </a:cubicBezTo>
                <a:cubicBezTo>
                  <a:pt x="281" y="490"/>
                  <a:pt x="242" y="508"/>
                  <a:pt x="186" y="527"/>
                </a:cubicBezTo>
                <a:cubicBezTo>
                  <a:pt x="165" y="588"/>
                  <a:pt x="161" y="628"/>
                  <a:pt x="107" y="664"/>
                </a:cubicBezTo>
                <a:cubicBezTo>
                  <a:pt x="95" y="703"/>
                  <a:pt x="82" y="719"/>
                  <a:pt x="49" y="742"/>
                </a:cubicBezTo>
                <a:cubicBezTo>
                  <a:pt x="42" y="762"/>
                  <a:pt x="35" y="781"/>
                  <a:pt x="29" y="801"/>
                </a:cubicBezTo>
                <a:cubicBezTo>
                  <a:pt x="26" y="811"/>
                  <a:pt x="23" y="820"/>
                  <a:pt x="20" y="830"/>
                </a:cubicBezTo>
                <a:cubicBezTo>
                  <a:pt x="17" y="840"/>
                  <a:pt x="10" y="859"/>
                  <a:pt x="10" y="859"/>
                </a:cubicBezTo>
                <a:cubicBezTo>
                  <a:pt x="17" y="963"/>
                  <a:pt x="35" y="1079"/>
                  <a:pt x="0" y="1181"/>
                </a:cubicBezTo>
                <a:cubicBezTo>
                  <a:pt x="28" y="1264"/>
                  <a:pt x="10" y="1270"/>
                  <a:pt x="10" y="1367"/>
                </a:cubicBezTo>
                <a:lnTo>
                  <a:pt x="454" y="1366"/>
                </a:lnTo>
                <a:lnTo>
                  <a:pt x="459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1295280"/>
            <a:ext cx="228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ridor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3809880"/>
            <a:ext cx="1752480" cy="0"/>
          </a:xfrm>
          <a:prstGeom prst="line">
            <a:avLst/>
          </a:prstGeom>
          <a:ln cap="rnd" w="9360">
            <a:solidFill>
              <a:srgbClr val="9966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38240" y="378468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Times New Roman"/>
              </a:rPr>
              <a:t>Helsinki ‘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523880"/>
            <a:ext cx="6664320" cy="4816440"/>
          </a:xfrm>
          <a:custGeom>
            <a:avLst/>
            <a:gdLst/>
            <a:ahLst/>
            <a:rect l="l" t="t" r="r" b="b"/>
            <a:pathLst>
              <a:path w="4198" h="3034">
                <a:moveTo>
                  <a:pt x="0" y="1347"/>
                </a:moveTo>
                <a:cubicBezTo>
                  <a:pt x="10" y="1350"/>
                  <a:pt x="25" y="1348"/>
                  <a:pt x="29" y="1357"/>
                </a:cubicBezTo>
                <a:cubicBezTo>
                  <a:pt x="34" y="1367"/>
                  <a:pt x="19" y="1376"/>
                  <a:pt x="19" y="1387"/>
                </a:cubicBezTo>
                <a:cubicBezTo>
                  <a:pt x="19" y="1397"/>
                  <a:pt x="23" y="1408"/>
                  <a:pt x="29" y="1416"/>
                </a:cubicBezTo>
                <a:cubicBezTo>
                  <a:pt x="36" y="1425"/>
                  <a:pt x="48" y="1429"/>
                  <a:pt x="58" y="1435"/>
                </a:cubicBezTo>
                <a:cubicBezTo>
                  <a:pt x="83" y="1473"/>
                  <a:pt x="78" y="1487"/>
                  <a:pt x="117" y="1513"/>
                </a:cubicBezTo>
                <a:cubicBezTo>
                  <a:pt x="124" y="1523"/>
                  <a:pt x="128" y="1535"/>
                  <a:pt x="137" y="1543"/>
                </a:cubicBezTo>
                <a:cubicBezTo>
                  <a:pt x="154" y="1558"/>
                  <a:pt x="195" y="1582"/>
                  <a:pt x="195" y="1582"/>
                </a:cubicBezTo>
                <a:cubicBezTo>
                  <a:pt x="208" y="1621"/>
                  <a:pt x="221" y="1660"/>
                  <a:pt x="234" y="1699"/>
                </a:cubicBezTo>
                <a:cubicBezTo>
                  <a:pt x="210" y="1768"/>
                  <a:pt x="206" y="1801"/>
                  <a:pt x="273" y="1845"/>
                </a:cubicBezTo>
                <a:cubicBezTo>
                  <a:pt x="307" y="1896"/>
                  <a:pt x="405" y="1960"/>
                  <a:pt x="468" y="1982"/>
                </a:cubicBezTo>
                <a:cubicBezTo>
                  <a:pt x="482" y="2024"/>
                  <a:pt x="472" y="2058"/>
                  <a:pt x="459" y="2099"/>
                </a:cubicBezTo>
                <a:cubicBezTo>
                  <a:pt x="515" y="2138"/>
                  <a:pt x="502" y="2156"/>
                  <a:pt x="468" y="2207"/>
                </a:cubicBezTo>
                <a:cubicBezTo>
                  <a:pt x="487" y="2219"/>
                  <a:pt x="509" y="2224"/>
                  <a:pt x="527" y="2236"/>
                </a:cubicBezTo>
                <a:cubicBezTo>
                  <a:pt x="571" y="2266"/>
                  <a:pt x="542" y="2260"/>
                  <a:pt x="576" y="2294"/>
                </a:cubicBezTo>
                <a:cubicBezTo>
                  <a:pt x="608" y="2326"/>
                  <a:pt x="660" y="2333"/>
                  <a:pt x="703" y="2343"/>
                </a:cubicBezTo>
                <a:cubicBezTo>
                  <a:pt x="751" y="2419"/>
                  <a:pt x="689" y="2330"/>
                  <a:pt x="752" y="2392"/>
                </a:cubicBezTo>
                <a:cubicBezTo>
                  <a:pt x="825" y="2464"/>
                  <a:pt x="713" y="2381"/>
                  <a:pt x="800" y="2441"/>
                </a:cubicBezTo>
                <a:cubicBezTo>
                  <a:pt x="859" y="2421"/>
                  <a:pt x="809" y="2447"/>
                  <a:pt x="839" y="2402"/>
                </a:cubicBezTo>
                <a:cubicBezTo>
                  <a:pt x="852" y="2382"/>
                  <a:pt x="879" y="2366"/>
                  <a:pt x="898" y="2353"/>
                </a:cubicBezTo>
                <a:cubicBezTo>
                  <a:pt x="919" y="2292"/>
                  <a:pt x="942" y="2305"/>
                  <a:pt x="1005" y="2314"/>
                </a:cubicBezTo>
                <a:cubicBezTo>
                  <a:pt x="1050" y="2382"/>
                  <a:pt x="1036" y="2351"/>
                  <a:pt x="1054" y="2402"/>
                </a:cubicBezTo>
                <a:cubicBezTo>
                  <a:pt x="994" y="2422"/>
                  <a:pt x="982" y="2427"/>
                  <a:pt x="947" y="2480"/>
                </a:cubicBezTo>
                <a:cubicBezTo>
                  <a:pt x="959" y="2525"/>
                  <a:pt x="967" y="2542"/>
                  <a:pt x="1005" y="2568"/>
                </a:cubicBezTo>
                <a:cubicBezTo>
                  <a:pt x="1008" y="2578"/>
                  <a:pt x="1008" y="2590"/>
                  <a:pt x="1015" y="2597"/>
                </a:cubicBezTo>
                <a:cubicBezTo>
                  <a:pt x="1032" y="2614"/>
                  <a:pt x="1074" y="2636"/>
                  <a:pt x="1074" y="2636"/>
                </a:cubicBezTo>
                <a:cubicBezTo>
                  <a:pt x="1103" y="2680"/>
                  <a:pt x="1139" y="2686"/>
                  <a:pt x="1181" y="2714"/>
                </a:cubicBezTo>
                <a:cubicBezTo>
                  <a:pt x="1184" y="2724"/>
                  <a:pt x="1197" y="2735"/>
                  <a:pt x="1191" y="2744"/>
                </a:cubicBezTo>
                <a:cubicBezTo>
                  <a:pt x="1177" y="2763"/>
                  <a:pt x="1132" y="2783"/>
                  <a:pt x="1132" y="2783"/>
                </a:cubicBezTo>
                <a:cubicBezTo>
                  <a:pt x="1126" y="2793"/>
                  <a:pt x="1115" y="2801"/>
                  <a:pt x="1113" y="2812"/>
                </a:cubicBezTo>
                <a:cubicBezTo>
                  <a:pt x="1106" y="2858"/>
                  <a:pt x="1176" y="2878"/>
                  <a:pt x="1210" y="2890"/>
                </a:cubicBezTo>
                <a:cubicBezTo>
                  <a:pt x="1286" y="2881"/>
                  <a:pt x="1368" y="2864"/>
                  <a:pt x="1435" y="2910"/>
                </a:cubicBezTo>
                <a:cubicBezTo>
                  <a:pt x="1487" y="2897"/>
                  <a:pt x="1525" y="2913"/>
                  <a:pt x="1581" y="2919"/>
                </a:cubicBezTo>
                <a:cubicBezTo>
                  <a:pt x="1591" y="2926"/>
                  <a:pt x="1600" y="2934"/>
                  <a:pt x="1611" y="2939"/>
                </a:cubicBezTo>
                <a:cubicBezTo>
                  <a:pt x="1630" y="2947"/>
                  <a:pt x="1669" y="2958"/>
                  <a:pt x="1669" y="2958"/>
                </a:cubicBezTo>
                <a:cubicBezTo>
                  <a:pt x="1721" y="2993"/>
                  <a:pt x="1728" y="2988"/>
                  <a:pt x="1796" y="2978"/>
                </a:cubicBezTo>
                <a:cubicBezTo>
                  <a:pt x="1890" y="2946"/>
                  <a:pt x="1896" y="2970"/>
                  <a:pt x="1972" y="2978"/>
                </a:cubicBezTo>
                <a:cubicBezTo>
                  <a:pt x="2056" y="2987"/>
                  <a:pt x="2142" y="2988"/>
                  <a:pt x="2226" y="2997"/>
                </a:cubicBezTo>
                <a:cubicBezTo>
                  <a:pt x="2279" y="3034"/>
                  <a:pt x="2320" y="3026"/>
                  <a:pt x="2382" y="3017"/>
                </a:cubicBezTo>
                <a:cubicBezTo>
                  <a:pt x="2392" y="3014"/>
                  <a:pt x="2403" y="3013"/>
                  <a:pt x="2411" y="3007"/>
                </a:cubicBezTo>
                <a:cubicBezTo>
                  <a:pt x="2420" y="3000"/>
                  <a:pt x="2420" y="2983"/>
                  <a:pt x="2431" y="2978"/>
                </a:cubicBezTo>
                <a:cubicBezTo>
                  <a:pt x="2452" y="2969"/>
                  <a:pt x="2476" y="2971"/>
                  <a:pt x="2499" y="2968"/>
                </a:cubicBezTo>
                <a:cubicBezTo>
                  <a:pt x="2539" y="2942"/>
                  <a:pt x="2555" y="2939"/>
                  <a:pt x="2538" y="2890"/>
                </a:cubicBezTo>
                <a:cubicBezTo>
                  <a:pt x="2557" y="2834"/>
                  <a:pt x="2533" y="2885"/>
                  <a:pt x="2577" y="2841"/>
                </a:cubicBezTo>
                <a:cubicBezTo>
                  <a:pt x="2585" y="2833"/>
                  <a:pt x="2588" y="2819"/>
                  <a:pt x="2597" y="2812"/>
                </a:cubicBezTo>
                <a:cubicBezTo>
                  <a:pt x="2604" y="2807"/>
                  <a:pt x="2662" y="2793"/>
                  <a:pt x="2665" y="2792"/>
                </a:cubicBezTo>
                <a:cubicBezTo>
                  <a:pt x="2713" y="2761"/>
                  <a:pt x="2722" y="2763"/>
                  <a:pt x="2782" y="2773"/>
                </a:cubicBezTo>
                <a:cubicBezTo>
                  <a:pt x="2843" y="2753"/>
                  <a:pt x="2858" y="2736"/>
                  <a:pt x="2929" y="2724"/>
                </a:cubicBezTo>
                <a:cubicBezTo>
                  <a:pt x="2998" y="2700"/>
                  <a:pt x="2970" y="2715"/>
                  <a:pt x="3017" y="2685"/>
                </a:cubicBezTo>
                <a:cubicBezTo>
                  <a:pt x="3066" y="2697"/>
                  <a:pt x="3106" y="2679"/>
                  <a:pt x="3153" y="2695"/>
                </a:cubicBezTo>
                <a:cubicBezTo>
                  <a:pt x="3170" y="2744"/>
                  <a:pt x="3150" y="2711"/>
                  <a:pt x="3192" y="2734"/>
                </a:cubicBezTo>
                <a:cubicBezTo>
                  <a:pt x="3301" y="2795"/>
                  <a:pt x="3197" y="2768"/>
                  <a:pt x="3358" y="2783"/>
                </a:cubicBezTo>
                <a:cubicBezTo>
                  <a:pt x="3395" y="2794"/>
                  <a:pt x="3428" y="2804"/>
                  <a:pt x="3466" y="2812"/>
                </a:cubicBezTo>
                <a:cubicBezTo>
                  <a:pt x="3519" y="2848"/>
                  <a:pt x="3553" y="2860"/>
                  <a:pt x="3612" y="2880"/>
                </a:cubicBezTo>
                <a:cubicBezTo>
                  <a:pt x="3643" y="2926"/>
                  <a:pt x="3649" y="2913"/>
                  <a:pt x="3700" y="2929"/>
                </a:cubicBezTo>
                <a:cubicBezTo>
                  <a:pt x="3720" y="2935"/>
                  <a:pt x="3759" y="2949"/>
                  <a:pt x="3759" y="2949"/>
                </a:cubicBezTo>
                <a:cubicBezTo>
                  <a:pt x="3831" y="2924"/>
                  <a:pt x="3790" y="2948"/>
                  <a:pt x="3798" y="2802"/>
                </a:cubicBezTo>
                <a:cubicBezTo>
                  <a:pt x="3800" y="2768"/>
                  <a:pt x="3798" y="2565"/>
                  <a:pt x="3827" y="2499"/>
                </a:cubicBezTo>
                <a:cubicBezTo>
                  <a:pt x="3832" y="2488"/>
                  <a:pt x="3846" y="2486"/>
                  <a:pt x="3856" y="2480"/>
                </a:cubicBezTo>
                <a:cubicBezTo>
                  <a:pt x="3863" y="2470"/>
                  <a:pt x="3871" y="2462"/>
                  <a:pt x="3876" y="2451"/>
                </a:cubicBezTo>
                <a:cubicBezTo>
                  <a:pt x="3881" y="2439"/>
                  <a:pt x="3878" y="2424"/>
                  <a:pt x="3885" y="2412"/>
                </a:cubicBezTo>
                <a:cubicBezTo>
                  <a:pt x="3897" y="2391"/>
                  <a:pt x="3925" y="2376"/>
                  <a:pt x="3944" y="2363"/>
                </a:cubicBezTo>
                <a:cubicBezTo>
                  <a:pt x="3951" y="2343"/>
                  <a:pt x="3944" y="2311"/>
                  <a:pt x="3964" y="2304"/>
                </a:cubicBezTo>
                <a:cubicBezTo>
                  <a:pt x="4022" y="2284"/>
                  <a:pt x="4060" y="2241"/>
                  <a:pt x="4120" y="2226"/>
                </a:cubicBezTo>
                <a:cubicBezTo>
                  <a:pt x="4166" y="2196"/>
                  <a:pt x="4170" y="2173"/>
                  <a:pt x="4188" y="2119"/>
                </a:cubicBezTo>
                <a:cubicBezTo>
                  <a:pt x="4191" y="2109"/>
                  <a:pt x="4198" y="2089"/>
                  <a:pt x="4198" y="2089"/>
                </a:cubicBezTo>
                <a:cubicBezTo>
                  <a:pt x="4190" y="2028"/>
                  <a:pt x="4195" y="1891"/>
                  <a:pt x="4149" y="1845"/>
                </a:cubicBezTo>
                <a:cubicBezTo>
                  <a:pt x="4122" y="1818"/>
                  <a:pt x="4099" y="1822"/>
                  <a:pt x="4061" y="1816"/>
                </a:cubicBezTo>
                <a:cubicBezTo>
                  <a:pt x="4035" y="1819"/>
                  <a:pt x="4007" y="1815"/>
                  <a:pt x="3983" y="1826"/>
                </a:cubicBezTo>
                <a:cubicBezTo>
                  <a:pt x="3974" y="1830"/>
                  <a:pt x="3979" y="1847"/>
                  <a:pt x="3973" y="1855"/>
                </a:cubicBezTo>
                <a:cubicBezTo>
                  <a:pt x="3958" y="1874"/>
                  <a:pt x="3936" y="1878"/>
                  <a:pt x="3915" y="1884"/>
                </a:cubicBezTo>
                <a:cubicBezTo>
                  <a:pt x="3883" y="1933"/>
                  <a:pt x="3881" y="1914"/>
                  <a:pt x="3837" y="1884"/>
                </a:cubicBezTo>
                <a:cubicBezTo>
                  <a:pt x="3834" y="1894"/>
                  <a:pt x="3827" y="1903"/>
                  <a:pt x="3827" y="1914"/>
                </a:cubicBezTo>
                <a:cubicBezTo>
                  <a:pt x="3827" y="1957"/>
                  <a:pt x="3861" y="1935"/>
                  <a:pt x="3807" y="1953"/>
                </a:cubicBezTo>
                <a:cubicBezTo>
                  <a:pt x="3749" y="1933"/>
                  <a:pt x="3690" y="1914"/>
                  <a:pt x="3632" y="1894"/>
                </a:cubicBezTo>
                <a:cubicBezTo>
                  <a:pt x="3610" y="1886"/>
                  <a:pt x="3573" y="1855"/>
                  <a:pt x="3573" y="1855"/>
                </a:cubicBezTo>
                <a:cubicBezTo>
                  <a:pt x="3495" y="1742"/>
                  <a:pt x="3602" y="1903"/>
                  <a:pt x="3544" y="1797"/>
                </a:cubicBezTo>
                <a:cubicBezTo>
                  <a:pt x="3533" y="1776"/>
                  <a:pt x="3505" y="1738"/>
                  <a:pt x="3505" y="1738"/>
                </a:cubicBezTo>
                <a:cubicBezTo>
                  <a:pt x="3553" y="1664"/>
                  <a:pt x="3521" y="1609"/>
                  <a:pt x="3495" y="1533"/>
                </a:cubicBezTo>
                <a:cubicBezTo>
                  <a:pt x="3505" y="1471"/>
                  <a:pt x="3516" y="1409"/>
                  <a:pt x="3524" y="1347"/>
                </a:cubicBezTo>
                <a:cubicBezTo>
                  <a:pt x="3528" y="1315"/>
                  <a:pt x="3522" y="1280"/>
                  <a:pt x="3534" y="1250"/>
                </a:cubicBezTo>
                <a:cubicBezTo>
                  <a:pt x="3538" y="1241"/>
                  <a:pt x="3553" y="1250"/>
                  <a:pt x="3563" y="1250"/>
                </a:cubicBezTo>
                <a:cubicBezTo>
                  <a:pt x="3632" y="1227"/>
                  <a:pt x="3642" y="1236"/>
                  <a:pt x="3593" y="1221"/>
                </a:cubicBezTo>
                <a:cubicBezTo>
                  <a:pt x="3586" y="1231"/>
                  <a:pt x="3585" y="1250"/>
                  <a:pt x="3573" y="1250"/>
                </a:cubicBezTo>
                <a:cubicBezTo>
                  <a:pt x="3563" y="1250"/>
                  <a:pt x="3564" y="1231"/>
                  <a:pt x="3563" y="1221"/>
                </a:cubicBezTo>
                <a:cubicBezTo>
                  <a:pt x="3557" y="1169"/>
                  <a:pt x="3560" y="1116"/>
                  <a:pt x="3553" y="1064"/>
                </a:cubicBezTo>
                <a:cubicBezTo>
                  <a:pt x="3542" y="983"/>
                  <a:pt x="3481" y="933"/>
                  <a:pt x="3456" y="859"/>
                </a:cubicBezTo>
                <a:cubicBezTo>
                  <a:pt x="3453" y="823"/>
                  <a:pt x="3456" y="786"/>
                  <a:pt x="3446" y="752"/>
                </a:cubicBezTo>
                <a:cubicBezTo>
                  <a:pt x="3442" y="739"/>
                  <a:pt x="3448" y="784"/>
                  <a:pt x="3436" y="791"/>
                </a:cubicBezTo>
                <a:cubicBezTo>
                  <a:pt x="3424" y="798"/>
                  <a:pt x="3410" y="784"/>
                  <a:pt x="3397" y="781"/>
                </a:cubicBezTo>
                <a:cubicBezTo>
                  <a:pt x="3360" y="744"/>
                  <a:pt x="3347" y="701"/>
                  <a:pt x="3309" y="664"/>
                </a:cubicBezTo>
                <a:cubicBezTo>
                  <a:pt x="3285" y="588"/>
                  <a:pt x="3321" y="676"/>
                  <a:pt x="3270" y="625"/>
                </a:cubicBezTo>
                <a:cubicBezTo>
                  <a:pt x="3263" y="618"/>
                  <a:pt x="3266" y="605"/>
                  <a:pt x="3261" y="596"/>
                </a:cubicBezTo>
                <a:cubicBezTo>
                  <a:pt x="3236" y="550"/>
                  <a:pt x="3205" y="486"/>
                  <a:pt x="3153" y="469"/>
                </a:cubicBezTo>
                <a:cubicBezTo>
                  <a:pt x="3139" y="428"/>
                  <a:pt x="3119" y="394"/>
                  <a:pt x="3104" y="352"/>
                </a:cubicBezTo>
                <a:cubicBezTo>
                  <a:pt x="3078" y="277"/>
                  <a:pt x="3065" y="174"/>
                  <a:pt x="2997" y="127"/>
                </a:cubicBezTo>
                <a:cubicBezTo>
                  <a:pt x="2978" y="71"/>
                  <a:pt x="2923" y="48"/>
                  <a:pt x="2870" y="30"/>
                </a:cubicBezTo>
                <a:cubicBezTo>
                  <a:pt x="2851" y="23"/>
                  <a:pt x="2831" y="17"/>
                  <a:pt x="2812" y="10"/>
                </a:cubicBezTo>
                <a:cubicBezTo>
                  <a:pt x="2802" y="7"/>
                  <a:pt x="2782" y="0"/>
                  <a:pt x="2782" y="0"/>
                </a:cubicBezTo>
                <a:cubicBezTo>
                  <a:pt x="2734" y="16"/>
                  <a:pt x="2706" y="51"/>
                  <a:pt x="2665" y="78"/>
                </a:cubicBezTo>
                <a:cubicBezTo>
                  <a:pt x="2651" y="120"/>
                  <a:pt x="2652" y="178"/>
                  <a:pt x="2597" y="186"/>
                </a:cubicBezTo>
                <a:cubicBezTo>
                  <a:pt x="2565" y="191"/>
                  <a:pt x="2532" y="192"/>
                  <a:pt x="2499" y="195"/>
                </a:cubicBezTo>
                <a:cubicBezTo>
                  <a:pt x="2425" y="172"/>
                  <a:pt x="2365" y="220"/>
                  <a:pt x="2294" y="235"/>
                </a:cubicBezTo>
                <a:cubicBezTo>
                  <a:pt x="2288" y="245"/>
                  <a:pt x="2285" y="258"/>
                  <a:pt x="2275" y="264"/>
                </a:cubicBezTo>
                <a:cubicBezTo>
                  <a:pt x="2257" y="275"/>
                  <a:pt x="2216" y="283"/>
                  <a:pt x="2216" y="283"/>
                </a:cubicBezTo>
                <a:cubicBezTo>
                  <a:pt x="2191" y="358"/>
                  <a:pt x="2227" y="270"/>
                  <a:pt x="2177" y="332"/>
                </a:cubicBezTo>
                <a:cubicBezTo>
                  <a:pt x="2139" y="379"/>
                  <a:pt x="2202" y="349"/>
                  <a:pt x="2138" y="371"/>
                </a:cubicBezTo>
                <a:cubicBezTo>
                  <a:pt x="2125" y="368"/>
                  <a:pt x="2110" y="369"/>
                  <a:pt x="2099" y="361"/>
                </a:cubicBezTo>
                <a:cubicBezTo>
                  <a:pt x="2091" y="355"/>
                  <a:pt x="2096" y="339"/>
                  <a:pt x="2089" y="332"/>
                </a:cubicBezTo>
                <a:cubicBezTo>
                  <a:pt x="2082" y="325"/>
                  <a:pt x="2070" y="325"/>
                  <a:pt x="2060" y="322"/>
                </a:cubicBezTo>
                <a:cubicBezTo>
                  <a:pt x="2033" y="283"/>
                  <a:pt x="1992" y="250"/>
                  <a:pt x="1952" y="225"/>
                </a:cubicBezTo>
                <a:cubicBezTo>
                  <a:pt x="1897" y="230"/>
                  <a:pt x="1842" y="244"/>
                  <a:pt x="1786" y="244"/>
                </a:cubicBezTo>
                <a:cubicBezTo>
                  <a:pt x="1755" y="244"/>
                  <a:pt x="1699" y="215"/>
                  <a:pt x="1699" y="215"/>
                </a:cubicBezTo>
                <a:cubicBezTo>
                  <a:pt x="1594" y="250"/>
                  <a:pt x="1665" y="249"/>
                  <a:pt x="1630" y="205"/>
                </a:cubicBezTo>
                <a:cubicBezTo>
                  <a:pt x="1623" y="196"/>
                  <a:pt x="1612" y="188"/>
                  <a:pt x="1601" y="186"/>
                </a:cubicBezTo>
                <a:cubicBezTo>
                  <a:pt x="1546" y="178"/>
                  <a:pt x="1490" y="179"/>
                  <a:pt x="1435" y="176"/>
                </a:cubicBezTo>
                <a:cubicBezTo>
                  <a:pt x="1404" y="154"/>
                  <a:pt x="1383" y="130"/>
                  <a:pt x="1347" y="117"/>
                </a:cubicBezTo>
                <a:cubicBezTo>
                  <a:pt x="1303" y="132"/>
                  <a:pt x="1314" y="147"/>
                  <a:pt x="1289" y="186"/>
                </a:cubicBezTo>
                <a:cubicBezTo>
                  <a:pt x="1220" y="163"/>
                  <a:pt x="1250" y="159"/>
                  <a:pt x="1201" y="176"/>
                </a:cubicBezTo>
                <a:cubicBezTo>
                  <a:pt x="1183" y="201"/>
                  <a:pt x="1175" y="244"/>
                  <a:pt x="1152" y="264"/>
                </a:cubicBezTo>
                <a:cubicBezTo>
                  <a:pt x="1111" y="299"/>
                  <a:pt x="1104" y="299"/>
                  <a:pt x="1064" y="313"/>
                </a:cubicBezTo>
                <a:cubicBezTo>
                  <a:pt x="1044" y="306"/>
                  <a:pt x="1025" y="300"/>
                  <a:pt x="1005" y="293"/>
                </a:cubicBezTo>
                <a:cubicBezTo>
                  <a:pt x="994" y="289"/>
                  <a:pt x="994" y="314"/>
                  <a:pt x="986" y="322"/>
                </a:cubicBezTo>
                <a:cubicBezTo>
                  <a:pt x="963" y="346"/>
                  <a:pt x="926" y="353"/>
                  <a:pt x="898" y="371"/>
                </a:cubicBezTo>
                <a:cubicBezTo>
                  <a:pt x="885" y="391"/>
                  <a:pt x="872" y="410"/>
                  <a:pt x="859" y="430"/>
                </a:cubicBezTo>
                <a:cubicBezTo>
                  <a:pt x="852" y="440"/>
                  <a:pt x="839" y="459"/>
                  <a:pt x="839" y="459"/>
                </a:cubicBezTo>
                <a:cubicBezTo>
                  <a:pt x="836" y="469"/>
                  <a:pt x="836" y="480"/>
                  <a:pt x="830" y="488"/>
                </a:cubicBezTo>
                <a:cubicBezTo>
                  <a:pt x="823" y="497"/>
                  <a:pt x="802" y="496"/>
                  <a:pt x="800" y="508"/>
                </a:cubicBezTo>
                <a:cubicBezTo>
                  <a:pt x="797" y="528"/>
                  <a:pt x="820" y="566"/>
                  <a:pt x="820" y="566"/>
                </a:cubicBezTo>
                <a:cubicBezTo>
                  <a:pt x="805" y="625"/>
                  <a:pt x="805" y="607"/>
                  <a:pt x="752" y="625"/>
                </a:cubicBezTo>
                <a:cubicBezTo>
                  <a:pt x="719" y="675"/>
                  <a:pt x="709" y="711"/>
                  <a:pt x="683" y="762"/>
                </a:cubicBezTo>
                <a:cubicBezTo>
                  <a:pt x="661" y="805"/>
                  <a:pt x="687" y="812"/>
                  <a:pt x="634" y="830"/>
                </a:cubicBezTo>
                <a:cubicBezTo>
                  <a:pt x="597" y="855"/>
                  <a:pt x="608" y="839"/>
                  <a:pt x="595" y="879"/>
                </a:cubicBezTo>
                <a:cubicBezTo>
                  <a:pt x="589" y="898"/>
                  <a:pt x="596" y="933"/>
                  <a:pt x="576" y="937"/>
                </a:cubicBezTo>
                <a:cubicBezTo>
                  <a:pt x="560" y="940"/>
                  <a:pt x="543" y="944"/>
                  <a:pt x="527" y="947"/>
                </a:cubicBezTo>
                <a:cubicBezTo>
                  <a:pt x="518" y="983"/>
                  <a:pt x="509" y="1020"/>
                  <a:pt x="498" y="1055"/>
                </a:cubicBezTo>
                <a:cubicBezTo>
                  <a:pt x="492" y="1075"/>
                  <a:pt x="478" y="1113"/>
                  <a:pt x="478" y="1113"/>
                </a:cubicBezTo>
                <a:cubicBezTo>
                  <a:pt x="401" y="1086"/>
                  <a:pt x="438" y="1173"/>
                  <a:pt x="420" y="1221"/>
                </a:cubicBezTo>
                <a:cubicBezTo>
                  <a:pt x="416" y="1232"/>
                  <a:pt x="401" y="1235"/>
                  <a:pt x="390" y="1240"/>
                </a:cubicBezTo>
                <a:cubicBezTo>
                  <a:pt x="328" y="1268"/>
                  <a:pt x="261" y="1269"/>
                  <a:pt x="195" y="1279"/>
                </a:cubicBezTo>
                <a:cubicBezTo>
                  <a:pt x="192" y="1292"/>
                  <a:pt x="198" y="1314"/>
                  <a:pt x="185" y="1318"/>
                </a:cubicBezTo>
                <a:cubicBezTo>
                  <a:pt x="165" y="1324"/>
                  <a:pt x="127" y="1299"/>
                  <a:pt x="127" y="1299"/>
                </a:cubicBezTo>
                <a:cubicBezTo>
                  <a:pt x="107" y="1312"/>
                  <a:pt x="88" y="1325"/>
                  <a:pt x="68" y="1338"/>
                </a:cubicBezTo>
                <a:cubicBezTo>
                  <a:pt x="51" y="1349"/>
                  <a:pt x="17" y="1299"/>
                  <a:pt x="10" y="1318"/>
                </a:cubicBezTo>
                <a:cubicBezTo>
                  <a:pt x="7" y="1328"/>
                  <a:pt x="3" y="1337"/>
                  <a:pt x="0" y="134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0" y="3581280"/>
            <a:ext cx="228600" cy="74880"/>
          </a:xfrm>
          <a:custGeom>
            <a:avLst/>
            <a:gdLst/>
            <a:ahLst/>
            <a:rect l="l" t="t" r="r" b="b"/>
            <a:pathLst>
              <a:path w="78" h="12">
                <a:moveTo>
                  <a:pt x="78" y="0"/>
                </a:moveTo>
                <a:cubicBezTo>
                  <a:pt x="27" y="12"/>
                  <a:pt x="44" y="0"/>
                  <a:pt x="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9440" y="5641920"/>
            <a:ext cx="201600" cy="573120"/>
          </a:xfrm>
          <a:custGeom>
            <a:avLst/>
            <a:gdLst/>
            <a:ahLst/>
            <a:rect l="l" t="t" r="r" b="b"/>
            <a:pathLst>
              <a:path w="127" h="361">
                <a:moveTo>
                  <a:pt x="127" y="0"/>
                </a:moveTo>
                <a:cubicBezTo>
                  <a:pt x="117" y="6"/>
                  <a:pt x="102" y="8"/>
                  <a:pt x="98" y="19"/>
                </a:cubicBezTo>
                <a:cubicBezTo>
                  <a:pt x="97" y="23"/>
                  <a:pt x="114" y="79"/>
                  <a:pt x="117" y="87"/>
                </a:cubicBezTo>
                <a:cubicBezTo>
                  <a:pt x="98" y="100"/>
                  <a:pt x="67" y="105"/>
                  <a:pt x="59" y="127"/>
                </a:cubicBezTo>
                <a:cubicBezTo>
                  <a:pt x="26" y="221"/>
                  <a:pt x="0" y="254"/>
                  <a:pt x="0" y="361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0" y="3781440"/>
            <a:ext cx="527040" cy="635040"/>
          </a:xfrm>
          <a:custGeom>
            <a:avLst/>
            <a:gdLst/>
            <a:ahLst/>
            <a:rect l="l" t="t" r="r" b="b"/>
            <a:pathLst>
              <a:path w="332" h="400">
                <a:moveTo>
                  <a:pt x="0" y="400"/>
                </a:moveTo>
                <a:cubicBezTo>
                  <a:pt x="23" y="393"/>
                  <a:pt x="49" y="394"/>
                  <a:pt x="69" y="381"/>
                </a:cubicBezTo>
                <a:cubicBezTo>
                  <a:pt x="102" y="359"/>
                  <a:pt x="77" y="349"/>
                  <a:pt x="98" y="322"/>
                </a:cubicBezTo>
                <a:cubicBezTo>
                  <a:pt x="105" y="313"/>
                  <a:pt x="117" y="309"/>
                  <a:pt x="127" y="303"/>
                </a:cubicBezTo>
                <a:cubicBezTo>
                  <a:pt x="160" y="253"/>
                  <a:pt x="139" y="224"/>
                  <a:pt x="196" y="205"/>
                </a:cubicBezTo>
                <a:cubicBezTo>
                  <a:pt x="219" y="136"/>
                  <a:pt x="204" y="164"/>
                  <a:pt x="235" y="117"/>
                </a:cubicBezTo>
                <a:cubicBezTo>
                  <a:pt x="238" y="107"/>
                  <a:pt x="234" y="89"/>
                  <a:pt x="244" y="88"/>
                </a:cubicBezTo>
                <a:cubicBezTo>
                  <a:pt x="264" y="85"/>
                  <a:pt x="303" y="107"/>
                  <a:pt x="303" y="107"/>
                </a:cubicBezTo>
                <a:cubicBezTo>
                  <a:pt x="315" y="72"/>
                  <a:pt x="306" y="26"/>
                  <a:pt x="332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1368360"/>
            <a:ext cx="915840" cy="155520"/>
          </a:xfrm>
          <a:custGeom>
            <a:avLst/>
            <a:gdLst/>
            <a:ahLst/>
            <a:rect l="l" t="t" r="r" b="b"/>
            <a:pathLst>
              <a:path w="557" h="95">
                <a:moveTo>
                  <a:pt x="0" y="95"/>
                </a:moveTo>
                <a:cubicBezTo>
                  <a:pt x="59" y="56"/>
                  <a:pt x="127" y="85"/>
                  <a:pt x="186" y="46"/>
                </a:cubicBezTo>
                <a:cubicBezTo>
                  <a:pt x="254" y="68"/>
                  <a:pt x="225" y="71"/>
                  <a:pt x="274" y="56"/>
                </a:cubicBezTo>
                <a:cubicBezTo>
                  <a:pt x="309" y="0"/>
                  <a:pt x="325" y="23"/>
                  <a:pt x="391" y="26"/>
                </a:cubicBezTo>
                <a:cubicBezTo>
                  <a:pt x="446" y="28"/>
                  <a:pt x="502" y="26"/>
                  <a:pt x="557" y="26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36800" y="1487520"/>
            <a:ext cx="147600" cy="295200"/>
          </a:xfrm>
          <a:custGeom>
            <a:avLst/>
            <a:gdLst/>
            <a:ahLst/>
            <a:rect l="l" t="t" r="r" b="b"/>
            <a:pathLst>
              <a:path w="93" h="186">
                <a:moveTo>
                  <a:pt x="78" y="186"/>
                </a:moveTo>
                <a:cubicBezTo>
                  <a:pt x="93" y="126"/>
                  <a:pt x="82" y="129"/>
                  <a:pt x="59" y="78"/>
                </a:cubicBezTo>
                <a:cubicBezTo>
                  <a:pt x="51" y="59"/>
                  <a:pt x="58" y="27"/>
                  <a:pt x="39" y="20"/>
                </a:cubicBezTo>
                <a:cubicBezTo>
                  <a:pt x="6" y="8"/>
                  <a:pt x="17" y="17"/>
                  <a:pt x="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200" y="3657600"/>
            <a:ext cx="1849320" cy="2225520"/>
          </a:xfrm>
          <a:custGeom>
            <a:avLst/>
            <a:gdLst/>
            <a:ahLst/>
            <a:rect l="l" t="t" r="r" b="b"/>
            <a:pathLst>
              <a:path w="1165" h="1402">
                <a:moveTo>
                  <a:pt x="91" y="0"/>
                </a:moveTo>
                <a:cubicBezTo>
                  <a:pt x="22" y="24"/>
                  <a:pt x="41" y="90"/>
                  <a:pt x="3" y="146"/>
                </a:cubicBezTo>
                <a:cubicBezTo>
                  <a:pt x="13" y="233"/>
                  <a:pt x="0" y="240"/>
                  <a:pt x="72" y="264"/>
                </a:cubicBezTo>
                <a:cubicBezTo>
                  <a:pt x="206" y="237"/>
                  <a:pt x="131" y="238"/>
                  <a:pt x="345" y="303"/>
                </a:cubicBezTo>
                <a:cubicBezTo>
                  <a:pt x="395" y="336"/>
                  <a:pt x="377" y="341"/>
                  <a:pt x="404" y="381"/>
                </a:cubicBezTo>
                <a:cubicBezTo>
                  <a:pt x="418" y="402"/>
                  <a:pt x="442" y="416"/>
                  <a:pt x="462" y="430"/>
                </a:cubicBezTo>
                <a:cubicBezTo>
                  <a:pt x="489" y="510"/>
                  <a:pt x="479" y="468"/>
                  <a:pt x="492" y="556"/>
                </a:cubicBezTo>
                <a:cubicBezTo>
                  <a:pt x="499" y="663"/>
                  <a:pt x="508" y="732"/>
                  <a:pt x="540" y="830"/>
                </a:cubicBezTo>
                <a:cubicBezTo>
                  <a:pt x="546" y="849"/>
                  <a:pt x="543" y="877"/>
                  <a:pt x="560" y="888"/>
                </a:cubicBezTo>
                <a:cubicBezTo>
                  <a:pt x="628" y="934"/>
                  <a:pt x="599" y="914"/>
                  <a:pt x="648" y="947"/>
                </a:cubicBezTo>
                <a:cubicBezTo>
                  <a:pt x="679" y="967"/>
                  <a:pt x="671" y="983"/>
                  <a:pt x="706" y="996"/>
                </a:cubicBezTo>
                <a:cubicBezTo>
                  <a:pt x="722" y="1002"/>
                  <a:pt x="739" y="1002"/>
                  <a:pt x="755" y="1006"/>
                </a:cubicBezTo>
                <a:cubicBezTo>
                  <a:pt x="860" y="1034"/>
                  <a:pt x="901" y="1053"/>
                  <a:pt x="1019" y="1064"/>
                </a:cubicBezTo>
                <a:cubicBezTo>
                  <a:pt x="1048" y="1093"/>
                  <a:pt x="1073" y="1100"/>
                  <a:pt x="1107" y="1123"/>
                </a:cubicBezTo>
                <a:cubicBezTo>
                  <a:pt x="1141" y="1173"/>
                  <a:pt x="1147" y="1187"/>
                  <a:pt x="1165" y="1240"/>
                </a:cubicBezTo>
                <a:cubicBezTo>
                  <a:pt x="1152" y="1259"/>
                  <a:pt x="1139" y="1279"/>
                  <a:pt x="1126" y="1298"/>
                </a:cubicBezTo>
                <a:cubicBezTo>
                  <a:pt x="1058" y="1402"/>
                  <a:pt x="1070" y="1366"/>
                  <a:pt x="902" y="1377"/>
                </a:cubicBezTo>
                <a:cubicBezTo>
                  <a:pt x="843" y="1390"/>
                  <a:pt x="876" y="1386"/>
                  <a:pt x="804" y="138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03840" y="2577960"/>
            <a:ext cx="1536480" cy="3529080"/>
          </a:xfrm>
          <a:custGeom>
            <a:avLst/>
            <a:gdLst/>
            <a:ahLst/>
            <a:rect l="l" t="t" r="r" b="b"/>
            <a:pathLst>
              <a:path w="968" h="2223">
                <a:moveTo>
                  <a:pt x="968" y="6"/>
                </a:moveTo>
                <a:cubicBezTo>
                  <a:pt x="945" y="9"/>
                  <a:pt x="921" y="9"/>
                  <a:pt x="899" y="16"/>
                </a:cubicBezTo>
                <a:cubicBezTo>
                  <a:pt x="878" y="22"/>
                  <a:pt x="862" y="39"/>
                  <a:pt x="841" y="45"/>
                </a:cubicBezTo>
                <a:cubicBezTo>
                  <a:pt x="772" y="0"/>
                  <a:pt x="678" y="18"/>
                  <a:pt x="597" y="6"/>
                </a:cubicBezTo>
                <a:cubicBezTo>
                  <a:pt x="568" y="9"/>
                  <a:pt x="537" y="6"/>
                  <a:pt x="509" y="16"/>
                </a:cubicBezTo>
                <a:cubicBezTo>
                  <a:pt x="498" y="20"/>
                  <a:pt x="487" y="34"/>
                  <a:pt x="489" y="45"/>
                </a:cubicBezTo>
                <a:cubicBezTo>
                  <a:pt x="498" y="86"/>
                  <a:pt x="560" y="142"/>
                  <a:pt x="577" y="192"/>
                </a:cubicBezTo>
                <a:cubicBezTo>
                  <a:pt x="532" y="324"/>
                  <a:pt x="579" y="479"/>
                  <a:pt x="655" y="592"/>
                </a:cubicBezTo>
                <a:cubicBezTo>
                  <a:pt x="667" y="609"/>
                  <a:pt x="664" y="634"/>
                  <a:pt x="675" y="651"/>
                </a:cubicBezTo>
                <a:cubicBezTo>
                  <a:pt x="704" y="695"/>
                  <a:pt x="717" y="747"/>
                  <a:pt x="733" y="797"/>
                </a:cubicBezTo>
                <a:cubicBezTo>
                  <a:pt x="724" y="945"/>
                  <a:pt x="724" y="1238"/>
                  <a:pt x="577" y="1334"/>
                </a:cubicBezTo>
                <a:cubicBezTo>
                  <a:pt x="532" y="1403"/>
                  <a:pt x="421" y="1421"/>
                  <a:pt x="343" y="1432"/>
                </a:cubicBezTo>
                <a:cubicBezTo>
                  <a:pt x="291" y="1449"/>
                  <a:pt x="242" y="1461"/>
                  <a:pt x="196" y="1490"/>
                </a:cubicBezTo>
                <a:cubicBezTo>
                  <a:pt x="167" y="1586"/>
                  <a:pt x="184" y="1690"/>
                  <a:pt x="216" y="1783"/>
                </a:cubicBezTo>
                <a:cubicBezTo>
                  <a:pt x="192" y="1852"/>
                  <a:pt x="244" y="1888"/>
                  <a:pt x="265" y="1949"/>
                </a:cubicBezTo>
                <a:cubicBezTo>
                  <a:pt x="235" y="2037"/>
                  <a:pt x="204" y="2124"/>
                  <a:pt x="177" y="2213"/>
                </a:cubicBezTo>
                <a:cubicBezTo>
                  <a:pt x="174" y="2223"/>
                  <a:pt x="187" y="2183"/>
                  <a:pt x="187" y="2183"/>
                </a:cubicBezTo>
                <a:cubicBezTo>
                  <a:pt x="165" y="2078"/>
                  <a:pt x="197" y="2177"/>
                  <a:pt x="148" y="2115"/>
                </a:cubicBezTo>
                <a:cubicBezTo>
                  <a:pt x="142" y="2107"/>
                  <a:pt x="145" y="2093"/>
                  <a:pt x="138" y="2086"/>
                </a:cubicBezTo>
                <a:cubicBezTo>
                  <a:pt x="130" y="2078"/>
                  <a:pt x="64" y="2052"/>
                  <a:pt x="50" y="2047"/>
                </a:cubicBezTo>
                <a:cubicBezTo>
                  <a:pt x="35" y="2003"/>
                  <a:pt x="16" y="2013"/>
                  <a:pt x="1" y="1969"/>
                </a:cubicBezTo>
                <a:cubicBezTo>
                  <a:pt x="4" y="1949"/>
                  <a:pt x="0" y="1926"/>
                  <a:pt x="11" y="1910"/>
                </a:cubicBezTo>
                <a:cubicBezTo>
                  <a:pt x="49" y="1856"/>
                  <a:pt x="61" y="1883"/>
                  <a:pt x="99" y="1861"/>
                </a:cubicBezTo>
                <a:cubicBezTo>
                  <a:pt x="119" y="1850"/>
                  <a:pt x="135" y="1829"/>
                  <a:pt x="157" y="1822"/>
                </a:cubicBezTo>
                <a:cubicBezTo>
                  <a:pt x="167" y="1819"/>
                  <a:pt x="187" y="1812"/>
                  <a:pt x="187" y="1812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76800" y="4525920"/>
            <a:ext cx="557280" cy="1208160"/>
          </a:xfrm>
          <a:custGeom>
            <a:avLst/>
            <a:gdLst/>
            <a:ahLst/>
            <a:rect l="l" t="t" r="r" b="b"/>
            <a:pathLst>
              <a:path w="351" h="761">
                <a:moveTo>
                  <a:pt x="0" y="761"/>
                </a:moveTo>
                <a:cubicBezTo>
                  <a:pt x="93" y="747"/>
                  <a:pt x="182" y="716"/>
                  <a:pt x="273" y="693"/>
                </a:cubicBezTo>
                <a:cubicBezTo>
                  <a:pt x="286" y="673"/>
                  <a:pt x="304" y="656"/>
                  <a:pt x="312" y="634"/>
                </a:cubicBezTo>
                <a:cubicBezTo>
                  <a:pt x="319" y="615"/>
                  <a:pt x="332" y="576"/>
                  <a:pt x="332" y="576"/>
                </a:cubicBezTo>
                <a:cubicBezTo>
                  <a:pt x="329" y="537"/>
                  <a:pt x="338" y="495"/>
                  <a:pt x="322" y="459"/>
                </a:cubicBezTo>
                <a:cubicBezTo>
                  <a:pt x="312" y="437"/>
                  <a:pt x="263" y="420"/>
                  <a:pt x="263" y="420"/>
                </a:cubicBezTo>
                <a:cubicBezTo>
                  <a:pt x="249" y="374"/>
                  <a:pt x="246" y="367"/>
                  <a:pt x="293" y="351"/>
                </a:cubicBezTo>
                <a:cubicBezTo>
                  <a:pt x="325" y="302"/>
                  <a:pt x="332" y="249"/>
                  <a:pt x="351" y="195"/>
                </a:cubicBezTo>
                <a:cubicBezTo>
                  <a:pt x="344" y="151"/>
                  <a:pt x="335" y="110"/>
                  <a:pt x="322" y="68"/>
                </a:cubicBezTo>
                <a:cubicBezTo>
                  <a:pt x="301" y="0"/>
                  <a:pt x="302" y="31"/>
                  <a:pt x="302" y="0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15040" y="4587840"/>
            <a:ext cx="588960" cy="49320"/>
          </a:xfrm>
          <a:custGeom>
            <a:avLst/>
            <a:gdLst/>
            <a:ahLst/>
            <a:rect l="l" t="t" r="r" b="b"/>
            <a:pathLst>
              <a:path w="371" h="31">
                <a:moveTo>
                  <a:pt x="0" y="0"/>
                </a:moveTo>
                <a:cubicBezTo>
                  <a:pt x="16" y="3"/>
                  <a:pt x="33" y="4"/>
                  <a:pt x="49" y="10"/>
                </a:cubicBezTo>
                <a:cubicBezTo>
                  <a:pt x="60" y="14"/>
                  <a:pt x="66" y="28"/>
                  <a:pt x="78" y="29"/>
                </a:cubicBezTo>
                <a:cubicBezTo>
                  <a:pt x="114" y="31"/>
                  <a:pt x="149" y="22"/>
                  <a:pt x="185" y="19"/>
                </a:cubicBezTo>
                <a:cubicBezTo>
                  <a:pt x="229" y="30"/>
                  <a:pt x="250" y="23"/>
                  <a:pt x="293" y="10"/>
                </a:cubicBezTo>
                <a:cubicBezTo>
                  <a:pt x="345" y="22"/>
                  <a:pt x="319" y="19"/>
                  <a:pt x="371" y="19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54720" y="4649760"/>
            <a:ext cx="433440" cy="247680"/>
          </a:xfrm>
          <a:custGeom>
            <a:avLst/>
            <a:gdLst/>
            <a:ahLst/>
            <a:rect l="l" t="t" r="r" b="b"/>
            <a:pathLst>
              <a:path w="273" h="156">
                <a:moveTo>
                  <a:pt x="0" y="0"/>
                </a:moveTo>
                <a:cubicBezTo>
                  <a:pt x="65" y="21"/>
                  <a:pt x="85" y="39"/>
                  <a:pt x="156" y="49"/>
                </a:cubicBezTo>
                <a:cubicBezTo>
                  <a:pt x="164" y="71"/>
                  <a:pt x="157" y="102"/>
                  <a:pt x="175" y="117"/>
                </a:cubicBezTo>
                <a:cubicBezTo>
                  <a:pt x="188" y="128"/>
                  <a:pt x="208" y="124"/>
                  <a:pt x="224" y="127"/>
                </a:cubicBezTo>
                <a:cubicBezTo>
                  <a:pt x="260" y="150"/>
                  <a:pt x="244" y="140"/>
                  <a:pt x="273" y="156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5562720"/>
            <a:ext cx="762120" cy="152280"/>
          </a:xfrm>
          <a:custGeom>
            <a:avLst/>
            <a:gdLst/>
            <a:ahLst/>
            <a:rect l="l" t="t" r="r" b="b"/>
            <a:pathLst>
              <a:path w="373" h="136">
                <a:moveTo>
                  <a:pt x="70" y="39"/>
                </a:moveTo>
                <a:cubicBezTo>
                  <a:pt x="157" y="96"/>
                  <a:pt x="0" y="0"/>
                  <a:pt x="207" y="68"/>
                </a:cubicBezTo>
                <a:cubicBezTo>
                  <a:pt x="217" y="71"/>
                  <a:pt x="209" y="91"/>
                  <a:pt x="217" y="97"/>
                </a:cubicBezTo>
                <a:cubicBezTo>
                  <a:pt x="251" y="122"/>
                  <a:pt x="331" y="136"/>
                  <a:pt x="373" y="136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352680"/>
            <a:ext cx="152640" cy="15264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5053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53341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5909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5146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4038480"/>
            <a:ext cx="152640" cy="15264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46483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3434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1055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55627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867280"/>
            <a:ext cx="152640" cy="15264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59436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5627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25146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419720"/>
            <a:ext cx="5827680" cy="1919160"/>
          </a:xfrm>
          <a:custGeom>
            <a:avLst/>
            <a:gdLst/>
            <a:ahLst/>
            <a:rect l="l" t="t" r="r" b="b"/>
            <a:pathLst>
              <a:path w="3671" h="1209">
                <a:moveTo>
                  <a:pt x="0" y="371"/>
                </a:moveTo>
                <a:cubicBezTo>
                  <a:pt x="26" y="410"/>
                  <a:pt x="40" y="404"/>
                  <a:pt x="78" y="429"/>
                </a:cubicBezTo>
                <a:cubicBezTo>
                  <a:pt x="98" y="488"/>
                  <a:pt x="152" y="501"/>
                  <a:pt x="205" y="517"/>
                </a:cubicBezTo>
                <a:cubicBezTo>
                  <a:pt x="247" y="545"/>
                  <a:pt x="281" y="578"/>
                  <a:pt x="322" y="605"/>
                </a:cubicBezTo>
                <a:cubicBezTo>
                  <a:pt x="332" y="602"/>
                  <a:pt x="345" y="603"/>
                  <a:pt x="351" y="595"/>
                </a:cubicBezTo>
                <a:cubicBezTo>
                  <a:pt x="359" y="584"/>
                  <a:pt x="369" y="521"/>
                  <a:pt x="390" y="508"/>
                </a:cubicBezTo>
                <a:cubicBezTo>
                  <a:pt x="408" y="497"/>
                  <a:pt x="449" y="488"/>
                  <a:pt x="449" y="488"/>
                </a:cubicBezTo>
                <a:cubicBezTo>
                  <a:pt x="516" y="533"/>
                  <a:pt x="485" y="520"/>
                  <a:pt x="537" y="537"/>
                </a:cubicBezTo>
                <a:cubicBezTo>
                  <a:pt x="551" y="582"/>
                  <a:pt x="554" y="589"/>
                  <a:pt x="507" y="605"/>
                </a:cubicBezTo>
                <a:cubicBezTo>
                  <a:pt x="501" y="615"/>
                  <a:pt x="496" y="626"/>
                  <a:pt x="488" y="634"/>
                </a:cubicBezTo>
                <a:cubicBezTo>
                  <a:pt x="480" y="642"/>
                  <a:pt x="462" y="643"/>
                  <a:pt x="459" y="654"/>
                </a:cubicBezTo>
                <a:cubicBezTo>
                  <a:pt x="446" y="705"/>
                  <a:pt x="482" y="738"/>
                  <a:pt x="517" y="761"/>
                </a:cubicBezTo>
                <a:cubicBezTo>
                  <a:pt x="535" y="814"/>
                  <a:pt x="545" y="797"/>
                  <a:pt x="586" y="820"/>
                </a:cubicBezTo>
                <a:cubicBezTo>
                  <a:pt x="606" y="831"/>
                  <a:pt x="625" y="846"/>
                  <a:pt x="644" y="859"/>
                </a:cubicBezTo>
                <a:cubicBezTo>
                  <a:pt x="654" y="865"/>
                  <a:pt x="673" y="878"/>
                  <a:pt x="673" y="878"/>
                </a:cubicBezTo>
                <a:cubicBezTo>
                  <a:pt x="686" y="898"/>
                  <a:pt x="707" y="913"/>
                  <a:pt x="683" y="937"/>
                </a:cubicBezTo>
                <a:cubicBezTo>
                  <a:pt x="667" y="953"/>
                  <a:pt x="625" y="976"/>
                  <a:pt x="625" y="976"/>
                </a:cubicBezTo>
                <a:cubicBezTo>
                  <a:pt x="610" y="1018"/>
                  <a:pt x="621" y="1035"/>
                  <a:pt x="664" y="1054"/>
                </a:cubicBezTo>
                <a:cubicBezTo>
                  <a:pt x="683" y="1062"/>
                  <a:pt x="722" y="1074"/>
                  <a:pt x="722" y="1074"/>
                </a:cubicBezTo>
                <a:cubicBezTo>
                  <a:pt x="748" y="1069"/>
                  <a:pt x="773" y="1054"/>
                  <a:pt x="800" y="1054"/>
                </a:cubicBezTo>
                <a:cubicBezTo>
                  <a:pt x="824" y="1054"/>
                  <a:pt x="846" y="1069"/>
                  <a:pt x="869" y="1074"/>
                </a:cubicBezTo>
                <a:cubicBezTo>
                  <a:pt x="937" y="1088"/>
                  <a:pt x="955" y="1086"/>
                  <a:pt x="1035" y="1093"/>
                </a:cubicBezTo>
                <a:cubicBezTo>
                  <a:pt x="1045" y="1096"/>
                  <a:pt x="1054" y="1101"/>
                  <a:pt x="1064" y="1103"/>
                </a:cubicBezTo>
                <a:cubicBezTo>
                  <a:pt x="1083" y="1107"/>
                  <a:pt x="1103" y="1107"/>
                  <a:pt x="1122" y="1113"/>
                </a:cubicBezTo>
                <a:cubicBezTo>
                  <a:pt x="1133" y="1117"/>
                  <a:pt x="1141" y="1127"/>
                  <a:pt x="1152" y="1132"/>
                </a:cubicBezTo>
                <a:cubicBezTo>
                  <a:pt x="1190" y="1151"/>
                  <a:pt x="1238" y="1159"/>
                  <a:pt x="1279" y="1171"/>
                </a:cubicBezTo>
                <a:cubicBezTo>
                  <a:pt x="1346" y="1150"/>
                  <a:pt x="1347" y="1153"/>
                  <a:pt x="1435" y="1162"/>
                </a:cubicBezTo>
                <a:cubicBezTo>
                  <a:pt x="1511" y="1186"/>
                  <a:pt x="1400" y="1155"/>
                  <a:pt x="1552" y="1162"/>
                </a:cubicBezTo>
                <a:cubicBezTo>
                  <a:pt x="1628" y="1165"/>
                  <a:pt x="1702" y="1182"/>
                  <a:pt x="1777" y="1191"/>
                </a:cubicBezTo>
                <a:cubicBezTo>
                  <a:pt x="1828" y="1209"/>
                  <a:pt x="1881" y="1190"/>
                  <a:pt x="1933" y="1181"/>
                </a:cubicBezTo>
                <a:cubicBezTo>
                  <a:pt x="1943" y="1175"/>
                  <a:pt x="1951" y="1167"/>
                  <a:pt x="1962" y="1162"/>
                </a:cubicBezTo>
                <a:cubicBezTo>
                  <a:pt x="1981" y="1154"/>
                  <a:pt x="2021" y="1142"/>
                  <a:pt x="2021" y="1142"/>
                </a:cubicBezTo>
                <a:cubicBezTo>
                  <a:pt x="2046" y="1104"/>
                  <a:pt x="2041" y="1090"/>
                  <a:pt x="2079" y="1064"/>
                </a:cubicBezTo>
                <a:cubicBezTo>
                  <a:pt x="2086" y="1044"/>
                  <a:pt x="2082" y="1016"/>
                  <a:pt x="2099" y="1005"/>
                </a:cubicBezTo>
                <a:cubicBezTo>
                  <a:pt x="2176" y="954"/>
                  <a:pt x="2274" y="946"/>
                  <a:pt x="2362" y="927"/>
                </a:cubicBezTo>
                <a:cubicBezTo>
                  <a:pt x="2445" y="909"/>
                  <a:pt x="2488" y="888"/>
                  <a:pt x="2577" y="878"/>
                </a:cubicBezTo>
                <a:cubicBezTo>
                  <a:pt x="2590" y="875"/>
                  <a:pt x="2603" y="869"/>
                  <a:pt x="2616" y="869"/>
                </a:cubicBezTo>
                <a:cubicBezTo>
                  <a:pt x="2626" y="869"/>
                  <a:pt x="2636" y="882"/>
                  <a:pt x="2645" y="878"/>
                </a:cubicBezTo>
                <a:cubicBezTo>
                  <a:pt x="2656" y="874"/>
                  <a:pt x="2656" y="857"/>
                  <a:pt x="2665" y="849"/>
                </a:cubicBezTo>
                <a:cubicBezTo>
                  <a:pt x="2724" y="798"/>
                  <a:pt x="2786" y="776"/>
                  <a:pt x="2860" y="761"/>
                </a:cubicBezTo>
                <a:cubicBezTo>
                  <a:pt x="2870" y="755"/>
                  <a:pt x="2883" y="751"/>
                  <a:pt x="2890" y="742"/>
                </a:cubicBezTo>
                <a:cubicBezTo>
                  <a:pt x="2896" y="735"/>
                  <a:pt x="2925" y="666"/>
                  <a:pt x="2929" y="654"/>
                </a:cubicBezTo>
                <a:cubicBezTo>
                  <a:pt x="2935" y="634"/>
                  <a:pt x="2948" y="595"/>
                  <a:pt x="2948" y="595"/>
                </a:cubicBezTo>
                <a:cubicBezTo>
                  <a:pt x="2933" y="522"/>
                  <a:pt x="2924" y="462"/>
                  <a:pt x="2948" y="390"/>
                </a:cubicBezTo>
                <a:cubicBezTo>
                  <a:pt x="2922" y="314"/>
                  <a:pt x="2943" y="102"/>
                  <a:pt x="3016" y="29"/>
                </a:cubicBezTo>
                <a:cubicBezTo>
                  <a:pt x="3055" y="39"/>
                  <a:pt x="3079" y="52"/>
                  <a:pt x="3114" y="68"/>
                </a:cubicBezTo>
                <a:cubicBezTo>
                  <a:pt x="3133" y="76"/>
                  <a:pt x="3153" y="82"/>
                  <a:pt x="3173" y="88"/>
                </a:cubicBezTo>
                <a:cubicBezTo>
                  <a:pt x="3183" y="91"/>
                  <a:pt x="3202" y="97"/>
                  <a:pt x="3202" y="97"/>
                </a:cubicBezTo>
                <a:cubicBezTo>
                  <a:pt x="3247" y="128"/>
                  <a:pt x="3222" y="114"/>
                  <a:pt x="3290" y="137"/>
                </a:cubicBezTo>
                <a:cubicBezTo>
                  <a:pt x="3300" y="140"/>
                  <a:pt x="3319" y="146"/>
                  <a:pt x="3319" y="146"/>
                </a:cubicBezTo>
                <a:cubicBezTo>
                  <a:pt x="3329" y="140"/>
                  <a:pt x="3344" y="138"/>
                  <a:pt x="3348" y="127"/>
                </a:cubicBezTo>
                <a:cubicBezTo>
                  <a:pt x="3368" y="77"/>
                  <a:pt x="3298" y="110"/>
                  <a:pt x="3368" y="88"/>
                </a:cubicBezTo>
                <a:cubicBezTo>
                  <a:pt x="3396" y="97"/>
                  <a:pt x="3403" y="107"/>
                  <a:pt x="3426" y="78"/>
                </a:cubicBezTo>
                <a:cubicBezTo>
                  <a:pt x="3432" y="70"/>
                  <a:pt x="3429" y="56"/>
                  <a:pt x="3436" y="49"/>
                </a:cubicBezTo>
                <a:cubicBezTo>
                  <a:pt x="3444" y="42"/>
                  <a:pt x="3456" y="42"/>
                  <a:pt x="3466" y="39"/>
                </a:cubicBezTo>
                <a:cubicBezTo>
                  <a:pt x="3498" y="17"/>
                  <a:pt x="3527" y="12"/>
                  <a:pt x="3563" y="0"/>
                </a:cubicBezTo>
                <a:cubicBezTo>
                  <a:pt x="3600" y="13"/>
                  <a:pt x="3636" y="31"/>
                  <a:pt x="3671" y="49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429000"/>
            <a:ext cx="5257800" cy="2209680"/>
          </a:xfrm>
          <a:custGeom>
            <a:avLst/>
            <a:gdLst/>
            <a:ahLst/>
            <a:rect l="l" t="t" r="r" b="b"/>
            <a:pathLst>
              <a:path w="3352" h="1425">
                <a:moveTo>
                  <a:pt x="0" y="0"/>
                </a:moveTo>
                <a:cubicBezTo>
                  <a:pt x="31" y="44"/>
                  <a:pt x="41" y="95"/>
                  <a:pt x="59" y="146"/>
                </a:cubicBezTo>
                <a:cubicBezTo>
                  <a:pt x="62" y="156"/>
                  <a:pt x="78" y="154"/>
                  <a:pt x="88" y="156"/>
                </a:cubicBezTo>
                <a:cubicBezTo>
                  <a:pt x="114" y="161"/>
                  <a:pt x="140" y="163"/>
                  <a:pt x="166" y="166"/>
                </a:cubicBezTo>
                <a:cubicBezTo>
                  <a:pt x="232" y="187"/>
                  <a:pt x="294" y="205"/>
                  <a:pt x="362" y="215"/>
                </a:cubicBezTo>
                <a:cubicBezTo>
                  <a:pt x="418" y="253"/>
                  <a:pt x="454" y="264"/>
                  <a:pt x="518" y="283"/>
                </a:cubicBezTo>
                <a:cubicBezTo>
                  <a:pt x="592" y="305"/>
                  <a:pt x="656" y="329"/>
                  <a:pt x="733" y="341"/>
                </a:cubicBezTo>
                <a:cubicBezTo>
                  <a:pt x="825" y="373"/>
                  <a:pt x="771" y="363"/>
                  <a:pt x="899" y="351"/>
                </a:cubicBezTo>
                <a:cubicBezTo>
                  <a:pt x="918" y="338"/>
                  <a:pt x="949" y="334"/>
                  <a:pt x="957" y="312"/>
                </a:cubicBezTo>
                <a:cubicBezTo>
                  <a:pt x="971" y="272"/>
                  <a:pt x="959" y="289"/>
                  <a:pt x="996" y="263"/>
                </a:cubicBezTo>
                <a:cubicBezTo>
                  <a:pt x="1003" y="253"/>
                  <a:pt x="1006" y="240"/>
                  <a:pt x="1016" y="234"/>
                </a:cubicBezTo>
                <a:cubicBezTo>
                  <a:pt x="1033" y="223"/>
                  <a:pt x="1074" y="215"/>
                  <a:pt x="1074" y="215"/>
                </a:cubicBezTo>
                <a:cubicBezTo>
                  <a:pt x="1160" y="158"/>
                  <a:pt x="1110" y="174"/>
                  <a:pt x="1231" y="185"/>
                </a:cubicBezTo>
                <a:cubicBezTo>
                  <a:pt x="1320" y="216"/>
                  <a:pt x="1271" y="198"/>
                  <a:pt x="1357" y="185"/>
                </a:cubicBezTo>
                <a:cubicBezTo>
                  <a:pt x="1389" y="180"/>
                  <a:pt x="1422" y="179"/>
                  <a:pt x="1455" y="176"/>
                </a:cubicBezTo>
                <a:cubicBezTo>
                  <a:pt x="1551" y="143"/>
                  <a:pt x="1493" y="158"/>
                  <a:pt x="1631" y="146"/>
                </a:cubicBezTo>
                <a:cubicBezTo>
                  <a:pt x="1667" y="149"/>
                  <a:pt x="1704" y="145"/>
                  <a:pt x="1738" y="156"/>
                </a:cubicBezTo>
                <a:cubicBezTo>
                  <a:pt x="1749" y="159"/>
                  <a:pt x="1750" y="176"/>
                  <a:pt x="1758" y="185"/>
                </a:cubicBezTo>
                <a:cubicBezTo>
                  <a:pt x="1776" y="206"/>
                  <a:pt x="1793" y="229"/>
                  <a:pt x="1816" y="244"/>
                </a:cubicBezTo>
                <a:cubicBezTo>
                  <a:pt x="1854" y="268"/>
                  <a:pt x="1880" y="274"/>
                  <a:pt x="1924" y="283"/>
                </a:cubicBezTo>
                <a:cubicBezTo>
                  <a:pt x="1927" y="319"/>
                  <a:pt x="1926" y="355"/>
                  <a:pt x="1933" y="390"/>
                </a:cubicBezTo>
                <a:cubicBezTo>
                  <a:pt x="1935" y="402"/>
                  <a:pt x="1952" y="408"/>
                  <a:pt x="1953" y="420"/>
                </a:cubicBezTo>
                <a:cubicBezTo>
                  <a:pt x="1959" y="556"/>
                  <a:pt x="1953" y="579"/>
                  <a:pt x="1924" y="673"/>
                </a:cubicBezTo>
                <a:cubicBezTo>
                  <a:pt x="1948" y="710"/>
                  <a:pt x="1951" y="754"/>
                  <a:pt x="1972" y="791"/>
                </a:cubicBezTo>
                <a:cubicBezTo>
                  <a:pt x="2033" y="900"/>
                  <a:pt x="1988" y="809"/>
                  <a:pt x="2041" y="878"/>
                </a:cubicBezTo>
                <a:cubicBezTo>
                  <a:pt x="2055" y="897"/>
                  <a:pt x="2072" y="915"/>
                  <a:pt x="2080" y="937"/>
                </a:cubicBezTo>
                <a:cubicBezTo>
                  <a:pt x="2083" y="947"/>
                  <a:pt x="2085" y="957"/>
                  <a:pt x="2090" y="966"/>
                </a:cubicBezTo>
                <a:cubicBezTo>
                  <a:pt x="2101" y="987"/>
                  <a:pt x="2129" y="1025"/>
                  <a:pt x="2129" y="1025"/>
                </a:cubicBezTo>
                <a:cubicBezTo>
                  <a:pt x="2138" y="1090"/>
                  <a:pt x="2135" y="1138"/>
                  <a:pt x="2119" y="1201"/>
                </a:cubicBezTo>
                <a:cubicBezTo>
                  <a:pt x="2122" y="1217"/>
                  <a:pt x="2121" y="1235"/>
                  <a:pt x="2129" y="1249"/>
                </a:cubicBezTo>
                <a:cubicBezTo>
                  <a:pt x="2145" y="1278"/>
                  <a:pt x="2265" y="1302"/>
                  <a:pt x="2295" y="1308"/>
                </a:cubicBezTo>
                <a:cubicBezTo>
                  <a:pt x="2403" y="1271"/>
                  <a:pt x="2318" y="1291"/>
                  <a:pt x="2490" y="1298"/>
                </a:cubicBezTo>
                <a:cubicBezTo>
                  <a:pt x="2620" y="1303"/>
                  <a:pt x="2750" y="1305"/>
                  <a:pt x="2880" y="1308"/>
                </a:cubicBezTo>
                <a:cubicBezTo>
                  <a:pt x="2986" y="1330"/>
                  <a:pt x="3085" y="1356"/>
                  <a:pt x="3193" y="1367"/>
                </a:cubicBezTo>
                <a:cubicBezTo>
                  <a:pt x="3237" y="1377"/>
                  <a:pt x="3278" y="1392"/>
                  <a:pt x="3320" y="1406"/>
                </a:cubicBezTo>
                <a:cubicBezTo>
                  <a:pt x="3352" y="1416"/>
                  <a:pt x="3349" y="1405"/>
                  <a:pt x="3349" y="142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7680" y="5715000"/>
            <a:ext cx="71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ff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8120" y="33526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R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3120" y="5257800"/>
            <a:ext cx="11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STAN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4320" y="22860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A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840" y="5105520"/>
            <a:ext cx="11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BUCHA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4480" y="594360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GIURGI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9560" y="579132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ALAF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0920" y="13492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UKRA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51360" y="2644920"/>
            <a:ext cx="108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MOLDO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REP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22440" y="40384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UKRA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5480" y="195912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HUNG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5400" y="54100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ER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32800" y="622620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BULG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411480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3341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7339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8862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53352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Arial"/>
              </a:rPr>
              <a:t>PAN-EUROPEAN TRANSPORT CORRIDORS IN ROM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8520" y="480060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LOIES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2000" y="541008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RAIO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920" y="3809880"/>
            <a:ext cx="10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MISO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5:58:41Z</dcterms:created>
  <dc:creator>Marin STANCU</dc:creator>
  <dc:description/>
  <dc:language>en-US</dc:language>
  <cp:lastModifiedBy>Otradnova</cp:lastModifiedBy>
  <dcterms:modified xsi:type="dcterms:W3CDTF">2004-09-20T14:50:42Z</dcterms:modified>
  <cp:revision>158</cp:revision>
  <dc:subject/>
  <dc:title>PowerPoint Presentation</dc:title>
</cp:coreProperties>
</file>