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902825" cy="6858000"/>
  <p:notesSz cx="9856788" cy="12736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796600" y="6500880"/>
            <a:ext cx="64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7D9D-A4B4-4B53-9E93-438B387D7B14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7920"/>
            <a:ext cx="1590840" cy="684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654200" y="1762200"/>
            <a:ext cx="76928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ff3ff"/>
                </a:solidFill>
                <a:latin typeface="Arial"/>
              </a:rPr>
              <a:t>L’ Association mondiale</a:t>
            </a:r>
            <a:br>
              <a:rPr sz="4400"/>
            </a:br>
            <a:r>
              <a:rPr b="0" lang="fr-FR" sz="4400" spc="-1" strike="noStrike">
                <a:solidFill>
                  <a:srgbClr val="dff3ff"/>
                </a:solidFill>
                <a:latin typeface="Arial"/>
              </a:rPr>
              <a:t> de la Route </a:t>
            </a:r>
            <a:br>
              <a:rPr sz="4400"/>
            </a:br>
            <a:r>
              <a:rPr b="0" lang="fr-FR" sz="4400" spc="-1" strike="noStrike">
                <a:solidFill>
                  <a:srgbClr val="dff3ff"/>
                </a:solidFill>
                <a:latin typeface="Arial"/>
              </a:rPr>
              <a:t>(AIPCR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7360" y="353880"/>
            <a:ext cx="3657600" cy="7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1336680"/>
            <a:ext cx="488160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"/>
              </a:rPr>
              <a:t>CONSEIL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présentation de tous les pays membres</a:t>
            </a:r>
            <a:r>
              <a:rPr b="0" lang="en-US" sz="3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"/>
              </a:rPr>
              <a:t>COMITE EXECUTIF 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élu par le Conseil tous les quatre a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"/>
              </a:rPr>
              <a:t>SECRETARIAT GENERAL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"/>
              </a:rPr>
              <a:t>COMITES NATIONAUX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5600" y="11811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7360" y="353880"/>
            <a:ext cx="5245200" cy="7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ités nationaux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1336680"/>
            <a:ext cx="670716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82520" indent="-182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des Comités nationaux de l’AIPCR assurant une animation locale et un relais pour la diffusion des informations existent dans 30 pays membr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Arial"/>
              </a:rPr>
              <a:t>Algérie, Allemagne, Argentine, Australie, Autriche, Belgique, Burkina-Faso, Canada, Canada-Québec, Danemark, Espagne, Finlande, France, Grèce, Hongrie, Inde, Italie, Japon, Maroc, Pays-Bas, Norvège, Portugal, Roumanie, Royaume-Uni, Slovaquie, Slovénie, Suède, Suisse, Rep. Tchè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5600" y="11811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420640" y="1587600"/>
            <a:ext cx="6202440" cy="48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Gérer des comités techniques, réaliser des proje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Publier des documents, développer des logiciel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Coopérer avec les organismes internationaux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Organiser les Congrès de la viabilité hivernal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Organiser les Congrès mondiaux de la rou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577960" y="369720"/>
            <a:ext cx="8817120" cy="7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Activités de l ’AIPC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95600" y="11811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7080"/>
            <a:ext cx="9902880" cy="6859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01520" y="2013120"/>
            <a:ext cx="8817120" cy="709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dff3ff"/>
                </a:solidFill>
                <a:latin typeface="Arial"/>
              </a:rPr>
              <a:t>Un large éventail de public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653920" y="1647360"/>
            <a:ext cx="6505560" cy="482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Pour chaque cycle, entre deux congrès mondiaux de la route, l’AIPCR adopte un plan stratégique qui oriente ses activités pour quatre années.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Pour la période 2004-2007, </a:t>
            </a:r>
            <a:br>
              <a:rPr sz="3000"/>
            </a:b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4 thèmes stratégiques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ont été définis au sein desquels travaillent 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18 Comités techniques</a:t>
            </a:r>
            <a:br>
              <a:rPr sz="3000"/>
            </a:b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+ Comité Terminologie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9240" y="304560"/>
            <a:ext cx="7624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ecff"/>
                </a:solidFill>
                <a:latin typeface="Arial"/>
              </a:rPr>
              <a:t>Un Plan Stratégique </a:t>
            </a: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95600" y="11811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25120" y="2033280"/>
            <a:ext cx="8177400" cy="413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Arial"/>
              </a:rPr>
              <a:t>TS 1: Gouvernance et gestion des</a:t>
            </a:r>
            <a:br>
              <a:rPr sz="3600"/>
            </a:br>
            <a:r>
              <a:rPr b="0" lang="fr-FR" sz="3600" spc="-1" strike="noStrike">
                <a:solidFill>
                  <a:srgbClr val="ffffcc"/>
                </a:solidFill>
                <a:latin typeface="Arial"/>
              </a:rPr>
              <a:t>       réseaux routi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Arial"/>
              </a:rPr>
              <a:t>TS 2 : Mobilité durabl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Arial"/>
              </a:rPr>
              <a:t>TS 3 : Sécurité routière et exploitation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Arial"/>
              </a:rPr>
              <a:t>TS 4 : Qualité des infrastructures</a:t>
            </a:r>
            <a:br>
              <a:rPr sz="3600"/>
            </a:br>
            <a:r>
              <a:rPr b="0" lang="fr-FR" sz="3600" spc="-1" strike="noStrike">
                <a:solidFill>
                  <a:srgbClr val="ffffcc"/>
                </a:solidFill>
                <a:latin typeface="Arial"/>
              </a:rPr>
              <a:t>         routièr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289240" y="304560"/>
            <a:ext cx="7624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ecff"/>
                </a:solidFill>
                <a:latin typeface="Arial"/>
              </a:rPr>
              <a:t>Thèmes stratégiques</a:t>
            </a: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ccecff"/>
                </a:solidFill>
                <a:latin typeface="Arial"/>
              </a:rPr>
              <a:t>2004 - 2007</a:t>
            </a: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5600" y="11811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7920"/>
          <a:ext cx="1590840" cy="684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"/>
                    <a:ext cx="1590840" cy="68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014200" y="1951200"/>
            <a:ext cx="7481880" cy="414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238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1.1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Aspects économiques des réseaux routi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238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1.2 Financement des investissements dans les réseaux routi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238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1.3 Performance des Administrations routièr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238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1.4 Gestion de l’exploitation des réseaux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617920" y="266760"/>
            <a:ext cx="695952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ecff"/>
                </a:solidFill>
                <a:latin typeface="Arial"/>
              </a:rPr>
              <a:t>TS1 : Gouvernance et gestion des réseaux routi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95600" y="14097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7920"/>
          <a:ext cx="1590840" cy="684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"/>
                    <a:ext cx="1590840" cy="68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956960" y="1950840"/>
            <a:ext cx="7945560" cy="34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1101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2.1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Développement durable et Transport routi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101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2.2 Routes interurbaines et transport interurbain intégré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101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2.3 Ville et transport urbain intégré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101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2.4 Transport de marchandises et intermodalité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101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2.5  Routes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rurales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 et accessibilité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484360" y="288720"/>
            <a:ext cx="59738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ecff"/>
                </a:solidFill>
                <a:latin typeface="Arial"/>
              </a:rPr>
              <a:t>TS2 : Mobilité durabl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95600" y="146988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7920"/>
          <a:ext cx="1590840" cy="684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"/>
                    <a:ext cx="1590840" cy="68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999800" y="1950840"/>
            <a:ext cx="7371000" cy="34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23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3.1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Sécurité routière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23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3.2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Gestion des risques liés aux routes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23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3.3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Exploitation des tunnels routi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23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3.4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Viabilité hiverna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484000" y="288720"/>
            <a:ext cx="685980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ecff"/>
                </a:solidFill>
                <a:latin typeface="Arial"/>
              </a:rPr>
              <a:t>TS3 : Sécurité routière et exploit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5600" y="146988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7920"/>
          <a:ext cx="1590840" cy="684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"/>
                    <a:ext cx="1590840" cy="68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057400" y="1950840"/>
            <a:ext cx="7572240" cy="429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23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4.1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Gestion du Patrimoine routi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23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4.2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Interaction Route/Véhicule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23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4.3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Chaussées routièr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23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4.4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Ponts routiers et ouvrages associé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23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4.5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Terrassements, drainage et couche de forme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484000" y="288720"/>
            <a:ext cx="691668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ecff"/>
                </a:solidFill>
                <a:latin typeface="Arial"/>
              </a:rPr>
              <a:t>TS4 : Qualité des infrastructures routièr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5600" y="146988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7920"/>
          <a:ext cx="1590840" cy="684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"/>
                    <a:ext cx="1590840" cy="68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727360" y="2406600"/>
          <a:ext cx="587376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7360" y="2406600"/>
                    <a:ext cx="58737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31520" y="378000"/>
            <a:ext cx="8226360" cy="20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Une association à but non lucratif, fondée en 1909, pour promouvoir la coopération internationale dans le domaine de la route et du transport routi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95600" y="113040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50960" y="304920"/>
            <a:ext cx="73580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ffff"/>
                </a:solidFill>
                <a:latin typeface="Arial"/>
              </a:rPr>
              <a:t>Projets en cou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03360" y="1297080"/>
            <a:ext cx="749952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952560" indent="-9525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Réseau Mondial d’E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éminaires dans des pays en développement et en tran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entres de Transfert de Technologie dans les pays en développ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HDM-4 (logiciel pour la gestion des investissements et projets routi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erminologie</a:t>
            </a: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00200" y="228600"/>
            <a:ext cx="83170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ecff"/>
                </a:solidFill>
                <a:latin typeface="Arial"/>
              </a:rPr>
              <a:t>Congrès AIPCR de la viabilité hivernale</a:t>
            </a:r>
            <a:r>
              <a:rPr b="0" lang="fr-FR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43120" y="1181160"/>
            <a:ext cx="77817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200" y="1336680"/>
            <a:ext cx="9902880" cy="51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Tampere 198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Troms</a:t>
            </a:r>
            <a:r>
              <a:rPr b="0" lang="en-GB" sz="2800" spc="-1" strike="noStrike">
                <a:solidFill>
                  <a:srgbClr val="3399ff"/>
                </a:solidFill>
                <a:latin typeface="Arial"/>
              </a:rPr>
              <a:t>Ø </a:t>
            </a: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ctr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GB" sz="3800" spc="-1" strike="noStrike">
                <a:solidFill>
                  <a:srgbClr val="3399ff"/>
                </a:solidFill>
                <a:latin typeface="Arial"/>
              </a:rPr>
              <a:t>Seefeld 1994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99ff"/>
                </a:solidFill>
                <a:latin typeface="Arial"/>
              </a:rPr>
              <a:t>               </a:t>
            </a:r>
            <a:r>
              <a:rPr b="0" lang="en-GB" sz="4000" spc="-1" strike="noStrike">
                <a:solidFill>
                  <a:srgbClr val="3399ff"/>
                </a:solidFill>
                <a:latin typeface="Arial"/>
              </a:rPr>
              <a:t>Luleå 199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279f"/>
                </a:solidFill>
                <a:latin typeface="Arial"/>
              </a:rPr>
              <a:t>    </a:t>
            </a:r>
            <a:r>
              <a:rPr b="0" lang="en-GB" sz="4800" spc="-1" strike="noStrike">
                <a:solidFill>
                  <a:srgbClr val="0066ff"/>
                </a:solidFill>
                <a:latin typeface="Arial"/>
              </a:rPr>
              <a:t>Sapporo 200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Turin-Sestriere 200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30440" y="1139760"/>
            <a:ext cx="827244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Brussels 1987</a:t>
            </a:r>
            <a:br>
              <a:rPr sz="3200"/>
            </a:b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Marrakech 1991</a:t>
            </a:r>
            <a:br>
              <a:rPr sz="3600"/>
            </a:b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3800" spc="-1" strike="noStrike">
                <a:solidFill>
                  <a:srgbClr val="3399ff"/>
                </a:solidFill>
                <a:latin typeface="Arial"/>
              </a:rPr>
              <a:t>Montreal 1995</a:t>
            </a:r>
            <a:br>
              <a:rPr sz="4000"/>
            </a:b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3399ff"/>
                </a:solidFill>
                <a:latin typeface="Arial"/>
              </a:rPr>
              <a:t>Kuala Lumpur 199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99"/>
                </a:solidFill>
                <a:latin typeface="Arial"/>
              </a:rPr>
              <a:t>Paris 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36800" y="361800"/>
            <a:ext cx="6924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Arial"/>
              </a:rPr>
              <a:t>Congrès mondiaux de la rou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5560" y="4471920"/>
            <a:ext cx="780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Durban 19-25 October 200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43120" y="1181160"/>
            <a:ext cx="77817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360" y="181080"/>
            <a:ext cx="1015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ccffff"/>
                </a:solidFill>
                <a:latin typeface="Arial"/>
              </a:rPr>
              <a:t>Visitez le site de l’AIPCR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3800" spc="-1" strike="noStrike">
                <a:solidFill>
                  <a:srgbClr val="ffffcc"/>
                </a:solidFill>
                <a:latin typeface="Arial"/>
              </a:rPr>
              <a:t>http://www.piarc.org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89160" y="1028880"/>
            <a:ext cx="7121520" cy="5341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30520" y="3000240"/>
            <a:ext cx="788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Arial"/>
              </a:rPr>
              <a:t>e-mail: piarc@wanadoo.f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54120" y="287280"/>
            <a:ext cx="668196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Arial"/>
              </a:rPr>
              <a:t>Restez en contact avec nous…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cffff"/>
                </a:solidFill>
                <a:latin typeface="Arial"/>
              </a:rPr>
              <a:t>Devenez membre de l ’AIPCR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5600" y="112248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4320" y="4940280"/>
            <a:ext cx="7659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Grande Arche - Paroi Nord - Niveau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92055 La Défense Cedex- F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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+33 (0) 1 47 96 81 21  Fax : +33 (0) 1 49 00 02 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65000" y="266400"/>
            <a:ext cx="64962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Les membres </a:t>
            </a: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77960" y="1484280"/>
            <a:ext cx="6364440" cy="44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Gouvernements nationau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Autorités rég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Membres collecti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Membres personn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dans 130 pays envi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5600" y="11811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9360"/>
            <a:ext cx="9144000" cy="6654600"/>
            <a:chOff x="0" y="9360"/>
            <a:chExt cx="9144000" cy="6654600"/>
          </a:xfrm>
        </p:grpSpPr>
        <p:sp>
          <p:nvSpPr>
            <p:cNvPr id="48" name=""/>
            <p:cNvSpPr/>
            <p:nvPr/>
          </p:nvSpPr>
          <p:spPr>
            <a:xfrm>
              <a:off x="7561440" y="955800"/>
              <a:ext cx="12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190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4360" y="620640"/>
              <a:ext cx="7704000" cy="5113440"/>
            </a:xfrm>
            <a:custGeom>
              <a:avLst/>
              <a:gdLst>
                <a:gd name="textAreaLeft" fmla="*/ 1032120 w 7704000"/>
                <a:gd name="textAreaRight" fmla="*/ 6671880 w 7704000"/>
                <a:gd name="textAreaTop" fmla="*/ 973440 h 5113440"/>
                <a:gd name="textAreaBottom" fmla="*/ 3313080 h 51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226" stAng="-5400000" swAng="-5400000"/>
                  <a:lnTo>
                    <a:pt x="0" y="9882"/>
                  </a:lnTo>
                  <a:arcTo wR="21600" hR="8226" stAng="10800000" swAng="-2827642"/>
                  <a:lnTo>
                    <a:pt x="14400" y="21130"/>
                  </a:lnTo>
                  <a:lnTo>
                    <a:pt x="21600" y="17280"/>
                  </a:lnTo>
                  <a:lnTo>
                    <a:pt x="14400" y="12490"/>
                  </a:lnTo>
                  <a:lnTo>
                    <a:pt x="14400" y="15982"/>
                  </a:lnTo>
                  <a:arcTo wR="21600" hR="8226" stAng="7972358" swAng="2695254"/>
                  <a:lnTo>
                    <a:pt x="110" y="9054"/>
                  </a:lnTo>
                  <a:arcTo wR="21600" hR="8226" stAng="-10667612" swAng="5267612"/>
                  <a:close/>
                </a:path>
                <a:path fill="darkenLess" w="21600" h="21600">
                  <a:moveTo>
                    <a:pt x="21600" y="0"/>
                  </a:moveTo>
                  <a:arcTo wR="21600" hR="8226" stAng="-5400000" swAng="-5400000"/>
                  <a:lnTo>
                    <a:pt x="0" y="8226"/>
                  </a:lnTo>
                  <a:arcTo wR="21600" hR="8226" stAng="10800000" swAng="-132388"/>
                  <a:lnTo>
                    <a:pt x="110" y="9054"/>
                  </a:lnTo>
                  <a:arcTo wR="21600" hR="8226" stAng="-10667612" swAng="5267612"/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24360" y="189000"/>
              <a:ext cx="29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66ccff"/>
                  </a:solidFill>
                  <a:latin typeface="Comic Sans MS"/>
                </a:rPr>
                <a:t>15 </a:t>
              </a:r>
              <a:r>
                <a:rPr b="1" i="1" lang="fr-FR" sz="2400" spc="-1" strike="noStrike">
                  <a:solidFill>
                    <a:srgbClr val="66ccff"/>
                  </a:solidFill>
                  <a:latin typeface="Comic Sans MS"/>
                </a:rPr>
                <a:t>pay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4000" y="1844640"/>
              <a:ext cx="1439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600" spc="-1" strike="noStrike">
                  <a:solidFill>
                    <a:srgbClr val="ffffff"/>
                  </a:solidFill>
                  <a:latin typeface="Comic Sans MS"/>
                </a:rPr>
                <a:t>1999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78560" y="3429000"/>
              <a:ext cx="14396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400" spc="-1" strike="noStrike">
                  <a:solidFill>
                    <a:srgbClr val="ffffff"/>
                  </a:solidFill>
                  <a:latin typeface="Comic Sans MS"/>
                </a:rPr>
                <a:t>2003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80000" y="4113360"/>
              <a:ext cx="169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Islande</a:t>
              </a:r>
              <a:br>
                <a:rPr sz="2400"/>
              </a:b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Togo</a:t>
              </a:r>
              <a:br>
                <a:rPr sz="2400"/>
              </a:b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Viet-N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96000" y="6021360"/>
              <a:ext cx="3240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000099"/>
                  </a:solidFill>
                  <a:latin typeface="Comic Sans MS"/>
                </a:rPr>
                <a:t>108 </a:t>
              </a:r>
              <a:r>
                <a:rPr b="1" i="1" lang="fr-FR" sz="2800" spc="-1" strike="noStrike">
                  <a:solidFill>
                    <a:srgbClr val="000099"/>
                  </a:solidFill>
                  <a:latin typeface="Comic Sans MS"/>
                </a:rPr>
                <a:t>pay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35280" y="3933720"/>
              <a:ext cx="309744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Bhutan</a:t>
              </a:r>
              <a:br>
                <a:rPr sz="2400"/>
              </a:b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Cambodge</a:t>
              </a:r>
              <a:br>
                <a:rPr sz="2400"/>
              </a:b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Ghana</a:t>
              </a:r>
              <a:br>
                <a:rPr sz="2400"/>
              </a:b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Nepal </a:t>
              </a:r>
              <a:br>
                <a:rPr sz="2400"/>
              </a:b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Papouasie Nouvelle Guinée </a:t>
              </a:r>
              <a:br>
                <a:rPr sz="2400"/>
              </a:b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Swazilan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35280" y="335772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omic Sans MS"/>
                </a:rPr>
                <a:t>200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24000" y="4122720"/>
              <a:ext cx="136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Namibi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5280" y="3429000"/>
              <a:ext cx="208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Cap Vert</a:t>
              </a:r>
              <a:br>
                <a:rPr sz="2400"/>
              </a:b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Gabon</a:t>
              </a:r>
              <a:br>
                <a:rPr sz="2400"/>
              </a:b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Mali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24000" y="3213000"/>
              <a:ext cx="1440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ffffff"/>
                  </a:solidFill>
                  <a:latin typeface="Comic Sans MS"/>
                </a:rPr>
                <a:t>2001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1280" y="270828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Comic Sans MS"/>
                </a:rPr>
                <a:t>20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47640" y="183024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66ccff"/>
                  </a:solidFill>
                  <a:latin typeface="Comic Sans MS"/>
                </a:rPr>
                <a:t>94 </a:t>
              </a:r>
              <a:r>
                <a:rPr b="1" i="1" lang="fr-FR" sz="2800" spc="-1" strike="noStrike">
                  <a:solidFill>
                    <a:srgbClr val="66ccff"/>
                  </a:solidFill>
                  <a:latin typeface="Comic Sans MS"/>
                </a:rPr>
                <a:t>pay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34200" y="364500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Comic Sans MS"/>
                </a:rPr>
                <a:t>2004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93080" y="4338720"/>
              <a:ext cx="20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El Salvador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0" y="9360"/>
              <a:ext cx="841320" cy="1895760"/>
              <a:chOff x="0" y="9360"/>
              <a:chExt cx="841320" cy="1895760"/>
            </a:xfrm>
          </p:grpSpPr>
          <p:pic>
            <p:nvPicPr>
              <p:cNvPr id="6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560" y="9360"/>
                <a:ext cx="785520" cy="186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0" y="1531080"/>
                <a:ext cx="841320" cy="37404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4760" y="531360"/>
            <a:ext cx="794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Arial"/>
              </a:rPr>
              <a:t>Pays membres de l’AIPC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898640"/>
            <a:ext cx="9902880" cy="43084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0" y="9360"/>
            <a:ext cx="841320" cy="1895760"/>
            <a:chOff x="0" y="9360"/>
            <a:chExt cx="841320" cy="1895760"/>
          </a:xfrm>
        </p:grpSpPr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43560" y="9360"/>
              <a:ext cx="785520" cy="186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0" y="1531080"/>
              <a:ext cx="841320" cy="3740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875120" y="2527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89240" y="3860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32480" y="36133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70040" y="3841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29080" y="361800"/>
            <a:ext cx="2846160" cy="7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Ambition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79520" y="1204920"/>
            <a:ext cx="689616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algn="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Etre le premier forum d’échanges au monde s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la route,</a:t>
            </a:r>
            <a:br>
              <a:rPr sz="3200"/>
            </a:b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le transport routier</a:t>
            </a:r>
            <a:br>
              <a:rPr sz="3200"/>
            </a:b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et leurs pratiques </a:t>
            </a:r>
            <a:br>
              <a:rPr sz="3200"/>
            </a:b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dans le contexte du transport durable et intégré.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5600" y="11811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66880" y="266400"/>
            <a:ext cx="39182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ss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44920" y="1238400"/>
            <a:ext cx="594504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rvir tous les membr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en offrant un forum international de poin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en diffusant 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les meilleures pratiqu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en promouvant des outils d’aide à la décision efficac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vec une attention particulière aux pays en développement et en transi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5600" y="11811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66880" y="266400"/>
            <a:ext cx="39182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Valeu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44920" y="1238400"/>
            <a:ext cx="725796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Les valeurs que reconnaît l’AIPCR sont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la qualité universelle du service fourni à ses membres,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l’ouverture d’esprit, l’objectivité et l’impartialité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la promotion de solutions durables et économiquement viables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la reconnaissance du transport routier dans le contexte du transport intégré et de l’aménagement du territoir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5600" y="11811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666880" y="266400"/>
            <a:ext cx="39182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Valeu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4920" y="1238400"/>
            <a:ext cx="72579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Les valeurs que reconnaît l’AIPCR sont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la reconnaissance des besoins des clients,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la diversité internationale des besoins ’ouverture d’esprit, l’objectivité et l’impartialité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la recherche d’une position de pointe en matière de transfert de technologi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5600" y="11811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5T08:24:42Z</dcterms:created>
  <dc:creator/>
  <dc:description/>
  <dc:language>en-US</dc:language>
  <cp:lastModifiedBy>Otradnova</cp:lastModifiedBy>
  <cp:lastPrinted>2001-09-21T16:04:39Z</cp:lastPrinted>
  <dcterms:modified xsi:type="dcterms:W3CDTF">2004-09-23T08:21:09Z</dcterms:modified>
  <cp:revision>143</cp:revision>
  <dc:subject/>
  <dc:title>AIPCR Durban CD</dc:title>
</cp:coreProperties>
</file>