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8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9.wmf" ContentType="image/x-wmf"/>
  <Override PartName="/ppt/media/image10.jpeg" ContentType="image/jpeg"/>
  <Override PartName="/ppt/media/image1.jpeg" ContentType="image/jpeg"/>
  <Override PartName="/ppt/media/image2.jpeg" ContentType="image/jpeg"/>
  <Override PartName="/ppt/media/image13.jpeg" ContentType="image/jpeg"/>
  <Override PartName="/ppt/media/image6.jpeg" ContentType="image/jpeg"/>
  <Override PartName="/ppt/media/image4.png" ContentType="image/png"/>
  <Override PartName="/ppt/media/image12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450072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0" y="5832000"/>
            <a:ext cx="450072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78160" y="540828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0" y="583200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878160" y="583200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1449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93720" y="5408280"/>
            <a:ext cx="1449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5800" y="5408280"/>
            <a:ext cx="1449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0" y="5832000"/>
            <a:ext cx="1449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6093720" y="5832000"/>
            <a:ext cx="1449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615800" y="5832000"/>
            <a:ext cx="1449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0" y="5408280"/>
            <a:ext cx="450072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450072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219600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78160" y="5408280"/>
            <a:ext cx="219600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11280" y="1267920"/>
            <a:ext cx="7921440" cy="75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878160" y="5408280"/>
            <a:ext cx="219600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0" y="583200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0" y="5408280"/>
            <a:ext cx="450072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219600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878160" y="540828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78160" y="583200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878160" y="540828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0" y="5832000"/>
            <a:ext cx="450072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450072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0" y="5832000"/>
            <a:ext cx="450072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78160" y="540828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0" y="583200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78160" y="583200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1449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3720" y="5408280"/>
            <a:ext cx="1449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615800" y="5408280"/>
            <a:ext cx="1449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0" y="5832000"/>
            <a:ext cx="1449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6093720" y="5832000"/>
            <a:ext cx="1449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7615800" y="5832000"/>
            <a:ext cx="1449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450072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219600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878160" y="5408280"/>
            <a:ext cx="219600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11280" y="1267920"/>
            <a:ext cx="7921440" cy="751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878160" y="5408280"/>
            <a:ext cx="219600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0" y="583200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2196000" cy="8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878160" y="540828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78160" y="583200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0" y="540828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878160" y="5408280"/>
            <a:ext cx="219600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0" y="5832000"/>
            <a:ext cx="4500720" cy="38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1640" y="907560"/>
            <a:ext cx="828072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Goth T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1640" y="1885680"/>
            <a:ext cx="8280720" cy="44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T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lvl="1" marL="915840" indent="-285480">
              <a:lnSpc>
                <a:spcPct val="120000"/>
              </a:lnSpc>
              <a:spcBef>
                <a:spcPts val="499"/>
              </a:spcBef>
              <a:buClr>
                <a:srgbClr val="1819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T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lvl="2" marL="1324080" indent="-228600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T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lvl="3" marL="1731960" indent="-228600">
              <a:lnSpc>
                <a:spcPct val="120000"/>
              </a:lnSpc>
              <a:spcBef>
                <a:spcPts val="499"/>
              </a:spcBef>
              <a:buClr>
                <a:srgbClr val="18197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T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lvl="4" marL="2139840" indent="-228600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T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lvl="5" marL="213984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T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lvl="6" marL="213984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T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25280" y="6476760"/>
            <a:ext cx="889344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7c003"/>
                </a:solidFill>
                <a:latin typeface="NewsGoth T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c003"/>
                </a:solidFill>
                <a:latin typeface="NewsGoth TL"/>
              </a:rPr>
              <a:t>MINISTRY OF TRANSPORT AND COMMUNICATIONS OF THE REPUBLIC OF LAT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11280" y="1267920"/>
            <a:ext cx="7921440" cy="16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7c003"/>
                </a:solidFill>
                <a:latin typeface="NewsGoth TL"/>
              </a:rPr>
              <a:t>Click to edit the title text format</a:t>
            </a:r>
            <a:endParaRPr b="1" lang="en-US" sz="48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125280" y="6486120"/>
            <a:ext cx="8893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7c003"/>
                </a:solidFill>
                <a:latin typeface="NewsGoth T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c003"/>
                </a:solidFill>
                <a:latin typeface="NewsGoth TL"/>
              </a:rPr>
              <a:t>MINISTRY OF TRANSPORT AND COMMUNICATIONS OF THE REPUBLIC OF LATV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T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NewsGoth TL"/>
              </a:rPr>
              <a:t>Second Outline Level</a:t>
            </a:r>
            <a:endParaRPr b="1" i="1" lang="en-US" sz="1800" spc="-1" strike="noStrike">
              <a:solidFill>
                <a:srgbClr val="ffffff"/>
              </a:solidFill>
              <a:latin typeface="NewsGoth TL"/>
            </a:endParaRPr>
          </a:p>
          <a:p>
            <a:pPr lvl="2" marL="914400" indent="181080" algn="ctr">
              <a:lnSpc>
                <a:spcPct val="120000"/>
              </a:lnSpc>
              <a:spcBef>
                <a:spcPts val="400"/>
              </a:spcBef>
              <a:buClr>
                <a:srgbClr val="f7c003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TL"/>
              </a:rPr>
              <a:t>Third Outline Level</a:t>
            </a:r>
            <a:endParaRPr b="1" lang="en-US" sz="1600" spc="-1" strike="noStrike">
              <a:solidFill>
                <a:srgbClr val="ffffff"/>
              </a:solidFill>
              <a:latin typeface="NewsGoth TL"/>
            </a:endParaRPr>
          </a:p>
          <a:p>
            <a:pPr lvl="3" marL="1371600" indent="131760" algn="ctr">
              <a:lnSpc>
                <a:spcPct val="120000"/>
              </a:lnSpc>
              <a:spcBef>
                <a:spcPts val="400"/>
              </a:spcBef>
              <a:buClr>
                <a:srgbClr val="181973"/>
              </a:buClr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TL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NewsGoth TL"/>
            </a:endParaRPr>
          </a:p>
          <a:p>
            <a:pPr lvl="4" marL="1828800" indent="82440" algn="ctr">
              <a:lnSpc>
                <a:spcPct val="120000"/>
              </a:lnSpc>
              <a:spcBef>
                <a:spcPts val="400"/>
              </a:spcBef>
              <a:buClr>
                <a:srgbClr val="f7c003"/>
              </a:buClr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T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NewsGoth TL"/>
            </a:endParaRPr>
          </a:p>
          <a:p>
            <a:pPr lvl="5" marL="1828800" indent="8244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T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NewsGoth TL"/>
            </a:endParaRPr>
          </a:p>
          <a:p>
            <a:pPr lvl="6" marL="1828800" indent="82440"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T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NewsGoth T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sam.gov.lv/" TargetMode="External"/><Relationship Id="rId3" Type="http://schemas.openxmlformats.org/officeDocument/2006/relationships/hyperlink" Target="http://www.transport.lv/" TargetMode="External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5280" y="2133720"/>
            <a:ext cx="7634160" cy="28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7c003"/>
                </a:solidFill>
                <a:latin typeface="NewsGoth TL"/>
              </a:rPr>
              <a:t>	</a:t>
            </a:r>
            <a:r>
              <a:rPr b="1" lang="en-GB" sz="3600" spc="-1" strike="noStrike">
                <a:solidFill>
                  <a:srgbClr val="f7c003"/>
                </a:solidFill>
                <a:latin typeface="NewsGoth TL"/>
              </a:rPr>
              <a:t>Intermodal transport between Europe and Asia: </a:t>
            </a:r>
            <a:br>
              <a:rPr sz="3600"/>
            </a:br>
            <a:r>
              <a:rPr b="1" lang="en-GB" sz="3600" spc="-1" strike="noStrike">
                <a:solidFill>
                  <a:srgbClr val="f7c003"/>
                </a:solidFill>
                <a:latin typeface="NewsGoth TL"/>
              </a:rPr>
              <a:t>opportunities and challenges </a:t>
            </a:r>
            <a:br>
              <a:rPr sz="3600"/>
            </a:br>
            <a:r>
              <a:rPr b="1" lang="en-GB" sz="3600" spc="-1" strike="noStrike">
                <a:solidFill>
                  <a:srgbClr val="f7c003"/>
                </a:solidFill>
                <a:latin typeface="NewsGoth TL"/>
              </a:rPr>
              <a:t>of Latvia</a:t>
            </a:r>
            <a:br>
              <a:rPr sz="3600"/>
            </a:br>
            <a:br>
              <a:rPr sz="2800"/>
            </a:br>
            <a:endParaRPr b="1" lang="en-US" sz="36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0" y="5408280"/>
            <a:ext cx="450072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NewsGoth TL"/>
              </a:rPr>
              <a:t>Vigo Legzdins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ffffff"/>
                </a:solidFill>
                <a:latin typeface="NewsGoth TL"/>
              </a:rPr>
              <a:t>State Secretary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1640" y="907560"/>
            <a:ext cx="828072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Transit cargo transported by the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Latvian Railway in 2003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32000" y="4404960"/>
            <a:ext cx="448164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ffffff"/>
                </a:solidFill>
                <a:latin typeface="NewsGoth TL"/>
              </a:rPr>
              <a:t>	</a:t>
            </a:r>
            <a:r>
              <a:rPr b="1" lang="lv-LV" sz="1800" spc="-1" strike="noStrike">
                <a:solidFill>
                  <a:srgbClr val="ffffff"/>
                </a:solidFill>
                <a:latin typeface="NewsGoth TL"/>
              </a:rPr>
              <a:t>	</a:t>
            </a:r>
            <a:r>
              <a:rPr b="1" lang="lv-LV" sz="1600" spc="-1" strike="noStrike">
                <a:solidFill>
                  <a:srgbClr val="ffffff"/>
                </a:solidFill>
                <a:latin typeface="NewsGoth TL"/>
              </a:rPr>
              <a:t>Total transit ~ 40,9 </a:t>
            </a:r>
            <a:r>
              <a:rPr b="1" lang="en-GB" sz="1600" spc="-1" strike="noStrike">
                <a:solidFill>
                  <a:srgbClr val="ffffff"/>
                </a:solidFill>
                <a:latin typeface="NewsGoth TL"/>
              </a:rPr>
              <a:t>mill tons</a:t>
            </a:r>
            <a:endParaRPr b="1" lang="en-US" sz="16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NewsGoth T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NewsGoth T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NewsGoth TL"/>
              </a:rPr>
              <a:t>transit via ports ~ 37,2 mill tons</a:t>
            </a:r>
            <a:endParaRPr b="1" lang="en-US" sz="1600" spc="-1" strike="noStrike">
              <a:solidFill>
                <a:srgbClr val="ffffff"/>
              </a:solidFill>
              <a:latin typeface="NewsGoth T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5400720" cy="3314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3995640" y="1700280"/>
          <a:ext cx="5148360" cy="2625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5640" y="1700280"/>
                    <a:ext cx="5148360" cy="26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1197000"/>
            <a:ext cx="828036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Freight transported by the Latvian railway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to/from Ukraine 2001 – 2004 (thsd t)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8960" y="1989000"/>
          <a:ext cx="8229600" cy="3976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8960" y="1989000"/>
                    <a:ext cx="822960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31280" y="1537920"/>
            <a:ext cx="8550360" cy="44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440"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NewsGoth TL"/>
              </a:rPr>
              <a:t>The long term strategic goal of the national transport policy is to provide a safe, efficient, multimodal, balanced, environmentally friendly and competitive transport system, integrated into the European transport system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431640" y="907560"/>
            <a:ext cx="828072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Goth T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</p:spTree>
  </p:cSld>
  <p:transition spd="slow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Development priorities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1280" y="2349000"/>
            <a:ext cx="8712360" cy="38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NewsGoth TL"/>
              </a:rPr>
              <a:t>Investment in TEN elements</a:t>
            </a:r>
            <a:endParaRPr b="1" lang="en-US" sz="2400" spc="-1" strike="noStrike">
              <a:solidFill>
                <a:srgbClr val="ffffff"/>
              </a:solidFill>
              <a:latin typeface="NewsGoth T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NewsGoth T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NewsGoth TL"/>
              </a:rPr>
              <a:t>Development of logistics industry and distribution centres in Freeports and Special Economic Zones</a:t>
            </a:r>
            <a:endParaRPr b="1" lang="en-US" sz="2400" spc="-1" strike="noStrike">
              <a:solidFill>
                <a:srgbClr val="ffffff"/>
              </a:solidFill>
              <a:latin typeface="NewsGoth TL"/>
            </a:endParaRPr>
          </a:p>
          <a:p>
            <a:pPr marL="380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NewsGoth TL"/>
            </a:endParaRPr>
          </a:p>
          <a:p>
            <a:pPr marL="380880" indent="-380880">
              <a:lnSpc>
                <a:spcPct val="120000"/>
              </a:lnSpc>
              <a:spcBef>
                <a:spcPts val="601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NewsGoth TL"/>
              </a:rPr>
              <a:t>Facilitation of multimodal transport and short sea shipping</a:t>
            </a:r>
            <a:endParaRPr b="1" lang="en-US" sz="2400" spc="-1" strike="noStrike">
              <a:solidFill>
                <a:srgbClr val="ffffff"/>
              </a:solidFill>
              <a:latin typeface="NewsGoth TL"/>
            </a:endParaRPr>
          </a:p>
        </p:txBody>
      </p:sp>
    </p:spTree>
  </p:cSld>
  <p:transition spd="slow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1640" y="907560"/>
            <a:ext cx="828072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Goth TL"/>
              </a:rPr>
              <a:t>TEN</a:t>
            </a:r>
            <a:r>
              <a:rPr b="1" lang="lv-LV" sz="2800" spc="-1" strike="noStrike">
                <a:solidFill>
                  <a:srgbClr val="ffffff"/>
                </a:solidFill>
                <a:latin typeface="NewsGoth T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NewsGoth TL"/>
              </a:rPr>
              <a:t>network – priority for investments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3457440" cy="38163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780000" y="1483920"/>
            <a:ext cx="5364000" cy="537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just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Development of the Via Baltica and East-West road corridors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Modernization of the East-West rail corridor and improvement of the safety level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Further development and increase of competitiveness of port infrastructure and services according to the international demand</a:t>
            </a:r>
            <a:r>
              <a:rPr b="0" lang="lv-LV" sz="2000" spc="-1" strike="noStrike">
                <a:solidFill>
                  <a:srgbClr val="ffffff"/>
                </a:solidFill>
                <a:latin typeface="NewsGoth TL"/>
              </a:rPr>
              <a:t>s</a:t>
            </a: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Balanced development of port access roads and rail infrastructure, including railway junctions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</p:spTree>
  </p:cSld>
  <p:transition spd="slow">
    <p:diamond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0" y="1805040"/>
          <a:ext cx="9472680" cy="4449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05040"/>
                    <a:ext cx="947268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08900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Goth TL"/>
              </a:rPr>
              <a:t>Resources of the EU funds for transpor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NewsGoth TL"/>
              </a:rPr>
              <a:t>infrastructure (mill EUR / </a:t>
            </a:r>
            <a:r>
              <a:rPr b="1" lang="lv-LV" sz="2800" spc="-1" strike="noStrike">
                <a:solidFill>
                  <a:srgbClr val="ffffff"/>
                </a:solidFill>
                <a:latin typeface="NewsGoth TL"/>
              </a:rPr>
              <a:t>y</a:t>
            </a:r>
            <a:r>
              <a:rPr b="1" lang="en-US" sz="2800" spc="-1" strike="noStrike">
                <a:solidFill>
                  <a:srgbClr val="ffffff"/>
                </a:solidFill>
                <a:latin typeface="NewsGoth TL"/>
              </a:rPr>
              <a:t>ear)</a:t>
            </a:r>
            <a:r>
              <a:rPr b="1" lang="lv-LV" sz="2400" spc="-1" strike="noStrike">
                <a:solidFill>
                  <a:srgbClr val="ffffff"/>
                </a:solidFill>
                <a:latin typeface="NewsGoth T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NewsGoth TL"/>
            </a:endParaRPr>
          </a:p>
        </p:txBody>
      </p:sp>
    </p:spTree>
  </p:cSld>
  <p:transition spd="slow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280" y="1089000"/>
            <a:ext cx="871236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Development of logistics and distribution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centres in Latvia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1280" y="2060280"/>
            <a:ext cx="8712360" cy="459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just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Favourable geographical location – in the middle of the Baltic States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Modern, well equipped ports' terminals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Territories available for the development in Freeports and SEZ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Efficiently working customs warehouses 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Beneficial tax regime for development of CIS orientated distribution centres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Long time work experience with Russia and CIS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Governmental support for the development of logistics and distribution centres' infrastructure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2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Low administrative barriers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</p:spTree>
  </p:cSld>
  <p:transition spd="slow">
    <p:diamond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1640" y="1359000"/>
            <a:ext cx="82807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Facilitation of multimodal transport and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short sea</a:t>
            </a:r>
            <a:r>
              <a:rPr b="1" lang="en-US" sz="2800" spc="-1" strike="noStrike">
                <a:solidFill>
                  <a:srgbClr val="ffffff"/>
                </a:solidFill>
                <a:latin typeface="NewsGoth TL"/>
              </a:rPr>
              <a:t> shipping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1280" y="2349360"/>
            <a:ext cx="871236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NewsGoth TL"/>
              </a:rPr>
              <a:t>Development of environmentally friendly modes of transport</a:t>
            </a:r>
            <a:endParaRPr b="1" lang="en-US" sz="24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NewsGoth TL"/>
              </a:rPr>
              <a:t>Mode shift from roads to railways, inland waterways and short sea shipping</a:t>
            </a:r>
            <a:r>
              <a:rPr b="1" lang="en-GB" sz="2000" spc="-1" strike="noStrike">
                <a:solidFill>
                  <a:srgbClr val="ffffff"/>
                </a:solidFill>
                <a:latin typeface="NewsGoth TL"/>
              </a:rPr>
              <a:t>: </a:t>
            </a:r>
            <a:r>
              <a:rPr b="1" lang="en-GB" sz="2400" spc="-1" strike="noStrike">
                <a:solidFill>
                  <a:srgbClr val="ffffff"/>
                </a:solidFill>
                <a:latin typeface="NewsGoth TL"/>
              </a:rPr>
              <a:t>Marco Polo </a:t>
            </a:r>
            <a:r>
              <a:rPr b="0" lang="en-GB" sz="2400" spc="-1" strike="noStrike">
                <a:solidFill>
                  <a:srgbClr val="ffffff"/>
                </a:solidFill>
                <a:latin typeface="NewsGoth TL"/>
              </a:rPr>
              <a:t>program</a:t>
            </a:r>
            <a:endParaRPr b="1" lang="en-US" sz="24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>
              <a:lnSpc>
                <a:spcPct val="120000"/>
              </a:lnSpc>
              <a:spcBef>
                <a:spcPts val="601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NewsGoth TL"/>
              </a:rPr>
              <a:t>Project: </a:t>
            </a:r>
            <a:r>
              <a:rPr b="1" lang="en-GB" sz="2400" spc="-1" strike="noStrike">
                <a:solidFill>
                  <a:srgbClr val="ffffff"/>
                </a:solidFill>
                <a:latin typeface="NewsGoth TL"/>
              </a:rPr>
              <a:t>Motorways of the Sea</a:t>
            </a:r>
            <a:endParaRPr b="1" lang="en-US" sz="2400" spc="-1" strike="noStrike">
              <a:solidFill>
                <a:srgbClr val="ffffff"/>
              </a:solidFill>
              <a:latin typeface="NewsGoth TL"/>
            </a:endParaRPr>
          </a:p>
        </p:txBody>
      </p:sp>
    </p:spTree>
  </p:cSld>
  <p:transition spd="slow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692360" y="909720"/>
            <a:ext cx="6016680" cy="55879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250920" y="277920"/>
            <a:ext cx="8664480" cy="62323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31640" y="907560"/>
            <a:ext cx="828072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Latvia and international transport corridors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58920" y="1886040"/>
            <a:ext cx="6913440" cy="459252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4920" y="2276640"/>
            <a:ext cx="8496360" cy="16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7c003"/>
                </a:solidFill>
                <a:latin typeface="Times New Roman"/>
              </a:rPr>
              <a:t>Thank you for your attention!</a:t>
            </a:r>
            <a:endParaRPr b="1" lang="en-US" sz="4400" spc="-1" strike="noStrike">
              <a:solidFill>
                <a:srgbClr val="f7c003"/>
              </a:solidFill>
              <a:latin typeface="NewsGoth T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0" y="4941360"/>
            <a:ext cx="4500720" cy="145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imes New Roman"/>
              </a:rPr>
              <a:t>3, Gogola Str, LV 1743,</a:t>
            </a:r>
            <a:endParaRPr b="1" lang="en-US" sz="1800" spc="-1" strike="noStrike">
              <a:solidFill>
                <a:srgbClr val="ffffff"/>
              </a:solidFill>
              <a:latin typeface="NewsGoth T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imes New Roman"/>
              </a:rPr>
              <a:t>Riga, Latvia</a:t>
            </a:r>
            <a:endParaRPr b="1" lang="en-US" sz="1800" spc="-1" strike="noStrike">
              <a:solidFill>
                <a:srgbClr val="ffffff"/>
              </a:solidFill>
              <a:latin typeface="NewsGoth T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NewsGoth T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ffffff"/>
                </a:solidFill>
                <a:latin typeface="Times New Roman"/>
              </a:rPr>
              <a:t>satmin@sam.gov.lv</a:t>
            </a:r>
            <a:endParaRPr b="1" lang="en-US" sz="1800" spc="-1" strike="noStrike">
              <a:solidFill>
                <a:srgbClr val="ffffff"/>
              </a:solidFill>
              <a:latin typeface="NewsGoth T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sam.gov.lv</a:t>
            </a:r>
            <a:endParaRPr b="1" lang="en-US" sz="1800" spc="-1" strike="noStrike">
              <a:solidFill>
                <a:srgbClr val="ffffff"/>
              </a:solidFill>
              <a:latin typeface="NewsGoth T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transport.lv</a:t>
            </a:r>
            <a:endParaRPr b="1" lang="en-US" sz="1800" spc="-1" strike="noStrike">
              <a:solidFill>
                <a:srgbClr val="ffffff"/>
              </a:solidFill>
              <a:latin typeface="NewsGoth TL"/>
            </a:endParaRPr>
          </a:p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NewsGoth TL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1640" y="907560"/>
            <a:ext cx="828072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Trans-Siberian Railway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258920" y="1700280"/>
            <a:ext cx="6913440" cy="47545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1640" y="907560"/>
            <a:ext cx="828072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International “North – South” transport corridor</a:t>
            </a:r>
            <a:r>
              <a:rPr b="1" lang="lv-LV" sz="2800" spc="-1" strike="noStrike">
                <a:solidFill>
                  <a:srgbClr val="ffffff"/>
                </a:solidFill>
                <a:latin typeface="NewsGoth TL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258920" y="1844640"/>
            <a:ext cx="6913440" cy="46245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87280" y="1125360"/>
            <a:ext cx="6985080" cy="5328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907560"/>
            <a:ext cx="8280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Multimodal transport infrastructure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31640" y="1636560"/>
            <a:ext cx="8461440" cy="48578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31640" y="1125360"/>
            <a:ext cx="8172720" cy="51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just">
              <a:lnSpc>
                <a:spcPct val="11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Through the territory of Latvia in the East – West direction the annual cargo turnover exceeds 40 mill tons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1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In 2003, 72% of Latvia's international trade was with the EU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1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In 2003, total cargo turnover of Latvian ports </a:t>
            </a:r>
            <a:r>
              <a:rPr b="0" lang="en-US" sz="2000" spc="-1" strike="noStrike">
                <a:solidFill>
                  <a:srgbClr val="ffffff"/>
                </a:solidFill>
                <a:latin typeface="NewsGoth TL"/>
              </a:rPr>
              <a:t>exceeded 54 mill tons, with 85% of transit cargo.  Cargo turnover during the period of January – August 2004 has reached 39,3 mill tons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1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TL"/>
              </a:rPr>
              <a:t>In 2003, 48 mill tons of cargo were transported by rail, transit cargo making around 85%. Cargo turnover during the period of January – August 2004  has reached 34,6 mill tons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NewsGoth TL"/>
            </a:endParaRPr>
          </a:p>
          <a:p>
            <a:pPr marL="272880" indent="-272880" algn="just">
              <a:lnSpc>
                <a:spcPct val="110000"/>
              </a:lnSpc>
              <a:spcBef>
                <a:spcPts val="499"/>
              </a:spcBef>
              <a:buClr>
                <a:srgbClr val="f7c00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NewsGoth TL"/>
              </a:rPr>
              <a:t>Transport and communications comprise about 16 to 17 per cent of the GDP</a:t>
            </a:r>
            <a:endParaRPr b="1" lang="en-US" sz="2000" spc="-1" strike="noStrike">
              <a:solidFill>
                <a:srgbClr val="ffffff"/>
              </a:solidFill>
              <a:latin typeface="NewsGoth TL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08900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Cargo turnover in ports of Latvia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1999–2004 (mill t</a:t>
            </a:r>
            <a:r>
              <a:rPr b="1" lang="en-GB" sz="2400" spc="-1" strike="noStrike">
                <a:solidFill>
                  <a:srgbClr val="ffffff"/>
                </a:solidFill>
                <a:latin typeface="NewsGoth TL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NewsGoth T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-230040" y="2104920"/>
          <a:ext cx="9750240" cy="4716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30040" y="2104920"/>
                    <a:ext cx="9750240" cy="47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17792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Freight transported by the Latvian railway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NewsGoth TL"/>
              </a:rPr>
              <a:t>1996 – 2004 (mill t)</a:t>
            </a:r>
            <a:endParaRPr b="1" lang="en-US" sz="2800" spc="-1" strike="noStrike">
              <a:solidFill>
                <a:srgbClr val="ffffff"/>
              </a:solidFill>
              <a:latin typeface="NewsGoth T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-252360" y="1916280"/>
          <a:ext cx="9578880" cy="472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916280"/>
                    <a:ext cx="9578880" cy="47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2T09:10:52Z</dcterms:created>
  <dc:creator>Vineta</dc:creator>
  <dc:description/>
  <dc:language>en-US</dc:language>
  <cp:lastModifiedBy>Vineta</cp:lastModifiedBy>
  <dcterms:modified xsi:type="dcterms:W3CDTF">2004-09-24T08:56:56Z</dcterms:modified>
  <cp:revision>60</cp:revision>
  <dc:subject/>
  <dc:title>Latvijas tranzīta un transporta nozare  Eiropas Savienībā</dc:title>
</cp:coreProperties>
</file>