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5.png" ContentType="image/png"/>
  <Override PartName="/ppt/media/image14.wmf" ContentType="image/x-wmf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C507-C078-458B-BBDB-9C9FB0691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7FE0-775F-4F48-95A3-44BD0CAD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6AF7-EDFB-4C33-852C-5A5651AC1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5CEB-1EE0-417A-AFC0-94C586D1F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2975-3A41-4AE9-876E-7E6A56DB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B990-66F5-4131-8C5D-84A24109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F6AE-BECA-45C0-B664-DF95C600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841A-8AE6-4B21-A378-F75DB790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ECDA-B8F8-48EE-A80F-3D176F9D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2DF9-438B-4719-975C-3890FB04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AFCE-7393-4D9B-B7FB-27FCEC69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BA6A-D66D-47AB-BCB2-1EE7F5E8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8E5B-D0A9-4F9D-AB97-CD6F974807AF}" type="datetime3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29 July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2C0F-4185-4840-B4A9-8A1BAFEC570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unece.org/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hyperlink" Target="http://www.unece.org/" TargetMode="External"/><Relationship Id="rId6" Type="http://schemas.openxmlformats.org/officeDocument/2006/relationships/image" Target="../media/image4.jpe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hyperlink" Target="http://www.unece.org/" TargetMode="External"/><Relationship Id="rId6" Type="http://schemas.openxmlformats.org/officeDocument/2006/relationships/image" Target="../media/image4.jpe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unece.org/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unece.org/trans/main/ter/map.html" TargetMode="External"/><Relationship Id="rId2" Type="http://schemas.openxmlformats.org/officeDocument/2006/relationships/image" Target="../media/image13.png"/><Relationship Id="rId3" Type="http://schemas.openxmlformats.org/officeDocument/2006/relationships/hyperlink" Target="http://www.unece.org/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hyperlink" Target="http://www.unece.org/" TargetMode="External"/><Relationship Id="rId5" Type="http://schemas.openxmlformats.org/officeDocument/2006/relationships/image" Target="../media/image4.jpe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UNlogo1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termodal Transport between Europe and Asia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role of the UNEC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37720" y="40384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José Capel Ferrer, </a:t>
            </a: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Director, Transport Div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United Nations Economic Commission for Europe</a:t>
            </a:r>
            <a:r>
              <a:rPr b="0" lang="fr-CH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(UNE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FCD2-9E15-4CAF-8018-C6FD77844F4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6E0F89-63B5-4B19-8EC0-C665C3686BD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ff"/>
                </a:solidFill>
                <a:latin typeface="Times New Roman"/>
              </a:rPr>
              <a:t>UNECE Transport Infrastructure Agreements: The AGC, of 198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24 States Par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The E-rail net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Common infrastructure parameters, basis for interoperabil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Includes E rail lines in Caucasus and Central Asian count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UNlogo1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66CA-3124-4DEC-92A5-3001BE024CF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AE708B-0A2C-4B02-962A-FB128E2231A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-262080" y="2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171880" y="57240"/>
            <a:ext cx="6657840" cy="1079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-Rail network in Caucasus and Central As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NECE Transport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F2F0-1E24-4985-8BBB-31437C5989D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4C32B1-DA41-4F40-B893-A7A4EDBAF0C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ff"/>
                </a:solidFill>
                <a:latin typeface="Times New Roman"/>
              </a:rPr>
              <a:t>UNECE Transport Infrastructure Agreements: The AGTC, of 199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26 States Par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Legal framework for coherent development of infrastructure </a:t>
            </a:r>
            <a:r>
              <a:rPr b="1" lang="fr-CH" sz="2800" spc="-1" strike="noStrike" u="sng">
                <a:solidFill>
                  <a:srgbClr val="ffffff"/>
                </a:solidFill>
                <a:uFillTx/>
                <a:latin typeface="Times New Roman"/>
              </a:rPr>
              <a:t>and</a:t>
            </a: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 performance 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Minimum infrastructure 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Minimum operational/performance 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Being extended to Caucasus, Central A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UNlogo1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2935-2A1F-491C-8BD4-AD1670B6052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85B885-7218-4474-BC88-EAFF5A774FB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ff"/>
                </a:solidFill>
                <a:latin typeface="Times New Roman"/>
              </a:rPr>
              <a:t>UNECE Transport Infrastructure Agreements: The AGN, of 1996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13 States Par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The E-inland waterway net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UNlogo1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20B6-BE21-4A75-AE1E-2C5B8EBDE5F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70240C-3837-4B1B-9AE8-5371C9C7E77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447920" y="106200"/>
            <a:ext cx="705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-inland waterway netwo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52280" y="38160"/>
            <a:ext cx="1828800" cy="498240"/>
            <a:chOff x="152280" y="38160"/>
            <a:chExt cx="1828800" cy="498240"/>
          </a:xfrm>
        </p:grpSpPr>
        <p:pic>
          <p:nvPicPr>
            <p:cNvPr id="89" name="ecelogo" descr="United Nations Economic Commission for Europe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81200" y="101520"/>
              <a:ext cx="1199880" cy="43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UNlogo1" descr=""/>
            <p:cNvPicPr/>
            <p:nvPr/>
          </p:nvPicPr>
          <p:blipFill>
            <a:blip r:embed="rId3"/>
            <a:stretch/>
          </p:blipFill>
          <p:spPr>
            <a:xfrm>
              <a:off x="152280" y="38160"/>
              <a:ext cx="609840" cy="498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1" name="EIW_colour" descr=""/>
          <p:cNvPicPr/>
          <p:nvPr/>
        </p:nvPicPr>
        <p:blipFill>
          <a:blip r:embed="rId4"/>
          <a:stretch/>
        </p:blipFill>
        <p:spPr>
          <a:xfrm>
            <a:off x="633240" y="552600"/>
            <a:ext cx="7844040" cy="569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9712-05F9-4D5A-8E88-6799BE4F07D0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AEEA5D-9007-45FC-913D-07A11308E64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ff"/>
                </a:solidFill>
                <a:latin typeface="Times New Roman"/>
              </a:rPr>
              <a:t>Infrastructure Planning Too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E-road Traffic Census every 5 yea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E-rail Traffic Census: first in 20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delines for Transport Infrastructure Project Appraisa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io-Economic Cost Benefit Analysis, including safety, environmental, policy asp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on </a:t>
            </a:r>
            <a:r>
              <a:rPr b="0" lang="fr-CH" sz="2400" spc="-1" strike="noStrike">
                <a:solidFill>
                  <a:srgbClr val="ffffff"/>
                </a:solidFill>
                <a:latin typeface="Times New Roman"/>
              </a:rPr>
              <a:t>EU, EBRD, EIB, WB, national best practice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UNlogo1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5202-2E0B-44E3-B584-DEFA4A1B017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054B8D-3841-4B71-B96E-168C0CBF03B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05120" y="95400"/>
            <a:ext cx="5181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E-road Traffic Census in 2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1066680"/>
          <a:ext cx="8153280" cy="556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66680"/>
                    <a:ext cx="8153280" cy="55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19320" y="6094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verage Annual Daily Traff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299360" y="247680"/>
          <a:ext cx="1222200" cy="67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99360" y="247680"/>
                    <a:ext cx="122220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1" name=""/>
          <p:cNvGrpSpPr/>
          <p:nvPr/>
        </p:nvGrpSpPr>
        <p:grpSpPr>
          <a:xfrm>
            <a:off x="57240" y="149400"/>
            <a:ext cx="1828800" cy="498240"/>
            <a:chOff x="57240" y="149400"/>
            <a:chExt cx="1828800" cy="498240"/>
          </a:xfrm>
        </p:grpSpPr>
        <p:pic>
          <p:nvPicPr>
            <p:cNvPr id="102" name="ecelogo" descr="United Nations Economic Commission for Europe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686160" y="212760"/>
              <a:ext cx="1199880" cy="43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UNlogo1" descr=""/>
            <p:cNvPicPr/>
            <p:nvPr/>
          </p:nvPicPr>
          <p:blipFill>
            <a:blip r:embed="rId7"/>
            <a:stretch/>
          </p:blipFill>
          <p:spPr>
            <a:xfrm>
              <a:off x="57240" y="149400"/>
              <a:ext cx="609840" cy="49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E77A-F0D4-4B2D-95BA-AFDDDD8E66B3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ABC0FF-FC1C-4D1A-AAEA-C60E36F45CA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27080" y="1501920"/>
          <a:ext cx="8893080" cy="50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080" y="1501920"/>
                    <a:ext cx="8893080" cy="50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143000" y="304920"/>
            <a:ext cx="7058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E-road Traffic Census in 2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83808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ercentage of Heavy Goods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753320" y="679320"/>
          <a:ext cx="1192320" cy="5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53320" y="679320"/>
                    <a:ext cx="119232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0" name=""/>
          <p:cNvGrpSpPr/>
          <p:nvPr/>
        </p:nvGrpSpPr>
        <p:grpSpPr>
          <a:xfrm>
            <a:off x="152280" y="380880"/>
            <a:ext cx="1828800" cy="498600"/>
            <a:chOff x="152280" y="380880"/>
            <a:chExt cx="1828800" cy="498600"/>
          </a:xfrm>
        </p:grpSpPr>
        <p:pic>
          <p:nvPicPr>
            <p:cNvPr id="111" name="ecelogo" descr="United Nations Economic Commission for Europe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781200" y="444600"/>
              <a:ext cx="1199880" cy="43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UNlogo1" descr=""/>
            <p:cNvPicPr/>
            <p:nvPr/>
          </p:nvPicPr>
          <p:blipFill>
            <a:blip r:embed="rId7"/>
            <a:stretch/>
          </p:blipFill>
          <p:spPr>
            <a:xfrm>
              <a:off x="152280" y="380880"/>
              <a:ext cx="609840" cy="49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6513-8E7E-4A9E-A749-7E75C05912FA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E6EE4C-6F3E-42E0-B2B9-EFC7C80B7B1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ff"/>
                </a:solidFill>
                <a:latin typeface="Times New Roman"/>
              </a:rPr>
              <a:t>TEM and TER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b-regional cooperation frameworks for developing E networks in E&amp;SE Euro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N Trust Fund Cooperation Agre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eering Committees, PCO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ocusing on Corridor related acti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EM and TER Master Pl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417D-9EEB-447C-84D8-602EA883F4D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A972A4-8344-430C-8BE5-604B4AF7873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8600" y="671400"/>
            <a:ext cx="8736120" cy="6178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476360" y="14616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EM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52280" y="76320"/>
            <a:ext cx="1828800" cy="498240"/>
            <a:chOff x="152280" y="76320"/>
            <a:chExt cx="1828800" cy="498240"/>
          </a:xfrm>
        </p:grpSpPr>
        <p:pic>
          <p:nvPicPr>
            <p:cNvPr id="119" name="" descr="United Nations Economic Commission for Europe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781200" y="139680"/>
              <a:ext cx="1199880" cy="43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609840" cy="49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6E1A-75D0-43A0-B004-3E12F9144CE2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65939B-966E-416B-BE83-1CB11DD00DC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1676160"/>
            <a:ext cx="8305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termodal Transport between Europe and Asia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role of the UNE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36576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Transport Infrastructure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Border Crosssing Facilit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Inter-regional Coop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UNlogo1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6C16-FF2C-4BAC-9608-97AF622720B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B96123-DE87-4430-9448-32F128CE8B3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0" y="1239840"/>
            <a:ext cx="9144000" cy="4236840"/>
            <a:chOff x="0" y="1239840"/>
            <a:chExt cx="9144000" cy="4236840"/>
          </a:xfrm>
        </p:grpSpPr>
        <p:sp>
          <p:nvSpPr>
            <p:cNvPr id="122" name=""/>
            <p:cNvSpPr/>
            <p:nvPr/>
          </p:nvSpPr>
          <p:spPr>
            <a:xfrm>
              <a:off x="0" y="1239840"/>
              <a:ext cx="91440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1239840"/>
              <a:ext cx="9144000" cy="42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272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80880" y="762120"/>
            <a:ext cx="8151840" cy="5867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476360" y="26028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ER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52280" y="152280"/>
            <a:ext cx="1828800" cy="498600"/>
            <a:chOff x="152280" y="152280"/>
            <a:chExt cx="1828800" cy="498600"/>
          </a:xfrm>
        </p:grpSpPr>
        <p:pic>
          <p:nvPicPr>
            <p:cNvPr id="127" name="" descr="United Nations Economic Commission for Europe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781200" y="216000"/>
              <a:ext cx="1199880" cy="43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5"/>
            <a:stretch/>
          </p:blipFill>
          <p:spPr>
            <a:xfrm>
              <a:off x="152280" y="152280"/>
              <a:ext cx="609840" cy="49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97C0-C346-4CD0-B914-5CCE9DB2C7D4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ADDA0E-EEFD-4D3B-9DA8-FA3395F19FE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ff"/>
                </a:solidFill>
                <a:latin typeface="Times New Roman"/>
              </a:rPr>
              <a:t>Euro-Asian Transport Link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AGR, AGC include Euro-Asian roads, rail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UNECE-ESCAP: Strategic Vision / Project on Capacity Building in Developing EATL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The Inland Transport Committee to adopt EATL as priority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E0EA-83A0-43BF-8940-E91B831D4ED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83E3D5-D795-463F-AAD7-78C82D62C6E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order Crossing Facilitation (1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2971800"/>
            <a:ext cx="80769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ffff"/>
                </a:solidFill>
                <a:latin typeface="Times New Roman"/>
              </a:rPr>
              <a:t>Int. Convention on the Harmonization of Frontier Controls of Go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Harmonization and reduction of formalities, contr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National coordination, international cooperation o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Times New Roman"/>
              </a:rPr>
              <a:t>Customs, Medico-Sanitary,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Times New Roman"/>
              </a:rPr>
              <a:t>Veterinary, Phyto-Sanitary, Compliance with technical standards,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Export, import and transit procedures, All mo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UNlogo1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2408-7E72-45BB-9941-8A00BAD153A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EC576C-5447-4892-8479-A092B28DEB5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1676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order Crossing Facilitation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imes New Roman"/>
              </a:rPr>
              <a:t>Customs Convention on Contain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Facilitation of temporary importation of containers in international trans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No documentation or guarantee requi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Restriction on internal/domestic 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UNlogo1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DFDE-DFD2-44CE-B969-BE02BE75ED9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E2B187-E95C-4649-8FDF-705D6C4A99D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order Crossing Facilitation (3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ffff"/>
                </a:solidFill>
                <a:latin typeface="Times New Roman"/>
              </a:rPr>
              <a:t>Draft Convention on International Customs Transit Procedures for the Carriage of Goods by Rail </a:t>
            </a:r>
            <a:r>
              <a:rPr b="1" lang="fr-CH" sz="2800" spc="-1" strike="noStrike">
                <a:solidFill>
                  <a:srgbClr val="ffffff"/>
                </a:solidFill>
                <a:latin typeface="Times New Roman"/>
              </a:rPr>
              <a:t>under Cover of SMGS Consignment No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SMGS Consignment acceptable as Customs document (declaration) in SMGS count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Facilitation of Customs con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UNlogo1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7637-799D-45F5-B5F3-EC68AE81DFA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1A2FE9-898E-4EAF-81F1-A1198AAEB2D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order Crossing Facilitation (4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281952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ffff"/>
                </a:solidFill>
                <a:latin typeface="Times New Roman"/>
              </a:rPr>
              <a:t>UNECE Resolution on SMGS Consignment No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Acceptance of SMGS Consignment Note as Customs document/decla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Temporary solution until entry into force of « Rail Customs Transit Convention 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UNlogo1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37BE-0E7E-4115-84B1-C06F1E5EF28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D865F0-0CF1-430F-874F-22388CA131E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uro-Asian Cooperative Arrangement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UN Development Account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« </a:t>
            </a:r>
            <a:r>
              <a:rPr b="1" lang="fr-CH" sz="3200" spc="-1" strike="noStrike">
                <a:solidFill>
                  <a:srgbClr val="ffffff"/>
                </a:solidFill>
                <a:latin typeface="Times New Roman"/>
              </a:rPr>
              <a:t>Capacity Building for Developing Interregional Land and Land-cum-sea Transport Linkages</a:t>
            </a: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 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UNlogo1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8120-FFAC-4CF3-8BB5-C8AEF813316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85C291-0FD8-4CB7-9DB3-6DC0482E5B6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1752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NDA Project on Capacity Build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Background</a:t>
            </a: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Jointly implemented by the five UN Regional Commi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Funding under UN Development Accou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Budget: US$ 1,25 Mio (up to 2006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ffff"/>
                </a:solidFill>
                <a:latin typeface="Times New Roman"/>
              </a:rPr>
              <a:t>Euro-Asian transport links component: 32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UNlogo1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21C2-9B32-4F38-ACC6-863A21AD6A4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8DACC0-F92A-4E5C-952F-23B1EF9DCF0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NDA Project Euro-Asian Transport Links Compon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2971800"/>
            <a:ext cx="79246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Assist Member States of UNECE, ESCAP in strengthening national capacity to  develop interregional transport link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Promote cooperation to facilitate trade and tour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In close UNECE-ESCAP cooper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UNlogo1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0D3D-9755-41A0-A591-D498E2306DE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B37377-4E84-432A-BFDD-EDD297A6795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62120" cy="6634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70020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0" y="129528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2400" y="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04920" y="990720"/>
            <a:ext cx="8610480" cy="52228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133720" y="144792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NECE–ESCAP Capacity Building Project Euro-Asian Transport Links: Countries involv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5257800"/>
            <a:ext cx="811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Afghanistan, Armenia, Azerbaijan, Belarus, Bulgaria, China, Georgia, Iran, Kazakhstan, Kyrgyjzstan, Moldova, Romania, Russian Federation, Tajikistan, Turkmenistan, Turkey, Ukraine, Uzbekist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061A-8EEB-47A0-BBD1-25E39F965FA9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22DD9C-C29E-43B4-9B5B-FAF5DFC5F97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ransport Infrastructure Development in the UNE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3352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Transport Infrastructure Agre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Infrastructure Planning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TEM and TER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Euro-Asian Transport Lin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UNlogo1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FF0D-955D-4381-BF98-022403E06B3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695E56-8B15-4DDF-9DB4-B15A4BEFC46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NDA Project Euro-Asian Transport Links Compon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28954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1st Expert Group Meeting, Almaty, March 2004: Strategy for developing Euro-Asian transport lin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Times New Roman"/>
              </a:rPr>
              <a:t>Identification of main routes along the four main Euro-Asian Corridors agreed international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Times New Roman"/>
              </a:rPr>
              <a:t>Addressing intermodal and border crossing asp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Times New Roman"/>
              </a:rPr>
              <a:t>Identification of priority projects along main ro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2nd Expert Group Meeting: Odessa, 3-5 Nove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UNlogo1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72D8-3EC2-4D1B-A1A1-002EA5D686E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5D7576-2A2C-430C-AB24-44A8327531B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62120" cy="6634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-328680" y="-2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09480" y="990720"/>
          <a:ext cx="7925040" cy="533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990720"/>
                    <a:ext cx="792504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5C65-A02E-43F7-A5E1-3D03CDB5051C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3121B8-9704-443C-BE5C-67AC1954218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15998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NDA Project Euro-Asian Transport Links Compon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3048120"/>
            <a:ext cx="861048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To be done in 2005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Analysis of transport times and cos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Strenghtening implementation of main international agreements and conven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Strengthening national transport&amp; trade bo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UNlogo1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2AFD-3F75-4951-B644-D853F3403C7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E2C487-8CE5-44EE-ADAE-A1230BB0E8C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NDA Project Euro-Asian Transport Links Compon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312372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To be done in 2006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Database with contact details of experts, institut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Creation and maintenance of Project web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Organization of a workshop on </a:t>
            </a:r>
            <a:r>
              <a:rPr b="1" lang="fr-CH" sz="2800" spc="-1" strike="noStrike">
                <a:solidFill>
                  <a:srgbClr val="ffffff"/>
                </a:solidFill>
                <a:latin typeface="Times New Roman"/>
              </a:rPr>
              <a:t>Sharing of less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UNlogo1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6F38-AB3B-4AD6-9E55-EF532C23854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62FB7E-19FD-4B02-A250-05A14311CBA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’s nex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Extend the AGTC to Caucasus and Central A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Implement other relevant UNECE Conventions to strengthen international harmonization, simplification of rules and proced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Strengthen ECMT-UNECE and ESCAP-UNECE coop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Support UNDA Project on Capacity Buil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UNlogo1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0914-7A25-4B5D-9FBD-0232183C1B4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110C4D-BEED-4DDD-9E96-DD0C035CEA9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2004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www.unece.org/tran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UNlogo1" descr=""/>
          <p:cNvPicPr/>
          <p:nvPr/>
        </p:nvPicPr>
        <p:blipFill>
          <a:blip r:embed="rId1"/>
          <a:stretch/>
        </p:blipFill>
        <p:spPr>
          <a:xfrm>
            <a:off x="3676680" y="129528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03E9-B048-4ADC-8968-B8F7373DB800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3803D0-AD53-4CFB-B145-0219A34DB87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ff"/>
                </a:solidFill>
                <a:latin typeface="Times New Roman"/>
              </a:rPr>
              <a:t>UNECE Transport Infrastructure Agreements (1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governmental Agre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e the E networ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ablish Infrastructure Parame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up a Numbering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main E-W and N-S ro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UNlogo1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B321-F1BA-404F-BF00-9B0A4F3E491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F904FB-DBEB-455A-86DB-F7ECBFA8753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ff"/>
                </a:solidFill>
                <a:latin typeface="Times New Roman"/>
              </a:rPr>
              <a:t>UNECE Transport Infrastructure Agreements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gally binding, but no deadl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acting Parties commit themselves to implement th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 to d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ised in the 90’s after the fall of Iron Curt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ce 2000, extended to Caucasus, Central A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UNlogo1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49A4-7F45-4DAA-9997-44595FE3524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A5CEFE-D189-4969-A8E0-D59B5BE132D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ff"/>
                </a:solidFill>
                <a:latin typeface="Times New Roman"/>
              </a:rPr>
              <a:t>UNECE Transport Infrastructure Agreements (3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AGR, for roa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AGC, for rail l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AGTC, for combined/intermodal transport and related install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AGN, for inland waterway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UNlogo1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5186-DAD6-44E7-9B14-A58B6AB8202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9C53AF-36C6-4000-AEF3-DE348DC1B0F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ff"/>
                </a:solidFill>
                <a:latin typeface="Times New Roman"/>
              </a:rPr>
              <a:t>UNECE Transport Infrastructure Agreements: The AGR, of 197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33 States Par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The E-road network, a visible re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Includes E roads in Caucasus and Central Asian coun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UNlogo1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3B67-9443-42A6-9409-5DF786D855F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28E8E3-4CF0-41DA-822D-1DEA819F205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145280" y="765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o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7000" y="1128600"/>
            <a:ext cx="9074160" cy="5175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132680" y="54936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tor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33360"/>
            <a:ext cx="64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875640" y="549360"/>
          <a:ext cx="334800" cy="50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75640" y="549360"/>
                    <a:ext cx="3348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1476360" y="30492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 – Road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52280" y="187200"/>
            <a:ext cx="1828800" cy="498600"/>
            <a:chOff x="152280" y="187200"/>
            <a:chExt cx="1828800" cy="498600"/>
          </a:xfrm>
        </p:grpSpPr>
        <p:pic>
          <p:nvPicPr>
            <p:cNvPr id="70" name="ecelogo" descr="United Nations Economic Commission for Europe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781200" y="250920"/>
              <a:ext cx="1199880" cy="43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UNlogo1" descr=""/>
            <p:cNvPicPr/>
            <p:nvPr/>
          </p:nvPicPr>
          <p:blipFill>
            <a:blip r:embed="rId6"/>
            <a:stretch/>
          </p:blipFill>
          <p:spPr>
            <a:xfrm>
              <a:off x="152280" y="187200"/>
              <a:ext cx="609840" cy="49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FFD7-4633-465E-94FC-B5B4B0F0313C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025150-EF5D-4176-955C-009A0C89717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-195120" y="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7440" y="190440"/>
            <a:ext cx="6658200" cy="10796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-Road network in Caucasus and Central As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NECE Transport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3E62-2CB0-4973-892D-98BC43EF3269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98A328-E9EC-4AB1-96ED-BC66806C5A2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9T07:13:55Z</dcterms:created>
  <dc:creator>Pesut Miodrag</dc:creator>
  <dc:description/>
  <dc:language>en-US</dc:language>
  <cp:lastModifiedBy>Otradnova</cp:lastModifiedBy>
  <dcterms:modified xsi:type="dcterms:W3CDTF">2004-10-25T11:49:39Z</dcterms:modified>
  <cp:revision>53</cp:revision>
  <dc:subject/>
  <dc:title>Third International Euro-Asian Conference on Transport St.Petersburg, 11-12 September 2003</dc:title>
</cp:coreProperties>
</file>