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5.png" ContentType="image/png"/>
  <Override PartName="/ppt/media/image14.wmf" ContentType="image/x-wmf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C46E-5D42-48D5-BB7E-9B4C0EF7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CD4D-0A62-4DE0-8209-7FEC5C2D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426B-E73A-40CB-8926-39215344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99A9-3C2F-4868-A354-1C393AB0B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056-9867-464A-B8D3-3BC12482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336-3BBB-4107-BCE6-1A3209D9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90EF-6BE6-4D30-9438-45DE18ED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6046-098A-43E5-A5A2-A997B40F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E97-7D07-4527-BA22-D107E282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6C6B-FEAD-447D-9653-3893E59A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C92-EA9C-413F-9192-7152522C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79D-8E35-4D87-B6C8-7167DA2A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CC13-6D97-487F-9EDE-D62120176F29}" type="datetime3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668F-7662-4BF0-B973-B9B3CDDFC92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unece.org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hyperlink" Target="http://www.unece.org/" TargetMode="External"/><Relationship Id="rId6" Type="http://schemas.openxmlformats.org/officeDocument/2006/relationships/image" Target="../media/image4.jpe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unece.org/" TargetMode="External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nece.org/trans/main/ter/map.html" TargetMode="External"/><Relationship Id="rId2" Type="http://schemas.openxmlformats.org/officeDocument/2006/relationships/image" Target="../media/image13.png"/><Relationship Id="rId3" Type="http://schemas.openxmlformats.org/officeDocument/2006/relationships/hyperlink" Target="http://www.unece.org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hyperlink" Target="http://www.unece.org/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6761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modal Transport between Europe and Asi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role of the UNEC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37720" y="40384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José Capel Ferrer, 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Director, Transport Divi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United Nations Economic Commission for Europe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(UNEC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728-2B08-428A-AC76-E670761BECE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FD3741-8CCC-44FB-87AA-144C6E239BF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C, of 198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4 States Pa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The E-rail net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Common infrastructure parameters, basis for interoperabilit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ncludes E rail lines in Caucasus and Central Asian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7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51C-13D7-4E0B-B058-EAA43F1B82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B6F73-8A82-4D18-9670-2C53A8038F3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262080" y="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171880" y="57240"/>
            <a:ext cx="6657840" cy="1079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Rail network in Caucasus and Central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D8D7-45B1-4A1B-AE56-688F2491EE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C10B8-0E66-4961-B3BC-AFF5285B24E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TC, of 199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6 States Par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Legal framework for coherent development of infrastructure </a:t>
            </a:r>
            <a:r>
              <a:rPr b="1" lang="fr-CH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d</a:t>
            </a: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 performanc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Minimum infrastructur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Minimum operational/performance standar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Being extended to Caucasus,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FFD-44DC-4092-9A4A-78289927C93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A8183-6ACD-4D27-BA42-CF98146E06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N, of 199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13 States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E-inland waterway net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0A5-9DE8-4128-9CBE-E10E36EB60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E2672-2EED-45A0-981E-612036A525B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47920" y="106200"/>
            <a:ext cx="70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inland waterway networ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52280" y="38160"/>
            <a:ext cx="1828800" cy="498240"/>
            <a:chOff x="152280" y="38160"/>
            <a:chExt cx="1828800" cy="498240"/>
          </a:xfrm>
        </p:grpSpPr>
        <p:pic>
          <p:nvPicPr>
            <p:cNvPr id="89" name="ecelogo" descr="United Nations Economic Commission for Europe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81200" y="10152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UNlogo1" descr=""/>
            <p:cNvPicPr/>
            <p:nvPr/>
          </p:nvPicPr>
          <p:blipFill>
            <a:blip r:embed="rId3"/>
            <a:stretch/>
          </p:blipFill>
          <p:spPr>
            <a:xfrm>
              <a:off x="152280" y="3816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1" name="EIW_colour" descr=""/>
          <p:cNvPicPr/>
          <p:nvPr/>
        </p:nvPicPr>
        <p:blipFill>
          <a:blip r:embed="rId4"/>
          <a:stretch/>
        </p:blipFill>
        <p:spPr>
          <a:xfrm>
            <a:off x="633240" y="552600"/>
            <a:ext cx="7844040" cy="569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A4A8-9BDE-4A8E-BCF4-52DA98642422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CE059E-43A1-43D7-BB91-F9C5A200762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Infrastructure Planning Too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-road Traffic Census every 5 yea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-rail Traffic Census: first in 200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uidelines for Transport Infrastructure Project Appraisal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cio-Economic Cost Benefit Analysis, including safety, environmental, policy asp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sed on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EU, EBRD, EIB, WB, national best practice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9372-0238-447B-8974-396E768810C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0406D8-222D-4976-823B-AE58E47E7A5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05120" y="95400"/>
            <a:ext cx="5181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-road Traffic Census in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066680"/>
          <a:ext cx="8153280" cy="556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153280" cy="55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19320" y="6094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verage Annual Daily Traff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299360" y="247680"/>
          <a:ext cx="1222200" cy="67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99360" y="247680"/>
                    <a:ext cx="122220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"/>
          <p:cNvGrpSpPr/>
          <p:nvPr/>
        </p:nvGrpSpPr>
        <p:grpSpPr>
          <a:xfrm>
            <a:off x="57240" y="149400"/>
            <a:ext cx="1828800" cy="498240"/>
            <a:chOff x="57240" y="149400"/>
            <a:chExt cx="1828800" cy="498240"/>
          </a:xfrm>
        </p:grpSpPr>
        <p:pic>
          <p:nvPicPr>
            <p:cNvPr id="102" name="ecelogo" descr="United Nations Economic Comm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86160" y="21276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UNlogo1" descr=""/>
            <p:cNvPicPr/>
            <p:nvPr/>
          </p:nvPicPr>
          <p:blipFill>
            <a:blip r:embed="rId7"/>
            <a:stretch/>
          </p:blipFill>
          <p:spPr>
            <a:xfrm>
              <a:off x="57240" y="14940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B1F-AEEC-4A58-87ED-CAAE9A0E93D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82AA3B-BC29-466A-8588-B9DDFAA4FAB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27080" y="1501920"/>
          <a:ext cx="8893080" cy="50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7080" y="1501920"/>
                    <a:ext cx="8893080" cy="50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143000" y="304920"/>
            <a:ext cx="7058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-road Traffic Census in 2000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83808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Percentage of Heavy Goods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753320" y="679320"/>
          <a:ext cx="1192320" cy="5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53320" y="679320"/>
                    <a:ext cx="11923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" name=""/>
          <p:cNvGrpSpPr/>
          <p:nvPr/>
        </p:nvGrpSpPr>
        <p:grpSpPr>
          <a:xfrm>
            <a:off x="152280" y="380880"/>
            <a:ext cx="1828800" cy="498600"/>
            <a:chOff x="152280" y="380880"/>
            <a:chExt cx="1828800" cy="498600"/>
          </a:xfrm>
        </p:grpSpPr>
        <p:pic>
          <p:nvPicPr>
            <p:cNvPr id="111" name="ecelogo" descr="United Nations Economic Commission for Europe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781200" y="44460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UNlogo1" descr=""/>
            <p:cNvPicPr/>
            <p:nvPr/>
          </p:nvPicPr>
          <p:blipFill>
            <a:blip r:embed="rId7"/>
            <a:stretch/>
          </p:blipFill>
          <p:spPr>
            <a:xfrm>
              <a:off x="152280" y="38088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E96A-2DFB-433E-9903-AEF76FDDE9B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98D8-D667-4981-9300-5AF0BE7DB5D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TEM and TER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-regional cooperation frameworks for developing E networks in E&amp;SE Euro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N Trust Fund Cooperation Agre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eering Committees, PCO’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ocusing on Corridor related activ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EM and TER Master Pl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1151-EC1E-4A4A-96DD-BAF8F70FAC0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05ACC3-6890-4E29-BCB9-1CC38D27814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671400"/>
            <a:ext cx="8736120" cy="61786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476360" y="1461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M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52280" y="76320"/>
            <a:ext cx="1828800" cy="498240"/>
            <a:chOff x="152280" y="76320"/>
            <a:chExt cx="1828800" cy="498240"/>
          </a:xfrm>
        </p:grpSpPr>
        <p:pic>
          <p:nvPicPr>
            <p:cNvPr id="119" name="" descr="United Nations Economic Commission for Europe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81200" y="139680"/>
              <a:ext cx="119988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4"/>
            <a:stretch/>
          </p:blipFill>
          <p:spPr>
            <a:xfrm>
              <a:off x="152280" y="76320"/>
              <a:ext cx="609840" cy="49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518-D99F-4467-AFC9-2CD299192C27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07EB7-5663-4E7A-B1B4-D2E127A7C86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ntermodal Transport between Europe and Asia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role of the UNE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ransport Infrastructure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Border Crosssing Facilitat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ter-regional Coop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7A5-5786-4B52-94F4-273E562D02D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B3B5DF-F844-426D-9287-55687245A33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0" y="1239840"/>
            <a:ext cx="9144000" cy="4236840"/>
            <a:chOff x="0" y="1239840"/>
            <a:chExt cx="9144000" cy="4236840"/>
          </a:xfrm>
        </p:grpSpPr>
        <p:sp>
          <p:nvSpPr>
            <p:cNvPr id="122" name=""/>
            <p:cNvSpPr/>
            <p:nvPr/>
          </p:nvSpPr>
          <p:spPr>
            <a:xfrm>
              <a:off x="0" y="1239840"/>
              <a:ext cx="914400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0" y="1239840"/>
              <a:ext cx="9144000" cy="42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ccccff"/>
                  </a:solidFill>
                  <a:uFillTx/>
                  <a:latin typeface="Verdana"/>
                  <a:hlinkClick r:id="rId1"/>
                </a:rPr>
                <a:t>  </a:t>
              </a:r>
              <a:r>
                <a:rPr b="0" lang="en-US" sz="272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en-US" sz="10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80880" y="762120"/>
            <a:ext cx="8151840" cy="5867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476360" y="26028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TER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52280" y="152280"/>
            <a:ext cx="1828800" cy="498600"/>
            <a:chOff x="152280" y="152280"/>
            <a:chExt cx="1828800" cy="498600"/>
          </a:xfrm>
        </p:grpSpPr>
        <p:pic>
          <p:nvPicPr>
            <p:cNvPr id="127" name="" descr="United Nations Economic Commission for Europe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81200" y="21600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5"/>
            <a:stretch/>
          </p:blipFill>
          <p:spPr>
            <a:xfrm>
              <a:off x="152280" y="15228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541D-C7F7-4CCE-8973-87ED00DFE98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EF4283-E90E-43A0-84FA-5D49BAF32A3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Euro-Asian Transport Link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R, AGC include Euro-Asian roads, rail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UNECE-ESCAP: Strategic Vision / Project on Capacity Building in Developing EATL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Inland Transport Committee to adopt EATL as priority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A8A-6C19-4D20-8319-0A45ADE6F1F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8C388-11E4-487B-89AA-A0300038DD2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2971800"/>
            <a:ext cx="80769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Int. Convention on the Harmonization of Frontier Controls of Go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Harmonization and reduction of formalities, contr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National coordination, international cooperation of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Customs, Medico-Sanitary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Veterinary, Phyto-Sanitary, Compliance with technical standards,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xport, import and transit procedures, All mo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F06-DA99-4DD6-8192-3CC92F4A8E7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30329F-60B8-44FD-B46D-9806227C29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600" spc="-1" strike="noStrike">
                <a:solidFill>
                  <a:srgbClr val="ffffff"/>
                </a:solidFill>
                <a:latin typeface="Times New Roman"/>
              </a:rPr>
              <a:t>Customs Convention on Contain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Facilitation of temporary importation of containers in international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No documentation or guarantee requ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Restriction on internal/domestic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1BC-56C4-4369-AAD5-2BAA987546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F0A513-CFAB-4E3E-8530-C4E361F17FA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Draft Convention on International Customs Transit Procedures for the Carriage of Goods by Rail 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under Cover of SMGS Consignment No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MGS Consignment acceptable as Customs document (declaration) in SMGS count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Facilitation of Customs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95E-92A6-4CCC-A1C7-44C1A14582C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B315DE-C93D-4ADB-8385-3F1847D53E4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Border Crossing Facilitation (4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UNECE Resolution on SMGS Consignment N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Acceptance of SMGS Consignment Note as Customs document/decl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Temporary solution until entry into force of « Rail Customs Transit Convention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6DB8-DDE2-420E-8D3D-0557BE0DC3E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0F926-B8D8-4B43-BF61-6BAC1FC9507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uro-Asian Cooperative Arrangement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UN Development Account Proj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« </a:t>
            </a: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Capacity Building for Developing Interregional Land and Land-cum-sea Transport Linkages</a:t>
            </a: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 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326-89FC-4B74-A564-D89B39A8280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EA638-4229-4618-8AFC-7A4F1927355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1752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on Capacity Buil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ackground</a:t>
            </a: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Jointly implemented by the five UN Regional Commi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Funding under UN Development Accou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Budget: US$ 1,25 Mio (up to 2006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200" spc="-1" strike="noStrike">
                <a:solidFill>
                  <a:srgbClr val="ffffff"/>
                </a:solidFill>
                <a:latin typeface="Times New Roman"/>
              </a:rPr>
              <a:t>Euro-Asian transport links component: 32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F961-17E5-4D43-A1C2-8F4B7DDB005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753E6-AC20-4CA6-9175-37F43B86209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971800"/>
            <a:ext cx="79246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Assist Member States of UNECE, ESCAP in strengthening national capacity to  develop interregional transport lin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Promote cooperation to facilitate trade and tour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n close UNECE-ESCAP cooperatio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4123-674F-4EA9-B4A9-F4F4F1E3F99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97CD7-39E8-4644-AF08-8D5DDB1BFB9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120" cy="663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0020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0" y="12952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240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04920" y="990720"/>
            <a:ext cx="8610480" cy="5222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1337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ECE–ESCAP Capacity Building Project Euro-Asian Transport Links: Countries involv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811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fghanistan, Armenia, Azerbaijan, Belarus, Bulgaria, China, Georgia, Iran, Kazakhstan, Kyrgyjzstan, Moldova, Romania, Russian Federation, Tajikistan, Turkmenistan, Turkey, Ukraine, Uzbekist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E4E-3134-400B-BCBE-5AF42BCC5FB4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BB8C5-E7FA-4098-9905-ED0F68BC854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ansport Infrastructure Development in the UNE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352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ransport Infrastructure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frastructure Planning Too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EM and TER Proje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Euro-Asian Transport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34CE-F2D7-42BA-9173-94660519A0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B07E5-DCA7-452C-A97A-5449BCB0F62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28954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1st Expert Group Meeting, Almaty, March 2004: Strategy for developing Euro-Asian transport lin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Identification of main routes along the four main Euro-Asian Corridors agreed internation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Addressing intermodal and border crossing asp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ffff"/>
                </a:solidFill>
                <a:latin typeface="Times New Roman"/>
              </a:rPr>
              <a:t>Identification of priority projects along main ro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2nd Expert Group Meeting: Odessa, 3-5 Novemb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2E05-C232-4BE4-B83B-5B15D6F36C3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82F52-BCE7-4D88-B06F-82CE0C78C95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62120" cy="663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-328680" y="-2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09480" y="990720"/>
          <a:ext cx="7925040" cy="533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990720"/>
                    <a:ext cx="792504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64D-2568-4963-BF9B-B1D0E0233893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1D2E0B-04C7-4A3E-846F-4D73C8F487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30481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o be done in 2005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nalysis of transport times and cos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Strenghtening implementation of main international agreements and conven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Strengthening national transport&amp; trade bo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5CC-EC87-4211-9F06-89E384C7F9F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448BAB-5E89-4287-9128-ABA77DE54A2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UNDA Project Euro-Asian Transport Links Compon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3123720"/>
            <a:ext cx="81532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o be done in 2006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Database with contact details of experts, institu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Creation and maintenance of Project websi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Organization of a workshop on </a:t>
            </a:r>
            <a:r>
              <a:rPr b="1" lang="fr-CH" sz="2800" spc="-1" strike="noStrike">
                <a:solidFill>
                  <a:srgbClr val="ffffff"/>
                </a:solidFill>
                <a:latin typeface="Times New Roman"/>
              </a:rPr>
              <a:t>Sharing of less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C1A-0857-45ED-94ED-313848B822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BE05DE-50E9-46A9-8F89-BF77905D217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’s nex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Extend the AGTC to Caucasus and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Implement other relevant UNECE Conventions to strengthen international harmonization, simplification of rules and proced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trengthen ECMT-UNECE and ESCAP-UNECE co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Support UNDA Project on Capacity Buil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8539-50C4-49D8-AE4E-090D05D15FB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D0484-4251-43E9-8403-6D70BD93836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2004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www.unece.org/tran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UNlogo1" descr=""/>
          <p:cNvPicPr/>
          <p:nvPr/>
        </p:nvPicPr>
        <p:blipFill>
          <a:blip r:embed="rId1"/>
          <a:stretch/>
        </p:blipFill>
        <p:spPr>
          <a:xfrm>
            <a:off x="3676680" y="129528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BE73-4CFB-4B0A-87A6-78C8C6A4477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B47FD2-72DD-451C-81E7-A02041EB73B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1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governmental Agre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e the E networ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stablish Infrastructure Parame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t up a Numbering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main E-W and N-S rou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32B0-9916-42D1-BC71-5F7E7716D1B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40C6D-D8D3-45BF-8F28-F1F3CE6B24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2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0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, but no deadli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racting Parties commit themselves to implement th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p to d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ed in the 90’s after the fall of Iron Cur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2000, extended to Caucasus, Central A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E390-FB70-47B6-9DA4-F09E9FB004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B5CC1-FA35-4D26-8B46-16197B92680F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 (3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R, for roa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C, for rail li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TC, for combined/intermodal transport and related install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AGN, for inland waterway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D253-2F56-49F8-8870-2E49F20082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90C99-1A0C-418D-9E4D-7EE22BB5CC5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000" spc="-1" strike="noStrike">
                <a:solidFill>
                  <a:srgbClr val="ffffff"/>
                </a:solidFill>
                <a:latin typeface="Times New Roman"/>
              </a:rPr>
              <a:t>UNECE Transport Infrastructure Agreements: The AGR, of 197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33 States Par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The E-road network, a visible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ff"/>
                </a:solidFill>
                <a:latin typeface="Times New Roman"/>
              </a:rPr>
              <a:t>Includes E roads in Caucasus and Central Asian countr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UNlogo1" descr=""/>
          <p:cNvPicPr/>
          <p:nvPr/>
        </p:nvPicPr>
        <p:blipFill>
          <a:blip r:embed="rId1"/>
          <a:stretch/>
        </p:blipFill>
        <p:spPr>
          <a:xfrm>
            <a:off x="3657600" y="228600"/>
            <a:ext cx="167652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564F-19E9-49FB-904A-9984CC034A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DFD435-36A1-4EFE-BF1E-C2B3472CCC7D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145280" y="765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o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7000" y="1128600"/>
            <a:ext cx="9074160" cy="5175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132680" y="5493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tor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19280" y="333360"/>
            <a:ext cx="648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75640" y="549360"/>
          <a:ext cx="33480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5640" y="549360"/>
                    <a:ext cx="334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476360" y="3049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E – Roa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52280" y="187200"/>
            <a:ext cx="1828800" cy="498600"/>
            <a:chOff x="152280" y="187200"/>
            <a:chExt cx="1828800" cy="498600"/>
          </a:xfrm>
        </p:grpSpPr>
        <p:pic>
          <p:nvPicPr>
            <p:cNvPr id="70" name="ecelogo" descr="United Nations Economic Commission for Europe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781200" y="250920"/>
              <a:ext cx="1199880" cy="434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UNlogo1" descr=""/>
            <p:cNvPicPr/>
            <p:nvPr/>
          </p:nvPicPr>
          <p:blipFill>
            <a:blip r:embed="rId6"/>
            <a:stretch/>
          </p:blipFill>
          <p:spPr>
            <a:xfrm>
              <a:off x="152280" y="187200"/>
              <a:ext cx="609840" cy="49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A01D-C583-4938-AAAC-BD30B4E4B8C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24AFB-C449-40F5-AC68-2A8471E9EC44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195120" y="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7440" y="190440"/>
            <a:ext cx="6658200" cy="10796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-Road network in Caucasus and Central As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ECE Transport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UNECE Transport Divis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C50A-4D04-40BF-908C-5AD27ECF771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D28485-E3B2-400A-B9F6-D3E08739D7A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9T07:13:55Z</dcterms:created>
  <dc:creator>Pesut Miodrag</dc:creator>
  <dc:description/>
  <dc:language>en-US</dc:language>
  <cp:lastModifiedBy>Otradnova</cp:lastModifiedBy>
  <dcterms:modified xsi:type="dcterms:W3CDTF">2004-10-25T11:49:39Z</dcterms:modified>
  <cp:revision>53</cp:revision>
  <dc:subject/>
  <dc:title>Third International Euro-Asian Conference on Transport St.Petersburg, 11-12 September 2003</dc:title>
</cp:coreProperties>
</file>