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141-7E79-418D-B06F-69743DC8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323-6BF5-4602-A4A8-376A1E43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D78-90AA-4880-82CB-C2142DD4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8B1-4080-4E09-830B-2BC23309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DFB7-593D-4AAF-BDF6-77E2B4F4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6A7-2E4F-4B9A-A0FE-54850FEB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8E83-C76D-4A4B-BE60-0818832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3798-9606-4FAB-87AA-18C38E28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BB7-A8AD-4372-ADC5-B6F63E4B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5BD9-DF43-483E-A5FF-B59B2820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78D-5BFA-4D79-B4D1-260CE16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3BA-28A5-4178-BDF4-4770CD82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9C2-9F9A-4197-A507-6CC9E54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623-C1F9-483E-A1DD-8149FAF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A348-D1DA-4C6D-B7D2-5F7699E6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1874-5BC6-406B-8B23-11C44370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868-201A-4AD9-BF7C-751296D3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FEF-27D5-4FE0-ABD1-013B45D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43E-7A02-4706-897D-1883AB77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C65-DE88-4C32-ABB1-F6D2DB8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2B5-7732-4B20-8E9F-AF645608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4C7-9416-49EC-97DA-D77EB9F1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505-5AE3-4786-8353-DA5FF1D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560-B0BA-40FD-AC2E-F4EFFD6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7622-0134-4085-9481-DDA4B57C85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442-1D5C-4A09-9E71-6BCFC419DA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9218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CMT/UNECE Seminar on Intermodal Transport between Europe and Asia: Opportunities and Challeng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000" y="4292280"/>
            <a:ext cx="7010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ry C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or, Transport and Tourism Div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ed Nations Economic and Social Commission for Asia and the Pa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UNESCA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2205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trategic Vision of the Development of Transport between Europe and Asia:  Perspectives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Building Blocks for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Euro-Asian Transpor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sian High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rans-Asian Rail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acil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lmaty Programme of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grated approach to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e/Transport Facilitation Committ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e specific task force/cl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r more information, please vis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www.unescap.org/ttdw/index.a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76040"/>
            <a:ext cx="91440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UNESCAP Transport and Tourism Division’s Areas of Foc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916280"/>
            <a:ext cx="77104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rastructure: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ed development of regional transport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od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ilitation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al of physical and non-physical barriers to international transport, through intergovernmental agreements and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ther Transport Policy Issu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itime forecasting model and port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-private partnerships in transport invest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609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ee Map Attach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Intergovernmental Agreement on the Asian Highway Network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8980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Drew on experience of the UNECE’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an Agreement on Main International Traffic Arteries (AGR), 197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Agreement sets ou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AH network route alig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Design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Negotiating proced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 countries signed in April 2004, with 3 definitive signatures (Agreement comes into force following accession by 8 count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042920" y="836640"/>
            <a:ext cx="7777080" cy="6116040"/>
            <a:chOff x="1042920" y="836640"/>
            <a:chExt cx="7777080" cy="6116040"/>
          </a:xfrm>
        </p:grpSpPr>
        <p:grpSp>
          <p:nvGrpSpPr>
            <p:cNvPr id="123" name=""/>
            <p:cNvGrpSpPr/>
            <p:nvPr/>
          </p:nvGrpSpPr>
          <p:grpSpPr>
            <a:xfrm>
              <a:off x="1042920" y="836640"/>
              <a:ext cx="6984720" cy="2375640"/>
              <a:chOff x="1042920" y="836640"/>
              <a:chExt cx="6984720" cy="237564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042920" y="1142640"/>
                <a:ext cx="6234480" cy="2069640"/>
                <a:chOff x="1042920" y="1142640"/>
                <a:chExt cx="6234480" cy="2069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42920" y="1142640"/>
                  <a:ext cx="6234480" cy="1366560"/>
                </a:xfrm>
                <a:custGeom>
                  <a:avLst/>
                  <a:gdLst/>
                  <a:ahLst/>
                  <a:rect l="l" t="t" r="r" b="b"/>
                  <a:pathLst>
                    <a:path w="3788" h="812">
                      <a:moveTo>
                        <a:pt x="3765" y="812"/>
                      </a:moveTo>
                      <a:lnTo>
                        <a:pt x="3718" y="776"/>
                      </a:lnTo>
                      <a:lnTo>
                        <a:pt x="3750" y="728"/>
                      </a:lnTo>
                      <a:lnTo>
                        <a:pt x="3788" y="600"/>
                      </a:lnTo>
                      <a:lnTo>
                        <a:pt x="3788" y="504"/>
                      </a:lnTo>
                      <a:lnTo>
                        <a:pt x="3645" y="420"/>
                      </a:lnTo>
                      <a:lnTo>
                        <a:pt x="3531" y="391"/>
                      </a:lnTo>
                      <a:lnTo>
                        <a:pt x="3452" y="332"/>
                      </a:lnTo>
                      <a:lnTo>
                        <a:pt x="3421" y="250"/>
                      </a:lnTo>
                      <a:lnTo>
                        <a:pt x="3292" y="210"/>
                      </a:lnTo>
                      <a:lnTo>
                        <a:pt x="3223" y="238"/>
                      </a:lnTo>
                      <a:lnTo>
                        <a:pt x="2958" y="310"/>
                      </a:lnTo>
                      <a:lnTo>
                        <a:pt x="2898" y="252"/>
                      </a:lnTo>
                      <a:lnTo>
                        <a:pt x="2872" y="287"/>
                      </a:lnTo>
                      <a:lnTo>
                        <a:pt x="2758" y="316"/>
                      </a:lnTo>
                      <a:lnTo>
                        <a:pt x="2734" y="295"/>
                      </a:lnTo>
                      <a:lnTo>
                        <a:pt x="2648" y="343"/>
                      </a:lnTo>
                      <a:lnTo>
                        <a:pt x="2608" y="328"/>
                      </a:lnTo>
                      <a:lnTo>
                        <a:pt x="2611" y="301"/>
                      </a:lnTo>
                      <a:lnTo>
                        <a:pt x="2528" y="193"/>
                      </a:lnTo>
                      <a:lnTo>
                        <a:pt x="2419" y="168"/>
                      </a:lnTo>
                      <a:lnTo>
                        <a:pt x="2360" y="92"/>
                      </a:lnTo>
                      <a:lnTo>
                        <a:pt x="2310" y="59"/>
                      </a:lnTo>
                      <a:lnTo>
                        <a:pt x="2226" y="84"/>
                      </a:lnTo>
                      <a:lnTo>
                        <a:pt x="2083" y="65"/>
                      </a:lnTo>
                      <a:lnTo>
                        <a:pt x="1949" y="67"/>
                      </a:lnTo>
                      <a:lnTo>
                        <a:pt x="1886" y="110"/>
                      </a:lnTo>
                      <a:lnTo>
                        <a:pt x="1799" y="125"/>
                      </a:lnTo>
                      <a:lnTo>
                        <a:pt x="1730" y="101"/>
                      </a:lnTo>
                      <a:lnTo>
                        <a:pt x="1585" y="89"/>
                      </a:lnTo>
                      <a:lnTo>
                        <a:pt x="1528" y="98"/>
                      </a:lnTo>
                      <a:lnTo>
                        <a:pt x="1344" y="59"/>
                      </a:lnTo>
                      <a:lnTo>
                        <a:pt x="1226" y="6"/>
                      </a:lnTo>
                      <a:lnTo>
                        <a:pt x="932" y="0"/>
                      </a:lnTo>
                      <a:lnTo>
                        <a:pt x="664" y="17"/>
                      </a:lnTo>
                      <a:lnTo>
                        <a:pt x="512" y="25"/>
                      </a:lnTo>
                      <a:lnTo>
                        <a:pt x="480" y="48"/>
                      </a:lnTo>
                      <a:lnTo>
                        <a:pt x="356" y="44"/>
                      </a:lnTo>
                      <a:lnTo>
                        <a:pt x="260" y="34"/>
                      </a:lnTo>
                      <a:lnTo>
                        <a:pt x="0" y="126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84240" y="1142640"/>
                  <a:ext cx="3722760" cy="2069640"/>
                </a:xfrm>
                <a:custGeom>
                  <a:avLst/>
                  <a:gdLst/>
                  <a:ahLst/>
                  <a:rect l="l" t="t" r="r" b="b"/>
                  <a:pathLst>
                    <a:path w="2423" h="1318">
                      <a:moveTo>
                        <a:pt x="2423" y="1292"/>
                      </a:moveTo>
                      <a:lnTo>
                        <a:pt x="2349" y="1318"/>
                      </a:lnTo>
                      <a:lnTo>
                        <a:pt x="2178" y="1314"/>
                      </a:lnTo>
                      <a:lnTo>
                        <a:pt x="1953" y="1287"/>
                      </a:lnTo>
                      <a:lnTo>
                        <a:pt x="1683" y="1125"/>
                      </a:lnTo>
                      <a:lnTo>
                        <a:pt x="1485" y="979"/>
                      </a:lnTo>
                      <a:lnTo>
                        <a:pt x="1359" y="846"/>
                      </a:lnTo>
                      <a:lnTo>
                        <a:pt x="1274" y="793"/>
                      </a:lnTo>
                      <a:lnTo>
                        <a:pt x="1226" y="799"/>
                      </a:lnTo>
                      <a:lnTo>
                        <a:pt x="1162" y="793"/>
                      </a:lnTo>
                      <a:lnTo>
                        <a:pt x="1140" y="739"/>
                      </a:lnTo>
                      <a:lnTo>
                        <a:pt x="964" y="735"/>
                      </a:lnTo>
                      <a:lnTo>
                        <a:pt x="804" y="617"/>
                      </a:lnTo>
                      <a:lnTo>
                        <a:pt x="762" y="732"/>
                      </a:lnTo>
                      <a:lnTo>
                        <a:pt x="711" y="803"/>
                      </a:lnTo>
                      <a:lnTo>
                        <a:pt x="594" y="756"/>
                      </a:lnTo>
                      <a:lnTo>
                        <a:pt x="567" y="702"/>
                      </a:lnTo>
                      <a:lnTo>
                        <a:pt x="576" y="614"/>
                      </a:lnTo>
                      <a:lnTo>
                        <a:pt x="546" y="474"/>
                      </a:lnTo>
                      <a:lnTo>
                        <a:pt x="342" y="243"/>
                      </a:lnTo>
                      <a:lnTo>
                        <a:pt x="336" y="1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521320" y="1689480"/>
                  <a:ext cx="860760" cy="1115640"/>
                </a:xfrm>
                <a:custGeom>
                  <a:avLst/>
                  <a:gdLst/>
                  <a:ahLst/>
                  <a:rect l="l" t="t" r="r" b="b"/>
                  <a:pathLst>
                    <a:path w="523" h="663">
                      <a:moveTo>
                        <a:pt x="523" y="663"/>
                      </a:moveTo>
                      <a:lnTo>
                        <a:pt x="303" y="506"/>
                      </a:lnTo>
                      <a:lnTo>
                        <a:pt x="260" y="440"/>
                      </a:lnTo>
                      <a:lnTo>
                        <a:pt x="232" y="424"/>
                      </a:lnTo>
                      <a:lnTo>
                        <a:pt x="258" y="412"/>
                      </a:lnTo>
                      <a:lnTo>
                        <a:pt x="220" y="403"/>
                      </a:lnTo>
                      <a:lnTo>
                        <a:pt x="199" y="389"/>
                      </a:lnTo>
                      <a:lnTo>
                        <a:pt x="165" y="369"/>
                      </a:lnTo>
                      <a:lnTo>
                        <a:pt x="17" y="229"/>
                      </a:lnTo>
                      <a:lnTo>
                        <a:pt x="0" y="70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22720" y="1666080"/>
                  <a:ext cx="1229400" cy="1480680"/>
                </a:xfrm>
                <a:custGeom>
                  <a:avLst/>
                  <a:gdLst/>
                  <a:ahLst/>
                  <a:rect l="l" t="t" r="r" b="b"/>
                  <a:pathLst>
                    <a:path w="747" h="880">
                      <a:moveTo>
                        <a:pt x="700" y="880"/>
                      </a:moveTo>
                      <a:lnTo>
                        <a:pt x="650" y="862"/>
                      </a:lnTo>
                      <a:lnTo>
                        <a:pt x="646" y="865"/>
                      </a:lnTo>
                      <a:lnTo>
                        <a:pt x="621" y="756"/>
                      </a:lnTo>
                      <a:lnTo>
                        <a:pt x="602" y="659"/>
                      </a:lnTo>
                      <a:lnTo>
                        <a:pt x="722" y="529"/>
                      </a:lnTo>
                      <a:lnTo>
                        <a:pt x="747" y="462"/>
                      </a:lnTo>
                      <a:lnTo>
                        <a:pt x="722" y="504"/>
                      </a:lnTo>
                      <a:lnTo>
                        <a:pt x="429" y="256"/>
                      </a:lnTo>
                      <a:lnTo>
                        <a:pt x="168" y="134"/>
                      </a:lnTo>
                      <a:lnTo>
                        <a:pt x="76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88560" y="2635560"/>
                  <a:ext cx="554400" cy="245160"/>
                </a:xfrm>
                <a:custGeom>
                  <a:avLst/>
                  <a:gdLst/>
                  <a:ahLst/>
                  <a:rect l="l" t="t" r="r" b="b"/>
                  <a:pathLst>
                    <a:path w="362" h="157">
                      <a:moveTo>
                        <a:pt x="362" y="157"/>
                      </a:moveTo>
                      <a:lnTo>
                        <a:pt x="288" y="109"/>
                      </a:lnTo>
                      <a:lnTo>
                        <a:pt x="182" y="0"/>
                      </a:lnTo>
                      <a:lnTo>
                        <a:pt x="99" y="19"/>
                      </a:lnTo>
                      <a:lnTo>
                        <a:pt x="0" y="91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5105160" y="836640"/>
                <a:ext cx="2922480" cy="33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Times New Roman"/>
                    <a:ea typeface="MS PGothic"/>
                  </a:rPr>
                  <a:t>TAR Northern Corridor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340000" y="4724280"/>
              <a:ext cx="6480000" cy="2228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Runs completed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Tianjin Port – Ulaanbaatar: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3 days, 3 hours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      Lianyungang Port – Almaty: 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7 days, 6.5 hours</a:t>
              </a: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Belarus – Ulaanbaatar: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8 days, 15 hou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Vostochny – Malacewicze: 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12 days, 11 hou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Tahoma"/>
                </a:rPr>
                <a:t>Further runs planned for 200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Intergovernmental Agreement on the Trans-Asian Railway Networ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aws 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uropean Agreements, including AGC and AGTC (Important International Combined Transport Lines and Related Installati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SJD Agreement on Organizational and Operational Aspects of Combined Transport Services between Europe and Asia (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t routes and intermodal link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stablish design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stablish Working Group on 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Facilit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anghai Cooperation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ina, Kazakhstan, Kyrgyzstan, Russian Federation, Tajikistan and Uzbekist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ad Transport Facilitation/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in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ight protoc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pen to neighbour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Developing Euro-Asian Transport Linkage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UNECE/UNESCAP Joint Projec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8077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road, rail, water and intermodal link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 focus on improving land transport between Asia  and Europe through Central Asia, Caucasus, Russian Federation,  Iran, Turkey and easter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GM scheduled for November 2004 in Odessa, Ukraine;  Objectives are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ee corridors/l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priority investment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delays and costs at border cross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llaboration with other organiz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0:37:21Z</dcterms:created>
  <dc:creator>YamamotoJ</dc:creator>
  <dc:description/>
  <dc:language>en-US</dc:language>
  <cp:lastModifiedBy>Martin Magold </cp:lastModifiedBy>
  <dcterms:modified xsi:type="dcterms:W3CDTF">2004-09-27T06:23:06Z</dcterms:modified>
  <cp:revision>12</cp:revision>
  <dc:subject/>
  <dc:title>ECMT/UNECE Seminar on Intermodal Transport between Europe and Asia: Opportunities and Challenges</dc:title>
</cp:coreProperties>
</file>