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5253-BC57-47E0-B70F-6F40F6D3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B36-1419-4831-B94C-A3FD938A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B3C0-6E45-4B7F-8B0F-4453B1ECD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460B-6019-4AA6-8108-D4D6499CE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A884-2DA2-4A70-B2FC-C98ECAB4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387C-A68A-4E97-AE42-F207BAA17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F41B-1680-4AAD-8F4B-204748E7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D280-9A8C-4CEA-8722-F7F0AAF1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12A2-87C6-4DAB-9D86-36DDE1FF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6AEE-4158-43FE-AD30-30397873C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0B77D-A51A-4937-8347-5AA8EBC4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32A0-F521-46FB-955C-ACBE0513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5975C-E054-48D8-8DB2-91568D18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C2BA-25F8-4894-A77C-E06D6282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1740-A0F1-48C9-B893-E83D7A80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472F-D10B-42CD-89DB-D99610AD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BFCB-E28E-4CF9-956F-D17FD5C0E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4FD8-5485-47CC-A639-499DF3ED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8946-0F5F-4B3D-971F-2D91DCB2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0246-7937-47EF-8D4F-68BB3AB0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128-DC3A-45BF-AE0C-D2946D05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FBBF-C606-4C2D-BDD2-13F04CFE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4C21-DB73-4FF9-A611-111EEE57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D1EF-33F7-4003-B8E3-85849882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8ADB-0823-4657-BB1F-66774AFAE58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751F-AF75-408E-804A-40E1F7EE1AD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9218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ECMT/UNECE Seminar on Intermodal Transport between Europe and Asia: Opportunities and Challenges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476000" y="4292280"/>
            <a:ext cx="70102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rry C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rector, Transport and Tourism Divi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ted Nations Economic and Social Commission for Asia and the Pacif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UNESCA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187280" y="2205000"/>
            <a:ext cx="74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Strategic Vision of the Development of Transport between Europe and Asia:  Perspectives from 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04560"/>
            <a:ext cx="83170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Building Blocks for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Euro-Asian Transport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26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Asian High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Trans-Asian Railw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Facili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Almaty Programme of A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Integrated approach to Effici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vernment Leader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de/Transport Facilitation Committ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ute specific task force/clus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492280"/>
            <a:ext cx="75438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For more information, please vis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ahoma"/>
              </a:rPr>
              <a:t>http://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ahoma"/>
              </a:rPr>
              <a:t>www.unescap.org/ttdw/index.as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176040"/>
            <a:ext cx="9144000" cy="61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UNESCAP Transport and Tourism Division’s Areas of Focus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1916280"/>
            <a:ext cx="77104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frastructure:</a:t>
            </a: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ordinated development of regional transport net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modal tran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acilitation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oval of physical and non-physical barriers to international transport, through intergovernmental agreements and co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ther Transport Policy Issues: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itime forecasting model and port plan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blic-private partnerships in transport investm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9640" y="609300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See Map Attach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66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Intergovernmental Agreement on the Asian Highway Network</a:t>
            </a:r>
            <a:r>
              <a:rPr b="1" lang="en-US" sz="44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844640"/>
            <a:ext cx="78980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 Unicode MS"/>
              </a:rPr>
              <a:t>Drew on experience of the UNECE’s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uropean Agreement on Main International Traffic Arteries (AGR), 1975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Arial Unicode MS"/>
              </a:rPr>
              <a:t>Agreement sets ou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AH network route alig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Design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Sign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Arial Unicode MS"/>
              </a:rPr>
              <a:t>Negotiating proced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6 countries signed in April 2004, with 3 definitive signatures (Agreement comes into force following accession by 8 countri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2" name=""/>
          <p:cNvGrpSpPr/>
          <p:nvPr/>
        </p:nvGrpSpPr>
        <p:grpSpPr>
          <a:xfrm>
            <a:off x="1042920" y="836640"/>
            <a:ext cx="7777080" cy="6116040"/>
            <a:chOff x="1042920" y="836640"/>
            <a:chExt cx="7777080" cy="6116040"/>
          </a:xfrm>
        </p:grpSpPr>
        <p:grpSp>
          <p:nvGrpSpPr>
            <p:cNvPr id="123" name=""/>
            <p:cNvGrpSpPr/>
            <p:nvPr/>
          </p:nvGrpSpPr>
          <p:grpSpPr>
            <a:xfrm>
              <a:off x="1042920" y="836640"/>
              <a:ext cx="6984720" cy="2375640"/>
              <a:chOff x="1042920" y="836640"/>
              <a:chExt cx="6984720" cy="237564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1042920" y="1142640"/>
                <a:ext cx="6234480" cy="2069640"/>
                <a:chOff x="1042920" y="1142640"/>
                <a:chExt cx="6234480" cy="206964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1042920" y="1142640"/>
                  <a:ext cx="6234480" cy="1366560"/>
                </a:xfrm>
                <a:custGeom>
                  <a:avLst/>
                  <a:gdLst/>
                  <a:ahLst/>
                  <a:rect l="l" t="t" r="r" b="b"/>
                  <a:pathLst>
                    <a:path w="3788" h="812">
                      <a:moveTo>
                        <a:pt x="3765" y="812"/>
                      </a:moveTo>
                      <a:lnTo>
                        <a:pt x="3718" y="776"/>
                      </a:lnTo>
                      <a:lnTo>
                        <a:pt x="3750" y="728"/>
                      </a:lnTo>
                      <a:lnTo>
                        <a:pt x="3788" y="600"/>
                      </a:lnTo>
                      <a:lnTo>
                        <a:pt x="3788" y="504"/>
                      </a:lnTo>
                      <a:lnTo>
                        <a:pt x="3645" y="420"/>
                      </a:lnTo>
                      <a:lnTo>
                        <a:pt x="3531" y="391"/>
                      </a:lnTo>
                      <a:lnTo>
                        <a:pt x="3452" y="332"/>
                      </a:lnTo>
                      <a:lnTo>
                        <a:pt x="3421" y="250"/>
                      </a:lnTo>
                      <a:lnTo>
                        <a:pt x="3292" y="210"/>
                      </a:lnTo>
                      <a:lnTo>
                        <a:pt x="3223" y="238"/>
                      </a:lnTo>
                      <a:lnTo>
                        <a:pt x="2958" y="310"/>
                      </a:lnTo>
                      <a:lnTo>
                        <a:pt x="2898" y="252"/>
                      </a:lnTo>
                      <a:lnTo>
                        <a:pt x="2872" y="287"/>
                      </a:lnTo>
                      <a:lnTo>
                        <a:pt x="2758" y="316"/>
                      </a:lnTo>
                      <a:lnTo>
                        <a:pt x="2734" y="295"/>
                      </a:lnTo>
                      <a:lnTo>
                        <a:pt x="2648" y="343"/>
                      </a:lnTo>
                      <a:lnTo>
                        <a:pt x="2608" y="328"/>
                      </a:lnTo>
                      <a:lnTo>
                        <a:pt x="2611" y="301"/>
                      </a:lnTo>
                      <a:lnTo>
                        <a:pt x="2528" y="193"/>
                      </a:lnTo>
                      <a:lnTo>
                        <a:pt x="2419" y="168"/>
                      </a:lnTo>
                      <a:lnTo>
                        <a:pt x="2360" y="92"/>
                      </a:lnTo>
                      <a:lnTo>
                        <a:pt x="2310" y="59"/>
                      </a:lnTo>
                      <a:lnTo>
                        <a:pt x="2226" y="84"/>
                      </a:lnTo>
                      <a:lnTo>
                        <a:pt x="2083" y="65"/>
                      </a:lnTo>
                      <a:lnTo>
                        <a:pt x="1949" y="67"/>
                      </a:lnTo>
                      <a:lnTo>
                        <a:pt x="1886" y="110"/>
                      </a:lnTo>
                      <a:lnTo>
                        <a:pt x="1799" y="125"/>
                      </a:lnTo>
                      <a:lnTo>
                        <a:pt x="1730" y="101"/>
                      </a:lnTo>
                      <a:lnTo>
                        <a:pt x="1585" y="89"/>
                      </a:lnTo>
                      <a:lnTo>
                        <a:pt x="1528" y="98"/>
                      </a:lnTo>
                      <a:lnTo>
                        <a:pt x="1344" y="59"/>
                      </a:lnTo>
                      <a:lnTo>
                        <a:pt x="1226" y="6"/>
                      </a:lnTo>
                      <a:lnTo>
                        <a:pt x="932" y="0"/>
                      </a:lnTo>
                      <a:lnTo>
                        <a:pt x="664" y="17"/>
                      </a:lnTo>
                      <a:lnTo>
                        <a:pt x="512" y="25"/>
                      </a:lnTo>
                      <a:lnTo>
                        <a:pt x="480" y="48"/>
                      </a:lnTo>
                      <a:lnTo>
                        <a:pt x="356" y="44"/>
                      </a:lnTo>
                      <a:lnTo>
                        <a:pt x="260" y="34"/>
                      </a:lnTo>
                      <a:lnTo>
                        <a:pt x="0" y="126"/>
                      </a:lnTo>
                    </a:path>
                  </a:pathLst>
                </a:custGeom>
                <a:noFill/>
                <a:ln cap="sq" w="414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784240" y="1142640"/>
                  <a:ext cx="3722760" cy="2069640"/>
                </a:xfrm>
                <a:custGeom>
                  <a:avLst/>
                  <a:gdLst/>
                  <a:ahLst/>
                  <a:rect l="l" t="t" r="r" b="b"/>
                  <a:pathLst>
                    <a:path w="2423" h="1318">
                      <a:moveTo>
                        <a:pt x="2423" y="1292"/>
                      </a:moveTo>
                      <a:lnTo>
                        <a:pt x="2349" y="1318"/>
                      </a:lnTo>
                      <a:lnTo>
                        <a:pt x="2178" y="1314"/>
                      </a:lnTo>
                      <a:lnTo>
                        <a:pt x="1953" y="1287"/>
                      </a:lnTo>
                      <a:lnTo>
                        <a:pt x="1683" y="1125"/>
                      </a:lnTo>
                      <a:lnTo>
                        <a:pt x="1485" y="979"/>
                      </a:lnTo>
                      <a:lnTo>
                        <a:pt x="1359" y="846"/>
                      </a:lnTo>
                      <a:lnTo>
                        <a:pt x="1274" y="793"/>
                      </a:lnTo>
                      <a:lnTo>
                        <a:pt x="1226" y="799"/>
                      </a:lnTo>
                      <a:lnTo>
                        <a:pt x="1162" y="793"/>
                      </a:lnTo>
                      <a:lnTo>
                        <a:pt x="1140" y="739"/>
                      </a:lnTo>
                      <a:lnTo>
                        <a:pt x="964" y="735"/>
                      </a:lnTo>
                      <a:lnTo>
                        <a:pt x="804" y="617"/>
                      </a:lnTo>
                      <a:lnTo>
                        <a:pt x="762" y="732"/>
                      </a:lnTo>
                      <a:lnTo>
                        <a:pt x="711" y="803"/>
                      </a:lnTo>
                      <a:lnTo>
                        <a:pt x="594" y="756"/>
                      </a:lnTo>
                      <a:lnTo>
                        <a:pt x="567" y="702"/>
                      </a:lnTo>
                      <a:lnTo>
                        <a:pt x="576" y="614"/>
                      </a:lnTo>
                      <a:lnTo>
                        <a:pt x="546" y="474"/>
                      </a:lnTo>
                      <a:lnTo>
                        <a:pt x="342" y="243"/>
                      </a:lnTo>
                      <a:lnTo>
                        <a:pt x="336" y="13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sq" w="414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521320" y="1689480"/>
                  <a:ext cx="860760" cy="1115640"/>
                </a:xfrm>
                <a:custGeom>
                  <a:avLst/>
                  <a:gdLst/>
                  <a:ahLst/>
                  <a:rect l="l" t="t" r="r" b="b"/>
                  <a:pathLst>
                    <a:path w="523" h="663">
                      <a:moveTo>
                        <a:pt x="523" y="663"/>
                      </a:moveTo>
                      <a:lnTo>
                        <a:pt x="303" y="506"/>
                      </a:lnTo>
                      <a:lnTo>
                        <a:pt x="260" y="440"/>
                      </a:lnTo>
                      <a:lnTo>
                        <a:pt x="232" y="424"/>
                      </a:lnTo>
                      <a:lnTo>
                        <a:pt x="258" y="412"/>
                      </a:lnTo>
                      <a:lnTo>
                        <a:pt x="220" y="403"/>
                      </a:lnTo>
                      <a:lnTo>
                        <a:pt x="199" y="389"/>
                      </a:lnTo>
                      <a:lnTo>
                        <a:pt x="165" y="369"/>
                      </a:lnTo>
                      <a:lnTo>
                        <a:pt x="17" y="229"/>
                      </a:lnTo>
                      <a:lnTo>
                        <a:pt x="0" y="70"/>
                      </a:lnTo>
                      <a:lnTo>
                        <a:pt x="21" y="0"/>
                      </a:lnTo>
                    </a:path>
                  </a:pathLst>
                </a:custGeom>
                <a:noFill/>
                <a:ln cap="sq" w="414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922720" y="1666080"/>
                  <a:ext cx="1229400" cy="1480680"/>
                </a:xfrm>
                <a:custGeom>
                  <a:avLst/>
                  <a:gdLst/>
                  <a:ahLst/>
                  <a:rect l="l" t="t" r="r" b="b"/>
                  <a:pathLst>
                    <a:path w="747" h="880">
                      <a:moveTo>
                        <a:pt x="700" y="880"/>
                      </a:moveTo>
                      <a:lnTo>
                        <a:pt x="650" y="862"/>
                      </a:lnTo>
                      <a:lnTo>
                        <a:pt x="646" y="865"/>
                      </a:lnTo>
                      <a:lnTo>
                        <a:pt x="621" y="756"/>
                      </a:lnTo>
                      <a:lnTo>
                        <a:pt x="602" y="659"/>
                      </a:lnTo>
                      <a:lnTo>
                        <a:pt x="722" y="529"/>
                      </a:lnTo>
                      <a:lnTo>
                        <a:pt x="747" y="462"/>
                      </a:lnTo>
                      <a:lnTo>
                        <a:pt x="722" y="504"/>
                      </a:lnTo>
                      <a:lnTo>
                        <a:pt x="429" y="256"/>
                      </a:lnTo>
                      <a:lnTo>
                        <a:pt x="168" y="134"/>
                      </a:lnTo>
                      <a:lnTo>
                        <a:pt x="76" y="4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sq" w="414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388560" y="2635560"/>
                  <a:ext cx="554400" cy="245160"/>
                </a:xfrm>
                <a:custGeom>
                  <a:avLst/>
                  <a:gdLst/>
                  <a:ahLst/>
                  <a:rect l="l" t="t" r="r" b="b"/>
                  <a:pathLst>
                    <a:path w="362" h="157">
                      <a:moveTo>
                        <a:pt x="362" y="157"/>
                      </a:moveTo>
                      <a:lnTo>
                        <a:pt x="288" y="109"/>
                      </a:lnTo>
                      <a:lnTo>
                        <a:pt x="182" y="0"/>
                      </a:lnTo>
                      <a:lnTo>
                        <a:pt x="99" y="19"/>
                      </a:lnTo>
                      <a:lnTo>
                        <a:pt x="0" y="91"/>
                      </a:lnTo>
                    </a:path>
                  </a:pathLst>
                </a:custGeom>
                <a:noFill/>
                <a:ln cap="sq" w="414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5105160" y="836640"/>
                <a:ext cx="2922480" cy="3373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Times New Roman"/>
                    <a:ea typeface="MS PGothic"/>
                  </a:rPr>
                  <a:t>TAR Northern Corridor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340000" y="4724280"/>
              <a:ext cx="6480000" cy="22284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0099"/>
                  </a:solidFill>
                  <a:uFillTx/>
                  <a:latin typeface="Tahoma"/>
                </a:rPr>
                <a:t>Runs completed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Tianjin Port – Ulaanbaatar: </a:t>
              </a: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Tahoma"/>
                </a:rPr>
                <a:t>3 days, 3 hours</a:t>
              </a: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      Lianyungang Port – Almaty:  </a:t>
              </a: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Tahoma"/>
                </a:rPr>
                <a:t>7 days, 6.5 hours</a:t>
              </a:r>
              <a:r>
                <a:rPr b="1" lang="en-US" sz="2000" spc="-1" strike="noStrike">
                  <a:solidFill>
                    <a:srgbClr val="000099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Belarus – Ulaanbaatar: </a:t>
              </a: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Tahoma"/>
                </a:rPr>
                <a:t>8 days, 15 hou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Vostochny – Malacewicze:  </a:t>
              </a:r>
              <a:r>
                <a:rPr b="1" lang="en-US" sz="2000" spc="-1" strike="noStrike" u="sng">
                  <a:solidFill>
                    <a:srgbClr val="000099"/>
                  </a:solidFill>
                  <a:uFillTx/>
                  <a:latin typeface="Tahoma"/>
                </a:rPr>
                <a:t>12 days, 11 hou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	</a:t>
              </a: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       </a:t>
              </a:r>
              <a:r>
                <a:rPr b="1" i="1" lang="en-US" sz="2000" spc="-1" strike="noStrike">
                  <a:solidFill>
                    <a:srgbClr val="0066ff"/>
                  </a:solidFill>
                  <a:latin typeface="Tahoma"/>
                </a:rPr>
                <a:t>Further runs planned for 2005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Intergovernmental Agreement on the Trans-Asian Railway Network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Draws o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European Agreements, including AGC and AGTC (Important International Combined Transport Lines and Related Installation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OSJD Agreement on Organizational and Operational Aspects of Combined Transport Services between Europe and Asia (199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Set routes and intermodal link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stablish design stand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stablish Working Group on T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Facilita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hanghai Cooperation Agre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hina, Kazakhstan, Kyrgyzstan, Russian Federation, Tajikistan and Uzbekistan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Road Transport Facilitation/A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Main Agre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Eight protoco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pen to neighbouring count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826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Developing Euro-Asian Transport Linkages</a:t>
            </a:r>
            <a:br>
              <a:rPr sz="3200"/>
            </a:b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 UNECE/UNESCAP Joint Project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773000"/>
            <a:ext cx="80773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tional road, rail, water and intermodal link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in focus on improving land transport between Asia  and Europe through Central Asia, Caucasus, Russian Federation,  Iran, Turkey and eastern Europ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7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GM scheduled for November 2004 in Odessa, Ukraine;  Objectives are 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ree corridors/lin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ntify priority investment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e delays and costs at border cross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mote collaboration with other organiza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0:37:21Z</dcterms:created>
  <dc:creator>YamamotoJ</dc:creator>
  <dc:description/>
  <dc:language>en-US</dc:language>
  <cp:lastModifiedBy>Martin Magold </cp:lastModifiedBy>
  <dcterms:modified xsi:type="dcterms:W3CDTF">2004-09-27T06:23:06Z</dcterms:modified>
  <cp:revision>12</cp:revision>
  <dc:subject/>
  <dc:title>ECMT/UNECE Seminar on Intermodal Transport between Europe and Asia: Opportunities and Challenges</dc:title>
</cp:coreProperties>
</file>