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D69FD-F211-4348-AB23-81023758C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50560" y="1484280"/>
            <a:ext cx="8713800" cy="219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50560" y="3893400"/>
            <a:ext cx="8713800" cy="219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1E855-CBAD-4CB6-BCA9-8942D9932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50560" y="1484280"/>
            <a:ext cx="4252320" cy="219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716000" y="1484280"/>
            <a:ext cx="4252320" cy="219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50560" y="3893400"/>
            <a:ext cx="4252320" cy="219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716000" y="3893400"/>
            <a:ext cx="4252320" cy="219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4D774-71E9-4325-9EE7-D96B8B85D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50560" y="1484280"/>
            <a:ext cx="2805480" cy="219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96800" y="1484280"/>
            <a:ext cx="2805480" cy="219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42680" y="1484280"/>
            <a:ext cx="2805480" cy="219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50560" y="3893400"/>
            <a:ext cx="2805480" cy="219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96800" y="3893400"/>
            <a:ext cx="2805480" cy="219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42680" y="3893400"/>
            <a:ext cx="2805480" cy="219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CF1F6-0773-472A-BDB4-7689FB984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96D97-9CB7-4F75-8386-4FD2CD908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250560" y="1484280"/>
            <a:ext cx="8713800" cy="461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A9747-3ADE-4304-BB99-CDCD69F6E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50560" y="1484280"/>
            <a:ext cx="8713800" cy="461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A0E2C-6698-4FE1-871C-9D5FBBFB7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50560" y="1484280"/>
            <a:ext cx="4252320" cy="461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16000" y="1484280"/>
            <a:ext cx="4252320" cy="461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B9D39-2AEB-4036-84CD-DAB65718B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6F4BD-CEA2-4BC4-A2C0-64A2024F2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684360" y="404280"/>
            <a:ext cx="7772400" cy="36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34131-125F-404D-9A7A-157649E5E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50560" y="1484280"/>
            <a:ext cx="4252320" cy="219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16000" y="1484280"/>
            <a:ext cx="4252320" cy="461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50560" y="3893400"/>
            <a:ext cx="4252320" cy="219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5B2EF-EC42-4DDD-85AA-77895E6AE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50560" y="1484280"/>
            <a:ext cx="8713800" cy="461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E9256-4968-48E1-8751-7631E77D2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50560" y="1484280"/>
            <a:ext cx="4252320" cy="461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16000" y="1484280"/>
            <a:ext cx="4252320" cy="219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716000" y="3893400"/>
            <a:ext cx="4252320" cy="219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91779-0039-47C3-92BD-DFD07347F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50560" y="1484280"/>
            <a:ext cx="4252320" cy="219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16000" y="1484280"/>
            <a:ext cx="4252320" cy="219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50560" y="3893400"/>
            <a:ext cx="8713800" cy="219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F7B08-8640-464E-953D-E38531CC6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50560" y="1484280"/>
            <a:ext cx="8713800" cy="219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250560" y="3893400"/>
            <a:ext cx="8713800" cy="219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24AD8-0E29-4C8F-AB45-311AB11B0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50560" y="1484280"/>
            <a:ext cx="4252320" cy="219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6000" y="1484280"/>
            <a:ext cx="4252320" cy="219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250560" y="3893400"/>
            <a:ext cx="4252320" cy="219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716000" y="3893400"/>
            <a:ext cx="4252320" cy="219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E55D6-F7FF-435B-8DB9-41DAD1302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50560" y="1484280"/>
            <a:ext cx="2805480" cy="219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196800" y="1484280"/>
            <a:ext cx="2805480" cy="219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142680" y="1484280"/>
            <a:ext cx="2805480" cy="219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250560" y="3893400"/>
            <a:ext cx="2805480" cy="219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196800" y="3893400"/>
            <a:ext cx="2805480" cy="219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142680" y="3893400"/>
            <a:ext cx="2805480" cy="219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41B5C-483A-4803-B789-4242E59B7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C668DC-9886-43E1-BB40-39DE01924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250560" y="1484280"/>
            <a:ext cx="8713800" cy="461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266CD8-32FE-41F5-AD20-0D22A26F2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50560" y="1484280"/>
            <a:ext cx="8713800" cy="461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FF5494-441E-44D4-B400-F9173D553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50560" y="1484280"/>
            <a:ext cx="4252320" cy="461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716000" y="1484280"/>
            <a:ext cx="4252320" cy="461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06B1FE-6329-42A6-B9F4-7959DFB72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C5A5E2-03CA-45EB-A48A-4316BB17A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50560" y="1484280"/>
            <a:ext cx="8713800" cy="461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2BCEF-4422-4598-9078-3263D31F0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684360" y="404280"/>
            <a:ext cx="7772400" cy="36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D5291D-C6EF-4D42-A61F-6EB6BF31D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50560" y="1484280"/>
            <a:ext cx="4252320" cy="219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16000" y="1484280"/>
            <a:ext cx="4252320" cy="461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250560" y="3893400"/>
            <a:ext cx="4252320" cy="219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660CEB-7A88-43D9-ACBC-99E92FA08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50560" y="1484280"/>
            <a:ext cx="4252320" cy="461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16000" y="1484280"/>
            <a:ext cx="4252320" cy="219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716000" y="3893400"/>
            <a:ext cx="4252320" cy="219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24FDE4-3289-4CD1-BAFE-C485E49E0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50560" y="1484280"/>
            <a:ext cx="4252320" cy="219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16000" y="1484280"/>
            <a:ext cx="4252320" cy="219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250560" y="3893400"/>
            <a:ext cx="8713800" cy="219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8246F2-BBA4-49B0-9764-41A3893A9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50560" y="1484280"/>
            <a:ext cx="8713800" cy="219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250560" y="3893400"/>
            <a:ext cx="8713800" cy="219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D57ACF-DAF5-4F74-A53B-B049AE354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50560" y="1484280"/>
            <a:ext cx="4252320" cy="219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716000" y="1484280"/>
            <a:ext cx="4252320" cy="219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250560" y="3893400"/>
            <a:ext cx="4252320" cy="219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716000" y="3893400"/>
            <a:ext cx="4252320" cy="219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65F892-4E93-4F7D-AA01-A7BE1C39B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50560" y="1484280"/>
            <a:ext cx="2805480" cy="219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196800" y="1484280"/>
            <a:ext cx="2805480" cy="219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142680" y="1484280"/>
            <a:ext cx="2805480" cy="219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250560" y="3893400"/>
            <a:ext cx="2805480" cy="219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196800" y="3893400"/>
            <a:ext cx="2805480" cy="219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142680" y="3893400"/>
            <a:ext cx="2805480" cy="219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036189-5C02-4078-8533-F599F0257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408852-010F-4F3E-B02B-C8B300D32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250560" y="1484280"/>
            <a:ext cx="8713800" cy="461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E6A2F2-0D96-4562-B875-93C05112D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50560" y="1484280"/>
            <a:ext cx="8713800" cy="461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A876E2-53F5-44C7-8DC7-D8A3A8D13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50560" y="1484280"/>
            <a:ext cx="4252320" cy="461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16000" y="1484280"/>
            <a:ext cx="4252320" cy="461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0B36C-3D93-40F4-B5E7-E89F8235E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50560" y="1484280"/>
            <a:ext cx="4252320" cy="461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16000" y="1484280"/>
            <a:ext cx="4252320" cy="461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B03560-DC41-4B7A-96BE-3EA478DE1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7A4A4A-871B-463D-990D-B04BAD811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684360" y="404280"/>
            <a:ext cx="7772400" cy="36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D6A2D3-02C8-46AD-AF45-BDF1C6E72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50560" y="1484280"/>
            <a:ext cx="4252320" cy="219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716000" y="1484280"/>
            <a:ext cx="4252320" cy="461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250560" y="3893400"/>
            <a:ext cx="4252320" cy="219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BB2A0D-D884-409D-A4F6-D297EAEED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250560" y="1484280"/>
            <a:ext cx="4252320" cy="461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716000" y="1484280"/>
            <a:ext cx="4252320" cy="219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716000" y="3893400"/>
            <a:ext cx="4252320" cy="219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7A1555-5EE6-44C2-8396-3FE46B1BF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50560" y="1484280"/>
            <a:ext cx="4252320" cy="219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716000" y="1484280"/>
            <a:ext cx="4252320" cy="219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250560" y="3893400"/>
            <a:ext cx="8713800" cy="219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377CCB-B205-4182-9830-285945755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50560" y="1484280"/>
            <a:ext cx="8713800" cy="219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250560" y="3893400"/>
            <a:ext cx="8713800" cy="219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2CF796-D02A-4919-98D6-9A2EBD142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50560" y="1484280"/>
            <a:ext cx="4252320" cy="219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716000" y="1484280"/>
            <a:ext cx="4252320" cy="219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50560" y="3893400"/>
            <a:ext cx="4252320" cy="219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716000" y="3893400"/>
            <a:ext cx="4252320" cy="219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93620E-4CB6-4590-AF1D-46A27C815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50560" y="1484280"/>
            <a:ext cx="2805480" cy="219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3196800" y="1484280"/>
            <a:ext cx="2805480" cy="219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142680" y="1484280"/>
            <a:ext cx="2805480" cy="219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250560" y="3893400"/>
            <a:ext cx="2805480" cy="219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3" name="PlaceHolder 6"/>
          <p:cNvSpPr>
            <a:spLocks noGrp="1"/>
          </p:cNvSpPr>
          <p:nvPr>
            <p:ph/>
          </p:nvPr>
        </p:nvSpPr>
        <p:spPr>
          <a:xfrm>
            <a:off x="3196800" y="3893400"/>
            <a:ext cx="2805480" cy="219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4" name="PlaceHolder 7"/>
          <p:cNvSpPr>
            <a:spLocks noGrp="1"/>
          </p:cNvSpPr>
          <p:nvPr>
            <p:ph/>
          </p:nvPr>
        </p:nvSpPr>
        <p:spPr>
          <a:xfrm>
            <a:off x="6142680" y="3893400"/>
            <a:ext cx="2805480" cy="219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69DF81-1701-4E05-A911-2D6DB4A7E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E5859-986F-4183-AB67-EE8F384B4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4360" y="404280"/>
            <a:ext cx="7772400" cy="36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EC4FF-6F93-4782-A291-D1F59BD0B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50560" y="1484280"/>
            <a:ext cx="4252320" cy="219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16000" y="1484280"/>
            <a:ext cx="4252320" cy="461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50560" y="3893400"/>
            <a:ext cx="4252320" cy="219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52BD1-A65E-42E2-9941-D7AA02A00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50560" y="1484280"/>
            <a:ext cx="4252320" cy="461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00" y="1484280"/>
            <a:ext cx="4252320" cy="219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716000" y="3893400"/>
            <a:ext cx="4252320" cy="219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F54FD-B11E-4DA6-A0DF-3743B9627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50560" y="1484280"/>
            <a:ext cx="4252320" cy="219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16000" y="1484280"/>
            <a:ext cx="4252320" cy="219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50560" y="3893400"/>
            <a:ext cx="8713800" cy="219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85951-062D-4C57-B343-0CDAD1E7D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79280" y="12682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755640" y="6669000"/>
            <a:ext cx="3505320" cy="18900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260280"/>
            <a:ext cx="9144000" cy="90648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250560" y="1484280"/>
            <a:ext cx="8713800" cy="461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46040" indent="-44604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990720" indent="-3654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436760" indent="-2667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84464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252520" indent="-22860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25252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25252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250560" y="6308280"/>
            <a:ext cx="1904760" cy="32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381720"/>
            <a:ext cx="2895840" cy="24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019640" y="6381360"/>
            <a:ext cx="1904760" cy="32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1E7CF-E8D6-4597-B3E2-A4D2B39A7EBE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403280" y="6381720"/>
            <a:ext cx="762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© Ministry of Transport and Communications – Republic of Bulgari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" name="" descr=""/>
          <p:cNvPicPr/>
          <p:nvPr/>
        </p:nvPicPr>
        <p:blipFill>
          <a:blip r:embed="rId5"/>
          <a:stretch/>
        </p:blipFill>
        <p:spPr>
          <a:xfrm>
            <a:off x="7885080" y="5734080"/>
            <a:ext cx="762120" cy="652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e7d"/>
              </a:gs>
              <a:gs pos="5000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AF4D8-72EE-42F1-88D8-A9CE11B6F0AF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4076640"/>
            <a:ext cx="472428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03280" y="6381720"/>
            <a:ext cx="762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© Ministry of Transport and Communications – Republic of Bulgari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7924680" y="5734080"/>
            <a:ext cx="762120" cy="65232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indent="255600" algn="ctr">
              <a:spcBef>
                <a:spcPts val="601"/>
              </a:spcBef>
              <a:buClr>
                <a:srgbClr val="00ffcc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indent="24444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indent="195120" algn="ctr">
              <a:spcBef>
                <a:spcPts val="499"/>
              </a:spcBef>
              <a:buClr>
                <a:srgbClr val="00ffcc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 indent="19512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 indent="19512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79280" y="12682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55640" y="6669000"/>
            <a:ext cx="3505320" cy="18900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260280"/>
            <a:ext cx="9144000" cy="90648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250560" y="1484280"/>
            <a:ext cx="8713800" cy="461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46040" indent="-44604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990720" indent="-3654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436760" indent="-2667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84464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252520" indent="-22860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25252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25252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7"/>
          </p:nvPr>
        </p:nvSpPr>
        <p:spPr>
          <a:xfrm>
            <a:off x="250560" y="6308280"/>
            <a:ext cx="1904760" cy="32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ftr" idx="8"/>
          </p:nvPr>
        </p:nvSpPr>
        <p:spPr>
          <a:xfrm>
            <a:off x="3124080" y="6381720"/>
            <a:ext cx="2895840" cy="24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sldNum" idx="9"/>
          </p:nvPr>
        </p:nvSpPr>
        <p:spPr>
          <a:xfrm>
            <a:off x="7019640" y="6381360"/>
            <a:ext cx="1904760" cy="32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91A0C-3499-4FE3-99E1-8633F8C51F92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403280" y="6381720"/>
            <a:ext cx="762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© Ministry of Transport and Communications – Republic of Bulgari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5"/>
          <a:stretch/>
        </p:blipFill>
        <p:spPr>
          <a:xfrm>
            <a:off x="7885080" y="5734080"/>
            <a:ext cx="762120" cy="652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e7d"/>
              </a:gs>
              <a:gs pos="5000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10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ftr" idx="11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sldNum" idx="12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623E6-FE62-4205-9761-0EB7756C7209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342900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403280" y="6381720"/>
            <a:ext cx="762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© Ministry of Transport and Communications – Republic of Bulgari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7924680" y="5791320"/>
            <a:ext cx="762120" cy="652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320" y="9140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IE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br>
              <a:rPr sz="4000"/>
            </a:b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324000" y="765000"/>
            <a:ext cx="8496000" cy="482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NTERMODAL RANSPORT BETWEEN EUROPE AND ASIA: OPPORTUNITIES AND CHALLENGES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indent="0" algn="ctr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7-28 SEPTEMBER 2004, KIEV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indent="0" algn="ctr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indent="0" algn="ctr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NTERMODAL TRANSPORT TRENDS IN THE REPUBLIC OF BULGARIA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indent="0" algn="ctr">
              <a:lnSpc>
                <a:spcPct val="12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Times New Roman"/>
              </a:rPr>
              <a:t>DESISLAVA DIMITROVA – EXPERT IN NATIONAL TRANSPORT POLICY DIRECTORATE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pull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6840" y="188640"/>
            <a:ext cx="8534520" cy="93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Legislation and International Agreemen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24000" y="1413000"/>
            <a:ext cx="8618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46040" indent="-446040" algn="just">
              <a:lnSpc>
                <a:spcPct val="90000"/>
              </a:lnSpc>
              <a:spcBef>
                <a:spcPts val="1650"/>
              </a:spcBef>
              <a:buSzPct val="14966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iority of the development of intermodal transport.</a:t>
            </a:r>
            <a:endParaRPr b="1" lang="en-US" sz="2200" spc="-1" strike="noStrike">
              <a:solidFill>
                <a:srgbClr val="ffff00"/>
              </a:solidFill>
              <a:latin typeface="Times New Roman"/>
            </a:endParaRPr>
          </a:p>
          <a:p>
            <a:pPr marL="446040" indent="-446040" algn="just">
              <a:lnSpc>
                <a:spcPct val="90000"/>
              </a:lnSpc>
              <a:spcBef>
                <a:spcPts val="1650"/>
              </a:spcBef>
              <a:buSzPct val="14966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ogramme for the Development of Combined Transport in the Republic of Bulgaria until 2010.</a:t>
            </a:r>
            <a:endParaRPr b="1" lang="en-US" sz="2200" spc="-1" strike="noStrike">
              <a:solidFill>
                <a:srgbClr val="ffff00"/>
              </a:solidFill>
              <a:latin typeface="Times New Roman"/>
            </a:endParaRPr>
          </a:p>
          <a:p>
            <a:pPr marL="446040" indent="-446040" algn="just">
              <a:lnSpc>
                <a:spcPct val="90000"/>
              </a:lnSpc>
              <a:spcBef>
                <a:spcPts val="1650"/>
              </a:spcBef>
              <a:buSzPct val="14966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00"/>
                </a:solidFill>
                <a:latin typeface="Times New Roman"/>
              </a:rPr>
              <a:t>R</a:t>
            </a: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egulation on combined transport of goods.</a:t>
            </a:r>
            <a:endParaRPr b="1" lang="en-US" sz="2200" spc="-1" strike="noStrike">
              <a:solidFill>
                <a:srgbClr val="ffff00"/>
              </a:solidFill>
              <a:latin typeface="Times New Roman"/>
            </a:endParaRPr>
          </a:p>
          <a:p>
            <a:pPr marL="446040" indent="-446040" algn="just">
              <a:lnSpc>
                <a:spcPct val="90000"/>
              </a:lnSpc>
              <a:spcBef>
                <a:spcPts val="1650"/>
              </a:spcBef>
              <a:buSzPct val="14966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GTC, AGC, AGN, AGR.</a:t>
            </a:r>
            <a:endParaRPr b="1" lang="en-US" sz="2200" spc="-1" strike="noStrike">
              <a:solidFill>
                <a:srgbClr val="ffff00"/>
              </a:solidFill>
              <a:latin typeface="Times New Roman"/>
            </a:endParaRPr>
          </a:p>
          <a:p>
            <a:pPr marL="446040" indent="-446040" algn="just">
              <a:lnSpc>
                <a:spcPct val="90000"/>
              </a:lnSpc>
              <a:spcBef>
                <a:spcPts val="1650"/>
              </a:spcBef>
              <a:buSzPct val="14966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Bilateral Agreements on international combined transport of goods.</a:t>
            </a:r>
            <a:endParaRPr b="1" lang="en-US" sz="2200" spc="-1" strike="noStrike">
              <a:solidFill>
                <a:srgbClr val="ffff00"/>
              </a:solidFill>
              <a:latin typeface="Times New Roman"/>
            </a:endParaRPr>
          </a:p>
          <a:p>
            <a:pPr marL="446040" indent="-446040" algn="just">
              <a:lnSpc>
                <a:spcPct val="90000"/>
              </a:lnSpc>
              <a:spcBef>
                <a:spcPts val="1650"/>
              </a:spcBef>
              <a:buSzPct val="14966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Agreement between the European Community and the Republic of Bulgaria establishing certain conditions for the carriage of goods by road and the promotion of combined transport.</a:t>
            </a:r>
            <a:endParaRPr b="1" lang="en-US" sz="2200" spc="-1" strike="noStrike">
              <a:solidFill>
                <a:srgbClr val="ffff00"/>
              </a:solidFill>
              <a:latin typeface="Times New Roman"/>
            </a:endParaRPr>
          </a:p>
          <a:p>
            <a:pPr marL="446040"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188640"/>
            <a:ext cx="8534520" cy="93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urrent State and Potential for the Development of Intermodal Transpor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24000" y="1413000"/>
            <a:ext cx="8618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46040" indent="-446040" algn="just">
              <a:lnSpc>
                <a:spcPct val="90000"/>
              </a:lnSpc>
              <a:spcBef>
                <a:spcPts val="2251"/>
              </a:spcBef>
              <a:buSzPct val="10977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latively inadequate statistical information - methodological problem.</a:t>
            </a:r>
            <a:endParaRPr b="1" lang="en-US" sz="3000" spc="-1" strike="noStrike">
              <a:solidFill>
                <a:srgbClr val="ffff00"/>
              </a:solidFill>
              <a:latin typeface="Times New Roman"/>
            </a:endParaRPr>
          </a:p>
          <a:p>
            <a:pPr marL="446040" indent="-446040" algn="just">
              <a:lnSpc>
                <a:spcPct val="90000"/>
              </a:lnSpc>
              <a:spcBef>
                <a:spcPts val="2251"/>
              </a:spcBef>
              <a:buSzPct val="10977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omestic intermodal traffic.</a:t>
            </a:r>
            <a:endParaRPr b="1" lang="en-US" sz="3000" spc="-1" strike="noStrike">
              <a:solidFill>
                <a:srgbClr val="ffff00"/>
              </a:solidFill>
              <a:latin typeface="Times New Roman"/>
            </a:endParaRPr>
          </a:p>
          <a:p>
            <a:pPr marL="446040" indent="-446040" algn="just">
              <a:lnSpc>
                <a:spcPct val="90000"/>
              </a:lnSpc>
              <a:spcBef>
                <a:spcPts val="2251"/>
              </a:spcBef>
              <a:buSzPct val="10977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Times New Roman"/>
              </a:rPr>
              <a:t>International intermodal traffic - import-export</a:t>
            </a:r>
            <a:r>
              <a:rPr b="1" lang="en-GB" sz="30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1" lang="en-US" sz="3000" spc="-1" strike="noStrike">
              <a:solidFill>
                <a:srgbClr val="ffff00"/>
              </a:solidFill>
              <a:latin typeface="Times New Roman"/>
            </a:endParaRPr>
          </a:p>
          <a:p>
            <a:pPr marL="446040" indent="-446040" algn="just">
              <a:lnSpc>
                <a:spcPct val="90000"/>
              </a:lnSpc>
              <a:spcBef>
                <a:spcPts val="2251"/>
              </a:spcBef>
              <a:buSzPct val="10977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Times New Roman"/>
              </a:rPr>
              <a:t>International transit intermodal traffic.</a:t>
            </a:r>
            <a:endParaRPr b="1" lang="en-US" sz="3000" spc="-1" strike="noStrike">
              <a:solidFill>
                <a:srgbClr val="ffff00"/>
              </a:solidFill>
              <a:latin typeface="Times New Roman"/>
            </a:endParaRPr>
          </a:p>
          <a:p>
            <a:pPr marL="446040" indent="-446040" algn="just">
              <a:lnSpc>
                <a:spcPct val="90000"/>
              </a:lnSpc>
              <a:spcBef>
                <a:spcPts val="2251"/>
              </a:spcBef>
              <a:buSzPct val="10977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Times New Roman"/>
              </a:rPr>
              <a:t>Synergetic effect.</a:t>
            </a:r>
            <a:endParaRPr b="1" lang="en-US" sz="3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68000" y="115560"/>
            <a:ext cx="8534520" cy="10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Priorities and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24000" y="1773360"/>
            <a:ext cx="8618400" cy="424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46040" indent="-446040" algn="just">
              <a:spcBef>
                <a:spcPts val="2251"/>
              </a:spcBef>
              <a:buSzPct val="10977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00"/>
                </a:solidFill>
                <a:latin typeface="Times New Roman"/>
              </a:rPr>
              <a:t>I</a:t>
            </a:r>
            <a:r>
              <a:rPr b="1" lang="en-US" sz="3000" spc="-1" strike="noStrike">
                <a:solidFill>
                  <a:srgbClr val="ffff00"/>
                </a:solidFill>
                <a:latin typeface="Times New Roman"/>
              </a:rPr>
              <a:t>ntegrated “port-railways” transport schemes</a:t>
            </a:r>
            <a:r>
              <a:rPr b="1" lang="en-GB" sz="30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1" lang="en-US" sz="3000" spc="-1" strike="noStrike">
              <a:solidFill>
                <a:srgbClr val="ffff00"/>
              </a:solidFill>
              <a:latin typeface="Times New Roman"/>
            </a:endParaRPr>
          </a:p>
          <a:p>
            <a:pPr marL="446040" indent="-446040" algn="just">
              <a:spcBef>
                <a:spcPts val="2251"/>
              </a:spcBef>
              <a:buSzPct val="10977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00"/>
                </a:solidFill>
                <a:latin typeface="Times New Roman"/>
              </a:rPr>
              <a:t>T</a:t>
            </a:r>
            <a:r>
              <a:rPr b="1" lang="en-US" sz="3000" spc="-1" strike="noStrike">
                <a:solidFill>
                  <a:srgbClr val="ffff00"/>
                </a:solidFill>
                <a:latin typeface="Times New Roman"/>
              </a:rPr>
              <a:t>echnological priorities (containers, swap-bodies, semi-trailers, Ro-La transport)</a:t>
            </a:r>
            <a:r>
              <a:rPr b="1" lang="en-GB" sz="30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1" lang="en-US" sz="3000" spc="-1" strike="noStrike">
              <a:solidFill>
                <a:srgbClr val="ffff00"/>
              </a:solidFill>
              <a:latin typeface="Times New Roman"/>
            </a:endParaRPr>
          </a:p>
          <a:p>
            <a:pPr marL="446040" indent="-446040" algn="just">
              <a:spcBef>
                <a:spcPts val="2251"/>
              </a:spcBef>
              <a:buSzPct val="10977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00"/>
                </a:solidFill>
                <a:latin typeface="Times New Roman"/>
              </a:rPr>
              <a:t>I</a:t>
            </a:r>
            <a:r>
              <a:rPr b="1" lang="en-US" sz="3000" spc="-1" strike="noStrike">
                <a:solidFill>
                  <a:srgbClr val="ffff00"/>
                </a:solidFill>
                <a:latin typeface="Times New Roman"/>
              </a:rPr>
              <a:t>nfrastructure priorities.</a:t>
            </a:r>
            <a:endParaRPr b="1" lang="en-US" sz="3000" spc="-1" strike="noStrike">
              <a:solidFill>
                <a:srgbClr val="ffff00"/>
              </a:solidFill>
              <a:latin typeface="Times New Roman"/>
            </a:endParaRPr>
          </a:p>
          <a:p>
            <a:pPr marL="446040" indent="-446040" algn="just">
              <a:spcBef>
                <a:spcPts val="2251"/>
              </a:spcBef>
              <a:buSzPct val="10977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Times New Roman"/>
              </a:rPr>
              <a:t>Projects.</a:t>
            </a:r>
            <a:endParaRPr b="1" lang="en-US" sz="3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100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68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an-European Transport Corridor 4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78920" y="1523520"/>
            <a:ext cx="881244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46040" indent="-446040" algn="just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ig potential for long distance railway transport after: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990720" indent="-365400" algn="just"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nstruction of the Bosporus Railway Tunnel;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365400" algn="just"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nstruction of the New Danube Bridge at Vidin-Calafat;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365400" algn="just"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stablishing favourable conditions that enable transport organizations to achieve a healthy growth.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46040" indent="-446040" algn="just">
              <a:spcBef>
                <a:spcPts val="2001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ordination in infrastructure planning between the countries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68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an-European Transport Corridor 4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78920" y="1523520"/>
            <a:ext cx="881244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46040" indent="-446040">
              <a:spcBef>
                <a:spcPts val="2001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gagements of the Bulgarian Government towards future development of the corridor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990720" indent="-365400" algn="just"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nstruction of a New Sofia Intermodal Terminal;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365400" algn="just"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nstruction of a New Danube Bridge at Vidin - Calafat ;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365400" algn="just"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lectrification and Reconstruction of the Railway Line Plovdiv - Turkish/Greek Border for Speeds 160/200 km/h;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365400" algn="just">
              <a:spcBef>
                <a:spcPts val="601"/>
              </a:spcBef>
              <a:buSzPct val="119919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econstruction and Modernization of the Railway Line Vidin-Sofia-Kulata.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Statistics</a:t>
            </a: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852480" y="1560600"/>
          <a:ext cx="7746840" cy="45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52480" y="1560600"/>
                    <a:ext cx="7746840" cy="45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4360" y="299736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ANK YOU FOR YOUR ATTENTION!</a:t>
            </a:r>
            <a:br>
              <a:rPr sz="3200"/>
            </a:br>
            <a:br>
              <a:rPr sz="3200"/>
            </a:b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5T17:53:21Z</dcterms:created>
  <dc:creator>DDimitrova</dc:creator>
  <dc:description/>
  <dc:language>en-US</dc:language>
  <cp:lastModifiedBy>Otradnova</cp:lastModifiedBy>
  <cp:lastPrinted>2003-09-29T11:02:33Z</cp:lastPrinted>
  <dcterms:modified xsi:type="dcterms:W3CDTF">2004-10-06T14:26:56Z</dcterms:modified>
  <cp:revision>116</cp:revision>
  <dc:subject>Seminar Intermodal Transport b/n Europe and Asia, Kiev 27-28.09.2004</dc:subject>
  <dc:title>Intermodal Transport Trends in Bulgaria</dc:title>
</cp:coreProperties>
</file>