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442-6915-458D-99C9-FBCF4EF9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0B98-34E8-4B1F-9E64-8ADE3880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E9E-2FE4-49EA-9850-2EE34592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8A6-258A-4BE7-A94A-E47877433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16E6-78ED-4877-9102-77DF75AE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1546-8EA7-4578-A469-D7A510E0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E7BE-2C5D-4C7F-8565-D992277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5CAC4-5311-463A-8D42-F14CA7D32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2F4B-699C-4FD3-A376-175D4567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F349-C6F1-458E-A86F-5E4DD50E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3DAF-E406-44A6-B70F-748A01EB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DFD5-F947-4E6B-A363-5FB5BC101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CDA4-D56D-4CF5-A8E2-3AA6BD82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700F-24BF-401F-B53D-EC879FF9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CBB2E-06B0-4CB7-BD0E-5407D5A6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77DD1-A674-455F-94B5-417150E2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5EE6-6C8B-4BCE-9519-AAECFE2F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98685-7718-4BD1-9469-60901D4B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EA70B-B244-468D-B858-88C26582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0192-1621-4E0C-9D11-A6C212E7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FDEC1-E877-4237-B605-D3FCFF0C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32F9-08E6-451F-8618-90DF1DCB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2155-A0AB-478A-9A3D-533355EA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412D2-0D3D-4E50-AA36-94F08AA8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88055-C949-449B-9424-A8F3B17A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5F6F-A76D-4CA8-A3C3-AFC59AF8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0A8EB-85A0-4417-B7C2-E45437A9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C526A-7CC4-43BE-AEB0-D37A08F6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C248-03A4-4AE8-8571-09EBD01B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1F3C0-C3EB-4AFB-9F34-D92EAA816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975A7-FF31-4E26-9170-D1FD88907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4B146-45DC-4AF4-B235-F0FA93F3E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9EEC-4C11-4377-B493-08574E7F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1B6D-5A5B-413B-8921-4378C357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72F8-5304-48CC-91A9-A2796E6B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C044-4299-44E9-BA80-D7293F9DA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D8FFD-ACA9-49E1-A295-81AEDB3F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0F32-6D37-487F-90C9-55216BF4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CF5E4-6435-4B37-AB59-7C2AC88B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1E387-3341-4101-9E62-EC32D314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C8F7-07B3-4307-AB09-C156E77D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B48A3-9BE7-4A1C-9EFF-46F72410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19680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142680" y="148428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25056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19680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142680" y="3893400"/>
            <a:ext cx="280548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3F81-A95B-4000-A9E4-EF440CC8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70CF-DFB9-498F-BE18-90576A5B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4360" y="404280"/>
            <a:ext cx="77724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679E-C7D3-45A5-826C-A8C0AD04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6E2-78ED-465B-B6B1-A43D8C91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0" y="389340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93C-4B65-428B-948A-4369CD95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0" y="1484280"/>
            <a:ext cx="425232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50560" y="3893400"/>
            <a:ext cx="8713800" cy="219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288-0075-4261-ABC0-4412F658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79280" y="12682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55640" y="6669000"/>
            <a:ext cx="3505320" cy="1890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60280"/>
            <a:ext cx="9144000" cy="9064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436760" indent="-2667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8446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252520" indent="-22860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50560" y="630828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19640" y="638136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38E4-864F-4BB1-A54A-A761137797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5"/>
          <a:stretch/>
        </p:blipFill>
        <p:spPr>
          <a:xfrm>
            <a:off x="7885080" y="5734080"/>
            <a:ext cx="7621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4414-64B1-48C5-8C40-ED570DED647E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076640"/>
            <a:ext cx="472428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4680" y="5734080"/>
            <a:ext cx="762120" cy="6523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255600" algn="ctr">
              <a:spcBef>
                <a:spcPts val="601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24444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195120" algn="ctr">
              <a:spcBef>
                <a:spcPts val="499"/>
              </a:spcBef>
              <a:buClr>
                <a:srgbClr val="00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1951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19512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6669000"/>
            <a:ext cx="3505320" cy="18900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60280"/>
            <a:ext cx="9144000" cy="90648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250560" y="1484280"/>
            <a:ext cx="8713800" cy="46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436760" indent="-2667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84464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252520" indent="-22860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25252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250560" y="630828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817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7019640" y="6381360"/>
            <a:ext cx="1904760" cy="3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0D3-CE3F-4CE7-A8EC-1CF0E5E61D2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7885080" y="5734080"/>
            <a:ext cx="7621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10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ftr" idx="1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sldNum" idx="1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473-CEEE-4976-9320-82D4ABD55AD4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342900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63817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© Ministry of Transport and Communications – Republic of Bulg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924680" y="5791320"/>
            <a:ext cx="762120" cy="652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IE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324000" y="76500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MODAL RANSPORT BETWEEN EUROPE AND ASIA: OPPORTUNITIES AND CHALLENGES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7-28 SEPTEMBER 2004, KIEV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ERMODAL TRANSPORT TRENDS IN THE REPUBLIC OF BULGAR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DESISLAVA DIMITROVA – EXPERT IN NATIONAL TRANSPORT POLICY DIRECTORATE</a:t>
            </a: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Legislation and International Agreemen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8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iority of the development of intermodal transport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gramme for the Development of Combined Transport in the Republic of Bulgaria until 2010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egulation on combined transport of goods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GTC, AGC, AGN, AGR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Bilateral Agreements on international combined transport of goods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1650"/>
              </a:spcBef>
              <a:buSzPct val="1496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Agreement between the European Community and the Republic of Bulgaria establishing certain conditions for the carriage of goods by road and the promotion of combined transport.</a:t>
            </a: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urrent State and Potential for the Development of Intermodal Transpor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8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latively inadequate statistical information - methodological problem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omestic intermodal traffic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ternational intermodal traffic - import-export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International transit intermodal traffic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lnSpc>
                <a:spcPct val="90000"/>
              </a:lnSpc>
              <a:spcBef>
                <a:spcPts val="22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Synergetic effect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853452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iorities and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8400" cy="42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spcBef>
                <a:spcPts val="22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tegrated “port-railways” transport schemes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spcBef>
                <a:spcPts val="22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echnological priorities (containers, swap-bodies, semi-trailers, Ro-La transport)</a:t>
            </a: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spcBef>
                <a:spcPts val="22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nfrastructure priorities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  <a:p>
            <a:pPr marL="446040" indent="-446040" algn="just">
              <a:spcBef>
                <a:spcPts val="22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Times New Roman"/>
              </a:rPr>
              <a:t>Projects.</a:t>
            </a:r>
            <a:endParaRPr b="1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-European Transport Corridor 4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523520"/>
            <a:ext cx="8812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 algn="just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ig potential for long distance railway transport after: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the Bosporus Railway Tunnel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the New Danube Bridge at Vidin-Calafat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ablishing favourable conditions that enable transport organizations to achieve a healthy growth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 algn="just">
              <a:spcBef>
                <a:spcPts val="20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ordination in infrastructure planning between the countries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68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n-European Transport Corridor 4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78920" y="1523520"/>
            <a:ext cx="88124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46040" indent="-446040">
              <a:spcBef>
                <a:spcPts val="2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gagements of the Bulgarian Government towards future development of the corridor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a New Sofia Intermodal Terminal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truction of a New Danube Bridge at Vidin - Calafat 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lectrification and Reconstruction of the Railway Line Plovdiv - Turkish/Greek Border for Speeds 160/200 km/h;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365400" algn="just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nstruction and Modernization of the Railway Line Vidin-Sofia-Kulata.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tatistics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852480" y="1560600"/>
          <a:ext cx="774684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2480" y="1560600"/>
                    <a:ext cx="774684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4360" y="2997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ANK YOU FOR YOUR ATTENTION!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5T17:53:21Z</dcterms:created>
  <dc:creator>DDimitrova</dc:creator>
  <dc:description/>
  <dc:language>en-US</dc:language>
  <cp:lastModifiedBy>Otradnova</cp:lastModifiedBy>
  <cp:lastPrinted>2003-09-29T11:02:33Z</cp:lastPrinted>
  <dcterms:modified xsi:type="dcterms:W3CDTF">2004-10-06T14:26:56Z</dcterms:modified>
  <cp:revision>116</cp:revision>
  <dc:subject>Seminar Intermodal Transport b/n Europe and Asia, Kiev 27-28.09.2004</dc:subject>
  <dc:title>Intermodal Transport Trends in Bulgaria</dc:title>
</cp:coreProperties>
</file>