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DA6-0847-42BD-B76D-9B2093D7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408-D1E6-49BA-961F-36A4ADA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419-A37F-4B6A-8E21-2D6BACD7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C6B-B335-492C-943D-3C05772D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37C-1776-4F70-A5DF-93ACA5BF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DA5-4097-4B70-84BE-84E7533C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811-B85B-4AC5-8943-8FCD1408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8C3-8DE7-4EEB-97F2-DA39ACBE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A58-4D1E-45B5-981C-1CC7A869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8DA-1178-43F0-BC2D-18DDF81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B84-9C75-4834-9C1B-F59D4F3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0E8-2B72-46B8-9B16-280668B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704D-BC54-483B-A5DE-C0903540E02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60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533520" y="3657600"/>
            <a:ext cx="304560" cy="1522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 IN HUNGARY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3341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6019920"/>
            <a:ext cx="68580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6324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624852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6172200"/>
            <a:ext cx="304920" cy="3049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057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609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áh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2860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44792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828800"/>
            <a:ext cx="380880" cy="30492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495680"/>
            <a:ext cx="381240" cy="30492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191120"/>
            <a:ext cx="304920" cy="304560"/>
          </a:xfrm>
          <a:prstGeom prst="upArrowCallout">
            <a:avLst>
              <a:gd name="adj1" fmla="val 25032"/>
              <a:gd name="adj2" fmla="val 25030"/>
              <a:gd name="adj3" fmla="val 16667"/>
              <a:gd name="adj4" fmla="val 666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809880"/>
            <a:ext cx="304920" cy="3049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828800"/>
            <a:ext cx="304920" cy="304920"/>
          </a:xfrm>
          <a:prstGeom prst="donut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648320"/>
            <a:ext cx="304560" cy="304560"/>
          </a:xfrm>
          <a:prstGeom prst="donut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9718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81952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0292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281952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533520"/>
            <a:ext cx="30456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2860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2860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914400"/>
            <a:ext cx="2057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990720"/>
            <a:ext cx="304560" cy="304560"/>
          </a:xfrm>
          <a:prstGeom prst="donut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90720"/>
            <a:ext cx="380880" cy="30456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066680"/>
            <a:ext cx="30456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066680"/>
            <a:ext cx="30456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1447920"/>
            <a:ext cx="914400" cy="9903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5867280"/>
            <a:ext cx="304920" cy="304920"/>
          </a:xfrm>
          <a:prstGeom prst="donut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867280"/>
            <a:ext cx="381240" cy="30492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867280"/>
            <a:ext cx="731520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unk line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lling Road terminal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Ro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ideline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ontainer terminal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il Road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0:16:08Z</dcterms:created>
  <dc:creator>ÉL</dc:creator>
  <dc:description/>
  <dc:language>en-US</dc:language>
  <cp:lastModifiedBy>verboczky_j</cp:lastModifiedBy>
  <dcterms:modified xsi:type="dcterms:W3CDTF">2003-09-23T11:05:24Z</dcterms:modified>
  <cp:revision>8</cp:revision>
  <dc:subject/>
  <dc:title>PowerPoint bemutató</dc:title>
</cp:coreProperties>
</file>