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97742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9DCB-580D-4E9E-AF38-32ED9F66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771D-7A6C-457C-81F4-6FF0CEAB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7A4A-CC60-408B-AB35-FA880A8A1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5171-DF83-4B37-A9BE-05A010E5D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FA77-5C2F-4228-A48D-ED81E4023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B8EB-DCF3-41C9-A777-174B7759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E8AD-7B7A-4D7F-819C-D30F585A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AA3A-2319-456E-B177-C5885DE2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5B05-3FC4-47A7-9AEB-FEA8FA99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BB0D-6C4D-4703-AE63-91DFDFE1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CF0C-081B-4E71-BFA5-AA3A9886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E612-ABDF-4DA1-A512-2749A41D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A5D1-CAA3-44B4-956A-C7605BC51E00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9560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MA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77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 flipH="1">
            <a:off x="533520" y="3657600"/>
            <a:ext cx="304560" cy="152280"/>
          </a:xfrm>
          <a:prstGeom prst="line">
            <a:avLst/>
          </a:prstGeom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286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LS IN HUNGARY,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3341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6019920"/>
            <a:ext cx="685800" cy="0"/>
          </a:xfrm>
          <a:prstGeom prst="line">
            <a:avLst/>
          </a:prstGeom>
          <a:ln w="60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632448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6248520"/>
            <a:ext cx="304920" cy="22860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6172200"/>
            <a:ext cx="304920" cy="304920"/>
          </a:xfrm>
          <a:prstGeom prst="upArrowCallout">
            <a:avLst>
              <a:gd name="adj1" fmla="val 25002"/>
              <a:gd name="adj2" fmla="val 25000"/>
              <a:gd name="adj3" fmla="val 16667"/>
              <a:gd name="adj4" fmla="val 66660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05740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pr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01000" y="6094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áho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2286000"/>
            <a:ext cx="304920" cy="22860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867280" y="1447920"/>
            <a:ext cx="304920" cy="22860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828800"/>
            <a:ext cx="380880" cy="304920"/>
          </a:xfrm>
          <a:prstGeom prst="sun">
            <a:avLst>
              <a:gd name="adj" fmla="val 25000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4495680"/>
            <a:ext cx="381240" cy="304920"/>
          </a:xfrm>
          <a:prstGeom prst="sun">
            <a:avLst>
              <a:gd name="adj" fmla="val 25000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4191120"/>
            <a:ext cx="304920" cy="304560"/>
          </a:xfrm>
          <a:prstGeom prst="upArrowCallout">
            <a:avLst>
              <a:gd name="adj1" fmla="val 25032"/>
              <a:gd name="adj2" fmla="val 25030"/>
              <a:gd name="adj3" fmla="val 16667"/>
              <a:gd name="adj4" fmla="val 66660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0" y="3809880"/>
            <a:ext cx="304920" cy="304920"/>
          </a:xfrm>
          <a:prstGeom prst="upArrowCallout">
            <a:avLst>
              <a:gd name="adj1" fmla="val 25002"/>
              <a:gd name="adj2" fmla="val 25000"/>
              <a:gd name="adj3" fmla="val 16667"/>
              <a:gd name="adj4" fmla="val 66660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1828800"/>
            <a:ext cx="304920" cy="304920"/>
          </a:xfrm>
          <a:prstGeom prst="donut">
            <a:avLst>
              <a:gd name="adj" fmla="val 25000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62520" y="4648320"/>
            <a:ext cx="304560" cy="304560"/>
          </a:xfrm>
          <a:prstGeom prst="donut">
            <a:avLst>
              <a:gd name="adj" fmla="val 25000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971800"/>
            <a:ext cx="304920" cy="22860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2819520"/>
            <a:ext cx="304920" cy="22860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5029200"/>
            <a:ext cx="304920" cy="22860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486400" y="2819520"/>
            <a:ext cx="304920" cy="22860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0120" y="533520"/>
            <a:ext cx="304560" cy="22860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0" y="2286000"/>
            <a:ext cx="304920" cy="22860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09680" y="2286000"/>
            <a:ext cx="304920" cy="22860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914400"/>
            <a:ext cx="20574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133720" y="990720"/>
            <a:ext cx="304560" cy="304560"/>
          </a:xfrm>
          <a:prstGeom prst="donut">
            <a:avLst>
              <a:gd name="adj" fmla="val 25000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990720"/>
            <a:ext cx="380880" cy="304560"/>
          </a:xfrm>
          <a:prstGeom prst="sun">
            <a:avLst>
              <a:gd name="adj" fmla="val 25000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8120" y="1066680"/>
            <a:ext cx="304560" cy="22860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1066680"/>
            <a:ext cx="304560" cy="228600"/>
          </a:xfrm>
          <a:prstGeom prst="bevel">
            <a:avLst>
              <a:gd name="adj" fmla="val 125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1447920"/>
            <a:ext cx="914400" cy="990360"/>
          </a:xfrm>
          <a:prstGeom prst="line">
            <a:avLst/>
          </a:prstGeom>
          <a:ln w="1908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5867280"/>
            <a:ext cx="304920" cy="304920"/>
          </a:xfrm>
          <a:prstGeom prst="donut">
            <a:avLst>
              <a:gd name="adj" fmla="val 25000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5867280"/>
            <a:ext cx="381240" cy="304920"/>
          </a:xfrm>
          <a:prstGeom prst="sun">
            <a:avLst>
              <a:gd name="adj" fmla="val 25000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5867280"/>
            <a:ext cx="7315200" cy="63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runk line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lling Road terminal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Ro termi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ideline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ontainer terminal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ail Road termi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2T10:16:08Z</dcterms:created>
  <dc:creator>ÉL</dc:creator>
  <dc:description/>
  <dc:language>en-US</dc:language>
  <cp:lastModifiedBy>verboczky_j</cp:lastModifiedBy>
  <dcterms:modified xsi:type="dcterms:W3CDTF">2003-09-23T11:05:24Z</dcterms:modified>
  <cp:revision>8</cp:revision>
  <dc:subject/>
  <dc:title>PowerPoint bemutató</dc:title>
</cp:coreProperties>
</file>