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77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marL="216000" indent="0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4073400" y="-1800"/>
            <a:ext cx="3114720" cy="4777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627280" y="658800"/>
            <a:ext cx="193536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479520" y="2271600"/>
            <a:ext cx="6338880" cy="6153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0" y="9023040"/>
            <a:ext cx="3114720" cy="4777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4073400" y="9023040"/>
            <a:ext cx="3114720" cy="4777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fld id="{89A69CDB-D172-4FA9-9DC0-A2FEC6BFC0E0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403360" y="493560"/>
            <a:ext cx="2381400" cy="17859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0328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7504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3152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0328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7504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427-388B-48FC-AB86-B588B791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1B8-C43A-407C-AB8C-BDA85216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A54-1E33-4892-ABD7-DC3E62B0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049-DD1B-41D3-AE6F-01EDFEFE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6F0-62FA-4C4A-839D-378BAFB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94A-B26C-4CA9-A4D3-844CE4A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899-C283-42AF-B42D-3D4588BD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6AD-EC13-461B-A672-4B02459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802-F3C6-4D41-AF68-B3B171F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52E-11C7-4438-85F7-274F7D0A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C3F-F54A-4EB9-AFD9-AB94FCED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0328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75040" y="198108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63152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10328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75040" y="4130640"/>
            <a:ext cx="2353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102-1DE9-473A-BDD7-9189CD59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77680" y="413064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77680" y="1981080"/>
            <a:ext cx="356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31520" y="4130640"/>
            <a:ext cx="7310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65200" y="6411960"/>
            <a:ext cx="7678800" cy="446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108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73120" y="1587600"/>
            <a:ext cx="7670880" cy="136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92753a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51360" y="6478560"/>
            <a:ext cx="3446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33"/>
                </a:solidFill>
                <a:latin typeface="Arial"/>
              </a:rPr>
              <a:t>Transport Can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332920" y="6543720"/>
          <a:ext cx="390240" cy="1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32920" y="6543720"/>
                    <a:ext cx="3902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0" y="326880"/>
            <a:ext cx="14716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GR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Working Party on Brakes and Running G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UNECE WP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33"/>
                </a:solidFill>
                <a:latin typeface="Book Antiqua"/>
              </a:rPr>
              <a:t>Gev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Book Antiqua"/>
              </a:rPr>
              <a:t>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Book Antiqua"/>
              </a:rPr>
              <a:t>IHRA-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55440" y="2627280"/>
            <a:ext cx="1325520" cy="785520"/>
            <a:chOff x="55440" y="2627280"/>
            <a:chExt cx="1325520" cy="785520"/>
          </a:xfrm>
        </p:grpSpPr>
        <p:grpSp>
          <p:nvGrpSpPr>
            <p:cNvPr id="10" name=""/>
            <p:cNvGrpSpPr/>
            <p:nvPr/>
          </p:nvGrpSpPr>
          <p:grpSpPr>
            <a:xfrm>
              <a:off x="584640" y="2627640"/>
              <a:ext cx="796320" cy="730800"/>
              <a:chOff x="584640" y="2627640"/>
              <a:chExt cx="796320" cy="73080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263960" y="3092400"/>
                <a:ext cx="117000" cy="266040"/>
                <a:chOff x="1263960" y="3092400"/>
                <a:chExt cx="117000" cy="266040"/>
              </a:xfrm>
            </p:grpSpPr>
            <p:grpSp>
              <p:nvGrpSpPr>
                <p:cNvPr id="12" name=""/>
                <p:cNvGrpSpPr/>
                <p:nvPr/>
              </p:nvGrpSpPr>
              <p:grpSpPr>
                <a:xfrm>
                  <a:off x="1263960" y="3280320"/>
                  <a:ext cx="117000" cy="78120"/>
                  <a:chOff x="1263960" y="3280320"/>
                  <a:chExt cx="117000" cy="78120"/>
                </a:xfrm>
              </p:grpSpPr>
              <p:sp>
                <p:nvSpPr>
                  <p:cNvPr id="13" name=""/>
                  <p:cNvSpPr/>
                  <p:nvPr/>
                </p:nvSpPr>
                <p:spPr>
                  <a:xfrm>
                    <a:off x="1362240" y="3280320"/>
                    <a:ext cx="18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1326240" y="3318120"/>
                    <a:ext cx="3456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1263960" y="3320640"/>
                    <a:ext cx="13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" name=""/>
                <p:cNvSpPr/>
                <p:nvPr/>
              </p:nvSpPr>
              <p:spPr>
                <a:xfrm>
                  <a:off x="1287720" y="3092400"/>
                  <a:ext cx="20880" cy="2376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" name=""/>
              <p:cNvGrpSpPr/>
              <p:nvPr/>
            </p:nvGrpSpPr>
            <p:grpSpPr>
              <a:xfrm>
                <a:off x="1055880" y="2743200"/>
                <a:ext cx="246960" cy="567720"/>
                <a:chOff x="1055880" y="2743200"/>
                <a:chExt cx="246960" cy="567720"/>
              </a:xfrm>
            </p:grpSpPr>
            <p:grpSp>
              <p:nvGrpSpPr>
                <p:cNvPr id="18" name=""/>
                <p:cNvGrpSpPr/>
                <p:nvPr/>
              </p:nvGrpSpPr>
              <p:grpSpPr>
                <a:xfrm>
                  <a:off x="1095480" y="2800800"/>
                  <a:ext cx="55080" cy="170640"/>
                  <a:chOff x="1095480" y="2800800"/>
                  <a:chExt cx="55080" cy="170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>
                    <a:off x="1095480" y="2954160"/>
                    <a:ext cx="13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1130400" y="2923560"/>
                    <a:ext cx="126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1127880" y="2800800"/>
                    <a:ext cx="226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" name=""/>
                <p:cNvSpPr/>
                <p:nvPr/>
              </p:nvSpPr>
              <p:spPr>
                <a:xfrm>
                  <a:off x="1146960" y="3146400"/>
                  <a:ext cx="155880" cy="16452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110600" y="3110760"/>
                  <a:ext cx="86400" cy="2232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157760" y="3066840"/>
                  <a:ext cx="39240" cy="4320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1116720" y="3047760"/>
                  <a:ext cx="43200" cy="5904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208520" y="3081600"/>
                  <a:ext cx="82800" cy="5544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1055880" y="3042000"/>
                  <a:ext cx="49680" cy="7344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144080" y="2962800"/>
                  <a:ext cx="48600" cy="8100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133280" y="2825640"/>
                  <a:ext cx="35640" cy="6840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092600" y="2743200"/>
                  <a:ext cx="39240" cy="5616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584640" y="2627640"/>
                <a:ext cx="568440" cy="656280"/>
                <a:chOff x="584640" y="2627640"/>
                <a:chExt cx="568440" cy="65628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584640" y="2856960"/>
                  <a:ext cx="282600" cy="42696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" name=""/>
                <p:cNvGrpSpPr/>
                <p:nvPr/>
              </p:nvGrpSpPr>
              <p:grpSpPr>
                <a:xfrm>
                  <a:off x="603720" y="2627640"/>
                  <a:ext cx="125280" cy="147240"/>
                  <a:chOff x="603720" y="2627640"/>
                  <a:chExt cx="125280" cy="147240"/>
                </a:xfrm>
              </p:grpSpPr>
              <p:grpSp>
                <p:nvGrpSpPr>
                  <p:cNvPr id="34" name=""/>
                  <p:cNvGrpSpPr/>
                  <p:nvPr/>
                </p:nvGrpSpPr>
                <p:grpSpPr>
                  <a:xfrm>
                    <a:off x="653400" y="2719440"/>
                    <a:ext cx="39240" cy="55440"/>
                    <a:chOff x="653400" y="2719440"/>
                    <a:chExt cx="39240" cy="55440"/>
                  </a:xfrm>
                </p:grpSpPr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653400" y="2739600"/>
                      <a:ext cx="18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" name=""/>
                    <p:cNvSpPr/>
                    <p:nvPr/>
                  </p:nvSpPr>
                  <p:spPr>
                    <a:xfrm>
                      <a:off x="670320" y="2719440"/>
                      <a:ext cx="2232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" name=""/>
                  <p:cNvSpPr/>
                  <p:nvPr/>
                </p:nvSpPr>
                <p:spPr>
                  <a:xfrm>
                    <a:off x="603720" y="2627640"/>
                    <a:ext cx="1252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" name=""/>
                <p:cNvSpPr/>
                <p:nvPr/>
              </p:nvSpPr>
              <p:spPr>
                <a:xfrm>
                  <a:off x="825120" y="3149640"/>
                  <a:ext cx="37440" cy="8964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46560" y="2636280"/>
                  <a:ext cx="506520" cy="42480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" name=""/>
            <p:cNvGrpSpPr/>
            <p:nvPr/>
          </p:nvGrpSpPr>
          <p:grpSpPr>
            <a:xfrm>
              <a:off x="55440" y="2627280"/>
              <a:ext cx="444240" cy="785520"/>
              <a:chOff x="55440" y="2627280"/>
              <a:chExt cx="444240" cy="785520"/>
            </a:xfrm>
          </p:grpSpPr>
          <p:sp>
            <p:nvSpPr>
              <p:cNvPr id="41" name=""/>
              <p:cNvSpPr/>
              <p:nvPr/>
            </p:nvSpPr>
            <p:spPr>
              <a:xfrm>
                <a:off x="55440" y="2661840"/>
                <a:ext cx="300600" cy="36792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270360" y="2627280"/>
                <a:ext cx="102240" cy="968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249840" y="2661120"/>
                <a:ext cx="65160" cy="4968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86920" y="2938320"/>
                <a:ext cx="46440" cy="2304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27600" y="2954880"/>
                <a:ext cx="30600" cy="1944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8520" y="3009960"/>
                <a:ext cx="191160" cy="40284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0560" y="1806120"/>
            <a:ext cx="77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000A-6091-4065-9ADA-1ADE3E89C9C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38480"/>
            <a:ext cx="9144000" cy="1382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92571d"/>
              </a:gs>
              <a:gs pos="100000">
                <a:srgbClr val="ff993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28.32.234.183/pub/video/AHS_rvideo.ra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128.32.234.183/pub/video/cardocking.ram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ath.berkeley.edu/PATH/Publications/Videos/snowplow.mov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28.32.234.183/pub/video/AHS_rvideo.ra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128.32.234.183/pub/video/cardocking.ram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path.berkeley.edu/PATH/Publications/Videos/snowplow.mov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33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ffcc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ffcc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164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ternational Harmonized Research Activities: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telligent Transport System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49240" y="6446520"/>
            <a:ext cx="8282160" cy="32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5480" y="6296040"/>
            <a:ext cx="179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Book Antiqu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996633"/>
                </a:solidFill>
                <a:latin typeface="Book Antiqua"/>
              </a:rPr>
              <a:t>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08120" y="6345360"/>
          <a:ext cx="390600" cy="1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6345360"/>
                    <a:ext cx="39060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73200" y="3576600"/>
            <a:ext cx="787068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. Ian No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.D., P.Eng., C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d Safety and Motor Vehicle Regulation Direct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 Can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0 Sparks St.., Ottawa, Ontario, K1A 0N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: (613) 998-2268      Fax: (613) 998-4831     NOYI@tc.gc.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66"/>
                </a:solidFill>
                <a:latin typeface="Times New Roman"/>
              </a:rPr>
              <a:t>Indirect Safety Benefit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exposure (optimized routes and trip lengths, and greater choice of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exposure to unauthorized use (elic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traffic variance and confli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rough better traffic management and improved interaction between driver and other road us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driver stress and 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946920" y="673200"/>
            <a:ext cx="1909440" cy="767880"/>
            <a:chOff x="6946920" y="673200"/>
            <a:chExt cx="1909440" cy="767880"/>
          </a:xfrm>
        </p:grpSpPr>
        <p:sp>
          <p:nvSpPr>
            <p:cNvPr id="234" name=""/>
            <p:cNvSpPr/>
            <p:nvPr/>
          </p:nvSpPr>
          <p:spPr>
            <a:xfrm>
              <a:off x="6946920" y="118872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83760" y="118872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3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5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46920" y="93096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83760" y="93096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83760" y="67320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Book Antiqua"/>
                </a:rPr>
                <a:t>Pos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22760" y="118872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2760" y="67320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66"/>
                  </a:solidFill>
                  <a:latin typeface="Book Antiqua"/>
                </a:rPr>
                <a:t>Neg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Direct Safety Risk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14240" y="1917720"/>
            <a:ext cx="623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 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 over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situation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trust/acceptance due to false or nuisance ala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iscomfort,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946920" y="673200"/>
            <a:ext cx="1909440" cy="767520"/>
            <a:chOff x="6946920" y="673200"/>
            <a:chExt cx="1909440" cy="767520"/>
          </a:xfrm>
        </p:grpSpPr>
        <p:sp>
          <p:nvSpPr>
            <p:cNvPr id="245" name=""/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d000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6946920" y="673200"/>
              <a:ext cx="1909080" cy="767520"/>
              <a:chOff x="6946920" y="673200"/>
              <a:chExt cx="1909080" cy="767520"/>
            </a:xfrm>
          </p:grpSpPr>
          <p:sp>
            <p:nvSpPr>
              <p:cNvPr id="247" name=""/>
              <p:cNvSpPr/>
              <p:nvPr/>
            </p:nvSpPr>
            <p:spPr>
              <a:xfrm>
                <a:off x="6946920" y="1188360"/>
                <a:ext cx="63324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 Antiqua"/>
                  </a:rPr>
                  <a:t>Indir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83760" y="1188360"/>
                <a:ext cx="635040" cy="252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Unicode MS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46920" y="930600"/>
                <a:ext cx="63324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Book Antiqua"/>
                  </a:rPr>
                  <a:t>Dir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83760" y="930600"/>
                <a:ext cx="635040" cy="252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Unicode MS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83760" y="673200"/>
                <a:ext cx="63504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66"/>
                    </a:solidFill>
                    <a:latin typeface="Book Antiqua"/>
                  </a:rPr>
                  <a:t>Posi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22400" y="1188360"/>
                <a:ext cx="633600" cy="252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Unicode MS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222400" y="673200"/>
                <a:ext cx="633600" cy="25236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7ac5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Book Antiqua"/>
                  </a:rPr>
                  <a:t>Neg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Indirect Safety Risk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8040" y="1820520"/>
            <a:ext cx="720576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travel (pleasur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skill &amp; neg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tion of expectation (by non-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sion migration (MV to SV, to other user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946920" y="673200"/>
            <a:ext cx="1909440" cy="767880"/>
            <a:chOff x="6946920" y="673200"/>
            <a:chExt cx="1909440" cy="767880"/>
          </a:xfrm>
        </p:grpSpPr>
        <p:sp>
          <p:nvSpPr>
            <p:cNvPr id="257" name=""/>
            <p:cNvSpPr/>
            <p:nvPr/>
          </p:nvSpPr>
          <p:spPr>
            <a:xfrm>
              <a:off x="6946920" y="118872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83760" y="118872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46920" y="93096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760" y="93096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83760" y="67320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Book Antiqua"/>
                </a:rPr>
                <a:t>Pos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22760" y="118872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d000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00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22760" y="67320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66"/>
                  </a:solidFill>
                  <a:latin typeface="Book Antiqua"/>
                </a:rPr>
                <a:t>Neg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600200" y="4529160"/>
            <a:ext cx="565164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spcBef>
                <a:spcPts val="601"/>
              </a:spcBef>
              <a:buClr>
                <a:srgbClr val="99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fety impact depends largely on the extent to which the system support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s’ needs, and is compatible with human capabilities and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02080" y="2471760"/>
            <a:ext cx="5194080" cy="2638440"/>
            <a:chOff x="3502080" y="2471760"/>
            <a:chExt cx="5194080" cy="2638440"/>
          </a:xfrm>
        </p:grpSpPr>
        <p:sp>
          <p:nvSpPr>
            <p:cNvPr id="267" name=""/>
            <p:cNvSpPr/>
            <p:nvPr/>
          </p:nvSpPr>
          <p:spPr>
            <a:xfrm>
              <a:off x="3502080" y="3390840"/>
              <a:ext cx="1633320" cy="8002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9f2c40"/>
                </a:gs>
                <a:gs pos="50000">
                  <a:srgbClr val="e5405d"/>
                </a:gs>
                <a:gs pos="100000">
                  <a:srgbClr val="9f2c4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8263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Driving T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81560" y="3390840"/>
              <a:ext cx="1635120" cy="800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a4623"/>
                </a:gs>
                <a:gs pos="50000">
                  <a:srgbClr val="996633"/>
                </a:gs>
                <a:gs pos="100000">
                  <a:srgbClr val="6a462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5b3c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Arial Unicode MS"/>
                </a:rPr>
                <a:t>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2840" y="2471760"/>
              <a:ext cx="1633320" cy="801720"/>
            </a:xfrm>
            <a:prstGeom prst="upArrow">
              <a:avLst>
                <a:gd name="adj1" fmla="val 50000"/>
                <a:gd name="adj2" fmla="val 49995"/>
              </a:avLst>
            </a:prstGeom>
            <a:gradFill rotWithShape="0">
              <a:gsLst>
                <a:gs pos="0">
                  <a:srgbClr val="b16a23"/>
                </a:gs>
                <a:gs pos="50000">
                  <a:srgbClr val="ff9933"/>
                </a:gs>
                <a:gs pos="100000">
                  <a:srgbClr val="b16a2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5b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62840" y="4308480"/>
              <a:ext cx="1633320" cy="801720"/>
            </a:xfrm>
            <a:prstGeom prst="down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5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62840" y="3390840"/>
              <a:ext cx="1633320" cy="800280"/>
            </a:xfrm>
            <a:custGeom>
              <a:avLst/>
              <a:gdLst>
                <a:gd name="textAreaLeft" fmla="*/ 372600 w 1633320"/>
                <a:gd name="textAreaRight" fmla="*/ 1260720 w 1633320"/>
                <a:gd name="textAreaTop" fmla="*/ 182520 h 800280"/>
                <a:gd name="textAreaBottom" fmla="*/ 61776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39920"/>
                  <a:tab algn="l" pos="2679840"/>
                  <a:tab algn="l" pos="4019400"/>
                  <a:tab algn="l" pos="5359320"/>
                  <a:tab algn="l" pos="6699240"/>
                  <a:tab algn="l" pos="8039160"/>
                  <a:tab algn="l" pos="9379080"/>
                  <a:tab algn="l" pos="1071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lli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6280" y="378144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35760" y="37861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58800" y="2057400"/>
            <a:ext cx="67597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technology is safety neutral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s implementation is safety crit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 Unicode MS"/>
              </a:rPr>
              <a:t>ITS Safety, or IS IT?</a:t>
            </a:r>
            <a:endParaRPr b="0" i="1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Government’s Rol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5680" y="19810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rage technologies/implementations that are likely to have an adverse effect o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implementation of technologies that are likely to have safety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Times New Roman"/>
              </a:rPr>
              <a:t>Enhanced Safety of Vehicles (ESV):</a:t>
            </a:r>
            <a:br>
              <a:rPr sz="4000"/>
            </a:b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International Harmonized Research Activities</a:t>
            </a:r>
            <a:endParaRPr b="0" i="1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8560" y="219852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3280" y="2222640"/>
            <a:ext cx="401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EE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ESV: IHRA Working Group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88600" y="201780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Intelligent Transpor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Advanced Offset Frontal Crash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edestria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Bio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Vehicle Compa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Side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HRA-ITS : Objective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ordinate international policy-oriented research to minimize the potential adverse consequences of on-board ITS technolog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velop procedures for the evaluation of safety of in-vehicle information, control and communication syst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n international view of the state of research into understanding the safety impact of driver workload and distrac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Scop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original and aftermarket on-board information, control and communication systems, inclu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r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warning and 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Summary of Activitie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u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 of current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199.79.179.92/ITS/I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Purpos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troduce IHRA-IT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lore opportunities to liaise with GRRF in areas of common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Priority Project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31520" y="189216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ment of a harmonized safety evaluation methodology fram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iver understanding and expectation of ITS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uman factors principles check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rmative data on naturalistic driving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ulator reference test scenar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ved secondary task methodology for evaluating safety effects of driver workl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monization and validation of surrogate safety meas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mportance of ITS Safety Research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s ESV’s role into crash avoi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aborates the role of governments with respect to ITS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safety is currently unregulated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there is a reasonable prospect for harmonized policies based on shared scientific understanding of th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HRA-WP.29 Liaiso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HRA research f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state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join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test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.29 to identify regulatory needs and priorities;  IHRA to coordinate the regulatory development research to support WP.29 work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Recommendations vis WP.29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strategy for global regulation development for on-board 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 – coordinate among existing GR’s,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T – create new G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 IHRA-ITS WG as Informal Group for ITS-related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with WP.1 and WP.15 on ITS-related matters (I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Possible Short Term Pla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RF – Collision avoidance, driver assistance (ACC, ESP), 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RF/GRE?– Reliability (Annex 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/GRSG? – Collision and drowsiness warning, vision enhancement, maneuvering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SG – Infotainment, nav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SP – Collision mitig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GRRF – Existing Work Pla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ion of stop l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and stability of vehicles (R1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ering equipment (R7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king compatibility of heavy goods veh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res and wheels (smar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GRRF - Futur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 Assistanc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, EBS, 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-by-wire st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pedal for accelerator/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pedals, steering whe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Avoidanc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-end collision avoidance, intersection C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TS Roundtable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 out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 warning and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perspective (US, EC, IHRA, Jap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 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 FPV,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ntelligent Transport Systems 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92680" y="2546280"/>
            <a:ext cx="3063960" cy="335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Reduce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mprove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ncreas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mprove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Improve transit </a:t>
            </a:r>
            <a:br>
              <a:rPr sz="2400"/>
            </a:b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Reduce fuel </a:t>
            </a:r>
            <a:br>
              <a:rPr sz="2400"/>
            </a:b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Reduce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49720" y="3322800"/>
            <a:ext cx="412920" cy="1523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7960" y="1979640"/>
            <a:ext cx="3110040" cy="4379400"/>
            <a:chOff x="1677960" y="1979640"/>
            <a:chExt cx="3110040" cy="4379400"/>
          </a:xfrm>
        </p:grpSpPr>
        <p:sp>
          <p:nvSpPr>
            <p:cNvPr id="182" name=""/>
            <p:cNvSpPr/>
            <p:nvPr/>
          </p:nvSpPr>
          <p:spPr>
            <a:xfrm>
              <a:off x="1677960" y="598824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omated a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7960" y="554292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mart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509724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ffic moni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7960" y="465192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ffic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7960" y="420660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 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7960" y="376128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proc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7960" y="331560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croproc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7960" y="287028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unication 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7960" y="242496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gital m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7960" y="1979640"/>
              <a:ext cx="3110040" cy="370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ing &amp; tra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935680" y="1868400"/>
            <a:ext cx="28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ation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663300"/>
                </a:solidFill>
                <a:uFillTx/>
                <a:latin typeface="Times New Roman"/>
              </a:rPr>
              <a:t>Vehicle-Based</a:t>
            </a:r>
            <a:r>
              <a:rPr b="0" i="1" lang="en-US" sz="3400" spc="-1" strike="noStrike">
                <a:solidFill>
                  <a:srgbClr val="663300"/>
                </a:solidFill>
                <a:latin typeface="Times New Roman"/>
              </a:rPr>
              <a:t> Driver Assistance and Crash Avoidance Systems</a:t>
            </a:r>
            <a:endParaRPr b="0" i="1" lang="en-US" sz="3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sion enhancement &amp; visual range w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lligent speed adap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aptive cruise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ision warning (e.g., lane departure, rear-end, lane change, intersec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tigue/impairment w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vement monitoring and friction war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hicle Stability Warning and Assi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ergency reporting and respo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cking and merging ai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Levels of Automatio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8160" y="1981080"/>
            <a:ext cx="566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r assistance (active ped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control of vehicle functions (steering, stop&amp;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control of vehicle (AH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71680" y="1724040"/>
            <a:ext cx="1806120" cy="5133600"/>
            <a:chOff x="1471680" y="1724040"/>
            <a:chExt cx="1806120" cy="5133600"/>
          </a:xfrm>
        </p:grpSpPr>
        <p:pic>
          <p:nvPicPr>
            <p:cNvPr id="198" name="ahs" descr="ahs.jpg (13736 bytes)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71680" y="5561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cardock" descr="cardock.jpg (19399 bytes)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471680" y="2969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nowplow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471680" y="4265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exhib1" descr=""/>
            <p:cNvPicPr/>
            <p:nvPr/>
          </p:nvPicPr>
          <p:blipFill>
            <a:blip r:embed="rId7"/>
            <a:stretch/>
          </p:blipFill>
          <p:spPr>
            <a:xfrm>
              <a:off x="1471680" y="1724040"/>
              <a:ext cx="1799640" cy="124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Rationalizing Automation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78160" y="1981080"/>
            <a:ext cx="566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vel has unique safety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vel must coexist with othe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on from one level to next is not incre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it represents a radical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in driv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1680" y="1724040"/>
            <a:ext cx="1806120" cy="5133600"/>
            <a:chOff x="1471680" y="1724040"/>
            <a:chExt cx="1806120" cy="5133600"/>
          </a:xfrm>
        </p:grpSpPr>
        <p:pic>
          <p:nvPicPr>
            <p:cNvPr id="205" name="ahs" descr="ahs.jpg (13736 bytes)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71680" y="5561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cardock" descr="cardock.jpg (19399 bytes)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471680" y="2969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snowplow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471680" y="4265640"/>
              <a:ext cx="18061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exhib1" descr=""/>
            <p:cNvPicPr/>
            <p:nvPr/>
          </p:nvPicPr>
          <p:blipFill>
            <a:blip r:embed="rId7"/>
            <a:stretch/>
          </p:blipFill>
          <p:spPr>
            <a:xfrm>
              <a:off x="1471680" y="1724040"/>
              <a:ext cx="1799640" cy="124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Aspects of System Safety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 of hardware and software, the propensity for malfunction and the potential to go into a dangerous and/or unanticipated safety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Machine Interaction (H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ssues are function allocation, driver-vehicle integration and user 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Traffic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gregate effect on the traffic system as a w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ITS: Safety Impact Framework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84400" y="4352760"/>
            <a:ext cx="2019240" cy="800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116240" y="4352760"/>
            <a:ext cx="2019600" cy="800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838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84400" y="3540240"/>
            <a:ext cx="2019240" cy="799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4116240" y="3540240"/>
            <a:ext cx="2019600" cy="799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838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6240" y="2727360"/>
            <a:ext cx="2019600" cy="799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48440" y="4352760"/>
            <a:ext cx="2019240" cy="8002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d000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6148440" y="3540240"/>
            <a:ext cx="2019240" cy="7999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d000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48440" y="2727360"/>
            <a:ext cx="2019240" cy="799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d7ac5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Book Antiqua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66"/>
                </a:solidFill>
                <a:latin typeface="Times New Roman"/>
              </a:rPr>
              <a:t>Direct Safety Benefits</a:t>
            </a:r>
            <a:endParaRPr b="0" i="1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31520" y="1981080"/>
            <a:ext cx="731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n of crash risk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board CA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d-side CA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for driver/system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igation of crash consequences through improved emergency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946920" y="673200"/>
            <a:ext cx="1909440" cy="767880"/>
            <a:chOff x="6946920" y="673200"/>
            <a:chExt cx="1909440" cy="767880"/>
          </a:xfrm>
        </p:grpSpPr>
        <p:sp>
          <p:nvSpPr>
            <p:cNvPr id="223" name=""/>
            <p:cNvSpPr/>
            <p:nvPr/>
          </p:nvSpPr>
          <p:spPr>
            <a:xfrm>
              <a:off x="6946920" y="118872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In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>
              <a:hlinkClick r:id="rId1" action="ppaction://hlinksldjump"/>
            </p:cNvPr>
            <p:cNvSpPr/>
            <p:nvPr/>
          </p:nvSpPr>
          <p:spPr>
            <a:xfrm>
              <a:off x="7583760" y="1188720"/>
              <a:ext cx="6354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46920" y="930960"/>
              <a:ext cx="63324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ir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>
              <a:hlinkClick r:id="rId2" action="ppaction://hlinksldjump"/>
            </p:cNvPr>
            <p:cNvSpPr/>
            <p:nvPr/>
          </p:nvSpPr>
          <p:spPr>
            <a:xfrm>
              <a:off x="7583760" y="93096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38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5b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83760" y="673200"/>
              <a:ext cx="6354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Book Antiqua"/>
                </a:rPr>
                <a:t>Posi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3" action="ppaction://hlinksldjump"/>
            </p:cNvPr>
            <p:cNvSpPr/>
            <p:nvPr/>
          </p:nvSpPr>
          <p:spPr>
            <a:xfrm>
              <a:off x="8222760" y="118872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22760" y="930960"/>
              <a:ext cx="633600" cy="252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Unicode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2760" y="673200"/>
              <a:ext cx="633600" cy="2523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7ac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66"/>
                  </a:solidFill>
                  <a:latin typeface="Book Antiqua"/>
                </a:rPr>
                <a:t>Neg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oad Safety</dc:creator>
  <dc:description/>
  <dc:language>en-US</dc:language>
  <cp:lastModifiedBy>noyi</cp:lastModifiedBy>
  <cp:lastPrinted>2001-05-15T13:38:56Z</cp:lastPrinted>
  <dcterms:modified xsi:type="dcterms:W3CDTF">2002-02-06T11:22:58Z</dcterms:modified>
  <cp:revision>210</cp:revision>
  <dc:subject/>
  <dc:title>The Need for Integration of Ergonomics in Transportation System Development</dc:title>
</cp:coreProperties>
</file>