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9D6-8280-4809-8611-A639D35F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51A-45E4-41D4-9710-F1A7AD1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5B6-EC18-484C-A9EC-65059EB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CDE-5D04-464A-B501-DDBC8825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754-0CF5-4CEC-9400-900F6B0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FE83-089A-4A92-8736-2E68289E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9BCD-E4E0-4F63-8D5B-3918FC7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61F-F888-443E-B1E1-FF9B264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8C6-2F50-465E-905E-0220CFF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E73-AD5D-4898-87E0-B08FDACB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E30-59D6-4C0D-AAD8-620C9EA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78B-C790-4906-BAC5-913C28E8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4B1-AD46-44B7-BCCE-BB94CFA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0902-E8D2-4622-ACDA-7718B78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FE8D-B3BD-494A-894F-0599852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CBCF-C672-44DE-A5A7-364FCAAD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E04B-4B3D-4E17-8455-FB11D287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6CD-76A9-4984-8ADA-34A60E8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AAC-197B-4113-89BD-BA9CEF1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08A-C95F-4EAD-9C7F-C31CA9E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CCF-C8E5-4E08-8CC8-8C1483D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CBA-D074-4C3A-9015-990CD28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A9-FBD7-478F-B329-F372643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A33-CED6-4A2E-9D0A-BEF9795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431-2869-4A21-A8A7-390E89EFD1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814-77FF-409E-9A20-4FCABA8AB4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torcycle Brake Tes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.S. DOT/NHTS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orge J. Soodo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ebruary 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y Asphalt – 6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Conditions: Braking from 60 mp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BS bike had shortest stops with front, rear, and combined brake application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BS uses both front and rear brakes even when one lever/pedal is appl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ance tires on Sport bike with LBS also helped stopping distance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y Asphalt – 8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ABS and LBS bikes tested from this sp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bike had shorter stop with front brake application and also with both brakes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rear pedal alone was used, LBS bike performed better than the ABS b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BS bike exhibited consistently short stops regardless of whether front, rear or both brakes were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t Asphalt – 3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 bike had shortest stop when either front brake or both brakes were appl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 bike had highest brake application load due to increased rider confidence in AB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y Polished Concrete – 3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face has lower coefficient of friction than dry aspha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 equipped bike outperformed other bikes, with front or both brakes appl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ver is able to make a hard brake application without concern for wheel lockup since ABS optimizes brake force for given road su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aking in a Corner – 3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rve: 200-ft radius on dry aspha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rt bike with LBS had shortest stop for rear brake application on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uring bike with ABS had shortest stops when front or both brakes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increased rider confid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ever, during ABS activation, it was difficult for rider to maintain lane position due to different ABS modulation on front and rear whe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 – ABS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uring bike with ABS did not show a clear advantage when braking in straight line st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improved rider confidence when braking on wet or curved surface because system prevents wheel lock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panic stops, riders typically apply front brake with a high application for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bike experienced different ABS cycling on the front and rear wheels, which caused difficulty in maintaining lateral stability in the l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 – LBS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unsettling characteristics found with LBS bi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BS used only with hydraulic brake system at both front and r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bikes have hybrid brake system with hydraulic actuation on front wheel and cable actuation on rear whe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ABS requirements for front wheel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e additional ABS-equipped bikes for braking in a curve perform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e ABS on rough road su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 additional testing to evaluate effectiveness of burnish proced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test specifically for L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ives of additional tes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further assess ABS perform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develop a test specifically to evaluate LB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valuate and compare stringency of FMVSS No. 122, ECE R78, and Japanese Standa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HTSA is open to suggestions about test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for compar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of maneuver to evaluate ABS perform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pose: To assess state of motorcycle braking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ed motorcycles in each of 5 categories: Sport, Cruiser, Touring, Dual Purpose, Scoo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ance evaluated with application of front brake, rear brake, and both brakes toge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d antilock brake system (ABS) on Touring b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d linked braking system (LBS) on Sport b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orcycle Crashes 1990-199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40 age group accounted for 39% of fatalities in single vehicle crashes in 1999, up from 14% in 199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2% of all age group fatalities involved intoxicated r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kes with engine displacement above 1000 cc were involved in 33% of fatalities in 1999, up from 22% in 199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gle vehicle crashes account for about 45% of all motorcycle fata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ash Avoidance Maneuv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ps rider took to avoid cras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2% of motorcycle fatalities were related to braking or steering maneuv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talities related to braking has fluctuated slightly between 1990 and 1999 but remains at 13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0% of fatalities were attributed to no maneuver taken to avoid cra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hicle maneuver prior to cra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e-half of the motorcycle fatalities occurred when the vehicle was negotiating a cur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TSA Plans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understand causes of increased motorcycle fatalities by additional crash data analys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understand role crash avoidance systems play in potential crash re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continue research to evaluate brake system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seek ways to improve brake performance through harmonization and/or upgrade of FMVSS 12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y/Test Vehic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rt: Honda VRF800F with linked braking system (LB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uiser: Harley-Davidson Superglide 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uring: BMW R1100 RT with antilock braking system (ABS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al Purpose: Kawasaki KLR  6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ooter: Yamaha Riva 12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aking Test Maneuver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Dry Asphalt SN 8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0 mph on Dry Asphalt SN 8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0 mph on Dry Asphalt SN 8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Wet Asphalt SN 5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Polished Concr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in a corner on Dry Aspha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Dry Belgian Bl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Wet Belgian Bl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ph on Dry Asphalt with wetted brak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ake Fade and Recovery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on Crite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ke temper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ke lever/pedal application 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erage Stopping d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ry Asphalt – 30 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conditions: Braking from 30 mp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bike had shortest stop with front brake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BS bike had shortest stop with rear brake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 bike had shortest stop with both brakes appl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LBS off, rear only braking produced longest s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ooter had longest stops in all three segments, when compared with other bikes with systems operat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00:31:18Z</dcterms:created>
  <dc:creator>Valued Sony Customer</dc:creator>
  <dc:description/>
  <dc:language>en-US</dc:language>
  <cp:lastModifiedBy>George Soodoo</cp:lastModifiedBy>
  <dcterms:modified xsi:type="dcterms:W3CDTF">2002-01-30T22:53:27Z</dcterms:modified>
  <cp:revision>14</cp:revision>
  <dc:subject/>
  <dc:title>Motorcycle Brake Testing</dc:title>
</cp:coreProperties>
</file>