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EFC-1DA8-488C-B6C1-EDDD18B2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96B-57BD-418C-96C2-50B2DCBD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6988-1EDA-4631-9C11-AF630974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35D-8C97-4A8F-B3D1-261181EC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FA86-2000-46DF-9554-D90ED5BB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A0A1-C2F4-4DDE-B7D4-E3FCE04F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BE99-0752-4D55-88F1-45989435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812A-AEA7-450F-92CC-AFFC2244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4753-3CE4-42B8-AC7D-D393ACF4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754C-CA62-4D41-A211-EE6075C0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F29C-2845-4824-A6FD-626C3058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F60-EEE7-4B99-B7D3-BCBB42A3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FBAC-94B7-4268-862C-EE95DA17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E940-2495-4B92-905C-BC3C6FB6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4240-BEC0-4DAD-A479-F698DBDA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3C38-C458-4524-AE7A-2FB1BBA0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426A-9F23-4C22-A13D-7D2E43B6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F98-9BAF-4B47-9EC0-2409184A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DDAA-8F11-4A75-AB76-08D26C26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AB70-DD73-41BD-B0BA-F381FB18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7E5A-4DDE-4294-9C73-94C3CF55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7D66-2DFB-406D-85BF-1AE7D161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EE89-D4FE-4460-9D57-DD993034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6C42-6A3E-4182-9B80-2953E4F9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AD42-A9BA-4C1D-95D7-2374C0C45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BB16-B441-49A7-8147-52EEBDA52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7315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ire Pressure Monitoring Systems 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HTSA Final Rule 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eorge J. Soodo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.S.DOT/NHTS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5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GRRF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eneva, Switzerlan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ebruary 4-8, 200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9EDB-638B-4952-BAAD-B5AFD1164D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Alternative 1 in NPRM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quire driver to be notified when 1 to 4 tires are 20% under recommended inflation pressure or at 20 psi, whichever is great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ssentially requires direct systems in the near te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choice requires the most-capable current system, so it both ensures the greatest safety benefits and costs more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9F0-C255-43B7-B6AC-6C5513DBA2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Alternative 2 in NPRM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quire driver to be notified when 1 to 3 tires are 25% under recommended inflation pressure or at 20 psi, whichever is great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ermits both direct systems and improved indirect system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choice permits continued use of indirect systems, so it results in lower costs, but the lesser performance results in lesser safety benefits 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B7C9-9E1F-4B7B-8618-80C9E9AFB5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Low Tire Pressure Activ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5800" y="1523880"/>
          <a:ext cx="7772400" cy="49230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re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x. Inflation Pressure (kP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n. Activation Pressure (kP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-metric - Stand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-metric – Extra L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T load range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T load range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T load range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4961-FD5D-40C2-A206-C7A13D5495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Benefits and Costs Estimat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HTSA estimates that Alternative 1 would prevent 79 deaths and 10,635 injuries, annually, at an average cost of $66 per vehicle.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ternative 2 would prevent 49 deaths and 6,585 injuries, annually, at an average cost of $31 per vehicle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en fuel and tread-wear costs factored in, net costs per vehicle are $23 and $9 respectivel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385-C945-4C19-9F00-33F8AD06E0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omments on NPRM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ment period closed September 6, 2001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ceived 153 comments from private citizens, vehicle manufacturers, tire manufacturers, TPMS manufacturers, consumer advocacy group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 surprises – advocacy groups and tire mfrs want better-performing system, vehicle mfrs want least-expensive system, TPMS mfrs want whatever they produce to be specified, and the public is spl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 major issue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D36-8012-4BBB-97D3-D47207A326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Major Issue 1 – Benefits and Cost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hicle manufacturers and one TPMS manufacturer commented that the agency has understated the costs of both direct and indirect systems and dramatically overstated the safety benefi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gency has revised Benefits and Costs estimates for the final ru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0CC-0184-4F67-8A56-AF62C1470F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Major Issue 2 – TPMS Reliabilit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rd and a manufacturer of indirect TPMS commented that NHTSA’s assumption that direct TPMS is highly reliable is not consistent with their experie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W makes both direct and indirect systems, says reliability is unknown, but doesn’t believe it will be a probl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gency acknowledges that these systems are new technology that are not widely used now and reliability is unknown – Proposed phase-in (Issue 5) allows gradual introduction so we can monitor real-world reliabil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5E0-8C66-4368-A6EE-4C0BA6239B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Major Issue 3 – Choice of Alternativ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lternative 1 – Requires Direct Systems (20% underinflation of 1 to 4 tire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ongly endorsed by consumer advocacy groups, tire manufacturers, and manufacturers of direct TPMS – best system that gives driver best inform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ehicle mfrs generally say it’s too early in development of tire sensing technology to rule out a technology at this time + benefits of this are not substantially greater than allowing indirect systems as wel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744-1CCF-4016-A99D-1D21FBF74C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Major Issue 3 – Alternative 2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lternative 2 – Permits either Direct Systems or Improved Indirect Systems (25% under-inflation of 1 to 3 tire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ehicle manufacturers prefer flexibility to use both types of systems, but argue that this alternative is too stringent to permit continued use of current indirect system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y asked agency to consider an alternative that requires system to detect 30% underinflation of 1 tire only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A795-F829-496E-BB53-B695CC1B33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Major Issue 3 – Alternative 2 (Cont’d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direct TPMS mfr (Sumitomo) supports Alternative 2 and supports 1 to 3 ti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W says indirect can be improved to detect 25% below placard, but not by Nov. 2003 – modifications will make system cost 60% of direct syst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yota noted Congressional sponsor of this provision cited Toyota’s indirect system as what mfrs should provide on all vehicles – suggests Congress didn’t want indirect systems to be excluded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B65-E17C-4703-A597-450C7868E3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gress mandated a final rule to require a warning system “in motor vehicles to indicate to the operator when a tire is significantly under-inflated” be completed by November 1, 2001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gress mandated that this rule must take effect by November 1, 2003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160F-E387-4709-AAD0-F366FE945D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Major Issue 3 – Alternative 3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lternative 3 – In response to comments, establish a requirement that permits the performance achievable by currently-offered indirect TPMS on Toyota Sienna, etc. (30% underinflation on any 1 tir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ed by by vehicle manufacturer associations, based on legislative intent and belief benefits are equivalent to Alternative 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tinental Teves (indirect TPMS supplier) also favors this optio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CC22-DD5D-4665-813A-1C97921B83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Major Issue 4 – Phase-i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PRM proposed to make this effective for all vehicles under 10,000 lbs GVWR in 2 years (Nov 2003), asked for comments on need for phase-i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st vehicle manufacturers proposed a 4-year phase-in: 15%, 35%, 70% and 100% of produ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onda proposed a 4-year phase-in at 10%, 40%, 70% and 100%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baru and TRW supported the agency’s NPRM suggested 3-year phase-in of 35%, 65% and 100%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8450-A812-4A89-BB5B-4FC28D236A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Vehicle Applicabilit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PRM Proposed applicability for light vehicles with a gross vehicle weight rating (GVWR) of 10,000 lbs or l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men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imit to vehicles under 8500 lb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empt vehicles built in more than one stag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3458-6C26-42A4-94B0-A590B4E464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Replacement Tires/Rim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PRM Propos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PMS must meet requirements with all optional and replacement tire/rim sizes recommended by vehicle manufacturer for that vehic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ehicle manufacturers want to limit applicability to tires (brands and sizes) and rims specified by the vehicle manufactur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ftermarket firms/Consumer groups want TPMS to work with all replacement tires and rim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9E69-FEB6-47E0-AFF2-1AED925F30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ummary – Decision Issu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gency to decide on the following in Final Rule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arning activation threshol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umber of tires monitored; include spare tire??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uration of warn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lltale symbol: ISO or other symbo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PMS operation with replacement tires and rim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ehicle applic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ffective date by production volume; duration of phase-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062-ED98-4D3A-9546-D2CCD179B3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HTSA Tire Pressure Survey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ebruary 2001 nationwide survey of more than 11,000 vehicles at gas st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urpose was to learn about real-world inflation pressure level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arned that trucks are typically more under-inflated than ca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than one-third of vehicles were at least 20% under for one ti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than one-fourth of vehicles were at least 25% under for one ti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354-9665-4DB3-906E-A86542373D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Under-inflated tires on car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981080"/>
          <a:ext cx="7772400" cy="43228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P&lt;= -10 p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# of ti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&lt;DP&lt;= 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# of ti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&lt;DP&lt;= 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# of ti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&lt;DP&lt;=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# of ti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or more: 17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or more: 24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or more: 39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or more : 46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or more: 5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or more: 10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or more: 20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or more: 26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or more: 2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or more: 5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or more: 9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or more: 12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l 4 tires: 1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l 4 tires: 2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l 4 tires: 4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l 4 tires: 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B3E-E159-4857-B8BD-934AA373C1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Under-inflated tires on LTV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1981080"/>
          <a:ext cx="7772400" cy="43228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P&lt;= -10 p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# of ti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&lt;DP&lt;= 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# of ti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&lt;DP&lt;= 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# of ti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&lt;DP&lt;=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# of ti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or more: 19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or more: 3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or more: 43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or more : 44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or more: 8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or more: 13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or more: 25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or more: 25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or more: 3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or more: 7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or more: 12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or more: 12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l 4 tires: 2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l 4 tires: 4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l 4 tires: 5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l 4 tires: 6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70CE-A53B-4E73-B415-8A9787E9FE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HTSA Tire Pressure Research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et with all known suppliers of tire pressure monitoring system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et with vehicle and tire manufacturers to learn of their experience with these system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valuated our data to identify crashes and injuries that could be addressed by these monitoring systems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CAB1-B774-4F5A-9585-5D2F60FFC7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ypes of TPM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direct System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k with ABS wheel speed sensors; as inflation pressure drops, radius of tire decreases and rotational speed of wheel increas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 relative rotational speed increases above programmed level, system warns driver of under-inf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urrently offered on a few cars (e.g., Oldsmobile Alero) and some vans (Toyota Sienna and Ford Windsta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D89-058C-4B5F-8414-D1FC39FE20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ypes of TPM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rect System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 a pressure sensor in each wheel to directly measure pressure in each ti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ansmit data via a wireless radio frequency transmitter to a central receiver that monitors the data and connects to a display mounted inside the vehic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urrently offered on a few high-end cars (Chevrolet Corvette and BMW and Mercedes model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4C9-7FC5-49DC-838F-A8FCAF4E76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efinition of Significantly Under-inflated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re is no “bright line” divide where a tire is  “significantly under-inflated”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 tire becomes more under-inflated, stress on tire increases and risk of failure increas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posed two alternative definitions of “significantly under-inflated” to reflect different possible views of that term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59F-6DAF-41E3-8235-6E9558C7E6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6:04:28Z</dcterms:created>
  <dc:creator>Steve Kratzke</dc:creator>
  <dc:description/>
  <dc:language>en-US</dc:language>
  <cp:lastModifiedBy>George Soodoo</cp:lastModifiedBy>
  <dcterms:modified xsi:type="dcterms:W3CDTF">2002-01-30T16:06:14Z</dcterms:modified>
  <cp:revision>38</cp:revision>
  <dc:subject/>
  <dc:title>Tire Pressure Monitoring Systems  The NHTSA Proposal </dc:title>
</cp:coreProperties>
</file>