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718-CBC8-442A-98E5-F94B61C2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4F5-9E80-4744-985B-E153EAC6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412-6CFC-40D8-8673-60B48983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FC7-430E-4531-86C9-48F544F5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5F74-9721-498D-9C2E-75A40045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5276-FB77-4B51-8E19-5A7AD2CC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D1AF-7EBE-4FA4-8E99-14D8D45A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0914-E51D-475B-AC2C-DA24A9B2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9783-105B-496D-9336-E1D2EAF4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2927-3460-4C7A-A562-FDFBE862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2A48-E6C6-40EA-B31D-B99C4046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730-72E4-42DC-9775-410837B7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E979-889F-4238-A4AD-8514744E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0539-99C0-4A97-8FD0-20905AEA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15CE-0A08-4294-BAEA-0302780F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7246-F842-4972-B4BD-E545CCFB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E280-CDEA-44CB-B3FE-ECBF2EFE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7CB-23F1-44A3-B112-B6E90B9A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A55-6319-43CA-810D-5179F15E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48B-D8BE-439A-9980-671C079E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5C0-8389-4487-A8E3-34E7D7F2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8AE-158D-44B9-AB29-F162B21F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572-2792-42F0-A9B3-B69EFF84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9C1-FBA0-49D2-A753-7055C3CB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BB54-0B44-4FF1-BE1C-A511F15FA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966A-FF7B-401D-94BD-589C7189D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 Black"/>
              </a:rPr>
              <a:t>U.S. TIRE STANDARDS RULEMAKING</a:t>
            </a:r>
            <a:br>
              <a:rPr sz="4400"/>
            </a:br>
            <a:br>
              <a:rPr sz="4400"/>
            </a:br>
            <a:r>
              <a:rPr b="0" i="1" lang="en-US" sz="2400" spc="-1" strike="noStrike">
                <a:solidFill>
                  <a:srgbClr val="cc6600"/>
                </a:solidFill>
                <a:latin typeface="Arial Black"/>
              </a:rPr>
              <a:t>George J. Soodoo</a:t>
            </a:r>
            <a:br>
              <a:rPr sz="2400"/>
            </a:br>
            <a:r>
              <a:rPr b="0" i="1" lang="en-US" sz="2400" spc="-1" strike="noStrike">
                <a:solidFill>
                  <a:srgbClr val="cc6600"/>
                </a:solidFill>
                <a:latin typeface="Arial Black"/>
              </a:rPr>
              <a:t>U.S. DOT/NHTSA</a:t>
            </a:r>
            <a:br>
              <a:rPr sz="2400"/>
            </a:b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5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GRR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bruary 4-8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neva, Switzerla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2819520"/>
          <a:ext cx="914400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19520"/>
                    <a:ext cx="91440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2172-0F23-45E6-B46D-CE8AE9E274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Arial Black"/>
              </a:rPr>
              <a:t>8 P-METRIC TIRES TESTED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yo Proxes H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royal Tiger Pa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nlop D65 Tou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year Regatta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F Goodrich Cientra Pl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oper Lifeliner 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restone Wilderness 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chelin XH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25/60R16  97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25/60R16  97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05/65R15  92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05/65R15  92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35/75R15 105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35/75R15 105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35/75R15 105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35/75R15 105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E8D-90B1-44D8-89B4-5C607DFE61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 Black"/>
              </a:rPr>
              <a:t>4 LT TIRES TEST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irelli Scorpion P/T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T235/75R16  104S; Load Range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kohama Geolander A/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T235/75R15 104S; Load Range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odyear Wrangler H/T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T245/75R16 120R;  Load Range 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ridgestone R273 SWPII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T245/75R16  120Q;  Load Range 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55F-BBE6-4225-A7AE-139FAA7231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Arial Black"/>
              </a:rPr>
              <a:t>BRIEF SUMMARY OF TEST RESUL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plans to place test results in the public docket when NPRM is publish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date of NPRM publication: February/March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ires completed baseline Endurance tes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expected, more failures occurred at higher speed and at lower inflation pres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C93-004D-4275-855A-4C9F9AC72F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Arial Black"/>
              </a:rPr>
              <a:t>BRIEF SUMMARY OF TEST RESUL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ll tires completed baseline High Speed test (GTR propos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 expected, more failures occurred at combination of high load, low inflation and long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ailures included tread separation, belt separation, sidewall blowout, chu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229-82B8-4395-A777-F4799CBB6A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Arial Black"/>
              </a:rPr>
              <a:t>PROPOSALS FOR REVISED FMVS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ight Vehicle Standard for vehicles up to 10,000 lbs GVW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gh Speed test: 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Upgr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ndurance test: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Upgr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w Pressure Performance test: 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ad Unseating test: 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Upgr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oad Hazard Impact test: 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Upgr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ging Effects test: 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EE7-1968-458E-BAAF-1263B1D898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 Black"/>
              </a:rPr>
              <a:t>HIGH SPEED TES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E R30/proposed GTR method: Use rated speed of tire as basis for test spee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VSS 109 method: Same minimum requirement for all tires but at higher sp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alternatives: Use proposed GTR method but with specified limits for rated spee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ined all test variables:  ambient temperature, load, inflation pressure, speed, and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77D-CAFC-4008-9DE7-9EFD9129D5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 Black"/>
              </a:rPr>
              <a:t>ENDURANCE TES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ine all test variables and appropriateness of valu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MVSS 109 method: Use same minimum requirement for all tires but with more stringent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475-0E2B-4717-9585-0D4CE0D601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 Black"/>
              </a:rPr>
              <a:t>LOW PRESSURE PERFORMANCE TES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urpose: To evaluate tire performance at TPMS thresho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durance or high speed test for short d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st method: Establishes minimum requirements independent of speed rating of t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D6F-47FB-49E8-9E52-5CD89A4744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 Black"/>
              </a:rPr>
              <a:t>BEAD UNSEATING TES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ing alternative to current FMVSS 109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yota Wedge 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hicle testing conducted to assess correlation with bench test altern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ED4-B556-4853-9FE3-C18B2FC27F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Arial Black"/>
              </a:rPr>
              <a:t>ROAD HAZARD IMPACT </a:t>
            </a:r>
            <a:r>
              <a:rPr b="0" i="1" lang="en-US" sz="4000" spc="-1" strike="noStrike">
                <a:solidFill>
                  <a:srgbClr val="cc6600"/>
                </a:solidFill>
                <a:latin typeface="Arial Black"/>
              </a:rPr>
              <a:t>	</a:t>
            </a:r>
            <a:r>
              <a:rPr b="0" i="1" lang="en-US" sz="4000" spc="-1" strike="noStrike">
                <a:solidFill>
                  <a:srgbClr val="cc6600"/>
                </a:solidFill>
                <a:latin typeface="Arial Black"/>
              </a:rPr>
              <a:t>	</a:t>
            </a:r>
            <a:r>
              <a:rPr b="0" i="1" lang="en-US" sz="4000" spc="-1" strike="noStrike">
                <a:solidFill>
                  <a:srgbClr val="cc6600"/>
                </a:solidFill>
                <a:latin typeface="Arial Black"/>
              </a:rPr>
              <a:t>	</a:t>
            </a:r>
            <a:r>
              <a:rPr b="0" i="1" lang="en-US" sz="4000" spc="-1" strike="noStrike">
                <a:solidFill>
                  <a:srgbClr val="cc6600"/>
                </a:solidFill>
                <a:latin typeface="Arial Black"/>
              </a:rPr>
              <a:t>	</a:t>
            </a:r>
            <a:r>
              <a:rPr b="0" i="1" lang="en-US" sz="4000" spc="-1" strike="noStrike">
                <a:solidFill>
                  <a:srgbClr val="cc6600"/>
                </a:solidFill>
                <a:latin typeface="Arial Black"/>
              </a:rPr>
              <a:t>TES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ing SAE J1981, Road Hazard Impact Test for Wheel and Tire Assemb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lacement for Strength (plunger)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st simulates a tire impacting  a road hazard such as a pothole or cur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540-1D91-45D1-843C-69324269CA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 Black"/>
              </a:rPr>
              <a:t>TREAD AC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R 5164 signed into law on November 1,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ransportation Recall Enhancement, Accountability, and Documentation (TREAD) 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 Sections relate to tire performance i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FE9-C39F-45EE-AF78-B0C27F3B8F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 Black"/>
              </a:rPr>
              <a:t>AGING EFFECTS TES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ree alternatives being considered for aging effects te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en 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el (Adhesion) strength using ASTM Standard D 413-98, “Standard Test Methods for Rubber Property-Adhesion to Flexible Substr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ng-term durability endu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C05-B660-4768-9905-2B3308D0A1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cc6600"/>
                </a:solidFill>
                <a:latin typeface="Arial Black"/>
              </a:rPr>
              <a:t>Effective Da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cy considering a variety of options for effective dates includ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ulti-year phase-in beginning with P-metric t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ould require production data to en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ow more time for LT t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e-in effective dates with TPMS effective d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14479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A9B-3A3E-44D9-9064-46C4138700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Arial Black"/>
              </a:rPr>
              <a:t>PROPOSALS FOR LABELING REQUIREMEN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PRM issued on December 19, 20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HTSA Docket No. 1115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pplicable to vehicles with GVWR &lt;10,000 lb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ire Identification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ad Limits/Load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ximum inflation pres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ehicle placard content &amp; 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xt Step:  Comment period closes February 19,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607-0DEA-429E-9E7E-157CCC51F0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 Black"/>
              </a:rPr>
              <a:t>SUMMAR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ree Rulemakings in progres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beling NPR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sued December 19, 20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ment period closes February 1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nal Rule by June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PMS Final Rule: February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rehensive revision to the tire standards;  NPRM expected February/March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96D-C55F-4F77-B69C-C7DE7BD531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 Black"/>
              </a:rPr>
              <a:t>SECTION 10 - TIRE STANDARD UPGRA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vise and Update tire standards FMVSS 109 and FMVSS 11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ulemaking must be completed by June 1, 20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B66-73F1-4B2A-97F9-AC9B61DF7E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Arial Black"/>
              </a:rPr>
              <a:t>SECTION 11 - IMPROVED TIRE INFORMA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re Lab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rove labeling for consumers to easily identify tires involved in a re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itiate rulemaking within 30 d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te rulemaking by June 1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flation Levels and Load Li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umer information on tire load lim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umer information on maintaining proper tire infla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statutory deadlines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345-2F65-41B0-8659-3AF15CB26B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Arial Black"/>
              </a:rPr>
              <a:t>SECTION 13 - TIRE PRESSURE WARNING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a warning system in the vehicle to indicate when the tire is significantly under-inf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rulemaking by November 1, 2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 must become effective 2 years after completion of rulema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2C6-3DCA-4E6C-8B71-DF3755E680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 Black"/>
              </a:rPr>
              <a:t>NHTSA TIRE TESTING – PHASE 1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urpose:  To focus on developing proposals for a high speed test and endurance t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sted 12 brands with different sizes, speed rat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hearography analysis before and after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ed with a baseline FMVSS 109 or GTS-2000 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BC5-BC1B-491B-A18B-D226CF39A8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Arial Black"/>
              </a:rPr>
              <a:t>9 P-METRIC TIRES TESTED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ridgestone Potenza RE9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irelli P4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chelin Energy MXV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ankook Optimo Plus 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nlop D65 Tou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FS Futura 2000 AT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restone Wilderness 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oper National XT 5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restone AT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05/65R15  92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05/60R15  90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05/65R15  94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05/65R15  92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05/70R14  93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05/75R14  95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55/70R16  109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25/60R16  97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235/75R15  105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ABA-1E67-4B09-93E7-A171AC8653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 Black"/>
              </a:rPr>
              <a:t>3 LT TIRES TEST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ichelin XPC 4x4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T235/70R16  105H; Load Range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odyear Wrangler AT/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T235/75R15;  Load Range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kohama Geolander H/T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T225/75R16  110S;  Load Range 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38D-76BF-4F73-9D77-FB49FAB00B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 Black"/>
              </a:rPr>
              <a:t>NHTSA TIRE TESTING – PHASE 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urpose:  To focus on likely agency proposal for a high speed test and endurance t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sted 12 brands with different sizes, speed rat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hearography analysis before and after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06A-32DA-4D5B-8AB6-CDE1B36A58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9T17:08:44Z</dcterms:created>
  <dc:creator>George Soodoo</dc:creator>
  <dc:description/>
  <dc:language>en-US</dc:language>
  <cp:lastModifiedBy>George Soodoo</cp:lastModifiedBy>
  <cp:lastPrinted>2001-03-06T17:12:30Z</cp:lastPrinted>
  <dcterms:modified xsi:type="dcterms:W3CDTF">2002-01-30T16:37:28Z</dcterms:modified>
  <cp:revision>68</cp:revision>
  <dc:subject/>
  <dc:title>NHTSA TIRE RESEARCH</dc:title>
</cp:coreProperties>
</file>