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0A99-8871-4D3B-B7B7-207F7F95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CA0-0C06-470F-9972-53B06782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2960-F74D-44C5-989B-BA42FA04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55D-36BE-4035-88C1-99EE6897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58B-911E-43DD-B866-4FB7A959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5E9D-FD38-4D30-9CA8-300D61CE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BC6-7813-420B-882B-DC048E9E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E0BF-FBE3-4273-9A90-7FCD8DFB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C69-8F86-49F9-96F6-D2A18725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2AA3-FE5F-40C1-A4B9-AC1EBC3D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BA72-ABC9-4C99-B6F6-A7266137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DACA-2332-49AE-9B82-E4D5B7AD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9A9A-DA98-4675-AA83-B5388ABF46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447920"/>
            <a:ext cx="716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 Age Influence of Wet Friction Coefficient on Test Surface</a:t>
            </a:r>
            <a:r>
              <a:rPr b="1" lang="ja-JP" sz="22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5105520" cy="3722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3809880" cy="842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1828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est Tyre : 205/65R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228600"/>
            <a:ext cx="883944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lang="ja-JP" sz="13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formal document No.</a:t>
            </a:r>
            <a:r>
              <a:rPr b="0" lang="ja-JP" sz="1300" spc="-1" strike="noStrike" u="sng">
                <a:solidFill>
                  <a:srgbClr val="000000"/>
                </a:solidFill>
                <a:uFillTx/>
                <a:latin typeface="Times New Roman"/>
              </a:rPr>
              <a:t> 14</a:t>
            </a:r>
            <a:r>
              <a:rPr b="0" lang="ja-JP" sz="13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49th GRRF, 29 Jan. – 3 Feb. 2001, </a:t>
            </a: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Agenda Item 6.2)</a:t>
            </a: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Reference Data for Wet μMeasurement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(submitted by the experts of Jap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4731-AB48-4BF5-A923-C51CDCCD6A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90720" y="1066680"/>
            <a:ext cx="7358040" cy="5084280"/>
            <a:chOff x="990720" y="1066680"/>
            <a:chExt cx="7358040" cy="5084280"/>
          </a:xfrm>
        </p:grpSpPr>
        <p:sp>
          <p:nvSpPr>
            <p:cNvPr id="48" name=""/>
            <p:cNvSpPr/>
            <p:nvPr/>
          </p:nvSpPr>
          <p:spPr>
            <a:xfrm>
              <a:off x="1003320" y="1233360"/>
              <a:ext cx="3476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03320" y="1233360"/>
              <a:ext cx="347652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03320" y="1401840"/>
              <a:ext cx="3476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03320" y="1401840"/>
              <a:ext cx="34765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03320" y="1736640"/>
              <a:ext cx="3476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03320" y="1736640"/>
              <a:ext cx="34765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03320" y="2070000"/>
              <a:ext cx="3476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03320" y="2070000"/>
              <a:ext cx="347652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71880" y="1233360"/>
              <a:ext cx="3476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71880" y="1233360"/>
              <a:ext cx="347688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1880" y="1401840"/>
              <a:ext cx="347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71880" y="1401840"/>
              <a:ext cx="34768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71880" y="1568520"/>
              <a:ext cx="347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71880" y="1568520"/>
              <a:ext cx="34768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71880" y="1736640"/>
              <a:ext cx="3476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1880" y="1736640"/>
              <a:ext cx="34768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1880" y="1903320"/>
              <a:ext cx="3476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71880" y="1903320"/>
              <a:ext cx="347688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1880" y="2070000"/>
              <a:ext cx="3476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71880" y="2070000"/>
              <a:ext cx="347688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03320" y="2405160"/>
              <a:ext cx="3476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03320" y="2405160"/>
              <a:ext cx="34765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03320" y="2739960"/>
              <a:ext cx="3476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03320" y="2739960"/>
              <a:ext cx="34765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27480" y="1066680"/>
              <a:ext cx="2504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ABS Wet Braking Distance (V=80km/h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97840" y="1066680"/>
              <a:ext cx="2504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ABS Wet Braking Distance (V=80km/h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05800" y="1236600"/>
              <a:ext cx="56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Test Ti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44400" y="123660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Car 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77200" y="1236600"/>
              <a:ext cx="35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Car 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10360" y="123660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Car 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37040" y="1236600"/>
              <a:ext cx="36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Car 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74720" y="1236600"/>
              <a:ext cx="56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Test Ti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13320" y="123660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Car 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45760" y="1236600"/>
              <a:ext cx="35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Car 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80720" y="123660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Car 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905960" y="1236600"/>
              <a:ext cx="36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Car 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36800" y="1405080"/>
              <a:ext cx="79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P195/75R1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03680" y="1405080"/>
              <a:ext cx="37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AST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43320" y="140508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44.6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75040" y="140508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39.4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08560" y="140508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43.3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40280" y="140508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43.7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05720" y="1405080"/>
              <a:ext cx="79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P195/75R1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72240" y="1405080"/>
              <a:ext cx="37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AST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12240" y="140508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100.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45400" y="140508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100.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77480" y="140508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100.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10640" y="140508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100.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42520" y="1571760"/>
              <a:ext cx="43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(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11640" y="15955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σ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10280" y="159084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=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80120" y="15717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0.56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70360" y="157176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(1.00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03880" y="157176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(0.37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37040" y="157176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(0.95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4240" y="157176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195/70R1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11560" y="1571760"/>
              <a:ext cx="83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12240" y="157176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110.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45400" y="157176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111.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73880" y="173844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195/70R1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42640" y="1738440"/>
              <a:ext cx="83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43320" y="173844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40.3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5040" y="173844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35.2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44240" y="173844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205/60R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13000" y="173844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12240" y="173844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112.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45400" y="173844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129.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77480" y="173844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117.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10640" y="173844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122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38640" y="190656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(0.64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70360" y="190656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(0.62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44240" y="190656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205/60R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12280" y="190656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2240" y="190656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121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5400" y="190656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125.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77480" y="190656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121.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10640" y="190656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125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73880" y="207324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205/60R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44440" y="207324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30720" y="207000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39.8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75040" y="207324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30.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8560" y="207324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36.9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40280" y="207324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35.8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38640" y="22417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(0.65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70360" y="22417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(0.35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3880" y="22417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(1.29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37040" y="22417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(0.31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07000" y="2241720"/>
              <a:ext cx="99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 u="sng">
                  <a:solidFill>
                    <a:srgbClr val="000000"/>
                  </a:solidFill>
                  <a:uFillTx/>
                  <a:latin typeface="Century"/>
                </a:rPr>
                <a:t>Test Conditio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98440" y="2241720"/>
              <a:ext cx="15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  </a:t>
              </a: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Load : Ave. 390kg/ti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73880" y="24084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205/60R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43720" y="240840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43320" y="240840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36.8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75040" y="240840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31.4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08560" y="240840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35.7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40280" y="240840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34.8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69360" y="2408400"/>
              <a:ext cx="231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  </a:t>
              </a: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IP : 180kPa (ASTM), 190kPa (A,B,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38640" y="257508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(0.46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0360" y="257508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(0.41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03880" y="257508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(0.32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37040" y="257508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(0.45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96280" y="2575080"/>
              <a:ext cx="1367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  </a:t>
              </a: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Water Depth : 1m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06720" y="2743200"/>
              <a:ext cx="171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  </a:t>
              </a:r>
              <a:r>
                <a:rPr b="0" lang="ja-JP" sz="1100" spc="-1" strike="noStrike">
                  <a:solidFill>
                    <a:srgbClr val="000000"/>
                  </a:solidFill>
                  <a:latin typeface="Century"/>
                </a:rPr>
                <a:t>Air Temperature : 24 - 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46520" y="27608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℃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51560" y="5983200"/>
              <a:ext cx="12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＊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23280" y="596736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Tire 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76880" y="598320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09720" y="5967360"/>
              <a:ext cx="380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Tire Z in the case of Car A &amp; B ( Level of significance : 1%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90720" y="1233360"/>
              <a:ext cx="1440" cy="151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90720" y="1233360"/>
              <a:ext cx="12600" cy="151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36760" y="1233360"/>
              <a:ext cx="1800" cy="151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36760" y="1233360"/>
              <a:ext cx="11160" cy="151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68480" y="1233360"/>
              <a:ext cx="1800" cy="151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68480" y="1233360"/>
              <a:ext cx="12960" cy="151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02000" y="1233360"/>
              <a:ext cx="1440" cy="151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02000" y="1233360"/>
              <a:ext cx="11160" cy="151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33720" y="1233360"/>
              <a:ext cx="1800" cy="151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33720" y="1233360"/>
              <a:ext cx="12960" cy="151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67240" y="1233360"/>
              <a:ext cx="1440" cy="151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67240" y="1233360"/>
              <a:ext cx="12600" cy="151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59280" y="1233360"/>
              <a:ext cx="1800" cy="84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59280" y="1233360"/>
              <a:ext cx="12600" cy="84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05680" y="1233360"/>
              <a:ext cx="1440" cy="84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05680" y="1233360"/>
              <a:ext cx="12600" cy="84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38840" y="1233360"/>
              <a:ext cx="1800" cy="84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38840" y="1233360"/>
              <a:ext cx="11160" cy="84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70920" y="1233360"/>
              <a:ext cx="1440" cy="84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70920" y="1233360"/>
              <a:ext cx="12600" cy="84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04080" y="1233360"/>
              <a:ext cx="1800" cy="84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04080" y="1233360"/>
              <a:ext cx="11160" cy="84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35800" y="1233360"/>
              <a:ext cx="1800" cy="84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35800" y="1233360"/>
              <a:ext cx="12960" cy="84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03240" y="1401840"/>
              <a:ext cx="1800" cy="135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03240" y="1401840"/>
              <a:ext cx="12960" cy="1350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72160" y="1401840"/>
              <a:ext cx="144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72160" y="1401840"/>
              <a:ext cx="12600" cy="68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96840" y="3081240"/>
              <a:ext cx="3483000" cy="28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23880" y="3387600"/>
              <a:ext cx="2705400" cy="21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3880" y="5130720"/>
              <a:ext cx="27054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23880" y="4695840"/>
              <a:ext cx="27054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23880" y="4257720"/>
              <a:ext cx="27054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3880" y="3822840"/>
              <a:ext cx="27054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3880" y="3387600"/>
              <a:ext cx="27054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23880" y="3387600"/>
              <a:ext cx="2705400" cy="21780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23880" y="3387600"/>
              <a:ext cx="1800" cy="217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23880" y="5565600"/>
              <a:ext cx="39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23880" y="5130720"/>
              <a:ext cx="39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23880" y="4695840"/>
              <a:ext cx="3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4257720"/>
              <a:ext cx="3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23880" y="3822840"/>
              <a:ext cx="3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3880" y="3387600"/>
              <a:ext cx="39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23880" y="5565600"/>
              <a:ext cx="2705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1523880" y="5526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424240" y="5526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328920" y="5526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229280" y="5526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3880" y="3855960"/>
              <a:ext cx="2705400" cy="453960"/>
            </a:xfrm>
            <a:custGeom>
              <a:avLst/>
              <a:gdLst/>
              <a:ahLst/>
              <a:rect l="l" t="t" r="r" b="b"/>
              <a:pathLst>
                <a:path w="889" h="149">
                  <a:moveTo>
                    <a:pt x="0" y="0"/>
                  </a:moveTo>
                  <a:lnTo>
                    <a:pt x="296" y="149"/>
                  </a:lnTo>
                  <a:lnTo>
                    <a:pt x="593" y="36"/>
                  </a:lnTo>
                  <a:lnTo>
                    <a:pt x="889" y="2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14520" y="4221000"/>
              <a:ext cx="2376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10"/>
                  </a:moveTo>
                  <a:lnTo>
                    <a:pt x="13" y="17"/>
                  </a:lnTo>
                  <a:lnTo>
                    <a:pt x="15" y="8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81120" y="425448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8"/>
                  </a:moveTo>
                  <a:lnTo>
                    <a:pt x="13" y="14"/>
                  </a:lnTo>
                  <a:lnTo>
                    <a:pt x="15" y="6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44480" y="428472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14" y="18"/>
                  </a:lnTo>
                  <a:lnTo>
                    <a:pt x="16" y="8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1440" y="431784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8"/>
                  </a:moveTo>
                  <a:lnTo>
                    <a:pt x="14" y="14"/>
                  </a:lnTo>
                  <a:lnTo>
                    <a:pt x="16" y="6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76240" y="43498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7"/>
                  </a:moveTo>
                  <a:lnTo>
                    <a:pt x="15" y="15"/>
                  </a:lnTo>
                  <a:lnTo>
                    <a:pt x="17" y="7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43200" y="4383000"/>
              <a:ext cx="23760" cy="20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7"/>
                  </a:moveTo>
                  <a:lnTo>
                    <a:pt x="13" y="13"/>
                  </a:lnTo>
                  <a:lnTo>
                    <a:pt x="15" y="5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09800" y="4413240"/>
              <a:ext cx="2376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9"/>
                  </a:moveTo>
                  <a:lnTo>
                    <a:pt x="14" y="17"/>
                  </a:lnTo>
                  <a:lnTo>
                    <a:pt x="15" y="7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73160" y="4446720"/>
              <a:ext cx="2880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8"/>
                  </a:moveTo>
                  <a:lnTo>
                    <a:pt x="16" y="13"/>
                  </a:lnTo>
                  <a:lnTo>
                    <a:pt x="18" y="6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41560" y="4476600"/>
              <a:ext cx="2376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10"/>
                  </a:moveTo>
                  <a:lnTo>
                    <a:pt x="13" y="17"/>
                  </a:lnTo>
                  <a:lnTo>
                    <a:pt x="15" y="8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08160" y="451008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8"/>
                  </a:moveTo>
                  <a:lnTo>
                    <a:pt x="13" y="14"/>
                  </a:lnTo>
                  <a:lnTo>
                    <a:pt x="15" y="6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71880" y="454032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10"/>
                  </a:moveTo>
                  <a:lnTo>
                    <a:pt x="13" y="18"/>
                  </a:lnTo>
                  <a:lnTo>
                    <a:pt x="15" y="8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38480" y="457344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8"/>
                  </a:moveTo>
                  <a:lnTo>
                    <a:pt x="14" y="14"/>
                  </a:lnTo>
                  <a:lnTo>
                    <a:pt x="16" y="6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03640" y="4605480"/>
              <a:ext cx="2664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7"/>
                  </a:moveTo>
                  <a:lnTo>
                    <a:pt x="15" y="15"/>
                  </a:lnTo>
                  <a:lnTo>
                    <a:pt x="17" y="7"/>
                  </a:lnTo>
                  <a:lnTo>
                    <a:pt x="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70240" y="4638600"/>
              <a:ext cx="23760" cy="20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7"/>
                  </a:moveTo>
                  <a:lnTo>
                    <a:pt x="13" y="13"/>
                  </a:lnTo>
                  <a:lnTo>
                    <a:pt x="15" y="5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14520" y="426708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0" y="9"/>
                  </a:moveTo>
                  <a:lnTo>
                    <a:pt x="40" y="46"/>
                  </a:lnTo>
                  <a:lnTo>
                    <a:pt x="42" y="36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14600" y="435456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0" y="10"/>
                  </a:moveTo>
                  <a:lnTo>
                    <a:pt x="40" y="46"/>
                  </a:lnTo>
                  <a:lnTo>
                    <a:pt x="42" y="37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14680" y="4446720"/>
              <a:ext cx="64800" cy="7272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0" y="9"/>
                  </a:moveTo>
                  <a:lnTo>
                    <a:pt x="39" y="46"/>
                  </a:lnTo>
                  <a:lnTo>
                    <a:pt x="41" y="36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12960" y="453384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0" y="10"/>
                  </a:moveTo>
                  <a:lnTo>
                    <a:pt x="40" y="46"/>
                  </a:lnTo>
                  <a:lnTo>
                    <a:pt x="42" y="37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13040" y="4626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0" y="9"/>
                  </a:moveTo>
                  <a:lnTo>
                    <a:pt x="40" y="46"/>
                  </a:lnTo>
                  <a:lnTo>
                    <a:pt x="42" y="36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13120" y="471312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0" y="10"/>
                  </a:moveTo>
                  <a:lnTo>
                    <a:pt x="41" y="46"/>
                  </a:lnTo>
                  <a:lnTo>
                    <a:pt x="43" y="37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14640" y="4805280"/>
              <a:ext cx="63360" cy="7308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10"/>
                  </a:moveTo>
                  <a:lnTo>
                    <a:pt x="38" y="46"/>
                  </a:lnTo>
                  <a:lnTo>
                    <a:pt x="40" y="36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11480" y="48942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0" y="9"/>
                  </a:moveTo>
                  <a:lnTo>
                    <a:pt x="40" y="46"/>
                  </a:lnTo>
                  <a:lnTo>
                    <a:pt x="42" y="36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11560" y="4984920"/>
              <a:ext cx="66600" cy="7272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0" y="10"/>
                  </a:moveTo>
                  <a:lnTo>
                    <a:pt x="41" y="46"/>
                  </a:lnTo>
                  <a:lnTo>
                    <a:pt x="42" y="36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09840" y="5076720"/>
              <a:ext cx="30240" cy="1764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0"/>
                  </a:moveTo>
                  <a:lnTo>
                    <a:pt x="9" y="9"/>
                  </a:lnTo>
                  <a:lnTo>
                    <a:pt x="19" y="11"/>
                  </a:lnTo>
                  <a:lnTo>
                    <a:pt x="9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14520" y="5054760"/>
              <a:ext cx="58680" cy="4896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0" y="21"/>
                  </a:moveTo>
                  <a:lnTo>
                    <a:pt x="35" y="0"/>
                  </a:lnTo>
                  <a:lnTo>
                    <a:pt x="37" y="10"/>
                  </a:lnTo>
                  <a:lnTo>
                    <a:pt x="2" y="3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09920" y="4981680"/>
              <a:ext cx="75960" cy="6012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0" y="29"/>
                  </a:moveTo>
                  <a:lnTo>
                    <a:pt x="46" y="0"/>
                  </a:lnTo>
                  <a:lnTo>
                    <a:pt x="48" y="10"/>
                  </a:lnTo>
                  <a:lnTo>
                    <a:pt x="2" y="3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25840" y="4911840"/>
              <a:ext cx="75960" cy="6012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0" y="29"/>
                  </a:moveTo>
                  <a:lnTo>
                    <a:pt x="46" y="0"/>
                  </a:lnTo>
                  <a:lnTo>
                    <a:pt x="48" y="10"/>
                  </a:lnTo>
                  <a:lnTo>
                    <a:pt x="2" y="3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38520" y="4842000"/>
              <a:ext cx="75960" cy="6012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0" y="29"/>
                  </a:moveTo>
                  <a:lnTo>
                    <a:pt x="46" y="0"/>
                  </a:lnTo>
                  <a:lnTo>
                    <a:pt x="48" y="10"/>
                  </a:lnTo>
                  <a:lnTo>
                    <a:pt x="2" y="3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54440" y="4768920"/>
              <a:ext cx="75960" cy="6012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0" y="29"/>
                  </a:moveTo>
                  <a:lnTo>
                    <a:pt x="46" y="0"/>
                  </a:lnTo>
                  <a:lnTo>
                    <a:pt x="48" y="10"/>
                  </a:lnTo>
                  <a:lnTo>
                    <a:pt x="2" y="3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67120" y="4699080"/>
              <a:ext cx="75960" cy="6012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0" y="29"/>
                  </a:moveTo>
                  <a:lnTo>
                    <a:pt x="46" y="0"/>
                  </a:lnTo>
                  <a:lnTo>
                    <a:pt x="48" y="9"/>
                  </a:lnTo>
                  <a:lnTo>
                    <a:pt x="1" y="3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81240" y="4629240"/>
              <a:ext cx="73080" cy="6012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0" y="29"/>
                  </a:moveTo>
                  <a:lnTo>
                    <a:pt x="45" y="0"/>
                  </a:lnTo>
                  <a:lnTo>
                    <a:pt x="46" y="9"/>
                  </a:lnTo>
                  <a:lnTo>
                    <a:pt x="2" y="3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93920" y="4556160"/>
              <a:ext cx="76320" cy="6012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0" y="29"/>
                  </a:moveTo>
                  <a:lnTo>
                    <a:pt x="46" y="0"/>
                  </a:lnTo>
                  <a:lnTo>
                    <a:pt x="48" y="9"/>
                  </a:lnTo>
                  <a:lnTo>
                    <a:pt x="2" y="3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06600" y="4516560"/>
              <a:ext cx="28800" cy="298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16" y="0"/>
                  </a:lnTo>
                  <a:lnTo>
                    <a:pt x="18" y="10"/>
                  </a:lnTo>
                  <a:lnTo>
                    <a:pt x="2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9560" y="4516560"/>
              <a:ext cx="60120" cy="1728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0" y="8"/>
                  </a:moveTo>
                  <a:lnTo>
                    <a:pt x="36" y="11"/>
                  </a:lnTo>
                  <a:lnTo>
                    <a:pt x="38" y="4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25760" y="4529160"/>
              <a:ext cx="88920" cy="20520"/>
            </a:xfrm>
            <a:custGeom>
              <a:avLst/>
              <a:gdLst/>
              <a:ahLst/>
              <a:rect l="l" t="t" r="r" b="b"/>
              <a:pathLst>
                <a:path w="56" h="13">
                  <a:moveTo>
                    <a:pt x="0" y="7"/>
                  </a:moveTo>
                  <a:lnTo>
                    <a:pt x="54" y="13"/>
                  </a:lnTo>
                  <a:lnTo>
                    <a:pt x="56" y="5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60760" y="4543560"/>
              <a:ext cx="87480" cy="2196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0" y="8"/>
                  </a:moveTo>
                  <a:lnTo>
                    <a:pt x="53" y="14"/>
                  </a:lnTo>
                  <a:lnTo>
                    <a:pt x="55" y="6"/>
                  </a:lnTo>
                  <a:lnTo>
                    <a:pt x="1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93960" y="4556160"/>
              <a:ext cx="8604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8"/>
                  </a:moveTo>
                  <a:lnTo>
                    <a:pt x="52" y="15"/>
                  </a:lnTo>
                  <a:lnTo>
                    <a:pt x="54" y="8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24280" y="4570560"/>
              <a:ext cx="88920" cy="2196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0" y="8"/>
                  </a:moveTo>
                  <a:lnTo>
                    <a:pt x="54" y="14"/>
                  </a:lnTo>
                  <a:lnTo>
                    <a:pt x="56" y="6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59280" y="458640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0" y="8"/>
                  </a:moveTo>
                  <a:lnTo>
                    <a:pt x="53" y="13"/>
                  </a:lnTo>
                  <a:lnTo>
                    <a:pt x="55" y="6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092480" y="4602240"/>
              <a:ext cx="88920" cy="20520"/>
            </a:xfrm>
            <a:custGeom>
              <a:avLst/>
              <a:gdLst/>
              <a:ahLst/>
              <a:rect l="l" t="t" r="r" b="b"/>
              <a:pathLst>
                <a:path w="56" h="13">
                  <a:moveTo>
                    <a:pt x="0" y="7"/>
                  </a:moveTo>
                  <a:lnTo>
                    <a:pt x="54" y="13"/>
                  </a:lnTo>
                  <a:lnTo>
                    <a:pt x="56" y="5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29280" y="4616280"/>
              <a:ext cx="6120" cy="12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14520" y="4529160"/>
              <a:ext cx="79200" cy="54000"/>
            </a:xfrm>
            <a:custGeom>
              <a:avLst/>
              <a:gdLst/>
              <a:ahLst/>
              <a:rect l="l" t="t" r="r" b="b"/>
              <a:pathLst>
                <a:path w="50" h="34">
                  <a:moveTo>
                    <a:pt x="0" y="9"/>
                  </a:moveTo>
                  <a:lnTo>
                    <a:pt x="48" y="34"/>
                  </a:lnTo>
                  <a:lnTo>
                    <a:pt x="50" y="25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33680" y="4589640"/>
              <a:ext cx="23760" cy="266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10"/>
                  </a:moveTo>
                  <a:lnTo>
                    <a:pt x="13" y="17"/>
                  </a:lnTo>
                  <a:lnTo>
                    <a:pt x="15" y="8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00280" y="4622760"/>
              <a:ext cx="75960" cy="54000"/>
            </a:xfrm>
            <a:custGeom>
              <a:avLst/>
              <a:gdLst/>
              <a:ahLst/>
              <a:rect l="l" t="t" r="r" b="b"/>
              <a:pathLst>
                <a:path w="48" h="34">
                  <a:moveTo>
                    <a:pt x="0" y="10"/>
                  </a:moveTo>
                  <a:lnTo>
                    <a:pt x="46" y="34"/>
                  </a:lnTo>
                  <a:lnTo>
                    <a:pt x="48" y="25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996840" y="3081240"/>
            <a:ext cx="7345440" cy="2836800"/>
            <a:chOff x="996840" y="3081240"/>
            <a:chExt cx="7345440" cy="2836800"/>
          </a:xfrm>
        </p:grpSpPr>
        <p:sp>
          <p:nvSpPr>
            <p:cNvPr id="249" name=""/>
            <p:cNvSpPr/>
            <p:nvPr/>
          </p:nvSpPr>
          <p:spPr>
            <a:xfrm>
              <a:off x="1819440" y="468324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10"/>
                  </a:moveTo>
                  <a:lnTo>
                    <a:pt x="13" y="18"/>
                  </a:lnTo>
                  <a:lnTo>
                    <a:pt x="15" y="8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82800" y="4716360"/>
              <a:ext cx="79200" cy="5580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0" y="10"/>
                  </a:moveTo>
                  <a:lnTo>
                    <a:pt x="48" y="35"/>
                  </a:lnTo>
                  <a:lnTo>
                    <a:pt x="50" y="25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01960" y="4778280"/>
              <a:ext cx="2376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9"/>
                  </a:moveTo>
                  <a:lnTo>
                    <a:pt x="13" y="17"/>
                  </a:lnTo>
                  <a:lnTo>
                    <a:pt x="15" y="7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68560" y="4811760"/>
              <a:ext cx="79200" cy="54000"/>
            </a:xfrm>
            <a:custGeom>
              <a:avLst/>
              <a:gdLst/>
              <a:ahLst/>
              <a:rect l="l" t="t" r="r" b="b"/>
              <a:pathLst>
                <a:path w="50" h="34">
                  <a:moveTo>
                    <a:pt x="0" y="9"/>
                  </a:moveTo>
                  <a:lnTo>
                    <a:pt x="48" y="34"/>
                  </a:lnTo>
                  <a:lnTo>
                    <a:pt x="50" y="25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87720" y="4871880"/>
              <a:ext cx="2376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10"/>
                  </a:moveTo>
                  <a:lnTo>
                    <a:pt x="13" y="17"/>
                  </a:lnTo>
                  <a:lnTo>
                    <a:pt x="15" y="8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51080" y="4905360"/>
              <a:ext cx="79200" cy="5544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0" y="10"/>
                  </a:moveTo>
                  <a:lnTo>
                    <a:pt x="48" y="35"/>
                  </a:lnTo>
                  <a:lnTo>
                    <a:pt x="50" y="25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70240" y="4967280"/>
              <a:ext cx="2376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9"/>
                  </a:moveTo>
                  <a:lnTo>
                    <a:pt x="13" y="17"/>
                  </a:lnTo>
                  <a:lnTo>
                    <a:pt x="15" y="7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424240" y="4960800"/>
              <a:ext cx="82440" cy="44640"/>
            </a:xfrm>
            <a:custGeom>
              <a:avLst/>
              <a:gdLst/>
              <a:ahLst/>
              <a:rect l="l" t="t" r="r" b="b"/>
              <a:pathLst>
                <a:path w="52" h="28">
                  <a:moveTo>
                    <a:pt x="0" y="21"/>
                  </a:moveTo>
                  <a:lnTo>
                    <a:pt x="50" y="0"/>
                  </a:lnTo>
                  <a:lnTo>
                    <a:pt x="52" y="7"/>
                  </a:lnTo>
                  <a:lnTo>
                    <a:pt x="2" y="2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49520" y="493236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6"/>
                  </a:moveTo>
                  <a:lnTo>
                    <a:pt x="13" y="0"/>
                  </a:lnTo>
                  <a:lnTo>
                    <a:pt x="15" y="8"/>
                  </a:lnTo>
                  <a:lnTo>
                    <a:pt x="2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16120" y="4884840"/>
              <a:ext cx="82800" cy="4284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9"/>
                  </a:moveTo>
                  <a:lnTo>
                    <a:pt x="50" y="0"/>
                  </a:lnTo>
                  <a:lnTo>
                    <a:pt x="52" y="7"/>
                  </a:lnTo>
                  <a:lnTo>
                    <a:pt x="2" y="2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41760" y="4854600"/>
              <a:ext cx="23760" cy="205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5"/>
                  </a:moveTo>
                  <a:lnTo>
                    <a:pt x="13" y="0"/>
                  </a:lnTo>
                  <a:lnTo>
                    <a:pt x="15" y="7"/>
                  </a:lnTo>
                  <a:lnTo>
                    <a:pt x="2" y="1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08360" y="4805280"/>
              <a:ext cx="82440" cy="4284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9"/>
                  </a:moveTo>
                  <a:lnTo>
                    <a:pt x="50" y="0"/>
                  </a:lnTo>
                  <a:lnTo>
                    <a:pt x="52" y="8"/>
                  </a:lnTo>
                  <a:lnTo>
                    <a:pt x="2" y="2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30400" y="477828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5"/>
                  </a:moveTo>
                  <a:lnTo>
                    <a:pt x="15" y="0"/>
                  </a:lnTo>
                  <a:lnTo>
                    <a:pt x="17" y="7"/>
                  </a:lnTo>
                  <a:lnTo>
                    <a:pt x="1" y="1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00240" y="4726080"/>
              <a:ext cx="81000" cy="4608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0" y="21"/>
                  </a:moveTo>
                  <a:lnTo>
                    <a:pt x="50" y="0"/>
                  </a:lnTo>
                  <a:lnTo>
                    <a:pt x="51" y="8"/>
                  </a:lnTo>
                  <a:lnTo>
                    <a:pt x="2" y="2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21200" y="469908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6"/>
                  </a:moveTo>
                  <a:lnTo>
                    <a:pt x="16" y="0"/>
                  </a:lnTo>
                  <a:lnTo>
                    <a:pt x="18" y="8"/>
                  </a:lnTo>
                  <a:lnTo>
                    <a:pt x="2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91040" y="4646520"/>
              <a:ext cx="82440" cy="4608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21"/>
                  </a:moveTo>
                  <a:lnTo>
                    <a:pt x="50" y="0"/>
                  </a:lnTo>
                  <a:lnTo>
                    <a:pt x="52" y="8"/>
                  </a:lnTo>
                  <a:lnTo>
                    <a:pt x="2" y="2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313080" y="4622760"/>
              <a:ext cx="22320" cy="17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4"/>
                  </a:moveTo>
                  <a:lnTo>
                    <a:pt x="12" y="0"/>
                  </a:lnTo>
                  <a:lnTo>
                    <a:pt x="14" y="8"/>
                  </a:lnTo>
                  <a:lnTo>
                    <a:pt x="2" y="1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322800" y="4622760"/>
              <a:ext cx="6120" cy="12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75000" y="4629240"/>
              <a:ext cx="87480" cy="1728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53" y="11"/>
                  </a:lnTo>
                  <a:lnTo>
                    <a:pt x="55" y="4"/>
                  </a:lnTo>
                  <a:lnTo>
                    <a:pt x="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08200" y="463860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7"/>
                  </a:moveTo>
                  <a:lnTo>
                    <a:pt x="15" y="9"/>
                  </a:lnTo>
                  <a:lnTo>
                    <a:pt x="17" y="1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81280" y="4643280"/>
              <a:ext cx="88920" cy="223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0" y="8"/>
                  </a:moveTo>
                  <a:lnTo>
                    <a:pt x="54" y="14"/>
                  </a:lnTo>
                  <a:lnTo>
                    <a:pt x="56" y="6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14840" y="465624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8"/>
                  </a:moveTo>
                  <a:lnTo>
                    <a:pt x="16" y="10"/>
                  </a:lnTo>
                  <a:lnTo>
                    <a:pt x="18" y="2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84680" y="4662360"/>
              <a:ext cx="88920" cy="20880"/>
            </a:xfrm>
            <a:custGeom>
              <a:avLst/>
              <a:gdLst/>
              <a:ahLst/>
              <a:rect l="l" t="t" r="r" b="b"/>
              <a:pathLst>
                <a:path w="56" h="13">
                  <a:moveTo>
                    <a:pt x="0" y="8"/>
                  </a:moveTo>
                  <a:lnTo>
                    <a:pt x="54" y="13"/>
                  </a:lnTo>
                  <a:lnTo>
                    <a:pt x="56" y="6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19680" y="467532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7"/>
                  </a:moveTo>
                  <a:lnTo>
                    <a:pt x="15" y="9"/>
                  </a:lnTo>
                  <a:lnTo>
                    <a:pt x="17" y="1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92400" y="4680000"/>
              <a:ext cx="87480" cy="2232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0" y="8"/>
                  </a:moveTo>
                  <a:lnTo>
                    <a:pt x="54" y="14"/>
                  </a:lnTo>
                  <a:lnTo>
                    <a:pt x="55" y="6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25960" y="469260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8"/>
                  </a:moveTo>
                  <a:lnTo>
                    <a:pt x="16" y="10"/>
                  </a:lnTo>
                  <a:lnTo>
                    <a:pt x="17" y="2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99040" y="4699080"/>
              <a:ext cx="36360" cy="1404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0" y="8"/>
                  </a:moveTo>
                  <a:lnTo>
                    <a:pt x="21" y="9"/>
                  </a:lnTo>
                  <a:lnTo>
                    <a:pt x="23" y="2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92200" y="382572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0" y="0"/>
                  </a:moveTo>
                  <a:lnTo>
                    <a:pt x="39" y="19"/>
                  </a:lnTo>
                  <a:lnTo>
                    <a:pt x="20" y="38"/>
                  </a:lnTo>
                  <a:lnTo>
                    <a:pt x="0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94000" y="4278240"/>
              <a:ext cx="60120" cy="619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0"/>
                  </a:moveTo>
                  <a:lnTo>
                    <a:pt x="38" y="20"/>
                  </a:lnTo>
                  <a:lnTo>
                    <a:pt x="19" y="39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98680" y="393552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99040" y="390204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9" y="0"/>
                  </a:moveTo>
                  <a:lnTo>
                    <a:pt x="39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92200" y="4197240"/>
              <a:ext cx="61920" cy="60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94000" y="4640400"/>
              <a:ext cx="60120" cy="619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92200" y="424188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0" y="0"/>
                  </a:moveTo>
                  <a:lnTo>
                    <a:pt x="39" y="39"/>
                  </a:lnTo>
                  <a:lnTo>
                    <a:pt x="0" y="3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94000" y="5064120"/>
              <a:ext cx="6012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38"/>
                  </a:lnTo>
                  <a:lnTo>
                    <a:pt x="0" y="3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98680" y="449280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38"/>
                  </a:lnTo>
                  <a:lnTo>
                    <a:pt x="0" y="3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99040" y="459252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9" y="0"/>
                  </a:moveTo>
                  <a:lnTo>
                    <a:pt x="39" y="38"/>
                  </a:lnTo>
                  <a:lnTo>
                    <a:pt x="0" y="3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88960" y="4500720"/>
              <a:ext cx="7488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1492200" y="4503600"/>
              <a:ext cx="31680" cy="302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23880" y="4533840"/>
              <a:ext cx="30240" cy="316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492200" y="4533840"/>
              <a:ext cx="31680" cy="316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523880" y="4503600"/>
              <a:ext cx="30240" cy="302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90760" y="4968720"/>
              <a:ext cx="7308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2394000" y="4971960"/>
              <a:ext cx="30240" cy="316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24240" y="5003640"/>
              <a:ext cx="29880" cy="302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2394000" y="5003640"/>
              <a:ext cx="30240" cy="302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424240" y="4971960"/>
              <a:ext cx="29880" cy="316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95800" y="4595760"/>
              <a:ext cx="7272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3298680" y="4599000"/>
              <a:ext cx="30240" cy="302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28920" y="4629240"/>
              <a:ext cx="30240" cy="302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3298680" y="4629240"/>
              <a:ext cx="30240" cy="302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3328920" y="4599000"/>
              <a:ext cx="30240" cy="302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95800" y="4675320"/>
              <a:ext cx="7308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4199040" y="4676760"/>
              <a:ext cx="30240" cy="316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29280" y="4708440"/>
              <a:ext cx="31680" cy="302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199040" y="4708440"/>
              <a:ext cx="30240" cy="302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4229280" y="4676760"/>
              <a:ext cx="31680" cy="316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19600" y="3165480"/>
              <a:ext cx="171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"/>
                </a:rPr>
                <a:t>ABS Wet Braking Dist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14720" y="5483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14720" y="50482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14720" y="461340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14720" y="41752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14720" y="3740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314720" y="3305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94280" y="5672160"/>
              <a:ext cx="31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Car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95360" y="5672160"/>
              <a:ext cx="31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Car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00040" y="56721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Car 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96800" y="567216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Car 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532440" y="4333680"/>
              <a:ext cx="1236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Braking Distance (m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92560" y="4835520"/>
              <a:ext cx="860400" cy="676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43320" y="4924440"/>
              <a:ext cx="380880" cy="14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02080" y="4894200"/>
              <a:ext cx="6012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05560" y="4844880"/>
              <a:ext cx="33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AST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38640" y="5081760"/>
              <a:ext cx="2376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1360" y="5081760"/>
              <a:ext cx="2412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84440" y="5081760"/>
              <a:ext cx="2376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7520" y="5081760"/>
              <a:ext cx="2376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30600" y="5081760"/>
              <a:ext cx="2376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03680" y="5081760"/>
              <a:ext cx="2376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02080" y="5057640"/>
              <a:ext cx="60120" cy="60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92960" y="5008680"/>
              <a:ext cx="7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38640" y="5249880"/>
              <a:ext cx="8388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71840" y="5249880"/>
              <a:ext cx="8568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05040" y="5249880"/>
              <a:ext cx="8604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02080" y="5224320"/>
              <a:ext cx="60120" cy="619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0"/>
                  </a:moveTo>
                  <a:lnTo>
                    <a:pt x="38" y="39"/>
                  </a:lnTo>
                  <a:lnTo>
                    <a:pt x="0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94400" y="5176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38640" y="5413320"/>
              <a:ext cx="83880" cy="12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71840" y="5413320"/>
              <a:ext cx="23760" cy="12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44920" y="5413320"/>
              <a:ext cx="85680" cy="12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8120" y="5413320"/>
              <a:ext cx="25560" cy="12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98840" y="5386320"/>
              <a:ext cx="7308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3502080" y="5389560"/>
              <a:ext cx="30240" cy="302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32320" y="5419800"/>
              <a:ext cx="29880" cy="302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502080" y="5419800"/>
              <a:ext cx="30240" cy="302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3532320" y="5389560"/>
              <a:ext cx="29880" cy="302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87920" y="53402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96840" y="3081240"/>
              <a:ext cx="3479760" cy="2833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65760" y="3081240"/>
              <a:ext cx="3476520" cy="28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45000" y="3397320"/>
              <a:ext cx="2638440" cy="21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45000" y="5130720"/>
              <a:ext cx="26384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45000" y="4699080"/>
              <a:ext cx="26384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45000" y="4264200"/>
              <a:ext cx="26384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45000" y="3832200"/>
              <a:ext cx="26384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45000" y="3397320"/>
              <a:ext cx="26384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45000" y="3397320"/>
              <a:ext cx="2638440" cy="21682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45000" y="3397320"/>
              <a:ext cx="1800" cy="216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45000" y="55656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45000" y="513072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45000" y="46990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45000" y="42642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45000" y="38322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45000" y="33973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45000" y="5565600"/>
              <a:ext cx="263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5445000" y="5526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324480" y="5526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203960" y="5526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8083440" y="5526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45000" y="5130720"/>
              <a:ext cx="2638440" cy="1800"/>
            </a:xfrm>
            <a:custGeom>
              <a:avLst/>
              <a:gdLst/>
              <a:ahLst/>
              <a:rect l="l" t="t" r="r" b="b"/>
              <a:pathLst>
                <a:path w="867" h="0">
                  <a:moveTo>
                    <a:pt x="0" y="0"/>
                  </a:moveTo>
                  <a:lnTo>
                    <a:pt x="289" y="0"/>
                  </a:lnTo>
                  <a:lnTo>
                    <a:pt x="578" y="0"/>
                  </a:lnTo>
                  <a:lnTo>
                    <a:pt x="86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38880" y="4668840"/>
              <a:ext cx="23760" cy="1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508720" y="466236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2"/>
                  </a:moveTo>
                  <a:lnTo>
                    <a:pt x="15" y="0"/>
                  </a:lnTo>
                  <a:lnTo>
                    <a:pt x="17" y="8"/>
                  </a:lnTo>
                  <a:lnTo>
                    <a:pt x="2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84680" y="4659480"/>
              <a:ext cx="2412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54520" y="465300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2"/>
                  </a:moveTo>
                  <a:lnTo>
                    <a:pt x="15" y="0"/>
                  </a:lnTo>
                  <a:lnTo>
                    <a:pt x="17" y="8"/>
                  </a:lnTo>
                  <a:lnTo>
                    <a:pt x="2" y="1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30840" y="4649760"/>
              <a:ext cx="2376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00680" y="4643280"/>
              <a:ext cx="27000" cy="162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2"/>
                  </a:moveTo>
                  <a:lnTo>
                    <a:pt x="15" y="0"/>
                  </a:lnTo>
                  <a:lnTo>
                    <a:pt x="17" y="8"/>
                  </a:lnTo>
                  <a:lnTo>
                    <a:pt x="2" y="1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77000" y="4640400"/>
              <a:ext cx="2376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46840" y="463536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2"/>
                  </a:moveTo>
                  <a:lnTo>
                    <a:pt x="15" y="0"/>
                  </a:lnTo>
                  <a:lnTo>
                    <a:pt x="17" y="7"/>
                  </a:lnTo>
                  <a:lnTo>
                    <a:pt x="2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22800" y="4632480"/>
              <a:ext cx="24120" cy="10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93000" y="4626000"/>
              <a:ext cx="2664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2"/>
                  </a:moveTo>
                  <a:lnTo>
                    <a:pt x="15" y="0"/>
                  </a:lnTo>
                  <a:lnTo>
                    <a:pt x="17" y="8"/>
                  </a:lnTo>
                  <a:lnTo>
                    <a:pt x="2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68960" y="4622760"/>
              <a:ext cx="2376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38800" y="4616280"/>
              <a:ext cx="27000" cy="162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2"/>
                  </a:moveTo>
                  <a:lnTo>
                    <a:pt x="15" y="0"/>
                  </a:lnTo>
                  <a:lnTo>
                    <a:pt x="17" y="8"/>
                  </a:lnTo>
                  <a:lnTo>
                    <a:pt x="2" y="1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15120" y="4613400"/>
              <a:ext cx="1584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35640" y="4549680"/>
              <a:ext cx="66600" cy="698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0" y="35"/>
                  </a:moveTo>
                  <a:lnTo>
                    <a:pt x="40" y="0"/>
                  </a:lnTo>
                  <a:lnTo>
                    <a:pt x="42" y="10"/>
                  </a:lnTo>
                  <a:lnTo>
                    <a:pt x="2" y="44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35720" y="4460760"/>
              <a:ext cx="69840" cy="7164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0" y="35"/>
                  </a:moveTo>
                  <a:lnTo>
                    <a:pt x="42" y="0"/>
                  </a:lnTo>
                  <a:lnTo>
                    <a:pt x="44" y="10"/>
                  </a:lnTo>
                  <a:lnTo>
                    <a:pt x="2" y="4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373640"/>
              <a:ext cx="6696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0" y="36"/>
                  </a:moveTo>
                  <a:lnTo>
                    <a:pt x="41" y="0"/>
                  </a:lnTo>
                  <a:lnTo>
                    <a:pt x="42" y="9"/>
                  </a:lnTo>
                  <a:lnTo>
                    <a:pt x="2" y="4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40560" y="4287960"/>
              <a:ext cx="66600" cy="698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0" y="35"/>
                  </a:moveTo>
                  <a:lnTo>
                    <a:pt x="40" y="0"/>
                  </a:lnTo>
                  <a:lnTo>
                    <a:pt x="42" y="10"/>
                  </a:lnTo>
                  <a:lnTo>
                    <a:pt x="1" y="44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43520" y="4200480"/>
              <a:ext cx="66600" cy="698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0" y="34"/>
                  </a:moveTo>
                  <a:lnTo>
                    <a:pt x="40" y="0"/>
                  </a:lnTo>
                  <a:lnTo>
                    <a:pt x="42" y="9"/>
                  </a:lnTo>
                  <a:lnTo>
                    <a:pt x="2" y="4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43600" y="4111560"/>
              <a:ext cx="66600" cy="698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0" y="35"/>
                  </a:moveTo>
                  <a:lnTo>
                    <a:pt x="40" y="0"/>
                  </a:lnTo>
                  <a:lnTo>
                    <a:pt x="42" y="10"/>
                  </a:lnTo>
                  <a:lnTo>
                    <a:pt x="2" y="44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43680" y="4024440"/>
              <a:ext cx="69840" cy="7272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0" y="36"/>
                  </a:moveTo>
                  <a:lnTo>
                    <a:pt x="43" y="0"/>
                  </a:lnTo>
                  <a:lnTo>
                    <a:pt x="44" y="9"/>
                  </a:lnTo>
                  <a:lnTo>
                    <a:pt x="2" y="4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48440" y="3938760"/>
              <a:ext cx="66600" cy="698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0" y="34"/>
                  </a:moveTo>
                  <a:lnTo>
                    <a:pt x="40" y="0"/>
                  </a:lnTo>
                  <a:lnTo>
                    <a:pt x="42" y="9"/>
                  </a:lnTo>
                  <a:lnTo>
                    <a:pt x="1" y="4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248520" y="3849840"/>
              <a:ext cx="66600" cy="698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0" y="35"/>
                  </a:moveTo>
                  <a:lnTo>
                    <a:pt x="40" y="0"/>
                  </a:lnTo>
                  <a:lnTo>
                    <a:pt x="42" y="10"/>
                  </a:lnTo>
                  <a:lnTo>
                    <a:pt x="2" y="44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42120" y="3852720"/>
              <a:ext cx="76320" cy="61920"/>
            </a:xfrm>
            <a:custGeom>
              <a:avLst/>
              <a:gdLst/>
              <a:ahLst/>
              <a:rect l="l" t="t" r="r" b="b"/>
              <a:pathLst>
                <a:path w="48" h="39">
                  <a:moveTo>
                    <a:pt x="0" y="10"/>
                  </a:moveTo>
                  <a:lnTo>
                    <a:pt x="46" y="39"/>
                  </a:lnTo>
                  <a:lnTo>
                    <a:pt x="48" y="29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54800" y="3922560"/>
              <a:ext cx="7632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10"/>
                  </a:moveTo>
                  <a:lnTo>
                    <a:pt x="46" y="37"/>
                  </a:lnTo>
                  <a:lnTo>
                    <a:pt x="48" y="27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70720" y="3992400"/>
              <a:ext cx="7632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10"/>
                  </a:moveTo>
                  <a:lnTo>
                    <a:pt x="46" y="37"/>
                  </a:lnTo>
                  <a:lnTo>
                    <a:pt x="48" y="27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86640" y="4060800"/>
              <a:ext cx="75960" cy="6048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0" y="9"/>
                  </a:moveTo>
                  <a:lnTo>
                    <a:pt x="46" y="38"/>
                  </a:lnTo>
                  <a:lnTo>
                    <a:pt x="48" y="28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99320" y="4130640"/>
              <a:ext cx="76320" cy="6048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0" y="9"/>
                  </a:moveTo>
                  <a:lnTo>
                    <a:pt x="46" y="38"/>
                  </a:lnTo>
                  <a:lnTo>
                    <a:pt x="48" y="28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15240" y="4200480"/>
              <a:ext cx="75960" cy="6048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0" y="9"/>
                  </a:moveTo>
                  <a:lnTo>
                    <a:pt x="46" y="38"/>
                  </a:lnTo>
                  <a:lnTo>
                    <a:pt x="48" y="28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31160" y="4270320"/>
              <a:ext cx="75960" cy="572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0" y="9"/>
                  </a:moveTo>
                  <a:lnTo>
                    <a:pt x="46" y="36"/>
                  </a:lnTo>
                  <a:lnTo>
                    <a:pt x="48" y="27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43840" y="4340160"/>
              <a:ext cx="66600" cy="5076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0" y="9"/>
                  </a:moveTo>
                  <a:lnTo>
                    <a:pt x="40" y="32"/>
                  </a:lnTo>
                  <a:lnTo>
                    <a:pt x="42" y="23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94600" y="437364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2"/>
                  </a:moveTo>
                  <a:lnTo>
                    <a:pt x="8" y="0"/>
                  </a:lnTo>
                  <a:lnTo>
                    <a:pt x="10" y="8"/>
                  </a:lnTo>
                  <a:lnTo>
                    <a:pt x="2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53280" y="4343400"/>
              <a:ext cx="8748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1"/>
                  </a:moveTo>
                  <a:lnTo>
                    <a:pt x="53" y="0"/>
                  </a:lnTo>
                  <a:lnTo>
                    <a:pt x="55" y="7"/>
                  </a:lnTo>
                  <a:lnTo>
                    <a:pt x="2" y="1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383600" y="4313160"/>
              <a:ext cx="88920" cy="30240"/>
            </a:xfrm>
            <a:custGeom>
              <a:avLst/>
              <a:gdLst/>
              <a:ahLst/>
              <a:rect l="l" t="t" r="r" b="b"/>
              <a:pathLst>
                <a:path w="56" h="19">
                  <a:moveTo>
                    <a:pt x="0" y="11"/>
                  </a:moveTo>
                  <a:lnTo>
                    <a:pt x="54" y="0"/>
                  </a:lnTo>
                  <a:lnTo>
                    <a:pt x="56" y="7"/>
                  </a:lnTo>
                  <a:lnTo>
                    <a:pt x="2" y="1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15360" y="4281480"/>
              <a:ext cx="83880" cy="3168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0" y="12"/>
                  </a:moveTo>
                  <a:lnTo>
                    <a:pt x="51" y="0"/>
                  </a:lnTo>
                  <a:lnTo>
                    <a:pt x="53" y="8"/>
                  </a:lnTo>
                  <a:lnTo>
                    <a:pt x="1" y="2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45320" y="4251240"/>
              <a:ext cx="85680" cy="30240"/>
            </a:xfrm>
            <a:custGeom>
              <a:avLst/>
              <a:gdLst/>
              <a:ahLst/>
              <a:rect l="l" t="t" r="r" b="b"/>
              <a:pathLst>
                <a:path w="54" h="19">
                  <a:moveTo>
                    <a:pt x="0" y="12"/>
                  </a:moveTo>
                  <a:lnTo>
                    <a:pt x="52" y="0"/>
                  </a:lnTo>
                  <a:lnTo>
                    <a:pt x="54" y="8"/>
                  </a:lnTo>
                  <a:lnTo>
                    <a:pt x="2" y="1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75640" y="4221000"/>
              <a:ext cx="85680" cy="30240"/>
            </a:xfrm>
            <a:custGeom>
              <a:avLst/>
              <a:gdLst/>
              <a:ahLst/>
              <a:rect l="l" t="t" r="r" b="b"/>
              <a:pathLst>
                <a:path w="54" h="19">
                  <a:moveTo>
                    <a:pt x="0" y="12"/>
                  </a:moveTo>
                  <a:lnTo>
                    <a:pt x="52" y="0"/>
                  </a:lnTo>
                  <a:lnTo>
                    <a:pt x="54" y="8"/>
                  </a:lnTo>
                  <a:lnTo>
                    <a:pt x="2" y="1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07400" y="4191120"/>
              <a:ext cx="85680" cy="29880"/>
            </a:xfrm>
            <a:custGeom>
              <a:avLst/>
              <a:gdLst/>
              <a:ahLst/>
              <a:rect l="l" t="t" r="r" b="b"/>
              <a:pathLst>
                <a:path w="54" h="19">
                  <a:moveTo>
                    <a:pt x="0" y="11"/>
                  </a:moveTo>
                  <a:lnTo>
                    <a:pt x="52" y="0"/>
                  </a:lnTo>
                  <a:lnTo>
                    <a:pt x="54" y="8"/>
                  </a:lnTo>
                  <a:lnTo>
                    <a:pt x="2" y="1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34480" y="4167360"/>
              <a:ext cx="55440" cy="2376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0" y="7"/>
                  </a:moveTo>
                  <a:lnTo>
                    <a:pt x="33" y="0"/>
                  </a:lnTo>
                  <a:lnTo>
                    <a:pt x="35" y="7"/>
                  </a:lnTo>
                  <a:lnTo>
                    <a:pt x="2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35640" y="4191120"/>
              <a:ext cx="84240" cy="29880"/>
            </a:xfrm>
            <a:custGeom>
              <a:avLst/>
              <a:gdLst/>
              <a:ahLst/>
              <a:rect l="l" t="t" r="r" b="b"/>
              <a:pathLst>
                <a:path w="53" h="19">
                  <a:moveTo>
                    <a:pt x="0" y="11"/>
                  </a:moveTo>
                  <a:lnTo>
                    <a:pt x="52" y="0"/>
                  </a:lnTo>
                  <a:lnTo>
                    <a:pt x="53" y="8"/>
                  </a:lnTo>
                  <a:lnTo>
                    <a:pt x="2" y="1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65600" y="4178160"/>
              <a:ext cx="2880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2"/>
                  </a:moveTo>
                  <a:lnTo>
                    <a:pt x="16" y="0"/>
                  </a:lnTo>
                  <a:lnTo>
                    <a:pt x="18" y="8"/>
                  </a:lnTo>
                  <a:lnTo>
                    <a:pt x="2" y="1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38680" y="4151160"/>
              <a:ext cx="85680" cy="27000"/>
            </a:xfrm>
            <a:custGeom>
              <a:avLst/>
              <a:gdLst/>
              <a:ahLst/>
              <a:rect l="l" t="t" r="r" b="b"/>
              <a:pathLst>
                <a:path w="54" h="17">
                  <a:moveTo>
                    <a:pt x="0" y="10"/>
                  </a:moveTo>
                  <a:lnTo>
                    <a:pt x="52" y="0"/>
                  </a:lnTo>
                  <a:lnTo>
                    <a:pt x="54" y="8"/>
                  </a:lnTo>
                  <a:lnTo>
                    <a:pt x="2" y="1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70440" y="4135320"/>
              <a:ext cx="27000" cy="1908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4"/>
                  </a:moveTo>
                  <a:lnTo>
                    <a:pt x="15" y="0"/>
                  </a:lnTo>
                  <a:lnTo>
                    <a:pt x="17" y="8"/>
                  </a:lnTo>
                  <a:lnTo>
                    <a:pt x="2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840280" y="4108320"/>
              <a:ext cx="8748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2"/>
                  </a:moveTo>
                  <a:lnTo>
                    <a:pt x="54" y="0"/>
                  </a:lnTo>
                  <a:lnTo>
                    <a:pt x="55" y="8"/>
                  </a:lnTo>
                  <a:lnTo>
                    <a:pt x="2" y="1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70600" y="409428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3"/>
                  </a:moveTo>
                  <a:lnTo>
                    <a:pt x="16" y="0"/>
                  </a:lnTo>
                  <a:lnTo>
                    <a:pt x="18" y="7"/>
                  </a:lnTo>
                  <a:lnTo>
                    <a:pt x="2" y="1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43680" y="4065480"/>
              <a:ext cx="85680" cy="316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12"/>
                  </a:moveTo>
                  <a:lnTo>
                    <a:pt x="52" y="0"/>
                  </a:lnTo>
                  <a:lnTo>
                    <a:pt x="54" y="8"/>
                  </a:lnTo>
                  <a:lnTo>
                    <a:pt x="2" y="2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175440" y="405432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2"/>
                  </a:moveTo>
                  <a:lnTo>
                    <a:pt x="15" y="0"/>
                  </a:lnTo>
                  <a:lnTo>
                    <a:pt x="17" y="7"/>
                  </a:lnTo>
                  <a:lnTo>
                    <a:pt x="2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248520" y="4025880"/>
              <a:ext cx="82440" cy="28440"/>
            </a:xfrm>
            <a:custGeom>
              <a:avLst/>
              <a:gdLst/>
              <a:ahLst/>
              <a:rect l="l" t="t" r="r" b="b"/>
              <a:pathLst>
                <a:path w="52" h="18">
                  <a:moveTo>
                    <a:pt x="0" y="10"/>
                  </a:moveTo>
                  <a:lnTo>
                    <a:pt x="50" y="0"/>
                  </a:lnTo>
                  <a:lnTo>
                    <a:pt x="52" y="8"/>
                  </a:lnTo>
                  <a:lnTo>
                    <a:pt x="2" y="1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18360" y="4025880"/>
              <a:ext cx="3240" cy="12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67320" y="4035600"/>
              <a:ext cx="27000" cy="1872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8"/>
                  </a:moveTo>
                  <a:lnTo>
                    <a:pt x="15" y="12"/>
                  </a:lnTo>
                  <a:lnTo>
                    <a:pt x="17" y="4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37160" y="405144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7"/>
                  </a:moveTo>
                  <a:lnTo>
                    <a:pt x="53" y="17"/>
                  </a:lnTo>
                  <a:lnTo>
                    <a:pt x="55" y="9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570720" y="407844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8"/>
                  </a:moveTo>
                  <a:lnTo>
                    <a:pt x="14" y="10"/>
                  </a:lnTo>
                  <a:lnTo>
                    <a:pt x="15" y="2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40560" y="4091040"/>
              <a:ext cx="88920" cy="30240"/>
            </a:xfrm>
            <a:custGeom>
              <a:avLst/>
              <a:gdLst/>
              <a:ahLst/>
              <a:rect l="l" t="t" r="r" b="b"/>
              <a:pathLst>
                <a:path w="56" h="19">
                  <a:moveTo>
                    <a:pt x="0" y="7"/>
                  </a:moveTo>
                  <a:lnTo>
                    <a:pt x="54" y="19"/>
                  </a:lnTo>
                  <a:lnTo>
                    <a:pt x="56" y="11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72320" y="411804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8"/>
                  </a:moveTo>
                  <a:lnTo>
                    <a:pt x="15" y="9"/>
                  </a:lnTo>
                  <a:lnTo>
                    <a:pt x="17" y="2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5400" y="413064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7"/>
                  </a:moveTo>
                  <a:lnTo>
                    <a:pt x="53" y="19"/>
                  </a:lnTo>
                  <a:lnTo>
                    <a:pt x="55" y="11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75360" y="4157640"/>
              <a:ext cx="27000" cy="17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7"/>
                  </a:moveTo>
                  <a:lnTo>
                    <a:pt x="15" y="11"/>
                  </a:lnTo>
                  <a:lnTo>
                    <a:pt x="17" y="4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48440" y="4172040"/>
              <a:ext cx="85680" cy="2844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0" y="8"/>
                  </a:moveTo>
                  <a:lnTo>
                    <a:pt x="52" y="18"/>
                  </a:lnTo>
                  <a:lnTo>
                    <a:pt x="54" y="10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180200" y="4197240"/>
              <a:ext cx="27000" cy="17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7"/>
                  </a:moveTo>
                  <a:lnTo>
                    <a:pt x="15" y="11"/>
                  </a:lnTo>
                  <a:lnTo>
                    <a:pt x="17" y="4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40680" y="4175280"/>
              <a:ext cx="85680" cy="29880"/>
            </a:xfrm>
            <a:custGeom>
              <a:avLst/>
              <a:gdLst/>
              <a:ahLst/>
              <a:rect l="l" t="t" r="r" b="b"/>
              <a:pathLst>
                <a:path w="54" h="19">
                  <a:moveTo>
                    <a:pt x="0" y="12"/>
                  </a:moveTo>
                  <a:lnTo>
                    <a:pt x="52" y="0"/>
                  </a:lnTo>
                  <a:lnTo>
                    <a:pt x="54" y="8"/>
                  </a:lnTo>
                  <a:lnTo>
                    <a:pt x="2" y="1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70640" y="4164120"/>
              <a:ext cx="28800" cy="1404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2"/>
                  </a:moveTo>
                  <a:lnTo>
                    <a:pt x="16" y="0"/>
                  </a:lnTo>
                  <a:lnTo>
                    <a:pt x="18" y="7"/>
                  </a:lnTo>
                  <a:lnTo>
                    <a:pt x="2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42280" y="4135320"/>
              <a:ext cx="87120" cy="28800"/>
            </a:xfrm>
            <a:custGeom>
              <a:avLst/>
              <a:gdLst/>
              <a:ahLst/>
              <a:rect l="l" t="t" r="r" b="b"/>
              <a:pathLst>
                <a:path w="55" h="18">
                  <a:moveTo>
                    <a:pt x="0" y="10"/>
                  </a:moveTo>
                  <a:lnTo>
                    <a:pt x="53" y="0"/>
                  </a:lnTo>
                  <a:lnTo>
                    <a:pt x="55" y="8"/>
                  </a:lnTo>
                  <a:lnTo>
                    <a:pt x="1" y="1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72240" y="412128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4"/>
                  </a:moveTo>
                  <a:lnTo>
                    <a:pt x="15" y="0"/>
                  </a:lnTo>
                  <a:lnTo>
                    <a:pt x="17" y="7"/>
                  </a:lnTo>
                  <a:lnTo>
                    <a:pt x="2" y="1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45320" y="4094280"/>
              <a:ext cx="85680" cy="29880"/>
            </a:xfrm>
            <a:custGeom>
              <a:avLst/>
              <a:gdLst/>
              <a:ahLst/>
              <a:rect l="l" t="t" r="r" b="b"/>
              <a:pathLst>
                <a:path w="54" h="19">
                  <a:moveTo>
                    <a:pt x="0" y="11"/>
                  </a:moveTo>
                  <a:lnTo>
                    <a:pt x="52" y="0"/>
                  </a:lnTo>
                  <a:lnTo>
                    <a:pt x="54" y="7"/>
                  </a:lnTo>
                  <a:lnTo>
                    <a:pt x="2" y="1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75640" y="407844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4"/>
                  </a:moveTo>
                  <a:lnTo>
                    <a:pt x="16" y="0"/>
                  </a:lnTo>
                  <a:lnTo>
                    <a:pt x="18" y="8"/>
                  </a:lnTo>
                  <a:lnTo>
                    <a:pt x="2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50160" y="4051440"/>
              <a:ext cx="84240" cy="29880"/>
            </a:xfrm>
            <a:custGeom>
              <a:avLst/>
              <a:gdLst/>
              <a:ahLst/>
              <a:rect l="l" t="t" r="r" b="b"/>
              <a:pathLst>
                <a:path w="53" h="19">
                  <a:moveTo>
                    <a:pt x="0" y="11"/>
                  </a:moveTo>
                  <a:lnTo>
                    <a:pt x="51" y="0"/>
                  </a:lnTo>
                  <a:lnTo>
                    <a:pt x="53" y="7"/>
                  </a:lnTo>
                  <a:lnTo>
                    <a:pt x="1" y="1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80480" y="403848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2"/>
                  </a:moveTo>
                  <a:lnTo>
                    <a:pt x="15" y="0"/>
                  </a:lnTo>
                  <a:lnTo>
                    <a:pt x="17" y="8"/>
                  </a:lnTo>
                  <a:lnTo>
                    <a:pt x="2" y="1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50320" y="4021200"/>
              <a:ext cx="39600" cy="172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3"/>
                  </a:moveTo>
                  <a:lnTo>
                    <a:pt x="23" y="0"/>
                  </a:lnTo>
                  <a:lnTo>
                    <a:pt x="25" y="7"/>
                  </a:lnTo>
                  <a:lnTo>
                    <a:pt x="2" y="1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3320" y="510048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0" y="0"/>
                  </a:moveTo>
                  <a:lnTo>
                    <a:pt x="39" y="19"/>
                  </a:lnTo>
                  <a:lnTo>
                    <a:pt x="20" y="38"/>
                  </a:lnTo>
                  <a:lnTo>
                    <a:pt x="0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94600" y="5100480"/>
              <a:ext cx="6012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174080" y="5100480"/>
              <a:ext cx="6012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53560" y="5100480"/>
              <a:ext cx="6012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13320" y="4643280"/>
              <a:ext cx="61920" cy="619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94600" y="4589640"/>
              <a:ext cx="60120" cy="601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13320" y="457992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0" y="0"/>
                  </a:moveTo>
                  <a:lnTo>
                    <a:pt x="39" y="38"/>
                  </a:lnTo>
                  <a:lnTo>
                    <a:pt x="0" y="3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94600" y="3813120"/>
              <a:ext cx="60120" cy="619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0"/>
                  </a:moveTo>
                  <a:lnTo>
                    <a:pt x="38" y="39"/>
                  </a:lnTo>
                  <a:lnTo>
                    <a:pt x="0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74080" y="4351320"/>
              <a:ext cx="60120" cy="619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0"/>
                  </a:moveTo>
                  <a:lnTo>
                    <a:pt x="38" y="39"/>
                  </a:lnTo>
                  <a:lnTo>
                    <a:pt x="0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53560" y="4141800"/>
              <a:ext cx="60120" cy="619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0"/>
                  </a:moveTo>
                  <a:lnTo>
                    <a:pt x="38" y="39"/>
                  </a:lnTo>
                  <a:lnTo>
                    <a:pt x="0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10080" y="4181400"/>
              <a:ext cx="7308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5413320" y="4184640"/>
              <a:ext cx="31680" cy="302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45000" y="4214880"/>
              <a:ext cx="30240" cy="302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5413320" y="4214880"/>
              <a:ext cx="31680" cy="302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5445000" y="4184640"/>
              <a:ext cx="30240" cy="302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91360" y="3998880"/>
              <a:ext cx="7308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 flipH="1" flipV="1">
            <a:off x="6294240" y="4002120"/>
            <a:ext cx="29880" cy="3024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24480" y="4032360"/>
            <a:ext cx="30240" cy="2988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6294240" y="4032360"/>
            <a:ext cx="29880" cy="2988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324480" y="4002120"/>
            <a:ext cx="30240" cy="3024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70840" y="4175280"/>
            <a:ext cx="730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7173720" y="4178160"/>
            <a:ext cx="29880" cy="3024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203960" y="4208400"/>
            <a:ext cx="30240" cy="3168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7173720" y="4208400"/>
            <a:ext cx="29880" cy="3168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7203960" y="4178160"/>
            <a:ext cx="30240" cy="3024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050320" y="3992400"/>
            <a:ext cx="730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8053200" y="3995640"/>
            <a:ext cx="29880" cy="3024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083440" y="4025880"/>
            <a:ext cx="30240" cy="3168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8053200" y="4025880"/>
            <a:ext cx="29880" cy="3168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8083440" y="3995640"/>
            <a:ext cx="30240" cy="3024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04360" y="3165480"/>
            <a:ext cx="171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"/>
              </a:rPr>
              <a:t>ABS Wet Braking Dist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35840" y="548316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64920" y="504828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164920" y="461628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</a:rPr>
              <a:t>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64920" y="418140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</a:rPr>
              <a:t>1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64920" y="374976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</a:rPr>
              <a:t>1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64920" y="331488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</a:rPr>
              <a:t>1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15400" y="5672160"/>
            <a:ext cx="317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"/>
              </a:rPr>
              <a:t>Car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194160" y="5672160"/>
            <a:ext cx="3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"/>
              </a:rPr>
              <a:t>Car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76880" y="56721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"/>
              </a:rPr>
              <a:t>Car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951320" y="567216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"/>
              </a:rPr>
              <a:t>Car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16200000">
            <a:off x="4171320" y="4337640"/>
            <a:ext cx="169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"/>
              </a:rPr>
              <a:t>Braking Distance (relative 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94600" y="4440240"/>
            <a:ext cx="861840" cy="6364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246800" y="4529160"/>
            <a:ext cx="381240" cy="144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05560" y="4497480"/>
            <a:ext cx="60480" cy="61920"/>
          </a:xfrm>
          <a:custGeom>
            <a:avLst/>
            <a:gdLst/>
            <a:ahLst/>
            <a:rect l="l" t="t" r="r" b="b"/>
            <a:pathLst>
              <a:path w="38" h="39">
                <a:moveTo>
                  <a:pt x="19" y="0"/>
                </a:moveTo>
                <a:lnTo>
                  <a:pt x="38" y="20"/>
                </a:lnTo>
                <a:lnTo>
                  <a:pt x="19" y="39"/>
                </a:lnTo>
                <a:lnTo>
                  <a:pt x="0" y="20"/>
                </a:lnTo>
                <a:lnTo>
                  <a:pt x="19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709400" y="444960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"/>
              </a:rPr>
              <a:t>AS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40680" y="4675320"/>
            <a:ext cx="23760" cy="11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13760" y="4675320"/>
            <a:ext cx="23760" cy="11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86480" y="4675320"/>
            <a:ext cx="24120" cy="11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59560" y="4675320"/>
            <a:ext cx="23760" cy="11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532640" y="4675320"/>
            <a:ext cx="23760" cy="11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05720" y="4675320"/>
            <a:ext cx="23760" cy="11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405560" y="4649760"/>
            <a:ext cx="60480" cy="61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696800" y="460224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240680" y="4826160"/>
            <a:ext cx="85680" cy="12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373880" y="4826160"/>
            <a:ext cx="85680" cy="12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508880" y="4826160"/>
            <a:ext cx="84240" cy="12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405560" y="4802040"/>
            <a:ext cx="6048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19" y="0"/>
                </a:moveTo>
                <a:lnTo>
                  <a:pt x="38" y="38"/>
                </a:lnTo>
                <a:lnTo>
                  <a:pt x="0" y="38"/>
                </a:lnTo>
                <a:lnTo>
                  <a:pt x="19" y="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698240" y="475308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240680" y="4978440"/>
            <a:ext cx="85680" cy="1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373880" y="4978440"/>
            <a:ext cx="25560" cy="1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446960" y="4978440"/>
            <a:ext cx="85680" cy="1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581960" y="4978440"/>
            <a:ext cx="23760" cy="1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402680" y="4951440"/>
            <a:ext cx="727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7405560" y="4954680"/>
            <a:ext cx="30240" cy="3024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435800" y="4984920"/>
            <a:ext cx="30240" cy="2988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7405560" y="4984920"/>
            <a:ext cx="30240" cy="2988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7435800" y="4954680"/>
            <a:ext cx="30240" cy="3024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91760" y="490536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865760" y="3081240"/>
            <a:ext cx="3473280" cy="2833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2120" y="5335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 Test Data of Stopping Distance by Using Actual Veh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DA30-DBFA-4840-A0D0-D8C4467CE2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NECE</cp:lastModifiedBy>
  <cp:lastPrinted>2001-01-25T09:26:34Z</cp:lastPrinted>
  <dcterms:modified xsi:type="dcterms:W3CDTF">2001-01-25T09:26:47Z</dcterms:modified>
  <cp:revision>1</cp:revision>
  <dc:subject/>
  <dc:title>No Slide Title</dc:title>
</cp:coreProperties>
</file>