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C384D-1719-45B3-A297-6ABD264B0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631520" y="4130640"/>
            <a:ext cx="7310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BEE8D-79B0-4676-BDA8-ACF538BDC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31520" y="413064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77680" y="413064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B289B-3A9F-483E-BAE3-E388089E8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3280" y="198108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75040" y="198108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631520" y="413064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3280" y="413064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75040" y="413064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D160A-763F-4141-92FD-B140B8133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AFAC4-24C3-4241-8A7C-C8335BBA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32019-DADA-4799-82B1-30AEAA7A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9ED13-9B86-4AF8-87F0-E59DF55C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CA54F-B27C-4156-806B-D4C644BD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B7145-2EE4-44D5-89EF-5E7A93FA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C50EF-4ADB-4C83-97C1-0EE5810B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31520" y="413064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0621E-8A25-417D-B9C6-E102994A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6B70-F433-40A5-B937-8635A53B9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77680" y="413064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FA194-4766-4C9C-845A-9E043E46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631520" y="4130640"/>
            <a:ext cx="7310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87081-D2E4-4391-B542-37AD971F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631520" y="4130640"/>
            <a:ext cx="7310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BDF10-CA59-4121-9336-7CF27962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631520" y="413064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77680" y="413064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A2FD1-07F3-4CE3-B2D9-A49F26F1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03280" y="198108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75040" y="198108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631520" y="413064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103280" y="413064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75040" y="413064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2BF6E-8344-44F9-B838-9BB7AECC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5EF0F-EB6D-4755-ABDB-736513142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51484-770A-48C7-96AA-2781F2F55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8EBF4-92E0-4FB1-B223-1A27955CA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9A862-AAFA-4702-A602-36F534266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31520" y="413064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B014-4A13-453D-B439-59F230BCD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77680" y="413064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4AD69-263A-4087-8417-1D59CF027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31520" y="4130640"/>
            <a:ext cx="7310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75B9C-6BAC-42BB-A688-9945130C2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3E5B-C37F-4946-8774-DA24C7B9FC72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9879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24520" y="6256440"/>
            <a:ext cx="14274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73120" y="1587600"/>
            <a:ext cx="7670880" cy="136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92753a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879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676760" y="6362640"/>
            <a:ext cx="3368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66"/>
                </a:solidFill>
                <a:latin typeface="Book Antiqua"/>
              </a:rPr>
              <a:t>Ergonomics Division, Transport Can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8158320" y="6427800"/>
          <a:ext cx="390240" cy="18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8320" y="6427800"/>
                    <a:ext cx="39024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"/>
          <p:cNvSpPr/>
          <p:nvPr/>
        </p:nvSpPr>
        <p:spPr>
          <a:xfrm>
            <a:off x="0" y="725400"/>
            <a:ext cx="147168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World Forum for Harminization of Vehicle Regu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WP.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6633"/>
                </a:solidFill>
                <a:latin typeface="Book Antiqua"/>
              </a:rPr>
              <a:t>Geve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Book Antiqua"/>
              </a:rPr>
              <a:t>November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Book Antiqua"/>
              </a:rPr>
              <a:t>IHRA-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55440" y="2627280"/>
            <a:ext cx="1325520" cy="785520"/>
            <a:chOff x="55440" y="2627280"/>
            <a:chExt cx="1325520" cy="785520"/>
          </a:xfrm>
        </p:grpSpPr>
        <p:grpSp>
          <p:nvGrpSpPr>
            <p:cNvPr id="12" name=""/>
            <p:cNvGrpSpPr/>
            <p:nvPr/>
          </p:nvGrpSpPr>
          <p:grpSpPr>
            <a:xfrm>
              <a:off x="584640" y="2627640"/>
              <a:ext cx="796320" cy="730800"/>
              <a:chOff x="584640" y="2627640"/>
              <a:chExt cx="796320" cy="73080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1263960" y="3092400"/>
                <a:ext cx="117000" cy="266040"/>
                <a:chOff x="1263960" y="3092400"/>
                <a:chExt cx="117000" cy="266040"/>
              </a:xfrm>
            </p:grpSpPr>
            <p:grpSp>
              <p:nvGrpSpPr>
                <p:cNvPr id="14" name=""/>
                <p:cNvGrpSpPr/>
                <p:nvPr/>
              </p:nvGrpSpPr>
              <p:grpSpPr>
                <a:xfrm>
                  <a:off x="1263960" y="3280320"/>
                  <a:ext cx="117000" cy="78120"/>
                  <a:chOff x="1263960" y="3280320"/>
                  <a:chExt cx="117000" cy="78120"/>
                </a:xfrm>
              </p:grpSpPr>
              <p:sp>
                <p:nvSpPr>
                  <p:cNvPr id="15" name=""/>
                  <p:cNvSpPr/>
                  <p:nvPr/>
                </p:nvSpPr>
                <p:spPr>
                  <a:xfrm>
                    <a:off x="1362240" y="3280320"/>
                    <a:ext cx="187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326240" y="3318120"/>
                    <a:ext cx="3456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1263960" y="3320640"/>
                    <a:ext cx="133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" name=""/>
                <p:cNvSpPr/>
                <p:nvPr/>
              </p:nvSpPr>
              <p:spPr>
                <a:xfrm>
                  <a:off x="1287720" y="3092400"/>
                  <a:ext cx="20880" cy="2376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1055880" y="2743200"/>
                <a:ext cx="246960" cy="567720"/>
                <a:chOff x="1055880" y="2743200"/>
                <a:chExt cx="246960" cy="567720"/>
              </a:xfrm>
            </p:grpSpPr>
            <p:grpSp>
              <p:nvGrpSpPr>
                <p:cNvPr id="20" name=""/>
                <p:cNvGrpSpPr/>
                <p:nvPr/>
              </p:nvGrpSpPr>
              <p:grpSpPr>
                <a:xfrm>
                  <a:off x="1095480" y="2800800"/>
                  <a:ext cx="55080" cy="170640"/>
                  <a:chOff x="1095480" y="2800800"/>
                  <a:chExt cx="55080" cy="170640"/>
                </a:xfrm>
              </p:grpSpPr>
              <p:sp>
                <p:nvSpPr>
                  <p:cNvPr id="21" name=""/>
                  <p:cNvSpPr/>
                  <p:nvPr/>
                </p:nvSpPr>
                <p:spPr>
                  <a:xfrm>
                    <a:off x="1095480" y="2954160"/>
                    <a:ext cx="133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1130400" y="2923560"/>
                    <a:ext cx="126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127880" y="2800800"/>
                    <a:ext cx="226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" name=""/>
                <p:cNvSpPr/>
                <p:nvPr/>
              </p:nvSpPr>
              <p:spPr>
                <a:xfrm>
                  <a:off x="1146960" y="3146400"/>
                  <a:ext cx="155880" cy="16452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1110600" y="3110760"/>
                  <a:ext cx="86400" cy="2232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157760" y="3066840"/>
                  <a:ext cx="39240" cy="4320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1116720" y="3047760"/>
                  <a:ext cx="43200" cy="5904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1208520" y="3081600"/>
                  <a:ext cx="82800" cy="5544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055880" y="3042000"/>
                  <a:ext cx="49680" cy="7344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144080" y="2962800"/>
                  <a:ext cx="48600" cy="8100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133280" y="2825640"/>
                  <a:ext cx="35640" cy="6840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1092600" y="2743200"/>
                  <a:ext cx="39240" cy="5616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" name=""/>
              <p:cNvGrpSpPr/>
              <p:nvPr/>
            </p:nvGrpSpPr>
            <p:grpSpPr>
              <a:xfrm>
                <a:off x="584640" y="2627640"/>
                <a:ext cx="568440" cy="656280"/>
                <a:chOff x="584640" y="2627640"/>
                <a:chExt cx="568440" cy="65628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584640" y="2856960"/>
                  <a:ext cx="282600" cy="42696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" name=""/>
                <p:cNvGrpSpPr/>
                <p:nvPr/>
              </p:nvGrpSpPr>
              <p:grpSpPr>
                <a:xfrm>
                  <a:off x="603720" y="2627640"/>
                  <a:ext cx="125280" cy="147240"/>
                  <a:chOff x="603720" y="2627640"/>
                  <a:chExt cx="125280" cy="147240"/>
                </a:xfrm>
              </p:grpSpPr>
              <p:grpSp>
                <p:nvGrpSpPr>
                  <p:cNvPr id="36" name=""/>
                  <p:cNvGrpSpPr/>
                  <p:nvPr/>
                </p:nvGrpSpPr>
                <p:grpSpPr>
                  <a:xfrm>
                    <a:off x="653400" y="2719440"/>
                    <a:ext cx="39240" cy="55440"/>
                    <a:chOff x="653400" y="2719440"/>
                    <a:chExt cx="39240" cy="55440"/>
                  </a:xfrm>
                </p:grpSpPr>
                <p:sp>
                  <p:nvSpPr>
                    <p:cNvPr id="37" name=""/>
                    <p:cNvSpPr/>
                    <p:nvPr/>
                  </p:nvSpPr>
                  <p:spPr>
                    <a:xfrm>
                      <a:off x="653400" y="2739600"/>
                      <a:ext cx="18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" name=""/>
                    <p:cNvSpPr/>
                    <p:nvPr/>
                  </p:nvSpPr>
                  <p:spPr>
                    <a:xfrm>
                      <a:off x="670320" y="2719440"/>
                      <a:ext cx="2232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" name=""/>
                  <p:cNvSpPr/>
                  <p:nvPr/>
                </p:nvSpPr>
                <p:spPr>
                  <a:xfrm>
                    <a:off x="603720" y="2627640"/>
                    <a:ext cx="1252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" name=""/>
                <p:cNvSpPr/>
                <p:nvPr/>
              </p:nvSpPr>
              <p:spPr>
                <a:xfrm>
                  <a:off x="825120" y="3149640"/>
                  <a:ext cx="37440" cy="8964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646560" y="2636280"/>
                  <a:ext cx="506520" cy="42480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" name=""/>
            <p:cNvGrpSpPr/>
            <p:nvPr/>
          </p:nvGrpSpPr>
          <p:grpSpPr>
            <a:xfrm>
              <a:off x="55440" y="2627280"/>
              <a:ext cx="444240" cy="785520"/>
              <a:chOff x="55440" y="2627280"/>
              <a:chExt cx="444240" cy="785520"/>
            </a:xfrm>
          </p:grpSpPr>
          <p:sp>
            <p:nvSpPr>
              <p:cNvPr id="43" name=""/>
              <p:cNvSpPr/>
              <p:nvPr/>
            </p:nvSpPr>
            <p:spPr>
              <a:xfrm>
                <a:off x="55440" y="2661840"/>
                <a:ext cx="300600" cy="36792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70360" y="2627280"/>
                <a:ext cx="102240" cy="968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49840" y="2661120"/>
                <a:ext cx="65160" cy="4968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86920" y="2938320"/>
                <a:ext cx="46440" cy="2304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27600" y="2954880"/>
                <a:ext cx="30600" cy="1944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08520" y="3009960"/>
                <a:ext cx="191160" cy="40284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0560" y="1806120"/>
            <a:ext cx="77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4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5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54B6-E127-4A83-8310-541AA91E5899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138480"/>
            <a:ext cx="9144000" cy="1382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92571d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128.32.234.183/pub/video/AHS_rvideo.ra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128.32.234.183/pub/video/cardocking.ram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path.berkeley.edu/PATH/Publications/Videos/snowplow.mov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128.32.234.183/pub/video/AHS_rvideo.ra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128.32.234.183/pub/video/cardocking.ram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path.berkeley.edu/PATH/Publications/Videos/snowplow.mov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28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ffcc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ffcc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5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8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159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2437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International Harmonized Research Activities:</a:t>
            </a:r>
            <a:br>
              <a:rPr sz="4400"/>
            </a:b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Intelligent Transport Systems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49240" y="6446520"/>
            <a:ext cx="8282160" cy="324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5480" y="6296040"/>
            <a:ext cx="179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Book Antiqu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400" spc="-1" strike="noStrike">
                <a:solidFill>
                  <a:srgbClr val="996633"/>
                </a:solidFill>
                <a:latin typeface="Book Antiqua"/>
              </a:rPr>
              <a:t>Can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08120" y="6345360"/>
          <a:ext cx="390600" cy="1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6345360"/>
                    <a:ext cx="39060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673200" y="3576600"/>
            <a:ext cx="787068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. Ian No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h.D., P.Eng., C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gonomics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ad Safety and Motor Vehicle Regulation Directo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 Can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30 Sparks St.., Ottawa, Ontario, K1A 0N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l: (613) 998-2268      Fax: (613) 998-4831     NOYI@tc.gc.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Times New Roman"/>
              </a:rPr>
              <a:t>Indirect Safety Risks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08040" y="1820520"/>
            <a:ext cx="7205760" cy="408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ur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travel (pleasura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of skill &amp; negative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olation of expectation (by non-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ision migration (MV to SV, to other user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946920" y="673200"/>
            <a:ext cx="1909440" cy="767880"/>
            <a:chOff x="6946920" y="673200"/>
            <a:chExt cx="1909440" cy="767880"/>
          </a:xfrm>
        </p:grpSpPr>
        <p:sp>
          <p:nvSpPr>
            <p:cNvPr id="248" name=""/>
            <p:cNvSpPr/>
            <p:nvPr/>
          </p:nvSpPr>
          <p:spPr>
            <a:xfrm>
              <a:off x="6946920" y="1188720"/>
              <a:ext cx="63324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Indir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83760" y="1188720"/>
              <a:ext cx="635400" cy="25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46920" y="930960"/>
              <a:ext cx="63324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Dir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83760" y="930960"/>
              <a:ext cx="635400" cy="25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83760" y="673200"/>
              <a:ext cx="63540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66"/>
                  </a:solidFill>
                  <a:latin typeface="Book Antiqua"/>
                </a:rPr>
                <a:t>Posi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222760" y="1188720"/>
              <a:ext cx="633600" cy="25236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d000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00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22760" y="930960"/>
              <a:ext cx="633600" cy="25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22760" y="673200"/>
              <a:ext cx="63360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66"/>
                  </a:solidFill>
                  <a:latin typeface="Book Antiqua"/>
                </a:rPr>
                <a:t>Nega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600200" y="4529160"/>
            <a:ext cx="565164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spcBef>
                <a:spcPts val="601"/>
              </a:spcBef>
              <a:buClr>
                <a:srgbClr val="99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fety impact depends largely on the extent to which the system support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s’ needs, and is compatible with human capabilities and lim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02080" y="2471760"/>
            <a:ext cx="5194080" cy="2638080"/>
            <a:chOff x="3502080" y="2471760"/>
            <a:chExt cx="5194080" cy="2638080"/>
          </a:xfrm>
        </p:grpSpPr>
        <p:sp>
          <p:nvSpPr>
            <p:cNvPr id="258" name=""/>
            <p:cNvSpPr/>
            <p:nvPr/>
          </p:nvSpPr>
          <p:spPr>
            <a:xfrm>
              <a:off x="3502080" y="3390840"/>
              <a:ext cx="1633320" cy="799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9f2c40"/>
                </a:gs>
                <a:gs pos="50000">
                  <a:srgbClr val="e5405d"/>
                </a:gs>
                <a:gs pos="100000">
                  <a:srgbClr val="9f2c4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39920"/>
                  <a:tab algn="l" pos="2679840"/>
                  <a:tab algn="l" pos="4019400"/>
                  <a:tab algn="l" pos="5359320"/>
                  <a:tab algn="l" pos="6699240"/>
                  <a:tab algn="l" pos="8039160"/>
                  <a:tab algn="l" pos="9379080"/>
                  <a:tab algn="l" pos="10718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Driving Ta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81560" y="3390840"/>
              <a:ext cx="1635120" cy="79992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a4623"/>
                </a:gs>
                <a:gs pos="50000">
                  <a:srgbClr val="996633"/>
                </a:gs>
                <a:gs pos="100000">
                  <a:srgbClr val="6a462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39920"/>
                  <a:tab algn="l" pos="2679840"/>
                  <a:tab algn="l" pos="4019400"/>
                  <a:tab algn="l" pos="5359320"/>
                  <a:tab algn="l" pos="6699240"/>
                  <a:tab algn="l" pos="8039160"/>
                  <a:tab algn="l" pos="9379080"/>
                  <a:tab algn="l" pos="1071864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Arial Unicode MS"/>
                </a:rPr>
                <a:t>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62840" y="2471760"/>
              <a:ext cx="1633320" cy="801360"/>
            </a:xfrm>
            <a:prstGeom prst="upArrow">
              <a:avLst>
                <a:gd name="adj1" fmla="val 50000"/>
                <a:gd name="adj2" fmla="val 49995"/>
              </a:avLst>
            </a:prstGeom>
            <a:gradFill rotWithShape="0">
              <a:gsLst>
                <a:gs pos="0">
                  <a:srgbClr val="b16a23"/>
                </a:gs>
                <a:gs pos="50000">
                  <a:srgbClr val="ff9933"/>
                </a:gs>
                <a:gs pos="100000">
                  <a:srgbClr val="b16a2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39920"/>
                  <a:tab algn="l" pos="2679840"/>
                  <a:tab algn="l" pos="4019400"/>
                  <a:tab algn="l" pos="5359320"/>
                  <a:tab algn="l" pos="6699240"/>
                  <a:tab algn="l" pos="8039160"/>
                  <a:tab algn="l" pos="9379080"/>
                  <a:tab algn="l" pos="10718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62840" y="4308480"/>
              <a:ext cx="1633320" cy="801360"/>
            </a:xfrm>
            <a:prstGeom prst="down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8d8d8d"/>
                </a:gs>
                <a:gs pos="50000">
                  <a:srgbClr val="cccccc"/>
                </a:gs>
                <a:gs pos="100000">
                  <a:srgbClr val="8d8d8d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39920"/>
                  <a:tab algn="l" pos="2679840"/>
                  <a:tab algn="l" pos="4019400"/>
                  <a:tab algn="l" pos="5359320"/>
                  <a:tab algn="l" pos="6699240"/>
                  <a:tab algn="l" pos="8039160"/>
                  <a:tab algn="l" pos="9379080"/>
                  <a:tab algn="l" pos="10718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62840" y="3390840"/>
              <a:ext cx="1633320" cy="799920"/>
            </a:xfrm>
            <a:custGeom>
              <a:avLst/>
              <a:gdLst>
                <a:gd name="textAreaLeft" fmla="*/ 372600 w 1633320"/>
                <a:gd name="textAreaRight" fmla="*/ 1260720 w 1633320"/>
                <a:gd name="textAreaTop" fmla="*/ 182520 h 799920"/>
                <a:gd name="textAreaBottom" fmla="*/ 61740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12300"/>
                </a:gs>
                <a:gs pos="50000">
                  <a:srgbClr val="ff3300"/>
                </a:gs>
                <a:gs pos="100000">
                  <a:srgbClr val="b123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39920"/>
                  <a:tab algn="l" pos="2679840"/>
                  <a:tab algn="l" pos="4019400"/>
                  <a:tab algn="l" pos="5359320"/>
                  <a:tab algn="l" pos="6699240"/>
                  <a:tab algn="l" pos="8039160"/>
                  <a:tab algn="l" pos="9379080"/>
                  <a:tab algn="l" pos="10718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Colli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56280" y="3781440"/>
              <a:ext cx="10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35760" y="37861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558800" y="2057400"/>
            <a:ext cx="67597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technology is safety neutral 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implementation is safety critic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Arial Unicode MS"/>
              </a:rPr>
              <a:t>ITS Safety, or IS IT?</a:t>
            </a:r>
            <a:endParaRPr b="0" i="1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Government’s Role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25680" y="198108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urage technologies/implementations that are likely to have an adverse effect on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implementation of technologies that are likely to have safety 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3300"/>
                </a:solidFill>
                <a:latin typeface="Times New Roman"/>
              </a:rPr>
              <a:t>Enhanced Safety of Vehicles (ESV):</a:t>
            </a:r>
            <a:br>
              <a:rPr sz="4000"/>
            </a:b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International Harmonized Research Activities</a:t>
            </a:r>
            <a:endParaRPr b="0" i="1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8560" y="2198520"/>
            <a:ext cx="3284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ng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22640"/>
            <a:ext cx="401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ES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ESV: IHRA Working Groups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88600" y="201780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Intelligent Transpor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Advanced Offset Frontal Crash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Pedestrian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Biomecha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Vehicle Compat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Side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IHRA-ITS : Objectives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ordinate international policy-oriented research to minimize the potential adverse consequences of on-board ITS technologi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velop procedures for the evaluation of safety of in-vehicle information, control and communication syste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an international view of the state of research into understanding the safety impact of driver workload and distrac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Aspects of System Safety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spcBef>
                <a:spcPts val="451"/>
              </a:spcBef>
              <a:buClr>
                <a:srgbClr val="9966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 of hardware and software, the propensity for malfunction and the potential to go into a dangerous and/or unanticipated safety m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Machine Interaction (H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spcBef>
                <a:spcPts val="451"/>
              </a:spcBef>
              <a:buClr>
                <a:srgbClr val="9966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issues are function allocation, the design of interface, definition of dialogue between the user and the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all Traffic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spcBef>
                <a:spcPts val="451"/>
              </a:spcBef>
              <a:buClr>
                <a:srgbClr val="9966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ggregate effect on the traffic system as a whol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Scope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original and aftermarket on-board information, control and communication systems, inclu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ver assistance systems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 warning and avoidanc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Summary of Activities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tual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vey of current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 further information vis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199.79.179.92/ITS/IT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Priority Projects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velopment of a harmonized safety evaluation methodology frame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river understanding and expectation of ITS 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uman factors principles check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rmative data on naturalistic driving behavi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mulator reference test scenari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roved secondary task methodology for evaluating safety effects of driver worklo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rmonization and validation of surrogate safety meas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Intelligent Transport Systems 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92680" y="2546280"/>
            <a:ext cx="3063960" cy="3351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Reduce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Improve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Increase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Improve 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Improve transit </a:t>
            </a:r>
            <a:br>
              <a:rPr sz="2400"/>
            </a:b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 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Reduce fuel </a:t>
            </a:r>
            <a:br>
              <a:rPr sz="2400"/>
            </a:b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 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Reduce e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49720" y="3322800"/>
            <a:ext cx="412920" cy="1523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77960" y="1979640"/>
            <a:ext cx="3110040" cy="4379400"/>
            <a:chOff x="1677960" y="1979640"/>
            <a:chExt cx="3110040" cy="4379400"/>
          </a:xfrm>
        </p:grpSpPr>
        <p:sp>
          <p:nvSpPr>
            <p:cNvPr id="175" name=""/>
            <p:cNvSpPr/>
            <p:nvPr/>
          </p:nvSpPr>
          <p:spPr>
            <a:xfrm>
              <a:off x="1677960" y="598824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tomated ai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77960" y="554292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mart ca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77960" y="509724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ffic monito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7960" y="465192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ffic manag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7960" y="420660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ormation datab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77960" y="376128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process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77960" y="331560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croprocess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77960" y="287028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munication li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77960" y="242496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gital ma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7960" y="197964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ing &amp; trac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935680" y="186840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ation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Importance of ITS Safety Research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s ESV’s role into crash avoi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aborates the role of governments with respect to ITS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safety is currently unregulated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there is a reasonable prospect for harmonized policies based on shared scientific understanding of th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Key Challenges for Government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tional policy paradigms not suit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cycle shorter than policy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y is diversifying rapi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ce lags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by consumer, not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risdictional boundaries no longer vali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IHRA-WP.29 Liaison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HRA research fo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e state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 joint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test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.29 to identify regulatory needs and priorities.  IHRA to coordinate the regulatory development research to support WP.29 work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Recommendations vis WP.29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e with WP.1 and WP.15 on ITS-related matters (I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strategy for global regulation development for on-board I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 – coordinate among existing GR’s, l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T – create new 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 IHRA-ITS WG as Informal Group for ITS-related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Possible Short Term Plan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RF – Collision avoidance, driver assistance (ACC, ESP), 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/GRRF?– Reliability (Annex 1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/GRSG? – Collision and drowsiness warning, vision enhancement, maneuvering 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SG – Telematics, nav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SP – Collision mitig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Levels of Automation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78160" y="1981080"/>
            <a:ext cx="566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er assistance (active ped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 control of vehicle functions (steering, stop&amp;g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control of vehicle (AH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471680" y="1724040"/>
            <a:ext cx="1806120" cy="5133600"/>
            <a:chOff x="1471680" y="1724040"/>
            <a:chExt cx="1806120" cy="5133600"/>
          </a:xfrm>
        </p:grpSpPr>
        <p:pic>
          <p:nvPicPr>
            <p:cNvPr id="189" name="ahs" descr="ahs.jpg (13736 bytes)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471680" y="5561640"/>
              <a:ext cx="180612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cardock" descr="cardock.jpg (19399 bytes)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471680" y="2969640"/>
              <a:ext cx="180612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snowplow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1471680" y="4265640"/>
              <a:ext cx="180612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exhib1" descr=""/>
            <p:cNvPicPr/>
            <p:nvPr/>
          </p:nvPicPr>
          <p:blipFill>
            <a:blip r:embed="rId7"/>
            <a:stretch/>
          </p:blipFill>
          <p:spPr>
            <a:xfrm>
              <a:off x="1471680" y="1724040"/>
              <a:ext cx="1799640" cy="124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Rationalizing Automation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78160" y="1981080"/>
            <a:ext cx="566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evel has unique safety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evel must coexist with other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on from one level to next is not incre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it represents a radical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471680" y="1724040"/>
            <a:ext cx="1806120" cy="5133600"/>
            <a:chOff x="1471680" y="1724040"/>
            <a:chExt cx="1806120" cy="5133600"/>
          </a:xfrm>
        </p:grpSpPr>
        <p:pic>
          <p:nvPicPr>
            <p:cNvPr id="196" name="ahs" descr="ahs.jpg (13736 bytes)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471680" y="5561640"/>
              <a:ext cx="180612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cardock" descr="cardock.jpg (19399 bytes)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471680" y="2969640"/>
              <a:ext cx="180612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snowplow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1471680" y="4265640"/>
              <a:ext cx="180612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exhib1" descr=""/>
            <p:cNvPicPr/>
            <p:nvPr/>
          </p:nvPicPr>
          <p:blipFill>
            <a:blip r:embed="rId7"/>
            <a:stretch/>
          </p:blipFill>
          <p:spPr>
            <a:xfrm>
              <a:off x="1471680" y="1724040"/>
              <a:ext cx="1799640" cy="124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u="sng">
                <a:solidFill>
                  <a:srgbClr val="663300"/>
                </a:solidFill>
                <a:uFillTx/>
                <a:latin typeface="Times New Roman"/>
              </a:rPr>
              <a:t>Vehicle-based</a:t>
            </a:r>
            <a:r>
              <a:rPr b="0" i="1" lang="en-US" sz="3400" spc="-1" strike="noStrike">
                <a:solidFill>
                  <a:srgbClr val="663300"/>
                </a:solidFill>
                <a:latin typeface="Times New Roman"/>
              </a:rPr>
              <a:t> Driver Assistance and Crash Avoidance Systems</a:t>
            </a:r>
            <a:endParaRPr b="0" i="1" lang="en-US" sz="3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ision enhancement &amp; visual range war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lligent speed adap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aptive cruise contr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llision warning (e.g., lane departure, rear-end, lane change, intersec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tigue/impairment war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vement monitoring and friction war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ehicle Stability Warning and Assist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mergency reporting and respon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cking and merging ai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ITS: Safety Impact Framework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84400" y="4352760"/>
            <a:ext cx="2019240" cy="800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d7ac5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79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4116240" y="4352760"/>
            <a:ext cx="2019600" cy="800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838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84400" y="3540240"/>
            <a:ext cx="2019240" cy="7999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d7ac5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79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4116240" y="3540240"/>
            <a:ext cx="2019600" cy="799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838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6240" y="2727360"/>
            <a:ext cx="2019600" cy="7999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d7ac5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79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 Antiqua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3" action="ppaction://hlinksldjump"/>
          </p:cNvPr>
          <p:cNvSpPr/>
          <p:nvPr/>
        </p:nvSpPr>
        <p:spPr>
          <a:xfrm>
            <a:off x="6148440" y="4352760"/>
            <a:ext cx="2019240" cy="8002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d0005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4" action="ppaction://hlinksldjump"/>
          </p:cNvPr>
          <p:cNvSpPr/>
          <p:nvPr/>
        </p:nvSpPr>
        <p:spPr>
          <a:xfrm>
            <a:off x="6148440" y="3540240"/>
            <a:ext cx="2019240" cy="7999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d0005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48440" y="2727360"/>
            <a:ext cx="2019240" cy="7999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d7ac5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79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Book Antiqua"/>
              </a:rPr>
              <a:t>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66"/>
                </a:solidFill>
                <a:latin typeface="Times New Roman"/>
              </a:rPr>
              <a:t>Direct Safety Benefits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tion of crash risk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-board CA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ad-side CA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ance for driver/system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igation of crash consequences through improved emergency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946920" y="673200"/>
            <a:ext cx="1909440" cy="767880"/>
            <a:chOff x="6946920" y="673200"/>
            <a:chExt cx="1909440" cy="767880"/>
          </a:xfrm>
        </p:grpSpPr>
        <p:sp>
          <p:nvSpPr>
            <p:cNvPr id="214" name=""/>
            <p:cNvSpPr/>
            <p:nvPr/>
          </p:nvSpPr>
          <p:spPr>
            <a:xfrm>
              <a:off x="6946920" y="1188720"/>
              <a:ext cx="63324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Indir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>
              <a:hlinkClick r:id="rId1" action="ppaction://hlinksldjump"/>
            </p:cNvPr>
            <p:cNvSpPr/>
            <p:nvPr/>
          </p:nvSpPr>
          <p:spPr>
            <a:xfrm>
              <a:off x="7583760" y="1188720"/>
              <a:ext cx="635400" cy="25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46920" y="930960"/>
              <a:ext cx="63324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Dir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>
              <a:hlinkClick r:id="rId2" action="ppaction://hlinksldjump"/>
            </p:cNvPr>
            <p:cNvSpPr/>
            <p:nvPr/>
          </p:nvSpPr>
          <p:spPr>
            <a:xfrm>
              <a:off x="7583760" y="930960"/>
              <a:ext cx="635400" cy="252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3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5b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83760" y="673200"/>
              <a:ext cx="63540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66"/>
                  </a:solidFill>
                  <a:latin typeface="Book Antiqua"/>
                </a:rPr>
                <a:t>Posi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>
              <a:hlinkClick r:id="rId3" action="ppaction://hlinksldjump"/>
            </p:cNvPr>
            <p:cNvSpPr/>
            <p:nvPr/>
          </p:nvSpPr>
          <p:spPr>
            <a:xfrm>
              <a:off x="8222760" y="1188720"/>
              <a:ext cx="633600" cy="25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>
              <a:hlinkClick r:id="rId4" action="ppaction://hlinksldjump"/>
            </p:cNvPr>
            <p:cNvSpPr/>
            <p:nvPr/>
          </p:nvSpPr>
          <p:spPr>
            <a:xfrm>
              <a:off x="8222760" y="930960"/>
              <a:ext cx="633600" cy="25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22760" y="673200"/>
              <a:ext cx="63360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66"/>
                  </a:solidFill>
                  <a:latin typeface="Book Antiqua"/>
                </a:rPr>
                <a:t>Nega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66"/>
                </a:solidFill>
                <a:latin typeface="Times New Roman"/>
              </a:rPr>
              <a:t>Indirect Safety Benefits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exposure (optimized routes and trip lengths, and greater choice of m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exposure to unauthorized use (elicen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traffic variance and conflic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rough better traffic management and improved interaction between driver and other road us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driver stress and fati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946920" y="673200"/>
            <a:ext cx="1909440" cy="767880"/>
            <a:chOff x="6946920" y="673200"/>
            <a:chExt cx="1909440" cy="767880"/>
          </a:xfrm>
        </p:grpSpPr>
        <p:sp>
          <p:nvSpPr>
            <p:cNvPr id="225" name=""/>
            <p:cNvSpPr/>
            <p:nvPr/>
          </p:nvSpPr>
          <p:spPr>
            <a:xfrm>
              <a:off x="6946920" y="1188720"/>
              <a:ext cx="63324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Indir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83760" y="1188720"/>
              <a:ext cx="635400" cy="252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3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5b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46920" y="930960"/>
              <a:ext cx="63324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Dir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83760" y="930960"/>
              <a:ext cx="635400" cy="25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83760" y="673200"/>
              <a:ext cx="63540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66"/>
                  </a:solidFill>
                  <a:latin typeface="Book Antiqua"/>
                </a:rPr>
                <a:t>Posi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22760" y="1188720"/>
              <a:ext cx="633600" cy="25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222760" y="930960"/>
              <a:ext cx="633600" cy="25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22760" y="673200"/>
              <a:ext cx="63360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66"/>
                  </a:solidFill>
                  <a:latin typeface="Book Antiqua"/>
                </a:rPr>
                <a:t>Nega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Times New Roman"/>
              </a:rPr>
              <a:t>Direct Safety Risks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614240" y="1917720"/>
            <a:ext cx="6235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ver di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ver over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ver con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situation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of trust/acceptance due to false or nuisance ala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discomfort,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946920" y="673200"/>
            <a:ext cx="1909440" cy="767520"/>
            <a:chOff x="6946920" y="673200"/>
            <a:chExt cx="1909440" cy="767520"/>
          </a:xfrm>
        </p:grpSpPr>
        <p:sp>
          <p:nvSpPr>
            <p:cNvPr id="236" name=""/>
            <p:cNvSpPr/>
            <p:nvPr/>
          </p:nvSpPr>
          <p:spPr>
            <a:xfrm>
              <a:off x="8222760" y="930960"/>
              <a:ext cx="633600" cy="25236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d000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00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946920" y="673200"/>
              <a:ext cx="1909080" cy="767520"/>
              <a:chOff x="6946920" y="673200"/>
              <a:chExt cx="1909080" cy="767520"/>
            </a:xfrm>
          </p:grpSpPr>
          <p:sp>
            <p:nvSpPr>
              <p:cNvPr id="238" name=""/>
              <p:cNvSpPr/>
              <p:nvPr/>
            </p:nvSpPr>
            <p:spPr>
              <a:xfrm>
                <a:off x="6946920" y="1188360"/>
                <a:ext cx="633240" cy="2523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d7ac5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7819" dir="2700000" blurRad="0" rotWithShape="0">
                  <a:srgbClr val="9879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 Antiqua"/>
                  </a:rPr>
                  <a:t>Indirec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583760" y="1188360"/>
                <a:ext cx="635040" cy="2523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Unicode MS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946920" y="930600"/>
                <a:ext cx="633240" cy="2523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d7ac5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7819" dir="2700000" blurRad="0" rotWithShape="0">
                  <a:srgbClr val="9879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 Antiqua"/>
                  </a:rPr>
                  <a:t>Direc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83760" y="930600"/>
                <a:ext cx="635040" cy="2523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Unicode MS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583760" y="673200"/>
                <a:ext cx="635040" cy="2523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d7ac5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7819" dir="2700000" blurRad="0" rotWithShape="0">
                  <a:srgbClr val="9879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6666"/>
                    </a:solidFill>
                    <a:latin typeface="Book Antiqua"/>
                  </a:rPr>
                  <a:t>Posi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222400" y="1188360"/>
                <a:ext cx="633600" cy="2523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Unicode MS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222400" y="673200"/>
                <a:ext cx="633600" cy="2523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d7ac5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7819" dir="2700000" blurRad="0" rotWithShape="0">
                  <a:srgbClr val="9879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Book Antiqua"/>
                  </a:rPr>
                  <a:t>Neg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oad Safety</dc:creator>
  <dc:description/>
  <dc:language>en-US</dc:language>
  <cp:lastModifiedBy>UNECE</cp:lastModifiedBy>
  <cp:lastPrinted>2001-05-15T13:38:56Z</cp:lastPrinted>
  <dcterms:modified xsi:type="dcterms:W3CDTF">2001-11-07T17:18:04Z</dcterms:modified>
  <cp:revision>189</cp:revision>
  <dc:subject/>
  <dc:title>The Need for Integration of Ergonomics in Transportation System Development</dc:title>
</cp:coreProperties>
</file>