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689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3004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abcde"/>
                </a:solidFill>
                <a:latin typeface="Arial"/>
              </a:rPr>
              <a:t>Click to move the slide</a:t>
            </a:r>
            <a:endParaRPr b="1" i="1" lang="en-US" sz="48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91720" y="4339800"/>
            <a:ext cx="50482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8758080"/>
            <a:ext cx="2968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60280" y="8758080"/>
            <a:ext cx="2968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586D53F-7C18-473C-832C-C65EC1D3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1720" y="4339800"/>
            <a:ext cx="50482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r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r/vehicle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r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F46-827F-4C0D-B19A-6C9344C3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4920" y="36734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39A-DC58-49D9-871C-8027C817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87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FB3-59EA-497B-A889-7D5C8D00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7000" y="15238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99080" y="15238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4920" y="36734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7000" y="36734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99080" y="36734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571-6152-46BC-87F5-C5B088E7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B979-1911-4737-89D9-9467D90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CBD-2102-413B-9820-D9972091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9E9B-1DFB-443A-8BAB-4F0F0A4B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FECF-8AC8-42C6-9048-C0137BA8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B9A-1AA0-45DB-8E94-16A1F098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85A3-1C1D-4641-84C0-D743FC5F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8AC-C382-4D95-BBB3-7BB89E99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584-5788-4D8B-840F-278085F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87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9674-98C3-4FC9-B4D1-E06643B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6734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BFF-085C-42F3-B7D8-0105AA2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94920" y="36734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1BC7-E0EB-4BFA-88A7-1156E5B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49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387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D4B-DE77-4CE1-A7AF-FC6CAB11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7000" y="15238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9080" y="15238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94920" y="36734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7000" y="36734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9080" y="36734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8FD-FA06-4933-8649-5FE68FE6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362-E4DE-4A11-8FF0-0C684B2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6FA-519F-44AB-AD92-05DB2CDE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E56-240A-4243-8239-F010AFB8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8960" y="30456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A8E-A84B-4910-9116-3594F5C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49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ECD-46C6-4124-B15B-992D76D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8720" y="36734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F8D-FAD4-449F-8747-2B80E8B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1800"/>
            <a:ext cx="73911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8720" y="15238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36734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786-1276-4592-93DA-9FD2E4A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1143000"/>
            <a:ext cx="457200" cy="5715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ESV_headborder" descr=""/>
          <p:cNvPicPr/>
          <p:nvPr/>
        </p:nvPicPr>
        <p:blipFill>
          <a:blip r:embed="rId2"/>
          <a:stretch/>
        </p:blipFill>
        <p:spPr>
          <a:xfrm>
            <a:off x="847800" y="0"/>
            <a:ext cx="8296200" cy="113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89920" indent="-198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89920" indent="-198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96BD-89DF-46EB-AFD5-AD3DEAAB0B3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pic>
        <p:nvPicPr>
          <p:cNvPr id="8" name="ESV_bor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7D88-8085-4366-A6EC-703366ACD80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0"/>
            <a:ext cx="685800" cy="68547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ESV_border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abcde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International Harmonized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Research Activities</a:t>
            </a:r>
            <a:endParaRPr b="1" i="1" lang="en-US" sz="54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bcde"/>
                </a:solidFill>
                <a:latin typeface="Arial"/>
              </a:rPr>
              <a:t>March,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bcde"/>
                </a:solidFill>
                <a:latin typeface="Arial"/>
              </a:rPr>
              <a:t>IHRA Steering Committee Presentation 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bcde"/>
                </a:solidFill>
                <a:latin typeface="Arial"/>
              </a:rPr>
              <a:t>WP-2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DAC0-5427-4C24-8EB8-D7C8A4B881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336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33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ased on Real World Crashes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33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ponent Test Procedure Approach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33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edestrian Protection Test Procedur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33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Windshield Contac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2120" y="76320"/>
            <a:ext cx="77896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Pedestrian Safety WG Goal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3F3-267D-4CC4-82F1-013EFDA744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8093160" cy="336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olidated Data S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Identification of Impact Points and Velocity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ulation - Head Ori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Assumptions &amp; Outstanding Issues Under Discussion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d Test Procedure - Adult/chi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HIC Based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 Test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Development of harmonized leg protection test procedure by 2001 unlikely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Pedestrian Safety WG Progres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79F-011D-4967-8D71-F03EC45310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76116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Biomechanics WG Objective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de Impact Initia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World-Wide Side Impact Crash Problem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World-Wide Anthropometric Characterization of Crash Victims for Dummy Definition ( WorldSID coordination )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Develop Biofidelic Impact Response Specifications for Dummy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Develop Crash Test Dummy Evaluation Methodologies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Identify Meaningful Injury Criteria and Performance Limits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ntal Impact Initia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Repeat Side Impact Tasks for Frontal Impact Situation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27C-3787-496D-9D6A-E3AE36AAC9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76116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Biomechanics WG Progres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de Impact Initiativ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Significant Progress in Quantifying World-Wide Side-Impact Problem, Anthropometric Definitions of Crash Victims, Impact Requirements for Anthropomorphic Test Devices, and Identifying Meaningful Injury Criteria and Performance Limits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3DD-B1D2-4BC4-9EB5-F369AC148A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5760" y="399960"/>
            <a:ext cx="7788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Advanced Frontal Impact</a:t>
            </a:r>
            <a:br>
              <a:rPr sz="4000"/>
            </a:b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WG - Objective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084040"/>
            <a:ext cx="7296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Internationally Agreed Upon Test Procedures Designed to Improve Occupant Protection in Frontal Crash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77F-0245-491A-B07A-9BCB65AAAD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501480"/>
            <a:ext cx="670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Advanced Frontal Impa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WG- Prog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19320" y="1733400"/>
            <a:ext cx="77184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-stage Approach Has Been Adopt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Stage - Consider Existing Test Procedures for Frontal Crash Prot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Offset Deformable Barrier Test to Assess Occupant Protection in a Crash Environment Associated With Occupant Compartment Intrusion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Full Width Wall Test to Assess Occupant Protection in a Crash Environment Associated With High Deceleration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 marL="312120" indent="-3121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Stage - Continue Development of a Test Procedure That Accounts for Mass and Impact Angle Effects Along With Compartment Intrusion and Crash Pulse Sever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Discussion Points Include Vehicle Categories, Type of  Barrier, Impact Speed, Performance Criteria, Air Bag Performance, Impact Angle, and the use of a Trolley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35D-8F7A-4DDF-825D-298226E342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501480"/>
            <a:ext cx="72882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ea9d4"/>
                </a:solidFill>
                <a:latin typeface="Arial"/>
              </a:rPr>
              <a:t>Vehicle Compatibi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ea9d4"/>
                </a:solidFill>
                <a:latin typeface="Arial"/>
              </a:rPr>
              <a:t>WG - Obj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 Occupant Protection by Developing Internationally Agreed Upon Test Procedures Designed to Improve the Compatibility of Light Vehicle Structures in Front-to-front and Front-to-side Impa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75C-B740-42A0-9FD3-02706D47E9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46320" y="501480"/>
            <a:ext cx="728820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ea9d4"/>
                </a:solidFill>
                <a:latin typeface="Arial"/>
              </a:rPr>
              <a:t>Vehicle Compatibi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ea9d4"/>
                </a:solidFill>
                <a:latin typeface="Arial"/>
              </a:rPr>
              <a:t>WG -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492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d Prospects for Improved Frontal Evaluation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eed Upon Relevant Aspect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Good Structural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Maintaining Occupant Compartment Integ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Predictable Structural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Controlling Deceleration Time Hi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83A-12AB-4FA4-862E-3E395BF54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25520"/>
            <a:ext cx="62481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ea9d4"/>
                </a:solidFill>
                <a:latin typeface="Arial"/>
              </a:rPr>
              <a:t>Vehicle Compati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ea9d4"/>
                </a:solidFill>
                <a:latin typeface="Arial"/>
              </a:rPr>
              <a:t>WG - Progress (continu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49280" y="1847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didate Test Procedures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Full Frontal Barrier Test With Load Cells (Rigid Wall With or Without a Thin Deformable El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Offset Deformable Barrier (ODB) Test With Loa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Overload Test (Passenger Compartment Integrity) Using OD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Barrier Elements to Explore Shear (E.G., The Progressive Deformable Barri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Moving Deformable Barrier Test With Loa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5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1F2-B57B-403B-A113-B416BFBE70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247320"/>
            <a:ext cx="67820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Side Impact </a:t>
            </a:r>
            <a:br>
              <a:rPr sz="4000"/>
            </a:b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WG - Objective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view Real World Crash Da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ordinate Research Worldw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pport Development of Future Test Devices and Test Procedures Including Full System and Component Te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teract With Other WG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nhance Side Crash Safe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rm Consensus on Scientific Research Finding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843-42F7-43E0-9C0D-17E4A1648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10516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Purpose of Briefing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0360" y="16002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 the Following Question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What Is IHRA?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How Is IHRA Organized?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What Countries Are Involved in IHRA?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What Issues Are Being Addressed by IHRA?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How Do I Find Out More About IHRA? 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What Is the Future of IHRA?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078-72FE-40DD-B2FA-F790B6BCC5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79132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Side Impact </a:t>
            </a:r>
            <a:br>
              <a:rPr sz="4000"/>
            </a:b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WG - Progres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viewed Worldwide Safety Probl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orked closely with WorldSID/Bio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reed on Need for 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 Narrow"/>
              </a:rPr>
              <a:t>Pole Test</a:t>
            </a:r>
            <a:endParaRPr b="0" lang="en-US" sz="2600" spc="-1" strike="noStrike">
              <a:solidFill>
                <a:srgbClr val="ffff99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 Narrow"/>
              </a:rPr>
              <a:t>MDB</a:t>
            </a:r>
            <a:endParaRPr b="0" lang="en-US" sz="2600" spc="-1" strike="noStrike">
              <a:solidFill>
                <a:srgbClr val="ffff99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 Narrow"/>
              </a:rPr>
              <a:t>Out-of-position Testing ( Side Airbags )</a:t>
            </a:r>
            <a:endParaRPr b="0" lang="en-US" sz="2600" spc="-1" strike="noStrike">
              <a:solidFill>
                <a:srgbClr val="ffff99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 Narrow"/>
              </a:rPr>
              <a:t>Interior Head Impact Tests</a:t>
            </a:r>
            <a:endParaRPr b="0" lang="en-US" sz="2600" spc="-1" strike="noStrike">
              <a:solidFill>
                <a:srgbClr val="ffff99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pecific Test Conditions Under Discu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1F7-074A-4582-827B-D71E72400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Intelligent Transportation </a:t>
            </a:r>
            <a:br>
              <a:rPr sz="4000"/>
            </a:b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System WG - Objective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Opportunities for International Research Coordin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 Narrow"/>
              </a:rPr>
              <a:t>Driver Workload</a:t>
            </a:r>
            <a:endParaRPr b="0" lang="en-US" sz="3000" spc="-1" strike="noStrike">
              <a:solidFill>
                <a:srgbClr val="ffff99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 Narrow"/>
              </a:rPr>
              <a:t>Direct Safety Benefits (Crash Avoidance)</a:t>
            </a:r>
            <a:endParaRPr b="0" lang="en-US" sz="3000" spc="-1" strike="noStrike">
              <a:solidFill>
                <a:srgbClr val="ffff99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 Narrow"/>
              </a:rPr>
              <a:t>Behavioral Adaptation</a:t>
            </a:r>
            <a:endParaRPr b="0" lang="en-US" sz="3000" spc="-1" strike="noStrike">
              <a:solidFill>
                <a:srgbClr val="ffff99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Arial Narrow"/>
              </a:rPr>
              <a:t>System Usability</a:t>
            </a:r>
            <a:endParaRPr b="0" lang="en-US" sz="3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38A-2E89-4ACA-92D9-B841B37871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ITS  Focus Area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8816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monized Safety Evaluation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s of False Expectation on Driver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an Factors Principles for In-vehicl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istic Driving Behavio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ator Reference Test Scena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 Task Methodology for Evaluating Safety Effects of Driver Worklo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idation of Surrogate Safety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iver Learning, Retention, and Acceptance of New ITS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43B-FB30-4265-9D46-2CE39FF1DB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915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IHRA Reporting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SV Conferen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June 4-7, 2001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5 Year Report from 6 Working Group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Decision on Future of IHRA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17th ESV Confer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Lead Country for Each Working Group Will Coordinate With Appropriate GR to Present the Results of IHRA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5D6-D2A5-4F97-858F-E2895DEC38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68400" y="1338120"/>
            <a:ext cx="7608960" cy="2363760"/>
          </a:xfrm>
          <a:prstGeom prst="ellipse">
            <a:avLst/>
          </a:prstGeom>
          <a:gradFill rotWithShape="0">
            <a:gsLst>
              <a:gs pos="0">
                <a:srgbClr val="93b3d3"/>
              </a:gs>
              <a:gs pos="100000">
                <a:srgbClr val="3f6c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576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8400" y="4351320"/>
            <a:ext cx="7608960" cy="2362320"/>
          </a:xfrm>
          <a:prstGeom prst="ellipse">
            <a:avLst/>
          </a:prstGeom>
          <a:gradFill rotWithShape="0">
            <a:gsLst>
              <a:gs pos="0">
                <a:srgbClr val="93b3d3"/>
              </a:gs>
              <a:gs pos="100000">
                <a:srgbClr val="3f6c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576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65120" y="5292720"/>
            <a:ext cx="1044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Bi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mechan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36920" y="5292720"/>
            <a:ext cx="10461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Fro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5292720"/>
            <a:ext cx="1044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9800" y="5292720"/>
            <a:ext cx="10461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Compat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51600" y="5292720"/>
            <a:ext cx="10443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Pedestr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23040" y="5292720"/>
            <a:ext cx="1044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7240" y="2409840"/>
            <a:ext cx="10461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Ligh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0480" y="2409840"/>
            <a:ext cx="10443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Brak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&amp; Ru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G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0120" y="2409840"/>
            <a:ext cx="10479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Pass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2409840"/>
            <a:ext cx="1044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15160" y="2409840"/>
            <a:ext cx="10461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Pol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2409840"/>
            <a:ext cx="10447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84"/>
                </a:solidFill>
                <a:latin typeface="Arial Narrow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5040" y="1994760"/>
            <a:ext cx="511560" cy="276480"/>
          </a:xfrm>
          <a:prstGeom prst="rect">
            <a:avLst/>
          </a:prstGeom>
          <a:solidFill>
            <a:srgbClr val="4a7fb4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9080" y="1994760"/>
            <a:ext cx="612000" cy="276480"/>
          </a:xfrm>
          <a:prstGeom prst="rect">
            <a:avLst/>
          </a:prstGeom>
          <a:solidFill>
            <a:srgbClr val="4a7fb4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R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91080" y="1950480"/>
            <a:ext cx="828360" cy="368280"/>
          </a:xfrm>
          <a:prstGeom prst="rect">
            <a:avLst/>
          </a:prstGeom>
          <a:solidFill>
            <a:srgbClr val="4a7fb4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1994760"/>
            <a:ext cx="630360" cy="276480"/>
          </a:xfrm>
          <a:prstGeom prst="rect">
            <a:avLst/>
          </a:prstGeom>
          <a:solidFill>
            <a:srgbClr val="4a7fb4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S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30440" y="1994760"/>
            <a:ext cx="613440" cy="276480"/>
          </a:xfrm>
          <a:prstGeom prst="rect">
            <a:avLst/>
          </a:prstGeom>
          <a:solidFill>
            <a:srgbClr val="4a7fb4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78560" y="2010600"/>
            <a:ext cx="519120" cy="276480"/>
          </a:xfrm>
          <a:prstGeom prst="rect">
            <a:avLst/>
          </a:prstGeom>
          <a:solidFill>
            <a:srgbClr val="4a7fb4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10120" y="129456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P.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26320" y="4350600"/>
            <a:ext cx="11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H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30240" y="2909880"/>
            <a:ext cx="1954440" cy="23940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82960" y="2943360"/>
            <a:ext cx="947520" cy="23400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33880" y="2932200"/>
            <a:ext cx="0" cy="23400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298760" y="2931840"/>
            <a:ext cx="1044360" cy="23511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4483080" y="2918880"/>
            <a:ext cx="2013120" cy="23641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343480" y="2918880"/>
            <a:ext cx="2293920" cy="23641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28600"/>
            <a:ext cx="73915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Proposed Presen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37A-745B-4742-A666-4A838EB6F7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Final Comments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HRA Steering Committee Would Like to Thank WP.29 for This Opportun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Activities of IHRA Beyond June Are Still Under Discu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Would Appreciate Your Written Comments - Send T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IHRA Secretariat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John.Hinch@nhtsa.dot.gov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BEA-5FB3-4241-BBB3-80395645A4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949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International Harmonized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esearch Activiti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Inter-Governmental Initiative Which Aims to Facilitate Greater Harmony of Vehicle Safety Policies Through Multi-National Collaboration in Research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IHRA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73E-0F8C-41E2-9738-17D50CDDC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7760" y="-360"/>
            <a:ext cx="7896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abcde"/>
                </a:solidFill>
                <a:latin typeface="Arial"/>
              </a:rPr>
              <a:t>International Harmonized Research Activities</a:t>
            </a:r>
            <a:endParaRPr b="1" i="1" lang="en-US" sz="38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is - Dr. Martinez WP.29 Speech in November 199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lity-15th Enhanced Safety Of Vehicles Conference - in 199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by ESV Government Focal Po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Some of the Major Issues of Highway Safety By Harmonizing Research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itial Period: 5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D89-E6CF-4D40-80A7-FCF5A255F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257800" y="0"/>
            <a:ext cx="2755800" cy="1574640"/>
            <a:chOff x="5257800" y="0"/>
            <a:chExt cx="2755800" cy="1574640"/>
          </a:xfrm>
        </p:grpSpPr>
        <p:graphicFrame>
          <p:nvGraphicFramePr>
            <p:cNvPr id="105" name=""/>
            <p:cNvGraphicFramePr/>
            <p:nvPr/>
          </p:nvGraphicFramePr>
          <p:xfrm>
            <a:off x="5257800" y="0"/>
            <a:ext cx="2755800" cy="15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0"/>
                      <a:ext cx="2755800" cy="15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6018120" y="564480"/>
              <a:ext cx="78480" cy="71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68080" y="66168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4280" y="69732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34320" y="674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09120" y="539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4920" y="404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4920" y="449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44000" y="52668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60200" y="56232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5400" y="584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5440" y="45900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5480" y="45900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85480" y="50436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60280" y="34668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2520" y="629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87720" y="67464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87720" y="1192320"/>
              <a:ext cx="116280" cy="102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17160"/>
            <a:ext cx="6021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What is the ESV Conference?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828800"/>
            <a:ext cx="767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erence Sponsored by Govern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itially a Forum to Share Research Findings From Experimental Safety Vehicle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a Technical Conference on Vehicle Traffic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ortunity for International Sharing of Information and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gnizing Contributions to the Field of Highway Traffic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60F-A4D5-40D1-B800-E0BF8EA07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ering Committe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Government Representatives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haired by NHTSA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ing Gro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Government and Industry Representatives Participat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IHRA Organiz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AC8-9FDF-4EA6-8049-E90BB2A8F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78000" y="1584000"/>
            <a:ext cx="7866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Working Group Has 3 Regional Industry Representa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Locations Represen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Asia/Pacific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13160" indent="-274320">
              <a:lnSpc>
                <a:spcPct val="11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Europe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lvl="1" marL="713160" indent="-274320">
              <a:lnSpc>
                <a:spcPct val="110000"/>
              </a:lnSpc>
              <a:buClr>
                <a:srgbClr val="ffffff"/>
              </a:buClr>
              <a:buSzPct val="2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North America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ed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Chairman’s Discretion Other Experts Invited As Necess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3600" y="0"/>
            <a:ext cx="4908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IHRA Indus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Particip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7E1-F8CF-4B1E-8D18-6B114E0BC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95240" y="2035080"/>
            <a:ext cx="8501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ustral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Keith Sey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ta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Claudio Lomonac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nad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Brian Jonah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ap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Masahiko Nait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C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Per-Ove Engelbrech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Netherlan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Gerard Meek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ra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Bernard Gauvi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ola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Wojciech Przybylsk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German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K-L Lenz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wede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Anders Li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EV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Bernd Friede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U.K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John Jey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Hungar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Sandor Szab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U.S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Ray Owing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9abcd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0"/>
            <a:ext cx="735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IHRA Steering Committee</a:t>
            </a: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abcde"/>
                </a:solidFill>
                <a:latin typeface="Arial"/>
              </a:rPr>
              <a:t>Memb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44A-8067-4B19-9B73-97FA4050AB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1752480"/>
            <a:ext cx="2819520" cy="515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1752480"/>
            <a:ext cx="2819160" cy="515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0600" y="17064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ad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3600" y="0"/>
            <a:ext cx="856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IHRA Organization o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ea9d4"/>
                </a:solidFill>
                <a:latin typeface="Arial"/>
              </a:rPr>
              <a:t>Working Grou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43480" y="170640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HRA W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588400"/>
            <a:ext cx="697068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omechanic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.S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ntal Impact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EVC/Italy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tibility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EVC/U.K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ad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destrian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apa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de Impa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stralia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254-A47E-4318-B9C9-3BCD793B9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2T15:01:41Z</dcterms:created>
  <dc:creator>Maurice Hicks</dc:creator>
  <dc:description/>
  <dc:language>en-US</dc:language>
  <cp:lastModifiedBy>Joe Kanianthra</cp:lastModifiedBy>
  <cp:lastPrinted>2001-03-06T13:47:00Z</cp:lastPrinted>
  <dcterms:modified xsi:type="dcterms:W3CDTF">2001-03-16T16:29:02Z</dcterms:modified>
  <cp:revision>180</cp:revision>
  <dc:subject/>
  <dc:title>NATIONAL CUSTOMER SURVEY  </dc:title>
</cp:coreProperties>
</file>