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6F5-D15B-4CCB-A7AD-DB5C48BE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3E1-0ED3-4D34-A0F7-7DAA10D0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4BA-DD40-4440-B1AB-F588FAD5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1D2-0D01-48DA-A9F2-7BB8F115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3B8-E5E0-4DD3-B14D-20B7234C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672-7A3D-4933-8ADC-E6A3646D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BD6-887D-4FB5-B92B-D178781F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49D-9509-4133-8391-9640326D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80A-3DE9-47BB-A403-1A948215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B85-882F-4D97-BE09-92D2AF75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382-6C3D-4ED0-808A-ACE0EF8B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DED-59C9-4BDF-998A-97F142CF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F723-BA56-4A21-9BA0-41D2626DD0E6}" type="datetime">
              <a:rPr b="0" lang="ja-JP" sz="1400" spc="-1" strike="noStrike">
                <a:solidFill>
                  <a:srgbClr val="000000"/>
                </a:solidFill>
                <a:latin typeface="Arial"/>
              </a:rPr>
              <a:t>26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2080" y="6594480"/>
            <a:ext cx="21333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DAD8-3BDE-4499-B458-8D82AE886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72880" y="2076480"/>
            <a:ext cx="856944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History of Development of th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lex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ibl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edestria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egform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mpactor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lex-PLI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339720" y="4567320"/>
            <a:ext cx="240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1080" y="66420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GTR9-C-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C98-E1DC-4E94-8CA9-5DEAB97257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189920" y="3662280"/>
            <a:ext cx="817560" cy="998640"/>
          </a:xfrm>
          <a:custGeom>
            <a:avLst/>
            <a:gdLst>
              <a:gd name="textAreaLeft" fmla="*/ 39600 w 817560"/>
              <a:gd name="textAreaRight" fmla="*/ 777960 w 817560"/>
              <a:gd name="textAreaTop" fmla="*/ 39600 h 998640"/>
              <a:gd name="textAreaBottom" fmla="*/ 959040 h 998640"/>
            </a:gdLst>
            <a:ahLst/>
            <a:rect l="textAreaLeft" t="textAreaTop" r="textAreaRight" b="textAreaBottom"/>
            <a:pathLst>
              <a:path w="21600" h="26382">
                <a:moveTo>
                  <a:pt x="3600" y="0"/>
                </a:moveTo>
                <a:arcTo wR="3600" hR="3600" stAng="16200000" swAng="-5400000"/>
                <a:lnTo>
                  <a:pt x="0" y="22782"/>
                </a:lnTo>
                <a:arcTo wR="3600" hR="3600" stAng="10800000" swAng="-5400000"/>
                <a:lnTo>
                  <a:pt x="18000" y="26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78760" y="4756320"/>
            <a:ext cx="698400" cy="1612800"/>
          </a:xfrm>
          <a:custGeom>
            <a:avLst/>
            <a:gdLst>
              <a:gd name="textAreaLeft" fmla="*/ 33840 w 698400"/>
              <a:gd name="textAreaRight" fmla="*/ 664560 w 698400"/>
              <a:gd name="textAreaTop" fmla="*/ 33840 h 1612800"/>
              <a:gd name="textAreaBottom" fmla="*/ 1578960 h 1612800"/>
            </a:gdLst>
            <a:ahLst/>
            <a:rect l="textAreaLeft" t="textAreaTop" r="textAreaRight" b="textAreaBottom"/>
            <a:pathLst>
              <a:path w="21600" h="49866">
                <a:moveTo>
                  <a:pt x="3600" y="0"/>
                </a:moveTo>
                <a:arcTo wR="3600" hR="3600" stAng="16200000" swAng="-5400000"/>
                <a:lnTo>
                  <a:pt x="0" y="46266"/>
                </a:lnTo>
                <a:arcTo wR="3600" hR="3600" stAng="10800000" swAng="-5400000"/>
                <a:lnTo>
                  <a:pt x="18000" y="498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497640" y="1808280"/>
            <a:ext cx="554040" cy="49910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586320" y="1935000"/>
            <a:ext cx="828360" cy="4938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744960" y="1343160"/>
            <a:ext cx="187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nstr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527320" y="6175440"/>
            <a:ext cx="40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374 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0240" y="4202280"/>
            <a:ext cx="85680" cy="72720"/>
          </a:xfrm>
          <a:prstGeom prst="line">
            <a:avLst/>
          </a:prstGeom>
          <a:ln cap="rnd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769080" y="4202280"/>
            <a:ext cx="106560" cy="69840"/>
          </a:xfrm>
          <a:prstGeom prst="line">
            <a:avLst/>
          </a:prstGeom>
          <a:ln cap="rnd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74520" y="3976560"/>
            <a:ext cx="68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Knee-P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lon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4520" y="4314960"/>
            <a:ext cx="68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Knee-M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lon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74520" y="3662280"/>
            <a:ext cx="68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Knee-A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lon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35880" y="4278240"/>
            <a:ext cx="64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Knee-LC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Elong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52480" y="3362400"/>
            <a:ext cx="40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137 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62280" y="2997360"/>
            <a:ext cx="40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217 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06640" y="2540160"/>
            <a:ext cx="40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297 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03240" y="4944960"/>
            <a:ext cx="40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134 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184240" y="5383080"/>
            <a:ext cx="40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214 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65320" y="5772240"/>
            <a:ext cx="40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294 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85360" y="3843360"/>
            <a:ext cx="4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pper end of tib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11160" y="2506680"/>
            <a:ext cx="70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Femur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92080" y="2946240"/>
            <a:ext cx="70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Femur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93520" y="3300480"/>
            <a:ext cx="70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Femur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48680" y="4278240"/>
            <a:ext cx="75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981840" y="2684520"/>
            <a:ext cx="21600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981840" y="3117960"/>
            <a:ext cx="21600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981840" y="3489480"/>
            <a:ext cx="21600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75720" y="351792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75720" y="313380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875720" y="2674800"/>
            <a:ext cx="82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52560" y="4735440"/>
            <a:ext cx="59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Tibia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236720" y="5167440"/>
            <a:ext cx="59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Tibia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4160" y="5594400"/>
            <a:ext cx="70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Femur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981840" y="4933800"/>
            <a:ext cx="21600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981840" y="5359320"/>
            <a:ext cx="21600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981840" y="5754600"/>
            <a:ext cx="21600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84160" y="5972040"/>
            <a:ext cx="70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Femur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981840" y="6148440"/>
            <a:ext cx="21600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62760" y="4933800"/>
            <a:ext cx="5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62760" y="535320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862760" y="5759280"/>
            <a:ext cx="7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862760" y="615960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83680" y="42465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526600" y="42465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670960" y="42465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815320" y="4305240"/>
            <a:ext cx="0" cy="18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383680" y="35179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8526600" y="3186000"/>
            <a:ext cx="0" cy="105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8670960" y="2709360"/>
            <a:ext cx="0" cy="152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72320" y="3836880"/>
            <a:ext cx="431640" cy="349200"/>
          </a:xfrm>
          <a:custGeom>
            <a:avLst/>
            <a:gdLst/>
            <a:ahLst/>
            <a:rect l="l" t="t" r="r" b="b"/>
            <a:pathLst>
              <a:path w="264" h="188">
                <a:moveTo>
                  <a:pt x="264" y="0"/>
                </a:moveTo>
                <a:lnTo>
                  <a:pt x="0" y="0"/>
                </a:lnTo>
                <a:lnTo>
                  <a:pt x="0" y="188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67360" y="4067280"/>
            <a:ext cx="343080" cy="118800"/>
          </a:xfrm>
          <a:custGeom>
            <a:avLst/>
            <a:gdLst/>
            <a:ahLst/>
            <a:rect l="l" t="t" r="r" b="b"/>
            <a:pathLst>
              <a:path w="264" h="188">
                <a:moveTo>
                  <a:pt x="264" y="0"/>
                </a:moveTo>
                <a:lnTo>
                  <a:pt x="0" y="0"/>
                </a:lnTo>
                <a:lnTo>
                  <a:pt x="0" y="188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278400" y="4212720"/>
            <a:ext cx="300240" cy="86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7040520" y="4221000"/>
            <a:ext cx="177840" cy="214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38600" y="6431040"/>
            <a:ext cx="155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BM: Bending Mo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19480" y="2181240"/>
            <a:ext cx="1368360" cy="100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Femur (Flexi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cc33"/>
                </a:solidFill>
                <a:uFillTx/>
                <a:latin typeface="Tahoma"/>
              </a:rPr>
              <a:t>High Biofide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12920" y="2003400"/>
            <a:ext cx="65160" cy="1768680"/>
          </a:xfrm>
          <a:custGeom>
            <a:avLst/>
            <a:gdLst>
              <a:gd name="textAreaLeft" fmla="*/ 0 w 65160"/>
              <a:gd name="textAreaRight" fmla="*/ 23400 w 65160"/>
              <a:gd name="textAreaTop" fmla="*/ 46080 h 1768680"/>
              <a:gd name="textAreaBottom" fmla="*/ 1722600 h 17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3183"/>
                </a:lnTo>
                <a:cubicBezTo>
                  <a:pt x="10800" y="4083"/>
                  <a:pt x="16200" y="4983"/>
                  <a:pt x="21600" y="4983"/>
                </a:cubicBezTo>
                <a:cubicBezTo>
                  <a:pt x="16200" y="4983"/>
                  <a:pt x="10800" y="5883"/>
                  <a:pt x="10800" y="678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134316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89240" y="1571760"/>
            <a:ext cx="109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Main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10800" y="158904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Ex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37360" y="1698480"/>
            <a:ext cx="216000" cy="203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34280" y="1592280"/>
            <a:ext cx="161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Injury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05000" y="4843440"/>
            <a:ext cx="98640" cy="1930320"/>
          </a:xfrm>
          <a:custGeom>
            <a:avLst/>
            <a:gdLst>
              <a:gd name="textAreaLeft" fmla="*/ 0 w 98640"/>
              <a:gd name="textAreaRight" fmla="*/ 35640 w 98640"/>
              <a:gd name="textAreaTop" fmla="*/ 50040 h 1930320"/>
              <a:gd name="textAreaBottom" fmla="*/ 1880280 h 193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19480" y="4973760"/>
            <a:ext cx="1352520" cy="100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　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ibia (Flexi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cc33"/>
                </a:solidFill>
                <a:uFillTx/>
                <a:latin typeface="Tahoma"/>
              </a:rPr>
              <a:t>High Biofide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449600" y="4541760"/>
            <a:ext cx="1892520" cy="1898640"/>
            <a:chOff x="4449600" y="4541760"/>
            <a:chExt cx="1892520" cy="1898640"/>
          </a:xfrm>
        </p:grpSpPr>
        <p:pic>
          <p:nvPicPr>
            <p:cNvPr id="255" name="Picture 15" descr=""/>
            <p:cNvPicPr/>
            <p:nvPr/>
          </p:nvPicPr>
          <p:blipFill>
            <a:blip r:embed="rId3"/>
            <a:srcRect l="29631" t="15858" r="34500" b="51579"/>
            <a:stretch/>
          </p:blipFill>
          <p:spPr>
            <a:xfrm>
              <a:off x="4449600" y="5153040"/>
              <a:ext cx="189252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538520" y="4541760"/>
              <a:ext cx="1592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Real-worl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Accident Analysis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tte et al, 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0" y="3154320"/>
            <a:ext cx="1530360" cy="149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Knee (Ligaments restraint syst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cc33"/>
                </a:solidFill>
                <a:uFillTx/>
                <a:latin typeface="Tahoma"/>
              </a:rPr>
              <a:t>High Biofide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31800" y="3807000"/>
            <a:ext cx="90720" cy="936360"/>
          </a:xfrm>
          <a:custGeom>
            <a:avLst/>
            <a:gdLst>
              <a:gd name="textAreaLeft" fmla="*/ 57960 w 90720"/>
              <a:gd name="textAreaRight" fmla="*/ 91080 w 907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4"/>
                </a:lnTo>
                <a:cubicBezTo>
                  <a:pt x="10800" y="9534"/>
                  <a:pt x="5400" y="10434"/>
                  <a:pt x="0" y="10434"/>
                </a:cubicBezTo>
                <a:cubicBezTo>
                  <a:pt x="5400" y="10434"/>
                  <a:pt x="10800" y="11334"/>
                  <a:pt x="10800" y="1223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360" y="4836960"/>
            <a:ext cx="1595520" cy="2132280"/>
            <a:chOff x="9360" y="4836960"/>
            <a:chExt cx="1595520" cy="2132280"/>
          </a:xfrm>
        </p:grpSpPr>
        <p:pic>
          <p:nvPicPr>
            <p:cNvPr id="260" name="" descr=""/>
            <p:cNvPicPr/>
            <p:nvPr/>
          </p:nvPicPr>
          <p:blipFill>
            <a:blip r:embed="rId4"/>
            <a:srcRect l="12893" t="32108" r="13970" b="33928"/>
            <a:stretch/>
          </p:blipFill>
          <p:spPr>
            <a:xfrm>
              <a:off x="111240" y="4836960"/>
              <a:ext cx="140976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332000" y="5253120"/>
              <a:ext cx="180720" cy="255600"/>
            </a:xfrm>
            <a:custGeom>
              <a:avLst/>
              <a:gdLst/>
              <a:ahLst/>
              <a:rect l="l" t="t" r="r" b="b"/>
              <a:pathLst>
                <a:path w="105" h="207">
                  <a:moveTo>
                    <a:pt x="0" y="207"/>
                  </a:moveTo>
                  <a:lnTo>
                    <a:pt x="105" y="171"/>
                  </a:lnTo>
                  <a:lnTo>
                    <a:pt x="102" y="0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9400" y="5361120"/>
              <a:ext cx="195120" cy="152280"/>
            </a:xfrm>
            <a:custGeom>
              <a:avLst/>
              <a:gdLst/>
              <a:ahLst/>
              <a:rect l="l" t="t" r="r" b="b"/>
              <a:pathLst>
                <a:path w="159" h="123">
                  <a:moveTo>
                    <a:pt x="159" y="123"/>
                  </a:moveTo>
                  <a:lnTo>
                    <a:pt x="2" y="9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89160" y="5240160"/>
              <a:ext cx="31572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C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680" y="5256360"/>
              <a:ext cx="27792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LC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89000" y="5864400"/>
              <a:ext cx="27936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AC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2600" y="5896080"/>
              <a:ext cx="32400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PC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9480" y="5545080"/>
              <a:ext cx="87480" cy="330120"/>
            </a:xfrm>
            <a:custGeom>
              <a:avLst/>
              <a:gdLst/>
              <a:ahLst/>
              <a:rect l="l" t="t" r="r" b="b"/>
              <a:pathLst>
                <a:path w="72" h="267">
                  <a:moveTo>
                    <a:pt x="72" y="0"/>
                  </a:moveTo>
                  <a:lnTo>
                    <a:pt x="69" y="222"/>
                  </a:lnTo>
                  <a:lnTo>
                    <a:pt x="0" y="267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994680" y="5545080"/>
              <a:ext cx="88920" cy="330120"/>
            </a:xfrm>
            <a:custGeom>
              <a:avLst/>
              <a:gdLst/>
              <a:ahLst/>
              <a:rect l="l" t="t" r="r" b="b"/>
              <a:pathLst>
                <a:path w="72" h="267">
                  <a:moveTo>
                    <a:pt x="72" y="0"/>
                  </a:moveTo>
                  <a:lnTo>
                    <a:pt x="69" y="222"/>
                  </a:lnTo>
                  <a:lnTo>
                    <a:pt x="0" y="267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360" y="6324480"/>
              <a:ext cx="1592280" cy="6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MCL: Medial Collateral Liga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CL: Anterior Cruciate Liga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PCL: Posterior Cruciate Liga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CL: Lateral Collateral Liga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 flipH="1">
            <a:off x="4067280" y="2220840"/>
            <a:ext cx="442800" cy="13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89560" y="1521000"/>
            <a:ext cx="1887480" cy="1189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ff"/>
                </a:solidFill>
                <a:latin typeface="Tahoma"/>
              </a:rPr>
              <a:t>　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Fl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cc33"/>
                </a:solidFill>
                <a:uFillTx/>
                <a:latin typeface="Tahoma"/>
              </a:rPr>
              <a:t>Reu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cc33"/>
                </a:solidFill>
                <a:uFillTx/>
                <a:latin typeface="Tahoma"/>
              </a:rPr>
              <a:t>Low Sensitive to Temperature and Hum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489560" y="2770200"/>
            <a:ext cx="1338120" cy="1638360"/>
            <a:chOff x="4489560" y="2770200"/>
            <a:chExt cx="1338120" cy="1638360"/>
          </a:xfrm>
        </p:grpSpPr>
        <p:pic>
          <p:nvPicPr>
            <p:cNvPr id="273" name="Picture 4" descr=""/>
            <p:cNvPicPr/>
            <p:nvPr/>
          </p:nvPicPr>
          <p:blipFill>
            <a:blip r:embed="rId5"/>
            <a:stretch/>
          </p:blipFill>
          <p:spPr>
            <a:xfrm>
              <a:off x="4622760" y="2770200"/>
              <a:ext cx="120492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489560" y="4162320"/>
              <a:ext cx="119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ynthetic Rubb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915800" y="3890880"/>
              <a:ext cx="88920" cy="330120"/>
            </a:xfrm>
            <a:custGeom>
              <a:avLst/>
              <a:gdLst/>
              <a:ahLst/>
              <a:rect l="l" t="t" r="r" b="b"/>
              <a:pathLst>
                <a:path w="72" h="267">
                  <a:moveTo>
                    <a:pt x="72" y="0"/>
                  </a:moveTo>
                  <a:lnTo>
                    <a:pt x="69" y="222"/>
                  </a:lnTo>
                  <a:lnTo>
                    <a:pt x="0" y="267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4"/>
          <p:cNvSpPr/>
          <p:nvPr/>
        </p:nvSpPr>
        <p:spPr>
          <a:xfrm>
            <a:off x="91800" y="260280"/>
            <a:ext cx="56869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Specifications of Flex-GTR-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654200" y="1881360"/>
            <a:ext cx="550800" cy="49734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851040"/>
            <a:ext cx="9144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in Achievements: (1)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High biofidelit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and (2)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Multiple Measurement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258-32C6-4767-8BA4-A8C46E0325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469800" y="1168560"/>
            <a:ext cx="8425080" cy="344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lex-GTR had been developed </a:t>
            </a: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ased on the discussions with the Flex-TEG memb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etailed inform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</a:t>
            </a: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iscussions and achieveme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Flex-TEG regar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Biofide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Performance/Injury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Du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Reproducibility and Repea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Vehicle Counter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f Flex-PLI are provided by another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0" y="-554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2. History of Flex-PLI Development (Overview), con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DBF-CD2A-48ED-A69D-C24A724538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957960" y="2868480"/>
            <a:ext cx="72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Arial"/>
              </a:rPr>
              <a:t>Thank you for your atten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B6F-82AB-42E4-8D25-61E9349B8D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95200" y="1179360"/>
            <a:ext cx="884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1. Back 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2. History of Flex-PLI Development (Overvie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2631960" y="130320"/>
            <a:ext cx="42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4F4A-00D5-421B-8A9F-6470C63D5E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421000" y="2668680"/>
            <a:ext cx="42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1. Back 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7B6-06EF-4E80-9FD1-4C1FAE96FB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766520" y="665280"/>
            <a:ext cx="5684040" cy="764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- Pedestrian Injured Body Region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SA, Germany, Japan, and Australia : All Age Groups : AIS 2-6)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2421000" y="-7920"/>
            <a:ext cx="42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. Back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2480" y="1631880"/>
            <a:ext cx="7913880" cy="310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87520" y="2116080"/>
            <a:ext cx="7894440" cy="249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1040" y="3746520"/>
            <a:ext cx="7923240" cy="21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60520" y="4505400"/>
            <a:ext cx="3975120" cy="2098080"/>
            <a:chOff x="560520" y="4505400"/>
            <a:chExt cx="3975120" cy="2098080"/>
          </a:xfrm>
        </p:grpSpPr>
        <p:sp>
          <p:nvSpPr>
            <p:cNvPr id="53" name=""/>
            <p:cNvSpPr/>
            <p:nvPr/>
          </p:nvSpPr>
          <p:spPr>
            <a:xfrm>
              <a:off x="1582560" y="4505400"/>
              <a:ext cx="29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3333ff"/>
                  </a:solidFill>
                  <a:uFillTx/>
                  <a:latin typeface="Arial"/>
                </a:rPr>
                <a:t>Head Protection Test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560520" y="4590720"/>
              <a:ext cx="3395520" cy="2012760"/>
              <a:chOff x="560520" y="4590720"/>
              <a:chExt cx="3395520" cy="2012760"/>
            </a:xfrm>
          </p:grpSpPr>
          <p:pic>
            <p:nvPicPr>
              <p:cNvPr id="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4590720"/>
                <a:ext cx="826920" cy="201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158920" y="5157360"/>
                <a:ext cx="1797120" cy="128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389240" y="5351040"/>
                <a:ext cx="717480" cy="12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"/>
            <p:cNvGrpSpPr/>
            <p:nvPr/>
          </p:nvGrpSpPr>
          <p:grpSpPr>
            <a:xfrm>
              <a:off x="631800" y="4514760"/>
              <a:ext cx="2162160" cy="1296360"/>
              <a:chOff x="631800" y="4514760"/>
              <a:chExt cx="2162160" cy="1296360"/>
            </a:xfrm>
          </p:grpSpPr>
          <p:sp>
            <p:nvSpPr>
              <p:cNvPr id="59" name=""/>
              <p:cNvSpPr/>
              <p:nvPr/>
            </p:nvSpPr>
            <p:spPr>
              <a:xfrm>
                <a:off x="631800" y="4514760"/>
                <a:ext cx="647640" cy="647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82560" y="5274720"/>
                <a:ext cx="536760" cy="5364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290600" y="4836600"/>
                <a:ext cx="1503360" cy="759960"/>
              </a:xfrm>
              <a:custGeom>
                <a:avLst/>
                <a:gdLst/>
                <a:ahLst/>
                <a:rect l="l" t="t" r="r" b="b"/>
                <a:pathLst>
                  <a:path w="947" h="479">
                    <a:moveTo>
                      <a:pt x="0" y="0"/>
                    </a:moveTo>
                    <a:lnTo>
                      <a:pt x="791" y="194"/>
                    </a:lnTo>
                    <a:lnTo>
                      <a:pt x="947" y="479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154240" y="5536800"/>
                <a:ext cx="366840" cy="204120"/>
              </a:xfrm>
              <a:custGeom>
                <a:avLst/>
                <a:gdLst/>
                <a:ahLst/>
                <a:rect l="l" t="t" r="r" b="b"/>
                <a:pathLst>
                  <a:path w="231" h="129">
                    <a:moveTo>
                      <a:pt x="0" y="0"/>
                    </a:moveTo>
                    <a:lnTo>
                      <a:pt x="172" y="49"/>
                    </a:lnTo>
                    <a:lnTo>
                      <a:pt x="231" y="129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4807080" y="4603680"/>
            <a:ext cx="3841560" cy="2008080"/>
            <a:chOff x="4807080" y="4603680"/>
            <a:chExt cx="3841560" cy="2008080"/>
          </a:xfrm>
        </p:grpSpPr>
        <p:grpSp>
          <p:nvGrpSpPr>
            <p:cNvPr id="64" name=""/>
            <p:cNvGrpSpPr/>
            <p:nvPr/>
          </p:nvGrpSpPr>
          <p:grpSpPr>
            <a:xfrm>
              <a:off x="4807080" y="4603680"/>
              <a:ext cx="3841560" cy="1966680"/>
              <a:chOff x="4807080" y="4603680"/>
              <a:chExt cx="3841560" cy="1966680"/>
            </a:xfrm>
          </p:grpSpPr>
          <p:pic>
            <p:nvPicPr>
              <p:cNvPr id="6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807080" y="4603680"/>
                <a:ext cx="828720" cy="19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888160" y="5178240"/>
                <a:ext cx="173340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5694480" y="4775040"/>
                <a:ext cx="295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3333ff"/>
                    </a:solidFill>
                    <a:uFillTx/>
                    <a:latin typeface="Arial"/>
                  </a:rPr>
                  <a:t>Lower Limb Protection Te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157720" y="5611680"/>
              <a:ext cx="662040" cy="1000080"/>
              <a:chOff x="5157720" y="5611680"/>
              <a:chExt cx="662040" cy="1000080"/>
            </a:xfrm>
          </p:grpSpPr>
          <p:sp>
            <p:nvSpPr>
              <p:cNvPr id="69" name=""/>
              <p:cNvSpPr/>
              <p:nvPr/>
            </p:nvSpPr>
            <p:spPr>
              <a:xfrm>
                <a:off x="5157720" y="5611680"/>
                <a:ext cx="298440" cy="10000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529240" y="6136920"/>
                <a:ext cx="2905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13A-381E-4723-A5C7-973BF78782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29480" y="609480"/>
            <a:ext cx="7942320" cy="67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- Lower Limb Injured Parts and Contact Location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USA, Germany, Japan, and Australia : Pedestrian Lower Limb : AIS 2-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1582560" y="-7920"/>
            <a:ext cx="63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. Back ground, con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28760" y="1525680"/>
            <a:ext cx="7400880" cy="4746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26498" r="0" b="0"/>
          <a:stretch/>
        </p:blipFill>
        <p:spPr>
          <a:xfrm>
            <a:off x="8001000" y="1447920"/>
            <a:ext cx="1143000" cy="473868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5962680" y="1895400"/>
            <a:ext cx="3084480" cy="3574800"/>
            <a:chOff x="5962680" y="1895400"/>
            <a:chExt cx="3084480" cy="3574800"/>
          </a:xfrm>
        </p:grpSpPr>
        <p:sp>
          <p:nvSpPr>
            <p:cNvPr id="76" name=""/>
            <p:cNvSpPr/>
            <p:nvPr/>
          </p:nvSpPr>
          <p:spPr>
            <a:xfrm>
              <a:off x="5962680" y="1895400"/>
              <a:ext cx="900000" cy="5536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3920" y="2462400"/>
              <a:ext cx="1324080" cy="1910160"/>
            </a:xfrm>
            <a:custGeom>
              <a:avLst/>
              <a:gdLst/>
              <a:ahLst/>
              <a:rect l="l" t="t" r="r" b="b"/>
              <a:pathLst>
                <a:path w="813" h="1103">
                  <a:moveTo>
                    <a:pt x="0" y="0"/>
                  </a:moveTo>
                  <a:lnTo>
                    <a:pt x="0" y="1103"/>
                  </a:lnTo>
                  <a:lnTo>
                    <a:pt x="813" y="11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39160" y="3542040"/>
              <a:ext cx="1008000" cy="1928160"/>
            </a:xfrm>
            <a:custGeom>
              <a:avLst/>
              <a:gdLst>
                <a:gd name="textAreaLeft" fmla="*/ 48960 w 1008000"/>
                <a:gd name="textAreaRight" fmla="*/ 959040 w 1008000"/>
                <a:gd name="textAreaTop" fmla="*/ 48960 h 1928160"/>
                <a:gd name="textAreaBottom" fmla="*/ 1879200 h 1928160"/>
              </a:gdLst>
              <a:ahLst/>
              <a:rect l="textAreaLeft" t="textAreaTop" r="textAreaRight" b="textAreaBottom"/>
              <a:pathLst>
                <a:path w="21600" h="41311">
                  <a:moveTo>
                    <a:pt x="3600" y="0"/>
                  </a:moveTo>
                  <a:arcTo wR="3600" hR="3600" stAng="16200000" swAng="-5400000"/>
                  <a:lnTo>
                    <a:pt x="0" y="37711"/>
                  </a:lnTo>
                  <a:arcTo wR="3600" hR="3600" stAng="10800000" swAng="-5400000"/>
                  <a:lnTo>
                    <a:pt x="18000" y="41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998960" y="1909800"/>
            <a:ext cx="4048200" cy="1528200"/>
            <a:chOff x="4998960" y="1909800"/>
            <a:chExt cx="4048200" cy="1528200"/>
          </a:xfrm>
        </p:grpSpPr>
        <p:sp>
          <p:nvSpPr>
            <p:cNvPr id="80" name=""/>
            <p:cNvSpPr/>
            <p:nvPr/>
          </p:nvSpPr>
          <p:spPr>
            <a:xfrm>
              <a:off x="4998960" y="1909800"/>
              <a:ext cx="947880" cy="536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81600" y="2459880"/>
              <a:ext cx="2247840" cy="631080"/>
            </a:xfrm>
            <a:custGeom>
              <a:avLst/>
              <a:gdLst/>
              <a:ahLst/>
              <a:rect l="l" t="t" r="r" b="b"/>
              <a:pathLst>
                <a:path w="1373" h="291">
                  <a:moveTo>
                    <a:pt x="0" y="0"/>
                  </a:moveTo>
                  <a:lnTo>
                    <a:pt x="0" y="291"/>
                  </a:lnTo>
                  <a:lnTo>
                    <a:pt x="1373" y="291"/>
                  </a:lnTo>
                </a:path>
              </a:pathLst>
            </a:custGeom>
            <a:noFill/>
            <a:ln w="2844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39160" y="2780640"/>
              <a:ext cx="1008000" cy="657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D8A-5B5F-4850-8143-30CE4C2125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927000" y="506520"/>
            <a:ext cx="69501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- EEVC Pedestrian Lower Legform Impactor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582560" y="-79200"/>
            <a:ext cx="63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. Back ground, con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11480" y="138744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16951" t="10168" r="69263" b="809"/>
          <a:stretch/>
        </p:blipFill>
        <p:spPr>
          <a:xfrm>
            <a:off x="1441440" y="1922400"/>
            <a:ext cx="817560" cy="4907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01760" y="161136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Main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014560" y="2004840"/>
            <a:ext cx="1547640" cy="1728720"/>
            <a:chOff x="2014560" y="2004840"/>
            <a:chExt cx="1547640" cy="1728720"/>
          </a:xfrm>
        </p:grpSpPr>
        <p:sp>
          <p:nvSpPr>
            <p:cNvPr id="89" name=""/>
            <p:cNvSpPr/>
            <p:nvPr/>
          </p:nvSpPr>
          <p:spPr>
            <a:xfrm>
              <a:off x="2014560" y="2004840"/>
              <a:ext cx="74520" cy="1728720"/>
            </a:xfrm>
            <a:custGeom>
              <a:avLst/>
              <a:gdLst>
                <a:gd name="textAreaLeft" fmla="*/ 0 w 74520"/>
                <a:gd name="textAreaRight" fmla="*/ 27000 w 7452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5836"/>
                  </a:lnTo>
                  <a:cubicBezTo>
                    <a:pt x="10800" y="6736"/>
                    <a:pt x="16200" y="7636"/>
                    <a:pt x="21600" y="7636"/>
                  </a:cubicBezTo>
                  <a:cubicBezTo>
                    <a:pt x="16200" y="7636"/>
                    <a:pt x="10800" y="8536"/>
                    <a:pt x="10800" y="9436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57480" y="2253960"/>
              <a:ext cx="1404720" cy="100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ff"/>
                  </a:solidFill>
                  <a:latin typeface="Tahoma"/>
                </a:rPr>
                <a:t>　</a:t>
              </a:r>
              <a:r>
                <a:rPr b="1" lang="en-US" sz="1600" spc="-1" strike="noStrike" u="sng">
                  <a:solidFill>
                    <a:srgbClr val="0000ff"/>
                  </a:solidFill>
                  <a:uFillTx/>
                  <a:latin typeface="Tahoma"/>
                </a:rPr>
                <a:t>Femur (Rigi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</a:t>
              </a: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ahoma"/>
                </a:rPr>
                <a:t>Low Biofideli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976400" y="4451400"/>
            <a:ext cx="1542960" cy="2176560"/>
            <a:chOff x="1976400" y="4451400"/>
            <a:chExt cx="1542960" cy="2176560"/>
          </a:xfrm>
        </p:grpSpPr>
        <p:sp>
          <p:nvSpPr>
            <p:cNvPr id="92" name=""/>
            <p:cNvSpPr/>
            <p:nvPr/>
          </p:nvSpPr>
          <p:spPr>
            <a:xfrm>
              <a:off x="1976400" y="4451400"/>
              <a:ext cx="73080" cy="217656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56520 h 2176560"/>
                <a:gd name="textAreaBottom" fmla="*/ 2120040 h 217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078"/>
                  </a:lnTo>
                  <a:cubicBezTo>
                    <a:pt x="10800" y="8978"/>
                    <a:pt x="16200" y="9878"/>
                    <a:pt x="21600" y="9878"/>
                  </a:cubicBezTo>
                  <a:cubicBezTo>
                    <a:pt x="16200" y="9878"/>
                    <a:pt x="10800" y="10778"/>
                    <a:pt x="10800" y="1167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14640" y="5049720"/>
              <a:ext cx="1404720" cy="100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ff"/>
                  </a:solidFill>
                  <a:latin typeface="Tahoma"/>
                </a:rPr>
                <a:t>　</a:t>
              </a:r>
              <a:r>
                <a:rPr b="1" lang="en-US" sz="1600" spc="-1" strike="noStrike" u="sng">
                  <a:solidFill>
                    <a:srgbClr val="0000ff"/>
                  </a:solidFill>
                  <a:uFillTx/>
                  <a:latin typeface="Tahoma"/>
                </a:rPr>
                <a:t>Tibia (Rigi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</a:t>
              </a: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ahoma"/>
                </a:rPr>
                <a:t>Low Biofideli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rcRect l="14031" t="6085" r="2764" b="1149"/>
          <a:stretch/>
        </p:blipFill>
        <p:spPr>
          <a:xfrm>
            <a:off x="3651120" y="1903320"/>
            <a:ext cx="911520" cy="4926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39160" y="161136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Ex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rcRect l="16951" t="10168" r="69263" b="1294"/>
          <a:stretch/>
        </p:blipFill>
        <p:spPr>
          <a:xfrm>
            <a:off x="6275520" y="1878120"/>
            <a:ext cx="817560" cy="4879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231320" y="3560760"/>
            <a:ext cx="9500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Knee Shearing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splac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24840" y="3929040"/>
            <a:ext cx="100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Knee Bending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64600" y="4435560"/>
            <a:ext cx="29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64 m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450640" y="4030560"/>
            <a:ext cx="61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Knee c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23120" y="4165560"/>
            <a:ext cx="76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543360" y="3656160"/>
            <a:ext cx="638280" cy="25380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34840" y="4222800"/>
            <a:ext cx="97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Upper Tib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ccel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673320" y="4389480"/>
            <a:ext cx="490680" cy="17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75680" y="441648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605800" y="4229280"/>
            <a:ext cx="0" cy="16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528960" y="4041720"/>
            <a:ext cx="647640" cy="6984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94280" y="1387440"/>
            <a:ext cx="187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nstr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45280" y="5361120"/>
            <a:ext cx="1927440" cy="733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ff"/>
                </a:solidFill>
                <a:uFillTx/>
                <a:latin typeface="Tahoma"/>
              </a:rPr>
              <a:t>Tibia Middle/L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Tahoma"/>
              </a:rPr>
              <a:t>No measurement 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84880" y="4587840"/>
            <a:ext cx="530280" cy="1932120"/>
          </a:xfrm>
          <a:custGeom>
            <a:avLst/>
            <a:gdLst>
              <a:gd name="textAreaLeft" fmla="*/ 25560 w 530280"/>
              <a:gd name="textAreaRight" fmla="*/ 504720 w 530280"/>
              <a:gd name="textAreaTop" fmla="*/ 25560 h 1932120"/>
              <a:gd name="textAreaBottom" fmla="*/ 1906560 h 1932120"/>
            </a:gdLst>
            <a:ahLst/>
            <a:rect l="textAreaLeft" t="textAreaTop" r="textAreaRight" b="textAreaBottom"/>
            <a:pathLst>
              <a:path w="21600" h="78663">
                <a:moveTo>
                  <a:pt x="3600" y="0"/>
                </a:moveTo>
                <a:arcTo wR="3600" hR="3600" stAng="16200000" swAng="-5400000"/>
                <a:lnTo>
                  <a:pt x="0" y="75063"/>
                </a:lnTo>
                <a:arcTo wR="3600" hR="3600" stAng="10800000" swAng="-5400000"/>
                <a:lnTo>
                  <a:pt x="18000" y="78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840360" y="5519880"/>
            <a:ext cx="300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45200" y="3516480"/>
            <a:ext cx="1217880" cy="1106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53200" y="1924200"/>
            <a:ext cx="216000" cy="203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73880" y="188928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Injury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194000" y="1681200"/>
            <a:ext cx="2017800" cy="2557800"/>
            <a:chOff x="4194000" y="1681200"/>
            <a:chExt cx="2017800" cy="2557800"/>
          </a:xfrm>
        </p:grpSpPr>
        <p:grpSp>
          <p:nvGrpSpPr>
            <p:cNvPr id="116" name=""/>
            <p:cNvGrpSpPr/>
            <p:nvPr/>
          </p:nvGrpSpPr>
          <p:grpSpPr>
            <a:xfrm>
              <a:off x="4194000" y="1681200"/>
              <a:ext cx="2017800" cy="1402920"/>
              <a:chOff x="4194000" y="1681200"/>
              <a:chExt cx="2017800" cy="140292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4194000" y="2171880"/>
                <a:ext cx="331920" cy="98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83080" y="1681200"/>
                <a:ext cx="1728720" cy="1402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9280" indent="-1792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ff"/>
                    </a:solidFill>
                    <a:latin typeface="Tahoma"/>
                  </a:rPr>
                  <a:t>　</a:t>
                </a:r>
                <a:r>
                  <a:rPr b="1" lang="en-US" sz="1600" spc="-1" strike="noStrike" u="sng">
                    <a:solidFill>
                      <a:srgbClr val="0000ff"/>
                    </a:solidFill>
                    <a:uFillTx/>
                    <a:latin typeface="Tahoma"/>
                  </a:rPr>
                  <a:t>Fles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9280" indent="-1792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Wingdings 2"/>
                    <a:ea typeface="Wingdings 2"/>
                  </a:rPr>
                  <a:t>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en-US" sz="1400" spc="-1" strike="noStrike" u="sng">
                    <a:solidFill>
                      <a:srgbClr val="ff0000"/>
                    </a:solidFill>
                    <a:uFillTx/>
                    <a:latin typeface="Tahoma"/>
                  </a:rPr>
                  <a:t>Disposable Flesh Foa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9280" indent="-1792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Wingdings 2"/>
                    <a:ea typeface="Wingdings 2"/>
                  </a:rPr>
                  <a:t>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en-US" sz="1400" spc="-1" strike="noStrike" u="sng">
                    <a:solidFill>
                      <a:srgbClr val="ff0000"/>
                    </a:solidFill>
                    <a:uFillTx/>
                    <a:latin typeface="Tahoma"/>
                  </a:rPr>
                  <a:t>Sensitive to Temperature and Humid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569120" y="3113280"/>
              <a:ext cx="1601640" cy="1125720"/>
              <a:chOff x="4569120" y="3113280"/>
              <a:chExt cx="1601640" cy="112572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4569120" y="3113280"/>
                <a:ext cx="1601640" cy="1125720"/>
                <a:chOff x="4569120" y="3113280"/>
                <a:chExt cx="1601640" cy="1125720"/>
              </a:xfrm>
            </p:grpSpPr>
            <p:pic>
              <p:nvPicPr>
                <p:cNvPr id="121" name="Picture 3" descr="LG_FLD"/>
                <p:cNvPicPr/>
                <p:nvPr/>
              </p:nvPicPr>
              <p:blipFill>
                <a:blip r:embed="rId4"/>
                <a:srcRect l="3152" t="0" r="0" b="0"/>
                <a:stretch/>
              </p:blipFill>
              <p:spPr>
                <a:xfrm>
                  <a:off x="4608360" y="3113280"/>
                  <a:ext cx="1562400" cy="10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"/>
                <p:cNvSpPr/>
                <p:nvPr/>
              </p:nvSpPr>
              <p:spPr>
                <a:xfrm>
                  <a:off x="4569120" y="3992760"/>
                  <a:ext cx="1060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ahoma"/>
                    </a:rPr>
                    <a:t>Confor Foam</a:t>
                  </a:r>
                  <a:r>
                    <a:rPr b="0" lang="en-US" sz="1000" spc="-1" strike="noStrike" baseline="30000">
                      <a:solidFill>
                        <a:srgbClr val="000000"/>
                      </a:solidFill>
                      <a:latin typeface="Tahoma"/>
                    </a:rPr>
                    <a:t>TM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 flipH="1">
                <a:off x="4857840" y="3648240"/>
                <a:ext cx="87120" cy="374400"/>
              </a:xfrm>
              <a:custGeom>
                <a:avLst/>
                <a:gdLst/>
                <a:ahLst/>
                <a:rect l="l" t="t" r="r" b="b"/>
                <a:pathLst>
                  <a:path w="72" h="267">
                    <a:moveTo>
                      <a:pt x="72" y="0"/>
                    </a:moveTo>
                    <a:lnTo>
                      <a:pt x="69" y="222"/>
                    </a:lnTo>
                    <a:lnTo>
                      <a:pt x="0" y="267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7920" y="3522600"/>
            <a:ext cx="1422360" cy="1054080"/>
            <a:chOff x="7920" y="3522600"/>
            <a:chExt cx="1422360" cy="1054080"/>
          </a:xfrm>
        </p:grpSpPr>
        <p:sp>
          <p:nvSpPr>
            <p:cNvPr id="125" name=""/>
            <p:cNvSpPr/>
            <p:nvPr/>
          </p:nvSpPr>
          <p:spPr>
            <a:xfrm>
              <a:off x="1347840" y="3639960"/>
              <a:ext cx="82440" cy="936720"/>
            </a:xfrm>
            <a:custGeom>
              <a:avLst/>
              <a:gdLst>
                <a:gd name="textAreaLeft" fmla="*/ 52560 w 82440"/>
                <a:gd name="textAreaRight" fmla="*/ 82800 w 824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63"/>
                  </a:lnTo>
                  <a:cubicBezTo>
                    <a:pt x="10800" y="9863"/>
                    <a:pt x="5400" y="10763"/>
                    <a:pt x="0" y="10763"/>
                  </a:cubicBezTo>
                  <a:cubicBezTo>
                    <a:pt x="5400" y="10763"/>
                    <a:pt x="10800" y="11663"/>
                    <a:pt x="10800" y="1256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20" y="3522600"/>
              <a:ext cx="1300320" cy="100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ff"/>
                  </a:solidFill>
                  <a:latin typeface="Tahoma"/>
                </a:rPr>
                <a:t>  </a:t>
              </a:r>
              <a:r>
                <a:rPr b="1" lang="en-US" sz="1600" spc="-1" strike="noStrike" u="sng">
                  <a:solidFill>
                    <a:srgbClr val="0000ff"/>
                  </a:solidFill>
                  <a:uFillTx/>
                  <a:latin typeface="Tahoma"/>
                </a:rPr>
                <a:t>Knee (Har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</a:t>
              </a: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ahoma"/>
                </a:rPr>
                <a:t>Low Biofide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1680" y="4638600"/>
            <a:ext cx="1469160" cy="1120680"/>
            <a:chOff x="31680" y="4638600"/>
            <a:chExt cx="1469160" cy="1120680"/>
          </a:xfrm>
        </p:grpSpPr>
        <p:pic>
          <p:nvPicPr>
            <p:cNvPr id="128" name="Picture 5" descr="LG_BL"/>
            <p:cNvPicPr/>
            <p:nvPr/>
          </p:nvPicPr>
          <p:blipFill>
            <a:blip r:embed="rId5"/>
            <a:srcRect l="0" t="7508" r="0" b="15974"/>
            <a:stretch/>
          </p:blipFill>
          <p:spPr>
            <a:xfrm>
              <a:off x="31680" y="4638600"/>
              <a:ext cx="12081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66120" y="5360760"/>
              <a:ext cx="113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Knee Liga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(Steel plat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81960" y="4978080"/>
              <a:ext cx="106200" cy="441360"/>
            </a:xfrm>
            <a:custGeom>
              <a:avLst/>
              <a:gdLst/>
              <a:ahLst/>
              <a:rect l="l" t="t" r="r" b="b"/>
              <a:pathLst>
                <a:path w="72" h="267">
                  <a:moveTo>
                    <a:pt x="72" y="0"/>
                  </a:moveTo>
                  <a:lnTo>
                    <a:pt x="69" y="222"/>
                  </a:lnTo>
                  <a:lnTo>
                    <a:pt x="0" y="267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346640" y="4573440"/>
            <a:ext cx="1892160" cy="1898640"/>
            <a:chOff x="4346640" y="4573440"/>
            <a:chExt cx="1892160" cy="1898640"/>
          </a:xfrm>
        </p:grpSpPr>
        <p:pic>
          <p:nvPicPr>
            <p:cNvPr id="132" name="Picture 15" descr=""/>
            <p:cNvPicPr/>
            <p:nvPr/>
          </p:nvPicPr>
          <p:blipFill>
            <a:blip r:embed="rId6"/>
            <a:srcRect l="29631" t="15858" r="34500" b="51579"/>
            <a:stretch/>
          </p:blipFill>
          <p:spPr>
            <a:xfrm>
              <a:off x="4346640" y="5184720"/>
              <a:ext cx="189216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435200" y="4573440"/>
              <a:ext cx="1591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Real-worl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ahoma"/>
                </a:rPr>
                <a:t>Accident Analysis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tte et al, 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5160" y="1001880"/>
            <a:ext cx="89787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 Concerns: (1)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Low biofide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(2)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Insufficient Measurement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78A-1386-4BDF-A31B-A13780AC38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97000" y="2590920"/>
            <a:ext cx="869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2. History of Flex-PLI Development (Overvie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D6B-6620-4E47-A46E-0A51DD7252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4320" y="1193760"/>
            <a:ext cx="881676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The Japan Automobile Research Institute (JARI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the Japan Automobile Manufacturers Association, Inc. (JAMA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itiated the development regarding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a biofidelic flexible pedestrian legform impactor (Flex-PLI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2002, its first version,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Flex-PLI 200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s mad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impactor has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Flexible Long bones (Femur/Tibia)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knee ligament restraint syste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ike human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ides, the impactor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s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an capability to measure bending moment at multiple locations at Tibia and Femu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5240" y="3798720"/>
            <a:ext cx="18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lex-PLI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54080" y="3855960"/>
            <a:ext cx="741600" cy="28018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479680" y="3956040"/>
            <a:ext cx="1949040" cy="1372680"/>
            <a:chOff x="2479680" y="3956040"/>
            <a:chExt cx="1949040" cy="13726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rcRect l="0" t="10469" r="1357" b="16170"/>
            <a:stretch/>
          </p:blipFill>
          <p:spPr>
            <a:xfrm>
              <a:off x="2736360" y="4332960"/>
              <a:ext cx="1692360" cy="9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92880" y="3956040"/>
              <a:ext cx="590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Tahoma"/>
                </a:rPr>
                <a:t>Fem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Flexi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79680" y="4016160"/>
              <a:ext cx="100080" cy="1013760"/>
            </a:xfrm>
            <a:custGeom>
              <a:avLst/>
              <a:gdLst>
                <a:gd name="textAreaLeft" fmla="*/ 0 w 100080"/>
                <a:gd name="textAreaRight" fmla="*/ 36000 w 100080"/>
                <a:gd name="textAreaTop" fmla="*/ 26280 h 1013760"/>
                <a:gd name="textAreaBottom" fmla="*/ 987480 h 101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800"/>
                  </a:lnTo>
                  <a:cubicBezTo>
                    <a:pt x="10800" y="2700"/>
                    <a:pt x="16200" y="3600"/>
                    <a:pt x="21600" y="3600"/>
                  </a:cubicBezTo>
                  <a:cubicBezTo>
                    <a:pt x="16200" y="3600"/>
                    <a:pt x="10800" y="4500"/>
                    <a:pt x="10800" y="54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00200" y="5356080"/>
            <a:ext cx="1882440" cy="1309320"/>
            <a:chOff x="2500200" y="5356080"/>
            <a:chExt cx="1882440" cy="130932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rcRect l="0" t="8942" r="1692" b="18287"/>
            <a:stretch/>
          </p:blipFill>
          <p:spPr>
            <a:xfrm>
              <a:off x="2746800" y="5741280"/>
              <a:ext cx="163584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500200" y="5369040"/>
              <a:ext cx="93240" cy="1107720"/>
            </a:xfrm>
            <a:custGeom>
              <a:avLst/>
              <a:gdLst>
                <a:gd name="textAreaLeft" fmla="*/ 0 w 93240"/>
                <a:gd name="textAreaRight" fmla="*/ 33480 w 93240"/>
                <a:gd name="textAreaTop" fmla="*/ 28800 h 1107720"/>
                <a:gd name="textAreaBottom" fmla="*/ 1078920 h 110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800"/>
                  </a:lnTo>
                  <a:cubicBezTo>
                    <a:pt x="10800" y="2700"/>
                    <a:pt x="16200" y="3600"/>
                    <a:pt x="21600" y="3600"/>
                  </a:cubicBezTo>
                  <a:cubicBezTo>
                    <a:pt x="16200" y="3600"/>
                    <a:pt x="10800" y="4500"/>
                    <a:pt x="10800" y="54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93240" y="5356080"/>
              <a:ext cx="590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Tahoma"/>
                </a:rPr>
                <a:t>Ti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Flexi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33640" y="4133880"/>
            <a:ext cx="2002680" cy="1947600"/>
            <a:chOff x="233640" y="4133880"/>
            <a:chExt cx="2002680" cy="194760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565920" y="4715640"/>
              <a:ext cx="1275120" cy="136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flipH="1" flipV="1">
              <a:off x="1849320" y="4750560"/>
              <a:ext cx="351720" cy="288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859760" y="5434560"/>
              <a:ext cx="376560" cy="596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7840" y="4996080"/>
              <a:ext cx="2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Kne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9480" y="5121000"/>
              <a:ext cx="30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spr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760" y="5054400"/>
              <a:ext cx="131400" cy="45000"/>
            </a:xfrm>
            <a:custGeom>
              <a:avLst/>
              <a:gdLst/>
              <a:ahLst/>
              <a:rect l="l" t="t" r="r" b="b"/>
              <a:pathLst>
                <a:path w="238" h="82">
                  <a:moveTo>
                    <a:pt x="0" y="67"/>
                  </a:moveTo>
                  <a:lnTo>
                    <a:pt x="186" y="20"/>
                  </a:lnTo>
                  <a:lnTo>
                    <a:pt x="189" y="35"/>
                  </a:lnTo>
                  <a:lnTo>
                    <a:pt x="4" y="82"/>
                  </a:lnTo>
                  <a:lnTo>
                    <a:pt x="0" y="67"/>
                  </a:lnTo>
                  <a:close/>
                  <a:moveTo>
                    <a:pt x="171" y="0"/>
                  </a:moveTo>
                  <a:lnTo>
                    <a:pt x="238" y="15"/>
                  </a:lnTo>
                  <a:lnTo>
                    <a:pt x="186" y="6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6240" y="5588280"/>
              <a:ext cx="26748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Kne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3640" y="5712840"/>
              <a:ext cx="47484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ligam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920" y="5357880"/>
              <a:ext cx="88200" cy="233280"/>
            </a:xfrm>
            <a:custGeom>
              <a:avLst/>
              <a:gdLst/>
              <a:ahLst/>
              <a:rect l="l" t="t" r="r" b="b"/>
              <a:pathLst>
                <a:path w="361" h="418">
                  <a:moveTo>
                    <a:pt x="0" y="408"/>
                  </a:moveTo>
                  <a:lnTo>
                    <a:pt x="321" y="35"/>
                  </a:lnTo>
                  <a:lnTo>
                    <a:pt x="334" y="45"/>
                  </a:lnTo>
                  <a:lnTo>
                    <a:pt x="12" y="418"/>
                  </a:lnTo>
                  <a:lnTo>
                    <a:pt x="0" y="408"/>
                  </a:lnTo>
                  <a:close/>
                  <a:moveTo>
                    <a:pt x="296" y="27"/>
                  </a:moveTo>
                  <a:lnTo>
                    <a:pt x="361" y="0"/>
                  </a:lnTo>
                  <a:lnTo>
                    <a:pt x="344" y="67"/>
                  </a:lnTo>
                  <a:lnTo>
                    <a:pt x="29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5880" y="5292720"/>
              <a:ext cx="455040" cy="298080"/>
            </a:xfrm>
            <a:custGeom>
              <a:avLst/>
              <a:gdLst/>
              <a:ahLst/>
              <a:rect l="l" t="t" r="r" b="b"/>
              <a:pathLst>
                <a:path w="1009" h="539">
                  <a:moveTo>
                    <a:pt x="0" y="526"/>
                  </a:moveTo>
                  <a:lnTo>
                    <a:pt x="959" y="17"/>
                  </a:lnTo>
                  <a:lnTo>
                    <a:pt x="967" y="31"/>
                  </a:lnTo>
                  <a:lnTo>
                    <a:pt x="7" y="539"/>
                  </a:lnTo>
                  <a:lnTo>
                    <a:pt x="0" y="526"/>
                  </a:lnTo>
                  <a:close/>
                  <a:moveTo>
                    <a:pt x="939" y="1"/>
                  </a:moveTo>
                  <a:lnTo>
                    <a:pt x="1009" y="0"/>
                  </a:lnTo>
                  <a:lnTo>
                    <a:pt x="968" y="57"/>
                  </a:lnTo>
                  <a:lnTo>
                    <a:pt x="93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8960" y="4133880"/>
              <a:ext cx="15123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Tahoma"/>
                </a:rPr>
                <a:t>Kn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Ligament Restrai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2"/>
          <p:cNvSpPr/>
          <p:nvPr/>
        </p:nvSpPr>
        <p:spPr>
          <a:xfrm>
            <a:off x="0" y="-554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2. History of Flex-PLI Development (Overview), con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51280" y="5513400"/>
            <a:ext cx="3909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easurement cable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 measure bending moment at multiple locations at tibia and fem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081320" y="5348160"/>
            <a:ext cx="635040" cy="2462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106520" y="5843520"/>
            <a:ext cx="601560" cy="754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F09-4AA6-4435-8DAC-9FDCE0F041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7840" y="1019160"/>
            <a:ext cx="8862840" cy="3111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the Flex-PLI 2002 development,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several improvements were appli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GRSP/Pedestrian Safety Informal Working Group (IG-PS WG)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ested in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the capability of Flex-PL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then,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Flex-PLI technical Evaluation Grou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Flex-TEG)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were settl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 2005 under the GRSP/IG-PS WG to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evaluate the Flex-PLI capabilities as a regulatory tool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m Flex-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ally, the prototype of</a:t>
            </a: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final version o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Flex-PLI (Flex-GTR) were developed in 2009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-TEG members were evaluated Flex-GTR capabilities, then they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approved the Flex-GTR capabiliti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that, Flex-TEG chair country, Japan,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submitted amendments regarding gtr and ECE to the GRS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sing the Flex-GTR specifications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059280" y="4786200"/>
            <a:ext cx="3200400" cy="687240"/>
            <a:chOff x="3059280" y="4786200"/>
            <a:chExt cx="3200400" cy="687240"/>
          </a:xfrm>
        </p:grpSpPr>
        <p:sp>
          <p:nvSpPr>
            <p:cNvPr id="165" name=""/>
            <p:cNvSpPr/>
            <p:nvPr/>
          </p:nvSpPr>
          <p:spPr>
            <a:xfrm>
              <a:off x="3059280" y="5473440"/>
              <a:ext cx="320040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13520" y="4786200"/>
              <a:ext cx="103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ex-P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080240" y="55483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-P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4890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-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4240" y="563724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-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550200" y="4014720"/>
            <a:ext cx="2304720" cy="2779560"/>
            <a:chOff x="6550200" y="4014720"/>
            <a:chExt cx="2304720" cy="277956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rcRect l="0" t="8325" r="0" b="5585"/>
            <a:stretch/>
          </p:blipFill>
          <p:spPr>
            <a:xfrm>
              <a:off x="6550200" y="4335480"/>
              <a:ext cx="2304720" cy="24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203600" y="4014720"/>
              <a:ext cx="117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Flex-GT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52360" y="4122720"/>
            <a:ext cx="3068280" cy="2668320"/>
            <a:chOff x="252360" y="4122720"/>
            <a:chExt cx="3068280" cy="2668320"/>
          </a:xfrm>
        </p:grpSpPr>
        <p:sp>
          <p:nvSpPr>
            <p:cNvPr id="174" name=""/>
            <p:cNvSpPr/>
            <p:nvPr/>
          </p:nvSpPr>
          <p:spPr>
            <a:xfrm>
              <a:off x="252360" y="4122720"/>
              <a:ext cx="17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Flex-PLI 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633600" y="5068800"/>
              <a:ext cx="1214280" cy="12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"/>
            <a:srcRect l="0" t="0" r="0" b="3093"/>
            <a:stretch/>
          </p:blipFill>
          <p:spPr>
            <a:xfrm>
              <a:off x="1955880" y="4201920"/>
              <a:ext cx="704880" cy="25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750040" y="4390920"/>
              <a:ext cx="570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Arial"/>
                </a:rPr>
                <a:t>Fem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exi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1855440" y="5101560"/>
              <a:ext cx="335160" cy="27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865520" y="5752440"/>
              <a:ext cx="358560" cy="56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4600" y="5335560"/>
              <a:ext cx="2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ne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7760" y="5454360"/>
              <a:ext cx="27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7360" y="5391000"/>
              <a:ext cx="125280" cy="42840"/>
            </a:xfrm>
            <a:custGeom>
              <a:avLst/>
              <a:gdLst/>
              <a:ahLst/>
              <a:rect l="l" t="t" r="r" b="b"/>
              <a:pathLst>
                <a:path w="238" h="82">
                  <a:moveTo>
                    <a:pt x="0" y="67"/>
                  </a:moveTo>
                  <a:lnTo>
                    <a:pt x="186" y="20"/>
                  </a:lnTo>
                  <a:lnTo>
                    <a:pt x="189" y="35"/>
                  </a:lnTo>
                  <a:lnTo>
                    <a:pt x="4" y="82"/>
                  </a:lnTo>
                  <a:lnTo>
                    <a:pt x="0" y="67"/>
                  </a:lnTo>
                  <a:close/>
                  <a:moveTo>
                    <a:pt x="171" y="0"/>
                  </a:moveTo>
                  <a:lnTo>
                    <a:pt x="238" y="15"/>
                  </a:lnTo>
                  <a:lnTo>
                    <a:pt x="186" y="6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9400" y="5898960"/>
              <a:ext cx="26748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ne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880" y="6018120"/>
              <a:ext cx="43812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am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2120" y="5680080"/>
              <a:ext cx="84240" cy="222120"/>
            </a:xfrm>
            <a:custGeom>
              <a:avLst/>
              <a:gdLst/>
              <a:ahLst/>
              <a:rect l="l" t="t" r="r" b="b"/>
              <a:pathLst>
                <a:path w="361" h="418">
                  <a:moveTo>
                    <a:pt x="0" y="408"/>
                  </a:moveTo>
                  <a:lnTo>
                    <a:pt x="321" y="35"/>
                  </a:lnTo>
                  <a:lnTo>
                    <a:pt x="334" y="45"/>
                  </a:lnTo>
                  <a:lnTo>
                    <a:pt x="12" y="418"/>
                  </a:lnTo>
                  <a:lnTo>
                    <a:pt x="0" y="408"/>
                  </a:lnTo>
                  <a:close/>
                  <a:moveTo>
                    <a:pt x="296" y="27"/>
                  </a:moveTo>
                  <a:lnTo>
                    <a:pt x="361" y="0"/>
                  </a:lnTo>
                  <a:lnTo>
                    <a:pt x="344" y="67"/>
                  </a:lnTo>
                  <a:lnTo>
                    <a:pt x="29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7440" y="5618160"/>
              <a:ext cx="433440" cy="284040"/>
            </a:xfrm>
            <a:custGeom>
              <a:avLst/>
              <a:gdLst/>
              <a:ahLst/>
              <a:rect l="l" t="t" r="r" b="b"/>
              <a:pathLst>
                <a:path w="1009" h="539">
                  <a:moveTo>
                    <a:pt x="0" y="526"/>
                  </a:moveTo>
                  <a:lnTo>
                    <a:pt x="959" y="17"/>
                  </a:lnTo>
                  <a:lnTo>
                    <a:pt x="967" y="31"/>
                  </a:lnTo>
                  <a:lnTo>
                    <a:pt x="7" y="539"/>
                  </a:lnTo>
                  <a:lnTo>
                    <a:pt x="0" y="526"/>
                  </a:lnTo>
                  <a:close/>
                  <a:moveTo>
                    <a:pt x="939" y="1"/>
                  </a:moveTo>
                  <a:lnTo>
                    <a:pt x="1009" y="0"/>
                  </a:lnTo>
                  <a:lnTo>
                    <a:pt x="968" y="57"/>
                  </a:lnTo>
                  <a:lnTo>
                    <a:pt x="93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75000" y="5736960"/>
              <a:ext cx="88920" cy="105408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27360 h 1054080"/>
                <a:gd name="textAreaBottom" fmla="*/ 10267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800"/>
                  </a:lnTo>
                  <a:cubicBezTo>
                    <a:pt x="10800" y="2700"/>
                    <a:pt x="16200" y="3600"/>
                    <a:pt x="21600" y="3600"/>
                  </a:cubicBezTo>
                  <a:cubicBezTo>
                    <a:pt x="16200" y="3600"/>
                    <a:pt x="10800" y="4500"/>
                    <a:pt x="10800" y="54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55920" y="4448160"/>
              <a:ext cx="95400" cy="965160"/>
            </a:xfrm>
            <a:custGeom>
              <a:avLst/>
              <a:gdLst>
                <a:gd name="textAreaLeft" fmla="*/ 0 w 95400"/>
                <a:gd name="textAreaRight" fmla="*/ 34560 w 95400"/>
                <a:gd name="textAreaTop" fmla="*/ 24840 h 965160"/>
                <a:gd name="textAreaBottom" fmla="*/ 940320 h 9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800"/>
                  </a:lnTo>
                  <a:cubicBezTo>
                    <a:pt x="10800" y="2700"/>
                    <a:pt x="16200" y="3600"/>
                    <a:pt x="21600" y="3600"/>
                  </a:cubicBezTo>
                  <a:cubicBezTo>
                    <a:pt x="16200" y="3600"/>
                    <a:pt x="10800" y="4500"/>
                    <a:pt x="10800" y="54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50040" y="5724360"/>
              <a:ext cx="570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Arial"/>
                </a:rPr>
                <a:t>Ti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exi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2760" y="4514760"/>
              <a:ext cx="14256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Arial"/>
                </a:rPr>
                <a:t>Kn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gament Restrai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2"/>
          <p:cNvSpPr/>
          <p:nvPr/>
        </p:nvSpPr>
        <p:spPr>
          <a:xfrm>
            <a:off x="0" y="-554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2. History of Flex-PLI Development (Overview), con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8C0-608D-4BC2-AFFE-5360BA3711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6:39:37Z</dcterms:created>
  <dc:creator>栃木研究所</dc:creator>
  <dc:description/>
  <dc:language>en-US</dc:language>
  <cp:lastModifiedBy>Gianotti</cp:lastModifiedBy>
  <dcterms:modified xsi:type="dcterms:W3CDTF">2011-11-03T14:30:56Z</dcterms:modified>
  <cp:revision>388</cp:revision>
  <dc:subject/>
  <dc:title>スライド 1</dc:title>
</cp:coreProperties>
</file>