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DDC-651F-4F12-AB84-C14C4FF14C0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6C2-4310-49AE-9A84-A212E688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スライド番号プレースホルダー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DE1C61E-C2C7-460C-B7D1-F18F16C5FC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ED8-5711-4090-8243-276A07BA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B63-C01A-48CA-9630-4A067EAD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CAA-4CFB-4BB1-9729-29B465E9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9DC-44C3-47CD-90B2-382376AB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7FA-6E71-4593-8B94-0E064A01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E64-53EF-4FB9-BDB1-828BE102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3BA-3D47-4748-AD93-BE04E76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0AD-312A-460A-ABBE-073D993A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9A6-4DB8-4D76-AAF3-F0C3F44B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BC4-80EE-407E-8FB0-0A2A2E4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492-50F3-4879-B49B-682FF69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149-4449-4709-8335-CD2D09A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4988-3A8F-4CA4-98B8-1795812BFE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22AC-87BE-45AF-B4CB-9F26B9BE3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878-61E1-4D1F-87F6-80FFD2285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420920"/>
            <a:ext cx="83566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reliminary study on test methods of UN regulation No. 51-03 based on CA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516720" y="540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Informal document GRB-69-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(69</a:t>
            </a:r>
            <a:r>
              <a:rPr b="0" lang="en-TT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 GRB, 22-2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</a:t>
            </a: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201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agenda item 4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6 and 19</a:t>
            </a:r>
            <a:r>
              <a:rPr b="0" lang="en-TT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3" descr="D@M6Y%~`Q60_P~4%[HK$P6W"/>
          <p:cNvPicPr/>
          <p:nvPr/>
        </p:nvPicPr>
        <p:blipFill>
          <a:blip r:embed="rId1"/>
          <a:stretch/>
        </p:blipFill>
        <p:spPr>
          <a:xfrm>
            <a:off x="395280" y="4659480"/>
            <a:ext cx="895320" cy="360360"/>
          </a:xfrm>
          <a:prstGeom prst="rect">
            <a:avLst/>
          </a:prstGeom>
          <a:ln w="9360">
            <a:solidFill>
              <a:srgbClr val="101bab"/>
            </a:solidFill>
            <a:miter/>
          </a:ln>
        </p:spPr>
      </p:pic>
      <p:grpSp>
        <p:nvGrpSpPr>
          <p:cNvPr id="52" name="矩形 7"/>
          <p:cNvGrpSpPr/>
          <p:nvPr/>
        </p:nvGrpSpPr>
        <p:grpSpPr>
          <a:xfrm>
            <a:off x="1285920" y="4651200"/>
            <a:ext cx="7327800" cy="371520"/>
            <a:chOff x="1285920" y="4651200"/>
            <a:chExt cx="7327800" cy="371520"/>
          </a:xfrm>
        </p:grpSpPr>
        <p:pic>
          <p:nvPicPr>
            <p:cNvPr id="53" name="矩形 7" descr=""/>
            <p:cNvPicPr/>
            <p:nvPr/>
          </p:nvPicPr>
          <p:blipFill>
            <a:blip r:embed="rId2"/>
            <a:stretch/>
          </p:blipFill>
          <p:spPr>
            <a:xfrm>
              <a:off x="1285920" y="4651200"/>
              <a:ext cx="7327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92400" y="4659480"/>
              <a:ext cx="7318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2693"/>
                  </a:solidFill>
                  <a:latin typeface="Calibri"/>
                </a:rPr>
                <a:t>China Automotive Technology and Research Center Co., Lt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1" descr=""/>
          <p:cNvPicPr/>
          <p:nvPr/>
        </p:nvPicPr>
        <p:blipFill>
          <a:blip r:embed="rId3"/>
          <a:stretch/>
        </p:blipFill>
        <p:spPr>
          <a:xfrm>
            <a:off x="3676680" y="2554200"/>
            <a:ext cx="179064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5FF-72BE-464C-8BED-AEDC106DE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6"/>
          <p:cNvSpPr/>
          <p:nvPr/>
        </p:nvSpPr>
        <p:spPr>
          <a:xfrm>
            <a:off x="324000" y="84312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is the purpose of method B? The real driving conditions or extreme conditions? If it is extreme conditions, what is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additional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ASEP means? What is the real traffic noise proble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low and normal performance vehicles, this test conditions of method B is not eas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ASEP test methods now seem to make no sense for at least normal vehicles, it is a test at wrong gears, an engine noise regulation are suggested if the noise at different engine speed are interes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hina wants to analyze CATC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-searc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test methods of GB 1495 and R51-03 method B and ASEP, combined with the real traffic noise proble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re vehicles are needed to be analyzed like the high performance vehic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:\照片\资料图片\CATARCico.bmp"/>
          <p:cNvPicPr/>
          <p:nvPr/>
        </p:nvPicPr>
        <p:blipFill>
          <a:blip r:embed="rId1"/>
          <a:stretch/>
        </p:blipFill>
        <p:spPr>
          <a:xfrm>
            <a:off x="166680" y="366840"/>
            <a:ext cx="1011240" cy="34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logo-6"/>
          <p:cNvPicPr/>
          <p:nvPr/>
        </p:nvPicPr>
        <p:blipFill>
          <a:blip r:embed="rId2"/>
          <a:stretch/>
        </p:blipFill>
        <p:spPr>
          <a:xfrm>
            <a:off x="7765920" y="322200"/>
            <a:ext cx="1271880" cy="393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0"/>
          <p:cNvSpPr/>
          <p:nvPr/>
        </p:nvSpPr>
        <p:spPr>
          <a:xfrm>
            <a:off x="1116000" y="436248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Web si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黑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www.catarc.org.c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网易闪电邮\wangzhao@catarc.ac.cn\attaches\qrcode_for_gh_997a4b22a2b9_258.jpg"/>
          <p:cNvPicPr/>
          <p:nvPr/>
        </p:nvPicPr>
        <p:blipFill>
          <a:blip r:embed="rId3"/>
          <a:stretch/>
        </p:blipFill>
        <p:spPr>
          <a:xfrm>
            <a:off x="6086520" y="3738600"/>
            <a:ext cx="1414440" cy="1281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8664480" y="4843440"/>
            <a:ext cx="3445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DD4C-7C5D-42FA-87DF-4CD6B43B0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E:\兴趣爱好\201009瑞士7日\熟人熟事\DSC_0016.JPG"/>
          <p:cNvPicPr/>
          <p:nvPr/>
        </p:nvPicPr>
        <p:blipFill>
          <a:blip r:embed="rId4"/>
          <a:srcRect l="0" t="31692" r="0" b="16803"/>
          <a:stretch/>
        </p:blipFill>
        <p:spPr>
          <a:xfrm>
            <a:off x="0" y="1192320"/>
            <a:ext cx="9109080" cy="231588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112" name="Text Box 2"/>
          <p:cNvSpPr/>
          <p:nvPr/>
        </p:nvSpPr>
        <p:spPr>
          <a:xfrm>
            <a:off x="0" y="1131840"/>
            <a:ext cx="813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anks for your at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1619280" y="4017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黑体"/>
              </a:rPr>
              <a:t>National Automotive Standardization Technical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357-1FB0-462D-B17A-155DD913B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26"/>
          <p:cNvSpPr/>
          <p:nvPr/>
        </p:nvSpPr>
        <p:spPr>
          <a:xfrm>
            <a:off x="468360" y="771480"/>
            <a:ext cx="849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hina will publish the GB 1495 standard soon in [2019], whose test methods are similar to UN Regulation No.51-03 (without ASEP) and ISO 362-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earch on relationships between environmental noise problems, test cycles, test methods, limit values and environmental influences of new systems was carried out in Chi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With the data collection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nd analysis of China Automotive Test Cycles (CATC), more proofs show that the test methods of UN Regulation No.51-03 need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-search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999-CD85-44B7-B068-E5EB50E6C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468360" y="7714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ina Automotive Test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ssibility of using CATC in the noise test metho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st methods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ina Automotive Test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5D7E-6423-4D02-BBBB-4C74B420C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108000" y="4276800"/>
            <a:ext cx="864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 2015 to 2018, 5048 vehicles real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riving behaviors were collected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 41 cities of China on time, for purpose of setting proper test methods for fuel consumption, emission and also development of EV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4" descr=""/>
          <p:cNvPicPr/>
          <p:nvPr/>
        </p:nvPicPr>
        <p:blipFill>
          <a:blip r:embed="rId1"/>
          <a:stretch/>
        </p:blipFill>
        <p:spPr>
          <a:xfrm>
            <a:off x="250920" y="741240"/>
            <a:ext cx="5976720" cy="3598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"/>
          <p:cNvPicPr/>
          <p:nvPr/>
        </p:nvPicPr>
        <p:blipFill>
          <a:blip r:embed="rId2"/>
          <a:stretch/>
        </p:blipFill>
        <p:spPr>
          <a:xfrm>
            <a:off x="6686640" y="3389400"/>
            <a:ext cx="179208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ing CATC in the noise test meth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80C8-769D-44E8-8FD7-DBA911E6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03200" y="993600"/>
            <a:ext cx="497520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0" name="TextBox 17"/>
          <p:cNvSpPr/>
          <p:nvPr/>
        </p:nvSpPr>
        <p:spPr>
          <a:xfrm>
            <a:off x="5651640" y="1058760"/>
            <a:ext cx="3139920" cy="374436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CATC has collected more than 20 parameters  for each vehicles, including the vehicle speed, vehicle acceleration, engine speed, and gears distribution…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We realized in the year 2017, that all the data can be used to design the noise test methods like ISO 362-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Several cases study on noise problems, driving behaviors, test methods design and proof tests were carried out from the summer of 20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03200" y="2909880"/>
            <a:ext cx="4975200" cy="1798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2" name="矩形 1"/>
          <p:cNvSpPr/>
          <p:nvPr/>
        </p:nvSpPr>
        <p:spPr>
          <a:xfrm>
            <a:off x="457200" y="4713120"/>
            <a:ext cx="4921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*Figure from: ASEP-04-11 (China) Road conditions and conclusion of China on ASEP test metho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st method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851E-BF0E-4890-A94D-6F0512223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: 圆角 5"/>
          <p:cNvSpPr/>
          <p:nvPr/>
        </p:nvSpPr>
        <p:spPr>
          <a:xfrm>
            <a:off x="382680" y="3497400"/>
            <a:ext cx="2187360" cy="9302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, middle speed r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, 50, 70 km/h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t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: 圆角 6"/>
          <p:cNvSpPr/>
          <p:nvPr/>
        </p:nvSpPr>
        <p:spPr>
          <a:xfrm>
            <a:off x="2762280" y="3478320"/>
            <a:ext cx="2314440" cy="94932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speed r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80, 100, 120 km/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uise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: 圆角 8"/>
          <p:cNvSpPr/>
          <p:nvPr/>
        </p:nvSpPr>
        <p:spPr>
          <a:xfrm>
            <a:off x="3263760" y="2058840"/>
            <a:ext cx="917640" cy="723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: 圆角 31"/>
          <p:cNvSpPr/>
          <p:nvPr/>
        </p:nvSpPr>
        <p:spPr>
          <a:xfrm>
            <a:off x="382680" y="2041560"/>
            <a:ext cx="2039760" cy="725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: 圆角 32"/>
          <p:cNvSpPr/>
          <p:nvPr/>
        </p:nvSpPr>
        <p:spPr>
          <a:xfrm>
            <a:off x="1228680" y="987480"/>
            <a:ext cx="2309760" cy="41112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st meth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连接符: 肘形 36"/>
          <p:cNvCxnSpPr>
            <a:stCxn id="79" idx="2"/>
            <a:endCxn id="78" idx="0"/>
          </p:cNvCxnSpPr>
          <p:nvPr/>
        </p:nvCxnSpPr>
        <p:spPr>
          <a:xfrm rot="5400000">
            <a:off x="1570320" y="1229400"/>
            <a:ext cx="643320" cy="981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连接符: 肘形 39"/>
          <p:cNvCxnSpPr>
            <a:stCxn id="79" idx="2"/>
            <a:endCxn id="77" idx="0"/>
          </p:cNvCxnSpPr>
          <p:nvPr/>
        </p:nvCxnSpPr>
        <p:spPr>
          <a:xfrm flipH="1" rot="16200000">
            <a:off x="2722680" y="1058400"/>
            <a:ext cx="660600" cy="1340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连接符: 肘形 42"/>
          <p:cNvCxnSpPr>
            <a:stCxn id="78" idx="2"/>
            <a:endCxn id="75" idx="0"/>
          </p:cNvCxnSpPr>
          <p:nvPr/>
        </p:nvCxnSpPr>
        <p:spPr>
          <a:xfrm flipH="1" rot="16200000">
            <a:off x="1072800" y="3094560"/>
            <a:ext cx="731160" cy="7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连接符: 肘形 45"/>
          <p:cNvCxnSpPr>
            <a:stCxn id="78" idx="2"/>
            <a:endCxn id="76" idx="0"/>
          </p:cNvCxnSpPr>
          <p:nvPr/>
        </p:nvCxnSpPr>
        <p:spPr>
          <a:xfrm flipH="1" rot="16200000">
            <a:off x="2305080" y="1863720"/>
            <a:ext cx="712080" cy="251820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TextBox 17"/>
          <p:cNvSpPr/>
          <p:nvPr/>
        </p:nvSpPr>
        <p:spPr>
          <a:xfrm>
            <a:off x="5608800" y="987480"/>
            <a:ext cx="3139920" cy="3257640"/>
          </a:xfrm>
          <a:prstGeom prst="rect">
            <a:avLst/>
          </a:prstGeom>
          <a:solidFill>
            <a:srgbClr val="ffcc00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New tests creat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Starting noi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Wot noise at fixed gears and fixed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Cruise noise at high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Tyre noise (OIC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Engine noise (OIC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Partial load noise (OIC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Other traditional tes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Method B of R51-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  <a:ea typeface="Arial"/>
              </a:rPr>
              <a:t>ASEP of R51-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60C8-EBAC-4B36-A925-D956F7681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2520" y="825480"/>
          <a:ext cx="8039160" cy="1266840"/>
        </p:xfrm>
        <a:graphic>
          <a:graphicData uri="http://schemas.openxmlformats.org/drawingml/2006/table">
            <a:tbl>
              <a:tblPr/>
              <a:tblGrid>
                <a:gridCol w="923760"/>
                <a:gridCol w="1295640"/>
                <a:gridCol w="1223640"/>
                <a:gridCol w="1081080"/>
                <a:gridCol w="1008360"/>
                <a:gridCol w="1295280"/>
                <a:gridCol w="1211400"/>
              </a:tblGrid>
              <a:tr h="18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leration procedure during sum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leration procedure during wi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3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8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5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5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4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8" name="矩形 2"/>
          <p:cNvSpPr/>
          <p:nvPr/>
        </p:nvSpPr>
        <p:spPr>
          <a:xfrm>
            <a:off x="452520" y="2151000"/>
            <a:ext cx="8039160" cy="48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est Gear designed for 30km/h: (1+X/2)/2; for 50km/h: X/2; for 70km/h: 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/2+X)/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“X” means the total gears numb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2805120"/>
          <a:ext cx="8062920" cy="1066680"/>
        </p:xfrm>
        <a:graphic>
          <a:graphicData uri="http://schemas.openxmlformats.org/drawingml/2006/table">
            <a:tbl>
              <a:tblPr/>
              <a:tblGrid>
                <a:gridCol w="1189080"/>
                <a:gridCol w="1093680"/>
                <a:gridCol w="1155600"/>
                <a:gridCol w="1482840"/>
                <a:gridCol w="1119240"/>
                <a:gridCol w="1117440"/>
                <a:gridCol w="905040"/>
              </a:tblGrid>
              <a:tr h="1771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Engine speed percent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er ti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ter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矩形 17"/>
          <p:cNvSpPr/>
          <p:nvPr/>
        </p:nvSpPr>
        <p:spPr>
          <a:xfrm>
            <a:off x="428760" y="3921120"/>
            <a:ext cx="8065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ethod  B</a:t>
            </a: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Arial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gear, engine speed 3450 r/mi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SEP: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and 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gears, speed range 20-80km/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nclusion: method B is already 99% percentile for this vehicl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580-2BD1-43FD-BEF1-895557235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2520" y="825480"/>
          <a:ext cx="8039160" cy="1422360"/>
        </p:xfrm>
        <a:graphic>
          <a:graphicData uri="http://schemas.openxmlformats.org/drawingml/2006/table">
            <a:tbl>
              <a:tblPr/>
              <a:tblGrid>
                <a:gridCol w="1639800"/>
                <a:gridCol w="2303640"/>
                <a:gridCol w="2176200"/>
                <a:gridCol w="1919520"/>
              </a:tblGrid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leratio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3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8.8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3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6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5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.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7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3.8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6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36.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95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4" name="矩形 2"/>
          <p:cNvSpPr/>
          <p:nvPr/>
        </p:nvSpPr>
        <p:spPr>
          <a:xfrm>
            <a:off x="452520" y="2295360"/>
            <a:ext cx="8039160" cy="48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est Gear designed for 30km/h: (1+X/2)/2; for 50km/h: X/2; for 70km/h: 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/2+X)/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“X” means the total gears numb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2949480"/>
          <a:ext cx="8062920" cy="1067040"/>
        </p:xfrm>
        <a:graphic>
          <a:graphicData uri="http://schemas.openxmlformats.org/drawingml/2006/table">
            <a:tbl>
              <a:tblPr/>
              <a:tblGrid>
                <a:gridCol w="1949400"/>
                <a:gridCol w="1790640"/>
                <a:gridCol w="1893960"/>
                <a:gridCol w="2428920"/>
              </a:tblGrid>
              <a:tr h="177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Engine speed percent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5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7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7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9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8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9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矩形 17"/>
          <p:cNvSpPr/>
          <p:nvPr/>
        </p:nvSpPr>
        <p:spPr>
          <a:xfrm>
            <a:off x="428760" y="4084560"/>
            <a:ext cx="8065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ethod  B</a:t>
            </a: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Arial"/>
              </a:rPr>
              <a:t>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gear, engine speed 2760 r/mi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SEP: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and 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gears, speed range 20-80km/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nclusion: method B is already 99% percentile for this vehicl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791560" y="4894200"/>
            <a:ext cx="34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0538-BE22-45E0-AC02-19728D889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2520" y="825480"/>
          <a:ext cx="8039160" cy="1600200"/>
        </p:xfrm>
        <a:graphic>
          <a:graphicData uri="http://schemas.openxmlformats.org/drawingml/2006/table">
            <a:tbl>
              <a:tblPr/>
              <a:tblGrid>
                <a:gridCol w="1639800"/>
                <a:gridCol w="2303640"/>
                <a:gridCol w="2176200"/>
                <a:gridCol w="1919520"/>
              </a:tblGrid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leratio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3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76.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4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0.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6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.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5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65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5.5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6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7.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56.6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7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 g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3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0" name="矩形 2"/>
          <p:cNvSpPr/>
          <p:nvPr/>
        </p:nvSpPr>
        <p:spPr>
          <a:xfrm>
            <a:off x="452520" y="2511360"/>
            <a:ext cx="8039160" cy="489600"/>
          </a:xfrm>
          <a:prstGeom prst="rect">
            <a:avLst/>
          </a:prstGeom>
          <a:solidFill>
            <a:srgbClr val="e9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est Gear designed for 30km/h: (1+X/2)/2; for 50km/h: X/2; for 70km/h: 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/2+X)/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“X” means the total gears numb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3147840"/>
          <a:ext cx="8062920" cy="1067040"/>
        </p:xfrm>
        <a:graphic>
          <a:graphicData uri="http://schemas.openxmlformats.org/drawingml/2006/table">
            <a:tbl>
              <a:tblPr/>
              <a:tblGrid>
                <a:gridCol w="1949400"/>
                <a:gridCol w="1790640"/>
                <a:gridCol w="1893960"/>
                <a:gridCol w="2428920"/>
              </a:tblGrid>
              <a:tr h="1778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Engine speed percent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~3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~5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~75km/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3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5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6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7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9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6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8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0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1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等线"/>
                          <a:ea typeface="等线"/>
                        </a:rPr>
                        <a:t>23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矩形 17"/>
          <p:cNvSpPr/>
          <p:nvPr/>
        </p:nvSpPr>
        <p:spPr>
          <a:xfrm>
            <a:off x="428760" y="4281480"/>
            <a:ext cx="80658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ethod  B: not carried o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nclusion: good performance vehicles have very low engine speed during real driving. What is the difference between the vehicles can be loudly and the vehicles are loudly? How to chec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8:02:25Z</dcterms:created>
  <dc:creator>yang</dc:creator>
  <dc:description/>
  <dc:language>en-US</dc:language>
  <cp:lastModifiedBy>Konstantin Glukhenkiy</cp:lastModifiedBy>
  <dcterms:modified xsi:type="dcterms:W3CDTF">2019-01-23T08:17:30Z</dcterms:modified>
  <cp:revision>2055</cp:revision>
  <dc:subject/>
  <dc:title>幻灯片 1</dc:title>
</cp:coreProperties>
</file>