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63A-0608-4096-A92C-79953F72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B11-647B-467B-9974-2A3672C7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333-61AB-4965-8FFD-1DD1BC7D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023-6EF0-40D2-B172-4BEB3658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E65-6C17-4EF4-A0CB-C27C89B9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A7B-4339-48F7-9F6A-DD35F8FF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136-5F99-4056-A054-AC62B300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D0D-06A3-43AB-8FB8-FEB15D5C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7B6-D5CF-476A-96C0-7854F5EC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E3D-9ADD-4E13-8571-23668BB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921-27A6-4DC6-A6CB-C04A1A1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DA4-5601-48C2-B06D-066E747D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B286-706F-4CA5-8CC3-D803F54DDE89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6783480" y="4946760"/>
            <a:ext cx="540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siliki Siouta, LL.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ad of Supply Chain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orate of Transpor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stry of Infrastructure and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3 - Ορθογώνιο"/>
          <p:cNvSpPr/>
          <p:nvPr/>
        </p:nvSpPr>
        <p:spPr>
          <a:xfrm>
            <a:off x="746280" y="949320"/>
            <a:ext cx="106171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e79"/>
                </a:solidFill>
                <a:latin typeface="Arial Black"/>
              </a:rPr>
              <a:t>Workshop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e79"/>
                </a:solidFill>
                <a:latin typeface="Arial Black"/>
              </a:rPr>
              <a:t>Operational challenges of regional intermodal transport and innovativ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e79"/>
                </a:solidFill>
                <a:latin typeface="Arial Black"/>
              </a:rPr>
              <a:t>Geneva, 20 November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e79"/>
                </a:solidFill>
                <a:latin typeface="Arial Black"/>
              </a:rPr>
              <a:t>Working Party on Intermodal Transport and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457b"/>
                </a:solidFill>
                <a:latin typeface="Arial Black"/>
                <a:ea typeface="Times New Roman"/>
              </a:rPr>
              <a:t>Greece</a:t>
            </a:r>
            <a:r>
              <a:rPr b="1" lang="el-GR" sz="3200" spc="-1" strike="noStrike">
                <a:solidFill>
                  <a:srgbClr val="27457b"/>
                </a:solidFill>
                <a:latin typeface="Arial Black"/>
                <a:ea typeface="Times New Roman"/>
              </a:rPr>
              <a:t>:</a:t>
            </a:r>
            <a:r>
              <a:rPr b="1" lang="en-US" sz="3200" spc="-1" strike="noStrike">
                <a:solidFill>
                  <a:srgbClr val="27457b"/>
                </a:solidFill>
                <a:latin typeface="Arial Black"/>
                <a:ea typeface="Times New Roman"/>
              </a:rPr>
              <a:t> A bridge for Euro-Asia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747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27080" y="311040"/>
            <a:ext cx="119156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 - Ορθογώνιο"/>
          <p:cNvSpPr/>
          <p:nvPr/>
        </p:nvSpPr>
        <p:spPr>
          <a:xfrm>
            <a:off x="385920" y="401760"/>
            <a:ext cx="9383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velopment of national 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of national logistics should aim a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 reduction of the logistics cos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equently at th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the product c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ll the end 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of great importance for the Greek public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incorporate best practices in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istic 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order to reduce the operational cos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 the quality of the provided services to th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127080" y="311040"/>
            <a:ext cx="119156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 - Ορθογώνιο"/>
          <p:cNvSpPr/>
          <p:nvPr/>
        </p:nvSpPr>
        <p:spPr>
          <a:xfrm>
            <a:off x="385920" y="401760"/>
            <a:ext cx="938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- Ορθογώνιο"/>
          <p:cNvSpPr/>
          <p:nvPr/>
        </p:nvSpPr>
        <p:spPr>
          <a:xfrm>
            <a:off x="433440" y="1074600"/>
            <a:ext cx="8710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improving the busines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facilitating enterprise logistic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enhancing public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promotional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Limitation of administrative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Improvement of legis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Enhancement of the information flow rela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127080" y="311040"/>
            <a:ext cx="11915640" cy="10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 of Logistic networks and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uci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facilitation of effectiv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make Greece a more attractive place for inves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cie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logistic networks and 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dvantage of intermodal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0" y="-165240"/>
            <a:ext cx="12111120" cy="84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Thriassio Pedio Logistics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gistic center with the largest freight railway station in the Balk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one of the largest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ill accommodate the larg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modal logistics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most developed intermodal freight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outheas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has a direct railway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e Piraeus port (Ikon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204840" y="311040"/>
            <a:ext cx="118188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  <a:ea typeface="Arial"/>
              </a:rPr>
              <a:t>Thriassio Pedio Logistics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will become a physical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the Piraeus container  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also connected with the Greek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comprehensive TEN-T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ad net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a the modern 3-lane highway of Attiki O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has direct access to the city of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 Athens International Air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204840" y="311040"/>
            <a:ext cx="118188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Thriassio Pedio Logistics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portunity for major global manufact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use Greece as an assembly, logistic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ty assurance center for thei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ufactured in Asia and sold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the experience from Thriassio Pedio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velop the other major logistics ce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ssalon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0" y="0"/>
            <a:ext cx="121921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Greece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-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Bulgaria</a:t>
            </a:r>
            <a:r>
              <a:rPr b="0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port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-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rail link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a project of geopolitical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- Ορθογώνιο"/>
          <p:cNvSpPr/>
          <p:nvPr/>
        </p:nvSpPr>
        <p:spPr>
          <a:xfrm>
            <a:off x="304812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4 - Στρογγυλεμένο ορθογώνιο"/>
          <p:cNvSpPr/>
          <p:nvPr/>
        </p:nvSpPr>
        <p:spPr>
          <a:xfrm>
            <a:off x="2637000" y="1643040"/>
            <a:ext cx="7083360" cy="42242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emorandum of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ween Greece and Bulgaria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ed in September 2017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of the Thessalon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vala-Alexandroupolis-Bur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na-Ruse rail link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0" y="311040"/>
            <a:ext cx="12192120" cy="84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Road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2017,the following has been concluded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onia High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ympia highway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iddle section of Athens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saloniki Hig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hose projects are connected with the necessary adjustments in the legal framework in order to create a solid, reliable and time efficient background for new investments in the logistics and transport s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4 - Ορθογώνιο"/>
          <p:cNvSpPr/>
          <p:nvPr/>
        </p:nvSpPr>
        <p:spPr>
          <a:xfrm>
            <a:off x="274644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311040"/>
            <a:ext cx="12192120" cy="77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Β.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New technologies and innovation as enablers of transport solu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is to a large extent abou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timisation requiring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cess to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a and data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tt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agement and predictive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i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ud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et of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4 - Ορθογώνιο"/>
          <p:cNvSpPr/>
          <p:nvPr/>
        </p:nvSpPr>
        <p:spPr>
          <a:xfrm>
            <a:off x="304812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0" y="68400"/>
            <a:ext cx="12192120" cy="80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Ι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portant enablers for the integration of modes</a:t>
            </a: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a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mart and collaborative 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hanced supply chain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tter use of resources and infrastruc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his requires</a:t>
            </a: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novativ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appropriate  digital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busines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- Ορθογώνιο"/>
          <p:cNvSpPr/>
          <p:nvPr/>
        </p:nvSpPr>
        <p:spPr>
          <a:xfrm>
            <a:off x="304812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0" y="311040"/>
            <a:ext cx="121204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86"/>
                </a:solidFill>
                <a:latin typeface="Arial Black"/>
              </a:rPr>
              <a:t>A. GREECE AS A STRATEGIC NODE FOR 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d0d0d"/>
                </a:solidFill>
                <a:latin typeface="Arial"/>
              </a:rPr>
              <a:t>On the crossroads of three continents (Europe, Asia, Afr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Close to Suez Channel</a:t>
            </a:r>
            <a:r>
              <a:rPr b="1" lang="el-GR" sz="2600" spc="-1" strike="noStrike">
                <a:solidFill>
                  <a:srgbClr val="0d0d0d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the main Maritime Freight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d0d0d"/>
                </a:solidFill>
                <a:uFillTx/>
                <a:latin typeface="Arial"/>
              </a:rPr>
              <a:t>Potentiality to act as</a:t>
            </a:r>
            <a:r>
              <a:rPr b="1" lang="el-GR" sz="2600" spc="-1" strike="noStrike" u="sng">
                <a:solidFill>
                  <a:srgbClr val="0d0d0d"/>
                </a:solidFill>
                <a:uFillTx/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a regional or even European transhipment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connection hub between MENA,  East and Europe via</a:t>
            </a:r>
            <a:r>
              <a:rPr b="1" lang="el-GR" sz="2600" spc="-1" strike="noStrike">
                <a:solidFill>
                  <a:srgbClr val="0d0d0d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Its ports, road and rail</a:t>
            </a:r>
            <a:r>
              <a:rPr b="1" lang="el-GR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Its storage and air transport facilities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The related logistic</a:t>
            </a:r>
            <a:r>
              <a:rPr b="1" lang="el-GR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serv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0" y="0"/>
            <a:ext cx="1219212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AEOLIX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an ambitious project kicked off under the EC</a:t>
            </a:r>
            <a:r>
              <a:rPr b="1" lang="el-GR" sz="2800" spc="-1" strike="noStrike">
                <a:solidFill>
                  <a:srgbClr val="27457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Horizon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- Ορθογώνιο"/>
          <p:cNvSpPr/>
          <p:nvPr/>
        </p:nvSpPr>
        <p:spPr>
          <a:xfrm>
            <a:off x="304812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 - Στρογγυλεμένο ορθογώνιο"/>
          <p:cNvSpPr/>
          <p:nvPr/>
        </p:nvSpPr>
        <p:spPr>
          <a:xfrm>
            <a:off x="709560" y="1359000"/>
            <a:ext cx="10245600" cy="41367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EOLIX was launched in September 2016 with the aim of contributing to the priorities of the EU policy for a digital single market, but also the optimization of cargo flows, the facilitation of supply chain management, the reduction of administrative burdens and to make better use of existing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0" y="155520"/>
            <a:ext cx="1219212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AEOLIX will develop a platform for</a:t>
            </a: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ng logistic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 - and cross –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ediate (real - time) exchange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of logistics - relat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 - Ορθογώνιο"/>
          <p:cNvSpPr/>
          <p:nvPr/>
        </p:nvSpPr>
        <p:spPr>
          <a:xfrm>
            <a:off x="304812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0" y="328680"/>
            <a:ext cx="11673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0" y="311040"/>
            <a:ext cx="12192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Living Lab 12: Digitalization of freight transport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ech Republic, Germany, Greece, Romania and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im is to test electronic consignment notes (e-CM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cross-border trans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using e-CMR for the trial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ransport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 the five countries will be able to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data electron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 logistics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hange data  in real time via a mobile phone or tab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- Ορθογώνιο"/>
          <p:cNvSpPr/>
          <p:nvPr/>
        </p:nvSpPr>
        <p:spPr>
          <a:xfrm>
            <a:off x="2994120" y="3070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0" y="520560"/>
            <a:ext cx="1167300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- Ορθογώνιο"/>
          <p:cNvSpPr/>
          <p:nvPr/>
        </p:nvSpPr>
        <p:spPr>
          <a:xfrm>
            <a:off x="0" y="1366920"/>
            <a:ext cx="983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ANK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68400" y="311040"/>
            <a:ext cx="11945880" cy="11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GREEK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ategically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ould easily be transformed into regional logistic h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goods coming from Asia to the European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iraeus,  Thessaloniki, Igoumenitsa and Pat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ports for Trans European Network of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 maritime connections to the European Corridor of Orient / East Med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idor that connects large parts of Central Europe with ports of the North, Baltic, Black and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25495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68400" y="311040"/>
            <a:ext cx="1194588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8400" y="311040"/>
            <a:ext cx="1194588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531800" y="-6480"/>
            <a:ext cx="91202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36440" y="311040"/>
            <a:ext cx="11945880" cy="10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27457b"/>
                </a:solidFill>
                <a:uFillTx/>
                <a:latin typeface="Arial Black"/>
              </a:rPr>
              <a:t>Port of Pira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has increased the trade volume of T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7,5 times in the period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2008 –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se to the main Mediterranean maritime route (210 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 significant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th as a container port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as a car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rastructure and natural dep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the accommodation of 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largest modern container 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136440" y="311040"/>
            <a:ext cx="11945880" cy="73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27457b"/>
                </a:solidFill>
                <a:uFillTx/>
                <a:latin typeface="Arial Black"/>
              </a:rPr>
              <a:t>Port of Pira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ration under a free zone type I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ale of tariffs based on the volume of transhipment containers and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etitive storag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information system supporting port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rational and safety standards according to international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4 hour - 365 day operation of the Container and Car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96840" y="311040"/>
            <a:ext cx="11936520" cy="9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27457b"/>
                </a:solidFill>
                <a:uFillTx/>
                <a:latin typeface="Arial Black"/>
              </a:rPr>
              <a:t>Port of Pira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tended feeder services connecting the 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 almost all main ports in the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information system supporting port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nce 201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raeus Container Terminal joined forces with the international Airport of Athens in order to provide integrated intermodal transport services with project sea -n-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ort of Piraeus provides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a large logistics center in Thriassio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high-speed cargo train route leading in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127080" y="311040"/>
            <a:ext cx="11915640" cy="11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LOGISTICS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27457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a sector with strategic importance and large  potential for</a:t>
            </a:r>
            <a:r>
              <a:rPr b="1" lang="el-GR" sz="2800" spc="-1" strike="noStrike">
                <a:solidFill>
                  <a:srgbClr val="27457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Gree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der Transport and Logistics sector in Greece has gradually become one of the most important sectors of the Greek economy, contributing to the domestic GDP by 10.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bout 20 billion eur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tracting  international freight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ographical position of the country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ablish Greece as the logistics hub of North-Eas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ece should mainly aim at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ransit fr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rovision of added valu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ranshipment freight continues to be incr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2:29:58Z</dcterms:created>
  <dc:creator>Andreas</dc:creator>
  <dc:description/>
  <dc:language>en-US</dc:language>
  <cp:lastModifiedBy>Yana Brynkina</cp:lastModifiedBy>
  <cp:lastPrinted>2018-11-19T12:32:00Z</cp:lastPrinted>
  <dcterms:modified xsi:type="dcterms:W3CDTF">2018-11-19T15:46:38Z</dcterms:modified>
  <cp:revision>107</cp:revision>
  <dc:subject/>
  <dc:title>PowerPoint Presentation</dc:title>
</cp:coreProperties>
</file>