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584C-3AA4-4D1C-881A-35EF75BFE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50B5-344B-4871-A46A-F4338823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6CA1-F5F3-4E75-9668-4947F8AA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CBC6-4455-46FB-A181-7BDBB943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C82D-39AA-433E-A154-1358C6E1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C395-DC7E-4BA4-897C-CF42C3EEB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972-2C03-4B1E-AEC5-DF323FC4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C913-082C-4C4B-B721-079793A2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05CE-4E81-4AB9-880E-DF5386793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A05F-AA33-4A90-9228-AF274DEDC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9C4-F078-4943-AD2B-00CB8B5F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91B9-2A14-4B0A-A612-46852874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2E53-B7F0-459F-A0A4-6DC46C276160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6783480" y="4946760"/>
            <a:ext cx="5408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siliki Siouta, LL.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ead of Supply Chain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rectorate of Transport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nistry of Infrastructure and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3 - Ορθογώνιο"/>
          <p:cNvSpPr/>
          <p:nvPr/>
        </p:nvSpPr>
        <p:spPr>
          <a:xfrm>
            <a:off x="746280" y="949320"/>
            <a:ext cx="1061712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e79"/>
                </a:solidFill>
                <a:latin typeface="Arial Black"/>
              </a:rPr>
              <a:t>Workshop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e79"/>
                </a:solidFill>
                <a:latin typeface="Arial Black"/>
              </a:rPr>
              <a:t>Operational challenges of regional intermodal transport and innovative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e79"/>
                </a:solidFill>
                <a:latin typeface="Arial Black"/>
              </a:rPr>
              <a:t>Geneva, 20 November 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e79"/>
                </a:solidFill>
                <a:latin typeface="Arial Black"/>
              </a:rPr>
              <a:t>Working Party on Intermodal Transport and Log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7457b"/>
                </a:solidFill>
                <a:latin typeface="Arial Black"/>
                <a:ea typeface="Times New Roman"/>
              </a:rPr>
              <a:t>Greece</a:t>
            </a:r>
            <a:r>
              <a:rPr b="1" lang="el-GR" sz="3200" spc="-1" strike="noStrike">
                <a:solidFill>
                  <a:srgbClr val="27457b"/>
                </a:solidFill>
                <a:latin typeface="Arial Black"/>
                <a:ea typeface="Times New Roman"/>
              </a:rPr>
              <a:t>:</a:t>
            </a:r>
            <a:r>
              <a:rPr b="1" lang="en-US" sz="3200" spc="-1" strike="noStrike">
                <a:solidFill>
                  <a:srgbClr val="27457b"/>
                </a:solidFill>
                <a:latin typeface="Arial Black"/>
                <a:ea typeface="Times New Roman"/>
              </a:rPr>
              <a:t> A bridge for Euro-Asian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747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3"/>
          <p:cNvSpPr/>
          <p:nvPr/>
        </p:nvSpPr>
        <p:spPr>
          <a:xfrm>
            <a:off x="127080" y="311040"/>
            <a:ext cx="119156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 - Ορθογώνιο"/>
          <p:cNvSpPr/>
          <p:nvPr/>
        </p:nvSpPr>
        <p:spPr>
          <a:xfrm>
            <a:off x="385920" y="401760"/>
            <a:ext cx="93834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velopment of national 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development of national logistics should aim at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 reduction of the logistics cost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equently at th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the product co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ill the end consu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of great importance for the Greek public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incorporate best practices in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istic 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order to reduce the operational cost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ase the quality of the provided services to the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127080" y="311040"/>
            <a:ext cx="1191564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 - Ορθογώνιο"/>
          <p:cNvSpPr/>
          <p:nvPr/>
        </p:nvSpPr>
        <p:spPr>
          <a:xfrm>
            <a:off x="385920" y="401760"/>
            <a:ext cx="938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sines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4 - Ορθογώνιο"/>
          <p:cNvSpPr/>
          <p:nvPr/>
        </p:nvSpPr>
        <p:spPr>
          <a:xfrm>
            <a:off x="433440" y="1074600"/>
            <a:ext cx="87105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improving the busines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facilitating enterprise logistic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enhancing public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promotional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Limitation of administrative b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Improvement of legis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-Enhancement of the information flow relat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3"/>
          <p:cNvSpPr/>
          <p:nvPr/>
        </p:nvSpPr>
        <p:spPr>
          <a:xfrm>
            <a:off x="127080" y="311040"/>
            <a:ext cx="11915640" cy="102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ment of Logistic networks and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ucial 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facilitation of effective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order to make Greece a more attractive place for inves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cie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e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logistic networks and 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advantage of intermodal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0" y="-165240"/>
            <a:ext cx="12111120" cy="84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Thriassio Pedio Logistics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gistic center with the largest freight railway station in the Balk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one of the largest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will accommodate the large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modal logistics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most developed intermodal freight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outheas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has a direct railway conn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the Piraeus port (Ikon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3"/>
          <p:cNvSpPr/>
          <p:nvPr/>
        </p:nvSpPr>
        <p:spPr>
          <a:xfrm>
            <a:off x="204840" y="311040"/>
            <a:ext cx="118188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  <a:ea typeface="Arial"/>
              </a:rPr>
              <a:t>Thriassio Pedio Logistics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will become a physical expa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f the Piraeus container  termi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is also connected with the Greek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comprehensive TEN-T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oad net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a the modern 3-lane highway of Attiki O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t has direct access to the city of Ath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d the Athens International Air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3"/>
          <p:cNvSpPr/>
          <p:nvPr/>
        </p:nvSpPr>
        <p:spPr>
          <a:xfrm>
            <a:off x="204840" y="311040"/>
            <a:ext cx="11818800" cy="64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Thriassio Pedio Logistics Pa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portunity for major global manufactur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use Greece as an assembly, logistics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ty assurance center for their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ufactured in Asia and sold in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 of the experience from Thriassio Pedio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velop the other major logistics cen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ssalon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3"/>
          <p:cNvSpPr/>
          <p:nvPr/>
        </p:nvSpPr>
        <p:spPr>
          <a:xfrm>
            <a:off x="0" y="0"/>
            <a:ext cx="121921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Greece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-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Bulgaria</a:t>
            </a:r>
            <a:r>
              <a:rPr b="0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port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-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rail link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a project of geopolitical signific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4 - Ορθογώνιο"/>
          <p:cNvSpPr/>
          <p:nvPr/>
        </p:nvSpPr>
        <p:spPr>
          <a:xfrm>
            <a:off x="304812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4 - Στρογγυλεμένο ορθογώνιο"/>
          <p:cNvSpPr/>
          <p:nvPr/>
        </p:nvSpPr>
        <p:spPr>
          <a:xfrm>
            <a:off x="2637000" y="1643040"/>
            <a:ext cx="7083360" cy="422424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Memorandum of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ween Greece and Bulgaria 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ed in September 2017 for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velopment of the Thessalon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avala-Alexandroupolis-Bur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rna-Ruse rail link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3"/>
          <p:cNvSpPr/>
          <p:nvPr/>
        </p:nvSpPr>
        <p:spPr>
          <a:xfrm>
            <a:off x="0" y="311040"/>
            <a:ext cx="12192120" cy="84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Road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ring 2017,the following has been concluded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onia Highw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lympia highway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iddle section of Athens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ssaloniki High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hose projects are connected with the necessary adjustments in the legal framework in order to create a solid, reliable and time efficient background for new investments in the logistics and transport se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4 - Ορθογώνιο"/>
          <p:cNvSpPr/>
          <p:nvPr/>
        </p:nvSpPr>
        <p:spPr>
          <a:xfrm>
            <a:off x="274644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311040"/>
            <a:ext cx="12192120" cy="77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Β.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Calibri"/>
              </a:rPr>
              <a:t> 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New technologies and innovation as enablers of transport solution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is to a large extent about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timisation requiring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ccess to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a and data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tter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nagement and predictive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i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ud comp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rnet of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4 - Ορθογώνιο"/>
          <p:cNvSpPr/>
          <p:nvPr/>
        </p:nvSpPr>
        <p:spPr>
          <a:xfrm>
            <a:off x="304812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0" y="68400"/>
            <a:ext cx="12192120" cy="80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Ι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portant enablers for the integration of modes</a:t>
            </a: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ata sh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mart and collaborative log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hanced supply chain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etter use of resources and infrastruc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This requires</a:t>
            </a: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novativ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appropriate  digital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busines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4 - Ορθογώνιο"/>
          <p:cNvSpPr/>
          <p:nvPr/>
        </p:nvSpPr>
        <p:spPr>
          <a:xfrm>
            <a:off x="304812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0" y="311040"/>
            <a:ext cx="12120480" cy="63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86"/>
                </a:solidFill>
                <a:latin typeface="Arial Black"/>
              </a:rPr>
              <a:t>A. GREECE AS A STRATEGIC NODE FOR TRANSPOR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4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d0d0d"/>
                </a:solidFill>
                <a:latin typeface="Arial"/>
              </a:rPr>
              <a:t>On the crossroads of three continents (Europe, Asia, Afric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Close to Suez Channel</a:t>
            </a:r>
            <a:r>
              <a:rPr b="1" lang="el-GR" sz="2600" spc="-1" strike="noStrike">
                <a:solidFill>
                  <a:srgbClr val="0d0d0d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the main Maritime Freight Li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d0d0d"/>
                </a:solidFill>
                <a:uFillTx/>
                <a:latin typeface="Arial"/>
              </a:rPr>
              <a:t>Potentiality to act as</a:t>
            </a:r>
            <a:r>
              <a:rPr b="1" lang="el-GR" sz="2600" spc="-1" strike="noStrike" u="sng">
                <a:solidFill>
                  <a:srgbClr val="0d0d0d"/>
                </a:solidFill>
                <a:uFillTx/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a regional or even European transhipment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connection hub between MENA,  East and Europe via</a:t>
            </a:r>
            <a:r>
              <a:rPr b="1" lang="el-GR" sz="2600" spc="-1" strike="noStrike">
                <a:solidFill>
                  <a:srgbClr val="0d0d0d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Its ports, road and rail</a:t>
            </a:r>
            <a:r>
              <a:rPr b="1" lang="el-GR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networ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Its storage and air transport facilities 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buClr>
                <a:srgbClr val="0d0d0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The related logistic</a:t>
            </a:r>
            <a:r>
              <a:rPr b="1" lang="el-GR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servi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0" y="0"/>
            <a:ext cx="12192120" cy="57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AEOLIX</a:t>
            </a:r>
            <a:r>
              <a:rPr b="1" lang="el-GR" sz="2800" spc="-1" strike="noStrike" u="sng">
                <a:solidFill>
                  <a:srgbClr val="27457b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an ambitious project kicked off under the EC</a:t>
            </a:r>
            <a:r>
              <a:rPr b="1" lang="el-GR" sz="2800" spc="-1" strike="noStrike">
                <a:solidFill>
                  <a:srgbClr val="27457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Horizon 2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4 - Ορθογώνιο"/>
          <p:cNvSpPr/>
          <p:nvPr/>
        </p:nvSpPr>
        <p:spPr>
          <a:xfrm>
            <a:off x="304812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4 - Στρογγυλεμένο ορθογώνιο"/>
          <p:cNvSpPr/>
          <p:nvPr/>
        </p:nvSpPr>
        <p:spPr>
          <a:xfrm>
            <a:off x="709560" y="1359000"/>
            <a:ext cx="10245600" cy="4136760"/>
          </a:xfrm>
          <a:prstGeom prst="roundRect">
            <a:avLst>
              <a:gd name="adj" fmla="val 16667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EOLIX was launched in September 2016 with the aim of contributing to the priorities of the EU policy for a digital single market, but also the optimization of cargo flows, the facilitation of supply chain management, the reduction of administrative burdens and to make better use of existing resou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0" y="155520"/>
            <a:ext cx="1219212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AEOLIX will develop a platform for</a:t>
            </a:r>
            <a:r>
              <a:rPr b="1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ng logistic informa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 characteris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a - and cross –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ediate (real - time) exchange of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of logistics - related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4 - Ορθογώνιο"/>
          <p:cNvSpPr/>
          <p:nvPr/>
        </p:nvSpPr>
        <p:spPr>
          <a:xfrm>
            <a:off x="3048120" y="310500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3"/>
          <p:cNvSpPr/>
          <p:nvPr/>
        </p:nvSpPr>
        <p:spPr>
          <a:xfrm>
            <a:off x="0" y="328680"/>
            <a:ext cx="11673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0" y="311040"/>
            <a:ext cx="12192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Living Lab 12: Digitalization of freight transport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zech Republic, Germany, Greece, Romania and Serb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im is to test electronic consignment notes (e-CM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cross-border trans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using e-CMR for the trial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ransport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r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s the five countries will be able to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 data electron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 logistics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hange data  in real time via a mobile phone or tab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4 - Ορθογώνιο"/>
          <p:cNvSpPr/>
          <p:nvPr/>
        </p:nvSpPr>
        <p:spPr>
          <a:xfrm>
            <a:off x="2994120" y="307008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3"/>
          <p:cNvSpPr/>
          <p:nvPr/>
        </p:nvSpPr>
        <p:spPr>
          <a:xfrm>
            <a:off x="0" y="520560"/>
            <a:ext cx="11673000" cy="19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4 - Ορθογώνιο"/>
          <p:cNvSpPr/>
          <p:nvPr/>
        </p:nvSpPr>
        <p:spPr>
          <a:xfrm>
            <a:off x="0" y="1366920"/>
            <a:ext cx="9837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THANK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"/>
              </a:rPr>
              <a:t>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3"/>
          <p:cNvSpPr/>
          <p:nvPr/>
        </p:nvSpPr>
        <p:spPr>
          <a:xfrm>
            <a:off x="68400" y="311040"/>
            <a:ext cx="11945880" cy="11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GREEK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trategically lo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ould easily be transformed into regional logistic hu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goods coming from Asia to the European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iraeus,  Thessaloniki, Igoumenitsa and Pat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e ports for Trans European Network of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or maritime connections to the European Corridor of Orient / East Med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idor that connects large parts of Central Europe with ports of the North, Baltic, Black and Mediterranean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2"/>
          <a:stretch/>
        </p:blipFill>
        <p:spPr>
          <a:xfrm>
            <a:off x="25495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68400" y="311040"/>
            <a:ext cx="1194588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68400" y="311040"/>
            <a:ext cx="11945880" cy="55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1531800" y="-6480"/>
            <a:ext cx="912024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36440" y="311040"/>
            <a:ext cx="11945880" cy="10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27457b"/>
                </a:solidFill>
                <a:uFillTx/>
                <a:latin typeface="Arial Black"/>
              </a:rPr>
              <a:t>Port of Pira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has increased the trade volume of T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y 7,5 times in the period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2008 – 2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se to the main Mediterranean maritime route (210 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 significant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oth as a container port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as a car term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frastructure and natural dep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 the accommodation of ev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largest modern container 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3"/>
          <p:cNvSpPr/>
          <p:nvPr/>
        </p:nvSpPr>
        <p:spPr>
          <a:xfrm>
            <a:off x="136440" y="311040"/>
            <a:ext cx="11945880" cy="73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27457b"/>
                </a:solidFill>
                <a:uFillTx/>
                <a:latin typeface="Arial Black"/>
              </a:rPr>
              <a:t>Port of Pira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ration under a free zone type II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cale of tariffs based on the volume of transhipment containers and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petitive storage f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information system supporting port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perational and safety standards according to international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4 hour - 365 day operation of the Container and Car Ter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3"/>
          <p:cNvSpPr/>
          <p:nvPr/>
        </p:nvSpPr>
        <p:spPr>
          <a:xfrm>
            <a:off x="96840" y="311040"/>
            <a:ext cx="11936520" cy="9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27457b"/>
                </a:solidFill>
                <a:uFillTx/>
                <a:latin typeface="Arial Black"/>
              </a:rPr>
              <a:t>Port of Pirae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tended feeder services connecting the 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th almost all main ports in the Mediterran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information system supporting port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nce 201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raeus Container Terminal joined forces with the international Airport of Athens in order to provide integrated intermodal transport services with project sea -n-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ort of Piraeus provides ac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a large logistics center in Thriassio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 high-speed cargo train route leading into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91960" y="1371600"/>
            <a:ext cx="114984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127080" y="311040"/>
            <a:ext cx="11915640" cy="11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 Black"/>
              </a:rPr>
              <a:t>LOGISTICS</a:t>
            </a:r>
            <a:r>
              <a:rPr b="1" lang="en-US" sz="2800" spc="-1" strike="noStrike" u="sng">
                <a:solidFill>
                  <a:srgbClr val="27457b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27457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a sector with strategic importance and large  potential for</a:t>
            </a:r>
            <a:r>
              <a:rPr b="1" lang="el-GR" sz="2800" spc="-1" strike="noStrike">
                <a:solidFill>
                  <a:srgbClr val="27457b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27457b"/>
                </a:solidFill>
                <a:latin typeface="Arial"/>
              </a:rPr>
              <a:t>Gree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ider Transport and Logistics sector in Greece has gradually become one of the most important sectors of the Greek economy, contributing to the domestic GDP by 10.85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bout 20 billion eur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ttracting  international freight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eographical position of the country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establish Greece as the logistics hub of North-East Eur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ece should mainly aim at</a:t>
            </a:r>
            <a:r>
              <a:rPr b="0" lang="el-GR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ransit fre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provision of added valu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ranshipment freight continues to be incr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d0d0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7T22:29:58Z</dcterms:created>
  <dc:creator>Andreas</dc:creator>
  <dc:description/>
  <dc:language>en-US</dc:language>
  <cp:lastModifiedBy>Yana Brynkina</cp:lastModifiedBy>
  <cp:lastPrinted>2018-11-19T12:32:00Z</cp:lastPrinted>
  <dcterms:modified xsi:type="dcterms:W3CDTF">2018-11-19T15:46:38Z</dcterms:modified>
  <cp:revision>107</cp:revision>
  <dc:subject/>
  <dc:title>PowerPoint Presentation</dc:title>
</cp:coreProperties>
</file>