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6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39.png" ContentType="image/png"/>
  <Override PartName="/ppt/media/image64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117.png" ContentType="image/png"/>
  <Override PartName="/ppt/media/image32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9.jpeg" ContentType="image/jpeg"/>
  <Override PartName="/ppt/media/image36.png" ContentType="image/pn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8.jpeg" ContentType="image/jpeg"/>
  <Override PartName="/ppt/media/image26.png" ContentType="image/png"/>
  <Override PartName="/ppt/media/image91.png" ContentType="image/png"/>
  <Override PartName="/ppt/media/image43.jpeg" ContentType="image/jpeg"/>
  <Override PartName="/ppt/media/image93.png" ContentType="image/png"/>
  <Override PartName="/ppt/media/image5.png" ContentType="image/png"/>
  <Override PartName="/ppt/media/image98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84.png" ContentType="image/png"/>
  <Override PartName="/ppt/media/image6.png" ContentType="image/png"/>
  <Override PartName="/ppt/media/image18.png" ContentType="image/png"/>
  <Override PartName="/ppt/media/image42.jpeg" ContentType="image/jpeg"/>
  <Override PartName="/ppt/media/image83.png" ContentType="image/png"/>
  <Override PartName="/ppt/media/image29.png" ContentType="image/png"/>
  <Override PartName="/ppt/media/image94.png" ContentType="image/png"/>
  <Override PartName="/ppt/media/image25.jpeg" ContentType="image/jpeg"/>
  <Override PartName="/ppt/media/image56.jpeg" ContentType="image/jpeg"/>
  <Override PartName="/ppt/media/image3.png" ContentType="image/png"/>
  <Override PartName="/ppt/media/image15.png" ContentType="image/png"/>
  <Override PartName="/ppt/media/image80.png" ContentType="image/png"/>
  <Override PartName="/ppt/media/image92.jpeg" ContentType="image/jpeg"/>
  <Override PartName="/ppt/media/image112.jpeg" ContentType="image/jpeg"/>
  <Override PartName="/ppt/media/image17.jpeg" ContentType="image/jpeg"/>
  <Override PartName="/ppt/media/image116.png" ContentType="image/png"/>
  <Override PartName="/ppt/media/image57.png" ContentType="image/png"/>
  <Override PartName="/ppt/media/image49.png" ContentType="image/png"/>
  <Override PartName="/ppt/media/image65.jpeg" ContentType="image/jpeg"/>
  <Override PartName="/ppt/media/image100.png" ContentType="image/png"/>
  <Override PartName="/ppt/media/image12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47.png" ContentType="image/png"/>
  <Override PartName="/ppt/media/image35.jpeg" ContentType="image/jpeg"/>
  <Override PartName="/ppt/media/image72.jpeg" ContentType="image/jpeg"/>
  <Override PartName="/ppt/media/image74.jpeg" ContentType="image/jpeg"/>
  <Override PartName="/ppt/media/image78.png" ContentType="image/png"/>
  <Override PartName="/ppt/media/image79.png" ContentType="image/png"/>
  <Override PartName="/ppt/media/image86.png" ContentType="image/png"/>
  <Override PartName="/ppt/media/image88.jpeg" ContentType="image/jpeg"/>
  <Override PartName="/ppt/media/image96.jpeg" ContentType="image/jpeg"/>
  <Override PartName="/ppt/media/image125.png" ContentType="image/png"/>
  <Override PartName="/ppt/media/image76.jpeg" ContentType="image/jpeg"/>
  <Override PartName="/ppt/media/image16.png" ContentType="image/png"/>
  <Override PartName="/ppt/media/image95.png" ContentType="image/png"/>
  <Override PartName="/ppt/media/image103.jpeg" ContentType="image/jpeg"/>
  <Override PartName="/ppt/media/image120.png" ContentType="image/png"/>
  <Override PartName="/ppt/media/image126.png" ContentType="image/png"/>
  <Override PartName="/ppt/media/image114.png" ContentType="image/png"/>
  <Override PartName="/ppt/media/image77.jpeg" ContentType="image/jpeg"/>
  <Override PartName="/ppt/media/image99.png" ContentType="image/png"/>
  <Override PartName="/ppt/media/image124.png" ContentType="image/png"/>
  <Override PartName="/ppt/media/image108.png" ContentType="image/png"/>
  <Override PartName="/ppt/media/image123.png" ContentType="image/png"/>
  <Override PartName="/ppt/media/image106.jpeg" ContentType="image/jpeg"/>
  <Override PartName="/ppt/media/image111.png" ContentType="image/png"/>
  <Override PartName="/ppt/media/image19.jpeg" ContentType="image/jpeg"/>
  <Override PartName="/ppt/media/image122.png" ContentType="image/png"/>
  <Override PartName="/ppt/media/image101.png" ContentType="image/png"/>
  <Override PartName="/ppt/media/image85.jpeg" ContentType="image/jpeg"/>
  <Override PartName="/ppt/media/image63.png" ContentType="image/png"/>
  <Override PartName="/ppt/media/image113.jpeg" ContentType="image/jpeg"/>
  <Override PartName="/ppt/media/image90.png" ContentType="image/png"/>
  <Override PartName="/ppt/media/image81.jpeg" ContentType="image/jpeg"/>
  <Override PartName="/ppt/media/image105.png" ContentType="image/png"/>
  <Override PartName="/ppt/media/image104.png" ContentType="image/png"/>
  <Override PartName="/ppt/media/image71.jpeg" ContentType="image/jpeg"/>
  <Override PartName="/ppt/media/image70.jpeg" ContentType="image/jpeg"/>
  <Override PartName="/ppt/media/image69.jpeg" ContentType="image/jpeg"/>
  <Override PartName="/ppt/media/image89.png" ContentType="image/png"/>
  <Override PartName="/ppt/media/image68.png" ContentType="image/png"/>
  <Override PartName="/ppt/media/image61.png" ContentType="image/png"/>
  <Override PartName="/ppt/media/image115.wmf" ContentType="image/x-wmf"/>
  <Override PartName="/ppt/media/image67.png" ContentType="image/png"/>
  <Override PartName="/ppt/media/image60.png" ContentType="image/png"/>
  <Override PartName="/ppt/media/image110.jpeg" ContentType="image/jpeg"/>
  <Override PartName="/ppt/media/image27.png" ContentType="image/png"/>
  <Override PartName="/ppt/media/image73.jpeg" ContentType="image/jpeg"/>
  <Override PartName="/ppt/media/image24.png" ContentType="image/png"/>
  <Override PartName="/ppt/media/image119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58.png" ContentType="image/png"/>
  <Override PartName="/ppt/media/image28.jpeg" ContentType="image/jpeg"/>
  <Override PartName="/ppt/media/image121.png" ContentType="image/png"/>
  <Override PartName="/ppt/media/image11.jpeg" ContentType="image/jpeg"/>
  <Override PartName="/ppt/media/image87.jpeg" ContentType="image/jpeg"/>
  <Override PartName="/ppt/media/image14.jpeg" ContentType="image/jpeg"/>
  <Override PartName="/ppt/media/image41.jpeg" ContentType="image/jpeg"/>
  <Override PartName="/ppt/media/image10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11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7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9"/>
          </p:nvPr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9799-160A-4099-A66D-C4EAB3F3F15E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CH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7" name="Espace réservé du numéro de diapositive 3"/>
          <p:cNvSpPr/>
          <p:nvPr/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D118-6B7C-4082-86B4-F454D82F882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DFDDA05-1692-46C1-8588-3669424A8065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3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liennummernplatzhalter 3"/>
          <p:cNvSpPr/>
          <p:nvPr/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2385-7662-4CAA-9DB5-09513358BC4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Espace réservé du numéro de diapositive 3"/>
          <p:cNvSpPr/>
          <p:nvPr/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1043-65DC-4F8B-8A5A-172F02CE4ABB}" type="slidenum">
              <a:rPr b="0" lang="fr-CH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9" name="Espace réservé du numéro de diapositive 3"/>
          <p:cNvSpPr/>
          <p:nvPr/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E6ADCE5-5A18-418B-8F78-96C5A958FA7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3A69-988D-47AD-8B3F-791E47832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675D-7B6E-44B1-B967-E2AD84A8F10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02DF7-53C1-499D-9EEE-690F2525B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A946-3ACB-4F66-BE37-B7F765E5443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87D21-9687-4976-B985-6FF85CB43AB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8D88E-F728-4750-9293-545D51CD792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9868F-FD5F-4A92-8385-42C89AE711A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8CA93-F4CC-4D05-9911-6C9A74D3076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2C17B-8736-4EDF-ADFA-AFEC02E26FE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AD002-E66B-4CF9-BB8E-77E43AC0976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E3987-A1D3-4CC5-AAC3-045B83A93C5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E67CC-A986-4397-9265-06D6AE113D1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5181A-722B-414C-A7F6-2AFECD0E17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02F1B-59E1-47C4-92CB-98D976687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955A-98A2-4FE3-9F21-00FD12135E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41D42-AAAC-4FD1-AB86-6DFAA15880A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52E3-89A3-497C-A840-3D027227B26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5FF3-D77C-40A2-9877-976A7FF2DC6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7B99-33A6-41E4-8691-C95CEDB7CB3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8AB5-C932-479C-B407-B882FE882C3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5082-7467-43C5-867C-7D2A321C23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4188-3DA9-4038-B3B9-1D679EA0F3C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7DFA-42D2-406A-8A64-4973F7E889A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69D9-5E09-4D7B-B24F-42BBD94AE8C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124C-935F-4E4A-8829-4BF430F7518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9F74-364B-47C2-8D4A-9FCCBF9E5C0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FA7C-704A-4A33-A644-F9520D517ED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A98D-BF9E-4CEE-AF1C-B1F09132E84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14DF-95BE-40B0-A3C5-01F644F5153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1788-3EE0-4C7F-92AA-7C058434931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F3C2-5203-4901-87EC-6351DB917B3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8C54-21B7-424B-BC21-BAE629FB3D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45BF-377F-4809-9B66-811AAB3DDBE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55B4-25A0-4043-83D5-54413539964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3F26-0CE7-4F27-9BA7-1A8A70E01AE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EBC9-C8FE-42AA-95A4-106BA9692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44C2-EF7B-4D38-BB69-EAAE54776CF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AFD7-7ABC-4043-AE7E-D882B6EC023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BB19-B9BD-4416-932C-2D03C87C07E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C639-9ECA-4377-9AD4-EA0CF44E8E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2E74-46AF-42A8-A604-E4548CF6DC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94B-3F33-4F59-A1BF-D7367342AA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98B-0FB5-4A26-8C14-6B79279289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FB8-38AF-485B-800A-B9F7956AFD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E87-69BE-4A62-9975-8FB8861DCB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2F1-CE6E-4B9F-AA18-9DE8BB071F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1C5E-FB28-4973-8E4C-DAFCA02275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B85-318A-4AFB-9F1B-7AD97A387B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2AF-37A0-47E9-874E-6BF7EB8E58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18B-0568-47C2-A8D9-820ACC45E1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5EC-F69F-43BB-8FF7-A11E029801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531-6219-4350-B421-AE9A684B63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403-F4DD-48F7-BFCD-E601E951A2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29A-720C-498F-BF34-3D633C6760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F514-6644-4B38-8C24-E4721F3236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6FA15-400E-4906-AD8B-25058F278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7226-537B-4930-BA9A-0B0D1CA24C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70A11-156E-4032-830F-830420CF866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1CAB0-18FE-4F43-9EAC-949C5EE0E7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6FD1D-67DB-44EA-9B23-26323EC092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169D1-2256-4E06-8558-3AE235B492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A7B98-58DF-407A-B8E3-23E87EA635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B7E02-9CA3-454E-B320-4AF58598D9B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1AF9A-745A-4BB7-B674-73DA0B76CC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041F0-E0B3-494E-A73F-5DFFF906A4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F0BA0-7B37-4B2C-8CAD-5BCD705076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30EDD-D84C-4D85-8D48-5839A5B22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C4B4-CFDC-41F2-AAC8-2C182DE64F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DE2B3-B8C1-4689-B268-322DF400FFA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F5F8-8559-4B76-90E2-4A8046ABC6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0EE9-0A9D-443A-B342-B1EF14BDD4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FF53-D322-4F6C-910A-288420806ED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8840-C1AD-40D3-AAA0-0544A9612ABF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369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5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3C96-D97A-4DDA-9F60-FE8514245AF3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41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45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532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573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6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10AC-8E00-43AB-8911-FBBBDEC96FB6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61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65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8"/>
          <p:cNvSpPr/>
          <p:nvPr/>
        </p:nvSpPr>
        <p:spPr>
          <a:xfrm>
            <a:off x="571680" y="1868400"/>
            <a:ext cx="564840" cy="56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B504-C487-42C2-BDDF-BC0D6A6C2C34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BD4B-9534-48F1-BE71-50D1B110D0B2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124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65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4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5243-5A3D-45D9-A821-D90088F0A174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07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4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328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it-rail.org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jpeg"/><Relationship Id="rId17" Type="http://schemas.openxmlformats.org/officeDocument/2006/relationships/image" Target="../media/image18.pn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jpeg"/><Relationship Id="rId23" Type="http://schemas.openxmlformats.org/officeDocument/2006/relationships/image" Target="../media/image24.png"/><Relationship Id="rId24" Type="http://schemas.openxmlformats.org/officeDocument/2006/relationships/image" Target="../media/image25.jpe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jpeg"/><Relationship Id="rId28" Type="http://schemas.openxmlformats.org/officeDocument/2006/relationships/image" Target="../media/image29.png"/><Relationship Id="rId29" Type="http://schemas.openxmlformats.org/officeDocument/2006/relationships/image" Target="../media/image30.jpeg"/><Relationship Id="rId30" Type="http://schemas.openxmlformats.org/officeDocument/2006/relationships/image" Target="../media/image31.png"/><Relationship Id="rId31" Type="http://schemas.openxmlformats.org/officeDocument/2006/relationships/image" Target="../media/image32.jpeg"/><Relationship Id="rId32" Type="http://schemas.openxmlformats.org/officeDocument/2006/relationships/image" Target="../media/image33.png"/><Relationship Id="rId33" Type="http://schemas.openxmlformats.org/officeDocument/2006/relationships/image" Target="../media/image34.jpeg"/><Relationship Id="rId34" Type="http://schemas.openxmlformats.org/officeDocument/2006/relationships/image" Target="../media/image35.jpeg"/><Relationship Id="rId35" Type="http://schemas.openxmlformats.org/officeDocument/2006/relationships/image" Target="../media/image36.png"/><Relationship Id="rId36" Type="http://schemas.openxmlformats.org/officeDocument/2006/relationships/image" Target="../media/image37.jpeg"/><Relationship Id="rId37" Type="http://schemas.openxmlformats.org/officeDocument/2006/relationships/image" Target="../media/image38.jpeg"/><Relationship Id="rId38" Type="http://schemas.openxmlformats.org/officeDocument/2006/relationships/image" Target="../media/image39.png"/><Relationship Id="rId39" Type="http://schemas.openxmlformats.org/officeDocument/2006/relationships/image" Target="../media/image40.jpeg"/><Relationship Id="rId40" Type="http://schemas.openxmlformats.org/officeDocument/2006/relationships/image" Target="../media/image41.jpeg"/><Relationship Id="rId41" Type="http://schemas.openxmlformats.org/officeDocument/2006/relationships/image" Target="../media/image42.jpeg"/><Relationship Id="rId42" Type="http://schemas.openxmlformats.org/officeDocument/2006/relationships/image" Target="../media/image43.jpeg"/><Relationship Id="rId43" Type="http://schemas.openxmlformats.org/officeDocument/2006/relationships/image" Target="../media/image44.png"/><Relationship Id="rId44" Type="http://schemas.openxmlformats.org/officeDocument/2006/relationships/image" Target="../media/image45.jpeg"/><Relationship Id="rId45" Type="http://schemas.openxmlformats.org/officeDocument/2006/relationships/image" Target="../media/image46.png"/><Relationship Id="rId46" Type="http://schemas.openxmlformats.org/officeDocument/2006/relationships/image" Target="../media/image47.png"/><Relationship Id="rId47" Type="http://schemas.openxmlformats.org/officeDocument/2006/relationships/image" Target="../media/image48.png"/><Relationship Id="rId48" Type="http://schemas.openxmlformats.org/officeDocument/2006/relationships/image" Target="../media/image49.png"/><Relationship Id="rId49" Type="http://schemas.openxmlformats.org/officeDocument/2006/relationships/image" Target="../media/image50.jpeg"/><Relationship Id="rId50" Type="http://schemas.openxmlformats.org/officeDocument/2006/relationships/image" Target="../media/image51.png"/><Relationship Id="rId51" Type="http://schemas.openxmlformats.org/officeDocument/2006/relationships/image" Target="../media/image52.png"/><Relationship Id="rId52" Type="http://schemas.openxmlformats.org/officeDocument/2006/relationships/image" Target="../media/image53.jpeg"/><Relationship Id="rId53" Type="http://schemas.openxmlformats.org/officeDocument/2006/relationships/image" Target="../media/image54.jpeg"/><Relationship Id="rId54" Type="http://schemas.openxmlformats.org/officeDocument/2006/relationships/image" Target="../media/image55.png"/><Relationship Id="rId55" Type="http://schemas.openxmlformats.org/officeDocument/2006/relationships/image" Target="../media/image56.jpeg"/><Relationship Id="rId56" Type="http://schemas.openxmlformats.org/officeDocument/2006/relationships/image" Target="../media/image57.png"/><Relationship Id="rId57" Type="http://schemas.openxmlformats.org/officeDocument/2006/relationships/image" Target="../media/image58.png"/><Relationship Id="rId58" Type="http://schemas.openxmlformats.org/officeDocument/2006/relationships/image" Target="../media/image59.png"/><Relationship Id="rId59" Type="http://schemas.openxmlformats.org/officeDocument/2006/relationships/image" Target="../media/image60.png"/><Relationship Id="rId60" Type="http://schemas.openxmlformats.org/officeDocument/2006/relationships/image" Target="../media/image61.png"/><Relationship Id="rId61" Type="http://schemas.openxmlformats.org/officeDocument/2006/relationships/image" Target="../media/image62.jpeg"/><Relationship Id="rId62" Type="http://schemas.openxmlformats.org/officeDocument/2006/relationships/image" Target="../media/image63.png"/><Relationship Id="rId63" Type="http://schemas.openxmlformats.org/officeDocument/2006/relationships/image" Target="../media/image64.jpeg"/><Relationship Id="rId64" Type="http://schemas.openxmlformats.org/officeDocument/2006/relationships/image" Target="../media/image65.jpeg"/><Relationship Id="rId65" Type="http://schemas.openxmlformats.org/officeDocument/2006/relationships/image" Target="../media/image66.jpeg"/><Relationship Id="rId66" Type="http://schemas.openxmlformats.org/officeDocument/2006/relationships/image" Target="../media/image67.png"/><Relationship Id="rId67" Type="http://schemas.openxmlformats.org/officeDocument/2006/relationships/image" Target="../media/image68.png"/><Relationship Id="rId68" Type="http://schemas.openxmlformats.org/officeDocument/2006/relationships/image" Target="../media/image69.jpeg"/><Relationship Id="rId69" Type="http://schemas.openxmlformats.org/officeDocument/2006/relationships/image" Target="../media/image70.jpeg"/><Relationship Id="rId70" Type="http://schemas.openxmlformats.org/officeDocument/2006/relationships/image" Target="../media/image71.jpeg"/><Relationship Id="rId71" Type="http://schemas.openxmlformats.org/officeDocument/2006/relationships/image" Target="../media/image72.jpeg"/><Relationship Id="rId72" Type="http://schemas.openxmlformats.org/officeDocument/2006/relationships/image" Target="../media/image73.jpeg"/><Relationship Id="rId73" Type="http://schemas.openxmlformats.org/officeDocument/2006/relationships/image" Target="../media/image74.jpeg"/><Relationship Id="rId74" Type="http://schemas.openxmlformats.org/officeDocument/2006/relationships/image" Target="../media/image75.jpeg"/><Relationship Id="rId75" Type="http://schemas.openxmlformats.org/officeDocument/2006/relationships/image" Target="../media/image76.jpeg"/><Relationship Id="rId76" Type="http://schemas.openxmlformats.org/officeDocument/2006/relationships/image" Target="../media/image77.jpeg"/><Relationship Id="rId77" Type="http://schemas.openxmlformats.org/officeDocument/2006/relationships/image" Target="../media/image78.png"/><Relationship Id="rId78" Type="http://schemas.openxmlformats.org/officeDocument/2006/relationships/image" Target="../media/image79.png"/><Relationship Id="rId79" Type="http://schemas.openxmlformats.org/officeDocument/2006/relationships/image" Target="../media/image80.png"/><Relationship Id="rId80" Type="http://schemas.openxmlformats.org/officeDocument/2006/relationships/image" Target="../media/image81.jpeg"/><Relationship Id="rId81" Type="http://schemas.openxmlformats.org/officeDocument/2006/relationships/image" Target="../media/image82.jpeg"/><Relationship Id="rId82" Type="http://schemas.openxmlformats.org/officeDocument/2006/relationships/image" Target="../media/image83.png"/><Relationship Id="rId83" Type="http://schemas.openxmlformats.org/officeDocument/2006/relationships/image" Target="../media/image84.png"/><Relationship Id="rId84" Type="http://schemas.openxmlformats.org/officeDocument/2006/relationships/image" Target="../media/image85.jpeg"/><Relationship Id="rId85" Type="http://schemas.openxmlformats.org/officeDocument/2006/relationships/image" Target="../media/image86.png"/><Relationship Id="rId86" Type="http://schemas.openxmlformats.org/officeDocument/2006/relationships/image" Target="../media/image87.jpeg"/><Relationship Id="rId87" Type="http://schemas.openxmlformats.org/officeDocument/2006/relationships/image" Target="../media/image88.jpeg"/><Relationship Id="rId88" Type="http://schemas.openxmlformats.org/officeDocument/2006/relationships/image" Target="../media/image89.png"/><Relationship Id="rId89" Type="http://schemas.openxmlformats.org/officeDocument/2006/relationships/image" Target="../media/image90.png"/><Relationship Id="rId90" Type="http://schemas.openxmlformats.org/officeDocument/2006/relationships/image" Target="../media/image91.png"/><Relationship Id="rId91" Type="http://schemas.openxmlformats.org/officeDocument/2006/relationships/image" Target="../media/image92.jpeg"/><Relationship Id="rId92" Type="http://schemas.openxmlformats.org/officeDocument/2006/relationships/image" Target="../media/image93.png"/><Relationship Id="rId93" Type="http://schemas.openxmlformats.org/officeDocument/2006/relationships/image" Target="../media/image94.png"/><Relationship Id="rId94" Type="http://schemas.openxmlformats.org/officeDocument/2006/relationships/image" Target="../media/image95.png"/><Relationship Id="rId95" Type="http://schemas.openxmlformats.org/officeDocument/2006/relationships/image" Target="../media/image96.jpeg"/><Relationship Id="rId96" Type="http://schemas.openxmlformats.org/officeDocument/2006/relationships/image" Target="../media/image97.jpeg"/><Relationship Id="rId97" Type="http://schemas.openxmlformats.org/officeDocument/2006/relationships/image" Target="../media/image98.jpeg"/><Relationship Id="rId98" Type="http://schemas.openxmlformats.org/officeDocument/2006/relationships/image" Target="../media/image99.png"/><Relationship Id="rId99" Type="http://schemas.openxmlformats.org/officeDocument/2006/relationships/image" Target="../media/image100.png"/><Relationship Id="rId100" Type="http://schemas.openxmlformats.org/officeDocument/2006/relationships/image" Target="../media/image101.png"/><Relationship Id="rId101" Type="http://schemas.openxmlformats.org/officeDocument/2006/relationships/image" Target="../media/image102.jpeg"/><Relationship Id="rId102" Type="http://schemas.openxmlformats.org/officeDocument/2006/relationships/image" Target="../media/image103.jpeg"/><Relationship Id="rId103" Type="http://schemas.openxmlformats.org/officeDocument/2006/relationships/image" Target="../media/image104.png"/><Relationship Id="rId104" Type="http://schemas.openxmlformats.org/officeDocument/2006/relationships/image" Target="../media/image105.png"/><Relationship Id="rId105" Type="http://schemas.openxmlformats.org/officeDocument/2006/relationships/image" Target="../media/image106.jpeg"/><Relationship Id="rId106" Type="http://schemas.openxmlformats.org/officeDocument/2006/relationships/image" Target="../media/image107.png"/><Relationship Id="rId107" Type="http://schemas.openxmlformats.org/officeDocument/2006/relationships/image" Target="../media/image108.png"/><Relationship Id="rId108" Type="http://schemas.openxmlformats.org/officeDocument/2006/relationships/image" Target="../media/image109.jpeg"/><Relationship Id="rId109" Type="http://schemas.openxmlformats.org/officeDocument/2006/relationships/image" Target="../media/image110.jpeg"/><Relationship Id="rId110" Type="http://schemas.openxmlformats.org/officeDocument/2006/relationships/image" Target="../media/image111.png"/><Relationship Id="rId111" Type="http://schemas.openxmlformats.org/officeDocument/2006/relationships/image" Target="../media/image112.jpeg"/><Relationship Id="rId112" Type="http://schemas.openxmlformats.org/officeDocument/2006/relationships/image" Target="../media/image113.jpeg"/><Relationship Id="rId113" Type="http://schemas.openxmlformats.org/officeDocument/2006/relationships/image" Target="../media/image114.png"/><Relationship Id="rId114" Type="http://schemas.openxmlformats.org/officeDocument/2006/relationships/image" Target="../media/image115.wmf"/><Relationship Id="rId115" Type="http://schemas.openxmlformats.org/officeDocument/2006/relationships/hyperlink" Target="http://www.iraqrailways.com/" TargetMode="External"/><Relationship Id="rId116" Type="http://schemas.openxmlformats.org/officeDocument/2006/relationships/slideLayout" Target="../slideLayouts/slideLayout1.xml"/><Relationship Id="rId1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cesare.brand@cit-rail.org" TargetMode="External"/><Relationship Id="rId2" Type="http://schemas.openxmlformats.org/officeDocument/2006/relationships/image" Target="../media/image1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340000" y="1483920"/>
            <a:ext cx="712800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ECE Working Part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 Rail Transpor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ities of CIT </a:t>
            </a:r>
            <a:endParaRPr b="1" lang="en-US" sz="44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2340000" y="4508640"/>
            <a:ext cx="5904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Geneva, 23 November 2018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Cesare Brand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Secretary General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20400" y="523440"/>
            <a:ext cx="84438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263d74"/>
                </a:solidFill>
                <a:latin typeface="Arial"/>
              </a:rPr>
              <a:t>Comité international des transports ferroviaires</a:t>
            </a:r>
            <a:r>
              <a:rPr b="1" lang="en-GB" sz="2400" spc="-1" strike="noStrike">
                <a:solidFill>
                  <a:srgbClr val="263d74"/>
                </a:solidFill>
                <a:latin typeface="Arial"/>
              </a:rPr>
              <a:t> (CIT) </a:t>
            </a:r>
            <a:br>
              <a:rPr sz="2400"/>
            </a:br>
            <a:br>
              <a:rPr sz="2400"/>
            </a:b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it-rail.org</a:t>
            </a:r>
            <a:endParaRPr b="1" lang="en-US" sz="24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228600" y="1989000"/>
            <a:ext cx="3600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200 railway undertakings and shippin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Association under Swiss law, located in B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as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1800">
              <a:lnSpc>
                <a:spcPct val="95000"/>
              </a:lnSpc>
              <a:spcBef>
                <a:spcPts val="45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MS PGothic"/>
              </a:rPr>
              <a:t>Implementation of COTIF and EU law for practical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1800">
              <a:lnSpc>
                <a:spcPct val="95000"/>
              </a:lnSpc>
              <a:spcBef>
                <a:spcPts val="45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MS PGothic"/>
              </a:rPr>
              <a:t>Standardisation of contractual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1800">
              <a:lnSpc>
                <a:spcPct val="95000"/>
              </a:lnSpc>
              <a:spcBef>
                <a:spcPts val="45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MS PGothic"/>
              </a:rPr>
              <a:t>Representation of the interests of members towards authorities and other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uppieren 6"/>
          <p:cNvGrpSpPr/>
          <p:nvPr/>
        </p:nvGrpSpPr>
        <p:grpSpPr>
          <a:xfrm>
            <a:off x="4243320" y="2552760"/>
            <a:ext cx="4629240" cy="3705120"/>
            <a:chOff x="4243320" y="2552760"/>
            <a:chExt cx="4629240" cy="3705120"/>
          </a:xfrm>
        </p:grpSpPr>
        <p:grpSp>
          <p:nvGrpSpPr>
            <p:cNvPr id="788" name="Gruppieren 7"/>
            <p:cNvGrpSpPr/>
            <p:nvPr/>
          </p:nvGrpSpPr>
          <p:grpSpPr>
            <a:xfrm>
              <a:off x="4243320" y="2552760"/>
              <a:ext cx="4629240" cy="3180600"/>
              <a:chOff x="4243320" y="2552760"/>
              <a:chExt cx="4629240" cy="3180600"/>
            </a:xfrm>
          </p:grpSpPr>
          <p:pic>
            <p:nvPicPr>
              <p:cNvPr id="789" name="Picture 33" descr="26"/>
              <p:cNvPicPr/>
              <p:nvPr/>
            </p:nvPicPr>
            <p:blipFill>
              <a:blip r:embed="rId2"/>
              <a:stretch/>
            </p:blipFill>
            <p:spPr>
              <a:xfrm>
                <a:off x="8504640" y="2983320"/>
                <a:ext cx="362520" cy="15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0" name="Picture 34" descr="27"/>
              <p:cNvPicPr/>
              <p:nvPr/>
            </p:nvPicPr>
            <p:blipFill>
              <a:blip r:embed="rId3"/>
              <a:stretch/>
            </p:blipFill>
            <p:spPr>
              <a:xfrm>
                <a:off x="4251240" y="3294720"/>
                <a:ext cx="46080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1" name="Picture 35" descr="28"/>
              <p:cNvPicPr/>
              <p:nvPr/>
            </p:nvPicPr>
            <p:blipFill>
              <a:blip r:embed="rId4"/>
              <a:stretch/>
            </p:blipFill>
            <p:spPr>
              <a:xfrm>
                <a:off x="4767120" y="3262320"/>
                <a:ext cx="3153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Picture 36" descr="29"/>
              <p:cNvPicPr/>
              <p:nvPr/>
            </p:nvPicPr>
            <p:blipFill>
              <a:blip r:embed="rId5"/>
              <a:stretch/>
            </p:blipFill>
            <p:spPr>
              <a:xfrm>
                <a:off x="5166000" y="3265560"/>
                <a:ext cx="303480" cy="14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3" name="Picture 37" descr="30"/>
              <p:cNvPicPr/>
              <p:nvPr/>
            </p:nvPicPr>
            <p:blipFill>
              <a:blip r:embed="rId6"/>
              <a:stretch/>
            </p:blipFill>
            <p:spPr>
              <a:xfrm>
                <a:off x="5521680" y="3283920"/>
                <a:ext cx="265680" cy="11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4" name="Picture 38" descr="31"/>
              <p:cNvPicPr/>
              <p:nvPr/>
            </p:nvPicPr>
            <p:blipFill>
              <a:blip r:embed="rId7"/>
              <a:stretch/>
            </p:blipFill>
            <p:spPr>
              <a:xfrm>
                <a:off x="5847480" y="3294360"/>
                <a:ext cx="333000" cy="9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Picture 40" descr="33"/>
              <p:cNvPicPr/>
              <p:nvPr/>
            </p:nvPicPr>
            <p:blipFill>
              <a:blip r:embed="rId8"/>
              <a:stretch/>
            </p:blipFill>
            <p:spPr>
              <a:xfrm>
                <a:off x="6554880" y="3194280"/>
                <a:ext cx="262800" cy="25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6" name="Picture 41" descr="34"/>
              <p:cNvPicPr/>
              <p:nvPr/>
            </p:nvPicPr>
            <p:blipFill>
              <a:blip r:embed="rId9"/>
              <a:stretch/>
            </p:blipFill>
            <p:spPr>
              <a:xfrm>
                <a:off x="7277400" y="3334320"/>
                <a:ext cx="575280" cy="7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7" name="Picture 42" descr="35"/>
              <p:cNvPicPr/>
              <p:nvPr/>
            </p:nvPicPr>
            <p:blipFill>
              <a:blip r:embed="rId10"/>
              <a:stretch/>
            </p:blipFill>
            <p:spPr>
              <a:xfrm>
                <a:off x="7910280" y="3344400"/>
                <a:ext cx="65196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8" name="Picture 31" descr="24"/>
              <p:cNvPicPr/>
              <p:nvPr/>
            </p:nvPicPr>
            <p:blipFill>
              <a:blip r:embed="rId11"/>
              <a:stretch/>
            </p:blipFill>
            <p:spPr>
              <a:xfrm>
                <a:off x="7127640" y="3653640"/>
                <a:ext cx="48348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9" name="Picture 45" descr="36"/>
              <p:cNvPicPr/>
              <p:nvPr/>
            </p:nvPicPr>
            <p:blipFill>
              <a:blip r:embed="rId12"/>
              <a:stretch/>
            </p:blipFill>
            <p:spPr>
              <a:xfrm>
                <a:off x="8602200" y="3272040"/>
                <a:ext cx="261360" cy="21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0" name="Picture 46" descr="37"/>
              <p:cNvPicPr/>
              <p:nvPr/>
            </p:nvPicPr>
            <p:blipFill>
              <a:blip r:embed="rId13"/>
              <a:stretch/>
            </p:blipFill>
            <p:spPr>
              <a:xfrm>
                <a:off x="4254840" y="3660120"/>
                <a:ext cx="32940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47" descr="38"/>
              <p:cNvPicPr/>
              <p:nvPr/>
            </p:nvPicPr>
            <p:blipFill>
              <a:blip r:embed="rId14"/>
              <a:stretch/>
            </p:blipFill>
            <p:spPr>
              <a:xfrm>
                <a:off x="4642560" y="3608280"/>
                <a:ext cx="214200" cy="16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2" name="Picture 49" descr="39"/>
              <p:cNvPicPr/>
              <p:nvPr/>
            </p:nvPicPr>
            <p:blipFill>
              <a:blip r:embed="rId15"/>
              <a:stretch/>
            </p:blipFill>
            <p:spPr>
              <a:xfrm>
                <a:off x="4917240" y="3643920"/>
                <a:ext cx="385200" cy="15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Picture 52" descr="41"/>
              <p:cNvPicPr/>
              <p:nvPr/>
            </p:nvPicPr>
            <p:blipFill>
              <a:blip r:embed="rId16"/>
              <a:stretch/>
            </p:blipFill>
            <p:spPr>
              <a:xfrm>
                <a:off x="5349600" y="3678480"/>
                <a:ext cx="4942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4" name="Picture 53" descr="42"/>
              <p:cNvPicPr/>
              <p:nvPr/>
            </p:nvPicPr>
            <p:blipFill>
              <a:blip r:embed="rId17"/>
              <a:srcRect l="0" t="0" r="0" b="48679"/>
              <a:stretch/>
            </p:blipFill>
            <p:spPr>
              <a:xfrm>
                <a:off x="5913360" y="3638880"/>
                <a:ext cx="200160" cy="15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5" name="Picture 55" descr="44"/>
              <p:cNvPicPr/>
              <p:nvPr/>
            </p:nvPicPr>
            <p:blipFill>
              <a:blip r:embed="rId18"/>
              <a:stretch/>
            </p:blipFill>
            <p:spPr>
              <a:xfrm>
                <a:off x="6177600" y="3652920"/>
                <a:ext cx="281520" cy="12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6" name="Picture 56" descr="45"/>
              <p:cNvPicPr/>
              <p:nvPr/>
            </p:nvPicPr>
            <p:blipFill>
              <a:blip r:embed="rId19"/>
              <a:stretch/>
            </p:blipFill>
            <p:spPr>
              <a:xfrm>
                <a:off x="6498000" y="3646440"/>
                <a:ext cx="30708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7" name="Picture 58" descr="46"/>
              <p:cNvPicPr/>
              <p:nvPr/>
            </p:nvPicPr>
            <p:blipFill>
              <a:blip r:embed="rId20"/>
              <a:srcRect l="0" t="0" r="0" b="45210"/>
              <a:stretch/>
            </p:blipFill>
            <p:spPr>
              <a:xfrm>
                <a:off x="6869880" y="3630960"/>
                <a:ext cx="178920" cy="15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8" name="Picture 59" descr="47"/>
              <p:cNvPicPr/>
              <p:nvPr/>
            </p:nvPicPr>
            <p:blipFill>
              <a:blip r:embed="rId21"/>
              <a:srcRect l="0" t="0" r="0" b="3806"/>
              <a:stretch/>
            </p:blipFill>
            <p:spPr>
              <a:xfrm>
                <a:off x="7674120" y="3558600"/>
                <a:ext cx="127440" cy="237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uppieren 125"/>
              <p:cNvGrpSpPr/>
              <p:nvPr/>
            </p:nvGrpSpPr>
            <p:grpSpPr>
              <a:xfrm>
                <a:off x="4254840" y="2552760"/>
                <a:ext cx="4579200" cy="251640"/>
                <a:chOff x="4254840" y="2552760"/>
                <a:chExt cx="4579200" cy="251640"/>
              </a:xfrm>
            </p:grpSpPr>
            <p:pic>
              <p:nvPicPr>
                <p:cNvPr id="810" name="Picture 4" descr="1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4254840" y="2616120"/>
                  <a:ext cx="57456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Picture 5" descr="2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4853160" y="2586960"/>
                  <a:ext cx="349920" cy="14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2" name="Picture 6" descr="3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5253840" y="2602440"/>
                  <a:ext cx="419040" cy="165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3" name="Picture 7" descr="4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720040" y="2570040"/>
                  <a:ext cx="256680" cy="196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4" name="Picture 8" descr="5"/>
                <p:cNvPicPr/>
                <p:nvPr/>
              </p:nvPicPr>
              <p:blipFill>
                <a:blip r:embed="rId26"/>
                <a:srcRect l="0" t="0" r="0" b="71051"/>
                <a:stretch/>
              </p:blipFill>
              <p:spPr>
                <a:xfrm>
                  <a:off x="6040800" y="2612520"/>
                  <a:ext cx="270720" cy="12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5" name="Picture 9" descr="6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6351120" y="2611800"/>
                  <a:ext cx="549360" cy="11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6" name="Picture 10" descr="7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54120" y="2601360"/>
                  <a:ext cx="239040" cy="14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7" name="Picture 11" descr="8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227000" y="2585880"/>
                  <a:ext cx="29088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8" name="Picture 12" descr="9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7602480" y="2552760"/>
                  <a:ext cx="195840" cy="25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9" name="Picture 13" descr="10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7842600" y="2624760"/>
                  <a:ext cx="401040" cy="128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0" name="Picture 14" descr="11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645040" y="2562120"/>
                  <a:ext cx="189000" cy="221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1" name="Grafik 115" descr="AZ_Klein.JPG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278560" y="2626200"/>
                  <a:ext cx="330480" cy="10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22" name="Gruppieren 142"/>
              <p:cNvGrpSpPr/>
              <p:nvPr/>
            </p:nvGrpSpPr>
            <p:grpSpPr>
              <a:xfrm>
                <a:off x="4262760" y="2816280"/>
                <a:ext cx="4180320" cy="353880"/>
                <a:chOff x="4262760" y="2816280"/>
                <a:chExt cx="4180320" cy="353880"/>
              </a:xfrm>
            </p:grpSpPr>
            <p:pic>
              <p:nvPicPr>
                <p:cNvPr id="823" name="Picture 16" descr="12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262760" y="2895480"/>
                  <a:ext cx="33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4" name="Picture 17" descr="13"/>
                <p:cNvPicPr/>
                <p:nvPr/>
              </p:nvPicPr>
              <p:blipFill>
                <a:blip r:embed="rId35"/>
                <a:srcRect l="2577" t="11379" r="3273" b="17027"/>
                <a:stretch/>
              </p:blipFill>
              <p:spPr>
                <a:xfrm>
                  <a:off x="4625280" y="2945880"/>
                  <a:ext cx="380880" cy="13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5" name="Picture 18" descr="14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5037120" y="2916720"/>
                  <a:ext cx="267120" cy="18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6" name="Picture 19" descr="15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5346000" y="2913840"/>
                  <a:ext cx="480960" cy="16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7" name="Picture 20" descr="16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5857560" y="2979720"/>
                  <a:ext cx="609120" cy="87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8" name="Picture 23" descr="19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7067880" y="2971080"/>
                  <a:ext cx="285840" cy="13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9" name="Picture 25" descr="20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7418520" y="2980800"/>
                  <a:ext cx="304560" cy="10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0" name="Picture 26" descr="21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7792920" y="2984040"/>
                  <a:ext cx="22428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1" name="Picture 32" descr="25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22840" y="2816280"/>
                  <a:ext cx="120240" cy="35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Picture 147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8087760" y="2909880"/>
                  <a:ext cx="156600" cy="214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3" name="Grafik 116" descr="17.jpg"/>
                <p:cNvPicPr/>
                <p:nvPr/>
              </p:nvPicPr>
              <p:blipFill>
                <a:blip r:embed="rId44"/>
                <a:srcRect l="0" t="-394" r="0" b="0"/>
                <a:stretch/>
              </p:blipFill>
              <p:spPr>
                <a:xfrm>
                  <a:off x="6502320" y="2988000"/>
                  <a:ext cx="549360" cy="93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4" name="Gruppieren 143"/>
              <p:cNvGrpSpPr/>
              <p:nvPr/>
            </p:nvGrpSpPr>
            <p:grpSpPr>
              <a:xfrm>
                <a:off x="4247280" y="4214880"/>
                <a:ext cx="4617360" cy="555480"/>
                <a:chOff x="4247280" y="4214880"/>
                <a:chExt cx="4617360" cy="555480"/>
              </a:xfrm>
            </p:grpSpPr>
            <p:pic>
              <p:nvPicPr>
                <p:cNvPr id="835" name="Picture 95" descr="76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247600" y="4259880"/>
                  <a:ext cx="29376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Picture 98" descr="78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4247280" y="4591800"/>
                  <a:ext cx="330480" cy="141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Picture 99" descr="79"/>
                <p:cNvPicPr/>
                <p:nvPr/>
              </p:nvPicPr>
              <p:blipFill>
                <a:blip r:embed="rId47"/>
                <a:srcRect l="0" t="0" r="0" b="26049"/>
                <a:stretch/>
              </p:blipFill>
              <p:spPr>
                <a:xfrm>
                  <a:off x="4656240" y="4584960"/>
                  <a:ext cx="161280" cy="18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Picture 100" descr="80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4875480" y="4633200"/>
                  <a:ext cx="401400" cy="8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Picture 101" descr="81"/>
                <p:cNvPicPr/>
                <p:nvPr/>
              </p:nvPicPr>
              <p:blipFill>
                <a:blip r:embed="rId49"/>
                <a:srcRect l="11770" t="35736" r="12048" b="19119"/>
                <a:stretch/>
              </p:blipFill>
              <p:spPr>
                <a:xfrm>
                  <a:off x="5329440" y="4628160"/>
                  <a:ext cx="494280" cy="11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Picture 102" descr="82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5873040" y="4556160"/>
                  <a:ext cx="1857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1" name="Picture 103" descr="83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6114240" y="4581000"/>
                  <a:ext cx="28584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2" name="Picture 104" descr="84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346160" y="4557240"/>
                  <a:ext cx="222840" cy="196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Picture 106" descr="85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687080" y="4552560"/>
                  <a:ext cx="168120" cy="212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4" name="Picture 109" descr="88"/>
                <p:cNvPicPr/>
                <p:nvPr/>
              </p:nvPicPr>
              <p:blipFill>
                <a:blip r:embed="rId54"/>
                <a:srcRect l="2606" t="17733" r="5407" b="28391"/>
                <a:stretch/>
              </p:blipFill>
              <p:spPr>
                <a:xfrm>
                  <a:off x="7936200" y="4577400"/>
                  <a:ext cx="263160" cy="128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Picture 115" descr="Immagine1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8557560" y="4214880"/>
                  <a:ext cx="307080" cy="244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Grafik 118" descr="132.PNG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8249400" y="4569840"/>
                  <a:ext cx="23400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47" name="Gruppieren 144"/>
              <p:cNvGrpSpPr/>
              <p:nvPr/>
            </p:nvGrpSpPr>
            <p:grpSpPr>
              <a:xfrm>
                <a:off x="4251240" y="3633480"/>
                <a:ext cx="4613400" cy="460440"/>
                <a:chOff x="4251240" y="3633480"/>
                <a:chExt cx="4613400" cy="460440"/>
              </a:xfrm>
            </p:grpSpPr>
            <p:pic>
              <p:nvPicPr>
                <p:cNvPr id="848" name="Picture 60" descr="49"/>
                <p:cNvPicPr/>
                <p:nvPr/>
              </p:nvPicPr>
              <p:blipFill>
                <a:blip r:embed="rId57"/>
                <a:srcRect l="16973" t="6171" r="0" b="0"/>
                <a:stretch/>
              </p:blipFill>
              <p:spPr>
                <a:xfrm>
                  <a:off x="4251240" y="3966480"/>
                  <a:ext cx="476640" cy="9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9" name="Picture 61" descr="48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8148960" y="3650760"/>
                  <a:ext cx="715680" cy="9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0" name="Picture 63" descr="50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4767840" y="3934800"/>
                  <a:ext cx="194400" cy="134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1" name="Picture 65" descr="52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4993200" y="3939480"/>
                  <a:ext cx="34416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2" name="Picture 67" descr="54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5368320" y="3929760"/>
                  <a:ext cx="287640" cy="14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3" name="Picture 69" descr="56"/>
                <p:cNvPicPr/>
                <p:nvPr/>
              </p:nvPicPr>
              <p:blipFill>
                <a:blip r:embed="rId62"/>
                <a:srcRect l="0" t="0" r="0" b="71258"/>
                <a:stretch/>
              </p:blipFill>
              <p:spPr>
                <a:xfrm>
                  <a:off x="6381000" y="3977640"/>
                  <a:ext cx="250560" cy="11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4" name="Picture 70" descr="57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6710400" y="3970800"/>
                  <a:ext cx="348840" cy="12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5" name="Grafik 117" descr="ITL_Klein.JPG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7867800" y="3633480"/>
                  <a:ext cx="222840" cy="138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6" name="Gruppieren 145"/>
              <p:cNvGrpSpPr/>
              <p:nvPr/>
            </p:nvGrpSpPr>
            <p:grpSpPr>
              <a:xfrm>
                <a:off x="4243320" y="4563360"/>
                <a:ext cx="4621320" cy="568440"/>
                <a:chOff x="4243320" y="4563360"/>
                <a:chExt cx="4621320" cy="568440"/>
              </a:xfrm>
            </p:grpSpPr>
            <p:pic>
              <p:nvPicPr>
                <p:cNvPr id="857" name="Picture 112" descr="90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8571240" y="4563360"/>
                  <a:ext cx="293400" cy="14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8" name="Picture 116" descr="93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4243320" y="4919760"/>
                  <a:ext cx="257400" cy="15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9" name="Picture 118" descr="95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4853880" y="4938840"/>
                  <a:ext cx="22356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0" name="Picture 120" descr="97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5154480" y="4954680"/>
                  <a:ext cx="338760" cy="13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1" name="Picture 121" descr="98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5595480" y="4921560"/>
                  <a:ext cx="318600" cy="168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2" name="Picture 122" descr="100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6036120" y="4924800"/>
                  <a:ext cx="23724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3" name="Picture 126" descr="103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7221600" y="4942080"/>
                  <a:ext cx="314640" cy="16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4" name="Picture 127" descr="104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6884640" y="4952880"/>
                  <a:ext cx="249840" cy="14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5" name="Picture 129" descr="105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7948440" y="4911840"/>
                  <a:ext cx="16056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6" name="Grafik 119" descr="131.jpg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7627680" y="4887360"/>
                  <a:ext cx="257400" cy="244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7" name="Image 128" descr="RZD.JPG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8168760" y="4927680"/>
                  <a:ext cx="290520" cy="157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8" name="Gruppieren 146"/>
              <p:cNvGrpSpPr/>
              <p:nvPr/>
            </p:nvGrpSpPr>
            <p:grpSpPr>
              <a:xfrm>
                <a:off x="4243320" y="4938480"/>
                <a:ext cx="4629240" cy="472320"/>
                <a:chOff x="4243320" y="4938480"/>
                <a:chExt cx="4629240" cy="472320"/>
              </a:xfrm>
            </p:grpSpPr>
            <p:pic>
              <p:nvPicPr>
                <p:cNvPr id="869" name="Picture 130" descr="106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8566560" y="4938480"/>
                  <a:ext cx="306000" cy="16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0" name="Picture 131" descr="107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4243320" y="5225040"/>
                  <a:ext cx="21168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1" name="Picture 133" descr="108"/>
                <p:cNvPicPr/>
                <p:nvPr/>
              </p:nvPicPr>
              <p:blipFill>
                <a:blip r:embed="rId78"/>
                <a:srcRect l="7708" t="37079" r="0" b="0"/>
                <a:stretch/>
              </p:blipFill>
              <p:spPr>
                <a:xfrm>
                  <a:off x="4563360" y="5276880"/>
                  <a:ext cx="597600" cy="9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2" name="Picture 134" descr="110"/>
                <p:cNvPicPr/>
                <p:nvPr/>
              </p:nvPicPr>
              <p:blipFill>
                <a:blip r:embed="rId79"/>
                <a:srcRect l="22628" t="18935" r="22735" b="20447"/>
                <a:stretch/>
              </p:blipFill>
              <p:spPr>
                <a:xfrm>
                  <a:off x="5255280" y="5272200"/>
                  <a:ext cx="448920" cy="85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3" name="Picture 136" descr="111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5815440" y="5210280"/>
                  <a:ext cx="402120" cy="169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4" name="Picture 137" descr="112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6253200" y="5174640"/>
                  <a:ext cx="234720" cy="20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5" name="Picture 138" descr="113"/>
                <p:cNvPicPr/>
                <p:nvPr/>
              </p:nvPicPr>
              <p:blipFill>
                <a:blip r:embed="rId82"/>
                <a:srcRect l="12150" t="10506" r="9332" b="14664"/>
                <a:stretch/>
              </p:blipFill>
              <p:spPr>
                <a:xfrm>
                  <a:off x="6579360" y="5216040"/>
                  <a:ext cx="268920" cy="17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6" name="Picture 139" descr="115"/>
                <p:cNvPicPr/>
                <p:nvPr/>
              </p:nvPicPr>
              <p:blipFill>
                <a:blip r:embed="rId83"/>
                <a:srcRect l="15332" t="0" r="15136" b="0"/>
                <a:stretch/>
              </p:blipFill>
              <p:spPr>
                <a:xfrm>
                  <a:off x="7342200" y="5281200"/>
                  <a:ext cx="480960" cy="11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7" name="Picture 141" descr="116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7890120" y="5276160"/>
                  <a:ext cx="35136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8" name="Picture 142" descr="117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8281080" y="5187240"/>
                  <a:ext cx="196920" cy="223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9" name="Grafik 120" descr="114.jpg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6959880" y="5204160"/>
                  <a:ext cx="325440" cy="180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0" name="Picture 143" descr="118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8555400" y="5245200"/>
                  <a:ext cx="31716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1" name="Gruppieren 147"/>
              <p:cNvGrpSpPr/>
              <p:nvPr/>
            </p:nvGrpSpPr>
            <p:grpSpPr>
              <a:xfrm>
                <a:off x="4255200" y="3864600"/>
                <a:ext cx="4609080" cy="592560"/>
                <a:chOff x="4255200" y="3864600"/>
                <a:chExt cx="4609080" cy="592560"/>
              </a:xfrm>
            </p:grpSpPr>
            <p:pic>
              <p:nvPicPr>
                <p:cNvPr id="882" name="Picture 71" descr="59"/>
                <p:cNvPicPr/>
                <p:nvPr/>
              </p:nvPicPr>
              <p:blipFill>
                <a:blip r:embed="rId88"/>
                <a:srcRect l="9966" t="0" r="8900" b="11822"/>
                <a:stretch/>
              </p:blipFill>
              <p:spPr>
                <a:xfrm>
                  <a:off x="7122600" y="3928320"/>
                  <a:ext cx="220320" cy="146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3" name="Picture 77" descr="60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7384320" y="3946320"/>
                  <a:ext cx="412200" cy="146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Picture 79" descr="62"/>
                <p:cNvPicPr/>
                <p:nvPr/>
              </p:nvPicPr>
              <p:blipFill>
                <a:blip r:embed="rId90"/>
                <a:srcRect l="7703" t="0" r="7703" b="0"/>
                <a:stretch/>
              </p:blipFill>
              <p:spPr>
                <a:xfrm>
                  <a:off x="7841880" y="3935880"/>
                  <a:ext cx="28152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Picture 80" descr="63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8182440" y="3864600"/>
                  <a:ext cx="157320" cy="24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6" name="Picture 81" descr="64"/>
                <p:cNvPicPr/>
                <p:nvPr/>
              </p:nvPicPr>
              <p:blipFill>
                <a:blip r:embed="rId92"/>
                <a:srcRect l="8346" t="0" r="36588" b="0"/>
                <a:stretch/>
              </p:blipFill>
              <p:spPr>
                <a:xfrm>
                  <a:off x="8420400" y="3911040"/>
                  <a:ext cx="1926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7" name="Picture 82" descr="65"/>
                <p:cNvPicPr/>
                <p:nvPr/>
              </p:nvPicPr>
              <p:blipFill>
                <a:blip r:embed="rId93"/>
                <a:srcRect l="0" t="0" r="0" b="22631"/>
                <a:stretch/>
              </p:blipFill>
              <p:spPr>
                <a:xfrm>
                  <a:off x="8667720" y="3864600"/>
                  <a:ext cx="196560" cy="236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8" name="Picture 83" descr="67"/>
                <p:cNvPicPr/>
                <p:nvPr/>
              </p:nvPicPr>
              <p:blipFill>
                <a:blip r:embed="rId94"/>
                <a:srcRect l="0" t="0" r="0" b="21491"/>
                <a:stretch/>
              </p:blipFill>
              <p:spPr>
                <a:xfrm>
                  <a:off x="4740480" y="4190400"/>
                  <a:ext cx="190440" cy="23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9" name="Picture 85" descr="69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5318640" y="4286880"/>
                  <a:ext cx="410760" cy="103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0" name="Picture 87" descr="70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5020200" y="4246200"/>
                  <a:ext cx="243360" cy="17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1" name="Picture 88" descr="71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6287760" y="4230000"/>
                  <a:ext cx="215280" cy="182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Picture 89" descr="72"/>
                <p:cNvPicPr/>
                <p:nvPr/>
              </p:nvPicPr>
              <p:blipFill>
                <a:blip r:embed="rId98"/>
                <a:srcRect l="0" t="0" r="0" b="20093"/>
                <a:stretch/>
              </p:blipFill>
              <p:spPr>
                <a:xfrm>
                  <a:off x="6591240" y="4241520"/>
                  <a:ext cx="136800" cy="169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3" name="Picture 90" descr="73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7080840" y="4197240"/>
                  <a:ext cx="169200" cy="259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Picture 92" descr="75"/>
                <p:cNvPicPr/>
                <p:nvPr/>
              </p:nvPicPr>
              <p:blipFill>
                <a:blip r:embed="rId100"/>
                <a:srcRect l="2009" t="7054" r="14773" b="26812"/>
                <a:stretch/>
              </p:blipFill>
              <p:spPr>
                <a:xfrm>
                  <a:off x="7869960" y="4229280"/>
                  <a:ext cx="29844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Picture 114" descr="Q:\H Kommunikation\H2 Jahresbericht\H24 2009\Logos Neue Mitglieder 2009\RCH-logo-color.jpg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5783400" y="4286160"/>
                  <a:ext cx="453240" cy="9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Picture 144" descr="66_klein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4255200" y="4285440"/>
                  <a:ext cx="423720" cy="7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97" name="Gruppieren 148"/>
              <p:cNvGrpSpPr/>
              <p:nvPr/>
            </p:nvGrpSpPr>
            <p:grpSpPr>
              <a:xfrm>
                <a:off x="4243320" y="5491080"/>
                <a:ext cx="4629240" cy="242280"/>
                <a:chOff x="4243320" y="5491080"/>
                <a:chExt cx="4629240" cy="242280"/>
              </a:xfrm>
            </p:grpSpPr>
            <p:pic>
              <p:nvPicPr>
                <p:cNvPr id="898" name="Picture 4" descr="120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5029920" y="5553000"/>
                  <a:ext cx="32760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Picture 5" descr="121"/>
                <p:cNvPicPr/>
                <p:nvPr/>
              </p:nvPicPr>
              <p:blipFill>
                <a:blip r:embed="rId104"/>
                <a:srcRect l="0" t="0" r="0" b="10752"/>
                <a:stretch/>
              </p:blipFill>
              <p:spPr>
                <a:xfrm>
                  <a:off x="5420160" y="5552280"/>
                  <a:ext cx="265680" cy="14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0" name="Picture 6" descr="122"/>
                <p:cNvPicPr/>
                <p:nvPr/>
              </p:nvPicPr>
              <p:blipFill>
                <a:blip r:embed="rId105"/>
                <a:stretch/>
              </p:blipFill>
              <p:spPr>
                <a:xfrm>
                  <a:off x="5756400" y="5504040"/>
                  <a:ext cx="301680" cy="21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1" name="Picture 7" descr="123"/>
                <p:cNvPicPr/>
                <p:nvPr/>
              </p:nvPicPr>
              <p:blipFill>
                <a:blip r:embed="rId106"/>
                <a:stretch/>
              </p:blipFill>
              <p:spPr>
                <a:xfrm>
                  <a:off x="6103080" y="5513760"/>
                  <a:ext cx="15732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8" descr="124"/>
                <p:cNvPicPr/>
                <p:nvPr/>
              </p:nvPicPr>
              <p:blipFill>
                <a:blip r:embed="rId107"/>
                <a:stretch/>
              </p:blipFill>
              <p:spPr>
                <a:xfrm>
                  <a:off x="6336720" y="5491080"/>
                  <a:ext cx="178200" cy="242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3" name="Picture 9" descr="125"/>
                <p:cNvPicPr/>
                <p:nvPr/>
              </p:nvPicPr>
              <p:blipFill>
                <a:blip r:embed="rId108"/>
                <a:stretch/>
              </p:blipFill>
              <p:spPr>
                <a:xfrm>
                  <a:off x="7218360" y="5595120"/>
                  <a:ext cx="604800" cy="92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" name="Picture 11" descr="126"/>
                <p:cNvPicPr/>
                <p:nvPr/>
              </p:nvPicPr>
              <p:blipFill>
                <a:blip r:embed="rId109"/>
                <a:stretch/>
              </p:blipFill>
              <p:spPr>
                <a:xfrm>
                  <a:off x="7922520" y="5608800"/>
                  <a:ext cx="53424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5" name="Picture 14" descr="128"/>
                <p:cNvPicPr/>
                <p:nvPr/>
              </p:nvPicPr>
              <p:blipFill>
                <a:blip r:embed="rId110"/>
                <a:stretch/>
              </p:blipFill>
              <p:spPr>
                <a:xfrm>
                  <a:off x="8530200" y="5550480"/>
                  <a:ext cx="342360" cy="14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Picture 144" descr="119"/>
                <p:cNvPicPr/>
                <p:nvPr/>
              </p:nvPicPr>
              <p:blipFill>
                <a:blip r:embed="rId111"/>
                <a:stretch/>
              </p:blipFill>
              <p:spPr>
                <a:xfrm>
                  <a:off x="4243320" y="5568840"/>
                  <a:ext cx="76284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907" name="Picture 135" descr="Q:\H Kommunikation\H2 Jahresbericht\H25 2010\Logos\127.jpg"/>
            <p:cNvPicPr/>
            <p:nvPr/>
          </p:nvPicPr>
          <p:blipFill>
            <a:blip r:embed="rId112"/>
            <a:stretch/>
          </p:blipFill>
          <p:spPr>
            <a:xfrm>
              <a:off x="6573240" y="5553360"/>
              <a:ext cx="532080" cy="1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3813" descr=""/>
            <p:cNvPicPr/>
            <p:nvPr/>
          </p:nvPicPr>
          <p:blipFill>
            <a:blip r:embed="rId113"/>
            <a:stretch/>
          </p:blipFill>
          <p:spPr>
            <a:xfrm>
              <a:off x="7297200" y="4261320"/>
              <a:ext cx="5295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4595" descr=""/>
            <p:cNvPicPr/>
            <p:nvPr/>
          </p:nvPicPr>
          <p:blipFill>
            <a:blip r:embed="rId114"/>
            <a:stretch/>
          </p:blipFill>
          <p:spPr>
            <a:xfrm>
              <a:off x="6492600" y="4646520"/>
              <a:ext cx="791280" cy="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Picture 1024">
              <a:hlinkClick r:id="rId115"/>
            </p:cNvPr>
            <p:cNvSpPr/>
            <p:nvPr/>
          </p:nvSpPr>
          <p:spPr>
            <a:xfrm>
              <a:off x="6791040" y="4205880"/>
              <a:ext cx="2070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Picture 131"/>
            <p:cNvSpPr/>
            <p:nvPr/>
          </p:nvSpPr>
          <p:spPr>
            <a:xfrm>
              <a:off x="4262040" y="5758200"/>
              <a:ext cx="63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Picture 132"/>
            <p:cNvSpPr/>
            <p:nvPr/>
          </p:nvSpPr>
          <p:spPr>
            <a:xfrm>
              <a:off x="5031720" y="5815080"/>
              <a:ext cx="34560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Picture 133"/>
            <p:cNvSpPr/>
            <p:nvPr/>
          </p:nvSpPr>
          <p:spPr>
            <a:xfrm>
              <a:off x="5555160" y="5792400"/>
              <a:ext cx="2167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Picture 134"/>
            <p:cNvSpPr/>
            <p:nvPr/>
          </p:nvSpPr>
          <p:spPr>
            <a:xfrm>
              <a:off x="5930640" y="5800320"/>
              <a:ext cx="169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Picture 135"/>
            <p:cNvSpPr/>
            <p:nvPr/>
          </p:nvSpPr>
          <p:spPr>
            <a:xfrm>
              <a:off x="6582240" y="5824080"/>
              <a:ext cx="5277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Picture 136"/>
            <p:cNvSpPr/>
            <p:nvPr/>
          </p:nvSpPr>
          <p:spPr>
            <a:xfrm>
              <a:off x="7254360" y="5811480"/>
              <a:ext cx="4417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Picture 137"/>
            <p:cNvSpPr/>
            <p:nvPr/>
          </p:nvSpPr>
          <p:spPr>
            <a:xfrm>
              <a:off x="7867080" y="5776560"/>
              <a:ext cx="39240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Picture 136"/>
            <p:cNvSpPr/>
            <p:nvPr/>
          </p:nvSpPr>
          <p:spPr>
            <a:xfrm>
              <a:off x="8412120" y="5804640"/>
              <a:ext cx="35388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Picture 136"/>
            <p:cNvSpPr/>
            <p:nvPr/>
          </p:nvSpPr>
          <p:spPr>
            <a:xfrm>
              <a:off x="4317480" y="6094800"/>
              <a:ext cx="43164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Espace réservé du numéro de diapositive 3"/>
          <p:cNvSpPr/>
          <p:nvPr/>
        </p:nvSpPr>
        <p:spPr>
          <a:xfrm>
            <a:off x="6603840" y="6475320"/>
            <a:ext cx="21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4DA4-9D07-45B0-8784-8A64D14C797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263d74"/>
                </a:solidFill>
                <a:latin typeface="Arial"/>
              </a:rPr>
              <a:t>Main focus of CIT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922" name="Объект 5" descr=""/>
          <p:cNvPicPr/>
          <p:nvPr/>
        </p:nvPicPr>
        <p:blipFill>
          <a:blip r:embed="rId1"/>
          <a:stretch/>
        </p:blipFill>
        <p:spPr>
          <a:xfrm>
            <a:off x="291960" y="1238400"/>
            <a:ext cx="8467920" cy="4870440"/>
          </a:xfrm>
          <a:prstGeom prst="rect">
            <a:avLst/>
          </a:prstGeom>
          <a:ln w="0">
            <a:noFill/>
          </a:ln>
        </p:spPr>
      </p:pic>
      <p:sp>
        <p:nvSpPr>
          <p:cNvPr id="923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8A9B-2477-4816-B44A-49C3526ACA4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Digitisation</a:t>
            </a:r>
            <a:br>
              <a:rPr sz="2800"/>
            </a:br>
            <a:endParaRPr b="1" lang="en-US" sz="28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50640" y="1197000"/>
            <a:ext cx="5445000" cy="496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ail freight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the legal and functional specifications for the electronic consignment note in the manuals of the CI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force since 1.1.2017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Data in cooperation with the CIT prepared the technical specifications f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lectronic consignment note CIM and wagon note CUV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of the electronic CIM at level of railway companies ongoing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gitisation of After Sales documents started (CIT 20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gitisation of the CIM/SMGS Consignment note with OSJD (1th of July 2019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2018/0140: proposal for a Regulation of the European Parliament and of the Council on electronic freight transport information / may 2018 (DTLF)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051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051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051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051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6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7EA8-82BF-466F-BE1A-F57898038CA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3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58560" y="53604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Digitisation</a:t>
            </a:r>
            <a:br>
              <a:rPr sz="2800"/>
            </a:br>
            <a:endParaRPr b="1" lang="en-US" sz="28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30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A0DD-F06C-4F57-9FEB-4EF1A988B1C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Inhaltsplatzhalter 2"/>
          <p:cNvSpPr/>
          <p:nvPr/>
        </p:nvSpPr>
        <p:spPr>
          <a:xfrm>
            <a:off x="324000" y="1247760"/>
            <a:ext cx="5229000" cy="469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al for International Rail Tickets (MIRT) with standards for mobile tickets, print@home, barcodes, etc. – new edition 9 December 20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elines Data Protection (GDP CIT) – available since 1 October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boilerplate contracts for the transfer and processing of personal data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try into force on 1 October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1"/>
          <a:stretch/>
        </p:blipFill>
        <p:spPr>
          <a:xfrm>
            <a:off x="6084720" y="1247760"/>
            <a:ext cx="2016360" cy="2347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3" descr=""/>
          <p:cNvPicPr/>
          <p:nvPr/>
        </p:nvPicPr>
        <p:blipFill>
          <a:blip r:embed="rId2"/>
          <a:stretch/>
        </p:blipFill>
        <p:spPr>
          <a:xfrm>
            <a:off x="6084720" y="3595680"/>
            <a:ext cx="20163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58560" y="53604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Harmonisation of transport law and contracts </a:t>
            </a:r>
            <a:br>
              <a:rPr sz="2800"/>
            </a:br>
            <a:endParaRPr b="1" lang="en-US" sz="28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3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1A6C-C088-44F7-A121-FF3BC4DEB80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Inhaltsplatzhalter 2"/>
          <p:cNvSpPr/>
          <p:nvPr/>
        </p:nvSpPr>
        <p:spPr>
          <a:xfrm>
            <a:off x="324000" y="1247760"/>
            <a:ext cx="5229000" cy="469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ing the use of CIM/SMGS Consignment n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U-Guidelines for the transport of postal items from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ing UNECE for the development of the Unified Railway L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ing OTIF during the revision of the Uniform Rules Concerning the contract of use of the infrastructure (CU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ing the sector  for the revision of the rail passenger rights regulation (PR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Picture 2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168360" cy="2254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3" descr=""/>
          <p:cNvPicPr/>
          <p:nvPr/>
        </p:nvPicPr>
        <p:blipFill>
          <a:blip r:embed="rId2"/>
          <a:stretch/>
        </p:blipFill>
        <p:spPr>
          <a:xfrm>
            <a:off x="5651640" y="3813120"/>
            <a:ext cx="31683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Multimodality  </a:t>
            </a:r>
            <a:br>
              <a:rPr sz="2800"/>
            </a:br>
            <a:endParaRPr b="1" lang="en-US" sz="28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40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7510-4DB8-4B99-956A-3F233B11682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Inhaltsplatzhalter 2"/>
          <p:cNvSpPr/>
          <p:nvPr/>
        </p:nvSpPr>
        <p:spPr>
          <a:xfrm>
            <a:off x="324000" y="893880"/>
            <a:ext cx="5229000" cy="527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TC Rail-See (since 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T Boilerplate contract for Rail-Sea traffic (since 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2017 comparative matrix CMR/ CIM/ SMGS – a basis for further multimodal documents Rail-Road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mework contract on international road-rail traffic based on practical case examples from CIT and IRU members (on-going 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parative table of passenger rights in 4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parative table air-rail legal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oilerplate contracts on air-rail cooperation –  New product for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051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2" descr=""/>
          <p:cNvPicPr/>
          <p:nvPr/>
        </p:nvPicPr>
        <p:blipFill>
          <a:blip r:embed="rId1"/>
          <a:stretch/>
        </p:blipFill>
        <p:spPr>
          <a:xfrm>
            <a:off x="6084720" y="3432240"/>
            <a:ext cx="2303640" cy="2660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3" descr=""/>
          <p:cNvPicPr/>
          <p:nvPr/>
        </p:nvPicPr>
        <p:blipFill>
          <a:blip r:embed="rId2"/>
          <a:stretch/>
        </p:blipFill>
        <p:spPr>
          <a:xfrm>
            <a:off x="6084720" y="870120"/>
            <a:ext cx="23036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57d"/>
                </a:solidFill>
                <a:latin typeface="Arial"/>
              </a:rPr>
              <a:t>CIT Products – www.cit-rail.org</a:t>
            </a:r>
            <a:endParaRPr b="1" lang="en-US" sz="32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945" name="Picture 2" descr=""/>
          <p:cNvPicPr/>
          <p:nvPr/>
        </p:nvPicPr>
        <p:blipFill>
          <a:blip r:embed="rId1"/>
          <a:srcRect l="3691" t="13657" r="4202" b="7105"/>
          <a:stretch/>
        </p:blipFill>
        <p:spPr>
          <a:xfrm>
            <a:off x="1187280" y="1793880"/>
            <a:ext cx="674388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6" name="Flèche droite 9"/>
          <p:cNvSpPr/>
          <p:nvPr/>
        </p:nvSpPr>
        <p:spPr>
          <a:xfrm>
            <a:off x="6156360" y="3127320"/>
            <a:ext cx="239760" cy="14436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lèche droite 12"/>
          <p:cNvSpPr/>
          <p:nvPr/>
        </p:nvSpPr>
        <p:spPr>
          <a:xfrm>
            <a:off x="1233360" y="4651200"/>
            <a:ext cx="239760" cy="14472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lèche droite 10"/>
          <p:cNvSpPr/>
          <p:nvPr/>
        </p:nvSpPr>
        <p:spPr>
          <a:xfrm>
            <a:off x="6153120" y="3368520"/>
            <a:ext cx="239760" cy="14472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Espace réservé du numéro de diapositive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3449-91F5-4350-A36B-9DD6D73D44F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Espace réservé du numéro de diapositive 3"/>
          <p:cNvSpPr/>
          <p:nvPr/>
        </p:nvSpPr>
        <p:spPr>
          <a:xfrm>
            <a:off x="6603840" y="6475320"/>
            <a:ext cx="21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669B-F78A-49EF-8594-69C45F70651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17"/>
          <p:cNvGrpSpPr/>
          <p:nvPr/>
        </p:nvGrpSpPr>
        <p:grpSpPr>
          <a:xfrm>
            <a:off x="3602160" y="3243240"/>
            <a:ext cx="5541480" cy="1655640"/>
            <a:chOff x="3602160" y="3243240"/>
            <a:chExt cx="5541480" cy="1655640"/>
          </a:xfrm>
        </p:grpSpPr>
        <p:sp>
          <p:nvSpPr>
            <p:cNvPr id="952" name="Rectangle 12"/>
            <p:cNvSpPr/>
            <p:nvPr/>
          </p:nvSpPr>
          <p:spPr>
            <a:xfrm>
              <a:off x="3602160" y="3243240"/>
              <a:ext cx="5541480" cy="1655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13"/>
            <p:cNvSpPr/>
            <p:nvPr/>
          </p:nvSpPr>
          <p:spPr>
            <a:xfrm>
              <a:off x="4350600" y="3309480"/>
              <a:ext cx="479304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5150"/>
                  </a:solidFill>
                  <a:latin typeface="Arial"/>
                </a:rPr>
                <a:t>Cesare Br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05150"/>
                  </a:solidFill>
                  <a:latin typeface="Arial"/>
                </a:rPr>
                <a:t>General Secr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05150"/>
                  </a:solidFill>
                  <a:latin typeface="Arial"/>
                </a:rPr>
                <a:t>Tel:    +41 31 350 01 9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05150"/>
                  </a:solidFill>
                  <a:latin typeface="Arial"/>
                </a:rPr>
                <a:t>E-mail</a:t>
              </a:r>
              <a:r>
                <a:rPr b="0" lang="fr-FR" sz="2000" spc="-1" strike="noStrike">
                  <a:solidFill>
                    <a:srgbClr val="c00000"/>
                  </a:solidFill>
                  <a:latin typeface="Arial"/>
                </a:rPr>
                <a:t>: </a:t>
              </a:r>
              <a:r>
                <a:rPr b="0" lang="fr-FR" sz="2000" spc="-1" strike="noStrike" u="sng">
                  <a:solidFill>
                    <a:srgbClr val="009999"/>
                  </a:solidFill>
                  <a:uFillTx/>
                  <a:latin typeface="Arial"/>
                  <a:hlinkClick r:id="rId1"/>
                </a:rPr>
                <a:t>cesare.brand@cit-rail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4" name="Group 16" descr=""/>
          <p:cNvPicPr/>
          <p:nvPr/>
        </p:nvPicPr>
        <p:blipFill>
          <a:blip r:embed="rId2"/>
          <a:stretch/>
        </p:blipFill>
        <p:spPr>
          <a:xfrm>
            <a:off x="3602160" y="5218200"/>
            <a:ext cx="554184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2:58:59Z</dcterms:created>
  <dc:creator>erik.evtimov@cit-rail.org</dc:creator>
  <dc:description/>
  <dc:language>en-US</dc:language>
  <cp:lastModifiedBy>Yana Brynkina</cp:lastModifiedBy>
  <cp:lastPrinted>2018-10-02T14:49:36Z</cp:lastPrinted>
  <dcterms:modified xsi:type="dcterms:W3CDTF">2018-11-21T15:45:36Z</dcterms:modified>
  <cp:revision>294</cp:revision>
  <dc:subject/>
  <dc:title>Folie 1</dc:title>
</cp:coreProperties>
</file>