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24.jpeg" ContentType="image/jpeg"/>
  <Override PartName="/ppt/media/image15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dt" idx="18"/>
          </p:nvPr>
        </p:nvSpPr>
        <p:spPr>
          <a:xfrm>
            <a:off x="3852360" y="0"/>
            <a:ext cx="29466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ftr" idx="19"/>
          </p:nvPr>
        </p:nvSpPr>
        <p:spPr>
          <a:xfrm>
            <a:off x="0" y="943452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 type="sldNum" idx="20"/>
          </p:nvPr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5440-D286-4A64-9DB5-8419BB10376F}" type="slidenum">
              <a:rPr b="0" lang="de-DE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A669-563F-41E0-800A-34A2DDB974E0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6D5A-71D8-4758-AD5D-80B483B521D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11D7-F09F-45C5-B590-7F640606E16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101F-5D3B-422B-8777-F8A0104D8A28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EE6F-8167-42B2-B043-85EE1D397A9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60C7-F3A0-442B-9F56-1863D3A1678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7CD9-2424-48BF-8489-89155CDC3769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816120" y="423720"/>
            <a:ext cx="4964040" cy="372456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571320" y="4716000"/>
            <a:ext cx="5724360" cy="50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6028-5B03-4F0A-A12B-37DD5360E02E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ußzeilenplatzhalter 1"/>
          <p:cNvSpPr/>
          <p:nvPr/>
        </p:nvSpPr>
        <p:spPr>
          <a:xfrm>
            <a:off x="0" y="943452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4F9B-26C3-4890-B09F-B3037532AD2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EAD0-DB5D-4287-BCAB-8D095BBB0D4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74E9-3E57-4660-82FD-A33784F277BC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CIT is an association bringing together more than 200 railway undertakings and maritime companies (around 130 full members and more than 80 members through the associated members: VöV, TBNE, IVT, VDV, Eurail, ATOC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ts headquarters, like the OTIF, are in Ber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It covers Europe from East to West, the Black Sea region and the Maghreb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Members are all railway undertakings performing international carriage of passengers and/or good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Railway undertakings with historical rolling stock and new entrants are members, to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members are based in EU Member States or States outside the E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 CIT helps to implement the law at the undertakings level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These laws are mainly the international COTIF law (CIV and CIM Uniform Rules) but also European laws that have an impact on transport law (i.e. the Regulation concerning passenger rights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T’s helps to achieve increased efficiency and cost savings thanks to legal certainty and standardi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41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ecause membership is limited to railway undertakings (i.e. no infrastructure managers) it is able to effectively represent the interest of RU.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BEA0-4434-48A8-9C68-7FF753929A5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1" name="Espace réservé du numéro de diapositive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64AC88F-89BB-4160-80BC-BF999ADED8B7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2DB6-0E28-424A-BC40-70FAF4EAD802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4F6F-4AF7-4F86-BEDC-2851203BC42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B389-50F9-448F-AF96-E7A5DE33CF0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FCA9-CEC6-4EA0-8E42-60074C13A9D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4FB2-7D61-49B2-9E4B-D77DD4F0E62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8881-1550-4D2E-B579-D95DC7F01BF3}" type="slidenum">
              <a:rPr b="0" lang="de-DE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1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42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06120" y="4716000"/>
            <a:ext cx="49863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Foliennummernplatzhalter 3"/>
          <p:cNvSpPr/>
          <p:nvPr/>
        </p:nvSpPr>
        <p:spPr>
          <a:xfrm>
            <a:off x="3684600" y="9499680"/>
            <a:ext cx="294624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65E2-698B-4064-A925-ECD9232D60D5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CE195-2497-4EC1-90BC-1DE0CDE2D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8C325-5774-4802-8EEB-3E0D7AF9965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68C9-B651-4726-B0CE-34B89B89FBB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A04AD-E5FA-4FEE-A242-D53A3603861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358D0-9473-4AF3-B3BD-7F3566072F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6C66-4F4A-47D7-8823-B08BF55504A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144-2B07-4801-8B2F-3B5C1D9BF1D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8A4D-3839-42AC-A3DC-B993727B640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B927-A53D-4810-ACEE-164339F60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2DF05-6960-4D2F-9CC7-DBC7F8F4EB9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94BC-DDBE-45B2-B960-345BD59B47C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87C-717F-4C88-B0D9-088BA922657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4C6E-C1F6-4527-ACCC-3A174C27667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4DB1-1716-4F5C-88C9-C6DE02266E0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6A8F-089F-423B-A3B6-C0372BBF455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2DB0-01C4-493A-ADEF-3F0D7A3B81C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AC13-E40D-4C8A-8CDE-81EC6FE1BF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3BD6-B674-401C-97E7-A90C4170A83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900D-A41B-4FE9-8A1B-C3D0DB35ABF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C222E-AF62-459E-906F-6AAC4B8FD7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7199A-E26E-4440-A095-0BA7DD261AA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6BDFC-E8DC-4D41-B7D8-36265B59891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6C176-FF1D-44C5-8773-0D293336A0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E5FAC-9B3E-4449-B363-4A89C1555A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1932A-2256-41A9-93D9-024C919D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BFAFD-67C3-4B40-B925-BAA82FC5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202FE-B636-4AC8-A321-8C49899F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EC9A45-FA59-4430-A074-82501B72E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A5B6-EC2A-444B-94E3-CEE30C4526C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250560" y="333000"/>
            <a:ext cx="8443800" cy="39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F30D5-E7D7-44C2-A8C6-82E34A62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22A2D-BA0E-4724-A271-2A9D0A571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EBAEE-17B1-4A3E-97B6-4741ECEC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B96C8-1D91-4AB1-9BF8-DE23DDF2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04560" y="4003920"/>
            <a:ext cx="844380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D6328-858B-4082-BFA0-3763E05E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31400" y="148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30456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31400" y="4003920"/>
            <a:ext cx="412056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3B2B8-D63A-4AD0-9377-92FA866E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1597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4520" y="148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30456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1597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4520" y="4003920"/>
            <a:ext cx="2718720" cy="230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DE1A3-801A-467E-A377-D3A269A326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28C2-5CBF-4F5F-ADB6-E5CABA0DDEE4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37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37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7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422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24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8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470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72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76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9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518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20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24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10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566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68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572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11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61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1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20" name="Rectangle 6"/>
          <p:cNvSpPr/>
          <p:nvPr/>
        </p:nvSpPr>
        <p:spPr>
          <a:xfrm>
            <a:off x="1125360" y="6534000"/>
            <a:ext cx="770436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12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662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3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64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13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709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11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15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14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756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58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762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15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80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0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9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16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44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46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3" descr=""/>
          <p:cNvPicPr/>
          <p:nvPr/>
        </p:nvPicPr>
        <p:blipFill>
          <a:blip r:embed="rId2"/>
          <a:stretch/>
        </p:blipFill>
        <p:spPr>
          <a:xfrm>
            <a:off x="108000" y="6453360"/>
            <a:ext cx="792000" cy="349200"/>
          </a:xfrm>
          <a:prstGeom prst="rect">
            <a:avLst/>
          </a:prstGeom>
          <a:ln w="0">
            <a:noFill/>
          </a:ln>
        </p:spPr>
      </p:pic>
      <p:sp>
        <p:nvSpPr>
          <p:cNvPr id="852" name="Line 25"/>
          <p:cNvSpPr/>
          <p:nvPr/>
        </p:nvSpPr>
        <p:spPr>
          <a:xfrm>
            <a:off x="1187280" y="6597720"/>
            <a:ext cx="7561440" cy="0"/>
          </a:xfrm>
          <a:prstGeom prst="line">
            <a:avLst/>
          </a:prstGeom>
          <a:ln w="28440">
            <a:solidFill>
              <a:srgbClr val="0045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Bild 5" descr="CIT_logo_grau.jpg"/>
          <p:cNvPicPr/>
          <p:nvPr/>
        </p:nvPicPr>
        <p:blipFill>
          <a:blip r:embed="rId3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54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6"/>
          <p:cNvSpPr/>
          <p:nvPr/>
        </p:nvSpPr>
        <p:spPr>
          <a:xfrm>
            <a:off x="1187280" y="6534000"/>
            <a:ext cx="77058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Espace réservé du numéro de diapositive 4"/>
          <p:cNvSpPr/>
          <p:nvPr/>
        </p:nvSpPr>
        <p:spPr>
          <a:xfrm>
            <a:off x="6553080" y="642924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Bild 5" descr="CIT_logo_grau.jpg"/>
          <p:cNvPicPr/>
          <p:nvPr/>
        </p:nvPicPr>
        <p:blipFill>
          <a:blip r:embed="rId4"/>
          <a:stretch/>
        </p:blipFill>
        <p:spPr>
          <a:xfrm>
            <a:off x="108000" y="6442200"/>
            <a:ext cx="792000" cy="3110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6"/>
          <p:cNvSpPr/>
          <p:nvPr/>
        </p:nvSpPr>
        <p:spPr>
          <a:xfrm>
            <a:off x="1116000" y="6534000"/>
            <a:ext cx="770400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25"/>
          <p:cNvSpPr/>
          <p:nvPr/>
        </p:nvSpPr>
        <p:spPr>
          <a:xfrm>
            <a:off x="179280" y="6381720"/>
            <a:ext cx="842652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dt" idx="17"/>
          </p:nvPr>
        </p:nvSpPr>
        <p:spPr>
          <a:xfrm>
            <a:off x="6603840" y="647496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N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87" name="Line 25"/>
          <p:cNvSpPr/>
          <p:nvPr/>
        </p:nvSpPr>
        <p:spPr>
          <a:xfrm>
            <a:off x="2340000" y="443700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28" name="Rechteck 6"/>
          <p:cNvSpPr/>
          <p:nvPr/>
        </p:nvSpPr>
        <p:spPr>
          <a:xfrm>
            <a:off x="360360" y="1484280"/>
            <a:ext cx="8423280" cy="3960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3"/>
          </p:nvPr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985B-ACD8-4568-BC07-AF2B9EAA1CDB}" type="slidenum">
              <a:rPr b="0" lang="de-DE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17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11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Line 25"/>
          <p:cNvSpPr/>
          <p:nvPr/>
        </p:nvSpPr>
        <p:spPr>
          <a:xfrm>
            <a:off x="358920" y="6237360"/>
            <a:ext cx="842616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Bild 5" descr="CIT_logo_grau.jpg"/>
          <p:cNvPicPr/>
          <p:nvPr/>
        </p:nvPicPr>
        <p:blipFill>
          <a:blip r:embed="rId2"/>
          <a:stretch/>
        </p:blipFill>
        <p:spPr>
          <a:xfrm>
            <a:off x="358920" y="6381720"/>
            <a:ext cx="720720" cy="31104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63d74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4"/>
          </p:nvPr>
        </p:nvSpPr>
        <p:spPr>
          <a:xfrm>
            <a:off x="1186920" y="6505200"/>
            <a:ext cx="16002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5"/>
          </p:nvPr>
        </p:nvSpPr>
        <p:spPr>
          <a:xfrm>
            <a:off x="6552720" y="6391440"/>
            <a:ext cx="221004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7CF6-BFB5-48C4-84C3-C4226738206D}" type="slidenum">
              <a:rPr b="0" lang="de-CH" sz="8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Bild 6" descr="CIT_logo_zusatz.jpg"/>
          <p:cNvPicPr/>
          <p:nvPr/>
        </p:nvPicPr>
        <p:blipFill>
          <a:blip r:embed="rId2"/>
          <a:stretch/>
        </p:blipFill>
        <p:spPr>
          <a:xfrm>
            <a:off x="755640" y="549360"/>
            <a:ext cx="4876920" cy="571320"/>
          </a:xfrm>
          <a:prstGeom prst="rect">
            <a:avLst/>
          </a:prstGeom>
          <a:ln w="0">
            <a:noFill/>
          </a:ln>
        </p:spPr>
      </p:pic>
      <p:sp>
        <p:nvSpPr>
          <p:cNvPr id="333" name="Line 25"/>
          <p:cNvSpPr/>
          <p:nvPr/>
        </p:nvSpPr>
        <p:spPr>
          <a:xfrm>
            <a:off x="1979640" y="4149720"/>
            <a:ext cx="6445080" cy="0"/>
          </a:xfrm>
          <a:prstGeom prst="line">
            <a:avLst/>
          </a:prstGeom>
          <a:ln w="12600">
            <a:solidFill>
              <a:srgbClr val="5a5a5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3237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32377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04560" y="1483920"/>
            <a:ext cx="84438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6"/>
          </p:nvPr>
        </p:nvSpPr>
        <p:spPr>
          <a:xfrm>
            <a:off x="1981080" y="6552720"/>
            <a:ext cx="2159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cesare.brand@cit-rail.org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09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80360" cy="22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5150"/>
                </a:solidFill>
                <a:latin typeface="Arial"/>
              </a:rPr>
              <a:t>UNECE Inland Transport Committee</a:t>
            </a:r>
            <a:br>
              <a:rPr sz="3600"/>
            </a:b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Working Party on Intermodal Transport and Logistics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2340000" y="4581000"/>
            <a:ext cx="6480000" cy="16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150"/>
                </a:solidFill>
                <a:latin typeface="Arial"/>
              </a:rPr>
              <a:t>Sixteenth session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05150"/>
                </a:solidFill>
                <a:latin typeface="Arial"/>
              </a:rPr>
              <a:t>Geneva, 23 – 24 November 2017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05150"/>
                </a:solidFill>
                <a:latin typeface="Arial"/>
              </a:rPr>
              <a:t>Cesare Brand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05150"/>
                </a:solidFill>
                <a:latin typeface="Arial"/>
              </a:rPr>
              <a:t>Secretary General</a:t>
            </a: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Road</a:t>
            </a: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 (I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05150"/>
                </a:solidFill>
                <a:latin typeface="Arial"/>
              </a:rPr>
              <a:t>Cooperation with IRU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Guideline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comparing the legal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regimes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CMR - COTIF/CIM – SMGS,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published in 2017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Comparative matrix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CMR/CIM/SMG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– 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ultimodal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Rail-Road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traffic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0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9E82-7E33-45C2-B076-4F25C679247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Picture 2" descr=""/>
          <p:cNvPicPr/>
          <p:nvPr/>
        </p:nvPicPr>
        <p:blipFill>
          <a:blip r:embed="rId1"/>
          <a:stretch/>
        </p:blipFill>
        <p:spPr>
          <a:xfrm>
            <a:off x="6227640" y="1154160"/>
            <a:ext cx="2232000" cy="316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2" name="Picture 7" descr=""/>
          <p:cNvPicPr/>
          <p:nvPr/>
        </p:nvPicPr>
        <p:blipFill>
          <a:blip r:embed="rId2"/>
          <a:stretch/>
        </p:blipFill>
        <p:spPr>
          <a:xfrm>
            <a:off x="4500720" y="3500280"/>
            <a:ext cx="3665520" cy="2590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Sea</a:t>
            </a: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 (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50640" y="1700280"/>
            <a:ext cx="839772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05150"/>
                </a:solidFill>
                <a:latin typeface="Arial"/>
              </a:rPr>
              <a:t>GTC Rail – Sea Traffic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to </a:t>
            </a: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promote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solution based on the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approach of the </a:t>
            </a: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CIM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commercial models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: sea carrier acts as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contractual or successive carrier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GTC joint-contracting +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specialities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of sea carriage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Recommendation Status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Since </a:t>
            </a: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2015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B0D4-E508-4CEE-8AE1-CA7B5909B8E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6" name="Picture 6" descr=""/>
          <p:cNvPicPr/>
          <p:nvPr/>
        </p:nvPicPr>
        <p:blipFill>
          <a:blip r:embed="rId1"/>
          <a:stretch/>
        </p:blipFill>
        <p:spPr>
          <a:xfrm>
            <a:off x="5940360" y="1557360"/>
            <a:ext cx="2590920" cy="3854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Sea</a:t>
            </a: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 (I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505150"/>
                </a:solidFill>
                <a:latin typeface="Arial"/>
              </a:rPr>
              <a:t>CIT </a:t>
            </a:r>
            <a:r>
              <a:rPr b="1" lang="en-US" sz="2800" spc="-1" strike="noStrike">
                <a:solidFill>
                  <a:srgbClr val="505150"/>
                </a:solidFill>
                <a:latin typeface="Arial"/>
              </a:rPr>
              <a:t>Boilerplate contract for Rail-Sea traffic</a:t>
            </a:r>
            <a:br>
              <a:rPr sz="2800"/>
            </a:b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505150"/>
                </a:solidFill>
                <a:latin typeface="Arial"/>
              </a:rPr>
              <a:t>Model of successive carriers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: maritime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    </a:t>
            </a:r>
            <a:r>
              <a:rPr b="0" lang="en-GB" sz="2200" spc="-1" strike="noStrike">
                <a:solidFill>
                  <a:srgbClr val="505150"/>
                </a:solidFill>
                <a:latin typeface="Arial"/>
              </a:rPr>
              <a:t>carriers can appear as successive carriers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Structure: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Objective of the contract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Obligations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Procedures related to carriage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Compensation</a:t>
            </a:r>
            <a:r>
              <a:rPr b="0" lang="de-CH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buClr>
                <a:srgbClr val="40404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Applicable law, jurisdiction,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    </a:t>
            </a:r>
            <a:r>
              <a:rPr b="0" lang="en-US" sz="2200" spc="-1" strike="noStrike">
                <a:solidFill>
                  <a:srgbClr val="404040"/>
                </a:solidFill>
                <a:latin typeface="Arial"/>
                <a:ea typeface="Arial"/>
              </a:rPr>
              <a:t>general provisions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Since</a:t>
            </a:r>
            <a:r>
              <a:rPr b="1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2016, </a:t>
            </a:r>
            <a:r>
              <a:rPr b="1" lang="en-GB" sz="2200" spc="-1" strike="noStrike">
                <a:solidFill>
                  <a:srgbClr val="404040"/>
                </a:solidFill>
                <a:latin typeface="Arial"/>
                <a:ea typeface="Arial"/>
              </a:rPr>
              <a:t>DE/FR/EN/RU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69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F294B-C0AD-4549-B220-BFF5D863B06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Picture 2" descr=""/>
          <p:cNvPicPr/>
          <p:nvPr/>
        </p:nvPicPr>
        <p:blipFill>
          <a:blip r:embed="rId1"/>
          <a:stretch/>
        </p:blipFill>
        <p:spPr>
          <a:xfrm>
            <a:off x="6084720" y="2349360"/>
            <a:ext cx="2683080" cy="37436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Multimodality: Further Steps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2" name=""/>
          <p:cNvSpPr txBox="1"/>
          <p:nvPr/>
        </p:nvSpPr>
        <p:spPr>
          <a:xfrm>
            <a:off x="323640" y="1412640"/>
            <a:ext cx="844380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3d74"/>
                </a:solidFill>
                <a:latin typeface="Arial"/>
              </a:rPr>
              <a:t>Rail – Road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Development of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Checklist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for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road-rail combined traffic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based on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ractical case examples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from CIT and IRU member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Examinatio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by CIT Members and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discussio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with IRU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263d74"/>
                </a:solidFill>
                <a:latin typeface="Arial"/>
              </a:rPr>
              <a:t>Rail – Sea: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Promotion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GTC Rail-Sea Traffic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Pilots routes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using </a:t>
            </a: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boilerplate contract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Further development of 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multimodal solutions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</a:rPr>
              <a:t>in the 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</a:rPr>
              <a:t>CIT Product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3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021B7-979C-4D45-818A-324EBE42527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– International Rail Transport Committee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2.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Digitalisation of Rail Transport       Documents </a:t>
            </a: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6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29F5-45E7-4BFA-85BF-A7B1F2D8CC0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: Digitalisation of Transport Documents </a:t>
            </a:r>
            <a:br>
              <a:rPr sz="3600"/>
            </a:br>
            <a:br>
              <a:rPr sz="3600"/>
            </a:b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Consignment Note CIM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Wagon Note CUV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Formal Report CIT20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-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Consignment Note CIM/SMG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3d74"/>
                </a:solidFill>
                <a:latin typeface="Arial"/>
              </a:rPr>
              <a:t>Participation in the </a:t>
            </a:r>
            <a:r>
              <a:rPr b="1" lang="en-US" sz="2400" spc="-1" strike="noStrike">
                <a:solidFill>
                  <a:srgbClr val="263d74"/>
                </a:solidFill>
                <a:latin typeface="Arial"/>
              </a:rPr>
              <a:t>Projects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CER-CIT-EIM-UIC: Roadmap for Digital Railways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EU Digital Transport and Logistics Forum (DTLF)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UNESCAP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79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43B5-F055-4745-9362-51D74866DDB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350640" y="279000"/>
            <a:ext cx="861372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263d74"/>
                </a:solidFill>
                <a:latin typeface="Arial"/>
              </a:rPr>
              <a:t>Electronic consignment note CIM (ECN) 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grpSp>
        <p:nvGrpSpPr>
          <p:cNvPr id="981" name="Groupe 11"/>
          <p:cNvGrpSpPr/>
          <p:nvPr/>
        </p:nvGrpSpPr>
        <p:grpSpPr>
          <a:xfrm>
            <a:off x="179280" y="907920"/>
            <a:ext cx="8856720" cy="5950080"/>
            <a:chOff x="179280" y="907920"/>
            <a:chExt cx="8856720" cy="5950080"/>
          </a:xfrm>
        </p:grpSpPr>
        <p:sp>
          <p:nvSpPr>
            <p:cNvPr id="982" name="Forme libre 18"/>
            <p:cNvSpPr/>
            <p:nvPr/>
          </p:nvSpPr>
          <p:spPr>
            <a:xfrm>
              <a:off x="252720" y="907920"/>
              <a:ext cx="8730720" cy="2282760"/>
            </a:xfrm>
            <a:custGeom>
              <a:avLst/>
              <a:gdLst/>
              <a:ahLst/>
              <a:rect l="l" t="t" r="r" b="b"/>
              <a:pathLst>
                <a:path w="8443913" h="1059840">
                  <a:moveTo>
                    <a:pt x="0" y="0"/>
                  </a:moveTo>
                  <a:lnTo>
                    <a:pt x="8443913" y="0"/>
                  </a:lnTo>
                  <a:lnTo>
                    <a:pt x="8443913" y="1059840"/>
                  </a:lnTo>
                  <a:lnTo>
                    <a:pt x="0" y="105984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67840" rIns="142200" tIns="25200" bIns="25200" anchor="t">
              <a:noAutofit/>
            </a:bodyPr>
            <a:p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3" name="Forme libre 13"/>
            <p:cNvGrpSpPr/>
            <p:nvPr/>
          </p:nvGrpSpPr>
          <p:grpSpPr>
            <a:xfrm>
              <a:off x="179280" y="1023840"/>
              <a:ext cx="8856720" cy="688680"/>
              <a:chOff x="179280" y="1023840"/>
              <a:chExt cx="8856720" cy="688680"/>
            </a:xfrm>
          </p:grpSpPr>
          <p:pic>
            <p:nvPicPr>
              <p:cNvPr id="984" name="Forme libre 1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1023840"/>
                <a:ext cx="8856720" cy="68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5" name=""/>
              <p:cNvSpPr/>
              <p:nvPr/>
            </p:nvSpPr>
            <p:spPr>
              <a:xfrm>
                <a:off x="252720" y="1052280"/>
                <a:ext cx="8730720" cy="57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3920" rIns="133920" tIns="133920" bIns="133920" anchor="ctr">
                <a:noAutofit/>
              </a:bodyPr>
              <a:p>
                <a:pPr>
                  <a:lnSpc>
                    <a:spcPct val="90000"/>
                  </a:lnSpc>
                  <a:spcAft>
                    <a:spcPts val="876"/>
                  </a:spcAft>
                  <a:tabLst>
                    <a:tab algn="l" pos="0"/>
                    <a:tab algn="l" pos="1244520"/>
                    <a:tab algn="l" pos="2489040"/>
                    <a:tab algn="l" pos="3733920"/>
                    <a:tab algn="l" pos="4978440"/>
                    <a:tab algn="l" pos="6222960"/>
                    <a:tab algn="l" pos="7467480"/>
                    <a:tab algn="l" pos="8712360"/>
                    <a:tab algn="l" pos="995688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Publication of the four CIT Manuals on 1</a:t>
                </a:r>
                <a:r>
                  <a:rPr b="1" lang="en-GB" sz="2000" spc="-1" strike="noStrike" baseline="30000">
                    <a:solidFill>
                      <a:srgbClr val="ffffff"/>
                    </a:solidFill>
                    <a:latin typeface="Arial"/>
                  </a:rPr>
                  <a:t>st</a:t>
                </a:r>
                <a:r>
                  <a:rPr b="1" lang="en-GB" sz="2000" spc="-1" strike="noStrike">
                    <a:solidFill>
                      <a:srgbClr val="ffffff"/>
                    </a:solidFill>
                    <a:latin typeface="Arial"/>
                  </a:rPr>
                  <a:t> of January 2017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86" name="Forme libre 14" descr=""/>
            <p:cNvPicPr/>
            <p:nvPr/>
          </p:nvPicPr>
          <p:blipFill>
            <a:blip r:embed="rId2"/>
            <a:stretch/>
          </p:blipFill>
          <p:spPr>
            <a:xfrm>
              <a:off x="179280" y="1706760"/>
              <a:ext cx="8838720" cy="515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39C6-0198-4D29-8A20-20F07BF0946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Forme libre 18"/>
          <p:cNvSpPr/>
          <p:nvPr/>
        </p:nvSpPr>
        <p:spPr>
          <a:xfrm>
            <a:off x="250920" y="4519440"/>
            <a:ext cx="8785080" cy="11415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8200" rIns="142200" tIns="25560" bIns="25560" anchor="t">
            <a:noAutofit/>
          </a:bodyPr>
          <a:p>
            <a:pPr lvl="1">
              <a:lnSpc>
                <a:spcPct val="90000"/>
              </a:lnSpc>
              <a:spcAft>
                <a:spcPts val="300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3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349"/>
              </a:spcAft>
              <a:buClr>
                <a:srgbClr val="404040"/>
              </a:buClr>
              <a:buFont typeface="Wingdings" charset="2"/>
              <a:buChar char="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0000"/>
              </a:lnSpc>
              <a:spcAft>
                <a:spcPts val="400"/>
              </a:spcAft>
              <a:buClr>
                <a:srgbClr val="404040"/>
              </a:buClr>
              <a:buFont typeface="Wingdings" charset="2"/>
              <a:buChar char=""/>
              <a:tabLst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In 2017: Report to the Stakeholder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000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(OTIF, DG Move)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Electronic consignmen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0000">
              <a:lnSpc>
                <a:spcPct val="90000"/>
              </a:lnSpc>
              <a:spcAft>
                <a:spcPts val="400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Judicial recognition of digital (transport) documents 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Electronic formal damage report (CIT 20)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70000">
              <a:lnSpc>
                <a:spcPct val="90000"/>
              </a:lnSpc>
              <a:spcAft>
                <a:spcPts val="349"/>
              </a:spcAft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Forme libre 17"/>
          <p:cNvGrpSpPr/>
          <p:nvPr/>
        </p:nvGrpSpPr>
        <p:grpSpPr>
          <a:xfrm>
            <a:off x="176040" y="4309920"/>
            <a:ext cx="8912520" cy="640080"/>
            <a:chOff x="176040" y="4309920"/>
            <a:chExt cx="8912520" cy="640080"/>
          </a:xfrm>
        </p:grpSpPr>
        <p:pic>
          <p:nvPicPr>
            <p:cNvPr id="990" name="Forme libre 17" descr=""/>
            <p:cNvPicPr/>
            <p:nvPr/>
          </p:nvPicPr>
          <p:blipFill>
            <a:blip r:embed="rId3"/>
            <a:stretch/>
          </p:blipFill>
          <p:spPr>
            <a:xfrm>
              <a:off x="176040" y="4309920"/>
              <a:ext cx="8912520" cy="6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1" name=""/>
            <p:cNvSpPr/>
            <p:nvPr/>
          </p:nvSpPr>
          <p:spPr>
            <a:xfrm>
              <a:off x="250920" y="4352760"/>
              <a:ext cx="878508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3920" rIns="133920" tIns="133920" bIns="133920" anchor="ctr">
              <a:noAutofit/>
            </a:bodyPr>
            <a:p>
              <a:pPr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Judicial recognition of digital (transport) documents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: Electronic Wagon Note CUV</a:t>
            </a:r>
            <a:br>
              <a:rPr sz="3600"/>
            </a:b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3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36A2-8746-4470-8AB1-C40FC98A605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350640" y="1341000"/>
            <a:ext cx="84438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263d74"/>
                </a:solidFill>
                <a:latin typeface="Arial"/>
              </a:rPr>
              <a:t>GLV-CIM / GLW-CUV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The possibility to establish a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Wagon Note CUV 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in an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electronic form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The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procedures used 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ust be 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equivalent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 from the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functional point of view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3d74"/>
                </a:solidFill>
                <a:latin typeface="Arial"/>
              </a:rPr>
              <a:t>Functional and legal requirements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essage flows 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Message Content and rights to access the data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Printer output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buClr>
                <a:srgbClr val="50515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Disruption/Computer System Downtime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: Electronic Formal Report CIT20</a:t>
            </a:r>
            <a:br>
              <a:rPr sz="2400"/>
            </a:b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50640" y="1341000"/>
            <a:ext cx="84438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51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5150"/>
                </a:solidFill>
                <a:latin typeface="Arial"/>
              </a:rPr>
              <a:t>Amending Article 42 §2 CIM for the </a:t>
            </a:r>
            <a:r>
              <a:rPr b="1" lang="en-US" sz="2400" spc="-1" strike="noStrike">
                <a:solidFill>
                  <a:srgbClr val="505150"/>
                </a:solidFill>
                <a:latin typeface="Arial"/>
              </a:rPr>
              <a:t>electronic formal report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d74"/>
                </a:solidFill>
                <a:latin typeface="Arial"/>
              </a:rPr>
              <a:t>Further steps: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Working Group CIM – discussion on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implementation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 of electronic formal report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New working sheets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to the GTM-CIT for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digitalisation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 of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CIT20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(Appendix 20)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Definition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 of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functional and legal specifications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in the new Appendix 20b GTM-CIT 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5051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Integration </a:t>
            </a:r>
            <a:r>
              <a:rPr b="0" lang="en-US" sz="2200" spc="-1" strike="noStrike">
                <a:solidFill>
                  <a:srgbClr val="505150"/>
                </a:solidFill>
                <a:latin typeface="Arial"/>
              </a:rPr>
              <a:t>accompanying documents to the </a:t>
            </a:r>
            <a:r>
              <a:rPr b="1" lang="en-US" sz="2200" spc="-1" strike="noStrike">
                <a:solidFill>
                  <a:srgbClr val="505150"/>
                </a:solidFill>
                <a:latin typeface="Arial"/>
              </a:rPr>
              <a:t>electronic consignment note</a:t>
            </a: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97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FBE2-1E36-419D-8CF6-95691F1D8E7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50560" y="380520"/>
            <a:ext cx="84438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/OSJD: Electronic Consignment Note CIM/SMGS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304560" y="1065240"/>
            <a:ext cx="6267240" cy="53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1800" spc="-1" strike="noStrike">
                <a:solidFill>
                  <a:srgbClr val="50515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000" spc="-1" strike="noStrike">
                <a:solidFill>
                  <a:srgbClr val="505150"/>
                </a:solidFill>
                <a:latin typeface="Arial"/>
              </a:rPr>
              <a:t>Functional specifications: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updated based on the revision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of SMGS (1 January 2016)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000" spc="-1" strike="noStrike">
                <a:solidFill>
                  <a:srgbClr val="505150"/>
                </a:solidFill>
                <a:latin typeface="Arial"/>
              </a:rPr>
              <a:t>Legal specifications: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updated in 2016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8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500" spc="-1" strike="noStrike">
                <a:solidFill>
                  <a:srgbClr val="505150"/>
                </a:solidFill>
                <a:latin typeface="Arial"/>
              </a:rPr>
              <a:t>Technical specifications: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500" spc="-1" strike="noStrike">
                <a:solidFill>
                  <a:srgbClr val="505150"/>
                </a:solidFill>
                <a:latin typeface="Arial"/>
              </a:rPr>
              <a:t>finalised on expert 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2500" spc="-1" strike="noStrike">
                <a:solidFill>
                  <a:srgbClr val="505150"/>
                </a:solidFill>
                <a:latin typeface="Arial"/>
              </a:rPr>
              <a:t>level October</a:t>
            </a:r>
            <a:r>
              <a:rPr b="1" lang="en-US" sz="2500" spc="-1" strike="noStrike">
                <a:solidFill>
                  <a:srgbClr val="505150"/>
                </a:solidFill>
                <a:latin typeface="Arial"/>
              </a:rPr>
              <a:t> 2017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500" spc="-1" strike="noStrike" u="sng">
                <a:solidFill>
                  <a:srgbClr val="263d74"/>
                </a:solidFill>
                <a:uFillTx/>
                <a:latin typeface="Arial"/>
              </a:rPr>
              <a:t>Coming into force: 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1 of January </a:t>
            </a:r>
            <a:r>
              <a:rPr b="0" lang="en-US" sz="2500" spc="-1" strike="noStrike">
                <a:solidFill>
                  <a:srgbClr val="263d74"/>
                </a:solidFill>
                <a:latin typeface="Arial"/>
              </a:rPr>
              <a:t>or </a:t>
            </a:r>
            <a:r>
              <a:rPr b="1" lang="en-US" sz="2500" spc="-1" strike="noStrike">
                <a:solidFill>
                  <a:srgbClr val="263d74"/>
                </a:solidFill>
                <a:latin typeface="Arial"/>
              </a:rPr>
              <a:t>1 of July 2019</a:t>
            </a: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2500" spc="-1" strike="noStrike">
              <a:solidFill>
                <a:srgbClr val="505150"/>
              </a:solidFill>
              <a:latin typeface="Arial"/>
            </a:endParaRPr>
          </a:p>
        </p:txBody>
      </p:sp>
      <p:pic>
        <p:nvPicPr>
          <p:cNvPr id="1000" name="Picture 2" descr=""/>
          <p:cNvPicPr/>
          <p:nvPr/>
        </p:nvPicPr>
        <p:blipFill>
          <a:blip r:embed="rId1"/>
          <a:srcRect l="31309" t="8477" r="30418" b="5047"/>
          <a:stretch/>
        </p:blipFill>
        <p:spPr>
          <a:xfrm>
            <a:off x="6443640" y="895320"/>
            <a:ext cx="238752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1" name="Picture 3" descr=""/>
          <p:cNvPicPr/>
          <p:nvPr/>
        </p:nvPicPr>
        <p:blipFill>
          <a:blip r:embed="rId2"/>
          <a:srcRect l="31370" t="8668" r="30835" b="5331"/>
          <a:stretch/>
        </p:blipFill>
        <p:spPr>
          <a:xfrm>
            <a:off x="5796000" y="2935440"/>
            <a:ext cx="2371680" cy="33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2" name="Espace réservé du numéro de diapositive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6880-140F-4D62-A8EE-3D57DE04D8C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8" descr="Bildergebnis für ok sign"/>
          <p:cNvPicPr/>
          <p:nvPr/>
        </p:nvPicPr>
        <p:blipFill>
          <a:blip r:embed="rId3"/>
          <a:stretch/>
        </p:blipFill>
        <p:spPr>
          <a:xfrm>
            <a:off x="4054320" y="187812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8" descr="Bildergebnis für ok sign"/>
          <p:cNvPicPr/>
          <p:nvPr/>
        </p:nvPicPr>
        <p:blipFill>
          <a:blip r:embed="rId4"/>
          <a:stretch/>
        </p:blipFill>
        <p:spPr>
          <a:xfrm>
            <a:off x="4054320" y="2682720"/>
            <a:ext cx="503280" cy="50508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8" descr="Bildergebnis für ok sign"/>
          <p:cNvPicPr/>
          <p:nvPr/>
        </p:nvPicPr>
        <p:blipFill>
          <a:blip r:embed="rId5"/>
          <a:stretch/>
        </p:blipFill>
        <p:spPr>
          <a:xfrm>
            <a:off x="4054320" y="4116240"/>
            <a:ext cx="50328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24000" y="493200"/>
            <a:ext cx="8470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600" spc="-1" strike="noStrike">
                <a:solidFill>
                  <a:srgbClr val="263d74"/>
                </a:solidFill>
                <a:latin typeface="Arial"/>
              </a:rPr>
              <a:t>The CIT</a:t>
            </a:r>
            <a:endParaRPr b="1" lang="en-US" sz="2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50640" y="1197000"/>
            <a:ext cx="34290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130 railway undertakings and maritime companies as full members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6 associated members 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0515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05150"/>
                </a:solidFill>
                <a:latin typeface="Arial"/>
              </a:rPr>
              <a:t>Association under Swiss law with legal personality</a:t>
            </a: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0" name="Foliennummernplatzhalter 1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C213-1B7E-4603-8DC6-20030F28EFD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3"/>
          <p:cNvSpPr/>
          <p:nvPr/>
        </p:nvSpPr>
        <p:spPr>
          <a:xfrm>
            <a:off x="316080" y="3429000"/>
            <a:ext cx="8424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05150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Implementation of the COTIF and European law that has an impact upon transport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Standardisation of the contractual relationship between carriers and between carriers and their customers for passenger and freight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99"/>
              </a:spcBef>
              <a:buClr>
                <a:srgbClr val="0d0d0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05150"/>
                </a:solidFill>
                <a:latin typeface="Arial"/>
              </a:rPr>
              <a:t>Representation of its members’ interests with the authorities and oth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5051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2" name="Picture 7" descr=""/>
          <p:cNvPicPr/>
          <p:nvPr/>
        </p:nvPicPr>
        <p:blipFill>
          <a:blip r:embed="rId1"/>
          <a:stretch/>
        </p:blipFill>
        <p:spPr>
          <a:xfrm>
            <a:off x="3995640" y="1362240"/>
            <a:ext cx="468000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Espace réservé du numéro de diapositive 3"/>
          <p:cNvSpPr/>
          <p:nvPr/>
        </p:nvSpPr>
        <p:spPr>
          <a:xfrm>
            <a:off x="6603840" y="6475320"/>
            <a:ext cx="2159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D929-8C97-4C11-A4C2-205B2A87887D}" type="slidenum">
              <a:rPr b="0" lang="de-DE" sz="12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Group 17"/>
          <p:cNvGrpSpPr/>
          <p:nvPr/>
        </p:nvGrpSpPr>
        <p:grpSpPr>
          <a:xfrm>
            <a:off x="3602160" y="3243240"/>
            <a:ext cx="5541480" cy="1655640"/>
            <a:chOff x="3602160" y="3243240"/>
            <a:chExt cx="5541480" cy="1655640"/>
          </a:xfrm>
        </p:grpSpPr>
        <p:sp>
          <p:nvSpPr>
            <p:cNvPr id="1008" name="Rectangle 12"/>
            <p:cNvSpPr/>
            <p:nvPr/>
          </p:nvSpPr>
          <p:spPr>
            <a:xfrm>
              <a:off x="3602160" y="3243240"/>
              <a:ext cx="5541480" cy="1655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13"/>
            <p:cNvSpPr/>
            <p:nvPr/>
          </p:nvSpPr>
          <p:spPr>
            <a:xfrm>
              <a:off x="4350600" y="3309480"/>
              <a:ext cx="4793040" cy="155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Cesare Bran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General Secreta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Tel:    +41 31 350 01 9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05150"/>
                  </a:solidFill>
                  <a:latin typeface="Arial"/>
                  <a:ea typeface="ＭＳ Ｐゴシック"/>
                </a:rPr>
                <a:t>E-mail</a:t>
              </a:r>
              <a:r>
                <a:rPr b="0" lang="fr-FR" sz="2000" spc="-1" strike="noStrike">
                  <a:solidFill>
                    <a:srgbClr val="c00000"/>
                  </a:solidFill>
                  <a:latin typeface="Arial"/>
                  <a:ea typeface="ＭＳ Ｐゴシック"/>
                </a:rPr>
                <a:t>: </a:t>
              </a:r>
              <a:r>
                <a:rPr b="0" lang="fr-FR" sz="2000" spc="-1" strike="noStrike" u="sng">
                  <a:solidFill>
                    <a:srgbClr val="009999"/>
                  </a:solidFill>
                  <a:uFillTx/>
                  <a:latin typeface="Arial"/>
                  <a:ea typeface="ＭＳ Ｐゴシック"/>
                  <a:hlinkClick r:id="rId1"/>
                </a:rPr>
                <a:t>cesare.brand@cit-rail.or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0" name="Group 16" descr=""/>
          <p:cNvPicPr/>
          <p:nvPr/>
        </p:nvPicPr>
        <p:blipFill>
          <a:blip r:embed="rId2"/>
          <a:stretch/>
        </p:blipFill>
        <p:spPr>
          <a:xfrm>
            <a:off x="3602160" y="5218200"/>
            <a:ext cx="554184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– International Rail Transport Committee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351000" y="1700280"/>
            <a:ext cx="854208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0515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Agenda Item 2: </a:t>
            </a:r>
            <a:br>
              <a:rPr sz="2400"/>
            </a:br>
            <a:r>
              <a:rPr b="0" lang="en-GB" sz="2400" spc="-1" strike="noStrike">
                <a:solidFill>
                  <a:srgbClr val="263d74"/>
                </a:solidFill>
                <a:latin typeface="Arial"/>
              </a:rPr>
              <a:t>Workshops –Railways, Intermodal Transport and the Digitalisation of Transport Documents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. Work of CIT in the field of Multimodality </a:t>
            </a:r>
            <a:endParaRPr b="0" lang="en-US" sz="3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2. Digitalisation of Rail Transport         Documents </a:t>
            </a:r>
            <a:endParaRPr b="0" lang="en-US" sz="32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F565-3B8A-43FB-8488-BC7F54E1326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– International Rail Transport Committee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350640" y="1700280"/>
            <a:ext cx="844380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1. Work of CIT in the field of Multimodality</a:t>
            </a: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18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E166-CF63-4F49-A091-EAF2ED4040E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Espace réservé de la date 1"/>
          <p:cNvSpPr/>
          <p:nvPr/>
        </p:nvSpPr>
        <p:spPr>
          <a:xfrm>
            <a:off x="1187280" y="6594480"/>
            <a:ext cx="16002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8FAB-0308-4068-A608-2F15C9018B65}" type="datetime">
              <a:rPr b="0" lang="de-CH" sz="8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Espace réservé du numéro de diapositive 2"/>
          <p:cNvSpPr/>
          <p:nvPr/>
        </p:nvSpPr>
        <p:spPr>
          <a:xfrm>
            <a:off x="6553080" y="655956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29DB-B583-465C-A802-9BDDEBE5E1A3}" type="slidenum">
              <a:rPr b="0" lang="de-CH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9"/>
          <p:cNvSpPr/>
          <p:nvPr/>
        </p:nvSpPr>
        <p:spPr>
          <a:xfrm>
            <a:off x="3564000" y="3141720"/>
            <a:ext cx="2879640" cy="934920"/>
          </a:xfrm>
          <a:prstGeom prst="leftRightArrow">
            <a:avLst>
              <a:gd name="adj1" fmla="val 50000"/>
              <a:gd name="adj2" fmla="val 613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2"/>
          <p:cNvSpPr/>
          <p:nvPr/>
        </p:nvSpPr>
        <p:spPr>
          <a:xfrm>
            <a:off x="250920" y="168120"/>
            <a:ext cx="84438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000000"/>
                </a:solidFill>
                <a:latin typeface="Arial"/>
              </a:rPr>
              <a:t>What our custumers dream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" name="Picture 7" descr=""/>
          <p:cNvPicPr/>
          <p:nvPr/>
        </p:nvPicPr>
        <p:blipFill>
          <a:blip r:embed="rId1"/>
          <a:stretch/>
        </p:blipFill>
        <p:spPr>
          <a:xfrm>
            <a:off x="971640" y="1146240"/>
            <a:ext cx="7723080" cy="47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Reality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2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ECEF-22C8-4C19-9DEB-DB9574E0741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" name="Picture 2" descr=""/>
          <p:cNvPicPr/>
          <p:nvPr/>
        </p:nvPicPr>
        <p:blipFill>
          <a:blip r:embed="rId1"/>
          <a:stretch/>
        </p:blipFill>
        <p:spPr>
          <a:xfrm>
            <a:off x="250920" y="1446120"/>
            <a:ext cx="2592360" cy="1838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3" descr=""/>
          <p:cNvPicPr/>
          <p:nvPr/>
        </p:nvPicPr>
        <p:blipFill>
          <a:blip r:embed="rId2"/>
          <a:stretch/>
        </p:blipFill>
        <p:spPr>
          <a:xfrm>
            <a:off x="247680" y="3573360"/>
            <a:ext cx="2595600" cy="18003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4" descr=""/>
          <p:cNvPicPr/>
          <p:nvPr/>
        </p:nvPicPr>
        <p:blipFill>
          <a:blip r:embed="rId3"/>
          <a:stretch/>
        </p:blipFill>
        <p:spPr>
          <a:xfrm>
            <a:off x="5235480" y="1376280"/>
            <a:ext cx="2505240" cy="1981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5" descr=""/>
          <p:cNvPicPr/>
          <p:nvPr/>
        </p:nvPicPr>
        <p:blipFill>
          <a:blip r:embed="rId4"/>
          <a:stretch/>
        </p:blipFill>
        <p:spPr>
          <a:xfrm>
            <a:off x="5235480" y="3449520"/>
            <a:ext cx="2505240" cy="1924200"/>
          </a:xfrm>
          <a:prstGeom prst="rect">
            <a:avLst/>
          </a:prstGeom>
          <a:ln w="0">
            <a:noFill/>
          </a:ln>
        </p:spPr>
      </p:pic>
      <p:sp>
        <p:nvSpPr>
          <p:cNvPr id="930" name="Textfeld 2"/>
          <p:cNvSpPr/>
          <p:nvPr/>
        </p:nvSpPr>
        <p:spPr>
          <a:xfrm>
            <a:off x="4209120" y="1989000"/>
            <a:ext cx="9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M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feld 10"/>
          <p:cNvSpPr/>
          <p:nvPr/>
        </p:nvSpPr>
        <p:spPr>
          <a:xfrm>
            <a:off x="2843280" y="177336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ag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sb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otter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M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feld 12"/>
          <p:cNvSpPr/>
          <p:nvPr/>
        </p:nvSpPr>
        <p:spPr>
          <a:xfrm>
            <a:off x="2921760" y="3645000"/>
            <a:ext cx="1155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CI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SM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feld 13"/>
          <p:cNvSpPr/>
          <p:nvPr/>
        </p:nvSpPr>
        <p:spPr>
          <a:xfrm>
            <a:off x="3725280" y="4581360"/>
            <a:ext cx="1559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Montré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feld 3"/>
          <p:cNvSpPr/>
          <p:nvPr/>
        </p:nvSpPr>
        <p:spPr>
          <a:xfrm>
            <a:off x="250920" y="5589720"/>
            <a:ext cx="748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Arial"/>
              </a:rPr>
              <a:t>Geneva Convention 1980 on multimoda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" name="Picture 7" descr=""/>
          <p:cNvPicPr/>
          <p:nvPr/>
        </p:nvPicPr>
        <p:blipFill>
          <a:blip r:embed="rId5"/>
          <a:stretch/>
        </p:blipFill>
        <p:spPr>
          <a:xfrm>
            <a:off x="6827760" y="5661000"/>
            <a:ext cx="9129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394920" y="20448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OTIF: “Rail +” approach 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75840" y="1052280"/>
            <a:ext cx="844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Applies to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multimodal transportation </a:t>
            </a: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by rail and national road or international sea leg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For the Application of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COTIF/CIM</a:t>
            </a: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 on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multimodal rail/road </a:t>
            </a:r>
            <a:r>
              <a:rPr b="0" lang="en-GB" sz="2800" spc="-1" strike="noStrike">
                <a:solidFill>
                  <a:srgbClr val="404040"/>
                </a:solidFill>
                <a:latin typeface="Arial"/>
              </a:rPr>
              <a:t>transportation it </a:t>
            </a:r>
            <a:r>
              <a:rPr b="1" lang="en-GB" sz="2800" spc="-1" strike="noStrike">
                <a:solidFill>
                  <a:srgbClr val="404040"/>
                </a:solidFill>
                <a:latin typeface="Arial"/>
              </a:rPr>
              <a:t>is decisive</a:t>
            </a:r>
            <a:endParaRPr b="0" lang="en-US" sz="28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lnSpc>
                <a:spcPct val="75000"/>
              </a:lnSpc>
              <a:spcBef>
                <a:spcPts val="2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05150"/>
              </a:solidFill>
              <a:latin typeface="Arial"/>
            </a:endParaRPr>
          </a:p>
          <a:p>
            <a:pPr lvl="2" marL="1176120" indent="-335880">
              <a:lnSpc>
                <a:spcPct val="75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whether the goods are unloaded from the vehicles or not (then 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CIM is applicable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nd not CMR)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2" marL="1176120" indent="-335880">
              <a:lnSpc>
                <a:spcPct val="75000"/>
              </a:lnSpc>
              <a:spcBef>
                <a:spcPts val="601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whether road-transportation is only a supplement to transfrontier carriage by rail (then</a:t>
            </a:r>
            <a:r>
              <a:rPr b="1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 CIM is applicable </a:t>
            </a:r>
            <a:r>
              <a:rPr b="0" lang="en-GB" sz="2400" spc="-1" strike="noStrike">
                <a:solidFill>
                  <a:srgbClr val="404040"/>
                </a:solidFill>
                <a:latin typeface="Arial"/>
                <a:ea typeface="ＭＳ Ｐゴシック"/>
              </a:rPr>
              <a:t>and not CMR)</a:t>
            </a:r>
            <a:endParaRPr b="0" lang="en-US" sz="2400" spc="-1" strike="noStrike">
              <a:solidFill>
                <a:srgbClr val="505150"/>
              </a:solidFill>
              <a:latin typeface="Arial"/>
            </a:endParaRPr>
          </a:p>
          <a:p>
            <a:pPr lvl="2" marL="1176120" indent="-335880">
              <a:lnSpc>
                <a:spcPct val="75000"/>
              </a:lnSpc>
              <a:spcBef>
                <a:spcPts val="550"/>
              </a:spcBef>
              <a:buClr>
                <a:srgbClr val="40404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05150"/>
              </a:solidFill>
              <a:latin typeface="Arial"/>
            </a:endParaRPr>
          </a:p>
        </p:txBody>
      </p:sp>
      <p:sp>
        <p:nvSpPr>
          <p:cNvPr id="938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5FBB-B43C-47C5-A284-A5E5D321673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hteck 4"/>
          <p:cNvSpPr/>
          <p:nvPr/>
        </p:nvSpPr>
        <p:spPr>
          <a:xfrm>
            <a:off x="2556000" y="1628640"/>
            <a:ext cx="24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feld 3"/>
          <p:cNvSpPr/>
          <p:nvPr/>
        </p:nvSpPr>
        <p:spPr>
          <a:xfrm>
            <a:off x="2787480" y="907920"/>
            <a:ext cx="5977080" cy="1736640"/>
          </a:xfrm>
          <a:prstGeom prst="rect">
            <a:avLst/>
          </a:prstGeom>
          <a:solidFill>
            <a:srgbClr val="bbe0e3"/>
          </a:solidFill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404040"/>
                </a:solidFill>
                <a:latin typeface="Arial"/>
              </a:rPr>
              <a:t>CIM Art. 1 §3 / CIV Art. 1 §2 : 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When international carriage being the subject of a single contract includes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carriage by road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 or inland waterway in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Internal traffic 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of a Member State </a:t>
            </a: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as a supplement to transfrontier carriage by rail</a:t>
            </a:r>
            <a:r>
              <a:rPr b="0" lang="en-US" sz="1200" spc="-1" strike="noStrike">
                <a:solidFill>
                  <a:srgbClr val="404040"/>
                </a:solidFill>
                <a:latin typeface="Arial"/>
              </a:rPr>
              <a:t>, these Uniform Rules shall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040"/>
                </a:solidFill>
                <a:latin typeface="Arial"/>
              </a:rPr>
              <a:t>CIM Art. 1 § 4 / CIV Art. 1 § 3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he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ational carriag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ng the subject of a single contract of carriage includes carriage b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a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 transfrontier carriage by inland waterwa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s a supplement to carriage by rai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, these Uniform Rules shall apply if the carriage by sea or inland waterway is performed on service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cluded in the lis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f services provided for in Article 24 § 1 of the Conven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hteck 9"/>
          <p:cNvSpPr/>
          <p:nvPr/>
        </p:nvSpPr>
        <p:spPr>
          <a:xfrm>
            <a:off x="230040" y="2746440"/>
            <a:ext cx="289080" cy="2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hteck 10"/>
          <p:cNvSpPr/>
          <p:nvPr/>
        </p:nvSpPr>
        <p:spPr>
          <a:xfrm>
            <a:off x="212760" y="3394080"/>
            <a:ext cx="288720" cy="274680"/>
          </a:xfrm>
          <a:prstGeom prst="rect">
            <a:avLst/>
          </a:prstGeom>
          <a:solidFill>
            <a:srgbClr val="33cc33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feld 13"/>
          <p:cNvSpPr/>
          <p:nvPr/>
        </p:nvSpPr>
        <p:spPr>
          <a:xfrm>
            <a:off x="651960" y="2637000"/>
            <a:ext cx="1528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ll COTI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ppendices (4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feld 14"/>
          <p:cNvSpPr/>
          <p:nvPr/>
        </p:nvSpPr>
        <p:spPr>
          <a:xfrm>
            <a:off x="608040" y="3284640"/>
            <a:ext cx="17542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Without CUV/CU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PTU/ATMF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feld 15"/>
          <p:cNvSpPr/>
          <p:nvPr/>
        </p:nvSpPr>
        <p:spPr>
          <a:xfrm>
            <a:off x="608040" y="3916440"/>
            <a:ext cx="17683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Without CIV/RI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CUV/CUI/APT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TMF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feld 15"/>
          <p:cNvSpPr/>
          <p:nvPr/>
        </p:nvSpPr>
        <p:spPr>
          <a:xfrm>
            <a:off x="632880" y="4815000"/>
            <a:ext cx="1189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Membersh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suspen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hteck 16"/>
          <p:cNvSpPr/>
          <p:nvPr/>
        </p:nvSpPr>
        <p:spPr>
          <a:xfrm>
            <a:off x="212760" y="5510160"/>
            <a:ext cx="288720" cy="274680"/>
          </a:xfrm>
          <a:prstGeom prst="rect">
            <a:avLst/>
          </a:prstGeom>
          <a:solidFill>
            <a:srgbClr val="ccffcc"/>
          </a:solidFill>
          <a:ln w="93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feld 15"/>
          <p:cNvSpPr/>
          <p:nvPr/>
        </p:nvSpPr>
        <p:spPr>
          <a:xfrm>
            <a:off x="646920" y="5489640"/>
            <a:ext cx="9550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Associ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505150"/>
                </a:solidFill>
                <a:latin typeface="Arial"/>
              </a:rPr>
              <a:t>Me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4"/>
          <p:cNvSpPr/>
          <p:nvPr/>
        </p:nvSpPr>
        <p:spPr>
          <a:xfrm>
            <a:off x="6718320" y="1144440"/>
            <a:ext cx="228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505150"/>
                </a:solidFill>
                <a:latin typeface="Arial"/>
              </a:rPr>
              <a:t>Situation 25 July 2017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57120" y="491760"/>
            <a:ext cx="844416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63d74"/>
                </a:solidFill>
                <a:latin typeface="Arial"/>
              </a:rPr>
              <a:t>Scope of application COTIF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pic>
        <p:nvPicPr>
          <p:cNvPr id="951" name="Picture 15" descr=""/>
          <p:cNvPicPr/>
          <p:nvPr/>
        </p:nvPicPr>
        <p:blipFill>
          <a:blip r:embed="rId1"/>
          <a:stretch/>
        </p:blipFill>
        <p:spPr>
          <a:xfrm>
            <a:off x="2311560" y="1641600"/>
            <a:ext cx="6500520" cy="4548240"/>
          </a:xfrm>
          <a:prstGeom prst="rect">
            <a:avLst/>
          </a:prstGeom>
          <a:ln w="0">
            <a:noFill/>
          </a:ln>
        </p:spPr>
      </p:pic>
      <p:sp>
        <p:nvSpPr>
          <p:cNvPr id="952" name="Rechteck 15"/>
          <p:cNvSpPr/>
          <p:nvPr/>
        </p:nvSpPr>
        <p:spPr>
          <a:xfrm>
            <a:off x="212760" y="4148280"/>
            <a:ext cx="288720" cy="274320"/>
          </a:xfrm>
          <a:prstGeom prst="rect">
            <a:avLst/>
          </a:prstGeom>
          <a:solidFill>
            <a:srgbClr val="ff9933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Grafik 17" descr=""/>
          <p:cNvPicPr/>
          <p:nvPr/>
        </p:nvPicPr>
        <p:blipFill>
          <a:blip r:embed="rId2"/>
          <a:srcRect l="8587" t="56362" r="88677" b="39639"/>
          <a:stretch/>
        </p:blipFill>
        <p:spPr>
          <a:xfrm>
            <a:off x="196920" y="4900680"/>
            <a:ext cx="355680" cy="34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50640" y="493200"/>
            <a:ext cx="8443800" cy="8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3d74"/>
                </a:solidFill>
                <a:latin typeface="Arial"/>
              </a:rPr>
              <a:t>CIT Legal Solutions for Multimodal Transport: </a:t>
            </a:r>
            <a:r>
              <a:rPr b="1" lang="en-US" sz="3600" spc="-1" strike="noStrike" u="sng">
                <a:solidFill>
                  <a:srgbClr val="263d74"/>
                </a:solidFill>
                <a:uFillTx/>
                <a:latin typeface="Arial"/>
              </a:rPr>
              <a:t>Rail-Road (I)</a:t>
            </a:r>
            <a:endParaRPr b="1" lang="en-US" sz="3600" spc="-1" strike="noStrike">
              <a:solidFill>
                <a:srgbClr val="263d74"/>
              </a:solidFill>
              <a:latin typeface="Arial"/>
            </a:endParaRPr>
          </a:p>
        </p:txBody>
      </p:sp>
      <p:sp>
        <p:nvSpPr>
          <p:cNvPr id="955" name="Foliennummernplatzhalter 3"/>
          <p:cNvSpPr/>
          <p:nvPr/>
        </p:nvSpPr>
        <p:spPr>
          <a:xfrm>
            <a:off x="6651720" y="6453360"/>
            <a:ext cx="213336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232B-9B4D-4119-9354-CD2B8C7C005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2" descr=""/>
          <p:cNvPicPr/>
          <p:nvPr/>
        </p:nvPicPr>
        <p:blipFill>
          <a:blip r:embed="rId1"/>
          <a:stretch/>
        </p:blipFill>
        <p:spPr>
          <a:xfrm>
            <a:off x="1582560" y="1805040"/>
            <a:ext cx="7561440" cy="4392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57" name="Textfeld 4"/>
          <p:cNvSpPr/>
          <p:nvPr/>
        </p:nvSpPr>
        <p:spPr>
          <a:xfrm>
            <a:off x="365040" y="1557360"/>
            <a:ext cx="640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05150"/>
                </a:solidFill>
                <a:latin typeface="Arial"/>
              </a:rPr>
              <a:t>Scope of application CIM/CMR/SM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12:58:59Z</dcterms:created>
  <dc:creator>katja.siegenthaler</dc:creator>
  <dc:description/>
  <dc:language>en-US</dc:language>
  <cp:lastModifiedBy>brynkina</cp:lastModifiedBy>
  <cp:lastPrinted>2017-11-21T12:49:39Z</cp:lastPrinted>
  <dcterms:modified xsi:type="dcterms:W3CDTF">2017-11-21T13:20:02Z</dcterms:modified>
  <cp:revision>200</cp:revision>
  <dc:subject/>
  <dc:title>Folie 1</dc:title>
</cp:coreProperties>
</file>