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5D04-90C3-41E2-BD52-A05BAD9B4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A15E-A702-4D20-B6B3-92625C39F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15F0-6AAC-4EBF-A4FC-F6E1FE6F5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8660-21C5-4144-951C-4C5C5B71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3208-0C2B-44CA-9064-2D7BEFE1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FEDD-9A48-4687-82AD-BE16BF73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5C4-9EB7-44E5-96A3-54B635C9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A37D-B280-4109-A0A3-27E70F9C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29E5-9DD3-40C6-AD66-52EB592C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3EC-EE7F-4ABD-9CA1-E880C371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E131-610E-426F-883D-EE02B718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8CA7-A002-40A9-86F5-23264EBB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86F0-52D6-4F27-B53E-8200218F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5C4-478D-41AF-91D4-278143C0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02CF-C921-48AD-A004-C5D4364D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E2A1-9DC3-4336-A269-C7990ADD6C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6920" y="1557000"/>
            <a:ext cx="669636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000" spc="-1" strike="noStrike">
                <a:solidFill>
                  <a:srgbClr val="000000"/>
                </a:solidFill>
                <a:latin typeface="Arial"/>
              </a:rPr>
              <a:t>The current situation of intermodal transport in Serb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5"/>
          <p:cNvSpPr/>
          <p:nvPr/>
        </p:nvSpPr>
        <p:spPr>
          <a:xfrm>
            <a:off x="1332000" y="4869000"/>
            <a:ext cx="590400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ana Boz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ry of Construction, Transport and Infrastructure of Republic of Ser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for Railways and Intermodal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2"/>
          <a:stretch/>
        </p:blipFill>
        <p:spPr>
          <a:xfrm>
            <a:off x="1835280" y="2279520"/>
            <a:ext cx="5400720" cy="2517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246400" y="19692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CE Workshop on Railways contribution to Intermodal Transport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1263600" y="6237360"/>
            <a:ext cx="69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eneva, 23 November 20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6980400" y="195120"/>
            <a:ext cx="2139840" cy="2127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tretch/>
        </p:blipFill>
        <p:spPr>
          <a:xfrm>
            <a:off x="73080" y="158760"/>
            <a:ext cx="22255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8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of local governmen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logistics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28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se activity of local government and launched initiatives for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and construction of logistics centers and termin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gistics center City of Backa Pala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modal logistics center on the Danube in City of Smedere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gistics center in City of Pir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gistics center in City of Apa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gistics center City of Sab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5291280" y="3975120"/>
            <a:ext cx="37432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sion of Capacities of the Terminal for dry bulk and General Cargo of the Smederevo 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3" descr="C:\Users\irena.konjevic\Desktop\fotke sektor\Лука Смедерево\luka-smederevo-01.jpg"/>
          <p:cNvPicPr/>
          <p:nvPr/>
        </p:nvPicPr>
        <p:blipFill>
          <a:blip r:embed="rId1"/>
          <a:stretch/>
        </p:blipFill>
        <p:spPr>
          <a:xfrm>
            <a:off x="2411280" y="1700280"/>
            <a:ext cx="4181760" cy="23050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2216160" y="4308480"/>
            <a:ext cx="457200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d cost of the works on Port constructio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UR 8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d cost of the construction of port infrastructure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 EUR 40 million and it will be financed by the Republic of Serb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uction of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New Port in Bel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3" descr="C:\Users\irena.konjevic\Desktop\fotke sektor\Лука Бг\bgd1.png"/>
          <p:cNvPicPr/>
          <p:nvPr/>
        </p:nvPicPr>
        <p:blipFill>
          <a:blip r:embed="rId1"/>
          <a:stretch/>
        </p:blipFill>
        <p:spPr>
          <a:xfrm>
            <a:off x="1979640" y="1535040"/>
            <a:ext cx="5616720" cy="31179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2627280" y="4778280"/>
            <a:ext cx="457200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Estimated cost of the first Project pha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EUR 343 million (this amount covers designing and construction of the entire port infrastructure and suprastructure in the area of 120 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uction of the Port of Apati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Content Placeholder 3" descr="C:\Users\irena.konjevic\Desktop\fotke sektor\Лука Апатин\Situacioni plan luke- varijanta Apatin.jpg"/>
          <p:cNvPicPr/>
          <p:nvPr/>
        </p:nvPicPr>
        <p:blipFill>
          <a:blip r:embed="rId1"/>
          <a:stretch/>
        </p:blipFill>
        <p:spPr>
          <a:xfrm>
            <a:off x="1332000" y="1376280"/>
            <a:ext cx="6408720" cy="3060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2411280" y="4797360"/>
            <a:ext cx="4572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d Project cost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UR 36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d cost of port infrastructure constructio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 EUR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million and this shall be a commitment of the Republic of Ser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762200" y="622440"/>
            <a:ext cx="6119640" cy="2401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rcRect l="0" t="0" r="26699" b="62888"/>
          <a:stretch/>
        </p:blipFill>
        <p:spPr>
          <a:xfrm>
            <a:off x="2411280" y="2852640"/>
            <a:ext cx="475452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1547640" y="774720"/>
            <a:ext cx="6267600" cy="387648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1547640" y="4292640"/>
            <a:ext cx="62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na Boz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ry of Construction, Transport and 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Republic of Ser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81 11 36129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na.bozic@mgsi.gov.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Резултат слика за intermodal transport rail road water"/>
          <p:cNvPicPr/>
          <p:nvPr/>
        </p:nvPicPr>
        <p:blipFill>
          <a:blip r:embed="rId2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of intermodal terminal in Bel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of railway tracks reconstruction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 of creation of container ter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railway station Belgrade 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of local governments to bui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stics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w on Rail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gul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gulation on stimulus measures in order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mote combined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gulation on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bined transport to and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bined transport terminals located at the ra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422c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22c16"/>
                </a:solidFill>
                <a:latin typeface="Arial"/>
              </a:rPr>
              <a:t>The Plan for Railway, Road, Water, Air and Intermodal Transport Development in the RS 2015-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422c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2c16"/>
                </a:solidFill>
                <a:latin typeface="Arial"/>
              </a:rPr>
              <a:t>General (Master) Plan of transport development in RS between 2009 and 20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422c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2c16"/>
                </a:solidFill>
                <a:latin typeface="Arial"/>
              </a:rPr>
              <a:t>Multilateral and bilateral agreements and strategic plans of the RS with the neighbouring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of intermodal termin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in Bel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5122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documentation was compl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EU f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d value of the investment 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is of Preliminary Design – 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.75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greement was sign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is expected to start in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5340240" y="1268280"/>
            <a:ext cx="3584520" cy="2017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5340240" y="3432240"/>
            <a:ext cx="35658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of railway tracks reconstru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urpose of creation of container termin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railway station Belgra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r terminal Makis (ZIT)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4000" y="2492280"/>
            <a:ext cx="748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tion of project documentation for the reconstruc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lway tracks was fin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value of investment is EUR 9.5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s for realization of this project are not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in area of Belgrade MY is the company ”Rail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Transport’’ which have a infrastructure capacity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er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dity-Transpor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Bel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documentation was completed by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to be located between the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grade Marshalling Station and Obrenovac 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,4 km of track will be constr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project and Previous Feasibility Study w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steps: preparation of Detailed Regulation 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2c16"/>
                </a:solidFill>
                <a:latin typeface="Arial"/>
              </a:rPr>
              <a:t>Development of Logistic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s centers of international / regional charac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developed at the multimodal Corridor X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dor VII, in large regional economic hubs such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grade, Nis and Novi Sa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s centers of national / local character will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the areas of regional economy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rynkina</cp:lastModifiedBy>
  <cp:lastPrinted>2017-11-21T13:47:01Z</cp:lastPrinted>
  <dcterms:modified xsi:type="dcterms:W3CDTF">2017-11-21T13:47:13Z</dcterms:modified>
  <cp:revision>740</cp:revision>
  <dc:subject/>
  <dc:title>Diapositiva 1</dc:title>
</cp:coreProperties>
</file>