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06BA-565E-41BA-8220-DB25BD563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B571-6EB9-4AAF-BE16-9C2FD84C3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D7A1-9F66-40BD-A34E-7F2F2ED21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601D-37B4-44C6-9462-5548E11E7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2C83-0E37-4C64-807A-861C1B820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ackground information on the sponsors of the EV informal working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 informal working group focuses on the environmental and fuel efficiency issues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oal of the EVS GTR informal working group is establish a GTR to address the safety of EV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4806-B754-4BD4-B665-2D17F2017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uments and reports of each meeting are posted in the UN website:  https://www2.unece.org/wiki/pages/viewpage.action?pageId=31786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4532-E51B-4D9D-BE75-A93C24E26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ormal working group established the terms of reference.  Some of the highlights in the TO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 will stress on research to obtain the necessary technical and scientific data to establish requirements and test proced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TR will address safety requirements of EVs for in-use, post crash; and end of life for Li-ion batt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7B56-2623-4188-9361-D7659170B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84A4-6A76-48D3-A7D7-0B05E1BAA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00E8-A0EC-43C7-8A03-76F82DAB2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62BA-5313-4841-8493-78D3C4752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DC6-DF2E-4063-A696-239EDF60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C41-F152-4AE4-89ED-673AEF85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309-593D-4DD1-A8C0-7CF4E624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618-2A38-43A9-AAC4-FEB8E0E8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2693-FAA3-4E7F-AD06-AEDD9E9A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E397-BA91-4F94-AB0D-C1752841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4B0D-F943-4439-95E3-26A5FB0F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5C97-F075-470F-AD4C-48C4B84E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91EE-5B25-4D77-92CD-24B71A16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BEB3-DF58-4757-8F4A-A57AA6E2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0BBA-AB0A-4A80-A293-5876A508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3B8-B84B-4E70-A50C-D9299F52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CC8C-7C4D-4709-A22A-D458BE9F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3328-4BF1-41F2-A9BC-4E1DAB78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AF4F-602E-4A23-B1E9-EAAD5F2C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FB10-046B-4860-BDE5-AF306592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7500-6D26-4644-A122-41EAE444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82F25-8F21-49F9-8075-F8B6EB22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7610A-001B-469C-8B24-A04FBB6D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7E3A5-858B-4B8A-8552-53A7CDBD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51905-6574-40C5-A9F8-BBC67B13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CE86D-67E2-4208-A43A-878A2489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EF1-B072-4D9E-87C6-CDF19562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4FE03-899F-489F-A5EC-9B059621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55597-9895-4524-89C3-5AD5EA1D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5A465-43B2-4859-9388-A1B15C0B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B0E7-8E75-4737-B6FA-F45DA4E6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1FCC-BD79-400F-A16D-5C5F24CD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3476B-2444-44BB-B228-3E442315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81F20-3BB4-44EF-9423-AA1FA353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065A3-A2D5-4A8C-8017-5944FD64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17A53-300D-402E-B152-A45EBC95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F0B7C-7703-475E-934B-B8573BA7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507-E6F5-4DE2-AFBD-A1A068EC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EEA8A-B639-4EC7-B9A0-C446080B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AD0D1-9C89-49CC-9966-2125F575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C81A7-9EC8-45E4-BA19-F6BBB0D0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4C8A5-AD5F-4512-93B9-9334BC9E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D7102-6260-4DAC-A8A2-D6A43084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0884F-8EBB-4066-95C2-AFF21EFD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13DE5-944D-457B-BC2D-7221C09A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1C20D-01DB-49D0-B834-0B0D40C2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F998B-E0D2-4649-A670-68485D33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9B3D0-DFEF-4B46-A2B1-CC764914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F9B-E595-4304-BEC2-80AC924F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AB63F-5607-4ED3-8CC0-6A8AFF99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A5B8A-B16F-4B4B-AE1E-09A2D5F5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00112-31FD-47C0-B133-7E318DFA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4972B-8387-423D-8C43-275D92ED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4E042-0B34-4303-AF9C-15267269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29ADC-E10F-48E4-B28E-FE00B174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846B5-BA8C-462F-A704-001F396C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A88CF-3595-4248-80B5-D9CFBC8B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43E2A-74CB-4556-AF46-374BEDF7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BAD86-696E-4C46-859C-8725DD05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2FCF-1838-4A8B-AB16-7450473C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93B64-3944-4F76-BD13-74B9A989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5F7B6-F0D9-4969-B62F-9CFCA305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F7272-5781-44B2-BD86-757636D3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65D9D-C34C-417F-B4D1-3A6412A3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D0EF9-56B1-44EF-87CE-7CD2E0AC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0CBB0-94FA-413A-9428-E1C6886C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C7888-5413-4984-92F1-54839540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D8BE0-4D2B-4999-9775-FA7EDA07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76747-4110-4F47-8943-6D1E6DBF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6C00A-C38D-471F-A1A2-80C47FAB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6CF-64A8-42D9-998A-2CE9688B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0C0CA-5B3F-4E06-BD4C-B8D77DE7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AFA94-FD6F-44FF-BD1B-94C35CAE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B0340-67F6-4CDF-B4B2-3AEC4E69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7DB31-A0CE-4290-A1A2-4AF1165A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76D00-BE5E-4535-900C-4238B25B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E0550-320B-4A66-8290-D44CB1A1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81546-9400-402B-9CAF-A64344DF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07BD7-ABF0-47AA-8007-1A2E7F9A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BB707-3B8F-4FFA-B008-B80F3AE0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8EEE1-1504-4190-8D5B-91C85B52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BD0-1E3B-4373-8644-371C582A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32FA1-1B70-4251-915A-29C5DB2C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343EF-DD4A-4581-AA93-FEDD88CC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9ECD1-26B0-4569-99EA-33108531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F08CE-812D-4015-8A52-E2A758D9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8E8DA-E112-4C99-8EDE-2F4124E4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A2C-6EA2-46F7-9644-56CF2C65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5D8-57CF-4025-8779-9E25029B6A6E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FOR INTERNAL USE ONLY - DRAFT DELIBE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069E-9BB7-417A-A7BB-3ABFE4A71D3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1E21-D418-44DA-952C-4A945AF9371F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FOR INTERNAL USE ONLY - DRAFT DELIBE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8BCB-9EBE-4AF6-8234-67ED9813619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F264-C1C0-442F-AB09-5EDFC8AC94E2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FOR INTERNAL USE ONLY - DRAFT DELIBE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84E2-2ED8-4EAD-85C1-B936830ACDD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54A8-95E6-4591-90AD-BD48FD384AAE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FOR INTERNAL USE ONLY - DRAFT DELIBE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E903-8DF4-4D31-A277-E716A5DC2D7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C706-6367-4D5D-9C6C-086C2681B93A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FOR INTERNAL USE ONLY - DRAFT DELIBE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F4A6-F53B-44E9-8297-8A81774DBA0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4C0A-9960-433A-80A1-7AD2565B7BE6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FOR INTERNAL USE ONLY - DRAFT DELIBE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5FD5-0D62-4F47-9E90-8DEC2A3DCE9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3802-B03B-477F-AE2D-A2287C7EED5D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FOR INTERNAL USE ONLY - DRAFT DELIBE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2409-4BD3-4EC7-88FD-762B668F348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ill Sans MT"/>
              </a:rPr>
              <a:t>Electric Vehicles Safet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ill Sans MT"/>
              </a:rPr>
              <a:t>Global Technical Regulation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120" y="25146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2E7C-8223-4BCB-B18B-E618BA8E0FD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3141000" y="3124080"/>
            <a:ext cx="44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Gill Sans MT"/>
              </a:rPr>
              <a:t>Nha Nguy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Gill Sans MT"/>
              </a:rPr>
              <a:t>On behalf of the EVS-GTR IW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362320" y="457200"/>
          <a:ext cx="6321240" cy="479520"/>
        </p:xfrm>
        <a:graphic>
          <a:graphicData uri="http://schemas.openxmlformats.org/drawingml/2006/table">
            <a:tbl>
              <a:tblPr/>
              <a:tblGrid>
                <a:gridCol w="2970000"/>
                <a:gridCol w="3351240"/>
              </a:tblGrid>
              <a:tr h="479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971800"/>
                          <a:tab algn="r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ubmitted by expert from 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971800"/>
                          <a:tab algn="r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formal document GRSP-60-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just">
                        <a:tabLst>
                          <a:tab algn="l" pos="0"/>
                          <a:tab algn="ctr" pos="2971800"/>
                          <a:tab algn="r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60th GRSP, 13-16 December 2016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just">
                        <a:tabLst>
                          <a:tab algn="l" pos="0"/>
                          <a:tab algn="ctr" pos="2971800"/>
                          <a:tab algn="r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genda item 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erformance Requirements (cont.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32d2e"/>
                </a:solidFill>
                <a:latin typeface="Gill Sans MT"/>
              </a:rPr>
              <a:t>Based on the requirements of the light duty vehicl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7.  Heavy duty vehicles and buse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7.1. Requirements of a vehicle with regard to its electrical safety - in-us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355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7.1.1.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Protection against electric shock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355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7.1.2.  Functional safety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7.2. Requirements with regard to installation and functionality of REESS in a vehicl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355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7.2.1.  Installation of rechargeable energy storage system (REESS) on a vehicle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355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7.2.2.  Warning in the event of operational failure of vehicle controls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355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that manage REESS safe operation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355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7.2.3.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Warning in the case of a thermal event within the REESS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355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7.2.4.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Warning in the event of low energy content of REES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12A7-BD9D-45C9-97B3-F51325BD6C6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erformance requirements (cont.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.3. Requirements with regard to the safety of REESS - in-us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.3.1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eneral principl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.3.2.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ibratio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.3.3.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rmal shock and cycl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.3.4.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re resistanc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.3.5.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ernal short circuit protectio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.3.6.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ercharge protectio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.3.7.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er-discharge protectio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7.3.8.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er-temperature protectio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[7.3.9.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Overcurrent protection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7.3.10.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Low-temperature protection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7.3.11.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Management of gases emitted from REESS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7.3.12.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Thermal propagation]</a:t>
            </a:r>
            <a:r>
              <a:rPr b="0" lang="en-US" sz="2000" spc="-1" strike="noStrike">
                <a:solidFill>
                  <a:srgbClr val="c32d2e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6182-F18A-471B-9812-0F3ED8E9976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imeline for Phase 1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66680" y="1646280"/>
            <a:ext cx="78487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f271c"/>
                </a:solidFill>
                <a:uFillTx/>
                <a:latin typeface="Gill Sans MT"/>
              </a:rPr>
              <a:t>December 2016</a:t>
            </a: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:  Submit draft GTR to GRS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f271c"/>
                </a:solidFill>
                <a:uFillTx/>
                <a:latin typeface="Gill Sans MT"/>
              </a:rPr>
              <a:t>January-February 2017</a:t>
            </a:r>
            <a:r>
              <a:rPr b="0" lang="en-US" sz="1600" spc="-1" strike="noStrike">
                <a:solidFill>
                  <a:srgbClr val="4f271c"/>
                </a:solidFill>
                <a:latin typeface="Gill Sans MT"/>
              </a:rPr>
              <a:t>:  Possible EVS meeting and editorial meet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f271c"/>
                </a:solidFill>
                <a:uFillTx/>
                <a:latin typeface="Gill Sans MT"/>
              </a:rPr>
              <a:t>May 2017</a:t>
            </a: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: Submit formal GTR to GRS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f271c"/>
                </a:solidFill>
                <a:uFillTx/>
                <a:latin typeface="Gill Sans MT"/>
              </a:rPr>
              <a:t>June 2017</a:t>
            </a: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: Submit GTR to WP.29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f271c"/>
                </a:solidFill>
                <a:uFillTx/>
                <a:latin typeface="Gill Sans MT"/>
              </a:rPr>
              <a:t>November 2017</a:t>
            </a: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:  Possible vote to establish GT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0C86-E1EA-4ED4-93DF-A94328DBAE2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hase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2640" y="129492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3891a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Gill Sans MT"/>
                <a:ea typeface="HGｺﾞｼｯｸE"/>
              </a:rPr>
              <a:t>The exact scope and timeline for Phase 2 of the GTR will be clarified after the completion of the Phase I.  S</a:t>
            </a:r>
            <a:r>
              <a:rPr b="0" lang="en-US" sz="2400" spc="-1" strike="noStrike">
                <a:solidFill>
                  <a:srgbClr val="4f271c"/>
                </a:solidFill>
                <a:latin typeface="Gill Sans MT"/>
              </a:rPr>
              <a:t>ome possible item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684360" indent="-292320">
              <a:buClr>
                <a:srgbClr val="3891a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In-us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858960" indent="-292320">
              <a:buClr>
                <a:srgbClr val="3891a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Protection during charging:  AC and DC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858960" indent="-292320">
              <a:buClr>
                <a:srgbClr val="3891a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Propagation/enclosure thermal containmen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858960" indent="-292320">
              <a:buClr>
                <a:srgbClr val="3891a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Water immers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684360" indent="-292320">
              <a:buClr>
                <a:srgbClr val="3891a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Post-crash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858960" indent="-292320">
              <a:buClr>
                <a:srgbClr val="3891a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REESS safety assessmen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858960" indent="-292320">
              <a:buClr>
                <a:srgbClr val="3891a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Battery discharg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858960" indent="-292320">
              <a:buClr>
                <a:srgbClr val="3891a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Toxicity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684360" indent="-292320">
              <a:buClr>
                <a:srgbClr val="3891a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Update phase 1 require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474840" indent="-292320">
              <a:buClr>
                <a:srgbClr val="3891a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28B2-7C55-4A24-B3B0-195A9F64446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ank yo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1BCB-E2FC-42D8-B3D6-D30D80136A2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kgroun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90360" y="1447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5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Gill Sans MT"/>
              </a:rPr>
              <a:t>In 2012, under the United Nations World Forum for Harmonization of Vehicle Regulations (WP.29) and the 1998 Agreement, China, Japan European Union and the United States are co-sponsoring to establish 2 working groups to address environmental and safety issues associated with electric vehicles (EVs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5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5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EV and Environment (EVE): </a:t>
            </a:r>
            <a:r>
              <a:rPr b="0" lang="en-US" sz="1800" spc="-1" strike="noStrike">
                <a:solidFill>
                  <a:srgbClr val="4f271c"/>
                </a:solidFill>
                <a:latin typeface="Gill Sans MT"/>
              </a:rPr>
              <a:t>focusing on the information exchange and joint research concerning the related impacts of the development of EVs to the environment such as CO</a:t>
            </a:r>
            <a:r>
              <a:rPr b="0" lang="en-US" sz="1800" spc="-1" strike="noStrike" baseline="-25000">
                <a:solidFill>
                  <a:srgbClr val="4f271c"/>
                </a:solidFill>
                <a:latin typeface="Gill Sans MT"/>
              </a:rPr>
              <a:t>2</a:t>
            </a:r>
            <a:r>
              <a:rPr b="0" lang="en-US" sz="1800" spc="-1" strike="noStrike">
                <a:solidFill>
                  <a:srgbClr val="4f271c"/>
                </a:solidFill>
                <a:latin typeface="Gill Sans MT"/>
              </a:rPr>
              <a:t> emissions, energy consumption and efficiency, energy storage (batteries, capacitors</a:t>
            </a:r>
            <a:r>
              <a:rPr b="0" lang="en-CA" sz="1800" spc="-1" strike="noStrike">
                <a:solidFill>
                  <a:srgbClr val="4f271c"/>
                </a:solidFill>
                <a:latin typeface="Gill Sans MT"/>
              </a:rPr>
              <a:t>, etc.</a:t>
            </a:r>
            <a:r>
              <a:rPr b="0" lang="en-US" sz="1800" spc="-1" strike="noStrike">
                <a:solidFill>
                  <a:srgbClr val="4f271c"/>
                </a:solidFill>
                <a:latin typeface="Gill Sans MT"/>
              </a:rPr>
              <a:t>) and infrastructur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5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5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EV Safety (EVS): </a:t>
            </a:r>
            <a:r>
              <a:rPr b="0" lang="en-US" sz="1800" spc="-1" strike="noStrike">
                <a:solidFill>
                  <a:srgbClr val="4f271c"/>
                </a:solidFill>
                <a:latin typeface="Gill Sans MT"/>
                <a:ea typeface="MS Mincho"/>
              </a:rPr>
              <a:t>establishing a Global Technical Regulation (GTR) for EVs ensuring high voltage electrical safety, safety of electrical components, and rechargeable electric energy storage systems (REES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5CED-8B1B-415A-BD73-FE4B2970E72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f271c"/>
                </a:solidFill>
                <a:latin typeface="Gill Sans MT"/>
              </a:rPr>
              <a:t>EVS-IW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EVS-informal working group (IWG):  </a:t>
            </a:r>
            <a:r>
              <a:rPr b="0" lang="en-US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omprised of </a:t>
            </a:r>
            <a:r>
              <a:rPr b="0" lang="en-GB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over 50 members from government regulators, industry standard organizations and vehicle and battery manufacturer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IWG has conducted 13 meetings.  The meetings and development process are transparent.  Documents and reports are posted on the UN website: 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ttps://www2.unece.org/wiki/pages/viewpage.action?pageId=3178628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Goal:  WP.29 vote to establish the GTR is November 20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7222-F349-42F9-8B21-899DB435959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971280" y="1212480"/>
            <a:ext cx="7962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Terms of Referenc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f271c"/>
                </a:solidFill>
                <a:latin typeface="Gill Sans MT"/>
                <a:ea typeface="Arial"/>
              </a:rPr>
              <a:t>To the extent possible, GTR will be science-based, data driven and performance based - avoiding design-specific requiremen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f271c"/>
                </a:solidFill>
                <a:latin typeface="Gill Sans MT"/>
                <a:ea typeface="Arial"/>
              </a:rPr>
              <a:t>IWG will investigate, conduct research and establish provisions at vehicle and system levels to address vehicle safety issues for EVs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f271c"/>
                </a:solidFill>
                <a:latin typeface="Gill Sans MT"/>
                <a:ea typeface="Arial"/>
              </a:rPr>
              <a:t>In-use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f271c"/>
                </a:solidFill>
                <a:latin typeface="Gill Sans MT"/>
                <a:ea typeface="Arial"/>
              </a:rPr>
              <a:t>Occupant protection: protection against electric shock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f271c"/>
                </a:solidFill>
                <a:latin typeface="Gill Sans MT"/>
                <a:ea typeface="Arial"/>
              </a:rPr>
              <a:t>Performance and safety requirements for Li-Ion based rechargeable energy storage system (REESS) including battery management system for conditions of low and high temperature, over-charge, over current, over discharge,  external short circuit, and environment conditions such as extreme temperature, vibration, mechanical shock and fire resistance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f271c"/>
                </a:solidFill>
                <a:latin typeface="Gill Sans MT"/>
                <a:ea typeface="Arial"/>
              </a:rPr>
              <a:t>Post crash</a:t>
            </a:r>
            <a:r>
              <a:rPr b="0" lang="en-GB" sz="1400" spc="-1" strike="noStrike">
                <a:solidFill>
                  <a:srgbClr val="4f271c"/>
                </a:solidFill>
                <a:latin typeface="Gill Sans MT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f271c"/>
                </a:solidFill>
                <a:latin typeface="Gill Sans MT"/>
                <a:ea typeface="Arial"/>
              </a:rPr>
              <a:t>Electrical isolation; protection against electric shock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f271c"/>
                </a:solidFill>
                <a:latin typeface="Gill Sans MT"/>
                <a:ea typeface="Arial"/>
              </a:rPr>
              <a:t>Battery integrity: battery management system, robustness and survivability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f271c"/>
                </a:solidFill>
                <a:latin typeface="Gill Sans MT"/>
                <a:ea typeface="Arial"/>
              </a:rPr>
              <a:t>Battery discharge procedur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f271c"/>
                </a:solidFill>
                <a:latin typeface="Gill Sans MT"/>
                <a:ea typeface="Arial"/>
              </a:rPr>
              <a:t>End-of-life</a:t>
            </a:r>
            <a:r>
              <a:rPr b="0" lang="en-GB" sz="1400" spc="-1" strike="noStrike">
                <a:solidFill>
                  <a:srgbClr val="4f271c"/>
                </a:solidFill>
                <a:latin typeface="Gill Sans MT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f271c"/>
                </a:solidFill>
                <a:latin typeface="Gill Sans MT"/>
                <a:ea typeface="Arial"/>
              </a:rPr>
              <a:t>Disposal of batter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5BBE-A83D-46E5-A3B7-7811C3AED2E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152280"/>
            <a:ext cx="7467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Gill Sans MT"/>
                <a:ea typeface="ＭＳ Ｐゴシック"/>
              </a:rPr>
              <a:t>EVS-GTR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-Phase Approa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Gill Sans MT"/>
              </a:rPr>
              <a:t>Phase 1:  </a:t>
            </a:r>
            <a:r>
              <a:rPr b="0" lang="en-US" sz="2400" spc="-1" strike="noStrike">
                <a:solidFill>
                  <a:srgbClr val="4f271c"/>
                </a:solidFill>
                <a:latin typeface="Gill Sans MT"/>
              </a:rPr>
              <a:t>near-term critical safety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Based on a proposal from OICA which is comprised of mostly requirements from R94, R95 and R10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Gill Sans MT"/>
              </a:rPr>
              <a:t>Phase 2:  </a:t>
            </a:r>
            <a:r>
              <a:rPr b="0" lang="en-US" sz="2400" spc="-1" strike="noStrike">
                <a:solidFill>
                  <a:srgbClr val="4f271c"/>
                </a:solidFill>
                <a:latin typeface="Gill Sans MT"/>
              </a:rPr>
              <a:t>safety requirements that require long-term research as well as further improvement of the GT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B4F2-587D-4C22-83A3-D133669E2D4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ask Force Tea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TF-1: Protection Against Water – Chi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TF-2: Low Electrical Energy/Physical Barriers – OIC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TF-3: Electrolyte Leakage – O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TF-4: REESS Protocol BMS, environment exposure – OIC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TF-5: Thermal Propagation – Chi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TF-6: State of Charge (SOC) – Japa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TF-7: Fire Resistance – Kore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TF-8: Heavy Vehicles and Buses- Chi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TF-9: Warning systems – U.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FAFE-A416-4359-9975-3DD791F86C1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raft GTR – Phase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3F7E-1879-4DC5-97C5-75350270DED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2241720" y="1682640"/>
            <a:ext cx="5333760" cy="40752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6"/>
          <p:cNvSpPr/>
          <p:nvPr/>
        </p:nvSpPr>
        <p:spPr>
          <a:xfrm>
            <a:off x="6400800" y="1828800"/>
            <a:ext cx="21337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BMS functionality at vehicle and pack levels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1447200" y="2332080"/>
            <a:ext cx="159048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Battery safety  and 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Low charge warnings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TextBox 10"/>
          <p:cNvSpPr/>
          <p:nvPr/>
        </p:nvSpPr>
        <p:spPr>
          <a:xfrm>
            <a:off x="5268960" y="5002200"/>
            <a:ext cx="2035440" cy="26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Prevention of electric shock 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TextBox 12"/>
          <p:cNvSpPr/>
          <p:nvPr/>
        </p:nvSpPr>
        <p:spPr>
          <a:xfrm>
            <a:off x="6400800" y="4037040"/>
            <a:ext cx="2552760" cy="59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Environmental exposure (In-use):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Vibration; shock; extreme temperature 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609480" y="4475160"/>
            <a:ext cx="1752840" cy="59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Post-crash: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Electric shock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Battery integrity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TextBox 14"/>
          <p:cNvSpPr/>
          <p:nvPr/>
        </p:nvSpPr>
        <p:spPr>
          <a:xfrm>
            <a:off x="1288800" y="3063960"/>
            <a:ext cx="1232280" cy="26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Water exposure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54" name="Straight Arrow Connector 16"/>
          <p:cNvCxnSpPr>
            <a:stCxn id="349" idx="3"/>
          </p:cNvCxnSpPr>
          <p:nvPr/>
        </p:nvCxnSpPr>
        <p:spPr>
          <a:xfrm>
            <a:off x="3028680" y="2548080"/>
            <a:ext cx="1215000" cy="1203840"/>
          </a:xfrm>
          <a:prstGeom prst="straightConnector1">
            <a:avLst/>
          </a:prstGeom>
          <a:ln w="9360">
            <a:solidFill>
              <a:srgbClr val="348fa6"/>
            </a:solidFill>
            <a:miter/>
            <a:tailEnd len="med" type="arrow" w="med"/>
          </a:ln>
        </p:spPr>
      </p:cxnSp>
      <p:cxnSp>
        <p:nvCxnSpPr>
          <p:cNvPr id="355" name="Straight Arrow Connector 19"/>
          <p:cNvCxnSpPr>
            <a:stCxn id="353" idx="3"/>
          </p:cNvCxnSpPr>
          <p:nvPr/>
        </p:nvCxnSpPr>
        <p:spPr>
          <a:xfrm>
            <a:off x="2519280" y="3193920"/>
            <a:ext cx="300600" cy="388080"/>
          </a:xfrm>
          <a:prstGeom prst="straightConnector1">
            <a:avLst/>
          </a:prstGeom>
          <a:ln w="9360">
            <a:solidFill>
              <a:srgbClr val="348fa6"/>
            </a:solidFill>
            <a:miter/>
            <a:tailEnd len="med" type="arrow" w="med"/>
          </a:ln>
        </p:spPr>
      </p:cxnSp>
      <p:cxnSp>
        <p:nvCxnSpPr>
          <p:cNvPr id="356" name="Straight Arrow Connector 25"/>
          <p:cNvCxnSpPr/>
          <p:nvPr/>
        </p:nvCxnSpPr>
        <p:spPr>
          <a:xfrm flipH="1" flipV="1">
            <a:off x="6152400" y="3325320"/>
            <a:ext cx="1377000" cy="718560"/>
          </a:xfrm>
          <a:prstGeom prst="straightConnector1">
            <a:avLst/>
          </a:prstGeom>
          <a:ln w="9360">
            <a:solidFill>
              <a:srgbClr val="348fa6"/>
            </a:solidFill>
            <a:miter/>
            <a:tailEnd len="med" type="arrow" w="med"/>
          </a:ln>
        </p:spPr>
      </p:cxnSp>
      <p:cxnSp>
        <p:nvCxnSpPr>
          <p:cNvPr id="357" name="Straight Arrow Connector 28"/>
          <p:cNvCxnSpPr>
            <a:stCxn id="350" idx="0"/>
          </p:cNvCxnSpPr>
          <p:nvPr/>
        </p:nvCxnSpPr>
        <p:spPr>
          <a:xfrm flipH="1" flipV="1">
            <a:off x="4114080" y="4647600"/>
            <a:ext cx="2172600" cy="354600"/>
          </a:xfrm>
          <a:prstGeom prst="straightConnector1">
            <a:avLst/>
          </a:prstGeom>
          <a:ln w="9360">
            <a:solidFill>
              <a:srgbClr val="348fa6"/>
            </a:solidFill>
            <a:miter/>
            <a:tailEnd len="med" type="arrow" w="med"/>
          </a:ln>
        </p:spPr>
      </p:cxnSp>
      <p:cxnSp>
        <p:nvCxnSpPr>
          <p:cNvPr id="358" name="Straight Arrow Connector 1023"/>
          <p:cNvCxnSpPr>
            <a:stCxn id="352" idx="3"/>
          </p:cNvCxnSpPr>
          <p:nvPr/>
        </p:nvCxnSpPr>
        <p:spPr>
          <a:xfrm flipV="1">
            <a:off x="2361960" y="4737960"/>
            <a:ext cx="533880" cy="37080"/>
          </a:xfrm>
          <a:prstGeom prst="straightConnector1">
            <a:avLst/>
          </a:prstGeom>
          <a:ln w="9360">
            <a:solidFill>
              <a:srgbClr val="348fa6"/>
            </a:solidFill>
            <a:miter/>
            <a:tailEnd len="med" type="arrow" w="med"/>
          </a:ln>
        </p:spPr>
      </p:cxnSp>
      <p:cxnSp>
        <p:nvCxnSpPr>
          <p:cNvPr id="359" name="Straight Arrow Connector 1031"/>
          <p:cNvCxnSpPr>
            <a:stCxn id="348" idx="2"/>
          </p:cNvCxnSpPr>
          <p:nvPr/>
        </p:nvCxnSpPr>
        <p:spPr>
          <a:xfrm flipH="1">
            <a:off x="5942880" y="2258640"/>
            <a:ext cx="1524600" cy="935640"/>
          </a:xfrm>
          <a:prstGeom prst="straightConnector1">
            <a:avLst/>
          </a:prstGeom>
          <a:ln w="9360">
            <a:solidFill>
              <a:srgbClr val="348fa6"/>
            </a:solidFill>
            <a:miter/>
            <a:tailEnd len="med" type="arrow" w="med"/>
          </a:ln>
        </p:spPr>
      </p:cxnSp>
      <p:sp>
        <p:nvSpPr>
          <p:cNvPr id="360" name="TextBox 1034"/>
          <p:cNvSpPr/>
          <p:nvPr/>
        </p:nvSpPr>
        <p:spPr>
          <a:xfrm>
            <a:off x="7459560" y="3170160"/>
            <a:ext cx="1000800" cy="26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Propagation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61" name="Straight Arrow Connector 1036"/>
          <p:cNvCxnSpPr>
            <a:stCxn id="360" idx="1"/>
          </p:cNvCxnSpPr>
          <p:nvPr/>
        </p:nvCxnSpPr>
        <p:spPr>
          <a:xfrm flipH="1" flipV="1">
            <a:off x="6552360" y="3193560"/>
            <a:ext cx="918360" cy="108720"/>
          </a:xfrm>
          <a:prstGeom prst="straightConnector1">
            <a:avLst/>
          </a:prstGeom>
          <a:ln w="9360">
            <a:solidFill>
              <a:srgbClr val="348fa6"/>
            </a:solidFill>
            <a:miter/>
            <a:tailEnd len="med" type="arrow" w="med"/>
          </a:ln>
        </p:spPr>
      </p:cxnSp>
      <p:cxnSp>
        <p:nvCxnSpPr>
          <p:cNvPr id="362" name="Straight Arrow Connector 1040"/>
          <p:cNvCxnSpPr>
            <a:stCxn id="350" idx="0"/>
          </p:cNvCxnSpPr>
          <p:nvPr/>
        </p:nvCxnSpPr>
        <p:spPr>
          <a:xfrm flipH="1" flipV="1">
            <a:off x="6019560" y="3718800"/>
            <a:ext cx="267120" cy="1283400"/>
          </a:xfrm>
          <a:prstGeom prst="straightConnector1">
            <a:avLst/>
          </a:prstGeom>
          <a:ln w="9360">
            <a:solidFill>
              <a:srgbClr val="348fa6"/>
            </a:solidFill>
            <a:miter/>
            <a:tailEnd len="med" type="arrow" w="med"/>
          </a:ln>
        </p:spPr>
      </p:cxnSp>
      <p:sp>
        <p:nvSpPr>
          <p:cNvPr id="363" name="TextBox 1042"/>
          <p:cNvSpPr/>
          <p:nvPr/>
        </p:nvSpPr>
        <p:spPr>
          <a:xfrm>
            <a:off x="644400" y="5638680"/>
            <a:ext cx="2017800" cy="52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2d6d3"/>
              </a:gs>
            </a:gsLst>
            <a:lin ang="5400000"/>
          </a:gradFill>
          <a:ln w="9360">
            <a:solidFill>
              <a:srgbClr val="964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Heavy trucks and bus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2662200" y="1805040"/>
            <a:ext cx="1382760" cy="40644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Functional safety and markings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65" name="Straight Arrow Connector 7"/>
          <p:cNvCxnSpPr>
            <a:stCxn id="364" idx="2"/>
          </p:cNvCxnSpPr>
          <p:nvPr/>
        </p:nvCxnSpPr>
        <p:spPr>
          <a:xfrm>
            <a:off x="3354480" y="2211480"/>
            <a:ext cx="1364400" cy="1596240"/>
          </a:xfrm>
          <a:prstGeom prst="straightConnector1">
            <a:avLst/>
          </a:prstGeom>
          <a:ln w="9360">
            <a:solidFill>
              <a:srgbClr val="348fa6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erformance Requireme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2193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5. Performance requirements 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(light duty/passenger vehicles)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5.1. Requirements of a vehicle with regard to its electrical safety - in-use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401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5.1.1.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Protection against electric shock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lvl="1" marL="401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5.1.2. 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Functional safety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5.2. Requirements of a vehicle with regard to its electrical safety - post-crash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401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5.2.1. 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General principle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lvl="1" marL="401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5.2.2. 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Protection against electric shock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5.3. Requirements with regard to installation and functionality of REESS in a vehicle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401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5.3.1. 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Installation of rechargeable energy storage system (REESS) on a vehicle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lvl="1" marL="401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5.3.2. 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Warning in the event of operational failure of vehicle controls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that manage REESS safe operation (e.g. BMS)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lvl="1" marL="401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5.3.3.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Warning in the case of a thermal event within the REESS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lvl="1" marL="401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5.3.4.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Warning in the event of low energy content of REESS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3059-FFD9-45A7-B02C-90202CE2C1C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erformance requirements (cont.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5.4. Requirements with regard to the safety of REESS - in-us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39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5.4.1 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General principle.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39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5.4.2. 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Vibration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39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5.4.3. 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Thermal shock and cycling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39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5.4.4. 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Fire resistance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39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5.4.5. 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External short circuit protection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39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5.4.6. 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Overcharge protection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39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5.4.7. 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Over-discharge protection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39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5.4.8. 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Over-temperature protection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39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5.4.9.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Overcurrent protection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39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5.4.10.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Low-temperature protection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39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5.4.11.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Management of gases emitted from REESS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39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5.4.12.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Thermal propagation</a:t>
            </a:r>
            <a:r>
              <a:rPr b="0" lang="en-US" sz="1500" spc="-1" strike="noStrike">
                <a:solidFill>
                  <a:srgbClr val="c32d2e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5.5. Requirements with regard to the safety of REESS - post-crash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39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5.5.1. 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Vehicle based test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lvl="1" marL="39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5.5.2. 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REESS-component based test 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0A5C-06DA-41B8-AB72-903811B91FD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6:07:20Z</dcterms:created>
  <dc:creator>USDOT User</dc:creator>
  <dc:description/>
  <dc:language>en-US</dc:language>
  <cp:lastModifiedBy>Gianotti</cp:lastModifiedBy>
  <cp:lastPrinted>2016-06-09T15:03:51Z</cp:lastPrinted>
  <dcterms:modified xsi:type="dcterms:W3CDTF">2016-12-14T10:18:47Z</dcterms:modified>
  <cp:revision>174</cp:revision>
  <dc:subject/>
  <dc:title>WP.29 Briefing</dc:title>
</cp:coreProperties>
</file>