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48A7-0E30-4121-88CB-AF8A29B922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5A9C-5DD8-452B-B576-DB7B28E13BF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4216-B2BE-497C-B4AF-E731B7149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63EF-7C3E-4F64-9BB0-6A40AE98B2D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ADD31-3283-4246-B320-37A3DE65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1374C-CED1-4EEE-A7BF-81789DE7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449E6-0667-4055-BAD9-D98A8E6D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A556-E7EB-478E-9581-43EF710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42904-20D9-4C26-952C-B95EF0A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A08D8-47F0-44EA-9348-3112001C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A3EA6-62D9-464D-8981-B80F6EB3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3D2BB-99A4-4039-BF94-3DB41539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28955-63A7-41B0-B41A-8A25AD12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501AE-C805-4EF6-A701-58EB41E0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951E-A095-4964-9132-1C628CA098C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35450-A770-4DED-877A-F5E48235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8BD62-8B19-4281-9785-A9CC8372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F99C-CBDE-4B39-B53A-AA4A15F0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41B3A-9936-4307-A681-A33CED93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DD8D7-2B60-438F-9437-B7682D89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79C48-2C6F-4770-B21A-96BD35C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D324-731E-4156-B792-83C3333C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1F5FA-237F-4B9F-B455-DA46399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2FD2A-CF28-4A74-A9AF-74B52EF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C8BC9-B59E-4694-831D-B3AA93D0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38AA-BCAC-48CF-9AC6-03951A16BA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6C261-2898-4809-8F87-BC4219F1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1DC48-F950-407D-A498-298A56E1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69822-D75D-4911-8A6A-CFF0EA2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E94D2-CB98-4B84-9424-B3D753BC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A9BA4-FDBB-4937-9FE1-73581453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E46F9-D612-4191-8ED5-59F0FAB9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7539D-C8DD-4019-A70B-E93BFED5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D4E5A-A31E-4DF3-8AE8-1403D6E5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6740C-5CA8-4599-A384-C6901BE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B6FEA-E12F-49D0-8E2D-E572BC49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10E7-0996-406C-A02C-829BF8D735D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4F4AB-2A70-4CFC-81EB-AC2DB60F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0A235-A82A-4C47-8224-44861E85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EBC26-AB05-49EC-B07A-BD6543A4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A0DBC-5C96-4C78-A4F1-7D134802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C546D-280A-4533-A191-CDCD245C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6F8D1-D747-49F6-9AEE-D6F8C56D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D00D7-D81F-428C-810E-0191CC80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ABF43-92CE-41C9-9520-ED6CAAD9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AC555-B522-46E1-9200-76315EAE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AD6F1-6DD0-42C8-87A6-B6FC961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A2E3-B7B7-48CD-A653-7699EF63688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33D37-5ABA-4185-B53A-05E5862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F48EB-0D9F-4AA5-9FF4-7F6B3D9B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F7E64-AD1F-4318-98BB-F1D673CF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A8508-2D2F-4229-B418-540F28A4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C62D9-4250-4664-8D19-729A316B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466A-84E3-4B49-8BB8-950217C5C4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73F3-93AA-41A8-9E73-216F2C0D3F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DA03-0F06-4C87-8C5A-D3E98B442C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A5D2-5907-4A28-97BC-8DFDD9218A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AF26-2718-4E99-8006-452266F4C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AAA9-D482-489E-A867-0668AB59D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1AEE-A237-4BE2-91AD-70B5382FB4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AA35-30B2-4D21-A183-EE64729B01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5173-BF65-437C-8D42-519194CA46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A3B5-6077-4B66-8C17-E9019F0B13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2180-0F25-4CE3-B436-52F61052CB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75D-5A35-4B43-A411-95FD483A80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E31-7818-4DBA-8310-A6D680DBBD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9C0-D07E-4FAA-813C-DCE1FED157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3C9-97CC-430E-9B9F-62CFB6D5CE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653-BA3D-453C-810B-CADC4EA29A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B5F1-17BD-4C31-B7B0-D81FE1842F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E08-D129-4533-BB55-515E749FEC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ED1-4E6E-4725-BAAC-5118016851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892-F4C2-442E-979D-B86D1247E5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642-9AB9-4DB1-AB97-0AEB25CD88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054-CE2E-4D40-BC9C-12BBD88C08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BC1-FA70-461E-9824-A8D5EFF3C1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A07-DF88-4EBF-8ADE-110C902F0A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D570-61EC-416C-B799-B51CD217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4BFE-C641-440F-9112-8649F2D8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911C-3F79-4E02-81C7-5EDC76A3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9AF4-333F-45C6-8506-3009D42702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8593-11C4-4940-A05F-EAD1BF47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D2F2-4698-409E-B33D-1710C53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0AD0-CAE3-40A4-957D-A10B61C6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0BB4-D124-4F1F-B55C-1C68734F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860F-805A-4DE7-9503-20D5D30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197B-4A5F-44C3-974B-3D9EA4E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661D-45E2-4F69-9AD0-63C6F242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A2A0-05C1-41FC-8114-8194B313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E4D7-12FE-4138-BA1E-0F9EF8E4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1564-CFE5-4178-B6C6-F4EF4ED1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FB9A-F213-49B9-982B-06500509D3C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8886-880E-430A-9AF7-A5AECC60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D06A-80AB-49BC-99A3-85B5C4B7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7090-1EA9-4DAB-9447-E222821A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5F23-7F4E-4B14-899A-38D9D7A0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8D4D-4185-4703-8754-9E3617F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8BEF-DD68-4BC7-9CFD-FF2E9CB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E493-949D-480E-979D-07360F1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38F4-2A63-4BA1-AC99-9B2ABF63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F4A0-A7C2-4E04-9EEC-3BD55A21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CA2A-A2C1-4243-A4CA-A5CED653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D8D7-3ACF-4EF9-8A0B-CDFB57F2BA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8A0F-8C77-460F-B37F-71A8A117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56C6-53C2-4327-AAC1-9E545286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28D1-FC79-4155-8717-AFCEB6D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14B9-95C5-4E7D-8000-BDC436D7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37B3-CC87-4810-AE31-A00CD68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CB23-F6E2-4D9A-A7A3-2F5A826C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F0A0-7655-455D-942C-C828F10A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FCDC-121E-4210-81D8-30CAE9F8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7977-404B-478D-A9FF-E0525BA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8CC4-01AA-4F8C-ABF1-9C385209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AADC-1A8D-4405-944D-4048B64036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807D-022E-4589-9DFF-3DB4974F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A4AFB-A1E6-449E-8278-DB210617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1EE6-C49F-4513-A58F-1E201FB5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0119A-D9E1-4BF6-B2C6-1171D445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A062F-DFB7-412D-821B-404DC53A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E100D-141A-4D5E-A3B7-3CA86521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9B2F8-064B-4487-807C-0A748D3D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8BB3-7C7F-4C66-BAA1-05719C74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C6CA6-9013-43B0-81AD-5A3B87F0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B971-585F-4405-9BF6-BB45C311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7AF6-CE04-483D-868E-255B229D58B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42D7-71D5-4284-9F5A-C8A081A1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A966-A510-493F-9086-1F222E02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6E25-4FC4-44C5-B0FB-1E242074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92288-5407-4D5C-9645-203C74F5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7D9B-7C08-4FA0-B01F-444C8F2B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926B8-B2E6-4251-A514-869FB979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3806A-61E6-4D26-8D73-24CB5CCC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3EEC2-3A13-47B2-954D-7A9539FC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01DC2-8789-4333-9763-5A1EC511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ED4E-0E66-475F-A8D6-1086802C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6F66-D305-4AFB-9F55-E323C18683F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B4724-1DA5-4DC2-8FF0-3C29529F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CA92-AB19-4E5B-AF6C-418BC17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23811-92B5-40EB-BB4E-F02D031E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BA7F9-96EE-4319-836D-77330C85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8C20D-4794-4363-AB3C-0502F7AB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9780F-C598-4BCA-B4B1-FED590E0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4023-5D4D-49E3-9635-DC87A539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FD7EE-CEF3-4DB8-B26F-0E3D4617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5B2E-A9D7-4D67-9A67-3BBD3236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C98F7-C1B5-439E-B04E-98C3DDC4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E055-C57D-4D82-BF45-417FEC56361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9253-0FAB-410E-B577-A9A63914413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950F-F54A-4251-A353-F7AE70E9C9B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31DE-C049-4BBE-861D-22B79ABE97E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그룹 16"/>
          <p:cNvGrpSpPr/>
          <p:nvPr/>
        </p:nvGrpSpPr>
        <p:grpSpPr>
          <a:xfrm>
            <a:off x="108000" y="6391440"/>
            <a:ext cx="1655640" cy="350640"/>
            <a:chOff x="108000" y="6391440"/>
            <a:chExt cx="1655640" cy="350640"/>
          </a:xfrm>
        </p:grpSpPr>
        <p:pic>
          <p:nvPicPr>
            <p:cNvPr id="40" name="Picture 2" descr="C:\Users\기본\Desktop\00000000000000000.jpg"/>
            <p:cNvPicPr/>
            <p:nvPr/>
          </p:nvPicPr>
          <p:blipFill>
            <a:blip r:embed="rId3"/>
            <a:srcRect l="0" t="0" r="62165" b="15446"/>
            <a:stretch/>
          </p:blipFill>
          <p:spPr>
            <a:xfrm>
              <a:off x="108000" y="6391440"/>
              <a:ext cx="6130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3" descr="C:\Users\기본\Desktop\00000000000000000.jpg"/>
            <p:cNvPicPr/>
            <p:nvPr/>
          </p:nvPicPr>
          <p:blipFill>
            <a:blip r:embed="rId4"/>
            <a:srcRect l="39085" t="65982" r="29267" b="14911"/>
            <a:stretch/>
          </p:blipFill>
          <p:spPr>
            <a:xfrm>
              <a:off x="729360" y="6456600"/>
              <a:ext cx="1034280" cy="1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4" descr="C:\Users\기본\Desktop\00000000000000000.jpg"/>
            <p:cNvPicPr/>
            <p:nvPr/>
          </p:nvPicPr>
          <p:blipFill>
            <a:blip r:embed="rId5"/>
            <a:srcRect l="71011" t="69874" r="0" b="15063"/>
            <a:stretch/>
          </p:blipFill>
          <p:spPr>
            <a:xfrm>
              <a:off x="746280" y="6611760"/>
              <a:ext cx="1009080" cy="13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" name="Picture 1" descr=""/>
          <p:cNvPicPr/>
          <p:nvPr/>
        </p:nvPicPr>
        <p:blipFill>
          <a:blip r:embed="rId6"/>
          <a:stretch/>
        </p:blipFill>
        <p:spPr>
          <a:xfrm>
            <a:off x="7534440" y="6299280"/>
            <a:ext cx="1609560" cy="52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3347640" y="6365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352E-9FD5-4904-BEC1-1A28AEFDAA5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그룹 16"/>
          <p:cNvGrpSpPr/>
          <p:nvPr/>
        </p:nvGrpSpPr>
        <p:grpSpPr>
          <a:xfrm>
            <a:off x="108000" y="6165720"/>
            <a:ext cx="1655640" cy="349560"/>
            <a:chOff x="108000" y="6165720"/>
            <a:chExt cx="1655640" cy="349560"/>
          </a:xfrm>
        </p:grpSpPr>
        <p:pic>
          <p:nvPicPr>
            <p:cNvPr id="84" name="Picture 2" descr="C:\Users\기본\Desktop\00000000000000000.jpg"/>
            <p:cNvPicPr/>
            <p:nvPr/>
          </p:nvPicPr>
          <p:blipFill>
            <a:blip r:embed="rId3"/>
            <a:srcRect l="0" t="0" r="62165" b="15446"/>
            <a:stretch/>
          </p:blipFill>
          <p:spPr>
            <a:xfrm>
              <a:off x="108000" y="6165720"/>
              <a:ext cx="61308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" descr="C:\Users\기본\Desktop\00000000000000000.jpg"/>
            <p:cNvPicPr/>
            <p:nvPr/>
          </p:nvPicPr>
          <p:blipFill>
            <a:blip r:embed="rId4"/>
            <a:srcRect l="39085" t="65982" r="29267" b="14911"/>
            <a:stretch/>
          </p:blipFill>
          <p:spPr>
            <a:xfrm>
              <a:off x="729360" y="6230520"/>
              <a:ext cx="1034280" cy="1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C:\Users\기본\Desktop\00000000000000000.jpg"/>
            <p:cNvPicPr/>
            <p:nvPr/>
          </p:nvPicPr>
          <p:blipFill>
            <a:blip r:embed="rId5"/>
            <a:srcRect l="71011" t="69874" r="0" b="15063"/>
            <a:stretch/>
          </p:blipFill>
          <p:spPr>
            <a:xfrm>
              <a:off x="746280" y="6385320"/>
              <a:ext cx="1009080" cy="1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1" descr=""/>
          <p:cNvPicPr/>
          <p:nvPr/>
        </p:nvPicPr>
        <p:blipFill>
          <a:blip r:embed="rId6"/>
          <a:stretch/>
        </p:blipFill>
        <p:spPr>
          <a:xfrm>
            <a:off x="7534440" y="6165720"/>
            <a:ext cx="1609560" cy="524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4140000" y="6381720"/>
            <a:ext cx="47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D00B-518A-4D81-B61B-7D9A50A3B3C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0C2C-9C20-4FED-9C8E-3FD01F1CFDF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4E9A-3CE3-4421-A4DA-5E72B62E84D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F5AC-2A50-40AF-B948-403AAEFDD14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CBC7-C93C-4FD7-83E8-ACCDF9ACA4D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3F16-8D9A-4776-8B82-1E055E660AD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363-AA81-4BBE-9608-3D4DB9AE500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91090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  <a:ea typeface="HY견고딕"/>
              </a:rPr>
              <a:t>Task Force for Test Procedure of Deployable Pedestrian Protection System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31640" y="4508280"/>
            <a:ext cx="7848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맑은 고딕"/>
              </a:rPr>
              <a:t>Ministry of Land, Infrastructure and Transport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맑은 고딕"/>
              </a:rPr>
              <a:t>TS, Korea Automobile Testing &amp; Research Institute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슬라이드 번호 개체 틀 3"/>
          <p:cNvSpPr/>
          <p:nvPr/>
        </p:nvSpPr>
        <p:spPr>
          <a:xfrm>
            <a:off x="4500720" y="6381720"/>
            <a:ext cx="404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A4E5-E25C-44D6-8859-63307314A4F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2382840" y="35733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HY견고딕"/>
                <a:ea typeface="HY견고딕"/>
              </a:rPr>
              <a:t>60</a:t>
            </a:r>
            <a:r>
              <a:rPr b="0" lang="en-US" sz="2000" spc="-1" strike="noStrike" baseline="30000">
                <a:solidFill>
                  <a:srgbClr val="666699"/>
                </a:solidFill>
                <a:latin typeface="HY견고딕"/>
                <a:ea typeface="HY견고딕"/>
              </a:rPr>
              <a:t>th</a:t>
            </a:r>
            <a:r>
              <a:rPr b="0" lang="en-US" sz="2000" spc="-1" strike="noStrike">
                <a:solidFill>
                  <a:srgbClr val="666699"/>
                </a:solidFill>
                <a:latin typeface="HY견고딕"/>
                <a:ea typeface="HY견고딕"/>
              </a:rPr>
              <a:t> GRSP Session (Dec. 2016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862360" y="187200"/>
          <a:ext cx="6102360" cy="457200"/>
        </p:xfrm>
        <a:graphic>
          <a:graphicData uri="http://schemas.openxmlformats.org/drawingml/2006/table">
            <a:tbl>
              <a:tblPr/>
              <a:tblGrid>
                <a:gridCol w="2790720"/>
                <a:gridCol w="3311640"/>
              </a:tblGrid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971800"/>
                          <a:tab algn="r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ubmitted by expert from th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public o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tabLst>
                          <a:tab algn="l" pos="0"/>
                          <a:tab algn="ctr" pos="2971800"/>
                          <a:tab algn="r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971800"/>
                          <a:tab algn="r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Informal document GRSP-60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tabLst>
                          <a:tab algn="l" pos="0"/>
                          <a:tab algn="ctr" pos="2971800"/>
                          <a:tab algn="r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60th GRSP, 13-16 December 2016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tabLst>
                          <a:tab algn="l" pos="0"/>
                          <a:tab algn="ctr" pos="2971800"/>
                          <a:tab algn="r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genda item 4(a)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슬라이드 번호 개체 틀 3"/>
          <p:cNvSpPr/>
          <p:nvPr/>
        </p:nvSpPr>
        <p:spPr>
          <a:xfrm>
            <a:off x="4356000" y="6381720"/>
            <a:ext cx="3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F566-4F94-429C-9279-2869A07AA9B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50560" y="1566720"/>
            <a:ext cx="878508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orea will chair the TF meeting for the Deployable Pedestrian Protection Device Test Proced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Jin Seop Park (KATRI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ICA will play the role of secretary in TF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Thomas Kinsky, Ph.D (OICA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Meetings to be planned in 2017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Date: 2017.02.07 ~ 2017.02.0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Location: OICA meeting room in Paris, Fr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          (4 Rue de Berri 75008 Paris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ask Force Meeting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슬라이드 번호 개체 틀 3"/>
          <p:cNvSpPr/>
          <p:nvPr/>
        </p:nvSpPr>
        <p:spPr>
          <a:xfrm>
            <a:off x="4140360" y="6381720"/>
            <a:ext cx="47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3E08-D90E-4C2A-81AE-AC901FE32794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2" name="내용 개체 틀 11"/>
          <p:cNvSpPr/>
          <p:nvPr/>
        </p:nvSpPr>
        <p:spPr>
          <a:xfrm>
            <a:off x="108000" y="1557360"/>
            <a:ext cx="9036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e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Date: T.B.D. (discuss duri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etin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Possibly End of April or Beginning of May before GRSP in Ma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Location: meeting room in OICA(Paris) or Hyundai(Germany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ticip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Accessible to all interested in the T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Contact Mr. Park / Dr. Kinsky for the meeting information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3" name="제목 1"/>
          <p:cNvSpPr/>
          <p:nvPr/>
        </p:nvSpPr>
        <p:spPr>
          <a:xfrm>
            <a:off x="0" y="4269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ask Force Meeting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Gianotti</cp:lastModifiedBy>
  <dcterms:modified xsi:type="dcterms:W3CDTF">2016-12-13T10:10:02Z</dcterms:modified>
  <cp:revision>907</cp:revision>
  <dc:subject/>
  <dc:title>Task Force for Test Procedure of Deployable Pedestrian Protection System</dc:title>
</cp:coreProperties>
</file>