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874-69D6-4AFF-9070-94E44C45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74F-1FA1-426E-A80D-9417467D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695-47B9-457C-874F-C7897D9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696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240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968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696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E1D-41BE-48DA-BA0C-D3957A3B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8383-BF18-4496-A0B3-49DEB42C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54BB-B557-4847-A2EB-6DE0B33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E9E-C0DC-4901-A4AB-F655549E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46E3-3657-4700-9E6C-7C64CB12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4AAB-1F24-4D07-8AAD-DD03CF2B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4000" y="547560"/>
            <a:ext cx="848808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7D95-3F55-42FA-8EC4-8798906D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3B99-4781-4470-BBD6-D77B13BC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491-619A-4CD6-B048-F8893C61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6B1-EBD9-4CE0-806E-8173881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FA4C-F678-4C3A-9425-F4E90F9D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7DFC-BF2E-4CBC-AAC4-0466CEB1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EEC7-E07D-432A-B724-D20363D2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69600" y="119664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40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968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69600" y="3679200"/>
            <a:ext cx="2735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993B-2183-472E-A01B-40DEE215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E7C-2330-4BEA-A0AC-A9B4EF7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938-8D6A-4B2E-9C86-63389EB6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938-B52A-4C7C-8F55-0CD96092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4000" y="547560"/>
            <a:ext cx="848808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024-ECF0-4F95-9E54-E2286EA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FD6-956F-4A70-ADA4-DBD54DB7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7480" y="367920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BFA-782A-492D-8BC8-E7B0ADF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519840"/>
            <a:ext cx="8488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1196640"/>
            <a:ext cx="4145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679200"/>
            <a:ext cx="8496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9F1-BAB6-424D-AD36-05C3A9F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4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47560"/>
            <a:ext cx="8488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" name="Forme libre 15"/>
          <p:cNvSpPr/>
          <p:nvPr/>
        </p:nvSpPr>
        <p:spPr>
          <a:xfrm>
            <a:off x="0" y="222120"/>
            <a:ext cx="9118440" cy="308160"/>
          </a:xfrm>
          <a:custGeom>
            <a:avLst/>
            <a:gdLst/>
            <a:ahLst/>
            <a:rect l="l" t="t" r="r" b="b"/>
            <a:pathLst>
              <a:path w="9118363" h="307648">
                <a:moveTo>
                  <a:pt x="0" y="307648"/>
                </a:moveTo>
                <a:lnTo>
                  <a:pt x="4349809" y="111095"/>
                </a:lnTo>
                <a:cubicBezTo>
                  <a:pt x="5869536" y="59820"/>
                  <a:pt x="7493949" y="29910"/>
                  <a:pt x="9118363" y="0"/>
                </a:cubicBezTo>
              </a:path>
            </a:pathLst>
          </a:custGeom>
          <a:noFill/>
          <a:ln w="50760">
            <a:solidFill>
              <a:srgbClr val="666699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70560"/>
            <a:ext cx="9151920" cy="487440"/>
          </a:xfrm>
          <a:custGeom>
            <a:avLst/>
            <a:gdLst/>
            <a:ahLst/>
            <a:rect l="l" t="t" r="r" b="b"/>
            <a:pathLst>
              <a:path w="7644607" h="347419">
                <a:moveTo>
                  <a:pt x="0" y="0"/>
                </a:moveTo>
                <a:cubicBezTo>
                  <a:pt x="2647898" y="110763"/>
                  <a:pt x="5213312" y="131577"/>
                  <a:pt x="7644607" y="133776"/>
                </a:cubicBezTo>
                <a:lnTo>
                  <a:pt x="7642225" y="345038"/>
                </a:lnTo>
                <a:lnTo>
                  <a:pt x="3175" y="347419"/>
                </a:lnTo>
                <a:cubicBezTo>
                  <a:pt x="2117" y="179103"/>
                  <a:pt x="1058" y="168316"/>
                  <a:pt x="0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grpSp>
        <p:nvGrpSpPr>
          <p:cNvPr id="4" name="Forme libre 17"/>
          <p:cNvGrpSpPr/>
          <p:nvPr/>
        </p:nvGrpSpPr>
        <p:grpSpPr>
          <a:xfrm>
            <a:off x="8631360" y="0"/>
            <a:ext cx="519120" cy="407880"/>
            <a:chOff x="8631360" y="0"/>
            <a:chExt cx="519120" cy="407880"/>
          </a:xfrm>
        </p:grpSpPr>
        <p:pic>
          <p:nvPicPr>
            <p:cNvPr id="5" name="Forme libre 17" descr=""/>
            <p:cNvPicPr/>
            <p:nvPr/>
          </p:nvPicPr>
          <p:blipFill>
            <a:blip r:embed="rId2"/>
            <a:stretch/>
          </p:blipFill>
          <p:spPr>
            <a:xfrm>
              <a:off x="8631360" y="0"/>
              <a:ext cx="519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8634240" y="0"/>
              <a:ext cx="514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Forme libre 19"/>
          <p:cNvSpPr/>
          <p:nvPr/>
        </p:nvSpPr>
        <p:spPr>
          <a:xfrm>
            <a:off x="8475840" y="0"/>
            <a:ext cx="672840" cy="407880"/>
          </a:xfrm>
          <a:custGeom>
            <a:avLst/>
            <a:gdLst/>
            <a:ahLst/>
            <a:rect l="l" t="t" r="r" b="b"/>
            <a:pathLst>
              <a:path w="673894" h="407194">
                <a:moveTo>
                  <a:pt x="159544" y="0"/>
                </a:moveTo>
                <a:lnTo>
                  <a:pt x="673894" y="407194"/>
                </a:lnTo>
                <a:lnTo>
                  <a:pt x="0" y="266700"/>
                </a:lnTo>
                <a:lnTo>
                  <a:pt x="159544" y="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Connecteur droit 39"/>
          <p:cNvSpPr/>
          <p:nvPr/>
        </p:nvSpPr>
        <p:spPr>
          <a:xfrm>
            <a:off x="971640" y="6381720"/>
            <a:ext cx="0" cy="4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-36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97128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" descr="F:\logo-groupe-blanc.png"/>
          <p:cNvPicPr/>
          <p:nvPr/>
        </p:nvPicPr>
        <p:blipFill>
          <a:blip r:embed="rId3"/>
          <a:stretch/>
        </p:blipFill>
        <p:spPr>
          <a:xfrm>
            <a:off x="7410600" y="6581880"/>
            <a:ext cx="1533240" cy="230040"/>
          </a:xfrm>
          <a:prstGeom prst="rect">
            <a:avLst/>
          </a:prstGeom>
          <a:ln w="0">
            <a:noFill/>
          </a:ln>
        </p:spPr>
      </p:pic>
      <p:sp>
        <p:nvSpPr>
          <p:cNvPr id="12" name="Ellipse 3"/>
          <p:cNvSpPr/>
          <p:nvPr/>
        </p:nvSpPr>
        <p:spPr>
          <a:xfrm rot="18908400">
            <a:off x="6786360" y="6490800"/>
            <a:ext cx="431640" cy="432000"/>
          </a:xfrm>
          <a:custGeom>
            <a:avLst/>
            <a:gdLst/>
            <a:ahLst/>
            <a:rect l="l" t="t" r="r" b="b"/>
            <a:pathLst>
              <a:path w="432048" h="432048">
                <a:moveTo>
                  <a:pt x="0" y="216024"/>
                </a:moveTo>
                <a:cubicBezTo>
                  <a:pt x="0" y="96717"/>
                  <a:pt x="96717" y="0"/>
                  <a:pt x="216024" y="0"/>
                </a:cubicBezTo>
                <a:cubicBezTo>
                  <a:pt x="335331" y="0"/>
                  <a:pt x="432048" y="96717"/>
                  <a:pt x="432048" y="216024"/>
                </a:cubicBezTo>
                <a:cubicBezTo>
                  <a:pt x="432048" y="335331"/>
                  <a:pt x="335331" y="432048"/>
                  <a:pt x="216024" y="432048"/>
                </a:cubicBezTo>
                <a:lnTo>
                  <a:pt x="0" y="216024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3236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A7AD-F55E-4439-A8B6-8E72568BA808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" descr="K:\Secteurs\COM\PHOTOTHEQUE et LOGOS\logos\LOGOS GROUPE 2013\LOGOS GROUPE\logo-groupe-sansfond.jpg"/>
          <p:cNvPicPr/>
          <p:nvPr/>
        </p:nvPicPr>
        <p:blipFill>
          <a:blip r:embed="rId4"/>
          <a:stretch/>
        </p:blipFill>
        <p:spPr>
          <a:xfrm>
            <a:off x="0" y="0"/>
            <a:ext cx="24004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4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rme libre 15"/>
          <p:cNvSpPr/>
          <p:nvPr/>
        </p:nvSpPr>
        <p:spPr>
          <a:xfrm>
            <a:off x="0" y="222120"/>
            <a:ext cx="9118440" cy="308160"/>
          </a:xfrm>
          <a:custGeom>
            <a:avLst/>
            <a:gdLst/>
            <a:ahLst/>
            <a:rect l="l" t="t" r="r" b="b"/>
            <a:pathLst>
              <a:path w="9118363" h="307648">
                <a:moveTo>
                  <a:pt x="0" y="307648"/>
                </a:moveTo>
                <a:lnTo>
                  <a:pt x="4349809" y="111095"/>
                </a:lnTo>
                <a:cubicBezTo>
                  <a:pt x="5869536" y="59820"/>
                  <a:pt x="7493949" y="29910"/>
                  <a:pt x="9118363" y="0"/>
                </a:cubicBezTo>
              </a:path>
            </a:pathLst>
          </a:custGeom>
          <a:noFill/>
          <a:ln w="50760">
            <a:solidFill>
              <a:srgbClr val="666699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6370560"/>
            <a:ext cx="9151920" cy="487440"/>
          </a:xfrm>
          <a:custGeom>
            <a:avLst/>
            <a:gdLst/>
            <a:ahLst/>
            <a:rect l="l" t="t" r="r" b="b"/>
            <a:pathLst>
              <a:path w="7644607" h="347419">
                <a:moveTo>
                  <a:pt x="0" y="0"/>
                </a:moveTo>
                <a:cubicBezTo>
                  <a:pt x="2647898" y="110763"/>
                  <a:pt x="5213312" y="131577"/>
                  <a:pt x="7644607" y="133776"/>
                </a:cubicBezTo>
                <a:lnTo>
                  <a:pt x="7642225" y="345038"/>
                </a:lnTo>
                <a:lnTo>
                  <a:pt x="3175" y="347419"/>
                </a:lnTo>
                <a:cubicBezTo>
                  <a:pt x="2117" y="179103"/>
                  <a:pt x="1058" y="168316"/>
                  <a:pt x="0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Forme libre 17"/>
          <p:cNvGrpSpPr/>
          <p:nvPr/>
        </p:nvGrpSpPr>
        <p:grpSpPr>
          <a:xfrm>
            <a:off x="8631360" y="0"/>
            <a:ext cx="519120" cy="407880"/>
            <a:chOff x="8631360" y="0"/>
            <a:chExt cx="519120" cy="407880"/>
          </a:xfrm>
        </p:grpSpPr>
        <p:pic>
          <p:nvPicPr>
            <p:cNvPr id="54" name="Forme libre 17" descr=""/>
            <p:cNvPicPr/>
            <p:nvPr/>
          </p:nvPicPr>
          <p:blipFill>
            <a:blip r:embed="rId2"/>
            <a:stretch/>
          </p:blipFill>
          <p:spPr>
            <a:xfrm>
              <a:off x="8631360" y="0"/>
              <a:ext cx="5191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634240" y="0"/>
              <a:ext cx="5144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Forme libre 19"/>
          <p:cNvSpPr/>
          <p:nvPr/>
        </p:nvSpPr>
        <p:spPr>
          <a:xfrm>
            <a:off x="8475840" y="0"/>
            <a:ext cx="672840" cy="407880"/>
          </a:xfrm>
          <a:custGeom>
            <a:avLst/>
            <a:gdLst/>
            <a:ahLst/>
            <a:rect l="l" t="t" r="r" b="b"/>
            <a:pathLst>
              <a:path w="673894" h="407194">
                <a:moveTo>
                  <a:pt x="159544" y="0"/>
                </a:moveTo>
                <a:lnTo>
                  <a:pt x="673894" y="407194"/>
                </a:lnTo>
                <a:lnTo>
                  <a:pt x="0" y="266700"/>
                </a:lnTo>
                <a:lnTo>
                  <a:pt x="159544" y="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onnecteur droit 39"/>
          <p:cNvSpPr/>
          <p:nvPr/>
        </p:nvSpPr>
        <p:spPr>
          <a:xfrm>
            <a:off x="971640" y="6381720"/>
            <a:ext cx="0" cy="4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logo-groupe-blanc.png"/>
          <p:cNvPicPr/>
          <p:nvPr/>
        </p:nvPicPr>
        <p:blipFill>
          <a:blip r:embed="rId3"/>
          <a:stretch/>
        </p:blipFill>
        <p:spPr>
          <a:xfrm>
            <a:off x="7410600" y="6581880"/>
            <a:ext cx="1533240" cy="230040"/>
          </a:xfrm>
          <a:prstGeom prst="rect">
            <a:avLst/>
          </a:prstGeom>
          <a:ln w="0">
            <a:noFill/>
          </a:ln>
        </p:spPr>
      </p:pic>
      <p:sp>
        <p:nvSpPr>
          <p:cNvPr id="59" name="Ellipse 3"/>
          <p:cNvSpPr/>
          <p:nvPr/>
        </p:nvSpPr>
        <p:spPr>
          <a:xfrm rot="18908400">
            <a:off x="6786360" y="6490800"/>
            <a:ext cx="431640" cy="432000"/>
          </a:xfrm>
          <a:custGeom>
            <a:avLst/>
            <a:gdLst/>
            <a:ahLst/>
            <a:rect l="l" t="t" r="r" b="b"/>
            <a:pathLst>
              <a:path w="432048" h="432048">
                <a:moveTo>
                  <a:pt x="0" y="216024"/>
                </a:moveTo>
                <a:cubicBezTo>
                  <a:pt x="0" y="96717"/>
                  <a:pt x="96717" y="0"/>
                  <a:pt x="216024" y="0"/>
                </a:cubicBezTo>
                <a:cubicBezTo>
                  <a:pt x="335331" y="0"/>
                  <a:pt x="432048" y="96717"/>
                  <a:pt x="432048" y="216024"/>
                </a:cubicBezTo>
                <a:cubicBezTo>
                  <a:pt x="432048" y="335331"/>
                  <a:pt x="335331" y="432048"/>
                  <a:pt x="216024" y="432048"/>
                </a:cubicBezTo>
                <a:lnTo>
                  <a:pt x="0" y="216024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K:\Secteurs\COM\PHOTOTHEQUE et LOGOS\logos\LOGOS GROUPE 2013\LOGOS GROUPE\logo-groupe-sansfond.jpg"/>
          <p:cNvPicPr/>
          <p:nvPr/>
        </p:nvPicPr>
        <p:blipFill>
          <a:blip r:embed="rId4"/>
          <a:stretch/>
        </p:blipFill>
        <p:spPr>
          <a:xfrm>
            <a:off x="0" y="0"/>
            <a:ext cx="2400480" cy="360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7560"/>
            <a:ext cx="8488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-36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97128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3236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3695-4E22-4180-8AEE-4D7AFB620DC4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GRSP / IWG-CRS 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5280" y="33591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entury Gothic"/>
              </a:rPr>
              <a:t>Status report for the fifty-seventh session (18-22 May 2015) of GRSP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E2FE-EA68-4136-8C5C-7CFB3D9E2747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348000" y="549360"/>
          <a:ext cx="5670720" cy="457200"/>
        </p:xfrm>
        <a:graphic>
          <a:graphicData uri="http://schemas.openxmlformats.org/drawingml/2006/table">
            <a:tbl>
              <a:tblPr/>
              <a:tblGrid>
                <a:gridCol w="2249640"/>
                <a:gridCol w="812520"/>
                <a:gridCol w="2608560"/>
              </a:tblGrid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marL="88920" algn="just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tted by the expert from 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8920" algn="just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440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Informal document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GRSP-57-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7th GRSP, 18-22 May 2015, 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nda item 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24000" y="119664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The group agrees to study the feasibility of reducing the width of the F4 gabarit to 440 mm in order to try achieve an i-size seating position able to receive all i-size ECRS from 0 cm to 135 cm (95%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If it is not feasible with current parameters, modification of conditions (energy, percentile, shoulder breadth, …) could be proposed to achieve this goal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The extreme fall back solution should be to increase gradually the gabarit width between 440 mm and 520 mm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First feed back in June 2015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Dead line for decision on the feasibility is 1st week of September 2015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IWG CRS decision (50th meeting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5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E79-C227-4177-B1B8-EB64F9ECAE9A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4000" y="119664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Booster cush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Keep the booster cushion for the time being in ECE R44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Modify the ECE R44 to prohibit the use of booster cushion for children under 125 cm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IWG CRS decision (50th meeting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5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057-5FD2-4686-AB0E-87026554062B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f7f7f"/>
                </a:solidFill>
                <a:latin typeface="Century Gothic"/>
              </a:rPr>
              <a:t>IWG CRS asks for the consent of GRSP to go in this direction.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f7f7f"/>
                </a:solidFill>
                <a:latin typeface="Century Gothic"/>
              </a:rPr>
              <a:t>IWG CRS proposes to GRSP to prepare four formal documents for the December session: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Amendments to Phase 1of ECE R129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Phase 2 amendment of ECE R129 (limited to booster seats ≤ 135 cm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Amendment of ECE R16 accordingly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Amendment of ECE R44 (booster cushion ≥</a:t>
            </a:r>
            <a:r>
              <a:rPr b="0" lang="fr-FR" sz="2400" spc="-1" strike="noStrike">
                <a:solidFill>
                  <a:srgbClr val="7f7f7f"/>
                </a:solidFill>
                <a:latin typeface="Century Gothic"/>
              </a:rPr>
              <a:t>125 cm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Accordingly, IWG CRS sought consent from GRSP for a one-year extension of his mandate until end of 2016.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Conclusion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6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84D6-B49D-4F72-978A-5C29B6F1259E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21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st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January 2015 – Berlin (TAKAT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18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&amp; 19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March – Paris (OIC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en-GB" sz="3200" spc="-1" strike="noStrike" baseline="30000">
                <a:solidFill>
                  <a:srgbClr val="7f7f7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 May – Paris (OIC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entury Gothic"/>
              </a:rPr>
              <a:t>18</a:t>
            </a:r>
            <a:r>
              <a:rPr b="0" lang="en-GB" sz="3200" spc="-1" strike="noStrike" baseline="30000">
                <a:solidFill>
                  <a:srgbClr val="558ed5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558ed5"/>
                </a:solidFill>
                <a:latin typeface="Century Gothic"/>
              </a:rPr>
              <a:t> June – Brussels (CLEPA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6699"/>
                </a:solidFill>
                <a:latin typeface="Century Gothic"/>
              </a:rPr>
              <a:t>3 meetings since last session of GRSP</a:t>
            </a:r>
            <a:endParaRPr b="0" lang="en-US" sz="36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1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D038-1FD3-42BB-BE04-0C4F1F1C45AC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197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i-Size available up to 105 cm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Integral belts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Up to Q3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ide impact protection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Fully incorporated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'Universal' plug-and-play approach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entury Gothic"/>
              </a:rPr>
              <a:t>Achieved through R14 and R16 integrat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No forward facing transport up to 15 months of child age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Concrete achievements so far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1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6DD-96B1-4A28-B803-4788316CB37B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197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Flexibility for infant carrier systems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Temporary fix to allow for seatbelt routing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Certain measures still have more potential for improvement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Frontal impact pulse revision (update 1970's car fleet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Consideration of Shields as ‘Integral ECRS’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Not authorised in phase 1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Shortcomings phase 1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2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2F81-E284-4736-AEB7-CA42CB8A7BC2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7f7f7f"/>
                </a:solidFill>
                <a:latin typeface="Century Gothic"/>
              </a:rPr>
              <a:t>Address enhanced safety for children in cars on booster cushions without a backrest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7f7f7f"/>
                </a:solidFill>
                <a:latin typeface="Century Gothic"/>
              </a:rPr>
              <a:t>Geometric definition of the test fixture (gabarit) for booster seats with an integrated backrest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Centre of CRS ≠ centre of car seat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Due to potential size of 'gabarit‘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Q6 and Q10 reliability for testing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Acceptable solutions not expected before end of 2015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Century Gothic"/>
              </a:rPr>
              <a:t>Complexity of information to users in vehicle handbook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entury Gothic"/>
              </a:rPr>
              <a:t>Due to number of classes, lack of universality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entury Gothic"/>
              </a:rPr>
              <a:t>Main problems in Phase 2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2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C45-CB4D-4BF0-BBC4-C9B79BD8AE2A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1197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Following last GRSP session EC and Germany have proposed different </a:t>
            </a:r>
            <a:r>
              <a:rPr b="0" lang="en-US" sz="3200" spc="-1" strike="noStrike">
                <a:solidFill>
                  <a:srgbClr val="7f7f7f"/>
                </a:solidFill>
                <a:latin typeface="Century Gothic"/>
              </a:rPr>
              <a:t>strategies for current and future phases</a:t>
            </a:r>
            <a:r>
              <a:rPr b="0" lang="en-GB" sz="3200" spc="-1" strike="noStrike">
                <a:solidFill>
                  <a:srgbClr val="7f7f7f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CRS-50-03e_Richard_DAMM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Century Gothic"/>
              </a:rPr>
              <a:t>CRS-50-04e_European_Commission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IWG CRS group reorientation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3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17E5-78F3-4842-8BBE-B2B3927FA161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000" y="119664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Introduce only non-integral i-Size ECRS as booster seats with an integrated backrest for children up to a stature of 135 cm in phase 2 of R129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Booster cushions without a backrest are kept in R44 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at this stage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Propose for the interim a modification of the requirements for booster cushions without a backrest in R44 that prohibits their use for children with a stature below 125 c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This proposal will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facilitate the discussion and decision in the IWG CRS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allow a short-term decision for phase 2 of R129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allow the time for discussion about booster cushions without a backrest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Century Gothic"/>
              </a:rPr>
              <a:t>improve child safety for large children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Proposal for Phases 3 (and 4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Discuss strategy for the introduction of booster cushions without a backrest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Discuss strategy for the future of Regulation no. 44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Discuss promotion of installation of iSize and IsoFix in cars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Promote and expand concept and use of i-Size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Germany proposal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3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2EF5-2601-4D71-AAD2-FAA5060C6FFC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How will we be successful to promote ISOFIX?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i-Size is the ke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Small car (Polo, Fiesta, C3, Clio, V40, …)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2x positions is acceptabl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Larger family car (S-max, Touran, XC90, …)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3x proposed gabarit side-by-side </a:t>
            </a:r>
            <a:r>
              <a:rPr b="1" lang="en-US" sz="2400" spc="-1" strike="noStrike" u="sng">
                <a:solidFill>
                  <a:srgbClr val="7f7f7f"/>
                </a:solidFill>
                <a:uFillTx/>
                <a:latin typeface="Century Gothic"/>
              </a:rPr>
              <a:t>NEVER FI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3x side-by-side CRS </a:t>
            </a:r>
            <a:r>
              <a:rPr b="1" lang="en-US" sz="2400" spc="-1" strike="noStrike" u="sng">
                <a:solidFill>
                  <a:srgbClr val="7f7f7f"/>
                </a:solidFill>
                <a:uFillTx/>
                <a:latin typeface="Century Gothic"/>
              </a:rPr>
              <a:t>IS A MUST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r this type of ca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entury Gothic"/>
              </a:rPr>
              <a:t>Proposal</a:t>
            </a:r>
            <a:endParaRPr b="0" lang="en-US" sz="27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reate i-Size cars for i-Size products / </a:t>
            </a:r>
            <a:r>
              <a:rPr b="1" lang="en-US" sz="2400" spc="-1" strike="noStrike" u="sng">
                <a:solidFill>
                  <a:srgbClr val="7f7f7f"/>
                </a:solidFill>
                <a:uFillTx/>
                <a:latin typeface="Century Gothic"/>
              </a:rPr>
              <a:t>adapt cars and C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EC proposal (1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40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41CA-3474-46F5-97E7-F27CA0190847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Ease of use (plug &amp; play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Century Gothic"/>
              </a:rPr>
              <a:t>Extend the i-Size philosophy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One size 'gabarit' fits all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Avoiding misus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Aim for plug &amp; play solutions above to reduce the complexity of systems in the market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f7f7f"/>
                </a:solidFill>
                <a:latin typeface="Century Gothic"/>
              </a:rPr>
              <a:t>Side impact &amp; New dummies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Complete the analysis work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entury Gothic"/>
              </a:rPr>
              <a:t>Make improvements where necessary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7f7f7f"/>
                </a:solidFill>
                <a:uFillTx/>
                <a:latin typeface="Century Gothic"/>
              </a:rPr>
              <a:t>Make i-Size standard across the board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Restrict the width of booster seat gabarit to 440 mm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Consistent with maximum width in Phase 1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Will fit 3-across larger family vehicles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8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99"/>
                </a:solidFill>
                <a:latin typeface="Century Gothic"/>
              </a:rPr>
              <a:t>EC proposal (2)</a:t>
            </a:r>
            <a:endParaRPr b="0" lang="en-US" sz="4000" spc="-1" strike="noStrike">
              <a:solidFill>
                <a:srgbClr val="666699"/>
              </a:solidFill>
              <a:latin typeface="Century Gothic"/>
            </a:endParaRPr>
          </a:p>
        </p:txBody>
      </p:sp>
      <p:sp>
        <p:nvSpPr>
          <p:cNvPr id="145" name="Espace réservé de la date 3"/>
          <p:cNvSpPr/>
          <p:nvPr/>
        </p:nvSpPr>
        <p:spPr>
          <a:xfrm>
            <a:off x="0" y="651996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17/05/20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pied de page 4"/>
          <p:cNvSpPr/>
          <p:nvPr/>
        </p:nvSpPr>
        <p:spPr>
          <a:xfrm>
            <a:off x="971640" y="6519960"/>
            <a:ext cx="5113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e fifty-seventh session (18-22 May 2015) of GRS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5"/>
          <p:cNvSpPr/>
          <p:nvPr/>
        </p:nvSpPr>
        <p:spPr>
          <a:xfrm>
            <a:off x="6732720" y="6519960"/>
            <a:ext cx="4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00B1-A38B-49AB-91C1-21C8A61D3DAF}" type="slidenum"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7T13:53:57Z</dcterms:created>
  <dc:creator>Administrateur</dc:creator>
  <dc:description/>
  <dc:language>en-US</dc:language>
  <cp:lastModifiedBy>Gianotti</cp:lastModifiedBy>
  <dcterms:modified xsi:type="dcterms:W3CDTF">2015-05-18T06:35:39Z</dcterms:modified>
  <cp:revision>16</cp:revision>
  <dc:subject/>
  <dc:title>GRSP / IWG-CRS</dc:title>
</cp:coreProperties>
</file>