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37D-2EF3-4CA0-B687-F67CC281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0FE-9A8C-4953-AFBC-7F51E1F1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5A3-47AC-4691-9E29-16953E04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696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240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968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696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494-2907-4F22-9C08-37694A9C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CB95-2E37-4AD2-AE1C-D519CDE5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F752-CE78-4DA0-BCB4-8BDDDE6B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E719-B499-4E10-AFD7-82EBF688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3ADF-9D4A-4C4D-A1E6-606F1EE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38FF-EAA2-4E76-83D7-131F1177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4000" y="547560"/>
            <a:ext cx="848808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C112-2CD6-4CB8-B45B-1AEA6BF2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C88B-3340-4749-9B27-1928A20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01D-9BB5-45FD-9D72-D040985B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6E79-B258-45A4-86E5-2083B9A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5AD6-F729-4F97-8B10-07285B5F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2E69-2F44-4422-8BEE-863EBF52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1AFC-136B-434B-968F-BE9C5D06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696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40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968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696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BE8B-80ED-4BF9-A057-494924F5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B06-BE21-4362-8DC9-1925DE76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C6D-7A77-44D8-A43B-7FFEFD92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552-AEF9-4566-A6D2-B3177898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24000" y="547560"/>
            <a:ext cx="848808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097-4CBD-4FE6-B8B2-E4EF47A5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A27-20CB-4508-A56B-8BED5C78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CB6-AFD0-4CAB-843C-478CB8D2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16B-0F72-49AB-820B-DFF4BDE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4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47560"/>
            <a:ext cx="8488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" name="Forme libre 15"/>
          <p:cNvSpPr/>
          <p:nvPr/>
        </p:nvSpPr>
        <p:spPr>
          <a:xfrm>
            <a:off x="0" y="222120"/>
            <a:ext cx="9118440" cy="308160"/>
          </a:xfrm>
          <a:custGeom>
            <a:avLst/>
            <a:gdLst/>
            <a:ahLst/>
            <a:rect l="l" t="t" r="r" b="b"/>
            <a:pathLst>
              <a:path w="9118363" h="307648">
                <a:moveTo>
                  <a:pt x="0" y="307648"/>
                </a:moveTo>
                <a:lnTo>
                  <a:pt x="4349809" y="111095"/>
                </a:lnTo>
                <a:cubicBezTo>
                  <a:pt x="5869536" y="59820"/>
                  <a:pt x="7493949" y="29910"/>
                  <a:pt x="9118363" y="0"/>
                </a:cubicBezTo>
              </a:path>
            </a:pathLst>
          </a:custGeom>
          <a:noFill/>
          <a:ln w="50760">
            <a:solidFill>
              <a:srgbClr val="666699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70560"/>
            <a:ext cx="9151920" cy="487440"/>
          </a:xfrm>
          <a:custGeom>
            <a:avLst/>
            <a:gdLst/>
            <a:ahLst/>
            <a:rect l="l" t="t" r="r" b="b"/>
            <a:pathLst>
              <a:path w="7644607" h="347419">
                <a:moveTo>
                  <a:pt x="0" y="0"/>
                </a:moveTo>
                <a:cubicBezTo>
                  <a:pt x="2647898" y="110763"/>
                  <a:pt x="5213312" y="131577"/>
                  <a:pt x="7644607" y="133776"/>
                </a:cubicBezTo>
                <a:lnTo>
                  <a:pt x="7642225" y="345038"/>
                </a:lnTo>
                <a:lnTo>
                  <a:pt x="3175" y="347419"/>
                </a:lnTo>
                <a:cubicBezTo>
                  <a:pt x="2117" y="179103"/>
                  <a:pt x="1058" y="168316"/>
                  <a:pt x="0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grpSp>
        <p:nvGrpSpPr>
          <p:cNvPr id="4" name="Forme libre 17"/>
          <p:cNvGrpSpPr/>
          <p:nvPr/>
        </p:nvGrpSpPr>
        <p:grpSpPr>
          <a:xfrm>
            <a:off x="8631360" y="0"/>
            <a:ext cx="519120" cy="407880"/>
            <a:chOff x="8631360" y="0"/>
            <a:chExt cx="519120" cy="407880"/>
          </a:xfrm>
        </p:grpSpPr>
        <p:pic>
          <p:nvPicPr>
            <p:cNvPr id="5" name="Forme libre 17" descr=""/>
            <p:cNvPicPr/>
            <p:nvPr/>
          </p:nvPicPr>
          <p:blipFill>
            <a:blip r:embed="rId2"/>
            <a:stretch/>
          </p:blipFill>
          <p:spPr>
            <a:xfrm>
              <a:off x="8631360" y="0"/>
              <a:ext cx="51912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634240" y="0"/>
              <a:ext cx="514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Forme libre 19"/>
          <p:cNvSpPr/>
          <p:nvPr/>
        </p:nvSpPr>
        <p:spPr>
          <a:xfrm>
            <a:off x="8475840" y="0"/>
            <a:ext cx="672840" cy="407880"/>
          </a:xfrm>
          <a:custGeom>
            <a:avLst/>
            <a:gdLst/>
            <a:ahLst/>
            <a:rect l="l" t="t" r="r" b="b"/>
            <a:pathLst>
              <a:path w="673894" h="407194">
                <a:moveTo>
                  <a:pt x="159544" y="0"/>
                </a:moveTo>
                <a:lnTo>
                  <a:pt x="673894" y="407194"/>
                </a:lnTo>
                <a:lnTo>
                  <a:pt x="0" y="266700"/>
                </a:lnTo>
                <a:lnTo>
                  <a:pt x="159544" y="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Connecteur droit 39"/>
          <p:cNvSpPr/>
          <p:nvPr/>
        </p:nvSpPr>
        <p:spPr>
          <a:xfrm>
            <a:off x="971640" y="6381720"/>
            <a:ext cx="0" cy="4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-36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97128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" descr="F:\logo-groupe-blanc.png"/>
          <p:cNvPicPr/>
          <p:nvPr/>
        </p:nvPicPr>
        <p:blipFill>
          <a:blip r:embed="rId3"/>
          <a:stretch/>
        </p:blipFill>
        <p:spPr>
          <a:xfrm>
            <a:off x="7410600" y="6581880"/>
            <a:ext cx="1533240" cy="230040"/>
          </a:xfrm>
          <a:prstGeom prst="rect">
            <a:avLst/>
          </a:prstGeom>
          <a:ln w="0">
            <a:noFill/>
          </a:ln>
        </p:spPr>
      </p:pic>
      <p:sp>
        <p:nvSpPr>
          <p:cNvPr id="12" name="Ellipse 3"/>
          <p:cNvSpPr/>
          <p:nvPr/>
        </p:nvSpPr>
        <p:spPr>
          <a:xfrm rot="18908400">
            <a:off x="6786360" y="6490800"/>
            <a:ext cx="431640" cy="432000"/>
          </a:xfrm>
          <a:custGeom>
            <a:avLst/>
            <a:gdLst/>
            <a:ahLst/>
            <a:rect l="l" t="t" r="r" b="b"/>
            <a:pathLst>
              <a:path w="432048" h="432048">
                <a:moveTo>
                  <a:pt x="0" y="216024"/>
                </a:moveTo>
                <a:cubicBezTo>
                  <a:pt x="0" y="96717"/>
                  <a:pt x="96717" y="0"/>
                  <a:pt x="216024" y="0"/>
                </a:cubicBezTo>
                <a:cubicBezTo>
                  <a:pt x="335331" y="0"/>
                  <a:pt x="432048" y="96717"/>
                  <a:pt x="432048" y="216024"/>
                </a:cubicBezTo>
                <a:cubicBezTo>
                  <a:pt x="432048" y="335331"/>
                  <a:pt x="335331" y="432048"/>
                  <a:pt x="216024" y="432048"/>
                </a:cubicBezTo>
                <a:lnTo>
                  <a:pt x="0" y="216024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3236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EA97-6FB9-4429-B500-191DC0D12FC2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" descr="K:\Secteurs\COM\PHOTOTHEQUE et LOGOS\logos\LOGOS GROUPE 2013\LOGOS GROUPE\logo-groupe-sansfond.jpg"/>
          <p:cNvPicPr/>
          <p:nvPr/>
        </p:nvPicPr>
        <p:blipFill>
          <a:blip r:embed="rId4"/>
          <a:stretch/>
        </p:blipFill>
        <p:spPr>
          <a:xfrm>
            <a:off x="0" y="0"/>
            <a:ext cx="24004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4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rme libre 15"/>
          <p:cNvSpPr/>
          <p:nvPr/>
        </p:nvSpPr>
        <p:spPr>
          <a:xfrm>
            <a:off x="0" y="222120"/>
            <a:ext cx="9118440" cy="308160"/>
          </a:xfrm>
          <a:custGeom>
            <a:avLst/>
            <a:gdLst/>
            <a:ahLst/>
            <a:rect l="l" t="t" r="r" b="b"/>
            <a:pathLst>
              <a:path w="9118363" h="307648">
                <a:moveTo>
                  <a:pt x="0" y="307648"/>
                </a:moveTo>
                <a:lnTo>
                  <a:pt x="4349809" y="111095"/>
                </a:lnTo>
                <a:cubicBezTo>
                  <a:pt x="5869536" y="59820"/>
                  <a:pt x="7493949" y="29910"/>
                  <a:pt x="9118363" y="0"/>
                </a:cubicBezTo>
              </a:path>
            </a:pathLst>
          </a:custGeom>
          <a:noFill/>
          <a:ln w="50760">
            <a:solidFill>
              <a:srgbClr val="666699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6370560"/>
            <a:ext cx="9151920" cy="487440"/>
          </a:xfrm>
          <a:custGeom>
            <a:avLst/>
            <a:gdLst/>
            <a:ahLst/>
            <a:rect l="l" t="t" r="r" b="b"/>
            <a:pathLst>
              <a:path w="7644607" h="347419">
                <a:moveTo>
                  <a:pt x="0" y="0"/>
                </a:moveTo>
                <a:cubicBezTo>
                  <a:pt x="2647898" y="110763"/>
                  <a:pt x="5213312" y="131577"/>
                  <a:pt x="7644607" y="133776"/>
                </a:cubicBezTo>
                <a:lnTo>
                  <a:pt x="7642225" y="345038"/>
                </a:lnTo>
                <a:lnTo>
                  <a:pt x="3175" y="347419"/>
                </a:lnTo>
                <a:cubicBezTo>
                  <a:pt x="2117" y="179103"/>
                  <a:pt x="1058" y="168316"/>
                  <a:pt x="0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Forme libre 17"/>
          <p:cNvGrpSpPr/>
          <p:nvPr/>
        </p:nvGrpSpPr>
        <p:grpSpPr>
          <a:xfrm>
            <a:off x="8631360" y="0"/>
            <a:ext cx="519120" cy="407880"/>
            <a:chOff x="8631360" y="0"/>
            <a:chExt cx="519120" cy="407880"/>
          </a:xfrm>
        </p:grpSpPr>
        <p:pic>
          <p:nvPicPr>
            <p:cNvPr id="54" name="Forme libre 17" descr=""/>
            <p:cNvPicPr/>
            <p:nvPr/>
          </p:nvPicPr>
          <p:blipFill>
            <a:blip r:embed="rId2"/>
            <a:stretch/>
          </p:blipFill>
          <p:spPr>
            <a:xfrm>
              <a:off x="8631360" y="0"/>
              <a:ext cx="51912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634240" y="0"/>
              <a:ext cx="514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Forme libre 19"/>
          <p:cNvSpPr/>
          <p:nvPr/>
        </p:nvSpPr>
        <p:spPr>
          <a:xfrm>
            <a:off x="8475840" y="0"/>
            <a:ext cx="672840" cy="407880"/>
          </a:xfrm>
          <a:custGeom>
            <a:avLst/>
            <a:gdLst/>
            <a:ahLst/>
            <a:rect l="l" t="t" r="r" b="b"/>
            <a:pathLst>
              <a:path w="673894" h="407194">
                <a:moveTo>
                  <a:pt x="159544" y="0"/>
                </a:moveTo>
                <a:lnTo>
                  <a:pt x="673894" y="407194"/>
                </a:lnTo>
                <a:lnTo>
                  <a:pt x="0" y="266700"/>
                </a:lnTo>
                <a:lnTo>
                  <a:pt x="159544" y="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necteur droit 39"/>
          <p:cNvSpPr/>
          <p:nvPr/>
        </p:nvSpPr>
        <p:spPr>
          <a:xfrm>
            <a:off x="971640" y="6381720"/>
            <a:ext cx="0" cy="4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F:\logo-groupe-blanc.png"/>
          <p:cNvPicPr/>
          <p:nvPr/>
        </p:nvPicPr>
        <p:blipFill>
          <a:blip r:embed="rId3"/>
          <a:stretch/>
        </p:blipFill>
        <p:spPr>
          <a:xfrm>
            <a:off x="7410600" y="6581880"/>
            <a:ext cx="1533240" cy="230040"/>
          </a:xfrm>
          <a:prstGeom prst="rect">
            <a:avLst/>
          </a:prstGeom>
          <a:ln w="0">
            <a:noFill/>
          </a:ln>
        </p:spPr>
      </p:pic>
      <p:sp>
        <p:nvSpPr>
          <p:cNvPr id="59" name="Ellipse 3"/>
          <p:cNvSpPr/>
          <p:nvPr/>
        </p:nvSpPr>
        <p:spPr>
          <a:xfrm rot="18908400">
            <a:off x="6786360" y="6490800"/>
            <a:ext cx="431640" cy="432000"/>
          </a:xfrm>
          <a:custGeom>
            <a:avLst/>
            <a:gdLst/>
            <a:ahLst/>
            <a:rect l="l" t="t" r="r" b="b"/>
            <a:pathLst>
              <a:path w="432048" h="432048">
                <a:moveTo>
                  <a:pt x="0" y="216024"/>
                </a:moveTo>
                <a:cubicBezTo>
                  <a:pt x="0" y="96717"/>
                  <a:pt x="96717" y="0"/>
                  <a:pt x="216024" y="0"/>
                </a:cubicBezTo>
                <a:cubicBezTo>
                  <a:pt x="335331" y="0"/>
                  <a:pt x="432048" y="96717"/>
                  <a:pt x="432048" y="216024"/>
                </a:cubicBezTo>
                <a:cubicBezTo>
                  <a:pt x="432048" y="335331"/>
                  <a:pt x="335331" y="432048"/>
                  <a:pt x="216024" y="432048"/>
                </a:cubicBezTo>
                <a:lnTo>
                  <a:pt x="0" y="216024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K:\Secteurs\COM\PHOTOTHEQUE et LOGOS\logos\LOGOS GROUPE 2013\LOGOS GROUPE\logo-groupe-sansfond.jpg"/>
          <p:cNvPicPr/>
          <p:nvPr/>
        </p:nvPicPr>
        <p:blipFill>
          <a:blip r:embed="rId4"/>
          <a:stretch/>
        </p:blipFill>
        <p:spPr>
          <a:xfrm>
            <a:off x="0" y="0"/>
            <a:ext cx="2400480" cy="360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7560"/>
            <a:ext cx="8488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-36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97128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73236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78A2-44ED-4F80-9C55-CB19D2A36C75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GRSP / IWG-CRS 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5280" y="335916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entury Gothic"/>
              </a:rPr>
              <a:t>Status report for the fifty-seventh session (18-22 May 2015) of GRSP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C29-6B22-4015-849F-1DFCB2AFB76F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348000" y="549360"/>
          <a:ext cx="5670720" cy="457200"/>
        </p:xfrm>
        <a:graphic>
          <a:graphicData uri="http://schemas.openxmlformats.org/drawingml/2006/table">
            <a:tbl>
              <a:tblPr/>
              <a:tblGrid>
                <a:gridCol w="2249640"/>
                <a:gridCol w="812520"/>
                <a:gridCol w="2608560"/>
              </a:tblGrid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tted by the expert from 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 algn="just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440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Informal document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GRSP-57-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7th GRSP, 18-22 May 2015, 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nda item 1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24000" y="119664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The group agrees to study the feasibility of reducing the width of the F4 gabarit to 440 mm in order to try achieve an i-size seating position able to receive all i-size ECRS from 0 cm to 135 cm (95%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If it is not feasible with current parameters, modification of conditions (energy, percentile, shoulder breadth, …) could be proposed to achieve this goal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The extreme fall back solution should be to increase gradually the gabarit width between 440 mm and 520 mm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First feed back in June 2015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Dead line for decision on the feasibility is 1st week of September 2015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IWG CRS decision (50th meeting)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5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743-841C-4E01-B3BE-52017D7D5462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4000" y="119664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Booster cushi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Keep the booster cushion for the time being in ECE R44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Modify the ECE R44 to prohibit the use of booster cushion for children under 125 c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IWG CRS decision (50th meeting)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55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DDC6-21D9-4347-8668-2AF63CBE0761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7f7f7f"/>
                </a:solidFill>
                <a:latin typeface="Century Gothic"/>
              </a:rPr>
              <a:t>IWG CRS asks for the consent of GRSP to go in this direction.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7f7f7f"/>
                </a:solidFill>
                <a:latin typeface="Century Gothic"/>
              </a:rPr>
              <a:t>IWG CRS proposes to GRSP to prepare four formal documents for the December session: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Amendments to Phase 1of ECE R129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Phase 2 amendment of ECE R129 (limited to booster seats ≤ 135 cm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Amendment of ECE R16 accordingly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Amendment of ECE R44 (booster cushion ≥</a:t>
            </a:r>
            <a:r>
              <a:rPr b="0" lang="fr-FR" sz="2400" spc="-1" strike="noStrike">
                <a:solidFill>
                  <a:srgbClr val="7f7f7f"/>
                </a:solidFill>
                <a:latin typeface="Century Gothic"/>
              </a:rPr>
              <a:t>125 cm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Accordingly, IWG CRS sought consent from GRSP for a one-year extension of his mandate until end of 2016.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Conclusion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6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C6B2-2720-4FA1-B397-E7F78152C14B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21</a:t>
            </a:r>
            <a:r>
              <a:rPr b="0" lang="en-GB" sz="3200" spc="-1" strike="noStrike" baseline="30000">
                <a:solidFill>
                  <a:srgbClr val="7f7f7f"/>
                </a:solidFill>
                <a:latin typeface="Century Gothic"/>
              </a:rPr>
              <a:t>st</a:t>
            </a: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 January 2015 – Berlin (TAKATA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18</a:t>
            </a:r>
            <a:r>
              <a:rPr b="0" lang="en-GB" sz="3200" spc="-1" strike="noStrike" baseline="30000">
                <a:solidFill>
                  <a:srgbClr val="7f7f7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 &amp; 19</a:t>
            </a:r>
            <a:r>
              <a:rPr b="0" lang="en-GB" sz="3200" spc="-1" strike="noStrike" baseline="30000">
                <a:solidFill>
                  <a:srgbClr val="7f7f7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 March – Paris (OICA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en-GB" sz="3200" spc="-1" strike="noStrike" baseline="30000">
                <a:solidFill>
                  <a:srgbClr val="7f7f7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 May – Paris (OICA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entury Gothic"/>
              </a:rPr>
              <a:t>18</a:t>
            </a:r>
            <a:r>
              <a:rPr b="0" lang="en-GB" sz="3200" spc="-1" strike="noStrike" baseline="30000">
                <a:solidFill>
                  <a:srgbClr val="558ed5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558ed5"/>
                </a:solidFill>
                <a:latin typeface="Century Gothic"/>
              </a:rPr>
              <a:t> June – Brussels (CLEPA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6699"/>
                </a:solidFill>
                <a:latin typeface="Century Gothic"/>
              </a:rPr>
              <a:t>3 meetings since last session of GRSP</a:t>
            </a:r>
            <a:endParaRPr b="0" lang="en-US" sz="36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1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DE13-E27A-4DFB-AF98-60970F215183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1197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i-Size available up to 105 cm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Integral belt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Up to Q3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ide impact protecti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Fully incorporated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'Universal' plug-and-play approach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Achieved through R14 and R16 integratio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No forward facing transport up to 15 months of child ag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Concrete achievements so far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15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2317-1189-4D8E-AB51-3C3CB9D8ED78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197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Flexibility for infant carrier system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Temporary fix to allow for seatbelt routing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Certain measures still have more potential for improvemen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Frontal impact pulse revision (update 1970's car fleet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Consideration of Shields as ‘Integral ECRS’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Not authorised in phase 1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Shortcomings phase 1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2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1814-BB5A-49A4-A427-0DB586C7BD06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4000" y="1197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7f7f7f"/>
                </a:solidFill>
                <a:latin typeface="Century Gothic"/>
              </a:rPr>
              <a:t>Address enhanced safety for children in cars on booster cushions without a backrest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7f7f7f"/>
                </a:solidFill>
                <a:latin typeface="Century Gothic"/>
              </a:rPr>
              <a:t>Geometric definition of the test fixture (gabarit) for booster seats with an integrated backrest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Century Gothic"/>
              </a:rPr>
              <a:t>Centre of CRS ≠ centre of car seat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Due to potential size of 'gabarit‘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Century Gothic"/>
              </a:rPr>
              <a:t>Q6 and Q10 reliability for testing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Acceptable solutions not expected before end of 2015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Century Gothic"/>
              </a:rPr>
              <a:t>Complexity of information to users in vehicle handbook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Due to number of classes, lack of universality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entury Gothic"/>
              </a:rPr>
              <a:t>Main problems in Phase 2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25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B553-4BA4-4043-A421-1F7E0DEE0089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1197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Following last GRSP session EC and Germany have proposed different </a:t>
            </a: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trategies for current and future phases</a:t>
            </a: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CRS-50-03e_Richard_DAMM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CRS-50-04e_European_Commissio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IWG CRS group reorientation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3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0A5-BE7E-4D2E-B873-DB2FFD10D070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000" y="119664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Introduce only non-integral i-Size ECRS as booster seats with an integrated backrest for children up to a stature of 135 cm in phase 2 of R129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Booster cushions without a backrest are kept in R44 </a:t>
            </a:r>
            <a:r>
              <a:rPr b="1" lang="en-US" sz="2000" spc="-1" strike="noStrike">
                <a:solidFill>
                  <a:srgbClr val="7f7f7f"/>
                </a:solidFill>
                <a:latin typeface="Century Gothic"/>
              </a:rPr>
              <a:t>at this stage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Propose for the interim a modification of the requirements for booster cushions without a backrest in R44 that prohibits their use for children with a stature below 125 cm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This proposal will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Century Gothic"/>
              </a:rPr>
              <a:t>facilitate the discussion and decision in the IWG CRS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Century Gothic"/>
              </a:rPr>
              <a:t>allow a short-term decision for phase 2 of R129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Century Gothic"/>
              </a:rPr>
              <a:t>allow the time for discussion about booster cushions without a backrest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Century Gothic"/>
              </a:rPr>
              <a:t>improve child safety for large children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Proposal for Phases 3 (and 4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Discuss strategy for the introduction of booster cushions without a backrest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Discuss strategy for the future of Regulation no. 44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Discuss promotion of installation of iSize and IsoFix in cars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Promote and expand concept and use of i-Size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Germany proposal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35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AB1C-515C-4561-83F5-979320C09DD4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How will we be successful to promote ISOFIX?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i-Size is the key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mall car (Polo, Fiesta, C3, Clio, V40, …)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2x positions is acceptabl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Larger family car (S-max, Touran, XC90, …)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3x proposed gabarit side-by-side </a:t>
            </a:r>
            <a:r>
              <a:rPr b="1" lang="en-US" sz="2400" spc="-1" strike="noStrike" u="sng">
                <a:solidFill>
                  <a:srgbClr val="7f7f7f"/>
                </a:solidFill>
                <a:uFillTx/>
                <a:latin typeface="Century Gothic"/>
              </a:rPr>
              <a:t>NEVER FIT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3x side-by-side CRS </a:t>
            </a:r>
            <a:r>
              <a:rPr b="1" lang="en-US" sz="2400" spc="-1" strike="noStrike" u="sng">
                <a:solidFill>
                  <a:srgbClr val="7f7f7f"/>
                </a:solidFill>
                <a:uFillTx/>
                <a:latin typeface="Century Gothic"/>
              </a:rPr>
              <a:t>IS A MUST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r this type of ca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Proposa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reate i-Size cars for i-Size products / </a:t>
            </a:r>
            <a:r>
              <a:rPr b="1" lang="en-US" sz="2400" spc="-1" strike="noStrike" u="sng">
                <a:solidFill>
                  <a:srgbClr val="7f7f7f"/>
                </a:solidFill>
                <a:uFillTx/>
                <a:latin typeface="Century Gothic"/>
              </a:rPr>
              <a:t>adapt cars and C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EC proposal (1)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4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32D0-47E8-45C7-90C6-C436B85B45F6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Ease of use (plug &amp; play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Century Gothic"/>
              </a:rPr>
              <a:t>Extend the i-Size philosophy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One size 'gabarit' fits all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Avoiding misuse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Aim for plug &amp; play solutions above to reduce the complexity of systems in the marke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Side impact &amp; New dummies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Complete the analysis work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Make improvements where necessary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7f7f7f"/>
                </a:solidFill>
                <a:uFillTx/>
                <a:latin typeface="Century Gothic"/>
              </a:rPr>
              <a:t>Make i-Size standard across the board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Restrict the width of booster seat gabarit to 440 mm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Consistent with maximum width in Phase 1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Will fit 3-across larger family vehicles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EC proposal (2)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45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28C1-87FA-4051-8EDE-81DFD7649086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7T13:53:57Z</dcterms:created>
  <dc:creator>Administrateur</dc:creator>
  <dc:description/>
  <dc:language>en-US</dc:language>
  <cp:lastModifiedBy>Gianotti</cp:lastModifiedBy>
  <dcterms:modified xsi:type="dcterms:W3CDTF">2015-05-18T06:35:39Z</dcterms:modified>
  <cp:revision>16</cp:revision>
  <dc:subject/>
  <dc:title>GRSP / IWG-CRS</dc:title>
</cp:coreProperties>
</file>