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D7248-38C5-4690-AF2D-8DC69474EDF2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C20E3-05C7-4F1C-A690-5B1A38BA0EBC}" type="slidenum">
              <a:rPr b="0" lang="nl-NL" sz="12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54CC5-2821-4690-80B3-083782E36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86D99-A972-4276-B560-87333E155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C4610-6706-40B1-BACE-1BCF67857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C5AE2-B112-427C-9FFF-377C07238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1F9F1-7F5E-4648-B7C4-EF93E3B21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0B988-420F-49F4-9D38-B8445BB9F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C30EE-1388-4A8B-B9DA-7C174E5E4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44536-EFC9-4FFD-A702-4192C862E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EC812-C025-4BB5-855C-4C9DE61D9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F1B0E-DD80-49B5-B536-8FE493DAC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61EC0-A737-4E2A-9FB8-6849BB565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B10BA-D05E-4B94-84CD-9D15B1548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D86D4-8A3E-4E3F-B401-3EFB8B34D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7E203-AC91-42EC-8844-AD8E8742F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8E045-2C60-47CD-B48B-DA007A19E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6AEC8-5F7E-4F71-B70E-523EA20E3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47201-78C8-4E93-B626-6DFBD78E0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06266F-62EA-47A4-8ABC-749110D84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74DEBD-4D83-41E5-BFCA-B590BCB6A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7347DE-474A-474D-9859-1A0B55DBE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8EAB79-5A8E-4314-B163-5D6F7A4FA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066B5A-8169-4C2A-8475-82378D55F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F8A56-D00F-4D7F-9D8B-AE76E72F2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A1CC56-B3E1-4A82-9AE9-5DF88E609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706FA0-2E62-4104-875F-B608CBB3D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7817F9-2915-4E4C-8BA4-9B873939F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7FDC48-4E0D-4C75-B497-773CE7ACB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5E1B3E-7537-4C5B-99DE-7C34C6784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F36D59-76D5-47C8-A381-5FCAF0BF9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7A8E75-7194-4A88-A678-8A333697B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345E20-C3D2-4D98-914B-CFC7A258F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BC5628-DD5D-44D7-BF2C-1D7B2F422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6E0C7A-082B-4999-A970-5EC5C00EB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19AA1-7CF8-4F11-A41F-CDC38097A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658C1E-F4AF-4B9F-857B-00EA3BC95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C89031-C7D0-46D8-89BF-FAE830BC0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FD80B0-26E1-43BC-99A8-5B2412011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3F5DC3-63BB-4354-8AD3-DF4E58712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34DB97-FC54-4BE8-8499-E374C7CA0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8C9886-8857-47DA-9705-7C50C86C2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9ADCB7-2A1A-4710-90F1-869F20E59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21DDBA-DF2F-456B-8B27-FB7BD1337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D2178B-0682-4888-BED2-4B115616C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485FB-AAD1-4955-889F-56EBD5689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66CBD-6325-4568-9371-A994E2690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AE94E-E8CD-4FD6-AAD2-368DDCF73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AB956-5D54-4423-BF95-B92F5150E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1A499-4187-4194-A0AA-1B430EF88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000" spc="-1" strike="noStrike">
                <a:solidFill>
                  <a:srgbClr val="000000"/>
                </a:solidFill>
                <a:latin typeface="Times New Roman"/>
              </a:rPr>
              <a:t>GFV report 72nd GRPE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1F0B6-0AC9-4F9B-BBF2-6B863CEDB43F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7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" name="Oval 8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" name="Oval 9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8" name="Oval 10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000" spc="-1" strike="noStrike">
                <a:solidFill>
                  <a:srgbClr val="336666"/>
                </a:solidFill>
                <a:latin typeface="Times New Roman"/>
              </a:rPr>
              <a:t>GFV report 72nd GRPE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72600-3332-4D68-8D07-7FC8D32D9745}" type="slidenum">
              <a:rPr b="0" lang="nl-NL" sz="14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Line 7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1" name="Oval 8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2" name="Oval 9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3" name="Oval 10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Line 7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91" name="Oval 8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92" name="Oval 9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93" name="Oval 10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000" spc="-1" strike="noStrike">
                <a:solidFill>
                  <a:srgbClr val="000000"/>
                </a:solidFill>
                <a:latin typeface="Times New Roman"/>
              </a:rPr>
              <a:t>GFV report 72nd GRPE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B5FE1-8903-446E-8787-215A9E4B16B4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Line 7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6" name="Oval 8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7" name="Oval 9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8" name="Oval 10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000" spc="-1" strike="noStrike">
                <a:solidFill>
                  <a:srgbClr val="336666"/>
                </a:solidFill>
                <a:latin typeface="Times New Roman"/>
              </a:rPr>
              <a:t>GFV report 72nd GRPE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3DCE1-379E-4087-9D72-225429FDABA7}" type="slidenum">
              <a:rPr b="0" lang="nl-NL" sz="14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Informal Group on Gaseous Fuelled Vehicles (GFV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1187280" y="3789000"/>
            <a:ext cx="698184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Status report 72nd GRPE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January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 2016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ijdelijke aanduiding voor voettekst 1"/>
          <p:cNvSpPr/>
          <p:nvPr/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000" spc="-1" strike="noStrike">
                <a:solidFill>
                  <a:srgbClr val="336666"/>
                </a:solidFill>
                <a:latin typeface="Arial"/>
              </a:rPr>
              <a:t>GFV report 72nd GRPE     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90" name="Tijdelijke aanduiding voor dianummer 2"/>
          <p:cNvSpPr/>
          <p:nvPr/>
        </p:nvSpPr>
        <p:spPr>
          <a:xfrm>
            <a:off x="220968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0145E-EB1B-49E3-AC1F-28B2416D63C0}" type="slidenum">
              <a:rPr b="0" lang="nl-NL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91" name="Text Box 4"/>
          <p:cNvSpPr/>
          <p:nvPr/>
        </p:nvSpPr>
        <p:spPr>
          <a:xfrm>
            <a:off x="5508720" y="189000"/>
            <a:ext cx="3416040" cy="8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36000" bIns="360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6666"/>
                </a:solidFill>
                <a:latin typeface="Times New Roman"/>
                <a:ea typeface="ＭＳ Ｐゴシック"/>
              </a:rPr>
              <a:t>Informal document </a:t>
            </a:r>
            <a:r>
              <a:rPr b="1" lang="en-GB" sz="1600" spc="-1" strike="noStrike">
                <a:solidFill>
                  <a:srgbClr val="336666"/>
                </a:solidFill>
                <a:latin typeface="Times New Roman"/>
                <a:ea typeface="ＭＳ Ｐゴシック"/>
              </a:rPr>
              <a:t>GRPE-72-24</a:t>
            </a:r>
            <a:endParaRPr b="0" lang="en-US" sz="16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6666"/>
                </a:solidFill>
                <a:latin typeface="Times New Roman"/>
                <a:ea typeface="ＭＳ Ｐゴシック"/>
              </a:rPr>
              <a:t>72nd GRPE, 11-15 January 2016,</a:t>
            </a:r>
            <a:endParaRPr b="0" lang="en-US" sz="16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6666"/>
                </a:solidFill>
                <a:latin typeface="Times New Roman"/>
                <a:ea typeface="ＭＳ Ｐゴシック"/>
              </a:rPr>
              <a:t> </a:t>
            </a:r>
            <a:r>
              <a:rPr b="0" lang="en-GB" sz="1600" spc="-1" strike="noStrike">
                <a:solidFill>
                  <a:srgbClr val="336666"/>
                </a:solidFill>
                <a:latin typeface="Times New Roman"/>
                <a:ea typeface="ＭＳ Ｐゴシック"/>
              </a:rPr>
              <a:t>agenda item 8</a:t>
            </a:r>
            <a:endParaRPr b="0" lang="en-US" sz="16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92" name="Text Box 4"/>
          <p:cNvSpPr/>
          <p:nvPr/>
        </p:nvSpPr>
        <p:spPr>
          <a:xfrm>
            <a:off x="395280" y="189000"/>
            <a:ext cx="3200400" cy="3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360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6666"/>
                </a:solidFill>
                <a:latin typeface="Times New Roman"/>
                <a:ea typeface="ＭＳ Ｐゴシック"/>
              </a:rPr>
              <a:t>Submitted by the IWG on GFV</a:t>
            </a:r>
            <a:endParaRPr b="0" lang="en-US" sz="16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403280" y="11592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200" spc="-1" strike="noStrike">
                <a:solidFill>
                  <a:srgbClr val="336666"/>
                </a:solidFill>
                <a:latin typeface="Arial"/>
              </a:rPr>
              <a:t>GFV item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23640" y="190512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ijdelijke aanduiding voor dianummer 2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87C73-B514-461F-935E-D161E65A88E3}" type="slidenum">
              <a:rPr b="0" lang="nl-NL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50" name="Rectangle 3"/>
          <p:cNvSpPr/>
          <p:nvPr/>
        </p:nvSpPr>
        <p:spPr>
          <a:xfrm>
            <a:off x="468360" y="1684440"/>
            <a:ext cx="8364600" cy="3112920"/>
          </a:xfrm>
          <a:prstGeom prst="rect">
            <a:avLst/>
          </a:prstGeom>
          <a:noFill/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ther items 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pplement to R115 retrofit  (bi-fuel):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CE/TRANS/WP.29/GRPE/2016/5</a:t>
            </a:r>
            <a:endParaRPr b="0" lang="en-US" sz="1600" spc="-1" strike="noStrike">
              <a:solidFill>
                <a:srgbClr val="3366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posed to eliminate the communication of the CO2 emissions and power figures of each specific vehicle and leaving the communication only for the tested (parent) ones.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alculate the CO2 emissions in gas mode multiplying the CO2 factor for that specific vehicle.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6666"/>
              </a:solidFill>
              <a:latin typeface="Arial"/>
            </a:endParaRPr>
          </a:p>
          <a:p>
            <a:pPr lvl="4" marL="9144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51" name="Tijdelijke aanduiding voor voettekst 1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000" spc="-1" strike="noStrike">
                <a:solidFill>
                  <a:srgbClr val="336666"/>
                </a:solidFill>
                <a:latin typeface="Arial"/>
              </a:rPr>
              <a:t>GFV report 72nd GRPE     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403280" y="11592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200" spc="-1" strike="noStrike">
                <a:solidFill>
                  <a:srgbClr val="336666"/>
                </a:solidFill>
                <a:latin typeface="Arial"/>
              </a:rPr>
              <a:t>GFV item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23640" y="190512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ijdelijke aanduiding voor dianummer 2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4C73F-8164-4645-BA4B-213F87DAECFB}" type="slidenum">
              <a:rPr b="0" lang="nl-NL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55" name="Rectangle 3"/>
          <p:cNvSpPr/>
          <p:nvPr/>
        </p:nvSpPr>
        <p:spPr>
          <a:xfrm>
            <a:off x="468360" y="1684440"/>
            <a:ext cx="8364600" cy="4681440"/>
          </a:xfrm>
          <a:prstGeom prst="rect">
            <a:avLst/>
          </a:prstGeom>
          <a:noFill/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formation exchange on gaseous  fuelled vehicle related issues in other forums (GRSG, WP.15) 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LNG-TF (GFV) is finalized (closed) 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NG is included in R110 (2013)</a:t>
            </a:r>
            <a:endParaRPr b="0" lang="en-US" sz="1600" spc="-1" strike="noStrike">
              <a:solidFill>
                <a:srgbClr val="33666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RSG (general safety) (R.110) : 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doption of ISO LNG fuel connector standard</a:t>
            </a:r>
            <a:endParaRPr b="0" lang="en-US" sz="1600" spc="-1" strike="noStrike">
              <a:solidFill>
                <a:srgbClr val="3366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scussion of aluminum parts on LNG tanks</a:t>
            </a:r>
            <a:endParaRPr b="0" lang="en-US" sz="1600" spc="-1" strike="noStrike">
              <a:solidFill>
                <a:srgbClr val="336666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1400" spc="-1" strike="noStrike">
              <a:solidFill>
                <a:srgbClr val="336666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451"/>
              </a:spcBef>
              <a:buClr>
                <a:srgbClr val="336666"/>
              </a:buClr>
              <a:buSzPct val="70000"/>
              <a:buFont typeface="Courier New"/>
              <a:buChar char="o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P.15 (ADR/ Dangerous Goods Vehicles)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Arial"/>
              </a:rPr>
              <a:t>CNG, LNG and LPG allowed to fuel ADR-certified vehicles (2017)</a:t>
            </a:r>
            <a:endParaRPr b="0" lang="en-US" sz="1600" spc="-1" strike="noStrike">
              <a:solidFill>
                <a:srgbClr val="33666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Arial"/>
              </a:rPr>
              <a:t>Gaseous fuel limits on trucks being debated May 2016 WP15</a:t>
            </a:r>
            <a:endParaRPr b="0" lang="en-US" sz="1600" spc="-1" strike="noStrike">
              <a:solidFill>
                <a:srgbClr val="336666"/>
              </a:solidFill>
              <a:latin typeface="Arial"/>
            </a:endParaRPr>
          </a:p>
          <a:p>
            <a:pPr lvl="4" marL="9144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56" name="Tijdelijke aanduiding voor voettekst 1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000" spc="-1" strike="noStrike">
                <a:solidFill>
                  <a:srgbClr val="336666"/>
                </a:solidFill>
                <a:latin typeface="Arial"/>
              </a:rPr>
              <a:t>GFV report 72nd GRPE     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547640" y="333360"/>
            <a:ext cx="701064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200" spc="-1" strike="noStrike">
                <a:solidFill>
                  <a:srgbClr val="336666"/>
                </a:solidFill>
                <a:latin typeface="Arial"/>
              </a:rPr>
              <a:t>Next steps GFV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042920" y="1904760"/>
            <a:ext cx="7491600" cy="39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264d4d"/>
                </a:solidFill>
                <a:latin typeface="Arial"/>
              </a:rPr>
              <a:t>Next meetings of </a:t>
            </a:r>
            <a:r>
              <a:rPr b="1" lang="en-GB" sz="2400" spc="-1" strike="noStrike">
                <a:solidFill>
                  <a:srgbClr val="264d4d"/>
                </a:solidFill>
                <a:latin typeface="Arial"/>
              </a:rPr>
              <a:t>GFV-IW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23 February 2016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FV (Brussels, RDW)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FV request to GRPE for a ½ day meeting during the 73-GR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-----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ijdelijke aanduiding voor dianummer 2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1DA13-8085-41E7-BCED-8D2870689806}" type="slidenum">
              <a:rPr b="0" lang="nl-NL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60" name="Tijdelijke aanduiding voor voettekst 1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000" spc="-1" strike="noStrike">
                <a:solidFill>
                  <a:srgbClr val="336666"/>
                </a:solidFill>
                <a:latin typeface="Arial"/>
              </a:rPr>
              <a:t>GFV report 72nd GRPE     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200" spc="-1" strike="noStrike">
                <a:solidFill>
                  <a:srgbClr val="336666"/>
                </a:solidFill>
                <a:latin typeface="Arial"/>
              </a:rPr>
              <a:t>Meetings GFV Group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523520" y="1904760"/>
            <a:ext cx="7224840" cy="274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42nd GFV me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7 October 2015 EC (DG Growth), Bruss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3rd GFV meet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3 January  2016  Gene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ijdelijke aanduiding voor dianummer 2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4314F-45D7-4633-98EC-F88908925203}" type="slidenum">
              <a:rPr b="0" lang="nl-NL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96" name="Tijdelijke aanduiding voor voettekst 1"/>
          <p:cNvSpPr/>
          <p:nvPr/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000" spc="-1" strike="noStrike">
                <a:solidFill>
                  <a:srgbClr val="336666"/>
                </a:solidFill>
                <a:latin typeface="Arial"/>
              </a:rPr>
              <a:t>GFV report 72nd GRPE     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03280" y="11592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200" spc="-1" strike="noStrike">
                <a:solidFill>
                  <a:srgbClr val="336666"/>
                </a:solidFill>
                <a:latin typeface="Arial"/>
              </a:rPr>
              <a:t>GFV item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23640" y="190512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ijdelijke aanduiding voor dianummer 2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732A1-F421-4A97-860F-B6AE1C50993F}" type="slidenum">
              <a:rPr b="0" lang="nl-NL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00" name="Rectangle 3"/>
          <p:cNvSpPr/>
          <p:nvPr/>
        </p:nvSpPr>
        <p:spPr>
          <a:xfrm>
            <a:off x="468360" y="1684440"/>
            <a:ext cx="8364600" cy="3905280"/>
          </a:xfrm>
          <a:prstGeom prst="rect">
            <a:avLst/>
          </a:prstGeom>
          <a:noFill/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evelopment of a new UN Regulation for heavy-duty dual-fuel retrofit systems (HDDF-RS).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new regulation will include the requirements for th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ype approval of retrofit system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tended to be installed on a heavy duty diesel vehicle to enable its operation either in diesel mode or in dual-fuel mode.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666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nly Euro V and EEV vehicles will be included in this release of the regulation.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6666"/>
              </a:solidFill>
              <a:latin typeface="Arial"/>
            </a:endParaRPr>
          </a:p>
          <a:p>
            <a:pPr lvl="4" marL="9144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01" name="Tijdelijke aanduiding voor voettekst 1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000" spc="-1" strike="noStrike">
                <a:solidFill>
                  <a:srgbClr val="336666"/>
                </a:solidFill>
                <a:latin typeface="Arial"/>
              </a:rPr>
              <a:t>GFV report 72nd GRPE     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03280" y="11592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200" spc="-1" strike="noStrike">
                <a:solidFill>
                  <a:srgbClr val="336666"/>
                </a:solidFill>
                <a:latin typeface="Arial"/>
              </a:rPr>
              <a:t>GFV item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23640" y="190512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ijdelijke aanduiding voor dianummer 2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D463E-B5F3-4D7B-A747-BCB6D00376A5}" type="slidenum">
              <a:rPr b="0" lang="nl-NL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05" name="Rectangle 3"/>
          <p:cNvSpPr/>
          <p:nvPr/>
        </p:nvSpPr>
        <p:spPr>
          <a:xfrm>
            <a:off x="468360" y="1700280"/>
            <a:ext cx="8364600" cy="4105080"/>
          </a:xfrm>
          <a:prstGeom prst="rect">
            <a:avLst/>
          </a:prstGeom>
          <a:noFill/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tus of the new HDDF retrofit system (HDDF-RS) regulation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 informal document available for the GRPE to review.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formal Document GRPE-72-12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raft proposal is the result of developments in the GFV informal group and the work done in the heavy duty dual-fuel task force (HDDF-TF).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me (mainly administrative) provisions still need to be finalized. Those parts are marked in the document with a grey font color.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FV intends to submit a working document for the 73rd session of GRPE.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lvl="4" marL="9144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06" name="Tijdelijke aanduiding voor voettekst 1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000" spc="-1" strike="noStrike">
                <a:solidFill>
                  <a:srgbClr val="336666"/>
                </a:solidFill>
                <a:latin typeface="Arial"/>
              </a:rPr>
              <a:t>GFV report 72nd GRPE     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403280" y="11592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200" spc="-1" strike="noStrike">
                <a:solidFill>
                  <a:srgbClr val="336666"/>
                </a:solidFill>
                <a:latin typeface="Arial"/>
              </a:rPr>
              <a:t>GFV item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23640" y="190512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ijdelijke aanduiding voor dianummer 2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D875E-CA8E-4019-816B-D94CA601FEAC}" type="slidenum">
              <a:rPr b="0" lang="nl-NL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10" name="Rectangle 3"/>
          <p:cNvSpPr/>
          <p:nvPr/>
        </p:nvSpPr>
        <p:spPr>
          <a:xfrm>
            <a:off x="468360" y="1700280"/>
            <a:ext cx="8364600" cy="360360"/>
          </a:xfrm>
          <a:prstGeom prst="rect">
            <a:avLst/>
          </a:prstGeom>
          <a:noFill/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DDF retrofit type approval process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 lvl="1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UNE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lv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ngine Retrofit System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 lv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tensions and actual applications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 lv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stallation manual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 lvl="1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lv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ational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 lv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complete installation of all gas components/systems on the vehicles to be checked by the national authority based on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 lv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ECE Regulations on HDDF-RS (retrofit systems)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missions (new)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 lv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ECE Regulation R110 (CNG/LNG) and R67(LPG)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afety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 lvl="1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cccccc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666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11" name="Tijdelijke aanduiding voor voettekst 1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000" spc="-1" strike="noStrike">
                <a:solidFill>
                  <a:srgbClr val="336666"/>
                </a:solidFill>
                <a:latin typeface="Arial"/>
              </a:rPr>
              <a:t>GFV report 72nd GRPE     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03280" y="11592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200" spc="-1" strike="noStrike">
                <a:solidFill>
                  <a:srgbClr val="336666"/>
                </a:solidFill>
                <a:latin typeface="Arial"/>
              </a:rPr>
              <a:t>GFV item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23640" y="190512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264d4d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ijdelijke aanduiding voor dianummer 2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A05D2-E982-4B82-8D03-408EA275E0D0}" type="slidenum">
              <a:rPr b="0" lang="nl-NL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15" name="Rectangle 3"/>
          <p:cNvSpPr/>
          <p:nvPr/>
        </p:nvSpPr>
        <p:spPr>
          <a:xfrm>
            <a:off x="468360" y="1700280"/>
            <a:ext cx="8364600" cy="360360"/>
          </a:xfrm>
          <a:prstGeom prst="rect">
            <a:avLst/>
          </a:prstGeom>
          <a:noFill/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DDF engine retrofit type approval process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Emission Tests: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Initial Type Approval: Engine test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- Type Approval extension: Simplified test</a:t>
            </a:r>
            <a:endParaRPr b="0" lang="en-US" sz="2200" spc="-1" strike="noStrike">
              <a:solidFill>
                <a:srgbClr val="33666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Simplified test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Arial"/>
              </a:rPr>
              <a:t>Back-to-back comparison between a test in diesel mode and a test in dual-fuel mode.</a:t>
            </a:r>
            <a:endParaRPr b="0" lang="en-US" sz="2200" spc="-1" strike="noStrike">
              <a:solidFill>
                <a:srgbClr val="336666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Arial"/>
              </a:rPr>
              <a:t>Measurement on an engine test bench, on a chassis dyno or on the road at the choice of the manufacturer.</a:t>
            </a:r>
            <a:endParaRPr b="0" lang="en-US" sz="2200" spc="-1" strike="noStrike">
              <a:solidFill>
                <a:srgbClr val="336666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Arial"/>
              </a:rPr>
              <a:t>Discussion on the simplified test methods  and specifically on chassis dyno testing is still ongoing.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3366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cccccc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666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16" name="Tijdelijke aanduiding voor voettekst 1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000" spc="-1" strike="noStrike">
                <a:solidFill>
                  <a:srgbClr val="336666"/>
                </a:solidFill>
                <a:latin typeface="Arial"/>
              </a:rPr>
              <a:t>GFV report 72nd GRPE     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403280" y="11592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200" spc="-1" strike="noStrike">
                <a:solidFill>
                  <a:srgbClr val="336666"/>
                </a:solidFill>
                <a:latin typeface="Arial"/>
              </a:rPr>
              <a:t>GFV item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23640" y="1905120"/>
            <a:ext cx="8280360" cy="404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ijdelijke aanduiding voor dianummer 2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2336F-C8C7-48D0-9491-76CC697EC322}" type="slidenum">
              <a:rPr b="0" lang="nl-NL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20" name="Rectangle 3"/>
          <p:cNvSpPr/>
          <p:nvPr/>
        </p:nvSpPr>
        <p:spPr>
          <a:xfrm>
            <a:off x="1619280" y="1339920"/>
            <a:ext cx="7356600" cy="360360"/>
          </a:xfrm>
          <a:prstGeom prst="rect">
            <a:avLst/>
          </a:prstGeom>
          <a:noFill/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DDF engine retrofit system family and application range (AR)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 lvl="1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cccccc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666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21" name="Tijdelijke aanduiding voor voettekst 1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000" spc="-1" strike="noStrike">
                <a:solidFill>
                  <a:srgbClr val="336666"/>
                </a:solidFill>
                <a:latin typeface="Arial"/>
              </a:rPr>
              <a:t>GFV report 72nd GRPE     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222" name="Picture 2" descr=""/>
          <p:cNvPicPr/>
          <p:nvPr/>
        </p:nvPicPr>
        <p:blipFill>
          <a:blip r:embed="rId1"/>
          <a:stretch/>
        </p:blipFill>
        <p:spPr>
          <a:xfrm>
            <a:off x="1247760" y="1700280"/>
            <a:ext cx="6202440" cy="4537080"/>
          </a:xfrm>
          <a:prstGeom prst="rect">
            <a:avLst/>
          </a:prstGeom>
          <a:ln w="0">
            <a:noFill/>
          </a:ln>
        </p:spPr>
      </p:pic>
      <p:sp>
        <p:nvSpPr>
          <p:cNvPr id="223" name="Ovaal 2"/>
          <p:cNvSpPr/>
          <p:nvPr/>
        </p:nvSpPr>
        <p:spPr>
          <a:xfrm>
            <a:off x="1476360" y="3645000"/>
            <a:ext cx="1089000" cy="1119240"/>
          </a:xfrm>
          <a:prstGeom prst="ellipse">
            <a:avLst/>
          </a:prstGeom>
          <a:noFill/>
          <a:ln w="63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24" name="Ovaal 3"/>
          <p:cNvSpPr/>
          <p:nvPr/>
        </p:nvSpPr>
        <p:spPr>
          <a:xfrm>
            <a:off x="2455920" y="3646440"/>
            <a:ext cx="1011240" cy="1117800"/>
          </a:xfrm>
          <a:prstGeom prst="ellipse">
            <a:avLst/>
          </a:prstGeom>
          <a:noFill/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225" name="Picture 3" descr=""/>
          <p:cNvPicPr/>
          <p:nvPr/>
        </p:nvPicPr>
        <p:blipFill>
          <a:blip r:embed="rId2"/>
          <a:stretch/>
        </p:blipFill>
        <p:spPr>
          <a:xfrm>
            <a:off x="3448080" y="3646440"/>
            <a:ext cx="1036440" cy="114624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5" descr=""/>
          <p:cNvPicPr/>
          <p:nvPr/>
        </p:nvPicPr>
        <p:blipFill>
          <a:blip r:embed="rId3"/>
          <a:stretch/>
        </p:blipFill>
        <p:spPr>
          <a:xfrm>
            <a:off x="4351320" y="3646440"/>
            <a:ext cx="1036800" cy="1146240"/>
          </a:xfrm>
          <a:prstGeom prst="rect">
            <a:avLst/>
          </a:prstGeom>
          <a:ln w="0">
            <a:noFill/>
          </a:ln>
        </p:spPr>
      </p:pic>
      <p:sp>
        <p:nvSpPr>
          <p:cNvPr id="227" name="Ovaal 15"/>
          <p:cNvSpPr/>
          <p:nvPr/>
        </p:nvSpPr>
        <p:spPr>
          <a:xfrm>
            <a:off x="5297400" y="3673440"/>
            <a:ext cx="1090800" cy="1119240"/>
          </a:xfrm>
          <a:prstGeom prst="ellipse">
            <a:avLst/>
          </a:prstGeom>
          <a:noFill/>
          <a:ln w="38160">
            <a:solidFill>
              <a:srgbClr val="c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228" name="Picture 8" descr=""/>
          <p:cNvPicPr/>
          <p:nvPr/>
        </p:nvPicPr>
        <p:blipFill>
          <a:blip r:embed="rId4"/>
          <a:stretch/>
        </p:blipFill>
        <p:spPr>
          <a:xfrm>
            <a:off x="6156360" y="3684600"/>
            <a:ext cx="1127160" cy="1152360"/>
          </a:xfrm>
          <a:prstGeom prst="rect">
            <a:avLst/>
          </a:prstGeom>
          <a:ln w="0">
            <a:noFill/>
          </a:ln>
        </p:spPr>
      </p:pic>
      <p:sp>
        <p:nvSpPr>
          <p:cNvPr id="229" name="Ovaal 17"/>
          <p:cNvSpPr/>
          <p:nvPr/>
        </p:nvSpPr>
        <p:spPr>
          <a:xfrm>
            <a:off x="1574640" y="4745160"/>
            <a:ext cx="863640" cy="792000"/>
          </a:xfrm>
          <a:prstGeom prst="ellipse">
            <a:avLst/>
          </a:prstGeom>
          <a:noFill/>
          <a:ln w="3492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30" name="Ovaal 18"/>
          <p:cNvSpPr/>
          <p:nvPr/>
        </p:nvSpPr>
        <p:spPr>
          <a:xfrm>
            <a:off x="4441680" y="5138640"/>
            <a:ext cx="865440" cy="792360"/>
          </a:xfrm>
          <a:prstGeom prst="ellipse">
            <a:avLst/>
          </a:prstGeom>
          <a:noFill/>
          <a:ln w="3492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31" name="Tekstvak 4"/>
          <p:cNvSpPr/>
          <p:nvPr/>
        </p:nvSpPr>
        <p:spPr>
          <a:xfrm>
            <a:off x="623880" y="2852640"/>
            <a:ext cx="6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66"/>
                </a:solidFill>
                <a:latin typeface="Arial"/>
              </a:rPr>
              <a:t>TA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32" name="Rechte verbindingslijn 6"/>
          <p:cNvSpPr/>
          <p:nvPr/>
        </p:nvSpPr>
        <p:spPr>
          <a:xfrm flipH="1" flipV="1">
            <a:off x="1042560" y="3222720"/>
            <a:ext cx="531720" cy="745920"/>
          </a:xfrm>
          <a:prstGeom prst="line">
            <a:avLst/>
          </a:prstGeom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cxnSp>
        <p:nvCxnSpPr>
          <p:cNvPr id="233" name="Rechte verbindingslijn met pijl 8"/>
          <p:cNvCxnSpPr/>
          <p:nvPr/>
        </p:nvCxnSpPr>
        <p:spPr>
          <a:xfrm>
            <a:off x="2654280" y="3428640"/>
            <a:ext cx="3388320" cy="45000"/>
          </a:xfrm>
          <a:prstGeom prst="straightConnector1">
            <a:avLst/>
          </a:prstGeom>
          <a:ln w="50760">
            <a:solidFill>
              <a:srgbClr val="ffc000"/>
            </a:solidFill>
            <a:miter/>
            <a:tailEnd len="med" type="arrow" w="med"/>
          </a:ln>
        </p:spPr>
      </p:cxnSp>
      <p:sp>
        <p:nvSpPr>
          <p:cNvPr id="234" name="Tekstvak 9"/>
          <p:cNvSpPr/>
          <p:nvPr/>
        </p:nvSpPr>
        <p:spPr>
          <a:xfrm>
            <a:off x="3338640" y="3209760"/>
            <a:ext cx="196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66"/>
                </a:solidFill>
                <a:latin typeface="Arial"/>
              </a:rPr>
              <a:t>TA extensions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cxnSp>
        <p:nvCxnSpPr>
          <p:cNvPr id="235" name="Rechte verbindingslijn met pijl 11"/>
          <p:cNvCxnSpPr/>
          <p:nvPr/>
        </p:nvCxnSpPr>
        <p:spPr>
          <a:xfrm>
            <a:off x="7449840" y="3968280"/>
            <a:ext cx="1080" cy="1693080"/>
          </a:xfrm>
          <a:prstGeom prst="straightConnector1">
            <a:avLst/>
          </a:prstGeom>
          <a:ln w="50760">
            <a:solidFill>
              <a:srgbClr val="007033"/>
            </a:solidFill>
            <a:miter/>
            <a:tailEnd len="med" type="arrow" w="med"/>
          </a:ln>
        </p:spPr>
      </p:cxnSp>
      <p:sp>
        <p:nvSpPr>
          <p:cNvPr id="236" name="Tekstvak 12"/>
          <p:cNvSpPr/>
          <p:nvPr/>
        </p:nvSpPr>
        <p:spPr>
          <a:xfrm rot="16200000">
            <a:off x="6336360" y="3748680"/>
            <a:ext cx="30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66"/>
                </a:solidFill>
                <a:latin typeface="Arial"/>
              </a:rPr>
              <a:t>Conformity</a:t>
            </a:r>
            <a:r>
              <a:rPr b="0" lang="en-US" sz="1800" spc="-1" strike="noStrike">
                <a:solidFill>
                  <a:srgbClr val="33666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6666"/>
                </a:solidFill>
                <a:latin typeface="Arial"/>
              </a:rPr>
              <a:t>of production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403280" y="11592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200" spc="-1" strike="noStrike">
                <a:solidFill>
                  <a:srgbClr val="336666"/>
                </a:solidFill>
                <a:latin typeface="Arial"/>
              </a:rPr>
              <a:t>GFV item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ijdelijke aanduiding voor dianummer 2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A5309-8097-4BD1-B213-446167302906}" type="slidenum">
              <a:rPr b="0" lang="nl-NL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239" name="Rectangle 3" descr=""/>
          <p:cNvPicPr/>
          <p:nvPr/>
        </p:nvPicPr>
        <p:blipFill>
          <a:blip r:embed="rId1"/>
          <a:stretch/>
        </p:blipFill>
        <p:spPr>
          <a:xfrm>
            <a:off x="463680" y="1695600"/>
            <a:ext cx="8375400" cy="371160"/>
          </a:xfrm>
          <a:prstGeom prst="rect">
            <a:avLst/>
          </a:prstGeom>
          <a:ln w="0">
            <a:noFill/>
          </a:ln>
        </p:spPr>
      </p:pic>
      <p:sp>
        <p:nvSpPr>
          <p:cNvPr id="240" name="Tijdelijke aanduiding voor voettekst 1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000" spc="-1" strike="noStrike">
                <a:solidFill>
                  <a:srgbClr val="336666"/>
                </a:solidFill>
                <a:latin typeface="Arial"/>
              </a:rPr>
              <a:t>GFV report 72nd GRPE     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241" name="Tijdelijke aanduiding voor inhoud 1" descr=""/>
          <p:cNvPicPr/>
          <p:nvPr/>
        </p:nvPicPr>
        <p:blipFill>
          <a:blip r:embed="rId2"/>
          <a:stretch/>
        </p:blipFill>
        <p:spPr>
          <a:xfrm>
            <a:off x="407880" y="2279520"/>
            <a:ext cx="812664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403280" y="11592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200" spc="-1" strike="noStrike">
                <a:solidFill>
                  <a:srgbClr val="336666"/>
                </a:solidFill>
                <a:latin typeface="Arial"/>
              </a:rPr>
              <a:t>GFV item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323640" y="190512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ijdelijke aanduiding voor dianummer 2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03BFF-A0C8-44C4-ABE0-5948AF3BDE40}" type="slidenum">
              <a:rPr b="0" lang="nl-NL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45" name="Rectangle 3"/>
          <p:cNvSpPr/>
          <p:nvPr/>
        </p:nvSpPr>
        <p:spPr>
          <a:xfrm>
            <a:off x="468360" y="1700280"/>
            <a:ext cx="8364600" cy="4537080"/>
          </a:xfrm>
          <a:prstGeom prst="rect">
            <a:avLst/>
          </a:prstGeom>
          <a:noFill/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HHF-RS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lvl="4" marL="9144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iming/roadmap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FV intends to submit a working document for the 73rd session of GRPE.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January 2016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72- GRPE: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nformal document (GRPE-72-12)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June 2016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73- GRPE: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working document (planned)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November 2016 WP.29: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WP.29 document (anticipated)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lvl="4" marL="9144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46" name="Tijdelijke aanduiding voor voettekst 1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000" spc="-1" strike="noStrike">
                <a:solidFill>
                  <a:srgbClr val="336666"/>
                </a:solidFill>
                <a:latin typeface="Arial"/>
              </a:rPr>
              <a:t>GFV report 72nd GRPE     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9T21:00:33Z</dcterms:created>
  <dc:creator>rijnders</dc:creator>
  <dc:description/>
  <dc:language>en-US</dc:language>
  <cp:lastModifiedBy>United Nations</cp:lastModifiedBy>
  <dcterms:modified xsi:type="dcterms:W3CDTF">2016-01-14T16:57:33Z</dcterms:modified>
  <cp:revision>236</cp:revision>
  <dc:subject/>
  <dc:title>Informal Group on Gaseous Fuelled Vehicles (GFV)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Date">
    <vt:lpwstr>14-1-2015 10:01:19</vt:lpwstr>
  </property>
</Properties>
</file>