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80BE-4F81-4731-924C-FBC965AC831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E001-D73D-451A-BA4A-63E046DDD544}" type="slidenum">
              <a:rPr b="0" lang="nl-NL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0933-8D10-4F99-B369-792B8B00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ADAD-4D12-429B-8BBF-2AFF1C66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FD18-0ABC-48D7-834A-48DAAACF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3758-986D-423C-B91E-C4503EDF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F937-9A96-496B-B039-44A8A24A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4B11-A7AC-4F29-97D7-F641DE6A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A19C-693E-44E9-AD4A-7EB9E9B7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8EB7-50D9-4E6F-A865-E112C29C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57B3-AD8E-4F2B-B1CE-09E27C6F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3F54-05B7-4365-8700-107079BF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9F33-8E25-41CE-B94D-0C94C47D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6D6E-D179-417C-9553-7051F414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F7F3-607A-4802-A7FA-CC10661D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5862-4E16-4423-8DAD-4A960904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303C-2912-4C03-9385-D1878499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DD70-9119-4A3D-B5C0-D210C8B9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85CF-D6B5-4AAF-ADBF-32EB03EB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88F53-7C01-4875-8A72-ADCF8126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18496-1A4A-4931-BE05-74D52658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7313C-3C83-411A-B125-E8B38C20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30606-27EB-4AC1-B933-175B560B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D038C-D6A3-45BB-AFC2-5EF99A86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3C5D-C92F-4930-A217-1C9396A7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EBAD1-4451-4E0E-B7AA-62DBD9C9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95B65-45E8-490D-B623-44B38184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F785D-8AC0-473B-B9CB-42A6F822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61643-E886-4020-98FF-C3A53DAA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E9D7C-813A-49D0-BB31-CEAE0DD1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D92CE-BB89-4EC8-807F-C44B7E94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D2B75-2B8C-41FA-9A81-EB116E4C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DD1D7-1A5D-47E9-8D26-5C302192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DCCF2-125C-4808-AB12-9BAE29EA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668E8-20BB-4C53-A605-EB978127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4629-6861-42FA-945A-7D260CE2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F866B-ECF0-4043-8CA7-A5350B2D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1BED7-D15E-4F6C-9A47-B16A7FBC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8BE16-9863-42DE-867B-5E81EAF6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DF101-1861-4860-8C37-5A262A47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6935F-79E9-444A-A859-0A839C83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0F0A1-636C-456A-8A3D-22696BBF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2459D-1E35-4F1D-8F1C-7B515096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01A12-A10C-4ED2-956A-0B9128AB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2B362-6C9D-44F5-9B9D-9D4EE712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D06C-80DA-45F3-987F-4B4A47D5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9775-55A4-4E47-9C4C-A765E438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A9F6-8806-4B9D-AFB1-C9CA1E73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86A2-A96F-49B3-8EAB-95D1FF97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333A-CF94-40A6-97F8-ADF17076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GFV report 72nd GRPE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62AC-4B82-4352-9E25-E3DD0CB0502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336666"/>
                </a:solidFill>
                <a:latin typeface="Times New Roman"/>
              </a:rPr>
              <a:t>GFV report 72nd GRPE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718B-A928-440B-8D32-64EBC5270D57}" type="slidenum">
              <a:rPr b="0" lang="nl-NL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2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3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GFV report 72nd GRPE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1627-D073-46B4-943A-DBBCBDD0A21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336666"/>
                </a:solidFill>
                <a:latin typeface="Times New Roman"/>
              </a:rPr>
              <a:t>GFV report 72nd GRPE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2327-2C9C-47B1-96BD-A650BF7B83A3}" type="slidenum">
              <a:rPr b="0" lang="nl-NL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formal Group on Gaseous Fuelled Vehicles (GFV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187280" y="3789000"/>
            <a:ext cx="69818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tus report 72nd GRP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nuary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20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jdelijke aanduiding voor voettekst 1"/>
          <p:cNvSpPr/>
          <p:nvPr/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336666"/>
                </a:solidFill>
                <a:latin typeface="Arial"/>
              </a:rPr>
              <a:t>GFV report 72nd GRPE 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Tijdelijke aanduiding voor dianummer 2"/>
          <p:cNvSpPr/>
          <p:nvPr/>
        </p:nvSpPr>
        <p:spPr>
          <a:xfrm>
            <a:off x="220968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57CC-B555-4767-A762-4F830AEB0F2D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5508720" y="189000"/>
            <a:ext cx="341604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Informal document </a:t>
            </a:r>
            <a:r>
              <a:rPr b="1" lang="en-GB" sz="16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GRPE-72-24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72nd GRPE, 11-15 January 2016,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 </a:t>
            </a:r>
            <a:r>
              <a:rPr b="0" lang="en-GB" sz="16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genda item 8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95280" y="189000"/>
            <a:ext cx="32004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Submitted by the IWG on GFV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GFV ite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ijdelijke aanduiding voor dianumm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3DFB-DFEF-4E50-B2AF-ED6056A20576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468360" y="1684440"/>
            <a:ext cx="8364600" cy="311292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items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lement to R115 retrofit  (bi-fuel)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E/TRANS/WP.29/GRPE/2016/5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osed to eliminate the communication of the CO2 emissions and power figures of each specific vehicle and leaving the communication only for the tested (parent) ones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e the CO2 emissions in gas mode multiplying the CO2 factor for that specific vehicle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4" marL="914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1" name="Tijdelijke aanduiding voor voettekst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336666"/>
                </a:solidFill>
                <a:latin typeface="Arial"/>
              </a:rPr>
              <a:t>GFV report 72nd GRPE 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GFV ite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ijdelijke aanduiding voor dianumm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1673-5FCA-407B-8541-6E2DCF1D32F4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468360" y="1684440"/>
            <a:ext cx="8364600" cy="468144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exchange on gaseous  fuelled vehicle related issues in other forums (GRSG, WP.15)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NG-TF (GFV) is finalized (closed)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NG is included in R110 (2013)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SG (general safety) (R.110) :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option of ISO LNG fuel connector standard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scussion of aluminum parts on LNG tanks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Courier New"/>
              <a:buChar char="o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P.15 (ADR/ Dangerous Goods Vehicles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CNG, LNG and LPG allowed to fuel ADR-certified vehicles (2017)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Gaseous fuel limits on trucks being debated May 2016 WP15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4" marL="914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6" name="Tijdelijke aanduiding voor voettekst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336666"/>
                </a:solidFill>
                <a:latin typeface="Arial"/>
              </a:rPr>
              <a:t>GFV report 72nd GRPE 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70106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Next steps GFV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2920" y="1904760"/>
            <a:ext cx="749160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64d4d"/>
                </a:solidFill>
                <a:latin typeface="Arial"/>
              </a:rPr>
              <a:t>Next meetings of </a:t>
            </a:r>
            <a:r>
              <a:rPr b="1" lang="en-GB" sz="2400" spc="-1" strike="noStrike">
                <a:solidFill>
                  <a:srgbClr val="264d4d"/>
                </a:solidFill>
                <a:latin typeface="Arial"/>
              </a:rPr>
              <a:t>GFV-I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3 February 201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FV (Brussels, RDW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FV request to GRPE for a ½ day meeting during the 73-GR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ijdelijke aanduiding voor dianumm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FFCE-023B-4498-93DC-7A6EE43EB2D1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0" name="Tijdelijke aanduiding voor voettekst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336666"/>
                </a:solidFill>
                <a:latin typeface="Arial"/>
              </a:rPr>
              <a:t>GFV report 72nd GRPE 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Meetings GFV Gro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722484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2nd GFV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 October 2015 EC (DG Growth), Bruss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3rd GFV 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 January  2016 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2B27-6849-48A9-AFC7-B4C9D0518860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6" name="Tijdelijke aanduiding voor voettekst 1"/>
          <p:cNvSpPr/>
          <p:nvPr/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336666"/>
                </a:solidFill>
                <a:latin typeface="Arial"/>
              </a:rPr>
              <a:t>GFV report 72nd GRPE 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GFV ite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jdelijke aanduiding voor dianumm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FD06-D82A-466A-BF4A-23647996C798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468360" y="1684440"/>
            <a:ext cx="8364600" cy="390528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evelopment of a new UN Regulation for heavy-duty dual-fuel retrofit systems (HDDF-RS)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new regulation will include the requirements for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approval of retrofit syst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ended to be installed on a heavy duty diesel vehicle to enable its operation either in diesel mode or in dual-fuel mode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Euro V and EEV vehicles will be included in this release of the regulation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4" marL="914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Tijdelijke aanduiding voor voettekst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336666"/>
                </a:solidFill>
                <a:latin typeface="Arial"/>
              </a:rPr>
              <a:t>GFV report 72nd GRPE 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GFV ite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ijdelijke aanduiding voor dianumm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DB38-1324-48B0-A6AE-00F12A41FB2D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468360" y="1700280"/>
            <a:ext cx="8364600" cy="410508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us of the new HDDF retrofit system (HDDF-RS) regulation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informal document available for the GRPE to review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l Document GRPE-72-1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aft proposal is the result of developments in the GFV informal group and the work done in the heavy duty dual-fuel task force (HDDF-TF)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(mainly administrative) provisions still need to be finalized. Those parts are marked in the document with a grey font color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FV intends to submit a working document for the 73rd session of GRPE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4" marL="91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Tijdelijke aanduiding voor voettekst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336666"/>
                </a:solidFill>
                <a:latin typeface="Arial"/>
              </a:rPr>
              <a:t>GFV report 72nd GRPE 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GFV ite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ijdelijke aanduiding voor dianumm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3F5A-8F07-4614-B452-39958912303A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68360" y="1700280"/>
            <a:ext cx="8364600" cy="36036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DDF retrofit type approval proces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E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gine Retrofit System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tensions and actual application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stallation manual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tional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complete installation of all gas components/systems on the vehicles to be checked by the national authority based on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CE Regulations on HDDF-RS (retrofit systems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missions (new)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CE Regulation R110 (CNG/LNG) and R67(LPG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fety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1" name="Tijdelijke aanduiding voor voettekst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336666"/>
                </a:solidFill>
                <a:latin typeface="Arial"/>
              </a:rPr>
              <a:t>GFV report 72nd GRPE 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GFV ite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264d4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jdelijke aanduiding voor dianumm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A589-7FE7-47DA-8626-D3F80FD1E4AD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468360" y="1700280"/>
            <a:ext cx="8364600" cy="36036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DDF engine retrofit type approval proces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mission Tests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nitial Type Approval: Engine test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- Type Approval extension: Simplified test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implified test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Back-to-back comparison between a test in diesel mode and a test in dual-fuel mode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Measurement on an engine test bench, on a chassis dyno or on the road at the choice of the manufacturer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Discussion on the simplified test methods  and specifically on chassis dyno testing is still ongoing.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6" name="Tijdelijke aanduiding voor voettekst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336666"/>
                </a:solidFill>
                <a:latin typeface="Arial"/>
              </a:rPr>
              <a:t>GFV report 72nd GRPE 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GFV ite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28036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ijdelijke aanduiding voor dianumm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60BA-1B62-468C-82DC-918D48557949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619280" y="1339920"/>
            <a:ext cx="7356600" cy="36036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DDF engine retrofit system family and application range (AR)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Tijdelijke aanduiding voor voettekst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336666"/>
                </a:solidFill>
                <a:latin typeface="Arial"/>
              </a:rPr>
              <a:t>GFV report 72nd GRPE 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1247760" y="1700280"/>
            <a:ext cx="6202440" cy="4537080"/>
          </a:xfrm>
          <a:prstGeom prst="rect">
            <a:avLst/>
          </a:prstGeom>
          <a:ln w="0">
            <a:noFill/>
          </a:ln>
        </p:spPr>
      </p:pic>
      <p:sp>
        <p:nvSpPr>
          <p:cNvPr id="223" name="Ovaal 2"/>
          <p:cNvSpPr/>
          <p:nvPr/>
        </p:nvSpPr>
        <p:spPr>
          <a:xfrm>
            <a:off x="1476360" y="3645000"/>
            <a:ext cx="1089000" cy="1119240"/>
          </a:xfrm>
          <a:prstGeom prst="ellipse">
            <a:avLst/>
          </a:prstGeom>
          <a:noFill/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Ovaal 3"/>
          <p:cNvSpPr/>
          <p:nvPr/>
        </p:nvSpPr>
        <p:spPr>
          <a:xfrm>
            <a:off x="2455920" y="3646440"/>
            <a:ext cx="1011240" cy="1117800"/>
          </a:xfrm>
          <a:prstGeom prst="ellipse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3448080" y="3646440"/>
            <a:ext cx="1036440" cy="1146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3"/>
          <a:stretch/>
        </p:blipFill>
        <p:spPr>
          <a:xfrm>
            <a:off x="4351320" y="3646440"/>
            <a:ext cx="1036800" cy="1146240"/>
          </a:xfrm>
          <a:prstGeom prst="rect">
            <a:avLst/>
          </a:prstGeom>
          <a:ln w="0">
            <a:noFill/>
          </a:ln>
        </p:spPr>
      </p:pic>
      <p:sp>
        <p:nvSpPr>
          <p:cNvPr id="227" name="Ovaal 15"/>
          <p:cNvSpPr/>
          <p:nvPr/>
        </p:nvSpPr>
        <p:spPr>
          <a:xfrm>
            <a:off x="5297400" y="3673440"/>
            <a:ext cx="1090800" cy="1119240"/>
          </a:xfrm>
          <a:prstGeom prst="ellipse">
            <a:avLst/>
          </a:prstGeom>
          <a:noFill/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4"/>
          <a:stretch/>
        </p:blipFill>
        <p:spPr>
          <a:xfrm>
            <a:off x="6156360" y="3684600"/>
            <a:ext cx="1127160" cy="1152360"/>
          </a:xfrm>
          <a:prstGeom prst="rect">
            <a:avLst/>
          </a:prstGeom>
          <a:ln w="0">
            <a:noFill/>
          </a:ln>
        </p:spPr>
      </p:pic>
      <p:sp>
        <p:nvSpPr>
          <p:cNvPr id="229" name="Ovaal 17"/>
          <p:cNvSpPr/>
          <p:nvPr/>
        </p:nvSpPr>
        <p:spPr>
          <a:xfrm>
            <a:off x="1574640" y="4745160"/>
            <a:ext cx="863640" cy="792000"/>
          </a:xfrm>
          <a:prstGeom prst="ellipse">
            <a:avLst/>
          </a:prstGeom>
          <a:noFill/>
          <a:ln w="34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0" name="Ovaal 18"/>
          <p:cNvSpPr/>
          <p:nvPr/>
        </p:nvSpPr>
        <p:spPr>
          <a:xfrm>
            <a:off x="4441680" y="5138640"/>
            <a:ext cx="865440" cy="792360"/>
          </a:xfrm>
          <a:prstGeom prst="ellipse">
            <a:avLst/>
          </a:prstGeom>
          <a:noFill/>
          <a:ln w="34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1" name="Tekstvak 4"/>
          <p:cNvSpPr/>
          <p:nvPr/>
        </p:nvSpPr>
        <p:spPr>
          <a:xfrm>
            <a:off x="623880" y="285264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T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2" name="Rechte verbindingslijn 6"/>
          <p:cNvSpPr/>
          <p:nvPr/>
        </p:nvSpPr>
        <p:spPr>
          <a:xfrm flipH="1" flipV="1">
            <a:off x="1042560" y="3222720"/>
            <a:ext cx="531720" cy="745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233" name="Rechte verbindingslijn met pijl 8"/>
          <p:cNvCxnSpPr/>
          <p:nvPr/>
        </p:nvCxnSpPr>
        <p:spPr>
          <a:xfrm>
            <a:off x="2654280" y="3428640"/>
            <a:ext cx="3388320" cy="45000"/>
          </a:xfrm>
          <a:prstGeom prst="straightConnector1">
            <a:avLst/>
          </a:prstGeom>
          <a:ln w="507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234" name="Tekstvak 9"/>
          <p:cNvSpPr/>
          <p:nvPr/>
        </p:nvSpPr>
        <p:spPr>
          <a:xfrm>
            <a:off x="3338640" y="320976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TA extension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235" name="Rechte verbindingslijn met pijl 11"/>
          <p:cNvCxnSpPr/>
          <p:nvPr/>
        </p:nvCxnSpPr>
        <p:spPr>
          <a:xfrm>
            <a:off x="7449840" y="3968280"/>
            <a:ext cx="1080" cy="1693080"/>
          </a:xfrm>
          <a:prstGeom prst="straightConnector1">
            <a:avLst/>
          </a:prstGeom>
          <a:ln w="50760">
            <a:solidFill>
              <a:srgbClr val="007033"/>
            </a:solidFill>
            <a:miter/>
            <a:tailEnd len="med" type="arrow" w="med"/>
          </a:ln>
        </p:spPr>
      </p:cxnSp>
      <p:sp>
        <p:nvSpPr>
          <p:cNvPr id="236" name="Tekstvak 12"/>
          <p:cNvSpPr/>
          <p:nvPr/>
        </p:nvSpPr>
        <p:spPr>
          <a:xfrm rot="16200000">
            <a:off x="6336360" y="37486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Conformity</a:t>
            </a: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of productio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GFV ite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ijdelijke aanduiding voor dianumm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54F1-E77C-4297-95BC-DEC0E2185F07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tretch/>
        </p:blipFill>
        <p:spPr>
          <a:xfrm>
            <a:off x="463680" y="1695600"/>
            <a:ext cx="8375400" cy="371160"/>
          </a:xfrm>
          <a:prstGeom prst="rect">
            <a:avLst/>
          </a:prstGeom>
          <a:ln w="0">
            <a:noFill/>
          </a:ln>
        </p:spPr>
      </p:pic>
      <p:sp>
        <p:nvSpPr>
          <p:cNvPr id="240" name="Tijdelijke aanduiding voor voettekst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336666"/>
                </a:solidFill>
                <a:latin typeface="Arial"/>
              </a:rPr>
              <a:t>GFV report 72nd GRPE 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41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407880" y="2279520"/>
            <a:ext cx="81266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GFV ite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ijdelijke aanduiding voor dianumm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0F75-7256-4E04-BD4D-8722403E6FA0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68360" y="1700280"/>
            <a:ext cx="8364600" cy="453708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HHF-R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4" marL="91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ing/roadma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FV intends to submit a working document for the 73rd session of GRPE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anuary 2016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72- GRPE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formal document (GRPE-72-12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une 2016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73- GRPE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orking document (planned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vember 2016 WP.29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P.29 document (anticipated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4" marL="91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6" name="Tijdelijke aanduiding voor voettekst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336666"/>
                </a:solidFill>
                <a:latin typeface="Arial"/>
              </a:rPr>
              <a:t>GFV report 72nd GRPE 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00:33Z</dcterms:created>
  <dc:creator>rijnders</dc:creator>
  <dc:description/>
  <dc:language>en-US</dc:language>
  <cp:lastModifiedBy>United Nations</cp:lastModifiedBy>
  <dcterms:modified xsi:type="dcterms:W3CDTF">2016-01-14T16:57:33Z</dcterms:modified>
  <cp:revision>236</cp:revision>
  <dc:subject/>
  <dc:title>Informal Group on Gaseous Fuelled Vehicles (GFV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Date">
    <vt:lpwstr>14-1-2015 10:01:19</vt:lpwstr>
  </property>
</Properties>
</file>