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8.png" ContentType="image/png"/>
  <Override PartName="/ppt/media/image1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EE12-BC7D-4FBB-BC1C-0E87B483DFEA}" type="datetime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C3A3-B1B2-4042-B72C-2228CD8FC318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256F-895D-4142-90F1-4A3E32B8C643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C8B6-9F5C-4E35-A919-69387C08B9FD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F44B-426B-40D5-B3B7-8CE26F31B714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B1F2-1443-4B0D-A7CD-3FBB0DF0B913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0ABD-061D-4E6F-AD3B-C1FFE7969F33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58CD-AD9D-4328-8884-7F9D38C6BAE4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B9FE-5955-45FD-B4BD-FCF23B9B0EBF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261A-7816-4FD6-BB89-5ED0B2C2111B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1DB9-4F95-4D94-9B9A-A6443D5DDE3B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E80E-D032-4D4F-9852-BDC63E563CE0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2138-926F-4BC8-9060-92761B6C9A0F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70D6-7E0A-4CD4-8A37-A50BDEA1E415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5E88-B00E-42EC-8480-18C0F6FECDAA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B371-4964-474A-8229-DB91837E7CDB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47FF-D9CE-4467-AEBB-6020CC1FCE8A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B644-100C-4B1E-87D4-73E108013703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0D82-B29B-48FE-8547-04C7A40F0929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71F2-F630-4BAE-9074-F6059E92CCDE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D9E6-32AB-4B50-B9AB-F86526A61610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EF2F-FDFD-49C9-8487-0D6E47DF7299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B69C-BA8F-4D3B-8500-AF7C68120104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3F0B-3DD5-4476-B83F-654C852FD9B8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A80E-80CA-4A73-AD5D-150B467072AA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4F89-1719-4309-A8C7-9C49895125DE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33B-4E87-4CE1-80E7-9B58CFA920A0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4BAE-1CDC-421C-A1DF-258D166CFF95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36D7-3A40-4A64-9F25-1DCB1A54EF3E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80F5-8EAF-47F3-B55D-5C8260EC3A54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6F8E-B469-478A-8F10-C8C18F78376C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19D-A585-4805-B034-7198D009E138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5C21-F53D-4067-B44A-43B05A4916CA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992B-F40B-4377-B172-3AEDBF5E4031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528F-466E-4B94-BCBD-3BBFF7EBC1A1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E8A-C97C-4F50-BB8A-D9A5A369A40C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CC9C-4942-448E-96C7-DC07E875D8D3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6EEA-E4A4-4FFB-A563-03D1B3978A53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7354-5C8C-4D21-9CA1-7C1165EDF402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F5C9-8DB6-4A63-9CF8-AD98DD8D79D9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A128-7CE2-4E6D-BFDC-3693B7EEAF15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1790-DC27-4B1E-A981-BD2A79E38815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608D-5022-4BD2-9A87-89763F3396BD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E484-BC30-4BB5-89FE-8463966D46F8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D7C5-4CD9-4CF2-AC57-DACC51F98D16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CE08-99DB-4A64-ADF0-ABF2BF96918B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F9F2-29A8-4905-970B-6BD734F39391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C69A-7E08-4615-A250-B59103DD604C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4E6F-59F7-4650-ABE6-214A84976663}" type="datetime">
              <a:rPr b="0" lang="de-CH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cocodrillot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B529-B5C0-420A-9625-CDA5CF4E5115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309-2A47-44F7-946D-7E416413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642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3916440"/>
            <a:ext cx="8642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5EE-FBF7-482C-8DCD-1F31AF5B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391644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91644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EBA-5482-4E7A-85CB-BEFEE384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45692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45692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391644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391644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391644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B63-5770-4105-92A6-EFE1C4D0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DC84-FA9D-4094-BC8E-BB80529A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45692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1120-E108-49BB-B9D3-A4026C8B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C491-C71E-4DF3-A651-EAE88743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DD48-2B2D-4811-B88E-52BBE67B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DEE6-4631-41BF-ABB6-ED4E0AE4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639880" y="188640"/>
            <a:ext cx="625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9E35-BAAD-4C8E-9A50-1B5B3480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391644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9B4B-1727-4FAF-8796-C1F902E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45692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3FF-F07E-471C-B3B5-49BAFA3D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91644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EED2-5BA5-4F62-98CC-9790560D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916440"/>
            <a:ext cx="8642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D935-B14C-47E1-99EB-D33A01F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642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920" y="3916440"/>
            <a:ext cx="8642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278E-1579-4C77-9DB6-A5204833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920" y="391644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91644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B36C-7967-4936-8578-89865604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3040" y="145692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0" y="145692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920" y="391644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3040" y="391644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4800" y="3916440"/>
            <a:ext cx="27824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8EB0-71DB-48F4-86EC-2E04DFD5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C25-6C1B-49C2-B346-C7AC246E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ED2-F2A5-46E9-BE10-12DF7DB5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323-182F-49C0-8512-CF7F27F5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39880" y="188640"/>
            <a:ext cx="6253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331-1352-44D1-8E28-49083B78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391644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035-0DA5-4CA7-BB24-9B6CF8B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91644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E6A-3893-473C-8AA9-3777FAC7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456920"/>
            <a:ext cx="42170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3916440"/>
            <a:ext cx="86421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E00-28E1-4336-A127-C99AFFB1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5692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2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thor (foot no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Title of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BC50-B3A9-4D56-AFA0-FB2975E9B22B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16080" y="200160"/>
            <a:ext cx="1793880" cy="91728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79280" y="623736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179280" y="134136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969840" y="1417680"/>
            <a:ext cx="4973760" cy="2544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39880" y="188640"/>
            <a:ext cx="62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0920" y="145692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thor (foot no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Title of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6DB7-DF7E-40F2-8765-1C06F67DFABF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04960" y="725040"/>
            <a:ext cx="5181480" cy="14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raffic noise an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motorway pavem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59280" y="5486400"/>
            <a:ext cx="4319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W. Alberts, CEDR Road Nois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Geneva, 28.01.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250920" y="93600"/>
            <a:ext cx="24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Transmitted by the Co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of European Directors of Roa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6161760" y="80640"/>
            <a:ext cx="238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 u="sng">
                <a:solidFill>
                  <a:srgbClr val="000000"/>
                </a:solidFill>
                <a:uFillTx/>
                <a:latin typeface="Arial"/>
              </a:rPr>
              <a:t>Informal document</a:t>
            </a: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TT" sz="1200" spc="-1" strike="noStrike">
                <a:solidFill>
                  <a:srgbClr val="000000"/>
                </a:solidFill>
                <a:latin typeface="Arial"/>
              </a:rPr>
              <a:t>GRB-61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(61st GRB, 27-29 January 201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TT" sz="1200" spc="-1" strike="noStrike">
                <a:solidFill>
                  <a:srgbClr val="000000"/>
                </a:solidFill>
                <a:latin typeface="Arial"/>
              </a:rPr>
              <a:t>agenda item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16E-225D-448F-8F89-E4B451FE5CCC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Road traffic noi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333360" y="1530360"/>
            <a:ext cx="8353440" cy="4541760"/>
          </a:xfrm>
          <a:prstGeom prst="rect">
            <a:avLst/>
          </a:prstGeom>
          <a:ln w="0">
            <a:noFill/>
          </a:ln>
        </p:spPr>
      </p:pic>
      <p:sp>
        <p:nvSpPr>
          <p:cNvPr id="144" name="Oval 7"/>
          <p:cNvSpPr/>
          <p:nvPr/>
        </p:nvSpPr>
        <p:spPr>
          <a:xfrm>
            <a:off x="5495760" y="2371680"/>
            <a:ext cx="1467000" cy="79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F6CC-C3F5-4110-8B35-02018DC3273B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Road: lay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oad has several layers (cour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oad noise the surface layer (pavement)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layer consists of aggregates (stones) bound together with bitumen (asph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469800" y="1843200"/>
            <a:ext cx="610560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affic n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E4B7-9258-403F-B956-D0F7FDECEAF5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Pavem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motorway pavement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avements differ for functional aspects like lifetime, costs, noise reduction and driver comfort (splash and spr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pavements meet MS standards for skid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8" descr=""/>
          <p:cNvPicPr/>
          <p:nvPr/>
        </p:nvPicPr>
        <p:blipFill>
          <a:blip r:embed="rId1"/>
          <a:stretch/>
        </p:blipFill>
        <p:spPr>
          <a:xfrm>
            <a:off x="2889360" y="2006640"/>
            <a:ext cx="213984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6613-4BC8-4118-B537-65AE1C315D20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69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Pavements: u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ements on motorways in CEDR MS (in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 and SMA are preferred pavements in most CEDR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94" descr=""/>
          <p:cNvPicPr/>
          <p:nvPr/>
        </p:nvPicPr>
        <p:blipFill>
          <a:blip r:embed="rId1"/>
          <a:stretch/>
        </p:blipFill>
        <p:spPr>
          <a:xfrm>
            <a:off x="719280" y="2014560"/>
            <a:ext cx="7726320" cy="11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54E6-ABCB-41E6-B86F-68E50CC5EE40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69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Pavements: u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62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ements on motorways in CEDR MS (in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 and SMA are preferred pavements in most CEDR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reducing pavements like PA, TL and TLPA are used in some CEDR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1" descr=""/>
          <p:cNvPicPr/>
          <p:nvPr/>
        </p:nvPicPr>
        <p:blipFill>
          <a:blip r:embed="rId1"/>
          <a:stretch/>
        </p:blipFill>
        <p:spPr>
          <a:xfrm>
            <a:off x="719280" y="2014560"/>
            <a:ext cx="7726320" cy="11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430D-89FC-4F6C-BC81-750292DCB97D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Pavements: noi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noise reduction (in dB, MS standard pavement is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9" descr=""/>
          <p:cNvPicPr/>
          <p:nvPr/>
        </p:nvPicPr>
        <p:blipFill>
          <a:blip r:embed="rId1"/>
          <a:stretch/>
        </p:blipFill>
        <p:spPr>
          <a:xfrm>
            <a:off x="719280" y="2014560"/>
            <a:ext cx="6122880" cy="11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0FCE-376A-4211-BFC5-22A2E3C8EB25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Pavements: noi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noise reduction (in 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7" descr=""/>
          <p:cNvPicPr/>
          <p:nvPr/>
        </p:nvPicPr>
        <p:blipFill>
          <a:blip r:embed="rId1"/>
          <a:stretch/>
        </p:blipFill>
        <p:spPr>
          <a:xfrm>
            <a:off x="719280" y="2014560"/>
            <a:ext cx="6975360" cy="11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F603-9E8E-4EFC-BC47-53CF4D1A4075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Pavements: noi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noise reduction (in 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from much used pavements (DAC/SMA) to noise reducing pavements (PA/TL) reduces noise with 2 to 3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ifetime noise reduction is less than initial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ustic properties of pavements are covered in regulation and noise calculation model in CEDR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ation at EU level (END and CNOSSOS-E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7" descr=""/>
          <p:cNvPicPr/>
          <p:nvPr/>
        </p:nvPicPr>
        <p:blipFill>
          <a:blip r:embed="rId1"/>
          <a:stretch/>
        </p:blipFill>
        <p:spPr>
          <a:xfrm>
            <a:off x="719280" y="2014560"/>
            <a:ext cx="6975360" cy="11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4458-D4FB-43D6-8F39-2A079ED1EA00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Pavements: lifeti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2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time (average in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time of noise reducing pavements is less than lifetime of non-noise reducing pa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20720" y="2016000"/>
          <a:ext cx="8001000" cy="1133640"/>
        </p:xfrm>
        <a:graphic>
          <a:graphicData uri="http://schemas.openxmlformats.org/drawingml/2006/table">
            <a:tbl>
              <a:tblPr/>
              <a:tblGrid>
                <a:gridCol w="162576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203040"/>
                <a:gridCol w="609840"/>
                <a:gridCol w="609480"/>
              </a:tblGrid>
              <a:tr h="16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PAVEMENT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e Asphalt Concr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Mastic Asph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ment Concre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ous Asph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 Lay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Layer Porous Asph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5588-FD61-434E-A056-3D77E2F2FCDB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Pavements: costs#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in investment costs (EUR/m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information and wide range of all-in investm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ment costs of noise reducing pavements is higher than costs of non-noise reducing pa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719280" y="2014560"/>
            <a:ext cx="6414840" cy="11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2087-1FF1-4A87-BB8D-703E4495CCB1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8" descr="Big_veenweg%20nieuw%20dordrecht"/>
          <p:cNvPicPr/>
          <p:nvPr/>
        </p:nvPicPr>
        <p:blipFill>
          <a:blip r:embed="rId1"/>
          <a:stretch/>
        </p:blipFill>
        <p:spPr>
          <a:xfrm>
            <a:off x="4554360" y="1533600"/>
            <a:ext cx="3768840" cy="461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228600" y="15145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 n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0E3-4BD8-46A5-9A64-1D1024FEF2AE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Pavements: costs#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in maintenance costs (EUR/m2/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itt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maintenance costs of noise reducing pavements is  more or less comparable with costs of most non-noise reducing pa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1"/>
          <a:stretch/>
        </p:blipFill>
        <p:spPr>
          <a:xfrm>
            <a:off x="719280" y="2014560"/>
            <a:ext cx="5211720" cy="11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A6BD-0E6E-4857-A507-43080BB36E2B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567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standard pavement on motorway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se of pavements is based on NRA policy and CEDR MS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reason for using a pavement: costs and lif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aints like winter circumstances limit the choice of pav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3412-5D04-4523-8EE3-079ED4AFEE15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567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ing the use of noise reducing pa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EDR MS use noise reducing pa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coustic hot spots to lower nois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se reducing pavements are more cost-effective than noise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se reducing pavements lower noise levels with 2 to 3 dB (max. 6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overestimate the possibilities of using noise reducing pa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49C0-BFC4-4150-A235-591C54C5BF34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Final remark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st way to lower traffic noise levels is by reducing nois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domains in traffic noise production: vehicles, tyres and pa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traffic noise produc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 shared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DR, its NRAs and the paving industry are doing a lot of research to improve noise reducing pav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EU level CEDR is working on cooperation with the other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866A-0CB4-48C0-98CE-8ABE6FFFC42F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ANK YOU FOR YOUR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EB4C-C54A-4788-99BE-12576C6D001A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s on use, noise, lifetime and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s and final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406C-0BE8-476E-A946-C60BB5DB0065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nform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ements used on motorways in Europe and their noise reduction, lifetime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02E9-1F3E-4850-8F5B-947D7641AE09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EDR: profi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CED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ference of European Directors of Roads (CEDR) is a forum for the discussion and promotion of improvements to the road system and its 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represent their national road authorities (NRAs)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ere are 27 CEDR member states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98DA-E7EE-49B7-9053-9BEB9FBD749C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EDR: mis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future developments of the roa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mote international networks of personal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 platform for responding to comm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 strong involvement in EU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existing representations in internation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use of the results of common understa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5AC6-15FF-4D0C-BB18-ED48C9E4E0BD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EDR: struc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971640" y="1486080"/>
            <a:ext cx="7388280" cy="4543200"/>
          </a:xfrm>
          <a:prstGeom prst="rect">
            <a:avLst/>
          </a:prstGeom>
          <a:ln w="0">
            <a:noFill/>
          </a:ln>
        </p:spPr>
      </p:pic>
      <p:sp>
        <p:nvSpPr>
          <p:cNvPr id="128" name="Oval 10"/>
          <p:cNvSpPr/>
          <p:nvPr/>
        </p:nvSpPr>
        <p:spPr>
          <a:xfrm>
            <a:off x="1695600" y="4486320"/>
            <a:ext cx="1647720" cy="59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BAB9-0575-4A58-A686-1786C54134EC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EDR: Road Noi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main goals of CEDR Road Noise 2013-2017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noise quality in close proximity to roa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502128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costs in planning, building, maintaining and researching roa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87480" y="6257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. Alb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2485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Traffic noise and motorway pa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07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A59C-D0B2-4137-AC78-4B887DD0C98C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00400" y="22860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Road traffic noi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333360" y="1530360"/>
            <a:ext cx="8353440" cy="454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6:16:24Z</dcterms:created>
  <dc:creator>Michel Egger</dc:creator>
  <dc:description/>
  <dc:language>en-US</dc:language>
  <cp:lastModifiedBy>Konstantin Glukhenkiy</cp:lastModifiedBy>
  <dcterms:modified xsi:type="dcterms:W3CDTF">2015-01-29T15:16:29Z</dcterms:modified>
  <cp:revision>359</cp:revision>
  <dc:subject/>
  <dc:title>Slide 1</dc:title>
</cp:coreProperties>
</file>