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11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Img"/>
          </p:nvPr>
        </p:nvSpPr>
        <p:spPr>
          <a:xfrm>
            <a:off x="90792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259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12"/>
          </p:nvPr>
        </p:nvSpPr>
        <p:spPr>
          <a:xfrm>
            <a:off x="-360" y="943128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 type="sldNum" idx="13"/>
          </p:nvPr>
        </p:nvSpPr>
        <p:spPr>
          <a:xfrm>
            <a:off x="3839760" y="943128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2382-5A2B-43A4-B347-90F826B26542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0"/>
          <p:cNvSpPr/>
          <p:nvPr/>
        </p:nvSpPr>
        <p:spPr>
          <a:xfrm>
            <a:off x="3840120" y="942984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B6F9-66DB-4B6D-8EB7-80774E91023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"/>
          <p:cNvSpPr/>
          <p:nvPr/>
        </p:nvSpPr>
        <p:spPr>
          <a:xfrm>
            <a:off x="1130400" y="746280"/>
            <a:ext cx="451800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677520" y="4716360"/>
            <a:ext cx="542124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6"/>
          <p:cNvSpPr/>
          <p:nvPr/>
        </p:nvSpPr>
        <p:spPr>
          <a:xfrm>
            <a:off x="0" y="943128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26-27 January 2011                    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840120" y="943128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6B76-F6DE-4DD3-8027-8EA58618193D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0792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259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2AB9-69B4-41E4-B5FA-35DA0C2ED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DB70-E704-415B-9CC7-C6F8C8FA0EE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754C7-32A6-41AA-9286-017F7DAA8A0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CBF2A-6C55-42AC-ACE9-3E29EC6D5AA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761D3-6730-4CDB-A340-42532A4CCA2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97139-0D09-46EF-B762-676FE6312E8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5636B-B7B4-4F7C-AFE3-44EF24D4EDE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182C0-34E3-48F6-8501-45E2BC4E077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B4231-4A55-4EB7-8474-6E92CD5C760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0748B-477F-497C-B0C3-5986D24D132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5E330-1EEC-4E3C-AE4F-6CC7C90E30E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288FA7-5BF5-4293-B824-155BC05EF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8C2C-BD54-4546-A59A-6418EC55E3C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CD5A2-8E60-465E-A029-9AF00EF037B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08EFA7-4173-4E07-9863-AF31EF1FB88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6DBE3-8CD7-4369-8D10-257B91FBD29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06B8FC-AA12-48D8-962A-8234D70084F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24A9D7-35C6-45BB-8B1E-B441DE6022E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EEFDC-485D-4182-9CE1-5CEB1431F36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B2BFED-9EA9-454F-B345-9E92B2C1AD9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948718-FE98-4F6B-AC46-9C24EBB4E04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25EB53-8D7D-4EE5-B176-FDE7B76A94A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7361AD-6CB7-4290-8759-3B8C52C1C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0FAF-11B7-47F0-BE3A-7D0AA9DB3B0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328FA-1AA9-4D9A-882C-19953568155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D95A-B690-401C-B84D-F4FFD4CEB63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F4E6-19DE-4D0F-B3E3-672A6FA8C1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39489-D008-43F8-BDC9-D9FA61C9F5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93A1-7C1A-42E0-828F-D3C91D5A95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CE8D4-0F76-4DDD-9A44-C9C38715E3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8A553-E8E4-4CBE-83A6-8B2C77E7B1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C559-41CA-4F9B-8F71-D3D7AED986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F566-D009-447E-B41E-E7D7FCC74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A625-7501-43C7-8312-F148022FDD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A879A-6311-40B6-8124-7FDBD4C077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01C77-19C6-4FC4-B0F3-250921016A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ECC63-4F2B-413F-8447-25D94911B1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7267A-90CF-4596-9462-F873B282F0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813-D9AF-412D-8FF1-4E85B88B63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C60-8D9B-4975-A0A8-DADF5C8CFF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5D8-E547-460E-A239-98A4D531EB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210-1A05-4F25-97F0-8E33C0FFF8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081-9E5D-49C0-A30C-13346EC9E8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34FD-4BD1-405C-9B9A-318DCDC2F9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47F-213F-4845-9498-4D4BB1D55A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17F-65C5-4871-B88E-5FF76A783C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41D-20D4-4A78-B6EF-47DC39E114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9B1-4837-484B-9BDC-CC4365EE93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F22-769B-4FC0-8A03-786C77B2D0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C18-9A3F-4722-99FC-C7D94E4AA7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8CA-C998-4E66-B87A-483A4A05AB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B365C-919B-4573-A0A0-EE53089838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D3A76-B3DA-42DB-9B09-524AC24DFD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61412-5AAA-45A1-B488-84D4AAFAB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7D96-3075-4CBC-A2CF-CEBBDA0C77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26F5F-732C-49A6-AE5F-40E09E2DEC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33F07-268F-462F-AC2A-7F8D8FF9CA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38CF9-13A0-4262-B075-F3BE99C134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D91D9-A71A-4C3E-B798-BC62FE28AF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7325E-9447-47A2-952A-24BB13B167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A1F75-0D98-4101-A42E-39B7097612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089FC-FC30-482D-B706-93553E957E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E9063-87E9-4B5A-91FA-F3CE8B965F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CCEFF-14A8-4367-9872-FD6AD7548F4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55101-BE24-41FF-8F97-A8D11F7A5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9ADB-6592-4C1A-A507-7B136D09C33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E89A4-FF94-4A2D-8EC4-A3906DAC889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ACF0A-0D49-441F-9984-88BE710642C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747CA-5D34-4AD8-A638-5E586EEF9AF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F7B05-39B4-49C0-A0A3-C3E6A2E2A8B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02CF9-B3F7-4275-8D83-510826EE0AC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9DD8E-B29F-4B3B-B9E6-A88A8883657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28238-EB55-4585-B893-5958EF713C8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889C7-6638-46B3-945D-DF7CC3715A3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0AB04-7909-4822-9AFD-F120F62CBA8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2FCFF-910B-4C6D-87FB-73A5AF0F5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8333-4849-4FA1-BB09-F041A6D6D7D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7ACCF-257D-4224-B724-97700072BD4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CE6F-C343-4FAA-80E3-9A871826B50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7A41-AD14-450C-98A8-239643E269A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9335-E7D8-4629-974E-81D8A8025D6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7595-68EF-4457-8896-FB2E84DFF3B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0BCD-5245-4D84-9AAC-EE360C17B97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7936-013F-4833-B54A-4ADE929B808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8E01-3912-45B0-A79E-7443DD71F0F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B5C9-DDC4-4880-BEA6-36BD90732D2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55F7-4D02-4F1D-9E7F-344B41548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150D-4A59-420E-86C5-F069CF6A382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53B9-F00D-40BB-AF51-0AE04AB73F7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92D6-AFED-4CE7-8965-D60C08602D9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5781-062C-4A96-A5A7-DB68B2D03D8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B8B526-5A58-466A-936D-5903E90F43C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F99E0A-E361-40A3-B3EA-8C365022852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32CD15-E564-4AF6-9054-BF6715FD9BE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A7CE15-5E8C-4052-AB31-35CE7D5BF0B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FE2CFF-4046-41C6-8E78-D94D056603D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0BA007-01DB-4B9A-856E-0AAF9FD3BAB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E3AAFF-56F2-49BF-9276-88C3E9943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E188-6CE4-4669-AB95-63F7E49C9D2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D088DB-A85A-44FF-90C4-05ADF057D26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ED464E-4162-46A1-9231-8683CE683D9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C137E6-CF2B-48E4-99F3-C7BF7D3194B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877359-BE94-4217-A21E-8F790133A81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01A128-8907-4E00-B06B-4072AFAD5EF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2AFF8-AF66-44A0-8F5F-C8F763E8F19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D9D8E-A298-46DE-97D4-46D48ADDB2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B6291-3D73-4F5B-9894-37A85D42F19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96C26-0AC8-4F4C-828C-C94483E6473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8077E-056D-486D-8D22-232B6D128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4199-083C-450F-874C-24E71D41F83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29407-10A7-4CC4-B948-7E00A03056B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63FEC-11B3-44E9-AD1C-ACD3ED89F21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D906B-5E18-4647-BF80-1B1C044C8E5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E2850-1EBC-48E0-9578-A658264E3D8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76BB9-775B-469B-9329-6BDCFB91533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82EF5-568C-4F5C-84B3-58E7809CB6D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1422A-1136-40FD-A4CC-053B66DA8A6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0096-8C25-4286-BFE6-4770FFF46EF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5FE8-5AFC-4095-A813-60FFB62B1BE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9564C-063E-4991-B885-806FB3135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D698-4F51-4957-A389-E4BD74DC4AF3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10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52A4-D2EF-405E-968A-04E7B987C69D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FA46-FBC9-4CA6-B0A1-D48F4A0622A8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4C89-314F-44C8-8D8E-F8C7DFFD9686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4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E2EF-D4BA-4B0E-8098-C645DA043152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5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7D18-DFD5-4E4C-A925-7052E719E877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6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3CCD-2ABE-4F9F-A9D0-B82750EB9A0A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7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B912-0851-4344-A855-1B925945AC76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8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48BD-ACF8-4815-A413-25383780031C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9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250A-DE62-4CBE-8977-6B0EE99FFFB4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5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2082960" y="154080"/>
            <a:ext cx="673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Franklin Gothic Medium"/>
              </a:rPr>
              <a:t>Ministry of Transport, Maritime Affairs and Communications of the Republic of Tur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1160" y="44784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rmodality leads to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 workshop for the Working Party on Intermodal Transport &amp; Logistics (WP.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1547640" y="5516640"/>
            <a:ext cx="607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70c0"/>
                </a:solidFill>
                <a:latin typeface="Arial"/>
              </a:rPr>
              <a:t>Bülent SÜLOĞ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70c0"/>
                </a:solidFill>
                <a:latin typeface="Arial"/>
              </a:rPr>
              <a:t>Exp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tr-TR" sz="1600" spc="-1" strike="noStrike">
                <a:solidFill>
                  <a:srgbClr val="0070c0"/>
                </a:solidFill>
                <a:latin typeface="Arial"/>
              </a:rPr>
              <a:t>DG for Dangerous Goods and Combined Transport</a:t>
            </a:r>
            <a:r>
              <a:rPr b="1" lang="tr-TR" sz="1600" spc="-1" strike="noStrike">
                <a:solidFill>
                  <a:srgbClr val="5a3641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5a3641"/>
                </a:solidFill>
                <a:latin typeface="Arial"/>
              </a:rPr>
              <a:t>Geneva, 30 November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1 Resim" descr="logo4.png"/>
          <p:cNvPicPr/>
          <p:nvPr/>
        </p:nvPicPr>
        <p:blipFill>
          <a:blip r:embed="rId1"/>
          <a:stretch/>
        </p:blipFill>
        <p:spPr>
          <a:xfrm>
            <a:off x="204840" y="90360"/>
            <a:ext cx="1878120" cy="679680"/>
          </a:xfrm>
          <a:prstGeom prst="rect">
            <a:avLst/>
          </a:prstGeom>
          <a:ln w="0">
            <a:noFill/>
          </a:ln>
        </p:spPr>
      </p:pic>
      <p:pic>
        <p:nvPicPr>
          <p:cNvPr id="450" name="Resim 1" descr=""/>
          <p:cNvPicPr/>
          <p:nvPr/>
        </p:nvPicPr>
        <p:blipFill>
          <a:blip r:embed="rId2"/>
          <a:stretch/>
        </p:blipFill>
        <p:spPr>
          <a:xfrm>
            <a:off x="755640" y="1049400"/>
            <a:ext cx="7777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lbertus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c00000"/>
                </a:solidFill>
                <a:latin typeface="Albertus"/>
              </a:rPr>
              <a:t>Bülent SÜLOĞL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c00000"/>
                </a:solidFill>
                <a:latin typeface="Albertus"/>
              </a:rPr>
              <a:t>Expe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DG for Dangerous Goods and Combined 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Turkish Ministry of Transport, Maritime Affair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94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1 Resim" descr="logo4.png"/>
          <p:cNvPicPr/>
          <p:nvPr/>
        </p:nvPicPr>
        <p:blipFill>
          <a:blip r:embed="rId1"/>
          <a:stretch/>
        </p:blipFill>
        <p:spPr>
          <a:xfrm>
            <a:off x="228600" y="147600"/>
            <a:ext cx="1589040" cy="576360"/>
          </a:xfrm>
          <a:prstGeom prst="rect">
            <a:avLst/>
          </a:prstGeom>
          <a:ln w="0">
            <a:noFill/>
          </a:ln>
        </p:spPr>
      </p:pic>
      <p:sp>
        <p:nvSpPr>
          <p:cNvPr id="452" name="Metin kutusu 20"/>
          <p:cNvSpPr/>
          <p:nvPr/>
        </p:nvSpPr>
        <p:spPr>
          <a:xfrm>
            <a:off x="1908000" y="182520"/>
            <a:ext cx="49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 Rounded MT Bold"/>
              </a:rPr>
              <a:t>Ministry of Transport  Maritime Affairs and 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 Rounded MT Bold"/>
              </a:rPr>
              <a:t>DG for Dangerous Goods and Combined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ikdörtgen 2"/>
          <p:cNvSpPr/>
          <p:nvPr/>
        </p:nvSpPr>
        <p:spPr>
          <a:xfrm>
            <a:off x="179280" y="1197000"/>
            <a:ext cx="89647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Arial"/>
              </a:rPr>
              <a:t>WHAT IS SOCIAL SUSTAINABILITY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he stipulation of World Commission on Environment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mong three components of sustainability-social, ecological and economic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ocial sustainability is least developed and examined in the lit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hree Tra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ommunity Well-b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uman-centere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Köşeli Çift Ayraç 3"/>
          <p:cNvSpPr/>
          <p:nvPr/>
        </p:nvSpPr>
        <p:spPr>
          <a:xfrm>
            <a:off x="447840" y="1944720"/>
            <a:ext cx="576000" cy="252360"/>
          </a:xfrm>
          <a:custGeom>
            <a:avLst/>
            <a:gdLst>
              <a:gd name="textAreaLeft" fmla="*/ 0 w 576000"/>
              <a:gd name="textAreaRight" fmla="*/ 576000 w 5760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9" y="0"/>
                </a:lnTo>
                <a:lnTo>
                  <a:pt x="21600" y="10800"/>
                </a:lnTo>
                <a:lnTo>
                  <a:pt x="16869" y="21600"/>
                </a:lnTo>
                <a:lnTo>
                  <a:pt x="0" y="21600"/>
                </a:lnTo>
                <a:lnTo>
                  <a:pt x="4731" y="10800"/>
                </a:lnTo>
                <a:close/>
              </a:path>
            </a:pathLst>
          </a:custGeom>
          <a:solidFill>
            <a:srgbClr val="262626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Resim 1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628560" cy="272880"/>
          </a:xfrm>
          <a:prstGeom prst="rect">
            <a:avLst/>
          </a:prstGeom>
          <a:ln w="0">
            <a:noFill/>
          </a:ln>
        </p:spPr>
      </p:pic>
      <p:pic>
        <p:nvPicPr>
          <p:cNvPr id="456" name="Resim 2" descr=""/>
          <p:cNvPicPr/>
          <p:nvPr/>
        </p:nvPicPr>
        <p:blipFill>
          <a:blip r:embed="rId3"/>
          <a:stretch/>
        </p:blipFill>
        <p:spPr>
          <a:xfrm>
            <a:off x="395280" y="4402080"/>
            <a:ext cx="628560" cy="273240"/>
          </a:xfrm>
          <a:prstGeom prst="rect">
            <a:avLst/>
          </a:prstGeom>
          <a:ln w="0">
            <a:noFill/>
          </a:ln>
        </p:spPr>
      </p:pic>
      <p:pic>
        <p:nvPicPr>
          <p:cNvPr id="457" name="Resim 4" descr=""/>
          <p:cNvPicPr/>
          <p:nvPr/>
        </p:nvPicPr>
        <p:blipFill>
          <a:blip r:embed="rId4"/>
          <a:stretch/>
        </p:blipFill>
        <p:spPr>
          <a:xfrm>
            <a:off x="4902120" y="4005360"/>
            <a:ext cx="39481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1 Resim" descr="logo4.png"/>
          <p:cNvPicPr/>
          <p:nvPr/>
        </p:nvPicPr>
        <p:blipFill>
          <a:blip r:embed="rId1"/>
          <a:stretch/>
        </p:blipFill>
        <p:spPr>
          <a:xfrm>
            <a:off x="222120" y="136440"/>
            <a:ext cx="1589040" cy="576360"/>
          </a:xfrm>
          <a:prstGeom prst="rect">
            <a:avLst/>
          </a:prstGeom>
          <a:ln w="0">
            <a:noFill/>
          </a:ln>
        </p:spPr>
      </p:pic>
      <p:sp>
        <p:nvSpPr>
          <p:cNvPr id="459" name="Metin kutusu 5"/>
          <p:cNvSpPr/>
          <p:nvPr/>
        </p:nvSpPr>
        <p:spPr>
          <a:xfrm>
            <a:off x="1835280" y="173160"/>
            <a:ext cx="49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 Rounded MT Bold"/>
              </a:rPr>
              <a:t>Ministry of Transport  Maritime Affairs and 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 Rounded MT Bold"/>
              </a:rPr>
              <a:t>DG for Dangerous Goods and Combined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Köşeli Çift Ayraç 1"/>
          <p:cNvSpPr/>
          <p:nvPr/>
        </p:nvSpPr>
        <p:spPr>
          <a:xfrm>
            <a:off x="384120" y="1620720"/>
            <a:ext cx="484200" cy="4860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e848d"/>
          </a:solidFill>
          <a:ln w="25560">
            <a:solidFill>
              <a:srgbClr val="5b5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Metin kutusu 2"/>
          <p:cNvSpPr/>
          <p:nvPr/>
        </p:nvSpPr>
        <p:spPr>
          <a:xfrm>
            <a:off x="1017720" y="1438200"/>
            <a:ext cx="792000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Growth is not synonymous with development. It is obvi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t, the same goes for personal welfar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vidual choices while maximizing personal welfare, may not maximize social welfare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. (negative externalities of Road Tran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modes of transport use different forms of energy with varying efficiency and intensity and consequential environmental dam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er countries have low social preference for environmental effects like noise pol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Köşeli Çift Ayraç 8"/>
          <p:cNvSpPr/>
          <p:nvPr/>
        </p:nvSpPr>
        <p:spPr>
          <a:xfrm>
            <a:off x="384120" y="350028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e848d"/>
          </a:solidFill>
          <a:ln w="25560">
            <a:solidFill>
              <a:srgbClr val="5b5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Metin kutusu 3"/>
          <p:cNvSpPr/>
          <p:nvPr/>
        </p:nvSpPr>
        <p:spPr>
          <a:xfrm>
            <a:off x="1116000" y="71280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00000"/>
                </a:solidFill>
                <a:latin typeface="Arial"/>
              </a:rPr>
              <a:t>-SOME HIGHLIGHTS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00000"/>
                </a:solidFill>
                <a:latin typeface="Arial"/>
              </a:rPr>
              <a:t>SOCIAL SUSTAINABILITY VS. INTERMOD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Resim 5" descr=""/>
          <p:cNvPicPr/>
          <p:nvPr/>
        </p:nvPicPr>
        <p:blipFill>
          <a:blip r:embed="rId2"/>
          <a:stretch/>
        </p:blipFill>
        <p:spPr>
          <a:xfrm>
            <a:off x="1979640" y="4654440"/>
            <a:ext cx="5651640" cy="22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1 Resim" descr="logo4.png"/>
          <p:cNvPicPr/>
          <p:nvPr/>
        </p:nvPicPr>
        <p:blipFill>
          <a:blip r:embed="rId1"/>
          <a:stretch/>
        </p:blipFill>
        <p:spPr>
          <a:xfrm>
            <a:off x="81000" y="203040"/>
            <a:ext cx="1587600" cy="576360"/>
          </a:xfrm>
          <a:prstGeom prst="rect">
            <a:avLst/>
          </a:prstGeom>
          <a:ln w="0">
            <a:noFill/>
          </a:ln>
        </p:spPr>
      </p:pic>
      <p:pic>
        <p:nvPicPr>
          <p:cNvPr id="466" name="Resim 1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569080" cy="4732200"/>
          </a:xfrm>
          <a:prstGeom prst="rect">
            <a:avLst/>
          </a:prstGeom>
          <a:ln w="0">
            <a:noFill/>
          </a:ln>
        </p:spPr>
      </p:pic>
      <p:sp>
        <p:nvSpPr>
          <p:cNvPr id="467" name="Metin kutusu 2"/>
          <p:cNvSpPr/>
          <p:nvPr/>
        </p:nvSpPr>
        <p:spPr>
          <a:xfrm>
            <a:off x="1116000" y="87012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00000"/>
                </a:solidFill>
                <a:latin typeface="Arial"/>
              </a:rPr>
              <a:t>THE PRINCIPLES OF SOCIAL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ikdörtgen 1"/>
          <p:cNvSpPr/>
          <p:nvPr/>
        </p:nvSpPr>
        <p:spPr>
          <a:xfrm>
            <a:off x="1278000" y="739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00000"/>
                </a:solidFill>
                <a:latin typeface="Arial"/>
              </a:rPr>
              <a:t>SOCIAL COSTS OF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00000"/>
                </a:solidFill>
                <a:latin typeface="Arial"/>
              </a:rPr>
              <a:t>(EXTERNAL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1 Resim" descr="logo4.png"/>
          <p:cNvPicPr/>
          <p:nvPr/>
        </p:nvPicPr>
        <p:blipFill>
          <a:blip r:embed="rId1"/>
          <a:stretch/>
        </p:blipFill>
        <p:spPr>
          <a:xfrm>
            <a:off x="179280" y="189000"/>
            <a:ext cx="1587600" cy="576000"/>
          </a:xfrm>
          <a:prstGeom prst="rect">
            <a:avLst/>
          </a:prstGeom>
          <a:ln w="0">
            <a:noFill/>
          </a:ln>
        </p:spPr>
      </p:pic>
      <p:sp>
        <p:nvSpPr>
          <p:cNvPr id="470" name="Metin kutusu 5"/>
          <p:cNvSpPr/>
          <p:nvPr/>
        </p:nvSpPr>
        <p:spPr>
          <a:xfrm>
            <a:off x="1766880" y="246240"/>
            <a:ext cx="49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 Rounded MT Bold"/>
              </a:rPr>
              <a:t>Ministry of Transport  Maritime Affairs and 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 Rounded MT Bold"/>
              </a:rPr>
              <a:t>DG for Dangerous Goods and Combined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ağ Ok Belirtme Çizgisi 2"/>
          <p:cNvSpPr/>
          <p:nvPr/>
        </p:nvSpPr>
        <p:spPr>
          <a:xfrm>
            <a:off x="636480" y="1581120"/>
            <a:ext cx="641520" cy="287280"/>
          </a:xfrm>
          <a:prstGeom prst="rightArrowCallout">
            <a:avLst>
              <a:gd name="adj1" fmla="val 25002"/>
              <a:gd name="adj2" fmla="val 25000"/>
              <a:gd name="adj3" fmla="val 25008"/>
              <a:gd name="adj4" fmla="val 64977"/>
            </a:avLst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Metin kutusu 5"/>
          <p:cNvSpPr/>
          <p:nvPr/>
        </p:nvSpPr>
        <p:spPr>
          <a:xfrm>
            <a:off x="1619280" y="1454040"/>
            <a:ext cx="4321080" cy="46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oad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oad Accidents (Risk of Acci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llution (Health Thre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Resim 6" descr=""/>
          <p:cNvPicPr/>
          <p:nvPr/>
        </p:nvPicPr>
        <p:blipFill>
          <a:blip r:embed="rId2"/>
          <a:stretch/>
        </p:blipFill>
        <p:spPr>
          <a:xfrm>
            <a:off x="636480" y="3139920"/>
            <a:ext cx="663840" cy="311400"/>
          </a:xfrm>
          <a:prstGeom prst="rect">
            <a:avLst/>
          </a:prstGeom>
          <a:ln w="0">
            <a:noFill/>
          </a:ln>
        </p:spPr>
      </p:pic>
      <p:pic>
        <p:nvPicPr>
          <p:cNvPr id="474" name="Resim 7" descr=""/>
          <p:cNvPicPr/>
          <p:nvPr/>
        </p:nvPicPr>
        <p:blipFill>
          <a:blip r:embed="rId3"/>
          <a:stretch/>
        </p:blipFill>
        <p:spPr>
          <a:xfrm>
            <a:off x="636480" y="4799160"/>
            <a:ext cx="663840" cy="311040"/>
          </a:xfrm>
          <a:prstGeom prst="rect">
            <a:avLst/>
          </a:prstGeom>
          <a:ln w="0">
            <a:noFill/>
          </a:ln>
        </p:spPr>
      </p:pic>
      <p:pic>
        <p:nvPicPr>
          <p:cNvPr id="475" name="Resim 8" descr=""/>
          <p:cNvPicPr/>
          <p:nvPr/>
        </p:nvPicPr>
        <p:blipFill>
          <a:blip r:embed="rId4"/>
          <a:stretch/>
        </p:blipFill>
        <p:spPr>
          <a:xfrm>
            <a:off x="623880" y="5840280"/>
            <a:ext cx="665280" cy="311400"/>
          </a:xfrm>
          <a:prstGeom prst="rect">
            <a:avLst/>
          </a:prstGeom>
          <a:ln w="0">
            <a:noFill/>
          </a:ln>
        </p:spPr>
      </p:pic>
      <p:pic>
        <p:nvPicPr>
          <p:cNvPr id="476" name="Resim 9" descr=""/>
          <p:cNvPicPr/>
          <p:nvPr/>
        </p:nvPicPr>
        <p:blipFill>
          <a:blip r:embed="rId5"/>
          <a:stretch/>
        </p:blipFill>
        <p:spPr>
          <a:xfrm>
            <a:off x="6216480" y="1224000"/>
            <a:ext cx="2691000" cy="1512720"/>
          </a:xfrm>
          <a:prstGeom prst="rect">
            <a:avLst/>
          </a:prstGeom>
          <a:ln w="0">
            <a:noFill/>
          </a:ln>
        </p:spPr>
      </p:pic>
      <p:pic>
        <p:nvPicPr>
          <p:cNvPr id="477" name="Resim 10" descr=""/>
          <p:cNvPicPr/>
          <p:nvPr/>
        </p:nvPicPr>
        <p:blipFill>
          <a:blip r:embed="rId6"/>
          <a:stretch/>
        </p:blipFill>
        <p:spPr>
          <a:xfrm>
            <a:off x="6284880" y="4935600"/>
            <a:ext cx="2598840" cy="1692360"/>
          </a:xfrm>
          <a:prstGeom prst="rect">
            <a:avLst/>
          </a:prstGeom>
          <a:ln w="0">
            <a:noFill/>
          </a:ln>
        </p:spPr>
      </p:pic>
      <p:pic>
        <p:nvPicPr>
          <p:cNvPr id="478" name="Resim 11" descr=""/>
          <p:cNvPicPr/>
          <p:nvPr/>
        </p:nvPicPr>
        <p:blipFill>
          <a:blip r:embed="rId7"/>
          <a:stretch/>
        </p:blipFill>
        <p:spPr>
          <a:xfrm>
            <a:off x="6335640" y="2906640"/>
            <a:ext cx="2497320" cy="1656000"/>
          </a:xfrm>
          <a:prstGeom prst="rect">
            <a:avLst/>
          </a:prstGeom>
          <a:ln w="0">
            <a:noFill/>
          </a:ln>
        </p:spPr>
      </p:pic>
      <p:pic>
        <p:nvPicPr>
          <p:cNvPr id="479" name="Resim 12" descr=""/>
          <p:cNvPicPr/>
          <p:nvPr/>
        </p:nvPicPr>
        <p:blipFill>
          <a:blip r:embed="rId8"/>
          <a:stretch/>
        </p:blipFill>
        <p:spPr>
          <a:xfrm>
            <a:off x="2714760" y="5329080"/>
            <a:ext cx="2238120" cy="13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216000" y="109440"/>
            <a:ext cx="1662120" cy="606600"/>
          </a:xfrm>
          <a:prstGeom prst="rect">
            <a:avLst/>
          </a:prstGeom>
          <a:ln w="0">
            <a:noFill/>
          </a:ln>
        </p:spPr>
      </p:pic>
      <p:pic>
        <p:nvPicPr>
          <p:cNvPr id="481" name="Resim 4" descr=""/>
          <p:cNvPicPr/>
          <p:nvPr/>
        </p:nvPicPr>
        <p:blipFill>
          <a:blip r:embed="rId2"/>
          <a:stretch/>
        </p:blipFill>
        <p:spPr>
          <a:xfrm>
            <a:off x="208080" y="836640"/>
            <a:ext cx="3759120" cy="5656320"/>
          </a:xfrm>
          <a:prstGeom prst="rect">
            <a:avLst/>
          </a:prstGeom>
          <a:ln w="0">
            <a:noFill/>
          </a:ln>
        </p:spPr>
      </p:pic>
      <p:sp>
        <p:nvSpPr>
          <p:cNvPr id="482" name="Metin kutusu 5"/>
          <p:cNvSpPr/>
          <p:nvPr/>
        </p:nvSpPr>
        <p:spPr>
          <a:xfrm>
            <a:off x="2238480" y="13500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00000"/>
                </a:solidFill>
                <a:latin typeface="Arial"/>
              </a:rPr>
              <a:t>INTERMODAL TRANSPORT STRATEGY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Resim 6" descr=""/>
          <p:cNvPicPr/>
          <p:nvPr/>
        </p:nvPicPr>
        <p:blipFill>
          <a:blip r:embed="rId3"/>
          <a:stretch/>
        </p:blipFill>
        <p:spPr>
          <a:xfrm>
            <a:off x="4600440" y="657360"/>
            <a:ext cx="3643560" cy="1812960"/>
          </a:xfrm>
          <a:prstGeom prst="rect">
            <a:avLst/>
          </a:prstGeom>
          <a:ln w="0">
            <a:noFill/>
          </a:ln>
        </p:spPr>
      </p:pic>
      <p:sp>
        <p:nvSpPr>
          <p:cNvPr id="484" name="Metin kutusu 7"/>
          <p:cNvSpPr/>
          <p:nvPr/>
        </p:nvSpPr>
        <p:spPr>
          <a:xfrm>
            <a:off x="3967200" y="2579760"/>
            <a:ext cx="508932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Operational objective 1.1: PORT INTER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Promotion of S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Improvement to maritime-railway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Operational objective 1.2: RAILWAY INTER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Rail Freight Corrid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Overland Inter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Operational objective 2.1: TRANSPORT PLAN FOR TUR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Measurement of goods traffic and flow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Proposed courses of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Plan Implementation and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Operational objective 2.2: LOGISTICS MASTER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Diagnosis of logistics sec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Analysis of production and logistics 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Definition of logistics enclaves and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Logistics map of Tur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216000" y="109440"/>
            <a:ext cx="1662120" cy="606600"/>
          </a:xfrm>
          <a:prstGeom prst="rect">
            <a:avLst/>
          </a:prstGeom>
          <a:ln w="0">
            <a:noFill/>
          </a:ln>
        </p:spPr>
      </p:pic>
      <p:sp>
        <p:nvSpPr>
          <p:cNvPr id="486" name="Metin kutusu 5"/>
          <p:cNvSpPr/>
          <p:nvPr/>
        </p:nvSpPr>
        <p:spPr>
          <a:xfrm>
            <a:off x="2238480" y="228600"/>
            <a:ext cx="65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00000"/>
                </a:solidFill>
                <a:latin typeface="Arial"/>
              </a:rPr>
              <a:t>INTERMODAL TRANSPORT STRATEGY PAPER- 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Resim 6" descr=""/>
          <p:cNvPicPr/>
          <p:nvPr/>
        </p:nvPicPr>
        <p:blipFill>
          <a:blip r:embed="rId2"/>
          <a:stretch/>
        </p:blipFill>
        <p:spPr>
          <a:xfrm>
            <a:off x="4568760" y="693720"/>
            <a:ext cx="3643200" cy="1812960"/>
          </a:xfrm>
          <a:prstGeom prst="rect">
            <a:avLst/>
          </a:prstGeom>
          <a:ln w="0">
            <a:noFill/>
          </a:ln>
        </p:spPr>
      </p:pic>
      <p:sp>
        <p:nvSpPr>
          <p:cNvPr id="488" name="Metin kutusu 7"/>
          <p:cNvSpPr/>
          <p:nvPr/>
        </p:nvSpPr>
        <p:spPr>
          <a:xfrm>
            <a:off x="3981600" y="2708280"/>
            <a:ext cx="508788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Operational objective 3.1: SUPPLEMENTAL LEGIS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 of Logistic Sector Legisl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sibility Study for a Single C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CT Permanent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Arbitration for solving CT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Operational objective 3.2: INCENTIVES FOR 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Commission for the Study of Combined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Incentives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 of Public-Private Sector Dialo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Operational objective 4.1: CUSTOMS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Single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Bilateral Agreements with border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Operational objective 4.2: PORT COMMUNITY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Turkish Port Communit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Public-Private Dialo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Resim 2" descr=""/>
          <p:cNvPicPr/>
          <p:nvPr/>
        </p:nvPicPr>
        <p:blipFill>
          <a:blip r:embed="rId3"/>
          <a:stretch/>
        </p:blipFill>
        <p:spPr>
          <a:xfrm>
            <a:off x="162000" y="981000"/>
            <a:ext cx="3736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68120" y="201600"/>
            <a:ext cx="1662120" cy="606600"/>
          </a:xfrm>
          <a:prstGeom prst="rect">
            <a:avLst/>
          </a:prstGeom>
          <a:ln w="0">
            <a:noFill/>
          </a:ln>
        </p:spPr>
      </p:pic>
      <p:sp>
        <p:nvSpPr>
          <p:cNvPr id="491" name="Metin kutusu 5"/>
          <p:cNvSpPr/>
          <p:nvPr/>
        </p:nvSpPr>
        <p:spPr>
          <a:xfrm>
            <a:off x="2033640" y="338040"/>
            <a:ext cx="69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DRAFT REGULATION ON COMBINED FREIGH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Metin kutusu 7"/>
          <p:cNvSpPr/>
          <p:nvPr/>
        </p:nvSpPr>
        <p:spPr>
          <a:xfrm>
            <a:off x="174600" y="1197000"/>
            <a:ext cx="614376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3366"/>
                </a:solidFill>
                <a:latin typeface="Arial"/>
              </a:rPr>
              <a:t>MAIN CHAPTERS IN THE REG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Combined Freight Terminals (Dry Por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Administrative and Technical criteria for the establishment of 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Termin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    Licen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Incentives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Financial/fisca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entives to the supply of services for the creation and/or improvement of combined transport rou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Administrativ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entives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such as flexibility in weight and dimension of vehicles, discount in motorways fee, passage priaority in border Gates, lifting restrictions on holiday and weekend drive on roa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Combined Transport Permanent Platform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ltation body and the main instrument for private sec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 in the combined transport policy.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Observatory of combined transport market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onitor the combined transport market, included supply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and, traffics, prices, costs, services facilities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 et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ect the figures, and the statistics data need to monitoring mark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Resim 1" descr=""/>
          <p:cNvPicPr/>
          <p:nvPr/>
        </p:nvPicPr>
        <p:blipFill>
          <a:blip r:embed="rId2"/>
          <a:stretch/>
        </p:blipFill>
        <p:spPr>
          <a:xfrm>
            <a:off x="6318360" y="816120"/>
            <a:ext cx="2286000" cy="2108160"/>
          </a:xfrm>
          <a:prstGeom prst="rect">
            <a:avLst/>
          </a:prstGeom>
          <a:ln w="0">
            <a:noFill/>
          </a:ln>
        </p:spPr>
      </p:pic>
      <p:pic>
        <p:nvPicPr>
          <p:cNvPr id="494" name="Resim 3" descr=""/>
          <p:cNvPicPr/>
          <p:nvPr/>
        </p:nvPicPr>
        <p:blipFill>
          <a:blip r:embed="rId3"/>
          <a:stretch/>
        </p:blipFill>
        <p:spPr>
          <a:xfrm>
            <a:off x="6356520" y="3121200"/>
            <a:ext cx="2253960" cy="1728720"/>
          </a:xfrm>
          <a:prstGeom prst="rect">
            <a:avLst/>
          </a:prstGeom>
          <a:ln w="0">
            <a:noFill/>
          </a:ln>
        </p:spPr>
      </p:pic>
      <p:pic>
        <p:nvPicPr>
          <p:cNvPr id="495" name="Resim 4" descr=""/>
          <p:cNvPicPr/>
          <p:nvPr/>
        </p:nvPicPr>
        <p:blipFill>
          <a:blip r:embed="rId4"/>
          <a:stretch/>
        </p:blipFill>
        <p:spPr>
          <a:xfrm>
            <a:off x="6084720" y="5078520"/>
            <a:ext cx="2762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1 Resim" descr="logo4.png"/>
          <p:cNvPicPr/>
          <p:nvPr/>
        </p:nvPicPr>
        <p:blipFill>
          <a:blip r:embed="rId1"/>
          <a:stretch/>
        </p:blipFill>
        <p:spPr>
          <a:xfrm>
            <a:off x="201600" y="266760"/>
            <a:ext cx="1589040" cy="576360"/>
          </a:xfrm>
          <a:prstGeom prst="rect">
            <a:avLst/>
          </a:prstGeom>
          <a:ln w="0">
            <a:noFill/>
          </a:ln>
        </p:spPr>
      </p:pic>
      <p:sp>
        <p:nvSpPr>
          <p:cNvPr id="497" name="Metin kutusu 3"/>
          <p:cNvSpPr/>
          <p:nvPr/>
        </p:nvSpPr>
        <p:spPr>
          <a:xfrm>
            <a:off x="1994040" y="48096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ADMINISTRATIVE INCEN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Şeritli Sağ Ok 1"/>
          <p:cNvSpPr/>
          <p:nvPr/>
        </p:nvSpPr>
        <p:spPr>
          <a:xfrm>
            <a:off x="179280" y="1284120"/>
            <a:ext cx="505080" cy="360360"/>
          </a:xfrm>
          <a:custGeom>
            <a:avLst/>
            <a:gdLst/>
            <a:ahLst/>
            <a:rect l="l" t="t" r="r" b="b"/>
            <a:pathLst>
              <a:path w="504825" h="360362">
                <a:moveTo>
                  <a:pt x="0" y="90091"/>
                </a:moveTo>
                <a:lnTo>
                  <a:pt x="11261" y="90091"/>
                </a:lnTo>
                <a:lnTo>
                  <a:pt x="11261" y="270272"/>
                </a:lnTo>
                <a:lnTo>
                  <a:pt x="0" y="270272"/>
                </a:lnTo>
                <a:lnTo>
                  <a:pt x="0" y="90091"/>
                </a:lnTo>
                <a:close/>
                <a:moveTo>
                  <a:pt x="22523" y="90091"/>
                </a:moveTo>
                <a:lnTo>
                  <a:pt x="45045" y="90091"/>
                </a:lnTo>
                <a:lnTo>
                  <a:pt x="45045" y="270272"/>
                </a:lnTo>
                <a:lnTo>
                  <a:pt x="22523" y="270272"/>
                </a:lnTo>
                <a:lnTo>
                  <a:pt x="22523" y="90091"/>
                </a:lnTo>
                <a:close/>
                <a:moveTo>
                  <a:pt x="56307" y="90091"/>
                </a:moveTo>
                <a:lnTo>
                  <a:pt x="324644" y="90091"/>
                </a:lnTo>
                <a:lnTo>
                  <a:pt x="324644" y="0"/>
                </a:lnTo>
                <a:lnTo>
                  <a:pt x="504825" y="180181"/>
                </a:lnTo>
                <a:lnTo>
                  <a:pt x="324644" y="360362"/>
                </a:lnTo>
                <a:lnTo>
                  <a:pt x="324644" y="270272"/>
                </a:lnTo>
                <a:lnTo>
                  <a:pt x="56307" y="270272"/>
                </a:lnTo>
                <a:lnTo>
                  <a:pt x="56307" y="90091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Metin kutusu 2"/>
          <p:cNvSpPr/>
          <p:nvPr/>
        </p:nvSpPr>
        <p:spPr>
          <a:xfrm>
            <a:off x="785880" y="1268280"/>
            <a:ext cx="810720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OLERANCE ON WEIGHT AND DIMENSION OF THE ROAD VEHICLES ENGAGED IN COMBINED TRANS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ISCOUNTED TOLL PRICE (ROAD USER CHAR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XEMPTION OF HOLIDAY AND WEEKEND RESTRICTIONS ON HGV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(IT CAN BE VERY USEFUL IN ISTANBU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FACILITATION OF BORDER CROSSING OF THE TRUCKS ENGAGED IN COMBINED TRANSPOR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tr-TR" sz="1800" spc="-1" strike="noStrike">
                <a:solidFill>
                  <a:srgbClr val="ff0000"/>
                </a:solidFill>
                <a:latin typeface="Arial"/>
              </a:rPr>
              <a:t>HOW ABOUT STIMULATIVE MEASURES FINANCIALLY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Şeritli Sağ Ok 6"/>
          <p:cNvSpPr/>
          <p:nvPr/>
        </p:nvSpPr>
        <p:spPr>
          <a:xfrm>
            <a:off x="179280" y="2349360"/>
            <a:ext cx="505080" cy="358920"/>
          </a:xfrm>
          <a:custGeom>
            <a:avLst/>
            <a:gdLst/>
            <a:ahLst/>
            <a:rect l="l" t="t" r="r" b="b"/>
            <a:pathLst>
              <a:path w="504825" h="358775">
                <a:moveTo>
                  <a:pt x="0" y="89694"/>
                </a:moveTo>
                <a:lnTo>
                  <a:pt x="11212" y="89694"/>
                </a:lnTo>
                <a:lnTo>
                  <a:pt x="11212" y="269081"/>
                </a:lnTo>
                <a:lnTo>
                  <a:pt x="0" y="269081"/>
                </a:lnTo>
                <a:lnTo>
                  <a:pt x="0" y="89694"/>
                </a:lnTo>
                <a:close/>
                <a:moveTo>
                  <a:pt x="22423" y="89694"/>
                </a:moveTo>
                <a:lnTo>
                  <a:pt x="44847" y="89694"/>
                </a:lnTo>
                <a:lnTo>
                  <a:pt x="44847" y="269081"/>
                </a:lnTo>
                <a:lnTo>
                  <a:pt x="22423" y="269081"/>
                </a:lnTo>
                <a:lnTo>
                  <a:pt x="22423" y="89694"/>
                </a:lnTo>
                <a:close/>
                <a:moveTo>
                  <a:pt x="56059" y="89694"/>
                </a:moveTo>
                <a:lnTo>
                  <a:pt x="325438" y="89694"/>
                </a:lnTo>
                <a:lnTo>
                  <a:pt x="325438" y="0"/>
                </a:lnTo>
                <a:lnTo>
                  <a:pt x="504825" y="179388"/>
                </a:lnTo>
                <a:lnTo>
                  <a:pt x="325438" y="358775"/>
                </a:lnTo>
                <a:lnTo>
                  <a:pt x="325438" y="269081"/>
                </a:lnTo>
                <a:lnTo>
                  <a:pt x="56059" y="269081"/>
                </a:lnTo>
                <a:lnTo>
                  <a:pt x="56059" y="8969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Şeritli Sağ Ok 7"/>
          <p:cNvSpPr/>
          <p:nvPr/>
        </p:nvSpPr>
        <p:spPr>
          <a:xfrm>
            <a:off x="179280" y="3363840"/>
            <a:ext cx="505080" cy="360360"/>
          </a:xfrm>
          <a:custGeom>
            <a:avLst/>
            <a:gdLst/>
            <a:ahLst/>
            <a:rect l="l" t="t" r="r" b="b"/>
            <a:pathLst>
              <a:path w="504825" h="360362">
                <a:moveTo>
                  <a:pt x="0" y="90091"/>
                </a:moveTo>
                <a:lnTo>
                  <a:pt x="11261" y="90091"/>
                </a:lnTo>
                <a:lnTo>
                  <a:pt x="11261" y="270272"/>
                </a:lnTo>
                <a:lnTo>
                  <a:pt x="0" y="270272"/>
                </a:lnTo>
                <a:lnTo>
                  <a:pt x="0" y="90091"/>
                </a:lnTo>
                <a:close/>
                <a:moveTo>
                  <a:pt x="22523" y="90091"/>
                </a:moveTo>
                <a:lnTo>
                  <a:pt x="45045" y="90091"/>
                </a:lnTo>
                <a:lnTo>
                  <a:pt x="45045" y="270272"/>
                </a:lnTo>
                <a:lnTo>
                  <a:pt x="22523" y="270272"/>
                </a:lnTo>
                <a:lnTo>
                  <a:pt x="22523" y="90091"/>
                </a:lnTo>
                <a:close/>
                <a:moveTo>
                  <a:pt x="56307" y="90091"/>
                </a:moveTo>
                <a:lnTo>
                  <a:pt x="324644" y="90091"/>
                </a:lnTo>
                <a:lnTo>
                  <a:pt x="324644" y="0"/>
                </a:lnTo>
                <a:lnTo>
                  <a:pt x="504825" y="180181"/>
                </a:lnTo>
                <a:lnTo>
                  <a:pt x="324644" y="360362"/>
                </a:lnTo>
                <a:lnTo>
                  <a:pt x="324644" y="270272"/>
                </a:lnTo>
                <a:lnTo>
                  <a:pt x="56307" y="270272"/>
                </a:lnTo>
                <a:lnTo>
                  <a:pt x="56307" y="90091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Şeritli Sağ Ok 8"/>
          <p:cNvSpPr/>
          <p:nvPr/>
        </p:nvSpPr>
        <p:spPr>
          <a:xfrm>
            <a:off x="201600" y="4508640"/>
            <a:ext cx="504720" cy="360360"/>
          </a:xfrm>
          <a:custGeom>
            <a:avLst/>
            <a:gdLst/>
            <a:ahLst/>
            <a:rect l="l" t="t" r="r" b="b"/>
            <a:pathLst>
              <a:path w="504825" h="360363">
                <a:moveTo>
                  <a:pt x="0" y="90091"/>
                </a:moveTo>
                <a:lnTo>
                  <a:pt x="11261" y="90091"/>
                </a:lnTo>
                <a:lnTo>
                  <a:pt x="11261" y="270272"/>
                </a:lnTo>
                <a:lnTo>
                  <a:pt x="0" y="270272"/>
                </a:lnTo>
                <a:lnTo>
                  <a:pt x="0" y="90091"/>
                </a:lnTo>
                <a:close/>
                <a:moveTo>
                  <a:pt x="22523" y="90091"/>
                </a:moveTo>
                <a:lnTo>
                  <a:pt x="45045" y="90091"/>
                </a:lnTo>
                <a:lnTo>
                  <a:pt x="45045" y="270272"/>
                </a:lnTo>
                <a:lnTo>
                  <a:pt x="22523" y="270272"/>
                </a:lnTo>
                <a:lnTo>
                  <a:pt x="22523" y="90091"/>
                </a:lnTo>
                <a:close/>
                <a:moveTo>
                  <a:pt x="56307" y="90091"/>
                </a:moveTo>
                <a:lnTo>
                  <a:pt x="324644" y="90091"/>
                </a:lnTo>
                <a:lnTo>
                  <a:pt x="324644" y="0"/>
                </a:lnTo>
                <a:lnTo>
                  <a:pt x="504825" y="180182"/>
                </a:lnTo>
                <a:lnTo>
                  <a:pt x="324644" y="360363"/>
                </a:lnTo>
                <a:lnTo>
                  <a:pt x="324644" y="270272"/>
                </a:lnTo>
                <a:lnTo>
                  <a:pt x="56307" y="270272"/>
                </a:lnTo>
                <a:lnTo>
                  <a:pt x="56307" y="90091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07:32:31Z</dcterms:created>
  <dc:creator>Administrator</dc:creator>
  <dc:description/>
  <dc:language>en-US</dc:language>
  <cp:lastModifiedBy>Bülent Süloğlu</cp:lastModifiedBy>
  <dcterms:modified xsi:type="dcterms:W3CDTF">2015-11-24T13:06:40Z</dcterms:modified>
  <cp:revision>666</cp:revision>
  <dc:subject/>
  <dc:title>Slayt 1</dc:title>
</cp:coreProperties>
</file>