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24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dt" idx="11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Img"/>
          </p:nvPr>
        </p:nvSpPr>
        <p:spPr>
          <a:xfrm>
            <a:off x="90792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2592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 type="ftr" idx="12"/>
          </p:nvPr>
        </p:nvSpPr>
        <p:spPr>
          <a:xfrm>
            <a:off x="-360" y="943128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 type="sldNum" idx="13"/>
          </p:nvPr>
        </p:nvSpPr>
        <p:spPr>
          <a:xfrm>
            <a:off x="3839760" y="943128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122D-D802-45DE-894F-A7B15A44AC5B}" type="slidenum">
              <a:rPr b="0" lang="tr-T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10"/>
          <p:cNvSpPr/>
          <p:nvPr/>
        </p:nvSpPr>
        <p:spPr>
          <a:xfrm>
            <a:off x="3840120" y="942984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3BCF-3AB7-408F-AA90-BFAD13E33749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"/>
          <p:cNvSpPr/>
          <p:nvPr/>
        </p:nvSpPr>
        <p:spPr>
          <a:xfrm>
            <a:off x="1130400" y="746280"/>
            <a:ext cx="451800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body"/>
          </p:nvPr>
        </p:nvSpPr>
        <p:spPr>
          <a:xfrm>
            <a:off x="677520" y="4716360"/>
            <a:ext cx="542124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6"/>
          <p:cNvSpPr/>
          <p:nvPr/>
        </p:nvSpPr>
        <p:spPr>
          <a:xfrm>
            <a:off x="0" y="943128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"/>
              </a:rPr>
              <a:t>26-27 January 2011                     Anka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840120" y="943128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BCF0-F378-446F-8EE4-02E8FC8594D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0792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259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3887B-C0AD-4D6A-B27A-84298B1D5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1B79C-F09E-4B35-839C-E01AD8FB8EF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0E5FC-1DD1-4FCE-AC39-7C1759DB6BF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4C7CD-4C81-42E8-8944-0476234C0DD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C10FA-D023-4559-833F-11F2EEDA660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BC649-C469-4DAD-892F-E7DF02FAF45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B1F9-EFDA-40D0-B34A-76B0C678AD4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82412-630C-4EF9-AF50-9E6EE775DFA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51694-2D76-4B41-991C-2170847AFC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5EAD0-25A3-4EB7-9C45-B182ADB1D6D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11D5-2316-416B-A46A-A58EB7684BA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1F3A12-9B44-438C-9277-9565D7D36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A9D7-D357-4893-AD3C-A84CE656AD4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17877-671C-428D-B2F1-D3790AB4B698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02DA35-4DD6-42C1-8A40-46CA3534629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3F75AF-E678-4741-A368-6BC3BE5675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DC3A97-8B3E-4036-9D22-6ED7E1EE172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DAE134-735C-49FA-9242-4A53D392AFE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2449B5-6587-46C4-9CD7-CCDE149E660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35F094-E5F8-44CB-A9F0-C829A9DF604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236DDD-9A8A-40F5-A391-9DF8D48B249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8CD6C5-F72C-4489-B50A-77DF1A0B3FF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714B8D-AF82-4EAB-80B0-C001790B7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6D455-BAB4-4E9A-A1B7-B7EE5010505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080861-A829-4E1E-9055-1F28615F0C5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21A03-CDCC-4E71-93E9-4F1C8C45664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AC1FB-32F4-4A5C-953A-02E60C5E68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8DA7D-5CCF-4E6E-8F93-BB71EB46AAD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83A2-720B-4510-B3EB-07F380C096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D16DE-60CB-4C54-82DF-A986F5432C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F8561-4CC8-4DDB-A24F-7643D138E8C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F59D4-E79F-4FBD-9691-09CD240EF8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422EA-FCEB-4A2B-8E69-323B994DD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F598-9F4D-4A91-8188-49EBD39ED2E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DBB3A-4C91-4C83-A1F5-03A60A5AEDA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6291A-77DD-45E3-B16A-0DCA3E4F66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1164-1255-449A-9B36-48FF0AD068B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A060-F095-4A48-8234-DCC56F64E0A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A631-BCCD-400B-A2EA-529A0F455F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3E1B-558A-4B16-B9D3-65B25CE4C0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711-DE5E-49C7-8786-5FE4FA610D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9F1-5A97-4731-A261-7B7974401F6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0E0-85C4-4749-8DF0-9D9EDC0CD8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A347A-F806-4615-9947-6EB1A31D47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4EB-BE5C-47C1-A35D-5D45335A61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4E7-5863-49DD-97E1-D4B03A16F3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7A20-952D-47A5-857D-362A47CCE9C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926-B68B-4DBC-842C-2204937D6C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FDB-C050-4F78-B175-051F1DABEF6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6304-5FBE-4E3B-A1CD-179CD03A32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F894-0567-4F56-A3A5-EC75FE09769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75D74-510A-449D-8A78-2009FEC00F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689D5-1D63-4F3D-89EB-89CEBDBC2A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10C64-8EA0-4A0D-A207-0CC56F4C9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D42D-AF5E-4013-AC55-4D676ABC758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D0485-DA15-4F74-8541-E830EE6CD3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01A35-4ADE-4EC1-98E7-35D1C6DC8C0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90FB9-F89A-4451-AC65-918B58C42F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A73BB-58AC-453B-8237-1CA0029A34F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9BC59-07F7-450B-9C1C-D1E287B115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6352E5-7A0C-4F45-9D7D-D0832F6A447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0CFFAA-0140-4D80-BB8A-9FBC88E9B45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6CBDF8-9534-46FD-9F20-A39A2739E76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A93F6-CA64-4CB0-863D-C78A68BF9F0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0E9482-BC45-4DC5-AD13-D429205B14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0979-B220-46C3-9D25-D62D75596BA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EC356-5C34-4D6B-B3DD-D83F4B173A4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93FE39-FDC7-4206-BA81-68D28C92F3C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A62BE-E462-4FF4-B253-9EBDAF7A256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26C54-FEBC-4210-8FE1-5C73F8A914B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E1E65-2683-4CFD-AC0C-EA0FEF1D6D1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9D246-9263-4574-8669-29C68185A43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70E1D-B470-4E32-AB89-9DD75BED794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78A58-E70D-4F14-9A89-09F91C1C252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BC2BCF-2724-4509-AB26-0BDF5330CA7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6234FC-2F3C-4035-A555-36B6D43FB6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95F8F-71C6-4BB1-9F1A-1D7336B549F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AE8B6-3AF6-4181-888E-22E3FA76235D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4B9E-A88A-4C56-BA7B-66F91F1BD67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3FEFC-9B77-4952-9EC2-92B255BE4FA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8F55-7DF4-4257-BB6D-7548B56FAD7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5AF0-66A3-4EFD-A06B-F62164DA77E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8F3D-33FC-469E-B2BB-0E3FE4E6A4E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80DFF-5EB6-4DD1-BF23-FB641A7F252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DF1F-6E02-47A4-B839-013F7B493DB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DA232-8915-4F52-8FC7-598D733A699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A39F-8D79-469A-BBCB-8064D96E34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00E38-161E-4D63-8264-11C2FF71142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91ACA-2CAB-40B2-8FE3-DD67B7E5A2F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B4527-9B27-4B87-8DA3-1EF980F0FBB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1775-52BF-4C5A-B748-D30BC77E4B1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4F37C1-4CC9-4CA2-818C-6375B9D48B6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B927AD-2740-4D98-89C6-3CA4DB5EF03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877323-7A63-4FE9-BD2C-980DB96918F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89B06A-5140-478D-A17A-42A72D83174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9E5860-F389-4243-8E53-FE89E6FAC8A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E0E663-0063-4CB0-A892-F957E1FB8B7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1C66AB-D099-40DB-8EA9-8BE1146C20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9846-FAEE-4F6F-B9C1-AC98B872B54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074351-546E-4DAC-8218-660B0E6ADF5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5CCB0B-F2F7-4B6D-8B1C-724B8E840F3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13ED3A-24DA-448C-9CE4-146806C1C39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9926FC-DD20-4042-9243-F29D4123EFD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42B4CF-0E83-4120-A3DD-DC1F7EBAC08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C4E150-37B6-4EF3-AD1B-D2892674961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833E8-48F9-4403-81C0-E8008185679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FBB89-D091-494A-AE51-781D4DB458C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061112-5CB6-4476-A9D0-876559B3FE5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3ADED-8FC6-438A-9FA0-2FD2ADDF43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A2AB3-E826-4E20-9E79-71EBFBE141A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99680" y="357120"/>
            <a:ext cx="8186760" cy="491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1A2698-C235-4194-ADFE-A18DC12237A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86ED8-F6D5-41B5-89D3-71F0EBAE392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D80ED-F6EE-47DA-9FF6-547A17B6CB7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983685-89EF-46B2-9C0C-EE3B3666870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99680" y="3964320"/>
            <a:ext cx="8186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79349E-BDA1-4768-98E2-7FAB2B1A74B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94760" y="160020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9968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94760" y="3964320"/>
            <a:ext cx="399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86C82-67F6-4CDA-90C7-596D77FFC9A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6772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35760" y="160020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9968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6772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35760" y="3964320"/>
            <a:ext cx="2635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2CBB94-4DCA-4789-A924-A83895F75F1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ECD49-AC01-486F-BFD8-80B8E1F32DB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D4F87-8D4C-4938-AC3F-0B1541DBDE5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B631C-C3F9-4FCE-8318-671FDEA99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D0352-83EA-4FF9-9375-98F52CC3393C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10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260E-6A6E-4566-9190-A71B78ECDA1E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1E471-928E-4384-BB38-456AB97D15A0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3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A20F-07AB-4782-9303-62FA370FD633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4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00D7-AA32-4922-A70C-72E30D4EF6DE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5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DD80-83C1-4056-AC02-0BE4B9C1339D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6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3620-052E-4ABB-9687-89CAFFDEE857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7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CC54-65B4-4F27-B623-AA4AD5E5AD6E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8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CBE4-7BD6-48B2-A337-06FF7485F52D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4" descr="ubak_logo"/>
          <p:cNvPicPr/>
          <p:nvPr/>
        </p:nvPicPr>
        <p:blipFill>
          <a:blip r:embed="rId3"/>
          <a:stretch/>
        </p:blipFill>
        <p:spPr>
          <a:xfrm>
            <a:off x="142920" y="6429240"/>
            <a:ext cx="384120" cy="2923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18676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99680" y="160020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9"/>
          </p:nvPr>
        </p:nvSpPr>
        <p:spPr>
          <a:xfrm>
            <a:off x="8429760" y="6423120"/>
            <a:ext cx="64296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tr-TR" sz="2400" spc="-1" strike="noStrike">
                <a:solidFill>
                  <a:srgbClr val="00b0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4EDA2-7122-4263-B951-200FA2727CF0}" type="slidenum">
              <a:rPr b="1" lang="tr-TR" sz="2400" spc="-1" strike="noStrike">
                <a:solidFill>
                  <a:srgbClr val="00b05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5 Slayt Numarası Yer Tutucusu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2"/>
          <p:cNvSpPr/>
          <p:nvPr/>
        </p:nvSpPr>
        <p:spPr>
          <a:xfrm>
            <a:off x="2082960" y="154080"/>
            <a:ext cx="673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3399"/>
                </a:solidFill>
                <a:latin typeface="Franklin Gothic Medium"/>
              </a:rPr>
              <a:t>Ministry of Transport, Maritime Affairs and Communications of the Republic of Tur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1160" y="44784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ntermodality leads to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 workshop for the Working Party on Intermodal Transport &amp; Logistics (WP.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1547640" y="5516640"/>
            <a:ext cx="6072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70c0"/>
                </a:solidFill>
                <a:latin typeface="Arial"/>
              </a:rPr>
              <a:t>Bülent SÜLOĞL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70c0"/>
                </a:solidFill>
                <a:latin typeface="Arial"/>
              </a:rPr>
              <a:t>Exp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tr-TR" sz="1600" spc="-1" strike="noStrike">
                <a:solidFill>
                  <a:srgbClr val="0070c0"/>
                </a:solidFill>
                <a:latin typeface="Arial"/>
              </a:rPr>
              <a:t>DG for Dangerous Goods and Combined Transport</a:t>
            </a:r>
            <a:r>
              <a:rPr b="1" lang="tr-TR" sz="1600" spc="-1" strike="noStrike">
                <a:solidFill>
                  <a:srgbClr val="5a3641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5a3641"/>
                </a:solidFill>
                <a:latin typeface="Arial"/>
              </a:rPr>
              <a:t>Geneva, 30 November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1 Resim" descr="logo4.png"/>
          <p:cNvPicPr/>
          <p:nvPr/>
        </p:nvPicPr>
        <p:blipFill>
          <a:blip r:embed="rId1"/>
          <a:stretch/>
        </p:blipFill>
        <p:spPr>
          <a:xfrm>
            <a:off x="204840" y="90360"/>
            <a:ext cx="1878120" cy="679680"/>
          </a:xfrm>
          <a:prstGeom prst="rect">
            <a:avLst/>
          </a:prstGeom>
          <a:ln w="0">
            <a:noFill/>
          </a:ln>
        </p:spPr>
      </p:pic>
      <p:pic>
        <p:nvPicPr>
          <p:cNvPr id="450" name="Resim 1" descr=""/>
          <p:cNvPicPr/>
          <p:nvPr/>
        </p:nvPicPr>
        <p:blipFill>
          <a:blip r:embed="rId2"/>
          <a:stretch/>
        </p:blipFill>
        <p:spPr>
          <a:xfrm>
            <a:off x="755640" y="1049400"/>
            <a:ext cx="7777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8186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00000"/>
                </a:solidFill>
                <a:latin typeface="Albertus"/>
              </a:rPr>
              <a:t>THANK YOU FOR YOUR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c00000"/>
                </a:solidFill>
                <a:latin typeface="Albertus"/>
              </a:rPr>
              <a:t>Bülent SÜLOĞLU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c00000"/>
                </a:solidFill>
                <a:latin typeface="Albertus"/>
              </a:rPr>
              <a:t>Exper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DG for Dangerous Goods and Combined Trans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Turkish Ministry of Transport, Maritime Affairs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94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1 Resim" descr="logo4.png"/>
          <p:cNvPicPr/>
          <p:nvPr/>
        </p:nvPicPr>
        <p:blipFill>
          <a:blip r:embed="rId1"/>
          <a:stretch/>
        </p:blipFill>
        <p:spPr>
          <a:xfrm>
            <a:off x="228600" y="147600"/>
            <a:ext cx="1589040" cy="576360"/>
          </a:xfrm>
          <a:prstGeom prst="rect">
            <a:avLst/>
          </a:prstGeom>
          <a:ln w="0">
            <a:noFill/>
          </a:ln>
        </p:spPr>
      </p:pic>
      <p:sp>
        <p:nvSpPr>
          <p:cNvPr id="452" name="Metin kutusu 20"/>
          <p:cNvSpPr/>
          <p:nvPr/>
        </p:nvSpPr>
        <p:spPr>
          <a:xfrm>
            <a:off x="1908000" y="182520"/>
            <a:ext cx="496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 Rounded MT Bold"/>
              </a:rPr>
              <a:t>Ministry of Transport  Maritime Affairs and 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 Rounded MT Bold"/>
              </a:rPr>
              <a:t>DG for Dangerous Goods and Combined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Dikdörtgen 2"/>
          <p:cNvSpPr/>
          <p:nvPr/>
        </p:nvSpPr>
        <p:spPr>
          <a:xfrm>
            <a:off x="179280" y="1197000"/>
            <a:ext cx="89647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Arial"/>
              </a:rPr>
              <a:t>WHAT IS SOCIAL SUSTAINABILITY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he stipulation of World Commission on Environment an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Among three components of sustainability-social, ecological and economic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ocial sustainability is least developed and examined in the lit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Three Tra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Community Well-b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Human-centered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4272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Köşeli Çift Ayraç 3"/>
          <p:cNvSpPr/>
          <p:nvPr/>
        </p:nvSpPr>
        <p:spPr>
          <a:xfrm>
            <a:off x="447840" y="1944720"/>
            <a:ext cx="576000" cy="252360"/>
          </a:xfrm>
          <a:custGeom>
            <a:avLst/>
            <a:gdLst>
              <a:gd name="textAreaLeft" fmla="*/ 0 w 576000"/>
              <a:gd name="textAreaRight" fmla="*/ 576000 w 57600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9" y="0"/>
                </a:lnTo>
                <a:lnTo>
                  <a:pt x="21600" y="10800"/>
                </a:lnTo>
                <a:lnTo>
                  <a:pt x="16869" y="21600"/>
                </a:lnTo>
                <a:lnTo>
                  <a:pt x="0" y="21600"/>
                </a:lnTo>
                <a:lnTo>
                  <a:pt x="4731" y="10800"/>
                </a:lnTo>
                <a:close/>
              </a:path>
            </a:pathLst>
          </a:custGeom>
          <a:solidFill>
            <a:srgbClr val="262626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Resim 1" descr=""/>
          <p:cNvPicPr/>
          <p:nvPr/>
        </p:nvPicPr>
        <p:blipFill>
          <a:blip r:embed="rId2"/>
          <a:stretch/>
        </p:blipFill>
        <p:spPr>
          <a:xfrm>
            <a:off x="395280" y="3141720"/>
            <a:ext cx="628560" cy="272880"/>
          </a:xfrm>
          <a:prstGeom prst="rect">
            <a:avLst/>
          </a:prstGeom>
          <a:ln w="0">
            <a:noFill/>
          </a:ln>
        </p:spPr>
      </p:pic>
      <p:pic>
        <p:nvPicPr>
          <p:cNvPr id="456" name="Resim 2" descr=""/>
          <p:cNvPicPr/>
          <p:nvPr/>
        </p:nvPicPr>
        <p:blipFill>
          <a:blip r:embed="rId3"/>
          <a:stretch/>
        </p:blipFill>
        <p:spPr>
          <a:xfrm>
            <a:off x="395280" y="4402080"/>
            <a:ext cx="628560" cy="273240"/>
          </a:xfrm>
          <a:prstGeom prst="rect">
            <a:avLst/>
          </a:prstGeom>
          <a:ln w="0">
            <a:noFill/>
          </a:ln>
        </p:spPr>
      </p:pic>
      <p:pic>
        <p:nvPicPr>
          <p:cNvPr id="457" name="Resim 4" descr=""/>
          <p:cNvPicPr/>
          <p:nvPr/>
        </p:nvPicPr>
        <p:blipFill>
          <a:blip r:embed="rId4"/>
          <a:stretch/>
        </p:blipFill>
        <p:spPr>
          <a:xfrm>
            <a:off x="4902120" y="4005360"/>
            <a:ext cx="39481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1 Resim" descr="logo4.png"/>
          <p:cNvPicPr/>
          <p:nvPr/>
        </p:nvPicPr>
        <p:blipFill>
          <a:blip r:embed="rId1"/>
          <a:stretch/>
        </p:blipFill>
        <p:spPr>
          <a:xfrm>
            <a:off x="222120" y="136440"/>
            <a:ext cx="1589040" cy="576360"/>
          </a:xfrm>
          <a:prstGeom prst="rect">
            <a:avLst/>
          </a:prstGeom>
          <a:ln w="0">
            <a:noFill/>
          </a:ln>
        </p:spPr>
      </p:pic>
      <p:sp>
        <p:nvSpPr>
          <p:cNvPr id="459" name="Metin kutusu 5"/>
          <p:cNvSpPr/>
          <p:nvPr/>
        </p:nvSpPr>
        <p:spPr>
          <a:xfrm>
            <a:off x="1835280" y="173160"/>
            <a:ext cx="49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 Rounded MT Bold"/>
              </a:rPr>
              <a:t>Ministry of Transport  Maritime Affairs and 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 Rounded MT Bold"/>
              </a:rPr>
              <a:t>DG for Dangerous Goods and Combined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Köşeli Çift Ayraç 1"/>
          <p:cNvSpPr/>
          <p:nvPr/>
        </p:nvSpPr>
        <p:spPr>
          <a:xfrm>
            <a:off x="384120" y="1620720"/>
            <a:ext cx="484200" cy="4860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6000"/>
              <a:gd name="textAreaBottom" fmla="*/ 486360 h 4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e848d"/>
          </a:solidFill>
          <a:ln w="25560">
            <a:solidFill>
              <a:srgbClr val="5b5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Metin kutusu 2"/>
          <p:cNvSpPr/>
          <p:nvPr/>
        </p:nvSpPr>
        <p:spPr>
          <a:xfrm>
            <a:off x="1017720" y="1438200"/>
            <a:ext cx="792000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Growth is not synonymous with development. It is obvio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But, the same goes for personal welfare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vidual choices while maximizing personal welfare, may not maximize social welfare</a:t>
            </a:r>
            <a:r>
              <a:rPr b="0" lang="tr-TR" sz="2000" spc="-1" strike="noStrike">
                <a:solidFill>
                  <a:srgbClr val="000000"/>
                </a:solidFill>
                <a:latin typeface="Arial"/>
              </a:rPr>
              <a:t>. (negative externalities of Road Tran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modes of transport use different forms of energy with varying efficiency and intensity and consequential environmental dam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er countries have low social preference for environmental effects like noise pol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Köşeli Çift Ayraç 8"/>
          <p:cNvSpPr/>
          <p:nvPr/>
        </p:nvSpPr>
        <p:spPr>
          <a:xfrm>
            <a:off x="384120" y="3500280"/>
            <a:ext cx="484200" cy="484200"/>
          </a:xfrm>
          <a:custGeom>
            <a:avLst/>
            <a:gdLst>
              <a:gd name="textAreaLeft" fmla="*/ 0 w 484200"/>
              <a:gd name="textAreaRight" fmla="*/ 484560 w 484200"/>
              <a:gd name="textAreaTop" fmla="*/ 0 h 484200"/>
              <a:gd name="textAreaBottom" fmla="*/ 48456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7e848d"/>
          </a:solidFill>
          <a:ln w="25560">
            <a:solidFill>
              <a:srgbClr val="5b5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Metin kutusu 3"/>
          <p:cNvSpPr/>
          <p:nvPr/>
        </p:nvSpPr>
        <p:spPr>
          <a:xfrm>
            <a:off x="1116000" y="712800"/>
            <a:ext cx="69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00000"/>
                </a:solidFill>
                <a:latin typeface="Arial"/>
              </a:rPr>
              <a:t>-SOME HIGHLIGHTS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00000"/>
                </a:solidFill>
                <a:latin typeface="Arial"/>
              </a:rPr>
              <a:t>SOCIAL SUSTAINABILITY VS. INTERMOD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Resim 5" descr=""/>
          <p:cNvPicPr/>
          <p:nvPr/>
        </p:nvPicPr>
        <p:blipFill>
          <a:blip r:embed="rId2"/>
          <a:stretch/>
        </p:blipFill>
        <p:spPr>
          <a:xfrm>
            <a:off x="1979640" y="4654440"/>
            <a:ext cx="5651640" cy="22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1 Resim" descr="logo4.png"/>
          <p:cNvPicPr/>
          <p:nvPr/>
        </p:nvPicPr>
        <p:blipFill>
          <a:blip r:embed="rId1"/>
          <a:stretch/>
        </p:blipFill>
        <p:spPr>
          <a:xfrm>
            <a:off x="81000" y="203040"/>
            <a:ext cx="1587600" cy="576360"/>
          </a:xfrm>
          <a:prstGeom prst="rect">
            <a:avLst/>
          </a:prstGeom>
          <a:ln w="0">
            <a:noFill/>
          </a:ln>
        </p:spPr>
      </p:pic>
      <p:pic>
        <p:nvPicPr>
          <p:cNvPr id="466" name="Resim 1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8569080" cy="4732200"/>
          </a:xfrm>
          <a:prstGeom prst="rect">
            <a:avLst/>
          </a:prstGeom>
          <a:ln w="0">
            <a:noFill/>
          </a:ln>
        </p:spPr>
      </p:pic>
      <p:sp>
        <p:nvSpPr>
          <p:cNvPr id="467" name="Metin kutusu 2"/>
          <p:cNvSpPr/>
          <p:nvPr/>
        </p:nvSpPr>
        <p:spPr>
          <a:xfrm>
            <a:off x="1116000" y="870120"/>
            <a:ext cx="720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00000"/>
                </a:solidFill>
                <a:latin typeface="Arial"/>
              </a:rPr>
              <a:t>THE PRINCIPLES OF SOCIAL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Dikdörtgen 1"/>
          <p:cNvSpPr/>
          <p:nvPr/>
        </p:nvSpPr>
        <p:spPr>
          <a:xfrm>
            <a:off x="1278000" y="739800"/>
            <a:ext cx="70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00000"/>
                </a:solidFill>
                <a:latin typeface="Arial"/>
              </a:rPr>
              <a:t>SOCIAL COSTS OF TRANS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00000"/>
                </a:solidFill>
                <a:latin typeface="Arial"/>
              </a:rPr>
              <a:t>(EXTERNAL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1 Resim" descr="logo4.png"/>
          <p:cNvPicPr/>
          <p:nvPr/>
        </p:nvPicPr>
        <p:blipFill>
          <a:blip r:embed="rId1"/>
          <a:stretch/>
        </p:blipFill>
        <p:spPr>
          <a:xfrm>
            <a:off x="179280" y="189000"/>
            <a:ext cx="1587600" cy="576000"/>
          </a:xfrm>
          <a:prstGeom prst="rect">
            <a:avLst/>
          </a:prstGeom>
          <a:ln w="0">
            <a:noFill/>
          </a:ln>
        </p:spPr>
      </p:pic>
      <p:sp>
        <p:nvSpPr>
          <p:cNvPr id="470" name="Metin kutusu 5"/>
          <p:cNvSpPr/>
          <p:nvPr/>
        </p:nvSpPr>
        <p:spPr>
          <a:xfrm>
            <a:off x="1766880" y="246240"/>
            <a:ext cx="49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 Rounded MT Bold"/>
              </a:rPr>
              <a:t>Ministry of Transport  Maritime Affairs and 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00"/>
                </a:solidFill>
                <a:latin typeface="Arial Rounded MT Bold"/>
              </a:rPr>
              <a:t>DG for Dangerous Goods and Combined 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ağ Ok Belirtme Çizgisi 2"/>
          <p:cNvSpPr/>
          <p:nvPr/>
        </p:nvSpPr>
        <p:spPr>
          <a:xfrm>
            <a:off x="636480" y="1581120"/>
            <a:ext cx="641520" cy="287280"/>
          </a:xfrm>
          <a:prstGeom prst="rightArrowCallout">
            <a:avLst>
              <a:gd name="adj1" fmla="val 25002"/>
              <a:gd name="adj2" fmla="val 25000"/>
              <a:gd name="adj3" fmla="val 25008"/>
              <a:gd name="adj4" fmla="val 64977"/>
            </a:avLst>
          </a:prstGeom>
          <a:solidFill>
            <a:srgbClr val="6ea0b0"/>
          </a:solidFill>
          <a:ln w="2556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Metin kutusu 5"/>
          <p:cNvSpPr/>
          <p:nvPr/>
        </p:nvSpPr>
        <p:spPr>
          <a:xfrm>
            <a:off x="1619280" y="1454040"/>
            <a:ext cx="4321080" cy="46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oad Cong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oad Accidents (Risk of Accid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ollution (Health Threa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Resim 6" descr=""/>
          <p:cNvPicPr/>
          <p:nvPr/>
        </p:nvPicPr>
        <p:blipFill>
          <a:blip r:embed="rId2"/>
          <a:stretch/>
        </p:blipFill>
        <p:spPr>
          <a:xfrm>
            <a:off x="636480" y="3139920"/>
            <a:ext cx="663840" cy="311400"/>
          </a:xfrm>
          <a:prstGeom prst="rect">
            <a:avLst/>
          </a:prstGeom>
          <a:ln w="0">
            <a:noFill/>
          </a:ln>
        </p:spPr>
      </p:pic>
      <p:pic>
        <p:nvPicPr>
          <p:cNvPr id="474" name="Resim 7" descr=""/>
          <p:cNvPicPr/>
          <p:nvPr/>
        </p:nvPicPr>
        <p:blipFill>
          <a:blip r:embed="rId3"/>
          <a:stretch/>
        </p:blipFill>
        <p:spPr>
          <a:xfrm>
            <a:off x="636480" y="4799160"/>
            <a:ext cx="663840" cy="311040"/>
          </a:xfrm>
          <a:prstGeom prst="rect">
            <a:avLst/>
          </a:prstGeom>
          <a:ln w="0">
            <a:noFill/>
          </a:ln>
        </p:spPr>
      </p:pic>
      <p:pic>
        <p:nvPicPr>
          <p:cNvPr id="475" name="Resim 8" descr=""/>
          <p:cNvPicPr/>
          <p:nvPr/>
        </p:nvPicPr>
        <p:blipFill>
          <a:blip r:embed="rId4"/>
          <a:stretch/>
        </p:blipFill>
        <p:spPr>
          <a:xfrm>
            <a:off x="623880" y="5840280"/>
            <a:ext cx="665280" cy="311400"/>
          </a:xfrm>
          <a:prstGeom prst="rect">
            <a:avLst/>
          </a:prstGeom>
          <a:ln w="0">
            <a:noFill/>
          </a:ln>
        </p:spPr>
      </p:pic>
      <p:pic>
        <p:nvPicPr>
          <p:cNvPr id="476" name="Resim 9" descr=""/>
          <p:cNvPicPr/>
          <p:nvPr/>
        </p:nvPicPr>
        <p:blipFill>
          <a:blip r:embed="rId5"/>
          <a:stretch/>
        </p:blipFill>
        <p:spPr>
          <a:xfrm>
            <a:off x="6216480" y="1224000"/>
            <a:ext cx="2691000" cy="1512720"/>
          </a:xfrm>
          <a:prstGeom prst="rect">
            <a:avLst/>
          </a:prstGeom>
          <a:ln w="0">
            <a:noFill/>
          </a:ln>
        </p:spPr>
      </p:pic>
      <p:pic>
        <p:nvPicPr>
          <p:cNvPr id="477" name="Resim 10" descr=""/>
          <p:cNvPicPr/>
          <p:nvPr/>
        </p:nvPicPr>
        <p:blipFill>
          <a:blip r:embed="rId6"/>
          <a:stretch/>
        </p:blipFill>
        <p:spPr>
          <a:xfrm>
            <a:off x="6284880" y="4935600"/>
            <a:ext cx="2598840" cy="1692360"/>
          </a:xfrm>
          <a:prstGeom prst="rect">
            <a:avLst/>
          </a:prstGeom>
          <a:ln w="0">
            <a:noFill/>
          </a:ln>
        </p:spPr>
      </p:pic>
      <p:pic>
        <p:nvPicPr>
          <p:cNvPr id="478" name="Resim 11" descr=""/>
          <p:cNvPicPr/>
          <p:nvPr/>
        </p:nvPicPr>
        <p:blipFill>
          <a:blip r:embed="rId7"/>
          <a:stretch/>
        </p:blipFill>
        <p:spPr>
          <a:xfrm>
            <a:off x="6335640" y="2906640"/>
            <a:ext cx="2497320" cy="1656000"/>
          </a:xfrm>
          <a:prstGeom prst="rect">
            <a:avLst/>
          </a:prstGeom>
          <a:ln w="0">
            <a:noFill/>
          </a:ln>
        </p:spPr>
      </p:pic>
      <p:pic>
        <p:nvPicPr>
          <p:cNvPr id="479" name="Resim 12" descr=""/>
          <p:cNvPicPr/>
          <p:nvPr/>
        </p:nvPicPr>
        <p:blipFill>
          <a:blip r:embed="rId8"/>
          <a:stretch/>
        </p:blipFill>
        <p:spPr>
          <a:xfrm>
            <a:off x="2714760" y="5329080"/>
            <a:ext cx="2238120" cy="133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Picture 2" descr=""/>
          <p:cNvPicPr/>
          <p:nvPr/>
        </p:nvPicPr>
        <p:blipFill>
          <a:blip r:embed="rId1"/>
          <a:stretch/>
        </p:blipFill>
        <p:spPr>
          <a:xfrm>
            <a:off x="216000" y="109440"/>
            <a:ext cx="1662120" cy="606600"/>
          </a:xfrm>
          <a:prstGeom prst="rect">
            <a:avLst/>
          </a:prstGeom>
          <a:ln w="0">
            <a:noFill/>
          </a:ln>
        </p:spPr>
      </p:pic>
      <p:pic>
        <p:nvPicPr>
          <p:cNvPr id="481" name="Resim 4" descr=""/>
          <p:cNvPicPr/>
          <p:nvPr/>
        </p:nvPicPr>
        <p:blipFill>
          <a:blip r:embed="rId2"/>
          <a:stretch/>
        </p:blipFill>
        <p:spPr>
          <a:xfrm>
            <a:off x="208080" y="836640"/>
            <a:ext cx="3759120" cy="5656320"/>
          </a:xfrm>
          <a:prstGeom prst="rect">
            <a:avLst/>
          </a:prstGeom>
          <a:ln w="0">
            <a:noFill/>
          </a:ln>
        </p:spPr>
      </p:pic>
      <p:sp>
        <p:nvSpPr>
          <p:cNvPr id="482" name="Metin kutusu 5"/>
          <p:cNvSpPr/>
          <p:nvPr/>
        </p:nvSpPr>
        <p:spPr>
          <a:xfrm>
            <a:off x="2238480" y="13500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00000"/>
                </a:solidFill>
                <a:latin typeface="Arial"/>
              </a:rPr>
              <a:t>INTERMODAL TRANSPORT STRATEGY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Resim 6" descr=""/>
          <p:cNvPicPr/>
          <p:nvPr/>
        </p:nvPicPr>
        <p:blipFill>
          <a:blip r:embed="rId3"/>
          <a:stretch/>
        </p:blipFill>
        <p:spPr>
          <a:xfrm>
            <a:off x="4600440" y="657360"/>
            <a:ext cx="3643560" cy="1812960"/>
          </a:xfrm>
          <a:prstGeom prst="rect">
            <a:avLst/>
          </a:prstGeom>
          <a:ln w="0">
            <a:noFill/>
          </a:ln>
        </p:spPr>
      </p:pic>
      <p:sp>
        <p:nvSpPr>
          <p:cNvPr id="484" name="Metin kutusu 7"/>
          <p:cNvSpPr/>
          <p:nvPr/>
        </p:nvSpPr>
        <p:spPr>
          <a:xfrm>
            <a:off x="3967200" y="2579760"/>
            <a:ext cx="508932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Operational objective 1.1: PORT INTER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Promotion of S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Improvement to maritime-railway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Operational objective 1.2: RAILWAY INTER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Rail Freight Corrid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Overland Inter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Operational objective 2.1: TRANSPORT PLAN FOR TUR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Measurement of goods traffic and flow stu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Proposed courses of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Plan Implementation and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Operational objective 2.2: LOGISTICS MASTER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Diagnosis of logistics sec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Analysis of production and logistics 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Definition of logistics enclaves and cen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Logistics map of Tur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"/>
          <p:cNvPicPr/>
          <p:nvPr/>
        </p:nvPicPr>
        <p:blipFill>
          <a:blip r:embed="rId1"/>
          <a:stretch/>
        </p:blipFill>
        <p:spPr>
          <a:xfrm>
            <a:off x="216000" y="109440"/>
            <a:ext cx="1662120" cy="606600"/>
          </a:xfrm>
          <a:prstGeom prst="rect">
            <a:avLst/>
          </a:prstGeom>
          <a:ln w="0">
            <a:noFill/>
          </a:ln>
        </p:spPr>
      </p:pic>
      <p:sp>
        <p:nvSpPr>
          <p:cNvPr id="486" name="Metin kutusu 5"/>
          <p:cNvSpPr/>
          <p:nvPr/>
        </p:nvSpPr>
        <p:spPr>
          <a:xfrm>
            <a:off x="2238480" y="228600"/>
            <a:ext cx="65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c00000"/>
                </a:solidFill>
                <a:latin typeface="Arial"/>
              </a:rPr>
              <a:t>INTERMODAL TRANSPORT STRATEGY PAPER- 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Resim 6" descr=""/>
          <p:cNvPicPr/>
          <p:nvPr/>
        </p:nvPicPr>
        <p:blipFill>
          <a:blip r:embed="rId2"/>
          <a:stretch/>
        </p:blipFill>
        <p:spPr>
          <a:xfrm>
            <a:off x="4568760" y="693720"/>
            <a:ext cx="3643200" cy="1812960"/>
          </a:xfrm>
          <a:prstGeom prst="rect">
            <a:avLst/>
          </a:prstGeom>
          <a:ln w="0">
            <a:noFill/>
          </a:ln>
        </p:spPr>
      </p:pic>
      <p:sp>
        <p:nvSpPr>
          <p:cNvPr id="488" name="Metin kutusu 7"/>
          <p:cNvSpPr/>
          <p:nvPr/>
        </p:nvSpPr>
        <p:spPr>
          <a:xfrm>
            <a:off x="3981600" y="2708280"/>
            <a:ext cx="5087880" cy="39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Operational objective 3.1: SUPPLEMENTAL LEGIS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 of Logistic Sector Legisl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asibility Study for a Single C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CT Permanent 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Arbitration for solving CT Probl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Operational objective 3.2: INCENTIVES FOR 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chnical Commission for the Study of Combined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Incentives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ment of Public-Private Sector Dialo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Operational objective 4.1: CUSTOMS OPER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Single Wind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Bilateral Agreements with border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Operational objective 4.2: PORT COMMUNITY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Turkish Port Community Syst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Public-Private Dialo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Resim 2" descr=""/>
          <p:cNvPicPr/>
          <p:nvPr/>
        </p:nvPicPr>
        <p:blipFill>
          <a:blip r:embed="rId3"/>
          <a:stretch/>
        </p:blipFill>
        <p:spPr>
          <a:xfrm>
            <a:off x="162000" y="981000"/>
            <a:ext cx="3736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2" descr=""/>
          <p:cNvPicPr/>
          <p:nvPr/>
        </p:nvPicPr>
        <p:blipFill>
          <a:blip r:embed="rId1"/>
          <a:stretch/>
        </p:blipFill>
        <p:spPr>
          <a:xfrm>
            <a:off x="168120" y="201600"/>
            <a:ext cx="1662120" cy="606600"/>
          </a:xfrm>
          <a:prstGeom prst="rect">
            <a:avLst/>
          </a:prstGeom>
          <a:ln w="0">
            <a:noFill/>
          </a:ln>
        </p:spPr>
      </p:pic>
      <p:sp>
        <p:nvSpPr>
          <p:cNvPr id="491" name="Metin kutusu 5"/>
          <p:cNvSpPr/>
          <p:nvPr/>
        </p:nvSpPr>
        <p:spPr>
          <a:xfrm>
            <a:off x="2033640" y="338040"/>
            <a:ext cx="69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DRAFT REGULATION ON COMBINED FREIGH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Metin kutusu 7"/>
          <p:cNvSpPr/>
          <p:nvPr/>
        </p:nvSpPr>
        <p:spPr>
          <a:xfrm>
            <a:off x="174600" y="1197000"/>
            <a:ext cx="614376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400" spc="-1" strike="noStrike">
                <a:solidFill>
                  <a:srgbClr val="003366"/>
                </a:solidFill>
                <a:latin typeface="Arial"/>
              </a:rPr>
              <a:t>MAIN CHAPTERS IN THE REG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Combined Freight Terminals (Dry Por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Administrative and Technical criteria for the establishment of C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Termin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-     Licen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Incentives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Financial/fisca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entives to the supply of services for the creation and/or improvement of combined transport rout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Administrativ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entives 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such as flexibility in weight and dimension of vehicles, discount in motorways fee, passage priaority in border Gates, lifting restrictions on holiday and weekend drive on road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ff0000"/>
                </a:solidFill>
                <a:latin typeface="Arial"/>
              </a:rPr>
              <a:t>Combined Transport Permanent Platform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ltation body and the main instrument for private sect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cipation in the combined transport policy.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Observatory of combined transport market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onitor the combined transport market, included supply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and, traffics, prices, costs, services facilities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 et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tr-T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lect the figures, and the statistics data need to monitoring mark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Resim 1" descr=""/>
          <p:cNvPicPr/>
          <p:nvPr/>
        </p:nvPicPr>
        <p:blipFill>
          <a:blip r:embed="rId2"/>
          <a:stretch/>
        </p:blipFill>
        <p:spPr>
          <a:xfrm>
            <a:off x="6318360" y="816120"/>
            <a:ext cx="2286000" cy="2108160"/>
          </a:xfrm>
          <a:prstGeom prst="rect">
            <a:avLst/>
          </a:prstGeom>
          <a:ln w="0">
            <a:noFill/>
          </a:ln>
        </p:spPr>
      </p:pic>
      <p:pic>
        <p:nvPicPr>
          <p:cNvPr id="494" name="Resim 3" descr=""/>
          <p:cNvPicPr/>
          <p:nvPr/>
        </p:nvPicPr>
        <p:blipFill>
          <a:blip r:embed="rId3"/>
          <a:stretch/>
        </p:blipFill>
        <p:spPr>
          <a:xfrm>
            <a:off x="6356520" y="3121200"/>
            <a:ext cx="2253960" cy="1728720"/>
          </a:xfrm>
          <a:prstGeom prst="rect">
            <a:avLst/>
          </a:prstGeom>
          <a:ln w="0">
            <a:noFill/>
          </a:ln>
        </p:spPr>
      </p:pic>
      <p:pic>
        <p:nvPicPr>
          <p:cNvPr id="495" name="Resim 4" descr=""/>
          <p:cNvPicPr/>
          <p:nvPr/>
        </p:nvPicPr>
        <p:blipFill>
          <a:blip r:embed="rId4"/>
          <a:stretch/>
        </p:blipFill>
        <p:spPr>
          <a:xfrm>
            <a:off x="6084720" y="5078520"/>
            <a:ext cx="2762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1 Resim" descr="logo4.png"/>
          <p:cNvPicPr/>
          <p:nvPr/>
        </p:nvPicPr>
        <p:blipFill>
          <a:blip r:embed="rId1"/>
          <a:stretch/>
        </p:blipFill>
        <p:spPr>
          <a:xfrm>
            <a:off x="201600" y="266760"/>
            <a:ext cx="1589040" cy="576360"/>
          </a:xfrm>
          <a:prstGeom prst="rect">
            <a:avLst/>
          </a:prstGeom>
          <a:ln w="0">
            <a:noFill/>
          </a:ln>
        </p:spPr>
      </p:pic>
      <p:sp>
        <p:nvSpPr>
          <p:cNvPr id="497" name="Metin kutusu 3"/>
          <p:cNvSpPr/>
          <p:nvPr/>
        </p:nvSpPr>
        <p:spPr>
          <a:xfrm>
            <a:off x="1994040" y="48096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2060"/>
                </a:solidFill>
                <a:latin typeface="Arial"/>
              </a:rPr>
              <a:t>ADMINISTRATIVE INCEN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Şeritli Sağ Ok 1"/>
          <p:cNvSpPr/>
          <p:nvPr/>
        </p:nvSpPr>
        <p:spPr>
          <a:xfrm>
            <a:off x="179280" y="1284120"/>
            <a:ext cx="505080" cy="360360"/>
          </a:xfrm>
          <a:custGeom>
            <a:avLst/>
            <a:gdLst/>
            <a:ahLst/>
            <a:rect l="l" t="t" r="r" b="b"/>
            <a:pathLst>
              <a:path w="504825" h="360362">
                <a:moveTo>
                  <a:pt x="0" y="90091"/>
                </a:moveTo>
                <a:lnTo>
                  <a:pt x="11261" y="90091"/>
                </a:lnTo>
                <a:lnTo>
                  <a:pt x="11261" y="270272"/>
                </a:lnTo>
                <a:lnTo>
                  <a:pt x="0" y="270272"/>
                </a:lnTo>
                <a:lnTo>
                  <a:pt x="0" y="90091"/>
                </a:lnTo>
                <a:close/>
                <a:moveTo>
                  <a:pt x="22523" y="90091"/>
                </a:moveTo>
                <a:lnTo>
                  <a:pt x="45045" y="90091"/>
                </a:lnTo>
                <a:lnTo>
                  <a:pt x="45045" y="270272"/>
                </a:lnTo>
                <a:lnTo>
                  <a:pt x="22523" y="270272"/>
                </a:lnTo>
                <a:lnTo>
                  <a:pt x="22523" y="90091"/>
                </a:lnTo>
                <a:close/>
                <a:moveTo>
                  <a:pt x="56307" y="90091"/>
                </a:moveTo>
                <a:lnTo>
                  <a:pt x="324644" y="90091"/>
                </a:lnTo>
                <a:lnTo>
                  <a:pt x="324644" y="0"/>
                </a:lnTo>
                <a:lnTo>
                  <a:pt x="504825" y="180181"/>
                </a:lnTo>
                <a:lnTo>
                  <a:pt x="324644" y="360362"/>
                </a:lnTo>
                <a:lnTo>
                  <a:pt x="324644" y="270272"/>
                </a:lnTo>
                <a:lnTo>
                  <a:pt x="56307" y="270272"/>
                </a:lnTo>
                <a:lnTo>
                  <a:pt x="56307" y="90091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Metin kutusu 2"/>
          <p:cNvSpPr/>
          <p:nvPr/>
        </p:nvSpPr>
        <p:spPr>
          <a:xfrm>
            <a:off x="785880" y="1268280"/>
            <a:ext cx="8107200" cy="49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TOLERANCE ON WEIGHT AND DIMENSION OF THE ROAD VEHICLES ENGAGED IN COMBINED TRANSPOR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DISCOUNTED TOLL PRICE (ROAD USER CHAR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EXEMPTION OF HOLIDAY AND WEEKEND RESTRICTIONS ON HGV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(IT CAN BE VERY USEFUL IN ISTANBU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FACILITATION OF BORDER CROSSING OF THE TRUCKS ENGAGED IN COMBINED TRANSPORT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tr-TR" sz="1800" spc="-1" strike="noStrike">
                <a:solidFill>
                  <a:srgbClr val="ff0000"/>
                </a:solidFill>
                <a:latin typeface="Arial"/>
              </a:rPr>
              <a:t>HOW ABOUT STIMULATIVE MEASURES FINANCIALLY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Şeritli Sağ Ok 6"/>
          <p:cNvSpPr/>
          <p:nvPr/>
        </p:nvSpPr>
        <p:spPr>
          <a:xfrm>
            <a:off x="179280" y="2349360"/>
            <a:ext cx="505080" cy="358920"/>
          </a:xfrm>
          <a:custGeom>
            <a:avLst/>
            <a:gdLst/>
            <a:ahLst/>
            <a:rect l="l" t="t" r="r" b="b"/>
            <a:pathLst>
              <a:path w="504825" h="358775">
                <a:moveTo>
                  <a:pt x="0" y="89694"/>
                </a:moveTo>
                <a:lnTo>
                  <a:pt x="11212" y="89694"/>
                </a:lnTo>
                <a:lnTo>
                  <a:pt x="11212" y="269081"/>
                </a:lnTo>
                <a:lnTo>
                  <a:pt x="0" y="269081"/>
                </a:lnTo>
                <a:lnTo>
                  <a:pt x="0" y="89694"/>
                </a:lnTo>
                <a:close/>
                <a:moveTo>
                  <a:pt x="22423" y="89694"/>
                </a:moveTo>
                <a:lnTo>
                  <a:pt x="44847" y="89694"/>
                </a:lnTo>
                <a:lnTo>
                  <a:pt x="44847" y="269081"/>
                </a:lnTo>
                <a:lnTo>
                  <a:pt x="22423" y="269081"/>
                </a:lnTo>
                <a:lnTo>
                  <a:pt x="22423" y="89694"/>
                </a:lnTo>
                <a:close/>
                <a:moveTo>
                  <a:pt x="56059" y="89694"/>
                </a:moveTo>
                <a:lnTo>
                  <a:pt x="325438" y="89694"/>
                </a:lnTo>
                <a:lnTo>
                  <a:pt x="325438" y="0"/>
                </a:lnTo>
                <a:lnTo>
                  <a:pt x="504825" y="179388"/>
                </a:lnTo>
                <a:lnTo>
                  <a:pt x="325438" y="358775"/>
                </a:lnTo>
                <a:lnTo>
                  <a:pt x="325438" y="269081"/>
                </a:lnTo>
                <a:lnTo>
                  <a:pt x="56059" y="269081"/>
                </a:lnTo>
                <a:lnTo>
                  <a:pt x="56059" y="8969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Şeritli Sağ Ok 7"/>
          <p:cNvSpPr/>
          <p:nvPr/>
        </p:nvSpPr>
        <p:spPr>
          <a:xfrm>
            <a:off x="179280" y="3363840"/>
            <a:ext cx="505080" cy="360360"/>
          </a:xfrm>
          <a:custGeom>
            <a:avLst/>
            <a:gdLst/>
            <a:ahLst/>
            <a:rect l="l" t="t" r="r" b="b"/>
            <a:pathLst>
              <a:path w="504825" h="360362">
                <a:moveTo>
                  <a:pt x="0" y="90091"/>
                </a:moveTo>
                <a:lnTo>
                  <a:pt x="11261" y="90091"/>
                </a:lnTo>
                <a:lnTo>
                  <a:pt x="11261" y="270272"/>
                </a:lnTo>
                <a:lnTo>
                  <a:pt x="0" y="270272"/>
                </a:lnTo>
                <a:lnTo>
                  <a:pt x="0" y="90091"/>
                </a:lnTo>
                <a:close/>
                <a:moveTo>
                  <a:pt x="22523" y="90091"/>
                </a:moveTo>
                <a:lnTo>
                  <a:pt x="45045" y="90091"/>
                </a:lnTo>
                <a:lnTo>
                  <a:pt x="45045" y="270272"/>
                </a:lnTo>
                <a:lnTo>
                  <a:pt x="22523" y="270272"/>
                </a:lnTo>
                <a:lnTo>
                  <a:pt x="22523" y="90091"/>
                </a:lnTo>
                <a:close/>
                <a:moveTo>
                  <a:pt x="56307" y="90091"/>
                </a:moveTo>
                <a:lnTo>
                  <a:pt x="324644" y="90091"/>
                </a:lnTo>
                <a:lnTo>
                  <a:pt x="324644" y="0"/>
                </a:lnTo>
                <a:lnTo>
                  <a:pt x="504825" y="180181"/>
                </a:lnTo>
                <a:lnTo>
                  <a:pt x="324644" y="360362"/>
                </a:lnTo>
                <a:lnTo>
                  <a:pt x="324644" y="270272"/>
                </a:lnTo>
                <a:lnTo>
                  <a:pt x="56307" y="270272"/>
                </a:lnTo>
                <a:lnTo>
                  <a:pt x="56307" y="90091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Şeritli Sağ Ok 8"/>
          <p:cNvSpPr/>
          <p:nvPr/>
        </p:nvSpPr>
        <p:spPr>
          <a:xfrm>
            <a:off x="201600" y="4508640"/>
            <a:ext cx="504720" cy="360360"/>
          </a:xfrm>
          <a:custGeom>
            <a:avLst/>
            <a:gdLst/>
            <a:ahLst/>
            <a:rect l="l" t="t" r="r" b="b"/>
            <a:pathLst>
              <a:path w="504825" h="360363">
                <a:moveTo>
                  <a:pt x="0" y="90091"/>
                </a:moveTo>
                <a:lnTo>
                  <a:pt x="11261" y="90091"/>
                </a:lnTo>
                <a:lnTo>
                  <a:pt x="11261" y="270272"/>
                </a:lnTo>
                <a:lnTo>
                  <a:pt x="0" y="270272"/>
                </a:lnTo>
                <a:lnTo>
                  <a:pt x="0" y="90091"/>
                </a:lnTo>
                <a:close/>
                <a:moveTo>
                  <a:pt x="22523" y="90091"/>
                </a:moveTo>
                <a:lnTo>
                  <a:pt x="45045" y="90091"/>
                </a:lnTo>
                <a:lnTo>
                  <a:pt x="45045" y="270272"/>
                </a:lnTo>
                <a:lnTo>
                  <a:pt x="22523" y="270272"/>
                </a:lnTo>
                <a:lnTo>
                  <a:pt x="22523" y="90091"/>
                </a:lnTo>
                <a:close/>
                <a:moveTo>
                  <a:pt x="56307" y="90091"/>
                </a:moveTo>
                <a:lnTo>
                  <a:pt x="324644" y="90091"/>
                </a:lnTo>
                <a:lnTo>
                  <a:pt x="324644" y="0"/>
                </a:lnTo>
                <a:lnTo>
                  <a:pt x="504825" y="180182"/>
                </a:lnTo>
                <a:lnTo>
                  <a:pt x="324644" y="360363"/>
                </a:lnTo>
                <a:lnTo>
                  <a:pt x="324644" y="270272"/>
                </a:lnTo>
                <a:lnTo>
                  <a:pt x="56307" y="270272"/>
                </a:lnTo>
                <a:lnTo>
                  <a:pt x="56307" y="90091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16200000"/>
          </a:gradFill>
          <a:ln w="93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07:32:31Z</dcterms:created>
  <dc:creator>Administrator</dc:creator>
  <dc:description/>
  <dc:language>en-US</dc:language>
  <cp:lastModifiedBy>Bülent Süloğlu</cp:lastModifiedBy>
  <dcterms:modified xsi:type="dcterms:W3CDTF">2015-11-24T13:06:40Z</dcterms:modified>
  <cp:revision>666</cp:revision>
  <dc:subject/>
  <dc:title>Slayt 1</dc:title>
</cp:coreProperties>
</file>