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A0CB-93B2-4B96-9DA1-EAA136A7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5404-B9EE-41AD-AEB6-D83258961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18C5-8048-45CC-8702-DE943DE18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2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4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50920" y="189000"/>
            <a:ext cx="8640720" cy="938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2305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Slide </a:t>
            </a:r>
            <a:fld id="{8E6DD364-9245-4A2F-AF45-6539B62CFFFF}" type="slidenum">
              <a:rPr b="1" lang="en-US" sz="1200" spc="-1" strike="noStrike">
                <a:solidFill>
                  <a:srgbClr val="003399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18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6" name="Group 41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57" name="Group 42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58" name="Rectangle 4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9" name="Group 44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60" name="Picture 45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46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47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48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49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50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51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" name="Rectangle 52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68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– Sustainable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09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110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11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112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0" name="Rectangle 17"/>
          <p:cNvSpPr/>
          <p:nvPr/>
        </p:nvSpPr>
        <p:spPr>
          <a:xfrm>
            <a:off x="250920" y="189000"/>
            <a:ext cx="8640720" cy="938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Slide </a:t>
            </a:r>
            <a:fld id="{B9C87FDF-4AF5-45EF-8803-FBAD520255B2}" type="slidenum">
              <a:rPr b="1" lang="en-US" sz="1200" spc="-1" strike="noStrike">
                <a:solidFill>
                  <a:srgbClr val="003399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2"/>
          </p:nvPr>
        </p:nvSpPr>
        <p:spPr>
          <a:xfrm>
            <a:off x="250920" y="6381720"/>
            <a:ext cx="2233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1403280" y="447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5219640" y="5064120"/>
            <a:ext cx="3025800" cy="380880"/>
          </a:xfrm>
          <a:prstGeom prst="roundRect">
            <a:avLst>
              <a:gd name="adj" fmla="val 4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Trebuchet MS"/>
              </a:rPr>
              <a:t>Geneva, 1 December 201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4" name="Picture 28" descr="XB2Z4448"/>
          <p:cNvPicPr/>
          <p:nvPr/>
        </p:nvPicPr>
        <p:blipFill>
          <a:blip r:embed="rId1"/>
          <a:stretch/>
        </p:blipFill>
        <p:spPr>
          <a:xfrm>
            <a:off x="2195640" y="1700280"/>
            <a:ext cx="2160360" cy="1584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75" name="Rectangle 33"/>
          <p:cNvSpPr/>
          <p:nvPr/>
        </p:nvSpPr>
        <p:spPr>
          <a:xfrm>
            <a:off x="4500720" y="1771560"/>
            <a:ext cx="431928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rebuchet MS"/>
              </a:rPr>
              <a:t>Working Party on Intermodal Transport and Logistics WP.2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rebuchet MS"/>
              </a:rPr>
              <a:t>Agenda item 10</a:t>
            </a:r>
            <a:br>
              <a:rPr sz="2800"/>
            </a:br>
            <a:r>
              <a:rPr b="1" lang="en-GB" sz="1600" spc="-1" strike="noStrike">
                <a:solidFill>
                  <a:srgbClr val="003399"/>
                </a:solidFill>
                <a:latin typeface="Trebuchet MS"/>
              </a:rPr>
              <a:t>Preparing National Master Plans on freight transport and logistic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6" name="Picture 35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2160720" cy="17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7" descr="WW Kirk Deighton General 20-10-05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79280" y="1676520"/>
            <a:ext cx="2089080" cy="16081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78" name="Picture 39" descr="pitopia_50421"/>
          <p:cNvPicPr/>
          <p:nvPr/>
        </p:nvPicPr>
        <p:blipFill>
          <a:blip r:embed="rId4"/>
          <a:stretch/>
        </p:blipFill>
        <p:spPr>
          <a:xfrm>
            <a:off x="2268360" y="3284640"/>
            <a:ext cx="2087640" cy="1682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0"/>
          <p:cNvSpPr/>
          <p:nvPr/>
        </p:nvSpPr>
        <p:spPr>
          <a:xfrm>
            <a:off x="179280" y="5013360"/>
            <a:ext cx="43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Francesco Dionori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Chief of Transport Networks and Logistics Sec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Sustainable Transport Divis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708200" y="1125360"/>
            <a:ext cx="5527800" cy="466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332000" y="189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National Freight and Logistics Masterpla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National Freight and Logistics Masterplan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7520" y="198864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Preparation of a tool-box of policy meas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Financial incent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Regulatory incent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Definition of policy incentiv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Description, advantages, disadvantages, cost, implementation timescales, impact, et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Valerie Blanchard</dc:creator>
  <dc:description/>
  <dc:language>en-US</dc:language>
  <cp:lastModifiedBy>crp.3</cp:lastModifiedBy>
  <cp:lastPrinted>2015-11-11T07:56:34Z</cp:lastPrinted>
  <dcterms:modified xsi:type="dcterms:W3CDTF">2015-12-03T09:15:44Z</dcterms:modified>
  <cp:revision>196</cp:revision>
  <dc:subject/>
  <dc:title>PowerPoint Presentation</dc:title>
</cp:coreProperties>
</file>