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10.wmf" ContentType="image/x-wmf"/>
  <Override PartName="/ppt/media/image12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3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5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4A9F-8E65-4DD3-AF18-91DED1A8D0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C6D9-F24F-469F-B9E7-4077F12CA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89F8-6230-4C7C-B464-C21851A16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264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892480" y="22766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16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264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892480" y="4119840"/>
            <a:ext cx="2551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41198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2276640"/>
            <a:ext cx="386712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160" y="4119840"/>
            <a:ext cx="7924680" cy="16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2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3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4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Rectangle 17"/>
          <p:cNvSpPr/>
          <p:nvPr/>
        </p:nvSpPr>
        <p:spPr>
          <a:xfrm>
            <a:off x="250920" y="189000"/>
            <a:ext cx="8640720" cy="938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230508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Slide </a:t>
            </a:r>
            <a:fld id="{658243B8-7CAB-4E7C-A3D9-3D0FC6C4B193}" type="slidenum">
              <a:rPr b="1" lang="en-US" sz="1200" spc="-1" strike="noStrike">
                <a:solidFill>
                  <a:srgbClr val="003399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18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56" name="Group 41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57" name="Group 42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58" name="Rectangle 4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59" name="Group 44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60" name="Picture 45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46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47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48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49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50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51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67" name="Rectangle 52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68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– Sustainable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5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09" name="Group 34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110" name="Rectangle 23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11" name="Group 33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112" name="Picture 24" descr="truck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25" descr="way © olly #7421689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6" descr="Future Sign © Rafael Ramirezooo Lee #11477676 copy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7" descr="highway © olly #13933418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8" descr="sunrising on ferry #875589 © trialartinf #875589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9" descr="2250126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30" descr="wheelchair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9" name="Rectangle 31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20" name="Rectangle 17"/>
          <p:cNvSpPr/>
          <p:nvPr/>
        </p:nvSpPr>
        <p:spPr>
          <a:xfrm>
            <a:off x="250920" y="189000"/>
            <a:ext cx="8640720" cy="9381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3399"/>
                </a:solidFill>
                <a:latin typeface="Trebuchet MS"/>
              </a:rPr>
              <a:t>Slide </a:t>
            </a:r>
            <a:fld id="{25D4549B-D194-4C46-886C-E5C76A042B4F}" type="slidenum">
              <a:rPr b="1" lang="en-US" sz="1200" spc="-1" strike="noStrike">
                <a:solidFill>
                  <a:srgbClr val="003399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3399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22" name="Picture 65" descr="White-UN-logo-transp-bg"/>
          <p:cNvPicPr/>
          <p:nvPr/>
        </p:nvPicPr>
        <p:blipFill>
          <a:blip r:embed="rId9"/>
          <a:srcRect l="0" t="0" r="0" b="12248"/>
          <a:stretch/>
        </p:blipFill>
        <p:spPr>
          <a:xfrm>
            <a:off x="366840" y="295200"/>
            <a:ext cx="863640" cy="779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Text Box 47"/>
          <p:cNvSpPr/>
          <p:nvPr/>
        </p:nvSpPr>
        <p:spPr>
          <a:xfrm>
            <a:off x="250920" y="6021360"/>
            <a:ext cx="8642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rebuchet MS"/>
              </a:rPr>
              <a:t>UNECE - Transport Division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33160" y="2276640"/>
            <a:ext cx="7924680" cy="35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2"/>
          </p:nvPr>
        </p:nvSpPr>
        <p:spPr>
          <a:xfrm>
            <a:off x="250920" y="6381720"/>
            <a:ext cx="22334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Rectangle 20"/>
          <p:cNvSpPr/>
          <p:nvPr/>
        </p:nvSpPr>
        <p:spPr>
          <a:xfrm>
            <a:off x="1403280" y="44784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rebuchet MS"/>
              </a:rPr>
              <a:t>United Nations Economic Commission for Europe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AutoShape 22"/>
          <p:cNvSpPr/>
          <p:nvPr/>
        </p:nvSpPr>
        <p:spPr>
          <a:xfrm>
            <a:off x="5219640" y="5064120"/>
            <a:ext cx="3025800" cy="380880"/>
          </a:xfrm>
          <a:prstGeom prst="roundRect">
            <a:avLst>
              <a:gd name="adj" fmla="val 4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Trebuchet MS"/>
              </a:rPr>
              <a:t>Geneva, 1 December 2015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4" name="Picture 28" descr="XB2Z4448"/>
          <p:cNvPicPr/>
          <p:nvPr/>
        </p:nvPicPr>
        <p:blipFill>
          <a:blip r:embed="rId1"/>
          <a:stretch/>
        </p:blipFill>
        <p:spPr>
          <a:xfrm>
            <a:off x="2195640" y="1700280"/>
            <a:ext cx="2160360" cy="158436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sp>
        <p:nvSpPr>
          <p:cNvPr id="175" name="Rectangle 33"/>
          <p:cNvSpPr/>
          <p:nvPr/>
        </p:nvSpPr>
        <p:spPr>
          <a:xfrm>
            <a:off x="4500720" y="1771560"/>
            <a:ext cx="431928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Trebuchet MS"/>
              </a:rPr>
              <a:t>Working Party on Intermodal Transport and Logistics WP.24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rebuchet MS"/>
              </a:rPr>
              <a:t>Agenda item 10</a:t>
            </a:r>
            <a:br>
              <a:rPr sz="2800"/>
            </a:br>
            <a:r>
              <a:rPr b="1" lang="en-GB" sz="1600" spc="-1" strike="noStrike">
                <a:solidFill>
                  <a:srgbClr val="003399"/>
                </a:solidFill>
                <a:latin typeface="Trebuchet MS"/>
              </a:rPr>
              <a:t>Preparing National Master Plans on freight transport and logistics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6" name="Picture 35" descr=""/>
          <p:cNvPicPr/>
          <p:nvPr/>
        </p:nvPicPr>
        <p:blipFill>
          <a:blip r:embed="rId2"/>
          <a:stretch/>
        </p:blipFill>
        <p:spPr>
          <a:xfrm>
            <a:off x="179280" y="3213000"/>
            <a:ext cx="2160720" cy="17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7" descr="WW Kirk Deighton General 20-10-05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79280" y="1676520"/>
            <a:ext cx="2089080" cy="160812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178" name="Picture 39" descr="pitopia_50421"/>
          <p:cNvPicPr/>
          <p:nvPr/>
        </p:nvPicPr>
        <p:blipFill>
          <a:blip r:embed="rId4"/>
          <a:stretch/>
        </p:blipFill>
        <p:spPr>
          <a:xfrm>
            <a:off x="2268360" y="3284640"/>
            <a:ext cx="2087640" cy="168264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0"/>
          <p:cNvSpPr/>
          <p:nvPr/>
        </p:nvSpPr>
        <p:spPr>
          <a:xfrm>
            <a:off x="179280" y="5013360"/>
            <a:ext cx="43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Francesco Dionori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Chief of Transport Networks and Logistics Sec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3399"/>
                </a:solidFill>
                <a:latin typeface="Trebuchet MS"/>
              </a:rPr>
              <a:t>Sustainable Transport Divis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1708200" y="1125360"/>
            <a:ext cx="5527800" cy="466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1332000" y="189000"/>
            <a:ext cx="734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National Freight and Logistics Masterplans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7343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rebuchet MS"/>
              </a:rPr>
              <a:t>National Freight and Logistics Masterplans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87520" y="198864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Preparation of a tool-box of policy measur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Financial incent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Regulatory incent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rebuchet MS"/>
                <a:ea typeface="Arial"/>
              </a:rPr>
              <a:t>Definition of policy incentiv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rebuchet MS"/>
                <a:ea typeface="Arial"/>
              </a:rPr>
              <a:t>Description, advantages, disadvantages, cost, implementation timescales, impact, etc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Valerie Blanchard</dc:creator>
  <dc:description/>
  <dc:language>en-US</dc:language>
  <cp:lastModifiedBy>crp.3</cp:lastModifiedBy>
  <cp:lastPrinted>2015-11-11T07:56:34Z</cp:lastPrinted>
  <dcterms:modified xsi:type="dcterms:W3CDTF">2015-12-03T09:15:44Z</dcterms:modified>
  <cp:revision>196</cp:revision>
  <dc:subject/>
  <dc:title>PowerPoint Presentation</dc:title>
</cp:coreProperties>
</file>