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4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5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A020-3D7C-4F9F-A2A1-06BA7E4C6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F074-8863-4CF3-919D-FF615698D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D4AC-B239-48BB-9F56-33B35E144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7F4A-FA7A-4ABB-AA25-7164D5363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E8F1-CA6C-4194-BC8F-B3B992481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1264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9248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3316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1264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9248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9200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1264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89248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16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1264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89248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9200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264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9248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16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264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9248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9200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1" name="Group 34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2" name="Rectangle 23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" name="Group 33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4" name="Picture 24" descr="truck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" name="Picture 25" descr="way © olly #742168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26" descr="Future Sign © Rafael Ramirezooo Lee #11477676 copy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" name="Picture 27" descr="highway © olly #13933418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" name="Picture 28" descr="sunrising on ferry #875589 © trialartinf #87558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" name="Picture 29" descr="2250126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Picture 30" descr="wheelchair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" name="Rectangle 31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250920" y="189000"/>
            <a:ext cx="8640720" cy="938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250560" y="6381720"/>
            <a:ext cx="2305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Rectangle 7"/>
          <p:cNvSpPr/>
          <p:nvPr/>
        </p:nvSpPr>
        <p:spPr>
          <a:xfrm>
            <a:off x="6948360" y="6381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fr-CH" sz="1200" spc="-1" strike="noStrike">
                <a:solidFill>
                  <a:srgbClr val="003399"/>
                </a:solidFill>
                <a:latin typeface="Trebuchet MS"/>
              </a:rPr>
              <a:t>Slide </a:t>
            </a:r>
            <a:fld id="{320B2BD3-EBC1-4D4C-8F01-462B0767F270}" type="slidenum">
              <a:rPr b="1" lang="en-US" sz="1200" spc="-1" strike="noStrike">
                <a:solidFill>
                  <a:srgbClr val="003399"/>
                </a:solidFill>
                <a:latin typeface="Trebuchet MS"/>
              </a:rPr>
              <a:t>&lt;number&gt;</a:t>
            </a:fld>
            <a:r>
              <a:rPr b="1" lang="en-US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" name="Picture 65" descr="White-UN-logo-transp-bg"/>
          <p:cNvPicPr/>
          <p:nvPr/>
        </p:nvPicPr>
        <p:blipFill>
          <a:blip r:embed="rId9"/>
          <a:srcRect l="0" t="0" r="0" b="12248"/>
          <a:stretch/>
        </p:blipFill>
        <p:spPr>
          <a:xfrm>
            <a:off x="366840" y="295200"/>
            <a:ext cx="863640" cy="779400"/>
          </a:xfrm>
          <a:prstGeom prst="rect">
            <a:avLst/>
          </a:prstGeom>
          <a:ln w="0">
            <a:noFill/>
          </a:ln>
        </p:spPr>
      </p:pic>
      <p:sp>
        <p:nvSpPr>
          <p:cNvPr id="18" name="Text Box 47"/>
          <p:cNvSpPr/>
          <p:nvPr/>
        </p:nvSpPr>
        <p:spPr>
          <a:xfrm>
            <a:off x="250920" y="6021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rebuchet MS"/>
              </a:rPr>
              <a:t>UNECE -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250920" y="189000"/>
            <a:ext cx="8640720" cy="936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56" name="Group 41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57" name="Group 42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58" name="Rectangle 43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59" name="Group 44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60" name="Picture 45" descr="truck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46" descr="way © olly #742168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47" descr="Future Sign © Rafael Ramirezooo Lee #11477676 copy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48" descr="highway © olly #13933418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49" descr="sunrising on ferry #875589 © trialartinf #87558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50" descr="2250126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51" descr="wheelchair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" name="Rectangle 52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68" name="Picture 65" descr="White-UN-logo-transp-bg"/>
          <p:cNvPicPr/>
          <p:nvPr/>
        </p:nvPicPr>
        <p:blipFill>
          <a:blip r:embed="rId9"/>
          <a:srcRect l="0" t="0" r="0" b="12248"/>
          <a:stretch/>
        </p:blipFill>
        <p:spPr>
          <a:xfrm>
            <a:off x="366840" y="295200"/>
            <a:ext cx="863640" cy="779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7"/>
          <p:cNvSpPr/>
          <p:nvPr/>
        </p:nvSpPr>
        <p:spPr>
          <a:xfrm>
            <a:off x="250920" y="6021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rebuchet MS"/>
              </a:rPr>
              <a:t>UNECE – Sustainable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5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109" name="Group 34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110" name="Rectangle 23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11" name="Group 33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112" name="Picture 24" descr="truck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25" descr="way © olly #742168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6" descr="Future Sign © Rafael Ramirezooo Lee #11477676 copy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7" descr="highway © olly #13933418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8" descr="sunrising on ferry #875589 © trialartinf #87558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9" descr="2250126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30" descr="wheelchair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9" name="Rectangle 31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20" name="Rectangle 17"/>
          <p:cNvSpPr/>
          <p:nvPr/>
        </p:nvSpPr>
        <p:spPr>
          <a:xfrm>
            <a:off x="250920" y="189000"/>
            <a:ext cx="8640720" cy="938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948360" y="6381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fr-CH" sz="1200" spc="-1" strike="noStrike">
                <a:solidFill>
                  <a:srgbClr val="003399"/>
                </a:solidFill>
                <a:latin typeface="Trebuchet MS"/>
              </a:rPr>
              <a:t>Slide </a:t>
            </a:r>
            <a:fld id="{0B04A3AE-90CF-4717-8C17-318081BAAD0A}" type="slidenum">
              <a:rPr b="1" lang="en-US" sz="1200" spc="-1" strike="noStrike">
                <a:solidFill>
                  <a:srgbClr val="003399"/>
                </a:solidFill>
                <a:latin typeface="Trebuchet MS"/>
              </a:rPr>
              <a:t>&lt;number&gt;</a:t>
            </a:fld>
            <a:r>
              <a:rPr b="1" lang="en-US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65" descr="White-UN-logo-transp-bg"/>
          <p:cNvPicPr/>
          <p:nvPr/>
        </p:nvPicPr>
        <p:blipFill>
          <a:blip r:embed="rId9"/>
          <a:srcRect l="0" t="0" r="0" b="12248"/>
          <a:stretch/>
        </p:blipFill>
        <p:spPr>
          <a:xfrm>
            <a:off x="366840" y="295200"/>
            <a:ext cx="863640" cy="779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7"/>
          <p:cNvSpPr/>
          <p:nvPr/>
        </p:nvSpPr>
        <p:spPr>
          <a:xfrm>
            <a:off x="250920" y="6021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rebuchet MS"/>
              </a:rPr>
              <a:t>UNECE -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Text Box 47"/>
          <p:cNvSpPr/>
          <p:nvPr/>
        </p:nvSpPr>
        <p:spPr>
          <a:xfrm>
            <a:off x="250920" y="6021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rebuchet MS"/>
              </a:rPr>
              <a:t>UNECE -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2"/>
          </p:nvPr>
        </p:nvSpPr>
        <p:spPr>
          <a:xfrm>
            <a:off x="250920" y="6381720"/>
            <a:ext cx="2233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1403280" y="4478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rebuchet MS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5219640" y="5064120"/>
            <a:ext cx="3025800" cy="380880"/>
          </a:xfrm>
          <a:prstGeom prst="roundRect">
            <a:avLst>
              <a:gd name="adj" fmla="val 4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Trebuchet MS"/>
              </a:rPr>
              <a:t>Geneva, 1 December 201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4" name="Picture 28" descr="XB2Z4448"/>
          <p:cNvPicPr/>
          <p:nvPr/>
        </p:nvPicPr>
        <p:blipFill>
          <a:blip r:embed="rId1"/>
          <a:stretch/>
        </p:blipFill>
        <p:spPr>
          <a:xfrm>
            <a:off x="2195640" y="1700280"/>
            <a:ext cx="2160360" cy="15843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175" name="Rectangle 33"/>
          <p:cNvSpPr/>
          <p:nvPr/>
        </p:nvSpPr>
        <p:spPr>
          <a:xfrm>
            <a:off x="4500720" y="1771560"/>
            <a:ext cx="431928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rebuchet MS"/>
              </a:rPr>
              <a:t>Working Party on Intermodal Transport and Logistics WP.24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rebuchet MS"/>
              </a:rPr>
              <a:t>Agenda item 9</a:t>
            </a:r>
            <a:br>
              <a:rPr sz="2800"/>
            </a:br>
            <a:r>
              <a:rPr b="1" lang="it-IT" sz="2000" spc="-1" strike="noStrike">
                <a:solidFill>
                  <a:srgbClr val="003399"/>
                </a:solidFill>
                <a:latin typeface="Trebuchet MS"/>
              </a:rPr>
              <a:t>Intermodal transport terminal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6" name="Picture 35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2160720" cy="1747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7" descr="WW Kirk Deighton General 20-10-05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179280" y="1676520"/>
            <a:ext cx="2089080" cy="16081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78" name="Picture 39" descr="pitopia_50421"/>
          <p:cNvPicPr/>
          <p:nvPr/>
        </p:nvPicPr>
        <p:blipFill>
          <a:blip r:embed="rId4"/>
          <a:stretch/>
        </p:blipFill>
        <p:spPr>
          <a:xfrm>
            <a:off x="2268360" y="3284640"/>
            <a:ext cx="2087640" cy="1682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0"/>
          <p:cNvSpPr/>
          <p:nvPr/>
        </p:nvSpPr>
        <p:spPr>
          <a:xfrm>
            <a:off x="179280" y="5013360"/>
            <a:ext cx="432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3399"/>
                </a:solidFill>
                <a:latin typeface="Trebuchet MS"/>
              </a:rPr>
              <a:t>Francesco Dionori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3399"/>
                </a:solidFill>
                <a:latin typeface="Trebuchet MS"/>
              </a:rPr>
              <a:t>Chief of Transport Networks and Logistics Sec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3399"/>
                </a:solidFill>
                <a:latin typeface="Trebuchet MS"/>
              </a:rPr>
              <a:t>Sustainable Transport Divis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343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Intermodal terminals study - 1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87520" y="134100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  <a:ea typeface="Arial"/>
              </a:rPr>
              <a:t>Ai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Increase transparency to facilitate growth of intermodal sect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Increase the information available within the AGT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343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Intermodal terminals study -2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7520" y="134100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  <a:ea typeface="Arial"/>
              </a:rPr>
              <a:t>Definition of each type of termin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  <a:ea typeface="Arial"/>
              </a:rPr>
              <a:t>Information needed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The goods handl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Opening hou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Access requireme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Average goods handling tim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Customs procedu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Physical characteristics of the termin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Driver/crew facilit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Access cos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343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Intermodal terminals study -3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87520" y="134100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  <a:ea typeface="Arial"/>
              </a:rPr>
              <a:t>Structure of study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Introduction and purpose of docu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Policy contex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Current developme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Categorization of intermodal termin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Summary of data gathering process and resul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Next steps and integration with AGT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Annex I: List of all terminals and characteristic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Annex II: Template docu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2:43:08Z</dcterms:created>
  <dc:creator>Valerie Blanchard</dc:creator>
  <dc:description/>
  <dc:language>en-US</dc:language>
  <cp:lastModifiedBy>crp.3</cp:lastModifiedBy>
  <cp:lastPrinted>2015-11-30T07:49:14Z</cp:lastPrinted>
  <dcterms:modified xsi:type="dcterms:W3CDTF">2015-12-03T09:14:18Z</dcterms:modified>
  <cp:revision>200</cp:revision>
  <dc:subject/>
  <dc:title>PowerPoint Presentation</dc:title>
</cp:coreProperties>
</file>