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0.wmf" ContentType="image/x-wmf"/>
  <Override PartName="/ppt/media/image12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4"/>
          </p:nvPr>
        </p:nvSpPr>
        <p:spPr>
          <a:xfrm>
            <a:off x="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5"/>
          </p:nvPr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0D754-394A-46D7-AFBB-9F2510969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01899-1D68-4D71-B7AB-DD9D2B251A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59E0F-1577-4342-B318-13CB39A4C8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7EC71-75F7-493D-A355-689184180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D247C-FB3E-47F8-A463-78B844801E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2276640"/>
            <a:ext cx="7924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33160" y="4119840"/>
            <a:ext cx="7924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160" y="22766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93960" y="22766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33160" y="41198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93960" y="41198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2276640"/>
            <a:ext cx="2551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12640" y="2276640"/>
            <a:ext cx="2551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892480" y="2276640"/>
            <a:ext cx="2551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533160" y="4119840"/>
            <a:ext cx="2551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12640" y="4119840"/>
            <a:ext cx="2551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892480" y="4119840"/>
            <a:ext cx="2551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533160" y="2276640"/>
            <a:ext cx="7924680" cy="35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160" y="2276640"/>
            <a:ext cx="792468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160" y="2276640"/>
            <a:ext cx="386712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93960" y="2276640"/>
            <a:ext cx="386712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539640" y="1268280"/>
            <a:ext cx="792000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160" y="22766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93960" y="2276640"/>
            <a:ext cx="386712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33160" y="41198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533160" y="2276640"/>
            <a:ext cx="7924680" cy="35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160" y="2276640"/>
            <a:ext cx="386712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93960" y="22766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93960" y="41198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22766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93960" y="22766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33160" y="4119840"/>
            <a:ext cx="7924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2276640"/>
            <a:ext cx="7924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33160" y="4119840"/>
            <a:ext cx="7924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22766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93960" y="22766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33160" y="41198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93960" y="41198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2276640"/>
            <a:ext cx="2551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12640" y="2276640"/>
            <a:ext cx="2551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892480" y="2276640"/>
            <a:ext cx="2551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33160" y="4119840"/>
            <a:ext cx="2551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12640" y="4119840"/>
            <a:ext cx="2551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892480" y="4119840"/>
            <a:ext cx="2551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33160" y="2276640"/>
            <a:ext cx="7924680" cy="35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160" y="2276640"/>
            <a:ext cx="792468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160" y="2276640"/>
            <a:ext cx="386712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93960" y="2276640"/>
            <a:ext cx="386712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2276640"/>
            <a:ext cx="792468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39640" y="1268280"/>
            <a:ext cx="792000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160" y="22766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93960" y="2276640"/>
            <a:ext cx="386712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33160" y="41198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160" y="2276640"/>
            <a:ext cx="386712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93960" y="22766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93960" y="41198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160" y="22766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93960" y="22766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33160" y="4119840"/>
            <a:ext cx="7924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160" y="2276640"/>
            <a:ext cx="7924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33160" y="4119840"/>
            <a:ext cx="7924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160" y="22766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93960" y="22766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160" y="41198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93960" y="41198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160" y="2276640"/>
            <a:ext cx="2551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12640" y="2276640"/>
            <a:ext cx="2551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892480" y="2276640"/>
            <a:ext cx="2551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33160" y="4119840"/>
            <a:ext cx="2551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12640" y="4119840"/>
            <a:ext cx="2551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892480" y="4119840"/>
            <a:ext cx="2551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2276640"/>
            <a:ext cx="386712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3960" y="2276640"/>
            <a:ext cx="386712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539640" y="1268280"/>
            <a:ext cx="792000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22766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3960" y="2276640"/>
            <a:ext cx="386712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41198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2276640"/>
            <a:ext cx="386712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93960" y="22766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93960" y="41198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160" y="22766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93960" y="22766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3160" y="4119840"/>
            <a:ext cx="7924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250920" y="5837400"/>
            <a:ext cx="8640720" cy="792000"/>
            <a:chOff x="250920" y="5837400"/>
            <a:chExt cx="8640720" cy="792000"/>
          </a:xfrm>
        </p:grpSpPr>
        <p:grpSp>
          <p:nvGrpSpPr>
            <p:cNvPr id="1" name="Group 34"/>
            <p:cNvGrpSpPr/>
            <p:nvPr/>
          </p:nvGrpSpPr>
          <p:grpSpPr>
            <a:xfrm>
              <a:off x="250920" y="5837400"/>
              <a:ext cx="8640720" cy="792000"/>
              <a:chOff x="250920" y="5837400"/>
              <a:chExt cx="8640720" cy="792000"/>
            </a:xfrm>
          </p:grpSpPr>
          <p:sp>
            <p:nvSpPr>
              <p:cNvPr id="2" name="Rectangle 23"/>
              <p:cNvSpPr/>
              <p:nvPr/>
            </p:nvSpPr>
            <p:spPr>
              <a:xfrm>
                <a:off x="250920" y="5837400"/>
                <a:ext cx="8640720" cy="792000"/>
              </a:xfrm>
              <a:prstGeom prst="rect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3" name="Group 33"/>
              <p:cNvGrpSpPr/>
              <p:nvPr/>
            </p:nvGrpSpPr>
            <p:grpSpPr>
              <a:xfrm>
                <a:off x="250920" y="5877000"/>
                <a:ext cx="8637480" cy="718920"/>
                <a:chOff x="250920" y="5877000"/>
                <a:chExt cx="8637480" cy="718920"/>
              </a:xfrm>
            </p:grpSpPr>
            <p:pic>
              <p:nvPicPr>
                <p:cNvPr id="4" name="Picture 24" descr="truck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148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" name="Picture 25" descr="way © olly #7421689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924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" name="Picture 26" descr="Future Sign © Rafael Ramirezooo Lee #11477676 copy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700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" name="Picture 27" descr="highway © olly #13933418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5092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" name="Picture 28" descr="sunrising on ferry #875589 © trialartinf #875589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476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" name="Picture 29" descr="2250126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62948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" name="Picture 30" descr="wheelchair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372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1" name="Rectangle 31"/>
            <p:cNvSpPr/>
            <p:nvPr/>
          </p:nvSpPr>
          <p:spPr>
            <a:xfrm>
              <a:off x="250920" y="5877000"/>
              <a:ext cx="8640720" cy="71892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body"/>
          </p:nvPr>
        </p:nvSpPr>
        <p:spPr>
          <a:xfrm>
            <a:off x="533160" y="2276640"/>
            <a:ext cx="792468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Rectangle 17"/>
          <p:cNvSpPr/>
          <p:nvPr/>
        </p:nvSpPr>
        <p:spPr>
          <a:xfrm>
            <a:off x="250920" y="189000"/>
            <a:ext cx="8640720" cy="9381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250560" y="6381720"/>
            <a:ext cx="23050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Rectangle 7"/>
          <p:cNvSpPr/>
          <p:nvPr/>
        </p:nvSpPr>
        <p:spPr>
          <a:xfrm>
            <a:off x="6948360" y="6381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fr-CH" sz="1200" spc="-1" strike="noStrike">
                <a:solidFill>
                  <a:srgbClr val="003399"/>
                </a:solidFill>
                <a:latin typeface="Trebuchet MS"/>
              </a:rPr>
              <a:t>Slide </a:t>
            </a:r>
            <a:fld id="{7C002F24-F0FF-4663-899A-756140F44344}" type="slidenum">
              <a:rPr b="1" lang="en-US" sz="1200" spc="-1" strike="noStrike">
                <a:solidFill>
                  <a:srgbClr val="003399"/>
                </a:solidFill>
                <a:latin typeface="Trebuchet MS"/>
              </a:rPr>
              <a:t>&lt;number&gt;</a:t>
            </a:fld>
            <a:r>
              <a:rPr b="1" lang="en-US" sz="1200" spc="-1" strike="noStrike">
                <a:solidFill>
                  <a:srgbClr val="003399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7" name="Picture 65" descr="White-UN-logo-transp-bg"/>
          <p:cNvPicPr/>
          <p:nvPr/>
        </p:nvPicPr>
        <p:blipFill>
          <a:blip r:embed="rId9"/>
          <a:srcRect l="0" t="0" r="0" b="12248"/>
          <a:stretch/>
        </p:blipFill>
        <p:spPr>
          <a:xfrm>
            <a:off x="366840" y="295200"/>
            <a:ext cx="863640" cy="779400"/>
          </a:xfrm>
          <a:prstGeom prst="rect">
            <a:avLst/>
          </a:prstGeom>
          <a:ln w="0">
            <a:noFill/>
          </a:ln>
        </p:spPr>
      </p:pic>
      <p:sp>
        <p:nvSpPr>
          <p:cNvPr id="18" name="Text Box 47"/>
          <p:cNvSpPr/>
          <p:nvPr/>
        </p:nvSpPr>
        <p:spPr>
          <a:xfrm>
            <a:off x="250920" y="6021360"/>
            <a:ext cx="864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rebuchet MS"/>
              </a:rPr>
              <a:t>UNECE - Transport Division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250920" y="189000"/>
            <a:ext cx="8640720" cy="9363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56" name="Group 41"/>
          <p:cNvGrpSpPr/>
          <p:nvPr/>
        </p:nvGrpSpPr>
        <p:grpSpPr>
          <a:xfrm>
            <a:off x="250920" y="5837400"/>
            <a:ext cx="8640720" cy="792000"/>
            <a:chOff x="250920" y="5837400"/>
            <a:chExt cx="8640720" cy="792000"/>
          </a:xfrm>
        </p:grpSpPr>
        <p:grpSp>
          <p:nvGrpSpPr>
            <p:cNvPr id="57" name="Group 42"/>
            <p:cNvGrpSpPr/>
            <p:nvPr/>
          </p:nvGrpSpPr>
          <p:grpSpPr>
            <a:xfrm>
              <a:off x="250920" y="5837400"/>
              <a:ext cx="8640720" cy="792000"/>
              <a:chOff x="250920" y="5837400"/>
              <a:chExt cx="8640720" cy="792000"/>
            </a:xfrm>
          </p:grpSpPr>
          <p:sp>
            <p:nvSpPr>
              <p:cNvPr id="58" name="Rectangle 43"/>
              <p:cNvSpPr/>
              <p:nvPr/>
            </p:nvSpPr>
            <p:spPr>
              <a:xfrm>
                <a:off x="250920" y="5837400"/>
                <a:ext cx="8640720" cy="792000"/>
              </a:xfrm>
              <a:prstGeom prst="rect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59" name="Group 44"/>
              <p:cNvGrpSpPr/>
              <p:nvPr/>
            </p:nvGrpSpPr>
            <p:grpSpPr>
              <a:xfrm>
                <a:off x="250920" y="5877000"/>
                <a:ext cx="8637480" cy="718920"/>
                <a:chOff x="250920" y="5877000"/>
                <a:chExt cx="8637480" cy="718920"/>
              </a:xfrm>
            </p:grpSpPr>
            <p:pic>
              <p:nvPicPr>
                <p:cNvPr id="60" name="Picture 45" descr="truck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148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" name="Picture 46" descr="way © olly #7421689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924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" name="Picture 47" descr="Future Sign © Rafael Ramirezooo Lee #11477676 copy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700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" name="Picture 48" descr="highway © olly #13933418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5092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" name="Picture 49" descr="sunrising on ferry #875589 © trialartinf #875589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476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" name="Picture 50" descr="2250126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62948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" name="Picture 51" descr="wheelchair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372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67" name="Rectangle 52"/>
            <p:cNvSpPr/>
            <p:nvPr/>
          </p:nvSpPr>
          <p:spPr>
            <a:xfrm>
              <a:off x="250920" y="5877000"/>
              <a:ext cx="8640720" cy="71892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pic>
        <p:nvPicPr>
          <p:cNvPr id="68" name="Picture 65" descr="White-UN-logo-transp-bg"/>
          <p:cNvPicPr/>
          <p:nvPr/>
        </p:nvPicPr>
        <p:blipFill>
          <a:blip r:embed="rId9"/>
          <a:srcRect l="0" t="0" r="0" b="12248"/>
          <a:stretch/>
        </p:blipFill>
        <p:spPr>
          <a:xfrm>
            <a:off x="366840" y="295200"/>
            <a:ext cx="863640" cy="7794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7"/>
          <p:cNvSpPr/>
          <p:nvPr/>
        </p:nvSpPr>
        <p:spPr>
          <a:xfrm>
            <a:off x="250920" y="6021360"/>
            <a:ext cx="864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rebuchet MS"/>
              </a:rPr>
              <a:t>UNECE – Sustainable Transport Division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533160" y="2276640"/>
            <a:ext cx="792468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35"/>
          <p:cNvGrpSpPr/>
          <p:nvPr/>
        </p:nvGrpSpPr>
        <p:grpSpPr>
          <a:xfrm>
            <a:off x="250920" y="5837400"/>
            <a:ext cx="8640720" cy="792000"/>
            <a:chOff x="250920" y="5837400"/>
            <a:chExt cx="8640720" cy="792000"/>
          </a:xfrm>
        </p:grpSpPr>
        <p:grpSp>
          <p:nvGrpSpPr>
            <p:cNvPr id="109" name="Group 34"/>
            <p:cNvGrpSpPr/>
            <p:nvPr/>
          </p:nvGrpSpPr>
          <p:grpSpPr>
            <a:xfrm>
              <a:off x="250920" y="5837400"/>
              <a:ext cx="8640720" cy="792000"/>
              <a:chOff x="250920" y="5837400"/>
              <a:chExt cx="8640720" cy="792000"/>
            </a:xfrm>
          </p:grpSpPr>
          <p:sp>
            <p:nvSpPr>
              <p:cNvPr id="110" name="Rectangle 23"/>
              <p:cNvSpPr/>
              <p:nvPr/>
            </p:nvSpPr>
            <p:spPr>
              <a:xfrm>
                <a:off x="250920" y="5837400"/>
                <a:ext cx="8640720" cy="792000"/>
              </a:xfrm>
              <a:prstGeom prst="rect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111" name="Group 33"/>
              <p:cNvGrpSpPr/>
              <p:nvPr/>
            </p:nvGrpSpPr>
            <p:grpSpPr>
              <a:xfrm>
                <a:off x="250920" y="5877000"/>
                <a:ext cx="8637480" cy="718920"/>
                <a:chOff x="250920" y="5877000"/>
                <a:chExt cx="8637480" cy="718920"/>
              </a:xfrm>
            </p:grpSpPr>
            <p:pic>
              <p:nvPicPr>
                <p:cNvPr id="112" name="Picture 24" descr="truck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148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25" descr="way © olly #7421689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924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6" descr="Future Sign © Rafael Ramirezooo Lee #11477676 copy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700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7" descr="highway © olly #13933418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5092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8" descr="sunrising on ferry #875589 © trialartinf #875589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476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9" descr="2250126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62948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30" descr="wheelchair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372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19" name="Rectangle 31"/>
            <p:cNvSpPr/>
            <p:nvPr/>
          </p:nvSpPr>
          <p:spPr>
            <a:xfrm>
              <a:off x="250920" y="5877000"/>
              <a:ext cx="8640720" cy="71892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20" name="Rectangle 17"/>
          <p:cNvSpPr/>
          <p:nvPr/>
        </p:nvSpPr>
        <p:spPr>
          <a:xfrm>
            <a:off x="250920" y="189000"/>
            <a:ext cx="8640720" cy="9381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6948360" y="6381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fr-CH" sz="1200" spc="-1" strike="noStrike">
                <a:solidFill>
                  <a:srgbClr val="003399"/>
                </a:solidFill>
                <a:latin typeface="Trebuchet MS"/>
              </a:rPr>
              <a:t>Slide </a:t>
            </a:r>
            <a:fld id="{1EC28BEF-24F1-4105-A82E-1EB7380D9804}" type="slidenum">
              <a:rPr b="1" lang="en-US" sz="1200" spc="-1" strike="noStrike">
                <a:solidFill>
                  <a:srgbClr val="003399"/>
                </a:solidFill>
                <a:latin typeface="Trebuchet MS"/>
              </a:rPr>
              <a:t>&lt;number&gt;</a:t>
            </a:fld>
            <a:r>
              <a:rPr b="1" lang="en-US" sz="1200" spc="-1" strike="noStrike">
                <a:solidFill>
                  <a:srgbClr val="003399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22" name="Picture 65" descr="White-UN-logo-transp-bg"/>
          <p:cNvPicPr/>
          <p:nvPr/>
        </p:nvPicPr>
        <p:blipFill>
          <a:blip r:embed="rId9"/>
          <a:srcRect l="0" t="0" r="0" b="12248"/>
          <a:stretch/>
        </p:blipFill>
        <p:spPr>
          <a:xfrm>
            <a:off x="366840" y="295200"/>
            <a:ext cx="863640" cy="7794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47"/>
          <p:cNvSpPr/>
          <p:nvPr/>
        </p:nvSpPr>
        <p:spPr>
          <a:xfrm>
            <a:off x="250920" y="6021360"/>
            <a:ext cx="864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rebuchet MS"/>
              </a:rPr>
              <a:t>UNECE - Transport Division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4" name="Text Box 47"/>
          <p:cNvSpPr/>
          <p:nvPr/>
        </p:nvSpPr>
        <p:spPr>
          <a:xfrm>
            <a:off x="250920" y="6021360"/>
            <a:ext cx="864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rebuchet MS"/>
              </a:rPr>
              <a:t>UNECE - Transport Division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533160" y="2276640"/>
            <a:ext cx="792468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2"/>
          </p:nvPr>
        </p:nvSpPr>
        <p:spPr>
          <a:xfrm>
            <a:off x="250920" y="6381720"/>
            <a:ext cx="223344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8317080" y="6308640"/>
            <a:ext cx="50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2" name="Rectangle 20"/>
          <p:cNvSpPr/>
          <p:nvPr/>
        </p:nvSpPr>
        <p:spPr>
          <a:xfrm>
            <a:off x="1403280" y="44784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rebuchet MS"/>
              </a:rPr>
              <a:t>United Nations Economic Commission for Europ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3" name="AutoShape 22"/>
          <p:cNvSpPr/>
          <p:nvPr/>
        </p:nvSpPr>
        <p:spPr>
          <a:xfrm>
            <a:off x="5219640" y="5064120"/>
            <a:ext cx="3025800" cy="380880"/>
          </a:xfrm>
          <a:prstGeom prst="roundRect">
            <a:avLst>
              <a:gd name="adj" fmla="val 4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99"/>
                </a:solidFill>
                <a:latin typeface="Trebuchet MS"/>
              </a:rPr>
              <a:t>Geneva, 1 December 2015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74" name="Picture 28" descr="XB2Z4448"/>
          <p:cNvPicPr/>
          <p:nvPr/>
        </p:nvPicPr>
        <p:blipFill>
          <a:blip r:embed="rId1"/>
          <a:stretch/>
        </p:blipFill>
        <p:spPr>
          <a:xfrm>
            <a:off x="2195640" y="1700280"/>
            <a:ext cx="2160360" cy="158436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  <p:sp>
        <p:nvSpPr>
          <p:cNvPr id="175" name="Rectangle 33"/>
          <p:cNvSpPr/>
          <p:nvPr/>
        </p:nvSpPr>
        <p:spPr>
          <a:xfrm>
            <a:off x="4500720" y="1771560"/>
            <a:ext cx="431928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Trebuchet MS"/>
              </a:rPr>
              <a:t>Working Party on Intermodal Transport and Logistics WP.24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Trebuchet MS"/>
              </a:rPr>
              <a:t>Agenda item 9</a:t>
            </a:r>
            <a:br>
              <a:rPr sz="2800"/>
            </a:br>
            <a:r>
              <a:rPr b="1" lang="it-IT" sz="2000" spc="-1" strike="noStrike">
                <a:solidFill>
                  <a:srgbClr val="003399"/>
                </a:solidFill>
                <a:latin typeface="Trebuchet MS"/>
              </a:rPr>
              <a:t>Intermodal transport terminals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76" name="Picture 35" descr=""/>
          <p:cNvPicPr/>
          <p:nvPr/>
        </p:nvPicPr>
        <p:blipFill>
          <a:blip r:embed="rId2"/>
          <a:stretch/>
        </p:blipFill>
        <p:spPr>
          <a:xfrm>
            <a:off x="179280" y="3213000"/>
            <a:ext cx="2160720" cy="17478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7" descr="WW Kirk Deighton General 20-10-05"/>
          <p:cNvPicPr/>
          <p:nvPr/>
        </p:nvPicPr>
        <p:blipFill>
          <a:blip r:embed="rId3">
            <a:lum contrast="40000"/>
          </a:blip>
          <a:stretch/>
        </p:blipFill>
        <p:spPr>
          <a:xfrm>
            <a:off x="179280" y="1676520"/>
            <a:ext cx="2089080" cy="160812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  <p:pic>
        <p:nvPicPr>
          <p:cNvPr id="178" name="Picture 39" descr="pitopia_50421"/>
          <p:cNvPicPr/>
          <p:nvPr/>
        </p:nvPicPr>
        <p:blipFill>
          <a:blip r:embed="rId4"/>
          <a:stretch/>
        </p:blipFill>
        <p:spPr>
          <a:xfrm>
            <a:off x="2268360" y="3284640"/>
            <a:ext cx="2087640" cy="168264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0"/>
          <p:cNvSpPr/>
          <p:nvPr/>
        </p:nvSpPr>
        <p:spPr>
          <a:xfrm>
            <a:off x="179280" y="5013360"/>
            <a:ext cx="4321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3399"/>
                </a:solidFill>
                <a:latin typeface="Trebuchet MS"/>
              </a:rPr>
              <a:t>Francesco Dionori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3399"/>
                </a:solidFill>
                <a:latin typeface="Trebuchet MS"/>
              </a:rPr>
              <a:t>Chief of Transport Networks and Logistics Section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3399"/>
                </a:solidFill>
                <a:latin typeface="Trebuchet MS"/>
              </a:rPr>
              <a:t>Sustainable Transport Division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31640" y="188640"/>
            <a:ext cx="73436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rebuchet MS"/>
              </a:rPr>
              <a:t>Intermodal terminals study - 1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87520" y="134100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rebuchet MS"/>
                <a:ea typeface="Arial"/>
              </a:rPr>
              <a:t>Aim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  <a:ea typeface="Arial"/>
              </a:rPr>
              <a:t>Increase transparency to facilitate growth of intermodal sector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  <a:ea typeface="Arial"/>
              </a:rPr>
              <a:t>Increase the information available within the AGTC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31640" y="188640"/>
            <a:ext cx="73436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rebuchet MS"/>
              </a:rPr>
              <a:t>Intermodal terminals study -2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87520" y="134100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rebuchet MS"/>
                <a:ea typeface="Arial"/>
              </a:rPr>
              <a:t>Definition of each type of termina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spcBef>
                <a:spcPts val="7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rebuchet MS"/>
                <a:ea typeface="Arial"/>
              </a:rPr>
              <a:t>Information needed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spcBef>
                <a:spcPts val="601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  <a:ea typeface="Arial"/>
              </a:rPr>
              <a:t>The goods handle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spcBef>
                <a:spcPts val="601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  <a:ea typeface="Arial"/>
              </a:rPr>
              <a:t>Opening hour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spcBef>
                <a:spcPts val="601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  <a:ea typeface="Arial"/>
              </a:rPr>
              <a:t>Access requirement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spcBef>
                <a:spcPts val="601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  <a:ea typeface="Arial"/>
              </a:rPr>
              <a:t>Average goods handling tim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spcBef>
                <a:spcPts val="601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  <a:ea typeface="Arial"/>
              </a:rPr>
              <a:t>Customs procedur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spcBef>
                <a:spcPts val="601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  <a:ea typeface="Arial"/>
              </a:rPr>
              <a:t>Physical characteristics of the termina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spcBef>
                <a:spcPts val="601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  <a:ea typeface="Arial"/>
              </a:rPr>
              <a:t>Driver/crew faciliti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spcBef>
                <a:spcPts val="601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  <a:ea typeface="Arial"/>
              </a:rPr>
              <a:t>Access cost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31640" y="188640"/>
            <a:ext cx="73436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rebuchet MS"/>
              </a:rPr>
              <a:t>Intermodal terminals study -3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87520" y="134100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rebuchet MS"/>
                <a:ea typeface="Arial"/>
              </a:rPr>
              <a:t>Structure of study: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  <a:ea typeface="Arial"/>
              </a:rPr>
              <a:t>Introduction and purpose of documen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  <a:ea typeface="Arial"/>
              </a:rPr>
              <a:t>Policy contex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  <a:ea typeface="Arial"/>
              </a:rPr>
              <a:t>Current development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  <a:ea typeface="Arial"/>
              </a:rPr>
              <a:t>Categorization of intermodal terminal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  <a:ea typeface="Arial"/>
              </a:rPr>
              <a:t>Summary of data gathering process and result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  <a:ea typeface="Arial"/>
              </a:rPr>
              <a:t>Next steps and integration with AGTC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  <a:ea typeface="Arial"/>
              </a:rPr>
              <a:t>Annex I: List of all terminals and characteristic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  <a:ea typeface="Arial"/>
              </a:rPr>
              <a:t>Annex II: Template documen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0T12:43:08Z</dcterms:created>
  <dc:creator>Valerie Blanchard</dc:creator>
  <dc:description/>
  <dc:language>en-US</dc:language>
  <cp:lastModifiedBy>crp.3</cp:lastModifiedBy>
  <cp:lastPrinted>2015-11-30T07:49:14Z</cp:lastPrinted>
  <dcterms:modified xsi:type="dcterms:W3CDTF">2015-12-03T09:14:18Z</dcterms:modified>
  <cp:revision>200</cp:revision>
  <dc:subject/>
  <dc:title>PowerPoint Presentation</dc:title>
</cp:coreProperties>
</file>