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9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D60-19D0-4876-9D1C-2DBF9BD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8453-67CF-4DA4-8A57-3E893F38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16B-FF5C-4831-A2B1-8DCB75F2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0F4-2594-46D1-8405-FB6164CA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7994-F08D-407D-9113-E23CFE49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41CB-21D0-4B28-87CA-7C8F4599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98AA2-EA56-453C-8826-37FB419E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89A9-C7BE-42DF-B5B0-C95C299C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DF9A-BC71-43E4-BD1A-DDC35003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E69A-7952-4186-AC48-7E01F21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89B-D3CD-4E2E-A7CD-0965C587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2310-560F-499E-89E2-0292FB2E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F0ED-890E-43BE-9AD5-CCFBAD5A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051D-9C14-41B7-A229-1F65A6A2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B8D74-340A-4547-885E-4CD554A7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398-0ECC-49DA-80C1-368C3977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39DA-45D8-45F7-B8CD-39AFE0DB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83D2-6C2D-44A5-8CEB-61F1E544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86A5C-DBDC-4129-8501-E489152D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17F4-FA40-4501-8F6F-D8066D4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0A850-6736-42B1-8EDA-A3C4943B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9C49-1575-4D48-BDAA-1054DE22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051-B4C0-4C20-B078-24F1C387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7BBF-842C-47E9-B0FA-4BE4A448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4F81-C029-407A-B9A8-94A07D6C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4366C-173A-4513-A764-C28E549A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E8BD-8AFE-41B5-B51E-4126549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10787-426B-4937-B9AE-D08B179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64037-2ADF-4C88-80FA-6C01B66D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0209-2DBE-42DF-A48A-652E2405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D19-2DD1-4A14-A0E0-6243F7F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9B9-B2FE-4FAB-B5AB-F864F9D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68CF-D565-4631-B4E3-D1A06067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3A5-F94D-448A-BDB8-372DF2D6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887-3591-490E-940B-2916D5B4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229E8-4F96-4483-B8B9-B7B216A6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EE11F-F31A-4DF5-965D-95E3C93E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877BA-C387-40F9-A2A6-4611B52E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9AFB9-5973-42C1-9C67-1C2F4519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636DE-229A-4781-B622-B6B03D04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89C-F102-49CD-946C-0568F519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5991A-640A-4469-9F7E-AB79F7A9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B0B1-ED74-4E49-B7C1-80AB4F7E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6D74-8843-4110-917C-ADE7D4E9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C2372-678C-4398-85A2-FB21E8DB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B34E2-C75E-494E-9978-2B0AC7D0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B58A-8F92-40BC-BF92-0252924B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963B2-C7C7-408A-AFB7-2711A7F2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5F27-F7EB-44BF-B933-0BBD46843CD0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443" name="Rectangle 7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8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9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11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Rectangle 12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46339B04-1810-4046-81D4-1D5D74B06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2E9B57F6-1657-4200-92E0-FFDB62700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493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13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8FA08B32-60D6-448B-8593-EFF8ECB88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15" descr="line.png"/>
          <p:cNvPicPr/>
          <p:nvPr/>
        </p:nvPicPr>
        <p:blipFill>
          <a:blip r:embed="rId2"/>
          <a:stretch/>
        </p:blipFill>
        <p:spPr>
          <a:xfrm>
            <a:off x="611280" y="1197000"/>
            <a:ext cx="7921440" cy="81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3" descr="LOGO - OTIF_only_ovals.png"/>
          <p:cNvPicPr/>
          <p:nvPr/>
        </p:nvPicPr>
        <p:blipFill>
          <a:blip r:embed="rId3"/>
          <a:stretch/>
        </p:blipFill>
        <p:spPr>
          <a:xfrm>
            <a:off x="2705040" y="47628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3"/>
          </p:nvPr>
        </p:nvSpPr>
        <p:spPr>
          <a:xfrm>
            <a:off x="610920" y="6356520"/>
            <a:ext cx="19796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PIC 1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9C0BFAD0-FEE1-490D-A09B-CD19870AE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586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6" descr="PIC 3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13538AD5-F0AE-42C5-8C49-2AC95DBFA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634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6" descr="PIC 2.jpg"/>
          <p:cNvPicPr/>
          <p:nvPr/>
        </p:nvPicPr>
        <p:blipFill>
          <a:blip r:embed="rId2"/>
          <a:stretch/>
        </p:blipFill>
        <p:spPr>
          <a:xfrm>
            <a:off x="0" y="4680"/>
            <a:ext cx="4427640" cy="684864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7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Isosceles Triangle 8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EAE87D54-E517-4EA5-9868-D9CAF3C8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682" name="Rectangle 11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2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3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4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5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AC90D09B-6C87-4034-90E0-3262E2B38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729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14E393C6-C80F-49C2-A9F1-30EABF87F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776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9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629cd0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822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828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cf8a74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874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9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880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333600"/>
            <a:ext cx="9144000" cy="153540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LOGO - Blue - PNG - transparence.png"/>
          <p:cNvPicPr/>
          <p:nvPr/>
        </p:nvPicPr>
        <p:blipFill>
          <a:blip r:embed="rId2"/>
          <a:stretch/>
        </p:blipFill>
        <p:spPr>
          <a:xfrm>
            <a:off x="3708360" y="836640"/>
            <a:ext cx="1727280" cy="223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898989"/>
                </a:solidFill>
                <a:latin typeface="Times New Roman"/>
              </a:rPr>
              <a:t>Be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a21d1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926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932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9c3b6d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7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978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984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28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3f5b95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030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036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9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080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a19d23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082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088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132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35465f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134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9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140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5d03e">
              <a:alpha val="77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7"/>
          <p:cNvSpPr/>
          <p:nvPr/>
        </p:nvSpPr>
        <p:spPr>
          <a:xfrm>
            <a:off x="3197160" y="2585880"/>
            <a:ext cx="5581800" cy="17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700" spc="-1" strike="noStrike">
                <a:solidFill>
                  <a:srgbClr val="ffffff"/>
                </a:solidFill>
                <a:latin typeface="Arial"/>
              </a:rPr>
              <a:t>BREAK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Group 7"/>
          <p:cNvGrpSpPr/>
          <p:nvPr/>
        </p:nvGrpSpPr>
        <p:grpSpPr>
          <a:xfrm>
            <a:off x="3330720" y="5078520"/>
            <a:ext cx="2286000" cy="95040"/>
            <a:chOff x="3330720" y="5078520"/>
            <a:chExt cx="2286000" cy="95040"/>
          </a:xfrm>
        </p:grpSpPr>
        <p:sp>
          <p:nvSpPr>
            <p:cNvPr id="1186" name="Rectangle 9"/>
            <p:cNvSpPr/>
            <p:nvPr/>
          </p:nvSpPr>
          <p:spPr>
            <a:xfrm>
              <a:off x="3330720" y="5078520"/>
              <a:ext cx="457200" cy="9504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0"/>
            <p:cNvSpPr/>
            <p:nvPr/>
          </p:nvSpPr>
          <p:spPr>
            <a:xfrm>
              <a:off x="3787920" y="507852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1"/>
            <p:cNvSpPr/>
            <p:nvPr/>
          </p:nvSpPr>
          <p:spPr>
            <a:xfrm>
              <a:off x="4245120" y="507852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2"/>
            <p:cNvSpPr/>
            <p:nvPr/>
          </p:nvSpPr>
          <p:spPr>
            <a:xfrm>
              <a:off x="4702320" y="507852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"/>
            <p:cNvSpPr/>
            <p:nvPr/>
          </p:nvSpPr>
          <p:spPr>
            <a:xfrm>
              <a:off x="5159520" y="5078520"/>
              <a:ext cx="457200" cy="95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1" name="Group 13" descr=""/>
          <p:cNvPicPr/>
          <p:nvPr/>
        </p:nvPicPr>
        <p:blipFill>
          <a:blip r:embed="rId2"/>
          <a:stretch/>
        </p:blipFill>
        <p:spPr>
          <a:xfrm>
            <a:off x="738360" y="1407960"/>
            <a:ext cx="2097000" cy="2889360"/>
          </a:xfrm>
          <a:prstGeom prst="rect">
            <a:avLst/>
          </a:prstGeom>
          <a:ln w="0">
            <a:noFill/>
          </a:ln>
        </p:spPr>
      </p:pic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0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233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Group 12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239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3ED18DFA-FA98-4758-A77F-DFAC3A539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286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1" name="Picture 17" descr="PIC 11.jpg"/>
          <p:cNvPicPr/>
          <p:nvPr/>
        </p:nvPicPr>
        <p:blipFill>
          <a:blip r:embed="rId2"/>
          <a:stretch/>
        </p:blipFill>
        <p:spPr>
          <a:xfrm>
            <a:off x="0" y="1703520"/>
            <a:ext cx="9144000" cy="3065400"/>
          </a:xfrm>
          <a:prstGeom prst="rect">
            <a:avLst/>
          </a:prstGeom>
          <a:ln w="0">
            <a:noFill/>
          </a:ln>
        </p:spPr>
      </p:pic>
      <p:sp>
        <p:nvSpPr>
          <p:cNvPr id="1292" name="Rectangle 16"/>
          <p:cNvSpPr/>
          <p:nvPr/>
        </p:nvSpPr>
        <p:spPr>
          <a:xfrm>
            <a:off x="0" y="1701720"/>
            <a:ext cx="9144000" cy="307188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Subtitle 2"/>
          <p:cNvSpPr/>
          <p:nvPr/>
        </p:nvSpPr>
        <p:spPr>
          <a:xfrm>
            <a:off x="1979640" y="2565360"/>
            <a:ext cx="6948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noAutofit/>
          </a:bodyPr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Organisation intergouvernementale pour les transports internationaux ferrovi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Zwischenstaatliche Organisation für den internationalen Eisenbahnverkeh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Calibri"/>
              </a:rPr>
              <a:t>Intergovernmental Organisation for International Carriage by R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Picture 20" descr="LOGO - PNG - only white.png"/>
          <p:cNvPicPr/>
          <p:nvPr/>
        </p:nvPicPr>
        <p:blipFill>
          <a:blip r:embed="rId3"/>
          <a:stretch/>
        </p:blipFill>
        <p:spPr>
          <a:xfrm>
            <a:off x="755640" y="2639880"/>
            <a:ext cx="835200" cy="1076400"/>
          </a:xfrm>
          <a:prstGeom prst="rect">
            <a:avLst/>
          </a:prstGeom>
          <a:ln w="0">
            <a:noFill/>
          </a:ln>
        </p:spPr>
      </p:pic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Freeform 8"/>
          <p:cNvSpPr/>
          <p:nvPr/>
        </p:nvSpPr>
        <p:spPr>
          <a:xfrm>
            <a:off x="1620720" y="2527200"/>
            <a:ext cx="962280" cy="1284480"/>
          </a:xfrm>
          <a:custGeom>
            <a:avLst/>
            <a:gdLst>
              <a:gd name="textAreaLeft" fmla="*/ 0 w 962280"/>
              <a:gd name="textAreaRight" fmla="*/ 962640 w 962280"/>
              <a:gd name="textAreaTop" fmla="*/ 0 h 1284480"/>
              <a:gd name="textAreaBottom" fmla="*/ 1284480 h 128448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7a1613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2"/>
          <p:cNvSpPr/>
          <p:nvPr/>
        </p:nvSpPr>
        <p:spPr>
          <a:xfrm>
            <a:off x="2556000" y="5062680"/>
            <a:ext cx="5972040" cy="127296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139" h="3128">
                <a:moveTo>
                  <a:pt x="10138" y="3127"/>
                </a:moveTo>
                <a:lnTo>
                  <a:pt x="0" y="3127"/>
                </a:lnTo>
                <a:lnTo>
                  <a:pt x="0" y="0"/>
                </a:lnTo>
                <a:lnTo>
                  <a:pt x="10138" y="0"/>
                </a:lnTo>
                <a:lnTo>
                  <a:pt x="10138" y="3127"/>
                </a:lnTo>
              </a:path>
            </a:pathLst>
          </a:custGeom>
          <a:solidFill>
            <a:srgbClr val="9c3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8"/>
          <p:cNvSpPr/>
          <p:nvPr/>
        </p:nvSpPr>
        <p:spPr>
          <a:xfrm>
            <a:off x="611280" y="1282680"/>
            <a:ext cx="1011240" cy="127152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2f4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11"/>
          <p:cNvSpPr/>
          <p:nvPr/>
        </p:nvSpPr>
        <p:spPr>
          <a:xfrm>
            <a:off x="1619280" y="5062680"/>
            <a:ext cx="936720" cy="1272960"/>
          </a:xfrm>
          <a:custGeom>
            <a:avLst/>
            <a:gdLst>
              <a:gd name="textAreaLeft" fmla="*/ 0 w 936720"/>
              <a:gd name="textAreaRight" fmla="*/ 937080 w 9367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6301" h="3128">
                <a:moveTo>
                  <a:pt x="6300" y="0"/>
                </a:moveTo>
                <a:lnTo>
                  <a:pt x="6300" y="3127"/>
                </a:lnTo>
                <a:lnTo>
                  <a:pt x="0" y="3127"/>
                </a:lnTo>
                <a:lnTo>
                  <a:pt x="0" y="0"/>
                </a:lnTo>
                <a:lnTo>
                  <a:pt x="6300" y="0"/>
                </a:lnTo>
              </a:path>
            </a:pathLst>
          </a:custGeom>
          <a:solidFill>
            <a:srgbClr val="752c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4"/>
          <p:cNvSpPr/>
          <p:nvPr/>
        </p:nvSpPr>
        <p:spPr>
          <a:xfrm>
            <a:off x="1622520" y="1276200"/>
            <a:ext cx="6905520" cy="1271880"/>
          </a:xfrm>
          <a:custGeom>
            <a:avLst/>
            <a:gdLst>
              <a:gd name="textAreaLeft" fmla="*/ 0 w 6905520"/>
              <a:gd name="textAreaRight" fmla="*/ 6905880 w 690552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16439" h="3128">
                <a:moveTo>
                  <a:pt x="16438" y="3127"/>
                </a:moveTo>
                <a:lnTo>
                  <a:pt x="0" y="3127"/>
                </a:lnTo>
                <a:lnTo>
                  <a:pt x="0" y="0"/>
                </a:lnTo>
                <a:lnTo>
                  <a:pt x="16438" y="0"/>
                </a:lnTo>
                <a:lnTo>
                  <a:pt x="16438" y="3127"/>
                </a:lnTo>
              </a:path>
            </a:pathLst>
          </a:custGeom>
          <a:solidFill>
            <a:srgbClr val="3f5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1"/>
          <p:cNvSpPr/>
          <p:nvPr/>
        </p:nvSpPr>
        <p:spPr>
          <a:xfrm>
            <a:off x="2583000" y="2538360"/>
            <a:ext cx="5945040" cy="1263600"/>
          </a:xfrm>
          <a:custGeom>
            <a:avLst/>
            <a:gdLst>
              <a:gd name="textAreaLeft" fmla="*/ 0 w 5945040"/>
              <a:gd name="textAreaRight" fmla="*/ 5945400 w 59450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3289" h="3105">
                <a:moveTo>
                  <a:pt x="13288" y="3104"/>
                </a:moveTo>
                <a:lnTo>
                  <a:pt x="0" y="3104"/>
                </a:lnTo>
                <a:lnTo>
                  <a:pt x="0" y="0"/>
                </a:lnTo>
                <a:lnTo>
                  <a:pt x="13288" y="0"/>
                </a:lnTo>
                <a:lnTo>
                  <a:pt x="13288" y="3104"/>
                </a:lnTo>
              </a:path>
            </a:pathLst>
          </a:custGeom>
          <a:solidFill>
            <a:srgbClr val="a21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3"/>
          <p:cNvSpPr/>
          <p:nvPr/>
        </p:nvSpPr>
        <p:spPr>
          <a:xfrm>
            <a:off x="1623960" y="3801960"/>
            <a:ext cx="6904080" cy="1279800"/>
          </a:xfrm>
          <a:custGeom>
            <a:avLst/>
            <a:gdLst>
              <a:gd name="textAreaLeft" fmla="*/ 0 w 6904080"/>
              <a:gd name="textAreaRight" fmla="*/ 6904440 w 690408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3289" h="3150">
                <a:moveTo>
                  <a:pt x="13288" y="3149"/>
                </a:moveTo>
                <a:lnTo>
                  <a:pt x="0" y="3149"/>
                </a:lnTo>
                <a:lnTo>
                  <a:pt x="0" y="0"/>
                </a:lnTo>
                <a:lnTo>
                  <a:pt x="13288" y="0"/>
                </a:lnTo>
                <a:lnTo>
                  <a:pt x="13288" y="3149"/>
                </a:lnTo>
              </a:path>
            </a:pathLst>
          </a:custGeom>
          <a:solidFill>
            <a:srgbClr val="cf8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8"/>
          <p:cNvSpPr/>
          <p:nvPr/>
        </p:nvSpPr>
        <p:spPr>
          <a:xfrm>
            <a:off x="611280" y="3803760"/>
            <a:ext cx="1008000" cy="12715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b45b3e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342" name="Rectangle 15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16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17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18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19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7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Isosceles Triangle 21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0EC0EA67-D1C3-4966-9F2B-A1FC95DB7B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Freeform 8"/>
          <p:cNvSpPr/>
          <p:nvPr/>
        </p:nvSpPr>
        <p:spPr>
          <a:xfrm>
            <a:off x="1620720" y="2527200"/>
            <a:ext cx="962280" cy="1284480"/>
          </a:xfrm>
          <a:custGeom>
            <a:avLst/>
            <a:gdLst>
              <a:gd name="textAreaLeft" fmla="*/ 0 w 962280"/>
              <a:gd name="textAreaRight" fmla="*/ 962640 w 962280"/>
              <a:gd name="textAreaTop" fmla="*/ 0 h 1284480"/>
              <a:gd name="textAreaBottom" fmla="*/ 1284480 h 128448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3576b1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2"/>
          <p:cNvSpPr/>
          <p:nvPr/>
        </p:nvSpPr>
        <p:spPr>
          <a:xfrm>
            <a:off x="2556000" y="5062680"/>
            <a:ext cx="5972040" cy="127296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10139" h="3128">
                <a:moveTo>
                  <a:pt x="10138" y="3127"/>
                </a:moveTo>
                <a:lnTo>
                  <a:pt x="0" y="3127"/>
                </a:lnTo>
                <a:lnTo>
                  <a:pt x="0" y="0"/>
                </a:lnTo>
                <a:lnTo>
                  <a:pt x="10138" y="0"/>
                </a:lnTo>
                <a:lnTo>
                  <a:pt x="10138" y="3127"/>
                </a:lnTo>
              </a:path>
            </a:pathLst>
          </a:cu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"/>
          <p:cNvSpPr/>
          <p:nvPr/>
        </p:nvSpPr>
        <p:spPr>
          <a:xfrm>
            <a:off x="611280" y="1282680"/>
            <a:ext cx="1011240" cy="1271520"/>
          </a:xfrm>
          <a:custGeom>
            <a:avLst/>
            <a:gdLst>
              <a:gd name="textAreaLeft" fmla="*/ 0 w 1011240"/>
              <a:gd name="textAreaRight" fmla="*/ 1011600 w 101124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2835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Freeform 11"/>
          <p:cNvSpPr/>
          <p:nvPr/>
        </p:nvSpPr>
        <p:spPr>
          <a:xfrm>
            <a:off x="1619280" y="5062680"/>
            <a:ext cx="936720" cy="1272960"/>
          </a:xfrm>
          <a:custGeom>
            <a:avLst/>
            <a:gdLst>
              <a:gd name="textAreaLeft" fmla="*/ 0 w 936720"/>
              <a:gd name="textAreaRight" fmla="*/ 937080 w 936720"/>
              <a:gd name="textAreaTop" fmla="*/ 0 h 1272960"/>
              <a:gd name="textAreaBottom" fmla="*/ 1273320 h 1272960"/>
            </a:gdLst>
            <a:ahLst/>
            <a:rect l="textAreaLeft" t="textAreaTop" r="textAreaRight" b="textAreaBottom"/>
            <a:pathLst>
              <a:path w="6301" h="3128">
                <a:moveTo>
                  <a:pt x="6300" y="0"/>
                </a:moveTo>
                <a:lnTo>
                  <a:pt x="6300" y="3127"/>
                </a:lnTo>
                <a:lnTo>
                  <a:pt x="0" y="3127"/>
                </a:lnTo>
                <a:lnTo>
                  <a:pt x="0" y="0"/>
                </a:lnTo>
                <a:lnTo>
                  <a:pt x="6300" y="0"/>
                </a:lnTo>
              </a:path>
            </a:pathLst>
          </a:custGeom>
          <a:solidFill>
            <a:srgbClr val="1a23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4"/>
          <p:cNvSpPr/>
          <p:nvPr/>
        </p:nvSpPr>
        <p:spPr>
          <a:xfrm>
            <a:off x="1622520" y="1276200"/>
            <a:ext cx="6905520" cy="1271880"/>
          </a:xfrm>
          <a:custGeom>
            <a:avLst/>
            <a:gdLst>
              <a:gd name="textAreaLeft" fmla="*/ 0 w 6905520"/>
              <a:gd name="textAreaRight" fmla="*/ 6905880 w 6905520"/>
              <a:gd name="textAreaTop" fmla="*/ 0 h 1271880"/>
              <a:gd name="textAreaBottom" fmla="*/ 1272240 h 1271880"/>
            </a:gdLst>
            <a:ahLst/>
            <a:rect l="textAreaLeft" t="textAreaTop" r="textAreaRight" b="textAreaBottom"/>
            <a:pathLst>
              <a:path w="16439" h="3128">
                <a:moveTo>
                  <a:pt x="16438" y="3127"/>
                </a:moveTo>
                <a:lnTo>
                  <a:pt x="0" y="3127"/>
                </a:lnTo>
                <a:lnTo>
                  <a:pt x="0" y="0"/>
                </a:lnTo>
                <a:lnTo>
                  <a:pt x="16438" y="0"/>
                </a:lnTo>
                <a:lnTo>
                  <a:pt x="16438" y="3127"/>
                </a:lnTo>
              </a:path>
            </a:pathLst>
          </a:cu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1"/>
          <p:cNvSpPr/>
          <p:nvPr/>
        </p:nvSpPr>
        <p:spPr>
          <a:xfrm>
            <a:off x="2583000" y="2538360"/>
            <a:ext cx="5945040" cy="1263600"/>
          </a:xfrm>
          <a:custGeom>
            <a:avLst/>
            <a:gdLst>
              <a:gd name="textAreaLeft" fmla="*/ 0 w 5945040"/>
              <a:gd name="textAreaRight" fmla="*/ 5945400 w 594504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3289" h="3105">
                <a:moveTo>
                  <a:pt x="13288" y="3104"/>
                </a:moveTo>
                <a:lnTo>
                  <a:pt x="0" y="3104"/>
                </a:lnTo>
                <a:lnTo>
                  <a:pt x="0" y="0"/>
                </a:lnTo>
                <a:lnTo>
                  <a:pt x="13288" y="0"/>
                </a:lnTo>
                <a:lnTo>
                  <a:pt x="13288" y="3104"/>
                </a:lnTo>
              </a:path>
            </a:pathLst>
          </a:custGeom>
          <a:solidFill>
            <a:srgbClr val="629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3"/>
          <p:cNvSpPr/>
          <p:nvPr/>
        </p:nvSpPr>
        <p:spPr>
          <a:xfrm>
            <a:off x="1623960" y="3801960"/>
            <a:ext cx="6904080" cy="1279800"/>
          </a:xfrm>
          <a:custGeom>
            <a:avLst/>
            <a:gdLst>
              <a:gd name="textAreaLeft" fmla="*/ 0 w 6904080"/>
              <a:gd name="textAreaRight" fmla="*/ 6904440 w 6904080"/>
              <a:gd name="textAreaTop" fmla="*/ 0 h 1279800"/>
              <a:gd name="textAreaBottom" fmla="*/ 1280160 h 1279800"/>
            </a:gdLst>
            <a:ahLst/>
            <a:rect l="textAreaLeft" t="textAreaTop" r="textAreaRight" b="textAreaBottom"/>
            <a:pathLst>
              <a:path w="13289" h="3150">
                <a:moveTo>
                  <a:pt x="13288" y="3149"/>
                </a:moveTo>
                <a:lnTo>
                  <a:pt x="0" y="3149"/>
                </a:lnTo>
                <a:lnTo>
                  <a:pt x="0" y="0"/>
                </a:lnTo>
                <a:lnTo>
                  <a:pt x="13288" y="0"/>
                </a:lnTo>
                <a:lnTo>
                  <a:pt x="13288" y="3149"/>
                </a:lnTo>
              </a:path>
            </a:pathLst>
          </a:custGeom>
          <a:solidFill>
            <a:srgbClr val="a19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8"/>
          <p:cNvSpPr/>
          <p:nvPr/>
        </p:nvSpPr>
        <p:spPr>
          <a:xfrm>
            <a:off x="611280" y="3803760"/>
            <a:ext cx="1008000" cy="12715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271520"/>
              <a:gd name="textAreaBottom" fmla="*/ 1271880 h 1271520"/>
            </a:gdLst>
            <a:ahLst/>
            <a:rect l="textAreaLeft" t="textAreaTop" r="textAreaRight" b="textAreaBottom"/>
            <a:pathLst>
              <a:path w="3151" h="3128">
                <a:moveTo>
                  <a:pt x="3150" y="3127"/>
                </a:moveTo>
                <a:lnTo>
                  <a:pt x="0" y="3127"/>
                </a:lnTo>
                <a:lnTo>
                  <a:pt x="0" y="0"/>
                </a:lnTo>
                <a:lnTo>
                  <a:pt x="3150" y="0"/>
                </a:lnTo>
                <a:lnTo>
                  <a:pt x="3150" y="3127"/>
                </a:lnTo>
              </a:path>
            </a:pathLst>
          </a:custGeom>
          <a:solidFill>
            <a:srgbClr val="79761a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6920" rIns="106920" tIns="53280" bIns="53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397" name="Rectangle 15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Rectangle 16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Rectangle 17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Rectangle 18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Rectangle 19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Isosceles Triangle 21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4AB42B80-07E1-4008-99F5-31207BD47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85" name="Rectangle 7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8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0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1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Rectangle 12"/>
          <p:cNvSpPr/>
          <p:nvPr/>
        </p:nvSpPr>
        <p:spPr>
          <a:xfrm>
            <a:off x="457200" y="1398600"/>
            <a:ext cx="1646280" cy="14436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103480" y="1398600"/>
            <a:ext cx="1646280" cy="144360"/>
          </a:xfrm>
          <a:prstGeom prst="rect">
            <a:avLst/>
          </a:prstGeom>
          <a:solidFill>
            <a:srgbClr val="629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3749760" y="1398600"/>
            <a:ext cx="1644480" cy="144360"/>
          </a:xfrm>
          <a:prstGeom prst="rect">
            <a:avLst/>
          </a:prstGeom>
          <a:solidFill>
            <a:srgbClr val="cf8a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5394240" y="1398600"/>
            <a:ext cx="1646280" cy="144360"/>
          </a:xfrm>
          <a:prstGeom prst="rect">
            <a:avLst/>
          </a:prstGeom>
          <a:solidFill>
            <a:srgbClr val="a21d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7040520" y="1398600"/>
            <a:ext cx="1646280" cy="144360"/>
          </a:xfrm>
          <a:prstGeom prst="rect">
            <a:avLst/>
          </a:prstGeom>
          <a:solidFill>
            <a:srgbClr val="9c3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"/>
          <p:cNvSpPr/>
          <p:nvPr/>
        </p:nvSpPr>
        <p:spPr>
          <a:xfrm>
            <a:off x="457200" y="3449520"/>
            <a:ext cx="1646280" cy="144720"/>
          </a:xfrm>
          <a:prstGeom prst="rect">
            <a:avLst/>
          </a:prstGeom>
          <a:solidFill>
            <a:srgbClr val="3f5b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2103480" y="3449520"/>
            <a:ext cx="1646280" cy="144720"/>
          </a:xfrm>
          <a:prstGeom prst="rect">
            <a:avLst/>
          </a:prstGeom>
          <a:solidFill>
            <a:srgbClr val="a19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9"/>
          <p:cNvSpPr/>
          <p:nvPr/>
        </p:nvSpPr>
        <p:spPr>
          <a:xfrm>
            <a:off x="3749760" y="3449520"/>
            <a:ext cx="1644480" cy="1447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0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9DCAD4F0-C7D7-4B25-AFE5-003C1745B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3FC2-5295-4AA6-9F7C-0135D50A9B2C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Placeholder 14" descr="6782890-cool-train-tunnel-wallpap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0" y="-27000"/>
            <a:ext cx="9144000" cy="6859440"/>
          </a:xfrm>
          <a:prstGeom prst="rect">
            <a:avLst/>
          </a:prstGeom>
          <a:solidFill>
            <a:srgbClr val="052c49">
              <a:alpha val="81000"/>
            </a:srgbClr>
          </a:solidFill>
          <a:ln w="9360">
            <a:solidFill>
              <a:srgbClr val="d9d9d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20"/>
          <p:cNvGrpSpPr/>
          <p:nvPr/>
        </p:nvGrpSpPr>
        <p:grpSpPr>
          <a:xfrm>
            <a:off x="468360" y="4938840"/>
            <a:ext cx="2286000" cy="95040"/>
            <a:chOff x="468360" y="4938840"/>
            <a:chExt cx="2286000" cy="95040"/>
          </a:xfrm>
        </p:grpSpPr>
        <p:sp>
          <p:nvSpPr>
            <p:cNvPr id="145" name="Rectangle 9"/>
            <p:cNvSpPr/>
            <p:nvPr/>
          </p:nvSpPr>
          <p:spPr>
            <a:xfrm>
              <a:off x="468360" y="4938840"/>
              <a:ext cx="457200" cy="9504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"/>
            <p:cNvSpPr/>
            <p:nvPr/>
          </p:nvSpPr>
          <p:spPr>
            <a:xfrm>
              <a:off x="925560" y="4938840"/>
              <a:ext cx="457200" cy="95040"/>
            </a:xfrm>
            <a:prstGeom prst="rect">
              <a:avLst/>
            </a:prstGeom>
            <a:solidFill>
              <a:srgbClr val="3546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1"/>
            <p:cNvSpPr/>
            <p:nvPr/>
          </p:nvSpPr>
          <p:spPr>
            <a:xfrm>
              <a:off x="1382760" y="4938840"/>
              <a:ext cx="457200" cy="9504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2"/>
            <p:cNvSpPr/>
            <p:nvPr/>
          </p:nvSpPr>
          <p:spPr>
            <a:xfrm>
              <a:off x="1839960" y="4938840"/>
              <a:ext cx="457200" cy="9504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"/>
            <p:cNvSpPr/>
            <p:nvPr/>
          </p:nvSpPr>
          <p:spPr>
            <a:xfrm>
              <a:off x="2297160" y="4938840"/>
              <a:ext cx="457200" cy="9504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34"/>
          <p:cNvGrpSpPr/>
          <p:nvPr/>
        </p:nvGrpSpPr>
        <p:grpSpPr>
          <a:xfrm>
            <a:off x="0" y="6811920"/>
            <a:ext cx="9144000" cy="95400"/>
            <a:chOff x="0" y="6811920"/>
            <a:chExt cx="9144000" cy="95400"/>
          </a:xfrm>
        </p:grpSpPr>
        <p:sp>
          <p:nvSpPr>
            <p:cNvPr id="151" name="Rectangle 15"/>
            <p:cNvSpPr/>
            <p:nvPr/>
          </p:nvSpPr>
          <p:spPr>
            <a:xfrm>
              <a:off x="0" y="681192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1828800" y="681192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7"/>
            <p:cNvSpPr/>
            <p:nvPr/>
          </p:nvSpPr>
          <p:spPr>
            <a:xfrm>
              <a:off x="3657600" y="681192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8"/>
            <p:cNvSpPr/>
            <p:nvPr/>
          </p:nvSpPr>
          <p:spPr>
            <a:xfrm>
              <a:off x="5486400" y="681192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9"/>
            <p:cNvSpPr/>
            <p:nvPr/>
          </p:nvSpPr>
          <p:spPr>
            <a:xfrm>
              <a:off x="7315200" y="681192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32E11007-44ED-4AE5-94E7-672E0D090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198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955864C6-76E2-4160-8DBF-5114E1BC0C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245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15"/>
          <p:cNvSpPr/>
          <p:nvPr/>
        </p:nvSpPr>
        <p:spPr>
          <a:xfrm>
            <a:off x="3176640" y="1700280"/>
            <a:ext cx="41400" cy="417672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6"/>
          <p:cNvSpPr/>
          <p:nvPr/>
        </p:nvSpPr>
        <p:spPr>
          <a:xfrm>
            <a:off x="5900760" y="1700280"/>
            <a:ext cx="42840" cy="4176720"/>
          </a:xfrm>
          <a:prstGeom prst="rect">
            <a:avLst/>
          </a:prstGeom>
          <a:solidFill>
            <a:srgbClr val="052c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41F61C6B-5C5A-462E-B368-D4E88A093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294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Oval 15"/>
          <p:cNvSpPr/>
          <p:nvPr/>
        </p:nvSpPr>
        <p:spPr>
          <a:xfrm>
            <a:off x="781200" y="2492280"/>
            <a:ext cx="2152440" cy="2332080"/>
          </a:xfrm>
          <a:prstGeom prst="ellipse">
            <a:avLst/>
          </a:prstGeom>
          <a:solidFill>
            <a:srgbClr val="3f5b9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6"/>
          <p:cNvSpPr/>
          <p:nvPr/>
        </p:nvSpPr>
        <p:spPr>
          <a:xfrm>
            <a:off x="2603520" y="2492280"/>
            <a:ext cx="2151000" cy="2332080"/>
          </a:xfrm>
          <a:prstGeom prst="ellipse">
            <a:avLst/>
          </a:prstGeom>
          <a:solidFill>
            <a:srgbClr val="a21d1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7"/>
          <p:cNvSpPr/>
          <p:nvPr/>
        </p:nvSpPr>
        <p:spPr>
          <a:xfrm>
            <a:off x="4435560" y="2492280"/>
            <a:ext cx="2151000" cy="2332080"/>
          </a:xfrm>
          <a:prstGeom prst="ellipse">
            <a:avLst/>
          </a:prstGeom>
          <a:solidFill>
            <a:srgbClr val="cf8a74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8"/>
          <p:cNvSpPr/>
          <p:nvPr/>
        </p:nvSpPr>
        <p:spPr>
          <a:xfrm>
            <a:off x="6234120" y="2492280"/>
            <a:ext cx="2151000" cy="2332080"/>
          </a:xfrm>
          <a:prstGeom prst="ellipse">
            <a:avLst/>
          </a:prstGeom>
          <a:solidFill>
            <a:srgbClr val="9c3b6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CF93F835-2339-4959-8D73-753BEC9EA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9"/>
          <p:cNvSpPr/>
          <p:nvPr/>
        </p:nvSpPr>
        <p:spPr>
          <a:xfrm>
            <a:off x="781200" y="2492280"/>
            <a:ext cx="2152440" cy="2332080"/>
          </a:xfrm>
          <a:prstGeom prst="ellipse">
            <a:avLst/>
          </a:prstGeom>
          <a:solidFill>
            <a:srgbClr val="35465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0"/>
          <p:cNvSpPr/>
          <p:nvPr/>
        </p:nvSpPr>
        <p:spPr>
          <a:xfrm>
            <a:off x="2603520" y="2492280"/>
            <a:ext cx="2151000" cy="2332080"/>
          </a:xfrm>
          <a:prstGeom prst="ellipse">
            <a:avLst/>
          </a:prstGeom>
          <a:solidFill>
            <a:srgbClr val="a19d2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1"/>
          <p:cNvSpPr/>
          <p:nvPr/>
        </p:nvSpPr>
        <p:spPr>
          <a:xfrm>
            <a:off x="4435560" y="2492280"/>
            <a:ext cx="2151000" cy="2332080"/>
          </a:xfrm>
          <a:prstGeom prst="ellipse">
            <a:avLst/>
          </a:prstGeom>
          <a:solidFill>
            <a:srgbClr val="052c4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2"/>
          <p:cNvSpPr/>
          <p:nvPr/>
        </p:nvSpPr>
        <p:spPr>
          <a:xfrm>
            <a:off x="6234120" y="2492280"/>
            <a:ext cx="2151000" cy="2332080"/>
          </a:xfrm>
          <a:prstGeom prst="ellipse">
            <a:avLst/>
          </a:prstGeom>
          <a:solidFill>
            <a:srgbClr val="629cd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349" name="Rectangle 14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5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6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7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8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8BC-CDAC-4F95-8376-B5994DE09873}" type="slidenum">
              <a:rPr b="0" lang="de-DE" sz="1400" spc="-1" strike="noStrike">
                <a:solidFill>
                  <a:srgbClr val="898989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6"/>
          <p:cNvSpPr/>
          <p:nvPr/>
        </p:nvSpPr>
        <p:spPr>
          <a:xfrm>
            <a:off x="8580600" y="419040"/>
            <a:ext cx="285480" cy="223920"/>
          </a:xfrm>
          <a:prstGeom prst="rect">
            <a:avLst/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Isosceles Triangle 7"/>
          <p:cNvSpPr/>
          <p:nvPr/>
        </p:nvSpPr>
        <p:spPr>
          <a:xfrm rot="10610400">
            <a:off x="8583120" y="514080"/>
            <a:ext cx="285840" cy="204840"/>
          </a:xfrm>
          <a:prstGeom prst="triangle">
            <a:avLst>
              <a:gd name="adj" fmla="val 50000"/>
            </a:avLst>
          </a:prstGeom>
          <a:solidFill>
            <a:srgbClr val="3546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14760" bIns="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5"/>
          <p:cNvSpPr/>
          <p:nvPr/>
        </p:nvSpPr>
        <p:spPr>
          <a:xfrm>
            <a:off x="8593200" y="368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3640" anchor="ctr">
            <a:noAutofit/>
          </a:bodyPr>
          <a:p>
            <a:pPr algn="ctr">
              <a:tabLst>
                <a:tab algn="l" pos="0"/>
                <a:tab algn="l" pos="534960"/>
                <a:tab algn="l" pos="1069920"/>
                <a:tab algn="l" pos="1604880"/>
                <a:tab algn="l" pos="2139840"/>
                <a:tab algn="l" pos="2674800"/>
                <a:tab algn="l" pos="3209760"/>
                <a:tab algn="l" pos="3745080"/>
                <a:tab algn="l" pos="4280040"/>
                <a:tab algn="l" pos="4815000"/>
                <a:tab algn="l" pos="5349960"/>
                <a:tab algn="l" pos="5884920"/>
                <a:tab algn="l" pos="6419880"/>
                <a:tab algn="l" pos="6954840"/>
                <a:tab algn="l" pos="7489800"/>
                <a:tab algn="l" pos="8024760"/>
                <a:tab algn="l" pos="8559720"/>
                <a:tab algn="l" pos="9094680"/>
                <a:tab algn="l" pos="9629640"/>
                <a:tab algn="l" pos="10164600"/>
                <a:tab algn="l" pos="10699920"/>
              </a:tabLst>
            </a:pPr>
            <a:fld id="{488735C9-A88A-4F7E-9C95-CEF103479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0"/>
          <p:cNvGrpSpPr/>
          <p:nvPr/>
        </p:nvGrpSpPr>
        <p:grpSpPr>
          <a:xfrm>
            <a:off x="0" y="6762600"/>
            <a:ext cx="9144000" cy="95400"/>
            <a:chOff x="0" y="6762600"/>
            <a:chExt cx="9144000" cy="95400"/>
          </a:xfrm>
        </p:grpSpPr>
        <p:sp>
          <p:nvSpPr>
            <p:cNvPr id="399" name="Rectangle 10"/>
            <p:cNvSpPr/>
            <p:nvPr/>
          </p:nvSpPr>
          <p:spPr>
            <a:xfrm>
              <a:off x="0" y="6762600"/>
              <a:ext cx="1828800" cy="95400"/>
            </a:xfrm>
            <a:prstGeom prst="rect">
              <a:avLst/>
            </a:prstGeom>
            <a:solidFill>
              <a:srgbClr val="629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1"/>
            <p:cNvSpPr/>
            <p:nvPr/>
          </p:nvSpPr>
          <p:spPr>
            <a:xfrm>
              <a:off x="1828800" y="6762600"/>
              <a:ext cx="1828800" cy="95400"/>
            </a:xfrm>
            <a:prstGeom prst="rect">
              <a:avLst/>
            </a:prstGeom>
            <a:solidFill>
              <a:srgbClr val="3f5b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2"/>
            <p:cNvSpPr/>
            <p:nvPr/>
          </p:nvSpPr>
          <p:spPr>
            <a:xfrm>
              <a:off x="3657600" y="6762600"/>
              <a:ext cx="1828800" cy="95400"/>
            </a:xfrm>
            <a:prstGeom prst="rect">
              <a:avLst/>
            </a:prstGeom>
            <a:solidFill>
              <a:srgbClr val="a21d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"/>
            <p:cNvSpPr/>
            <p:nvPr/>
          </p:nvSpPr>
          <p:spPr>
            <a:xfrm>
              <a:off x="5486400" y="6762600"/>
              <a:ext cx="1828800" cy="95400"/>
            </a:xfrm>
            <a:prstGeom prst="rect">
              <a:avLst/>
            </a:prstGeom>
            <a:solidFill>
              <a:srgbClr val="cf8a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4"/>
            <p:cNvSpPr/>
            <p:nvPr/>
          </p:nvSpPr>
          <p:spPr>
            <a:xfrm>
              <a:off x="7315200" y="6762600"/>
              <a:ext cx="1828800" cy="95400"/>
            </a:xfrm>
            <a:prstGeom prst="rect">
              <a:avLst/>
            </a:prstGeom>
            <a:solidFill>
              <a:srgbClr val="9c3b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 fontScale="92000"/>
          </a:bodyPr>
          <a:p>
            <a:pPr marL="369360" indent="-3693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232640" indent="-24516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726200" indent="-24516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219760" indent="-24516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611280" y="452520"/>
            <a:ext cx="7921440" cy="288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5465f"/>
                </a:solidFill>
                <a:latin typeface="Arial"/>
              </a:rPr>
              <a:t>Transport de marchandises par rail entre l’Europe et l’As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921440" cy="3841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576b1"/>
                </a:solidFill>
                <a:latin typeface="Arial"/>
              </a:rPr>
              <a:t>Droit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5" name="Picture 5" descr="Transport de marchendises-3.jpg"/>
          <p:cNvPicPr/>
          <p:nvPr/>
        </p:nvPicPr>
        <p:blipFill>
          <a:blip r:embed="rId1"/>
          <a:stretch/>
        </p:blipFill>
        <p:spPr>
          <a:xfrm>
            <a:off x="609480" y="1700280"/>
            <a:ext cx="7925040" cy="43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11280" y="452520"/>
            <a:ext cx="7921440" cy="2887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35465f"/>
                </a:solidFill>
                <a:latin typeface="Arial"/>
              </a:rPr>
              <a:t>Transport de marchandises par rail entre l’Europe et l’Asi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611280" y="836280"/>
            <a:ext cx="7921440" cy="384120"/>
          </a:xfrm>
          <a:prstGeom prst="rect">
            <a:avLst/>
          </a:prstGeom>
          <a:noFill/>
          <a:ln w="0">
            <a:noFill/>
          </a:ln>
        </p:spPr>
        <p:txBody>
          <a:bodyPr lIns="107280" rIns="107280" tIns="53640" bIns="53640" anchor="t">
            <a:normAutofit/>
          </a:bodyPr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576b1"/>
                </a:solidFill>
                <a:latin typeface="Arial"/>
              </a:rPr>
              <a:t>Droit applic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01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8" name="Picture 5" descr="Transport de marchendises_2-4.jpg"/>
          <p:cNvPicPr/>
          <p:nvPr/>
        </p:nvPicPr>
        <p:blipFill>
          <a:blip r:embed="rId1"/>
          <a:stretch/>
        </p:blipFill>
        <p:spPr>
          <a:xfrm>
            <a:off x="606600" y="1892160"/>
            <a:ext cx="793080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0T08:39:35Z</dcterms:created>
  <dc:creator>igr</dc:creator>
  <dc:description/>
  <dc:language>en-US</dc:language>
  <cp:lastModifiedBy>igr</cp:lastModifiedBy>
  <dcterms:modified xsi:type="dcterms:W3CDTF">2015-11-20T15:18:40Z</dcterms:modified>
  <cp:revision>20</cp:revision>
  <dc:subject/>
  <dc:title>Diapositive 1</dc:title>
</cp:coreProperties>
</file>