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15"/>
          </p:nvPr>
        </p:nvSpPr>
        <p:spPr>
          <a:xfrm>
            <a:off x="3852360" y="0"/>
            <a:ext cx="29466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16"/>
          </p:nvPr>
        </p:nvSpPr>
        <p:spPr>
          <a:xfrm>
            <a:off x="0" y="943452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17"/>
          </p:nvPr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9D52-F4F8-4417-97D7-2CE4E833A29A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ED7E-BBC4-4F05-9A2C-19B533A8C07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Espace réservé du numéro de diapositive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97E7598-0AB9-494A-BEDA-36A40527B2B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Espace réservé du numéro de diapositive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7A1D-2DA7-457E-BD83-9C0F357E66E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655F-F973-445A-A986-C5D7AA2BC48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8CFC-A210-4F84-91EB-80AFE25D80E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F23A-BF88-4676-85ED-7C29DAE1C78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596F-1151-4028-A0B6-2A863D566DB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CE10-C595-4A90-AE39-DC73DE2ACEB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19D0-E603-4B2C-A8D1-5D5AB3DAFB9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52720" y="943596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5CED-A2DF-4151-8B3F-AF3A3C0B6A7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A10D-234E-4245-BF3B-23BB35CFE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45DB-AA92-4E1F-8AAA-7CF9D027FCE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5A5786-087D-4837-A76D-F6E0DBEB5C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5D57-3444-4F48-8C90-38BB4F30DCD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BB22F0-EAC6-4DAC-85BB-6DD92A46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8C03CD-BCF8-4CEA-8986-E443BA3D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0057EA-28E8-42E4-8ACB-E22B4F0D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CB396-C99F-45FA-A598-8CD94AB3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FB4314-4B60-4135-8BEB-36AC326C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F40A60-C4E4-42A3-A538-B7B70683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A50002-8425-44E6-A4F8-FF53A85B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493E73-395F-45E4-954D-1E6BA403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7AB7C1-5262-4513-9BAE-31B86950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504F0D-E257-493D-8274-0C28ADB0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FD3C-1832-41C5-979E-55B4185C7CB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D2154C-C07D-43CB-AA0A-1100C2D0BB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A316F-4571-4D2C-A98B-A66FC1DAF0C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2B563-BECF-415B-A05A-5BA4DA470A1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D619A-07F9-40DF-BAA8-3163703C003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EB6B6-9A4A-4414-9719-5939BAE729A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80D04-FE27-4CB6-9B40-99DB7286278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B05B8-CF97-4EAD-8D8D-2DA5B6FD64D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FCBBEC-7423-4188-BFFC-E6708E4E342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C68932-BB67-419E-8769-6110BA40A6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C25A8-8AA0-49B7-9132-1E63F97926A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AC79A-D009-4CE4-A850-61A2C1F2FF3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595B7-5EAB-42BF-A0B8-059BBBDA83F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2AC70-6159-48BF-B4C2-7940763446E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7D716-2B1A-4017-B2AF-4A5D1BE602E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00155-11CC-4D74-A805-C02456C6C70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1039D-944F-4782-8AD7-FA200D227E0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3156C-D0A4-416F-BB6B-8DF51AF5967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8A82B-C0EE-482B-9109-51CAECF8042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7738-5B96-48A6-907A-9E7676DFBAD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050753-CB1F-4F6D-9EE0-AC504BD4B7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55F205-85CC-4F45-B180-AF2D5985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D0F376-1DDF-42D4-BB1D-F1AFE537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57DD6B-E60D-443C-BF8E-A0A180EC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4A9BEE-AFBA-415E-BCA5-5B076C42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C782AE-2026-4F88-B19B-BFFB7F4F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32B7C9-8B83-4D0E-ADA6-510197AA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DBC742-0A1A-482E-86EF-9A1316AB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B79C6B-C097-4191-9114-F51E4B47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598C7-FBC5-4B83-93D2-B684F1FFD2D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EAD2D3-B53B-4208-B0D7-00D67BF5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34F295-F139-4042-A57C-0E991E47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FD9AAA-0D27-4293-A8B5-321CEDACC1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2BFC-2FC7-4436-9AD8-D06384109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3090A-F6D3-4874-8DE6-0D502F28F48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7008F5-5A95-4E57-A5FD-4336C87DD48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216850-B4EE-467B-89E0-3072AF9905F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C9B6A1-D32C-464A-A84F-F9E299D4FF1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398DCA-8F83-4F68-A2BD-A1C0589F6A7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3FF7D-87BB-4706-A78F-D8EB395C02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3B50A-3D76-4334-A6C3-FE73A47DEBE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07154A-97EB-4232-9B41-814935A0BA4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DD6BD-C794-49B8-A14E-DB74AACA40C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0BC164-884B-4468-AE06-FBE01D66F5E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E446A9-7668-4113-B1F0-F73C6F8E98D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0E260D-1A24-48F9-A9E9-FD6B65902C3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FFA2B0-B03F-4909-9AD5-6DBD4772388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5F32D-2960-4FB4-9E3A-540A5EE3367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A2532-CB3F-47AA-8701-78146112F84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B612D-C594-4251-A6BB-CD9A822C9CA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6998B-3FE9-4A3B-A50C-CA7043674BD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FF6D-4015-40B0-9F88-7909C4FCF00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3974FE-8E84-4DB2-986C-6E1D5E787F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0A2159-2BC7-4C8E-9788-1274F71F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4899DB-1F3A-4E82-AC30-0C4040B2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085BA6-C5B5-4364-84B3-F697A68F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715AB0-A050-451A-9251-FD1FAAF6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DCA3E0-DE0E-412F-A7D0-6EBF3BD3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310888-5DBE-4AF1-A4AE-A9C4B3C1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11A9-BFEA-4C5B-AB92-E0E31B36164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BE8D27-AEC2-4E93-9457-996AABCA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67CEC0-EF28-4B2E-9703-6AC440B5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FA2DB5-73E5-4815-89E3-AAE40BE9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676D06-1052-4A9D-B8C5-A0B22670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7C2112-E942-4615-BFA3-A2A8DAA80A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17CE-EF64-40F6-9067-0877551A0BA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C52D5-A933-4F21-9773-31CCBCAA6C2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807AB1-DEEB-4D72-8253-8F21081D6F9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0ABEF8-63AF-4ACC-B723-B0C4F554D2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C164-DE8A-4C80-8016-312CB83FFB1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C96D3-39E4-4387-8FF5-05F8D08704C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33E506-1440-4C9B-ABAA-96910674E39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3D3CE5-C967-4465-B70E-482781424AA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072E6-2541-4BD4-B6A4-DFADB012DAA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FA6319-1D15-4944-91DA-36A64828F23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D4E429-189F-4CDE-9D84-85C07B9CD14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2A4C1-315C-403C-9D46-2629477C025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86EE0C-A50F-422C-9297-75A28CF0A6C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53782-7891-4E7F-B304-7A150C78567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325-DDDF-427D-8F4A-A36DF925902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09EF-F7E5-40FE-87D6-089C26F296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FE3B-7D23-4C31-9BDA-E3CE4792293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A383-814A-46F8-B52D-5E3E8532981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3099-8277-4C74-B1E3-987D887A4A69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0B6-3979-4B39-93B5-AB6B5B5D92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8411-2E82-4D45-96FE-88BDE6B42B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220-2128-4C17-B266-87AB5171D6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AAC-EA3A-4501-A75B-E0C0092E4C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24C8C-1AE7-4BCF-992A-94EE4A0570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940DD-3339-42FF-A4B5-F25F9F6031C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DE6F2-817E-4CDD-8436-5ABED9B8D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C249-9C44-4AF8-A85B-5CD8E15250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4A1D9-A2D9-43F7-820B-D822A7A78B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F1647-E8B1-4C1A-8EDC-5BD77A8D38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F4803-3419-497C-BC65-0747257C37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8F199-858C-4F56-8BCC-C73F40ED53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09812-4A3D-4023-B896-A9FA952554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B44A5-E770-4ACF-9B4B-C571DA5F3B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F12E3-362F-46FD-8A98-49EF70A284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9F357-F18E-498B-A319-A370F8BD8F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01EFB-1342-4878-BE52-A1CBAF940EF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1B44-B79A-4974-B445-86C384941F3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4D69-DE71-4DAF-8C19-796E6C70A83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A90CA-CF57-4620-9541-2AC28B3F01E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F815B-D067-4A44-B052-6A70C7D0FBB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34795-C85C-4CBD-8C99-A2ECD60A0A2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E70C1-5DBC-445D-A0DC-CA0ACD4A8A8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F375B-4688-499C-A1C8-4A979FCDEB1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BE767-2574-44A6-B816-32A6FB5C0E7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CDFED-B5A0-4AF9-BB1C-D8938246CE2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E9758-4D7E-4584-B064-621AA804EA8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9AFD1-5227-48EB-BFB1-0B76BF978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C1BF-23ED-4701-B33D-78872B14EDE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25D8C-3D7E-40ED-BB70-942E745E98C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A4F17-6771-4C32-8724-F78CBDBCB5A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BDF50-126F-4595-B4B1-DF1B7EF5018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7FCE-3BE7-4D52-BA93-B8BF6BB3C05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1DD0-7A71-4462-AD5E-24ADAD46482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6461-5563-4744-B684-4CE1F5F4AC18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6"/>
          </p:nvPr>
        </p:nvSpPr>
        <p:spPr>
          <a:xfrm>
            <a:off x="1186920" y="6505200"/>
            <a:ext cx="1600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7"/>
          </p:nvPr>
        </p:nvSpPr>
        <p:spPr>
          <a:xfrm>
            <a:off x="655272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0B85-0279-483A-A89D-2D9541DF7F22}" type="slidenum">
              <a:rPr b="0" lang="de-CH" sz="8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Bild 6" descr="CIT_logo_zusatz.jpg"/>
          <p:cNvPicPr/>
          <p:nvPr/>
        </p:nvPicPr>
        <p:blipFill>
          <a:blip r:embed="rId2"/>
          <a:stretch/>
        </p:blipFill>
        <p:spPr>
          <a:xfrm>
            <a:off x="755640" y="549360"/>
            <a:ext cx="4876920" cy="571320"/>
          </a:xfrm>
          <a:prstGeom prst="rect">
            <a:avLst/>
          </a:prstGeom>
          <a:ln w="0">
            <a:noFill/>
          </a:ln>
        </p:spPr>
      </p:pic>
      <p:sp>
        <p:nvSpPr>
          <p:cNvPr id="411" name="Line 25"/>
          <p:cNvSpPr/>
          <p:nvPr/>
        </p:nvSpPr>
        <p:spPr>
          <a:xfrm>
            <a:off x="2340000" y="4437000"/>
            <a:ext cx="644508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452" name="Rechteck 6"/>
          <p:cNvSpPr/>
          <p:nvPr/>
        </p:nvSpPr>
        <p:spPr>
          <a:xfrm>
            <a:off x="360360" y="1484280"/>
            <a:ext cx="8423280" cy="396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8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4E11-ED65-4B0E-B71A-A18D70E82D2F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494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535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9"/>
          </p:nvPr>
        </p:nvSpPr>
        <p:spPr>
          <a:xfrm>
            <a:off x="1186920" y="6505200"/>
            <a:ext cx="1600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10"/>
          </p:nvPr>
        </p:nvSpPr>
        <p:spPr>
          <a:xfrm>
            <a:off x="655272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8C4B-1E49-415C-B0A8-180C79E0AFDE}" type="slidenum">
              <a:rPr b="0" lang="de-CH" sz="8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Bild 6" descr="CIT_logo_zusatz.jpg"/>
          <p:cNvPicPr/>
          <p:nvPr/>
        </p:nvPicPr>
        <p:blipFill>
          <a:blip r:embed="rId2"/>
          <a:stretch/>
        </p:blipFill>
        <p:spPr>
          <a:xfrm>
            <a:off x="755640" y="549360"/>
            <a:ext cx="4876920" cy="571320"/>
          </a:xfrm>
          <a:prstGeom prst="rect">
            <a:avLst/>
          </a:prstGeom>
          <a:ln w="0">
            <a:noFill/>
          </a:ln>
        </p:spPr>
      </p:pic>
      <p:sp>
        <p:nvSpPr>
          <p:cNvPr id="657" name="Line 25"/>
          <p:cNvSpPr/>
          <p:nvPr/>
        </p:nvSpPr>
        <p:spPr>
          <a:xfrm>
            <a:off x="2340000" y="4437000"/>
            <a:ext cx="644508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698" name="Rechteck 6"/>
          <p:cNvSpPr/>
          <p:nvPr/>
        </p:nvSpPr>
        <p:spPr>
          <a:xfrm>
            <a:off x="360360" y="1484280"/>
            <a:ext cx="8423280" cy="396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sldNum" idx="11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0052-9F02-4429-9D29-886B7B018DD8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740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EEB4-3011-4DE1-8E9B-E393C9F03E20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781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12"/>
          </p:nvPr>
        </p:nvSpPr>
        <p:spPr>
          <a:xfrm>
            <a:off x="1186920" y="6505200"/>
            <a:ext cx="1600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sldNum" idx="13"/>
          </p:nvPr>
        </p:nvSpPr>
        <p:spPr>
          <a:xfrm>
            <a:off x="655272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9945-C15F-42C5-8033-C35AD0EA878D}" type="slidenum">
              <a:rPr b="0" lang="de-CH" sz="8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Bild 6" descr="CIT_logo_zusatz.jpg"/>
          <p:cNvPicPr/>
          <p:nvPr/>
        </p:nvPicPr>
        <p:blipFill>
          <a:blip r:embed="rId2"/>
          <a:stretch/>
        </p:blipFill>
        <p:spPr>
          <a:xfrm>
            <a:off x="755640" y="549360"/>
            <a:ext cx="4876920" cy="571320"/>
          </a:xfrm>
          <a:prstGeom prst="rect">
            <a:avLst/>
          </a:prstGeom>
          <a:ln w="0">
            <a:noFill/>
          </a:ln>
        </p:spPr>
      </p:pic>
      <p:sp>
        <p:nvSpPr>
          <p:cNvPr id="903" name="Line 25"/>
          <p:cNvSpPr/>
          <p:nvPr/>
        </p:nvSpPr>
        <p:spPr>
          <a:xfrm>
            <a:off x="2340000" y="4437000"/>
            <a:ext cx="644508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944" name="Rechteck 6"/>
          <p:cNvSpPr/>
          <p:nvPr/>
        </p:nvSpPr>
        <p:spPr>
          <a:xfrm>
            <a:off x="360360" y="1484280"/>
            <a:ext cx="8423280" cy="396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sldNum" idx="14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32CE-547A-4DD8-9964-B39F6A6BA5BE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986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1027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4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CD20-6225-4B13-99D0-C7FB63DB3CF8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25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0912-4732-46FA-A623-8474DBC81C74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Bild 6" descr="CIT_logo_zusatz.jpg"/>
          <p:cNvPicPr/>
          <p:nvPr/>
        </p:nvPicPr>
        <p:blipFill>
          <a:blip r:embed="rId2"/>
          <a:stretch/>
        </p:blipFill>
        <p:spPr>
          <a:xfrm>
            <a:off x="755640" y="549360"/>
            <a:ext cx="4876920" cy="571320"/>
          </a:xfrm>
          <a:prstGeom prst="rect">
            <a:avLst/>
          </a:prstGeom>
          <a:ln w="0">
            <a:noFill/>
          </a:ln>
        </p:spPr>
      </p:pic>
      <p:sp>
        <p:nvSpPr>
          <p:cNvPr id="165" name="Line 25"/>
          <p:cNvSpPr/>
          <p:nvPr/>
        </p:nvSpPr>
        <p:spPr>
          <a:xfrm>
            <a:off x="2340000" y="4437000"/>
            <a:ext cx="644508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06" name="Rechteck 6"/>
          <p:cNvSpPr/>
          <p:nvPr/>
        </p:nvSpPr>
        <p:spPr>
          <a:xfrm>
            <a:off x="360360" y="1484280"/>
            <a:ext cx="8423280" cy="396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5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71D2-CCDD-46F7-A6C8-FD975BF67DBF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48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89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2340000" y="1844280"/>
            <a:ext cx="64800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IT GTC EurAsia: Point 3 of the UNECE Ministerial Declaration</a:t>
            </a:r>
            <a:endParaRPr b="1" lang="en-US" sz="40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2340000" y="4581000"/>
            <a:ext cx="6480000" cy="16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05150"/>
                </a:solidFill>
                <a:latin typeface="Arial"/>
              </a:rPr>
              <a:t>SC.2 Meeting, 23 November 2015, Geneva 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05150"/>
                </a:solidFill>
                <a:latin typeface="Arial"/>
              </a:rPr>
              <a:t>Dr Erik Evtimov</a:t>
            </a:r>
            <a:r>
              <a:rPr b="0" lang="de-DE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50515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05150"/>
                </a:solidFill>
                <a:latin typeface="Arial"/>
              </a:rPr>
              <a:t>Deputy</a:t>
            </a:r>
            <a:r>
              <a:rPr b="0" lang="de-DE" sz="1800" spc="-1" strike="noStrike">
                <a:solidFill>
                  <a:srgbClr val="50515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505150"/>
                </a:solidFill>
                <a:latin typeface="Arial"/>
              </a:rPr>
              <a:t>Secretary General CIT</a:t>
            </a:r>
            <a:r>
              <a:rPr b="0" lang="en-GB" sz="1600" spc="-1" strike="noStrike">
                <a:solidFill>
                  <a:srgbClr val="50515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63d74"/>
                </a:solidFill>
                <a:latin typeface="Arial"/>
              </a:rPr>
              <a:t>Conclusions 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pic>
        <p:nvPicPr>
          <p:cNvPr id="1167" name="Espace réservé du contenu 5" descr=""/>
          <p:cNvPicPr/>
          <p:nvPr/>
        </p:nvPicPr>
        <p:blipFill>
          <a:blip r:embed="rId1"/>
          <a:stretch/>
        </p:blipFill>
        <p:spPr>
          <a:xfrm>
            <a:off x="298440" y="2279520"/>
            <a:ext cx="8454960" cy="3883320"/>
          </a:xfrm>
          <a:prstGeom prst="rect">
            <a:avLst/>
          </a:prstGeom>
          <a:ln w="0">
            <a:noFill/>
          </a:ln>
        </p:spPr>
      </p:pic>
      <p:sp>
        <p:nvSpPr>
          <p:cNvPr id="1168" name="Rectangle 6"/>
          <p:cNvSpPr/>
          <p:nvPr/>
        </p:nvSpPr>
        <p:spPr>
          <a:xfrm>
            <a:off x="395280" y="1197000"/>
            <a:ext cx="5616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Electronic CIM/SMGS consignment 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General Terms and Conditions Eur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Best case: transportation of postal items by r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Unified Rail Transport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oliennummernplatzhalter 2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0A61-44D6-432B-B40B-231C746DEAC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Espace réservé du numéro de diapositive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C7DB-25B6-49D4-B726-1E43E1C3FA6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1" name="Group 17" descr=""/>
          <p:cNvPicPr/>
          <p:nvPr/>
        </p:nvPicPr>
        <p:blipFill>
          <a:blip r:embed="rId1"/>
          <a:stretch/>
        </p:blipFill>
        <p:spPr>
          <a:xfrm>
            <a:off x="3602160" y="3243240"/>
            <a:ext cx="5761080" cy="1657440"/>
          </a:xfrm>
          <a:prstGeom prst="rect">
            <a:avLst/>
          </a:prstGeom>
          <a:ln w="0">
            <a:noFill/>
          </a:ln>
        </p:spPr>
      </p:pic>
      <p:grpSp>
        <p:nvGrpSpPr>
          <p:cNvPr id="1172" name="Group 16"/>
          <p:cNvGrpSpPr/>
          <p:nvPr/>
        </p:nvGrpSpPr>
        <p:grpSpPr>
          <a:xfrm>
            <a:off x="3602160" y="5219640"/>
            <a:ext cx="5541480" cy="466920"/>
            <a:chOff x="3602160" y="5219640"/>
            <a:chExt cx="5541480" cy="466920"/>
          </a:xfrm>
        </p:grpSpPr>
        <p:sp>
          <p:nvSpPr>
            <p:cNvPr id="1173" name="Rectangle 9"/>
            <p:cNvSpPr/>
            <p:nvPr/>
          </p:nvSpPr>
          <p:spPr>
            <a:xfrm>
              <a:off x="3602160" y="5219640"/>
              <a:ext cx="5541480" cy="4669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Text Box 10"/>
            <p:cNvSpPr/>
            <p:nvPr/>
          </p:nvSpPr>
          <p:spPr>
            <a:xfrm>
              <a:off x="4350600" y="5262480"/>
              <a:ext cx="469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70c0"/>
                  </a:solidFill>
                  <a:uFillTx/>
                  <a:latin typeface="Arial"/>
                </a:rPr>
                <a:t>www.cit-rail.org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Picture 100" descr=""/>
          <p:cNvPicPr/>
          <p:nvPr/>
        </p:nvPicPr>
        <p:blipFill>
          <a:blip r:embed="rId1"/>
          <a:stretch/>
        </p:blipFill>
        <p:spPr>
          <a:xfrm>
            <a:off x="547560" y="1290600"/>
            <a:ext cx="8056800" cy="4865760"/>
          </a:xfrm>
          <a:prstGeom prst="rect">
            <a:avLst/>
          </a:prstGeom>
          <a:ln w="0">
            <a:noFill/>
          </a:ln>
        </p:spPr>
      </p:pic>
      <p:sp>
        <p:nvSpPr>
          <p:cNvPr id="1116" name="Rectangle 2"/>
          <p:cNvSpPr/>
          <p:nvPr/>
        </p:nvSpPr>
        <p:spPr>
          <a:xfrm>
            <a:off x="131760" y="206280"/>
            <a:ext cx="8904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3d74"/>
                </a:solidFill>
                <a:latin typeface="Arial"/>
              </a:rPr>
              <a:t>Opportunities &amp; challenges for railway companies today</a:t>
            </a: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hteck 1"/>
          <p:cNvSpPr/>
          <p:nvPr/>
        </p:nvSpPr>
        <p:spPr>
          <a:xfrm>
            <a:off x="868320" y="1820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feld 2"/>
          <p:cNvSpPr/>
          <p:nvPr/>
        </p:nvSpPr>
        <p:spPr>
          <a:xfrm>
            <a:off x="552960" y="1268280"/>
            <a:ext cx="3561120" cy="1618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ht traffic China-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~ 90% Sea/4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 10% Air/1 d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~ 1% Railway/ ~15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~ 30 freight trains per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1"/>
          <p:cNvSpPr/>
          <p:nvPr/>
        </p:nvSpPr>
        <p:spPr>
          <a:xfrm>
            <a:off x="434880" y="72396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Eurasian Freight Corridors - An existing market with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Espace réservé du numéro de diapositive 2"/>
          <p:cNvSpPr/>
          <p:nvPr/>
        </p:nvSpPr>
        <p:spPr>
          <a:xfrm>
            <a:off x="6759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4B06-CBF0-47D8-A5A5-8581A458F6A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600" spc="-1" strike="noStrike">
                <a:solidFill>
                  <a:srgbClr val="263d74"/>
                </a:solidFill>
                <a:latin typeface="Arial"/>
              </a:rPr>
              <a:t>Potential for parcels transportation between China and Europe by rail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22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291E-C49F-401E-87FA-517BCBAD133E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3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600" spc="-1" strike="noStrike">
                <a:solidFill>
                  <a:srgbClr val="263d74"/>
                </a:solidFill>
                <a:latin typeface="Arial"/>
              </a:rPr>
              <a:t>Scope of application of CIM and SMGS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25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75D2-2682-43F0-8B61-9CCE13421BCF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hteck 8"/>
          <p:cNvSpPr/>
          <p:nvPr/>
        </p:nvSpPr>
        <p:spPr>
          <a:xfrm>
            <a:off x="220680" y="2865600"/>
            <a:ext cx="289080" cy="274320"/>
          </a:xfrm>
          <a:prstGeom prst="rect">
            <a:avLst/>
          </a:prstGeom>
          <a:solidFill>
            <a:srgbClr val="9966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hteck 9"/>
          <p:cNvSpPr/>
          <p:nvPr/>
        </p:nvSpPr>
        <p:spPr>
          <a:xfrm>
            <a:off x="220680" y="3421080"/>
            <a:ext cx="289080" cy="2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hteck 10"/>
          <p:cNvSpPr/>
          <p:nvPr/>
        </p:nvSpPr>
        <p:spPr>
          <a:xfrm>
            <a:off x="220680" y="4002120"/>
            <a:ext cx="289080" cy="274680"/>
          </a:xfrm>
          <a:prstGeom prst="rect">
            <a:avLst/>
          </a:prstGeom>
          <a:solidFill>
            <a:srgbClr val="ffff6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feld 13"/>
          <p:cNvSpPr/>
          <p:nvPr/>
        </p:nvSpPr>
        <p:spPr>
          <a:xfrm>
            <a:off x="600840" y="2898720"/>
            <a:ext cx="59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SM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feld 14"/>
          <p:cNvSpPr/>
          <p:nvPr/>
        </p:nvSpPr>
        <p:spPr>
          <a:xfrm>
            <a:off x="599040" y="3444840"/>
            <a:ext cx="39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C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5"/>
          <p:cNvSpPr/>
          <p:nvPr/>
        </p:nvSpPr>
        <p:spPr>
          <a:xfrm>
            <a:off x="587160" y="4037040"/>
            <a:ext cx="112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CIM + SM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hteck 13"/>
          <p:cNvSpPr/>
          <p:nvPr/>
        </p:nvSpPr>
        <p:spPr>
          <a:xfrm>
            <a:off x="220680" y="4668840"/>
            <a:ext cx="289080" cy="274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feld 15"/>
          <p:cNvSpPr/>
          <p:nvPr/>
        </p:nvSpPr>
        <p:spPr>
          <a:xfrm>
            <a:off x="586440" y="4595760"/>
            <a:ext cx="1052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Memb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suspen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hteck 16"/>
          <p:cNvSpPr/>
          <p:nvPr/>
        </p:nvSpPr>
        <p:spPr>
          <a:xfrm>
            <a:off x="220680" y="5362560"/>
            <a:ext cx="289080" cy="274680"/>
          </a:xfrm>
          <a:prstGeom prst="rect">
            <a:avLst/>
          </a:prstGeom>
          <a:solidFill>
            <a:srgbClr val="ccffcc"/>
          </a:solidFill>
          <a:ln w="93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feld 15"/>
          <p:cNvSpPr/>
          <p:nvPr/>
        </p:nvSpPr>
        <p:spPr>
          <a:xfrm>
            <a:off x="585360" y="5295960"/>
            <a:ext cx="848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Assoc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6" name="Picture 15" descr=""/>
          <p:cNvPicPr/>
          <p:nvPr/>
        </p:nvPicPr>
        <p:blipFill>
          <a:blip r:embed="rId2"/>
          <a:srcRect l="4758" t="17008" r="42911" b="37205"/>
          <a:stretch/>
        </p:blipFill>
        <p:spPr>
          <a:xfrm>
            <a:off x="2008080" y="1649520"/>
            <a:ext cx="6823080" cy="4265640"/>
          </a:xfrm>
          <a:prstGeom prst="rect">
            <a:avLst/>
          </a:prstGeom>
          <a:ln w="0">
            <a:noFill/>
          </a:ln>
        </p:spPr>
      </p:pic>
      <p:sp>
        <p:nvSpPr>
          <p:cNvPr id="1137" name="Textfeld 16"/>
          <p:cNvSpPr/>
          <p:nvPr/>
        </p:nvSpPr>
        <p:spPr>
          <a:xfrm>
            <a:off x="6516720" y="1003320"/>
            <a:ext cx="235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tat au 1</a:t>
            </a:r>
            <a:r>
              <a:rPr b="0" lang="fr-CH" sz="12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novembre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tand 1. Nov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tuation on 1 Nov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2"/>
          <p:cNvSpPr/>
          <p:nvPr/>
        </p:nvSpPr>
        <p:spPr>
          <a:xfrm>
            <a:off x="372960" y="146160"/>
            <a:ext cx="8771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  <a:ea typeface="Calibri"/>
              </a:rPr>
              <a:t>Solutions </a:t>
            </a:r>
            <a:r>
              <a:rPr b="1" lang="de-DE" sz="2600" spc="-1" strike="noStrike">
                <a:solidFill>
                  <a:srgbClr val="032377"/>
                </a:solidFill>
                <a:latin typeface="Arial"/>
                <a:ea typeface="Calibri"/>
              </a:rPr>
              <a:t>to increase railway competitivenes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32377"/>
                </a:solidFill>
                <a:latin typeface="Arial"/>
                <a:ea typeface="Calibri"/>
              </a:rPr>
              <a:t>UNECE Joint Decla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3"/>
          <p:cNvSpPr/>
          <p:nvPr/>
        </p:nvSpPr>
        <p:spPr>
          <a:xfrm>
            <a:off x="372960" y="974880"/>
            <a:ext cx="8542440" cy="526248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927000" indent="-2854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Joint Declaration on the promotion of Euro-Asian Rail Transport and activities towards Unified Railway Law (26 February 2013, Geneva): 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Important step towards a solution to unify different legal reg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7040" indent="-34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2854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State of play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: Draft of </a:t>
            </a:r>
            <a:r>
              <a:rPr b="1" lang="en-GB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relevant legal provisions 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is being discussed within the UNECE Groups of Experts towards Unified Railway Law (last meeting took place on 14–16 October 2015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7040" indent="-34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7040" indent="-3427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7040" indent="-3427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7040" indent="-3427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7040" indent="-3427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7040" indent="-3427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2854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CIT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supports efforts at the governmental level and encourages legislation that is suitable from the viewpoint of the carriers to promote competitiveness of the Eurasian railway transpor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4"/>
          <p:cNvSpPr/>
          <p:nvPr/>
        </p:nvSpPr>
        <p:spPr>
          <a:xfrm>
            <a:off x="2287440" y="3019320"/>
            <a:ext cx="2332080" cy="2216160"/>
          </a:xfrm>
          <a:prstGeom prst="ellipse">
            <a:avLst/>
          </a:prstGeom>
          <a:solidFill>
            <a:srgbClr val="ffff00">
              <a:alpha val="42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5"/>
          <p:cNvSpPr/>
          <p:nvPr/>
        </p:nvSpPr>
        <p:spPr>
          <a:xfrm>
            <a:off x="4437000" y="3046320"/>
            <a:ext cx="2359080" cy="2211480"/>
          </a:xfrm>
          <a:prstGeom prst="ellipse">
            <a:avLst/>
          </a:prstGeom>
          <a:solidFill>
            <a:srgbClr val="3366ff">
              <a:alpha val="33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AutoShape 8"/>
          <p:cNvSpPr/>
          <p:nvPr/>
        </p:nvSpPr>
        <p:spPr>
          <a:xfrm>
            <a:off x="2430360" y="3975120"/>
            <a:ext cx="4427640" cy="701640"/>
          </a:xfrm>
          <a:prstGeom prst="leftRightArrow">
            <a:avLst>
              <a:gd name="adj1" fmla="val 50000"/>
              <a:gd name="adj2" fmla="val 1256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9"/>
          <p:cNvSpPr/>
          <p:nvPr/>
        </p:nvSpPr>
        <p:spPr>
          <a:xfrm>
            <a:off x="2430360" y="4151160"/>
            <a:ext cx="479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Helvetica 55 Roman"/>
              </a:rPr>
              <a:t>Unified Rail Transport La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7"/>
          <p:cNvSpPr/>
          <p:nvPr/>
        </p:nvSpPr>
        <p:spPr>
          <a:xfrm>
            <a:off x="2220840" y="3519360"/>
            <a:ext cx="2454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Helvetica 55 Roman"/>
              </a:rPr>
              <a:t>COTIF/CI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6"/>
          <p:cNvSpPr/>
          <p:nvPr/>
        </p:nvSpPr>
        <p:spPr>
          <a:xfrm>
            <a:off x="4446720" y="3429000"/>
            <a:ext cx="2411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Helvetica 55 Roman"/>
              </a:rPr>
              <a:t>SMG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Espace réservé du numéro de diapositive 2"/>
          <p:cNvSpPr/>
          <p:nvPr/>
        </p:nvSpPr>
        <p:spPr>
          <a:xfrm>
            <a:off x="6759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DB09-7FC5-4B98-81BC-A33A2ECDAE1A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3"/>
          <p:cNvSpPr/>
          <p:nvPr/>
        </p:nvSpPr>
        <p:spPr>
          <a:xfrm>
            <a:off x="328680" y="1081080"/>
            <a:ext cx="5180040" cy="50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1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General Terms and Conditions for EurAsia Rail Transport Contracts of the C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(GTC EurAs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Point 3 - 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of the UNECE Political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Framework contract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 - for participating railways (on different corrid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Applicable law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 - mandatory provisions of the national law shall 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Precondition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 – </a:t>
            </a:r>
            <a:r>
              <a:rPr b="0" i="1" lang="en-GB" sz="1800" spc="-1" strike="noStrike">
                <a:solidFill>
                  <a:srgbClr val="404040"/>
                </a:solidFill>
                <a:latin typeface="Arial"/>
              </a:rPr>
              <a:t>opting-in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 through the participating railways (for example DB, PKP Cargo, BC, RZD and CCTT or GE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Legal basis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 - international private law (I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2"/>
          <p:cNvSpPr/>
          <p:nvPr/>
        </p:nvSpPr>
        <p:spPr>
          <a:xfrm>
            <a:off x="241200" y="204840"/>
            <a:ext cx="844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  <a:ea typeface="Calibri"/>
              </a:rPr>
              <a:t>Solutions to increase railway competitivenes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32377"/>
                </a:solidFill>
                <a:latin typeface="Arial"/>
                <a:ea typeface="Calibri"/>
              </a:rPr>
              <a:t>GTC Eurasia as instrument on contractu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Picture 5" descr=""/>
          <p:cNvPicPr/>
          <p:nvPr/>
        </p:nvPicPr>
        <p:blipFill>
          <a:blip r:embed="rId1"/>
          <a:srcRect l="4586" t="0" r="4243" b="0"/>
          <a:stretch/>
        </p:blipFill>
        <p:spPr>
          <a:xfrm>
            <a:off x="5702400" y="1600200"/>
            <a:ext cx="3062160" cy="407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0" name="Rechteck 2"/>
          <p:cNvSpPr/>
          <p:nvPr/>
        </p:nvSpPr>
        <p:spPr>
          <a:xfrm>
            <a:off x="660240" y="2637000"/>
            <a:ext cx="4703760" cy="576000"/>
          </a:xfrm>
          <a:prstGeom prst="rect">
            <a:avLst/>
          </a:prstGeom>
          <a:noFill/>
          <a:ln w="12600">
            <a:solidFill>
              <a:srgbClr val="0229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Espace réservé du numéro de diapositive 2"/>
          <p:cNvSpPr/>
          <p:nvPr/>
        </p:nvSpPr>
        <p:spPr>
          <a:xfrm>
            <a:off x="6759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10E5-4067-4483-A26C-F21891508ED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438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Electronic CIM/SMGS Consignment Note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304920" y="1065240"/>
            <a:ext cx="5851440" cy="58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800" spc="-1" strike="noStrike">
                <a:solidFill>
                  <a:srgbClr val="505150"/>
                </a:solidFill>
                <a:latin typeface="Arial"/>
              </a:rPr>
              <a:t>Functional specifications: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updated based on the revision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of SMGS (1 January 2016)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800" spc="-1" strike="noStrike">
                <a:solidFill>
                  <a:srgbClr val="505150"/>
                </a:solidFill>
                <a:latin typeface="Arial"/>
              </a:rPr>
              <a:t>Legal specifications: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to be analyzed an updated in 2016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800" spc="-1" strike="noStrike">
                <a:solidFill>
                  <a:srgbClr val="505150"/>
                </a:solidFill>
                <a:latin typeface="Arial"/>
              </a:rPr>
              <a:t>Current work: </a:t>
            </a:r>
            <a:r>
              <a:rPr b="0" i="1" lang="en-US" sz="1800" spc="-1" strike="noStrike">
                <a:solidFill>
                  <a:srgbClr val="505150"/>
                </a:solidFill>
                <a:latin typeface="Arial"/>
              </a:rPr>
              <a:t>Ad hoc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 technical WG on e-consignment note CIM/SMGS (CIT, OSJD, RAILDATA and experts from CIM &amp; SMGS RUs)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800" spc="-1" strike="noStrike">
                <a:solidFill>
                  <a:srgbClr val="505150"/>
                </a:solidFill>
                <a:latin typeface="Arial"/>
              </a:rPr>
              <a:t>Tasks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revision of the technical specifications;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work towards development of the XML/EDIFACT converter;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-  the role of electronic signature in SMGS area.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</p:txBody>
      </p:sp>
      <p:pic>
        <p:nvPicPr>
          <p:cNvPr id="1154" name="Picture 2" descr=""/>
          <p:cNvPicPr/>
          <p:nvPr/>
        </p:nvPicPr>
        <p:blipFill>
          <a:blip r:embed="rId1"/>
          <a:srcRect l="31309" t="8477" r="30418" b="5047"/>
          <a:stretch/>
        </p:blipFill>
        <p:spPr>
          <a:xfrm>
            <a:off x="6156360" y="1136520"/>
            <a:ext cx="2387520" cy="337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5" name="Picture 3" descr=""/>
          <p:cNvPicPr/>
          <p:nvPr/>
        </p:nvPicPr>
        <p:blipFill>
          <a:blip r:embed="rId2"/>
          <a:srcRect l="31370" t="8668" r="30835" b="5331"/>
          <a:stretch/>
        </p:blipFill>
        <p:spPr>
          <a:xfrm>
            <a:off x="6572160" y="2720880"/>
            <a:ext cx="2371680" cy="337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6" name="Espace réservé du numéro de diapositive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318D-A292-47DF-A9E6-B6EE14EB0E88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36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63d74"/>
                </a:solidFill>
                <a:latin typeface="Arial"/>
              </a:rPr>
              <a:t>Practical use of the CIM/SMGS Consignment note: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0360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8568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05150"/>
              </a:solidFill>
              <a:latin typeface="Arial"/>
            </a:endParaRPr>
          </a:p>
          <a:p>
            <a:pPr lvl="1" marL="98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05150"/>
              </a:solidFill>
              <a:latin typeface="Arial"/>
            </a:endParaRPr>
          </a:p>
          <a:p>
            <a:pPr lvl="1" marL="985680" indent="0"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0515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lvl="1" marL="985680" indent="-718920">
              <a:spcAft>
                <a:spcPts val="601"/>
              </a:spcAft>
              <a:buClr>
                <a:srgbClr val="5051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05150"/>
                </a:solidFill>
                <a:latin typeface="Arial"/>
              </a:rPr>
              <a:t>Inclusion of the three re-consignment points from China into GLV-CIM/SMGS: </a:t>
            </a:r>
            <a:r>
              <a:rPr b="0" lang="en-GB" sz="1600" spc="-1" strike="noStrike">
                <a:solidFill>
                  <a:srgbClr val="505150"/>
                </a:solidFill>
                <a:latin typeface="Arial"/>
              </a:rPr>
              <a:t>Alshankou – Dostyk (China and Kazakhstan); Erljan – Zaminuud (China and Mongolia); Manzuli – Zabaikalsk (China and Russia);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lvl="1" marL="985680" indent="-718920">
              <a:spcAft>
                <a:spcPts val="601"/>
              </a:spcAft>
              <a:buClr>
                <a:srgbClr val="5051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05150"/>
                </a:solidFill>
                <a:latin typeface="Arial"/>
              </a:rPr>
              <a:t>Pilot project with UPU on transport of postal parcels by rail: 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lvl="2" marL="1386000" indent="-452520">
              <a:spcAft>
                <a:spcPts val="601"/>
              </a:spcAft>
              <a:buClr>
                <a:srgbClr val="5051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05150"/>
                </a:solidFill>
                <a:latin typeface="Arial"/>
              </a:rPr>
              <a:t>Use of CIT uniform consignment note CIM/SMGS;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lvl="2" marL="1386000" indent="-452520">
              <a:spcAft>
                <a:spcPts val="601"/>
              </a:spcAft>
              <a:buClr>
                <a:srgbClr val="5051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05150"/>
                </a:solidFill>
                <a:latin typeface="Arial"/>
              </a:rPr>
              <a:t>Utilization of the GTC EurAsia;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lvl="2" marL="1386000" indent="-452520">
              <a:spcAft>
                <a:spcPts val="601"/>
              </a:spcAft>
              <a:buClr>
                <a:srgbClr val="5051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05150"/>
                </a:solidFill>
                <a:latin typeface="Arial"/>
              </a:rPr>
              <a:t>Framing the boilerplate contract or a checklist for transport of postal items by rail in CIM/SMGS traffic;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lvl="1" marL="985680" indent="-718920">
              <a:spcAft>
                <a:spcPts val="601"/>
              </a:spcAft>
              <a:buClr>
                <a:srgbClr val="5051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05150"/>
                </a:solidFill>
                <a:latin typeface="Arial"/>
              </a:rPr>
              <a:t>CIT Workshop on Postal Consignments by Rail, 17 March 2016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lvl="1" marL="985680" indent="-718920">
              <a:spcAft>
                <a:spcPts val="601"/>
              </a:spcAft>
              <a:buClr>
                <a:srgbClr val="5051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05150"/>
                </a:solidFill>
                <a:latin typeface="Arial"/>
              </a:rPr>
              <a:t>Practical implementation of the GTC EurAsia in collaboration with the CCTT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lvl="1" marL="985680" indent="-718920">
              <a:spcAft>
                <a:spcPts val="601"/>
              </a:spcAft>
              <a:buClr>
                <a:srgbClr val="5051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05150"/>
                </a:solidFill>
                <a:latin typeface="Arial"/>
              </a:rPr>
              <a:t>Coordinated revision of the specimen of the CIM/SMGS, CIM and SMGS consignment notes in 2017-2018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lvl="1" marL="985680" indent="-718920">
              <a:spcAft>
                <a:spcPts val="601"/>
              </a:spcAft>
              <a:buClr>
                <a:srgbClr val="5051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05150"/>
                </a:solidFill>
                <a:latin typeface="Arial"/>
              </a:rPr>
              <a:t>CIT’s engagement in the work of the UNECE Group of Experts towards Unified Railway Law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lvl="2" marL="1386000" indent="0"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59" name="Espace réservé du numéro de diapositive 3"/>
          <p:cNvSpPr/>
          <p:nvPr/>
        </p:nvSpPr>
        <p:spPr>
          <a:xfrm>
            <a:off x="6759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4815-1554-41B5-A3C3-3B2B26969B1C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2"/>
          <p:cNvSpPr/>
          <p:nvPr/>
        </p:nvSpPr>
        <p:spPr>
          <a:xfrm>
            <a:off x="376200" y="571680"/>
            <a:ext cx="8736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Success story for the rail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hteck 1"/>
          <p:cNvSpPr/>
          <p:nvPr/>
        </p:nvSpPr>
        <p:spPr>
          <a:xfrm>
            <a:off x="868320" y="1820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feld 1"/>
          <p:cNvSpPr/>
          <p:nvPr/>
        </p:nvSpPr>
        <p:spPr>
          <a:xfrm>
            <a:off x="4140360" y="1413000"/>
            <a:ext cx="4727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40404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Good Quality of 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Technical interoperability (vehicle authorisation and safety cert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Level playing field with other transport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ompetitive and transparent charges for use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Less administrative burdens: New regulatory requirements when customers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Stable and fair legal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hteck 101"/>
          <p:cNvSpPr/>
          <p:nvPr/>
        </p:nvSpPr>
        <p:spPr>
          <a:xfrm>
            <a:off x="4140360" y="5413320"/>
            <a:ext cx="4606920" cy="719280"/>
          </a:xfrm>
          <a:prstGeom prst="rect">
            <a:avLst/>
          </a:prstGeom>
          <a:noFill/>
          <a:ln w="41400">
            <a:solidFill>
              <a:srgbClr val="022958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Picture 8" descr=""/>
          <p:cNvPicPr/>
          <p:nvPr/>
        </p:nvPicPr>
        <p:blipFill>
          <a:blip r:embed="rId1"/>
          <a:stretch/>
        </p:blipFill>
        <p:spPr>
          <a:xfrm>
            <a:off x="93600" y="1557360"/>
            <a:ext cx="4064040" cy="2711520"/>
          </a:xfrm>
          <a:prstGeom prst="rect">
            <a:avLst/>
          </a:prstGeom>
          <a:ln w="0">
            <a:noFill/>
          </a:ln>
        </p:spPr>
      </p:pic>
      <p:sp>
        <p:nvSpPr>
          <p:cNvPr id="1165" name="Espace réservé du numéro de diapositive 2"/>
          <p:cNvSpPr/>
          <p:nvPr/>
        </p:nvSpPr>
        <p:spPr>
          <a:xfrm>
            <a:off x="6759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EA56-5A73-4D31-AE66-AEBC294E7FB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2:58:59Z</dcterms:created>
  <dc:creator>erik.evtimov@cit-rail.org</dc:creator>
  <dc:description/>
  <dc:language>en-US</dc:language>
  <cp:lastModifiedBy>Konstantinos Alexopoulos</cp:lastModifiedBy>
  <cp:lastPrinted>2015-11-17T09:59:09Z</cp:lastPrinted>
  <dcterms:modified xsi:type="dcterms:W3CDTF">2015-11-17T12:37:21Z</dcterms:modified>
  <cp:revision>95</cp:revision>
  <dc:subject/>
  <dc:title>Folie 1</dc:title>
</cp:coreProperties>
</file>