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15"/>
          </p:nvPr>
        </p:nvSpPr>
        <p:spPr>
          <a:xfrm>
            <a:off x="3852360" y="0"/>
            <a:ext cx="29466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16"/>
          </p:nvPr>
        </p:nvSpPr>
        <p:spPr>
          <a:xfrm>
            <a:off x="0" y="943452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17"/>
          </p:nvPr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2A3F-0CE8-4967-AD78-8BC257B918EE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1CEC-B89C-41D6-8E4F-A476D5BFF7B7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Espace réservé du numéro de diapositive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1A4B18E3-24B6-4973-8A29-8358C6660AD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Espace réservé du numéro de diapositive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2023-C11B-4937-9BF7-E9A06026268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A0BF-B5FB-4D1B-8493-89A89933C85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C370-2719-439E-BEA7-45DA4AA6659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8B6F-36DD-4CDB-9616-58DE3866268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243D-96B1-4F83-A258-06D7E79B026A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AE34-461F-4C70-AA53-8B67D3E7916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C7EC-FC22-4F04-A4E8-E842F523D37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52720" y="9435960"/>
            <a:ext cx="29466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9768-5448-41ED-BD40-0FD208B69EC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240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4BB9-3D5C-4A02-B8B2-8DB0903C6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30B4-28D5-4596-8F31-2E7B898029D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77B743-6FAD-4BE3-B51A-EF21547610B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0665-5FD7-4D11-BF5D-75E20EC8B0E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225D30-0EFA-4DBA-92C8-24806112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61F0F0-6E40-4882-AED8-6FFCAD45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796437-1459-4619-A688-1ABB05CA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26B69F-C5F5-4846-9963-B7E4578A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76715B-803C-49AA-A84D-99574D36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E51EE4-5AEF-4BE1-8511-68969BEC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505AFC-5DB1-46D5-A3F1-3AFF950B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061198-5608-487A-849A-6AD45F2B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D17ACD-B993-462F-A64A-5C4E20E5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8EE5AC-A9DB-4B07-AEBC-3F201D66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29FD0-8AC7-4C87-822B-8240F3F2299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EE814F-A4E8-484F-B95D-A888A1C90F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69064-E23E-4334-85C2-9DD0D7A1533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3EB5F-E381-441F-A764-095BC3958C2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E5AEAD-8220-4D6C-87D5-F2CF6E57358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85983-C1AF-4B15-A6F7-F8FF562A4EE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B8413-4716-47D9-890A-90BF9FFE399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7F13E-C104-4527-A8EE-AEDE3D71D2A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80810C-49BE-44E4-A46B-7044709269A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0B182-24AE-4A84-8427-45A0AC653B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D9819-970C-4526-91D8-7687B48C57A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083A8-C4E3-45DE-A403-D599FC14DE1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D5CA5D-76AA-4D25-BBB6-03C35BFD685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F8E575-FDEF-429B-AA75-3BF5A754F96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56E15-BA9E-499F-BDB7-352D9E4A1E0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27BBD-C809-472B-B653-1B895118253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1F38D-99ED-4710-878E-543A508E450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4586D-6316-4219-8925-1CC6A535003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83FD5-28E9-4DB8-A171-153AE7266A0B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AAE2B-C19C-4275-827C-3DB664F8FD1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7CC7A3-BD36-4DE3-AAD2-DA99B1D796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C3B979-E9A0-421E-8B3E-0C903D5F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4144BF-A339-4E57-AF18-CC3B591DB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30CE90-E117-4708-888D-268DCD10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0DF147-B076-4A84-AF22-57691629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EBEF58-C56B-4363-9917-92A8FF32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60F863-54FA-46AC-8BC7-2F64602C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66F789-549E-4E3C-A4BD-7E15CDFC4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FA6312-A29A-48DC-B8C4-9A9A99C3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7C697-A7B9-47E3-82EF-9175944E5C7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84C748-844F-4D65-BC55-C2E8C717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CF656B-1EEE-4D07-9826-87097705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DFF39F-4114-44BE-B742-5C667B2ABF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1628-5219-4348-AF22-B3F1EDBD9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11E18-4FE3-4466-9F0E-3FD35BD1557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3276B9-1D3D-4CD6-B259-1327559DA25D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FC5B47-9CBE-469C-A10C-C268AD33349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ED7C24-CBC9-450D-A399-C782EC335EA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894FD3-09DA-445A-80C4-2C819337DEF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B4ED32-B75C-4B57-817D-0D669A641D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D7547-1621-4ADD-9A96-DC35540BCA6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12E9E-80DC-4B26-8691-F5C4A5CB22F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09BAD5-3030-4924-BB65-4AD204CE4CB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521C4D-B170-4D2D-BCAE-B1F5E6F5FE3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07FEAA-C3F9-48F8-A011-CAC34F39D05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430023-B810-455F-8122-25D3E2661BE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9EDDD-F70E-47A1-ACFC-AE9170EFB99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8AFDB5-0F44-4708-9E81-254FAC2B760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49520-E5D3-4D55-B6F1-D331B44AF90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B27A7-81F7-4531-8810-0770D51768C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C8055-F829-417B-93C2-D724C38B372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5CF-5EE2-4C66-96E3-CE5D83C3176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5A45B3-5D33-41E2-8760-C298188FF2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ED3F8D-E5F2-4DBB-96C3-85B05DC2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5DC0B6-D839-45DA-AD95-EA4FAB4A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10F196-CCAE-41CA-833B-2CEB7CAC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F70F59-2C81-4D80-97B2-E08842776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EA77EC-2591-420D-AD7C-6F0833C7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2B0BF6-B991-4292-A11B-E1116F20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67B-BD9D-4550-AE1F-8591A849993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62F118-CE44-4D87-954B-87ADC553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346AA17-E350-4034-B8E3-B54E60EB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318643-8991-4995-90CE-84755E83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1E3974-51EC-4BDA-A940-C973203A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EAEC08-3225-46AE-BB6A-EFBC9363AA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20F1-1F64-4907-A046-40A6B68E54A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50F39-7886-44AA-9B58-98723C3BBAF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5FD943-264E-4EFD-BEFA-1A816B39B3B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AEEC5E-B595-47A8-80C4-7FB7AF3CCF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9D0C-55C4-4C7C-9CAF-732BD254799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A1ED45-89DD-48F4-B3E3-8CE30529433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00EFB0-5CCB-449B-A126-A7F4AC5487DA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B22723-CAC9-4E14-82C7-3AEC811C48B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C443DC-7DC8-4354-931F-D9FB148BC1B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F267BD-4A31-49C1-AF94-3B38205E6EC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27897A-8A1D-430E-A432-F3BD3CA045A4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62060B-B35F-493C-8261-4D60FBB2F30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45EEE-D4E7-46C0-88DD-FA189145BA8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09A35E-559C-4C6A-843D-ABE6369DB0B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FE6-EC6A-432C-93A1-C4D5C6E4FE4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48E50-2442-4C8B-8111-EECC6707CB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B38-352C-4AE1-A812-03FFBC3CD8F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052-018F-41C2-81C7-D9769D3256D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88DF-E5AC-45E7-9776-7D6E57422A41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DD16-F76E-4184-BED8-EAA9C6A25F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0878-BEB7-4679-AEF0-FCB76AD3C6F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B60-98A0-4716-809F-2ABD48AB144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0982-E7A6-4FC5-A203-06167E8ACA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613DE-DFE9-44CF-ABA6-280E3E4E45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E6F34-61E0-4C3A-92AF-7778C9E8D31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7CE02-3609-463E-ABE5-E8728F420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DEE7-2B03-4842-95B0-25D376B476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24D28-D7A0-4B63-AEA1-3D4C7FBAC90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1C71F-E129-4030-B635-97884957E96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E7E4D-413C-45A4-9BEB-E2C391A343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52CC5-127E-4AC8-A28C-D46859C9E67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04FBF-276B-4824-8718-982C8D2C24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53DAF-CD02-4C8C-9731-4BBC07E199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43E87-03C4-4171-864F-1E90A49A23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515A50-D712-4F2C-B129-F749D8A7DF1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32415-8E7E-4B8C-9689-98D80EC15D3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45F8B-9FED-4E19-B868-D13526A91B3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03AC9-1AA2-430C-96FC-672301B9BEB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433E0-E22F-4E51-9113-40B710152C2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3A85D-C2D6-47EF-8EA8-A92778CD9EE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C301F-8869-4684-AC18-4FBCD1CA88F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E36D0-88C8-4E57-AB9A-B1CB9C937AA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863BD-63DC-4509-A4A7-8C1A6309FEE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AD8F4-8052-4796-90F2-D28E3A81E4D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119A8-C290-4D5C-87B0-35A4968DA84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33D0C-B6F1-4654-98AE-6E429E5B7CA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584AE-A3B7-4CDF-9CF9-04448A12A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6D9BE-C9D8-44C5-9F4B-7C6BD20596B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7C158-48BA-4660-A76F-1C1B455A3EB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A9196-8EFA-4BB2-B7EC-07D1E16E407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D185A0-00B2-4297-A976-C19B8A19C82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0683F-8EAD-4513-A234-142648F9342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4320-3F18-493E-B1A1-72E059CB908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76A6-C75D-4715-83E9-62718B1CC4F5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6"/>
          </p:nvPr>
        </p:nvSpPr>
        <p:spPr>
          <a:xfrm>
            <a:off x="1186920" y="6505200"/>
            <a:ext cx="1600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sldNum" idx="7"/>
          </p:nvPr>
        </p:nvSpPr>
        <p:spPr>
          <a:xfrm>
            <a:off x="6552720" y="6391440"/>
            <a:ext cx="22100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940D-F8C9-4150-BB59-45157861F9CB}" type="slidenum">
              <a:rPr b="0" lang="de-CH" sz="8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Bild 6" descr="CIT_logo_zusatz.jpg"/>
          <p:cNvPicPr/>
          <p:nvPr/>
        </p:nvPicPr>
        <p:blipFill>
          <a:blip r:embed="rId2"/>
          <a:stretch/>
        </p:blipFill>
        <p:spPr>
          <a:xfrm>
            <a:off x="755640" y="549360"/>
            <a:ext cx="4876920" cy="571320"/>
          </a:xfrm>
          <a:prstGeom prst="rect">
            <a:avLst/>
          </a:prstGeom>
          <a:ln w="0">
            <a:noFill/>
          </a:ln>
        </p:spPr>
      </p:pic>
      <p:sp>
        <p:nvSpPr>
          <p:cNvPr id="411" name="Line 25"/>
          <p:cNvSpPr/>
          <p:nvPr/>
        </p:nvSpPr>
        <p:spPr>
          <a:xfrm>
            <a:off x="2340000" y="4437000"/>
            <a:ext cx="644508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452" name="Rechteck 6"/>
          <p:cNvSpPr/>
          <p:nvPr/>
        </p:nvSpPr>
        <p:spPr>
          <a:xfrm>
            <a:off x="360360" y="1484280"/>
            <a:ext cx="8423280" cy="396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8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B37A-1AF1-4376-8789-369740B9E1CF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494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535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9"/>
          </p:nvPr>
        </p:nvSpPr>
        <p:spPr>
          <a:xfrm>
            <a:off x="1186920" y="6505200"/>
            <a:ext cx="1600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10"/>
          </p:nvPr>
        </p:nvSpPr>
        <p:spPr>
          <a:xfrm>
            <a:off x="6552720" y="6391440"/>
            <a:ext cx="22100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4257-50C6-4C32-909E-5E67B17CCB32}" type="slidenum">
              <a:rPr b="0" lang="de-CH" sz="8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Bild 6" descr="CIT_logo_zusatz.jpg"/>
          <p:cNvPicPr/>
          <p:nvPr/>
        </p:nvPicPr>
        <p:blipFill>
          <a:blip r:embed="rId2"/>
          <a:stretch/>
        </p:blipFill>
        <p:spPr>
          <a:xfrm>
            <a:off x="755640" y="549360"/>
            <a:ext cx="4876920" cy="571320"/>
          </a:xfrm>
          <a:prstGeom prst="rect">
            <a:avLst/>
          </a:prstGeom>
          <a:ln w="0">
            <a:noFill/>
          </a:ln>
        </p:spPr>
      </p:pic>
      <p:sp>
        <p:nvSpPr>
          <p:cNvPr id="657" name="Line 25"/>
          <p:cNvSpPr/>
          <p:nvPr/>
        </p:nvSpPr>
        <p:spPr>
          <a:xfrm>
            <a:off x="2340000" y="4437000"/>
            <a:ext cx="644508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698" name="Rechteck 6"/>
          <p:cNvSpPr/>
          <p:nvPr/>
        </p:nvSpPr>
        <p:spPr>
          <a:xfrm>
            <a:off x="360360" y="1484280"/>
            <a:ext cx="8423280" cy="396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sldNum" idx="11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76C8-7241-4493-B091-6A720A5DC0DF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740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3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2831-E5DF-4B34-A019-00FCC3236E0F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781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12"/>
          </p:nvPr>
        </p:nvSpPr>
        <p:spPr>
          <a:xfrm>
            <a:off x="1186920" y="6505200"/>
            <a:ext cx="1600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sldNum" idx="13"/>
          </p:nvPr>
        </p:nvSpPr>
        <p:spPr>
          <a:xfrm>
            <a:off x="6552720" y="6391440"/>
            <a:ext cx="22100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929F-3097-4C32-B811-0B289858B514}" type="slidenum">
              <a:rPr b="0" lang="de-CH" sz="8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Bild 6" descr="CIT_logo_zusatz.jpg"/>
          <p:cNvPicPr/>
          <p:nvPr/>
        </p:nvPicPr>
        <p:blipFill>
          <a:blip r:embed="rId2"/>
          <a:stretch/>
        </p:blipFill>
        <p:spPr>
          <a:xfrm>
            <a:off x="755640" y="549360"/>
            <a:ext cx="4876920" cy="571320"/>
          </a:xfrm>
          <a:prstGeom prst="rect">
            <a:avLst/>
          </a:prstGeom>
          <a:ln w="0">
            <a:noFill/>
          </a:ln>
        </p:spPr>
      </p:pic>
      <p:sp>
        <p:nvSpPr>
          <p:cNvPr id="903" name="Line 25"/>
          <p:cNvSpPr/>
          <p:nvPr/>
        </p:nvSpPr>
        <p:spPr>
          <a:xfrm>
            <a:off x="2340000" y="4437000"/>
            <a:ext cx="644508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3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944" name="Rechteck 6"/>
          <p:cNvSpPr/>
          <p:nvPr/>
        </p:nvSpPr>
        <p:spPr>
          <a:xfrm>
            <a:off x="360360" y="1484280"/>
            <a:ext cx="8423280" cy="396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sldNum" idx="14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D6C3-C919-451F-86E9-045CFB9EA102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5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986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1027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4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94F3-A6A0-475A-BEE7-3EB422946054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25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CC00-403C-4A1E-A923-CA091791E998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Bild 6" descr="CIT_logo_zusatz.jpg"/>
          <p:cNvPicPr/>
          <p:nvPr/>
        </p:nvPicPr>
        <p:blipFill>
          <a:blip r:embed="rId2"/>
          <a:stretch/>
        </p:blipFill>
        <p:spPr>
          <a:xfrm>
            <a:off x="755640" y="549360"/>
            <a:ext cx="4876920" cy="571320"/>
          </a:xfrm>
          <a:prstGeom prst="rect">
            <a:avLst/>
          </a:prstGeom>
          <a:ln w="0">
            <a:noFill/>
          </a:ln>
        </p:spPr>
      </p:pic>
      <p:sp>
        <p:nvSpPr>
          <p:cNvPr id="165" name="Line 25"/>
          <p:cNvSpPr/>
          <p:nvPr/>
        </p:nvSpPr>
        <p:spPr>
          <a:xfrm>
            <a:off x="2340000" y="4437000"/>
            <a:ext cx="644508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206" name="Rechteck 6"/>
          <p:cNvSpPr/>
          <p:nvPr/>
        </p:nvSpPr>
        <p:spPr>
          <a:xfrm>
            <a:off x="360360" y="1484280"/>
            <a:ext cx="8423280" cy="396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5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0CC0-737A-4B47-8A24-A12D5987D61C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248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289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2340000" y="1844280"/>
            <a:ext cx="64800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IT GTC EurAsia: Point 3 of the UNECE Ministerial Declaration</a:t>
            </a:r>
            <a:endParaRPr b="1" lang="en-US" sz="40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2340000" y="4581000"/>
            <a:ext cx="6480000" cy="16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05150"/>
                </a:solidFill>
                <a:latin typeface="Arial"/>
              </a:rPr>
              <a:t>SC.2 Meeting, 23 November 2015, Geneva 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05150"/>
                </a:solidFill>
                <a:latin typeface="Arial"/>
              </a:rPr>
              <a:t>Dr Erik Evtimov</a:t>
            </a:r>
            <a:r>
              <a:rPr b="0" lang="de-DE" sz="18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50515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05150"/>
                </a:solidFill>
                <a:latin typeface="Arial"/>
              </a:rPr>
              <a:t>Deputy</a:t>
            </a:r>
            <a:r>
              <a:rPr b="0" lang="de-DE" sz="1800" spc="-1" strike="noStrike">
                <a:solidFill>
                  <a:srgbClr val="50515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505150"/>
                </a:solidFill>
                <a:latin typeface="Arial"/>
              </a:rPr>
              <a:t>Secretary General CIT</a:t>
            </a:r>
            <a:r>
              <a:rPr b="0" lang="en-GB" sz="1600" spc="-1" strike="noStrike">
                <a:solidFill>
                  <a:srgbClr val="50515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63d74"/>
                </a:solidFill>
                <a:latin typeface="Arial"/>
              </a:rPr>
              <a:t>Conclusions 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pic>
        <p:nvPicPr>
          <p:cNvPr id="1167" name="Espace réservé du contenu 5" descr=""/>
          <p:cNvPicPr/>
          <p:nvPr/>
        </p:nvPicPr>
        <p:blipFill>
          <a:blip r:embed="rId1"/>
          <a:stretch/>
        </p:blipFill>
        <p:spPr>
          <a:xfrm>
            <a:off x="298440" y="2279520"/>
            <a:ext cx="8454960" cy="3883320"/>
          </a:xfrm>
          <a:prstGeom prst="rect">
            <a:avLst/>
          </a:prstGeom>
          <a:ln w="0">
            <a:noFill/>
          </a:ln>
        </p:spPr>
      </p:pic>
      <p:sp>
        <p:nvSpPr>
          <p:cNvPr id="1168" name="Rectangle 6"/>
          <p:cNvSpPr/>
          <p:nvPr/>
        </p:nvSpPr>
        <p:spPr>
          <a:xfrm>
            <a:off x="395280" y="1197000"/>
            <a:ext cx="5616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Electronic CIM/SMGS consignment 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General Terms and Conditions Eur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Best case: transportation of postal items by r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Arial"/>
              </a:rPr>
              <a:t>Unified Rail Transport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oliennummernplatzhalter 2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BCBD-CCEA-4D38-B4FB-01CF063D399F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Espace réservé du numéro de diapositive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5B5E-8D66-456F-9EF0-59B078745644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1" name="Group 17" descr=""/>
          <p:cNvPicPr/>
          <p:nvPr/>
        </p:nvPicPr>
        <p:blipFill>
          <a:blip r:embed="rId1"/>
          <a:stretch/>
        </p:blipFill>
        <p:spPr>
          <a:xfrm>
            <a:off x="3602160" y="3243240"/>
            <a:ext cx="5761080" cy="1657440"/>
          </a:xfrm>
          <a:prstGeom prst="rect">
            <a:avLst/>
          </a:prstGeom>
          <a:ln w="0">
            <a:noFill/>
          </a:ln>
        </p:spPr>
      </p:pic>
      <p:grpSp>
        <p:nvGrpSpPr>
          <p:cNvPr id="1172" name="Group 16"/>
          <p:cNvGrpSpPr/>
          <p:nvPr/>
        </p:nvGrpSpPr>
        <p:grpSpPr>
          <a:xfrm>
            <a:off x="3602160" y="5219640"/>
            <a:ext cx="5541480" cy="466920"/>
            <a:chOff x="3602160" y="5219640"/>
            <a:chExt cx="5541480" cy="466920"/>
          </a:xfrm>
        </p:grpSpPr>
        <p:sp>
          <p:nvSpPr>
            <p:cNvPr id="1173" name="Rectangle 9"/>
            <p:cNvSpPr/>
            <p:nvPr/>
          </p:nvSpPr>
          <p:spPr>
            <a:xfrm>
              <a:off x="3602160" y="5219640"/>
              <a:ext cx="5541480" cy="4669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Text Box 10"/>
            <p:cNvSpPr/>
            <p:nvPr/>
          </p:nvSpPr>
          <p:spPr>
            <a:xfrm>
              <a:off x="4350600" y="5262480"/>
              <a:ext cx="469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70c0"/>
                  </a:solidFill>
                  <a:uFillTx/>
                  <a:latin typeface="Arial"/>
                </a:rPr>
                <a:t>www.cit-rail.org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Picture 100" descr=""/>
          <p:cNvPicPr/>
          <p:nvPr/>
        </p:nvPicPr>
        <p:blipFill>
          <a:blip r:embed="rId1"/>
          <a:stretch/>
        </p:blipFill>
        <p:spPr>
          <a:xfrm>
            <a:off x="547560" y="1290600"/>
            <a:ext cx="8056800" cy="4865760"/>
          </a:xfrm>
          <a:prstGeom prst="rect">
            <a:avLst/>
          </a:prstGeom>
          <a:ln w="0">
            <a:noFill/>
          </a:ln>
        </p:spPr>
      </p:pic>
      <p:sp>
        <p:nvSpPr>
          <p:cNvPr id="1116" name="Rectangle 2"/>
          <p:cNvSpPr/>
          <p:nvPr/>
        </p:nvSpPr>
        <p:spPr>
          <a:xfrm>
            <a:off x="131760" y="206280"/>
            <a:ext cx="8904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3d74"/>
                </a:solidFill>
                <a:latin typeface="Arial"/>
              </a:rPr>
              <a:t>Opportunities &amp; challenges for railway companies today</a:t>
            </a: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hteck 1"/>
          <p:cNvSpPr/>
          <p:nvPr/>
        </p:nvSpPr>
        <p:spPr>
          <a:xfrm>
            <a:off x="868320" y="1820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feld 2"/>
          <p:cNvSpPr/>
          <p:nvPr/>
        </p:nvSpPr>
        <p:spPr>
          <a:xfrm>
            <a:off x="552960" y="1268280"/>
            <a:ext cx="3561120" cy="161856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ht traffic China-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~ 90% Sea/4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 10% Air/1 d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~ 1% Railway/ ~15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~ 30 freight trains per we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1"/>
          <p:cNvSpPr/>
          <p:nvPr/>
        </p:nvSpPr>
        <p:spPr>
          <a:xfrm>
            <a:off x="434880" y="72396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Eurasian Freight Corridors - An existing market with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Espace réservé du numéro de diapositive 2"/>
          <p:cNvSpPr/>
          <p:nvPr/>
        </p:nvSpPr>
        <p:spPr>
          <a:xfrm>
            <a:off x="6759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404C-7EFE-4C4A-B12F-CCD7E869F0FB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600" spc="-1" strike="noStrike">
                <a:solidFill>
                  <a:srgbClr val="263d74"/>
                </a:solidFill>
                <a:latin typeface="Arial"/>
              </a:rPr>
              <a:t>Potential for parcels transportation between China and Europe by rail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22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DF32-6FD6-44F4-85AB-2B1CFB936921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3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600" spc="-1" strike="noStrike">
                <a:solidFill>
                  <a:srgbClr val="263d74"/>
                </a:solidFill>
                <a:latin typeface="Arial"/>
              </a:rPr>
              <a:t>Scope of application of CIM and SMGS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25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6723-3BBB-4743-AEF3-27585C79383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hteck 8"/>
          <p:cNvSpPr/>
          <p:nvPr/>
        </p:nvSpPr>
        <p:spPr>
          <a:xfrm>
            <a:off x="220680" y="2865600"/>
            <a:ext cx="289080" cy="274320"/>
          </a:xfrm>
          <a:prstGeom prst="rect">
            <a:avLst/>
          </a:prstGeom>
          <a:solidFill>
            <a:srgbClr val="9966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hteck 9"/>
          <p:cNvSpPr/>
          <p:nvPr/>
        </p:nvSpPr>
        <p:spPr>
          <a:xfrm>
            <a:off x="220680" y="3421080"/>
            <a:ext cx="289080" cy="274680"/>
          </a:xfrm>
          <a:prstGeom prst="rect">
            <a:avLst/>
          </a:prstGeom>
          <a:solidFill>
            <a:srgbClr val="008000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hteck 10"/>
          <p:cNvSpPr/>
          <p:nvPr/>
        </p:nvSpPr>
        <p:spPr>
          <a:xfrm>
            <a:off x="220680" y="4002120"/>
            <a:ext cx="289080" cy="274680"/>
          </a:xfrm>
          <a:prstGeom prst="rect">
            <a:avLst/>
          </a:prstGeom>
          <a:solidFill>
            <a:srgbClr val="ffff6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feld 13"/>
          <p:cNvSpPr/>
          <p:nvPr/>
        </p:nvSpPr>
        <p:spPr>
          <a:xfrm>
            <a:off x="600840" y="2898720"/>
            <a:ext cx="59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SM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feld 14"/>
          <p:cNvSpPr/>
          <p:nvPr/>
        </p:nvSpPr>
        <p:spPr>
          <a:xfrm>
            <a:off x="599040" y="3444840"/>
            <a:ext cx="39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C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5"/>
          <p:cNvSpPr/>
          <p:nvPr/>
        </p:nvSpPr>
        <p:spPr>
          <a:xfrm>
            <a:off x="587160" y="4037040"/>
            <a:ext cx="112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CIM + SM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hteck 13"/>
          <p:cNvSpPr/>
          <p:nvPr/>
        </p:nvSpPr>
        <p:spPr>
          <a:xfrm>
            <a:off x="220680" y="4668840"/>
            <a:ext cx="289080" cy="274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feld 15"/>
          <p:cNvSpPr/>
          <p:nvPr/>
        </p:nvSpPr>
        <p:spPr>
          <a:xfrm>
            <a:off x="586440" y="4595760"/>
            <a:ext cx="1052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Memb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suspen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hteck 16"/>
          <p:cNvSpPr/>
          <p:nvPr/>
        </p:nvSpPr>
        <p:spPr>
          <a:xfrm>
            <a:off x="220680" y="5362560"/>
            <a:ext cx="289080" cy="274680"/>
          </a:xfrm>
          <a:prstGeom prst="rect">
            <a:avLst/>
          </a:prstGeom>
          <a:solidFill>
            <a:srgbClr val="ccffcc"/>
          </a:solidFill>
          <a:ln w="93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feld 15"/>
          <p:cNvSpPr/>
          <p:nvPr/>
        </p:nvSpPr>
        <p:spPr>
          <a:xfrm>
            <a:off x="585360" y="5295960"/>
            <a:ext cx="848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Assoc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6" name="Picture 15" descr=""/>
          <p:cNvPicPr/>
          <p:nvPr/>
        </p:nvPicPr>
        <p:blipFill>
          <a:blip r:embed="rId2"/>
          <a:srcRect l="4758" t="17008" r="42911" b="37205"/>
          <a:stretch/>
        </p:blipFill>
        <p:spPr>
          <a:xfrm>
            <a:off x="2008080" y="1649520"/>
            <a:ext cx="6823080" cy="4265640"/>
          </a:xfrm>
          <a:prstGeom prst="rect">
            <a:avLst/>
          </a:prstGeom>
          <a:ln w="0">
            <a:noFill/>
          </a:ln>
        </p:spPr>
      </p:pic>
      <p:sp>
        <p:nvSpPr>
          <p:cNvPr id="1137" name="Textfeld 16"/>
          <p:cNvSpPr/>
          <p:nvPr/>
        </p:nvSpPr>
        <p:spPr>
          <a:xfrm>
            <a:off x="6516720" y="1003320"/>
            <a:ext cx="2357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Etat au 1</a:t>
            </a:r>
            <a:r>
              <a:rPr b="0" lang="fr-CH" sz="12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 novembre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Arial"/>
              </a:rPr>
              <a:t>Stand 1. Nov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tuation on 1 November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2"/>
          <p:cNvSpPr/>
          <p:nvPr/>
        </p:nvSpPr>
        <p:spPr>
          <a:xfrm>
            <a:off x="372960" y="146160"/>
            <a:ext cx="8771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  <a:ea typeface="Calibri"/>
              </a:rPr>
              <a:t>Solutions </a:t>
            </a:r>
            <a:r>
              <a:rPr b="1" lang="de-DE" sz="2600" spc="-1" strike="noStrike">
                <a:solidFill>
                  <a:srgbClr val="032377"/>
                </a:solidFill>
                <a:latin typeface="Arial"/>
                <a:ea typeface="Calibri"/>
              </a:rPr>
              <a:t>to increase railway competitivenes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32377"/>
                </a:solidFill>
                <a:latin typeface="Arial"/>
                <a:ea typeface="Calibri"/>
              </a:rPr>
              <a:t>UNECE Joint Decla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3"/>
          <p:cNvSpPr/>
          <p:nvPr/>
        </p:nvSpPr>
        <p:spPr>
          <a:xfrm>
            <a:off x="372960" y="974880"/>
            <a:ext cx="8542440" cy="526248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927000" indent="-2854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Joint Declaration on the promotion of Euro-Asian Rail Transport and activities towards Unified Railway Law (26 February 2013, Geneva): 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Important step towards a solution to unify different legal reg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7040" indent="-34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285480">
              <a:lnSpc>
                <a:spcPct val="100000"/>
              </a:lnSpc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State of play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: Draft of </a:t>
            </a:r>
            <a:r>
              <a:rPr b="1" lang="en-GB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relevant legal provisions 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is being discussed within the UNECE Groups of Experts towards Unified Railway Law (last meeting took place on 14–16 October 2015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7040" indent="-34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27040" indent="-3427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7040" indent="-3427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7040" indent="-3427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7040" indent="-34272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7040" indent="-34272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2854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CIT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supports efforts at the governmental level and encourages legislation that is suitable from the viewpoint of the carriers to promote competitiveness of the Eurasian railway transpor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4"/>
          <p:cNvSpPr/>
          <p:nvPr/>
        </p:nvSpPr>
        <p:spPr>
          <a:xfrm>
            <a:off x="2287440" y="3019320"/>
            <a:ext cx="2332080" cy="2216160"/>
          </a:xfrm>
          <a:prstGeom prst="ellipse">
            <a:avLst/>
          </a:prstGeom>
          <a:solidFill>
            <a:srgbClr val="ffff00">
              <a:alpha val="42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5"/>
          <p:cNvSpPr/>
          <p:nvPr/>
        </p:nvSpPr>
        <p:spPr>
          <a:xfrm>
            <a:off x="4437000" y="3046320"/>
            <a:ext cx="2359080" cy="2211480"/>
          </a:xfrm>
          <a:prstGeom prst="ellipse">
            <a:avLst/>
          </a:prstGeom>
          <a:solidFill>
            <a:srgbClr val="3366ff">
              <a:alpha val="33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AutoShape 8"/>
          <p:cNvSpPr/>
          <p:nvPr/>
        </p:nvSpPr>
        <p:spPr>
          <a:xfrm>
            <a:off x="2430360" y="3975120"/>
            <a:ext cx="4427640" cy="701640"/>
          </a:xfrm>
          <a:prstGeom prst="leftRightArrow">
            <a:avLst>
              <a:gd name="adj1" fmla="val 50000"/>
              <a:gd name="adj2" fmla="val 1256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9"/>
          <p:cNvSpPr/>
          <p:nvPr/>
        </p:nvSpPr>
        <p:spPr>
          <a:xfrm>
            <a:off x="2430360" y="4151160"/>
            <a:ext cx="479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Helvetica 55 Roman"/>
              </a:rPr>
              <a:t>Unified Rail Transport La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7"/>
          <p:cNvSpPr/>
          <p:nvPr/>
        </p:nvSpPr>
        <p:spPr>
          <a:xfrm>
            <a:off x="2220840" y="3519360"/>
            <a:ext cx="2454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Helvetica 55 Roman"/>
              </a:rPr>
              <a:t>COTIF/CI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6"/>
          <p:cNvSpPr/>
          <p:nvPr/>
        </p:nvSpPr>
        <p:spPr>
          <a:xfrm>
            <a:off x="4446720" y="3429000"/>
            <a:ext cx="2411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Helvetica 55 Roman"/>
              </a:rPr>
              <a:t>SMG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Espace réservé du numéro de diapositive 2"/>
          <p:cNvSpPr/>
          <p:nvPr/>
        </p:nvSpPr>
        <p:spPr>
          <a:xfrm>
            <a:off x="6759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9C39-E153-4AB4-A126-0E9C00545150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3"/>
          <p:cNvSpPr/>
          <p:nvPr/>
        </p:nvSpPr>
        <p:spPr>
          <a:xfrm>
            <a:off x="328680" y="1081080"/>
            <a:ext cx="5180040" cy="50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1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General Terms and Conditions for EurAsia Rail Transport Contracts of the C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(GTC EurAs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Point 3 - 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of the UNECE Political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Framework contract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 - for participating railways (on different corrid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Applicable law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 - mandatory provisions of the national law shall 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Precondition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 – </a:t>
            </a:r>
            <a:r>
              <a:rPr b="0" i="1" lang="en-GB" sz="1800" spc="-1" strike="noStrike">
                <a:solidFill>
                  <a:srgbClr val="404040"/>
                </a:solidFill>
                <a:latin typeface="Arial"/>
              </a:rPr>
              <a:t>opting-in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 through the participating railways (for example DB, PKP Cargo, BC, RZD and CCTT or GE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buClr>
                <a:srgbClr val="40404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Legal basis</a:t>
            </a: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 - international private law (I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2"/>
          <p:cNvSpPr/>
          <p:nvPr/>
        </p:nvSpPr>
        <p:spPr>
          <a:xfrm>
            <a:off x="241200" y="204840"/>
            <a:ext cx="844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  <a:ea typeface="Calibri"/>
              </a:rPr>
              <a:t>Solutions to increase railway competitivenes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32377"/>
                </a:solidFill>
                <a:latin typeface="Arial"/>
                <a:ea typeface="Calibri"/>
              </a:rPr>
              <a:t>GTC Eurasia as instrument on contractu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Picture 5" descr=""/>
          <p:cNvPicPr/>
          <p:nvPr/>
        </p:nvPicPr>
        <p:blipFill>
          <a:blip r:embed="rId1"/>
          <a:srcRect l="4586" t="0" r="4243" b="0"/>
          <a:stretch/>
        </p:blipFill>
        <p:spPr>
          <a:xfrm>
            <a:off x="5702400" y="1600200"/>
            <a:ext cx="3062160" cy="407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0" name="Rechteck 2"/>
          <p:cNvSpPr/>
          <p:nvPr/>
        </p:nvSpPr>
        <p:spPr>
          <a:xfrm>
            <a:off x="660240" y="2637000"/>
            <a:ext cx="4703760" cy="576000"/>
          </a:xfrm>
          <a:prstGeom prst="rect">
            <a:avLst/>
          </a:prstGeom>
          <a:noFill/>
          <a:ln w="12600">
            <a:solidFill>
              <a:srgbClr val="0229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Espace réservé du numéro de diapositive 2"/>
          <p:cNvSpPr/>
          <p:nvPr/>
        </p:nvSpPr>
        <p:spPr>
          <a:xfrm>
            <a:off x="6759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4B20-4AFB-41F7-A08E-3FEF8C9B9110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438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Electronic CIM/SMGS Consignment Note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304920" y="1065240"/>
            <a:ext cx="5851440" cy="58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800" spc="-1" strike="noStrike">
                <a:solidFill>
                  <a:srgbClr val="505150"/>
                </a:solidFill>
                <a:latin typeface="Arial"/>
              </a:rPr>
              <a:t>Functional specifications: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8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updated based on the revision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of SMGS (1 January 2016)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800" spc="-1" strike="noStrike">
                <a:solidFill>
                  <a:srgbClr val="505150"/>
                </a:solidFill>
                <a:latin typeface="Arial"/>
              </a:rPr>
              <a:t>Legal specifications: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8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to be analyzed an updated in 2016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800" spc="-1" strike="noStrike">
                <a:solidFill>
                  <a:srgbClr val="505150"/>
                </a:solidFill>
                <a:latin typeface="Arial"/>
              </a:rPr>
              <a:t>Current work: </a:t>
            </a:r>
            <a:r>
              <a:rPr b="0" i="1" lang="en-US" sz="1800" spc="-1" strike="noStrike">
                <a:solidFill>
                  <a:srgbClr val="505150"/>
                </a:solidFill>
                <a:latin typeface="Arial"/>
              </a:rPr>
              <a:t>Ad hoc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 technical WG on e-consignment note CIM/SMGS (CIT, OSJD, RAILDATA and experts from CIM &amp; SMGS RUs)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800" spc="-1" strike="noStrike">
                <a:solidFill>
                  <a:srgbClr val="505150"/>
                </a:solidFill>
                <a:latin typeface="Arial"/>
              </a:rPr>
              <a:t>Tasks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revision of the technical specifications;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work towards development of the XML/EDIFACT converter;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800" spc="-1" strike="noStrike">
                <a:solidFill>
                  <a:srgbClr val="505150"/>
                </a:solidFill>
                <a:latin typeface="Arial"/>
              </a:rPr>
              <a:t>-  the role of electronic signature in SMGS area.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</p:txBody>
      </p:sp>
      <p:pic>
        <p:nvPicPr>
          <p:cNvPr id="1154" name="Picture 2" descr=""/>
          <p:cNvPicPr/>
          <p:nvPr/>
        </p:nvPicPr>
        <p:blipFill>
          <a:blip r:embed="rId1"/>
          <a:srcRect l="31309" t="8477" r="30418" b="5047"/>
          <a:stretch/>
        </p:blipFill>
        <p:spPr>
          <a:xfrm>
            <a:off x="6156360" y="1136520"/>
            <a:ext cx="2387520" cy="337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55" name="Picture 3" descr=""/>
          <p:cNvPicPr/>
          <p:nvPr/>
        </p:nvPicPr>
        <p:blipFill>
          <a:blip r:embed="rId2"/>
          <a:srcRect l="31370" t="8668" r="30835" b="5331"/>
          <a:stretch/>
        </p:blipFill>
        <p:spPr>
          <a:xfrm>
            <a:off x="6572160" y="2720880"/>
            <a:ext cx="2371680" cy="337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6" name="Espace réservé du numéro de diapositive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DC19-94E0-4AB7-8E1F-F8086E73A5A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736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63d74"/>
                </a:solidFill>
                <a:latin typeface="Arial"/>
              </a:rPr>
              <a:t>Practical use of the CIM/SMGS Consignment note: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03600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8568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05150"/>
              </a:solidFill>
              <a:latin typeface="Arial"/>
            </a:endParaRPr>
          </a:p>
          <a:p>
            <a:pPr lvl="1" marL="9856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05150"/>
              </a:solidFill>
              <a:latin typeface="Arial"/>
            </a:endParaRPr>
          </a:p>
          <a:p>
            <a:pPr lvl="1" marL="985680" indent="0"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05150"/>
                </a:solidFill>
                <a:latin typeface="Arial"/>
              </a:rPr>
              <a:t>Actions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lvl="1" marL="985680" indent="-718920">
              <a:spcAft>
                <a:spcPts val="601"/>
              </a:spcAft>
              <a:buClr>
                <a:srgbClr val="5051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05150"/>
                </a:solidFill>
                <a:latin typeface="Arial"/>
              </a:rPr>
              <a:t>Inclusion of the three re-consignment points from China into GLV-CIM/SMGS: </a:t>
            </a:r>
            <a:r>
              <a:rPr b="0" lang="en-GB" sz="1600" spc="-1" strike="noStrike">
                <a:solidFill>
                  <a:srgbClr val="505150"/>
                </a:solidFill>
                <a:latin typeface="Arial"/>
              </a:rPr>
              <a:t>Alshankou – Dostyk (China and Kazakhstan); Erljan – Zaminuud (China and Mongolia); Manzuli – Zabaikalsk (China and Russia);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lvl="1" marL="985680" indent="-718920">
              <a:spcAft>
                <a:spcPts val="601"/>
              </a:spcAft>
              <a:buClr>
                <a:srgbClr val="5051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05150"/>
                </a:solidFill>
                <a:latin typeface="Arial"/>
              </a:rPr>
              <a:t>Pilot project with UPU on transport of postal parcels by rail: 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lvl="2" marL="1386000" indent="-452520">
              <a:spcAft>
                <a:spcPts val="601"/>
              </a:spcAft>
              <a:buClr>
                <a:srgbClr val="5051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05150"/>
                </a:solidFill>
                <a:latin typeface="Arial"/>
              </a:rPr>
              <a:t>Use of CIT uniform consignment note CIM/SMGS;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lvl="2" marL="1386000" indent="-452520">
              <a:spcAft>
                <a:spcPts val="601"/>
              </a:spcAft>
              <a:buClr>
                <a:srgbClr val="5051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05150"/>
                </a:solidFill>
                <a:latin typeface="Arial"/>
              </a:rPr>
              <a:t>Utilization of the GTC EurAsia;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lvl="2" marL="1386000" indent="-452520">
              <a:spcAft>
                <a:spcPts val="601"/>
              </a:spcAft>
              <a:buClr>
                <a:srgbClr val="5051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05150"/>
                </a:solidFill>
                <a:latin typeface="Arial"/>
              </a:rPr>
              <a:t>Framing the boilerplate contract or a checklist for transport of postal items by rail in CIM/SMGS traffic;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lvl="1" marL="985680" indent="-718920">
              <a:spcAft>
                <a:spcPts val="601"/>
              </a:spcAft>
              <a:buClr>
                <a:srgbClr val="5051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05150"/>
                </a:solidFill>
                <a:latin typeface="Arial"/>
              </a:rPr>
              <a:t>CIT Workshop on Postal Consignments by Rail, 17 March 2016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lvl="1" marL="985680" indent="-718920">
              <a:spcAft>
                <a:spcPts val="601"/>
              </a:spcAft>
              <a:buClr>
                <a:srgbClr val="5051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05150"/>
                </a:solidFill>
                <a:latin typeface="Arial"/>
              </a:rPr>
              <a:t>Practical implementation of the GTC EurAsia in collaboration with the CCTT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lvl="1" marL="985680" indent="-718920">
              <a:spcAft>
                <a:spcPts val="601"/>
              </a:spcAft>
              <a:buClr>
                <a:srgbClr val="5051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05150"/>
                </a:solidFill>
                <a:latin typeface="Arial"/>
              </a:rPr>
              <a:t>Coordinated revision of the specimen of the CIM/SMGS, CIM and SMGS consignment notes in 2017-2018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lvl="1" marL="985680" indent="-718920">
              <a:spcAft>
                <a:spcPts val="601"/>
              </a:spcAft>
              <a:buClr>
                <a:srgbClr val="50515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505150"/>
                </a:solidFill>
                <a:latin typeface="Arial"/>
              </a:rPr>
              <a:t>CIT’s engagement in the work of the UNECE Group of Experts towards Unified Railway Law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lvl="2" marL="1386000" indent="0"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59" name="Espace réservé du numéro de diapositive 3"/>
          <p:cNvSpPr/>
          <p:nvPr/>
        </p:nvSpPr>
        <p:spPr>
          <a:xfrm>
            <a:off x="6759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C4B0-759B-40AB-9276-F9791621DD60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2"/>
          <p:cNvSpPr/>
          <p:nvPr/>
        </p:nvSpPr>
        <p:spPr>
          <a:xfrm>
            <a:off x="376200" y="571680"/>
            <a:ext cx="8736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Success story for the railw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hteck 1"/>
          <p:cNvSpPr/>
          <p:nvPr/>
        </p:nvSpPr>
        <p:spPr>
          <a:xfrm>
            <a:off x="868320" y="1820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feld 1"/>
          <p:cNvSpPr/>
          <p:nvPr/>
        </p:nvSpPr>
        <p:spPr>
          <a:xfrm>
            <a:off x="4140360" y="1413000"/>
            <a:ext cx="4727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40404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Good Quality of 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Technical interoperability (vehicle authorisation and safety cert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Level playing field with other transport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Competitive and transparent charges for use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Less administrative burdens: New regulatory requirements when customers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40404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Arial"/>
              </a:rPr>
              <a:t>Stable and fair legal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hteck 101"/>
          <p:cNvSpPr/>
          <p:nvPr/>
        </p:nvSpPr>
        <p:spPr>
          <a:xfrm>
            <a:off x="4140360" y="5413320"/>
            <a:ext cx="4606920" cy="719280"/>
          </a:xfrm>
          <a:prstGeom prst="rect">
            <a:avLst/>
          </a:prstGeom>
          <a:noFill/>
          <a:ln w="41400">
            <a:solidFill>
              <a:srgbClr val="022958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Picture 8" descr=""/>
          <p:cNvPicPr/>
          <p:nvPr/>
        </p:nvPicPr>
        <p:blipFill>
          <a:blip r:embed="rId1"/>
          <a:stretch/>
        </p:blipFill>
        <p:spPr>
          <a:xfrm>
            <a:off x="93600" y="1557360"/>
            <a:ext cx="4064040" cy="2711520"/>
          </a:xfrm>
          <a:prstGeom prst="rect">
            <a:avLst/>
          </a:prstGeom>
          <a:ln w="0">
            <a:noFill/>
          </a:ln>
        </p:spPr>
      </p:pic>
      <p:sp>
        <p:nvSpPr>
          <p:cNvPr id="1165" name="Espace réservé du numéro de diapositive 2"/>
          <p:cNvSpPr/>
          <p:nvPr/>
        </p:nvSpPr>
        <p:spPr>
          <a:xfrm>
            <a:off x="6759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E9FB-ECB8-4D81-813D-82739C87965A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2:58:59Z</dcterms:created>
  <dc:creator>erik.evtimov@cit-rail.org</dc:creator>
  <dc:description/>
  <dc:language>en-US</dc:language>
  <cp:lastModifiedBy>Konstantinos Alexopoulos</cp:lastModifiedBy>
  <cp:lastPrinted>2015-11-17T09:59:09Z</cp:lastPrinted>
  <dcterms:modified xsi:type="dcterms:W3CDTF">2015-11-17T12:37:21Z</dcterms:modified>
  <cp:revision>95</cp:revision>
  <dc:subject/>
  <dc:title>Folie 1</dc:title>
</cp:coreProperties>
</file>