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777600" y="767880"/>
            <a:ext cx="554364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7053-00D2-4B02-986E-61EB61D8DE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52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97DF-11A5-4768-80C5-8C0C58A185AF}" type="slidenum">
              <a:rPr b="0" lang="ko-KR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141C-BC97-45F9-8F41-1E05C265C376}" type="slidenum">
              <a:rPr b="0" lang="en-U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B672-B72A-44A2-BE04-4AF327CF7DB1}" type="slidenum">
              <a:rPr b="0" lang="en-U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5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C47A-4AF4-42CF-B265-2C1362D4566F}" type="slidenum">
              <a:rPr b="0" lang="ko-KR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8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4889-B240-42F8-9683-893C5E11BAC2}" type="slidenum">
              <a:rPr b="0" lang="ko-KR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E44E-E0BF-481A-8EDC-8D9555659ACE}" type="slidenum">
              <a:rPr b="0" lang="en-U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30F1-2C0E-44C6-A0EF-F817DA700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785880" y="771480"/>
            <a:ext cx="5419800" cy="3751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58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9E86-BC53-4B1F-B332-1EE0C7E22A23}" type="slidenum">
              <a:rPr b="0" lang="ko-KR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8B0B-2821-46DF-903A-BF07AE5FF3C7}" type="slidenum">
              <a:rPr b="0" lang="en-U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99FB-294F-4B44-B738-8E2B584C6914}" type="slidenum">
              <a:rPr b="0" lang="en-U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A723-AABB-45B3-92CE-8108FE4EAC64}" type="slidenum">
              <a:rPr b="0" lang="en-U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89BD-7A6F-4AAD-8271-7B89387B1027}" type="slidenum">
              <a:rPr b="0" lang="en-U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7A55-3B97-4F2E-B7AF-57BBE2A73BD8}" type="slidenum">
              <a:rPr b="0" lang="en-U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A686-15B3-4E39-8903-59561BF7CEBD}" type="slidenum">
              <a:rPr b="0" lang="en-U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00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0964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28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500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0964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2428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906120" cy="8571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pic>
        <p:nvPicPr>
          <p:cNvPr id="2" name="그림 5" descr=""/>
          <p:cNvPicPr/>
          <p:nvPr/>
        </p:nvPicPr>
        <p:blipFill>
          <a:blip r:embed="rId2"/>
          <a:stretch/>
        </p:blipFill>
        <p:spPr>
          <a:xfrm>
            <a:off x="57240" y="6362640"/>
            <a:ext cx="1008000" cy="46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0"/>
          <p:cNvGrpSpPr/>
          <p:nvPr/>
        </p:nvGrpSpPr>
        <p:grpSpPr>
          <a:xfrm>
            <a:off x="-5400" y="0"/>
            <a:ext cx="9910800" cy="6857280"/>
            <a:chOff x="-5400" y="0"/>
            <a:chExt cx="9910800" cy="6857280"/>
          </a:xfrm>
        </p:grpSpPr>
        <p:sp>
          <p:nvSpPr>
            <p:cNvPr id="78" name="AutoShape 21"/>
            <p:cNvSpPr/>
            <p:nvPr/>
          </p:nvSpPr>
          <p:spPr>
            <a:xfrm>
              <a:off x="41400" y="38160"/>
              <a:ext cx="982296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Freeform 22"/>
            <p:cNvSpPr/>
            <p:nvPr/>
          </p:nvSpPr>
          <p:spPr>
            <a:xfrm>
              <a:off x="360" y="0"/>
              <a:ext cx="4950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Freeform 23"/>
            <p:cNvSpPr/>
            <p:nvPr/>
          </p:nvSpPr>
          <p:spPr>
            <a:xfrm rot="16191000">
              <a:off x="-63360" y="6381720"/>
              <a:ext cx="533520" cy="4158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Freeform 24"/>
            <p:cNvSpPr/>
            <p:nvPr/>
          </p:nvSpPr>
          <p:spPr>
            <a:xfrm rot="10768800">
              <a:off x="9491400" y="6399000"/>
              <a:ext cx="398880" cy="45540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Freeform 25"/>
            <p:cNvSpPr/>
            <p:nvPr/>
          </p:nvSpPr>
          <p:spPr>
            <a:xfrm rot="5400000">
              <a:off x="9429120" y="-18720"/>
              <a:ext cx="457200" cy="4950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38"/>
          <p:cNvSpPr/>
          <p:nvPr/>
        </p:nvSpPr>
        <p:spPr>
          <a:xfrm>
            <a:off x="-15840" y="2714760"/>
            <a:ext cx="9921960" cy="1458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0" y="639720"/>
            <a:ext cx="2452680" cy="2071800"/>
          </a:xfrm>
          <a:prstGeom prst="rect">
            <a:avLst/>
          </a:prstGeom>
          <a:solidFill>
            <a:srgbClr val="ff99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2193840" y="0"/>
            <a:ext cx="7712280" cy="2786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6" name="그룹 16"/>
          <p:cNvGrpSpPr/>
          <p:nvPr/>
        </p:nvGrpSpPr>
        <p:grpSpPr>
          <a:xfrm>
            <a:off x="2238480" y="620640"/>
            <a:ext cx="7667640" cy="1000080"/>
            <a:chOff x="2238480" y="620640"/>
            <a:chExt cx="7667640" cy="1000080"/>
          </a:xfrm>
        </p:grpSpPr>
        <p:pic>
          <p:nvPicPr>
            <p:cNvPr id="87" name="Picture 2" descr="C:\Users\기본\AppData\Local\Temp\UNI000010884724.gif"/>
            <p:cNvPicPr/>
            <p:nvPr/>
          </p:nvPicPr>
          <p:blipFill>
            <a:blip r:embed="rId2"/>
            <a:srcRect l="8684" t="0" r="18927" b="23674"/>
            <a:stretch/>
          </p:blipFill>
          <p:spPr>
            <a:xfrm>
              <a:off x="8325720" y="620640"/>
              <a:ext cx="15804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그룹 20"/>
            <p:cNvGrpSpPr/>
            <p:nvPr/>
          </p:nvGrpSpPr>
          <p:grpSpPr>
            <a:xfrm>
              <a:off x="2238480" y="620640"/>
              <a:ext cx="6071760" cy="997200"/>
              <a:chOff x="2238480" y="620640"/>
              <a:chExt cx="6071760" cy="997200"/>
            </a:xfrm>
          </p:grpSpPr>
          <p:pic>
            <p:nvPicPr>
              <p:cNvPr id="89" name="Picture 8" descr="C:\Users\기본\AppData\Local\Temp\UNI000010884755.gif"/>
              <p:cNvPicPr/>
              <p:nvPr/>
            </p:nvPicPr>
            <p:blipFill>
              <a:blip r:embed="rId3"/>
              <a:stretch/>
            </p:blipFill>
            <p:spPr>
              <a:xfrm>
                <a:off x="6966000" y="620640"/>
                <a:ext cx="1344240" cy="99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10" descr="C:\Users\기본\AppData\Local\Temp\UNI000010884798.gif"/>
              <p:cNvPicPr/>
              <p:nvPr/>
            </p:nvPicPr>
            <p:blipFill>
              <a:blip r:embed="rId4"/>
              <a:stretch/>
            </p:blipFill>
            <p:spPr>
              <a:xfrm>
                <a:off x="2238480" y="620640"/>
                <a:ext cx="4727520" cy="995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1" name="Picture 3" descr=""/>
          <p:cNvPicPr/>
          <p:nvPr/>
        </p:nvPicPr>
        <p:blipFill>
          <a:blip r:embed="rId5"/>
          <a:srcRect l="4591" t="0" r="8374" b="0"/>
          <a:stretch/>
        </p:blipFill>
        <p:spPr>
          <a:xfrm>
            <a:off x="8535960" y="636480"/>
            <a:ext cx="136836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_x148162584" descr="EMB00000fb06f10"/>
          <p:cNvPicPr/>
          <p:nvPr/>
        </p:nvPicPr>
        <p:blipFill>
          <a:blip r:embed="rId6"/>
          <a:stretch/>
        </p:blipFill>
        <p:spPr>
          <a:xfrm>
            <a:off x="5510160" y="620640"/>
            <a:ext cx="1440000" cy="995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7"/>
          <a:srcRect l="27740" t="34446" r="54358" b="45025"/>
          <a:stretch/>
        </p:blipFill>
        <p:spPr>
          <a:xfrm>
            <a:off x="6969240" y="620640"/>
            <a:ext cx="1562040" cy="100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3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2225520" y="1844640"/>
            <a:ext cx="7415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  <a:ea typeface="MS PGothic"/>
              </a:rPr>
              <a:t>2014 KNCAP Updated Status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211760" y="4711680"/>
            <a:ext cx="7396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  <a:ea typeface="MS PGothic"/>
              </a:rPr>
              <a:t>Korea Ministry of Land, Infrastructure and Transport</a:t>
            </a:r>
            <a:endParaRPr b="0" lang="en-US" sz="23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352520" y="6415200"/>
            <a:ext cx="2232000" cy="37764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8" descr=""/>
          <p:cNvPicPr/>
          <p:nvPr/>
        </p:nvPicPr>
        <p:blipFill>
          <a:blip r:embed="rId2"/>
          <a:stretch/>
        </p:blipFill>
        <p:spPr>
          <a:xfrm>
            <a:off x="0" y="6119640"/>
            <a:ext cx="1224000" cy="750960"/>
          </a:xfrm>
          <a:prstGeom prst="rect">
            <a:avLst/>
          </a:prstGeom>
          <a:ln w="0">
            <a:noFill/>
          </a:ln>
        </p:spPr>
      </p:pic>
      <p:sp>
        <p:nvSpPr>
          <p:cNvPr id="143" name="テキスト ボックス 4"/>
          <p:cNvSpPr/>
          <p:nvPr/>
        </p:nvSpPr>
        <p:spPr>
          <a:xfrm>
            <a:off x="22320" y="31680"/>
            <a:ext cx="451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mitted by the expert from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ublic</a:t>
            </a:r>
            <a:r>
              <a:rPr b="0" lang="ko-K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Korea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283440" y="27000"/>
            <a:ext cx="3600360" cy="8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Informal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GRSP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5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34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56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th G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, 9-12 December 2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,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22(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)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972180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Freeform 2"/>
          <p:cNvSpPr/>
          <p:nvPr/>
        </p:nvSpPr>
        <p:spPr>
          <a:xfrm>
            <a:off x="1657440" y="950400"/>
            <a:ext cx="6156360" cy="100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movable barrier crashes to test vehicle with 55 km/h velocit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0%ile EuroSID II dummy(driver seat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valuate passenger injuries(for example head, chest and pelvis)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Freeform 4"/>
          <p:cNvSpPr/>
          <p:nvPr/>
        </p:nvSpPr>
        <p:spPr>
          <a:xfrm>
            <a:off x="1604160" y="3641400"/>
            <a:ext cx="3736440" cy="100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act speed: 29 km/h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0%ile EuroSID II dummy(driver seat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valuate passenger head injur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2724120" y="2928960"/>
            <a:ext cx="1009800" cy="237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0kgf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AutoShape 262"/>
          <p:cNvSpPr/>
          <p:nvPr/>
        </p:nvSpPr>
        <p:spPr>
          <a:xfrm>
            <a:off x="128520" y="105264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e1f0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de Impac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AutoShape 262"/>
          <p:cNvSpPr/>
          <p:nvPr/>
        </p:nvSpPr>
        <p:spPr>
          <a:xfrm>
            <a:off x="128520" y="3789360"/>
            <a:ext cx="1224000" cy="647640"/>
          </a:xfrm>
          <a:prstGeom prst="roundRect">
            <a:avLst>
              <a:gd name="adj" fmla="val 16667"/>
            </a:avLst>
          </a:prstGeom>
          <a:solidFill>
            <a:srgbClr val="e1f0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le Side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ac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Freeform 3"/>
          <p:cNvSpPr/>
          <p:nvPr/>
        </p:nvSpPr>
        <p:spPr>
          <a:xfrm>
            <a:off x="0" y="189000"/>
            <a:ext cx="9906120" cy="53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2505240" y="1989000"/>
            <a:ext cx="1942920" cy="1689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2144880" y="4599000"/>
            <a:ext cx="2514600" cy="1984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6608880" y="1989000"/>
            <a:ext cx="1944720" cy="16891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"/>
          <p:cNvSpPr/>
          <p:nvPr/>
        </p:nvSpPr>
        <p:spPr>
          <a:xfrm>
            <a:off x="7459560" y="3284640"/>
            <a:ext cx="210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r: WorldSID 50%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r: Q6, Q10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오른쪽 화살표 16"/>
          <p:cNvSpPr/>
          <p:nvPr/>
        </p:nvSpPr>
        <p:spPr>
          <a:xfrm>
            <a:off x="5305320" y="2610000"/>
            <a:ext cx="576360" cy="43164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직사각형 2"/>
          <p:cNvSpPr/>
          <p:nvPr/>
        </p:nvSpPr>
        <p:spPr>
          <a:xfrm>
            <a:off x="757800" y="28584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Update Test Protocols (Current vs. Future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Box 17"/>
          <p:cNvSpPr/>
          <p:nvPr/>
        </p:nvSpPr>
        <p:spPr>
          <a:xfrm>
            <a:off x="7272360" y="186696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E-MDB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4"/>
          <a:stretch/>
        </p:blipFill>
        <p:spPr>
          <a:xfrm>
            <a:off x="6608880" y="4113360"/>
            <a:ext cx="1749240" cy="2568600"/>
          </a:xfrm>
          <a:prstGeom prst="rect">
            <a:avLst/>
          </a:prstGeom>
          <a:ln w="0">
            <a:noFill/>
          </a:ln>
        </p:spPr>
      </p:pic>
      <p:sp>
        <p:nvSpPr>
          <p:cNvPr id="426" name="오른쪽 화살표 19"/>
          <p:cNvSpPr/>
          <p:nvPr/>
        </p:nvSpPr>
        <p:spPr>
          <a:xfrm>
            <a:off x="5529240" y="5159520"/>
            <a:ext cx="576360" cy="43164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TextBox 18"/>
          <p:cNvSpPr/>
          <p:nvPr/>
        </p:nvSpPr>
        <p:spPr>
          <a:xfrm>
            <a:off x="7699320" y="4724280"/>
            <a:ext cx="210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r: WorldSID 50%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972180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Freeform 2"/>
          <p:cNvSpPr/>
          <p:nvPr/>
        </p:nvSpPr>
        <p:spPr>
          <a:xfrm>
            <a:off x="1508760" y="1027800"/>
            <a:ext cx="4633920" cy="669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test is rear crash using sled equipmen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 velocity is 16 km/h and dummy is BioRID II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Freeform 4"/>
          <p:cNvSpPr/>
          <p:nvPr/>
        </p:nvSpPr>
        <p:spPr>
          <a:xfrm>
            <a:off x="1613880" y="3603600"/>
            <a:ext cx="7779600" cy="669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ad and leg form are impacted on vehicle hood and bumper with 40 km/h velocit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valuate head and leg injurie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AutoShape 262"/>
          <p:cNvSpPr/>
          <p:nvPr/>
        </p:nvSpPr>
        <p:spPr>
          <a:xfrm>
            <a:off x="200160" y="3645000"/>
            <a:ext cx="1296720" cy="720720"/>
          </a:xfrm>
          <a:prstGeom prst="roundRect">
            <a:avLst>
              <a:gd name="adj" fmla="val 16667"/>
            </a:avLst>
          </a:prstGeom>
          <a:solidFill>
            <a:srgbClr val="e1f0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destria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AutoShape 262"/>
          <p:cNvSpPr/>
          <p:nvPr/>
        </p:nvSpPr>
        <p:spPr>
          <a:xfrm>
            <a:off x="272880" y="1125360"/>
            <a:ext cx="1114560" cy="435240"/>
          </a:xfrm>
          <a:prstGeom prst="roundRect">
            <a:avLst>
              <a:gd name="adj" fmla="val 16667"/>
            </a:avLst>
          </a:prstGeom>
          <a:solidFill>
            <a:srgbClr val="e1f0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plash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0" y="189000"/>
            <a:ext cx="9906120" cy="53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Update Test Protocols (Current vs. Future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1695600" y="4619520"/>
            <a:ext cx="2266920" cy="18669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5776920" y="4365720"/>
            <a:ext cx="2266920" cy="1866960"/>
          </a:xfrm>
          <a:prstGeom prst="rect">
            <a:avLst/>
          </a:prstGeom>
          <a:ln w="0">
            <a:noFill/>
          </a:ln>
        </p:spPr>
      </p:pic>
      <p:sp>
        <p:nvSpPr>
          <p:cNvPr id="436" name="오른쪽 화살표 11"/>
          <p:cNvSpPr/>
          <p:nvPr/>
        </p:nvSpPr>
        <p:spPr>
          <a:xfrm>
            <a:off x="4729320" y="5330880"/>
            <a:ext cx="576000" cy="4316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TextBox 1"/>
          <p:cNvSpPr/>
          <p:nvPr/>
        </p:nvSpPr>
        <p:spPr>
          <a:xfrm>
            <a:off x="5016600" y="6078600"/>
            <a:ext cx="47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ood or Pedestrian Airbag Test if avail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1281240" y="1784520"/>
            <a:ext cx="3324240" cy="1666800"/>
          </a:xfrm>
          <a:prstGeom prst="rect">
            <a:avLst/>
          </a:prstGeom>
          <a:ln w="0">
            <a:noFill/>
          </a:ln>
        </p:spPr>
      </p:pic>
      <p:sp>
        <p:nvSpPr>
          <p:cNvPr id="439" name="오른쪽 화살표 16"/>
          <p:cNvSpPr/>
          <p:nvPr/>
        </p:nvSpPr>
        <p:spPr>
          <a:xfrm>
            <a:off x="4991040" y="2214720"/>
            <a:ext cx="576360" cy="43164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4"/>
          <a:stretch/>
        </p:blipFill>
        <p:spPr>
          <a:xfrm>
            <a:off x="5929200" y="1854360"/>
            <a:ext cx="1770120" cy="14745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7"/>
          <p:cNvSpPr/>
          <p:nvPr/>
        </p:nvSpPr>
        <p:spPr>
          <a:xfrm>
            <a:off x="5589720" y="3273480"/>
            <a:ext cx="34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dd  2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Row Seat Dynamic Test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54000" y="917640"/>
            <a:ext cx="8097840" cy="484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"/>
          <p:cNvGraphicFramePr/>
          <p:nvPr/>
        </p:nvGraphicFramePr>
        <p:xfrm>
          <a:off x="5168880" y="4437000"/>
          <a:ext cx="4464000" cy="2063880"/>
        </p:xfrm>
        <a:graphic>
          <a:graphicData uri="http://schemas.openxmlformats.org/drawingml/2006/table">
            <a:tbl>
              <a:tblPr/>
              <a:tblGrid>
                <a:gridCol w="2067120"/>
                <a:gridCol w="2396880"/>
              </a:tblGrid>
              <a:tr h="376560"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굴림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굴림"/>
                        </a:rPr>
                        <a:t>Weighting factor (%)</a:t>
                      </a:r>
                      <a:endParaRPr b="0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24800"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굴림"/>
                        </a:rPr>
                        <a:t>Vehicle Crash Safety</a:t>
                      </a:r>
                      <a:endParaRPr b="0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5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24800"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굴림"/>
                        </a:rPr>
                        <a:t>Pedestrian Protection</a:t>
                      </a:r>
                      <a:endParaRPr b="0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5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058400"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굴림"/>
                        </a:rPr>
                        <a:t>Rollover prevention and Braking performance</a:t>
                      </a:r>
                      <a:endParaRPr b="0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96880" y="95400"/>
            <a:ext cx="8064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verall Rating Evaluation Procedure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2160" y="333360"/>
            <a:ext cx="8856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w Overall Rating Scoring Display System Syste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46" name="그림 2" descr=""/>
          <p:cNvPicPr/>
          <p:nvPr/>
        </p:nvPicPr>
        <p:blipFill>
          <a:blip r:embed="rId1"/>
          <a:stretch/>
        </p:blipFill>
        <p:spPr>
          <a:xfrm>
            <a:off x="1568520" y="1341360"/>
            <a:ext cx="7056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972180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727200" y="1486080"/>
            <a:ext cx="84405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Thank you for your attention!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Arial Unicode MS"/>
              </a:rPr>
              <a:t>www.car.go.kr/kncap (website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Arial Unicode MS"/>
              </a:rPr>
              <a:t>m.car.go.kr/kncap (mobile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3327480" y="4437000"/>
            <a:ext cx="3240000" cy="18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72180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28520" y="1301760"/>
            <a:ext cx="6691320" cy="39276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851400" y="4365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3,06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3371040" y="1628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13,42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6395040" y="34290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5,22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5099760" y="44370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3,36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4739400" y="371628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3,89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6251400" y="45813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2,044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4955400" y="24210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10,236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60840" y="94284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55" name="직선 화살표 연결선 29"/>
          <p:cNvCxnSpPr/>
          <p:nvPr/>
        </p:nvCxnSpPr>
        <p:spPr>
          <a:xfrm>
            <a:off x="6634080" y="3789000"/>
            <a:ext cx="983520" cy="577080"/>
          </a:xfrm>
          <a:prstGeom prst="straightConnector1">
            <a:avLst/>
          </a:prstGeom>
          <a:ln w="22320">
            <a:solidFill>
              <a:srgbClr val="0000ff"/>
            </a:solidFill>
            <a:prstDash val="dash"/>
            <a:miter/>
            <a:tailEnd len="med" type="arrow" w="med"/>
          </a:ln>
        </p:spPr>
      </p:cxnSp>
      <p:cxnSp>
        <p:nvCxnSpPr>
          <p:cNvPr id="156" name="직선 화살표 연결선 30"/>
          <p:cNvCxnSpPr/>
          <p:nvPr/>
        </p:nvCxnSpPr>
        <p:spPr>
          <a:xfrm>
            <a:off x="6608880" y="4468680"/>
            <a:ext cx="1008720" cy="185040"/>
          </a:xfrm>
          <a:prstGeom prst="straightConnector1">
            <a:avLst/>
          </a:prstGeom>
          <a:ln w="2232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157" name="Rectangle 15"/>
          <p:cNvSpPr/>
          <p:nvPr/>
        </p:nvSpPr>
        <p:spPr>
          <a:xfrm>
            <a:off x="128520" y="5373720"/>
            <a:ext cx="1760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Arial"/>
              </a:rPr>
              <a:t>Source: KOROAD(2011)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242680" y="29973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9,057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8048520" y="961920"/>
            <a:ext cx="16574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2012 Statistic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670800" y="1573200"/>
          <a:ext cx="3157560" cy="1109520"/>
        </p:xfrm>
        <a:graphic>
          <a:graphicData uri="http://schemas.openxmlformats.org/drawingml/2006/table">
            <a:tbl>
              <a:tblPr/>
              <a:tblGrid>
                <a:gridCol w="2019240"/>
                <a:gridCol w="1138320"/>
              </a:tblGrid>
              <a:tr h="370080">
                <a:tc>
                  <a:txBody>
                    <a:bodyPr lIns="72000" rIns="72000" tIns="54000" bIns="54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ths 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72000" rIns="72000" tIns="54000" bIns="540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HY헤드라인M"/>
                        </a:rPr>
                        <a:t>5,229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9720">
                <a:tc>
                  <a:txBody>
                    <a:bodyPr lIns="72000" rIns="72000" tIns="54000" bIns="54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Injuries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72000" rIns="72000" tIns="54000" bIns="540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344,565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9720">
                <a:tc>
                  <a:txBody>
                    <a:bodyPr lIns="72000" rIns="72000" tIns="54000" bIns="54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Deaths per 100,000 people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72000" rIns="72000" tIns="54000" bIns="540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HY헤드라인M"/>
                        </a:rPr>
                        <a:t>10.8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61" name="TextBox 36"/>
          <p:cNvSpPr/>
          <p:nvPr/>
        </p:nvSpPr>
        <p:spPr>
          <a:xfrm>
            <a:off x="2384280" y="28526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Total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TextBox 37"/>
          <p:cNvSpPr/>
          <p:nvPr/>
        </p:nvSpPr>
        <p:spPr>
          <a:xfrm>
            <a:off x="3879360" y="421164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edestria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TextBox 38"/>
          <p:cNvSpPr/>
          <p:nvPr/>
        </p:nvSpPr>
        <p:spPr>
          <a:xfrm rot="16200000">
            <a:off x="7318440" y="4934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2017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7476120" y="40575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3,00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Ellips 10"/>
          <p:cNvSpPr/>
          <p:nvPr/>
        </p:nvSpPr>
        <p:spPr>
          <a:xfrm>
            <a:off x="7473960" y="4384800"/>
            <a:ext cx="287280" cy="215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7689960" y="4356000"/>
            <a:ext cx="22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HY헤드라인M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HY헤드라인M"/>
              </a:rPr>
              <a:t>Go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TextBox 42"/>
          <p:cNvSpPr/>
          <p:nvPr/>
        </p:nvSpPr>
        <p:spPr>
          <a:xfrm>
            <a:off x="5241240" y="5897520"/>
            <a:ext cx="420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Policy goals: Reduction of traffic accident fatalities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by 30% during the period 2013~2017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0312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Traffic Fatality National Target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69" name="직선 화살표 연결선 2"/>
          <p:cNvCxnSpPr/>
          <p:nvPr/>
        </p:nvCxnSpPr>
        <p:spPr>
          <a:xfrm>
            <a:off x="6508440" y="3736440"/>
            <a:ext cx="1181880" cy="321480"/>
          </a:xfrm>
          <a:prstGeom prst="straightConnector1">
            <a:avLst/>
          </a:prstGeom>
          <a:ln w="507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170" name="TextBox 44"/>
          <p:cNvSpPr/>
          <p:nvPr/>
        </p:nvSpPr>
        <p:spPr>
          <a:xfrm>
            <a:off x="7639200" y="3743280"/>
            <a:ext cx="93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nd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7" descr=""/>
          <p:cNvPicPr/>
          <p:nvPr/>
        </p:nvPicPr>
        <p:blipFill>
          <a:blip r:embed="rId1"/>
          <a:srcRect l="15158" t="55177" r="51185" b="27118"/>
          <a:stretch/>
        </p:blipFill>
        <p:spPr>
          <a:xfrm>
            <a:off x="6060960" y="5157720"/>
            <a:ext cx="2183040" cy="847800"/>
          </a:xfrm>
          <a:prstGeom prst="rect">
            <a:avLst/>
          </a:prstGeom>
          <a:ln w="0">
            <a:noFill/>
          </a:ln>
        </p:spPr>
      </p:pic>
      <p:sp>
        <p:nvSpPr>
          <p:cNvPr id="172" name="슬라이드 번호 개체 틀 5"/>
          <p:cNvSpPr/>
          <p:nvPr/>
        </p:nvSpPr>
        <p:spPr>
          <a:xfrm>
            <a:off x="7759800" y="628488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4D3E-380A-4011-A5F1-62C9481DB19C}" type="slidenum">
              <a:rPr b="0" lang="en-US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1840" y="259920"/>
            <a:ext cx="86932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Korean New Car Assessment Progra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KNCAP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2895480" y="2135160"/>
            <a:ext cx="5562720" cy="68580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Promote  the development of safer vehicle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to automobile manufacturer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5" name="Object 25"/>
          <p:cNvGraphicFramePr/>
          <p:nvPr/>
        </p:nvGraphicFramePr>
        <p:xfrm>
          <a:off x="6022800" y="3071880"/>
          <a:ext cx="2276640" cy="17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22800" y="3071880"/>
                    <a:ext cx="2276640" cy="1785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cacaca"/>
                    </a:outerShdw>
                  </a:effectLst>
                </p:spPr>
              </p:pic>
            </p:oleObj>
          </a:graphicData>
        </a:graphic>
      </p:graphicFrame>
      <p:sp>
        <p:nvSpPr>
          <p:cNvPr id="177" name="Rectangle 6"/>
          <p:cNvSpPr/>
          <p:nvPr/>
        </p:nvSpPr>
        <p:spPr>
          <a:xfrm>
            <a:off x="2895480" y="1343160"/>
            <a:ext cx="5562720" cy="68580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nform car buyers of vehicles’ comparative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safety rat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78" name="AutoShape 15"/>
          <p:cNvGrpSpPr/>
          <p:nvPr/>
        </p:nvGrpSpPr>
        <p:grpSpPr>
          <a:xfrm>
            <a:off x="1011240" y="1212840"/>
            <a:ext cx="1908000" cy="1822320"/>
            <a:chOff x="1011240" y="1212840"/>
            <a:chExt cx="1908000" cy="1822320"/>
          </a:xfrm>
        </p:grpSpPr>
        <p:pic>
          <p:nvPicPr>
            <p:cNvPr id="179" name="AutoShape 15" descr=""/>
            <p:cNvPicPr/>
            <p:nvPr/>
          </p:nvPicPr>
          <p:blipFill>
            <a:blip r:embed="rId4"/>
            <a:stretch/>
          </p:blipFill>
          <p:spPr>
            <a:xfrm>
              <a:off x="1011240" y="1212840"/>
              <a:ext cx="190800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166760" y="1343160"/>
              <a:ext cx="13492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Arial"/>
                </a:rPr>
                <a:t>Main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Arial"/>
                </a:rPr>
                <a:t>Purpos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Arial"/>
                </a:rPr>
                <a:t>of  NCAP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181" name="Picture 5" descr="현대 쏘나타"/>
          <p:cNvPicPr/>
          <p:nvPr/>
        </p:nvPicPr>
        <p:blipFill>
          <a:blip r:embed="rId5"/>
          <a:stretch/>
        </p:blipFill>
        <p:spPr>
          <a:xfrm>
            <a:off x="7856640" y="3933720"/>
            <a:ext cx="1869840" cy="1282680"/>
          </a:xfrm>
          <a:prstGeom prst="rect">
            <a:avLst/>
          </a:prstGeom>
          <a:ln w="0">
            <a:noFill/>
          </a:ln>
        </p:spPr>
      </p:pic>
      <p:pic>
        <p:nvPicPr>
          <p:cNvPr id="182" name="꺾인 연결선 15" descr=""/>
          <p:cNvPicPr/>
          <p:nvPr/>
        </p:nvPicPr>
        <p:blipFill>
          <a:blip r:embed="rId6"/>
          <a:stretch/>
        </p:blipFill>
        <p:spPr>
          <a:xfrm>
            <a:off x="719280" y="2048040"/>
            <a:ext cx="542880" cy="2536560"/>
          </a:xfrm>
          <a:prstGeom prst="rect">
            <a:avLst/>
          </a:prstGeom>
          <a:ln w="0">
            <a:noFill/>
          </a:ln>
        </p:spPr>
      </p:pic>
      <p:grpSp>
        <p:nvGrpSpPr>
          <p:cNvPr id="183" name="Rectangle 18"/>
          <p:cNvGrpSpPr/>
          <p:nvPr/>
        </p:nvGrpSpPr>
        <p:grpSpPr>
          <a:xfrm>
            <a:off x="950760" y="3303720"/>
            <a:ext cx="5059440" cy="3213000"/>
            <a:chOff x="950760" y="3303720"/>
            <a:chExt cx="5059440" cy="3213000"/>
          </a:xfrm>
        </p:grpSpPr>
        <p:pic>
          <p:nvPicPr>
            <p:cNvPr id="184" name="Rectangle 18" descr=""/>
            <p:cNvPicPr/>
            <p:nvPr/>
          </p:nvPicPr>
          <p:blipFill>
            <a:blip r:embed="rId7"/>
            <a:stretch/>
          </p:blipFill>
          <p:spPr>
            <a:xfrm>
              <a:off x="950760" y="3303720"/>
              <a:ext cx="505944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065240" y="3416400"/>
              <a:ext cx="4829040" cy="30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rean NCAP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1999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d on the law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or Vehicle Control Act - Article 32 of 2 (Aug.2002)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Results announcement&gt;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sh booklet  (Korean only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ww.car.go.kr/kncap (websit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.car.go.kr/kncap (mobil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72180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Freeform 8"/>
          <p:cNvSpPr/>
          <p:nvPr/>
        </p:nvSpPr>
        <p:spPr>
          <a:xfrm>
            <a:off x="128520" y="893880"/>
            <a:ext cx="936144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 Items, total tested vehicles by 2013, 118 Vehicles: Sedan 112, Bus 4, Small Truck 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155520"/>
            <a:ext cx="99061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Progress of KNCAP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9" name="그룹 164"/>
          <p:cNvGrpSpPr/>
          <p:nvPr/>
        </p:nvGrpSpPr>
        <p:grpSpPr>
          <a:xfrm>
            <a:off x="475200" y="1251000"/>
            <a:ext cx="9016560" cy="5515560"/>
            <a:chOff x="475200" y="1251000"/>
            <a:chExt cx="9016560" cy="5515560"/>
          </a:xfrm>
        </p:grpSpPr>
        <p:sp>
          <p:nvSpPr>
            <p:cNvPr id="190" name="Line 16"/>
            <p:cNvSpPr/>
            <p:nvPr/>
          </p:nvSpPr>
          <p:spPr>
            <a:xfrm>
              <a:off x="6999840" y="1386360"/>
              <a:ext cx="156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Line 3"/>
            <p:cNvSpPr/>
            <p:nvPr/>
          </p:nvSpPr>
          <p:spPr>
            <a:xfrm>
              <a:off x="7263000" y="1392120"/>
              <a:ext cx="0" cy="4535280"/>
            </a:xfrm>
            <a:prstGeom prst="line">
              <a:avLst/>
            </a:prstGeom>
            <a:ln cap="sq" w="12600">
              <a:solidFill>
                <a:srgbClr val="aca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Line 2"/>
            <p:cNvSpPr/>
            <p:nvPr/>
          </p:nvSpPr>
          <p:spPr>
            <a:xfrm>
              <a:off x="7802640" y="1378080"/>
              <a:ext cx="0" cy="4535280"/>
            </a:xfrm>
            <a:prstGeom prst="line">
              <a:avLst/>
            </a:prstGeom>
            <a:ln cap="sq" w="12600">
              <a:solidFill>
                <a:srgbClr val="aca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AutoShape 80"/>
            <p:cNvSpPr/>
            <p:nvPr/>
          </p:nvSpPr>
          <p:spPr>
            <a:xfrm>
              <a:off x="6723360" y="4930920"/>
              <a:ext cx="2692440" cy="460080"/>
            </a:xfrm>
            <a:prstGeom prst="rightArrow">
              <a:avLst>
                <a:gd name="adj1" fmla="val 66565"/>
                <a:gd name="adj2" fmla="val 64075"/>
              </a:avLst>
            </a:prstGeom>
            <a:gradFill rotWithShape="0">
              <a:gsLst>
                <a:gs pos="0">
                  <a:srgbClr val="daedff"/>
                </a:gs>
                <a:gs pos="100000">
                  <a:srgbClr val="3399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Line 4"/>
            <p:cNvSpPr/>
            <p:nvPr/>
          </p:nvSpPr>
          <p:spPr>
            <a:xfrm>
              <a:off x="6713640" y="1387440"/>
              <a:ext cx="0" cy="4535280"/>
            </a:xfrm>
            <a:prstGeom prst="line">
              <a:avLst/>
            </a:prstGeom>
            <a:ln cap="sq" w="12600">
              <a:solidFill>
                <a:srgbClr val="aca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Line 5"/>
            <p:cNvSpPr/>
            <p:nvPr/>
          </p:nvSpPr>
          <p:spPr>
            <a:xfrm>
              <a:off x="6183360" y="1384200"/>
              <a:ext cx="0" cy="4535280"/>
            </a:xfrm>
            <a:prstGeom prst="line">
              <a:avLst/>
            </a:prstGeom>
            <a:ln cap="sq" w="12600">
              <a:solidFill>
                <a:srgbClr val="aca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>
              <a:off x="4038840" y="1378080"/>
              <a:ext cx="0" cy="4535280"/>
            </a:xfrm>
            <a:prstGeom prst="line">
              <a:avLst/>
            </a:prstGeom>
            <a:ln cap="sq" w="12600">
              <a:solidFill>
                <a:srgbClr val="aca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>
              <a:off x="2982960" y="1359000"/>
              <a:ext cx="0" cy="4555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Line 9"/>
            <p:cNvSpPr/>
            <p:nvPr/>
          </p:nvSpPr>
          <p:spPr>
            <a:xfrm>
              <a:off x="3515040" y="1378080"/>
              <a:ext cx="0" cy="4555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Line 10"/>
            <p:cNvSpPr/>
            <p:nvPr/>
          </p:nvSpPr>
          <p:spPr>
            <a:xfrm>
              <a:off x="2449800" y="1378080"/>
              <a:ext cx="2880" cy="4555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Line 11"/>
            <p:cNvSpPr/>
            <p:nvPr/>
          </p:nvSpPr>
          <p:spPr>
            <a:xfrm flipH="1">
              <a:off x="1911600" y="1382760"/>
              <a:ext cx="9360" cy="4555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Line 12"/>
            <p:cNvSpPr/>
            <p:nvPr/>
          </p:nvSpPr>
          <p:spPr>
            <a:xfrm>
              <a:off x="4578480" y="1387440"/>
              <a:ext cx="0" cy="4535280"/>
            </a:xfrm>
            <a:prstGeom prst="line">
              <a:avLst/>
            </a:prstGeom>
            <a:ln cap="sq" w="12600">
              <a:solidFill>
                <a:srgbClr val="aca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Line 13"/>
            <p:cNvSpPr/>
            <p:nvPr/>
          </p:nvSpPr>
          <p:spPr>
            <a:xfrm>
              <a:off x="5102280" y="1389240"/>
              <a:ext cx="0" cy="4535280"/>
            </a:xfrm>
            <a:prstGeom prst="line">
              <a:avLst/>
            </a:prstGeom>
            <a:ln cap="sq" w="12600">
              <a:solidFill>
                <a:srgbClr val="aca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Line 14"/>
            <p:cNvSpPr/>
            <p:nvPr/>
          </p:nvSpPr>
          <p:spPr>
            <a:xfrm>
              <a:off x="5642280" y="1392120"/>
              <a:ext cx="0" cy="4535280"/>
            </a:xfrm>
            <a:prstGeom prst="line">
              <a:avLst/>
            </a:prstGeom>
            <a:ln cap="sq" w="12600">
              <a:solidFill>
                <a:srgbClr val="aca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1408320" y="1363680"/>
              <a:ext cx="4870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999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6864480" y="1354320"/>
              <a:ext cx="1584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7447320" y="6404040"/>
              <a:ext cx="177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07" name="Group 18"/>
            <p:cNvGrpSpPr/>
            <p:nvPr/>
          </p:nvGrpSpPr>
          <p:grpSpPr>
            <a:xfrm>
              <a:off x="2468520" y="2781360"/>
              <a:ext cx="1008000" cy="732600"/>
              <a:chOff x="2468520" y="2781360"/>
              <a:chExt cx="1008000" cy="732600"/>
            </a:xfrm>
          </p:grpSpPr>
          <p:grpSp>
            <p:nvGrpSpPr>
              <p:cNvPr id="208" name="Group 19"/>
              <p:cNvGrpSpPr/>
              <p:nvPr/>
            </p:nvGrpSpPr>
            <p:grpSpPr>
              <a:xfrm>
                <a:off x="2484720" y="2781360"/>
                <a:ext cx="991800" cy="591840"/>
                <a:chOff x="2484720" y="2781360"/>
                <a:chExt cx="991800" cy="591840"/>
              </a:xfrm>
            </p:grpSpPr>
            <p:sp>
              <p:nvSpPr>
                <p:cNvPr id="209" name="Rectangle 20"/>
                <p:cNvSpPr/>
                <p:nvPr/>
              </p:nvSpPr>
              <p:spPr>
                <a:xfrm>
                  <a:off x="2484720" y="2781360"/>
                  <a:ext cx="991800" cy="59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10" name="Object 113"/>
                <p:cNvGraphicFramePr/>
                <p:nvPr/>
              </p:nvGraphicFramePr>
              <p:xfrm>
                <a:off x="2555280" y="2804760"/>
                <a:ext cx="826560" cy="5497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11" name="Object 113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555280" y="2804760"/>
                          <a:ext cx="826560" cy="549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12" name="Rectangle 22"/>
              <p:cNvSpPr/>
              <p:nvPr/>
            </p:nvSpPr>
            <p:spPr>
              <a:xfrm>
                <a:off x="2468520" y="3338640"/>
                <a:ext cx="975600" cy="17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측면충돌</a:t>
                </a:r>
                <a:endParaRPr b="0" lang="en-US" sz="1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13" name="Rectangle 24"/>
            <p:cNvSpPr/>
            <p:nvPr/>
          </p:nvSpPr>
          <p:spPr>
            <a:xfrm>
              <a:off x="608040" y="2257560"/>
              <a:ext cx="7077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정면충돌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4" name="Picture 29" descr="headart"/>
            <p:cNvPicPr/>
            <p:nvPr/>
          </p:nvPicPr>
          <p:blipFill>
            <a:blip r:embed="rId3"/>
            <a:srcRect l="5801" t="10864" r="1446" b="44732"/>
            <a:stretch/>
          </p:blipFill>
          <p:spPr>
            <a:xfrm>
              <a:off x="3229200" y="3909960"/>
              <a:ext cx="7236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31"/>
            <p:cNvSpPr/>
            <p:nvPr/>
          </p:nvSpPr>
          <p:spPr>
            <a:xfrm>
              <a:off x="3003840" y="1376280"/>
              <a:ext cx="4870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0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32"/>
            <p:cNvSpPr/>
            <p:nvPr/>
          </p:nvSpPr>
          <p:spPr>
            <a:xfrm>
              <a:off x="1941480" y="1368360"/>
              <a:ext cx="48564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00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Rectangle 33"/>
            <p:cNvSpPr/>
            <p:nvPr/>
          </p:nvSpPr>
          <p:spPr>
            <a:xfrm>
              <a:off x="2471760" y="1366920"/>
              <a:ext cx="4870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0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Rectangle 34"/>
            <p:cNvSpPr/>
            <p:nvPr/>
          </p:nvSpPr>
          <p:spPr>
            <a:xfrm>
              <a:off x="3535560" y="1376280"/>
              <a:ext cx="4870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0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Rectangle 35"/>
            <p:cNvSpPr/>
            <p:nvPr/>
          </p:nvSpPr>
          <p:spPr>
            <a:xfrm>
              <a:off x="4597560" y="1387440"/>
              <a:ext cx="4888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0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Rectangle 36"/>
            <p:cNvSpPr/>
            <p:nvPr/>
          </p:nvSpPr>
          <p:spPr>
            <a:xfrm>
              <a:off x="5129280" y="1379520"/>
              <a:ext cx="4888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06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Rectangle 37"/>
            <p:cNvSpPr/>
            <p:nvPr/>
          </p:nvSpPr>
          <p:spPr>
            <a:xfrm>
              <a:off x="4067280" y="1376280"/>
              <a:ext cx="4870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0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5672160" y="1373400"/>
              <a:ext cx="48564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07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3489480" y="5051520"/>
              <a:ext cx="22208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보행자</a:t>
              </a:r>
              <a:r>
                <a:rPr b="1" lang="en-US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07 </a:t>
              </a:r>
              <a:r>
                <a:rPr b="1" lang="ko-KR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머리</a:t>
              </a:r>
              <a:r>
                <a:rPr b="1" lang="en-US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08 </a:t>
              </a:r>
              <a:r>
                <a:rPr b="1" lang="ko-KR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머리</a:t>
              </a:r>
              <a:r>
                <a:rPr b="1" lang="en-US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&amp;</a:t>
              </a:r>
              <a:r>
                <a:rPr b="1" lang="ko-KR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다리</a:t>
              </a:r>
              <a:r>
                <a:rPr b="1" lang="en-US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24" name="Group 42"/>
            <p:cNvGrpSpPr/>
            <p:nvPr/>
          </p:nvGrpSpPr>
          <p:grpSpPr>
            <a:xfrm>
              <a:off x="1743120" y="2295720"/>
              <a:ext cx="792000" cy="673560"/>
              <a:chOff x="1743120" y="2295720"/>
              <a:chExt cx="792000" cy="673560"/>
            </a:xfrm>
          </p:grpSpPr>
          <p:pic>
            <p:nvPicPr>
              <p:cNvPr id="225" name="Picture 43" descr="EMB0000079c000d"/>
              <p:cNvPicPr/>
              <p:nvPr/>
            </p:nvPicPr>
            <p:blipFill>
              <a:blip r:embed="rId4"/>
              <a:srcRect l="10921" t="17324" r="13766" b="0"/>
              <a:stretch/>
            </p:blipFill>
            <p:spPr>
              <a:xfrm>
                <a:off x="1814400" y="2295720"/>
                <a:ext cx="64764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Rectangle 44"/>
              <p:cNvSpPr/>
              <p:nvPr/>
            </p:nvSpPr>
            <p:spPr>
              <a:xfrm>
                <a:off x="1743120" y="2793960"/>
                <a:ext cx="792000" cy="17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동안전성</a:t>
                </a:r>
                <a:endParaRPr b="0" lang="en-US" sz="1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27" name="Rectangle 45"/>
            <p:cNvSpPr/>
            <p:nvPr/>
          </p:nvSpPr>
          <p:spPr>
            <a:xfrm>
              <a:off x="6202440" y="1374840"/>
              <a:ext cx="4870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08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8" name="Rectangle 46"/>
            <p:cNvSpPr/>
            <p:nvPr/>
          </p:nvSpPr>
          <p:spPr>
            <a:xfrm>
              <a:off x="6743880" y="1382760"/>
              <a:ext cx="48564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09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29" name="Picture 47" descr="EMB000003f4022b"/>
            <p:cNvPicPr/>
            <p:nvPr/>
          </p:nvPicPr>
          <p:blipFill>
            <a:blip r:embed="rId5"/>
            <a:stretch/>
          </p:blipFill>
          <p:spPr>
            <a:xfrm>
              <a:off x="6599520" y="5322960"/>
              <a:ext cx="6476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UNI000007a002ca"/>
            <p:cNvPicPr/>
            <p:nvPr/>
          </p:nvPicPr>
          <p:blipFill>
            <a:blip r:embed="rId6"/>
            <a:stretch/>
          </p:blipFill>
          <p:spPr>
            <a:xfrm>
              <a:off x="5924880" y="4938840"/>
              <a:ext cx="7808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AutoShape 49"/>
            <p:cNvSpPr/>
            <p:nvPr/>
          </p:nvSpPr>
          <p:spPr>
            <a:xfrm>
              <a:off x="1405080" y="1779480"/>
              <a:ext cx="8010360" cy="426960"/>
            </a:xfrm>
            <a:prstGeom prst="rightArrow">
              <a:avLst>
                <a:gd name="adj1" fmla="val 71611"/>
                <a:gd name="adj2" fmla="val 62625"/>
              </a:avLst>
            </a:prstGeom>
            <a:gradFill rotWithShape="0">
              <a:gsLst>
                <a:gs pos="0">
                  <a:srgbClr val="daedff"/>
                </a:gs>
                <a:gs pos="100000">
                  <a:srgbClr val="3399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2" name="Rectangle 50"/>
            <p:cNvSpPr/>
            <p:nvPr/>
          </p:nvSpPr>
          <p:spPr>
            <a:xfrm>
              <a:off x="1484280" y="1878120"/>
              <a:ext cx="577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3 veh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3" name="Rectangle 51"/>
            <p:cNvSpPr/>
            <p:nvPr/>
          </p:nvSpPr>
          <p:spPr>
            <a:xfrm>
              <a:off x="1916280" y="1868400"/>
              <a:ext cx="5522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Rectangle 52"/>
            <p:cNvSpPr/>
            <p:nvPr/>
          </p:nvSpPr>
          <p:spPr>
            <a:xfrm>
              <a:off x="2436840" y="1859040"/>
              <a:ext cx="5443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9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Rectangle 53"/>
            <p:cNvSpPr/>
            <p:nvPr/>
          </p:nvSpPr>
          <p:spPr>
            <a:xfrm>
              <a:off x="2994120" y="1839960"/>
              <a:ext cx="5601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8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Rectangle 54"/>
            <p:cNvSpPr/>
            <p:nvPr/>
          </p:nvSpPr>
          <p:spPr>
            <a:xfrm>
              <a:off x="3492720" y="1849320"/>
              <a:ext cx="5760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Rectangle 55"/>
            <p:cNvSpPr/>
            <p:nvPr/>
          </p:nvSpPr>
          <p:spPr>
            <a:xfrm>
              <a:off x="4003920" y="1859040"/>
              <a:ext cx="6570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Rectangle 56"/>
            <p:cNvSpPr/>
            <p:nvPr/>
          </p:nvSpPr>
          <p:spPr>
            <a:xfrm>
              <a:off x="4507200" y="1849320"/>
              <a:ext cx="658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57"/>
            <p:cNvSpPr/>
            <p:nvPr/>
          </p:nvSpPr>
          <p:spPr>
            <a:xfrm>
              <a:off x="5040360" y="1859040"/>
              <a:ext cx="658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Rectangle 58"/>
            <p:cNvSpPr/>
            <p:nvPr/>
          </p:nvSpPr>
          <p:spPr>
            <a:xfrm>
              <a:off x="5624640" y="1859040"/>
              <a:ext cx="6570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6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Rectangle 59"/>
            <p:cNvSpPr/>
            <p:nvPr/>
          </p:nvSpPr>
          <p:spPr>
            <a:xfrm>
              <a:off x="6134400" y="1859040"/>
              <a:ext cx="658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0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Rectangle 60"/>
            <p:cNvSpPr/>
            <p:nvPr/>
          </p:nvSpPr>
          <p:spPr>
            <a:xfrm>
              <a:off x="6631200" y="1859040"/>
              <a:ext cx="6602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0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Rectangle 61"/>
            <p:cNvSpPr/>
            <p:nvPr/>
          </p:nvSpPr>
          <p:spPr>
            <a:xfrm>
              <a:off x="7282080" y="1373400"/>
              <a:ext cx="4870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10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AutoShape 62"/>
            <p:cNvSpPr/>
            <p:nvPr/>
          </p:nvSpPr>
          <p:spPr>
            <a:xfrm>
              <a:off x="2468520" y="2343240"/>
              <a:ext cx="6946920" cy="406080"/>
            </a:xfrm>
            <a:prstGeom prst="rightArrow">
              <a:avLst>
                <a:gd name="adj1" fmla="val 75213"/>
                <a:gd name="adj2" fmla="val 66053"/>
              </a:avLst>
            </a:prstGeom>
            <a:gradFill rotWithShape="0">
              <a:gsLst>
                <a:gs pos="0">
                  <a:srgbClr val="daedff"/>
                </a:gs>
                <a:gs pos="100000">
                  <a:srgbClr val="3399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Rectangle 63"/>
            <p:cNvSpPr/>
            <p:nvPr/>
          </p:nvSpPr>
          <p:spPr>
            <a:xfrm>
              <a:off x="2401920" y="2400480"/>
              <a:ext cx="5871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6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Rectangle 64"/>
            <p:cNvSpPr/>
            <p:nvPr/>
          </p:nvSpPr>
          <p:spPr>
            <a:xfrm>
              <a:off x="2997360" y="2405160"/>
              <a:ext cx="5760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7" name="Rectangle 65"/>
            <p:cNvSpPr/>
            <p:nvPr/>
          </p:nvSpPr>
          <p:spPr>
            <a:xfrm>
              <a:off x="3510000" y="2411280"/>
              <a:ext cx="577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8" name="Rectangle 66"/>
            <p:cNvSpPr/>
            <p:nvPr/>
          </p:nvSpPr>
          <p:spPr>
            <a:xfrm>
              <a:off x="4042080" y="2425680"/>
              <a:ext cx="609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9" name="Rectangle 67"/>
            <p:cNvSpPr/>
            <p:nvPr/>
          </p:nvSpPr>
          <p:spPr>
            <a:xfrm>
              <a:off x="4527720" y="2419560"/>
              <a:ext cx="6141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Rectangle 68"/>
            <p:cNvSpPr/>
            <p:nvPr/>
          </p:nvSpPr>
          <p:spPr>
            <a:xfrm>
              <a:off x="5019840" y="241452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Rectangle 69"/>
            <p:cNvSpPr/>
            <p:nvPr/>
          </p:nvSpPr>
          <p:spPr>
            <a:xfrm>
              <a:off x="5616720" y="241452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6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2" name="Rectangle 70"/>
            <p:cNvSpPr/>
            <p:nvPr/>
          </p:nvSpPr>
          <p:spPr>
            <a:xfrm>
              <a:off x="6129720" y="2411280"/>
              <a:ext cx="6570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0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3" name="Rectangle 71"/>
            <p:cNvSpPr/>
            <p:nvPr/>
          </p:nvSpPr>
          <p:spPr>
            <a:xfrm>
              <a:off x="6624720" y="2401920"/>
              <a:ext cx="6570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0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AutoShape 72"/>
            <p:cNvSpPr/>
            <p:nvPr/>
          </p:nvSpPr>
          <p:spPr>
            <a:xfrm>
              <a:off x="3532320" y="2859120"/>
              <a:ext cx="5883120" cy="420480"/>
            </a:xfrm>
            <a:prstGeom prst="rightArrow">
              <a:avLst>
                <a:gd name="adj1" fmla="val 72907"/>
                <a:gd name="adj2" fmla="val 68403"/>
              </a:avLst>
            </a:prstGeom>
            <a:gradFill rotWithShape="0">
              <a:gsLst>
                <a:gs pos="0">
                  <a:srgbClr val="daedff"/>
                </a:gs>
                <a:gs pos="100000">
                  <a:srgbClr val="3399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5" name="Rectangle 73"/>
            <p:cNvSpPr/>
            <p:nvPr/>
          </p:nvSpPr>
          <p:spPr>
            <a:xfrm>
              <a:off x="3989520" y="2935440"/>
              <a:ext cx="6886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Rectangle 74"/>
            <p:cNvSpPr/>
            <p:nvPr/>
          </p:nvSpPr>
          <p:spPr>
            <a:xfrm>
              <a:off x="3529080" y="2932200"/>
              <a:ext cx="5760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8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7" name="Rectangle 75"/>
            <p:cNvSpPr/>
            <p:nvPr/>
          </p:nvSpPr>
          <p:spPr>
            <a:xfrm>
              <a:off x="4494240" y="2932200"/>
              <a:ext cx="6886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76"/>
            <p:cNvSpPr/>
            <p:nvPr/>
          </p:nvSpPr>
          <p:spPr>
            <a:xfrm>
              <a:off x="5035680" y="292572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77"/>
            <p:cNvSpPr/>
            <p:nvPr/>
          </p:nvSpPr>
          <p:spPr>
            <a:xfrm>
              <a:off x="5588280" y="293220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Rectangle 78"/>
            <p:cNvSpPr/>
            <p:nvPr/>
          </p:nvSpPr>
          <p:spPr>
            <a:xfrm>
              <a:off x="6134400" y="2938680"/>
              <a:ext cx="6919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Rectangle 79"/>
            <p:cNvSpPr/>
            <p:nvPr/>
          </p:nvSpPr>
          <p:spPr>
            <a:xfrm>
              <a:off x="6672600" y="294804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8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80"/>
            <p:cNvSpPr/>
            <p:nvPr/>
          </p:nvSpPr>
          <p:spPr>
            <a:xfrm>
              <a:off x="5659560" y="4462560"/>
              <a:ext cx="3755880" cy="404640"/>
            </a:xfrm>
            <a:prstGeom prst="rightArrow">
              <a:avLst>
                <a:gd name="adj1" fmla="val 75481"/>
                <a:gd name="adj2" fmla="val 74600"/>
              </a:avLst>
            </a:prstGeom>
            <a:gradFill rotWithShape="0">
              <a:gsLst>
                <a:gs pos="0">
                  <a:srgbClr val="daedff"/>
                </a:gs>
                <a:gs pos="100000">
                  <a:srgbClr val="3399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Rectangle 81"/>
            <p:cNvSpPr/>
            <p:nvPr/>
          </p:nvSpPr>
          <p:spPr>
            <a:xfrm>
              <a:off x="5583600" y="451800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Rectangle 82"/>
            <p:cNvSpPr/>
            <p:nvPr/>
          </p:nvSpPr>
          <p:spPr>
            <a:xfrm>
              <a:off x="6142320" y="452772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8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Rectangle 83"/>
            <p:cNvSpPr/>
            <p:nvPr/>
          </p:nvSpPr>
          <p:spPr>
            <a:xfrm>
              <a:off x="6626520" y="451800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0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Rectangle 85"/>
            <p:cNvSpPr/>
            <p:nvPr/>
          </p:nvSpPr>
          <p:spPr>
            <a:xfrm>
              <a:off x="6640560" y="499752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0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AutoShape 86"/>
            <p:cNvSpPr/>
            <p:nvPr/>
          </p:nvSpPr>
          <p:spPr>
            <a:xfrm>
              <a:off x="4596120" y="3359160"/>
              <a:ext cx="4817880" cy="466560"/>
            </a:xfrm>
            <a:prstGeom prst="rightArrow">
              <a:avLst>
                <a:gd name="adj1" fmla="val 65806"/>
                <a:gd name="adj2" fmla="val 64540"/>
              </a:avLst>
            </a:prstGeom>
            <a:gradFill rotWithShape="0">
              <a:gsLst>
                <a:gs pos="0">
                  <a:srgbClr val="daedff"/>
                </a:gs>
                <a:gs pos="100000">
                  <a:srgbClr val="3399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Rectangle 87"/>
            <p:cNvSpPr/>
            <p:nvPr/>
          </p:nvSpPr>
          <p:spPr>
            <a:xfrm>
              <a:off x="4503960" y="345600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Rectangle 88"/>
            <p:cNvSpPr/>
            <p:nvPr/>
          </p:nvSpPr>
          <p:spPr>
            <a:xfrm>
              <a:off x="5024520" y="345744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Rectangle 89"/>
            <p:cNvSpPr/>
            <p:nvPr/>
          </p:nvSpPr>
          <p:spPr>
            <a:xfrm>
              <a:off x="5583600" y="345744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1" name="Rectangle 90"/>
            <p:cNvSpPr/>
            <p:nvPr/>
          </p:nvSpPr>
          <p:spPr>
            <a:xfrm>
              <a:off x="6126480" y="345744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6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2" name="Rectangle 91"/>
            <p:cNvSpPr/>
            <p:nvPr/>
          </p:nvSpPr>
          <p:spPr>
            <a:xfrm>
              <a:off x="6651720" y="345744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3" name="AutoShape 92"/>
            <p:cNvSpPr/>
            <p:nvPr/>
          </p:nvSpPr>
          <p:spPr>
            <a:xfrm>
              <a:off x="4588200" y="3903840"/>
              <a:ext cx="4830840" cy="466560"/>
            </a:xfrm>
            <a:prstGeom prst="rightArrow">
              <a:avLst>
                <a:gd name="adj1" fmla="val 65806"/>
                <a:gd name="adj2" fmla="val 64474"/>
              </a:avLst>
            </a:prstGeom>
            <a:gradFill rotWithShape="0">
              <a:gsLst>
                <a:gs pos="0">
                  <a:srgbClr val="daedff"/>
                </a:gs>
                <a:gs pos="100000">
                  <a:srgbClr val="3399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4" name="Rectangle 93"/>
            <p:cNvSpPr/>
            <p:nvPr/>
          </p:nvSpPr>
          <p:spPr>
            <a:xfrm>
              <a:off x="4491360" y="3984840"/>
              <a:ext cx="6886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94"/>
            <p:cNvSpPr/>
            <p:nvPr/>
          </p:nvSpPr>
          <p:spPr>
            <a:xfrm>
              <a:off x="5005440" y="398952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95"/>
            <p:cNvSpPr/>
            <p:nvPr/>
          </p:nvSpPr>
          <p:spPr>
            <a:xfrm>
              <a:off x="5573880" y="399888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6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96"/>
            <p:cNvSpPr/>
            <p:nvPr/>
          </p:nvSpPr>
          <p:spPr>
            <a:xfrm>
              <a:off x="6107400" y="399420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0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97"/>
            <p:cNvSpPr/>
            <p:nvPr/>
          </p:nvSpPr>
          <p:spPr>
            <a:xfrm>
              <a:off x="6623280" y="3989520"/>
              <a:ext cx="690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0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AutoShape 98"/>
            <p:cNvSpPr/>
            <p:nvPr/>
          </p:nvSpPr>
          <p:spPr>
            <a:xfrm>
              <a:off x="7255080" y="5394240"/>
              <a:ext cx="2160360" cy="456840"/>
            </a:xfrm>
            <a:prstGeom prst="rightArrow">
              <a:avLst>
                <a:gd name="adj1" fmla="val 66833"/>
                <a:gd name="adj2" fmla="val 58914"/>
              </a:avLst>
            </a:prstGeom>
            <a:gradFill rotWithShape="0">
              <a:gsLst>
                <a:gs pos="0">
                  <a:srgbClr val="daedff"/>
                </a:gs>
                <a:gs pos="100000">
                  <a:srgbClr val="3399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80" name="Picture 100" descr="UNI000007a002ce"/>
            <p:cNvPicPr/>
            <p:nvPr/>
          </p:nvPicPr>
          <p:blipFill>
            <a:blip r:embed="rId7"/>
            <a:stretch/>
          </p:blipFill>
          <p:spPr>
            <a:xfrm>
              <a:off x="3881520" y="3981600"/>
              <a:ext cx="64764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01"/>
            <p:cNvSpPr/>
            <p:nvPr/>
          </p:nvSpPr>
          <p:spPr>
            <a:xfrm>
              <a:off x="3489480" y="4464000"/>
              <a:ext cx="15127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좌석안전성</a:t>
              </a:r>
              <a:r>
                <a:rPr b="1" lang="en-US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08~)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Rectangle 102"/>
            <p:cNvSpPr/>
            <p:nvPr/>
          </p:nvSpPr>
          <p:spPr>
            <a:xfrm>
              <a:off x="5642280" y="5383080"/>
              <a:ext cx="11588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부분정면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Rectangle 103"/>
            <p:cNvSpPr/>
            <p:nvPr/>
          </p:nvSpPr>
          <p:spPr>
            <a:xfrm>
              <a:off x="5977080" y="5904000"/>
              <a:ext cx="18716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둥측면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Rectangle 106"/>
            <p:cNvSpPr/>
            <p:nvPr/>
          </p:nvSpPr>
          <p:spPr>
            <a:xfrm>
              <a:off x="7829640" y="1366920"/>
              <a:ext cx="4888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Rectangle 107"/>
            <p:cNvSpPr/>
            <p:nvPr/>
          </p:nvSpPr>
          <p:spPr>
            <a:xfrm>
              <a:off x="7210800" y="1859040"/>
              <a:ext cx="658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Rectangle 108"/>
            <p:cNvSpPr/>
            <p:nvPr/>
          </p:nvSpPr>
          <p:spPr>
            <a:xfrm>
              <a:off x="7172640" y="2400480"/>
              <a:ext cx="658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Rectangle 109"/>
            <p:cNvSpPr/>
            <p:nvPr/>
          </p:nvSpPr>
          <p:spPr>
            <a:xfrm>
              <a:off x="7183800" y="2941560"/>
              <a:ext cx="658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8" name="Rectangle 110"/>
            <p:cNvSpPr/>
            <p:nvPr/>
          </p:nvSpPr>
          <p:spPr>
            <a:xfrm>
              <a:off x="7156800" y="3468600"/>
              <a:ext cx="658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9" name="Rectangle 111"/>
            <p:cNvSpPr/>
            <p:nvPr/>
          </p:nvSpPr>
          <p:spPr>
            <a:xfrm>
              <a:off x="7178760" y="3998880"/>
              <a:ext cx="658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0" name="Rectangle 112"/>
            <p:cNvSpPr/>
            <p:nvPr/>
          </p:nvSpPr>
          <p:spPr>
            <a:xfrm>
              <a:off x="7207560" y="4527720"/>
              <a:ext cx="6602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1" name="Rectangle 113"/>
            <p:cNvSpPr/>
            <p:nvPr/>
          </p:nvSpPr>
          <p:spPr>
            <a:xfrm>
              <a:off x="7220160" y="5002200"/>
              <a:ext cx="6570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2" name="Rectangle 114"/>
            <p:cNvSpPr/>
            <p:nvPr/>
          </p:nvSpPr>
          <p:spPr>
            <a:xfrm>
              <a:off x="7172640" y="5526000"/>
              <a:ext cx="7538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6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3" name="Rectangle 106"/>
            <p:cNvSpPr/>
            <p:nvPr/>
          </p:nvSpPr>
          <p:spPr>
            <a:xfrm>
              <a:off x="8369640" y="1359000"/>
              <a:ext cx="4888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1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07"/>
            <p:cNvSpPr/>
            <p:nvPr/>
          </p:nvSpPr>
          <p:spPr>
            <a:xfrm>
              <a:off x="7813800" y="1855800"/>
              <a:ext cx="4460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07"/>
            <p:cNvSpPr/>
            <p:nvPr/>
          </p:nvSpPr>
          <p:spPr>
            <a:xfrm>
              <a:off x="7809120" y="2419560"/>
              <a:ext cx="4507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Rectangle 107"/>
            <p:cNvSpPr/>
            <p:nvPr/>
          </p:nvSpPr>
          <p:spPr>
            <a:xfrm>
              <a:off x="7794720" y="2940120"/>
              <a:ext cx="5126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7" name="Rectangle 107"/>
            <p:cNvSpPr/>
            <p:nvPr/>
          </p:nvSpPr>
          <p:spPr>
            <a:xfrm>
              <a:off x="7753680" y="3468600"/>
              <a:ext cx="6602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Rectangle 107"/>
            <p:cNvSpPr/>
            <p:nvPr/>
          </p:nvSpPr>
          <p:spPr>
            <a:xfrm>
              <a:off x="7761600" y="4003560"/>
              <a:ext cx="6570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Rectangle 107"/>
            <p:cNvSpPr/>
            <p:nvPr/>
          </p:nvSpPr>
          <p:spPr>
            <a:xfrm>
              <a:off x="7767720" y="4527720"/>
              <a:ext cx="658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Rectangle 107"/>
            <p:cNvSpPr/>
            <p:nvPr/>
          </p:nvSpPr>
          <p:spPr>
            <a:xfrm>
              <a:off x="7772760" y="5025960"/>
              <a:ext cx="6602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Rectangle 107"/>
            <p:cNvSpPr/>
            <p:nvPr/>
          </p:nvSpPr>
          <p:spPr>
            <a:xfrm>
              <a:off x="7785360" y="5526000"/>
              <a:ext cx="6588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8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7299720" y="1251000"/>
              <a:ext cx="2192040" cy="5111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Rectangle 107"/>
            <p:cNvSpPr/>
            <p:nvPr/>
          </p:nvSpPr>
          <p:spPr>
            <a:xfrm>
              <a:off x="8402760" y="1874880"/>
              <a:ext cx="447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Rectangle 107"/>
            <p:cNvSpPr/>
            <p:nvPr/>
          </p:nvSpPr>
          <p:spPr>
            <a:xfrm>
              <a:off x="8401320" y="2441520"/>
              <a:ext cx="4460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Rectangle 107"/>
            <p:cNvSpPr/>
            <p:nvPr/>
          </p:nvSpPr>
          <p:spPr>
            <a:xfrm>
              <a:off x="8398080" y="2968560"/>
              <a:ext cx="447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6" name="Rectangle 107"/>
            <p:cNvSpPr/>
            <p:nvPr/>
          </p:nvSpPr>
          <p:spPr>
            <a:xfrm>
              <a:off x="8413920" y="3486240"/>
              <a:ext cx="4460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7" name="Rectangle 107"/>
            <p:cNvSpPr/>
            <p:nvPr/>
          </p:nvSpPr>
          <p:spPr>
            <a:xfrm>
              <a:off x="8394840" y="4022640"/>
              <a:ext cx="4460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8" name="Rectangle 107"/>
            <p:cNvSpPr/>
            <p:nvPr/>
          </p:nvSpPr>
          <p:spPr>
            <a:xfrm>
              <a:off x="8391600" y="4549680"/>
              <a:ext cx="447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9" name="Rectangle 107"/>
            <p:cNvSpPr/>
            <p:nvPr/>
          </p:nvSpPr>
          <p:spPr>
            <a:xfrm>
              <a:off x="8390160" y="5076720"/>
              <a:ext cx="4460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0" name="Rectangle 107"/>
            <p:cNvSpPr/>
            <p:nvPr/>
          </p:nvSpPr>
          <p:spPr>
            <a:xfrm>
              <a:off x="8386920" y="5526000"/>
              <a:ext cx="447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Rectangle 106"/>
            <p:cNvSpPr/>
            <p:nvPr/>
          </p:nvSpPr>
          <p:spPr>
            <a:xfrm>
              <a:off x="8915760" y="1357200"/>
              <a:ext cx="488880" cy="304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201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Line 2"/>
            <p:cNvSpPr/>
            <p:nvPr/>
          </p:nvSpPr>
          <p:spPr>
            <a:xfrm>
              <a:off x="8352000" y="1392120"/>
              <a:ext cx="0" cy="4535280"/>
            </a:xfrm>
            <a:prstGeom prst="line">
              <a:avLst/>
            </a:prstGeom>
            <a:ln cap="sq" w="12600">
              <a:solidFill>
                <a:srgbClr val="aca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3" name="Line 2"/>
            <p:cNvSpPr/>
            <p:nvPr/>
          </p:nvSpPr>
          <p:spPr>
            <a:xfrm>
              <a:off x="8899920" y="1408320"/>
              <a:ext cx="0" cy="4535280"/>
            </a:xfrm>
            <a:prstGeom prst="line">
              <a:avLst/>
            </a:prstGeom>
            <a:ln cap="sq" w="12600">
              <a:solidFill>
                <a:srgbClr val="aca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4" name="Line 2"/>
            <p:cNvSpPr/>
            <p:nvPr/>
          </p:nvSpPr>
          <p:spPr>
            <a:xfrm>
              <a:off x="9421920" y="1320840"/>
              <a:ext cx="0" cy="4535280"/>
            </a:xfrm>
            <a:prstGeom prst="line">
              <a:avLst/>
            </a:prstGeom>
            <a:ln cap="sq" w="12600">
              <a:solidFill>
                <a:srgbClr val="aca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5" name="Line 11"/>
            <p:cNvSpPr/>
            <p:nvPr/>
          </p:nvSpPr>
          <p:spPr>
            <a:xfrm flipH="1">
              <a:off x="1371600" y="1392120"/>
              <a:ext cx="9360" cy="4555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6" name="Rectangle 107"/>
            <p:cNvSpPr/>
            <p:nvPr/>
          </p:nvSpPr>
          <p:spPr>
            <a:xfrm>
              <a:off x="8901360" y="1874880"/>
              <a:ext cx="447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7" name="Rectangle 107"/>
            <p:cNvSpPr/>
            <p:nvPr/>
          </p:nvSpPr>
          <p:spPr>
            <a:xfrm>
              <a:off x="8917200" y="2432160"/>
              <a:ext cx="4460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8" name="Rectangle 107"/>
            <p:cNvSpPr/>
            <p:nvPr/>
          </p:nvSpPr>
          <p:spPr>
            <a:xfrm>
              <a:off x="8917200" y="2954520"/>
              <a:ext cx="447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9" name="Rectangle 107"/>
            <p:cNvSpPr/>
            <p:nvPr/>
          </p:nvSpPr>
          <p:spPr>
            <a:xfrm>
              <a:off x="8913960" y="3475080"/>
              <a:ext cx="447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0" name="Rectangle 107"/>
            <p:cNvSpPr/>
            <p:nvPr/>
          </p:nvSpPr>
          <p:spPr>
            <a:xfrm>
              <a:off x="8904600" y="4006800"/>
              <a:ext cx="4460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1" name="Rectangle 107"/>
            <p:cNvSpPr/>
            <p:nvPr/>
          </p:nvSpPr>
          <p:spPr>
            <a:xfrm>
              <a:off x="8901360" y="4546800"/>
              <a:ext cx="447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Rectangle 107"/>
            <p:cNvSpPr/>
            <p:nvPr/>
          </p:nvSpPr>
          <p:spPr>
            <a:xfrm>
              <a:off x="8893440" y="5049720"/>
              <a:ext cx="4460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3" name="Rectangle 107"/>
            <p:cNvSpPr/>
            <p:nvPr/>
          </p:nvSpPr>
          <p:spPr>
            <a:xfrm>
              <a:off x="8907840" y="5537160"/>
              <a:ext cx="447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10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24" name="Picture 116" descr=""/>
            <p:cNvPicPr/>
            <p:nvPr/>
          </p:nvPicPr>
          <p:blipFill>
            <a:blip r:embed="rId8"/>
            <a:stretch/>
          </p:blipFill>
          <p:spPr>
            <a:xfrm>
              <a:off x="4767480" y="4327560"/>
              <a:ext cx="8982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118" descr=""/>
            <p:cNvPicPr/>
            <p:nvPr/>
          </p:nvPicPr>
          <p:blipFill>
            <a:blip r:embed="rId9"/>
            <a:srcRect l="0" t="23245" r="7691" b="0"/>
            <a:stretch/>
          </p:blipFill>
          <p:spPr>
            <a:xfrm>
              <a:off x="3732480" y="3237120"/>
              <a:ext cx="79668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Rectangle 28"/>
            <p:cNvSpPr/>
            <p:nvPr/>
          </p:nvSpPr>
          <p:spPr>
            <a:xfrm>
              <a:off x="3756240" y="3714840"/>
              <a:ext cx="749160" cy="17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주행전복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27" name="Picture 119" descr=""/>
            <p:cNvPicPr/>
            <p:nvPr/>
          </p:nvPicPr>
          <p:blipFill>
            <a:blip r:embed="rId10"/>
            <a:stretch/>
          </p:blipFill>
          <p:spPr>
            <a:xfrm>
              <a:off x="488880" y="1681200"/>
              <a:ext cx="9158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98"/>
            <p:cNvSpPr/>
            <p:nvPr/>
          </p:nvSpPr>
          <p:spPr>
            <a:xfrm>
              <a:off x="8823600" y="5899320"/>
              <a:ext cx="582480" cy="456840"/>
            </a:xfrm>
            <a:prstGeom prst="rightArrow">
              <a:avLst>
                <a:gd name="adj1" fmla="val 66833"/>
                <a:gd name="adj2" fmla="val 58786"/>
              </a:avLst>
            </a:prstGeom>
            <a:gradFill rotWithShape="0">
              <a:gsLst>
                <a:gs pos="0">
                  <a:srgbClr val="daedff"/>
                </a:gs>
                <a:gs pos="100000">
                  <a:srgbClr val="3399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Rectangle 107"/>
            <p:cNvSpPr/>
            <p:nvPr/>
          </p:nvSpPr>
          <p:spPr>
            <a:xfrm>
              <a:off x="8953920" y="6042240"/>
              <a:ext cx="4474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 Unicode MS"/>
                  <a:ea typeface="Arial Unicode MS"/>
                </a:rPr>
                <a:t>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Rectangle 103"/>
            <p:cNvSpPr/>
            <p:nvPr/>
          </p:nvSpPr>
          <p:spPr>
            <a:xfrm>
              <a:off x="7437600" y="6012000"/>
              <a:ext cx="18716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고예방안전성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Box 154"/>
            <p:cNvSpPr/>
            <p:nvPr/>
          </p:nvSpPr>
          <p:spPr>
            <a:xfrm>
              <a:off x="475200" y="2214720"/>
              <a:ext cx="936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ll frontal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TextBox 155"/>
            <p:cNvSpPr/>
            <p:nvPr/>
          </p:nvSpPr>
          <p:spPr>
            <a:xfrm>
              <a:off x="1786320" y="2796120"/>
              <a:ext cx="708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ake 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Box 156"/>
            <p:cNvSpPr/>
            <p:nvPr/>
          </p:nvSpPr>
          <p:spPr>
            <a:xfrm>
              <a:off x="2473560" y="3357720"/>
              <a:ext cx="97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de impact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TextBox 157"/>
            <p:cNvSpPr/>
            <p:nvPr/>
          </p:nvSpPr>
          <p:spPr>
            <a:xfrm>
              <a:off x="3442320" y="3717720"/>
              <a:ext cx="1316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ynamic rollover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TextBox 158"/>
            <p:cNvSpPr/>
            <p:nvPr/>
          </p:nvSpPr>
          <p:spPr>
            <a:xfrm>
              <a:off x="3549960" y="4437720"/>
              <a:ext cx="1168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iplash(08~)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TextBox 159"/>
            <p:cNvSpPr/>
            <p:nvPr/>
          </p:nvSpPr>
          <p:spPr>
            <a:xfrm>
              <a:off x="2582280" y="4430160"/>
              <a:ext cx="10065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/Rest(05~)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Box 160"/>
            <p:cNvSpPr/>
            <p:nvPr/>
          </p:nvSpPr>
          <p:spPr>
            <a:xfrm>
              <a:off x="3388680" y="5013720"/>
              <a:ext cx="22129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destrian: Head(07~)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 &amp; Leg(08~)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TextBox 161"/>
            <p:cNvSpPr/>
            <p:nvPr/>
          </p:nvSpPr>
          <p:spPr>
            <a:xfrm>
              <a:off x="5532840" y="5373720"/>
              <a:ext cx="1056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frontal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TextBox 162"/>
            <p:cNvSpPr/>
            <p:nvPr/>
          </p:nvSpPr>
          <p:spPr>
            <a:xfrm>
              <a:off x="7574040" y="5996160"/>
              <a:ext cx="136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ve safety sys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TextBox 163"/>
            <p:cNvSpPr/>
            <p:nvPr/>
          </p:nvSpPr>
          <p:spPr>
            <a:xfrm>
              <a:off x="6002640" y="5877720"/>
              <a:ext cx="1302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e side impact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Text Box 105"/>
            <p:cNvSpPr/>
            <p:nvPr/>
          </p:nvSpPr>
          <p:spPr>
            <a:xfrm>
              <a:off x="7329960" y="6453720"/>
              <a:ext cx="2052360" cy="31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verall Rating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972180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제목 2"/>
          <p:cNvSpPr/>
          <p:nvPr/>
        </p:nvSpPr>
        <p:spPr>
          <a:xfrm>
            <a:off x="0" y="163440"/>
            <a:ext cx="9906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Effects of KNCAP: Full Frontal Impact Tes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44" name="직사각형 3"/>
          <p:cNvGrpSpPr/>
          <p:nvPr/>
        </p:nvGrpSpPr>
        <p:grpSpPr>
          <a:xfrm>
            <a:off x="609480" y="1468440"/>
            <a:ext cx="4370400" cy="4719600"/>
            <a:chOff x="609480" y="1468440"/>
            <a:chExt cx="4370400" cy="4719600"/>
          </a:xfrm>
        </p:grpSpPr>
        <p:pic>
          <p:nvPicPr>
            <p:cNvPr id="345" name="직사각형 3" descr=""/>
            <p:cNvPicPr/>
            <p:nvPr/>
          </p:nvPicPr>
          <p:blipFill>
            <a:blip r:embed="rId1"/>
            <a:stretch/>
          </p:blipFill>
          <p:spPr>
            <a:xfrm>
              <a:off x="609480" y="1468440"/>
              <a:ext cx="437040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33240" y="1492200"/>
              <a:ext cx="4321440" cy="46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7" name="AutoShape 3"/>
          <p:cNvSpPr/>
          <p:nvPr/>
        </p:nvSpPr>
        <p:spPr>
          <a:xfrm>
            <a:off x="1295280" y="1270080"/>
            <a:ext cx="3167280" cy="419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7099e2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ull Frontal Impact Tes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48" name="직사각형 5"/>
          <p:cNvGrpSpPr/>
          <p:nvPr/>
        </p:nvGrpSpPr>
        <p:grpSpPr>
          <a:xfrm>
            <a:off x="4932360" y="1468440"/>
            <a:ext cx="4363920" cy="4719600"/>
            <a:chOff x="4932360" y="1468440"/>
            <a:chExt cx="4363920" cy="4719600"/>
          </a:xfrm>
        </p:grpSpPr>
        <p:pic>
          <p:nvPicPr>
            <p:cNvPr id="349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932360" y="1468440"/>
              <a:ext cx="436392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4954680" y="1494000"/>
              <a:ext cx="4319640" cy="46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AutoShape 3"/>
          <p:cNvSpPr/>
          <p:nvPr/>
        </p:nvSpPr>
        <p:spPr>
          <a:xfrm>
            <a:off x="5038560" y="1270080"/>
            <a:ext cx="4105440" cy="419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7099e2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verage Probability of Injury(AIS 4+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3"/>
          <a:stretch/>
        </p:blipFill>
        <p:spPr>
          <a:xfrm>
            <a:off x="1222200" y="2205000"/>
            <a:ext cx="3203640" cy="21607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7"/>
          <p:cNvSpPr/>
          <p:nvPr/>
        </p:nvSpPr>
        <p:spPr>
          <a:xfrm>
            <a:off x="4989600" y="5013360"/>
            <a:ext cx="45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verage for first 3 years (1999-2001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s. Average for recent 3 years (2010-2012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직사각형 18"/>
          <p:cNvSpPr/>
          <p:nvPr/>
        </p:nvSpPr>
        <p:spPr>
          <a:xfrm>
            <a:off x="1150920" y="4430880"/>
            <a:ext cx="338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Impact Speed: 56 km/h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river: 50%ile Male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assenger: 50%ile Male(~2012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5%ile Female(2013~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5" name="차트 10" descr=""/>
          <p:cNvPicPr/>
          <p:nvPr/>
        </p:nvPicPr>
        <p:blipFill>
          <a:blip r:embed="rId4"/>
          <a:stretch/>
        </p:blipFill>
        <p:spPr>
          <a:xfrm>
            <a:off x="4968720" y="1847880"/>
            <a:ext cx="4175280" cy="2760480"/>
          </a:xfrm>
          <a:prstGeom prst="rect">
            <a:avLst/>
          </a:prstGeom>
          <a:ln w="0">
            <a:noFill/>
          </a:ln>
        </p:spPr>
      </p:pic>
      <p:sp>
        <p:nvSpPr>
          <p:cNvPr id="356" name="TextBox 13"/>
          <p:cNvSpPr/>
          <p:nvPr/>
        </p:nvSpPr>
        <p:spPr>
          <a:xfrm>
            <a:off x="5655240" y="4297320"/>
            <a:ext cx="77976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 injury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TextBox 14"/>
          <p:cNvSpPr/>
          <p:nvPr/>
        </p:nvSpPr>
        <p:spPr>
          <a:xfrm>
            <a:off x="6781680" y="4302000"/>
            <a:ext cx="8118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st injury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TextBox 15"/>
          <p:cNvSpPr/>
          <p:nvPr/>
        </p:nvSpPr>
        <p:spPr>
          <a:xfrm>
            <a:off x="7768080" y="4313160"/>
            <a:ext cx="119124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bined injuries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972180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직사각형 3"/>
          <p:cNvGrpSpPr/>
          <p:nvPr/>
        </p:nvGrpSpPr>
        <p:grpSpPr>
          <a:xfrm>
            <a:off x="560520" y="1395360"/>
            <a:ext cx="4365360" cy="5011920"/>
            <a:chOff x="560520" y="1395360"/>
            <a:chExt cx="4365360" cy="5011920"/>
          </a:xfrm>
        </p:grpSpPr>
        <p:pic>
          <p:nvPicPr>
            <p:cNvPr id="361" name="직사각형 3" descr=""/>
            <p:cNvPicPr/>
            <p:nvPr/>
          </p:nvPicPr>
          <p:blipFill>
            <a:blip r:embed="rId1"/>
            <a:stretch/>
          </p:blipFill>
          <p:spPr>
            <a:xfrm>
              <a:off x="560520" y="1395360"/>
              <a:ext cx="4365360" cy="50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584280" y="1420920"/>
              <a:ext cx="4319640" cy="49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3" name="AutoShape 3"/>
          <p:cNvSpPr/>
          <p:nvPr/>
        </p:nvSpPr>
        <p:spPr>
          <a:xfrm>
            <a:off x="1030320" y="1208160"/>
            <a:ext cx="3166920" cy="420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7099e2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Side Impact Tes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4" name="직사각형 5"/>
          <p:cNvGrpSpPr/>
          <p:nvPr/>
        </p:nvGrpSpPr>
        <p:grpSpPr>
          <a:xfrm>
            <a:off x="4876920" y="1395360"/>
            <a:ext cx="4529160" cy="5011920"/>
            <a:chOff x="4876920" y="1395360"/>
            <a:chExt cx="4529160" cy="5011920"/>
          </a:xfrm>
        </p:grpSpPr>
        <p:pic>
          <p:nvPicPr>
            <p:cNvPr id="365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876920" y="1395360"/>
              <a:ext cx="4529160" cy="50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903920" y="1420920"/>
              <a:ext cx="4478040" cy="49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67" name="Picture 7" descr=""/>
          <p:cNvPicPr/>
          <p:nvPr/>
        </p:nvPicPr>
        <p:blipFill>
          <a:blip r:embed="rId3"/>
          <a:stretch/>
        </p:blipFill>
        <p:spPr>
          <a:xfrm>
            <a:off x="1030320" y="1916280"/>
            <a:ext cx="3325680" cy="2232000"/>
          </a:xfrm>
          <a:prstGeom prst="rect">
            <a:avLst/>
          </a:prstGeom>
          <a:ln w="0">
            <a:noFill/>
          </a:ln>
        </p:spPr>
      </p:pic>
      <p:sp>
        <p:nvSpPr>
          <p:cNvPr id="368" name="직사각형 17"/>
          <p:cNvSpPr/>
          <p:nvPr/>
        </p:nvSpPr>
        <p:spPr>
          <a:xfrm>
            <a:off x="917640" y="4429080"/>
            <a:ext cx="3744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Moving Barrier: 950 k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Impact Speed: 55 km/h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Driver: 50%ile EuroSID II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TextBox 18"/>
          <p:cNvSpPr/>
          <p:nvPr/>
        </p:nvSpPr>
        <p:spPr>
          <a:xfrm>
            <a:off x="4989600" y="4995720"/>
            <a:ext cx="43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Comparison of initial data and recent data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Combined injuries: 11.3% ⇒ 3.0% 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0" name="차트 9" descr=""/>
          <p:cNvPicPr/>
          <p:nvPr/>
        </p:nvPicPr>
        <p:blipFill>
          <a:blip r:embed="rId4"/>
          <a:stretch/>
        </p:blipFill>
        <p:spPr>
          <a:xfrm>
            <a:off x="4913280" y="1768320"/>
            <a:ext cx="4578480" cy="319428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4989600" y="1125360"/>
            <a:ext cx="410508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7099e2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Average Probability of Injury(AIS 3+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제목 2"/>
          <p:cNvSpPr/>
          <p:nvPr/>
        </p:nvSpPr>
        <p:spPr>
          <a:xfrm>
            <a:off x="0" y="163440"/>
            <a:ext cx="9906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Effects of KNCAP: Side Impact Tes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8480880" y="2009880"/>
            <a:ext cx="71136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ad injury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TextBox 14"/>
          <p:cNvSpPr/>
          <p:nvPr/>
        </p:nvSpPr>
        <p:spPr>
          <a:xfrm>
            <a:off x="8481600" y="2251080"/>
            <a:ext cx="74016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 injury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TextBox 15"/>
          <p:cNvSpPr/>
          <p:nvPr/>
        </p:nvSpPr>
        <p:spPr>
          <a:xfrm>
            <a:off x="8504640" y="2487600"/>
            <a:ext cx="108144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bined injuries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972180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77" name="직사각형 3"/>
          <p:cNvGrpSpPr/>
          <p:nvPr/>
        </p:nvGrpSpPr>
        <p:grpSpPr>
          <a:xfrm>
            <a:off x="596880" y="1249200"/>
            <a:ext cx="4365720" cy="5158080"/>
            <a:chOff x="596880" y="1249200"/>
            <a:chExt cx="4365720" cy="5158080"/>
          </a:xfrm>
        </p:grpSpPr>
        <p:pic>
          <p:nvPicPr>
            <p:cNvPr id="378" name="직사각형 3" descr=""/>
            <p:cNvPicPr/>
            <p:nvPr/>
          </p:nvPicPr>
          <p:blipFill>
            <a:blip r:embed="rId1"/>
            <a:stretch/>
          </p:blipFill>
          <p:spPr>
            <a:xfrm>
              <a:off x="596880" y="1249200"/>
              <a:ext cx="436572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619200" y="1276200"/>
              <a:ext cx="431964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0" name="AutoShape 3"/>
          <p:cNvSpPr/>
          <p:nvPr/>
        </p:nvSpPr>
        <p:spPr>
          <a:xfrm>
            <a:off x="1065240" y="907920"/>
            <a:ext cx="3166920" cy="49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7099e2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Pole Side Impact Tes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1" name="직사각형 5"/>
          <p:cNvGrpSpPr/>
          <p:nvPr/>
        </p:nvGrpSpPr>
        <p:grpSpPr>
          <a:xfrm>
            <a:off x="4913280" y="1249200"/>
            <a:ext cx="4370400" cy="5158080"/>
            <a:chOff x="4913280" y="1249200"/>
            <a:chExt cx="4370400" cy="5158080"/>
          </a:xfrm>
        </p:grpSpPr>
        <p:pic>
          <p:nvPicPr>
            <p:cNvPr id="382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913280" y="1249200"/>
              <a:ext cx="437040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938840" y="1276200"/>
              <a:ext cx="432108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4" name="직사각형 15"/>
          <p:cNvSpPr/>
          <p:nvPr/>
        </p:nvSpPr>
        <p:spPr>
          <a:xfrm>
            <a:off x="992160" y="4454640"/>
            <a:ext cx="3313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Impact Speed: 29 km/h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Impact Angle: 90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degree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Driver: 50%ile EuroSID II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5024520" y="4435560"/>
            <a:ext cx="43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Comparison of test data(AIS3+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Probability of combined injurie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- 2009: 95.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% (No vehicles have curtain airbag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- 2010+: </a:t>
            </a:r>
            <a:r>
              <a:rPr b="0" lang="en-US" sz="1600" spc="-1" strike="noStrike">
                <a:solidFill>
                  <a:srgbClr val="000000"/>
                </a:solidFill>
                <a:latin typeface="HY신명조"/>
                <a:ea typeface="HY신명조"/>
              </a:rPr>
              <a:t>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Y헤드라인M"/>
              </a:rPr>
              <a:t>10%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헤드라인M"/>
              </a:rPr>
              <a:t>(all vehicles with curtain airbag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86" name="Picture 8" descr=""/>
          <p:cNvPicPr/>
          <p:nvPr/>
        </p:nvPicPr>
        <p:blipFill>
          <a:blip r:embed="rId3"/>
          <a:srcRect l="19214" t="0" r="0" b="17454"/>
          <a:stretch/>
        </p:blipFill>
        <p:spPr>
          <a:xfrm>
            <a:off x="1136520" y="1916280"/>
            <a:ext cx="333864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차트 9" descr=""/>
          <p:cNvPicPr/>
          <p:nvPr/>
        </p:nvPicPr>
        <p:blipFill>
          <a:blip r:embed="rId4"/>
          <a:stretch/>
        </p:blipFill>
        <p:spPr>
          <a:xfrm>
            <a:off x="5022720" y="1481040"/>
            <a:ext cx="4176720" cy="295776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3"/>
          <p:cNvSpPr/>
          <p:nvPr/>
        </p:nvSpPr>
        <p:spPr>
          <a:xfrm>
            <a:off x="5024520" y="907920"/>
            <a:ext cx="410508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7099e2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Average Probability of Injury(AIS 3+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제목 2"/>
          <p:cNvSpPr/>
          <p:nvPr/>
        </p:nvSpPr>
        <p:spPr>
          <a:xfrm>
            <a:off x="0" y="163440"/>
            <a:ext cx="9906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Effects of KNCAP: Pole Side Impact Tes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6488640" y="1725480"/>
            <a:ext cx="71136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ad injury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6488640" y="1943280"/>
            <a:ext cx="74016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 injury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TextBox 15"/>
          <p:cNvSpPr/>
          <p:nvPr/>
        </p:nvSpPr>
        <p:spPr>
          <a:xfrm>
            <a:off x="6494040" y="2154240"/>
            <a:ext cx="108144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bined injuries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직사각형 1"/>
          <p:cNvSpPr/>
          <p:nvPr/>
        </p:nvSpPr>
        <p:spPr>
          <a:xfrm>
            <a:off x="5168880" y="5229360"/>
            <a:ext cx="4091040" cy="1079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972180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0" y="163440"/>
            <a:ext cx="99061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KNCAP Roadmap (2014-2019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6" name="_x166902248" descr="EMB00002114163e"/>
          <p:cNvPicPr/>
          <p:nvPr/>
        </p:nvPicPr>
        <p:blipFill>
          <a:blip r:embed="rId1"/>
          <a:stretch/>
        </p:blipFill>
        <p:spPr>
          <a:xfrm>
            <a:off x="781200" y="922320"/>
            <a:ext cx="8348400" cy="57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6318360" y="1901880"/>
            <a:ext cx="2303280" cy="180972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"/>
          <p:cNvSpPr/>
          <p:nvPr/>
        </p:nvSpPr>
        <p:spPr>
          <a:xfrm>
            <a:off x="972180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Freeform 3"/>
          <p:cNvSpPr/>
          <p:nvPr/>
        </p:nvSpPr>
        <p:spPr>
          <a:xfrm>
            <a:off x="0" y="189000"/>
            <a:ext cx="9906120" cy="53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Update Test Protocols (Current vs. Future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Freeform 2"/>
          <p:cNvSpPr/>
          <p:nvPr/>
        </p:nvSpPr>
        <p:spPr>
          <a:xfrm>
            <a:off x="1368360" y="1024200"/>
            <a:ext cx="8697960" cy="100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 vehicle is crashed to the rigid barrier with 56 km/h velocit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0%ile male dummy(driver seat) and 5%ile female dummy(passenger seat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valuate passenger injuries(for example head, chest and upper legs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Freeform 4"/>
          <p:cNvSpPr/>
          <p:nvPr/>
        </p:nvSpPr>
        <p:spPr>
          <a:xfrm>
            <a:off x="1368360" y="3673080"/>
            <a:ext cx="7920000" cy="100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 vehicle is crashed to the 40% offset barrier with 64 km/h velocit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0%ile male dummies(driver and passenger seat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valuate passenger injuries(for example head, chest, upper and lower legs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AutoShape 262"/>
          <p:cNvSpPr/>
          <p:nvPr/>
        </p:nvSpPr>
        <p:spPr>
          <a:xfrm>
            <a:off x="128520" y="1125360"/>
            <a:ext cx="1201680" cy="809640"/>
          </a:xfrm>
          <a:prstGeom prst="roundRect">
            <a:avLst>
              <a:gd name="adj" fmla="val 16667"/>
            </a:avLst>
          </a:prstGeom>
          <a:solidFill>
            <a:srgbClr val="e1f0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ll Frontal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ac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AutoShape 262"/>
          <p:cNvSpPr/>
          <p:nvPr/>
        </p:nvSpPr>
        <p:spPr>
          <a:xfrm>
            <a:off x="128520" y="3774960"/>
            <a:ext cx="1203480" cy="733680"/>
          </a:xfrm>
          <a:prstGeom prst="roundRect">
            <a:avLst>
              <a:gd name="adj" fmla="val 16667"/>
            </a:avLst>
          </a:prstGeom>
          <a:solidFill>
            <a:srgbClr val="e1f0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fse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ac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1928880" y="2133720"/>
            <a:ext cx="2408040" cy="1385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3"/>
          <a:stretch/>
        </p:blipFill>
        <p:spPr>
          <a:xfrm>
            <a:off x="1928880" y="4797360"/>
            <a:ext cx="2590560" cy="1413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4"/>
          <a:stretch/>
        </p:blipFill>
        <p:spPr>
          <a:xfrm>
            <a:off x="6424560" y="4610160"/>
            <a:ext cx="2513160" cy="1787400"/>
          </a:xfrm>
          <a:prstGeom prst="rect">
            <a:avLst/>
          </a:prstGeom>
          <a:ln w="0">
            <a:noFill/>
          </a:ln>
        </p:spPr>
      </p:pic>
      <p:sp>
        <p:nvSpPr>
          <p:cNvPr id="407" name="오른쪽 화살표 1"/>
          <p:cNvSpPr/>
          <p:nvPr/>
        </p:nvSpPr>
        <p:spPr>
          <a:xfrm>
            <a:off x="4956120" y="5157720"/>
            <a:ext cx="576360" cy="432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오른쪽 화살표 15"/>
          <p:cNvSpPr/>
          <p:nvPr/>
        </p:nvSpPr>
        <p:spPr>
          <a:xfrm>
            <a:off x="4956120" y="2610000"/>
            <a:ext cx="576360" cy="43164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Box 16"/>
          <p:cNvSpPr/>
          <p:nvPr/>
        </p:nvSpPr>
        <p:spPr>
          <a:xfrm>
            <a:off x="6424560" y="330372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  Dr./Pass Protection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Box 17"/>
          <p:cNvSpPr/>
          <p:nvPr/>
        </p:nvSpPr>
        <p:spPr>
          <a:xfrm>
            <a:off x="6537240" y="621036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ld Child Protection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04:06:14Z</dcterms:created>
  <dc:creator>JWLEE;이은덕</dc:creator>
  <dc:description/>
  <dc:language>en-US</dc:language>
  <cp:lastModifiedBy>Gianotti</cp:lastModifiedBy>
  <cp:lastPrinted>2014-12-10T17:06:48Z</cp:lastPrinted>
  <dcterms:modified xsi:type="dcterms:W3CDTF">2014-12-10T17:07:44Z</dcterms:modified>
  <cp:revision>820</cp:revision>
  <dc:subject/>
  <dc:title>첨단안전자동차 안전성 평가기술 개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