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C23-9253-47F1-B9BA-463226D3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2B3-B014-4B86-96F7-8F181DFB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AFD-3C00-4711-90BE-64EC15FB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F93-61EE-4DF4-B409-72CDB76E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761A-771E-4703-AF7A-9B3FAF21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F7E4-796D-42F1-BD05-414AE47B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DC25-7B5B-433B-98C7-CDAD9D2B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8991-9883-48BA-B197-BB553DC0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C8F3-B001-46F6-9FF7-BC7E7B79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7AF7-DAE0-4AFF-8170-EB9C334E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3D4B-1868-4740-9456-11AE9D2D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20D-7338-4E44-8053-6C4C3CAA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F56A-747A-47B6-974A-DACFC36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A500-DCF7-45C5-AECF-E7F46CC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7FA8-4BC3-4647-AD79-925598F8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86DE-6EF0-42C1-A9A7-AE367A6B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6B36-E6F7-45AF-B4DE-D9B5A0D5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CA9F-DAF5-44D4-8660-24870EB6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9CE99-18E3-43C7-AE57-E84FADF2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85C0-243F-45E6-9796-8CCDA4AB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E8CE-F211-4A00-82F9-3954707E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159E-8CD3-4783-B5C8-545776A9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E6A-A50C-46E4-9CBB-0AD991BF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C0A8-E56A-4AD9-9FE1-ACDD34F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BEAA-BFC1-4B56-B1D7-BABED92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4FCB-9F90-42AA-87DC-9229F43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8334-54A5-4398-9526-376C1A5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640C-34D2-45A9-94C6-BECC1295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B0D6-FDE5-4AC3-8BC4-A7876688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C670-39D6-4A11-8DB3-0CF3F3F8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58C-29C9-43F7-BD2C-E7686157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BA7-5937-4889-94B9-1660B189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3DE-1F99-425D-B172-B3489882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E68-6CB3-486B-87AA-EF277DF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11D-7441-4FB3-9DB6-713FBCB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A33-F29C-4A88-982F-6EE383F6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355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AE7E-4D9C-4A82-A0C8-DAD76A1D7B9B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nouveau logo OICA"/>
          <p:cNvPicPr/>
          <p:nvPr/>
        </p:nvPicPr>
        <p:blipFill>
          <a:blip r:embed="rId2"/>
          <a:stretch/>
        </p:blipFill>
        <p:spPr>
          <a:xfrm>
            <a:off x="179280" y="260280"/>
            <a:ext cx="2148120" cy="10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355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D92E-A450-4A5C-AA7E-EE2BF5FD01BF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nouveau logo OICA"/>
          <p:cNvPicPr/>
          <p:nvPr/>
        </p:nvPicPr>
        <p:blipFill>
          <a:blip r:embed="rId2"/>
          <a:stretch/>
        </p:blipFill>
        <p:spPr>
          <a:xfrm>
            <a:off x="179280" y="260280"/>
            <a:ext cx="1152720" cy="579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355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57D2-E362-43DF-813A-E75D28F0E697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724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Pedestrian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7080" y="3292560"/>
            <a:ext cx="763272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Effects of</a:t>
            </a:r>
            <a:br>
              <a:rPr sz="3200"/>
            </a:b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Bumper Test Area Determination</a:t>
            </a:r>
            <a:br>
              <a:rPr sz="3200"/>
            </a:b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Using the Old vs. the New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Untertitel 2"/>
          <p:cNvSpPr/>
          <p:nvPr/>
        </p:nvSpPr>
        <p:spPr>
          <a:xfrm>
            <a:off x="2651040" y="5680080"/>
            <a:ext cx="38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8c93"/>
                </a:solidFill>
                <a:latin typeface="Arial"/>
              </a:rPr>
              <a:t>Presented by the experts of O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_unlogo"/>
          <p:cNvPicPr/>
          <p:nvPr/>
        </p:nvPicPr>
        <p:blipFill>
          <a:blip r:embed="rId1"/>
          <a:stretch/>
        </p:blipFill>
        <p:spPr>
          <a:xfrm>
            <a:off x="6264360" y="128520"/>
            <a:ext cx="714240" cy="5907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7"/>
          <p:cNvSpPr/>
          <p:nvPr/>
        </p:nvSpPr>
        <p:spPr>
          <a:xfrm>
            <a:off x="6982560" y="100080"/>
            <a:ext cx="2157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formal documen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RSP-56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56th GRSP, 9-12 Dec. 20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genda item 3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umsplatzhalt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27 Nov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9640" y="179280"/>
            <a:ext cx="70563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f the Method Using Corner Gaug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60360" y="1260000"/>
            <a:ext cx="8424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-271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st vehicles, the test area will be extended (as suggested by several authorities) and will at least remain unchanged for a very f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nly very few vehicles, the bumper beam will continue to extend beyond the test area, as is the case to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48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feasible, repeatable, reproducible, less sensitive to specific desig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48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performed without disassembling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48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uitable also in self certif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CA therefore supports this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tel 1"/>
          <p:cNvSpPr/>
          <p:nvPr/>
        </p:nvSpPr>
        <p:spPr>
          <a:xfrm>
            <a:off x="1619280" y="189000"/>
            <a:ext cx="67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and New Method vs. Bumper Beam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feld 10"/>
          <p:cNvSpPr/>
          <p:nvPr/>
        </p:nvSpPr>
        <p:spPr>
          <a:xfrm>
            <a:off x="1541520" y="6093000"/>
            <a:ext cx="60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were delivered by 9 OEM‘s for 103 vehicles in to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Grafik 2" descr=""/>
          <p:cNvPicPr/>
          <p:nvPr/>
        </p:nvPicPr>
        <p:blipFill>
          <a:blip r:embed="rId1"/>
          <a:srcRect l="22526" t="26393" r="45822" b="10693"/>
          <a:stretch/>
        </p:blipFill>
        <p:spPr>
          <a:xfrm>
            <a:off x="4649760" y="1187280"/>
            <a:ext cx="4389480" cy="47880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3" descr=""/>
          <p:cNvPicPr/>
          <p:nvPr/>
        </p:nvPicPr>
        <p:blipFill>
          <a:blip r:embed="rId2"/>
          <a:srcRect l="22380" t="26517" r="45976" b="10568"/>
          <a:stretch/>
        </p:blipFill>
        <p:spPr>
          <a:xfrm>
            <a:off x="162000" y="1187280"/>
            <a:ext cx="4389480" cy="4788000"/>
          </a:xfrm>
          <a:prstGeom prst="rect">
            <a:avLst/>
          </a:prstGeom>
          <a:ln w="0">
            <a:noFill/>
          </a:ln>
        </p:spPr>
      </p:pic>
      <p:sp>
        <p:nvSpPr>
          <p:cNvPr id="138" name="Datumsplatzhalt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27 Nov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feld 4"/>
          <p:cNvSpPr/>
          <p:nvPr/>
        </p:nvSpPr>
        <p:spPr>
          <a:xfrm>
            <a:off x="3348000" y="31370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bfc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6"/>
          <p:cNvSpPr/>
          <p:nvPr/>
        </p:nvSpPr>
        <p:spPr>
          <a:xfrm>
            <a:off x="527040" y="5732640"/>
            <a:ext cx="809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For detailed questions please refer to the authors, Mr. Thomas Kinsky / General Motors Europe Engineering, Mr. Winfried Schmitt / BMW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and Mr. Jörg Kusche / Porsche, as representatives of the International Organization of Motor Vehicle Manufacturers O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umsplatzhalt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27 Nov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umsplatzhalt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27 Nov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60000" y="1260000"/>
            <a:ext cx="832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-271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etermination of the bumper corners,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or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refer to the method used today in gtr No. 9 and UN R127: vertical planes make angles of 60° with the vertical longitudinal plane of the vehicle and are tangential to the outer surface of the bumper, the contact points are the corners of bum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propos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or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refer to the method proposed by the Task Force Bumper Test Area (TF-BTA) in their documents: 23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 corner gauges are moved parallel to vertical planes with angles of 60° to the vertical longitudinal center plane of the vehicle, the outermost points of contact are the corners of bum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mper b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refers to the structural cross member under the bumper fascia protecting the front of the vehicle but does not include foam, cover support or any pedestrian protect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el 1"/>
          <p:cNvSpPr/>
          <p:nvPr/>
        </p:nvSpPr>
        <p:spPr>
          <a:xfrm>
            <a:off x="1440000" y="179280"/>
            <a:ext cx="70563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8:12:36Z</dcterms:created>
  <dc:creator>Schmitt Winfried</dc:creator>
  <dc:description/>
  <dc:language>en-US</dc:language>
  <cp:lastModifiedBy>Gianotti</cp:lastModifiedBy>
  <dcterms:modified xsi:type="dcterms:W3CDTF">2014-12-10T12:13:39Z</dcterms:modified>
  <cp:revision>355</cp:revision>
  <dc:subject/>
  <dc:title>Folie 1</dc:title>
</cp:coreProperties>
</file>