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24A-9421-4170-B50C-FDB653FE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D4C-D4A4-4D81-975D-DE1E068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28A-2B53-4D20-8821-0CA9A550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A14-1408-4DBE-B595-E3812E54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EC2-B318-4DB9-BE85-5E0EC6FC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CBF0-F24C-43F0-9411-F026192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4D21-CC4F-4C27-915C-3B08220F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21D2-9D93-4D12-9185-0F43A8A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64E5-A23B-4F24-87D0-9598369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FF8E-4D27-4D4D-AACF-D2267F5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1D0-CD33-47DD-82BD-A19E4D9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BBE-2088-4204-8F53-EF50ADF8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376-9926-481D-BEA4-07D5959B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88A0-B9B6-4059-8161-C9A551A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7370-89E7-4AD3-911A-365056F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365A-A6CE-41A9-A7BD-806935A5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398-93A3-42B5-B5A6-3BD463E8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ECB-527C-423D-BDE8-F394B1B9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2ED-1E07-4B32-B16B-5EF9AB5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0A7-6E74-4D6B-99AB-725D96B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20E-0DE7-4452-8F28-7223CCE3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F73-39EB-4E4D-A155-F559F56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CF2-F321-4E10-9E34-E3402A7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4C3-B150-4214-9202-86343FC3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97bf0d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grpSp>
        <p:nvGrpSpPr>
          <p:cNvPr id="4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12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97b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9C7-7BE9-441C-A5D1-D096C603BF2D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" descr="K:\Secteurs\COM\PHOTOTHEQUE et LOGOS\logos\LOGOS GROUPE 2013\LOGOS SIGNATURE GROUPE\logo-utac-groupe.jpg"/>
          <p:cNvPicPr/>
          <p:nvPr/>
        </p:nvPicPr>
        <p:blipFill>
          <a:blip r:embed="rId4"/>
          <a:stretch/>
        </p:blipFill>
        <p:spPr>
          <a:xfrm>
            <a:off x="0" y="0"/>
            <a:ext cx="1104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97bf0d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4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97bf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K:\Secteurs\COM\PHOTOTHEQUE et LOGOS\logos\LOGOS GROUPE 2013\LOGOS SIGNATURE GROUPE\logo-utac-groupe.jpg"/>
          <p:cNvPicPr/>
          <p:nvPr/>
        </p:nvPicPr>
        <p:blipFill>
          <a:blip r:embed="rId4"/>
          <a:stretch/>
        </p:blipFill>
        <p:spPr>
          <a:xfrm>
            <a:off x="0" y="0"/>
            <a:ext cx="1104840" cy="360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012-B47C-4BE1-92B0-3F5262C0E8FD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6699"/>
                </a:solidFill>
                <a:latin typeface="Century Gothic"/>
              </a:rPr>
              <a:t>ECE R129 – Phase 2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000" y="3359160"/>
            <a:ext cx="7785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entury Gothic"/>
              </a:rPr>
              <a:t>Booster Seats and Booster Cushion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70B-16BF-431F-9151-C9471A6FCBF3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5003640" y="74448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Informal docume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GRSP-56-</a:t>
            </a:r>
            <a:r>
              <a:rPr b="1" lang="en-US" sz="1200" spc="-1" strike="noStrike">
                <a:solidFill>
                  <a:srgbClr val="008080"/>
                </a:solidFill>
                <a:latin typeface="Arial"/>
                <a:ea typeface="MS Mincho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56th GRSP, 9-12 December 2014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agenda item 17)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6699"/>
                </a:solidFill>
                <a:latin typeface="Century Gothic"/>
              </a:rPr>
              <a:t>Categories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09" name="Espace réservé de la date 8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pied de page 9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10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4D7-2C89-4699-9F1A-DCEDACAA10FF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jet 3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9036000" cy="446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Non-Integral ECRS with backres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Size range between 100 cm and 135 cm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Volume included in ISO F4 fixtur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Without ISOFIX attachmen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If ISOFIX attachments =&gt; Stowabl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Tested in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Lateral impact (Q3 or Q6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f7f7f"/>
                </a:solidFill>
                <a:latin typeface="Century Gothic"/>
              </a:rPr>
              <a:t>Frontal impact (Q3, Q6 or Q1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6699"/>
                </a:solidFill>
                <a:latin typeface="Century Gothic"/>
              </a:rPr>
              <a:t>Universal Booster Se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15" name="Espace réservé de la date 4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pied de page 5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6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EDC-80CE-48AD-879F-161885CC8140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360" y="907920"/>
            <a:ext cx="36226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Universal Booster Seat Fixture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5111640" cy="290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500720" y="3214800"/>
            <a:ext cx="4510080" cy="3192480"/>
          </a:xfrm>
          <a:prstGeom prst="rect">
            <a:avLst/>
          </a:prstGeom>
          <a:ln w="0">
            <a:noFill/>
          </a:ln>
        </p:spPr>
      </p:pic>
      <p:sp>
        <p:nvSpPr>
          <p:cNvPr id="121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57D-5ABF-460F-B84F-5587F1430DA4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Century Gothic"/>
              </a:rPr>
              <a:t>Non-Integral ECRS without backres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Size range between 125 cm and 150 cm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Volume included in ISO F4 fixtur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Without ISOFIX attachment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If ISOFIX attachments =&gt; Stowable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Century Gothic"/>
              </a:rPr>
              <a:t>Not tested in lateral impact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Century Gothic"/>
              </a:rPr>
              <a:t>Tested in frontal impact with Q6 or Q1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6699"/>
                </a:solidFill>
                <a:latin typeface="Century Gothic"/>
              </a:rPr>
              <a:t>Universal Booster Cush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26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474-0EED-454D-8C69-F6DBDADC9502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Measuring Device to assess Universal Booster Cush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87280" y="1574640"/>
            <a:ext cx="6409080" cy="487872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F65-8A6A-469C-8853-D08DB4B225F2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148392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Y-shaped belts may only be used in rearward and lateral facing ECR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Abdominal Pressure Twin Sensors (APTS) are used in the abdomen of the Q1.5, Q3, Q6 and Q10 for frontal impact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Editorial error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6699"/>
                </a:solidFill>
                <a:latin typeface="Century Gothic"/>
              </a:rPr>
              <a:t>Upgrade of phase 1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477-250B-4729-826B-A4AFF9E45BE7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APTS V3 specifications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4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09/12/20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56th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7EA9-EEE2-4DCC-84EB-920CF9BDBF78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jet 8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675480" cy="1413000"/>
          </a:xfrm>
          <a:prstGeom prst="rect">
            <a:avLst/>
          </a:prstGeom>
          <a:ln w="0">
            <a:noFill/>
          </a:ln>
        </p:spPr>
      </p:pic>
      <p:pic>
        <p:nvPicPr>
          <p:cNvPr id="144" name="Objet 9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6675480" cy="300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1:53:10Z</dcterms:created>
  <dc:creator>Administrateur</dc:creator>
  <dc:description/>
  <dc:language>en-US</dc:language>
  <cp:lastModifiedBy>Gianotti</cp:lastModifiedBy>
  <dcterms:modified xsi:type="dcterms:W3CDTF">2014-12-10T12:24:28Z</dcterms:modified>
  <cp:revision>13</cp:revision>
  <dc:subject/>
  <dc:title>ECE R129 – Phase 2</dc:title>
</cp:coreProperties>
</file>