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dt" idx="43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sldImg"/>
          </p:nvPr>
        </p:nvSpPr>
        <p:spPr>
          <a:xfrm>
            <a:off x="912960" y="744120"/>
            <a:ext cx="496224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87c8"/>
                </a:solidFill>
                <a:latin typeface="HGP創英角ｺﾞｼｯｸUB"/>
              </a:rPr>
              <a:t>Click to move the slide</a:t>
            </a: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ftr" idx="44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 type="sldNum" idx="45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1E9E-D299-4950-BF29-490163DDA6C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2240" cy="372132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MS PMincho"/>
            </a:endParaRPr>
          </a:p>
        </p:txBody>
      </p:sp>
      <p:sp>
        <p:nvSpPr>
          <p:cNvPr id="630" name="スライド番号プレースホルダー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E4CF-3F0F-4F8A-8224-12A54DA67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2240" cy="372132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スライド番号プレースホル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B6B4-173A-4AAD-856F-AAE7C3B4538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2240" cy="372132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スライド番号プレースホル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F3D3-8A4A-4FA8-B22B-1286673FFC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2240" cy="372132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スライド番号プレースホル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ECEF-78D1-4A56-BAE9-44CDB02B89E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2240" cy="372132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スライド番号プレースホル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8D83-FABD-4C37-B104-90EB3B9F92B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2240" cy="372132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スライド番号プレースホル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3D07-544F-45F5-9AD0-CB559C65A05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435-6363-44C4-AAFB-26BA43EF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173-6146-4136-B44B-751FA3DB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2E5A5-47FA-4952-A319-4E702719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3EF7C-F62F-4EED-B059-CA2CE65B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AE598-C5EC-4FC3-B075-3930523F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AFD03-C4AC-49BC-87C1-A436A75A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0C7ED-2A49-4FD7-9E49-7013872A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BD67E-CEA0-4A0F-BB8B-99DF414F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CFE46-C32E-4644-A62D-69D15A87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0A8FE-3F27-473E-A219-FF7E05D3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0FBFC-4DB0-4192-A8C5-4317BA0C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62827-490D-422E-8DD9-6BB2D8C9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6482-33F3-45C9-8D44-31C972BC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2D89F-74B7-439A-AD01-6D1D11DF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4D047-DEA7-43E0-A95C-CB058C1B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374C8-B52A-433F-90A7-A7811E0A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ADB79-5478-4872-B99B-EF5D62E9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BFBEB-22E6-4483-BF50-7B1F8CC7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52962-6FF5-4C21-9EE1-CC97F833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801CD-16B8-48AA-B38D-8CA98511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72829-F5CA-4960-A851-A28F205A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0CEA8-09B8-4771-AB4F-FC6A480F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7A0A7-2502-40A2-9FA0-0B887E6E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EBA-1C0B-4217-8470-9941BB19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BFC05-0E49-4197-B598-879429E1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004FE-8561-4FC0-B310-1469E0CA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1D8A0-AA24-47DA-9452-0719E97F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9FAE3-F78B-4FD1-88BA-2951E911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C41B5-5AF7-43A0-8560-BCAB3CF6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7B877-23C6-469F-8FB7-B62B03E9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5F059-2DF4-46FD-8D0E-0FD8BDFC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853D6-CFCB-4987-9622-7EE56041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6BA9B-293A-4245-8105-CE343D67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F132F-35C5-4B95-81FC-D0A51617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70F5-D05E-4463-AC1F-C942CED1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BC516-43B0-4EAF-8BC2-DD54ABFA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E0BB6-BC3C-434E-876C-7DD22428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52002-5376-4DBF-9730-30BD5ED5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3A2A2-88F2-45E0-846B-05BAC98A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3ADF2-D346-4876-A90C-C8908453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466C8-3619-404D-A0D0-8E920C29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9BDAA-CDE1-4AA9-BFC5-28B76586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C0121-2B37-4637-B7BD-4C3E70E5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1704F-7BA1-4994-8971-BD906F72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C63F1-E000-4BEC-9911-9207639B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54AD-158D-4EDF-889A-EA7457F7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1A6E6-8795-4B41-A13D-C86BD6C8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B37865-3526-4507-97A5-4A32A9BE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82BA9-B9EB-48A7-94C7-E54F81A5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642ED-609C-454C-BFDD-6F318404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717DE-E95D-4795-A1E9-C0A443DF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BBA832-41AF-4141-8850-32159EDE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C288FF-2651-4C63-B5E6-97362ED0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88C29-223A-4FB1-99F7-4114CA65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44927C-341A-4ACF-9619-EFD118C2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05AC4-6CB7-4997-ADC4-D1137818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0254-67AA-413F-B05B-AF01E386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4AFE5-8024-41B0-A73A-85B6B55B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BA6E2-EA32-454F-9E5E-8FEF17B9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30F3B-A0AB-444C-815E-E34E247D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5006F6-AB6E-485F-BC1D-B0A6C9FD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0D221-D8C3-43A5-8CA5-D8680272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37B65-52C8-496E-8D51-FFBDAFE0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41C52-C7D0-4735-AA58-3E216384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8C8C0A-E4E2-4EF3-AA3B-45757301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8851A1-109A-41CC-ABD7-91DB1877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580FF-B608-41A2-BC52-A79DA0B4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B468-43D8-40AD-9F7C-19C0B424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E41292-6225-4228-AFA5-09EB7870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4738B-ECAE-4792-BFDD-2C593B55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7F093-15D6-4860-A5E9-6158F110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3CB79A-1C76-416E-A5DE-BD568F1B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40E919-6EDE-4BE3-AC39-2FC68118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F8E5E0-33BF-46B5-B9CA-5ED10E68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F22F89-08EC-413A-B891-13A396A6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16690F-4684-49D7-A04E-5C3AD643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BAE4F7-BE7D-4BF0-A124-9ABB53EC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F7FD-6094-4A62-98CB-9B265E70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A76E-3686-402F-962D-C0DB98F5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FBB0-E02E-49AA-B13E-ECE7E8EF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11D-C771-42AB-AB20-6CC1CAC6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C08A-43C7-4719-8E85-38FE358C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A3AB-5AFF-4EC3-AAD0-0339010F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4ADC-2521-4C55-B342-D4D6A2E3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2293-6C7E-44D9-B94A-3B75798E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3A07-4F75-4041-968B-3EBF446B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FAF13-55DE-46F9-A5BB-4BE6E113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90C93-3E46-4D3F-985A-572E8B35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AB2BC-DCD6-4562-86EB-7B3A656E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68EFB-B7DC-4A8C-B25C-1FEDFAFF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2DAFF-9EFC-4623-836D-98F09DA8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2294-B366-4B3F-96AD-CA4E453E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FFA2-6EAB-46B6-91A3-2A696C4A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F54B0-844F-4036-B6B2-A6FDA598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583EB-E1A5-4B54-9D0A-C6F96983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4A479-11CF-455D-8B9E-3884966D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90F7D-CE53-494E-98C9-D3E22622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7A305-DC0E-46CC-AFBF-A9BBCA79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C9FC1-7162-4E8D-90D8-017F66EC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F38E9-7317-4127-978F-97665C10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45AB5-395B-49ED-89D4-95076CC6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00EF4-769F-4F80-9C73-05AC1F95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473-1979-45E6-8658-EA36DB7E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7070B-EED6-4B57-AE61-A0CA91F6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BBF19-8570-4F95-9952-1EE1AE01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21D1A-F36D-4A12-9EC6-F0CF2D0B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1ECFA-2F9A-4FF6-8F19-30082CEB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EAFD0-7A7F-4FA3-A345-A3CCDA04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4317D-D7D5-4744-B79F-F7C9D000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D1ADB-986C-4D0E-A598-FEE5D2C9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A2010-3C41-4335-9519-E7AA6AA9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DF15F-CED4-47F9-9FA7-0F572B1B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33C5A-B65B-423D-98EE-D41D977D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4F2-4791-455D-845E-039677DF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14976-CB6E-4009-8D27-1985D3BB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CB43B-470E-4866-A0EA-ED1C66AE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FDE96-413C-4C76-9FA8-5824DA2E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ED40F-7996-44F1-95B6-8B4CFE1D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C6862-525B-4934-891D-4DD0994E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90789-D9B3-41AE-9000-48E1ABC5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56A21-F4EC-4EF5-A494-70BF7602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E61D6-950D-4CED-A5C9-A7E6B7C2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100F0-1570-492B-93A2-41DA5DD9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F1F21-85F6-4969-A468-F8FB64D6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4B06-F9C2-440C-8EC2-42FB78B0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D15E3-272B-4E1E-AA03-D1D0BEE4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5D7FE-BF3D-45BD-B7F4-204F3204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C353D-68F2-4C11-AD00-AC78300A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DBD71-1AF3-4864-A40D-B9F826D4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52E98-9217-49B7-9ACB-E8D447FE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2062D-C242-4C78-AE8D-5AAAFB38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F29E2-9287-4ADA-A034-7CBB8FB4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86F91-75AA-4BCC-A70A-1CFD41C1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06219-2F40-43C9-AE16-4B69123D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75CB9-B325-492B-BC3C-7ADCE774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608-C6CF-46A1-AF7E-9FE704CC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C3F53-41BF-4C6D-A3B4-01872B6F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B2C72-5CFE-44A5-B632-3BB73AEE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42DFE-7AF6-4059-B528-00F815CE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C1101-7F0F-47C3-8145-E8D2341D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EBC23-CD97-49F2-8317-74A1A65A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5AE8C-9C2A-4051-B0E4-FC35701D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538EB-B1E5-42C2-9B98-E941F3E8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1BF18-DD39-4744-9344-4D81E4D3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BAFCB-89AF-4F73-980F-F24994B7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F662E-B162-425D-BE31-4BFD930E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4AA6-452D-4846-A217-9F4EEFA5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D19DA-23D0-48EA-807A-D9A0C509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3B337-DB28-459C-9AB4-25388D6E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5C641-32A5-4F58-9DCB-1212A955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B4B99-A2DD-4173-A9BC-6C7C2669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9A363-A14C-426F-BA0C-8BB14D49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383AE-B169-483A-BABE-3A77D275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AFD06-E00B-4814-AABC-E8D92EC0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33439-A384-4F8C-92DD-BC8BE11D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A3AEE-4BDE-4D79-AB7D-56AE3E14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193FD-73B9-46C3-A37C-1A9BF4EF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2B3-78C0-4D21-A633-B3367645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8DD85-36B3-44DB-B5B6-B67C936B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24A61-FDE2-455E-AA44-0B097943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8CA2F-29AE-4678-9202-4E6B369C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DE853-173D-4C1E-816C-0D4395A2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6F5FC-6CA8-48AA-AABA-DB895AE2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96ED8-C376-4D44-8787-F82A7FB1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836A2-D8AE-4A10-B210-D0618247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4C6D5-12AF-4DF8-9CBF-25ED48C8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67A0F-9FFB-4050-922A-071072F2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C8DF6-B9BB-4796-9F7F-5C8864C0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7.xml"/><Relationship Id="rId9" Type="http://schemas.openxmlformats.org/officeDocument/2006/relationships/slideLayout" Target="../slideLayouts/slideLayout158.xml"/><Relationship Id="rId10" Type="http://schemas.openxmlformats.org/officeDocument/2006/relationships/slideLayout" Target="../slideLayouts/slideLayout159.xml"/><Relationship Id="rId11" Type="http://schemas.openxmlformats.org/officeDocument/2006/relationships/slideLayout" Target="../slideLayouts/slideLayout160.xml"/><Relationship Id="rId12" Type="http://schemas.openxmlformats.org/officeDocument/2006/relationships/slideLayout" Target="../slideLayouts/slideLayout161.xml"/><Relationship Id="rId13" Type="http://schemas.openxmlformats.org/officeDocument/2006/relationships/slideLayout" Target="../slideLayouts/slideLayout162.xml"/><Relationship Id="rId14" Type="http://schemas.openxmlformats.org/officeDocument/2006/relationships/slideLayout" Target="../slideLayouts/slideLayout163.xml"/><Relationship Id="rId15" Type="http://schemas.openxmlformats.org/officeDocument/2006/relationships/slideLayout" Target="../slideLayouts/slideLayout164.xml"/><Relationship Id="rId16" Type="http://schemas.openxmlformats.org/officeDocument/2006/relationships/slideLayout" Target="../slideLayouts/slideLayout165.xml"/><Relationship Id="rId17" Type="http://schemas.openxmlformats.org/officeDocument/2006/relationships/slideLayout" Target="../slideLayouts/slideLayout166.xml"/><Relationship Id="rId18" Type="http://schemas.openxmlformats.org/officeDocument/2006/relationships/slideLayout" Target="../slideLayouts/slideLayout167.xml"/><Relationship Id="rId19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09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83C2-FB74-46CC-BE9F-921C8D955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8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pic>
          <p:nvPicPr>
            <p:cNvPr id="4" name="Picture 9" descr="mlit_top"/>
            <p:cNvPicPr/>
            <p:nvPr/>
          </p:nvPicPr>
          <p:blipFill>
            <a:blip r:embed="rId2"/>
            <a:srcRect l="0" t="26804" r="0" b="65292"/>
            <a:stretch/>
          </p:blipFill>
          <p:spPr>
            <a:xfrm>
              <a:off x="0" y="476280"/>
              <a:ext cx="9144000" cy="6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" name="Group 17"/>
            <p:cNvGrpSpPr/>
            <p:nvPr/>
          </p:nvGrpSpPr>
          <p:grpSpPr>
            <a:xfrm>
              <a:off x="0" y="0"/>
              <a:ext cx="9144000" cy="504720"/>
              <a:chOff x="0" y="0"/>
              <a:chExt cx="9144000" cy="504720"/>
            </a:xfrm>
          </p:grpSpPr>
          <p:pic>
            <p:nvPicPr>
              <p:cNvPr id="6" name="Picture 11" descr="mlit_top"/>
              <p:cNvPicPr/>
              <p:nvPr/>
            </p:nvPicPr>
            <p:blipFill>
              <a:blip r:embed="rId3"/>
              <a:srcRect l="0" t="0" r="66947" b="42841"/>
              <a:stretch/>
            </p:blipFill>
            <p:spPr>
              <a:xfrm>
                <a:off x="6121440" y="0"/>
                <a:ext cx="3022560" cy="5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Picture 16" descr="mlit_top"/>
              <p:cNvPicPr/>
              <p:nvPr/>
            </p:nvPicPr>
            <p:blipFill>
              <a:blip r:embed="rId4"/>
              <a:srcRect l="50004" t="0" r="0" b="42841"/>
              <a:stretch/>
            </p:blipFill>
            <p:spPr>
              <a:xfrm>
                <a:off x="1655640" y="0"/>
                <a:ext cx="4572000" cy="5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Picture 10" descr="mlit_top"/>
              <p:cNvPicPr/>
              <p:nvPr/>
            </p:nvPicPr>
            <p:blipFill>
              <a:blip r:embed="rId5"/>
              <a:srcRect l="68908" t="0" r="0" b="42841"/>
              <a:stretch/>
            </p:blipFill>
            <p:spPr>
              <a:xfrm>
                <a:off x="0" y="0"/>
                <a:ext cx="2843280" cy="504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9" name="Picture 47" descr="mlit_top"/>
          <p:cNvPicPr/>
          <p:nvPr/>
        </p:nvPicPr>
        <p:blipFill>
          <a:blip r:embed="rId6"/>
          <a:srcRect l="0" t="43719" r="70088" b="51279"/>
          <a:stretch/>
        </p:blipFill>
        <p:spPr>
          <a:xfrm>
            <a:off x="6948360" y="368280"/>
            <a:ext cx="1440000" cy="446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6" descr=""/>
          <p:cNvPicPr/>
          <p:nvPr/>
        </p:nvPicPr>
        <p:blipFill>
          <a:blip r:embed="rId7"/>
          <a:stretch/>
        </p:blipFill>
        <p:spPr>
          <a:xfrm>
            <a:off x="8280360" y="27000"/>
            <a:ext cx="863640" cy="45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30"/>
          </p:nvPr>
        </p:nvSpPr>
        <p:spPr>
          <a:xfrm>
            <a:off x="7009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8DDA-D0FA-488F-8521-334B90107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3"/>
          </p:nvPr>
        </p:nvSpPr>
        <p:spPr>
          <a:xfrm>
            <a:off x="7009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4509-91C4-496E-8DB4-FF7C0458C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6"/>
          </p:nvPr>
        </p:nvSpPr>
        <p:spPr>
          <a:xfrm>
            <a:off x="7009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1000-FBE8-4E12-A274-05EA74806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39"/>
          </p:nvPr>
        </p:nvSpPr>
        <p:spPr>
          <a:xfrm>
            <a:off x="7009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0158-1647-4F6A-A347-4D186B893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18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pic>
          <p:nvPicPr>
            <p:cNvPr id="519" name="Picture 9" descr="mlit_top"/>
            <p:cNvPicPr/>
            <p:nvPr/>
          </p:nvPicPr>
          <p:blipFill>
            <a:blip r:embed="rId2"/>
            <a:srcRect l="0" t="26804" r="0" b="65292"/>
            <a:stretch/>
          </p:blipFill>
          <p:spPr>
            <a:xfrm>
              <a:off x="0" y="476280"/>
              <a:ext cx="9144000" cy="6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0" name="Group 17"/>
            <p:cNvGrpSpPr/>
            <p:nvPr/>
          </p:nvGrpSpPr>
          <p:grpSpPr>
            <a:xfrm>
              <a:off x="0" y="0"/>
              <a:ext cx="9144000" cy="504720"/>
              <a:chOff x="0" y="0"/>
              <a:chExt cx="9144000" cy="504720"/>
            </a:xfrm>
          </p:grpSpPr>
          <p:pic>
            <p:nvPicPr>
              <p:cNvPr id="521" name="Picture 11" descr="mlit_top"/>
              <p:cNvPicPr/>
              <p:nvPr/>
            </p:nvPicPr>
            <p:blipFill>
              <a:blip r:embed="rId3"/>
              <a:srcRect l="0" t="0" r="66947" b="42841"/>
              <a:stretch/>
            </p:blipFill>
            <p:spPr>
              <a:xfrm>
                <a:off x="6121440" y="0"/>
                <a:ext cx="3022560" cy="5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2" name="Picture 16" descr="mlit_top"/>
              <p:cNvPicPr/>
              <p:nvPr/>
            </p:nvPicPr>
            <p:blipFill>
              <a:blip r:embed="rId4"/>
              <a:srcRect l="50004" t="0" r="0" b="42841"/>
              <a:stretch/>
            </p:blipFill>
            <p:spPr>
              <a:xfrm>
                <a:off x="1655640" y="0"/>
                <a:ext cx="4572000" cy="5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3" name="Picture 10" descr="mlit_top"/>
              <p:cNvPicPr/>
              <p:nvPr/>
            </p:nvPicPr>
            <p:blipFill>
              <a:blip r:embed="rId5"/>
              <a:srcRect l="68908" t="0" r="0" b="42841"/>
              <a:stretch/>
            </p:blipFill>
            <p:spPr>
              <a:xfrm>
                <a:off x="0" y="0"/>
                <a:ext cx="2843280" cy="504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24" name="Picture 47" descr="mlit_top"/>
          <p:cNvPicPr/>
          <p:nvPr/>
        </p:nvPicPr>
        <p:blipFill>
          <a:blip r:embed="rId6"/>
          <a:srcRect l="0" t="43719" r="70088" b="51279"/>
          <a:stretch/>
        </p:blipFill>
        <p:spPr>
          <a:xfrm>
            <a:off x="6948360" y="368280"/>
            <a:ext cx="1440000" cy="446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6" descr=""/>
          <p:cNvPicPr/>
          <p:nvPr/>
        </p:nvPicPr>
        <p:blipFill>
          <a:blip r:embed="rId7"/>
          <a:stretch/>
        </p:blipFill>
        <p:spPr>
          <a:xfrm>
            <a:off x="8280360" y="27000"/>
            <a:ext cx="863640" cy="45252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Num" idx="42"/>
          </p:nvPr>
        </p:nvSpPr>
        <p:spPr>
          <a:xfrm>
            <a:off x="7009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0FBD-E973-4648-B432-3D1CEC8015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87c8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8"/>
    <p:sldLayoutId id="2147483819" r:id="rId9"/>
    <p:sldLayoutId id="2147483820" r:id="rId10"/>
    <p:sldLayoutId id="2147483821" r:id="rId11"/>
    <p:sldLayoutId id="2147483822" r:id="rId12"/>
    <p:sldLayoutId id="2147483823" r:id="rId13"/>
    <p:sldLayoutId id="2147483824" r:id="rId14"/>
    <p:sldLayoutId id="2147483825" r:id="rId15"/>
    <p:sldLayoutId id="2147483826" r:id="rId16"/>
    <p:sldLayoutId id="2147483827" r:id="rId17"/>
    <p:sldLayoutId id="2147483828" r:id="rId18"/>
    <p:sldLayoutId id="2147483829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mlit_top"/>
          <p:cNvPicPr/>
          <p:nvPr/>
        </p:nvPicPr>
        <p:blipFill>
          <a:blip r:embed="rId2"/>
          <a:srcRect l="0" t="62237" r="0" b="0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1692360" y="3284640"/>
            <a:ext cx="7451640" cy="730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6280" y="6524640"/>
            <a:ext cx="32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stry of Land, Infrastructure and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5CB8-C84F-41C9-BC37-DEAC8402A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9"/>
          </p:nvPr>
        </p:nvSpPr>
        <p:spPr>
          <a:xfrm>
            <a:off x="7009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DF2A-A144-4B1D-B812-088635E9F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12"/>
          </p:nvPr>
        </p:nvSpPr>
        <p:spPr>
          <a:xfrm>
            <a:off x="7009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2622-C6FB-4207-8993-4F462A1A7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5"/>
          </p:nvPr>
        </p:nvSpPr>
        <p:spPr>
          <a:xfrm>
            <a:off x="7009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4E84-6599-4322-912D-DE1FB1507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8"/>
          </p:nvPr>
        </p:nvSpPr>
        <p:spPr>
          <a:xfrm>
            <a:off x="7009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7947-855E-49CF-8E30-1AE781276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21"/>
          </p:nvPr>
        </p:nvSpPr>
        <p:spPr>
          <a:xfrm>
            <a:off x="7009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4D82-E23D-4414-8F12-BEC32ACDB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24"/>
          </p:nvPr>
        </p:nvSpPr>
        <p:spPr>
          <a:xfrm>
            <a:off x="7009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318B-4091-4F9C-9670-39ADB1F03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27"/>
          </p:nvPr>
        </p:nvSpPr>
        <p:spPr>
          <a:xfrm>
            <a:off x="7009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53F1-DB8D-4C3A-828E-81E5B617D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テキスト ボックス 4"/>
          <p:cNvSpPr/>
          <p:nvPr/>
        </p:nvSpPr>
        <p:spPr>
          <a:xfrm>
            <a:off x="44280" y="38160"/>
            <a:ext cx="488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bmitted by the expert from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ublic</a:t>
            </a:r>
            <a:r>
              <a:rPr b="0" lang="ko-K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Ko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5479920" y="52560"/>
            <a:ext cx="360072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Informal docu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SP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 G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9-12 December 2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genda item 3(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928800" y="226044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Malgun Gothic"/>
              </a:rPr>
              <a:t>Clarification of Test Methods for Active Devices in Pedestrian Prot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6624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87c8"/>
                </a:solidFill>
                <a:latin typeface="Arial"/>
              </a:rPr>
              <a:t>Table of Contents</a:t>
            </a: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84360" y="1628280"/>
            <a:ext cx="7488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urrent Statement (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pen Issues and Jus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roposed Tes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53290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87c8"/>
                </a:solidFill>
                <a:latin typeface="Arial"/>
              </a:rPr>
              <a:t>1. Current Statement</a:t>
            </a: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94920" y="1483920"/>
            <a:ext cx="8209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E/TRANS/180/Add.9 (26 January 2009) –GTR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2.2. All devices designed to protect vulnerable road users when    impacted by the vehicle shall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rrectly activated before  and/or be active during the relevant 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t shall be the     responsibility of the manufacturer to show that any devices   will act as intended in a pedestrian imp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6"/>
          <p:cNvSpPr/>
          <p:nvPr/>
        </p:nvSpPr>
        <p:spPr>
          <a:xfrm>
            <a:off x="171360" y="-7920"/>
            <a:ext cx="62578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87c8"/>
                </a:solidFill>
                <a:latin typeface="Arial"/>
                <a:ea typeface="HGP創英角ｺﾞｼｯｸUB"/>
              </a:rPr>
              <a:t>2. Open Issues and Jus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8"/>
          <p:cNvSpPr/>
          <p:nvPr/>
        </p:nvSpPr>
        <p:spPr>
          <a:xfrm>
            <a:off x="468360" y="907920"/>
            <a:ext cx="8424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Test Method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Devices in Pedestrian Prot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ly, the active deployable devices for pedestrian protection are available in the mark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blic of Korea, both 1958 and 1998 agreement member country, implements  the vehicle self-certification system. The system requires the precise test procedure. Therefore, clarification of test procedures for the active devices (such as active hood, pedestrian airbag) is nee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active devices, there are the detailed test procedures being practiced in EuroNCAP and KN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NCAP or KNCAP procedures can be considered as a reference materials to amend GTR No.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6"/>
          <p:cNvSpPr/>
          <p:nvPr/>
        </p:nvSpPr>
        <p:spPr>
          <a:xfrm>
            <a:off x="171360" y="-7920"/>
            <a:ext cx="62578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87c8"/>
                </a:solidFill>
                <a:latin typeface="Arial"/>
                <a:ea typeface="HGP創英角ｺﾞｼｯｸUB"/>
              </a:rPr>
              <a:t>2. Proposed Test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순서도: 수행의 시작/종료 3"/>
          <p:cNvSpPr/>
          <p:nvPr/>
        </p:nvSpPr>
        <p:spPr>
          <a:xfrm>
            <a:off x="2565360" y="1636560"/>
            <a:ext cx="898560" cy="424080"/>
          </a:xfrm>
          <a:prstGeom prst="flowChartTerminator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4"/>
          <p:cNvSpPr/>
          <p:nvPr/>
        </p:nvSpPr>
        <p:spPr>
          <a:xfrm>
            <a:off x="2449440" y="2665440"/>
            <a:ext cx="1297080" cy="36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Test at Minimum Sp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순서도: 판단 6"/>
          <p:cNvSpPr/>
          <p:nvPr/>
        </p:nvSpPr>
        <p:spPr>
          <a:xfrm>
            <a:off x="2205000" y="4211640"/>
            <a:ext cx="1728720" cy="720720"/>
          </a:xfrm>
          <a:prstGeom prst="flowChartDecision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Effectiven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7"/>
          <p:cNvSpPr/>
          <p:nvPr/>
        </p:nvSpPr>
        <p:spPr>
          <a:xfrm>
            <a:off x="452520" y="4300560"/>
            <a:ext cx="1297080" cy="5414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Test u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Un-deployed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직사각형 9"/>
          <p:cNvSpPr/>
          <p:nvPr/>
        </p:nvSpPr>
        <p:spPr>
          <a:xfrm>
            <a:off x="5084640" y="1230480"/>
            <a:ext cx="1657440" cy="136836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Verification(2)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Detection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직사각형 10"/>
          <p:cNvSpPr/>
          <p:nvPr/>
        </p:nvSpPr>
        <p:spPr>
          <a:xfrm>
            <a:off x="5229360" y="1835280"/>
            <a:ext cx="1368360" cy="36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PDI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순서도: 판단 11"/>
          <p:cNvSpPr/>
          <p:nvPr/>
        </p:nvSpPr>
        <p:spPr>
          <a:xfrm>
            <a:off x="5084640" y="2743200"/>
            <a:ext cx="1657440" cy="719280"/>
          </a:xfrm>
          <a:prstGeom prst="flowChartDecision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Active Hood Works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12"/>
          <p:cNvSpPr/>
          <p:nvPr/>
        </p:nvSpPr>
        <p:spPr>
          <a:xfrm>
            <a:off x="5084640" y="3606840"/>
            <a:ext cx="1657440" cy="136836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Verification (3)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Deployment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13"/>
          <p:cNvSpPr/>
          <p:nvPr/>
        </p:nvSpPr>
        <p:spPr>
          <a:xfrm>
            <a:off x="5186520" y="4211640"/>
            <a:ext cx="1439640" cy="36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HIT(</a:t>
            </a:r>
            <a:r>
              <a:rPr b="0" lang="ko-KR" sz="1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Vs T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Compari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순서도: 판단 14"/>
          <p:cNvSpPr/>
          <p:nvPr/>
        </p:nvSpPr>
        <p:spPr>
          <a:xfrm>
            <a:off x="5157720" y="5118120"/>
            <a:ext cx="1511280" cy="720720"/>
          </a:xfrm>
          <a:prstGeom prst="flowChartDecision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HIT&gt;T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15"/>
          <p:cNvSpPr/>
          <p:nvPr/>
        </p:nvSpPr>
        <p:spPr>
          <a:xfrm>
            <a:off x="5229360" y="5983200"/>
            <a:ext cx="1368360" cy="360360"/>
          </a:xfrm>
          <a:prstGeom prst="rect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Static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순서도: 수행의 시작/종료 16"/>
          <p:cNvSpPr/>
          <p:nvPr/>
        </p:nvSpPr>
        <p:spPr>
          <a:xfrm>
            <a:off x="5518080" y="6486480"/>
            <a:ext cx="792360" cy="289080"/>
          </a:xfrm>
          <a:prstGeom prst="flowChartTerminator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6" name="직선 화살표 연결선 15"/>
          <p:cNvCxnSpPr>
            <a:stCxn id="593" idx="3"/>
          </p:cNvCxnSpPr>
          <p:nvPr/>
        </p:nvCxnSpPr>
        <p:spPr>
          <a:xfrm>
            <a:off x="6669000" y="5478120"/>
            <a:ext cx="1008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7" name="직사각형 18"/>
          <p:cNvSpPr/>
          <p:nvPr/>
        </p:nvSpPr>
        <p:spPr>
          <a:xfrm>
            <a:off x="7677000" y="5289480"/>
            <a:ext cx="1368720" cy="3589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Dynamic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8" name="직선 화살표 연결선 17"/>
          <p:cNvCxnSpPr>
            <a:stCxn id="586" idx="1"/>
            <a:endCxn id="587" idx="3"/>
          </p:cNvCxnSpPr>
          <p:nvPr/>
        </p:nvCxnSpPr>
        <p:spPr>
          <a:xfrm flipH="1">
            <a:off x="1748880" y="4571640"/>
            <a:ext cx="4561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9" name="TextBox 18"/>
          <p:cNvSpPr/>
          <p:nvPr/>
        </p:nvSpPr>
        <p:spPr>
          <a:xfrm>
            <a:off x="1844640" y="4356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직선 연결선 19"/>
          <p:cNvSpPr/>
          <p:nvPr/>
        </p:nvSpPr>
        <p:spPr>
          <a:xfrm>
            <a:off x="3068640" y="493236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직선 연결선 20"/>
          <p:cNvSpPr/>
          <p:nvPr/>
        </p:nvSpPr>
        <p:spPr>
          <a:xfrm>
            <a:off x="3068640" y="5435640"/>
            <a:ext cx="1368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직선 연결선 21"/>
          <p:cNvSpPr/>
          <p:nvPr/>
        </p:nvSpPr>
        <p:spPr>
          <a:xfrm flipV="1">
            <a:off x="4486320" y="947880"/>
            <a:ext cx="0" cy="4502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직선 연결선 22"/>
          <p:cNvSpPr/>
          <p:nvPr/>
        </p:nvSpPr>
        <p:spPr>
          <a:xfrm>
            <a:off x="4475160" y="947880"/>
            <a:ext cx="1440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직선 화살표 연결선 23"/>
          <p:cNvCxnSpPr>
            <a:stCxn id="590" idx="2"/>
            <a:endCxn id="591" idx="0"/>
          </p:cNvCxnSpPr>
          <p:nvPr/>
        </p:nvCxnSpPr>
        <p:spPr>
          <a:xfrm>
            <a:off x="5913000" y="3462120"/>
            <a:ext cx="108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5" name="직선 화살표 연결선 24"/>
          <p:cNvCxnSpPr>
            <a:stCxn id="593" idx="2"/>
            <a:endCxn id="594" idx="0"/>
          </p:cNvCxnSpPr>
          <p:nvPr/>
        </p:nvCxnSpPr>
        <p:spPr>
          <a:xfrm>
            <a:off x="5913000" y="5838480"/>
            <a:ext cx="108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6" name="직선 화살표 연결선 25"/>
          <p:cNvCxnSpPr>
            <a:stCxn id="594" idx="2"/>
            <a:endCxn id="595" idx="0"/>
          </p:cNvCxnSpPr>
          <p:nvPr/>
        </p:nvCxnSpPr>
        <p:spPr>
          <a:xfrm>
            <a:off x="5913000" y="6343200"/>
            <a:ext cx="108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07" name="TextBox 26"/>
          <p:cNvSpPr/>
          <p:nvPr/>
        </p:nvSpPr>
        <p:spPr>
          <a:xfrm>
            <a:off x="3068640" y="504504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직선 화살표 연결선 27"/>
          <p:cNvCxnSpPr>
            <a:stCxn id="590" idx="3"/>
          </p:cNvCxnSpPr>
          <p:nvPr/>
        </p:nvCxnSpPr>
        <p:spPr>
          <a:xfrm>
            <a:off x="6741720" y="3101760"/>
            <a:ext cx="935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09" name="TextBox 29"/>
          <p:cNvSpPr/>
          <p:nvPr/>
        </p:nvSpPr>
        <p:spPr>
          <a:xfrm>
            <a:off x="7029360" y="285588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30"/>
          <p:cNvSpPr/>
          <p:nvPr/>
        </p:nvSpPr>
        <p:spPr>
          <a:xfrm>
            <a:off x="5950080" y="33908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31"/>
          <p:cNvSpPr/>
          <p:nvPr/>
        </p:nvSpPr>
        <p:spPr>
          <a:xfrm>
            <a:off x="5950080" y="57675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32"/>
          <p:cNvSpPr/>
          <p:nvPr/>
        </p:nvSpPr>
        <p:spPr>
          <a:xfrm>
            <a:off x="7029360" y="523224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3" name="직선 화살표 연결선 34"/>
          <p:cNvCxnSpPr/>
          <p:nvPr/>
        </p:nvCxnSpPr>
        <p:spPr>
          <a:xfrm>
            <a:off x="3068280" y="2050920"/>
            <a:ext cx="108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4" name="직사각형 35"/>
          <p:cNvSpPr/>
          <p:nvPr/>
        </p:nvSpPr>
        <p:spPr>
          <a:xfrm>
            <a:off x="1960560" y="2276640"/>
            <a:ext cx="2108160" cy="172692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Verification[1) : Effec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직사각형 36"/>
          <p:cNvSpPr/>
          <p:nvPr/>
        </p:nvSpPr>
        <p:spPr>
          <a:xfrm>
            <a:off x="2449440" y="3097080"/>
            <a:ext cx="1297080" cy="36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Test at Maximum Sp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직사각형 37"/>
          <p:cNvSpPr/>
          <p:nvPr/>
        </p:nvSpPr>
        <p:spPr>
          <a:xfrm>
            <a:off x="2449440" y="3529080"/>
            <a:ext cx="1297080" cy="36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Find Maximum De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직선 화살표 연결선 38"/>
          <p:cNvCxnSpPr/>
          <p:nvPr/>
        </p:nvCxnSpPr>
        <p:spPr>
          <a:xfrm>
            <a:off x="5914800" y="4986000"/>
            <a:ext cx="108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8" name="직선 화살표 연결선 39"/>
          <p:cNvCxnSpPr/>
          <p:nvPr/>
        </p:nvCxnSpPr>
        <p:spPr>
          <a:xfrm>
            <a:off x="5922720" y="2606400"/>
            <a:ext cx="108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9" name="직선 화살표 연결선 40"/>
          <p:cNvCxnSpPr/>
          <p:nvPr/>
        </p:nvCxnSpPr>
        <p:spPr>
          <a:xfrm>
            <a:off x="3077640" y="4003560"/>
            <a:ext cx="108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0" name="TextBox 41"/>
          <p:cNvSpPr/>
          <p:nvPr/>
        </p:nvSpPr>
        <p:spPr>
          <a:xfrm>
            <a:off x="7128000" y="5707080"/>
            <a:ext cx="201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※  </a:t>
            </a:r>
            <a:r>
              <a:rPr b="0" lang="en-US" sz="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edestrian Airbag must be tested in Dynamica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직사각형 42"/>
          <p:cNvSpPr/>
          <p:nvPr/>
        </p:nvSpPr>
        <p:spPr>
          <a:xfrm>
            <a:off x="4932360" y="1162080"/>
            <a:ext cx="1952640" cy="388764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타원 43"/>
          <p:cNvSpPr/>
          <p:nvPr/>
        </p:nvSpPr>
        <p:spPr>
          <a:xfrm>
            <a:off x="3645000" y="1492200"/>
            <a:ext cx="792000" cy="774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Maker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타원 44"/>
          <p:cNvSpPr/>
          <p:nvPr/>
        </p:nvSpPr>
        <p:spPr>
          <a:xfrm>
            <a:off x="6453360" y="406440"/>
            <a:ext cx="863280" cy="718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Impact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45"/>
          <p:cNvSpPr/>
          <p:nvPr/>
        </p:nvSpPr>
        <p:spPr>
          <a:xfrm>
            <a:off x="1002600" y="5932440"/>
            <a:ext cx="3336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PDI: Pedestrian Detection Impa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HIT: Head Impact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TRT: Total Response Time(Sensing Time+Deploy Tim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직사각형 46"/>
          <p:cNvSpPr/>
          <p:nvPr/>
        </p:nvSpPr>
        <p:spPr>
          <a:xfrm>
            <a:off x="7650000" y="2825640"/>
            <a:ext cx="1295640" cy="5414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Test u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Un-deployed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6" name="직선 화살표 연결선 47"/>
          <p:cNvCxnSpPr/>
          <p:nvPr/>
        </p:nvCxnSpPr>
        <p:spPr>
          <a:xfrm>
            <a:off x="5913000" y="946080"/>
            <a:ext cx="108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26920" y="2636640"/>
            <a:ext cx="7345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87c8"/>
                </a:solidFill>
                <a:latin typeface="Arial"/>
                <a:ea typeface="Arial"/>
              </a:rPr>
              <a:t>Thank you for your attention.</a:t>
            </a:r>
            <a:endParaRPr b="0" lang="en-US" sz="44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5T09:27:01Z</dcterms:created>
  <dc:creator>行政情報化推進課</dc:creator>
  <dc:description/>
  <dc:language>en-US</dc:language>
  <cp:lastModifiedBy>Gianotti</cp:lastModifiedBy>
  <dcterms:modified xsi:type="dcterms:W3CDTF">2014-12-05T09:28:06Z</dcterms:modified>
  <cp:revision>1118</cp:revision>
  <dc:subject/>
  <dc:title>International Harmonization (WLTP)</dc:title>
</cp:coreProperties>
</file>