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4D7-F1A6-4E9A-9AE1-162F2F96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8D9-0985-4EAA-B087-67FA209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9B1-8663-4C25-803F-050EBD97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8F2-D85E-4C13-9065-7DBC5FC5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B9A-7260-4FD6-8B4D-1B8B70E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97D-4600-42C4-B96D-521FCCE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482-77C0-427D-9C0A-FB6E48B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FA5-8D81-463C-9F95-8BD9FA2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4E6-AE71-4D6B-9238-7F805EEB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AC9-18B3-4387-AEDE-DA8A40E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F21-3EE2-4170-90AF-109AC91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FC-D651-4BE4-8A34-4BBDE13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ADC-2961-4E92-8B60-5BE8393B3D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"/>
          <p:cNvPicPr/>
          <p:nvPr/>
        </p:nvPicPr>
        <p:blipFill>
          <a:blip r:embed="rId1"/>
          <a:srcRect l="0" t="0" r="0" b="1870"/>
          <a:stretch/>
        </p:blipFill>
        <p:spPr>
          <a:xfrm>
            <a:off x="5400720" y="2778120"/>
            <a:ext cx="3719520" cy="360360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34"/>
          <p:cNvSpPr/>
          <p:nvPr/>
        </p:nvSpPr>
        <p:spPr>
          <a:xfrm>
            <a:off x="307800" y="981000"/>
            <a:ext cx="858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in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Japan supports the proposa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ECE/TRANS/WP.29/GRSP/2014/17 and ECE/TRANS/WP.29/GRSP/2014/3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provided that the test area is defined to have an angle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p to 30 deg., as specified in the current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34"/>
          <p:cNvSpPr/>
          <p:nvPr/>
        </p:nvSpPr>
        <p:spPr>
          <a:xfrm>
            <a:off x="108000" y="23590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Comparison bet. impactor</a:t>
            </a:r>
            <a:r>
              <a:rPr b="1" lang="ja-JP" sz="1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and huma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4"/>
          <p:cNvSpPr/>
          <p:nvPr/>
        </p:nvSpPr>
        <p:spPr>
          <a:xfrm>
            <a:off x="5580000" y="2359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Effect of the impactor’s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0" y="30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4"/>
          <p:cNvSpPr/>
          <p:nvPr/>
        </p:nvSpPr>
        <p:spPr>
          <a:xfrm>
            <a:off x="298440" y="1968480"/>
            <a:ext cx="81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s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 evaluation cannot be guaranteed beyond the 30 deg.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39" descr=""/>
          <p:cNvPicPr/>
          <p:nvPr/>
        </p:nvPicPr>
        <p:blipFill>
          <a:blip r:embed="rId2"/>
          <a:srcRect l="27321" t="19762" r="47637" b="55881"/>
          <a:stretch/>
        </p:blipFill>
        <p:spPr>
          <a:xfrm>
            <a:off x="108000" y="2811600"/>
            <a:ext cx="2519280" cy="1379520"/>
          </a:xfrm>
          <a:prstGeom prst="rect">
            <a:avLst/>
          </a:prstGeom>
          <a:ln w="0">
            <a:noFill/>
          </a:ln>
        </p:spPr>
      </p:pic>
      <p:pic>
        <p:nvPicPr>
          <p:cNvPr id="49" name="図 40" descr=""/>
          <p:cNvPicPr/>
          <p:nvPr/>
        </p:nvPicPr>
        <p:blipFill>
          <a:blip r:embed="rId3"/>
          <a:srcRect l="20235" t="50002" r="50946" b="23962"/>
          <a:stretch/>
        </p:blipFill>
        <p:spPr>
          <a:xfrm>
            <a:off x="2411280" y="2847960"/>
            <a:ext cx="3029040" cy="1539720"/>
          </a:xfrm>
          <a:prstGeom prst="rect">
            <a:avLst/>
          </a:prstGeom>
          <a:ln w="0">
            <a:noFill/>
          </a:ln>
        </p:spPr>
      </p:pic>
      <p:pic>
        <p:nvPicPr>
          <p:cNvPr id="50" name="図 41" descr=""/>
          <p:cNvPicPr/>
          <p:nvPr/>
        </p:nvPicPr>
        <p:blipFill>
          <a:blip r:embed="rId4"/>
          <a:srcRect l="49529" t="38240" r="20705" b="34884"/>
          <a:stretch/>
        </p:blipFill>
        <p:spPr>
          <a:xfrm>
            <a:off x="2268360" y="4583160"/>
            <a:ext cx="3311640" cy="168264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34"/>
          <p:cNvSpPr/>
          <p:nvPr/>
        </p:nvSpPr>
        <p:spPr>
          <a:xfrm>
            <a:off x="3243240" y="642924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F-BTA 7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34"/>
          <p:cNvSpPr/>
          <p:nvPr/>
        </p:nvSpPr>
        <p:spPr>
          <a:xfrm>
            <a:off x="6948360" y="643104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F-BTA 3-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"/>
          <p:cNvSpPr/>
          <p:nvPr/>
        </p:nvSpPr>
        <p:spPr>
          <a:xfrm>
            <a:off x="5724360" y="290844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34"/>
          <p:cNvSpPr/>
          <p:nvPr/>
        </p:nvSpPr>
        <p:spPr>
          <a:xfrm>
            <a:off x="826920" y="189000"/>
            <a:ext cx="93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Japan Opinion for TF-BTA Propo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"/>
          <p:cNvSpPr/>
          <p:nvPr/>
        </p:nvSpPr>
        <p:spPr>
          <a:xfrm>
            <a:off x="7042320" y="62373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6"/>
          <p:cNvSpPr/>
          <p:nvPr/>
        </p:nvSpPr>
        <p:spPr>
          <a:xfrm>
            <a:off x="11880" y="475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ubmitted by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7"/>
          <p:cNvSpPr/>
          <p:nvPr/>
        </p:nvSpPr>
        <p:spPr>
          <a:xfrm>
            <a:off x="4617360" y="0"/>
            <a:ext cx="453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5412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 u="sng">
                <a:solidFill>
                  <a:srgbClr val="000000"/>
                </a:solidFill>
                <a:uFillTx/>
                <a:latin typeface="Calibri"/>
                <a:ea typeface="ＭＳ 明朝"/>
              </a:rPr>
              <a:t>Informal document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  <a:ea typeface="ＭＳ 明朝"/>
              </a:rPr>
              <a:t>GRSP-56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5412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  <a:ea typeface="ＭＳ 明朝"/>
              </a:rPr>
              <a:t>(56th GRSP, 9-12 December 2014, agenda item 3(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明朝"/>
              </a:rPr>
              <a:t>) and 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23:03:35Z</dcterms:created>
  <dc:creator>今泉 巌 Iwao Imaizumi</dc:creator>
  <dc:description/>
  <dc:language>en-US</dc:language>
  <cp:lastModifiedBy>Gianotti</cp:lastModifiedBy>
  <cp:lastPrinted>1899-12-30T00:00:00Z</cp:lastPrinted>
  <dcterms:modified xsi:type="dcterms:W3CDTF">2014-12-01T13:15:44Z</dcterms:modified>
  <cp:revision>57</cp:revision>
  <dc:subject/>
  <dc:title>PowerPoint プレゼンテーショ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6.6.0.2724</vt:lpwstr>
  </property>
</Properties>
</file>