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34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88C4-5FFE-4C1A-8F1F-F5612E9F44E6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ould like to explain about a summary of Fourth progress report of the informal group on Phase 2 of gtr No. 9 (IG GTR9 - PH2) instead of IG GTR9-PH2 ch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スライド番号プレースホルダー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626F-8E2F-46CD-97DC-43C718EC24EF}" type="slidenum">
              <a:rPr b="0" lang="ja-JP" sz="1200" spc="-1" strike="noStrike">
                <a:solidFill>
                  <a:srgbClr val="292934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bove sente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スライド番号プレースホルダー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C74C-10A5-4C62-AAD9-D94D7B9A3654}" type="slidenum">
              <a:rPr b="0" lang="ja-JP" sz="1200" spc="-1" strike="noStrike">
                <a:solidFill>
                  <a:srgbClr val="292934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G GTR9-PH2 meetings were held 6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imes in total so far from Dec. 2011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ould like inform recent and future activity of IG GTR9-PH2 in the 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スライド番号プレースホルダー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86F9-40A6-4270-8AA8-C4721B1C740A}" type="slidenum">
              <a:rPr b="0" lang="ja-JP" sz="1200" spc="-1" strike="noStrike">
                <a:solidFill>
                  <a:srgbClr val="292934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1305-3618-4B96-940E-227806BC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7CFA-3904-48DB-ADC6-D14617EE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6DD0-C7AA-4AFA-87A9-D8AFCC89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2B8F-CA7E-4E59-8CA1-AA550037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630E-605D-4D29-AA93-6650D64C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9D2-82E6-4FA9-B656-6E1B654E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3AD2-0786-49EF-A144-DEF2731A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1566-2E78-41B7-9547-C8B68E55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515E-3A7B-4520-9714-B9500727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210D-EBE2-483D-B382-393E0533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475E-3040-484B-834D-CB9098C0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100D-E2F6-4C63-AC6E-86DAF6E4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3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9293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9293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9293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9293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9293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d8d8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d8d8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d8d8f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2599-843B-4DFB-A36F-C107A7466092}" type="slidenum">
              <a:rPr b="0" lang="ja-JP" sz="1200" spc="-1" strike="noStrike">
                <a:solidFill>
                  <a:srgbClr val="8d8d8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84200" y="191628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34"/>
                </a:solidFill>
                <a:latin typeface="Arial"/>
                <a:ea typeface="Arial"/>
              </a:rPr>
              <a:t>Progress report of  GRSG 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34"/>
                </a:solidFill>
                <a:latin typeface="Arial"/>
                <a:ea typeface="Arial"/>
              </a:rPr>
              <a:t>informal group on Accident 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34"/>
                </a:solidFill>
                <a:latin typeface="Arial"/>
                <a:ea typeface="Arial"/>
              </a:rPr>
              <a:t>Emergency Call System 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92934"/>
                </a:solidFill>
                <a:latin typeface="Arial"/>
                <a:ea typeface="Arial"/>
              </a:rPr>
              <a:t>(AECS)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250920" y="2714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1800" spc="-1" strike="noStrike">
                <a:solidFill>
                  <a:srgbClr val="292934"/>
                </a:solidFill>
                <a:latin typeface="Arial"/>
                <a:ea typeface="Arial"/>
              </a:rPr>
              <a:t>Transmitted by the C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  <a:ea typeface="Arial"/>
              </a:rPr>
              <a:t>hair of 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  <a:ea typeface="Arial"/>
              </a:rPr>
              <a:t>AECS IWG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0" name="テキスト ボックス 5"/>
          <p:cNvSpPr/>
          <p:nvPr/>
        </p:nvSpPr>
        <p:spPr>
          <a:xfrm>
            <a:off x="5321160" y="271440"/>
            <a:ext cx="3592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34"/>
                </a:solidFill>
                <a:latin typeface="Arial"/>
                <a:ea typeface="Arial"/>
              </a:rPr>
              <a:t>Informal document </a:t>
            </a:r>
            <a:r>
              <a:rPr b="1" lang="en-US" sz="1800" spc="-1" strike="noStrike">
                <a:solidFill>
                  <a:srgbClr val="292934"/>
                </a:solidFill>
                <a:latin typeface="Arial"/>
                <a:ea typeface="Arial"/>
              </a:rPr>
              <a:t>GRSG</a:t>
            </a:r>
            <a:r>
              <a:rPr b="1" lang="pt-BR" sz="1800" spc="-1" strike="noStrike">
                <a:solidFill>
                  <a:srgbClr val="292934"/>
                </a:solidFill>
                <a:latin typeface="Arial"/>
                <a:ea typeface="Arial"/>
              </a:rPr>
              <a:t>-106-31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92934"/>
                </a:solidFill>
                <a:latin typeface="Calibri"/>
              </a:rPr>
              <a:t>106</a:t>
            </a:r>
            <a:r>
              <a:rPr b="1" lang="en-GB" sz="1800" spc="-1" strike="noStrike" baseline="30000">
                <a:solidFill>
                  <a:srgbClr val="292934"/>
                </a:solidFill>
                <a:latin typeface="Calibri"/>
              </a:rPr>
              <a:t>th</a:t>
            </a:r>
            <a:r>
              <a:rPr b="1" lang="en-GB" sz="1800" spc="-1" strike="noStrike">
                <a:solidFill>
                  <a:srgbClr val="292934"/>
                </a:solidFill>
                <a:latin typeface="Calibri"/>
              </a:rPr>
              <a:t> session, 5-9 May 2014,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92934"/>
                </a:solidFill>
                <a:latin typeface="Calibri"/>
              </a:rPr>
              <a:t>Agenda item 14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1" name="テキスト ボックス 6"/>
          <p:cNvSpPr/>
          <p:nvPr/>
        </p:nvSpPr>
        <p:spPr>
          <a:xfrm>
            <a:off x="1633320" y="4941720"/>
            <a:ext cx="5766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Arial"/>
                <a:ea typeface="Arial"/>
              </a:rPr>
              <a:t>Denis Zagarin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  <a:ea typeface="Arial"/>
              </a:rPr>
              <a:t>Chairman of the GRSG informal group AECS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263520" y="152280"/>
            <a:ext cx="85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Terms of Reference and Rules of Procedure of the informal Group of GRSG on Accident Emergency Call System (AECS). 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136440" y="2349360"/>
            <a:ext cx="862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Calibri"/>
                <a:ea typeface="Times New Roman"/>
              </a:rPr>
              <a:t>Document GRSG 106-18, item 6. “The target completion date for the work of the informal group shall be the 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10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9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alibri"/>
                <a:ea typeface="Times New Roman"/>
              </a:rPr>
              <a:t>th</a:t>
            </a:r>
            <a:r>
              <a:rPr b="0" lang="en-GB" sz="2000" spc="-1" strike="noStrike">
                <a:solidFill>
                  <a:srgbClr val="292934"/>
                </a:solidFill>
                <a:latin typeface="Calibri"/>
                <a:ea typeface="Times New Roman"/>
              </a:rPr>
              <a:t> session of GRSG in October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201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5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. Vehicles of categories N2, N3, M2, and M3 may be covered in a later stage.”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243000" y="1781280"/>
            <a:ext cx="86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34"/>
                </a:solidFill>
                <a:latin typeface="Calibri"/>
                <a:ea typeface="Times New Roman"/>
              </a:rPr>
              <a:t>AECS request to GRSG to postpone the target completion date for the work</a:t>
            </a:r>
            <a:r>
              <a:rPr b="1" lang="en-US" sz="1800" spc="-1" strike="noStrike">
                <a:solidFill>
                  <a:srgbClr val="292934"/>
                </a:solidFill>
                <a:latin typeface="Calibri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292934"/>
                </a:solidFill>
                <a:latin typeface="Calibri"/>
                <a:ea typeface="Times New Roman"/>
              </a:rPr>
              <a:t>   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テキスト ボックス 6"/>
          <p:cNvSpPr/>
          <p:nvPr/>
        </p:nvSpPr>
        <p:spPr>
          <a:xfrm>
            <a:off x="1461600" y="2708280"/>
            <a:ext cx="68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34"/>
                </a:solidFill>
                <a:latin typeface="Calibri"/>
                <a:ea typeface="Arial"/>
              </a:rPr>
              <a:t>Thank you for your attention!</a:t>
            </a: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6"/>
          <p:cNvSpPr/>
          <p:nvPr/>
        </p:nvSpPr>
        <p:spPr>
          <a:xfrm>
            <a:off x="433440" y="1384200"/>
            <a:ext cx="7451640" cy="18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2934"/>
                </a:solidFill>
                <a:uFillTx/>
                <a:latin typeface="Arial"/>
                <a:ea typeface="Arial"/>
              </a:rPr>
              <a:t>1</a:t>
            </a:r>
            <a:r>
              <a:rPr b="1" lang="en-US" sz="2000" spc="-1" strike="noStrike" u="sng" baseline="30000">
                <a:solidFill>
                  <a:srgbClr val="292934"/>
                </a:solidFill>
                <a:uFillTx/>
                <a:latin typeface="Arial"/>
                <a:ea typeface="Arial"/>
              </a:rPr>
              <a:t>st</a:t>
            </a:r>
            <a:r>
              <a:rPr b="1" lang="en-US" sz="2000" spc="-1" strike="noStrike" u="sng">
                <a:solidFill>
                  <a:srgbClr val="292934"/>
                </a:solidFill>
                <a:uFillTx/>
                <a:latin typeface="Arial"/>
                <a:ea typeface="Arial"/>
              </a:rPr>
              <a:t> stage:     159</a:t>
            </a:r>
            <a:r>
              <a:rPr b="1" lang="en-US" sz="2000" spc="-1" strike="noStrike" u="sng" baseline="30000">
                <a:solidFill>
                  <a:srgbClr val="292934"/>
                </a:solidFill>
                <a:uFillTx/>
                <a:latin typeface="Arial"/>
                <a:ea typeface="Arial"/>
              </a:rPr>
              <a:t>th</a:t>
            </a:r>
            <a:r>
              <a:rPr b="1" lang="en-US" sz="2000" spc="-1" strike="noStrike" u="sng">
                <a:solidFill>
                  <a:srgbClr val="292934"/>
                </a:solidFill>
                <a:uFillTx/>
                <a:latin typeface="Arial"/>
                <a:ea typeface="Arial"/>
              </a:rPr>
              <a:t> WP.29 - March 2013 Geneva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  <a:ea typeface="Arial"/>
              </a:rPr>
              <a:t>The presentation of Russian Federation (WP.29-159-22)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  <a:ea typeface="Arial"/>
              </a:rPr>
              <a:t>The announcement to propose a draft UN</a:t>
            </a:r>
            <a:r>
              <a:rPr b="0" lang="ru-RU" sz="2000" spc="-1" strike="noStrike">
                <a:solidFill>
                  <a:srgbClr val="29293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  <a:ea typeface="Arial"/>
              </a:rPr>
              <a:t>Regulation</a:t>
            </a:r>
            <a:r>
              <a:rPr b="0" lang="ru-RU" sz="2000" spc="-1" strike="noStrike">
                <a:solidFill>
                  <a:srgbClr val="292934"/>
                </a:solidFill>
                <a:latin typeface="Arial"/>
                <a:ea typeface="Arial"/>
              </a:rPr>
              <a:t>               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  <a:ea typeface="Arial"/>
              </a:rPr>
              <a:t> on</a:t>
            </a:r>
            <a:r>
              <a:rPr b="0" lang="ru-RU" sz="2000" spc="-1" strike="noStrike">
                <a:solidFill>
                  <a:srgbClr val="29293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  <a:ea typeface="Arial"/>
              </a:rPr>
              <a:t>accident emergency call systems</a:t>
            </a:r>
            <a:r>
              <a:rPr b="0" lang="ru-RU" sz="2000" spc="-1" strike="noStrike">
                <a:solidFill>
                  <a:srgbClr val="29293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  <a:ea typeface="Arial"/>
              </a:rPr>
              <a:t>                                                       ( </a:t>
            </a:r>
            <a:r>
              <a:rPr b="0" lang="ru-RU" sz="2000" spc="-1" strike="noStrike">
                <a:solidFill>
                  <a:srgbClr val="292934"/>
                </a:solidFill>
                <a:latin typeface="Arial"/>
                <a:ea typeface="Arial"/>
              </a:rPr>
              <a:t>ECE/TRANS/WP.29/2013/67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433440" y="3284640"/>
            <a:ext cx="817092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2934"/>
                </a:solidFill>
                <a:uFillTx/>
                <a:latin typeface="Arial"/>
                <a:ea typeface="Arial"/>
              </a:rPr>
              <a:t>2</a:t>
            </a:r>
            <a:r>
              <a:rPr b="1" lang="en-US" sz="2000" spc="-1" strike="noStrike" u="sng" baseline="30000">
                <a:solidFill>
                  <a:srgbClr val="292934"/>
                </a:solidFill>
                <a:uFillTx/>
                <a:latin typeface="Arial"/>
                <a:ea typeface="Arial"/>
              </a:rPr>
              <a:t>nd </a:t>
            </a:r>
            <a:r>
              <a:rPr b="1" lang="en-US" sz="2000" spc="-1" strike="noStrike" u="sng">
                <a:solidFill>
                  <a:srgbClr val="292934"/>
                </a:solidFill>
                <a:uFillTx/>
                <a:latin typeface="Arial"/>
                <a:ea typeface="Arial"/>
              </a:rPr>
              <a:t>stage:    160</a:t>
            </a:r>
            <a:r>
              <a:rPr b="1" lang="en-US" sz="2000" spc="-1" strike="noStrike" u="sng" baseline="30000">
                <a:solidFill>
                  <a:srgbClr val="292934"/>
                </a:solidFill>
                <a:uFillTx/>
                <a:latin typeface="Arial"/>
                <a:ea typeface="Arial"/>
              </a:rPr>
              <a:t>th</a:t>
            </a:r>
            <a:r>
              <a:rPr b="1" lang="en-US" sz="2000" spc="-1" strike="noStrike" u="sng">
                <a:solidFill>
                  <a:srgbClr val="292934"/>
                </a:solidFill>
                <a:uFillTx/>
                <a:latin typeface="Arial"/>
                <a:ea typeface="Arial"/>
              </a:rPr>
              <a:t> WP.29 – June 2013 Geneva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  <a:ea typeface="Arial"/>
              </a:rPr>
              <a:t>The presentation of the 1</a:t>
            </a:r>
            <a:r>
              <a:rPr b="0" lang="en-US" sz="2000" spc="-1" strike="noStrike" baseline="30000">
                <a:solidFill>
                  <a:srgbClr val="292934"/>
                </a:solidFill>
                <a:latin typeface="Arial"/>
                <a:ea typeface="Arial"/>
              </a:rPr>
              <a:t>st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  <a:ea typeface="Arial"/>
              </a:rPr>
              <a:t> Draft UN Regulation for the requirements of accident emergency call systems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  <a:ea typeface="Arial"/>
              </a:rPr>
              <a:t>(ECE-TRANS-WP29-2013-067)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  <a:ea typeface="Arial"/>
              </a:rPr>
              <a:t>WP.29 approved the request of the Russian Federation to establish a new GRSG informal group on Automatic Emergency Call Systems (AECS) (WP.29 report ECE/TRANS/WP.29/1104)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lvl="1" algn="just">
              <a:lnSpc>
                <a:spcPct val="150000"/>
              </a:lnSpc>
              <a:spcAft>
                <a:spcPts val="1800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463680" y="474840"/>
            <a:ext cx="73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34"/>
                </a:solidFill>
                <a:uFillTx/>
                <a:latin typeface="Arial"/>
                <a:ea typeface="Arial"/>
              </a:rPr>
              <a:t>Foundation of the informal working group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テキスト ボックス 6"/>
          <p:cNvSpPr/>
          <p:nvPr/>
        </p:nvSpPr>
        <p:spPr>
          <a:xfrm>
            <a:off x="416160" y="260280"/>
            <a:ext cx="507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92934"/>
                </a:solidFill>
                <a:latin typeface="Arial"/>
                <a:ea typeface="Arial"/>
              </a:rPr>
              <a:t>AECS informal group meeting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8360" y="709560"/>
          <a:ext cx="8345520" cy="5959440"/>
        </p:xfrm>
        <a:graphic>
          <a:graphicData uri="http://schemas.openxmlformats.org/drawingml/2006/table">
            <a:tbl>
              <a:tblPr/>
              <a:tblGrid>
                <a:gridCol w="1231920"/>
                <a:gridCol w="1369800"/>
                <a:gridCol w="925560"/>
                <a:gridCol w="4818240"/>
              </a:tblGrid>
              <a:tr h="655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iod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463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eting title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463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ace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463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ey points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463d"/>
                    </a:solidFill>
                  </a:tcPr>
                </a:tc>
              </a:tr>
              <a:tr h="3017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October 2013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f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600" spc="-1" strike="noStrike" baseline="30000">
                          <a:solidFill>
                            <a:srgbClr val="292934"/>
                          </a:solidFill>
                          <a:latin typeface="Calibri"/>
                        </a:rPr>
                        <a:t>st</a:t>
                      </a: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  meeting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f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Geneva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f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spcBef>
                          <a:spcPts val="601"/>
                        </a:spcBef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Russian Federation presented the revised draft UN Regulation on the ECE-TRANS-WP29-2013-067/rev.1 basis</a:t>
                      </a:r>
                      <a:r>
                        <a:rPr b="0" lang="ru-RU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(Document: AECS 01-05e)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The following items were addressed: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- Limited to M1/N1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- 3-parts structure: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(a) type approval of AECS devices for vehicles of categories M1 and N1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(b) type approval of vehicles with regard to the installation of approved AECS devices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(c) the type approval of vehicles with regard to AECS function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fce"/>
                    </a:solidFill>
                  </a:tcPr>
                </a:tc>
              </a:tr>
              <a:tr h="2286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December 2013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600" spc="-1" strike="noStrike" baseline="30000">
                          <a:solidFill>
                            <a:srgbClr val="292934"/>
                          </a:solidFill>
                          <a:latin typeface="Calibri"/>
                        </a:rPr>
                        <a:t>nd</a:t>
                      </a: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 meeting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Paris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OICA provided the updated proposal for the draft UN Regulation based on AECS 01-05e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(Document: AECS 02-02e)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Presentations: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292934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Effective dates for the mandatory requirements on installed ERA-GLONASS systems/devices (Russian Federation)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292934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Current situation of Accident Emergency Call System in Japan (Japan)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9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68360" y="725400"/>
          <a:ext cx="8351640" cy="5467320"/>
        </p:xfrm>
        <a:graphic>
          <a:graphicData uri="http://schemas.openxmlformats.org/drawingml/2006/table">
            <a:tbl>
              <a:tblPr/>
              <a:tblGrid>
                <a:gridCol w="1233360"/>
                <a:gridCol w="1370160"/>
                <a:gridCol w="893520"/>
                <a:gridCol w="48546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iod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463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eting title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463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ace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463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ey points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463d"/>
                    </a:solidFill>
                  </a:tcPr>
                </a:tc>
              </a:tr>
              <a:tr h="4826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February 2014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f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600" spc="-1" strike="noStrike" baseline="30000">
                          <a:solidFill>
                            <a:srgbClr val="292934"/>
                          </a:solidFill>
                          <a:latin typeface="Calibri"/>
                        </a:rPr>
                        <a:t>rd</a:t>
                      </a: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 meeting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f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Moscow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f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spcAft>
                          <a:spcPts val="400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Russian Federation provided the updated proposal for further development of the draft UN Regulation  on AECS 02-02e base</a:t>
                      </a:r>
                      <a:r>
                        <a:rPr b="0" lang="ru-RU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 (</a:t>
                      </a: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Document: AECS 03-04</a:t>
                      </a:r>
                      <a:r>
                        <a:rPr b="0" lang="ru-RU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spcAft>
                          <a:spcPts val="400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Presentations: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292934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ERA-GLONASS (Russian Federation)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292934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HELPNET System (Japan)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292934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OICA proposal for AECD and AECS requirements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292934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Antenna requirements (CETECOM)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  <a:ea typeface="Times New Roman"/>
                        </a:rPr>
                        <a:t>The following items were addressed: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292934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  <a:ea typeface="Arial"/>
                        </a:rPr>
                        <a:t>Scope of  the draft UN Regulation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292934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  <a:ea typeface="Arial"/>
                        </a:rPr>
                        <a:t>Communication with mobile phone networks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292934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  <a:ea typeface="Arial"/>
                        </a:rPr>
                        <a:t>Data transmission mechanism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292934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  <a:ea typeface="Arial"/>
                        </a:rPr>
                        <a:t>Minimum set of data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292934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292934"/>
                          </a:solidFill>
                          <a:latin typeface="Calibri"/>
                          <a:ea typeface="Arial"/>
                        </a:rPr>
                        <a:t>AECS triggering conditions (UN R94/R95 environment)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292934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292934"/>
                          </a:solidFill>
                          <a:latin typeface="Calibri"/>
                          <a:ea typeface="Arial"/>
                        </a:rPr>
                        <a:t>EMC, climate resistance and mechanical resistance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292934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292934"/>
                          </a:solidFill>
                          <a:latin typeface="Calibri"/>
                          <a:ea typeface="Arial"/>
                        </a:rPr>
                        <a:t>Navigation module requirements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292934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fce"/>
                    </a:solidFill>
                  </a:tcPr>
                </a:tc>
              </a:tr>
            </a:tbl>
          </a:graphicData>
        </a:graphic>
      </p:graphicFrame>
      <p:sp>
        <p:nvSpPr>
          <p:cNvPr id="58" name="テキスト ボックス 6"/>
          <p:cNvSpPr/>
          <p:nvPr/>
        </p:nvSpPr>
        <p:spPr>
          <a:xfrm>
            <a:off x="416160" y="233280"/>
            <a:ext cx="507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92934"/>
                </a:solidFill>
                <a:latin typeface="Arial"/>
                <a:ea typeface="Arial"/>
              </a:rPr>
              <a:t>AECS informal group meeting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テキスト ボックス 6"/>
          <p:cNvSpPr/>
          <p:nvPr/>
        </p:nvSpPr>
        <p:spPr>
          <a:xfrm>
            <a:off x="416160" y="260280"/>
            <a:ext cx="507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92934"/>
                </a:solidFill>
                <a:latin typeface="Arial"/>
                <a:ea typeface="Arial"/>
              </a:rPr>
              <a:t>AECS informal group meeting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20840" y="782640"/>
          <a:ext cx="8424720" cy="4530600"/>
        </p:xfrm>
        <a:graphic>
          <a:graphicData uri="http://schemas.openxmlformats.org/drawingml/2006/table">
            <a:tbl>
              <a:tblPr/>
              <a:tblGrid>
                <a:gridCol w="1244520"/>
                <a:gridCol w="1382760"/>
                <a:gridCol w="973080"/>
                <a:gridCol w="4824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iod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463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eting title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463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ace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463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ey points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463d"/>
                    </a:solidFill>
                  </a:tcPr>
                </a:tc>
              </a:tr>
              <a:tr h="331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April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2014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f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600" spc="-1" strike="noStrike" baseline="30000">
                          <a:solidFill>
                            <a:srgbClr val="292934"/>
                          </a:solidFill>
                          <a:latin typeface="Calibri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 meeting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f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Paris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f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spcAft>
                          <a:spcPts val="400"/>
                        </a:spcAft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Presentations: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292934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European Commission's position on the GNSS (EC)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292934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Automatic triggering of emergency call (TRL)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292934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OICA position on homologation procedure (OICA)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292934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Justification Climatic, Mechanical resistance and EMC requirements (Russian Federation) 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29293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The following items were addressed: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292934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Climatic, Mechanical resistance and EMC requirements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292934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Scope of  the draft UN Regulation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292934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AECS triggering conditions 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292934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GNSS aspects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292934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Possible solutions for general approach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fce"/>
                    </a:solidFill>
                  </a:tcPr>
                </a:tc>
              </a:tr>
              <a:tr h="5785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Next meetings will be held on: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292934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Turin  2-4 September 2014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9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324000" y="1197000"/>
            <a:ext cx="8351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292934"/>
                </a:solidFill>
                <a:uFillTx/>
                <a:latin typeface="Calibri"/>
                <a:ea typeface="Arial"/>
              </a:rPr>
              <a:t>1.   Mobile communication standards are  regulated nationally and are not compatible in different regions</a:t>
            </a:r>
            <a:endParaRPr b="0" lang="en-US" sz="21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250920" y="230040"/>
            <a:ext cx="850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Key issues which should be put into GRSG consideration: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39840" y="1851120"/>
            <a:ext cx="84978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92934"/>
                </a:solidFill>
                <a:latin typeface="Calibri"/>
              </a:rPr>
              <a:t>Background: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buClr>
                <a:srgbClr val="292934"/>
              </a:buClr>
              <a:buFont typeface="Calibri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Calibri"/>
              </a:rPr>
              <a:t>AECD/AECS need mobile phone communication for sending MSD and establishing voice communication.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buClr>
                <a:srgbClr val="292934"/>
              </a:buClr>
              <a:buFont typeface="Calibri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Calibri"/>
              </a:rPr>
              <a:t>Mobile phone networks are currently not compatible worldwide.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buClr>
                <a:srgbClr val="292934"/>
              </a:buClr>
              <a:buFont typeface="Calibri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Calibri"/>
              </a:rPr>
              <a:t>Mobile phone technology evolves quickly.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buClr>
                <a:srgbClr val="292934"/>
              </a:buClr>
              <a:buFont typeface="Calibri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Calibri"/>
              </a:rPr>
              <a:t>Existing technology (Quad band) may provide basic performances almost anywhere, with maximum performance in one particularly aimed area.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92934"/>
                </a:solidFill>
                <a:latin typeface="Calibri"/>
              </a:rPr>
              <a:t>Possible solutions: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buClr>
                <a:srgbClr val="292934"/>
              </a:buClr>
              <a:buFont typeface="Calibri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Calibri"/>
              </a:rPr>
              <a:t>Frequency requirements to be out of the AECS regulation, i.e. AECD/AECS shall fulfil the national requirements for what concerns the communication standards. 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buClr>
                <a:srgbClr val="292934"/>
              </a:buClr>
              <a:buFont typeface="Calibri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Calibri"/>
              </a:rPr>
              <a:t>Quad band technology.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buClr>
                <a:srgbClr val="292934"/>
              </a:buClr>
              <a:buFont typeface="Calibri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Calibri"/>
              </a:rPr>
              <a:t>Introducing different classes for AECD/AECS per each set of applicable regional communication standards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(favoured by the AECS informal group)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buClr>
                <a:srgbClr val="292934"/>
              </a:buClr>
              <a:buFont typeface="Calibri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Calibri"/>
              </a:rPr>
              <a:t>Another solution from GRSG.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274680" y="1197000"/>
            <a:ext cx="8480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92934"/>
                </a:solidFill>
                <a:latin typeface="Calibri"/>
                <a:ea typeface="Arial"/>
              </a:rPr>
              <a:t>2.</a:t>
            </a:r>
            <a:r>
              <a:rPr b="0" lang="ru-RU" sz="21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0" lang="en-US" sz="2100" spc="-1" strike="noStrike">
                <a:solidFill>
                  <a:srgbClr val="292934"/>
                </a:solidFill>
                <a:latin typeface="Calibri"/>
                <a:ea typeface="Arial"/>
              </a:rPr>
              <a:t>   </a:t>
            </a:r>
            <a:r>
              <a:rPr b="0" lang="en-US" sz="2100" spc="-1" strike="noStrike" u="sng">
                <a:solidFill>
                  <a:srgbClr val="292934"/>
                </a:solidFill>
                <a:uFillTx/>
                <a:latin typeface="Calibri"/>
                <a:ea typeface="Arial"/>
              </a:rPr>
              <a:t>Data transmission</a:t>
            </a:r>
            <a:r>
              <a:rPr b="0" lang="ru-RU" sz="2100" spc="-1" strike="noStrike" u="sng">
                <a:solidFill>
                  <a:srgbClr val="292934"/>
                </a:solidFill>
                <a:uFillTx/>
                <a:latin typeface="Calibri"/>
                <a:ea typeface="Arial"/>
              </a:rPr>
              <a:t> </a:t>
            </a:r>
            <a:r>
              <a:rPr b="0" lang="en-US" sz="2100" spc="-1" strike="noStrike" u="sng">
                <a:solidFill>
                  <a:srgbClr val="292934"/>
                </a:solidFill>
                <a:uFillTx/>
                <a:latin typeface="Calibri"/>
                <a:ea typeface="Arial"/>
              </a:rPr>
              <a:t>mechanism – there is no technology which can support all Contracting Parties</a:t>
            </a:r>
            <a:endParaRPr b="0" lang="en-US" sz="21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263520" y="152280"/>
            <a:ext cx="850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Key issues which should be put into GRSG consideration: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74680" y="1954800"/>
            <a:ext cx="8300880" cy="33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92934"/>
                </a:solidFill>
                <a:latin typeface="Calibri"/>
              </a:rPr>
              <a:t>Background: 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Calibri"/>
              </a:rPr>
              <a:t>MSD,VIN, transmission process and protocols are not harmonized worldwide and depend on deployed infrastructure. 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92934"/>
                </a:solidFill>
                <a:latin typeface="Calibri"/>
              </a:rPr>
              <a:t>Possible solutions: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292934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Calibri"/>
              </a:rPr>
              <a:t>limiting the regulation to a list of data, and letting the transmission process and protocols to the national legislation</a:t>
            </a:r>
            <a:r>
              <a:rPr b="0" lang="en-US" sz="1800" spc="-1" strike="noStrike">
                <a:solidFill>
                  <a:srgbClr val="292934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292934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Calibri"/>
              </a:rPr>
              <a:t>Introducing different classes for AECD/AECS per each set of regional protocol and data transmission mechanism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(favoured by the AECS informal group)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292934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Calibri"/>
              </a:rPr>
              <a:t>Another solution from GRSG.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458640" y="114480"/>
            <a:ext cx="850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Introducing different classes of Type Approvals for AECD/AECS per each set of applicable regional communication standards in one Regulation 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179280" y="1314360"/>
            <a:ext cx="8782200" cy="1025640"/>
          </a:xfrm>
          <a:prstGeom prst="rect">
            <a:avLst/>
          </a:prstGeom>
          <a:solidFill>
            <a:srgbClr val="ff0000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 XXX (AECS) 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0% of harmonized requirements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179280" y="2997360"/>
            <a:ext cx="8782200" cy="116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179280" y="2959200"/>
            <a:ext cx="878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ass I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bile communication standards: GSM-900/1800, UMTS-900/2100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gional protocol and data transmission mechanism: 2G/3G and in-band modem + SMS as a backup mechanism                       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Technology in application in Russia)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179280" y="4305240"/>
            <a:ext cx="8782200" cy="1152720"/>
          </a:xfrm>
          <a:prstGeom prst="rect">
            <a:avLst/>
          </a:prstGeom>
          <a:solidFill>
            <a:srgbClr val="ffc000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179280" y="5559480"/>
            <a:ext cx="8782200" cy="1182600"/>
          </a:xfrm>
          <a:prstGeom prst="rect">
            <a:avLst/>
          </a:prstGeom>
          <a:solidFill>
            <a:srgbClr val="ffc000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179280" y="4270320"/>
            <a:ext cx="878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ass II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Mobile communication standards: GSM-900/1800, UMTS-900/2100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egional protocol and data transmission mechanism: 2G/3G and in-band modem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                                             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echnology in application in 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EU)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179280" y="5554800"/>
            <a:ext cx="878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ass III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Mobile communication standards: UMTS 1700/2100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egional protocol and data transmission mechanism: CDMA for voice communication and package data transmission via LTE                           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echnology in application in 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Japan)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179280" y="2451240"/>
            <a:ext cx="8782200" cy="431640"/>
          </a:xfrm>
          <a:prstGeom prst="rect">
            <a:avLst/>
          </a:prstGeom>
          <a:solidFill>
            <a:srgbClr val="ffc000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0% of non-harmonized requirements can be defined thr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ugh different classes: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173160" y="222120"/>
            <a:ext cx="850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Key issues which should be put into GRSG consideration:</a:t>
            </a: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7" name="Прямоугольник 1"/>
          <p:cNvSpPr/>
          <p:nvPr/>
        </p:nvSpPr>
        <p:spPr>
          <a:xfrm>
            <a:off x="324000" y="1197000"/>
            <a:ext cx="8351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292934"/>
                </a:solidFill>
                <a:uFillTx/>
                <a:latin typeface="Calibri"/>
                <a:ea typeface="Arial"/>
              </a:rPr>
              <a:t>3. Global Navigation Satellite Systems.  </a:t>
            </a:r>
            <a:endParaRPr b="0" lang="en-US" sz="21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250920" y="1784160"/>
            <a:ext cx="84978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92934"/>
                </a:solidFill>
                <a:latin typeface="Calibri"/>
              </a:rPr>
              <a:t>Background: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buClr>
                <a:srgbClr val="292934"/>
              </a:buClr>
              <a:buFont typeface="Calibri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34"/>
                </a:solidFill>
                <a:latin typeface="Calibri"/>
              </a:rPr>
              <a:t>Principle of 1958 Agreement </a:t>
            </a:r>
            <a:r>
              <a:rPr b="0" lang="en-US" sz="1800" spc="-1" strike="noStrike">
                <a:solidFill>
                  <a:srgbClr val="292934"/>
                </a:solidFill>
                <a:latin typeface="Calibri"/>
              </a:rPr>
              <a:t>supposes</a:t>
            </a:r>
            <a:r>
              <a:rPr b="0" lang="fr-FR" sz="1800" spc="-1" strike="noStrike">
                <a:solidFill>
                  <a:srgbClr val="292934"/>
                </a:solidFill>
                <a:latin typeface="Calibri"/>
              </a:rPr>
              <a:t> technology neutral approach 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buClr>
                <a:srgbClr val="292934"/>
              </a:buClr>
              <a:buFont typeface="Calibri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34"/>
                </a:solidFill>
                <a:latin typeface="Calibri"/>
              </a:rPr>
              <a:t>The only one global positioning technology available at the moment is satellite related (Global Navigation Satellite Systems)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buClr>
                <a:srgbClr val="292934"/>
              </a:buClr>
              <a:buFont typeface="Calibri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34"/>
                </a:solidFill>
                <a:latin typeface="Calibri"/>
              </a:rPr>
              <a:t>Existing test methods for positioning are GNSS constellation dependant 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92934"/>
                </a:solidFill>
                <a:latin typeface="Calibri"/>
              </a:rPr>
              <a:t>Request for guidance: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buClr>
                <a:srgbClr val="292934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34"/>
                </a:solidFill>
                <a:latin typeface="Calibri"/>
              </a:rPr>
              <a:t>Can we mandate the use of GNSS in a UN Regulation?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buClr>
                <a:srgbClr val="292934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buClr>
                <a:srgbClr val="292934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3T06:42:32Z</dcterms:created>
  <dc:creator>AK</dc:creator>
  <dc:description/>
  <dc:language>en-US</dc:language>
  <cp:lastModifiedBy>2013/100</cp:lastModifiedBy>
  <cp:lastPrinted>2014-04-25T13:00:13Z</cp:lastPrinted>
  <dcterms:modified xsi:type="dcterms:W3CDTF">2014-05-06T16:26:43Z</dcterms:modified>
  <cp:revision>174</cp:revision>
  <dc:subject/>
  <dc:title>PowerPoint プレゼンテーション</dc:title>
</cp:coreProperties>
</file>