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A71-FD71-4611-B12A-6A3F9C66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E7E-E493-4154-AAFD-AD274F13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732-DDA0-4966-AC4E-2ADA4014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020-5C00-4FD5-B962-522A8A03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F79D-B03C-4452-84CF-95DA6DE3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F612-B987-4940-9C1C-596443E4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7380-6105-4160-8D7D-83F51CC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CBD-9EFA-4EE6-87A0-C4A262C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0247-D204-4C4F-8CBA-A6E0E5D3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FFB3-94B1-47F5-9786-3D9A3E80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E31-7321-4951-BD9F-9493045A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5E6-2C2A-4AD3-9DA7-036A50B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3A3-2DD6-4FDE-9101-DCEE78B6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BA25-2832-491D-B193-68786E3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B29C-B3C3-4D43-B5F8-8956F42A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90D0-048B-4AA8-8EB4-BBDD2428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1B7A-B7B4-4831-AB7A-F3DA2660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31D-561C-4CA8-AF8D-49A2451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8E2-BF0D-45A5-9C56-FA23749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ACA-901F-4642-8BA4-F571B66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0D3-BC0A-4D2F-84E8-5815418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C5E-9599-490A-964B-CD41C08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9EF-FF55-451A-A6FA-CD12105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6D8-C436-478F-BA22-FDB6C88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FV report 66th GRPE       André Rijnders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7709-38C4-46F4-9D68-F906FD2DF1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GFV report 66th GRPE       André Rijnders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7B5-8028-499F-933A-90C30C91BF8C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ormal Group on Gaseous Fuelled Vehicles (GFV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port 68th GRP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1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Tijdelijke aanduiding voor dianummer 2"/>
          <p:cNvSpPr/>
          <p:nvPr/>
        </p:nvSpPr>
        <p:spPr>
          <a:xfrm>
            <a:off x="2209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FE5-0D87-4E4C-8824-7DCB0B5B0797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724360" y="189000"/>
            <a:ext cx="3200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336666"/>
                </a:solidFill>
                <a:uFillTx/>
                <a:latin typeface="Times New Roman"/>
                <a:ea typeface="ＭＳ Ｐゴシック"/>
              </a:rPr>
              <a:t>Informal document No</a:t>
            </a: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. </a:t>
            </a:r>
            <a:r>
              <a:rPr b="1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GRPE-68-23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(68th GRPE, January 2014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genda item 8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010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Next steps GF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64d4d"/>
                </a:solidFill>
                <a:latin typeface="Arial"/>
              </a:rPr>
              <a:t>Nex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V meeting 29 January 2014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rther GFV meetings to be schedu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FV request GRPE for a ½ day meeting during the 69th GR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DDF TF kick off meeting on the 29 January 2014, further meetings to be  scheduled by the Task F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3D97-00C6-4822-A292-F8E06DFBA0ED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Meetings GFV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22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8th GFV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12 September 2013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9th GFV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66699"/>
                </a:solidFill>
                <a:latin typeface="Arial"/>
              </a:rPr>
              <a:t>3-4 December 2013 The Hague (The Netherl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th GFV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07 January 2014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506B-7E25-48B9-B5CB-8458E231C595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36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264d4d"/>
                </a:solidFill>
                <a:latin typeface="Arial"/>
              </a:rPr>
              <a:t>Heavy Duty Dual-Fuel (HDD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64d4d"/>
                </a:solidFill>
                <a:uFillTx/>
                <a:latin typeface="Arial"/>
              </a:rPr>
              <a:t>Amendments to rev.5 Regulation 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64d4d"/>
                </a:solidFill>
                <a:uFillTx/>
                <a:latin typeface="Arial"/>
              </a:rPr>
              <a:t>(EURO V) with the introduction of Dual F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4d4d"/>
                </a:solidFill>
                <a:latin typeface="Arial"/>
              </a:rPr>
              <a:t>Approved in November 2013 WP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390-046A-4AA4-9AA9-8906264FE04B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E9E-BBD1-4A3C-B0F8-C988B71FAEB4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68360" y="1700280"/>
            <a:ext cx="8364600" cy="4824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DF retrofitted engines and vehicl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th GRPE June 2013 Geneva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o develop a new UN Regulation for heavy-duty dual-fuel retrofit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e of R115 should be changed to only retrofits of LDV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3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FV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and basic principles of new Regulation discussed.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GPL proposal for a new regulation on Dual Fuel retrofit for Heavy Du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CA suggestions about a framework for a new regul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E0DE-52F9-43A7-8D93-C6656EE10C08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68360" y="1700280"/>
            <a:ext cx="8364600" cy="4824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DF retrofitted engines and vehicl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68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GRPE 2014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June 69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GRPE 2014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rmal document (if availabl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7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GRPE 2015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rmal document (if availabl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June WP.29 2015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dopt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ganisation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FV mean group will discuss the HDDF activity of fundamentals &amp; principles &amp; proces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ask Force retrofit HDDF activity technical implementation and drafting activi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air Task Force retrofit HDDF: TNO (Henk Dekker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HDDF TF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NGV global (Jeff Seisle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eetings HDDF TF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o be decided by the TF (or GFV) 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86E1-763C-4E04-98B3-38796C3D1FF2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68360" y="1700280"/>
            <a:ext cx="8364600" cy="4824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ed/agreed issu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rst Euro stage  IV / V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later Euro stage VI, (under discussion)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y type B Dual-Fuel systems (diesel mode + dual-fuel mod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bility for type 3B (less than 10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Energy Ratio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under discussion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mili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ent engine: emission test compliant with EL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bust description of family to be developed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al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rofit systems ( LPG/CNG/LNG systems for a vehicle and engine type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on ongoing concerning the need for a type approval of a retrofit DF engin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ual fuel engines approvals exist in R4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Open Issue List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CF41-90B7-49A3-82E4-2B93F37C9452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9640" y="1628640"/>
            <a:ext cx="8364600" cy="46515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rofit principles discuss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Retrofit modificatio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th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ubstantially modifying its emission strategi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. Retrofit modificatio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ubstantially modifying its emission strategie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on if we need other words/definitions A= retrofit and B= conversion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GFV agreed to keep the historical wording ‘retrofit’ system to avoid any confusion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-classification of retrofit systems of ‘substantially’ modify emission and operating strategies like intrusive and non-intrusive systems should be considered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on once an engine is “retrofitted” about the responsibility or liability of the OEM. OEM vs Retrofit debate is not new and should be avoided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r task is to set well written regulations to ensure that only the best retrofit HDDF systems can come into the market. (there are good and bad retrofits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would be very good if the OEMs would work cooperatively with retrofitters to ensure quality control of vehicles that are fitted with retrofit DF systems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8FE-A737-4E95-B434-324B917B0BD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9640" y="1628640"/>
            <a:ext cx="8364600" cy="46515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rofit further activit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GFV will discuss further the initial principles and find solution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pen issue list will be used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Task Force should start as soon as possible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the 31th GFV meeting  (on January 29th) we can develop milestones and the operating procedures for the HDDF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FV meeting will be used as Kick-Off meeting for the TF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4d4d"/>
                </a:solidFill>
                <a:latin typeface="Arial"/>
              </a:rPr>
              <a:t>Update on other UN regulatory activities related to safety (Jeff Seis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4d4d"/>
                </a:solidFill>
                <a:latin typeface="Arial"/>
              </a:rPr>
              <a:t>New amendments on LNG being considered for May 2014 GR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4d4d"/>
                </a:solidFill>
                <a:latin typeface="Arial"/>
              </a:rPr>
              <a:t>Update on UN WP15 (Carriage of Dangerous Goods) and ADR regulatory issues regarding CNG and LNG safety on ADR-regulated trucks.  (Updated from document GFV 29-08, with progress from December 2013 telecon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GFV report 68th GRPE       André Rijnders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FB56-189E-413F-9340-FC5EA0D85BA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00:33Z</dcterms:created>
  <dc:creator>rijnders</dc:creator>
  <dc:description/>
  <dc:language>en-US</dc:language>
  <cp:lastModifiedBy>GRPE informal documents</cp:lastModifiedBy>
  <dcterms:modified xsi:type="dcterms:W3CDTF">2014-01-09T13:30:49Z</dcterms:modified>
  <cp:revision>109</cp:revision>
  <dc:subject/>
  <dc:title>Informal Group on Gaseous Fuelled Vehicles (GFV)</dc:title>
</cp:coreProperties>
</file>