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92F-8B94-41CC-BD45-51951E1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E8C-4DA6-49C9-945A-03EAB5F9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225-B4E7-40BC-A872-1E8F1F04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214-DA47-4A50-B8FF-CF4A95B0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ABB-9A5A-43AF-8744-0D6C4B94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8D5-ECFC-46B4-A031-2F1055D4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E6B-1B10-49FB-94CD-C8AF8FB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C2A-2CC3-4596-B73A-0FEDC614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690-C1DB-434A-907A-F0595C08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E66-C95C-4DB0-A69C-D959B48E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61C-55FD-4B10-A7EB-F8D44A9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06E-8A15-4797-B334-C066F2E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A8A-DC85-4305-835D-9F6C2F47AD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7E7A-76B9-45DC-A68C-9E3AF0A34F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03120" y="3860640"/>
            <a:ext cx="884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RPE Informal Working Group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vy Duty Hyb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4280" cy="701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8366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12"/>
          <p:cNvSpPr/>
          <p:nvPr/>
        </p:nvSpPr>
        <p:spPr>
          <a:xfrm>
            <a:off x="0" y="5157720"/>
            <a:ext cx="733572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lvl="4" marL="175248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ort to GRPE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09 January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52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217"/>
          <p:cNvGrpSpPr/>
          <p:nvPr/>
        </p:nvGrpSpPr>
        <p:grpSpPr>
          <a:xfrm>
            <a:off x="2050920" y="836640"/>
            <a:ext cx="5294160" cy="3352680"/>
            <a:chOff x="2050920" y="836640"/>
            <a:chExt cx="5294160" cy="3352680"/>
          </a:xfrm>
        </p:grpSpPr>
        <p:sp>
          <p:nvSpPr>
            <p:cNvPr id="47" name="Freeform 1218"/>
            <p:cNvSpPr/>
            <p:nvPr/>
          </p:nvSpPr>
          <p:spPr>
            <a:xfrm>
              <a:off x="3582720" y="1020960"/>
              <a:ext cx="493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4" y="24"/>
                  </a:moveTo>
                  <a:lnTo>
                    <a:pt x="28" y="18"/>
                  </a:lnTo>
                  <a:lnTo>
                    <a:pt x="0" y="0"/>
                  </a:lnTo>
                  <a:lnTo>
                    <a:pt x="4" y="2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19"/>
            <p:cNvSpPr/>
            <p:nvPr/>
          </p:nvSpPr>
          <p:spPr>
            <a:xfrm>
              <a:off x="3489120" y="968400"/>
              <a:ext cx="6336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8"/>
                  </a:moveTo>
                  <a:lnTo>
                    <a:pt x="30" y="0"/>
                  </a:lnTo>
                  <a:lnTo>
                    <a:pt x="37" y="33"/>
                  </a:lnTo>
                  <a:lnTo>
                    <a:pt x="0" y="27"/>
                  </a:lnTo>
                  <a:lnTo>
                    <a:pt x="0" y="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20"/>
            <p:cNvSpPr/>
            <p:nvPr/>
          </p:nvSpPr>
          <p:spPr>
            <a:xfrm>
              <a:off x="3455640" y="914400"/>
              <a:ext cx="6660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6" y="29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38" y="13"/>
                  </a:lnTo>
                  <a:lnTo>
                    <a:pt x="6" y="2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21"/>
            <p:cNvSpPr/>
            <p:nvPr/>
          </p:nvSpPr>
          <p:spPr>
            <a:xfrm>
              <a:off x="3012840" y="1117800"/>
              <a:ext cx="193680" cy="20772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108" y="16"/>
                  </a:moveTo>
                  <a:lnTo>
                    <a:pt x="108" y="0"/>
                  </a:lnTo>
                  <a:lnTo>
                    <a:pt x="67" y="16"/>
                  </a:lnTo>
                  <a:lnTo>
                    <a:pt x="30" y="24"/>
                  </a:lnTo>
                  <a:lnTo>
                    <a:pt x="0" y="109"/>
                  </a:lnTo>
                  <a:lnTo>
                    <a:pt x="30" y="130"/>
                  </a:lnTo>
                  <a:lnTo>
                    <a:pt x="32" y="70"/>
                  </a:lnTo>
                  <a:lnTo>
                    <a:pt x="113" y="24"/>
                  </a:lnTo>
                  <a:lnTo>
                    <a:pt x="108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22"/>
            <p:cNvSpPr/>
            <p:nvPr/>
          </p:nvSpPr>
          <p:spPr>
            <a:xfrm>
              <a:off x="2236680" y="1725480"/>
              <a:ext cx="74520" cy="20808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25" y="13"/>
                  </a:moveTo>
                  <a:lnTo>
                    <a:pt x="43" y="111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25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23"/>
            <p:cNvSpPr/>
            <p:nvPr/>
          </p:nvSpPr>
          <p:spPr>
            <a:xfrm>
              <a:off x="2150640" y="1820880"/>
              <a:ext cx="55800" cy="824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10" y="11"/>
                  </a:moveTo>
                  <a:lnTo>
                    <a:pt x="32" y="0"/>
                  </a:lnTo>
                  <a:lnTo>
                    <a:pt x="32" y="36"/>
                  </a:lnTo>
                  <a:lnTo>
                    <a:pt x="0" y="51"/>
                  </a:lnTo>
                  <a:lnTo>
                    <a:pt x="10" y="1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24"/>
            <p:cNvSpPr/>
            <p:nvPr/>
          </p:nvSpPr>
          <p:spPr>
            <a:xfrm>
              <a:off x="3928680" y="3106800"/>
              <a:ext cx="119160" cy="4752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0" y="29"/>
                  </a:moveTo>
                  <a:lnTo>
                    <a:pt x="59" y="5"/>
                  </a:lnTo>
                  <a:lnTo>
                    <a:pt x="7" y="0"/>
                  </a:lnTo>
                  <a:lnTo>
                    <a:pt x="0" y="5"/>
                  </a:lnTo>
                  <a:lnTo>
                    <a:pt x="70" y="2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25"/>
            <p:cNvSpPr/>
            <p:nvPr/>
          </p:nvSpPr>
          <p:spPr>
            <a:xfrm>
              <a:off x="4336920" y="3000240"/>
              <a:ext cx="291960" cy="171720"/>
            </a:xfrm>
            <a:custGeom>
              <a:avLst/>
              <a:gdLst/>
              <a:ahLst/>
              <a:rect l="l" t="t" r="r" b="b"/>
              <a:pathLst>
                <a:path w="172" h="108">
                  <a:moveTo>
                    <a:pt x="116" y="24"/>
                  </a:moveTo>
                  <a:lnTo>
                    <a:pt x="171" y="10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16" y="2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26"/>
            <p:cNvSpPr/>
            <p:nvPr/>
          </p:nvSpPr>
          <p:spPr>
            <a:xfrm>
              <a:off x="4187520" y="2782800"/>
              <a:ext cx="5868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4" y="0"/>
                  </a:moveTo>
                  <a:lnTo>
                    <a:pt x="34" y="33"/>
                  </a:lnTo>
                  <a:lnTo>
                    <a:pt x="0" y="14"/>
                  </a:lnTo>
                  <a:lnTo>
                    <a:pt x="34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27"/>
            <p:cNvSpPr/>
            <p:nvPr/>
          </p:nvSpPr>
          <p:spPr>
            <a:xfrm>
              <a:off x="4147920" y="2604960"/>
              <a:ext cx="61920" cy="954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36" y="46"/>
                  </a:moveTo>
                  <a:lnTo>
                    <a:pt x="19" y="43"/>
                  </a:lnTo>
                  <a:lnTo>
                    <a:pt x="19" y="0"/>
                  </a:lnTo>
                  <a:lnTo>
                    <a:pt x="3" y="0"/>
                  </a:lnTo>
                  <a:lnTo>
                    <a:pt x="0" y="46"/>
                  </a:lnTo>
                  <a:lnTo>
                    <a:pt x="30" y="59"/>
                  </a:lnTo>
                  <a:lnTo>
                    <a:pt x="36" y="4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8"/>
            <p:cNvSpPr/>
            <p:nvPr/>
          </p:nvSpPr>
          <p:spPr>
            <a:xfrm>
              <a:off x="4287600" y="2255760"/>
              <a:ext cx="2052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0"/>
                  </a:moveTo>
                  <a:lnTo>
                    <a:pt x="0" y="21"/>
                  </a:lnTo>
                  <a:lnTo>
                    <a:pt x="11" y="26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29"/>
            <p:cNvSpPr/>
            <p:nvPr/>
          </p:nvSpPr>
          <p:spPr>
            <a:xfrm>
              <a:off x="4314600" y="2089080"/>
              <a:ext cx="147600" cy="176400"/>
            </a:xfrm>
            <a:custGeom>
              <a:avLst/>
              <a:gdLst/>
              <a:ahLst/>
              <a:rect l="l" t="t" r="r" b="b"/>
              <a:pathLst>
                <a:path w="87" h="111">
                  <a:moveTo>
                    <a:pt x="34" y="77"/>
                  </a:moveTo>
                  <a:lnTo>
                    <a:pt x="75" y="0"/>
                  </a:lnTo>
                  <a:lnTo>
                    <a:pt x="86" y="10"/>
                  </a:lnTo>
                  <a:lnTo>
                    <a:pt x="71" y="81"/>
                  </a:lnTo>
                  <a:lnTo>
                    <a:pt x="31" y="110"/>
                  </a:lnTo>
                  <a:lnTo>
                    <a:pt x="0" y="99"/>
                  </a:lnTo>
                  <a:lnTo>
                    <a:pt x="4" y="81"/>
                  </a:lnTo>
                  <a:lnTo>
                    <a:pt x="34" y="7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30"/>
            <p:cNvSpPr/>
            <p:nvPr/>
          </p:nvSpPr>
          <p:spPr>
            <a:xfrm>
              <a:off x="4409640" y="1995480"/>
              <a:ext cx="74880" cy="777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11" y="48"/>
                  </a:moveTo>
                  <a:lnTo>
                    <a:pt x="6" y="38"/>
                  </a:lnTo>
                  <a:lnTo>
                    <a:pt x="0" y="19"/>
                  </a:lnTo>
                  <a:lnTo>
                    <a:pt x="25" y="0"/>
                  </a:lnTo>
                  <a:lnTo>
                    <a:pt x="43" y="19"/>
                  </a:lnTo>
                  <a:lnTo>
                    <a:pt x="25" y="38"/>
                  </a:lnTo>
                  <a:lnTo>
                    <a:pt x="11" y="4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31"/>
            <p:cNvSpPr/>
            <p:nvPr/>
          </p:nvSpPr>
          <p:spPr>
            <a:xfrm>
              <a:off x="4417560" y="1774800"/>
              <a:ext cx="47880" cy="1922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6" y="120"/>
                  </a:moveTo>
                  <a:lnTo>
                    <a:pt x="27" y="1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32"/>
            <p:cNvSpPr/>
            <p:nvPr/>
          </p:nvSpPr>
          <p:spPr>
            <a:xfrm>
              <a:off x="4954320" y="2465280"/>
              <a:ext cx="119160" cy="235080"/>
            </a:xfrm>
            <a:custGeom>
              <a:avLst/>
              <a:gdLst/>
              <a:ahLst/>
              <a:rect l="l" t="t" r="r" b="b"/>
              <a:pathLst>
                <a:path w="70" h="149">
                  <a:moveTo>
                    <a:pt x="28" y="40"/>
                  </a:moveTo>
                  <a:lnTo>
                    <a:pt x="28" y="40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18" y="14"/>
                  </a:lnTo>
                  <a:lnTo>
                    <a:pt x="25" y="19"/>
                  </a:lnTo>
                  <a:lnTo>
                    <a:pt x="32" y="23"/>
                  </a:lnTo>
                  <a:lnTo>
                    <a:pt x="37" y="28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9" y="59"/>
                  </a:lnTo>
                  <a:lnTo>
                    <a:pt x="61" y="65"/>
                  </a:lnTo>
                  <a:lnTo>
                    <a:pt x="64" y="67"/>
                  </a:lnTo>
                  <a:lnTo>
                    <a:pt x="69" y="83"/>
                  </a:lnTo>
                  <a:lnTo>
                    <a:pt x="46" y="148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39" y="71"/>
                  </a:lnTo>
                  <a:lnTo>
                    <a:pt x="39" y="68"/>
                  </a:lnTo>
                  <a:lnTo>
                    <a:pt x="28" y="43"/>
                  </a:lnTo>
                  <a:lnTo>
                    <a:pt x="28" y="4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33"/>
            <p:cNvSpPr/>
            <p:nvPr/>
          </p:nvSpPr>
          <p:spPr>
            <a:xfrm>
              <a:off x="4401720" y="3773520"/>
              <a:ext cx="211320" cy="32400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0" y="203"/>
                  </a:moveTo>
                  <a:lnTo>
                    <a:pt x="16" y="177"/>
                  </a:lnTo>
                  <a:lnTo>
                    <a:pt x="30" y="151"/>
                  </a:lnTo>
                  <a:lnTo>
                    <a:pt x="40" y="122"/>
                  </a:lnTo>
                  <a:lnTo>
                    <a:pt x="56" y="93"/>
                  </a:lnTo>
                  <a:lnTo>
                    <a:pt x="77" y="66"/>
                  </a:lnTo>
                  <a:lnTo>
                    <a:pt x="95" y="34"/>
                  </a:lnTo>
                  <a:lnTo>
                    <a:pt x="124" y="5"/>
                  </a:lnTo>
                  <a:lnTo>
                    <a:pt x="104" y="0"/>
                  </a:lnTo>
                  <a:lnTo>
                    <a:pt x="79" y="26"/>
                  </a:lnTo>
                  <a:lnTo>
                    <a:pt x="63" y="53"/>
                  </a:lnTo>
                  <a:lnTo>
                    <a:pt x="44" y="79"/>
                  </a:lnTo>
                  <a:lnTo>
                    <a:pt x="30" y="106"/>
                  </a:lnTo>
                  <a:lnTo>
                    <a:pt x="24" y="132"/>
                  </a:lnTo>
                  <a:lnTo>
                    <a:pt x="12" y="151"/>
                  </a:lnTo>
                  <a:lnTo>
                    <a:pt x="5" y="177"/>
                  </a:lnTo>
                  <a:lnTo>
                    <a:pt x="0" y="20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34"/>
            <p:cNvSpPr/>
            <p:nvPr/>
          </p:nvSpPr>
          <p:spPr>
            <a:xfrm>
              <a:off x="6273360" y="2509920"/>
              <a:ext cx="127080" cy="6192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40" y="0"/>
                  </a:moveTo>
                  <a:lnTo>
                    <a:pt x="0" y="10"/>
                  </a:lnTo>
                  <a:lnTo>
                    <a:pt x="29" y="16"/>
                  </a:lnTo>
                  <a:lnTo>
                    <a:pt x="48" y="39"/>
                  </a:lnTo>
                  <a:lnTo>
                    <a:pt x="74" y="36"/>
                  </a:lnTo>
                  <a:lnTo>
                    <a:pt x="4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35"/>
            <p:cNvSpPr/>
            <p:nvPr/>
          </p:nvSpPr>
          <p:spPr>
            <a:xfrm>
              <a:off x="6413040" y="2570040"/>
              <a:ext cx="7632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22"/>
                  </a:moveTo>
                  <a:lnTo>
                    <a:pt x="10" y="0"/>
                  </a:lnTo>
                  <a:lnTo>
                    <a:pt x="44" y="22"/>
                  </a:lnTo>
                  <a:lnTo>
                    <a:pt x="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36"/>
            <p:cNvSpPr/>
            <p:nvPr/>
          </p:nvSpPr>
          <p:spPr>
            <a:xfrm>
              <a:off x="6654600" y="1843200"/>
              <a:ext cx="106200" cy="123840"/>
            </a:xfrm>
            <a:custGeom>
              <a:avLst/>
              <a:gdLst/>
              <a:ahLst/>
              <a:rect l="l" t="t" r="r" b="b"/>
              <a:pathLst>
                <a:path w="63" h="78">
                  <a:moveTo>
                    <a:pt x="18" y="0"/>
                  </a:moveTo>
                  <a:lnTo>
                    <a:pt x="62" y="59"/>
                  </a:lnTo>
                  <a:lnTo>
                    <a:pt x="60" y="77"/>
                  </a:lnTo>
                  <a:lnTo>
                    <a:pt x="0" y="56"/>
                  </a:lnTo>
                  <a:lnTo>
                    <a:pt x="18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37"/>
            <p:cNvSpPr/>
            <p:nvPr/>
          </p:nvSpPr>
          <p:spPr>
            <a:xfrm>
              <a:off x="6278400" y="1476360"/>
              <a:ext cx="90360" cy="3672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2" y="22"/>
                  </a:moveTo>
                  <a:lnTo>
                    <a:pt x="21" y="0"/>
                  </a:lnTo>
                  <a:lnTo>
                    <a:pt x="0" y="22"/>
                  </a:lnTo>
                  <a:lnTo>
                    <a:pt x="52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38"/>
            <p:cNvSpPr/>
            <p:nvPr/>
          </p:nvSpPr>
          <p:spPr>
            <a:xfrm>
              <a:off x="5810040" y="1195560"/>
              <a:ext cx="279360" cy="190440"/>
            </a:xfrm>
            <a:custGeom>
              <a:avLst/>
              <a:gdLst/>
              <a:ahLst/>
              <a:rect l="l" t="t" r="r" b="b"/>
              <a:pathLst>
                <a:path w="165" h="120">
                  <a:moveTo>
                    <a:pt x="89" y="119"/>
                  </a:moveTo>
                  <a:lnTo>
                    <a:pt x="42" y="60"/>
                  </a:lnTo>
                  <a:lnTo>
                    <a:pt x="5" y="71"/>
                  </a:lnTo>
                  <a:lnTo>
                    <a:pt x="0" y="34"/>
                  </a:lnTo>
                  <a:lnTo>
                    <a:pt x="28" y="0"/>
                  </a:lnTo>
                  <a:lnTo>
                    <a:pt x="148" y="34"/>
                  </a:lnTo>
                  <a:lnTo>
                    <a:pt x="164" y="90"/>
                  </a:lnTo>
                  <a:lnTo>
                    <a:pt x="89" y="1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39"/>
            <p:cNvSpPr/>
            <p:nvPr/>
          </p:nvSpPr>
          <p:spPr>
            <a:xfrm>
              <a:off x="6121080" y="1228680"/>
              <a:ext cx="716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5" y="0"/>
                  </a:moveTo>
                  <a:lnTo>
                    <a:pt x="41" y="20"/>
                  </a:lnTo>
                  <a:lnTo>
                    <a:pt x="14" y="39"/>
                  </a:lnTo>
                  <a:lnTo>
                    <a:pt x="0" y="20"/>
                  </a:lnTo>
                  <a:lnTo>
                    <a:pt x="35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40"/>
            <p:cNvSpPr/>
            <p:nvPr/>
          </p:nvSpPr>
          <p:spPr>
            <a:xfrm>
              <a:off x="6225840" y="1209600"/>
              <a:ext cx="3816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5"/>
                  </a:moveTo>
                  <a:lnTo>
                    <a:pt x="16" y="0"/>
                  </a:lnTo>
                  <a:lnTo>
                    <a:pt x="21" y="12"/>
                  </a:lnTo>
                  <a:lnTo>
                    <a:pt x="0" y="2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41"/>
            <p:cNvSpPr/>
            <p:nvPr/>
          </p:nvSpPr>
          <p:spPr>
            <a:xfrm>
              <a:off x="5964120" y="1143000"/>
              <a:ext cx="142560" cy="4284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1" y="14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34" y="26"/>
                  </a:lnTo>
                  <a:lnTo>
                    <a:pt x="63" y="26"/>
                  </a:lnTo>
                  <a:lnTo>
                    <a:pt x="83" y="14"/>
                  </a:lnTo>
                  <a:lnTo>
                    <a:pt x="63" y="2"/>
                  </a:lnTo>
                  <a:lnTo>
                    <a:pt x="41" y="1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42"/>
            <p:cNvSpPr/>
            <p:nvPr/>
          </p:nvSpPr>
          <p:spPr>
            <a:xfrm>
              <a:off x="5870160" y="1089000"/>
              <a:ext cx="122400" cy="55440"/>
            </a:xfrm>
            <a:custGeom>
              <a:avLst/>
              <a:gdLst/>
              <a:ahLst/>
              <a:rect l="l" t="t" r="r" b="b"/>
              <a:pathLst>
                <a:path w="72" h="35">
                  <a:moveTo>
                    <a:pt x="0" y="34"/>
                  </a:moveTo>
                  <a:lnTo>
                    <a:pt x="23" y="10"/>
                  </a:lnTo>
                  <a:lnTo>
                    <a:pt x="71" y="0"/>
                  </a:lnTo>
                  <a:lnTo>
                    <a:pt x="69" y="21"/>
                  </a:lnTo>
                  <a:lnTo>
                    <a:pt x="5" y="34"/>
                  </a:lnTo>
                  <a:lnTo>
                    <a:pt x="0" y="3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43"/>
            <p:cNvSpPr/>
            <p:nvPr/>
          </p:nvSpPr>
          <p:spPr>
            <a:xfrm>
              <a:off x="6121080" y="1117800"/>
              <a:ext cx="8100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45" y="16"/>
                  </a:moveTo>
                  <a:lnTo>
                    <a:pt x="45" y="4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47" y="24"/>
                  </a:lnTo>
                  <a:lnTo>
                    <a:pt x="45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44"/>
            <p:cNvSpPr/>
            <p:nvPr/>
          </p:nvSpPr>
          <p:spPr>
            <a:xfrm>
              <a:off x="6057720" y="1028880"/>
              <a:ext cx="6192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0" y="48"/>
                  </a:moveTo>
                  <a:lnTo>
                    <a:pt x="36" y="16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0" y="4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45"/>
            <p:cNvSpPr/>
            <p:nvPr/>
          </p:nvSpPr>
          <p:spPr>
            <a:xfrm>
              <a:off x="6294240" y="1216080"/>
              <a:ext cx="361800" cy="344520"/>
            </a:xfrm>
            <a:custGeom>
              <a:avLst/>
              <a:gdLst/>
              <a:ahLst/>
              <a:rect l="l" t="t" r="r" b="b"/>
              <a:pathLst>
                <a:path w="214" h="217">
                  <a:moveTo>
                    <a:pt x="55" y="0"/>
                  </a:moveTo>
                  <a:lnTo>
                    <a:pt x="0" y="9"/>
                  </a:lnTo>
                  <a:lnTo>
                    <a:pt x="11" y="69"/>
                  </a:lnTo>
                  <a:lnTo>
                    <a:pt x="55" y="78"/>
                  </a:lnTo>
                  <a:lnTo>
                    <a:pt x="72" y="69"/>
                  </a:lnTo>
                  <a:lnTo>
                    <a:pt x="122" y="119"/>
                  </a:lnTo>
                  <a:lnTo>
                    <a:pt x="79" y="165"/>
                  </a:lnTo>
                  <a:lnTo>
                    <a:pt x="163" y="216"/>
                  </a:lnTo>
                  <a:lnTo>
                    <a:pt x="213" y="138"/>
                  </a:lnTo>
                  <a:lnTo>
                    <a:pt x="100" y="0"/>
                  </a:lnTo>
                  <a:lnTo>
                    <a:pt x="55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46"/>
            <p:cNvSpPr/>
            <p:nvPr/>
          </p:nvSpPr>
          <p:spPr>
            <a:xfrm>
              <a:off x="6257520" y="1104840"/>
              <a:ext cx="18900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101" y="24"/>
                  </a:moveTo>
                  <a:lnTo>
                    <a:pt x="110" y="46"/>
                  </a:lnTo>
                  <a:lnTo>
                    <a:pt x="43" y="57"/>
                  </a:lnTo>
                  <a:lnTo>
                    <a:pt x="17" y="24"/>
                  </a:lnTo>
                  <a:lnTo>
                    <a:pt x="0" y="0"/>
                  </a:lnTo>
                  <a:lnTo>
                    <a:pt x="101" y="24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47"/>
            <p:cNvSpPr/>
            <p:nvPr/>
          </p:nvSpPr>
          <p:spPr>
            <a:xfrm>
              <a:off x="6303600" y="949320"/>
              <a:ext cx="74520" cy="10800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41" y="67"/>
                  </a:moveTo>
                  <a:lnTo>
                    <a:pt x="0" y="67"/>
                  </a:lnTo>
                  <a:lnTo>
                    <a:pt x="6" y="8"/>
                  </a:lnTo>
                  <a:lnTo>
                    <a:pt x="43" y="0"/>
                  </a:lnTo>
                  <a:lnTo>
                    <a:pt x="41" y="6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248"/>
            <p:cNvSpPr/>
            <p:nvPr/>
          </p:nvSpPr>
          <p:spPr>
            <a:xfrm>
              <a:off x="6348240" y="854280"/>
              <a:ext cx="396720" cy="269640"/>
            </a:xfrm>
            <a:custGeom>
              <a:avLst/>
              <a:gdLst/>
              <a:ahLst/>
              <a:rect l="l" t="t" r="r" b="b"/>
              <a:pathLst>
                <a:path w="235" h="170">
                  <a:moveTo>
                    <a:pt x="78" y="50"/>
                  </a:moveTo>
                  <a:lnTo>
                    <a:pt x="30" y="32"/>
                  </a:lnTo>
                  <a:lnTo>
                    <a:pt x="134" y="0"/>
                  </a:lnTo>
                  <a:lnTo>
                    <a:pt x="234" y="13"/>
                  </a:lnTo>
                  <a:lnTo>
                    <a:pt x="106" y="91"/>
                  </a:lnTo>
                  <a:lnTo>
                    <a:pt x="115" y="120"/>
                  </a:lnTo>
                  <a:lnTo>
                    <a:pt x="63" y="169"/>
                  </a:lnTo>
                  <a:lnTo>
                    <a:pt x="0" y="148"/>
                  </a:lnTo>
                  <a:lnTo>
                    <a:pt x="30" y="139"/>
                  </a:lnTo>
                  <a:lnTo>
                    <a:pt x="22" y="122"/>
                  </a:lnTo>
                  <a:lnTo>
                    <a:pt x="39" y="79"/>
                  </a:lnTo>
                  <a:lnTo>
                    <a:pt x="78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249"/>
            <p:cNvSpPr/>
            <p:nvPr/>
          </p:nvSpPr>
          <p:spPr>
            <a:xfrm>
              <a:off x="6575040" y="836640"/>
              <a:ext cx="770040" cy="774720"/>
            </a:xfrm>
            <a:custGeom>
              <a:avLst/>
              <a:gdLst/>
              <a:ahLst/>
              <a:rect l="l" t="t" r="r" b="b"/>
              <a:pathLst>
                <a:path w="456" h="488">
                  <a:moveTo>
                    <a:pt x="402" y="188"/>
                  </a:moveTo>
                  <a:lnTo>
                    <a:pt x="416" y="62"/>
                  </a:lnTo>
                  <a:lnTo>
                    <a:pt x="449" y="54"/>
                  </a:lnTo>
                  <a:lnTo>
                    <a:pt x="455" y="33"/>
                  </a:lnTo>
                  <a:lnTo>
                    <a:pt x="386" y="43"/>
                  </a:lnTo>
                  <a:lnTo>
                    <a:pt x="382" y="19"/>
                  </a:lnTo>
                  <a:lnTo>
                    <a:pt x="337" y="0"/>
                  </a:lnTo>
                  <a:lnTo>
                    <a:pt x="74" y="59"/>
                  </a:lnTo>
                  <a:lnTo>
                    <a:pt x="70" y="102"/>
                  </a:lnTo>
                  <a:lnTo>
                    <a:pt x="0" y="140"/>
                  </a:lnTo>
                  <a:lnTo>
                    <a:pt x="29" y="193"/>
                  </a:lnTo>
                  <a:lnTo>
                    <a:pt x="90" y="193"/>
                  </a:lnTo>
                  <a:lnTo>
                    <a:pt x="108" y="236"/>
                  </a:lnTo>
                  <a:lnTo>
                    <a:pt x="132" y="425"/>
                  </a:lnTo>
                  <a:lnTo>
                    <a:pt x="187" y="487"/>
                  </a:lnTo>
                  <a:lnTo>
                    <a:pt x="193" y="474"/>
                  </a:lnTo>
                  <a:lnTo>
                    <a:pt x="216" y="415"/>
                  </a:lnTo>
                  <a:lnTo>
                    <a:pt x="298" y="329"/>
                  </a:lnTo>
                  <a:lnTo>
                    <a:pt x="329" y="337"/>
                  </a:lnTo>
                  <a:lnTo>
                    <a:pt x="386" y="267"/>
                  </a:lnTo>
                  <a:lnTo>
                    <a:pt x="370" y="236"/>
                  </a:lnTo>
                  <a:lnTo>
                    <a:pt x="392" y="236"/>
                  </a:lnTo>
                  <a:lnTo>
                    <a:pt x="402" y="18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250"/>
            <p:cNvSpPr/>
            <p:nvPr/>
          </p:nvSpPr>
          <p:spPr>
            <a:xfrm>
              <a:off x="7192800" y="1414440"/>
              <a:ext cx="142920" cy="11592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25" y="72"/>
                  </a:moveTo>
                  <a:lnTo>
                    <a:pt x="0" y="19"/>
                  </a:lnTo>
                  <a:lnTo>
                    <a:pt x="78" y="0"/>
                  </a:lnTo>
                  <a:lnTo>
                    <a:pt x="83" y="39"/>
                  </a:lnTo>
                  <a:lnTo>
                    <a:pt x="25" y="7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51"/>
            <p:cNvSpPr/>
            <p:nvPr/>
          </p:nvSpPr>
          <p:spPr>
            <a:xfrm>
              <a:off x="5108400" y="1290600"/>
              <a:ext cx="1911240" cy="2898720"/>
            </a:xfrm>
            <a:custGeom>
              <a:avLst/>
              <a:gdLst/>
              <a:ahLst/>
              <a:rect l="l" t="t" r="r" b="b"/>
              <a:pathLst>
                <a:path w="1130" h="1827">
                  <a:moveTo>
                    <a:pt x="873" y="1618"/>
                  </a:moveTo>
                  <a:lnTo>
                    <a:pt x="843" y="1768"/>
                  </a:lnTo>
                  <a:lnTo>
                    <a:pt x="864" y="1826"/>
                  </a:lnTo>
                  <a:lnTo>
                    <a:pt x="816" y="1802"/>
                  </a:lnTo>
                  <a:lnTo>
                    <a:pt x="786" y="1742"/>
                  </a:lnTo>
                  <a:lnTo>
                    <a:pt x="791" y="1618"/>
                  </a:lnTo>
                  <a:lnTo>
                    <a:pt x="796" y="1339"/>
                  </a:lnTo>
                  <a:lnTo>
                    <a:pt x="707" y="1131"/>
                  </a:lnTo>
                  <a:lnTo>
                    <a:pt x="729" y="1052"/>
                  </a:lnTo>
                  <a:lnTo>
                    <a:pt x="739" y="966"/>
                  </a:lnTo>
                  <a:lnTo>
                    <a:pt x="697" y="966"/>
                  </a:lnTo>
                  <a:lnTo>
                    <a:pt x="579" y="861"/>
                  </a:lnTo>
                  <a:lnTo>
                    <a:pt x="556" y="871"/>
                  </a:lnTo>
                  <a:lnTo>
                    <a:pt x="495" y="816"/>
                  </a:lnTo>
                  <a:lnTo>
                    <a:pt x="469" y="762"/>
                  </a:lnTo>
                  <a:lnTo>
                    <a:pt x="417" y="658"/>
                  </a:lnTo>
                  <a:lnTo>
                    <a:pt x="447" y="763"/>
                  </a:lnTo>
                  <a:lnTo>
                    <a:pt x="437" y="763"/>
                  </a:lnTo>
                  <a:lnTo>
                    <a:pt x="376" y="623"/>
                  </a:lnTo>
                  <a:lnTo>
                    <a:pt x="349" y="613"/>
                  </a:lnTo>
                  <a:lnTo>
                    <a:pt x="333" y="482"/>
                  </a:lnTo>
                  <a:lnTo>
                    <a:pt x="325" y="431"/>
                  </a:lnTo>
                  <a:lnTo>
                    <a:pt x="344" y="412"/>
                  </a:lnTo>
                  <a:lnTo>
                    <a:pt x="250" y="248"/>
                  </a:lnTo>
                  <a:lnTo>
                    <a:pt x="136" y="201"/>
                  </a:lnTo>
                  <a:lnTo>
                    <a:pt x="50" y="286"/>
                  </a:lnTo>
                  <a:lnTo>
                    <a:pt x="0" y="315"/>
                  </a:lnTo>
                  <a:lnTo>
                    <a:pt x="59" y="248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10" y="177"/>
                  </a:lnTo>
                  <a:lnTo>
                    <a:pt x="57" y="158"/>
                  </a:lnTo>
                  <a:lnTo>
                    <a:pt x="57" y="139"/>
                  </a:lnTo>
                  <a:lnTo>
                    <a:pt x="16" y="139"/>
                  </a:lnTo>
                  <a:lnTo>
                    <a:pt x="16" y="110"/>
                  </a:lnTo>
                  <a:lnTo>
                    <a:pt x="73" y="110"/>
                  </a:lnTo>
                  <a:lnTo>
                    <a:pt x="43" y="59"/>
                  </a:lnTo>
                  <a:lnTo>
                    <a:pt x="150" y="21"/>
                  </a:lnTo>
                  <a:lnTo>
                    <a:pt x="301" y="59"/>
                  </a:lnTo>
                  <a:lnTo>
                    <a:pt x="386" y="21"/>
                  </a:lnTo>
                  <a:lnTo>
                    <a:pt x="488" y="59"/>
                  </a:lnTo>
                  <a:lnTo>
                    <a:pt x="643" y="59"/>
                  </a:lnTo>
                  <a:lnTo>
                    <a:pt x="640" y="21"/>
                  </a:lnTo>
                  <a:lnTo>
                    <a:pt x="650" y="0"/>
                  </a:lnTo>
                  <a:lnTo>
                    <a:pt x="677" y="50"/>
                  </a:lnTo>
                  <a:lnTo>
                    <a:pt x="707" y="72"/>
                  </a:lnTo>
                  <a:lnTo>
                    <a:pt x="729" y="38"/>
                  </a:lnTo>
                  <a:lnTo>
                    <a:pt x="754" y="50"/>
                  </a:lnTo>
                  <a:lnTo>
                    <a:pt x="739" y="91"/>
                  </a:lnTo>
                  <a:lnTo>
                    <a:pt x="677" y="110"/>
                  </a:lnTo>
                  <a:lnTo>
                    <a:pt x="689" y="139"/>
                  </a:lnTo>
                  <a:lnTo>
                    <a:pt x="650" y="139"/>
                  </a:lnTo>
                  <a:lnTo>
                    <a:pt x="636" y="188"/>
                  </a:lnTo>
                  <a:lnTo>
                    <a:pt x="622" y="238"/>
                  </a:lnTo>
                  <a:lnTo>
                    <a:pt x="700" y="305"/>
                  </a:lnTo>
                  <a:lnTo>
                    <a:pt x="719" y="346"/>
                  </a:lnTo>
                  <a:lnTo>
                    <a:pt x="739" y="346"/>
                  </a:lnTo>
                  <a:lnTo>
                    <a:pt x="737" y="291"/>
                  </a:lnTo>
                  <a:lnTo>
                    <a:pt x="764" y="188"/>
                  </a:lnTo>
                  <a:lnTo>
                    <a:pt x="770" y="169"/>
                  </a:lnTo>
                  <a:lnTo>
                    <a:pt x="829" y="177"/>
                  </a:lnTo>
                  <a:lnTo>
                    <a:pt x="837" y="188"/>
                  </a:lnTo>
                  <a:lnTo>
                    <a:pt x="849" y="236"/>
                  </a:lnTo>
                  <a:lnTo>
                    <a:pt x="875" y="207"/>
                  </a:lnTo>
                  <a:lnTo>
                    <a:pt x="941" y="327"/>
                  </a:lnTo>
                  <a:lnTo>
                    <a:pt x="900" y="375"/>
                  </a:lnTo>
                  <a:lnTo>
                    <a:pt x="864" y="385"/>
                  </a:lnTo>
                  <a:lnTo>
                    <a:pt x="867" y="431"/>
                  </a:lnTo>
                  <a:lnTo>
                    <a:pt x="885" y="444"/>
                  </a:lnTo>
                  <a:lnTo>
                    <a:pt x="849" y="474"/>
                  </a:lnTo>
                  <a:lnTo>
                    <a:pt x="849" y="463"/>
                  </a:lnTo>
                  <a:lnTo>
                    <a:pt x="816" y="482"/>
                  </a:lnTo>
                  <a:lnTo>
                    <a:pt x="814" y="503"/>
                  </a:lnTo>
                  <a:lnTo>
                    <a:pt x="750" y="561"/>
                  </a:lnTo>
                  <a:lnTo>
                    <a:pt x="748" y="602"/>
                  </a:lnTo>
                  <a:lnTo>
                    <a:pt x="711" y="651"/>
                  </a:lnTo>
                  <a:lnTo>
                    <a:pt x="713" y="730"/>
                  </a:lnTo>
                  <a:lnTo>
                    <a:pt x="707" y="735"/>
                  </a:lnTo>
                  <a:lnTo>
                    <a:pt x="682" y="682"/>
                  </a:lnTo>
                  <a:lnTo>
                    <a:pt x="567" y="685"/>
                  </a:lnTo>
                  <a:lnTo>
                    <a:pt x="567" y="763"/>
                  </a:lnTo>
                  <a:lnTo>
                    <a:pt x="568" y="805"/>
                  </a:lnTo>
                  <a:lnTo>
                    <a:pt x="597" y="832"/>
                  </a:lnTo>
                  <a:lnTo>
                    <a:pt x="620" y="800"/>
                  </a:lnTo>
                  <a:lnTo>
                    <a:pt x="650" y="800"/>
                  </a:lnTo>
                  <a:lnTo>
                    <a:pt x="646" y="861"/>
                  </a:lnTo>
                  <a:lnTo>
                    <a:pt x="682" y="866"/>
                  </a:lnTo>
                  <a:lnTo>
                    <a:pt x="697" y="945"/>
                  </a:lnTo>
                  <a:lnTo>
                    <a:pt x="792" y="907"/>
                  </a:lnTo>
                  <a:lnTo>
                    <a:pt x="967" y="997"/>
                  </a:lnTo>
                  <a:lnTo>
                    <a:pt x="983" y="1052"/>
                  </a:lnTo>
                  <a:lnTo>
                    <a:pt x="1129" y="1121"/>
                  </a:lnTo>
                  <a:lnTo>
                    <a:pt x="1071" y="1339"/>
                  </a:lnTo>
                  <a:lnTo>
                    <a:pt x="873" y="16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252"/>
            <p:cNvSpPr/>
            <p:nvPr/>
          </p:nvSpPr>
          <p:spPr>
            <a:xfrm>
              <a:off x="2050920" y="1074600"/>
              <a:ext cx="2946240" cy="2678400"/>
            </a:xfrm>
            <a:custGeom>
              <a:avLst/>
              <a:gdLst/>
              <a:ahLst/>
              <a:rect l="l" t="t" r="r" b="b"/>
              <a:pathLst>
                <a:path w="1742" h="1688">
                  <a:moveTo>
                    <a:pt x="1331" y="618"/>
                  </a:moveTo>
                  <a:lnTo>
                    <a:pt x="1369" y="580"/>
                  </a:lnTo>
                  <a:lnTo>
                    <a:pt x="1390" y="427"/>
                  </a:lnTo>
                  <a:lnTo>
                    <a:pt x="1334" y="427"/>
                  </a:lnTo>
                  <a:lnTo>
                    <a:pt x="1390" y="351"/>
                  </a:lnTo>
                  <a:lnTo>
                    <a:pt x="1499" y="334"/>
                  </a:lnTo>
                  <a:lnTo>
                    <a:pt x="1513" y="324"/>
                  </a:lnTo>
                  <a:lnTo>
                    <a:pt x="1523" y="305"/>
                  </a:lnTo>
                  <a:lnTo>
                    <a:pt x="1556" y="305"/>
                  </a:lnTo>
                  <a:lnTo>
                    <a:pt x="1546" y="324"/>
                  </a:lnTo>
                  <a:lnTo>
                    <a:pt x="1518" y="385"/>
                  </a:lnTo>
                  <a:lnTo>
                    <a:pt x="1541" y="470"/>
                  </a:lnTo>
                  <a:lnTo>
                    <a:pt x="1593" y="391"/>
                  </a:lnTo>
                  <a:lnTo>
                    <a:pt x="1576" y="343"/>
                  </a:lnTo>
                  <a:lnTo>
                    <a:pt x="1627" y="324"/>
                  </a:lnTo>
                  <a:lnTo>
                    <a:pt x="1673" y="275"/>
                  </a:lnTo>
                  <a:lnTo>
                    <a:pt x="1673" y="227"/>
                  </a:lnTo>
                  <a:lnTo>
                    <a:pt x="1730" y="265"/>
                  </a:lnTo>
                  <a:lnTo>
                    <a:pt x="1741" y="214"/>
                  </a:lnTo>
                  <a:lnTo>
                    <a:pt x="1602" y="158"/>
                  </a:lnTo>
                  <a:lnTo>
                    <a:pt x="1472" y="158"/>
                  </a:lnTo>
                  <a:lnTo>
                    <a:pt x="1461" y="136"/>
                  </a:lnTo>
                  <a:lnTo>
                    <a:pt x="1402" y="136"/>
                  </a:lnTo>
                  <a:lnTo>
                    <a:pt x="1300" y="97"/>
                  </a:lnTo>
                  <a:lnTo>
                    <a:pt x="1208" y="129"/>
                  </a:lnTo>
                  <a:lnTo>
                    <a:pt x="1201" y="76"/>
                  </a:lnTo>
                  <a:lnTo>
                    <a:pt x="1030" y="76"/>
                  </a:lnTo>
                  <a:lnTo>
                    <a:pt x="1030" y="43"/>
                  </a:lnTo>
                  <a:lnTo>
                    <a:pt x="1026" y="26"/>
                  </a:lnTo>
                  <a:lnTo>
                    <a:pt x="948" y="0"/>
                  </a:lnTo>
                  <a:lnTo>
                    <a:pt x="880" y="43"/>
                  </a:lnTo>
                  <a:lnTo>
                    <a:pt x="796" y="88"/>
                  </a:lnTo>
                  <a:lnTo>
                    <a:pt x="800" y="110"/>
                  </a:lnTo>
                  <a:lnTo>
                    <a:pt x="709" y="110"/>
                  </a:lnTo>
                  <a:lnTo>
                    <a:pt x="666" y="174"/>
                  </a:lnTo>
                  <a:lnTo>
                    <a:pt x="483" y="227"/>
                  </a:lnTo>
                  <a:lnTo>
                    <a:pt x="349" y="158"/>
                  </a:lnTo>
                  <a:lnTo>
                    <a:pt x="193" y="324"/>
                  </a:lnTo>
                  <a:lnTo>
                    <a:pt x="199" y="403"/>
                  </a:lnTo>
                  <a:lnTo>
                    <a:pt x="250" y="403"/>
                  </a:lnTo>
                  <a:lnTo>
                    <a:pt x="260" y="441"/>
                  </a:lnTo>
                  <a:lnTo>
                    <a:pt x="276" y="441"/>
                  </a:lnTo>
                  <a:lnTo>
                    <a:pt x="299" y="324"/>
                  </a:lnTo>
                  <a:lnTo>
                    <a:pt x="299" y="313"/>
                  </a:lnTo>
                  <a:lnTo>
                    <a:pt x="349" y="257"/>
                  </a:lnTo>
                  <a:lnTo>
                    <a:pt x="360" y="275"/>
                  </a:lnTo>
                  <a:lnTo>
                    <a:pt x="328" y="313"/>
                  </a:lnTo>
                  <a:lnTo>
                    <a:pt x="333" y="324"/>
                  </a:lnTo>
                  <a:lnTo>
                    <a:pt x="349" y="385"/>
                  </a:lnTo>
                  <a:lnTo>
                    <a:pt x="328" y="441"/>
                  </a:lnTo>
                  <a:lnTo>
                    <a:pt x="271" y="463"/>
                  </a:lnTo>
                  <a:lnTo>
                    <a:pt x="242" y="463"/>
                  </a:lnTo>
                  <a:lnTo>
                    <a:pt x="234" y="412"/>
                  </a:lnTo>
                  <a:lnTo>
                    <a:pt x="216" y="422"/>
                  </a:lnTo>
                  <a:lnTo>
                    <a:pt x="216" y="465"/>
                  </a:lnTo>
                  <a:lnTo>
                    <a:pt x="110" y="572"/>
                  </a:lnTo>
                  <a:lnTo>
                    <a:pt x="141" y="599"/>
                  </a:lnTo>
                  <a:lnTo>
                    <a:pt x="141" y="642"/>
                  </a:lnTo>
                  <a:lnTo>
                    <a:pt x="77" y="642"/>
                  </a:lnTo>
                  <a:lnTo>
                    <a:pt x="68" y="728"/>
                  </a:lnTo>
                  <a:lnTo>
                    <a:pt x="105" y="757"/>
                  </a:lnTo>
                  <a:lnTo>
                    <a:pt x="122" y="749"/>
                  </a:lnTo>
                  <a:lnTo>
                    <a:pt x="187" y="642"/>
                  </a:lnTo>
                  <a:lnTo>
                    <a:pt x="234" y="639"/>
                  </a:lnTo>
                  <a:lnTo>
                    <a:pt x="299" y="697"/>
                  </a:lnTo>
                  <a:lnTo>
                    <a:pt x="309" y="685"/>
                  </a:lnTo>
                  <a:lnTo>
                    <a:pt x="276" y="618"/>
                  </a:lnTo>
                  <a:lnTo>
                    <a:pt x="351" y="716"/>
                  </a:lnTo>
                  <a:lnTo>
                    <a:pt x="365" y="677"/>
                  </a:lnTo>
                  <a:lnTo>
                    <a:pt x="392" y="677"/>
                  </a:lnTo>
                  <a:lnTo>
                    <a:pt x="401" y="658"/>
                  </a:lnTo>
                  <a:lnTo>
                    <a:pt x="417" y="588"/>
                  </a:lnTo>
                  <a:lnTo>
                    <a:pt x="526" y="639"/>
                  </a:lnTo>
                  <a:lnTo>
                    <a:pt x="558" y="588"/>
                  </a:lnTo>
                  <a:lnTo>
                    <a:pt x="609" y="564"/>
                  </a:lnTo>
                  <a:lnTo>
                    <a:pt x="626" y="589"/>
                  </a:lnTo>
                  <a:lnTo>
                    <a:pt x="601" y="606"/>
                  </a:lnTo>
                  <a:lnTo>
                    <a:pt x="629" y="722"/>
                  </a:lnTo>
                  <a:lnTo>
                    <a:pt x="593" y="722"/>
                  </a:lnTo>
                  <a:lnTo>
                    <a:pt x="558" y="588"/>
                  </a:lnTo>
                  <a:lnTo>
                    <a:pt x="526" y="639"/>
                  </a:lnTo>
                  <a:lnTo>
                    <a:pt x="512" y="658"/>
                  </a:lnTo>
                  <a:lnTo>
                    <a:pt x="401" y="658"/>
                  </a:lnTo>
                  <a:lnTo>
                    <a:pt x="392" y="677"/>
                  </a:lnTo>
                  <a:lnTo>
                    <a:pt x="401" y="728"/>
                  </a:lnTo>
                  <a:lnTo>
                    <a:pt x="476" y="728"/>
                  </a:lnTo>
                  <a:lnTo>
                    <a:pt x="449" y="799"/>
                  </a:lnTo>
                  <a:lnTo>
                    <a:pt x="349" y="787"/>
                  </a:lnTo>
                  <a:lnTo>
                    <a:pt x="328" y="807"/>
                  </a:lnTo>
                  <a:lnTo>
                    <a:pt x="250" y="775"/>
                  </a:lnTo>
                  <a:lnTo>
                    <a:pt x="242" y="738"/>
                  </a:lnTo>
                  <a:lnTo>
                    <a:pt x="122" y="749"/>
                  </a:lnTo>
                  <a:lnTo>
                    <a:pt x="105" y="757"/>
                  </a:lnTo>
                  <a:lnTo>
                    <a:pt x="27" y="899"/>
                  </a:lnTo>
                  <a:lnTo>
                    <a:pt x="0" y="947"/>
                  </a:lnTo>
                  <a:lnTo>
                    <a:pt x="0" y="1062"/>
                  </a:lnTo>
                  <a:lnTo>
                    <a:pt x="73" y="1165"/>
                  </a:lnTo>
                  <a:lnTo>
                    <a:pt x="234" y="1169"/>
                  </a:lnTo>
                  <a:lnTo>
                    <a:pt x="234" y="1253"/>
                  </a:lnTo>
                  <a:lnTo>
                    <a:pt x="276" y="1342"/>
                  </a:lnTo>
                  <a:lnTo>
                    <a:pt x="266" y="1475"/>
                  </a:lnTo>
                  <a:lnTo>
                    <a:pt x="333" y="1687"/>
                  </a:lnTo>
                  <a:lnTo>
                    <a:pt x="417" y="1663"/>
                  </a:lnTo>
                  <a:lnTo>
                    <a:pt x="496" y="1475"/>
                  </a:lnTo>
                  <a:lnTo>
                    <a:pt x="534" y="1393"/>
                  </a:lnTo>
                  <a:lnTo>
                    <a:pt x="499" y="1289"/>
                  </a:lnTo>
                  <a:lnTo>
                    <a:pt x="558" y="1188"/>
                  </a:lnTo>
                  <a:lnTo>
                    <a:pt x="615" y="1057"/>
                  </a:lnTo>
                  <a:lnTo>
                    <a:pt x="549" y="1081"/>
                  </a:lnTo>
                  <a:lnTo>
                    <a:pt x="467" y="899"/>
                  </a:lnTo>
                  <a:lnTo>
                    <a:pt x="442" y="837"/>
                  </a:lnTo>
                  <a:lnTo>
                    <a:pt x="459" y="854"/>
                  </a:lnTo>
                  <a:lnTo>
                    <a:pt x="467" y="842"/>
                  </a:lnTo>
                  <a:lnTo>
                    <a:pt x="492" y="899"/>
                  </a:lnTo>
                  <a:lnTo>
                    <a:pt x="542" y="997"/>
                  </a:lnTo>
                  <a:lnTo>
                    <a:pt x="542" y="1057"/>
                  </a:lnTo>
                  <a:lnTo>
                    <a:pt x="697" y="928"/>
                  </a:lnTo>
                  <a:lnTo>
                    <a:pt x="677" y="899"/>
                  </a:lnTo>
                  <a:lnTo>
                    <a:pt x="652" y="874"/>
                  </a:lnTo>
                  <a:lnTo>
                    <a:pt x="626" y="893"/>
                  </a:lnTo>
                  <a:lnTo>
                    <a:pt x="579" y="818"/>
                  </a:lnTo>
                  <a:lnTo>
                    <a:pt x="599" y="807"/>
                  </a:lnTo>
                  <a:lnTo>
                    <a:pt x="677" y="880"/>
                  </a:lnTo>
                  <a:lnTo>
                    <a:pt x="766" y="885"/>
                  </a:lnTo>
                  <a:lnTo>
                    <a:pt x="770" y="899"/>
                  </a:lnTo>
                  <a:lnTo>
                    <a:pt x="807" y="978"/>
                  </a:lnTo>
                  <a:lnTo>
                    <a:pt x="843" y="1102"/>
                  </a:lnTo>
                  <a:lnTo>
                    <a:pt x="959" y="914"/>
                  </a:lnTo>
                  <a:lnTo>
                    <a:pt x="977" y="914"/>
                  </a:lnTo>
                  <a:lnTo>
                    <a:pt x="1001" y="992"/>
                  </a:lnTo>
                  <a:lnTo>
                    <a:pt x="1019" y="987"/>
                  </a:lnTo>
                  <a:lnTo>
                    <a:pt x="1067" y="1169"/>
                  </a:lnTo>
                  <a:lnTo>
                    <a:pt x="1092" y="1169"/>
                  </a:lnTo>
                  <a:lnTo>
                    <a:pt x="1080" y="1112"/>
                  </a:lnTo>
                  <a:lnTo>
                    <a:pt x="1053" y="1077"/>
                  </a:lnTo>
                  <a:lnTo>
                    <a:pt x="1060" y="1031"/>
                  </a:lnTo>
                  <a:lnTo>
                    <a:pt x="1109" y="1091"/>
                  </a:lnTo>
                  <a:lnTo>
                    <a:pt x="1146" y="1031"/>
                  </a:lnTo>
                  <a:lnTo>
                    <a:pt x="1109" y="943"/>
                  </a:lnTo>
                  <a:lnTo>
                    <a:pt x="1217" y="899"/>
                  </a:lnTo>
                  <a:lnTo>
                    <a:pt x="1245" y="697"/>
                  </a:lnTo>
                  <a:lnTo>
                    <a:pt x="1203" y="671"/>
                  </a:lnTo>
                  <a:lnTo>
                    <a:pt x="1235" y="658"/>
                  </a:lnTo>
                  <a:lnTo>
                    <a:pt x="1310" y="716"/>
                  </a:lnTo>
                  <a:lnTo>
                    <a:pt x="1331" y="697"/>
                  </a:lnTo>
                  <a:lnTo>
                    <a:pt x="1292" y="658"/>
                  </a:lnTo>
                  <a:lnTo>
                    <a:pt x="1331" y="6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53"/>
            <p:cNvSpPr/>
            <p:nvPr/>
          </p:nvSpPr>
          <p:spPr>
            <a:xfrm>
              <a:off x="3758760" y="2855880"/>
              <a:ext cx="149400" cy="23184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87" y="145"/>
                  </a:moveTo>
                  <a:lnTo>
                    <a:pt x="83" y="89"/>
                  </a:lnTo>
                  <a:lnTo>
                    <a:pt x="67" y="6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37" y="65"/>
                  </a:lnTo>
                  <a:lnTo>
                    <a:pt x="87" y="14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54"/>
            <p:cNvSpPr/>
            <p:nvPr/>
          </p:nvSpPr>
          <p:spPr>
            <a:xfrm>
              <a:off x="2997000" y="3246480"/>
              <a:ext cx="93600" cy="290520"/>
            </a:xfrm>
            <a:custGeom>
              <a:avLst/>
              <a:gdLst/>
              <a:ahLst/>
              <a:rect l="l" t="t" r="r" b="b"/>
              <a:pathLst>
                <a:path w="56" h="183">
                  <a:moveTo>
                    <a:pt x="0" y="63"/>
                  </a:moveTo>
                  <a:lnTo>
                    <a:pt x="0" y="182"/>
                  </a:lnTo>
                  <a:lnTo>
                    <a:pt x="29" y="182"/>
                  </a:lnTo>
                  <a:lnTo>
                    <a:pt x="43" y="101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55"/>
            <p:cNvSpPr/>
            <p:nvPr/>
          </p:nvSpPr>
          <p:spPr>
            <a:xfrm>
              <a:off x="2449080" y="992160"/>
              <a:ext cx="193680" cy="17460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26" y="95"/>
                  </a:moveTo>
                  <a:lnTo>
                    <a:pt x="32" y="109"/>
                  </a:lnTo>
                  <a:lnTo>
                    <a:pt x="48" y="95"/>
                  </a:lnTo>
                  <a:lnTo>
                    <a:pt x="75" y="53"/>
                  </a:lnTo>
                  <a:lnTo>
                    <a:pt x="52" y="34"/>
                  </a:lnTo>
                  <a:lnTo>
                    <a:pt x="107" y="34"/>
                  </a:lnTo>
                  <a:lnTo>
                    <a:pt x="114" y="0"/>
                  </a:lnTo>
                  <a:lnTo>
                    <a:pt x="58" y="0"/>
                  </a:lnTo>
                  <a:lnTo>
                    <a:pt x="0" y="36"/>
                  </a:lnTo>
                  <a:lnTo>
                    <a:pt x="26" y="9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56"/>
            <p:cNvSpPr/>
            <p:nvPr/>
          </p:nvSpPr>
          <p:spPr>
            <a:xfrm>
              <a:off x="3990600" y="2838600"/>
              <a:ext cx="15084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59" y="126"/>
                  </a:moveTo>
                  <a:lnTo>
                    <a:pt x="5" y="126"/>
                  </a:lnTo>
                  <a:lnTo>
                    <a:pt x="0" y="76"/>
                  </a:lnTo>
                  <a:lnTo>
                    <a:pt x="75" y="0"/>
                  </a:lnTo>
                  <a:lnTo>
                    <a:pt x="88" y="8"/>
                  </a:lnTo>
                  <a:lnTo>
                    <a:pt x="72" y="29"/>
                  </a:lnTo>
                  <a:lnTo>
                    <a:pt x="84" y="76"/>
                  </a:lnTo>
                  <a:lnTo>
                    <a:pt x="86" y="78"/>
                  </a:lnTo>
                  <a:lnTo>
                    <a:pt x="59" y="12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57"/>
            <p:cNvSpPr/>
            <p:nvPr/>
          </p:nvSpPr>
          <p:spPr>
            <a:xfrm>
              <a:off x="4136760" y="2959200"/>
              <a:ext cx="8100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10" y="3"/>
                  </a:moveTo>
                  <a:lnTo>
                    <a:pt x="47" y="0"/>
                  </a:lnTo>
                  <a:lnTo>
                    <a:pt x="47" y="3"/>
                  </a:lnTo>
                  <a:lnTo>
                    <a:pt x="12" y="15"/>
                  </a:lnTo>
                  <a:lnTo>
                    <a:pt x="37" y="24"/>
                  </a:lnTo>
                  <a:lnTo>
                    <a:pt x="31" y="63"/>
                  </a:lnTo>
                  <a:lnTo>
                    <a:pt x="0" y="63"/>
                  </a:lnTo>
                  <a:lnTo>
                    <a:pt x="10" y="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Grafik 18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1081080" cy="68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3"/>
          <a:srcRect l="32378" t="27884" r="15579" b="14360"/>
          <a:stretch/>
        </p:blipFill>
        <p:spPr>
          <a:xfrm>
            <a:off x="4282920" y="1989000"/>
            <a:ext cx="1722600" cy="119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rcRect l="46219" t="38298" r="28477" b="29268"/>
          <a:stretch/>
        </p:blipFill>
        <p:spPr>
          <a:xfrm>
            <a:off x="3348000" y="2349360"/>
            <a:ext cx="871560" cy="696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61" descr=""/>
          <p:cNvPicPr/>
          <p:nvPr/>
        </p:nvPicPr>
        <p:blipFill>
          <a:blip r:embed="rId5"/>
          <a:stretch/>
        </p:blipFill>
        <p:spPr>
          <a:xfrm>
            <a:off x="6227640" y="1773360"/>
            <a:ext cx="76068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62"/>
          <p:cNvSpPr/>
          <p:nvPr/>
        </p:nvSpPr>
        <p:spPr>
          <a:xfrm>
            <a:off x="5688720" y="189720"/>
            <a:ext cx="344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PE-68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68th GRPE, 07 - 10 January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da item 4(a)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738-95A3-4328-A8A6-171D78E8AA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ybrid Powertrai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3337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80AE-D6DB-4F95-BFD1-31055867BC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ner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58840" y="2801880"/>
            <a:ext cx="5457960" cy="179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1158840" y="4681440"/>
            <a:ext cx="5688000" cy="94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1112760" y="5627520"/>
            <a:ext cx="5478480" cy="10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5"/>
          <a:stretch/>
        </p:blipFill>
        <p:spPr>
          <a:xfrm>
            <a:off x="974880" y="1373040"/>
            <a:ext cx="561636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6"/>
          <a:stretch/>
        </p:blipFill>
        <p:spPr>
          <a:xfrm>
            <a:off x="6673680" y="3416400"/>
            <a:ext cx="230364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F72-B5A5-4A7D-9208-816C7892C3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nex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1332000" y="1281240"/>
            <a:ext cx="67341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176D-BF29-4503-AE93-771F351DC5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nex 8 – Principal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355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ABFF-68F9-4F3F-84B5-9B31EEB234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nex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468360" y="1442880"/>
            <a:ext cx="84247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0CF0-807F-4CDD-A4EE-BD5B4E0945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on-HDH Related Ame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72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en adopting gtrs n° 4 and n° 11, alignment could not be completed, but is still desirable to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endment 3 to gtr n° 4 offers this opport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 is assumed that these amendments do not require specific WP.29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proposed amendments will not change gtr n° 4 in essence, but focus on improvements of the calibration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amendments are not yet included in GRPE-68-12, but the sections affected are marked, as shown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proposed alignment offers an evident advantage to engine/vehicle manufacturers, test laboratories and type approval authorities who deal with both on-highway and nonroad eng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PE is asked to endorse the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071720" y="4437000"/>
            <a:ext cx="3981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B347-2F01-42F4-856E-2BF2F1F06F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DH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H group proposes the following timeline to GR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l document GRPE-68-12 is presented to GRPE 68 for consideration; it includes text finalized by Decem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he formal document for GRPE 69 will be based on informal document GRPE-68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 will include the drafting progress and those items of the open issues list on page 6 resolved by 01/03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 informal document will be submitted to GRPE 69 by 15/05/2014, which w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clude  the drafting progress after March 2014 and the remainder of the open issue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mplement the formal document submitted in March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fter adoption of both documents by GRPE 69, a consolidated document will be provided to WP.29 for appr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he technical report can only be submitted as an informal document to GRPE 69, since the work program will not be completed by March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PE is asked to agree to the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DH is aware that there remains a risk of not being able to meet this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that case, an extension of the mandate would be requested at GRPE 6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9BD0-7AFB-4260-A123-6EA47F7768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admap &amp; Projec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kt 1"/>
          <p:cNvGraphicFramePr/>
          <p:nvPr/>
        </p:nvGraphicFramePr>
        <p:xfrm>
          <a:off x="179280" y="1628640"/>
          <a:ext cx="8815320" cy="37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Objek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628640"/>
                    <a:ext cx="88153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Ellipse 2"/>
          <p:cNvSpPr/>
          <p:nvPr/>
        </p:nvSpPr>
        <p:spPr>
          <a:xfrm>
            <a:off x="7020000" y="3630600"/>
            <a:ext cx="1081080" cy="172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D14-EE34-48DF-8E59-5C8982E8A8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628640"/>
            <a:ext cx="8567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next HDH meetings are schedul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7th meeting will be on 08 and 09 April 2014 in Mad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8th meeting will be on 03 June 2014 in Geneva (to be confi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next drafting group meetings are schedul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8th meeting will be on 27 January 2014 (web me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9th meeting will be on 10 February 2014 (web me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10th meeting will be on 18 and 19 February 2014 in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web meeting(s) in March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nal meeting will be on 10 and 11 April 2014 in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web meeting(s) in April/May 2014,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PE is ask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 a half day for the 18th HDH meeting during the 69th GRPE session in Jun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3EF-3F83-4DD3-851E-F27CF4D4B7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mmary of the 15th and 16th HDH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 of HDH validation test progra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n issue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 of draft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sentation of informal document GRPE 68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DH timeline, roadmap &amp;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0C13-3248-4C2C-99B1-ADA2BEB412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mmary of 15th HD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68360" y="1628640"/>
            <a:ext cx="85676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results of the 15th meeting in San Francisco on 24 and 25 October 2013 are summarized,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results of validation test program 1 with the new model structure were presented by the institutes; the new model structure includes a comprehensive component model library, a new signal naming convention and restructured vehicl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ext model release is foreseen for 31/10/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further input on chassis dyno testing has been made; the final decision should be taken at the 16th HDH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 test program 2 at JRC has started in May; so far, the validation criteria of the Japanese regulation could not be met; further work is need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es and JASIC will jointly develop a proposal for fixed slo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pecific procedure for plug-in hybrids will not be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ICA proposal on vehicle parameters was agr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ighting factors will not be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ussion on master ECU will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ussion on work (engine or system) for the emissions calculation will continue at the 16th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chnical secretary of HDH drafting group has been nomin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rafting group will work hard to have the informal document ready for the 68th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494-BB70-4C33-BCE2-9CEFD0A790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mmary of 16th HDH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68360" y="1413000"/>
            <a:ext cx="85676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results of the 16th meeting in Geneva on 07 January 2014 are summarized,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 version 0.5 was released and some comments received; still minor improvements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sis dyno testing will not be included in this gtr amend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tion of validation test program 2 will continue until April 2014 (details see page 5); EPA asked for a transparent validation process incl. availability of detailed test result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regards the drive cycle, institutes and JASIC have agreed on the fixed slope minicycle approach; implementation is ongoing with final approval foreseen at 1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DH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of rated power for a hybrid system still under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 EPA raised concerns with the timeline of the current mandate, while Japan supported November 2014 WP.29 adoption in order to have time for transposition into the post-JP09 regulation planned for 2016; EU COM also supported November 2014 adoption, but indicated that further discussion is needed on EU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val procedure for OEM specific models must be defined more cl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ussion on hardware control functions (master ECU) will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le Japan and OICA support total system work as basis for emissions calculation, other CPs have not finalized their position yet. EU-COM and some EU CPs raised reservations; discussion among EU CPs will fol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d that the ongoing activities deliver according to the expectations, the group expects that the timeline can still be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e to the open issues (details see page 6), there remains a risk that the work program will not be finalized in 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6CA-4640-4972-AF13-A0A3647D8F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atus of Validation Test Progra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RC tes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 test program 2 with real HVs started at JRC with in Ma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with two vehicles (Volvo &amp; MAN)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eco vehicle will be tested at JRC in February 2014 with torque measurement device installed on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dyno testing of MAN vehicle at MAN in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far, problems encountered to meet Japanese verification criter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 evaluation and problem solution still ongo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alidation expected to be completed by the end of March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ly validation is a prerequisite for HDH ad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validation fail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open issues are not solved to the satisfaction of the group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extension of the mandate will be requested at GRPE 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3A4-8019-4AF5-9CE1-B31AB555F2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of validation test progra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VC road gradients (agreed, implemented by March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LS verification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al procedure for OEM spec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sis for brake specific emissions calculation (system work vs. engine wor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of hardware hybrid control functions or master E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brid system family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LS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E6D-D023-45E8-9D8A-C5B5F16A69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raf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wo meetings in March and May 2013 w/o technical secr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ical secretary was installed in September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3rd meeting was held on 22 and 23 October 2013 in San Franc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4th to 6th meetings were held in November/December 2013 as web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7th meeting was held on 18 December 2013 in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rther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drafting group will continue to work until April/Ma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 further web meetings planned in January/Febr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xt face-to-face meeting on 18/19 February 2014 in Tok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193-13AE-4C76-9A32-C7789DD2CB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verview Informal Document 68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following approach was taken for amendment 3 to gtr n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paration of a consolidated version of gtr n° 4 (amendments 1 &amp;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 annexes 8 (HILS) &amp; 9 (powertrain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dition of WHVC with road gradients to anne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endments to base regulation, where necessary, such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ybrid powertrai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l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op/start appro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addition, the secretary (former WHDC secretary) is asking to further align gtr n° 4 with gtr n°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ocus on calibration protocols and description of test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t yet included in GRPE-68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783-0D9E-4C9B-AA90-1C7548F8D9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l Document 68-12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53920" cy="70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0" y="7700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08080"/>
                </a:solidFill>
                <a:latin typeface="Arial"/>
              </a:rPr>
              <a:t>UNITED 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707240" y="182520"/>
            <a:ext cx="143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CE -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brid related definitions have been added to § 3.1, which are aligned with the current VPSD draft, as far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ivetrain” means the connected elements of the powertrain downstream of the final energy 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converter” means the part of the powertrain converting one form of energy into a differen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storage system” means the part of the powertrain that can store chemical, electrical or mechanical energy, and which can be refilled or recharged externally and/or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or” means an energy converter transferring mechanical energy into electric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ardware-in-the-loop simulation (HILS)” means real time hybrid vehicle simulation running on a computer where a hardware component interacts with the simulation through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ehicle” means a vehicle with a powertrain containing at least two different types of energy converters and two different types of energy storag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ertrain” means the combination of energy storage system(s), energy converter(s) and drivetrain(s) [for the purpose of vehicle propulsion],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nd the communication interface (hardware and messages) among the powertrain or vehicle control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argeable energy storage system (ReESS)” means a system storing energy carriers other than fuels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ESS subsystem” means any functional assembly of ReES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p/start system” means automatic stop and start of the internal combustion engine to reduce the amount of i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11:32:26Z</dcterms:created>
  <dc:creator>hanstei</dc:creator>
  <dc:description/>
  <dc:language>en-US</dc:language>
  <cp:lastModifiedBy>Stein, Hans-Juergen (019)</cp:lastModifiedBy>
  <cp:lastPrinted>2006-08-11T11:44:19Z</cp:lastPrinted>
  <dcterms:modified xsi:type="dcterms:W3CDTF">2014-01-08T15:55:12Z</dcterms:modified>
  <cp:revision>515</cp:revision>
  <dc:subject/>
  <dc:title>Emission Meeting Arbon 10.07.2006</dc:title>
</cp:coreProperties>
</file>